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92AE-A951-4F05-8E37-167731E63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3E98-1238-4790-8995-46A264D2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978B-B6ED-4187-A569-EBC62833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852C-54E4-4BE4-BD77-A29EDB0D5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76AA-939F-416E-80DA-4EF3C86D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A0CB-D7CB-4431-B3BE-08E8EFE3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9DAC-B231-4125-AD8D-8E5B5AD4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78E0-52D4-47D3-9428-B18743BB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DE3D-A4A7-4A7E-B2DD-4F70B17D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9FA3-D339-4A2F-B8C7-68E5C18B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ACD0-796D-49E6-A950-87A53362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5F01-F81C-4F08-A567-11BE7F00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939B-6373-4F07-ABA6-12EFDE9B1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3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April 23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52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fet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666880" y="228600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inite-State Safety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10280" y="2819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2286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281952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3733920"/>
            <a:ext cx="4343400" cy="10666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42670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4267080"/>
            <a:ext cx="838440" cy="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37339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nite-state machine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82880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84872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518148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the composite system never enters a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1066680"/>
            <a:ext cx="701064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 the “uncontrollable” states of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2743200"/>
            <a:ext cx="73915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un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ll states 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or all inputs i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there exist an uncontrollable state s’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and an output 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such that  (s’,o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(s,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  s is un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54100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 (cannot prevent error state from being entered in 1 trans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410080" y="4800240"/>
            <a:ext cx="15264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5181480" y="2057400"/>
            <a:ext cx="1067040" cy="9907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2286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 (cannot prevent error state from being entered in 2 trans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15000" y="1066680"/>
            <a:ext cx="0" cy="990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627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9480" y="5105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afe control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066680" y="1066680"/>
            <a:ext cx="701064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the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66680" y="27432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ach controllable state s of the plant, choose one input i so that possibleUpdates (s,i) contains only controllable st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627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02920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hosen control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33720" y="54100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 : 1 q : 1    r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219320" y="914400"/>
            <a:ext cx="701028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the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5800" y="2514600"/>
            <a:ext cx="77724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ach controllable state s of the plant, choose one input i so that possibleUpdates (s,i) contains only controllable st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ve the Controller keep track of the state of the Pla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f Plant is output-deterministic,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then Controller looks exactly like the controllable part of Plant, with inputs and outputs swappe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352680" y="2590920"/>
            <a:ext cx="236232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7621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25909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43434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bjec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5320" y="5846760"/>
            <a:ext cx="60948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4508640"/>
            <a:ext cx="6094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09880" y="4915080"/>
            <a:ext cx="1800" cy="9316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2133720" y="4799160"/>
            <a:ext cx="1447560" cy="465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2057400" y="5486040"/>
            <a:ext cx="1447920" cy="523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429000" y="4100400"/>
            <a:ext cx="851040" cy="4082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2900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5909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1447920" y="4740120"/>
            <a:ext cx="850680" cy="4082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4382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339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5846760"/>
            <a:ext cx="60948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05320" y="4508640"/>
            <a:ext cx="6094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09880" y="4915080"/>
            <a:ext cx="1800" cy="9316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133720" y="4799160"/>
            <a:ext cx="1447560" cy="465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 flipV="1">
            <a:off x="2057400" y="5486040"/>
            <a:ext cx="1447920" cy="523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429000" y="4100400"/>
            <a:ext cx="851040" cy="4082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42900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909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1447920" y="4740120"/>
            <a:ext cx="850680" cy="4082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44792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4382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339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286000" y="5791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181480" y="502920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the Controller can be made receptive in any wa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1143000" y="27432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f the Plant is not output-deterministic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510552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480060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02920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400800" y="510552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480060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02920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105520" y="5715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ither 0 nor 1 is saf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800600" y="504180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562720" y="5181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1219320" y="685800"/>
            <a:ext cx="7010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2:  Design the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62120" y="1676520"/>
            <a:ext cx="80010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Controllable be the controllable states of the Plant.  A subset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ntrollable is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re is an input i such that for all states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ll states in possibleUpdates (s,i) are 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M be the state machine whose states are the consistent subsets of Controllable.  Prune from M the states that have no successor, until no more states can be pru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result contains possibleInitialStates (of the plant) as a state, then it is the desired Controller.  Otherwise, no controller exis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352680" y="2286000"/>
            <a:ext cx="236232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7621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22860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3733920"/>
            <a:ext cx="2362320" cy="10666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42670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42670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1460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55308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3733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51814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the composite (“closed-loop”) system satisfies th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bjectiv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09480" y="44956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sistent sub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752480" y="51055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} : 0, 1   {q} : 1        {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733920" y="510552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,q} : 1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{p,r} : 0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q,r}, {p,q,r}  not consistent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172200" y="4419720"/>
            <a:ext cx="167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} : 0, 1   {q} : 1        {r} : 0        {p,q} : 1     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172200" y="441972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q} : 1        {r} : 0        {p,q} : 1     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172200" y="44197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r} : 0        {p,q} : 1     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172200" y="44197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,q} : 1     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172200" y="4419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286000" y="58672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905120" y="59436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419720" y="533412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105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419720" y="533412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105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419720" y="533412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105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419720" y="533412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105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38280" y="11430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 Control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28954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TI Pl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800600" y="504180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562720" y="5181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66680" y="1066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 Simple Linear Systems are Not Finite-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2590920"/>
            <a:ext cx="121932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28954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28954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4724280"/>
            <a:ext cx="495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y(z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4495680"/>
            <a:ext cx="403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z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S Reference 2"/>
                <a:ea typeface="MS Reference 2"/>
              </a:rPr>
              <a:t>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x(z-1) + x(z)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z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44197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66680" y="1066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 Simple Finite-State Systems are Not 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2590920"/>
            <a:ext cx="121932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28954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28954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4724280"/>
            <a:ext cx="495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y(z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449568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(z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’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,  x(z’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’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,   x(z’)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44197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14600" y="2971800"/>
            <a:ext cx="1219320" cy="1066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15000" y="2971800"/>
            <a:ext cx="1219320" cy="1066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35053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3505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209680"/>
            <a:ext cx="1600200" cy="889200"/>
          </a:xfrm>
          <a:custGeom>
            <a:avLst/>
            <a:gdLst/>
            <a:ahLst/>
            <a:rect l="l" t="t" r="r" b="b"/>
            <a:pathLst>
              <a:path w="1008" h="560">
                <a:moveTo>
                  <a:pt x="336" y="560"/>
                </a:moveTo>
                <a:cubicBezTo>
                  <a:pt x="168" y="360"/>
                  <a:pt x="0" y="160"/>
                  <a:pt x="96" y="80"/>
                </a:cubicBezTo>
                <a:cubicBezTo>
                  <a:pt x="192" y="0"/>
                  <a:pt x="816" y="8"/>
                  <a:pt x="912" y="80"/>
                </a:cubicBezTo>
                <a:cubicBezTo>
                  <a:pt x="1008" y="152"/>
                  <a:pt x="840" y="332"/>
                  <a:pt x="672" y="5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2209680"/>
            <a:ext cx="1600200" cy="889200"/>
          </a:xfrm>
          <a:custGeom>
            <a:avLst/>
            <a:gdLst/>
            <a:ahLst/>
            <a:rect l="l" t="t" r="r" b="b"/>
            <a:pathLst>
              <a:path w="1008" h="560">
                <a:moveTo>
                  <a:pt x="336" y="560"/>
                </a:moveTo>
                <a:cubicBezTo>
                  <a:pt x="168" y="360"/>
                  <a:pt x="0" y="160"/>
                  <a:pt x="96" y="80"/>
                </a:cubicBezTo>
                <a:cubicBezTo>
                  <a:pt x="192" y="0"/>
                  <a:pt x="816" y="8"/>
                  <a:pt x="912" y="80"/>
                </a:cubicBezTo>
                <a:cubicBezTo>
                  <a:pt x="1008" y="152"/>
                  <a:pt x="840" y="332"/>
                  <a:pt x="672" y="5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1828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00 /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1828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/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30481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&gt; 100 /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51814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“i”  stands for any input valu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90720" y="1981080"/>
            <a:ext cx="7010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st Finite-State Control Obj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y out of a set of undesirable plant states (the “error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666880" y="259092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inite-State Safety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31240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2590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4343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 s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states of Pl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312408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05:10:30Z</dcterms:created>
  <dc:creator>tah</dc:creator>
  <dc:description/>
  <dc:language>en-US</dc:language>
  <cp:lastModifiedBy>tah</cp:lastModifiedBy>
  <dcterms:modified xsi:type="dcterms:W3CDTF">2001-04-25T09:07:38Z</dcterms:modified>
  <cp:revision>11</cp:revision>
  <dc:subject/>
  <dc:title>  </dc:title>
</cp:coreProperties>
</file>