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C49-2AE1-435E-8E4A-35289873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11A-D38F-4AEE-AE1B-FAF98BDB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807-A05D-43BB-8775-85AFDF28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7E1-1C54-4B11-A06B-0F53DDD3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E7BD-C1EF-4605-97A3-EB52C523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CE0E-8F37-4C2D-8619-51C144E7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FCAF-A225-4F2B-AFBF-16AE2459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435B-3480-464A-AD10-A9CE72D0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70E1-E1F8-4D8F-8E1B-FD806401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57F1-F285-4C0A-ACD5-F3E5C5B8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F96C-F7A9-4CFA-BF83-CA148468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140-656D-4005-8679-1F7E5130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D929-E85E-4AC3-AF23-AD23334D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0F26-16D2-4659-BB71-473BCC0D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7306-DEFE-4432-ABE7-C37C0C6D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1D94-5AC2-4C4C-8C4A-D991AF0B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EB11-316B-4CEB-8EBE-9B661D53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147-1D5A-41D7-AA43-B37990D3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0A0-1270-4AEB-BFF5-08DEA568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999-D080-4280-85CB-36569B61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F1A-1597-4B2A-B500-2324449A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02F-50F6-46F9-8FFE-869DF4B7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68A-1B2F-47C8-9659-B025838F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A1A-D929-4564-A1D0-D3A7C672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E72FE3A-789F-4D98-BE1E-E31370D2D61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75C2B5C-E1E2-4A34-BF2E-5CA74B7F4BB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ircuits with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ing flip-flops for prope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stability and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ACD-B74B-4D38-95E8-76749F6631E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521240" y="1905120"/>
            <a:ext cx="3728880" cy="1541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178840" y="2743200"/>
            <a:ext cx="109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51440" y="311148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51440" y="280656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59120" y="220968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85800" y="3809880"/>
            <a:ext cx="4006800" cy="2527200"/>
            <a:chOff x="685800" y="3809880"/>
            <a:chExt cx="4006800" cy="2527200"/>
          </a:xfrm>
        </p:grpSpPr>
        <p:sp>
          <p:nvSpPr>
            <p:cNvPr id="360" name=""/>
            <p:cNvSpPr/>
            <p:nvPr/>
          </p:nvSpPr>
          <p:spPr>
            <a:xfrm>
              <a:off x="768240" y="3809880"/>
              <a:ext cx="31752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410184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81040" y="38541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1760" y="4635360"/>
              <a:ext cx="212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6560" y="51688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760" y="570204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6080" y="420336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90880" y="4711680"/>
              <a:ext cx="977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90880" y="5244840"/>
              <a:ext cx="76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6080" y="5752800"/>
              <a:ext cx="1676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-S latch analysi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eedback p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19320" y="1981080"/>
            <a:ext cx="2539440" cy="1643040"/>
            <a:chOff x="1219320" y="1981080"/>
            <a:chExt cx="2539440" cy="16430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320840" y="19810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219320" y="22096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31622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14520" y="22986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40080" y="30862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054760" y="2438280"/>
            <a:ext cx="2819160" cy="990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448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32412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38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F5B-AB33-4CAB-B92D-247FD15C34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1177920" y="1863720"/>
            <a:ext cx="2754360" cy="1496880"/>
            <a:chOff x="1177920" y="1863720"/>
            <a:chExt cx="2754360" cy="1496880"/>
          </a:xfrm>
        </p:grpSpPr>
        <p:sp>
          <p:nvSpPr>
            <p:cNvPr id="398" name=""/>
            <p:cNvSpPr/>
            <p:nvPr/>
          </p:nvSpPr>
          <p:spPr>
            <a:xfrm>
              <a:off x="1177920" y="18637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93760" y="2967120"/>
              <a:ext cx="216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41680" y="285264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13240" y="1949400"/>
              <a:ext cx="41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R-S latch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952800" y="2070000"/>
            <a:ext cx="4273560" cy="1419480"/>
            <a:chOff x="3952800" y="2070000"/>
            <a:chExt cx="4273560" cy="1419480"/>
          </a:xfrm>
        </p:grpSpPr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4764240" y="2070000"/>
              <a:ext cx="346212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259160" y="27925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29280" y="3095640"/>
              <a:ext cx="55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52800" y="2155680"/>
              <a:ext cx="851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54760" y="2438280"/>
              <a:ext cx="2819160" cy="990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3080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13044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41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5081760" cy="2527560"/>
            <a:chOff x="685800" y="3809880"/>
            <a:chExt cx="5081760" cy="2527560"/>
          </a:xfrm>
        </p:grpSpPr>
        <p:sp>
          <p:nvSpPr>
            <p:cNvPr id="428" name=""/>
            <p:cNvSpPr/>
            <p:nvPr/>
          </p:nvSpPr>
          <p:spPr>
            <a:xfrm>
              <a:off x="768240" y="3809880"/>
              <a:ext cx="317520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63680"/>
                  <a:tab algn="l" pos="1833480"/>
                  <a:tab algn="l" pos="25160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5800" y="4102200"/>
              <a:ext cx="39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81240" y="38685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4635360"/>
              <a:ext cx="339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6560" y="5168880"/>
              <a:ext cx="34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2120" y="5702400"/>
              <a:ext cx="33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91040" y="420372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91040" y="4711680"/>
              <a:ext cx="977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91040" y="5245200"/>
              <a:ext cx="7621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91040" y="5753160"/>
              <a:ext cx="1676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33600" y="3892680"/>
              <a:ext cx="0" cy="24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63600" y="1582560"/>
            <a:ext cx="8358120" cy="49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rcRect l="6279" t="0" r="0" b="0"/>
          <a:stretch/>
        </p:blipFill>
        <p:spPr>
          <a:xfrm>
            <a:off x="1468440" y="1676520"/>
            <a:ext cx="2062080" cy="174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53E-1DA1-4FC7-AC88-FC0AC00C4C0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3657600" y="1752480"/>
            <a:ext cx="5447880" cy="2133720"/>
            <a:chOff x="3657600" y="1752480"/>
            <a:chExt cx="5447880" cy="213372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4800240" y="1752480"/>
              <a:ext cx="382104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657600" y="2590920"/>
              <a:ext cx="12063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124080"/>
              <a:ext cx="647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32640" y="2895480"/>
              <a:ext cx="672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57840" y="2133720"/>
              <a:ext cx="6094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1981080"/>
              <a:ext cx="634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49680" y="1930320"/>
              <a:ext cx="58392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24480" y="3200400"/>
              <a:ext cx="60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d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31366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when R and S inputs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the slightest glitch on R or S while enable is low could c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90720" y="4038480"/>
            <a:ext cx="5828760" cy="2476440"/>
            <a:chOff x="990720" y="4038480"/>
            <a:chExt cx="5828760" cy="247644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1003320" y="4317840"/>
              <a:ext cx="554940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504960" y="4063680"/>
              <a:ext cx="5968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24040" y="4387680"/>
              <a:ext cx="30456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52680" y="4764600"/>
              <a:ext cx="38088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90" y="149"/>
                  </a:moveTo>
                  <a:arcTo wR="10800" hR="10800" stAng="-4827578" swAng="1925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90" y="149"/>
                  </a:moveTo>
                  <a:arcTo wR="10800" hR="10800" stAng="-4827578" swAng="192559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3740040" y="4375080"/>
              <a:ext cx="8856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69040" y="5449680"/>
              <a:ext cx="37980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39" y="13"/>
                  </a:moveTo>
                  <a:arcTo wR="10800" hR="10800" stAng="-5228255" swAng="189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39" y="13"/>
                  </a:moveTo>
                  <a:arcTo wR="10800" hR="10800" stAng="-5228255" swAng="189729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574800" y="4387680"/>
              <a:ext cx="266400" cy="82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03800" y="5030640"/>
              <a:ext cx="3798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0" y="1"/>
                  </a:moveTo>
                  <a:arcTo wR="10800" hR="10800" stAng="-5342710" swAng="1908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0" y="1"/>
                  </a:moveTo>
                  <a:arcTo wR="10800" hR="10800" stAng="-5342710" swAng="190854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81760" y="4038480"/>
              <a:ext cx="837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847840" y="4336920"/>
              <a:ext cx="4316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77560" y="4688280"/>
              <a:ext cx="37908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41" y="706"/>
                  </a:moveTo>
                  <a:arcTo wR="10800" hR="10800" stAng="-4149998" swAng="1897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41" y="706"/>
                  </a:moveTo>
                  <a:arcTo wR="10800" hR="10800" stAng="-4149998" swAng="189763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835600" y="4336920"/>
              <a:ext cx="46944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64960" y="5106600"/>
              <a:ext cx="379080" cy="38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15" y="121"/>
                  </a:moveTo>
                  <a:arcTo wR="10800" hR="10800" stAng="-4883917" swAng="1919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15" y="121"/>
                  </a:moveTo>
                  <a:arcTo wR="10800" hR="10800" stAng="-4883917" swAng="1919995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987520" y="4311360"/>
              <a:ext cx="317160" cy="13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17600" y="5475600"/>
              <a:ext cx="37836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143" y="257"/>
                  </a:moveTo>
                  <a:arcTo wR="10800" hR="10800" stAng="-4648271" swAng="1927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143" y="257"/>
                  </a:moveTo>
                  <a:arcTo wR="10800" hR="10800" stAng="-4648271" swAng="19279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0720" y="4736880"/>
              <a:ext cx="71100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03320" y="4775040"/>
              <a:ext cx="1739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97480" y="4241520"/>
              <a:ext cx="65988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73800" y="4216320"/>
              <a:ext cx="482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8B2-CCF9-40C8-AB52-CDD069B001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568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0192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257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764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829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9336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401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908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973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8480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545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052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11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762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68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19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8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689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95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46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531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6038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103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610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7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480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624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54520" y="46483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72080" y="5562720"/>
            <a:ext cx="1066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480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052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54520" y="55627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4419720"/>
            <a:ext cx="3137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ty cycle (in this case, 5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keep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long enough for inputs (R' and S') to se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llow to have effect o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s are regular periodic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(time between ti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y-cycle (time clock is high between ticks - expressed as % of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00C-D88A-4FAB-A5DF-D47D857893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3657600" y="5334120"/>
            <a:ext cx="5016240" cy="1040760"/>
            <a:chOff x="3657600" y="5334120"/>
            <a:chExt cx="5016240" cy="1040760"/>
          </a:xfrm>
        </p:grpSpPr>
        <p:sp>
          <p:nvSpPr>
            <p:cNvPr id="508" name=""/>
            <p:cNvSpPr/>
            <p:nvPr/>
          </p:nvSpPr>
          <p:spPr>
            <a:xfrm>
              <a:off x="5295600" y="5600520"/>
              <a:ext cx="800280" cy="241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17800" y="628632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5232240" y="6051240"/>
              <a:ext cx="1708200" cy="240840"/>
              <a:chOff x="5232240" y="6051240"/>
              <a:chExt cx="1708200" cy="240840"/>
            </a:xfrm>
          </p:grpSpPr>
          <p:sp>
            <p:nvSpPr>
              <p:cNvPr id="511" name=""/>
              <p:cNvSpPr/>
              <p:nvPr/>
            </p:nvSpPr>
            <p:spPr>
              <a:xfrm flipV="1">
                <a:off x="5232240" y="6051240"/>
                <a:ext cx="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38720" y="60573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83280" y="606384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02360" y="62859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flipV="1">
              <a:off x="6946920" y="605124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53040" y="6057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97600" y="606420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16680" y="62863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30760" y="56005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30760" y="58291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238720" y="5594040"/>
              <a:ext cx="50760" cy="240840"/>
              <a:chOff x="5238720" y="5594040"/>
              <a:chExt cx="50760" cy="24084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23872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23872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6102360" y="5594040"/>
              <a:ext cx="50760" cy="240840"/>
              <a:chOff x="6102360" y="5594040"/>
              <a:chExt cx="50760" cy="240840"/>
            </a:xfrm>
          </p:grpSpPr>
          <p:sp>
            <p:nvSpPr>
              <p:cNvPr id="525" name=""/>
              <p:cNvSpPr/>
              <p:nvPr/>
            </p:nvSpPr>
            <p:spPr>
              <a:xfrm flipV="1">
                <a:off x="610236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10236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6165720" y="56005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65720" y="5829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0208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0208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0440" y="5594040"/>
              <a:ext cx="50760" cy="240840"/>
              <a:chOff x="6940440" y="5594040"/>
              <a:chExt cx="50760" cy="24084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694044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4044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3809880" y="6045120"/>
              <a:ext cx="8128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57600" y="5587920"/>
              <a:ext cx="965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’  and  S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072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0848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7680" y="5600520"/>
              <a:ext cx="799920" cy="241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804080" y="5594040"/>
              <a:ext cx="50760" cy="240840"/>
              <a:chOff x="7804080" y="5594040"/>
              <a:chExt cx="50760" cy="240840"/>
            </a:xfrm>
          </p:grpSpPr>
          <p:sp>
            <p:nvSpPr>
              <p:cNvPr id="540" name=""/>
              <p:cNvSpPr/>
              <p:nvPr/>
            </p:nvSpPr>
            <p:spPr>
              <a:xfrm flipV="1">
                <a:off x="780408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80408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7867440" y="5600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67440" y="58291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380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380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3244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1020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21240" y="5334120"/>
              <a:ext cx="863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ing an R-S latch with a c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let R and S change while clock is active (allowing R and S to p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ve half of clock period for signal changes to propa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must be stable for the other half of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80880" y="3124080"/>
            <a:ext cx="5448600" cy="2133720"/>
            <a:chOff x="380880" y="3124080"/>
            <a:chExt cx="5448600" cy="2133720"/>
          </a:xfrm>
        </p:grpSpPr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1523880" y="3124080"/>
              <a:ext cx="382140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380880" y="3962520"/>
              <a:ext cx="1206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90720" y="4495680"/>
              <a:ext cx="647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56280" y="4267080"/>
              <a:ext cx="6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81480" y="3505320"/>
              <a:ext cx="609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90720" y="3352680"/>
              <a:ext cx="6350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73320" y="3301920"/>
              <a:ext cx="5842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8120" y="4572000"/>
              <a:ext cx="60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F5B-BFE3-432F-9389-85438839083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609480" y="4343400"/>
            <a:ext cx="7899480" cy="1657440"/>
            <a:chOff x="609480" y="4343400"/>
            <a:chExt cx="7899480" cy="1657440"/>
          </a:xfrm>
        </p:grpSpPr>
        <p:sp>
          <p:nvSpPr>
            <p:cNvPr id="561" name=""/>
            <p:cNvSpPr/>
            <p:nvPr/>
          </p:nvSpPr>
          <p:spPr>
            <a:xfrm>
              <a:off x="609480" y="559440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2286000" y="4343400"/>
              <a:ext cx="2793960" cy="1422360"/>
              <a:chOff x="2286000" y="4343400"/>
              <a:chExt cx="2793960" cy="1422360"/>
            </a:xfrm>
          </p:grpSpPr>
          <p:sp>
            <p:nvSpPr>
              <p:cNvPr id="563" name=""/>
              <p:cNvSpPr/>
              <p:nvPr/>
            </p:nvSpPr>
            <p:spPr>
              <a:xfrm>
                <a:off x="2743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743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2736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91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972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90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71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20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22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22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502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36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43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743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736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991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72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90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971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25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30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29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25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540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40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530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29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02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902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33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14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86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286000" y="46292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19200" y="45244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14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715000" y="4343400"/>
              <a:ext cx="2793960" cy="1422360"/>
              <a:chOff x="5715000" y="4343400"/>
              <a:chExt cx="2793960" cy="14223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72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72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6165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20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01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19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00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49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251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51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931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65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72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72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6165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20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01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419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400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54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59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58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54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69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69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59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58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331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331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62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943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15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15000" y="46292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48200" y="45338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43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H="1">
              <a:off x="1587240" y="5772240"/>
              <a:ext cx="438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74960" y="445140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87560" y="504828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232240" y="462924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232240" y="52135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lat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output of one latch to input of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top changes from racing through cha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able to control flow of data from one latch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one latch per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o worry about logic between latches (arrows) that is too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C56-0AD1-47A1-A909-D13DE77EB2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ster-slave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low by alternating clocks (like an air-lo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ositive clock to latch inputs into one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egative clock to change outputs with another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 pair as one basic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ce as muc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changes a few gate delays after the falling edge of clock but does not affect any cascad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90480" y="4459320"/>
            <a:ext cx="7899480" cy="2072880"/>
            <a:chOff x="690480" y="4459320"/>
            <a:chExt cx="7899480" cy="2072880"/>
          </a:xfrm>
        </p:grpSpPr>
        <p:sp>
          <p:nvSpPr>
            <p:cNvPr id="644" name=""/>
            <p:cNvSpPr/>
            <p:nvPr/>
          </p:nvSpPr>
          <p:spPr>
            <a:xfrm>
              <a:off x="2814480" y="4462560"/>
              <a:ext cx="18288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18440" y="44593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3189240" y="6062760"/>
              <a:ext cx="977760" cy="469440"/>
              <a:chOff x="3189240" y="6062760"/>
              <a:chExt cx="977760" cy="469440"/>
            </a:xfrm>
          </p:grpSpPr>
          <p:sp>
            <p:nvSpPr>
              <p:cNvPr id="647" name=""/>
              <p:cNvSpPr/>
              <p:nvPr/>
            </p:nvSpPr>
            <p:spPr>
              <a:xfrm>
                <a:off x="3443040" y="60627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3443040" y="62784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36920" y="6062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11320" y="62406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38400" y="62848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89240" y="62848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5037120" y="5716440"/>
              <a:ext cx="584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7120" y="4827600"/>
              <a:ext cx="660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0480" y="60944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2367000" y="4843440"/>
              <a:ext cx="2793960" cy="1422360"/>
              <a:chOff x="2367000" y="4843440"/>
              <a:chExt cx="2793960" cy="1422360"/>
            </a:xfrm>
          </p:grpSpPr>
          <p:sp>
            <p:nvSpPr>
              <p:cNvPr id="657" name=""/>
              <p:cNvSpPr/>
              <p:nvPr/>
            </p:nvSpPr>
            <p:spPr>
              <a:xfrm>
                <a:off x="2824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24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2817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72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53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71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052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801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03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903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83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417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824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824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2817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072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53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071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052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506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11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10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506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21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21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11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10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983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983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14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595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67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367000" y="512928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500200" y="502452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95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796000" y="4843440"/>
              <a:ext cx="2793960" cy="1422360"/>
              <a:chOff x="5796000" y="4843440"/>
              <a:chExt cx="2793960" cy="1422360"/>
            </a:xfrm>
          </p:grpSpPr>
          <p:sp>
            <p:nvSpPr>
              <p:cNvPr id="693" name=""/>
              <p:cNvSpPr/>
              <p:nvPr/>
            </p:nvSpPr>
            <p:spPr>
              <a:xfrm>
                <a:off x="6253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53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6246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501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82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500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481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0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32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2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012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846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53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53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246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01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82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00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81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0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9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35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0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050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40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939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12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412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43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24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796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96000" y="512928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929200" y="50338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924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 flipH="1">
              <a:off x="1668600" y="62722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55960" y="495144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68560" y="554832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313240" y="512928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313240" y="5713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3954600" y="6278040"/>
              <a:ext cx="2087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377-AE12-4E4D-887E-A5817F77148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297000" y="3863880"/>
            <a:ext cx="4317840" cy="2793960"/>
            <a:chOff x="297000" y="3863880"/>
            <a:chExt cx="4317840" cy="2793960"/>
          </a:xfrm>
        </p:grpSpPr>
        <p:pic>
          <p:nvPicPr>
            <p:cNvPr id="735" name="" descr=""/>
            <p:cNvPicPr/>
            <p:nvPr/>
          </p:nvPicPr>
          <p:blipFill>
            <a:blip r:embed="rId1"/>
            <a:srcRect l="0" t="0" r="41228" b="0"/>
            <a:stretch/>
          </p:blipFill>
          <p:spPr>
            <a:xfrm>
              <a:off x="461880" y="4168800"/>
              <a:ext cx="3105360" cy="238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6" name=""/>
            <p:cNvGrpSpPr/>
            <p:nvPr/>
          </p:nvGrpSpPr>
          <p:grpSpPr>
            <a:xfrm>
              <a:off x="1674720" y="5521320"/>
              <a:ext cx="376200" cy="566640"/>
              <a:chOff x="1674720" y="5521320"/>
              <a:chExt cx="376200" cy="566640"/>
            </a:xfrm>
          </p:grpSpPr>
          <p:sp>
            <p:nvSpPr>
              <p:cNvPr id="737" name=""/>
              <p:cNvSpPr/>
              <p:nvPr/>
            </p:nvSpPr>
            <p:spPr>
              <a:xfrm>
                <a:off x="1858680" y="5844960"/>
                <a:ext cx="192240" cy="243000"/>
              </a:xfrm>
              <a:custGeom>
                <a:avLst/>
                <a:gdLst/>
                <a:ahLst/>
                <a:rect l="l" t="t" r="r" b="b"/>
                <a:pathLst>
                  <a:path w="121" h="153">
                    <a:moveTo>
                      <a:pt x="120" y="152"/>
                    </a:moveTo>
                    <a:lnTo>
                      <a:pt x="0" y="56"/>
                    </a:lnTo>
                    <a:lnTo>
                      <a:pt x="72" y="72"/>
                    </a:lnTo>
                    <a:lnTo>
                      <a:pt x="80" y="0"/>
                    </a:lnTo>
                    <a:lnTo>
                      <a:pt x="120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74720" y="552132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636560" y="5889600"/>
              <a:ext cx="388800" cy="566640"/>
              <a:chOff x="1636560" y="5889600"/>
              <a:chExt cx="388800" cy="566640"/>
            </a:xfrm>
          </p:grpSpPr>
          <p:sp>
            <p:nvSpPr>
              <p:cNvPr id="740" name=""/>
              <p:cNvSpPr/>
              <p:nvPr/>
            </p:nvSpPr>
            <p:spPr>
              <a:xfrm>
                <a:off x="1833480" y="6226200"/>
                <a:ext cx="191880" cy="230040"/>
              </a:xfrm>
              <a:custGeom>
                <a:avLst/>
                <a:gdLst/>
                <a:ahLst/>
                <a:rect l="l" t="t" r="r" b="b"/>
                <a:pathLst>
                  <a:path w="121" h="145">
                    <a:moveTo>
                      <a:pt x="120" y="144"/>
                    </a:moveTo>
                    <a:lnTo>
                      <a:pt x="0" y="56"/>
                    </a:lnTo>
                    <a:lnTo>
                      <a:pt x="64" y="64"/>
                    </a:lnTo>
                    <a:lnTo>
                      <a:pt x="80" y="0"/>
                    </a:lnTo>
                    <a:lnTo>
                      <a:pt x="120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36560" y="588960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500200" y="5533920"/>
              <a:ext cx="236520" cy="554040"/>
              <a:chOff x="2500200" y="5533920"/>
              <a:chExt cx="236520" cy="554040"/>
            </a:xfrm>
          </p:grpSpPr>
          <p:sp>
            <p:nvSpPr>
              <p:cNvPr id="743" name=""/>
              <p:cNvSpPr/>
              <p:nvPr/>
            </p:nvSpPr>
            <p:spPr>
              <a:xfrm>
                <a:off x="2595240" y="5844960"/>
                <a:ext cx="141480" cy="243000"/>
              </a:xfrm>
              <a:custGeom>
                <a:avLst/>
                <a:gdLst/>
                <a:ahLst/>
                <a:rect l="l" t="t" r="r" b="b"/>
                <a:pathLst>
                  <a:path w="89" h="153">
                    <a:moveTo>
                      <a:pt x="88" y="152"/>
                    </a:moveTo>
                    <a:lnTo>
                      <a:pt x="0" y="40"/>
                    </a:lnTo>
                    <a:lnTo>
                      <a:pt x="56" y="56"/>
                    </a:lnTo>
                    <a:lnTo>
                      <a:pt x="80" y="0"/>
                    </a:lnTo>
                    <a:lnTo>
                      <a:pt x="88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00200" y="5533920"/>
                <a:ext cx="17784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538360" y="5889600"/>
              <a:ext cx="236520" cy="554040"/>
              <a:chOff x="2538360" y="5889600"/>
              <a:chExt cx="236520" cy="554040"/>
            </a:xfrm>
          </p:grpSpPr>
          <p:sp>
            <p:nvSpPr>
              <p:cNvPr id="746" name=""/>
              <p:cNvSpPr/>
              <p:nvPr/>
            </p:nvSpPr>
            <p:spPr>
              <a:xfrm>
                <a:off x="2608200" y="621324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104" y="144"/>
                    </a:moveTo>
                    <a:lnTo>
                      <a:pt x="0" y="32"/>
                    </a:lnTo>
                    <a:lnTo>
                      <a:pt x="56" y="56"/>
                    </a:lnTo>
                    <a:lnTo>
                      <a:pt x="88" y="0"/>
                    </a:lnTo>
                    <a:lnTo>
                      <a:pt x="104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38360" y="5889600"/>
                <a:ext cx="1522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1262160" y="4105440"/>
              <a:ext cx="622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609480"/>
                  <a:tab algn="l" pos="2044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58960" y="3863880"/>
              <a:ext cx="736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1554120" y="444168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1554120" y="4486320"/>
              <a:ext cx="0" cy="723600"/>
              <a:chOff x="1554120" y="4486320"/>
              <a:chExt cx="0" cy="723600"/>
            </a:xfrm>
          </p:grpSpPr>
          <p:sp>
            <p:nvSpPr>
              <p:cNvPr id="752" name=""/>
              <p:cNvSpPr/>
              <p:nvPr/>
            </p:nvSpPr>
            <p:spPr>
              <a:xfrm>
                <a:off x="155412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5412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5412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5412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55412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5412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5412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55412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412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55412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5412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 flipV="1">
              <a:off x="227808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2278080" y="4486320"/>
              <a:ext cx="0" cy="723600"/>
              <a:chOff x="2278080" y="4486320"/>
              <a:chExt cx="0" cy="723600"/>
            </a:xfrm>
          </p:grpSpPr>
          <p:sp>
            <p:nvSpPr>
              <p:cNvPr id="765" name=""/>
              <p:cNvSpPr/>
              <p:nvPr/>
            </p:nvSpPr>
            <p:spPr>
              <a:xfrm>
                <a:off x="227808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27808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27808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7808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27808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27808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7808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27808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7808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27808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27808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 flipV="1">
              <a:off x="300204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3002040" y="4486320"/>
              <a:ext cx="0" cy="723600"/>
              <a:chOff x="3002040" y="4486320"/>
              <a:chExt cx="0" cy="723600"/>
            </a:xfrm>
          </p:grpSpPr>
          <p:sp>
            <p:nvSpPr>
              <p:cNvPr id="778" name=""/>
              <p:cNvSpPr/>
              <p:nvPr/>
            </p:nvSpPr>
            <p:spPr>
              <a:xfrm>
                <a:off x="300204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0204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00204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00204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00204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00204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00204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204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0204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00204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0204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726000" y="4511520"/>
              <a:ext cx="0" cy="711360"/>
              <a:chOff x="3726000" y="4511520"/>
              <a:chExt cx="0" cy="711360"/>
            </a:xfrm>
          </p:grpSpPr>
          <p:sp>
            <p:nvSpPr>
              <p:cNvPr id="790" name=""/>
              <p:cNvSpPr/>
              <p:nvPr/>
            </p:nvSpPr>
            <p:spPr>
              <a:xfrm>
                <a:off x="3726000" y="5222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726000" y="51465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726000" y="5083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726000" y="5006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726000" y="4943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726000" y="4867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26000" y="4790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726000" y="4727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726000" y="4651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726000" y="45752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726000" y="4511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474840" y="4549680"/>
              <a:ext cx="609480" cy="20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7000" y="4486320"/>
              <a:ext cx="647640" cy="21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60560" y="4105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11520" y="5425920"/>
              <a:ext cx="965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st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49680" y="6035760"/>
              <a:ext cx="965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lav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1s catching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453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first R-S stage of master-slave 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1-0 glitch on R or S while clock is high is "caught" by master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constraints on logic to be hazard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592440" y="2897280"/>
            <a:ext cx="5497200" cy="1442520"/>
            <a:chOff x="3592440" y="2897280"/>
            <a:chExt cx="5497200" cy="1442520"/>
          </a:xfrm>
        </p:grpSpPr>
        <p:sp>
          <p:nvSpPr>
            <p:cNvPr id="809" name=""/>
            <p:cNvSpPr/>
            <p:nvPr/>
          </p:nvSpPr>
          <p:spPr>
            <a:xfrm>
              <a:off x="5070600" y="2899440"/>
              <a:ext cx="12726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8720" y="2897280"/>
              <a:ext cx="11577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331240" y="4013280"/>
              <a:ext cx="680040" cy="326520"/>
              <a:chOff x="5331240" y="4013280"/>
              <a:chExt cx="680040" cy="326520"/>
            </a:xfrm>
          </p:grpSpPr>
          <p:sp>
            <p:nvSpPr>
              <p:cNvPr id="812" name=""/>
              <p:cNvSpPr/>
              <p:nvPr/>
            </p:nvSpPr>
            <p:spPr>
              <a:xfrm>
                <a:off x="5507640" y="4013280"/>
                <a:ext cx="24732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5507640" y="4163400"/>
                <a:ext cx="24732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503320" y="4013280"/>
                <a:ext cx="0" cy="31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763960" y="4136760"/>
                <a:ext cx="7056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52520" y="4167720"/>
                <a:ext cx="15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31240" y="4167720"/>
                <a:ext cx="16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6617160" y="3772080"/>
              <a:ext cx="406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17160" y="3153600"/>
              <a:ext cx="4593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92440" y="4035240"/>
              <a:ext cx="6627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4759200" y="3164400"/>
              <a:ext cx="1944000" cy="989640"/>
              <a:chOff x="4759200" y="3164400"/>
              <a:chExt cx="1944000" cy="989640"/>
            </a:xfrm>
          </p:grpSpPr>
          <p:sp>
            <p:nvSpPr>
              <p:cNvPr id="822" name=""/>
              <p:cNvSpPr/>
              <p:nvPr/>
            </p:nvSpPr>
            <p:spPr>
              <a:xfrm>
                <a:off x="507708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07708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507276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24988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23692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24952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23656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75784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2876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82876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0144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8624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07708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07708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7276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4988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3692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4952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3656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5640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2500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554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5640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93596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93596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62500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54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7972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57972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93128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91796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75920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759200" y="336312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720" y="329040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484848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7145640" y="3164400"/>
              <a:ext cx="1944000" cy="989640"/>
              <a:chOff x="7145640" y="3164400"/>
              <a:chExt cx="1944000" cy="989640"/>
            </a:xfrm>
          </p:grpSpPr>
          <p:sp>
            <p:nvSpPr>
              <p:cNvPr id="858" name=""/>
              <p:cNvSpPr/>
              <p:nvPr/>
            </p:nvSpPr>
            <p:spPr>
              <a:xfrm>
                <a:off x="746352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46352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745920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3632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2336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3596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2300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14428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1520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21520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68788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57268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46352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46352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45920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3632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2336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3596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2300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24284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011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94088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4284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32240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240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11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94088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96616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96616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31772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30440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14564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45640" y="3363120"/>
                <a:ext cx="9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238160" y="3296880"/>
                <a:ext cx="0" cy="61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723492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 flipH="1">
              <a:off x="4272480" y="4159080"/>
              <a:ext cx="121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42480" y="3239640"/>
              <a:ext cx="415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51480" y="3655080"/>
              <a:ext cx="406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809040" y="336348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809040" y="376992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863680" y="4162680"/>
              <a:ext cx="145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978-612B-465F-82E6-26B6B7F1E1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7594560" y="6192720"/>
            <a:ext cx="134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 flip-flop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3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 and R complements of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1s catch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just hold previous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t have new value ready every clock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D just before clock goes low is what is stored in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ke R-S flip-flop by adding logic to make D = S + R’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61800" y="3879720"/>
            <a:ext cx="8761680" cy="2072880"/>
            <a:chOff x="361800" y="3879720"/>
            <a:chExt cx="8761680" cy="2072880"/>
          </a:xfrm>
        </p:grpSpPr>
        <p:sp>
          <p:nvSpPr>
            <p:cNvPr id="903" name=""/>
            <p:cNvSpPr/>
            <p:nvPr/>
          </p:nvSpPr>
          <p:spPr>
            <a:xfrm>
              <a:off x="361800" y="49579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462880" y="493560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462880" y="4351320"/>
              <a:ext cx="660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1208160" y="4330800"/>
              <a:ext cx="977760" cy="469080"/>
              <a:chOff x="1208160" y="4330800"/>
              <a:chExt cx="977760" cy="469080"/>
            </a:xfrm>
          </p:grpSpPr>
          <p:sp>
            <p:nvSpPr>
              <p:cNvPr id="907" name=""/>
              <p:cNvSpPr/>
              <p:nvPr/>
            </p:nvSpPr>
            <p:spPr>
              <a:xfrm>
                <a:off x="1461960" y="4330800"/>
                <a:ext cx="35568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1461960" y="454608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55840" y="4330800"/>
                <a:ext cx="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30600" y="4508280"/>
                <a:ext cx="101520" cy="101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57320" y="45529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208160" y="455292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 flipH="1">
              <a:off x="966600" y="51372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89080" y="455940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70000" y="5118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83000" y="388296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186600" y="38797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2957400" y="5483160"/>
              <a:ext cx="977760" cy="469440"/>
              <a:chOff x="2957400" y="5483160"/>
              <a:chExt cx="977760" cy="469440"/>
            </a:xfrm>
          </p:grpSpPr>
          <p:sp>
            <p:nvSpPr>
              <p:cNvPr id="919" name=""/>
              <p:cNvSpPr/>
              <p:nvPr/>
            </p:nvSpPr>
            <p:spPr>
              <a:xfrm>
                <a:off x="3211200" y="54831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3211200" y="56988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205080" y="54831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79480" y="56610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06560" y="57052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957400" y="57052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4805280" y="5137200"/>
              <a:ext cx="584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5280" y="4248000"/>
              <a:ext cx="6606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8640" y="55148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2135160" y="4264200"/>
              <a:ext cx="2793960" cy="1422360"/>
              <a:chOff x="2135160" y="4264200"/>
              <a:chExt cx="2793960" cy="1422360"/>
            </a:xfrm>
          </p:grpSpPr>
          <p:sp>
            <p:nvSpPr>
              <p:cNvPr id="929" name=""/>
              <p:cNvSpPr/>
              <p:nvPr/>
            </p:nvSpPr>
            <p:spPr>
              <a:xfrm>
                <a:off x="2592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592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2585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40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821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40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20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570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72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72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351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186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592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592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2585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840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821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40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820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74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379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278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274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389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389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379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278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751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751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82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363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135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135160" y="45500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268360" y="44452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2263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5564160" y="4264200"/>
              <a:ext cx="2793960" cy="1422360"/>
              <a:chOff x="5564160" y="4264200"/>
              <a:chExt cx="2793960" cy="1422360"/>
            </a:xfrm>
          </p:grpSpPr>
          <p:sp>
            <p:nvSpPr>
              <p:cNvPr id="965" name=""/>
              <p:cNvSpPr/>
              <p:nvPr/>
            </p:nvSpPr>
            <p:spPr>
              <a:xfrm>
                <a:off x="6021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21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6014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269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50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269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249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999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101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101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80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5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021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021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6014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269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250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269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249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03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808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707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703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818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818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808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07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180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80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811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792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64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64160" y="45500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97360" y="44546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5692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 flipH="1">
              <a:off x="1436760" y="56926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081400" y="454968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5081400" y="513396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3722400" y="5699160"/>
              <a:ext cx="208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55D-8CD8-4349-924C-4155F5D8BF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293760" y="2209680"/>
            <a:ext cx="4763880" cy="4419720"/>
            <a:chOff x="293760" y="2209680"/>
            <a:chExt cx="4763880" cy="4419720"/>
          </a:xfrm>
        </p:grpSpPr>
        <p:pic>
          <p:nvPicPr>
            <p:cNvPr id="1005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824040" y="22096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718160" y="39020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55640" y="6105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3760" y="4370400"/>
              <a:ext cx="711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25800" y="37162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041640" y="4881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05160" y="52401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00480" y="6018120"/>
              <a:ext cx="304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89320" y="33307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182600" y="24922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262320" y="25542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14920" y="46753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6629400" y="4800600"/>
            <a:ext cx="1262160" cy="116676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5549760" y="3000240"/>
            <a:ext cx="35053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 (D-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5 gate del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t respect setup and hold tim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traints to successful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ptur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956200" y="5867280"/>
            <a:ext cx="2792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1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62440" y="2778120"/>
            <a:ext cx="1549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’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25800" y="5568840"/>
            <a:ext cx="140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 w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>
            <a:off x="3484080" y="5441760"/>
            <a:ext cx="381240" cy="31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481560" y="3070080"/>
            <a:ext cx="34272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718920" y="1676160"/>
            <a:ext cx="85518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efficient solution: only 6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inputs only near edge of clock signal (not while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886440" y="548640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235-A169-442E-B80D-F6E5D53BC8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417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275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133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7320" y="54039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41720" y="4946760"/>
            <a:ext cx="1828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78040" y="460368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3400" y="4546440"/>
            <a:ext cx="419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813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671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638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354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517536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228760" y="528336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5240" y="52894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384880"/>
            <a:ext cx="1028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06640" y="563256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29264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600696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79840" y="4927680"/>
            <a:ext cx="990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27640" y="4794120"/>
            <a:ext cx="1828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1360" y="43369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244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15080" y="6083280"/>
            <a:ext cx="1549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187960"/>
            <a:ext cx="0" cy="95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97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03848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55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2640" y="477504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057560" y="5067360"/>
            <a:ext cx="1409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914880" y="5492880"/>
            <a:ext cx="12708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927840" y="5378040"/>
            <a:ext cx="1015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42320" y="5511960"/>
            <a:ext cx="54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94560" y="533412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6520" y="5391000"/>
            <a:ext cx="685800" cy="2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67320" y="4933800"/>
            <a:ext cx="158760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70680" y="51879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64200" y="55119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80160" y="520056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02400" y="4915080"/>
            <a:ext cx="1587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88200" y="5346720"/>
            <a:ext cx="927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s with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= f(inputs, past inputs, past out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s for building "memory" into logic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 is an example of a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an "output" and an "input" to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 storage elements are als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06F-1816-4DE3-B68A-86D29202A5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0" y="1752480"/>
            <a:ext cx="4678200" cy="4419720"/>
            <a:chOff x="0" y="1752480"/>
            <a:chExt cx="4678200" cy="4419720"/>
          </a:xfrm>
        </p:grpSpPr>
        <p:pic>
          <p:nvPicPr>
            <p:cNvPr id="1028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53028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/>
            <p:nvPr/>
          </p:nvSpPr>
          <p:spPr>
            <a:xfrm>
              <a:off x="4424400" y="34448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880" y="5648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732040" y="32590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47880" y="4424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01140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00672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9556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8884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6856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723960" y="6197760"/>
            <a:ext cx="3263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goes high-to-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lat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410080" y="6172200"/>
            <a:ext cx="3111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h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-by-step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592520" y="1752480"/>
            <a:ext cx="4678560" cy="4419720"/>
            <a:chOff x="4592520" y="1752480"/>
            <a:chExt cx="4678560" cy="4419720"/>
          </a:xfrm>
        </p:grpSpPr>
        <p:pic>
          <p:nvPicPr>
            <p:cNvPr id="1044" name="" descr=""/>
            <p:cNvPicPr/>
            <p:nvPr/>
          </p:nvPicPr>
          <p:blipFill>
            <a:blip r:embed="rId2"/>
            <a:srcRect l="0" t="0" r="0" b="1762"/>
            <a:stretch/>
          </p:blipFill>
          <p:spPr>
            <a:xfrm>
              <a:off x="512280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9016920" y="344484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54760" y="5648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9252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24560" y="325908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40760" y="4424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0428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9924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8808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8172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56144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4147560" y="5867280"/>
            <a:ext cx="1552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ld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425-B2DD-4EAA-9C3E-63AE9908932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5486400" cy="224784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6095880" y="4965840"/>
            <a:ext cx="26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273720" y="55497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12880" y="4152960"/>
            <a:ext cx="66024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9480" y="4089240"/>
            <a:ext cx="80028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76920" y="3619440"/>
            <a:ext cx="6602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2880" y="359424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64000" y="4718160"/>
            <a:ext cx="5076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740040" y="4705200"/>
            <a:ext cx="8892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016080" y="4705200"/>
            <a:ext cx="88920" cy="80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92480" y="4718160"/>
            <a:ext cx="101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edge-trigg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rising edge; outputs change after ris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edge-triggered 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falling edge; outputs change after fall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254-277D-4DB4-8714-DCAB73A5A48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les for interconnecting components and c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 proper operation of system when strictly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ach depends on building blocks used for memory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'll focus on systems with edge-trigger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ustom integrated circuits focus on level-sensitive l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rules for correct tim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correct inputs, with respect to time, are provided to the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no flip-flop changes state more than once per clocking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676-6467-443A-94BC-A3279EAC05B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7920" y="5376960"/>
            <a:ext cx="2514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 is a timing "window"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ound the clocking ev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ing which the input mu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ain stable and unchang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order to be recog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78720" y="5657760"/>
            <a:ext cx="322200" cy="219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32160" y="5657760"/>
            <a:ext cx="635040" cy="21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121360" y="5657760"/>
            <a:ext cx="1303200" cy="219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238640" y="6280200"/>
            <a:ext cx="77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5018040" y="6067080"/>
            <a:ext cx="1550520" cy="219240"/>
            <a:chOff x="5018040" y="6067080"/>
            <a:chExt cx="1550520" cy="219240"/>
          </a:xfrm>
        </p:grpSpPr>
        <p:sp>
          <p:nvSpPr>
            <p:cNvPr id="1077" name=""/>
            <p:cNvSpPr/>
            <p:nvPr/>
          </p:nvSpPr>
          <p:spPr>
            <a:xfrm flipV="1">
              <a:off x="501804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023440" y="607320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9024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07520" y="628092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575400" y="6067080"/>
            <a:ext cx="1550520" cy="219240"/>
            <a:chOff x="6575400" y="6067080"/>
            <a:chExt cx="1550520" cy="219240"/>
          </a:xfrm>
        </p:grpSpPr>
        <p:sp>
          <p:nvSpPr>
            <p:cNvPr id="1082" name=""/>
            <p:cNvSpPr/>
            <p:nvPr/>
          </p:nvSpPr>
          <p:spPr>
            <a:xfrm flipV="1">
              <a:off x="657540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81160" y="607320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34796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65240" y="628092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4861080" y="5651640"/>
            <a:ext cx="47520" cy="218880"/>
            <a:chOff x="4861080" y="5651640"/>
            <a:chExt cx="47520" cy="218880"/>
          </a:xfrm>
        </p:grpSpPr>
        <p:sp>
          <p:nvSpPr>
            <p:cNvPr id="1087" name=""/>
            <p:cNvSpPr/>
            <p:nvPr/>
          </p:nvSpPr>
          <p:spPr>
            <a:xfrm flipV="1">
              <a:off x="486108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86108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491976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91976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4227120" y="565776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4227120" y="5865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5068800" y="5651640"/>
            <a:ext cx="46080" cy="218880"/>
            <a:chOff x="5068800" y="5651640"/>
            <a:chExt cx="46080" cy="218880"/>
          </a:xfrm>
        </p:grpSpPr>
        <p:sp>
          <p:nvSpPr>
            <p:cNvPr id="1094" name=""/>
            <p:cNvSpPr/>
            <p:nvPr/>
          </p:nvSpPr>
          <p:spPr>
            <a:xfrm flipV="1">
              <a:off x="506880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06880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418440" y="5651640"/>
            <a:ext cx="47520" cy="218880"/>
            <a:chOff x="6418440" y="5651640"/>
            <a:chExt cx="47520" cy="218880"/>
          </a:xfrm>
        </p:grpSpPr>
        <p:sp>
          <p:nvSpPr>
            <p:cNvPr id="1097" name=""/>
            <p:cNvSpPr/>
            <p:nvPr/>
          </p:nvSpPr>
          <p:spPr>
            <a:xfrm flipV="1">
              <a:off x="641844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1844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647712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47712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27480" y="565776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27480" y="586584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6626160" y="5651640"/>
            <a:ext cx="46080" cy="218880"/>
            <a:chOff x="6626160" y="5651640"/>
            <a:chExt cx="46080" cy="218880"/>
          </a:xfrm>
        </p:grpSpPr>
        <p:sp>
          <p:nvSpPr>
            <p:cNvPr id="1104" name=""/>
            <p:cNvSpPr/>
            <p:nvPr/>
          </p:nvSpPr>
          <p:spPr>
            <a:xfrm flipV="1">
              <a:off x="662616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62616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6684840" y="565776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684840" y="586584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782880" y="6073920"/>
            <a:ext cx="738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17800" y="5668920"/>
            <a:ext cx="668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397480" y="5381640"/>
            <a:ext cx="1004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718160" y="5381640"/>
            <a:ext cx="784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811080" y="3929040"/>
            <a:ext cx="2322360" cy="1382760"/>
            <a:chOff x="811080" y="3929040"/>
            <a:chExt cx="2322360" cy="1382760"/>
          </a:xfrm>
        </p:grpSpPr>
        <p:sp>
          <p:nvSpPr>
            <p:cNvPr id="1113" name=""/>
            <p:cNvSpPr/>
            <p:nvPr/>
          </p:nvSpPr>
          <p:spPr>
            <a:xfrm>
              <a:off x="1344600" y="522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259000" y="49190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59000" y="4919400"/>
              <a:ext cx="87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44600" y="469080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77760" y="43099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16200" y="469080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271600" y="416700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01800" y="4157640"/>
              <a:ext cx="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36640" y="414468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344600" y="430992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77760" y="4690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716200" y="430992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1080" y="4309920"/>
              <a:ext cx="77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11080" y="4913280"/>
              <a:ext cx="79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77760" y="3929040"/>
              <a:ext cx="59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282760" y="3951000"/>
              <a:ext cx="55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32080" y="44812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66680" y="448128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3706920" y="4995720"/>
            <a:ext cx="738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06920" y="3929040"/>
            <a:ext cx="668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669080" y="4157640"/>
            <a:ext cx="723960" cy="1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773600" y="4005360"/>
            <a:ext cx="533520" cy="761760"/>
            <a:chOff x="4773600" y="4005360"/>
            <a:chExt cx="533520" cy="761760"/>
          </a:xfrm>
        </p:grpSpPr>
        <p:sp>
          <p:nvSpPr>
            <p:cNvPr id="1139" name=""/>
            <p:cNvSpPr/>
            <p:nvPr/>
          </p:nvSpPr>
          <p:spPr>
            <a:xfrm>
              <a:off x="4811760" y="4081320"/>
              <a:ext cx="26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002200" y="4081320"/>
              <a:ext cx="2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73600" y="400536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73600" y="453852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4773600" y="461484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 flipH="1">
            <a:off x="4011120" y="415764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5307120" y="41576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7135560" y="4005360"/>
            <a:ext cx="533520" cy="761760"/>
            <a:chOff x="7135560" y="4005360"/>
            <a:chExt cx="533520" cy="761760"/>
          </a:xfrm>
        </p:grpSpPr>
        <p:sp>
          <p:nvSpPr>
            <p:cNvPr id="1147" name=""/>
            <p:cNvSpPr/>
            <p:nvPr/>
          </p:nvSpPr>
          <p:spPr>
            <a:xfrm>
              <a:off x="7173720" y="4081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64160" y="4081320"/>
              <a:ext cx="27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135920" y="400536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135920" y="453852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35560" y="461484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 flipH="1">
            <a:off x="6754320" y="46148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75468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4011480" y="5224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392720" y="46148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9272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6754320" y="41576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event, causes state of memory element to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rising edge or falling edge or high level or low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before the clocking event by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be stable (Ts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after the clocking event until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remain stable (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4EF-7F68-4AD0-A649-70956B7ED0E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3575160" y="5877000"/>
            <a:ext cx="5194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havior is the same unless inpu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le the clock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1168560" y="1857240"/>
            <a:ext cx="774720" cy="635040"/>
            <a:chOff x="1168560" y="1857240"/>
            <a:chExt cx="774720" cy="635040"/>
          </a:xfrm>
        </p:grpSpPr>
        <p:sp>
          <p:nvSpPr>
            <p:cNvPr id="1162" name=""/>
            <p:cNvSpPr/>
            <p:nvPr/>
          </p:nvSpPr>
          <p:spPr>
            <a:xfrm>
              <a:off x="1308240" y="185724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1498680" y="2225520"/>
              <a:ext cx="50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562040" y="2238120"/>
              <a:ext cx="5076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89160" y="197784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68560" y="2104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28800" y="2104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55920" y="23778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1174680" y="2473200"/>
            <a:ext cx="7873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30080" y="2892600"/>
            <a:ext cx="170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ge-trigge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1181160" y="4435560"/>
            <a:ext cx="774720" cy="635040"/>
            <a:chOff x="1181160" y="4435560"/>
            <a:chExt cx="774720" cy="635040"/>
          </a:xfrm>
        </p:grpSpPr>
        <p:sp>
          <p:nvSpPr>
            <p:cNvPr id="1172" name=""/>
            <p:cNvSpPr/>
            <p:nvPr/>
          </p:nvSpPr>
          <p:spPr>
            <a:xfrm>
              <a:off x="1320840" y="443556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289160" y="455616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18116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140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68520" y="49564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27320" y="4721400"/>
              <a:ext cx="507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1187280" y="5064120"/>
            <a:ext cx="787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17480" y="5432400"/>
            <a:ext cx="179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ar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evel-sensitiv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3581280" y="220932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3962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7242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5486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6248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0120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772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8534520" y="221904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610000" y="2346480"/>
            <a:ext cx="9144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2668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8862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86200" y="2438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3341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4120" y="2668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858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0" y="2438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1629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162920" y="2668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78487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8487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001000" y="266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81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962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343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34340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7242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724280" y="3200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05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105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5486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486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867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67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48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629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629400" y="342900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0120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012080" y="32004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391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391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772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153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81280" y="4191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03848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038480" y="39625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562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562720" y="4191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08660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962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848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8487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40384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038480" y="47242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5627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62720" y="4952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08660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086600" y="4724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23888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888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79246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924680" y="4724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0773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8077320" y="4952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910-4DA1-4C8A-992D-2B4EBB3B782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34880" y="1762200"/>
            <a:ext cx="849636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inputs are sampl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output is 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clock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200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-sensi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clock edge (whichever is lat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ter-sla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-to-lo transi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-trigger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92444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15568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FCD-D3D6-4D9F-A68A-253432ED783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355680" y="6210360"/>
            <a:ext cx="8453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l measurements are made from the clocking event (the rising edge of the c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ypical timing specific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edge-triggered D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an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clock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s (low to high, high to low, max and typ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789560" y="2959200"/>
            <a:ext cx="5499720" cy="3275640"/>
            <a:chOff x="1789560" y="2959200"/>
            <a:chExt cx="5499720" cy="3275640"/>
          </a:xfrm>
        </p:grpSpPr>
        <p:sp>
          <p:nvSpPr>
            <p:cNvPr id="1258" name=""/>
            <p:cNvSpPr/>
            <p:nvPr/>
          </p:nvSpPr>
          <p:spPr>
            <a:xfrm flipV="1">
              <a:off x="308268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49080" y="3111120"/>
              <a:ext cx="144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5413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792240" y="3971520"/>
              <a:ext cx="1080" cy="807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716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574344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068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90640" y="38955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89560" y="475596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1360" y="556560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15840" y="3312720"/>
              <a:ext cx="5473440" cy="480960"/>
            </a:xfrm>
            <a:custGeom>
              <a:avLst/>
              <a:gdLst/>
              <a:ahLst/>
              <a:rect l="l" t="t" r="r" b="b"/>
              <a:pathLst>
                <a:path w="3448" h="303">
                  <a:moveTo>
                    <a:pt x="0" y="303"/>
                  </a:moveTo>
                  <a:lnTo>
                    <a:pt x="271" y="303"/>
                  </a:lnTo>
                  <a:lnTo>
                    <a:pt x="495" y="0"/>
                  </a:lnTo>
                  <a:lnTo>
                    <a:pt x="1117" y="0"/>
                  </a:lnTo>
                  <a:lnTo>
                    <a:pt x="1325" y="303"/>
                  </a:lnTo>
                  <a:lnTo>
                    <a:pt x="2794" y="303"/>
                  </a:lnTo>
                  <a:lnTo>
                    <a:pt x="2969" y="32"/>
                  </a:lnTo>
                  <a:lnTo>
                    <a:pt x="3448" y="3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815840" y="414792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670" y="287"/>
                  </a:lnTo>
                  <a:lnTo>
                    <a:pt x="878" y="0"/>
                  </a:lnTo>
                  <a:lnTo>
                    <a:pt x="1149" y="0"/>
                  </a:lnTo>
                  <a:lnTo>
                    <a:pt x="1341" y="287"/>
                  </a:lnTo>
                  <a:lnTo>
                    <a:pt x="2378" y="287"/>
                  </a:lnTo>
                  <a:lnTo>
                    <a:pt x="2538" y="16"/>
                  </a:lnTo>
                  <a:lnTo>
                    <a:pt x="2857" y="16"/>
                  </a:lnTo>
                  <a:lnTo>
                    <a:pt x="2985" y="287"/>
                  </a:lnTo>
                  <a:lnTo>
                    <a:pt x="3001" y="287"/>
                  </a:lnTo>
                  <a:lnTo>
                    <a:pt x="3097" y="287"/>
                  </a:lnTo>
                  <a:lnTo>
                    <a:pt x="3240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815840" y="495756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1373" y="287"/>
                  </a:lnTo>
                  <a:lnTo>
                    <a:pt x="1516" y="0"/>
                  </a:lnTo>
                  <a:lnTo>
                    <a:pt x="3033" y="0"/>
                  </a:lnTo>
                  <a:lnTo>
                    <a:pt x="3145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2692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52920" y="343980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3484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5212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3344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84640" y="34398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4136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5864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36480" y="41749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63200" y="42987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36480" y="4468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36120" y="46954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62040" y="54608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487320" y="5584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311640" y="576396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11640" y="59911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44760" y="3111120"/>
              <a:ext cx="108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845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32260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48600" y="308412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347800" y="327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34780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2912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80320" y="30841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54320" y="3273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5396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32160" y="50954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157440" y="521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81760" y="53989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981760" y="56257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981400" y="417816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08120" y="43020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81400" y="4471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81040" y="4698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EDB-BE54-402F-BF32-78AFCF1404D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2819520" y="4572000"/>
            <a:ext cx="5929200" cy="162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5918040" cy="16128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19520" y="5003640"/>
            <a:ext cx="660240" cy="119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65360" y="4927680"/>
            <a:ext cx="8002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908760" y="4483080"/>
            <a:ext cx="660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985080" y="4457880"/>
            <a:ext cx="48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alue goes into first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previous value of first stage goes into second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setup/hold/propagation delays (prop must be &gt;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88620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462276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53593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9588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683244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756936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3059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533520" y="3124080"/>
            <a:ext cx="5409360" cy="1638360"/>
            <a:chOff x="533520" y="3124080"/>
            <a:chExt cx="5409360" cy="1638360"/>
          </a:xfrm>
        </p:grpSpPr>
        <p:sp>
          <p:nvSpPr>
            <p:cNvPr id="1321" name=""/>
            <p:cNvSpPr/>
            <p:nvPr/>
          </p:nvSpPr>
          <p:spPr>
            <a:xfrm>
              <a:off x="533520" y="4419360"/>
              <a:ext cx="406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609480" y="3124080"/>
              <a:ext cx="5333400" cy="1371600"/>
              <a:chOff x="609480" y="3124080"/>
              <a:chExt cx="5333400" cy="1371600"/>
            </a:xfrm>
          </p:grpSpPr>
          <p:sp>
            <p:nvSpPr>
              <p:cNvPr id="1323" name=""/>
              <p:cNvSpPr/>
              <p:nvPr/>
            </p:nvSpPr>
            <p:spPr>
              <a:xfrm>
                <a:off x="4647600" y="3428640"/>
                <a:ext cx="723600" cy="1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09480" y="3352680"/>
                <a:ext cx="2916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285640" y="3124080"/>
                <a:ext cx="3423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647600" y="312408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1751760" y="3276360"/>
                <a:ext cx="533520" cy="761760"/>
                <a:chOff x="1751760" y="3276360"/>
                <a:chExt cx="533520" cy="76176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178992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1980360" y="3352320"/>
                  <a:ext cx="279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1752120" y="327636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175212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175176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"/>
              <p:cNvSpPr/>
              <p:nvPr/>
            </p:nvSpPr>
            <p:spPr>
              <a:xfrm flipH="1">
                <a:off x="990000" y="342864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2285280" y="3428640"/>
                <a:ext cx="182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4114080" y="3276360"/>
                <a:ext cx="533160" cy="761760"/>
                <a:chOff x="4114080" y="3276360"/>
                <a:chExt cx="533160" cy="7617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15224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342680" y="3352320"/>
                  <a:ext cx="2786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114440" y="3276360"/>
                  <a:ext cx="53280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11444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>
                  <a:off x="411408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 flipH="1">
                <a:off x="3733200" y="38858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73320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989640" y="449568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1370880" y="388584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7124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409720" y="3352680"/>
                <a:ext cx="533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FEF-9953-4FFB-86E9-A316629222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5943600" y="3886200"/>
            <a:ext cx="26290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ing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arantee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r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caded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06960" y="5334120"/>
            <a:ext cx="251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sumes infinitely fa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on of the 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this 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delays exceed 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dth constraint exceeds setup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uarantees following stage will latch current value before it changes to new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885960" y="3448080"/>
            <a:ext cx="4495320" cy="3048120"/>
            <a:chOff x="885960" y="3448080"/>
            <a:chExt cx="4495320" cy="3048120"/>
          </a:xfrm>
        </p:grpSpPr>
        <p:grpSp>
          <p:nvGrpSpPr>
            <p:cNvPr id="1352" name=""/>
            <p:cNvGrpSpPr/>
            <p:nvPr/>
          </p:nvGrpSpPr>
          <p:grpSpPr>
            <a:xfrm>
              <a:off x="1648080" y="3551400"/>
              <a:ext cx="1066680" cy="2666520"/>
              <a:chOff x="1648080" y="3551400"/>
              <a:chExt cx="1066680" cy="2666520"/>
            </a:xfrm>
          </p:grpSpPr>
          <p:sp>
            <p:nvSpPr>
              <p:cNvPr id="1353" name=""/>
              <p:cNvSpPr/>
              <p:nvPr/>
            </p:nvSpPr>
            <p:spPr>
              <a:xfrm>
                <a:off x="1648080" y="3551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56248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7147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575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3629160" y="3524400"/>
              <a:ext cx="1066680" cy="2666520"/>
              <a:chOff x="3629160" y="3524400"/>
              <a:chExt cx="1066680" cy="2666520"/>
            </a:xfrm>
          </p:grpSpPr>
          <p:sp>
            <p:nvSpPr>
              <p:cNvPr id="1358" name=""/>
              <p:cNvSpPr/>
              <p:nvPr/>
            </p:nvSpPr>
            <p:spPr>
              <a:xfrm>
                <a:off x="3629160" y="3524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54356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958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 flipV="1">
              <a:off x="1419480" y="3541680"/>
              <a:ext cx="19080" cy="264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0036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2916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2622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85960" y="3448080"/>
              <a:ext cx="45720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164772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5756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1419480" y="3676680"/>
              <a:ext cx="3961800" cy="152640"/>
              <a:chOff x="1419480" y="3676680"/>
              <a:chExt cx="3961800" cy="152640"/>
            </a:xfrm>
          </p:grpSpPr>
          <p:sp>
            <p:nvSpPr>
              <p:cNvPr id="1370" name=""/>
              <p:cNvSpPr/>
              <p:nvPr/>
            </p:nvSpPr>
            <p:spPr>
              <a:xfrm>
                <a:off x="1419480" y="382932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157140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571400" y="367668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63844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638440" y="382932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>
              <a:off x="225756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1419480" y="4362120"/>
              <a:ext cx="3886200" cy="152640"/>
              <a:chOff x="1419480" y="4362120"/>
              <a:chExt cx="3886200" cy="152640"/>
            </a:xfrm>
          </p:grpSpPr>
          <p:sp>
            <p:nvSpPr>
              <p:cNvPr id="1377" name=""/>
              <p:cNvSpPr/>
              <p:nvPr/>
            </p:nvSpPr>
            <p:spPr>
              <a:xfrm>
                <a:off x="1419480" y="4514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2714760" y="4362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714760" y="4362480"/>
                <a:ext cx="19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696200" y="43624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696200" y="45147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378144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71024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362880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3864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3864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386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8" name=""/>
            <p:cNvGrpSpPr/>
            <p:nvPr/>
          </p:nvGrpSpPr>
          <p:grpSpPr>
            <a:xfrm>
              <a:off x="1419480" y="5733720"/>
              <a:ext cx="3886200" cy="152640"/>
              <a:chOff x="1419480" y="5733720"/>
              <a:chExt cx="3886200" cy="152640"/>
            </a:xfrm>
          </p:grpSpPr>
          <p:sp>
            <p:nvSpPr>
              <p:cNvPr id="1389" name=""/>
              <p:cNvSpPr/>
              <p:nvPr/>
            </p:nvSpPr>
            <p:spPr>
              <a:xfrm>
                <a:off x="1419480" y="58863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225756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257560" y="57340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01968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019680" y="5886360"/>
                <a:ext cx="1219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23900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239000" y="573408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00076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000760" y="58863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1419480" y="5047920"/>
              <a:ext cx="3886200" cy="152640"/>
              <a:chOff x="1419480" y="5047920"/>
              <a:chExt cx="3886200" cy="152640"/>
            </a:xfrm>
          </p:grpSpPr>
          <p:sp>
            <p:nvSpPr>
              <p:cNvPr id="1399" name=""/>
              <p:cNvSpPr/>
              <p:nvPr/>
            </p:nvSpPr>
            <p:spPr>
              <a:xfrm>
                <a:off x="1419480" y="520056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4696200" y="5047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696200" y="5048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414-248B-46AC-803C-82586F0358D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4711680" cy="1955880"/>
          </a:xfrm>
          <a:prstGeom prst="rect">
            <a:avLst/>
          </a:prstGeom>
          <a:ln w="0">
            <a:noFill/>
          </a:ln>
        </p:spPr>
      </p:pic>
      <p:sp>
        <p:nvSpPr>
          <p:cNvPr id="1403" name=""/>
          <p:cNvSpPr/>
          <p:nvPr/>
        </p:nvSpPr>
        <p:spPr>
          <a:xfrm>
            <a:off x="609480" y="5956200"/>
            <a:ext cx="8089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iginal state: IN = 0, Q0 = 1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e to skew, next state becomes: Q0 = 0, Q1 = 0, and not Q0 = 0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53000" y="4946760"/>
            <a:ext cx="82368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489720" y="4191120"/>
            <a:ext cx="2120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 is a de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sion of 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257480" y="4076640"/>
            <a:ext cx="73656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79640" y="4000680"/>
            <a:ext cx="7999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11960" y="3568680"/>
            <a:ext cx="6602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587920" y="354348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615920" y="4387680"/>
            <a:ext cx="1932120" cy="88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 skew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behavior assumes next state of all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d by all storage element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difficult in high-performance systems because time for c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rrive at flip-flop is comparable to delays throug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skew on cascaded flip-flo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613-8B6A-4AD8-9BDD-D581E5494EF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857240" y="4629240"/>
            <a:ext cx="4946760" cy="1217520"/>
            <a:chOff x="1857240" y="4629240"/>
            <a:chExt cx="4946760" cy="1217520"/>
          </a:xfrm>
        </p:grpSpPr>
        <p:sp>
          <p:nvSpPr>
            <p:cNvPr id="131" name=""/>
            <p:cNvSpPr/>
            <p:nvPr/>
          </p:nvSpPr>
          <p:spPr>
            <a:xfrm>
              <a:off x="1857240" y="4749840"/>
              <a:ext cx="4946760" cy="109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4320" y="4629240"/>
              <a:ext cx="318780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57680" y="32259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60640" y="3746520"/>
            <a:ext cx="12193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6080" y="32385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3200400"/>
            <a:ext cx="1295640" cy="18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18120" y="34290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18120" y="3695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18120" y="48261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03720" y="340344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03720" y="368316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03720" y="480060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ontrol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tops values from cycling around endles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1360" y="584676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3AA-1F3A-4F72-80AB-C0B29E2DD2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1028880" y="3390840"/>
            <a:ext cx="6908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D-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-sensitive used in custom integrated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made with 4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use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choice for data storage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ly J-K FF was popular but now never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R-S but with 1-1 being used to toggle output (complement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n days of TTL/SSI (more complex input function: D = J Q’ + K’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good choice for PALs/PLAs as it requires 2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ways be implemented using 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and clear inputs are highly desirable on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at start-up or to reset system to a know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DDB-341E-4237-B890-44225550CD8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2679840" y="520560"/>
            <a:ext cx="441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astability and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ed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 relation to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called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master/slave, edge-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dependently of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glitches/hazards a major conce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inputs to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can change at any time, will not meet setup/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gerous, synchronous inputs are greatly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avoided (e.g., reset signal, memory wait, user in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308-5407-4366-BC18-3076C84638F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4432320" cy="26416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3467160" y="1422360"/>
            <a:ext cx="40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5360" y="5931000"/>
            <a:ext cx="3530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mall, but non-zero probabilit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at the FF output will get stuc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an in-betwee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749840" y="5918040"/>
            <a:ext cx="4064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cilloscope traces demonst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r failure and even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ay to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-49536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2408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451240" y="3797280"/>
            <a:ext cx="64764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282320" y="3797280"/>
            <a:ext cx="723960" cy="876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87320" y="5283360"/>
            <a:ext cx="111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51240" y="5308560"/>
            <a:ext cx="111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546440" y="5232240"/>
            <a:ext cx="85104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533840" y="3238560"/>
            <a:ext cx="85104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s when FF input changes close to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F may enter a metastable state – neither a logic 0 nor 1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stay in this state an indefinite amoun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likely in practice but has som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6212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998720" y="327672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20040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68B-AE1F-425C-9E2C-96C37816E5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067200" y="47116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819680" y="46990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060720" y="4933800"/>
            <a:ext cx="31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26160" y="4946760"/>
            <a:ext cx="317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17920" y="4933800"/>
            <a:ext cx="34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965840" y="4819680"/>
            <a:ext cx="1001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854520" y="506088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624560" y="4871160"/>
            <a:ext cx="380520" cy="38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16160" y="5086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87172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607000" y="508644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19920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3358800" y="5334120"/>
            <a:ext cx="11412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73280" y="5359320"/>
            <a:ext cx="763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5111640" y="5308560"/>
            <a:ext cx="11448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226120" y="5334120"/>
            <a:ext cx="75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467160" y="5562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473280" y="578484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219640" y="554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7200" y="4844880"/>
            <a:ext cx="175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527880" y="4844880"/>
            <a:ext cx="1663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394000" y="4216320"/>
            <a:ext cx="6540480" cy="187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45080" y="5969160"/>
            <a:ext cx="2502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ou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43600" y="5340240"/>
            <a:ext cx="812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aling with 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failure can never be reduced to 0, but it can be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 slow down the system cloc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the synchronizer more time to decay into a steady stat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 becomes a big problem for very high spe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 use fastest possible logic technology in the synchroniz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for a very sharp "peak" upon which to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cascade two synchronize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ffectively synchronizes twice (both would have to f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A67-8F83-4117-95D7-33C87CEFBAB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2746440" y="3648240"/>
            <a:ext cx="482400" cy="758520"/>
            <a:chOff x="2746440" y="3648240"/>
            <a:chExt cx="482400" cy="758520"/>
          </a:xfrm>
        </p:grpSpPr>
        <p:sp>
          <p:nvSpPr>
            <p:cNvPr id="1463" name=""/>
            <p:cNvSpPr/>
            <p:nvPr/>
          </p:nvSpPr>
          <p:spPr>
            <a:xfrm>
              <a:off x="2746440" y="3648240"/>
              <a:ext cx="482400" cy="75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773440" y="369108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289260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0672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50640" y="36910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2746440" y="4724280"/>
            <a:ext cx="482400" cy="758880"/>
            <a:chOff x="2746440" y="4724280"/>
            <a:chExt cx="482400" cy="758880"/>
          </a:xfrm>
        </p:grpSpPr>
        <p:sp>
          <p:nvSpPr>
            <p:cNvPr id="1469" name=""/>
            <p:cNvSpPr/>
            <p:nvPr/>
          </p:nvSpPr>
          <p:spPr>
            <a:xfrm>
              <a:off x="2746440" y="4724280"/>
              <a:ext cx="48240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773440" y="47671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2892600" y="52754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006720" y="52736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050640" y="4767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1446120" y="3781440"/>
            <a:ext cx="13320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284560" y="3781440"/>
            <a:ext cx="1440" cy="10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284560" y="4843440"/>
            <a:ext cx="46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017800" y="3097080"/>
            <a:ext cx="75960" cy="268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35320" y="3781440"/>
            <a:ext cx="6714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222720" y="4881600"/>
            <a:ext cx="696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006720" y="43876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006720" y="4514760"/>
            <a:ext cx="785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006720" y="54896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006720" y="5614920"/>
            <a:ext cx="861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5800" y="35654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294360" y="4299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32520" y="54007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693960" y="46782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435680" y="357840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479960" y="378000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028880" y="2806560"/>
            <a:ext cx="3371760" cy="3391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630440" y="3211200"/>
            <a:ext cx="2219400" cy="26067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7068960" y="3622680"/>
            <a:ext cx="482760" cy="758880"/>
            <a:chOff x="7068960" y="3622680"/>
            <a:chExt cx="482760" cy="758880"/>
          </a:xfrm>
        </p:grpSpPr>
        <p:sp>
          <p:nvSpPr>
            <p:cNvPr id="1493" name=""/>
            <p:cNvSpPr/>
            <p:nvPr/>
          </p:nvSpPr>
          <p:spPr>
            <a:xfrm>
              <a:off x="7068960" y="3622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09632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72277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329600" y="417348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37352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7068960" y="4711680"/>
            <a:ext cx="482760" cy="758880"/>
            <a:chOff x="7068960" y="4711680"/>
            <a:chExt cx="482760" cy="758880"/>
          </a:xfrm>
        </p:grpSpPr>
        <p:sp>
          <p:nvSpPr>
            <p:cNvPr id="1499" name=""/>
            <p:cNvSpPr/>
            <p:nvPr/>
          </p:nvSpPr>
          <p:spPr>
            <a:xfrm>
              <a:off x="7068960" y="4711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096320" y="47545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7227720" y="5262120"/>
              <a:ext cx="889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329600" y="5261040"/>
              <a:ext cx="1015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373520" y="4754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5300640" y="3768840"/>
            <a:ext cx="1800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607080" y="3768840"/>
            <a:ext cx="1800" cy="10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607080" y="4830840"/>
            <a:ext cx="468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8280" y="3097080"/>
            <a:ext cx="74520" cy="268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558200" y="376884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545240" y="4856040"/>
            <a:ext cx="696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329600" y="43750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99200" y="4502160"/>
            <a:ext cx="1916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329600" y="54770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329600" y="5602320"/>
            <a:ext cx="861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978680" y="35402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618680" y="4286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656840" y="5388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016840" y="46656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290200" y="356544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334480" y="375444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5942160" y="3622680"/>
            <a:ext cx="480960" cy="758880"/>
            <a:chOff x="5942160" y="3622680"/>
            <a:chExt cx="480960" cy="758880"/>
          </a:xfrm>
        </p:grpSpPr>
        <p:sp>
          <p:nvSpPr>
            <p:cNvPr id="1521" name=""/>
            <p:cNvSpPr/>
            <p:nvPr/>
          </p:nvSpPr>
          <p:spPr>
            <a:xfrm>
              <a:off x="5942160" y="3622680"/>
              <a:ext cx="4809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95656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60865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200640" y="4173480"/>
              <a:ext cx="1018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4456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 flipV="1">
            <a:off x="6199200" y="4374720"/>
            <a:ext cx="32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278080" y="377496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600960" y="3749760"/>
            <a:ext cx="378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323120" y="449568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445840" y="29448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e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244960" y="3147840"/>
            <a:ext cx="113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o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505240" y="3349800"/>
            <a:ext cx="60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6289560" y="3262320"/>
            <a:ext cx="340920" cy="341280"/>
            <a:chOff x="6289560" y="3262320"/>
            <a:chExt cx="340920" cy="341280"/>
          </a:xfrm>
        </p:grpSpPr>
        <p:sp>
          <p:nvSpPr>
            <p:cNvPr id="1534" name=""/>
            <p:cNvSpPr/>
            <p:nvPr/>
          </p:nvSpPr>
          <p:spPr>
            <a:xfrm>
              <a:off x="6289560" y="3402000"/>
              <a:ext cx="190440" cy="20160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0" y="127"/>
                  </a:moveTo>
                  <a:lnTo>
                    <a:pt x="64" y="0"/>
                  </a:lnTo>
                  <a:lnTo>
                    <a:pt x="64" y="55"/>
                  </a:lnTo>
                  <a:lnTo>
                    <a:pt x="120" y="5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6391080" y="3262320"/>
              <a:ext cx="23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6627960" y="30211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allow asynchronous inputs to fan-out to more than on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 as soon as possible and then treat as synchronous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A4C-A1C0-408B-9F0E-9E0C9FBB095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5715000" y="3683160"/>
            <a:ext cx="267984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is asynchronous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ns out to D0 and D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FF catches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, one does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nconsistent state may 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be reach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 flipV="1">
            <a:off x="5181480" y="4266720"/>
            <a:ext cx="99072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5257800" y="4648320"/>
            <a:ext cx="9144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60280" y="3459240"/>
            <a:ext cx="9144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an go wro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changes too close to clock edge (violating setup time constra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1905120" y="365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905120" y="3657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295280" y="4495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2057400" y="426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057400" y="4267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295280" y="5181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2057400" y="495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133720" y="495288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209680" y="518148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29528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198108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8108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7180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97180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388620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88620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876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87692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7FA-30A1-463A-A5CC-82D63F1D2E4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fea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 (set state to 0) –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R' • Dold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or set (set state to 1) – S (or sometimes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Dold + S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reset and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R'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 input capability (input enable or load) – LD or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or at input: Dnew = LD' • Q + LD • D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may or may not override reset/set (usually R/S have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y outputs – Q and Q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3E0-0F42-4BD3-A9B1-C88A31BA408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6" name=""/>
          <p:cNvGrpSpPr/>
          <p:nvPr/>
        </p:nvGrpSpPr>
        <p:grpSpPr>
          <a:xfrm>
            <a:off x="2438280" y="3962520"/>
            <a:ext cx="6121440" cy="2412360"/>
            <a:chOff x="2438280" y="3962520"/>
            <a:chExt cx="6121440" cy="2412360"/>
          </a:xfrm>
        </p:grpSpPr>
        <p:sp>
          <p:nvSpPr>
            <p:cNvPr id="1567" name=""/>
            <p:cNvSpPr/>
            <p:nvPr/>
          </p:nvSpPr>
          <p:spPr>
            <a:xfrm>
              <a:off x="361296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63204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8620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2120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94028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9444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1648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3556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8972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380376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38671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63204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898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511164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516240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4028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194440" y="51051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640728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647064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3556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50232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52472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771516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7659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543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9760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48624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3388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78152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5448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11400" y="39625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44176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08976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56272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21964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8504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3740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85800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51492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04528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6624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823160" y="39625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736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86064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16888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15628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7712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46416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724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65320" y="5664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7972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75360" y="5664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8324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451240" y="55116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671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77504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7068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785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24080" y="6032520"/>
              <a:ext cx="723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432320" y="6032520"/>
              <a:ext cx="7110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27600" y="6032520"/>
              <a:ext cx="711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035840" y="6032520"/>
              <a:ext cx="73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4380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797600" y="4800600"/>
              <a:ext cx="2541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0452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81025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2952360" y="4495680"/>
              <a:ext cx="515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7448400" y="4914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744228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73740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6794640" y="4489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4016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613404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41760" y="490212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499000" y="447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4844880" y="4889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4838760" y="4502160"/>
              <a:ext cx="0" cy="39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1338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41911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53664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3052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17816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5179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4864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258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78168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2144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293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438280" y="4356000"/>
              <a:ext cx="507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s of flip-flops with similar controls and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values somehow related (for example, form binary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clock, reset, and set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logic at each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043-E0BD-41C6-9556-2AF9DBFB9F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"/>
          <p:cNvGrpSpPr/>
          <p:nvPr/>
        </p:nvGrpSpPr>
        <p:grpSpPr>
          <a:xfrm>
            <a:off x="1371600" y="3352680"/>
            <a:ext cx="6781680" cy="1422360"/>
            <a:chOff x="1371600" y="3352680"/>
            <a:chExt cx="6781680" cy="1422360"/>
          </a:xfrm>
        </p:grpSpPr>
        <p:sp>
          <p:nvSpPr>
            <p:cNvPr id="1659" name=""/>
            <p:cNvSpPr/>
            <p:nvPr/>
          </p:nvSpPr>
          <p:spPr>
            <a:xfrm>
              <a:off x="261000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80044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flipV="1">
              <a:off x="28638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62908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89548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91788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410832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 flipV="1">
              <a:off x="415908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696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9112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21352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540396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flipV="1">
              <a:off x="546732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232240" y="402588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9900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52140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671184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67626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54048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79464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4829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962000" y="416556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71600" y="405144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13056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7820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25764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0532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2440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179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17920" y="335268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43880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8644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56552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0060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81968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1320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813200" y="335268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38172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3408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6116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108840" y="415296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12792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12144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121440" y="335268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0423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16904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4167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416720" y="335268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702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44720" y="4572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16556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15296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7380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6084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7690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962000" y="45846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7640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172040" y="45846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7992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447920" y="443232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s samples of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last 4 input valu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bit shift regis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E64-7D62-4F4E-8D88-6DF2CCFCA9B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5321160" y="3657600"/>
            <a:ext cx="389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46960" bIns="27000" anchor="t">
            <a:noAutofit/>
          </a:bodyPr>
          <a:p>
            <a:pPr>
              <a:lnSpc>
                <a:spcPts val="1599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ear sets the register cont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output to 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and s0 determine the shift 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rig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lef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 new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683320" y="511164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553080" y="4952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76320" y="3505320"/>
            <a:ext cx="4851360" cy="2666520"/>
            <a:chOff x="76320" y="3505320"/>
            <a:chExt cx="4851360" cy="2666520"/>
          </a:xfrm>
        </p:grpSpPr>
        <p:sp>
          <p:nvSpPr>
            <p:cNvPr id="1725" name=""/>
            <p:cNvSpPr/>
            <p:nvPr/>
          </p:nvSpPr>
          <p:spPr>
            <a:xfrm>
              <a:off x="165240" y="4330440"/>
              <a:ext cx="90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6320" y="4559040"/>
              <a:ext cx="1016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810240" y="433044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0040" y="4762440"/>
              <a:ext cx="698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30720" y="4248000"/>
              <a:ext cx="1828800" cy="11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73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359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3346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1060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1244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26672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22100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17528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244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6672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2100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7528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44920" y="49276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4920" y="504180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44920" y="51562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810240" y="4559040"/>
              <a:ext cx="1015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943280" y="350532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057760" y="5867280"/>
              <a:ext cx="812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16000" y="4914720"/>
              <a:ext cx="622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16000" y="5067360"/>
              <a:ext cx="6224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346560" y="50544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051440" y="4927680"/>
              <a:ext cx="698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4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shift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in new values from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F432-927F-4176-BD0E-1FC52EF0B9D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486080" y="5135400"/>
            <a:ext cx="6819480" cy="1417680"/>
            <a:chOff x="1486080" y="5135400"/>
            <a:chExt cx="6819480" cy="141768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2222280" y="5135400"/>
              <a:ext cx="495288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305240" y="5173560"/>
              <a:ext cx="1599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remember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5707080"/>
              <a:ext cx="723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load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6080" y="5897520"/>
              <a:ext cx="8380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data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4920" y="5783040"/>
              <a:ext cx="17906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772080" y="2544840"/>
            <a:ext cx="4419000" cy="1220760"/>
            <a:chOff x="3772080" y="2544840"/>
            <a:chExt cx="4419000" cy="12207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3772080" y="2621160"/>
              <a:ext cx="32940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788000" y="330696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8000" y="254484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3002040"/>
              <a:ext cx="1790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st 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inverters form a static memory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hold value as long as it has power applied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get a new value into the memory cel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ly break feedback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new value into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F18-09E4-4E85-BACA-27603DB8C9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6210360" y="3124080"/>
            <a:ext cx="1257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th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488520" y="3397320"/>
            <a:ext cx="4127400" cy="1510920"/>
            <a:chOff x="488520" y="3397320"/>
            <a:chExt cx="4127400" cy="1510920"/>
          </a:xfrm>
        </p:grpSpPr>
        <p:sp>
          <p:nvSpPr>
            <p:cNvPr id="1756" name=""/>
            <p:cNvSpPr/>
            <p:nvPr/>
          </p:nvSpPr>
          <p:spPr>
            <a:xfrm>
              <a:off x="9586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158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488520" y="38610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14025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8852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730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302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3169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7874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2446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32313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7018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1590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1457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39240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30096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20952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11808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39240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30096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20952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11808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40384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38098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31240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8954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2096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19810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12952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10666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1288800" y="44323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488880" y="46609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 flipV="1">
            <a:off x="3701880" y="3180960"/>
            <a:ext cx="15876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701880" y="4222800"/>
            <a:ext cx="1587600" cy="23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4159080" y="3638160"/>
            <a:ext cx="11304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59080" y="4235400"/>
            <a:ext cx="113040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02080" y="3193920"/>
            <a:ext cx="3543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94320" y="3765600"/>
            <a:ext cx="546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394320" y="3956040"/>
            <a:ext cx="1270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6394320" y="4006800"/>
            <a:ext cx="1270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566040" y="4025880"/>
            <a:ext cx="241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553080" y="3720960"/>
            <a:ext cx="254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6267600" y="40132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273720" y="403056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784840" y="4394160"/>
            <a:ext cx="2400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245280" y="4368960"/>
            <a:ext cx="5076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683480" y="4152960"/>
            <a:ext cx="762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3" name=""/>
          <p:cNvGrpSpPr/>
          <p:nvPr/>
        </p:nvGrpSpPr>
        <p:grpSpPr>
          <a:xfrm>
            <a:off x="5257800" y="5708520"/>
            <a:ext cx="1857240" cy="870120"/>
            <a:chOff x="5257800" y="5708520"/>
            <a:chExt cx="1857240" cy="870120"/>
          </a:xfrm>
        </p:grpSpPr>
        <p:sp>
          <p:nvSpPr>
            <p:cNvPr id="1804" name=""/>
            <p:cNvSpPr/>
            <p:nvPr/>
          </p:nvSpPr>
          <p:spPr>
            <a:xfrm>
              <a:off x="71121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94200" y="62514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57800" y="6019920"/>
              <a:ext cx="762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-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lef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362720" y="5708520"/>
            <a:ext cx="1425600" cy="870120"/>
            <a:chOff x="7362720" y="5708520"/>
            <a:chExt cx="1425600" cy="870120"/>
          </a:xfrm>
        </p:grpSpPr>
        <p:sp>
          <p:nvSpPr>
            <p:cNvPr id="1808" name=""/>
            <p:cNvSpPr/>
            <p:nvPr/>
          </p:nvSpPr>
          <p:spPr>
            <a:xfrm>
              <a:off x="73659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362720" y="6251400"/>
              <a:ext cx="8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026560" y="6019920"/>
              <a:ext cx="761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+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righ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6553080" y="5708520"/>
            <a:ext cx="1155960" cy="997200"/>
            <a:chOff x="6553080" y="5708520"/>
            <a:chExt cx="1155960" cy="997200"/>
          </a:xfrm>
        </p:grpSpPr>
        <p:sp>
          <p:nvSpPr>
            <p:cNvPr id="1812" name=""/>
            <p:cNvSpPr/>
            <p:nvPr/>
          </p:nvSpPr>
          <p:spPr>
            <a:xfrm>
              <a:off x="7620120" y="570852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553080" y="6362640"/>
              <a:ext cx="1155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[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5105520" y="3556080"/>
            <a:ext cx="3581280" cy="571320"/>
            <a:chOff x="5105520" y="3556080"/>
            <a:chExt cx="3581280" cy="571320"/>
          </a:xfrm>
        </p:grpSpPr>
        <p:sp>
          <p:nvSpPr>
            <p:cNvPr id="1815" name=""/>
            <p:cNvSpPr/>
            <p:nvPr/>
          </p:nvSpPr>
          <p:spPr>
            <a:xfrm>
              <a:off x="5810400" y="356868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05520" y="3556080"/>
              <a:ext cx="10666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-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709040" y="3568680"/>
              <a:ext cx="977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+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"/>
          <p:cNvSpPr/>
          <p:nvPr/>
        </p:nvSpPr>
        <p:spPr>
          <a:xfrm>
            <a:off x="4413240" y="1600200"/>
            <a:ext cx="50292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left (shift righ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right (shift lef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of 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one of the four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lue at next clock cy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6168960" y="3568680"/>
            <a:ext cx="701640" cy="2559240"/>
            <a:chOff x="6168960" y="3568680"/>
            <a:chExt cx="701640" cy="2559240"/>
          </a:xfrm>
        </p:grpSpPr>
        <p:sp>
          <p:nvSpPr>
            <p:cNvPr id="1822" name=""/>
            <p:cNvSpPr/>
            <p:nvPr/>
          </p:nvSpPr>
          <p:spPr>
            <a:xfrm>
              <a:off x="6168960" y="612468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6172200" y="3568680"/>
              <a:ext cx="685800" cy="2559240"/>
              <a:chOff x="6172200" y="3568680"/>
              <a:chExt cx="685800" cy="2559240"/>
            </a:xfrm>
          </p:grpSpPr>
          <p:sp>
            <p:nvSpPr>
              <p:cNvPr id="1824" name=""/>
              <p:cNvSpPr/>
              <p:nvPr/>
            </p:nvSpPr>
            <p:spPr>
              <a:xfrm>
                <a:off x="6858000" y="5708520"/>
                <a:ext cx="0" cy="41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172200" y="3575160"/>
                <a:ext cx="0" cy="255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67560" y="357516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172200" y="3568680"/>
                <a:ext cx="4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"/>
          <p:cNvGrpSpPr/>
          <p:nvPr/>
        </p:nvGrpSpPr>
        <p:grpSpPr>
          <a:xfrm>
            <a:off x="6667200" y="4299120"/>
            <a:ext cx="2476800" cy="1631880"/>
            <a:chOff x="6667200" y="4299120"/>
            <a:chExt cx="2476800" cy="1631880"/>
          </a:xfrm>
        </p:grpSpPr>
        <p:sp>
          <p:nvSpPr>
            <p:cNvPr id="1829" name=""/>
            <p:cNvSpPr/>
            <p:nvPr/>
          </p:nvSpPr>
          <p:spPr>
            <a:xfrm>
              <a:off x="7759800" y="5372280"/>
              <a:ext cx="13842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and s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0" name=""/>
            <p:cNvGrpSpPr/>
            <p:nvPr/>
          </p:nvGrpSpPr>
          <p:grpSpPr>
            <a:xfrm>
              <a:off x="6667200" y="4299120"/>
              <a:ext cx="1086120" cy="1517400"/>
              <a:chOff x="6667200" y="4299120"/>
              <a:chExt cx="1086120" cy="1517400"/>
            </a:xfrm>
          </p:grpSpPr>
          <p:sp>
            <p:nvSpPr>
              <p:cNvPr id="1831" name=""/>
              <p:cNvSpPr/>
              <p:nvPr/>
            </p:nvSpPr>
            <p:spPr>
              <a:xfrm>
                <a:off x="6730920" y="50101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737400" y="5111640"/>
                <a:ext cx="514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238880" y="511812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667560" y="42991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5" name=""/>
              <p:cNvGrpSpPr/>
              <p:nvPr/>
            </p:nvGrpSpPr>
            <p:grpSpPr>
              <a:xfrm>
                <a:off x="6711840" y="5473800"/>
                <a:ext cx="1041480" cy="342720"/>
                <a:chOff x="6711840" y="5473800"/>
                <a:chExt cx="1041480" cy="3427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6864480" y="5499000"/>
                  <a:ext cx="74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724800" y="5702040"/>
                  <a:ext cx="102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7626240" y="5505120"/>
                  <a:ext cx="12708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>
                  <a:off x="6711840" y="5505120"/>
                  <a:ext cx="15264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67438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69976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2518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5056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4" name=""/>
              <p:cNvSpPr/>
              <p:nvPr/>
            </p:nvSpPr>
            <p:spPr>
              <a:xfrm flipH="1" flipV="1">
                <a:off x="6667200" y="4552560"/>
                <a:ext cx="6660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5" name=""/>
          <p:cNvGrpSpPr/>
          <p:nvPr/>
        </p:nvGrpSpPr>
        <p:grpSpPr>
          <a:xfrm>
            <a:off x="5797440" y="4552920"/>
            <a:ext cx="2889360" cy="870120"/>
            <a:chOff x="5797440" y="4552920"/>
            <a:chExt cx="2889360" cy="870120"/>
          </a:xfrm>
        </p:grpSpPr>
        <p:sp>
          <p:nvSpPr>
            <p:cNvPr id="1846" name=""/>
            <p:cNvSpPr/>
            <p:nvPr/>
          </p:nvSpPr>
          <p:spPr>
            <a:xfrm>
              <a:off x="6603840" y="5060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97440" y="534672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75400" y="53182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670880" y="5079960"/>
              <a:ext cx="1015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6499440" y="4552920"/>
              <a:ext cx="334800" cy="507960"/>
              <a:chOff x="6499440" y="4552920"/>
              <a:chExt cx="334800" cy="507960"/>
            </a:xfrm>
          </p:grpSpPr>
          <p:grpSp>
            <p:nvGrpSpPr>
              <p:cNvPr id="1851" name=""/>
              <p:cNvGrpSpPr/>
              <p:nvPr/>
            </p:nvGrpSpPr>
            <p:grpSpPr>
              <a:xfrm>
                <a:off x="6499440" y="4554360"/>
                <a:ext cx="334800" cy="506520"/>
                <a:chOff x="6499440" y="4554360"/>
                <a:chExt cx="334800" cy="506520"/>
              </a:xfrm>
            </p:grpSpPr>
            <p:sp>
              <p:nvSpPr>
                <p:cNvPr id="1852" name=""/>
                <p:cNvSpPr/>
                <p:nvPr/>
              </p:nvSpPr>
              <p:spPr>
                <a:xfrm flipV="1">
                  <a:off x="6515280" y="4692600"/>
                  <a:ext cx="0" cy="3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V="1">
                  <a:off x="6819840" y="4679640"/>
                  <a:ext cx="0" cy="33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H="1">
                  <a:off x="6508800" y="5003640"/>
                  <a:ext cx="31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6529320" y="4560840"/>
                  <a:ext cx="30492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4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4191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6513480" y="4554360"/>
                  <a:ext cx="31716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56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56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6505560" y="4560840"/>
                  <a:ext cx="30456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6499440" y="4554360"/>
                  <a:ext cx="31680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6585120" y="5010120"/>
                  <a:ext cx="5076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0" name=""/>
              <p:cNvSpPr/>
              <p:nvPr/>
            </p:nvSpPr>
            <p:spPr>
              <a:xfrm>
                <a:off x="6667560" y="4552920"/>
                <a:ext cx="66600" cy="447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1" name=""/>
          <p:cNvSpPr/>
          <p:nvPr/>
        </p:nvSpPr>
        <p:spPr>
          <a:xfrm>
            <a:off x="4753080" y="184788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24680" y="1619280"/>
            <a:ext cx="0" cy="13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934-E8DC-4619-AB4A-E35316AF181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1332000" y="4381560"/>
            <a:ext cx="1995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032520" y="2527200"/>
            <a:ext cx="2019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437760" y="2927520"/>
            <a:ext cx="3683520" cy="1371600"/>
            <a:chOff x="437760" y="2927520"/>
            <a:chExt cx="3683520" cy="1371600"/>
          </a:xfrm>
        </p:grpSpPr>
        <p:sp>
          <p:nvSpPr>
            <p:cNvPr id="1866" name=""/>
            <p:cNvSpPr/>
            <p:nvPr/>
          </p:nvSpPr>
          <p:spPr>
            <a:xfrm>
              <a:off x="90792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507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509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20379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4377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1816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15876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134604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113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16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5876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35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3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52108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638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6640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36511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20509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4290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20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2959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2743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0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9718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43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5149440" y="2927520"/>
            <a:ext cx="3683520" cy="1371600"/>
            <a:chOff x="5149440" y="2927520"/>
            <a:chExt cx="3683520" cy="1371600"/>
          </a:xfrm>
        </p:grpSpPr>
        <p:sp>
          <p:nvSpPr>
            <p:cNvPr id="1893" name=""/>
            <p:cNvSpPr/>
            <p:nvPr/>
          </p:nvSpPr>
          <p:spPr>
            <a:xfrm>
              <a:off x="561960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624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7626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67496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51494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6527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62992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58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584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27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992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07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84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23276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7755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3757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83628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7626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81406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91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7670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454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14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91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6834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454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4025880" y="5283360"/>
            <a:ext cx="3022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ial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686480" y="3860640"/>
            <a:ext cx="647640" cy="138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4057560" y="3200400"/>
            <a:ext cx="1155960" cy="609480"/>
            <a:chOff x="4057560" y="3200400"/>
            <a:chExt cx="1155960" cy="609480"/>
          </a:xfrm>
        </p:grpSpPr>
        <p:sp>
          <p:nvSpPr>
            <p:cNvPr id="1922" name=""/>
            <p:cNvSpPr/>
            <p:nvPr/>
          </p:nvSpPr>
          <p:spPr>
            <a:xfrm>
              <a:off x="4121280" y="339084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4107960" y="361944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057560" y="3397320"/>
              <a:ext cx="1270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099040" y="3397320"/>
              <a:ext cx="1144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12128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070520" y="3473280"/>
              <a:ext cx="8856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546440" y="3200400"/>
              <a:ext cx="17784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66740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 appl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-to-serial conversion for serial 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2C3-162B-4CC4-AFF5-A564CFBBE04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"/>
          <p:cNvGrpSpPr/>
          <p:nvPr/>
        </p:nvGrpSpPr>
        <p:grpSpPr>
          <a:xfrm>
            <a:off x="685800" y="2990880"/>
            <a:ext cx="7785000" cy="2419200"/>
            <a:chOff x="685800" y="2990880"/>
            <a:chExt cx="7785000" cy="2419200"/>
          </a:xfrm>
        </p:grpSpPr>
        <p:sp>
          <p:nvSpPr>
            <p:cNvPr id="1933" name=""/>
            <p:cNvSpPr/>
            <p:nvPr/>
          </p:nvSpPr>
          <p:spPr>
            <a:xfrm>
              <a:off x="4984920" y="3054240"/>
              <a:ext cx="1774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4984920" y="3168360"/>
              <a:ext cx="177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978440" y="30542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75360" y="3156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568840" y="3181320"/>
              <a:ext cx="17784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5568840" y="3308400"/>
              <a:ext cx="1778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562720" y="31813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759280" y="329580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877080" y="308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877080" y="3403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870600" y="3092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048800" y="3100320"/>
              <a:ext cx="2786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042320" y="3094200"/>
              <a:ext cx="29160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048440" y="3085920"/>
              <a:ext cx="2790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041960" y="3079440"/>
              <a:ext cx="291960" cy="3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353360" y="32259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334280" y="3219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870600" y="29908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870600" y="3396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42120" y="33148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35640" y="332100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84488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127400" y="3181320"/>
              <a:ext cx="0" cy="14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133880" y="317484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37400" y="30481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825640" y="3048120"/>
              <a:ext cx="38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819520" y="305424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238720" y="317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73740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365800" y="31748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8230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7374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962680" y="3314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737400" y="3441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730920" y="344808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39764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52472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92420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211464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21780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94328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20968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23208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42252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 flipV="1">
              <a:off x="347328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5116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50532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52772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471816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 flipV="1">
              <a:off x="478152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546440" y="466092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81320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83560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2604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 flipV="1">
              <a:off x="60768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85468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10884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7971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76200" y="48006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85800" y="468648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44476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09240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57184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9576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3860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80836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908440" y="414036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5300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4006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7972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114800" y="478800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13388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12740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203720" y="414036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69592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04828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17536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42304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44212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3564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511960" y="41403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8324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73092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807240" y="414036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1844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158920" y="52070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47976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46716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78800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77504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0832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276200" y="52196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19060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486240" y="52196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79412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62120" y="506736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670880" y="3098880"/>
              <a:ext cx="799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function of input s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recognizing the pattern 1001 on the single input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BF0-D044-419D-9578-C9DD4EC278A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3" name=""/>
          <p:cNvGrpSpPr/>
          <p:nvPr/>
        </p:nvGrpSpPr>
        <p:grpSpPr>
          <a:xfrm>
            <a:off x="1207800" y="3271680"/>
            <a:ext cx="7017120" cy="1415880"/>
            <a:chOff x="1207800" y="3271680"/>
            <a:chExt cx="7017120" cy="1415880"/>
          </a:xfrm>
        </p:grpSpPr>
        <p:sp>
          <p:nvSpPr>
            <p:cNvPr id="2034" name=""/>
            <p:cNvSpPr/>
            <p:nvPr/>
          </p:nvSpPr>
          <p:spPr>
            <a:xfrm>
              <a:off x="260532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279576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 flipV="1">
              <a:off x="285912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62440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89116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1356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10400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 flipV="1">
              <a:off x="415440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3228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18644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20884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539928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 flipV="1">
              <a:off x="546264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2792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49468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516720" y="3709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670752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675792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3580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78996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47824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957680" y="3970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66920" y="385560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2588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77352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25296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50064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519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51324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589560" y="327168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43412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08176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56120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79592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81500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80888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84840" y="327168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7704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72940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85648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0416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2324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1676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3080" y="327168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03764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164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41240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88360" y="327168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8656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840400" y="4376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16088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14828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46912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45652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7644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957680" y="4389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87208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7360" y="4389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47560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443240" y="4236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12400" y="396360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1207800" y="46810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1214640" y="395100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33720" y="39574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399440" y="395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s through a fixed set of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1000, 0100, 0010, 0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ne of the patterns is its initial state (by loading or set/re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3AE-1A8F-477B-A7A7-40B43DB2CAC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es this counte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1351080" y="2260440"/>
            <a:ext cx="7016760" cy="1503360"/>
            <a:chOff x="1351080" y="2260440"/>
            <a:chExt cx="7016760" cy="1503360"/>
          </a:xfrm>
        </p:grpSpPr>
        <p:sp>
          <p:nvSpPr>
            <p:cNvPr id="2104" name=""/>
            <p:cNvSpPr/>
            <p:nvPr/>
          </p:nvSpPr>
          <p:spPr>
            <a:xfrm>
              <a:off x="274824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293868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300204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76732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03408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648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424692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 flipV="1">
              <a:off x="429732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520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32936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35176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554220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 flipV="1">
              <a:off x="560556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7084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3760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659640" y="26604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685044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 flipV="1">
              <a:off x="690084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7872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93288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2116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100600" y="292104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509840" y="280656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26880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91644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39588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64356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662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65616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732480" y="226044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57704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2468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70412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93884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95792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5180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27760" y="226044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996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87232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9940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24708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6616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25968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336000" y="226044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18056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307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55532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631280" y="226044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85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83320" y="332748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30380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29120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1204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59944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9073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100600" y="33400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01500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310280" y="33400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1852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586160" y="318744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55320" y="291456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4475520" y="3632040"/>
              <a:ext cx="30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1357560" y="290196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376640" y="29080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542360" y="29080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4285080" y="3510000"/>
              <a:ext cx="2030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4285080" y="3624120"/>
              <a:ext cx="2030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481640" y="35100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246920" y="36115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488120" y="363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094280" y="363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1351080" y="36320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6" name=""/>
          <p:cNvSpPr/>
          <p:nvPr/>
        </p:nvSpPr>
        <p:spPr>
          <a:xfrm>
            <a:off x="460440" y="4124160"/>
            <a:ext cx="88106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s through the sequence: 1000, 1100, 1110, 1111, 0111, 0011, 0001,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n as Mobius (or Johnson)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07800" y="3917880"/>
            <a:ext cx="87868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EB2-05AF-40CB-B50A-AE496FA3A50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8" name=""/>
          <p:cNvGrpSpPr/>
          <p:nvPr/>
        </p:nvGrpSpPr>
        <p:grpSpPr>
          <a:xfrm>
            <a:off x="1328760" y="3478320"/>
            <a:ext cx="6524640" cy="2930400"/>
            <a:chOff x="1328760" y="3478320"/>
            <a:chExt cx="6524640" cy="2930400"/>
          </a:xfrm>
        </p:grpSpPr>
        <p:sp>
          <p:nvSpPr>
            <p:cNvPr id="2179" name=""/>
            <p:cNvSpPr/>
            <p:nvPr/>
          </p:nvSpPr>
          <p:spPr>
            <a:xfrm>
              <a:off x="249084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268128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 flipV="1">
              <a:off x="274464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50992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77668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79872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398952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 flipV="1">
              <a:off x="403992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81780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7196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09436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528480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 flipV="1">
              <a:off x="534816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11344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38020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40224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659304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 flipV="1">
              <a:off x="664344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132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67548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36376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13000" y="422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01140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84600" y="42242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44960" y="421164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15756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205080" y="34783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31964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99284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45284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46580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513320" y="347832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30072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61492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76108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77368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821200" y="34783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92316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050240" y="42242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068960" y="3633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116840" y="34909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7511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725560" y="463068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04640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03380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35464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34204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6499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843200" y="46432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75760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052880" y="46432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36112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28760" y="449100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5463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5323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36147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37418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5463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5463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5323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5323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842000" y="526104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827600" y="5261040"/>
              <a:ext cx="3045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492300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504972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84200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842000" y="479124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827600" y="4791240"/>
              <a:ext cx="3045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827600" y="5197320"/>
              <a:ext cx="3045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149880" y="5261040"/>
              <a:ext cx="30492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136200" y="526104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23088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63579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14988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149880" y="4791240"/>
              <a:ext cx="30492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136200" y="479124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136200" y="519732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469440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501156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4687560" y="600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70844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702320" y="5553000"/>
              <a:ext cx="3294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695120" y="5559480"/>
              <a:ext cx="3160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688640" y="555300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600228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631980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08760" y="6002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1668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10200" y="555300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02640" y="555948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96160" y="5553000"/>
              <a:ext cx="3297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1747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1607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V="1">
              <a:off x="22431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V="1">
              <a:off x="23702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1747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1747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1607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1607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3579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0689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364440" y="54309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6781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1545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7829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418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46580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452840" y="541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65800" y="54370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74796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471920" y="625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770360" y="624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789440" y="62564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7829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1545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98636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784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4972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7368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48480" y="5418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73680" y="54370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05620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80160" y="6129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29460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92300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4668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853160" y="5430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23088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15456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161040" y="5430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2431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43160" y="54370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027160" y="588816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946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9230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6147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3702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2946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164040" y="63831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602160" y="6370560"/>
              <a:ext cx="3780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621240" y="63831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910040" y="6370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929120" y="63831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9230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6147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575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144960" y="54180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575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376360" y="543096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3065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6781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98636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29460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3065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05636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between registers (not just multiplex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 decides when bit should be togg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for low-order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hen first bit is true for second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620-0753-4979-A778-1B9BCD57DA9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6" name=""/>
          <p:cNvGrpSpPr/>
          <p:nvPr/>
        </p:nvGrpSpPr>
        <p:grpSpPr>
          <a:xfrm>
            <a:off x="7342200" y="2844720"/>
            <a:ext cx="1467000" cy="2178000"/>
            <a:chOff x="7342200" y="2844720"/>
            <a:chExt cx="1467000" cy="2178000"/>
          </a:xfrm>
        </p:grpSpPr>
        <p:sp>
          <p:nvSpPr>
            <p:cNvPr id="2337" name=""/>
            <p:cNvSpPr/>
            <p:nvPr/>
          </p:nvSpPr>
          <p:spPr>
            <a:xfrm>
              <a:off x="7647120" y="2939760"/>
              <a:ext cx="774720" cy="20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br>
                <a:rPr sz="1400"/>
              </a:b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589880" y="2844720"/>
              <a:ext cx="1028880" cy="21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589880" y="4431960"/>
              <a:ext cx="637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7589880" y="4495320"/>
              <a:ext cx="637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399440" y="4235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399440" y="3956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631360" y="4451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399440" y="3778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631360" y="427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399440" y="360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63136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399440" y="4502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399440" y="4768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631360" y="3904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399440" y="3409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42200" y="3549600"/>
              <a:ext cx="129564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63136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399440" y="304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385920" y="4071960"/>
            <a:ext cx="445752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6" name="" descr=""/>
          <p:cNvPicPr/>
          <p:nvPr/>
        </p:nvPicPr>
        <p:blipFill>
          <a:blip r:embed="rId1"/>
          <a:stretch/>
        </p:blipFill>
        <p:spPr>
          <a:xfrm>
            <a:off x="385920" y="4071960"/>
            <a:ext cx="4444920" cy="2628720"/>
          </a:xfrm>
          <a:prstGeom prst="rect">
            <a:avLst/>
          </a:prstGeom>
          <a:ln w="0">
            <a:noFill/>
          </a:ln>
        </p:spPr>
      </p:pic>
      <p:sp>
        <p:nvSpPr>
          <p:cNvPr id="2357" name=""/>
          <p:cNvSpPr/>
          <p:nvPr/>
        </p:nvSpPr>
        <p:spPr>
          <a:xfrm>
            <a:off x="157320" y="6497640"/>
            <a:ext cx="47624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237280" y="5811840"/>
            <a:ext cx="2438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) Low order 4-bits = 1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249880" y="3932280"/>
            <a:ext cx="2197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 RCO goes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211720" y="4960800"/>
            <a:ext cx="1955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) High order 4-bi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increme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494240" y="5665680"/>
            <a:ext cx="139680" cy="83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4633920" y="5958000"/>
            <a:ext cx="584280" cy="12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4786200" y="5106960"/>
            <a:ext cx="419040" cy="393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4659480" y="4103280"/>
            <a:ext cx="55872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-bit binary synchronous up-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component with man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edge-triggered FFs w/ synchronous load and clear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load data from D, C, B,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puts: must be asserted to enable 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O: ripple-carry out used for cascading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when counter is in its highest state 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ed using an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ED2-2977-4C71-9809-9213CAAF1AE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"/>
          <p:cNvGrpSpPr/>
          <p:nvPr/>
        </p:nvGrpSpPr>
        <p:grpSpPr>
          <a:xfrm>
            <a:off x="6608880" y="4238640"/>
            <a:ext cx="2380680" cy="2108160"/>
            <a:chOff x="6608880" y="4238640"/>
            <a:chExt cx="2380680" cy="2108160"/>
          </a:xfrm>
        </p:grpSpPr>
        <p:sp>
          <p:nvSpPr>
            <p:cNvPr id="2368" name=""/>
            <p:cNvSpPr/>
            <p:nvPr/>
          </p:nvSpPr>
          <p:spPr>
            <a:xfrm>
              <a:off x="7065720" y="4384440"/>
              <a:ext cx="10285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91280" y="4244760"/>
              <a:ext cx="81216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084800" y="4238640"/>
              <a:ext cx="825120" cy="19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084800" y="5749920"/>
              <a:ext cx="63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7084800" y="5800320"/>
              <a:ext cx="63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945120" y="56037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945120" y="53751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897680" y="5375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945120" y="523548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897680" y="523548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945120" y="5095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32520" y="4524120"/>
              <a:ext cx="12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897680" y="50958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945120" y="5806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945120" y="6022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897680" y="4943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945120" y="494352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875280" y="4600440"/>
              <a:ext cx="1028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897680" y="4727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608880" y="4384440"/>
              <a:ext cx="4694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043840" y="4949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8043840" y="52160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8043840" y="53175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983440" y="517824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6932520" y="6340320"/>
              <a:ext cx="20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6938640" y="6029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049960" y="5006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049960" y="5108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049960" y="5222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04996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02240" y="5114880"/>
              <a:ext cx="1267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8202240" y="5216040"/>
              <a:ext cx="1267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96120" y="511488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342280" y="5216400"/>
              <a:ext cx="37440" cy="3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557920" y="503208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557920" y="529884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8551800" y="502596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551800" y="49622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679600" y="5046480"/>
              <a:ext cx="2268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673120" y="5040000"/>
              <a:ext cx="23976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679240" y="5032440"/>
              <a:ext cx="227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672760" y="5038920"/>
              <a:ext cx="24012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8812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443800" y="5006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88120" y="500688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443800" y="5108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088120" y="5108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39304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44380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443800" y="5324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088120" y="5324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913600" y="517212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7085160" y="1606680"/>
            <a:ext cx="1675800" cy="2221920"/>
            <a:chOff x="7085160" y="1606680"/>
            <a:chExt cx="1675800" cy="2221920"/>
          </a:xfrm>
        </p:grpSpPr>
        <p:sp>
          <p:nvSpPr>
            <p:cNvPr id="2421" name=""/>
            <p:cNvSpPr/>
            <p:nvPr/>
          </p:nvSpPr>
          <p:spPr>
            <a:xfrm>
              <a:off x="7637400" y="1612800"/>
              <a:ext cx="812520" cy="19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630920" y="1606680"/>
              <a:ext cx="838080" cy="199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630920" y="3168720"/>
              <a:ext cx="5040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7630920" y="3219480"/>
              <a:ext cx="504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478640" y="30099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47864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45640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47864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45640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47864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466040" y="1892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45640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478640" y="3225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478640" y="3441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45640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47864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45640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60904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754840" y="2127240"/>
              <a:ext cx="0" cy="167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7694640" y="3822480"/>
              <a:ext cx="106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H="1">
              <a:off x="7085160" y="382248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7091280" y="3003480"/>
              <a:ext cx="0" cy="82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097760" y="300996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192800" y="3340080"/>
              <a:ext cx="5713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624800" y="1803240"/>
              <a:ext cx="99000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434360" y="2006640"/>
              <a:ext cx="99000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180200" y="1803240"/>
              <a:ext cx="4568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8" name=""/>
          <p:cNvSpPr/>
          <p:nvPr/>
        </p:nvSpPr>
        <p:spPr>
          <a:xfrm flipH="1">
            <a:off x="5321160" y="2328840"/>
            <a:ext cx="1555920" cy="260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H="1" flipV="1">
            <a:off x="4997160" y="4475160"/>
            <a:ext cx="1368360" cy="603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fset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offset counters – use of synchronous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110, 0111, 1000, 100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, 1011, 1100, 1101, 1111, 0110, . . 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ing offset counter – comparator for ending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000, 0001, 0010, ..., 1100, 1101, 0000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s of the above (start and stop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C80-4865-4331-9F25-F5FB60AA3B4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5E0-F604-4F60-AC86-28F80E77CD7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"/>
          <p:cNvSpPr/>
          <p:nvPr/>
        </p:nvSpPr>
        <p:spPr>
          <a:xfrm>
            <a:off x="274320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ED8-3A21-4E24-8126-09B0C803D4B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486400" y="2471760"/>
            <a:ext cx="2540160" cy="1643040"/>
            <a:chOff x="5486400" y="2471760"/>
            <a:chExt cx="2540160" cy="164304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5588280" y="2471760"/>
              <a:ext cx="212076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486400" y="270036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86400" y="36529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81960" y="278928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07520" y="357696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00360"/>
            <a:ext cx="3238560" cy="1219320"/>
            <a:chOff x="1600200" y="2700360"/>
            <a:chExt cx="3238560" cy="121932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676160" y="270036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600200" y="322092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12800" y="352584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6360" y="300528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52480" y="5062680"/>
            <a:ext cx="3238560" cy="1231920"/>
            <a:chOff x="1752480" y="5062680"/>
            <a:chExt cx="3238560" cy="123192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1828440" y="506268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52480" y="590076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65080" y="559620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28640" y="536760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62720" y="4910040"/>
            <a:ext cx="2501640" cy="1643040"/>
            <a:chOff x="5562720" y="4910040"/>
            <a:chExt cx="2501640" cy="1643040"/>
          </a:xfrm>
        </p:grpSpPr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5638680" y="4910040"/>
              <a:ext cx="212112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620120" y="521460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45320" y="600228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513864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611640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mory with cross-couple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0000"/>
          </a:bodyPr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1) or 1 (set=1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0) or 1 (set=0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697-B1F6-493A-B64F-CEEADD5128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"/>
          <p:cNvSpPr/>
          <p:nvPr/>
        </p:nvSpPr>
        <p:spPr>
          <a:xfrm>
            <a:off x="685800" y="3476520"/>
            <a:ext cx="44067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)      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if (s) 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       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863960" y="3476520"/>
            <a:ext cx="440712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r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ous/asynchronous reset/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thread that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parallel threads – only one of which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1509840" y="2894040"/>
            <a:ext cx="1809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243040" y="2894040"/>
            <a:ext cx="196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0000"/>
                </a:solidFill>
                <a:latin typeface="Arial"/>
              </a:rPr>
              <a:t>A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E63-CE8E-4A89-A3E6-8EA72D35390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"/>
          <p:cNvSpPr/>
          <p:nvPr/>
        </p:nvSpPr>
        <p:spPr>
          <a:xfrm>
            <a:off x="175248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rrect 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4113360" y="3886200"/>
            <a:ext cx="14493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616720" y="3440160"/>
            <a:ext cx="18903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Not correct!  Q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hange whene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lock changes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just on an ed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6F2C-C591-4BD0-B124-87DDE32EB2D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/>
          <p:nvPr/>
        </p:nvSpPr>
        <p:spPr>
          <a:xfrm>
            <a:off x="2666880" y="4292640"/>
            <a:ext cx="2362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= temp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638680" y="4292640"/>
            <a:ext cx="2362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locking and Non-Blocking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91520" cy="221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ing assignments (X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the assignment before continuing on to nex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s (X&lt;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in zero time and doesn’t change the value of the target until a blocking point (delay/wait) is encou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sw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A96-0943-45BA-B5D7-881CFC00BF4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"/>
          <p:cNvSpPr/>
          <p:nvPr/>
        </p:nvSpPr>
        <p:spPr>
          <a:xfrm>
            <a:off x="533520" y="3219480"/>
            <a:ext cx="37195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343400" y="4648320"/>
            <a:ext cx="40384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-transfer-level (RTL)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 is also known as an RTL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ed in an always block triggered by a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lip-flops chang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609480" y="328464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B,C,D all get the value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4419720" y="472428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mplements a shift register to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1C7-A0B8-43CE-8F2C-30C850E700E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bius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457200"/>
                <a:tab algn="l" pos="914400"/>
                <a:tab algn="l" pos="137016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&lt;= ~D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30E-ABAE-4FAF-A196-317C223477C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48920" y="1620720"/>
            <a:ext cx="4637160" cy="476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t">
            <a:normAutofit/>
          </a:bodyPr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0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count + 4’b0001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4218120" y="2147760"/>
            <a:ext cx="4802040" cy="434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, rc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,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 . . . 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 . . .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rco = (count == 4b’1111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BF2-1743-44EE-9587-94FB2FD49D5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 building block of circuits with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 an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S latch, R-S master/slave, D master/slave, edge-triggered 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c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d FFs work because propagation delays excee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are of 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 and their da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: what it is and how to minimize its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494-BF8A-46C0-8958-6506F0FF42C4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4267080"/>
            <a:ext cx="7518240" cy="21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7720" y="4813200"/>
            <a:ext cx="647640" cy="1536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75240" y="4826160"/>
            <a:ext cx="11941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rcRect l="5377" t="0" r="0" b="0"/>
          <a:stretch/>
        </p:blipFill>
        <p:spPr>
          <a:xfrm>
            <a:off x="1089000" y="4267080"/>
            <a:ext cx="7102440" cy="2095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6204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4140360"/>
            <a:ext cx="648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1240" y="447660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97720" y="4738320"/>
            <a:ext cx="379080" cy="38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9" y="4727"/>
                </a:moveTo>
                <a:arcTo wR="10800" hR="10800" stAng="-8747058" swAng="1906410"/>
                <a:lnTo>
                  <a:pt x="10800" y="10800"/>
                </a:lnTo>
                <a:close/>
              </a:path>
              <a:path fill="none" w="21600" h="21600">
                <a:moveTo>
                  <a:pt x="1869" y="4727"/>
                </a:moveTo>
                <a:arcTo wR="10800" hR="10800" stAng="-8747058" swAng="190641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73080" y="4476600"/>
            <a:ext cx="152640" cy="9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53640" y="5259240"/>
            <a:ext cx="38196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42" y="1105"/>
                </a:moveTo>
                <a:arcTo wR="10800" hR="10800" stAng="-6968344" swAng="1910979"/>
                <a:lnTo>
                  <a:pt x="10800" y="10800"/>
                </a:lnTo>
                <a:close/>
              </a:path>
              <a:path fill="none" w="21600" h="21600">
                <a:moveTo>
                  <a:pt x="6042" y="1105"/>
                </a:moveTo>
                <a:arcTo wR="10800" hR="10800" stAng="-6968344" swAng="191097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40120" y="4476600"/>
            <a:ext cx="177840" cy="55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7320" y="4853160"/>
            <a:ext cx="3823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25" y="1940"/>
                </a:moveTo>
                <a:arcTo wR="10800" hR="10800" stAng="-7492520" swAng="1892212"/>
                <a:lnTo>
                  <a:pt x="10800" y="10800"/>
                </a:lnTo>
                <a:close/>
              </a:path>
              <a:path fill="none" w="21600" h="21600">
                <a:moveTo>
                  <a:pt x="4625" y="1940"/>
                </a:moveTo>
                <a:arcTo wR="10800" hR="10800" stAng="-7492520" swAng="18922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40120" y="4502160"/>
            <a:ext cx="75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45080" y="523404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74" y="779"/>
                </a:moveTo>
                <a:arcTo wR="10800" hR="10800" stAng="-6713373" swAng="1885796"/>
                <a:lnTo>
                  <a:pt x="10800" y="10800"/>
                </a:lnTo>
                <a:close/>
              </a:path>
              <a:path fill="none" w="21600" h="21600">
                <a:moveTo>
                  <a:pt x="6774" y="779"/>
                </a:moveTo>
                <a:arcTo wR="10800" hR="10800" stAng="-6713373" swAng="188579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4502160"/>
            <a:ext cx="6336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8720" y="514512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81" y="736"/>
                </a:moveTo>
                <a:arcTo wR="10800" hR="10800" stAng="-6676498" swAng="1910158"/>
                <a:lnTo>
                  <a:pt x="10800" y="10800"/>
                </a:lnTo>
                <a:close/>
              </a:path>
              <a:path fill="none" w="21600" h="21600">
                <a:moveTo>
                  <a:pt x="6881" y="736"/>
                </a:moveTo>
                <a:arcTo wR="10800" hR="10800" stAng="-6676498" swAng="191015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63720" y="450216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92720" y="4853880"/>
            <a:ext cx="38088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98" y="317"/>
                </a:moveTo>
                <a:arcTo wR="10800" hR="10800" stAng="-4564742" swAng="1905185"/>
                <a:lnTo>
                  <a:pt x="10800" y="10800"/>
                </a:lnTo>
                <a:close/>
              </a:path>
              <a:path fill="none" w="21600" h="21600">
                <a:moveTo>
                  <a:pt x="13398" y="317"/>
                </a:moveTo>
                <a:arcTo wR="10800" hR="10800" stAng="-4564742" swAng="190518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793760" y="4514760"/>
            <a:ext cx="38124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23120" y="5260320"/>
            <a:ext cx="379800" cy="37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5" y="54"/>
                </a:moveTo>
                <a:arcTo wR="10800" hR="10800" stAng="-5057365" swAng="1909731"/>
                <a:lnTo>
                  <a:pt x="10800" y="10800"/>
                </a:lnTo>
                <a:close/>
              </a:path>
              <a:path fill="none" w="21600" h="21600">
                <a:moveTo>
                  <a:pt x="11875" y="54"/>
                </a:moveTo>
                <a:arcTo wR="10800" hR="10800" stAng="-5057365" swAng="190973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781520" y="4502160"/>
            <a:ext cx="3938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10520" y="4739040"/>
            <a:ext cx="37980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03" y="984"/>
                </a:moveTo>
                <a:arcTo wR="10800" hR="10800" stAng="-3921500" swAng="1916012"/>
                <a:lnTo>
                  <a:pt x="10800" y="10800"/>
                </a:lnTo>
                <a:close/>
              </a:path>
              <a:path fill="none" w="21600" h="21600">
                <a:moveTo>
                  <a:pt x="15303" y="984"/>
                </a:moveTo>
                <a:arcTo wR="10800" hR="10800" stAng="-3921500" swAng="19160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46680" y="4502160"/>
            <a:ext cx="330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95360" y="4853520"/>
            <a:ext cx="37548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72" y="3575"/>
                </a:moveTo>
                <a:arcTo wR="10800" hR="10800" stAng="-8280767" swAng="1900605"/>
                <a:lnTo>
                  <a:pt x="10800" y="10800"/>
                </a:lnTo>
                <a:close/>
              </a:path>
              <a:path fill="none" w="21600" h="21600">
                <a:moveTo>
                  <a:pt x="2772" y="3575"/>
                </a:moveTo>
                <a:arcTo wR="10800" hR="10800" stAng="-8280767" swAng="190060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1480" y="4476600"/>
            <a:ext cx="17784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29040" y="5145120"/>
            <a:ext cx="38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09" y="1385"/>
                </a:moveTo>
                <a:arcTo wR="10800" hR="10800" stAng="-7159910" swAng="1931655"/>
                <a:lnTo>
                  <a:pt x="10800" y="10800"/>
                </a:lnTo>
                <a:close/>
              </a:path>
              <a:path fill="none" w="21600" h="21600">
                <a:moveTo>
                  <a:pt x="5509" y="1385"/>
                </a:moveTo>
                <a:arcTo wR="10800" hR="10800" stAng="-7159910" swAng="193165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714800" y="4502160"/>
            <a:ext cx="58428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080" y="5501520"/>
            <a:ext cx="38196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90" y="149"/>
                </a:moveTo>
                <a:arcTo wR="10800" hR="10800" stAng="-4827578" swAng="1925590"/>
                <a:lnTo>
                  <a:pt x="10800" y="10800"/>
                </a:lnTo>
                <a:close/>
              </a:path>
              <a:path fill="none" w="21600" h="21600">
                <a:moveTo>
                  <a:pt x="12590" y="149"/>
                </a:moveTo>
                <a:arcTo wR="10800" hR="10800" stAng="-4827578" swAng="192559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905600" y="4502160"/>
            <a:ext cx="39384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34960" y="5907600"/>
            <a:ext cx="379440" cy="38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43" y="257"/>
                </a:moveTo>
                <a:arcTo wR="10800" hR="10800" stAng="-4648271" swAng="1927930"/>
                <a:lnTo>
                  <a:pt x="10800" y="10800"/>
                </a:lnTo>
                <a:close/>
              </a:path>
              <a:path fill="none" w="21600" h="21600">
                <a:moveTo>
                  <a:pt x="13143" y="257"/>
                </a:moveTo>
                <a:arcTo wR="10800" hR="10800" stAng="-4648271" swAng="192793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792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824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7352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4680" y="41403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81160" y="4724280"/>
            <a:ext cx="57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34040" y="4216320"/>
            <a:ext cx="507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56200" y="4216320"/>
            <a:ext cx="838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733920" y="1523880"/>
            <a:ext cx="2539440" cy="1643040"/>
            <a:chOff x="3733920" y="1523880"/>
            <a:chExt cx="2539440" cy="164304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3835440" y="15238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733920" y="17524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33920" y="27050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29120" y="18414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54680" y="26290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CE4-4484-43FE-BD0F-25C8FF2162A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371600" y="2819520"/>
            <a:ext cx="2146320" cy="1803240"/>
            <a:chOff x="1371600" y="2819520"/>
            <a:chExt cx="2146320" cy="1803240"/>
          </a:xfrm>
        </p:grpSpPr>
        <p:sp>
          <p:nvSpPr>
            <p:cNvPr id="228" name=""/>
            <p:cNvSpPr/>
            <p:nvPr/>
          </p:nvSpPr>
          <p:spPr>
            <a:xfrm>
              <a:off x="1396800" y="2819520"/>
              <a:ext cx="2121120" cy="18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n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371600" y="2869920"/>
              <a:ext cx="2057400" cy="1409400"/>
              <a:chOff x="1371600" y="2869920"/>
              <a:chExt cx="2057400" cy="1409400"/>
            </a:xfrm>
          </p:grpSpPr>
          <p:sp>
            <p:nvSpPr>
              <p:cNvPr id="230" name=""/>
              <p:cNvSpPr/>
              <p:nvPr/>
            </p:nvSpPr>
            <p:spPr>
              <a:xfrm>
                <a:off x="2247840" y="2869920"/>
                <a:ext cx="0" cy="1409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71600" y="3136320"/>
                <a:ext cx="205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behavior or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of R-S latch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8320" y="2057400"/>
            <a:ext cx="3504600" cy="3962520"/>
            <a:chOff x="4648320" y="2057400"/>
            <a:chExt cx="3504600" cy="3962520"/>
          </a:xfrm>
        </p:grpSpPr>
        <p:sp>
          <p:nvSpPr>
            <p:cNvPr id="235" name=""/>
            <p:cNvSpPr/>
            <p:nvPr/>
          </p:nvSpPr>
          <p:spPr>
            <a:xfrm>
              <a:off x="47242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74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35812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54100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832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9116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258400">
              <a:off x="6019560" y="342864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9560" y="52578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0B6-0285-4536-A9FA-659B9B2F0A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oretical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possibl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343400" y="2362320"/>
            <a:ext cx="3505320" cy="3961800"/>
            <a:chOff x="4343400" y="2362320"/>
            <a:chExt cx="3505320" cy="3961800"/>
          </a:xfrm>
        </p:grpSpPr>
        <p:sp>
          <p:nvSpPr>
            <p:cNvPr id="252" name=""/>
            <p:cNvSpPr/>
            <p:nvPr/>
          </p:nvSpPr>
          <p:spPr>
            <a:xfrm>
              <a:off x="44197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29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1320" y="38858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91320" y="57146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434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0258400">
              <a:off x="5714640" y="37332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15000" y="556236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240240" y="4465080"/>
            <a:ext cx="1290960" cy="1208160"/>
            <a:chOff x="6240240" y="4465080"/>
            <a:chExt cx="1290960" cy="1208160"/>
          </a:xfrm>
        </p:grpSpPr>
        <p:sp>
          <p:nvSpPr>
            <p:cNvPr id="261" name=""/>
            <p:cNvSpPr/>
            <p:nvPr/>
          </p:nvSpPr>
          <p:spPr>
            <a:xfrm>
              <a:off x="6324480" y="4724280"/>
              <a:ext cx="1206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59" idx="7"/>
              <a:endCxn id="258" idx="4"/>
            </p:cNvCxnSpPr>
            <p:nvPr/>
          </p:nvCxnSpPr>
          <p:spPr>
            <a:xfrm flipV="1" rot="16200000">
              <a:off x="5698800" y="5006160"/>
              <a:ext cx="1208520" cy="126000"/>
            </a:xfrm>
            <a:prstGeom prst="curvedConnector5">
              <a:avLst>
                <a:gd name="adj1" fmla="val 48480"/>
                <a:gd name="adj2" fmla="val 49856"/>
                <a:gd name="adj3" fmla="val 4848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3" name=""/>
          <p:cNvGrpSpPr/>
          <p:nvPr/>
        </p:nvGrpSpPr>
        <p:grpSpPr>
          <a:xfrm>
            <a:off x="4724280" y="4465440"/>
            <a:ext cx="1223640" cy="1208160"/>
            <a:chOff x="4724280" y="4465440"/>
            <a:chExt cx="1223640" cy="1208160"/>
          </a:xfrm>
        </p:grpSpPr>
        <p:sp>
          <p:nvSpPr>
            <p:cNvPr id="264" name=""/>
            <p:cNvSpPr/>
            <p:nvPr/>
          </p:nvSpPr>
          <p:spPr>
            <a:xfrm>
              <a:off x="4724280" y="4876560"/>
              <a:ext cx="1155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3"/>
              <a:endCxn id="259" idx="1"/>
            </p:cNvCxnSpPr>
            <p:nvPr/>
          </p:nvCxnSpPr>
          <p:spPr>
            <a:xfrm rot="5400000">
              <a:off x="5282640" y="5008680"/>
              <a:ext cx="1208520" cy="122400"/>
            </a:xfrm>
            <a:prstGeom prst="curvedConnector5">
              <a:avLst>
                <a:gd name="adj1" fmla="val 51370"/>
                <a:gd name="adj2" fmla="val 49852"/>
                <a:gd name="adj3" fmla="val 5137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6" name=""/>
          <p:cNvGrpSpPr/>
          <p:nvPr/>
        </p:nvGrpSpPr>
        <p:grpSpPr>
          <a:xfrm>
            <a:off x="4993920" y="1905120"/>
            <a:ext cx="2203920" cy="570240"/>
            <a:chOff x="4993920" y="1905120"/>
            <a:chExt cx="2203920" cy="570240"/>
          </a:xfrm>
        </p:grpSpPr>
        <p:sp>
          <p:nvSpPr>
            <p:cNvPr id="267" name=""/>
            <p:cNvSpPr/>
            <p:nvPr/>
          </p:nvSpPr>
          <p:spPr>
            <a:xfrm>
              <a:off x="5562720" y="190512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6" idx="7"/>
              <a:endCxn id="257" idx="1"/>
            </p:cNvCxnSpPr>
            <p:nvPr/>
          </p:nvCxnSpPr>
          <p:spPr>
            <a:xfrm flipH="1" rot="16200000">
              <a:off x="6095160" y="1372320"/>
              <a:ext cx="2160" cy="220428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9" name=""/>
          <p:cNvGrpSpPr/>
          <p:nvPr/>
        </p:nvGrpSpPr>
        <p:grpSpPr>
          <a:xfrm>
            <a:off x="5104800" y="2514600"/>
            <a:ext cx="1981440" cy="304920"/>
            <a:chOff x="5104800" y="2514600"/>
            <a:chExt cx="1981440" cy="304920"/>
          </a:xfrm>
        </p:grpSpPr>
        <p:sp>
          <p:nvSpPr>
            <p:cNvPr id="270" name=""/>
            <p:cNvSpPr/>
            <p:nvPr/>
          </p:nvSpPr>
          <p:spPr>
            <a:xfrm>
              <a:off x="5562720" y="2514600"/>
              <a:ext cx="110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57" idx="2"/>
              <a:endCxn id="256" idx="6"/>
            </p:cNvCxnSpPr>
            <p:nvPr/>
          </p:nvCxnSpPr>
          <p:spPr>
            <a:xfrm rot="10800000">
              <a:off x="5104800" y="2742480"/>
              <a:ext cx="198180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2" name=""/>
          <p:cNvGrpSpPr/>
          <p:nvPr/>
        </p:nvGrpSpPr>
        <p:grpSpPr>
          <a:xfrm>
            <a:off x="7466760" y="2133000"/>
            <a:ext cx="1753560" cy="609840"/>
            <a:chOff x="7466760" y="2133000"/>
            <a:chExt cx="1753560" cy="609840"/>
          </a:xfrm>
        </p:grpSpPr>
        <p:sp>
          <p:nvSpPr>
            <p:cNvPr id="273" name=""/>
            <p:cNvSpPr/>
            <p:nvPr/>
          </p:nvSpPr>
          <p:spPr>
            <a:xfrm>
              <a:off x="8153280" y="2209680"/>
              <a:ext cx="10670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57" idx="6"/>
              <a:endCxn id="257" idx="0"/>
            </p:cNvCxnSpPr>
            <p:nvPr/>
          </p:nvCxnSpPr>
          <p:spPr>
            <a:xfrm flipH="1" flipV="1">
              <a:off x="7466760" y="2361600"/>
              <a:ext cx="381960" cy="381600"/>
            </a:xfrm>
            <a:prstGeom prst="curvedConnector5">
              <a:avLst>
                <a:gd name="adj1" fmla="val -60000"/>
                <a:gd name="adj2" fmla="val 79981"/>
                <a:gd name="adj3" fmla="val -6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2971800" y="2133000"/>
            <a:ext cx="1752840" cy="609840"/>
            <a:chOff x="2971800" y="2133000"/>
            <a:chExt cx="1752840" cy="609840"/>
          </a:xfrm>
        </p:grpSpPr>
        <p:sp>
          <p:nvSpPr>
            <p:cNvPr id="276" name=""/>
            <p:cNvSpPr/>
            <p:nvPr/>
          </p:nvSpPr>
          <p:spPr>
            <a:xfrm>
              <a:off x="2971800" y="2209680"/>
              <a:ext cx="1079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56" idx="2"/>
              <a:endCxn id="256" idx="0"/>
            </p:cNvCxnSpPr>
            <p:nvPr/>
          </p:nvCxnSpPr>
          <p:spPr>
            <a:xfrm flipH="1" rot="10800000">
              <a:off x="4343040" y="2361240"/>
              <a:ext cx="381600" cy="381600"/>
            </a:xfrm>
            <a:prstGeom prst="curvedConnector5">
              <a:avLst>
                <a:gd name="adj1" fmla="val -59962"/>
                <a:gd name="adj2" fmla="val 79981"/>
                <a:gd name="adj3" fmla="val -5996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8" name=""/>
          <p:cNvGrpSpPr/>
          <p:nvPr/>
        </p:nvGrpSpPr>
        <p:grpSpPr>
          <a:xfrm>
            <a:off x="4343400" y="3123720"/>
            <a:ext cx="1399320" cy="1448280"/>
            <a:chOff x="4343400" y="3123720"/>
            <a:chExt cx="1399320" cy="1448280"/>
          </a:xfrm>
        </p:grpSpPr>
        <p:sp>
          <p:nvSpPr>
            <p:cNvPr id="279" name=""/>
            <p:cNvSpPr/>
            <p:nvPr/>
          </p:nvSpPr>
          <p:spPr>
            <a:xfrm>
              <a:off x="4343400" y="4267080"/>
              <a:ext cx="1181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/>
            <p:nvPr/>
          </p:nvCxnSpPr>
          <p:spPr>
            <a:xfrm flipH="1" rot="16200000">
              <a:off x="4665240" y="318168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1" name=""/>
          <p:cNvGrpSpPr/>
          <p:nvPr/>
        </p:nvGrpSpPr>
        <p:grpSpPr>
          <a:xfrm>
            <a:off x="6476400" y="3158640"/>
            <a:ext cx="1219680" cy="1413360"/>
            <a:chOff x="6476400" y="3158640"/>
            <a:chExt cx="1219680" cy="1413360"/>
          </a:xfrm>
        </p:grpSpPr>
        <p:sp>
          <p:nvSpPr>
            <p:cNvPr id="282" name=""/>
            <p:cNvSpPr/>
            <p:nvPr/>
          </p:nvSpPr>
          <p:spPr>
            <a:xfrm>
              <a:off x="6692760" y="426708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3" name=""/>
            <p:cNvCxnSpPr/>
            <p:nvPr/>
          </p:nvCxnSpPr>
          <p:spPr>
            <a:xfrm rot="5400000">
              <a:off x="6418440" y="321660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4" name=""/>
          <p:cNvGrpSpPr/>
          <p:nvPr/>
        </p:nvGrpSpPr>
        <p:grpSpPr>
          <a:xfrm>
            <a:off x="3809880" y="3012840"/>
            <a:ext cx="4584960" cy="2930760"/>
            <a:chOff x="3809880" y="3012840"/>
            <a:chExt cx="4584960" cy="2930760"/>
          </a:xfrm>
        </p:grpSpPr>
        <p:sp>
          <p:nvSpPr>
            <p:cNvPr id="285" name=""/>
            <p:cNvSpPr/>
            <p:nvPr/>
          </p:nvSpPr>
          <p:spPr>
            <a:xfrm>
              <a:off x="7315200" y="5181480"/>
              <a:ext cx="1079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9880" y="5105520"/>
              <a:ext cx="1117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/>
            <p:nvPr/>
          </p:nvCxnSpPr>
          <p:spPr>
            <a:xfrm rot="10800000">
              <a:off x="4453920" y="301248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6476760" y="301284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9" name=""/>
          <p:cNvGrpSpPr/>
          <p:nvPr/>
        </p:nvGrpSpPr>
        <p:grpSpPr>
          <a:xfrm>
            <a:off x="4993560" y="3012840"/>
            <a:ext cx="2232720" cy="989280"/>
            <a:chOff x="4993560" y="3012840"/>
            <a:chExt cx="2232720" cy="989280"/>
          </a:xfrm>
        </p:grpSpPr>
        <p:sp>
          <p:nvSpPr>
            <p:cNvPr id="290" name=""/>
            <p:cNvSpPr/>
            <p:nvPr/>
          </p:nvSpPr>
          <p:spPr>
            <a:xfrm>
              <a:off x="5143680" y="3048120"/>
              <a:ext cx="1257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43600" y="3048120"/>
              <a:ext cx="1155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2" name=""/>
            <p:cNvCxnSpPr/>
            <p:nvPr/>
          </p:nvCxnSpPr>
          <p:spPr>
            <a:xfrm flipV="1" rot="16200000">
              <a:off x="4891320" y="311508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" name=""/>
            <p:cNvCxnSpPr/>
            <p:nvPr/>
          </p:nvCxnSpPr>
          <p:spPr>
            <a:xfrm flipH="1" flipV="1" rot="5400000">
              <a:off x="6374160" y="315000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4" name=""/>
          <p:cNvGrpSpPr/>
          <p:nvPr/>
        </p:nvGrpSpPr>
        <p:grpSpPr>
          <a:xfrm>
            <a:off x="5562720" y="3337200"/>
            <a:ext cx="1104840" cy="426600"/>
            <a:chOff x="5562720" y="3337200"/>
            <a:chExt cx="1104840" cy="426600"/>
          </a:xfrm>
        </p:grpSpPr>
        <p:sp>
          <p:nvSpPr>
            <p:cNvPr id="295" name=""/>
            <p:cNvSpPr/>
            <p:nvPr/>
          </p:nvSpPr>
          <p:spPr>
            <a:xfrm>
              <a:off x="5562720" y="342900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58" idx="0"/>
              <a:endCxn id="258" idx="7"/>
            </p:cNvCxnSpPr>
            <p:nvPr/>
          </p:nvCxnSpPr>
          <p:spPr>
            <a:xfrm flipH="1" rot="16200000">
              <a:off x="6095160" y="3616560"/>
              <a:ext cx="2160" cy="292680"/>
            </a:xfrm>
            <a:prstGeom prst="curvedConnector5">
              <a:avLst>
                <a:gd name="adj1" fmla="val -23600000"/>
                <a:gd name="adj2" fmla="val 50000"/>
                <a:gd name="adj3" fmla="val -23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7" name=""/>
          <p:cNvGrpSpPr/>
          <p:nvPr/>
        </p:nvGrpSpPr>
        <p:grpSpPr>
          <a:xfrm>
            <a:off x="1315440" y="4495680"/>
            <a:ext cx="5085360" cy="1889640"/>
            <a:chOff x="1315440" y="4495680"/>
            <a:chExt cx="5085360" cy="1889640"/>
          </a:xfrm>
        </p:grpSpPr>
        <p:sp>
          <p:nvSpPr>
            <p:cNvPr id="298" name=""/>
            <p:cNvSpPr/>
            <p:nvPr/>
          </p:nvSpPr>
          <p:spPr>
            <a:xfrm>
              <a:off x="1315440" y="5563440"/>
              <a:ext cx="26204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possible oscillation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etween states 00 and 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67280" y="4495680"/>
              <a:ext cx="457200" cy="1372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502956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791320" y="50288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47A-179C-457D-8532-C5AC09F959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bserved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 to observe R-S latch in the 1-1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R or S usually change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biguously returns to state 0-1 or 1-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-called "race conditio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non-deterministic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133720" y="4577760"/>
            <a:ext cx="4965480" cy="1981800"/>
            <a:chOff x="2133720" y="4577760"/>
            <a:chExt cx="4965480" cy="1981800"/>
          </a:xfrm>
        </p:grpSpPr>
        <p:sp>
          <p:nvSpPr>
            <p:cNvPr id="311" name=""/>
            <p:cNvSpPr/>
            <p:nvPr/>
          </p:nvSpPr>
          <p:spPr>
            <a:xfrm>
              <a:off x="6019920" y="6254640"/>
              <a:ext cx="107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3720" y="617868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14" idx="3"/>
            </p:cNvCxnSpPr>
            <p:nvPr/>
          </p:nvCxnSpPr>
          <p:spPr>
            <a:xfrm flipV="1" rot="16200000">
              <a:off x="3026880" y="4556880"/>
              <a:ext cx="1453320" cy="1494720"/>
            </a:xfrm>
            <a:prstGeom prst="curvedConnector5">
              <a:avLst>
                <a:gd name="adj1" fmla="val -25768"/>
                <a:gd name="adj2" fmla="val 52902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4" idx="4"/>
            </p:cNvCxnSpPr>
            <p:nvPr/>
          </p:nvCxnSpPr>
          <p:spPr>
            <a:xfrm flipH="1" flipV="1" rot="5400000">
              <a:off x="4814640" y="4555800"/>
              <a:ext cx="1453320" cy="1497600"/>
            </a:xfrm>
            <a:prstGeom prst="curvedConnector5">
              <a:avLst>
                <a:gd name="adj1" fmla="val -25768"/>
                <a:gd name="adj2" fmla="val 53594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6" name=""/>
          <p:cNvGrpSpPr/>
          <p:nvPr/>
        </p:nvGrpSpPr>
        <p:grpSpPr>
          <a:xfrm>
            <a:off x="1523880" y="3470400"/>
            <a:ext cx="6248160" cy="2706840"/>
            <a:chOff x="1523880" y="3470400"/>
            <a:chExt cx="6248160" cy="2706840"/>
          </a:xfrm>
        </p:grpSpPr>
        <p:sp>
          <p:nvSpPr>
            <p:cNvPr id="317" name=""/>
            <p:cNvSpPr/>
            <p:nvPr/>
          </p:nvSpPr>
          <p:spPr>
            <a:xfrm>
              <a:off x="29718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50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3400" y="54514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954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386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258400">
              <a:off x="4266720" y="529884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46000" y="3470400"/>
              <a:ext cx="2203920" cy="570240"/>
              <a:chOff x="3546000" y="3470400"/>
              <a:chExt cx="2203920" cy="570240"/>
            </a:xfrm>
          </p:grpSpPr>
          <p:sp>
            <p:nvSpPr>
              <p:cNvPr id="323" name=""/>
              <p:cNvSpPr/>
              <p:nvPr/>
            </p:nvSpPr>
            <p:spPr>
              <a:xfrm>
                <a:off x="4114800" y="347040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4" name=""/>
              <p:cNvCxnSpPr>
                <a:stCxn id="320" idx="7"/>
                <a:endCxn id="321" idx="1"/>
              </p:cNvCxnSpPr>
              <p:nvPr/>
            </p:nvCxnSpPr>
            <p:spPr>
              <a:xfrm flipH="1" rot="16200000">
                <a:off x="4647240" y="2937600"/>
                <a:ext cx="2160" cy="2204280"/>
              </a:xfrm>
              <a:prstGeom prst="curvedConnector5">
                <a:avLst>
                  <a:gd name="adj1" fmla="val -21400000"/>
                  <a:gd name="adj2" fmla="val 50000"/>
                  <a:gd name="adj3" fmla="val -21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5" name=""/>
            <p:cNvGrpSpPr/>
            <p:nvPr/>
          </p:nvGrpSpPr>
          <p:grpSpPr>
            <a:xfrm>
              <a:off x="3656880" y="4079880"/>
              <a:ext cx="1981440" cy="304920"/>
              <a:chOff x="3656880" y="4079880"/>
              <a:chExt cx="1981440" cy="304920"/>
            </a:xfrm>
          </p:grpSpPr>
          <p:sp>
            <p:nvSpPr>
              <p:cNvPr id="326" name=""/>
              <p:cNvSpPr/>
              <p:nvPr/>
            </p:nvSpPr>
            <p:spPr>
              <a:xfrm>
                <a:off x="4114800" y="4079880"/>
                <a:ext cx="1104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7" name=""/>
              <p:cNvCxnSpPr>
                <a:stCxn id="321" idx="2"/>
                <a:endCxn id="320" idx="6"/>
              </p:cNvCxnSpPr>
              <p:nvPr/>
            </p:nvCxnSpPr>
            <p:spPr>
              <a:xfrm rot="10800000">
                <a:off x="3656880" y="4307760"/>
                <a:ext cx="1981800" cy="10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8" name=""/>
            <p:cNvGrpSpPr/>
            <p:nvPr/>
          </p:nvGrpSpPr>
          <p:grpSpPr>
            <a:xfrm>
              <a:off x="6019560" y="3698280"/>
              <a:ext cx="1752480" cy="609840"/>
              <a:chOff x="6019560" y="3698280"/>
              <a:chExt cx="1752480" cy="60984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360" y="3774960"/>
                <a:ext cx="106668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0" name=""/>
              <p:cNvCxnSpPr>
                <a:stCxn id="321" idx="6"/>
                <a:endCxn id="321" idx="0"/>
              </p:cNvCxnSpPr>
              <p:nvPr/>
            </p:nvCxnSpPr>
            <p:spPr>
              <a:xfrm flipH="1" flipV="1">
                <a:off x="6019560" y="392688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1" name=""/>
            <p:cNvGrpSpPr/>
            <p:nvPr/>
          </p:nvGrpSpPr>
          <p:grpSpPr>
            <a:xfrm>
              <a:off x="1523880" y="3698280"/>
              <a:ext cx="1752840" cy="609840"/>
              <a:chOff x="1523880" y="3698280"/>
              <a:chExt cx="1752840" cy="609840"/>
            </a:xfrm>
          </p:grpSpPr>
          <p:sp>
            <p:nvSpPr>
              <p:cNvPr id="332" name=""/>
              <p:cNvSpPr/>
              <p:nvPr/>
            </p:nvSpPr>
            <p:spPr>
              <a:xfrm>
                <a:off x="1523880" y="3774960"/>
                <a:ext cx="107964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3" name=""/>
              <p:cNvCxnSpPr>
                <a:stCxn id="320" idx="2"/>
                <a:endCxn id="320" idx="0"/>
              </p:cNvCxnSpPr>
              <p:nvPr/>
            </p:nvCxnSpPr>
            <p:spPr>
              <a:xfrm flipH="1" rot="10800000">
                <a:off x="2895120" y="392652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2895480" y="4689000"/>
              <a:ext cx="1399320" cy="1448280"/>
              <a:chOff x="2895480" y="4689000"/>
              <a:chExt cx="1399320" cy="1448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895480" y="5832360"/>
                <a:ext cx="1181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6" name=""/>
              <p:cNvCxnSpPr/>
              <p:nvPr/>
            </p:nvCxnSpPr>
            <p:spPr>
              <a:xfrm flipH="1" rot="16200000">
                <a:off x="3217320" y="474696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7" name=""/>
            <p:cNvGrpSpPr/>
            <p:nvPr/>
          </p:nvGrpSpPr>
          <p:grpSpPr>
            <a:xfrm>
              <a:off x="5028480" y="4723920"/>
              <a:ext cx="1219680" cy="1413360"/>
              <a:chOff x="5028480" y="4723920"/>
              <a:chExt cx="1219680" cy="1413360"/>
            </a:xfrm>
          </p:grpSpPr>
          <p:sp>
            <p:nvSpPr>
              <p:cNvPr id="338" name=""/>
              <p:cNvSpPr/>
              <p:nvPr/>
            </p:nvSpPr>
            <p:spPr>
              <a:xfrm>
                <a:off x="5244840" y="583236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9" name=""/>
              <p:cNvCxnSpPr/>
              <p:nvPr/>
            </p:nvCxnSpPr>
            <p:spPr>
              <a:xfrm rot="5400000">
                <a:off x="4970520" y="478188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0" name=""/>
            <p:cNvGrpSpPr/>
            <p:nvPr/>
          </p:nvGrpSpPr>
          <p:grpSpPr>
            <a:xfrm>
              <a:off x="3545640" y="4578120"/>
              <a:ext cx="2232720" cy="989280"/>
              <a:chOff x="3545640" y="4578120"/>
              <a:chExt cx="2232720" cy="989280"/>
            </a:xfrm>
          </p:grpSpPr>
          <p:sp>
            <p:nvSpPr>
              <p:cNvPr id="341" name=""/>
              <p:cNvSpPr/>
              <p:nvPr/>
            </p:nvSpPr>
            <p:spPr>
              <a:xfrm>
                <a:off x="3695760" y="4613400"/>
                <a:ext cx="1257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5680" y="4613400"/>
                <a:ext cx="1155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3" name=""/>
              <p:cNvCxnSpPr/>
              <p:nvPr/>
            </p:nvCxnSpPr>
            <p:spPr>
              <a:xfrm flipV="1" rot="16200000">
                <a:off x="3443400" y="468036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4" name=""/>
              <p:cNvCxnSpPr/>
              <p:nvPr/>
            </p:nvCxnSpPr>
            <p:spPr>
              <a:xfrm flipH="1" flipV="1" rot="5400000">
                <a:off x="4926240" y="471528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5" name=""/>
            <p:cNvGrpSpPr/>
            <p:nvPr/>
          </p:nvGrpSpPr>
          <p:grpSpPr>
            <a:xfrm>
              <a:off x="4114800" y="4902480"/>
              <a:ext cx="1104840" cy="426600"/>
              <a:chOff x="4114800" y="4902480"/>
              <a:chExt cx="1104840" cy="426600"/>
            </a:xfrm>
          </p:grpSpPr>
          <p:sp>
            <p:nvSpPr>
              <p:cNvPr id="346" name=""/>
              <p:cNvSpPr/>
              <p:nvPr/>
            </p:nvSpPr>
            <p:spPr>
              <a:xfrm>
                <a:off x="4114800" y="4994280"/>
                <a:ext cx="1104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7" name=""/>
              <p:cNvCxnSpPr>
                <a:stCxn id="314" idx="0"/>
                <a:endCxn id="314" idx="7"/>
              </p:cNvCxnSpPr>
              <p:nvPr/>
            </p:nvCxnSpPr>
            <p:spPr>
              <a:xfrm flipH="1" rot="16200000">
                <a:off x="4647240" y="5181840"/>
                <a:ext cx="2160" cy="292680"/>
              </a:xfrm>
              <a:prstGeom prst="curvedConnector5">
                <a:avLst>
                  <a:gd name="adj1" fmla="val -23600000"/>
                  <a:gd name="adj2" fmla="val 50000"/>
                  <a:gd name="adj3" fmla="val -236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8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B77-48FF-4D0F-A3F8-3DC1CDCC73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55:38Z</dcterms:created>
  <dc:creator>Gaetano Borriello</dc:creator>
  <dc:description/>
  <dc:language>en-US</dc:language>
  <cp:lastModifiedBy>Gaetano Borriello</cp:lastModifiedBy>
  <cp:lastPrinted>2000-05-11T18:59:43Z</cp:lastPrinted>
  <dcterms:modified xsi:type="dcterms:W3CDTF">2005-01-24T07:00:37Z</dcterms:modified>
  <cp:revision>33</cp:revision>
  <dc:subject/>
  <dc:title>Sequenti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