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18C5-5521-4D90-9FE3-565F0AD9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97D7-8224-4C56-9F8A-CEB2D3D9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7881-BF68-4EA8-A3BA-8E0899BF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717-CB84-4426-8E7E-3C1AAA0E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D155-9971-47CE-8F18-512AB0C0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C187-8B49-4F45-82C7-D8502A34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0FDD-A25E-42AF-9A31-95EF1E5E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106E-8F98-46B5-B619-864E7909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C09B-6B92-4205-A528-5ABA1FE0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054E-BBAC-465A-9FE2-853DA7E9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F5D8-6B81-4CF8-89C9-64F57E13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EDEA-0852-4F99-8393-0C730B32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4D8D-300B-4694-BF57-BA3F2587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1C34-56F7-4C32-9160-E5C675ED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7948-3919-4385-AF3F-B556B8C7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4FD1-7044-4226-B250-FBFEFC51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91B9-8F37-4BA8-8E24-750210A5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3BC-DC88-475F-95CB-4342A659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F463-2E13-4197-8035-10DCE6E5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138F-6B33-47CD-B624-48A6FFB2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0F5F-13D0-4917-A01F-593A6558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C21C-45D7-4DDF-9AE6-8C806CF7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033-502E-44B9-82A4-3335A07F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878-4D2A-4D80-8478-44383827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4280" y="6483240"/>
            <a:ext cx="3960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9CC401A-8C07-4DFF-861B-FDC0FDB3DA9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EE87207-AA62-46FB-A2BD-B07E5462AFE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orking with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493640"/>
            <a:ext cx="88074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iting don’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for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re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logic and canonical forms realized with NANDs and 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logic, converting between ANDs and 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DD64-121C-4586-9E2D-BECD948A0E5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747360" y="1839960"/>
            <a:ext cx="2335680" cy="1711440"/>
            <a:chOff x="747360" y="1839960"/>
            <a:chExt cx="2335680" cy="1711440"/>
          </a:xfrm>
        </p:grpSpPr>
        <p:grpSp>
          <p:nvGrpSpPr>
            <p:cNvPr id="810" name=""/>
            <p:cNvGrpSpPr/>
            <p:nvPr/>
          </p:nvGrpSpPr>
          <p:grpSpPr>
            <a:xfrm>
              <a:off x="747360" y="2705040"/>
              <a:ext cx="662040" cy="451080"/>
              <a:chOff x="747360" y="2705040"/>
              <a:chExt cx="662040" cy="451080"/>
            </a:xfrm>
          </p:grpSpPr>
          <p:sp>
            <p:nvSpPr>
              <p:cNvPr id="811" name=""/>
              <p:cNvSpPr/>
              <p:nvPr/>
            </p:nvSpPr>
            <p:spPr>
              <a:xfrm flipH="1">
                <a:off x="844200" y="2737080"/>
                <a:ext cx="565200" cy="371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747360" y="270504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2421000" y="2711520"/>
              <a:ext cx="662040" cy="450720"/>
              <a:chOff x="2421000" y="2711520"/>
              <a:chExt cx="662040" cy="450720"/>
            </a:xfrm>
          </p:grpSpPr>
          <p:sp>
            <p:nvSpPr>
              <p:cNvPr id="814" name=""/>
              <p:cNvSpPr/>
              <p:nvPr/>
            </p:nvSpPr>
            <p:spPr>
              <a:xfrm>
                <a:off x="2421000" y="2743200"/>
                <a:ext cx="565200" cy="3708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873520" y="271152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1065240" y="1839960"/>
              <a:ext cx="1711440" cy="1711440"/>
              <a:chOff x="1065240" y="1839960"/>
              <a:chExt cx="1711440" cy="1711440"/>
            </a:xfrm>
          </p:grpSpPr>
          <p:sp>
            <p:nvSpPr>
              <p:cNvPr id="817" name=""/>
              <p:cNvSpPr/>
              <p:nvPr/>
            </p:nvSpPr>
            <p:spPr>
              <a:xfrm>
                <a:off x="1986120" y="2744640"/>
                <a:ext cx="790560" cy="806760"/>
              </a:xfrm>
              <a:custGeom>
                <a:avLst/>
                <a:gdLst>
                  <a:gd name="textAreaLeft" fmla="*/ 38520 w 790560"/>
                  <a:gd name="textAreaRight" fmla="*/ 752040 w 790560"/>
                  <a:gd name="textAreaTop" fmla="*/ 38520 h 806760"/>
                  <a:gd name="textAreaBottom" fmla="*/ 768240 h 806760"/>
                </a:gdLst>
                <a:ahLst/>
                <a:rect l="textAreaLeft" t="textAreaTop" r="textAreaRight" b="textAreaBottom"/>
                <a:pathLst>
                  <a:path w="21600" h="22042">
                    <a:moveTo>
                      <a:pt x="3600" y="0"/>
                    </a:moveTo>
                    <a:arcTo wR="3600" hR="3600" stAng="16200000" swAng="-5400000"/>
                    <a:lnTo>
                      <a:pt x="0" y="18442"/>
                    </a:lnTo>
                    <a:arcTo wR="3600" hR="3600" stAng="10800000" swAng="-5400000"/>
                    <a:lnTo>
                      <a:pt x="18000" y="220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986120" y="1839960"/>
                <a:ext cx="322200" cy="1695240"/>
              </a:xfrm>
              <a:custGeom>
                <a:avLst/>
                <a:gdLst>
                  <a:gd name="textAreaLeft" fmla="*/ 15480 w 322200"/>
                  <a:gd name="textAreaRight" fmla="*/ 306720 w 322200"/>
                  <a:gd name="textAreaTop" fmla="*/ 15480 h 1695240"/>
                  <a:gd name="textAreaBottom" fmla="*/ 1679760 h 1695240"/>
                </a:gdLst>
                <a:ahLst/>
                <a:rect l="textAreaLeft" t="textAreaTop" r="textAreaRight" b="textAreaBottom"/>
                <a:pathLst>
                  <a:path w="21600" h="113545">
                    <a:moveTo>
                      <a:pt x="3600" y="0"/>
                    </a:moveTo>
                    <a:arcTo wR="3600" hR="3600" stAng="16200000" swAng="-5400000"/>
                    <a:lnTo>
                      <a:pt x="0" y="109945"/>
                    </a:lnTo>
                    <a:arcTo wR="3600" hR="3600" stAng="10800000" swAng="-5400000"/>
                    <a:lnTo>
                      <a:pt x="18000" y="1135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065240" y="2292480"/>
                <a:ext cx="774720" cy="3222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517760" y="1859040"/>
                <a:ext cx="758880" cy="7412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114560" y="2340000"/>
                <a:ext cx="257040" cy="758880"/>
              </a:xfrm>
              <a:custGeom>
                <a:avLst/>
                <a:gdLst>
                  <a:gd name="textAreaLeft" fmla="*/ 12240 w 257040"/>
                  <a:gd name="textAreaRight" fmla="*/ 244800 w 257040"/>
                  <a:gd name="textAreaTop" fmla="*/ 12240 h 758880"/>
                  <a:gd name="textAreaBottom" fmla="*/ 746640 h 758880"/>
                </a:gdLst>
                <a:ahLst/>
                <a:rect l="textAreaLeft" t="textAreaTop" r="textAreaRight" b="textAreaBottom"/>
                <a:pathLst>
                  <a:path w="21600" h="63712">
                    <a:moveTo>
                      <a:pt x="3600" y="0"/>
                    </a:moveTo>
                    <a:arcTo wR="3600" hR="3600" stAng="16200000" swAng="-5400000"/>
                    <a:lnTo>
                      <a:pt x="0" y="60112"/>
                    </a:lnTo>
                    <a:arcTo wR="3600" hR="3600" stAng="10800000" swAng="-5400000"/>
                    <a:lnTo>
                      <a:pt x="18000" y="6371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2" name=""/>
          <p:cNvGrpSpPr/>
          <p:nvPr/>
        </p:nvGrpSpPr>
        <p:grpSpPr>
          <a:xfrm>
            <a:off x="713160" y="1557360"/>
            <a:ext cx="2775960" cy="2365200"/>
            <a:chOff x="713160" y="1557360"/>
            <a:chExt cx="2775960" cy="2365200"/>
          </a:xfrm>
        </p:grpSpPr>
        <p:sp>
          <p:nvSpPr>
            <p:cNvPr id="823" name=""/>
            <p:cNvSpPr/>
            <p:nvPr/>
          </p:nvSpPr>
          <p:spPr>
            <a:xfrm>
              <a:off x="1182240" y="187812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91960" y="1876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922040" y="1785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69880" y="1789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1912680" y="2236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922040" y="17859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39680" y="222264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904840" y="2511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28480" y="1557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007640" y="1785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455480" y="1789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998280" y="2236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74320" y="2816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084040" y="2814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2040" y="2703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369880" y="2706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1912680" y="315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455480" y="36180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007640" y="269244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61920" y="35924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007640" y="2703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455480" y="2706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998280" y="315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3160" y="299556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1012680" y="4368960"/>
            <a:ext cx="4908600" cy="696600"/>
            <a:chOff x="1012680" y="4368960"/>
            <a:chExt cx="4908600" cy="696600"/>
          </a:xfrm>
        </p:grpSpPr>
        <p:sp>
          <p:nvSpPr>
            <p:cNvPr id="848" name=""/>
            <p:cNvSpPr/>
            <p:nvPr/>
          </p:nvSpPr>
          <p:spPr>
            <a:xfrm>
              <a:off x="1012680" y="4368960"/>
              <a:ext cx="447048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spcBef>
                  <a:spcPts val="11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 prime implicants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D, AB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, ACD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C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803840" y="4908600"/>
              <a:ext cx="11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to illustrate te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6003000" y="4130640"/>
            <a:ext cx="2775960" cy="2365200"/>
            <a:chOff x="6003000" y="4130640"/>
            <a:chExt cx="2775960" cy="2365200"/>
          </a:xfrm>
        </p:grpSpPr>
        <p:sp>
          <p:nvSpPr>
            <p:cNvPr id="852" name=""/>
            <p:cNvSpPr/>
            <p:nvPr/>
          </p:nvSpPr>
          <p:spPr>
            <a:xfrm>
              <a:off x="6472080" y="445140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381800" y="4449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11880" y="4359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659720" y="4362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202520" y="4809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11880" y="43592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129520" y="47959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194680" y="50846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618320" y="41306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297480" y="4359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45320" y="4362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6288120" y="4809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464160" y="53895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73880" y="53877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211880" y="52768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659720" y="5280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7202520" y="57276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45320" y="61912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297480" y="526572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51760" y="6165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297480" y="52768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45320" y="5280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6288120" y="57276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003000" y="55688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3223800" y="1717560"/>
            <a:ext cx="5447160" cy="841320"/>
            <a:chOff x="3223800" y="1717560"/>
            <a:chExt cx="5447160" cy="841320"/>
          </a:xfrm>
        </p:grpSpPr>
        <p:sp>
          <p:nvSpPr>
            <p:cNvPr id="877" name=""/>
            <p:cNvSpPr/>
            <p:nvPr/>
          </p:nvSpPr>
          <p:spPr>
            <a:xfrm>
              <a:off x="4200480" y="1717560"/>
              <a:ext cx="44704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spcBef>
                  <a:spcPts val="11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 prime implicants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, B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, AC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, AB, B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D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223800" y="2257560"/>
              <a:ext cx="1312920" cy="30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4202280" y="3222720"/>
            <a:ext cx="36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cover: AC + BC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6073560" y="2371320"/>
            <a:ext cx="1532160" cy="605160"/>
            <a:chOff x="6073560" y="2371320"/>
            <a:chExt cx="1532160" cy="605160"/>
          </a:xfrm>
        </p:grpSpPr>
        <p:sp>
          <p:nvSpPr>
            <p:cNvPr id="881" name=""/>
            <p:cNvSpPr/>
            <p:nvPr/>
          </p:nvSpPr>
          <p:spPr>
            <a:xfrm flipH="1" flipV="1">
              <a:off x="6073560" y="2371320"/>
              <a:ext cx="43020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75680" y="260820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ss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6343560" y="4406760"/>
            <a:ext cx="1727280" cy="1727280"/>
            <a:chOff x="6343560" y="4406760"/>
            <a:chExt cx="1727280" cy="1727280"/>
          </a:xfrm>
        </p:grpSpPr>
        <p:sp>
          <p:nvSpPr>
            <p:cNvPr id="884" name=""/>
            <p:cNvSpPr/>
            <p:nvPr/>
          </p:nvSpPr>
          <p:spPr>
            <a:xfrm>
              <a:off x="7280280" y="4406760"/>
              <a:ext cx="338040" cy="808200"/>
            </a:xfrm>
            <a:custGeom>
              <a:avLst/>
              <a:gdLst>
                <a:gd name="textAreaLeft" fmla="*/ 16200 w 338040"/>
                <a:gd name="textAreaRight" fmla="*/ 321840 w 338040"/>
                <a:gd name="textAreaTop" fmla="*/ 16200 h 808200"/>
                <a:gd name="textAreaBottom" fmla="*/ 792000 h 808200"/>
              </a:gdLst>
              <a:ahLst/>
              <a:rect l="textAreaLeft" t="textAreaTop" r="textAreaRight" b="textAreaBottom"/>
              <a:pathLst>
                <a:path w="21600" h="51610">
                  <a:moveTo>
                    <a:pt x="3600" y="0"/>
                  </a:moveTo>
                  <a:arcTo wR="3600" hR="3600" stAng="16200000" swAng="-5400000"/>
                  <a:lnTo>
                    <a:pt x="0" y="48010"/>
                  </a:lnTo>
                  <a:arcTo wR="3600" hR="3600" stAng="10800000" swAng="-5400000"/>
                  <a:lnTo>
                    <a:pt x="18000" y="5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343560" y="4859280"/>
              <a:ext cx="82404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796080" y="5327640"/>
              <a:ext cx="355680" cy="80640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806400"/>
                <a:gd name="textAreaBottom" fmla="*/ 789120 h 806400"/>
              </a:gdLst>
              <a:ahLst/>
              <a:rect l="textAreaLeft" t="textAreaTop" r="textAreaRight" b="textAreaBottom"/>
              <a:pathLst>
                <a:path w="21600" h="48944">
                  <a:moveTo>
                    <a:pt x="3600" y="0"/>
                  </a:moveTo>
                  <a:arcTo wR="3600" hR="3600" stAng="16200000" swAng="-5400000"/>
                  <a:lnTo>
                    <a:pt x="0" y="45344"/>
                  </a:lnTo>
                  <a:arcTo wR="3600" hR="3600" stAng="10800000" swAng="-5400000"/>
                  <a:lnTo>
                    <a:pt x="18000" y="489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280280" y="5343480"/>
              <a:ext cx="79056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11920" y="4924440"/>
              <a:ext cx="758880" cy="725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781200" y="590076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cover: 4 essential implic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917640" y="5035680"/>
            <a:ext cx="3168360" cy="682560"/>
            <a:chOff x="917640" y="5035680"/>
            <a:chExt cx="3168360" cy="682560"/>
          </a:xfrm>
        </p:grpSpPr>
        <p:grpSp>
          <p:nvGrpSpPr>
            <p:cNvPr id="891" name=""/>
            <p:cNvGrpSpPr/>
            <p:nvPr/>
          </p:nvGrpSpPr>
          <p:grpSpPr>
            <a:xfrm>
              <a:off x="2085840" y="5035680"/>
              <a:ext cx="2000160" cy="419040"/>
              <a:chOff x="2085840" y="5035680"/>
              <a:chExt cx="2000160" cy="419040"/>
            </a:xfrm>
          </p:grpSpPr>
          <p:sp>
            <p:nvSpPr>
              <p:cNvPr id="892" name=""/>
              <p:cNvSpPr/>
              <p:nvPr/>
            </p:nvSpPr>
            <p:spPr>
              <a:xfrm flipV="1">
                <a:off x="2085840" y="5047920"/>
                <a:ext cx="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2091960" y="5047920"/>
                <a:ext cx="62244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2091960" y="5047920"/>
                <a:ext cx="128268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V="1">
                <a:off x="2104920" y="5035680"/>
                <a:ext cx="1981080" cy="41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917640" y="534996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ss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C6EA-5BDB-41B6-BBCF-653FEDB1CCB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 for two-level simpl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5183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: minimum sum-of-products expression from a Karnaugh ma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: choose an element of the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: find "maximal" groupings of 1s and Xs adjacent to that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top/bottom row, left/right column, and corner adjac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forms prime implicants  (number of elements always a power of 2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Steps 1 and 2 to find all prime implic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: revisit the 1s in the K-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vered by single prime implicant, it is essential, and participates in final c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s covered by essential prime implicant do not need to be revisi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4: if there remain 1s not covered by essential prime implic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smallest number of prime implicants that cover the remaining 1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1D8D-D857-4FDC-A6D8-C017BA3C93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"/>
          <p:cNvGrpSpPr/>
          <p:nvPr/>
        </p:nvGrpSpPr>
        <p:grpSpPr>
          <a:xfrm>
            <a:off x="474840" y="3968640"/>
            <a:ext cx="2795400" cy="2598840"/>
            <a:chOff x="474840" y="3968640"/>
            <a:chExt cx="2795400" cy="2598840"/>
          </a:xfrm>
        </p:grpSpPr>
        <p:sp>
          <p:nvSpPr>
            <p:cNvPr id="900" name=""/>
            <p:cNvSpPr/>
            <p:nvPr/>
          </p:nvSpPr>
          <p:spPr>
            <a:xfrm>
              <a:off x="2146320" y="4202280"/>
              <a:ext cx="474480" cy="450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273320" y="4272120"/>
              <a:ext cx="355320" cy="1726920"/>
            </a:xfrm>
            <a:custGeom>
              <a:avLst/>
              <a:gdLst>
                <a:gd name="textAreaLeft" fmla="*/ 17280 w 355320"/>
                <a:gd name="textAreaRight" fmla="*/ 338040 w 355320"/>
                <a:gd name="textAreaTop" fmla="*/ 17280 h 1726920"/>
                <a:gd name="textAreaBottom" fmla="*/ 1709640 h 1726920"/>
              </a:gdLst>
              <a:ahLst/>
              <a:rect l="textAreaLeft" t="textAreaTop" r="textAreaRight" b="textAreaBottom"/>
              <a:pathLst>
                <a:path w="21600" h="104896">
                  <a:moveTo>
                    <a:pt x="3600" y="0"/>
                  </a:moveTo>
                  <a:arcTo wR="3600" hR="3600" stAng="16200000" swAng="-5400000"/>
                  <a:lnTo>
                    <a:pt x="0" y="101296"/>
                  </a:lnTo>
                  <a:arcTo wR="3600" hR="3600" stAng="10800000" swAng="-5400000"/>
                  <a:lnTo>
                    <a:pt x="18000" y="104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52480" y="4303800"/>
              <a:ext cx="71136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312920" y="4713120"/>
              <a:ext cx="774720" cy="808200"/>
            </a:xfrm>
            <a:custGeom>
              <a:avLst/>
              <a:gdLst>
                <a:gd name="textAreaLeft" fmla="*/ 37800 w 774720"/>
                <a:gd name="textAreaRight" fmla="*/ 736920 w 774720"/>
                <a:gd name="textAreaTop" fmla="*/ 37800 h 808200"/>
                <a:gd name="textAreaBottom" fmla="*/ 770400 h 808200"/>
              </a:gdLst>
              <a:ahLst/>
              <a:rect l="textAreaLeft" t="textAreaTop" r="textAreaRight" b="textAreaBottom"/>
              <a:pathLst>
                <a:path w="21600" h="22533">
                  <a:moveTo>
                    <a:pt x="3600" y="0"/>
                  </a:moveTo>
                  <a:arcTo wR="3600" hR="3600" stAng="16200000" swAng="-5400000"/>
                  <a:lnTo>
                    <a:pt x="0" y="18933"/>
                  </a:lnTo>
                  <a:arcTo wR="3600" hR="3600" stAng="10800000" swAng="-5400000"/>
                  <a:lnTo>
                    <a:pt x="18000" y="225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81280" y="4745160"/>
              <a:ext cx="758880" cy="339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494280" y="3968640"/>
              <a:ext cx="2775960" cy="2365200"/>
              <a:chOff x="494280" y="3968640"/>
              <a:chExt cx="2775960" cy="2365200"/>
            </a:xfrm>
          </p:grpSpPr>
          <p:sp>
            <p:nvSpPr>
              <p:cNvPr id="906" name=""/>
              <p:cNvSpPr/>
              <p:nvPr/>
            </p:nvSpPr>
            <p:spPr>
              <a:xfrm>
                <a:off x="963360" y="428940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873080" y="42876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703160" y="41972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151000" y="42004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1693800" y="4647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703160" y="41972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620800" y="463392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685960" y="492264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109600" y="396864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8760" y="41972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236600" y="42004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>
                <a:off x="779400" y="4647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955440" y="52275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865160" y="52257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703160" y="51148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151000" y="511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>
                <a:off x="1693800" y="55656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236600" y="60292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88760" y="510372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43040" y="60037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88760" y="51148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236600" y="511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779400" y="55656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94280" y="540684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474840" y="6237360"/>
              <a:ext cx="2349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Tahoma"/>
                </a:rPr>
                <a:t>   </a:t>
              </a:r>
              <a:r>
                <a:rPr b="1" lang="en-US" sz="1400" spc="-1" strike="noStrike">
                  <a:solidFill>
                    <a:srgbClr val="009900"/>
                  </a:solidFill>
                  <a:latin typeface="Tahoma"/>
                </a:rPr>
                <a:t>3 primes around AB'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2674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 for two-level simplification (example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513360" y="1440000"/>
            <a:ext cx="2775960" cy="2365200"/>
            <a:chOff x="513360" y="1440000"/>
            <a:chExt cx="2775960" cy="2365200"/>
          </a:xfrm>
        </p:grpSpPr>
        <p:sp>
          <p:nvSpPr>
            <p:cNvPr id="933" name=""/>
            <p:cNvSpPr/>
            <p:nvPr/>
          </p:nvSpPr>
          <p:spPr>
            <a:xfrm>
              <a:off x="982440" y="176076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92160" y="17589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722240" y="1668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70080" y="1671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1712880" y="2119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22240" y="1668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639880" y="210528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05040" y="2394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28680" y="1440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07840" y="1668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255680" y="1671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798480" y="2119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974520" y="2698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884240" y="26971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22240" y="2586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170080" y="25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1712880" y="3036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55680" y="3500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07840" y="257508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662120" y="3475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07840" y="2586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255680" y="25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798480" y="3036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13360" y="28782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209760" y="1438200"/>
            <a:ext cx="2955960" cy="2579760"/>
            <a:chOff x="3209760" y="1438200"/>
            <a:chExt cx="2955960" cy="2579760"/>
          </a:xfrm>
        </p:grpSpPr>
        <p:sp>
          <p:nvSpPr>
            <p:cNvPr id="958" name=""/>
            <p:cNvSpPr/>
            <p:nvPr/>
          </p:nvSpPr>
          <p:spPr>
            <a:xfrm>
              <a:off x="3209760" y="3687840"/>
              <a:ext cx="2895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2 primes around A'B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127400" y="1673280"/>
              <a:ext cx="468360" cy="436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3389760" y="1438200"/>
              <a:ext cx="2775960" cy="2365200"/>
              <a:chOff x="3389760" y="1438200"/>
              <a:chExt cx="2775960" cy="2365200"/>
            </a:xfrm>
          </p:grpSpPr>
          <p:sp>
            <p:nvSpPr>
              <p:cNvPr id="961" name=""/>
              <p:cNvSpPr/>
              <p:nvPr/>
            </p:nvSpPr>
            <p:spPr>
              <a:xfrm>
                <a:off x="3858840" y="17589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768560" y="1757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59864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04648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458928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598640" y="16668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516280" y="21034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581440" y="2392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005080" y="1438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68424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13208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367488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850920" y="26971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760640" y="2695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59864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04648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458928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132080" y="34988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684240" y="25732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538520" y="3473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68424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13208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367488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389760" y="28764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5" name=""/>
          <p:cNvGrpSpPr/>
          <p:nvPr/>
        </p:nvGrpSpPr>
        <p:grpSpPr>
          <a:xfrm>
            <a:off x="3755880" y="1724040"/>
            <a:ext cx="776520" cy="1727280"/>
            <a:chOff x="3755880" y="1724040"/>
            <a:chExt cx="776520" cy="1727280"/>
          </a:xfrm>
        </p:grpSpPr>
        <p:sp>
          <p:nvSpPr>
            <p:cNvPr id="986" name=""/>
            <p:cNvSpPr/>
            <p:nvPr/>
          </p:nvSpPr>
          <p:spPr>
            <a:xfrm>
              <a:off x="4176720" y="172404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55880" y="1755720"/>
              <a:ext cx="71136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6266520" y="1438200"/>
            <a:ext cx="2775960" cy="2579760"/>
            <a:chOff x="6266520" y="1438200"/>
            <a:chExt cx="2775960" cy="2579760"/>
          </a:xfrm>
        </p:grpSpPr>
        <p:sp>
          <p:nvSpPr>
            <p:cNvPr id="989" name=""/>
            <p:cNvSpPr/>
            <p:nvPr/>
          </p:nvSpPr>
          <p:spPr>
            <a:xfrm>
              <a:off x="6380280" y="3687840"/>
              <a:ext cx="2260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2 primes around AB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480440" y="2116080"/>
              <a:ext cx="446040" cy="469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6266520" y="1438200"/>
              <a:ext cx="2775960" cy="2365200"/>
              <a:chOff x="6266520" y="1438200"/>
              <a:chExt cx="2775960" cy="2365200"/>
            </a:xfrm>
          </p:grpSpPr>
          <p:sp>
            <p:nvSpPr>
              <p:cNvPr id="992" name=""/>
              <p:cNvSpPr/>
              <p:nvPr/>
            </p:nvSpPr>
            <p:spPr>
              <a:xfrm>
                <a:off x="6735600" y="17589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45320" y="1757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47540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92324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746604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475400" y="16668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393040" y="21034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458200" y="2392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881840" y="1438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56100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00884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655164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727680" y="26971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637400" y="2695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47540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92324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>
                <a:off x="746604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008840" y="34988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61000" y="25732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15280" y="3473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56100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00884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655164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266520" y="28764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7045200" y="174132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624720" y="1773360"/>
              <a:ext cx="71100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085160" y="2182680"/>
            <a:ext cx="1226880" cy="808200"/>
            <a:chOff x="7085160" y="2182680"/>
            <a:chExt cx="1226880" cy="808200"/>
          </a:xfrm>
        </p:grpSpPr>
        <p:sp>
          <p:nvSpPr>
            <p:cNvPr id="1019" name=""/>
            <p:cNvSpPr/>
            <p:nvPr/>
          </p:nvSpPr>
          <p:spPr>
            <a:xfrm>
              <a:off x="7085160" y="2182680"/>
              <a:ext cx="774720" cy="808200"/>
            </a:xfrm>
            <a:custGeom>
              <a:avLst/>
              <a:gdLst>
                <a:gd name="textAreaLeft" fmla="*/ 37800 w 774720"/>
                <a:gd name="textAreaRight" fmla="*/ 736920 w 774720"/>
                <a:gd name="textAreaTop" fmla="*/ 37800 h 808200"/>
                <a:gd name="textAreaBottom" fmla="*/ 770400 h 808200"/>
              </a:gdLst>
              <a:ahLst/>
              <a:rect l="textAreaLeft" t="textAreaTop" r="textAreaRight" b="textAreaBottom"/>
              <a:pathLst>
                <a:path w="21600" h="22533">
                  <a:moveTo>
                    <a:pt x="3600" y="0"/>
                  </a:moveTo>
                  <a:arcTo wR="3600" hR="3600" stAng="16200000" swAng="-5400000"/>
                  <a:lnTo>
                    <a:pt x="0" y="18933"/>
                  </a:lnTo>
                  <a:arcTo wR="3600" hR="3600" stAng="10800000" swAng="-5400000"/>
                  <a:lnTo>
                    <a:pt x="18000" y="225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553160" y="2214720"/>
              <a:ext cx="758880" cy="339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6231600" y="3957120"/>
            <a:ext cx="2775960" cy="2610360"/>
            <a:chOff x="6231600" y="3957120"/>
            <a:chExt cx="2775960" cy="2610360"/>
          </a:xfrm>
        </p:grpSpPr>
        <p:sp>
          <p:nvSpPr>
            <p:cNvPr id="1022" name=""/>
            <p:cNvSpPr/>
            <p:nvPr/>
          </p:nvSpPr>
          <p:spPr>
            <a:xfrm>
              <a:off x="6365880" y="6237360"/>
              <a:ext cx="2209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minimum cover (3 prim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20000" y="427500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16200000">
              <a:off x="7842240" y="4151160"/>
              <a:ext cx="56520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rot="16200000">
              <a:off x="7835760" y="5727600"/>
              <a:ext cx="56520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 rot="16200000">
              <a:off x="8020440" y="5962320"/>
              <a:ext cx="209520" cy="45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16200000">
              <a:off x="8027640" y="3836520"/>
              <a:ext cx="20988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6231600" y="3965400"/>
              <a:ext cx="2775960" cy="2365200"/>
              <a:chOff x="6231600" y="3965400"/>
              <a:chExt cx="2775960" cy="2365200"/>
            </a:xfrm>
          </p:grpSpPr>
          <p:sp>
            <p:nvSpPr>
              <p:cNvPr id="1029" name=""/>
              <p:cNvSpPr/>
              <p:nvPr/>
            </p:nvSpPr>
            <p:spPr>
              <a:xfrm>
                <a:off x="6700680" y="42861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610400" y="42843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40480" y="4194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888320" y="4197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7431120" y="46447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40480" y="41940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358120" y="46306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423280" y="49194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846920" y="39654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526080" y="4194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973920" y="4197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6516720" y="46447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692760" y="5224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602480" y="52225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440480" y="51116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888320" y="5114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7431120" y="55623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973920" y="60260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526080" y="51004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80360" y="60004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526080" y="51116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973920" y="5114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6516720" y="55623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231600" y="54036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3" name=""/>
          <p:cNvSpPr/>
          <p:nvPr/>
        </p:nvSpPr>
        <p:spPr>
          <a:xfrm>
            <a:off x="7499520" y="4735440"/>
            <a:ext cx="758520" cy="339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362760" y="3957120"/>
            <a:ext cx="2775960" cy="2610360"/>
            <a:chOff x="3362760" y="3957120"/>
            <a:chExt cx="2775960" cy="2610360"/>
          </a:xfrm>
        </p:grpSpPr>
        <p:grpSp>
          <p:nvGrpSpPr>
            <p:cNvPr id="1055" name=""/>
            <p:cNvGrpSpPr/>
            <p:nvPr/>
          </p:nvGrpSpPr>
          <p:grpSpPr>
            <a:xfrm>
              <a:off x="3362760" y="3957120"/>
              <a:ext cx="2775960" cy="2373840"/>
              <a:chOff x="3362760" y="3957120"/>
              <a:chExt cx="2775960" cy="2373840"/>
            </a:xfrm>
          </p:grpSpPr>
          <p:sp>
            <p:nvSpPr>
              <p:cNvPr id="1056" name=""/>
              <p:cNvSpPr/>
              <p:nvPr/>
            </p:nvSpPr>
            <p:spPr>
              <a:xfrm>
                <a:off x="4151160" y="4275000"/>
                <a:ext cx="355680" cy="1727280"/>
              </a:xfrm>
              <a:custGeom>
                <a:avLst/>
                <a:gdLst>
                  <a:gd name="textAreaLeft" fmla="*/ 17280 w 355680"/>
                  <a:gd name="textAreaRight" fmla="*/ 338400 w 355680"/>
                  <a:gd name="textAreaTop" fmla="*/ 17280 h 1727280"/>
                  <a:gd name="textAreaBottom" fmla="*/ 1710000 h 1727280"/>
                </a:gdLst>
                <a:ahLst/>
                <a:rect l="textAreaLeft" t="textAreaTop" r="textAreaRight" b="textAreaBottom"/>
                <a:pathLst>
                  <a:path w="21600" h="104811">
                    <a:moveTo>
                      <a:pt x="3600" y="0"/>
                    </a:moveTo>
                    <a:arcTo wR="3600" hR="3600" stAng="16200000" swAng="-5400000"/>
                    <a:lnTo>
                      <a:pt x="0" y="101211"/>
                    </a:lnTo>
                    <a:arcTo wR="3600" hR="3600" stAng="10800000" swAng="-5400000"/>
                    <a:lnTo>
                      <a:pt x="18000" y="1048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6200000">
                <a:off x="4973760" y="415116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 rot="16200000">
                <a:off x="4967280" y="572760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 rot="16200000">
                <a:off x="5153040" y="596268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6200000">
                <a:off x="5159160" y="3836520"/>
                <a:ext cx="20988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1" name=""/>
              <p:cNvGrpSpPr/>
              <p:nvPr/>
            </p:nvGrpSpPr>
            <p:grpSpPr>
              <a:xfrm>
                <a:off x="3362760" y="3965760"/>
                <a:ext cx="2775960" cy="2365200"/>
                <a:chOff x="3362760" y="3965760"/>
                <a:chExt cx="2775960" cy="236520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3831840" y="4286520"/>
                  <a:ext cx="825840" cy="81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741560" y="428472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571640" y="419436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5019480" y="419760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flipH="1">
                  <a:off x="4562280" y="464508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571640" y="419436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5489280" y="4631040"/>
                  <a:ext cx="0" cy="90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554440" y="491976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978080" y="396576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3657240" y="419436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105080" y="419760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H="1">
                  <a:off x="3647880" y="464508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3823920" y="522468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733640" y="522288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571640" y="511200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5019480" y="511524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>
                  <a:off x="4562280" y="556272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105080" y="602640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657240" y="5100840"/>
                  <a:ext cx="0" cy="925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511520" y="600084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3657240" y="511200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105080" y="511524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H="1">
                  <a:off x="3647880" y="556272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362760" y="54039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6" name=""/>
            <p:cNvSpPr/>
            <p:nvPr/>
          </p:nvSpPr>
          <p:spPr>
            <a:xfrm>
              <a:off x="3687840" y="6237360"/>
              <a:ext cx="1816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 essential pr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494280" y="3954600"/>
            <a:ext cx="2775960" cy="2382480"/>
            <a:chOff x="494280" y="3954600"/>
            <a:chExt cx="2775960" cy="2382480"/>
          </a:xfrm>
        </p:grpSpPr>
        <p:grpSp>
          <p:nvGrpSpPr>
            <p:cNvPr id="1088" name=""/>
            <p:cNvGrpSpPr/>
            <p:nvPr/>
          </p:nvGrpSpPr>
          <p:grpSpPr>
            <a:xfrm>
              <a:off x="531720" y="3954600"/>
              <a:ext cx="2335320" cy="2334960"/>
              <a:chOff x="531720" y="3954600"/>
              <a:chExt cx="2335320" cy="2334960"/>
            </a:xfrm>
          </p:grpSpPr>
          <p:sp>
            <p:nvSpPr>
              <p:cNvPr id="1089" name=""/>
              <p:cNvSpPr/>
              <p:nvPr/>
            </p:nvSpPr>
            <p:spPr>
              <a:xfrm>
                <a:off x="2241720" y="4267080"/>
                <a:ext cx="247320" cy="781200"/>
              </a:xfrm>
              <a:custGeom>
                <a:avLst/>
                <a:gdLst>
                  <a:gd name="textAreaLeft" fmla="*/ 11880 w 247320"/>
                  <a:gd name="textAreaRight" fmla="*/ 235440 w 247320"/>
                  <a:gd name="textAreaTop" fmla="*/ 11880 h 781200"/>
                  <a:gd name="textAreaBottom" fmla="*/ 769320 h 781200"/>
                </a:gdLst>
                <a:ahLst/>
                <a:rect l="textAreaLeft" t="textAreaTop" r="textAreaRight" b="textAreaBottom"/>
                <a:pathLst>
                  <a:path w="21600" h="68159">
                    <a:moveTo>
                      <a:pt x="3600" y="0"/>
                    </a:moveTo>
                    <a:arcTo wR="3600" hR="3600" stAng="16200000" swAng="-5400000"/>
                    <a:lnTo>
                      <a:pt x="0" y="64559"/>
                    </a:lnTo>
                    <a:arcTo wR="3600" hR="3600" stAng="10800000" swAng="-5400000"/>
                    <a:lnTo>
                      <a:pt x="18000" y="6815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628560" y="424188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531720" y="421020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205000" y="424800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657520" y="421632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16200000">
                <a:off x="2095560" y="4147560"/>
                <a:ext cx="56484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 rot="16200000">
                <a:off x="2089080" y="572436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16200000">
                <a:off x="2281320" y="383400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H="1" rot="16200000">
                <a:off x="2274840" y="595944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494280" y="3971880"/>
              <a:ext cx="2775960" cy="2365200"/>
              <a:chOff x="494280" y="3971880"/>
              <a:chExt cx="2775960" cy="2365200"/>
            </a:xfrm>
          </p:grpSpPr>
          <p:sp>
            <p:nvSpPr>
              <p:cNvPr id="1099" name=""/>
              <p:cNvSpPr/>
              <p:nvPr/>
            </p:nvSpPr>
            <p:spPr>
              <a:xfrm>
                <a:off x="963360" y="429264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873080" y="42908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703160" y="42004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151000" y="42037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1693800" y="46512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703160" y="42004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620800" y="463716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685960" y="49258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109600" y="39718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88760" y="42004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236600" y="42037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779400" y="46512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955440" y="52308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865160" y="52290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703160" y="51181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151000" y="51213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H="1">
                <a:off x="1693800" y="556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236600" y="60325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88760" y="510696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643040" y="600696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88760" y="51181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236600" y="51213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>
                <a:off x="779400" y="556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94280" y="541008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6502-7E94-4C30-A914-BA3A94EF7E2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397520" y="2133720"/>
            <a:ext cx="2775960" cy="2365200"/>
            <a:chOff x="1397520" y="2133720"/>
            <a:chExt cx="2775960" cy="2365200"/>
          </a:xfrm>
        </p:grpSpPr>
        <p:sp>
          <p:nvSpPr>
            <p:cNvPr id="1125" name=""/>
            <p:cNvSpPr/>
            <p:nvPr/>
          </p:nvSpPr>
          <p:spPr>
            <a:xfrm>
              <a:off x="1866600" y="245448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776320" y="24526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606400" y="2362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054240" y="2365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597040" y="2813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606400" y="2362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524040" y="27990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589200" y="3087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012840" y="2133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692000" y="2362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139840" y="2365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1682640" y="2813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58680" y="3392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68400" y="33908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06400" y="3279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054240" y="3283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2597040" y="3730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39840" y="41943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692000" y="326880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546280" y="41688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92000" y="3279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139840" y="3283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1682640" y="3730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397520" y="3571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2165400" y="3100320"/>
            <a:ext cx="3400200" cy="1011240"/>
            <a:chOff x="2165400" y="3100320"/>
            <a:chExt cx="3400200" cy="1011240"/>
          </a:xfrm>
        </p:grpSpPr>
        <p:sp>
          <p:nvSpPr>
            <p:cNvPr id="1150" name=""/>
            <p:cNvSpPr/>
            <p:nvPr/>
          </p:nvSpPr>
          <p:spPr>
            <a:xfrm>
              <a:off x="2165400" y="334476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084640" y="3100320"/>
              <a:ext cx="4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ahoma"/>
                </a:rPr>
                <a:t>B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2189160" y="2911320"/>
            <a:ext cx="4258080" cy="766800"/>
            <a:chOff x="2189160" y="2911320"/>
            <a:chExt cx="4258080" cy="766800"/>
          </a:xfrm>
        </p:grpSpPr>
        <p:sp>
          <p:nvSpPr>
            <p:cNvPr id="1153" name=""/>
            <p:cNvSpPr/>
            <p:nvPr/>
          </p:nvSpPr>
          <p:spPr>
            <a:xfrm>
              <a:off x="2189160" y="291132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883840" y="3100320"/>
              <a:ext cx="5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B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2692440" y="2454120"/>
            <a:ext cx="4557600" cy="1652760"/>
            <a:chOff x="2692440" y="2454120"/>
            <a:chExt cx="4557600" cy="1652760"/>
          </a:xfrm>
        </p:grpSpPr>
        <p:sp>
          <p:nvSpPr>
            <p:cNvPr id="1156" name=""/>
            <p:cNvSpPr/>
            <p:nvPr/>
          </p:nvSpPr>
          <p:spPr>
            <a:xfrm>
              <a:off x="2692440" y="2454120"/>
              <a:ext cx="295200" cy="1652760"/>
            </a:xfrm>
            <a:custGeom>
              <a:avLst/>
              <a:gdLst>
                <a:gd name="textAreaLeft" fmla="*/ 14400 w 295200"/>
                <a:gd name="textAreaRight" fmla="*/ 280800 w 295200"/>
                <a:gd name="textAreaTop" fmla="*/ 14400 h 1652760"/>
                <a:gd name="textAreaBottom" fmla="*/ 1638360 h 1652760"/>
              </a:gdLst>
              <a:ahLst/>
              <a:rect l="textAreaLeft" t="textAreaTop" r="textAreaRight" b="textAreaBottom"/>
              <a:pathLst>
                <a:path w="21600" h="120813">
                  <a:moveTo>
                    <a:pt x="3600" y="0"/>
                  </a:moveTo>
                  <a:arcTo wR="3600" hR="3600" stAng="16200000" swAng="-5400000"/>
                  <a:lnTo>
                    <a:pt x="0" y="117213"/>
                  </a:lnTo>
                  <a:arcTo wR="3600" hR="3600" stAng="10800000" swAng="-5400000"/>
                  <a:lnTo>
                    <a:pt x="18000" y="1208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97440" y="3100320"/>
              <a:ext cx="5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ahoma"/>
                </a:rPr>
                <a:t>AB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2651040" y="2871720"/>
            <a:ext cx="5559480" cy="596880"/>
            <a:chOff x="2651040" y="2871720"/>
            <a:chExt cx="5559480" cy="596880"/>
          </a:xfrm>
        </p:grpSpPr>
        <p:sp>
          <p:nvSpPr>
            <p:cNvPr id="1159" name=""/>
            <p:cNvSpPr/>
            <p:nvPr/>
          </p:nvSpPr>
          <p:spPr>
            <a:xfrm>
              <a:off x="7505640" y="31003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AC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51040" y="2871720"/>
              <a:ext cx="79704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1746360" y="3100320"/>
            <a:ext cx="3017160" cy="1019160"/>
            <a:chOff x="1746360" y="3100320"/>
            <a:chExt cx="3017160" cy="1019160"/>
          </a:xfrm>
        </p:grpSpPr>
        <p:sp>
          <p:nvSpPr>
            <p:cNvPr id="1162" name=""/>
            <p:cNvSpPr/>
            <p:nvPr/>
          </p:nvSpPr>
          <p:spPr>
            <a:xfrm>
              <a:off x="4217040" y="310032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00"/>
                  </a:solidFill>
                  <a:latin typeface="Tahoma"/>
                </a:rPr>
                <a:t>C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746360" y="3781440"/>
              <a:ext cx="171108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6747480" y="50356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815440" y="503568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C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592760" y="50356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742800" y="567360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810760" y="567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C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588080" y="5673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424160" y="2092320"/>
            <a:ext cx="7297560" cy="395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all prime implicants for the following K-map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are essential prime implicants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minimum cov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396080" y="2131920"/>
            <a:ext cx="2775960" cy="2365200"/>
            <a:chOff x="1396080" y="2131920"/>
            <a:chExt cx="2775960" cy="2365200"/>
          </a:xfrm>
        </p:grpSpPr>
        <p:sp>
          <p:nvSpPr>
            <p:cNvPr id="1173" name=""/>
            <p:cNvSpPr/>
            <p:nvPr/>
          </p:nvSpPr>
          <p:spPr>
            <a:xfrm>
              <a:off x="1865160" y="245268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774880" y="2450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04960" y="2360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052800" y="23637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2595600" y="2811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04960" y="2360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522600" y="27972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587760" y="3085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011400" y="2131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690560" y="2360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138400" y="23637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1681200" y="2811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857240" y="33908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766960" y="3389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604960" y="32781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052800" y="3281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2595600" y="3728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138400" y="41925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690560" y="326700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544840" y="4167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0560" y="32781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138400" y="3281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1681200" y="3728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396080" y="35701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2CF-B0A6-45AC-9C0B-37EDFD27464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7" name=""/>
          <p:cNvGrpSpPr/>
          <p:nvPr/>
        </p:nvGrpSpPr>
        <p:grpSpPr>
          <a:xfrm>
            <a:off x="6519960" y="1600200"/>
            <a:ext cx="2469600" cy="2273040"/>
            <a:chOff x="6519960" y="1600200"/>
            <a:chExt cx="2469600" cy="2273040"/>
          </a:xfrm>
        </p:grpSpPr>
        <p:sp>
          <p:nvSpPr>
            <p:cNvPr id="1198" name=""/>
            <p:cNvSpPr/>
            <p:nvPr/>
          </p:nvSpPr>
          <p:spPr>
            <a:xfrm>
              <a:off x="7186320" y="18349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186320" y="226692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180200" y="1841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409880" y="184932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403040" y="184284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409520" y="183492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402680" y="181584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084800" y="21970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084800" y="2019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86320" y="32954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186320" y="372744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180200" y="330192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409880" y="330984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403040" y="330336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409520" y="329544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02680" y="327636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47320" y="2598480"/>
              <a:ext cx="13449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440840" y="2592360"/>
              <a:ext cx="1357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523280" y="2584080"/>
              <a:ext cx="12690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503840" y="256536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031240" y="2584080"/>
              <a:ext cx="1767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024760" y="2565360"/>
              <a:ext cx="18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177040" y="2774880"/>
              <a:ext cx="1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8031600" y="2598480"/>
              <a:ext cx="17640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025120" y="2592360"/>
              <a:ext cx="1893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186320" y="30034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86320" y="255888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7180200" y="2552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09520" y="255888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402680" y="255240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409880" y="258588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403040" y="256680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084800" y="26542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82136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9920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995880" y="20509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995880" y="28764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995880" y="342252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723000" y="3429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723000" y="28828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723000" y="205740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723000" y="1600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729120" y="205092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697440" y="2025360"/>
              <a:ext cx="50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729120" y="28764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697440" y="285120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729120" y="342252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697440" y="3396960"/>
              <a:ext cx="50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995880" y="22287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995880" y="360036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900840" y="36068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900840" y="223524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900840" y="160020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906960" y="22287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887880" y="221616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906960" y="36003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887880" y="3587760"/>
              <a:ext cx="504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821360" y="20509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999200" y="25970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993080" y="20574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821360" y="35114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999200" y="29653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993080" y="29718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82468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5880" y="187308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995880" y="26859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532560" y="269244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32560" y="187956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532560" y="160020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538680" y="18730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519960" y="184788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538680" y="26859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519960" y="267336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6450120" y="4343400"/>
            <a:ext cx="2539800" cy="2273040"/>
            <a:chOff x="6450120" y="4343400"/>
            <a:chExt cx="2539800" cy="2273040"/>
          </a:xfrm>
        </p:grpSpPr>
        <p:sp>
          <p:nvSpPr>
            <p:cNvPr id="1272" name=""/>
            <p:cNvSpPr/>
            <p:nvPr/>
          </p:nvSpPr>
          <p:spPr>
            <a:xfrm>
              <a:off x="7021440" y="4520880"/>
              <a:ext cx="2026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475320" y="4482720"/>
              <a:ext cx="13330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513840" y="4510080"/>
              <a:ext cx="129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021800" y="451008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173720" y="47941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173720" y="4616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021800" y="5233680"/>
              <a:ext cx="2023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475680" y="5233680"/>
              <a:ext cx="13327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513480" y="521964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021440" y="5219640"/>
              <a:ext cx="202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173720" y="53402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135560" y="548640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7071840" y="5518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468840" y="5962320"/>
              <a:ext cx="13078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450120" y="5943600"/>
              <a:ext cx="1345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507360" y="5976720"/>
              <a:ext cx="12693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13480" y="5970600"/>
              <a:ext cx="128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015320" y="5976720"/>
              <a:ext cx="1771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009200" y="59706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014960" y="6000480"/>
              <a:ext cx="17748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008840" y="5981760"/>
              <a:ext cx="2026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135560" y="613404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071840" y="6165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7084440" y="6343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177040" y="56451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8177040" y="521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8170560" y="52070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411760" y="521316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392680" y="5207040"/>
              <a:ext cx="4316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412120" y="52275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393040" y="522108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999200" y="5251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808760" y="4705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993080" y="47116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999200" y="5429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808760" y="5429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983280" y="55180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983280" y="63435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887880" y="63500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887880" y="552420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887880" y="4343400"/>
              <a:ext cx="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894360" y="5518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875280" y="55054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894360" y="63435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875280" y="633096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983280" y="4794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983280" y="5340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983280" y="61657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10040" y="6172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710040" y="534672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710040" y="48006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710040" y="43434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716520" y="47941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84840" y="476856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16520" y="5340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684840" y="532764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716520" y="61657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684840" y="614016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983280" y="4616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983280" y="5975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519600" y="598140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519600" y="4622760"/>
              <a:ext cx="0" cy="13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519600" y="434340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526080" y="46162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507000" y="45910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26080" y="59752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07000" y="5962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808760" y="616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999200" y="5619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993080" y="56260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824680" y="5429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072200" y="595620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s of two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-of-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ates to form product terms (minte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ate to form sum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-of-su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ates to form sum terms (maxte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ates to form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069D-84B2-42FF-A72A-7D7DD538F13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6" name=""/>
          <p:cNvGrpSpPr/>
          <p:nvPr/>
        </p:nvGrpSpPr>
        <p:grpSpPr>
          <a:xfrm>
            <a:off x="1536840" y="2717640"/>
            <a:ext cx="2965320" cy="2717640"/>
            <a:chOff x="1536840" y="2717640"/>
            <a:chExt cx="2965320" cy="2717640"/>
          </a:xfrm>
        </p:grpSpPr>
        <p:sp>
          <p:nvSpPr>
            <p:cNvPr id="1347" name=""/>
            <p:cNvSpPr/>
            <p:nvPr/>
          </p:nvSpPr>
          <p:spPr>
            <a:xfrm>
              <a:off x="2330280" y="299052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330280" y="35240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324160" y="29970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04240" y="3017520"/>
              <a:ext cx="4687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597400" y="299844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03880" y="2990160"/>
              <a:ext cx="4690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597040" y="2984400"/>
              <a:ext cx="49500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216160" y="34412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21616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330280" y="474300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330280" y="5276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324160" y="474948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604240" y="4770000"/>
              <a:ext cx="46872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597400" y="475092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603880" y="4743360"/>
              <a:ext cx="4690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597040" y="4724280"/>
              <a:ext cx="4950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54640" y="3919320"/>
              <a:ext cx="161208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635920" y="3900240"/>
              <a:ext cx="16372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743560" y="3891960"/>
              <a:ext cx="152316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24120" y="3872880"/>
              <a:ext cx="15490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353040" y="3891960"/>
              <a:ext cx="202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333960" y="387288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537000" y="41335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353400" y="391932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334320" y="390024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330280" y="440028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330280" y="3866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2324160" y="3860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603880" y="3866400"/>
              <a:ext cx="4690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97040" y="3860640"/>
              <a:ext cx="4950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04240" y="3893760"/>
              <a:ext cx="4687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597400" y="387468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216160" y="39873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092400" y="413352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308400" y="4133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114640" y="3257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114640" y="42480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114640" y="4895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78040" y="490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78040" y="42541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778040" y="326376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778040" y="2717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784160" y="32572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752480" y="323172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784160" y="42480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752480" y="4222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784160" y="48956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752480" y="48830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114640" y="3473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114640" y="5111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994040" y="5117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994040" y="3479400"/>
              <a:ext cx="0" cy="162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94040" y="271764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000160" y="34732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68480" y="3460320"/>
              <a:ext cx="633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000160" y="51116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68480" y="50986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092400" y="325728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08400" y="3917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301920" y="32637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092400" y="500976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308400" y="4349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301920" y="43556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14640" y="3041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14640" y="4019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549440" y="4025520"/>
              <a:ext cx="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549440" y="304776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49440" y="2717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555560" y="304128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536840" y="30160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555560" y="40194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536840" y="4006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98760" y="413352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5483160" y="2717640"/>
            <a:ext cx="3079440" cy="2717640"/>
            <a:chOff x="5483160" y="2717640"/>
            <a:chExt cx="3079440" cy="2717640"/>
          </a:xfrm>
        </p:grpSpPr>
        <p:sp>
          <p:nvSpPr>
            <p:cNvPr id="1421" name=""/>
            <p:cNvSpPr/>
            <p:nvPr/>
          </p:nvSpPr>
          <p:spPr>
            <a:xfrm>
              <a:off x="6276600" y="2990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76600" y="35240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270480" y="29970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575400" y="301752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556320" y="299844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575040" y="299016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555960" y="2984400"/>
              <a:ext cx="50796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083360" y="323172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06428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162480" y="34412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16248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276600" y="4400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276600" y="3866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6270480" y="3860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575040" y="386640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555960" y="3860640"/>
              <a:ext cx="50796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575400" y="389376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556320" y="387468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083360" y="410832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064280" y="410184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162480" y="39873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276600" y="5276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276600" y="4743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6270480" y="4736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575040" y="4743360"/>
              <a:ext cx="46980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555960" y="4724280"/>
              <a:ext cx="50796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575400" y="4770000"/>
              <a:ext cx="4694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556320" y="475092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083360" y="498456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064280" y="496548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702120" y="3891960"/>
              <a:ext cx="1625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696000" y="3872880"/>
              <a:ext cx="16376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791040" y="3919320"/>
              <a:ext cx="153648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784920" y="3900240"/>
              <a:ext cx="15487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413840" y="3919320"/>
              <a:ext cx="2023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394760" y="3900240"/>
              <a:ext cx="2404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413480" y="393012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394400" y="392400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483320" y="387324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546680" y="410184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7470360" y="41335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7495560" y="43495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68840" y="4133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153200" y="41335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60960" y="4895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060960" y="42480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60960" y="3257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724360" y="490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724360" y="42541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724360" y="326376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724360" y="2717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730480" y="32572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98800" y="323172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730480" y="42480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698800" y="4222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730480" y="48956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698800" y="48830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060960" y="5111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060960" y="3473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940360" y="5117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940360" y="3479400"/>
              <a:ext cx="0" cy="162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940360" y="271764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946480" y="34732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914800" y="3460320"/>
              <a:ext cx="633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946480" y="51116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914800" y="50986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368840" y="3917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153200" y="3257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362720" y="32637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368840" y="4349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153200" y="50097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362720" y="43556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060960" y="4019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060960" y="3041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495760" y="4025520"/>
              <a:ext cx="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495760" y="304776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495760" y="2717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501880" y="304128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483160" y="30160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501880" y="40194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483160" y="4006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359560" y="41335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483320" y="430488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368840" y="4349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5" name=""/>
          <p:cNvSpPr/>
          <p:nvPr/>
        </p:nvSpPr>
        <p:spPr>
          <a:xfrm flipV="1">
            <a:off x="6948360" y="1828800"/>
            <a:ext cx="1449360" cy="1138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708600" y="1828800"/>
            <a:ext cx="166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284960" y="2209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8059680" y="2209320"/>
            <a:ext cx="368280" cy="166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ce minterm AND gates with N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 compensating inversion at inputs of OR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D38A-E05C-4778-9AF9-9572B8E88B4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1" name=""/>
          <p:cNvGrpSpPr/>
          <p:nvPr/>
        </p:nvGrpSpPr>
        <p:grpSpPr>
          <a:xfrm>
            <a:off x="682560" y="3892680"/>
            <a:ext cx="2470320" cy="2273040"/>
            <a:chOff x="682560" y="3892680"/>
            <a:chExt cx="2470320" cy="2273040"/>
          </a:xfrm>
        </p:grpSpPr>
        <p:sp>
          <p:nvSpPr>
            <p:cNvPr id="1512" name=""/>
            <p:cNvSpPr/>
            <p:nvPr/>
          </p:nvSpPr>
          <p:spPr>
            <a:xfrm>
              <a:off x="1349280" y="411480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349280" y="45720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343160" y="41212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572480" y="4141800"/>
              <a:ext cx="3924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565640" y="41227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572120" y="4114440"/>
              <a:ext cx="39276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565280" y="41212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247760" y="45021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247760" y="432432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349280" y="558792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349280" y="60325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343160" y="5594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572480" y="5614920"/>
              <a:ext cx="392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565640" y="559584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572120" y="5588280"/>
              <a:ext cx="39276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565280" y="5568840"/>
              <a:ext cx="418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09920" y="4903920"/>
              <a:ext cx="134568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03440" y="4884840"/>
              <a:ext cx="1358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685880" y="4876560"/>
              <a:ext cx="12697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679400" y="4857480"/>
              <a:ext cx="128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193840" y="4876560"/>
              <a:ext cx="1774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187360" y="4857480"/>
              <a:ext cx="190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352600" y="50799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194200" y="4903920"/>
              <a:ext cx="17712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187720" y="4884840"/>
              <a:ext cx="1900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349280" y="529596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3492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13431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572120" y="4851000"/>
              <a:ext cx="39276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56528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572480" y="4878360"/>
              <a:ext cx="392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6564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247760" y="49593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98432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162160" y="5079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171440" y="434340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1714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1714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859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859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859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859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920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60400" y="43178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920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60400" y="515628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920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860400" y="57024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171440" y="45212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1714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0638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0638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0638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069920" y="4521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038240" y="45086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069920" y="5892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038240" y="5892840"/>
              <a:ext cx="633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98432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162160" y="4902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156040" y="4349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984320" y="58165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162160" y="525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156040" y="5264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1714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171440" y="49784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955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955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55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1640" y="4165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825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1640" y="49784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825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98764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3425760" y="3892680"/>
            <a:ext cx="2571840" cy="2273040"/>
            <a:chOff x="3425760" y="3892680"/>
            <a:chExt cx="2571840" cy="2273040"/>
          </a:xfrm>
        </p:grpSpPr>
        <p:sp>
          <p:nvSpPr>
            <p:cNvPr id="1586" name=""/>
            <p:cNvSpPr/>
            <p:nvPr/>
          </p:nvSpPr>
          <p:spPr>
            <a:xfrm>
              <a:off x="4092480" y="4114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092480" y="45720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086360" y="41212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340520" y="4141800"/>
              <a:ext cx="3931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321440" y="412272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340160" y="411444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321080" y="4121280"/>
              <a:ext cx="431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759200" y="4317840"/>
              <a:ext cx="5112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753080" y="432432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990960" y="45021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990960" y="432432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092480" y="52959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0924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40863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340160" y="485100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321080" y="4844880"/>
              <a:ext cx="431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340520" y="48783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321440" y="485928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759200" y="5054760"/>
              <a:ext cx="5112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75308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990960" y="49593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092480" y="60325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09248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V="1">
              <a:off x="4086360" y="5581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340160" y="5588280"/>
              <a:ext cx="3934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321080" y="5568840"/>
              <a:ext cx="4316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0520" y="561492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321440" y="559584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759200" y="5791320"/>
              <a:ext cx="5112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753080" y="5772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442040" y="4876560"/>
              <a:ext cx="13582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435560" y="4857480"/>
              <a:ext cx="13712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518720" y="4903920"/>
              <a:ext cx="12816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512240" y="4884840"/>
              <a:ext cx="129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039640" y="4903920"/>
              <a:ext cx="1764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020200" y="488484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39280" y="4902480"/>
              <a:ext cx="1767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019840" y="4908600"/>
              <a:ext cx="2026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095800" y="485784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46560" y="504828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5082840" y="50799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5108400" y="52578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006880" y="50799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82904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9146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9146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914640" y="434340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6291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291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291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6291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6352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603600" y="43178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6352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603600" y="515628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6352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603600" y="57024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9146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914640" y="45212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8070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8070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8070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813120" y="4521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781440" y="45086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813120" y="5892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781440" y="5892840"/>
              <a:ext cx="633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006880" y="49021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82904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00760" y="4349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006880" y="5257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829040" y="58165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000760" y="5264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914640" y="49784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9146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4387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4387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4387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444840" y="4165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4257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444840" y="49784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4257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83236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095800" y="522612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006880" y="5257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6168960" y="3892680"/>
            <a:ext cx="2673360" cy="2273040"/>
            <a:chOff x="6168960" y="3892680"/>
            <a:chExt cx="2673360" cy="2273040"/>
          </a:xfrm>
        </p:grpSpPr>
        <p:sp>
          <p:nvSpPr>
            <p:cNvPr id="1671" name=""/>
            <p:cNvSpPr/>
            <p:nvPr/>
          </p:nvSpPr>
          <p:spPr>
            <a:xfrm>
              <a:off x="6835680" y="4127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835680" y="4559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829560" y="41338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084080" y="414180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077600" y="41353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083720" y="412740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077240" y="410832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515360" y="431784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496280" y="431172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746760" y="44895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746760" y="43117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35680" y="52959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8356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68295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083720" y="485136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07724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084080" y="487836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07760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515360" y="505476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9628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746760" y="49467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835680" y="6019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83568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6829560" y="55818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083720" y="558792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077240" y="556884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084080" y="560232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077600" y="559584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515360" y="577836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496280" y="5772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940880" y="48513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940880" y="52959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934400" y="4857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188560" y="48783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16984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188200" y="485136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816948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607600" y="505476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58852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750080" y="5067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572240" y="5067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6578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6578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657840" y="43434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3723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3723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3723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3723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3784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359400" y="431784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3784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59400" y="514368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3784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359400" y="568944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6578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657840" y="45212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5628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5628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5628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569280" y="45212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37240" y="45086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569280" y="58928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537240" y="588024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750080" y="4889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57224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743960" y="43498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50080" y="525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572240" y="5803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743960" y="52642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657840" y="49784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6578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1945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1945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1945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200640" y="4165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1689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200640" y="497844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1689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664480" y="5067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6499080" y="1828800"/>
            <a:ext cx="22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8272440" y="1824120"/>
            <a:ext cx="450720" cy="29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gate with inverted inputs is a NAND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+ B’ = (A • B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NAND-NAND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ed inputs are not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typical circuit, inversion is done once and signal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99D8-8090-49B9-B8FB-DC595B4CFAA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4" name=""/>
          <p:cNvGrpSpPr/>
          <p:nvPr/>
        </p:nvGrpSpPr>
        <p:grpSpPr>
          <a:xfrm>
            <a:off x="4946760" y="2692440"/>
            <a:ext cx="3187440" cy="2717640"/>
            <a:chOff x="4946760" y="2692440"/>
            <a:chExt cx="3187440" cy="2717640"/>
          </a:xfrm>
        </p:grpSpPr>
        <p:sp>
          <p:nvSpPr>
            <p:cNvPr id="1755" name=""/>
            <p:cNvSpPr/>
            <p:nvPr/>
          </p:nvSpPr>
          <p:spPr>
            <a:xfrm>
              <a:off x="5079960" y="2990520"/>
              <a:ext cx="14857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060880" y="2971440"/>
              <a:ext cx="152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080320" y="3017880"/>
              <a:ext cx="14857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061240" y="2998800"/>
              <a:ext cx="15235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766120" y="3017880"/>
              <a:ext cx="1137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747040" y="29988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803920" y="3016080"/>
              <a:ext cx="759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784840" y="2997000"/>
              <a:ext cx="114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810400" y="3117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810400" y="33462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591240" y="3206520"/>
              <a:ext cx="6372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585120" y="320040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632920" y="387504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946760" y="3875040"/>
              <a:ext cx="16380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022720" y="3847680"/>
              <a:ext cx="15620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632560" y="384768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810400" y="39942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772240" y="4178160"/>
              <a:ext cx="7596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5683320" y="42228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597720" y="407664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105160" y="4743720"/>
              <a:ext cx="14857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086440" y="4724640"/>
              <a:ext cx="15109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105520" y="4770360"/>
              <a:ext cx="14857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086800" y="4751280"/>
              <a:ext cx="15109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779080" y="4770360"/>
              <a:ext cx="126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772240" y="47512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829120" y="4768920"/>
              <a:ext cx="759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810040" y="4749840"/>
              <a:ext cx="114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835600" y="49845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616800" y="495936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597720" y="494028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810400" y="47689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810400" y="5200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130880" y="38415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130880" y="4375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124760" y="384804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429680" y="386856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410600" y="384948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429320" y="384120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410240" y="3835440"/>
              <a:ext cx="50796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937640" y="408312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016760" y="42926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016760" y="407664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016760" y="38480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902280" y="4108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86640" y="41083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902280" y="3892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686640" y="32320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896160" y="32385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902280" y="4324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686640" y="4984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896160" y="43304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594400" y="5200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94400" y="4222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473800" y="52070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473800" y="422892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473800" y="2692440"/>
              <a:ext cx="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479920" y="422280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448240" y="4197240"/>
              <a:ext cx="637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479920" y="52005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448240" y="5175000"/>
              <a:ext cx="6372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594400" y="4984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594400" y="3994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594400" y="3346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257800" y="49910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57800" y="400032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257800" y="335268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257800" y="269244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264280" y="3346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232240" y="332100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264280" y="3994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232240" y="398124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64280" y="49845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232240" y="4959360"/>
              <a:ext cx="5112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594400" y="47689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594400" y="31176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029200" y="477504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029200" y="3124080"/>
              <a:ext cx="0" cy="16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029200" y="26924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035680" y="31176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016600" y="31050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035680" y="476892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016600" y="4743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931160" y="41083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797440" y="4736880"/>
              <a:ext cx="763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848200" y="4940280"/>
              <a:ext cx="763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1314720" y="2692440"/>
            <a:ext cx="3022200" cy="2717640"/>
            <a:chOff x="1314720" y="2692440"/>
            <a:chExt cx="3022200" cy="2717640"/>
          </a:xfrm>
        </p:grpSpPr>
        <p:sp>
          <p:nvSpPr>
            <p:cNvPr id="1842" name=""/>
            <p:cNvSpPr/>
            <p:nvPr/>
          </p:nvSpPr>
          <p:spPr>
            <a:xfrm>
              <a:off x="1987560" y="2908080"/>
              <a:ext cx="2408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339920" y="2856960"/>
              <a:ext cx="15872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378440" y="2896920"/>
              <a:ext cx="154872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987920" y="2896920"/>
              <a:ext cx="24048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165400" y="3232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165400" y="3016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987920" y="3760560"/>
              <a:ext cx="2404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340280" y="3760560"/>
              <a:ext cx="158688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378080" y="3733560"/>
              <a:ext cx="15490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987560" y="373356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165400" y="3879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127240" y="4051080"/>
              <a:ext cx="889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2050560" y="4095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333440" y="4628880"/>
              <a:ext cx="15490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314720" y="4597560"/>
              <a:ext cx="15994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371960" y="4643280"/>
              <a:ext cx="15109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78440" y="4637160"/>
              <a:ext cx="153576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981800" y="4643280"/>
              <a:ext cx="2023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975320" y="4637160"/>
              <a:ext cx="24048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981440" y="466704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974960" y="464796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127240" y="482580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2050560" y="487044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2063880" y="5086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359160" y="4248000"/>
              <a:ext cx="52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359160" y="3727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3352680" y="37209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644640" y="3727440"/>
              <a:ext cx="46980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625560" y="3720960"/>
              <a:ext cx="50796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645000" y="3754440"/>
              <a:ext cx="46944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625920" y="3735360"/>
              <a:ext cx="50760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156120" y="3778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927520" y="31305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149640" y="313668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156120" y="3994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927520" y="399420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36800" y="40957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936800" y="5086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828800" y="50925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828800" y="410184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828800" y="269244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835280" y="40957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16200" y="40831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35280" y="50864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816200" y="50608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936800" y="32320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936800" y="38797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936800" y="4870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612800" y="48765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612800" y="388620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612800" y="3238560"/>
              <a:ext cx="0" cy="63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612800" y="26924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619280" y="3232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587600" y="320652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619280" y="3879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587600" y="3867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19280" y="487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587600" y="48322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936800" y="30160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936800" y="4641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384200" y="464796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384200" y="3022560"/>
              <a:ext cx="0" cy="161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384200" y="2692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390680" y="3016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371600" y="29908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390680" y="46418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371600" y="46292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27520" y="48704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56120" y="42228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149640" y="42289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133880" y="3994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050920" y="462276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4" name=""/>
          <p:cNvSpPr/>
          <p:nvPr/>
        </p:nvSpPr>
        <p:spPr>
          <a:xfrm flipV="1">
            <a:off x="6502320" y="1828800"/>
            <a:ext cx="1770120" cy="1160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H="1">
            <a:off x="6456240" y="1828800"/>
            <a:ext cx="18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43760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7742160" y="2209680"/>
            <a:ext cx="533520" cy="157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OR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ce maxterm OR gates with N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 compensating inversion at inputs of AND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3ADB-45C5-4264-8E3D-70D54D623F3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0" name=""/>
          <p:cNvGrpSpPr/>
          <p:nvPr/>
        </p:nvGrpSpPr>
        <p:grpSpPr>
          <a:xfrm>
            <a:off x="647640" y="3746520"/>
            <a:ext cx="2489400" cy="2260440"/>
            <a:chOff x="647640" y="3746520"/>
            <a:chExt cx="2489400" cy="2260440"/>
          </a:xfrm>
        </p:grpSpPr>
        <p:sp>
          <p:nvSpPr>
            <p:cNvPr id="1921" name=""/>
            <p:cNvSpPr/>
            <p:nvPr/>
          </p:nvSpPr>
          <p:spPr>
            <a:xfrm>
              <a:off x="1193760" y="3924000"/>
              <a:ext cx="2026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73200" y="3885840"/>
              <a:ext cx="1294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85800" y="3913200"/>
              <a:ext cx="128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194120" y="39132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333440" y="4197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333440" y="4019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194120" y="4636800"/>
              <a:ext cx="2023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73560" y="4636800"/>
              <a:ext cx="129456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85440" y="4609800"/>
              <a:ext cx="128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193760" y="460980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333440" y="47307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308240" y="4876560"/>
              <a:ext cx="7596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1244520" y="4908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66720" y="5352840"/>
              <a:ext cx="12697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47640" y="5333400"/>
              <a:ext cx="130788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80040" y="5367240"/>
              <a:ext cx="1256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86160" y="536076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188000" y="5367240"/>
              <a:ext cx="164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181520" y="536076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187640" y="5391000"/>
              <a:ext cx="1645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181160" y="5371560"/>
              <a:ext cx="20268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308240" y="5524560"/>
              <a:ext cx="759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H="1">
              <a:off x="1244520" y="5556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1257120" y="573408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36760" y="50353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336760" y="460368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2330280" y="45968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571480" y="460332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2760" y="4597560"/>
              <a:ext cx="418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571840" y="4630680"/>
              <a:ext cx="3931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3120" y="461160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158920" y="46544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968480" y="41083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152800" y="41148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15892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968480" y="4832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155600" y="49086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155600" y="57340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060560" y="574020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060560" y="491472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060560" y="374652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066680" y="4908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047600" y="490860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066680" y="5734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047600" y="5721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1556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155600" y="4730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155600" y="5556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82720" y="55623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82720" y="473688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882720" y="420372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82720" y="37465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88840" y="4197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857160" y="41716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888840" y="4730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857160" y="47178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888840" y="5556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857160" y="5530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155600" y="4019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155600" y="5365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92280" y="53719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92280" y="4025880"/>
              <a:ext cx="0" cy="13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92280" y="37465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98400" y="4019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79320" y="399420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98400" y="5365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79320" y="5352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968480" y="5556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158920" y="50227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152800" y="50292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9718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244520" y="535932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3" name=""/>
          <p:cNvSpPr/>
          <p:nvPr/>
        </p:nvSpPr>
        <p:spPr>
          <a:xfrm flipV="1">
            <a:off x="8377200" y="1817280"/>
            <a:ext cx="366840" cy="2868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H="1">
            <a:off x="6508800" y="1835280"/>
            <a:ext cx="223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5" name=""/>
          <p:cNvGrpSpPr/>
          <p:nvPr/>
        </p:nvGrpSpPr>
        <p:grpSpPr>
          <a:xfrm>
            <a:off x="6121440" y="3746520"/>
            <a:ext cx="2717640" cy="2273040"/>
            <a:chOff x="6121440" y="3746520"/>
            <a:chExt cx="2717640" cy="2273040"/>
          </a:xfrm>
        </p:grpSpPr>
        <p:sp>
          <p:nvSpPr>
            <p:cNvPr id="1996" name=""/>
            <p:cNvSpPr/>
            <p:nvPr/>
          </p:nvSpPr>
          <p:spPr>
            <a:xfrm>
              <a:off x="6229800" y="399384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210360" y="3987720"/>
              <a:ext cx="126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229800" y="402120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210720" y="400212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788880" y="4021200"/>
              <a:ext cx="113040" cy="35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782400" y="400212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826680" y="4019400"/>
              <a:ext cx="7524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820200" y="3999960"/>
              <a:ext cx="8820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832440" y="410832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832440" y="42861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486560" y="4171680"/>
              <a:ext cx="507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480440" y="416556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693480" y="4738680"/>
              <a:ext cx="202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121440" y="4738680"/>
              <a:ext cx="1358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172200" y="4711680"/>
              <a:ext cx="13078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693120" y="4711680"/>
              <a:ext cx="202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832440" y="4832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794640" y="4991040"/>
              <a:ext cx="759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H="1">
              <a:off x="6730560" y="5022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493040" y="4902120"/>
              <a:ext cx="759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242400" y="5454360"/>
              <a:ext cx="12438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236280" y="5448240"/>
              <a:ext cx="12564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242760" y="5468760"/>
              <a:ext cx="12434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236280" y="5462640"/>
              <a:ext cx="12564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814080" y="5468760"/>
              <a:ext cx="1008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7950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851160" y="546696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832800" y="5460840"/>
              <a:ext cx="882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858000" y="56577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512120" y="563220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493040" y="56260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832440" y="546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832440" y="58356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347240" y="473040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327440" y="4711680"/>
              <a:ext cx="12574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347240" y="474480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327800" y="4738680"/>
              <a:ext cx="12571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905600" y="4744800"/>
              <a:ext cx="1015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899840" y="473868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943400" y="4743360"/>
              <a:ext cx="637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937640" y="4736520"/>
              <a:ext cx="8820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950240" y="49212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604360" y="49086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8585280" y="490212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937640" y="47433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937640" y="511164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74684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569000" y="49212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746840" y="474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5690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740720" y="4203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746840" y="5111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5690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740720" y="5118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654600" y="5835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65460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559560" y="5841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559560" y="502920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559560" y="3746520"/>
              <a:ext cx="0" cy="12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566040" y="5022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534000" y="49975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566040" y="5835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534000" y="58230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546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6546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654600" y="4286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369120" y="566424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69120" y="48387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369120" y="4292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369120" y="37465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375240" y="42861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356160" y="427356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375240" y="4832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356160" y="481968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375240" y="5657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56160" y="563220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654600" y="5467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654600" y="4108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191280" y="547344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191280" y="4114800"/>
              <a:ext cx="0" cy="13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91280" y="374652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197400" y="4108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165720" y="40831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197400" y="5467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165720" y="54547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66124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807240" y="544824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858000" y="56260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4" name=""/>
          <p:cNvGrpSpPr/>
          <p:nvPr/>
        </p:nvGrpSpPr>
        <p:grpSpPr>
          <a:xfrm>
            <a:off x="3378960" y="3759120"/>
            <a:ext cx="2615400" cy="2247840"/>
            <a:chOff x="3378960" y="3759120"/>
            <a:chExt cx="2615400" cy="2247840"/>
          </a:xfrm>
        </p:grpSpPr>
        <p:sp>
          <p:nvSpPr>
            <p:cNvPr id="2085" name=""/>
            <p:cNvSpPr/>
            <p:nvPr/>
          </p:nvSpPr>
          <p:spPr>
            <a:xfrm>
              <a:off x="3473640" y="400716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454200" y="3987720"/>
              <a:ext cx="126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473640" y="402120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454560" y="401472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044960" y="4021200"/>
              <a:ext cx="88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025880" y="4014720"/>
              <a:ext cx="1267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070880" y="4019760"/>
              <a:ext cx="6264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4063680" y="4013280"/>
              <a:ext cx="889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076640" y="4108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076640" y="4298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718160" y="4184640"/>
              <a:ext cx="633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724280" y="417816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937680" y="4738680"/>
              <a:ext cx="1893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378960" y="4738680"/>
              <a:ext cx="13449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429000" y="471168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937320" y="4711680"/>
              <a:ext cx="18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076640" y="4832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051440" y="4991040"/>
              <a:ext cx="633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H="1">
              <a:off x="3974760" y="5022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724280" y="490212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499200" y="545436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480120" y="5448240"/>
              <a:ext cx="12438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499200" y="548136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480480" y="5462640"/>
              <a:ext cx="12434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057920" y="5481360"/>
              <a:ext cx="10080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0518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096080" y="5479560"/>
              <a:ext cx="6264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076640" y="5460840"/>
              <a:ext cx="1011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102200" y="5657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743360" y="563220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724280" y="562608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076640" y="5479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076640" y="5835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168880" y="47052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168880" y="5149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162400" y="47116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416920" y="473220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397840" y="47131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416560" y="470520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97480" y="469872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835600" y="490860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079960" y="507996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079960" y="490212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079960" y="471168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978440" y="4933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800600" y="4933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978440" y="4755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8006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971960" y="42037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978440" y="51116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8006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971960" y="5118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898800" y="5835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89880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803760" y="584172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803760" y="502920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803760" y="3759120"/>
              <a:ext cx="0" cy="12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80988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778200" y="5010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809880" y="5835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778200" y="58100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8988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8988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898800" y="4298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625920" y="56642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625920" y="48387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625920" y="430524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625920" y="37591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632040" y="4298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600360" y="42735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632040" y="48322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600360" y="4819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632040" y="5657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600360" y="563220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898800" y="5479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898800" y="4108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435480" y="54864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435480" y="411480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435480" y="375912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441600" y="4108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422520" y="40957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441600" y="5479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422520" y="54547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829120" y="4933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057920" y="5481360"/>
              <a:ext cx="10080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0518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102200" y="5657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076640" y="5479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064040" y="544824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114800" y="56260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OR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gate with inverted inputs is a NOR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• B’ = (A + B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NOR-NOR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ed inputs are not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typical circuit, inversion is done once and signal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B93E-3387-4AF9-9036-6932C8CA253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and NOR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D-NAND and NOR-NOR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 law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+ B)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A’ • B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• B)’  =   A’ +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ten different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+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(A’ • B’)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• B)   =  (A’ + B’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other words –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is the same as NAND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s the same as NOR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ND is the same as OR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 is the same as AND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9" name=""/>
          <p:cNvGrpSpPr/>
          <p:nvPr/>
        </p:nvGrpSpPr>
        <p:grpSpPr>
          <a:xfrm>
            <a:off x="3170160" y="5139000"/>
            <a:ext cx="955800" cy="441000"/>
            <a:chOff x="3170160" y="5139000"/>
            <a:chExt cx="955800" cy="441000"/>
          </a:xfrm>
        </p:grpSpPr>
        <p:sp>
          <p:nvSpPr>
            <p:cNvPr id="2180" name=""/>
            <p:cNvSpPr/>
            <p:nvPr/>
          </p:nvSpPr>
          <p:spPr>
            <a:xfrm>
              <a:off x="3343320" y="515628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343320" y="556308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343320" y="515628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760560" y="51728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560760" y="515628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760560" y="535968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560760" y="513900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170160" y="527472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170160" y="544464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951720" y="535968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659520" y="5141520"/>
            <a:ext cx="1585080" cy="435240"/>
            <a:chOff x="659520" y="5141520"/>
            <a:chExt cx="1585080" cy="435240"/>
          </a:xfrm>
        </p:grpSpPr>
        <p:sp>
          <p:nvSpPr>
            <p:cNvPr id="2191" name=""/>
            <p:cNvSpPr/>
            <p:nvPr/>
          </p:nvSpPr>
          <p:spPr>
            <a:xfrm>
              <a:off x="1260000" y="5159520"/>
              <a:ext cx="2066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59520" y="5159520"/>
              <a:ext cx="14061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93720" y="5141520"/>
              <a:ext cx="13719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260000" y="5141520"/>
              <a:ext cx="20664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00400" y="525888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00400" y="544104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212840" y="525888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212840" y="544104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057040" y="535032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3960720" y="531504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252960" y="52293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249720" y="54021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3" name=""/>
          <p:cNvGrpSpPr/>
          <p:nvPr/>
        </p:nvGrpSpPr>
        <p:grpSpPr>
          <a:xfrm>
            <a:off x="1236600" y="5813640"/>
            <a:ext cx="955800" cy="441000"/>
            <a:chOff x="1236600" y="5813640"/>
            <a:chExt cx="955800" cy="441000"/>
          </a:xfrm>
        </p:grpSpPr>
        <p:sp>
          <p:nvSpPr>
            <p:cNvPr id="2204" name=""/>
            <p:cNvSpPr/>
            <p:nvPr/>
          </p:nvSpPr>
          <p:spPr>
            <a:xfrm>
              <a:off x="1409760" y="583092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409760" y="623772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409760" y="583092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827000" y="584748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627200" y="583092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827000" y="603432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627200" y="581364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236600" y="594936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236600" y="611928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018160" y="603432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2027160" y="598968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5" name=""/>
          <p:cNvGrpSpPr/>
          <p:nvPr/>
        </p:nvGrpSpPr>
        <p:grpSpPr>
          <a:xfrm>
            <a:off x="2577240" y="5839920"/>
            <a:ext cx="1585080" cy="437400"/>
            <a:chOff x="2577240" y="5839920"/>
            <a:chExt cx="1585080" cy="437400"/>
          </a:xfrm>
        </p:grpSpPr>
        <p:sp>
          <p:nvSpPr>
            <p:cNvPr id="2216" name=""/>
            <p:cNvSpPr/>
            <p:nvPr/>
          </p:nvSpPr>
          <p:spPr>
            <a:xfrm>
              <a:off x="3177720" y="5857920"/>
              <a:ext cx="206640" cy="38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577240" y="5857920"/>
              <a:ext cx="14061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611440" y="5839920"/>
              <a:ext cx="13719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177720" y="5839920"/>
              <a:ext cx="20664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318120" y="595764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318120" y="614088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3130560" y="595764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130560" y="614088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974760" y="604980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3265560" y="59133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1680" y="6094440"/>
            <a:ext cx="87480" cy="87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2419200" y="533700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2428920" y="603252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9" name=""/>
          <p:cNvGrpSpPr/>
          <p:nvPr/>
        </p:nvGrpSpPr>
        <p:grpSpPr>
          <a:xfrm>
            <a:off x="7454880" y="5767560"/>
            <a:ext cx="955800" cy="441000"/>
            <a:chOff x="7454880" y="5767560"/>
            <a:chExt cx="955800" cy="441000"/>
          </a:xfrm>
        </p:grpSpPr>
        <p:sp>
          <p:nvSpPr>
            <p:cNvPr id="2230" name=""/>
            <p:cNvSpPr/>
            <p:nvPr/>
          </p:nvSpPr>
          <p:spPr>
            <a:xfrm>
              <a:off x="7628040" y="578484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628040" y="619164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628040" y="578484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8045280" y="580140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845480" y="578484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045280" y="59882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845480" y="576756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454880" y="590328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454880" y="607320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8236440" y="598824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0" name=""/>
          <p:cNvGrpSpPr/>
          <p:nvPr/>
        </p:nvGrpSpPr>
        <p:grpSpPr>
          <a:xfrm>
            <a:off x="4944240" y="5770080"/>
            <a:ext cx="1585080" cy="435240"/>
            <a:chOff x="4944240" y="5770080"/>
            <a:chExt cx="1585080" cy="435240"/>
          </a:xfrm>
        </p:grpSpPr>
        <p:sp>
          <p:nvSpPr>
            <p:cNvPr id="2241" name=""/>
            <p:cNvSpPr/>
            <p:nvPr/>
          </p:nvSpPr>
          <p:spPr>
            <a:xfrm>
              <a:off x="5544720" y="5788080"/>
              <a:ext cx="2066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944240" y="5788080"/>
              <a:ext cx="14061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978440" y="5770080"/>
              <a:ext cx="13719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544720" y="5770080"/>
              <a:ext cx="20664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685120" y="588744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685120" y="606960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497560" y="588744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97560" y="606960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341760" y="597888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0" name=""/>
          <p:cNvSpPr/>
          <p:nvPr/>
        </p:nvSpPr>
        <p:spPr>
          <a:xfrm>
            <a:off x="6345360" y="594360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7537320" y="585792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7534440" y="603108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5521320" y="5055840"/>
            <a:ext cx="955800" cy="442080"/>
            <a:chOff x="5521320" y="5055840"/>
            <a:chExt cx="955800" cy="442080"/>
          </a:xfrm>
        </p:grpSpPr>
        <p:sp>
          <p:nvSpPr>
            <p:cNvPr id="2254" name=""/>
            <p:cNvSpPr/>
            <p:nvPr/>
          </p:nvSpPr>
          <p:spPr>
            <a:xfrm>
              <a:off x="5694480" y="507348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694480" y="548064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694480" y="5073480"/>
              <a:ext cx="108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111720" y="50900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11920" y="5073480"/>
              <a:ext cx="399240" cy="42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111720" y="5276880"/>
              <a:ext cx="190800" cy="203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911920" y="5055840"/>
              <a:ext cx="399240" cy="42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521320" y="519192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521320" y="536220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302880" y="527688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4" name=""/>
          <p:cNvGrpSpPr/>
          <p:nvPr/>
        </p:nvGrpSpPr>
        <p:grpSpPr>
          <a:xfrm>
            <a:off x="6861960" y="5082480"/>
            <a:ext cx="1585080" cy="437400"/>
            <a:chOff x="6861960" y="5082480"/>
            <a:chExt cx="1585080" cy="437400"/>
          </a:xfrm>
        </p:grpSpPr>
        <p:sp>
          <p:nvSpPr>
            <p:cNvPr id="2265" name=""/>
            <p:cNvSpPr/>
            <p:nvPr/>
          </p:nvSpPr>
          <p:spPr>
            <a:xfrm>
              <a:off x="7462440" y="5100480"/>
              <a:ext cx="206640" cy="38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861960" y="5100480"/>
              <a:ext cx="14061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896160" y="5082480"/>
              <a:ext cx="13719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462440" y="5082480"/>
              <a:ext cx="20664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602840" y="520020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602840" y="538344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7415280" y="520020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415280" y="538344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8259480" y="529236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4" name=""/>
          <p:cNvSpPr/>
          <p:nvPr/>
        </p:nvSpPr>
        <p:spPr>
          <a:xfrm>
            <a:off x="7550280" y="515628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556400" y="5337000"/>
            <a:ext cx="87480" cy="87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703920" y="596592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6713640" y="5275440"/>
            <a:ext cx="59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8269200" y="524664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D17D-FC81-4EBA-9211-61C9006CD96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95680" y="5638680"/>
            <a:ext cx="4191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'll need a 4-variable Karnaugh ma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of the 3 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16200" y="3485880"/>
            <a:ext cx="1765080" cy="1187640"/>
            <a:chOff x="1816200" y="3485880"/>
            <a:chExt cx="1765080" cy="1187640"/>
          </a:xfrm>
        </p:grpSpPr>
        <p:sp>
          <p:nvSpPr>
            <p:cNvPr id="89" name=""/>
            <p:cNvSpPr/>
            <p:nvPr/>
          </p:nvSpPr>
          <p:spPr>
            <a:xfrm>
              <a:off x="1816200" y="4305240"/>
              <a:ext cx="17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lock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2368080" y="3485880"/>
              <a:ext cx="298440" cy="78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99400" y="2286000"/>
            <a:ext cx="3832920" cy="1099440"/>
            <a:chOff x="599400" y="2286000"/>
            <a:chExt cx="3832920" cy="1099440"/>
          </a:xfrm>
        </p:grpSpPr>
        <p:sp>
          <p:nvSpPr>
            <p:cNvPr id="92" name=""/>
            <p:cNvSpPr/>
            <p:nvPr/>
          </p:nvSpPr>
          <p:spPr>
            <a:xfrm>
              <a:off x="2057400" y="2362320"/>
              <a:ext cx="35568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1800" y="2362320"/>
              <a:ext cx="14605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&lt; C 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= C 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&gt; C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990720" y="2298600"/>
              <a:ext cx="1904760" cy="1066680"/>
              <a:chOff x="990720" y="2298600"/>
              <a:chExt cx="1904760" cy="1066680"/>
            </a:xfrm>
          </p:grpSpPr>
          <p:sp>
            <p:nvSpPr>
              <p:cNvPr id="95" name=""/>
              <p:cNvSpPr/>
              <p:nvPr/>
            </p:nvSpPr>
            <p:spPr>
              <a:xfrm>
                <a:off x="1523880" y="2298600"/>
                <a:ext cx="838440" cy="1066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990720" y="24508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990720" y="26794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90720" y="29844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990720" y="32130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362320" y="25272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362320" y="283176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362320" y="31366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522080" y="22860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19920" y="251460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2800" y="28195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1000" y="304812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9400" y="23623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9400" y="29401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124600" y="1625760"/>
            <a:ext cx="3105000" cy="3784320"/>
            <a:chOff x="5124600" y="1625760"/>
            <a:chExt cx="3105000" cy="3784320"/>
          </a:xfrm>
        </p:grpSpPr>
        <p:sp>
          <p:nvSpPr>
            <p:cNvPr id="110" name=""/>
            <p:cNvSpPr/>
            <p:nvPr/>
          </p:nvSpPr>
          <p:spPr>
            <a:xfrm>
              <a:off x="5124600" y="1841400"/>
              <a:ext cx="279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15280" y="16315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24600" y="2666880"/>
              <a:ext cx="279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49800" y="3479400"/>
              <a:ext cx="271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37200" y="4292280"/>
              <a:ext cx="27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30720" y="1625760"/>
              <a:ext cx="3098880" cy="37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803240" y="3777840"/>
            <a:ext cx="2990880" cy="1327680"/>
            <a:chOff x="1803240" y="3777840"/>
            <a:chExt cx="2990880" cy="1327680"/>
          </a:xfrm>
        </p:grpSpPr>
        <p:sp>
          <p:nvSpPr>
            <p:cNvPr id="117" name=""/>
            <p:cNvSpPr/>
            <p:nvPr/>
          </p:nvSpPr>
          <p:spPr>
            <a:xfrm flipV="1">
              <a:off x="3200400" y="3777840"/>
              <a:ext cx="1593720" cy="11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03240" y="4521240"/>
              <a:ext cx="1765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uth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3B16-F522-4529-8158-D8BB84F54FD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9" name=""/>
          <p:cNvGrpSpPr/>
          <p:nvPr/>
        </p:nvGrpSpPr>
        <p:grpSpPr>
          <a:xfrm>
            <a:off x="838080" y="4881600"/>
            <a:ext cx="3340080" cy="1625400"/>
            <a:chOff x="838080" y="4881600"/>
            <a:chExt cx="3340080" cy="1625400"/>
          </a:xfrm>
        </p:grpSpPr>
        <p:sp>
          <p:nvSpPr>
            <p:cNvPr id="2280" name=""/>
            <p:cNvSpPr/>
            <p:nvPr/>
          </p:nvSpPr>
          <p:spPr>
            <a:xfrm>
              <a:off x="1562040" y="50212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562040" y="55292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V="1">
              <a:off x="1549440" y="50083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803960" y="5022720"/>
              <a:ext cx="4435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803600" y="50227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803600" y="5008320"/>
              <a:ext cx="44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803240" y="4995360"/>
              <a:ext cx="4568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562040" y="587196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562040" y="6380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V="1">
              <a:off x="1549440" y="58593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803960" y="5873760"/>
              <a:ext cx="4435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803600" y="58737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803600" y="5859720"/>
              <a:ext cx="4438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803240" y="58467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807280" y="5467320"/>
              <a:ext cx="227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159280" y="54673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247840" y="5439960"/>
              <a:ext cx="14349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2806920" y="5439960"/>
              <a:ext cx="22788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984400" y="5592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2984400" y="5808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781360" y="5592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27340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476440" y="52750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768760" y="5288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781360" y="5808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27340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476440" y="61261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768760" y="58212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359000" y="5160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054080" y="5160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359000" y="5376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054080" y="5376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359000" y="601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054080" y="6012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359000" y="6227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054080" y="6227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695760" y="5694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898800" y="5694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838080" y="48816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863640" y="5313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863640" y="57578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863640" y="61516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2" name=""/>
          <p:cNvGrpSpPr/>
          <p:nvPr/>
        </p:nvGrpSpPr>
        <p:grpSpPr>
          <a:xfrm>
            <a:off x="4317840" y="4881600"/>
            <a:ext cx="4292640" cy="1625400"/>
            <a:chOff x="4317840" y="4881600"/>
            <a:chExt cx="4292640" cy="1625400"/>
          </a:xfrm>
        </p:grpSpPr>
        <p:sp>
          <p:nvSpPr>
            <p:cNvPr id="2323" name=""/>
            <p:cNvSpPr/>
            <p:nvPr/>
          </p:nvSpPr>
          <p:spPr>
            <a:xfrm>
              <a:off x="5626080" y="5021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626080" y="55292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613480" y="503388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880600" y="5022720"/>
              <a:ext cx="4435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880600" y="50227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880240" y="5008320"/>
              <a:ext cx="44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880240" y="4995360"/>
              <a:ext cx="4568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350040" y="52372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337440" y="522432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626080" y="58719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626080" y="6380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613480" y="588492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880600" y="5873760"/>
              <a:ext cx="4435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880600" y="58737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880240" y="5859720"/>
              <a:ext cx="4438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880240" y="58467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350040" y="608796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337440" y="607536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375240" y="5452920"/>
              <a:ext cx="13712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362280" y="5439960"/>
              <a:ext cx="13971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375600" y="5467320"/>
              <a:ext cx="13708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362640" y="5467320"/>
              <a:ext cx="139680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997680" y="5467320"/>
              <a:ext cx="126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997680" y="5467320"/>
              <a:ext cx="1267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035480" y="5465520"/>
              <a:ext cx="88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035480" y="5465880"/>
              <a:ext cx="889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035840" y="555480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035840" y="55418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035840" y="577044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035840" y="57578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423040" y="5160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118120" y="5160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423040" y="5376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118120" y="5376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423040" y="601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118120" y="6012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423040" y="6227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118120" y="6227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43896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845400" y="5592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64200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832440" y="5288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43896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845400" y="5808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64200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832440" y="58212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759800" y="5694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962840" y="5694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317840" y="5529240"/>
              <a:ext cx="2541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876920" y="48816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902120" y="5313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02120" y="57578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02120" y="61516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356680" y="55292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651640" y="51228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651640" y="598644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112160" y="55548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rt from networks of ANDs and ORs to networks of NANDs and N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appropriate inversions ("bubbles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introduced "bubble" must be matched by a corresponding "bubbl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rvation of in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alter logic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AND/OR to NAND/N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2" name=""/>
          <p:cNvGrpSpPr/>
          <p:nvPr/>
        </p:nvGrpSpPr>
        <p:grpSpPr>
          <a:xfrm>
            <a:off x="6324480" y="3903840"/>
            <a:ext cx="2210040" cy="1612080"/>
            <a:chOff x="6324480" y="3903840"/>
            <a:chExt cx="2210040" cy="1612080"/>
          </a:xfrm>
        </p:grpSpPr>
        <p:sp>
          <p:nvSpPr>
            <p:cNvPr id="2383" name=""/>
            <p:cNvSpPr/>
            <p:nvPr/>
          </p:nvSpPr>
          <p:spPr>
            <a:xfrm>
              <a:off x="7080120" y="4011480"/>
              <a:ext cx="279360" cy="19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V="1">
              <a:off x="7080120" y="4201920"/>
              <a:ext cx="2793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067520" y="401148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372440" y="417672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994520" y="4011480"/>
              <a:ext cx="279360" cy="19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V="1">
              <a:off x="7994520" y="4201920"/>
              <a:ext cx="2793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981920" y="401148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880400" y="4176720"/>
              <a:ext cx="633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880400" y="41767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87708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48656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68996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29944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743880" y="3903840"/>
              <a:ext cx="1790640" cy="622080"/>
            </a:xfrm>
            <a:prstGeom prst="roundRect">
              <a:avLst>
                <a:gd name="adj" fmla="val 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V="1">
              <a:off x="6324480" y="4525920"/>
              <a:ext cx="457200" cy="68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V="1">
              <a:off x="7086600" y="4525560"/>
              <a:ext cx="14479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7EA-935F-4A0D-B699-A602A0EEE73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"/>
          <p:cNvSpPr/>
          <p:nvPr/>
        </p:nvSpPr>
        <p:spPr>
          <a:xfrm>
            <a:off x="3086280" y="4470480"/>
            <a:ext cx="33271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[ (A  •  B)’  • (C   • D)’  ]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[ (A’ + B’)  •  (C’ + D’)  ]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[ (A’ + B’)’ + (C’ + D’)’ 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(A  •  B)   + (C  • D) 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verify equivalence of two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2" name=""/>
          <p:cNvGrpSpPr/>
          <p:nvPr/>
        </p:nvGrpSpPr>
        <p:grpSpPr>
          <a:xfrm>
            <a:off x="762120" y="2394000"/>
            <a:ext cx="3733560" cy="1625400"/>
            <a:chOff x="762120" y="2394000"/>
            <a:chExt cx="3733560" cy="1625400"/>
          </a:xfrm>
        </p:grpSpPr>
        <p:sp>
          <p:nvSpPr>
            <p:cNvPr id="2403" name=""/>
            <p:cNvSpPr/>
            <p:nvPr/>
          </p:nvSpPr>
          <p:spPr>
            <a:xfrm>
              <a:off x="1486080" y="25336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486080" y="30416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V="1">
              <a:off x="1473120" y="2520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727280" y="25351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640" y="25351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1726920" y="25207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727280" y="25084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486080" y="33847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486080" y="38926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V="1">
              <a:off x="1473120" y="337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727280" y="33861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727640" y="33861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726920" y="33721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727280" y="33591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730600" y="297972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082960" y="29797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171880" y="295236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2730240" y="295236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908440" y="31050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908440" y="33210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05040" y="3105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19708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400480" y="2787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692440" y="28004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2705040" y="3321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219708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2400480" y="36385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692440" y="3333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282680" y="267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977760" y="26733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282680" y="2889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977760" y="28893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128268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977760" y="35244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1282680" y="3740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977760" y="374004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619440" y="3206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822840" y="3206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62120" y="23940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87320" y="28256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87320" y="3270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87320" y="36640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241880" y="30416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4800600" y="2394000"/>
            <a:ext cx="3733920" cy="1625400"/>
            <a:chOff x="4800600" y="2394000"/>
            <a:chExt cx="3733920" cy="1625400"/>
          </a:xfrm>
        </p:grpSpPr>
        <p:sp>
          <p:nvSpPr>
            <p:cNvPr id="2447" name=""/>
            <p:cNvSpPr/>
            <p:nvPr/>
          </p:nvSpPr>
          <p:spPr>
            <a:xfrm>
              <a:off x="5549760" y="2533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549760" y="30416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537160" y="254628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803920" y="25351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804280" y="25351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803560" y="25207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803920" y="25084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273720" y="274968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261120" y="273672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549760" y="338472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549760" y="3892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537160" y="339732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803920" y="33861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804280" y="33861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803560" y="33721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803920" y="33591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273720" y="360036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261120" y="358776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299280" y="2965320"/>
              <a:ext cx="13712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286680" y="2952360"/>
              <a:ext cx="139644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299640" y="2979720"/>
              <a:ext cx="13708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287040" y="2979720"/>
              <a:ext cx="13960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922080" y="2979720"/>
              <a:ext cx="1260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922080" y="2979720"/>
              <a:ext cx="1260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959880" y="2977920"/>
              <a:ext cx="88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959880" y="2978280"/>
              <a:ext cx="882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959520" y="306720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959520" y="30542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959520" y="328284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959520" y="32702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346720" y="267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041800" y="26733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346720" y="2889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041800" y="28893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34672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041800" y="35244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346720" y="3740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041800" y="37400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36264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769080" y="3105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56604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756480" y="28004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36264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769080" y="3321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56604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756480" y="3333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7683480" y="3206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7886880" y="3206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800600" y="23940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4826160" y="2825640"/>
              <a:ext cx="266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826160" y="3270240"/>
              <a:ext cx="266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826160" y="3664080"/>
              <a:ext cx="266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280360" y="3041640"/>
              <a:ext cx="2541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575320" y="263520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575320" y="349884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035840" y="306720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5024-11CA-4176-9809-310BE441DEC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"/>
          <p:cNvSpPr/>
          <p:nvPr/>
        </p:nvSpPr>
        <p:spPr>
          <a:xfrm>
            <a:off x="5664240" y="577836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7581960" y="6045120"/>
            <a:ext cx="1333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bubble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7435800" y="4832280"/>
            <a:ext cx="520920" cy="1155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1917720" y="577836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1352520" y="5556240"/>
            <a:ext cx="533520" cy="46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355680" y="6045120"/>
            <a:ext cx="1333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bubble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4952880" y="3683160"/>
            <a:ext cx="3606840" cy="2082600"/>
            <a:chOff x="4952880" y="3683160"/>
            <a:chExt cx="3606840" cy="2082600"/>
          </a:xfrm>
        </p:grpSpPr>
        <p:sp>
          <p:nvSpPr>
            <p:cNvPr id="2510" name=""/>
            <p:cNvSpPr/>
            <p:nvPr/>
          </p:nvSpPr>
          <p:spPr>
            <a:xfrm>
              <a:off x="5657760" y="3797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657760" y="42292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651640" y="38037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867640" y="3811680"/>
              <a:ext cx="3549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848560" y="380520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867280" y="379728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848200" y="377820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575320" y="389880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568840" y="389268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575320" y="407664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568840" y="40705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734080" y="51436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734080" y="55753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727600" y="51498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944320" y="5170320"/>
              <a:ext cx="367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937840" y="5151600"/>
              <a:ext cx="3801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943960" y="5143320"/>
              <a:ext cx="3675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937480" y="5137200"/>
              <a:ext cx="380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664240" y="52578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657760" y="523872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664240" y="543564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657760" y="5416560"/>
              <a:ext cx="637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095880" y="4533840"/>
              <a:ext cx="11300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089400" y="4527720"/>
              <a:ext cx="1143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096240" y="4548240"/>
              <a:ext cx="112968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089760" y="4541760"/>
              <a:ext cx="1142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604560" y="4548240"/>
              <a:ext cx="1008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598440" y="4541760"/>
              <a:ext cx="1130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641640" y="454644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635520" y="4540320"/>
              <a:ext cx="75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648480" y="46353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648480" y="48261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238880" y="47116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7232760" y="4705200"/>
              <a:ext cx="633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7728120" y="455292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7728120" y="47304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7721640" y="45529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645320" y="47116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639200" y="4705200"/>
              <a:ext cx="759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238720" y="39243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238720" y="4102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492880" y="5270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238720" y="52704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492880" y="5448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238720" y="54482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229440" y="4013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483240" y="4635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394320" y="40132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477120" y="40194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318360" y="5359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483240" y="48261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477120" y="483228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308720" y="47372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473960" y="4737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969320" y="4737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8134200" y="47372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676840" y="3898800"/>
              <a:ext cx="660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753160" y="521964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680160" y="4597560"/>
              <a:ext cx="660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965840" y="3683160"/>
              <a:ext cx="368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952880" y="4089240"/>
              <a:ext cx="3938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978440" y="5041800"/>
              <a:ext cx="3556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952880" y="5435640"/>
              <a:ext cx="393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8305920" y="461016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762120" y="3727440"/>
            <a:ext cx="3733560" cy="1911240"/>
            <a:chOff x="762120" y="3727440"/>
            <a:chExt cx="3733560" cy="1911240"/>
          </a:xfrm>
        </p:grpSpPr>
        <p:sp>
          <p:nvSpPr>
            <p:cNvPr id="2575" name=""/>
            <p:cNvSpPr/>
            <p:nvPr/>
          </p:nvSpPr>
          <p:spPr>
            <a:xfrm>
              <a:off x="2266920" y="3772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266920" y="420372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260440" y="37782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476800" y="3786120"/>
              <a:ext cx="3549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457720" y="378000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476440" y="377172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457360" y="375300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184480" y="387360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178000" y="386712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184480" y="405144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178000" y="40449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343240" y="51181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343240" y="55497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336760" y="51246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552760" y="5145120"/>
              <a:ext cx="367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546280" y="5126040"/>
              <a:ext cx="380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552400" y="5118480"/>
              <a:ext cx="368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545920" y="5111640"/>
              <a:ext cx="3812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273400" y="5232240"/>
              <a:ext cx="507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266920" y="521352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273400" y="54100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266920" y="5391000"/>
              <a:ext cx="633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352520" y="3727440"/>
              <a:ext cx="2286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V="1">
              <a:off x="1352520" y="389232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1346040" y="372744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593720" y="386712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352520" y="4260960"/>
              <a:ext cx="22860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V="1">
              <a:off x="1352520" y="442548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346040" y="426096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593720" y="44006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1352520" y="4807080"/>
              <a:ext cx="22860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V="1">
              <a:off x="1352520" y="49716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346040" y="480708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1593720" y="49467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1352520" y="5251320"/>
              <a:ext cx="2286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flipV="1">
              <a:off x="1352520" y="54162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346040" y="525132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593720" y="539100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117960" y="4516560"/>
              <a:ext cx="1900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597400" y="4516560"/>
              <a:ext cx="12441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660400" y="4502160"/>
              <a:ext cx="11811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117600" y="4502160"/>
              <a:ext cx="1904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257640" y="46101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257640" y="48006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1682640" y="4432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013120" y="4076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847880" y="4076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1841400" y="408312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092400" y="4610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838600" y="39877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003480" y="3987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086280" y="39942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682640" y="49784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101680" y="52452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1841400" y="498492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847880" y="52452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092400" y="48006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927520" y="53341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086280" y="480708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01312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682640" y="38988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84788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10168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68264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847880" y="5423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187280" y="38988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02240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187280" y="4432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022400" y="4432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187280" y="49784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022400" y="49784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18728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022400" y="54230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841920" y="4711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006800" y="47116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374920" y="519444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311560" y="384804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62120" y="3784680"/>
              <a:ext cx="279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74720" y="433080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87320" y="487692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74720" y="530856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241880" y="457200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map AND/OR network to NOR/NOR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9" name=""/>
          <p:cNvGrpSpPr/>
          <p:nvPr/>
        </p:nvGrpSpPr>
        <p:grpSpPr>
          <a:xfrm>
            <a:off x="3124080" y="2057400"/>
            <a:ext cx="3733560" cy="1625400"/>
            <a:chOff x="3124080" y="2057400"/>
            <a:chExt cx="3733560" cy="1625400"/>
          </a:xfrm>
        </p:grpSpPr>
        <p:sp>
          <p:nvSpPr>
            <p:cNvPr id="2660" name=""/>
            <p:cNvSpPr/>
            <p:nvPr/>
          </p:nvSpPr>
          <p:spPr>
            <a:xfrm>
              <a:off x="3848040" y="2197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848040" y="270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flipV="1">
              <a:off x="3835080" y="2184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089240" y="21985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089600" y="21985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088880" y="21841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089240" y="21718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848040" y="30481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848040" y="35560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3835080" y="30351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089240" y="30495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089600" y="30495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088880" y="30355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089240" y="30225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092560" y="264312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444920" y="26431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533840" y="261576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092200" y="261576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270400" y="2768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270400" y="2984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067000" y="2768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559040" y="2450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762440" y="2450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054400" y="24638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067000" y="298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559040" y="3301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762440" y="33019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54400" y="2997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644640" y="2336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339720" y="23367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644640" y="2552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339720" y="25527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644640" y="318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339720" y="31878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644640" y="34034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339720" y="340344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981400" y="2870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184800" y="28702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124080" y="20574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149280" y="24890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149280" y="29336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149280" y="33274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603840" y="27050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1E65-DC34-4F85-8347-74FCB527632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"/>
          <p:cNvSpPr/>
          <p:nvPr/>
        </p:nvSpPr>
        <p:spPr>
          <a:xfrm>
            <a:off x="2870280" y="4356000"/>
            <a:ext cx="37335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{  [ (A’ + B’)’ + (C’ + D’)’  ]’  }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{     (A’ + B’)  •  (C’ + D’)      }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    (A’ + B’)’ + (C’ + D’)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    (A  •  B)  +  (C  •  D)  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verify equivalence of two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6" name=""/>
          <p:cNvGrpSpPr/>
          <p:nvPr/>
        </p:nvGrpSpPr>
        <p:grpSpPr>
          <a:xfrm>
            <a:off x="609480" y="2336760"/>
            <a:ext cx="3733560" cy="1625400"/>
            <a:chOff x="609480" y="2336760"/>
            <a:chExt cx="3733560" cy="1625400"/>
          </a:xfrm>
        </p:grpSpPr>
        <p:sp>
          <p:nvSpPr>
            <p:cNvPr id="2707" name=""/>
            <p:cNvSpPr/>
            <p:nvPr/>
          </p:nvSpPr>
          <p:spPr>
            <a:xfrm>
              <a:off x="1333440" y="247644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1333440" y="298440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flipV="1">
              <a:off x="1320480" y="24634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574640" y="247788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575000" y="247788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574280" y="246348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574640" y="245124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333440" y="33274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333440" y="38354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V="1">
              <a:off x="1320480" y="33145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574640" y="332892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1575000" y="33289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1574280" y="331488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1574640" y="330192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577960" y="292248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1930320" y="292248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019240" y="289512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577600" y="289512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755800" y="30477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755800" y="32637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552400" y="3047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044440" y="2730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247840" y="27302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539800" y="274320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552400" y="3263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044440" y="3581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247840" y="35812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539800" y="32763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130040" y="261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25120" y="261612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1130040" y="2832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25120" y="283212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130040" y="3467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825120" y="34671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1130040" y="3682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25120" y="36828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3466800" y="3149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3670200" y="3149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09480" y="233676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34680" y="276840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34680" y="321300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634680" y="360684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089240" y="298440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0" name=""/>
          <p:cNvGrpSpPr/>
          <p:nvPr/>
        </p:nvGrpSpPr>
        <p:grpSpPr>
          <a:xfrm>
            <a:off x="5105520" y="2209680"/>
            <a:ext cx="3606840" cy="2082600"/>
            <a:chOff x="5105520" y="2209680"/>
            <a:chExt cx="3606840" cy="2082600"/>
          </a:xfrm>
        </p:grpSpPr>
        <p:sp>
          <p:nvSpPr>
            <p:cNvPr id="2751" name=""/>
            <p:cNvSpPr/>
            <p:nvPr/>
          </p:nvSpPr>
          <p:spPr>
            <a:xfrm>
              <a:off x="5810400" y="23238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810400" y="27558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804280" y="23302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020280" y="2338200"/>
              <a:ext cx="3549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001200" y="233172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019920" y="232380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000840" y="230472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727960" y="242532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721480" y="241920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727960" y="260316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721480" y="259704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886720" y="36702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886720" y="4101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880240" y="367632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096960" y="3696840"/>
              <a:ext cx="367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090480" y="3678120"/>
              <a:ext cx="3801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096600" y="3669840"/>
              <a:ext cx="3675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090120" y="3663720"/>
              <a:ext cx="380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816880" y="378432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810400" y="376524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5816880" y="396216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5810400" y="3943080"/>
              <a:ext cx="637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248520" y="3060360"/>
              <a:ext cx="11300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6242040" y="3054240"/>
              <a:ext cx="1143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248880" y="3074760"/>
              <a:ext cx="112968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6242400" y="3068280"/>
              <a:ext cx="1142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757200" y="3074760"/>
              <a:ext cx="1008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751080" y="3068280"/>
              <a:ext cx="1130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794280" y="307296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788160" y="3066840"/>
              <a:ext cx="75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801120" y="31618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801120" y="33526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391520" y="32382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385400" y="3231720"/>
              <a:ext cx="633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880760" y="307944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V="1">
              <a:off x="7880760" y="325692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874280" y="307944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797960" y="32382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791840" y="3231720"/>
              <a:ext cx="759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391360" y="24508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5391360" y="262872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645520" y="37969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391360" y="37969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645520" y="3974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391360" y="39747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6382080" y="2539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6635880" y="31618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546960" y="2539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629760" y="2545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471000" y="38858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635880" y="33526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629760" y="335880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461360" y="32637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762660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12196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286840" y="32637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829480" y="2425320"/>
              <a:ext cx="660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905800" y="374616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6832800" y="3124080"/>
              <a:ext cx="660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118480" y="2209680"/>
              <a:ext cx="368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5105520" y="2615760"/>
              <a:ext cx="3938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5131080" y="3568320"/>
              <a:ext cx="3556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105520" y="3962160"/>
              <a:ext cx="393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8458560" y="313668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A22E-67A2-4886-8C9B-83D73E968FE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"/>
          <p:cNvSpPr/>
          <p:nvPr/>
        </p:nvSpPr>
        <p:spPr>
          <a:xfrm>
            <a:off x="1803600" y="5145120"/>
            <a:ext cx="13708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1790640" y="5145120"/>
            <a:ext cx="139680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1879560" y="5130720"/>
            <a:ext cx="129492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866960" y="5117760"/>
            <a:ext cx="13204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2400120" y="5130720"/>
            <a:ext cx="1774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2387160" y="5117760"/>
            <a:ext cx="20340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565360" y="53593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2400480" y="5145120"/>
            <a:ext cx="17712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2387520" y="5145120"/>
            <a:ext cx="2030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413080" y="5729400"/>
            <a:ext cx="1900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816200" y="5729400"/>
            <a:ext cx="138384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892160" y="5702400"/>
            <a:ext cx="13078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2412720" y="5702400"/>
            <a:ext cx="19044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565360" y="58420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2565360" y="6045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4343400" y="532116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4343400" y="579132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4330800" y="533412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4559400" y="5322960"/>
            <a:ext cx="40608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4546800" y="5322960"/>
            <a:ext cx="4312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4559040" y="5308920"/>
            <a:ext cx="40644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4546440" y="5295960"/>
            <a:ext cx="43164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5664600" y="5437080"/>
            <a:ext cx="2023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5067720" y="5437080"/>
            <a:ext cx="13960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5143680" y="5410440"/>
            <a:ext cx="13201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5664240" y="5410440"/>
            <a:ext cx="2026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5829480" y="55497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5829480" y="57531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4152960" y="535932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3225960" y="5359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403440" y="5359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3225960" y="59436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4152960" y="554976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3403440" y="594360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3581280" y="55627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3594240" y="5549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5651640" y="55497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4991040" y="55497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5181480" y="5549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6489720" y="56516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6578640" y="56516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2387520" y="5156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2197080" y="51562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2387520" y="5359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197080" y="53593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2387520" y="55497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2197080" y="55497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2387520" y="5842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2197080" y="58420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2387520" y="60451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2197080" y="60451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4152960" y="575316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2197080" y="63374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2387520" y="633744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4140360" y="57657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5651640" y="57531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2197080" y="65278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2387520" y="6527880"/>
            <a:ext cx="323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5638680" y="576576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1930320" y="5041800"/>
            <a:ext cx="33012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6807240" y="5511960"/>
            <a:ext cx="584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= A D F  +  A E F  +  B D F  +  B E F  +  C D F  +  C E F  +  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sum-of-products form – already simpl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x 3-input AND gates + 1 x 7-input OR gate (that may not even exist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wires (19 literals plus 6 internal wi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= (A + B + C) (D + E) F  +  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d form – not written as two-level S-o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x 3-input OR gate, 2 x 2-input OR gates, 1 x 3-input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wires (7 literals plus 3 internal wi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3DBF-CF9C-4A71-AA44-EBF05DE0DFA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8" name=""/>
          <p:cNvGrpSpPr/>
          <p:nvPr/>
        </p:nvGrpSpPr>
        <p:grpSpPr>
          <a:xfrm>
            <a:off x="4876920" y="1371600"/>
            <a:ext cx="3809880" cy="5270400"/>
            <a:chOff x="4876920" y="1371600"/>
            <a:chExt cx="3809880" cy="5270400"/>
          </a:xfrm>
        </p:grpSpPr>
        <p:sp>
          <p:nvSpPr>
            <p:cNvPr id="2879" name=""/>
            <p:cNvSpPr/>
            <p:nvPr/>
          </p:nvSpPr>
          <p:spPr>
            <a:xfrm>
              <a:off x="777240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78168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79132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876920" y="144792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054760" y="1371600"/>
              <a:ext cx="3632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65160"/>
                  <a:tab algn="l" pos="191772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4" name=""/>
          <p:cNvGrpSpPr/>
          <p:nvPr/>
        </p:nvGrpSpPr>
        <p:grpSpPr>
          <a:xfrm>
            <a:off x="2666880" y="1600200"/>
            <a:ext cx="6400440" cy="1447560"/>
            <a:chOff x="2666880" y="1600200"/>
            <a:chExt cx="6400440" cy="1447560"/>
          </a:xfrm>
        </p:grpSpPr>
        <p:sp>
          <p:nvSpPr>
            <p:cNvPr id="2885" name=""/>
            <p:cNvSpPr/>
            <p:nvPr/>
          </p:nvSpPr>
          <p:spPr>
            <a:xfrm>
              <a:off x="2666880" y="1905120"/>
              <a:ext cx="17020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ri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ND-O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6" name=""/>
            <p:cNvGrpSpPr/>
            <p:nvPr/>
          </p:nvGrpSpPr>
          <p:grpSpPr>
            <a:xfrm>
              <a:off x="4419720" y="1600200"/>
              <a:ext cx="4647600" cy="1447560"/>
              <a:chOff x="4419720" y="1600200"/>
              <a:chExt cx="4647600" cy="1447560"/>
            </a:xfrm>
          </p:grpSpPr>
          <p:sp>
            <p:nvSpPr>
              <p:cNvPr id="2887" name=""/>
              <p:cNvSpPr/>
              <p:nvPr/>
            </p:nvSpPr>
            <p:spPr>
              <a:xfrm>
                <a:off x="5088240" y="16272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5088240" y="1996200"/>
                <a:ext cx="37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5081760" y="1634040"/>
                <a:ext cx="0" cy="35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5284800" y="1642680"/>
                <a:ext cx="33696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5277600" y="163548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5284440" y="1627560"/>
                <a:ext cx="33732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5277600" y="1633680"/>
                <a:ext cx="36432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5088240" y="25560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5088240" y="2938680"/>
                <a:ext cx="37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5081760" y="2563200"/>
                <a:ext cx="0" cy="36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5284800" y="2585160"/>
                <a:ext cx="33696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277600" y="256464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5284440" y="2556360"/>
                <a:ext cx="337320" cy="38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277600" y="254952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128720" y="1777320"/>
                <a:ext cx="351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128720" y="21600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121880" y="1784520"/>
                <a:ext cx="0" cy="36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325280" y="1806480"/>
                <a:ext cx="33696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305120" y="1785960"/>
                <a:ext cx="36360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324920" y="1777680"/>
                <a:ext cx="337320" cy="38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304760" y="1770840"/>
                <a:ext cx="36396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981040" y="1731240"/>
                <a:ext cx="174240" cy="32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5481000" y="1731240"/>
                <a:ext cx="117432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547960" y="1716120"/>
                <a:ext cx="11070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5980680" y="1716120"/>
                <a:ext cx="1746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6101640" y="181836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101640" y="196884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8020800" y="1881720"/>
                <a:ext cx="161280" cy="32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507080" y="1881720"/>
                <a:ext cx="117504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575120" y="1866240"/>
                <a:ext cx="11070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8020440" y="1866240"/>
                <a:ext cx="16164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8142120" y="196884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8142120" y="213300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4939560" y="173664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4777560" y="17366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939560" y="188712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477756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953320" y="181836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642640" y="181836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790960" y="181836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939560" y="266580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4777560" y="26658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4939560" y="282960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777560" y="28296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980120" y="21330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642640" y="274752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898760" y="213300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790960" y="2747520"/>
                <a:ext cx="209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891920" y="2139480"/>
                <a:ext cx="0" cy="60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6966720" y="20509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6885360" y="205092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777560" y="2433240"/>
                <a:ext cx="209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6878520" y="2057760"/>
                <a:ext cx="0" cy="36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5953320" y="196884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5871960" y="1968840"/>
                <a:ext cx="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777560" y="2201040"/>
                <a:ext cx="108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5865480" y="1975680"/>
                <a:ext cx="0" cy="21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696672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6655680" y="188712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680436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669080" y="19688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980120" y="19688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831440" y="196884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8682480" y="2050920"/>
                <a:ext cx="12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4514040" y="2296800"/>
                <a:ext cx="28368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4500720" y="160020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500720" y="175032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4514040" y="2050920"/>
                <a:ext cx="28368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4514040" y="252900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4419720" y="2692800"/>
                <a:ext cx="405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8797320" y="191412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8" name=""/>
          <p:cNvGrpSpPr/>
          <p:nvPr/>
        </p:nvGrpSpPr>
        <p:grpSpPr>
          <a:xfrm>
            <a:off x="2031840" y="3165480"/>
            <a:ext cx="7035480" cy="1429920"/>
            <a:chOff x="2031840" y="3165480"/>
            <a:chExt cx="7035480" cy="1429920"/>
          </a:xfrm>
        </p:grpSpPr>
        <p:sp>
          <p:nvSpPr>
            <p:cNvPr id="2959" name=""/>
            <p:cNvSpPr/>
            <p:nvPr/>
          </p:nvSpPr>
          <p:spPr>
            <a:xfrm>
              <a:off x="2031840" y="3441600"/>
              <a:ext cx="2337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troduction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servation of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ub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0" name=""/>
            <p:cNvGrpSpPr/>
            <p:nvPr/>
          </p:nvGrpSpPr>
          <p:grpSpPr>
            <a:xfrm>
              <a:off x="4419720" y="3165480"/>
              <a:ext cx="4647600" cy="1429920"/>
              <a:chOff x="4419720" y="3165480"/>
              <a:chExt cx="4647600" cy="1429920"/>
            </a:xfrm>
          </p:grpSpPr>
          <p:sp>
            <p:nvSpPr>
              <p:cNvPr id="2961" name=""/>
              <p:cNvSpPr/>
              <p:nvPr/>
            </p:nvSpPr>
            <p:spPr>
              <a:xfrm>
                <a:off x="5111280" y="320580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111280" y="357012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104440" y="3212640"/>
                <a:ext cx="0" cy="35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5319720" y="3221280"/>
                <a:ext cx="334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313240" y="321408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5319360" y="3205800"/>
                <a:ext cx="335160" cy="36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5312880" y="3213000"/>
                <a:ext cx="361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5682240" y="3381480"/>
                <a:ext cx="40320" cy="4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5675400" y="3360960"/>
                <a:ext cx="5364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5997960" y="3308760"/>
                <a:ext cx="17424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5501520" y="3308760"/>
                <a:ext cx="115416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568120" y="3293640"/>
                <a:ext cx="108756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997600" y="3293640"/>
                <a:ext cx="17460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6118920" y="339480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105240" y="337464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H="1">
                <a:off x="6024600" y="3543120"/>
                <a:ext cx="80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5272560" y="3630600"/>
                <a:ext cx="214560" cy="13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5272560" y="3765240"/>
                <a:ext cx="214560" cy="17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5265720" y="3630600"/>
                <a:ext cx="0" cy="29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5501160" y="3752280"/>
                <a:ext cx="6696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126200" y="3354120"/>
                <a:ext cx="3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126200" y="3732120"/>
                <a:ext cx="3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119720" y="3360960"/>
                <a:ext cx="0" cy="36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335360" y="3382920"/>
                <a:ext cx="34776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328520" y="336276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335000" y="3354480"/>
                <a:ext cx="34812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328160" y="3347640"/>
                <a:ext cx="36180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697520" y="3529800"/>
                <a:ext cx="40320" cy="4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7690680" y="3522960"/>
                <a:ext cx="53640" cy="53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111280" y="412344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111280" y="450108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104440" y="4130280"/>
                <a:ext cx="0" cy="36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319720" y="4151880"/>
                <a:ext cx="334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313240" y="413172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319360" y="4123440"/>
                <a:ext cx="33516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312880" y="4116960"/>
                <a:ext cx="36180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682240" y="4298760"/>
                <a:ext cx="4032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675400" y="4291920"/>
                <a:ext cx="53640" cy="53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8013600" y="3457080"/>
                <a:ext cx="17352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7516440" y="3457080"/>
                <a:ext cx="116784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7583040" y="3441960"/>
                <a:ext cx="110124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8013240" y="3441960"/>
                <a:ext cx="17388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8133840" y="354312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8107200" y="3684600"/>
                <a:ext cx="53640" cy="54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H="1">
                <a:off x="8039520" y="370476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4963680" y="331380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4802400" y="331380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4963680" y="346212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802400" y="346212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5970960" y="3394800"/>
                <a:ext cx="1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5729040" y="339480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5890680" y="339480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963680" y="423108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802400" y="423108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963680" y="439308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802400" y="439308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985880" y="370476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729040" y="431208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890680" y="4312080"/>
                <a:ext cx="200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905240" y="370476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898760" y="3711960"/>
                <a:ext cx="0" cy="59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6978600" y="3624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6897960" y="3624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802400" y="4002120"/>
                <a:ext cx="20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891120" y="3630600"/>
                <a:ext cx="0" cy="36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581440" y="377244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970960" y="3543120"/>
                <a:ext cx="5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890680" y="3543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5729040" y="377244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5883840" y="3549960"/>
                <a:ext cx="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6978600" y="3462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6669720" y="346212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6897960" y="3462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7985880" y="3543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744320" y="354312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905240" y="354312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111280" y="377244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802400" y="3772440"/>
                <a:ext cx="29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8697960" y="3624120"/>
                <a:ext cx="10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6105240" y="352296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8107200" y="352296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4513680" y="3853440"/>
                <a:ext cx="281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4500360" y="3165480"/>
                <a:ext cx="2682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4500360" y="3313800"/>
                <a:ext cx="2682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513680" y="3610440"/>
                <a:ext cx="281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513680" y="4082760"/>
                <a:ext cx="2682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419720" y="4244760"/>
                <a:ext cx="402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8798760" y="3475800"/>
                <a:ext cx="2685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9" name=""/>
          <p:cNvGrpSpPr/>
          <p:nvPr/>
        </p:nvGrpSpPr>
        <p:grpSpPr>
          <a:xfrm>
            <a:off x="2286000" y="4952880"/>
            <a:ext cx="6743520" cy="1415880"/>
            <a:chOff x="2286000" y="4952880"/>
            <a:chExt cx="6743520" cy="1415880"/>
          </a:xfrm>
        </p:grpSpPr>
        <p:sp>
          <p:nvSpPr>
            <p:cNvPr id="3050" name=""/>
            <p:cNvSpPr/>
            <p:nvPr/>
          </p:nvSpPr>
          <p:spPr>
            <a:xfrm>
              <a:off x="2286000" y="5079960"/>
              <a:ext cx="20829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rawn in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f conven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AND g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1" name=""/>
            <p:cNvGrpSpPr/>
            <p:nvPr/>
          </p:nvGrpSpPr>
          <p:grpSpPr>
            <a:xfrm>
              <a:off x="4419720" y="4952880"/>
              <a:ext cx="4609800" cy="1415880"/>
              <a:chOff x="4419720" y="4952880"/>
              <a:chExt cx="4609800" cy="1415880"/>
            </a:xfrm>
          </p:grpSpPr>
          <p:sp>
            <p:nvSpPr>
              <p:cNvPr id="3052" name=""/>
              <p:cNvSpPr/>
              <p:nvPr/>
            </p:nvSpPr>
            <p:spPr>
              <a:xfrm>
                <a:off x="5094360" y="497916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5094360" y="53402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5087880" y="4986000"/>
                <a:ext cx="0" cy="34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301720" y="499428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295600" y="498744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301720" y="4979160"/>
                <a:ext cx="3333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295240" y="4986360"/>
                <a:ext cx="35964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662080" y="515304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655600" y="5132880"/>
                <a:ext cx="5328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7098840" y="51260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098840" y="55004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7092000" y="513288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7306560" y="5154480"/>
                <a:ext cx="3463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300080" y="513468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7306200" y="5126400"/>
                <a:ext cx="34668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299720" y="5119560"/>
                <a:ext cx="3596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666560" y="529992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7659720" y="5293080"/>
                <a:ext cx="5364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094360" y="588780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094360" y="626220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087880" y="589464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301720" y="591624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295600" y="589608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301720" y="5888160"/>
                <a:ext cx="33336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295240" y="5881320"/>
                <a:ext cx="3596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662080" y="606168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655600" y="6054840"/>
                <a:ext cx="5328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8101080" y="5206320"/>
                <a:ext cx="37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8101080" y="5580720"/>
                <a:ext cx="37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8094240" y="521316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8308800" y="5221800"/>
                <a:ext cx="34632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8302320" y="521496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8308440" y="5206680"/>
                <a:ext cx="34668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8301960" y="5200200"/>
                <a:ext cx="359640" cy="38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8669160" y="538020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8662320" y="5373360"/>
                <a:ext cx="5328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096600" y="50594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096600" y="542016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089760" y="5066280"/>
                <a:ext cx="0" cy="34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303960" y="507456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297120" y="5067720"/>
                <a:ext cx="36000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303960" y="505980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296760" y="5052960"/>
                <a:ext cx="36036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6664320" y="5219640"/>
                <a:ext cx="39960" cy="5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6657840" y="5213160"/>
                <a:ext cx="5328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4947120" y="508608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4786920" y="508608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4947120" y="52333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4786920" y="52333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949720" y="51663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708880" y="516636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869080" y="516636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4947120" y="59947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4786920" y="59947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4947120" y="615528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4786920" y="615528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954200" y="5473800"/>
                <a:ext cx="13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5708880" y="607500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5869080" y="6075000"/>
                <a:ext cx="1991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873920" y="547380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867080" y="5480280"/>
                <a:ext cx="0" cy="58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951960" y="53935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871680" y="53935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786920" y="5767920"/>
                <a:ext cx="207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864840" y="5400000"/>
                <a:ext cx="0" cy="36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5949720" y="531324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5869080" y="531324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5862960" y="5320080"/>
                <a:ext cx="0" cy="21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4786920" y="5540400"/>
                <a:ext cx="106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6711480" y="52333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951960" y="52333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6871680" y="52333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954200" y="5313240"/>
                <a:ext cx="13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713720" y="531324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873920" y="53132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8715600" y="539352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4512960" y="5634000"/>
                <a:ext cx="28008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4499640" y="4952880"/>
                <a:ext cx="2671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4499640" y="5099760"/>
                <a:ext cx="2671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4432680" y="5393520"/>
                <a:ext cx="3603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4512960" y="5861520"/>
                <a:ext cx="2667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4419720" y="6021720"/>
                <a:ext cx="40068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8762760" y="5259960"/>
                <a:ext cx="2667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of multi-level logic to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 A (B + C D) + B C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EAA1-9116-416A-8F6E-31075C982C5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7" name=""/>
          <p:cNvGrpSpPr/>
          <p:nvPr/>
        </p:nvGrpSpPr>
        <p:grpSpPr>
          <a:xfrm>
            <a:off x="4267080" y="1498680"/>
            <a:ext cx="3936960" cy="5219640"/>
            <a:chOff x="4267080" y="1498680"/>
            <a:chExt cx="3936960" cy="5219640"/>
          </a:xfrm>
        </p:grpSpPr>
        <p:sp>
          <p:nvSpPr>
            <p:cNvPr id="3138" name=""/>
            <p:cNvSpPr/>
            <p:nvPr/>
          </p:nvSpPr>
          <p:spPr>
            <a:xfrm>
              <a:off x="7238880" y="152388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248520" y="152388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5257800" y="149868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267080" y="149868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572000" y="1523880"/>
              <a:ext cx="3632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65160"/>
                  <a:tab algn="l" pos="191772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3" name=""/>
          <p:cNvGrpSpPr/>
          <p:nvPr/>
        </p:nvGrpSpPr>
        <p:grpSpPr>
          <a:xfrm>
            <a:off x="2006640" y="1828800"/>
            <a:ext cx="6565680" cy="1479240"/>
            <a:chOff x="2006640" y="1828800"/>
            <a:chExt cx="6565680" cy="1479240"/>
          </a:xfrm>
        </p:grpSpPr>
        <p:grpSp>
          <p:nvGrpSpPr>
            <p:cNvPr id="3144" name=""/>
            <p:cNvGrpSpPr/>
            <p:nvPr/>
          </p:nvGrpSpPr>
          <p:grpSpPr>
            <a:xfrm>
              <a:off x="3772080" y="1828800"/>
              <a:ext cx="4800240" cy="1479240"/>
              <a:chOff x="3772080" y="1828800"/>
              <a:chExt cx="4800240" cy="1479240"/>
            </a:xfrm>
          </p:grpSpPr>
          <p:sp>
            <p:nvSpPr>
              <p:cNvPr id="3145" name=""/>
              <p:cNvSpPr/>
              <p:nvPr/>
            </p:nvSpPr>
            <p:spPr>
              <a:xfrm>
                <a:off x="4462920" y="185688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4462920" y="2233440"/>
                <a:ext cx="39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4455720" y="1863360"/>
                <a:ext cx="0" cy="36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4665600" y="18723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4658760" y="186552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4665240" y="1856880"/>
                <a:ext cx="34812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4658400" y="1863720"/>
                <a:ext cx="37620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4462920" y="280584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4462920" y="3196800"/>
                <a:ext cx="39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4455720" y="2812320"/>
                <a:ext cx="0" cy="37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4665600" y="28353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4658760" y="281448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665240" y="2806200"/>
                <a:ext cx="34812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658400" y="279936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569640" y="2010240"/>
                <a:ext cx="3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569640" y="2401200"/>
                <a:ext cx="37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563160" y="2017440"/>
                <a:ext cx="0" cy="37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772680" y="20397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751440" y="2018880"/>
                <a:ext cx="37656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772320" y="2010600"/>
                <a:ext cx="34812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751080" y="2003760"/>
                <a:ext cx="37692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384520" y="1963080"/>
                <a:ext cx="18000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4867920" y="1963080"/>
                <a:ext cx="12132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4937040" y="1947960"/>
                <a:ext cx="11437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384160" y="1947960"/>
                <a:ext cx="18036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5509080" y="2052000"/>
                <a:ext cx="2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5509080" y="2205720"/>
                <a:ext cx="2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491240" y="2116800"/>
                <a:ext cx="16632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961320" y="2116800"/>
                <a:ext cx="121248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030800" y="2101320"/>
                <a:ext cx="11430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491240" y="2101320"/>
                <a:ext cx="1663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616520" y="22057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616520" y="23731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4309200" y="19681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4141800" y="19681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4309200" y="212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414180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5355720" y="20520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5034960" y="20520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5188320" y="205200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4309200" y="29174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4141800" y="29174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4309200" y="3084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4141800" y="3084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449120" y="23731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034960" y="30013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365240" y="237312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188320" y="3001320"/>
                <a:ext cx="21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358400" y="2379960"/>
                <a:ext cx="0" cy="61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402240" y="22892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318720" y="228924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4141800" y="2679840"/>
                <a:ext cx="21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311880" y="2296080"/>
                <a:ext cx="0" cy="37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355720" y="22057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5272200" y="2205720"/>
                <a:ext cx="6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141800" y="2442960"/>
                <a:ext cx="111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5265000" y="2212200"/>
                <a:ext cx="0" cy="22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40224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081480" y="212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623520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7128360" y="22057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449120" y="22057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295760" y="22057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8174520" y="2289240"/>
                <a:ext cx="12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3869640" y="2540160"/>
                <a:ext cx="29304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3855600" y="1828800"/>
                <a:ext cx="27900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3855600" y="1982160"/>
                <a:ext cx="27900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3869640" y="2289240"/>
                <a:ext cx="29304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3869640" y="2777760"/>
                <a:ext cx="27900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3772080" y="2945520"/>
                <a:ext cx="4186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8293320" y="2149920"/>
                <a:ext cx="27900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6" name=""/>
            <p:cNvSpPr/>
            <p:nvPr/>
          </p:nvSpPr>
          <p:spPr>
            <a:xfrm>
              <a:off x="2006640" y="2082960"/>
              <a:ext cx="170172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ri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ND-O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7" name=""/>
          <p:cNvGrpSpPr/>
          <p:nvPr/>
        </p:nvGrpSpPr>
        <p:grpSpPr>
          <a:xfrm>
            <a:off x="711360" y="3201840"/>
            <a:ext cx="8355960" cy="1733400"/>
            <a:chOff x="711360" y="3201840"/>
            <a:chExt cx="8355960" cy="1733400"/>
          </a:xfrm>
        </p:grpSpPr>
        <p:sp>
          <p:nvSpPr>
            <p:cNvPr id="3218" name=""/>
            <p:cNvSpPr/>
            <p:nvPr/>
          </p:nvSpPr>
          <p:spPr>
            <a:xfrm>
              <a:off x="711360" y="3530520"/>
              <a:ext cx="2336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troduction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servation of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ub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9" name=""/>
            <p:cNvGrpSpPr/>
            <p:nvPr/>
          </p:nvGrpSpPr>
          <p:grpSpPr>
            <a:xfrm>
              <a:off x="3213000" y="3201840"/>
              <a:ext cx="5854320" cy="1733400"/>
              <a:chOff x="3213000" y="3201840"/>
              <a:chExt cx="5854320" cy="1733400"/>
            </a:xfrm>
          </p:grpSpPr>
          <p:sp>
            <p:nvSpPr>
              <p:cNvPr id="3220" name=""/>
              <p:cNvSpPr/>
              <p:nvPr/>
            </p:nvSpPr>
            <p:spPr>
              <a:xfrm>
                <a:off x="3306600" y="3998160"/>
                <a:ext cx="28116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3293280" y="3221640"/>
                <a:ext cx="2674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3293280" y="3516120"/>
                <a:ext cx="2674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3293280" y="3744000"/>
                <a:ext cx="28116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3319920" y="4279320"/>
                <a:ext cx="2678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3213000" y="4587480"/>
                <a:ext cx="40176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8799480" y="3610080"/>
                <a:ext cx="26784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6568560" y="3476520"/>
                <a:ext cx="36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6568560" y="3837600"/>
                <a:ext cx="375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6562080" y="3483000"/>
                <a:ext cx="0" cy="34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6763320" y="3491280"/>
                <a:ext cx="3477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6756480" y="3484800"/>
                <a:ext cx="3614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6762960" y="3476520"/>
                <a:ext cx="34812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6756120" y="3469680"/>
                <a:ext cx="36180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6488640" y="356328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6488640" y="37105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4519080" y="3315600"/>
                <a:ext cx="37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4519080" y="3690360"/>
                <a:ext cx="38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4512240" y="3322440"/>
                <a:ext cx="0" cy="36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4726800" y="3330720"/>
                <a:ext cx="33408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4707000" y="3323880"/>
                <a:ext cx="360720" cy="3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4726440" y="3315600"/>
                <a:ext cx="33444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4706640" y="3308760"/>
                <a:ext cx="361080" cy="3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4438800" y="34027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4438800" y="356328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4519080" y="4399920"/>
                <a:ext cx="37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4519080" y="4775040"/>
                <a:ext cx="38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4512240" y="4406400"/>
                <a:ext cx="0" cy="36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4726800" y="4414680"/>
                <a:ext cx="33408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4707000" y="4408200"/>
                <a:ext cx="36072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4726440" y="4400280"/>
                <a:ext cx="33444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4706640" y="4393800"/>
                <a:ext cx="3610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4438800" y="448704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4438800" y="463428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5021640" y="3409920"/>
                <a:ext cx="105768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5015160" y="3403080"/>
                <a:ext cx="10839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5021640" y="3424320"/>
                <a:ext cx="1057680" cy="34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5015520" y="3417480"/>
                <a:ext cx="108360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5504040" y="3424320"/>
                <a:ext cx="9288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5497560" y="3417480"/>
                <a:ext cx="10584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544000" y="3422880"/>
                <a:ext cx="5292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523840" y="3416760"/>
                <a:ext cx="7956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550480" y="3502800"/>
                <a:ext cx="3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550480" y="3663360"/>
                <a:ext cx="3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6106680" y="357012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6099840" y="3563280"/>
                <a:ext cx="5364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7057800" y="3570480"/>
                <a:ext cx="107100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7050960" y="3563640"/>
                <a:ext cx="1084680" cy="347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7058160" y="3584880"/>
                <a:ext cx="107064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7051320" y="3578400"/>
                <a:ext cx="1084320" cy="34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7554240" y="3584880"/>
                <a:ext cx="9252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7547400" y="3578400"/>
                <a:ext cx="10584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7580520" y="3583440"/>
                <a:ext cx="6588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7573680" y="3576600"/>
                <a:ext cx="7956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7587000" y="366336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7587000" y="381096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8142840" y="3717360"/>
                <a:ext cx="53280" cy="5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8136360" y="37105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3889440" y="3201840"/>
                <a:ext cx="227160" cy="14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 flipV="1">
                <a:off x="3889440" y="3348720"/>
                <a:ext cx="227160" cy="16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3882600" y="320184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4130640" y="332244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3889440" y="3509640"/>
                <a:ext cx="227160" cy="14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V="1">
                <a:off x="3889440" y="3656520"/>
                <a:ext cx="22716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3882600" y="350964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4130640" y="3630240"/>
                <a:ext cx="6660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3889440" y="397800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 flipV="1">
                <a:off x="3889440" y="4111560"/>
                <a:ext cx="22716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3882600" y="3978000"/>
                <a:ext cx="0" cy="29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4130640" y="409860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3889440" y="428616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 flipV="1">
                <a:off x="3889440" y="4420080"/>
                <a:ext cx="227160" cy="17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3882600" y="428616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4130640" y="4406400"/>
                <a:ext cx="6660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3889440" y="459396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V="1">
                <a:off x="3889440" y="4727520"/>
                <a:ext cx="22716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3882600" y="459396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4130640" y="471456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8377560" y="3589920"/>
                <a:ext cx="21384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 flipV="1">
                <a:off x="8377560" y="3723480"/>
                <a:ext cx="21384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8370720" y="3589920"/>
                <a:ext cx="0" cy="29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8605080" y="3710520"/>
                <a:ext cx="6696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4210920" y="3355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4371840" y="342252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4365000" y="3362400"/>
                <a:ext cx="0" cy="5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421092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4371840" y="358344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4365000" y="3589920"/>
                <a:ext cx="0" cy="6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38992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06844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22900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4210920" y="4426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4371840" y="450684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4365000" y="443340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4210920" y="473472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4371840" y="466740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4365000" y="4674240"/>
                <a:ext cx="0" cy="5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7426080" y="38109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5068440" y="45874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7345800" y="381096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229000" y="4587480"/>
                <a:ext cx="210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7339320" y="3817440"/>
                <a:ext cx="0" cy="76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4210920" y="41187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6408000" y="373068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6327720" y="373068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4371840" y="4118760"/>
                <a:ext cx="1942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6321240" y="373716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38992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309280" y="366336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5302440" y="3670200"/>
                <a:ext cx="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3581280" y="3891240"/>
                <a:ext cx="171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6166800" y="358344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408000" y="35834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327720" y="358344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4260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1182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278840" y="366336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821628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821628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3742200" y="33555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3581280" y="3355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3742200" y="36633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35812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3742200" y="41187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3581280" y="41187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3742200" y="44265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3581280" y="4426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3742200" y="47347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3581280" y="473472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868536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0" name=""/>
          <p:cNvGrpSpPr/>
          <p:nvPr/>
        </p:nvGrpSpPr>
        <p:grpSpPr>
          <a:xfrm>
            <a:off x="1523880" y="4997520"/>
            <a:ext cx="7746840" cy="1550520"/>
            <a:chOff x="1523880" y="4997520"/>
            <a:chExt cx="7746840" cy="1550520"/>
          </a:xfrm>
        </p:grpSpPr>
        <p:sp>
          <p:nvSpPr>
            <p:cNvPr id="3351" name=""/>
            <p:cNvSpPr/>
            <p:nvPr/>
          </p:nvSpPr>
          <p:spPr>
            <a:xfrm>
              <a:off x="1523880" y="5283360"/>
              <a:ext cx="20829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rawn in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f conven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R g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2" name=""/>
            <p:cNvGrpSpPr/>
            <p:nvPr/>
          </p:nvGrpSpPr>
          <p:grpSpPr>
            <a:xfrm>
              <a:off x="3733920" y="4997520"/>
              <a:ext cx="5536800" cy="1550520"/>
              <a:chOff x="3733920" y="4997520"/>
              <a:chExt cx="5536800" cy="1550520"/>
            </a:xfrm>
          </p:grpSpPr>
          <p:sp>
            <p:nvSpPr>
              <p:cNvPr id="3353" name=""/>
              <p:cNvSpPr/>
              <p:nvPr/>
            </p:nvSpPr>
            <p:spPr>
              <a:xfrm>
                <a:off x="3785760" y="5675040"/>
                <a:ext cx="35172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3799080" y="4997520"/>
                <a:ext cx="36432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3799080" y="5153760"/>
                <a:ext cx="37764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3799080" y="5440320"/>
                <a:ext cx="35136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3733920" y="6052680"/>
                <a:ext cx="41688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3772800" y="6208920"/>
                <a:ext cx="3906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9010440" y="5297040"/>
                <a:ext cx="26028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4880160" y="5114880"/>
                <a:ext cx="102924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4874040" y="5107680"/>
                <a:ext cx="1041480" cy="33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4880520" y="512928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4874400" y="5122440"/>
                <a:ext cx="10411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5349600" y="5129280"/>
                <a:ext cx="907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343480" y="5122440"/>
                <a:ext cx="1029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375520" y="5127480"/>
                <a:ext cx="6480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5369040" y="5121000"/>
                <a:ext cx="7740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5382000" y="520560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382000" y="534888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5922720" y="5257800"/>
                <a:ext cx="518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5915880" y="5250960"/>
                <a:ext cx="6516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6847560" y="5258520"/>
                <a:ext cx="102924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841800" y="5252040"/>
                <a:ext cx="10537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6847920" y="528552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6842160" y="5266080"/>
                <a:ext cx="105336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7317000" y="5285520"/>
                <a:ext cx="907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310880" y="5266080"/>
                <a:ext cx="1029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355880" y="5283720"/>
                <a:ext cx="5148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349400" y="5265000"/>
                <a:ext cx="6444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362360" y="53488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362360" y="5505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903080" y="541404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896240" y="5407920"/>
                <a:ext cx="5220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3890880" y="503676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3884400" y="5043600"/>
                <a:ext cx="105372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3890880" y="5050800"/>
                <a:ext cx="1028160" cy="33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3884760" y="5044320"/>
                <a:ext cx="1053360" cy="35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4373280" y="5050800"/>
                <a:ext cx="763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4353480" y="5044320"/>
                <a:ext cx="102960" cy="3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4398840" y="5049360"/>
                <a:ext cx="5076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4392000" y="5042520"/>
                <a:ext cx="64440" cy="3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4404960" y="5127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4404960" y="52840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4945320" y="519264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4938840" y="5173200"/>
                <a:ext cx="5184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3890880" y="6092640"/>
                <a:ext cx="102816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3884400" y="6086160"/>
                <a:ext cx="10537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3890880" y="6106680"/>
                <a:ext cx="102816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3884760" y="6100200"/>
                <a:ext cx="105336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4373280" y="6106680"/>
                <a:ext cx="7632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4353480" y="6100200"/>
                <a:ext cx="1029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4398840" y="6105240"/>
                <a:ext cx="507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4392000" y="6099120"/>
                <a:ext cx="6444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404960" y="618336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4404960" y="633960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4945320" y="624816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4938840" y="6242040"/>
                <a:ext cx="51840" cy="51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5793120" y="519336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5786280" y="5173560"/>
                <a:ext cx="104148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5793120" y="520704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5786640" y="5200920"/>
                <a:ext cx="104112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6262200" y="5207040"/>
                <a:ext cx="9000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6255720" y="5200920"/>
                <a:ext cx="1029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6287760" y="5206320"/>
                <a:ext cx="64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6281280" y="5199480"/>
                <a:ext cx="7740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6293880" y="528408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6293880" y="542736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6834600" y="5336280"/>
                <a:ext cx="518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6828120" y="5329440"/>
                <a:ext cx="6480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7759440" y="5258520"/>
                <a:ext cx="102924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7752960" y="5252040"/>
                <a:ext cx="104220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7759800" y="528552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7753320" y="5266080"/>
                <a:ext cx="104184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8228880" y="5285520"/>
                <a:ext cx="907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8222400" y="5266080"/>
                <a:ext cx="1036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8267760" y="5283720"/>
                <a:ext cx="5148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8248680" y="5265000"/>
                <a:ext cx="7740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8274240" y="53488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8274240" y="5505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8815320" y="5414040"/>
                <a:ext cx="3852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8795520" y="5407920"/>
                <a:ext cx="6480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5004360" y="520560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5238720" y="520560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5160240" y="520560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5004360" y="6261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7206120" y="5505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7127640" y="550548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160240" y="6261480"/>
                <a:ext cx="195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7121160" y="5511960"/>
                <a:ext cx="0" cy="74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238720" y="53488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160240" y="534888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153760" y="5355720"/>
                <a:ext cx="0" cy="22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4118040" y="5583600"/>
                <a:ext cx="1029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6150600" y="52840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994360" y="52840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690624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20612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062840" y="5348880"/>
                <a:ext cx="12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4248720" y="52840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4118040" y="52840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6150600" y="542736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6144120" y="5433480"/>
                <a:ext cx="0" cy="36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4131000" y="5805360"/>
                <a:ext cx="200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4248720" y="6183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4118040" y="618336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4248720" y="633960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4118040" y="633960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4248720" y="5127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4118040" y="51274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961760" y="5427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8118000" y="5505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811800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8111520" y="5433480"/>
                <a:ext cx="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8098200" y="5414040"/>
                <a:ext cx="38880" cy="38880"/>
              </a:xfrm>
              <a:prstGeom prst="rect">
                <a:avLst/>
              </a:prstGeom>
              <a:solidFill>
                <a:srgbClr val="d500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8111520" y="5355720"/>
                <a:ext cx="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8873640" y="5427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of multi-level logic to N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 A (B + C D) + B C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BC4E-642D-449B-9A2F-0FFC3EB27AF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1" name=""/>
          <p:cNvGrpSpPr/>
          <p:nvPr/>
        </p:nvGrpSpPr>
        <p:grpSpPr>
          <a:xfrm>
            <a:off x="1731960" y="2360520"/>
            <a:ext cx="6532560" cy="3427560"/>
            <a:chOff x="1731960" y="2360520"/>
            <a:chExt cx="6532560" cy="3427560"/>
          </a:xfrm>
        </p:grpSpPr>
        <p:sp>
          <p:nvSpPr>
            <p:cNvPr id="3472" name=""/>
            <p:cNvSpPr/>
            <p:nvPr/>
          </p:nvSpPr>
          <p:spPr>
            <a:xfrm>
              <a:off x="2925720" y="2378160"/>
              <a:ext cx="34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2925720" y="2735280"/>
              <a:ext cx="366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V="1">
              <a:off x="2919240" y="2371680"/>
              <a:ext cx="1800" cy="370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5" name=""/>
            <p:cNvGrpSpPr/>
            <p:nvPr/>
          </p:nvGrpSpPr>
          <p:grpSpPr>
            <a:xfrm>
              <a:off x="3274920" y="2384640"/>
              <a:ext cx="173160" cy="190440"/>
              <a:chOff x="3274920" y="2384640"/>
              <a:chExt cx="173160" cy="190440"/>
            </a:xfrm>
          </p:grpSpPr>
          <p:sp>
            <p:nvSpPr>
              <p:cNvPr id="3476" name=""/>
              <p:cNvSpPr/>
              <p:nvPr/>
            </p:nvSpPr>
            <p:spPr>
              <a:xfrm>
                <a:off x="3274920" y="238464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3274920" y="238464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8" name=""/>
            <p:cNvGrpSpPr/>
            <p:nvPr/>
          </p:nvGrpSpPr>
          <p:grpSpPr>
            <a:xfrm>
              <a:off x="3274920" y="2557440"/>
              <a:ext cx="173160" cy="195480"/>
              <a:chOff x="3274920" y="2557440"/>
              <a:chExt cx="173160" cy="195480"/>
            </a:xfrm>
          </p:grpSpPr>
          <p:sp>
            <p:nvSpPr>
              <p:cNvPr id="3479" name=""/>
              <p:cNvSpPr/>
              <p:nvPr/>
            </p:nvSpPr>
            <p:spPr>
              <a:xfrm>
                <a:off x="3274920" y="2557440"/>
                <a:ext cx="1731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4"/>
                    </a:lnTo>
                    <a:lnTo>
                      <a:pt x="199" y="96"/>
                    </a:lnTo>
                    <a:lnTo>
                      <a:pt x="190" y="117"/>
                    </a:lnTo>
                    <a:lnTo>
                      <a:pt x="180" y="138"/>
                    </a:lnTo>
                    <a:lnTo>
                      <a:pt x="154" y="175"/>
                    </a:lnTo>
                    <a:lnTo>
                      <a:pt x="138" y="191"/>
                    </a:lnTo>
                    <a:lnTo>
                      <a:pt x="120" y="205"/>
                    </a:lnTo>
                    <a:lnTo>
                      <a:pt x="103" y="217"/>
                    </a:lnTo>
                    <a:lnTo>
                      <a:pt x="84" y="228"/>
                    </a:lnTo>
                    <a:lnTo>
                      <a:pt x="64" y="236"/>
                    </a:lnTo>
                    <a:lnTo>
                      <a:pt x="43" y="242"/>
                    </a:lnTo>
                    <a:lnTo>
                      <a:pt x="22" y="245"/>
                    </a:lnTo>
                    <a:lnTo>
                      <a:pt x="0" y="247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3274920" y="2557440"/>
                <a:ext cx="1731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4"/>
                    </a:lnTo>
                    <a:lnTo>
                      <a:pt x="199" y="96"/>
                    </a:lnTo>
                    <a:lnTo>
                      <a:pt x="190" y="117"/>
                    </a:lnTo>
                    <a:lnTo>
                      <a:pt x="180" y="138"/>
                    </a:lnTo>
                    <a:lnTo>
                      <a:pt x="154" y="175"/>
                    </a:lnTo>
                    <a:lnTo>
                      <a:pt x="138" y="191"/>
                    </a:lnTo>
                    <a:lnTo>
                      <a:pt x="120" y="205"/>
                    </a:lnTo>
                    <a:lnTo>
                      <a:pt x="103" y="217"/>
                    </a:lnTo>
                    <a:lnTo>
                      <a:pt x="84" y="228"/>
                    </a:lnTo>
                    <a:lnTo>
                      <a:pt x="64" y="236"/>
                    </a:lnTo>
                    <a:lnTo>
                      <a:pt x="43" y="242"/>
                    </a:lnTo>
                    <a:lnTo>
                      <a:pt x="22" y="245"/>
                    </a:lnTo>
                    <a:lnTo>
                      <a:pt x="0" y="24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1" name=""/>
            <p:cNvSpPr/>
            <p:nvPr/>
          </p:nvSpPr>
          <p:spPr>
            <a:xfrm>
              <a:off x="2114280" y="2678040"/>
              <a:ext cx="34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2114280" y="304632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V="1">
              <a:off x="2109600" y="2671920"/>
              <a:ext cx="1800" cy="38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4" name=""/>
            <p:cNvGrpSpPr/>
            <p:nvPr/>
          </p:nvGrpSpPr>
          <p:grpSpPr>
            <a:xfrm>
              <a:off x="2463840" y="2684520"/>
              <a:ext cx="172800" cy="190440"/>
              <a:chOff x="2463840" y="2684520"/>
              <a:chExt cx="172800" cy="190440"/>
            </a:xfrm>
          </p:grpSpPr>
          <p:sp>
            <p:nvSpPr>
              <p:cNvPr id="3485" name=""/>
              <p:cNvSpPr/>
              <p:nvPr/>
            </p:nvSpPr>
            <p:spPr>
              <a:xfrm>
                <a:off x="2463840" y="268452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2463840" y="268452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7" name=""/>
            <p:cNvGrpSpPr/>
            <p:nvPr/>
          </p:nvGrpSpPr>
          <p:grpSpPr>
            <a:xfrm>
              <a:off x="2463840" y="2862360"/>
              <a:ext cx="172800" cy="190440"/>
              <a:chOff x="2463840" y="2862360"/>
              <a:chExt cx="172800" cy="190440"/>
            </a:xfrm>
          </p:grpSpPr>
          <p:sp>
            <p:nvSpPr>
              <p:cNvPr id="3488" name=""/>
              <p:cNvSpPr/>
              <p:nvPr/>
            </p:nvSpPr>
            <p:spPr>
              <a:xfrm>
                <a:off x="2463840" y="286236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2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1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1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5" y="229"/>
                    </a:lnTo>
                    <a:lnTo>
                      <a:pt x="44" y="235"/>
                    </a:lnTo>
                    <a:lnTo>
                      <a:pt x="23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2463840" y="286236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2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1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1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5" y="229"/>
                    </a:lnTo>
                    <a:lnTo>
                      <a:pt x="44" y="235"/>
                    </a:lnTo>
                    <a:lnTo>
                      <a:pt x="23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0" name=""/>
            <p:cNvGrpSpPr/>
            <p:nvPr/>
          </p:nvGrpSpPr>
          <p:grpSpPr>
            <a:xfrm>
              <a:off x="3692520" y="2697120"/>
              <a:ext cx="555480" cy="177840"/>
              <a:chOff x="3692520" y="2697120"/>
              <a:chExt cx="555480" cy="177840"/>
            </a:xfrm>
          </p:grpSpPr>
          <p:sp>
            <p:nvSpPr>
              <p:cNvPr id="3491" name=""/>
              <p:cNvSpPr/>
              <p:nvPr/>
            </p:nvSpPr>
            <p:spPr>
              <a:xfrm>
                <a:off x="3692520" y="2697120"/>
                <a:ext cx="555480" cy="177840"/>
              </a:xfrm>
              <a:custGeom>
                <a:avLst/>
                <a:gdLst/>
                <a:ahLst/>
                <a:rect l="l" t="t" r="r" b="b"/>
                <a:pathLst>
                  <a:path w="700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09" y="10"/>
                    </a:lnTo>
                    <a:lnTo>
                      <a:pt x="273" y="17"/>
                    </a:lnTo>
                    <a:lnTo>
                      <a:pt x="335" y="26"/>
                    </a:lnTo>
                    <a:lnTo>
                      <a:pt x="392" y="38"/>
                    </a:lnTo>
                    <a:lnTo>
                      <a:pt x="447" y="51"/>
                    </a:lnTo>
                    <a:lnTo>
                      <a:pt x="496" y="65"/>
                    </a:lnTo>
                    <a:lnTo>
                      <a:pt x="541" y="80"/>
                    </a:lnTo>
                    <a:lnTo>
                      <a:pt x="581" y="98"/>
                    </a:lnTo>
                    <a:lnTo>
                      <a:pt x="616" y="117"/>
                    </a:lnTo>
                    <a:lnTo>
                      <a:pt x="646" y="136"/>
                    </a:lnTo>
                    <a:lnTo>
                      <a:pt x="669" y="157"/>
                    </a:lnTo>
                    <a:lnTo>
                      <a:pt x="686" y="178"/>
                    </a:lnTo>
                    <a:lnTo>
                      <a:pt x="697" y="201"/>
                    </a:lnTo>
                    <a:lnTo>
                      <a:pt x="700" y="212"/>
                    </a:lnTo>
                    <a:lnTo>
                      <a:pt x="700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3692520" y="2697120"/>
                <a:ext cx="555480" cy="177840"/>
              </a:xfrm>
              <a:custGeom>
                <a:avLst/>
                <a:gdLst/>
                <a:ahLst/>
                <a:rect l="l" t="t" r="r" b="b"/>
                <a:pathLst>
                  <a:path w="700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09" y="10"/>
                    </a:lnTo>
                    <a:lnTo>
                      <a:pt x="273" y="17"/>
                    </a:lnTo>
                    <a:lnTo>
                      <a:pt x="335" y="26"/>
                    </a:lnTo>
                    <a:lnTo>
                      <a:pt x="392" y="38"/>
                    </a:lnTo>
                    <a:lnTo>
                      <a:pt x="447" y="51"/>
                    </a:lnTo>
                    <a:lnTo>
                      <a:pt x="496" y="65"/>
                    </a:lnTo>
                    <a:lnTo>
                      <a:pt x="541" y="80"/>
                    </a:lnTo>
                    <a:lnTo>
                      <a:pt x="581" y="98"/>
                    </a:lnTo>
                    <a:lnTo>
                      <a:pt x="616" y="117"/>
                    </a:lnTo>
                    <a:lnTo>
                      <a:pt x="646" y="136"/>
                    </a:lnTo>
                    <a:lnTo>
                      <a:pt x="669" y="157"/>
                    </a:lnTo>
                    <a:lnTo>
                      <a:pt x="686" y="178"/>
                    </a:lnTo>
                    <a:lnTo>
                      <a:pt x="697" y="201"/>
                    </a:lnTo>
                    <a:lnTo>
                      <a:pt x="700" y="212"/>
                    </a:lnTo>
                    <a:lnTo>
                      <a:pt x="70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3" name=""/>
            <p:cNvGrpSpPr/>
            <p:nvPr/>
          </p:nvGrpSpPr>
          <p:grpSpPr>
            <a:xfrm>
              <a:off x="3719520" y="2862360"/>
              <a:ext cx="528480" cy="179280"/>
              <a:chOff x="3719520" y="2862360"/>
              <a:chExt cx="528480" cy="179280"/>
            </a:xfrm>
          </p:grpSpPr>
          <p:sp>
            <p:nvSpPr>
              <p:cNvPr id="3494" name=""/>
              <p:cNvSpPr/>
              <p:nvPr/>
            </p:nvSpPr>
            <p:spPr>
              <a:xfrm>
                <a:off x="3719520" y="2862360"/>
                <a:ext cx="52848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2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3" y="88"/>
                    </a:lnTo>
                    <a:lnTo>
                      <a:pt x="585" y="107"/>
                    </a:lnTo>
                    <a:lnTo>
                      <a:pt x="552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9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3719520" y="2862360"/>
                <a:ext cx="52848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2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3" y="88"/>
                    </a:lnTo>
                    <a:lnTo>
                      <a:pt x="585" y="107"/>
                    </a:lnTo>
                    <a:lnTo>
                      <a:pt x="552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9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6" name=""/>
            <p:cNvGrpSpPr/>
            <p:nvPr/>
          </p:nvGrpSpPr>
          <p:grpSpPr>
            <a:xfrm>
              <a:off x="3697200" y="2862360"/>
              <a:ext cx="84240" cy="179280"/>
              <a:chOff x="3697200" y="2862360"/>
              <a:chExt cx="84240" cy="179280"/>
            </a:xfrm>
          </p:grpSpPr>
          <p:sp>
            <p:nvSpPr>
              <p:cNvPr id="3497" name=""/>
              <p:cNvSpPr/>
              <p:nvPr/>
            </p:nvSpPr>
            <p:spPr>
              <a:xfrm>
                <a:off x="3697200" y="2862360"/>
                <a:ext cx="8424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4" y="46"/>
                    </a:lnTo>
                    <a:lnTo>
                      <a:pt x="97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1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3697200" y="2862360"/>
                <a:ext cx="8424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4" y="46"/>
                    </a:lnTo>
                    <a:lnTo>
                      <a:pt x="97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1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9" name=""/>
            <p:cNvSpPr/>
            <p:nvPr/>
          </p:nvSpPr>
          <p:spPr>
            <a:xfrm>
              <a:off x="3747960" y="2862360"/>
              <a:ext cx="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0" name=""/>
            <p:cNvGrpSpPr/>
            <p:nvPr/>
          </p:nvGrpSpPr>
          <p:grpSpPr>
            <a:xfrm>
              <a:off x="3697200" y="2697120"/>
              <a:ext cx="84240" cy="160560"/>
              <a:chOff x="3697200" y="2697120"/>
              <a:chExt cx="84240" cy="160560"/>
            </a:xfrm>
          </p:grpSpPr>
          <p:sp>
            <p:nvSpPr>
              <p:cNvPr id="3501" name=""/>
              <p:cNvSpPr/>
              <p:nvPr/>
            </p:nvSpPr>
            <p:spPr>
              <a:xfrm>
                <a:off x="3697200" y="2697120"/>
                <a:ext cx="8424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7" y="124"/>
                    </a:lnTo>
                    <a:lnTo>
                      <a:pt x="104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3697200" y="2697120"/>
                <a:ext cx="8424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7" y="124"/>
                    </a:lnTo>
                    <a:lnTo>
                      <a:pt x="104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3" name=""/>
            <p:cNvSpPr/>
            <p:nvPr/>
          </p:nvSpPr>
          <p:spPr>
            <a:xfrm>
              <a:off x="3592440" y="2712960"/>
              <a:ext cx="144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3448080" y="255132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3585960" y="2557440"/>
              <a:ext cx="1800" cy="149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259160" y="286236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781360" y="248148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1969920" y="2481480"/>
              <a:ext cx="800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1798560" y="2401920"/>
              <a:ext cx="2221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1811520" y="2360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3592440" y="286236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636640" y="2862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2770200" y="28447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2781360" y="26319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781360" y="2862360"/>
              <a:ext cx="7999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2774880" y="2637000"/>
              <a:ext cx="1440" cy="22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2685960" y="29322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702520" y="289080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1969920" y="2781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1798560" y="271296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809720" y="267192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1969920" y="29322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1798560" y="286236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1812240" y="282276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3592440" y="301320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3585960" y="3017880"/>
              <a:ext cx="1800" cy="13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1969920" y="3162240"/>
              <a:ext cx="1611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1798560" y="309240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1810080" y="30528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419360" y="2757600"/>
              <a:ext cx="246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436640" y="271800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1898640" y="3278160"/>
              <a:ext cx="16002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1872000" y="3338640"/>
              <a:ext cx="102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riginal circu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6113520" y="3882960"/>
              <a:ext cx="355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6113520" y="2378160"/>
              <a:ext cx="344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113520" y="2735280"/>
              <a:ext cx="355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V="1">
              <a:off x="6108480" y="2371680"/>
              <a:ext cx="1800" cy="370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8" name=""/>
            <p:cNvGrpSpPr/>
            <p:nvPr/>
          </p:nvGrpSpPr>
          <p:grpSpPr>
            <a:xfrm>
              <a:off x="6464160" y="2384640"/>
              <a:ext cx="171360" cy="190440"/>
              <a:chOff x="6464160" y="2384640"/>
              <a:chExt cx="171360" cy="190440"/>
            </a:xfrm>
          </p:grpSpPr>
          <p:sp>
            <p:nvSpPr>
              <p:cNvPr id="3539" name=""/>
              <p:cNvSpPr/>
              <p:nvPr/>
            </p:nvSpPr>
            <p:spPr>
              <a:xfrm>
                <a:off x="6464160" y="238464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1"/>
                    </a:lnTo>
                    <a:lnTo>
                      <a:pt x="216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6464160" y="238464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1"/>
                    </a:lnTo>
                    <a:lnTo>
                      <a:pt x="216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1" name=""/>
            <p:cNvGrpSpPr/>
            <p:nvPr/>
          </p:nvGrpSpPr>
          <p:grpSpPr>
            <a:xfrm>
              <a:off x="6464160" y="2557440"/>
              <a:ext cx="171360" cy="195480"/>
              <a:chOff x="6464160" y="2557440"/>
              <a:chExt cx="171360" cy="195480"/>
            </a:xfrm>
          </p:grpSpPr>
          <p:sp>
            <p:nvSpPr>
              <p:cNvPr id="3542" name=""/>
              <p:cNvSpPr/>
              <p:nvPr/>
            </p:nvSpPr>
            <p:spPr>
              <a:xfrm>
                <a:off x="6464160" y="2557440"/>
                <a:ext cx="1713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6" y="25"/>
                    </a:lnTo>
                    <a:lnTo>
                      <a:pt x="212" y="49"/>
                    </a:lnTo>
                    <a:lnTo>
                      <a:pt x="207" y="74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1"/>
                    </a:lnTo>
                    <a:lnTo>
                      <a:pt x="121" y="205"/>
                    </a:lnTo>
                    <a:lnTo>
                      <a:pt x="104" y="217"/>
                    </a:lnTo>
                    <a:lnTo>
                      <a:pt x="84" y="228"/>
                    </a:lnTo>
                    <a:lnTo>
                      <a:pt x="65" y="236"/>
                    </a:lnTo>
                    <a:lnTo>
                      <a:pt x="44" y="242"/>
                    </a:lnTo>
                    <a:lnTo>
                      <a:pt x="23" y="245"/>
                    </a:lnTo>
                    <a:lnTo>
                      <a:pt x="0" y="247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6464160" y="2557440"/>
                <a:ext cx="1713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6" y="25"/>
                    </a:lnTo>
                    <a:lnTo>
                      <a:pt x="212" y="49"/>
                    </a:lnTo>
                    <a:lnTo>
                      <a:pt x="207" y="74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1"/>
                    </a:lnTo>
                    <a:lnTo>
                      <a:pt x="121" y="205"/>
                    </a:lnTo>
                    <a:lnTo>
                      <a:pt x="104" y="217"/>
                    </a:lnTo>
                    <a:lnTo>
                      <a:pt x="84" y="228"/>
                    </a:lnTo>
                    <a:lnTo>
                      <a:pt x="65" y="236"/>
                    </a:lnTo>
                    <a:lnTo>
                      <a:pt x="44" y="242"/>
                    </a:lnTo>
                    <a:lnTo>
                      <a:pt x="23" y="245"/>
                    </a:lnTo>
                    <a:lnTo>
                      <a:pt x="0" y="24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4" name=""/>
            <p:cNvSpPr/>
            <p:nvPr/>
          </p:nvSpPr>
          <p:spPr>
            <a:xfrm>
              <a:off x="5290920" y="2678040"/>
              <a:ext cx="34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5290920" y="3046320"/>
              <a:ext cx="3668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 flipV="1">
              <a:off x="5286240" y="2671920"/>
              <a:ext cx="1440" cy="38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7" name=""/>
            <p:cNvGrpSpPr/>
            <p:nvPr/>
          </p:nvGrpSpPr>
          <p:grpSpPr>
            <a:xfrm>
              <a:off x="5641920" y="2684520"/>
              <a:ext cx="171360" cy="190440"/>
              <a:chOff x="5641920" y="2684520"/>
              <a:chExt cx="171360" cy="190440"/>
            </a:xfrm>
          </p:grpSpPr>
          <p:sp>
            <p:nvSpPr>
              <p:cNvPr id="3548" name=""/>
              <p:cNvSpPr/>
              <p:nvPr/>
            </p:nvSpPr>
            <p:spPr>
              <a:xfrm>
                <a:off x="5641920" y="268452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5641920" y="268452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5641920" y="2862360"/>
              <a:ext cx="171360" cy="190440"/>
              <a:chOff x="5641920" y="2862360"/>
              <a:chExt cx="171360" cy="190440"/>
            </a:xfrm>
          </p:grpSpPr>
          <p:sp>
            <p:nvSpPr>
              <p:cNvPr id="3551" name=""/>
              <p:cNvSpPr/>
              <p:nvPr/>
            </p:nvSpPr>
            <p:spPr>
              <a:xfrm>
                <a:off x="5641920" y="286236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641920" y="286236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3" name=""/>
            <p:cNvGrpSpPr/>
            <p:nvPr/>
          </p:nvGrpSpPr>
          <p:grpSpPr>
            <a:xfrm>
              <a:off x="6875280" y="2697120"/>
              <a:ext cx="560520" cy="177840"/>
              <a:chOff x="6875280" y="2697120"/>
              <a:chExt cx="560520" cy="177840"/>
            </a:xfrm>
          </p:grpSpPr>
          <p:sp>
            <p:nvSpPr>
              <p:cNvPr id="3554" name=""/>
              <p:cNvSpPr/>
              <p:nvPr/>
            </p:nvSpPr>
            <p:spPr>
              <a:xfrm>
                <a:off x="6875280" y="2697120"/>
                <a:ext cx="560520" cy="177840"/>
              </a:xfrm>
              <a:custGeom>
                <a:avLst/>
                <a:gdLst/>
                <a:ahLst/>
                <a:rect l="l" t="t" r="r" b="b"/>
                <a:pathLst>
                  <a:path w="707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10" y="10"/>
                    </a:lnTo>
                    <a:lnTo>
                      <a:pt x="275" y="17"/>
                    </a:lnTo>
                    <a:lnTo>
                      <a:pt x="338" y="26"/>
                    </a:lnTo>
                    <a:lnTo>
                      <a:pt x="396" y="38"/>
                    </a:lnTo>
                    <a:lnTo>
                      <a:pt x="450" y="51"/>
                    </a:lnTo>
                    <a:lnTo>
                      <a:pt x="500" y="65"/>
                    </a:lnTo>
                    <a:lnTo>
                      <a:pt x="546" y="80"/>
                    </a:lnTo>
                    <a:lnTo>
                      <a:pt x="586" y="98"/>
                    </a:lnTo>
                    <a:lnTo>
                      <a:pt x="621" y="117"/>
                    </a:lnTo>
                    <a:lnTo>
                      <a:pt x="651" y="136"/>
                    </a:lnTo>
                    <a:lnTo>
                      <a:pt x="675" y="157"/>
                    </a:lnTo>
                    <a:lnTo>
                      <a:pt x="693" y="178"/>
                    </a:lnTo>
                    <a:lnTo>
                      <a:pt x="698" y="189"/>
                    </a:lnTo>
                    <a:lnTo>
                      <a:pt x="703" y="201"/>
                    </a:lnTo>
                    <a:lnTo>
                      <a:pt x="707" y="212"/>
                    </a:lnTo>
                    <a:lnTo>
                      <a:pt x="707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6875280" y="2697120"/>
                <a:ext cx="560520" cy="177840"/>
              </a:xfrm>
              <a:custGeom>
                <a:avLst/>
                <a:gdLst/>
                <a:ahLst/>
                <a:rect l="l" t="t" r="r" b="b"/>
                <a:pathLst>
                  <a:path w="707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10" y="10"/>
                    </a:lnTo>
                    <a:lnTo>
                      <a:pt x="275" y="17"/>
                    </a:lnTo>
                    <a:lnTo>
                      <a:pt x="338" y="26"/>
                    </a:lnTo>
                    <a:lnTo>
                      <a:pt x="396" y="38"/>
                    </a:lnTo>
                    <a:lnTo>
                      <a:pt x="450" y="51"/>
                    </a:lnTo>
                    <a:lnTo>
                      <a:pt x="500" y="65"/>
                    </a:lnTo>
                    <a:lnTo>
                      <a:pt x="546" y="80"/>
                    </a:lnTo>
                    <a:lnTo>
                      <a:pt x="586" y="98"/>
                    </a:lnTo>
                    <a:lnTo>
                      <a:pt x="621" y="117"/>
                    </a:lnTo>
                    <a:lnTo>
                      <a:pt x="651" y="136"/>
                    </a:lnTo>
                    <a:lnTo>
                      <a:pt x="675" y="157"/>
                    </a:lnTo>
                    <a:lnTo>
                      <a:pt x="693" y="178"/>
                    </a:lnTo>
                    <a:lnTo>
                      <a:pt x="698" y="189"/>
                    </a:lnTo>
                    <a:lnTo>
                      <a:pt x="703" y="201"/>
                    </a:lnTo>
                    <a:lnTo>
                      <a:pt x="707" y="212"/>
                    </a:lnTo>
                    <a:lnTo>
                      <a:pt x="707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6" name=""/>
            <p:cNvGrpSpPr/>
            <p:nvPr/>
          </p:nvGrpSpPr>
          <p:grpSpPr>
            <a:xfrm>
              <a:off x="6908760" y="2862360"/>
              <a:ext cx="527040" cy="179280"/>
              <a:chOff x="6908760" y="2862360"/>
              <a:chExt cx="527040" cy="179280"/>
            </a:xfrm>
          </p:grpSpPr>
          <p:sp>
            <p:nvSpPr>
              <p:cNvPr id="3557" name=""/>
              <p:cNvSpPr/>
              <p:nvPr/>
            </p:nvSpPr>
            <p:spPr>
              <a:xfrm>
                <a:off x="6908760" y="2862360"/>
                <a:ext cx="52704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8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908760" y="2862360"/>
                <a:ext cx="52704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8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9" name=""/>
            <p:cNvGrpSpPr/>
            <p:nvPr/>
          </p:nvGrpSpPr>
          <p:grpSpPr>
            <a:xfrm>
              <a:off x="6875280" y="2862360"/>
              <a:ext cx="82800" cy="179280"/>
              <a:chOff x="6875280" y="2862360"/>
              <a:chExt cx="82800" cy="179280"/>
            </a:xfrm>
          </p:grpSpPr>
          <p:sp>
            <p:nvSpPr>
              <p:cNvPr id="3560" name=""/>
              <p:cNvSpPr/>
              <p:nvPr/>
            </p:nvSpPr>
            <p:spPr>
              <a:xfrm>
                <a:off x="6875280" y="2862360"/>
                <a:ext cx="8280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3" y="46"/>
                    </a:lnTo>
                    <a:lnTo>
                      <a:pt x="96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0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6875280" y="2862360"/>
                <a:ext cx="8280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3" y="46"/>
                    </a:lnTo>
                    <a:lnTo>
                      <a:pt x="96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0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2" name=""/>
            <p:cNvSpPr/>
            <p:nvPr/>
          </p:nvSpPr>
          <p:spPr>
            <a:xfrm>
              <a:off x="6924600" y="2862360"/>
              <a:ext cx="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3" name=""/>
            <p:cNvGrpSpPr/>
            <p:nvPr/>
          </p:nvGrpSpPr>
          <p:grpSpPr>
            <a:xfrm>
              <a:off x="6875280" y="2697120"/>
              <a:ext cx="82800" cy="160560"/>
              <a:chOff x="6875280" y="2697120"/>
              <a:chExt cx="82800" cy="160560"/>
            </a:xfrm>
          </p:grpSpPr>
          <p:sp>
            <p:nvSpPr>
              <p:cNvPr id="3564" name=""/>
              <p:cNvSpPr/>
              <p:nvPr/>
            </p:nvSpPr>
            <p:spPr>
              <a:xfrm>
                <a:off x="6875280" y="2697120"/>
                <a:ext cx="8280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6875280" y="2697120"/>
                <a:ext cx="8280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6" name=""/>
            <p:cNvSpPr/>
            <p:nvPr/>
          </p:nvSpPr>
          <p:spPr>
            <a:xfrm>
              <a:off x="5957640" y="2481480"/>
              <a:ext cx="1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146560" y="2481480"/>
              <a:ext cx="800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4986360" y="2401920"/>
              <a:ext cx="223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4998960" y="2360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6780240" y="2862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5813280" y="2862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5946840" y="28447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5957640" y="263196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5957640" y="2862360"/>
              <a:ext cx="81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5952960" y="2637000"/>
              <a:ext cx="1800" cy="22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5875200" y="29322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5890320" y="289080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780240" y="27129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624360" y="2551320"/>
              <a:ext cx="1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775200" y="2557440"/>
              <a:ext cx="1800" cy="149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5146560" y="2781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986360" y="27129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997520" y="267192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5146560" y="293220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4986360" y="28623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4999680" y="282276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780240" y="301320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775200" y="3017880"/>
              <a:ext cx="1800" cy="13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146560" y="3162240"/>
              <a:ext cx="1622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4986360" y="30924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4997880" y="30528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446960" y="2862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6835680" y="268308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879960" y="2833560"/>
              <a:ext cx="68400" cy="702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835680" y="298296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6757920" y="2683080"/>
              <a:ext cx="680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757920" y="2982960"/>
              <a:ext cx="680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7629480" y="2757600"/>
              <a:ext cx="245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7646760" y="271800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5052960" y="3243240"/>
              <a:ext cx="298908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5020920" y="3303720"/>
              <a:ext cx="1907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d double bubbles to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rt all inputs of OR 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2" name=""/>
            <p:cNvGrpSpPr/>
            <p:nvPr/>
          </p:nvGrpSpPr>
          <p:grpSpPr>
            <a:xfrm>
              <a:off x="3963960" y="4375080"/>
              <a:ext cx="528480" cy="162000"/>
              <a:chOff x="3963960" y="4375080"/>
              <a:chExt cx="528480" cy="162000"/>
            </a:xfrm>
          </p:grpSpPr>
          <p:sp>
            <p:nvSpPr>
              <p:cNvPr id="3603" name=""/>
              <p:cNvSpPr/>
              <p:nvPr/>
            </p:nvSpPr>
            <p:spPr>
              <a:xfrm>
                <a:off x="3963960" y="4375080"/>
                <a:ext cx="52848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9" y="2"/>
                    </a:lnTo>
                    <a:lnTo>
                      <a:pt x="135" y="4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5"/>
                    </a:lnTo>
                    <a:lnTo>
                      <a:pt x="373" y="35"/>
                    </a:lnTo>
                    <a:lnTo>
                      <a:pt x="424" y="48"/>
                    </a:lnTo>
                    <a:lnTo>
                      <a:pt x="471" y="60"/>
                    </a:lnTo>
                    <a:lnTo>
                      <a:pt x="513" y="74"/>
                    </a:lnTo>
                    <a:lnTo>
                      <a:pt x="551" y="90"/>
                    </a:lnTo>
                    <a:lnTo>
                      <a:pt x="585" y="107"/>
                    </a:lnTo>
                    <a:lnTo>
                      <a:pt x="613" y="125"/>
                    </a:lnTo>
                    <a:lnTo>
                      <a:pt x="635" y="144"/>
                    </a:lnTo>
                    <a:lnTo>
                      <a:pt x="651" y="163"/>
                    </a:lnTo>
                    <a:lnTo>
                      <a:pt x="662" y="182"/>
                    </a:lnTo>
                    <a:lnTo>
                      <a:pt x="66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3963960" y="4375080"/>
                <a:ext cx="52848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9" y="2"/>
                    </a:lnTo>
                    <a:lnTo>
                      <a:pt x="135" y="4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5"/>
                    </a:lnTo>
                    <a:lnTo>
                      <a:pt x="373" y="35"/>
                    </a:lnTo>
                    <a:lnTo>
                      <a:pt x="424" y="48"/>
                    </a:lnTo>
                    <a:lnTo>
                      <a:pt x="471" y="60"/>
                    </a:lnTo>
                    <a:lnTo>
                      <a:pt x="513" y="74"/>
                    </a:lnTo>
                    <a:lnTo>
                      <a:pt x="551" y="90"/>
                    </a:lnTo>
                    <a:lnTo>
                      <a:pt x="585" y="107"/>
                    </a:lnTo>
                    <a:lnTo>
                      <a:pt x="613" y="125"/>
                    </a:lnTo>
                    <a:lnTo>
                      <a:pt x="635" y="144"/>
                    </a:lnTo>
                    <a:lnTo>
                      <a:pt x="651" y="163"/>
                    </a:lnTo>
                    <a:lnTo>
                      <a:pt x="662" y="182"/>
                    </a:lnTo>
                    <a:lnTo>
                      <a:pt x="66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5" name=""/>
            <p:cNvGrpSpPr/>
            <p:nvPr/>
          </p:nvGrpSpPr>
          <p:grpSpPr>
            <a:xfrm>
              <a:off x="3963960" y="4386240"/>
              <a:ext cx="83880" cy="162000"/>
              <a:chOff x="3963960" y="4386240"/>
              <a:chExt cx="83880" cy="162000"/>
            </a:xfrm>
          </p:grpSpPr>
          <p:sp>
            <p:nvSpPr>
              <p:cNvPr id="3606" name=""/>
              <p:cNvSpPr/>
              <p:nvPr/>
            </p:nvSpPr>
            <p:spPr>
              <a:xfrm>
                <a:off x="3963960" y="4386240"/>
                <a:ext cx="83880" cy="1620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4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60"/>
                    </a:lnTo>
                    <a:lnTo>
                      <a:pt x="88" y="90"/>
                    </a:lnTo>
                    <a:lnTo>
                      <a:pt x="97" y="125"/>
                    </a:lnTo>
                    <a:lnTo>
                      <a:pt x="104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3963960" y="4386240"/>
                <a:ext cx="83880" cy="1620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4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60"/>
                    </a:lnTo>
                    <a:lnTo>
                      <a:pt x="88" y="90"/>
                    </a:lnTo>
                    <a:lnTo>
                      <a:pt x="97" y="125"/>
                    </a:lnTo>
                    <a:lnTo>
                      <a:pt x="104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8" name=""/>
            <p:cNvGrpSpPr/>
            <p:nvPr/>
          </p:nvGrpSpPr>
          <p:grpSpPr>
            <a:xfrm>
              <a:off x="3963960" y="4518000"/>
              <a:ext cx="528480" cy="177840"/>
              <a:chOff x="3963960" y="4518000"/>
              <a:chExt cx="528480" cy="177840"/>
            </a:xfrm>
          </p:grpSpPr>
          <p:sp>
            <p:nvSpPr>
              <p:cNvPr id="3609" name=""/>
              <p:cNvSpPr/>
              <p:nvPr/>
            </p:nvSpPr>
            <p:spPr>
              <a:xfrm>
                <a:off x="3963960" y="4518000"/>
                <a:ext cx="52848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2" y="22"/>
                    </a:lnTo>
                    <a:lnTo>
                      <a:pt x="651" y="45"/>
                    </a:lnTo>
                    <a:lnTo>
                      <a:pt x="635" y="66"/>
                    </a:lnTo>
                    <a:lnTo>
                      <a:pt x="613" y="87"/>
                    </a:lnTo>
                    <a:lnTo>
                      <a:pt x="585" y="106"/>
                    </a:lnTo>
                    <a:lnTo>
                      <a:pt x="551" y="126"/>
                    </a:lnTo>
                    <a:lnTo>
                      <a:pt x="513" y="143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5"/>
                    </a:lnTo>
                    <a:lnTo>
                      <a:pt x="317" y="197"/>
                    </a:lnTo>
                    <a:lnTo>
                      <a:pt x="259" y="206"/>
                    </a:lnTo>
                    <a:lnTo>
                      <a:pt x="198" y="213"/>
                    </a:lnTo>
                    <a:lnTo>
                      <a:pt x="135" y="218"/>
                    </a:lnTo>
                    <a:lnTo>
                      <a:pt x="69" y="222"/>
                    </a:lnTo>
                    <a:lnTo>
                      <a:pt x="0" y="224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3963960" y="4518000"/>
                <a:ext cx="52848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2" y="22"/>
                    </a:lnTo>
                    <a:lnTo>
                      <a:pt x="651" y="45"/>
                    </a:lnTo>
                    <a:lnTo>
                      <a:pt x="635" y="66"/>
                    </a:lnTo>
                    <a:lnTo>
                      <a:pt x="613" y="87"/>
                    </a:lnTo>
                    <a:lnTo>
                      <a:pt x="585" y="106"/>
                    </a:lnTo>
                    <a:lnTo>
                      <a:pt x="551" y="126"/>
                    </a:lnTo>
                    <a:lnTo>
                      <a:pt x="513" y="143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5"/>
                    </a:lnTo>
                    <a:lnTo>
                      <a:pt x="317" y="197"/>
                    </a:lnTo>
                    <a:lnTo>
                      <a:pt x="259" y="206"/>
                    </a:lnTo>
                    <a:lnTo>
                      <a:pt x="198" y="213"/>
                    </a:lnTo>
                    <a:lnTo>
                      <a:pt x="135" y="218"/>
                    </a:lnTo>
                    <a:lnTo>
                      <a:pt x="69" y="222"/>
                    </a:lnTo>
                    <a:lnTo>
                      <a:pt x="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1" name=""/>
            <p:cNvGrpSpPr/>
            <p:nvPr/>
          </p:nvGrpSpPr>
          <p:grpSpPr>
            <a:xfrm>
              <a:off x="3963960" y="4524480"/>
              <a:ext cx="83880" cy="160200"/>
              <a:chOff x="3963960" y="4524480"/>
              <a:chExt cx="83880" cy="160200"/>
            </a:xfrm>
          </p:grpSpPr>
          <p:sp>
            <p:nvSpPr>
              <p:cNvPr id="3612" name=""/>
              <p:cNvSpPr/>
              <p:nvPr/>
            </p:nvSpPr>
            <p:spPr>
              <a:xfrm>
                <a:off x="3963960" y="4524480"/>
                <a:ext cx="83880" cy="1602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4" y="40"/>
                    </a:lnTo>
                    <a:lnTo>
                      <a:pt x="97" y="78"/>
                    </a:lnTo>
                    <a:lnTo>
                      <a:pt x="88" y="113"/>
                    </a:lnTo>
                    <a:lnTo>
                      <a:pt x="74" y="143"/>
                    </a:lnTo>
                    <a:lnTo>
                      <a:pt x="60" y="168"/>
                    </a:lnTo>
                    <a:lnTo>
                      <a:pt x="41" y="187"/>
                    </a:lnTo>
                    <a:lnTo>
                      <a:pt x="32" y="194"/>
                    </a:lnTo>
                    <a:lnTo>
                      <a:pt x="21" y="199"/>
                    </a:lnTo>
                    <a:lnTo>
                      <a:pt x="11" y="201"/>
                    </a:lnTo>
                    <a:lnTo>
                      <a:pt x="0" y="203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3963960" y="4524480"/>
                <a:ext cx="83880" cy="1602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4" y="40"/>
                    </a:lnTo>
                    <a:lnTo>
                      <a:pt x="97" y="78"/>
                    </a:lnTo>
                    <a:lnTo>
                      <a:pt x="88" y="113"/>
                    </a:lnTo>
                    <a:lnTo>
                      <a:pt x="74" y="143"/>
                    </a:lnTo>
                    <a:lnTo>
                      <a:pt x="60" y="168"/>
                    </a:lnTo>
                    <a:lnTo>
                      <a:pt x="41" y="187"/>
                    </a:lnTo>
                    <a:lnTo>
                      <a:pt x="32" y="194"/>
                    </a:lnTo>
                    <a:lnTo>
                      <a:pt x="21" y="199"/>
                    </a:lnTo>
                    <a:lnTo>
                      <a:pt x="11" y="201"/>
                    </a:lnTo>
                    <a:lnTo>
                      <a:pt x="0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4" name=""/>
            <p:cNvSpPr/>
            <p:nvPr/>
          </p:nvSpPr>
          <p:spPr>
            <a:xfrm>
              <a:off x="3970080" y="4489560"/>
              <a:ext cx="572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892320" y="433872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3892320" y="4649760"/>
              <a:ext cx="68400" cy="60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3003480" y="403380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003480" y="439092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2997000" y="4038480"/>
              <a:ext cx="1800" cy="346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0" name=""/>
            <p:cNvGrpSpPr/>
            <p:nvPr/>
          </p:nvGrpSpPr>
          <p:grpSpPr>
            <a:xfrm>
              <a:off x="3363840" y="4040280"/>
              <a:ext cx="173160" cy="190440"/>
              <a:chOff x="3363840" y="4040280"/>
              <a:chExt cx="173160" cy="190440"/>
            </a:xfrm>
          </p:grpSpPr>
          <p:sp>
            <p:nvSpPr>
              <p:cNvPr id="3621" name=""/>
              <p:cNvSpPr/>
              <p:nvPr/>
            </p:nvSpPr>
            <p:spPr>
              <a:xfrm>
                <a:off x="3363840" y="404028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2" y="1"/>
                    </a:lnTo>
                    <a:lnTo>
                      <a:pt x="43" y="5"/>
                    </a:lnTo>
                    <a:lnTo>
                      <a:pt x="64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3363840" y="404028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2" y="1"/>
                    </a:lnTo>
                    <a:lnTo>
                      <a:pt x="43" y="5"/>
                    </a:lnTo>
                    <a:lnTo>
                      <a:pt x="64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3" name=""/>
            <p:cNvGrpSpPr/>
            <p:nvPr/>
          </p:nvGrpSpPr>
          <p:grpSpPr>
            <a:xfrm>
              <a:off x="3363840" y="4218120"/>
              <a:ext cx="173160" cy="190440"/>
              <a:chOff x="3363840" y="4218120"/>
              <a:chExt cx="173160" cy="190440"/>
            </a:xfrm>
          </p:grpSpPr>
          <p:sp>
            <p:nvSpPr>
              <p:cNvPr id="3624" name=""/>
              <p:cNvSpPr/>
              <p:nvPr/>
            </p:nvSpPr>
            <p:spPr>
              <a:xfrm>
                <a:off x="3363840" y="421812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1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0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0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4" y="229"/>
                    </a:lnTo>
                    <a:lnTo>
                      <a:pt x="43" y="234"/>
                    </a:lnTo>
                    <a:lnTo>
                      <a:pt x="22" y="238"/>
                    </a:lnTo>
                    <a:lnTo>
                      <a:pt x="0" y="239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3363840" y="421812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1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0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0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4" y="229"/>
                    </a:lnTo>
                    <a:lnTo>
                      <a:pt x="43" y="234"/>
                    </a:lnTo>
                    <a:lnTo>
                      <a:pt x="22" y="238"/>
                    </a:lnTo>
                    <a:lnTo>
                      <a:pt x="0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6" name=""/>
            <p:cNvSpPr/>
            <p:nvPr/>
          </p:nvSpPr>
          <p:spPr>
            <a:xfrm>
              <a:off x="3537000" y="4189320"/>
              <a:ext cx="6804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2114280" y="433404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114280" y="470376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2109600" y="4338720"/>
              <a:ext cx="1800" cy="35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0" name=""/>
            <p:cNvGrpSpPr/>
            <p:nvPr/>
          </p:nvGrpSpPr>
          <p:grpSpPr>
            <a:xfrm>
              <a:off x="2474640" y="4340160"/>
              <a:ext cx="173160" cy="190440"/>
              <a:chOff x="2474640" y="4340160"/>
              <a:chExt cx="173160" cy="190440"/>
            </a:xfrm>
          </p:grpSpPr>
          <p:sp>
            <p:nvSpPr>
              <p:cNvPr id="3631" name=""/>
              <p:cNvSpPr/>
              <p:nvPr/>
            </p:nvSpPr>
            <p:spPr>
              <a:xfrm>
                <a:off x="2474640" y="434016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474640" y="434016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3" name=""/>
            <p:cNvGrpSpPr/>
            <p:nvPr/>
          </p:nvGrpSpPr>
          <p:grpSpPr>
            <a:xfrm>
              <a:off x="2474640" y="4518000"/>
              <a:ext cx="173160" cy="190440"/>
              <a:chOff x="2474640" y="4518000"/>
              <a:chExt cx="173160" cy="190440"/>
            </a:xfrm>
          </p:grpSpPr>
          <p:sp>
            <p:nvSpPr>
              <p:cNvPr id="3634" name=""/>
              <p:cNvSpPr/>
              <p:nvPr/>
            </p:nvSpPr>
            <p:spPr>
              <a:xfrm>
                <a:off x="2474640" y="451800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1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1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5" y="229"/>
                    </a:lnTo>
                    <a:lnTo>
                      <a:pt x="44" y="234"/>
                    </a:lnTo>
                    <a:lnTo>
                      <a:pt x="23" y="238"/>
                    </a:lnTo>
                    <a:lnTo>
                      <a:pt x="0" y="239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474640" y="451800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1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1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5" y="229"/>
                    </a:lnTo>
                    <a:lnTo>
                      <a:pt x="44" y="234"/>
                    </a:lnTo>
                    <a:lnTo>
                      <a:pt x="23" y="238"/>
                    </a:lnTo>
                    <a:lnTo>
                      <a:pt x="0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6" name=""/>
            <p:cNvSpPr/>
            <p:nvPr/>
          </p:nvSpPr>
          <p:spPr>
            <a:xfrm>
              <a:off x="2647800" y="448956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448128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747960" y="43689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592440" y="421812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741480" y="4224240"/>
              <a:ext cx="1800" cy="138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747960" y="466884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741480" y="4673520"/>
              <a:ext cx="1800" cy="138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1969920" y="4818240"/>
              <a:ext cx="1766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1731960" y="4749840"/>
              <a:ext cx="277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1744560" y="470844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2859120" y="41385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1969920" y="4138560"/>
              <a:ext cx="878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1798560" y="4057560"/>
              <a:ext cx="2221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1811520" y="4016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2859120" y="42879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381456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270324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2836800" y="45133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2852640" y="4294080"/>
              <a:ext cx="1440" cy="219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2859120" y="4518000"/>
              <a:ext cx="944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2763720" y="4599000"/>
              <a:ext cx="2793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1969920" y="44388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1798560" y="4368960"/>
              <a:ext cx="2109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1809720" y="432756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1969920" y="45990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1798560" y="451800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1812240" y="44784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4619520" y="4403880"/>
              <a:ext cx="2458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4636800" y="436248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1865160" y="5210280"/>
              <a:ext cx="19335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6" name=""/>
            <p:cNvGrpSpPr/>
            <p:nvPr/>
          </p:nvGrpSpPr>
          <p:grpSpPr>
            <a:xfrm>
              <a:off x="7064280" y="4600440"/>
              <a:ext cx="527040" cy="162000"/>
              <a:chOff x="7064280" y="4600440"/>
              <a:chExt cx="527040" cy="162000"/>
            </a:xfrm>
          </p:grpSpPr>
          <p:sp>
            <p:nvSpPr>
              <p:cNvPr id="3667" name=""/>
              <p:cNvSpPr/>
              <p:nvPr/>
            </p:nvSpPr>
            <p:spPr>
              <a:xfrm>
                <a:off x="7064280" y="4600440"/>
                <a:ext cx="52704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8" y="2"/>
                    </a:lnTo>
                    <a:lnTo>
                      <a:pt x="135" y="3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4"/>
                    </a:lnTo>
                    <a:lnTo>
                      <a:pt x="373" y="35"/>
                    </a:lnTo>
                    <a:lnTo>
                      <a:pt x="423" y="47"/>
                    </a:lnTo>
                    <a:lnTo>
                      <a:pt x="471" y="59"/>
                    </a:lnTo>
                    <a:lnTo>
                      <a:pt x="513" y="73"/>
                    </a:lnTo>
                    <a:lnTo>
                      <a:pt x="551" y="89"/>
                    </a:lnTo>
                    <a:lnTo>
                      <a:pt x="584" y="107"/>
                    </a:lnTo>
                    <a:lnTo>
                      <a:pt x="612" y="124"/>
                    </a:lnTo>
                    <a:lnTo>
                      <a:pt x="635" y="143"/>
                    </a:lnTo>
                    <a:lnTo>
                      <a:pt x="651" y="163"/>
                    </a:lnTo>
                    <a:lnTo>
                      <a:pt x="661" y="182"/>
                    </a:lnTo>
                    <a:lnTo>
                      <a:pt x="66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7064280" y="4600440"/>
                <a:ext cx="52704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8" y="2"/>
                    </a:lnTo>
                    <a:lnTo>
                      <a:pt x="135" y="3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4"/>
                    </a:lnTo>
                    <a:lnTo>
                      <a:pt x="373" y="35"/>
                    </a:lnTo>
                    <a:lnTo>
                      <a:pt x="423" y="47"/>
                    </a:lnTo>
                    <a:lnTo>
                      <a:pt x="471" y="59"/>
                    </a:lnTo>
                    <a:lnTo>
                      <a:pt x="513" y="73"/>
                    </a:lnTo>
                    <a:lnTo>
                      <a:pt x="551" y="89"/>
                    </a:lnTo>
                    <a:lnTo>
                      <a:pt x="584" y="107"/>
                    </a:lnTo>
                    <a:lnTo>
                      <a:pt x="612" y="124"/>
                    </a:lnTo>
                    <a:lnTo>
                      <a:pt x="635" y="143"/>
                    </a:lnTo>
                    <a:lnTo>
                      <a:pt x="651" y="163"/>
                    </a:lnTo>
                    <a:lnTo>
                      <a:pt x="661" y="182"/>
                    </a:lnTo>
                    <a:lnTo>
                      <a:pt x="66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9" name=""/>
            <p:cNvGrpSpPr/>
            <p:nvPr/>
          </p:nvGrpSpPr>
          <p:grpSpPr>
            <a:xfrm>
              <a:off x="7064280" y="4611600"/>
              <a:ext cx="82440" cy="163440"/>
              <a:chOff x="7064280" y="4611600"/>
              <a:chExt cx="82440" cy="163440"/>
            </a:xfrm>
          </p:grpSpPr>
          <p:sp>
            <p:nvSpPr>
              <p:cNvPr id="3670" name=""/>
              <p:cNvSpPr/>
              <p:nvPr/>
            </p:nvSpPr>
            <p:spPr>
              <a:xfrm>
                <a:off x="7064280" y="4611600"/>
                <a:ext cx="82440" cy="163440"/>
              </a:xfrm>
              <a:custGeom>
                <a:avLst/>
                <a:gdLst/>
                <a:ahLst/>
                <a:rect l="l" t="t" r="r" b="b"/>
                <a:pathLst>
                  <a:path w="105" h="205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5"/>
                    </a:lnTo>
                    <a:lnTo>
                      <a:pt x="0" y="2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7064280" y="4611600"/>
                <a:ext cx="82440" cy="163440"/>
              </a:xfrm>
              <a:custGeom>
                <a:avLst/>
                <a:gdLst/>
                <a:ahLst/>
                <a:rect l="l" t="t" r="r" b="b"/>
                <a:pathLst>
                  <a:path w="105" h="205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2" name=""/>
            <p:cNvGrpSpPr/>
            <p:nvPr/>
          </p:nvGrpSpPr>
          <p:grpSpPr>
            <a:xfrm>
              <a:off x="7064280" y="4745160"/>
              <a:ext cx="527040" cy="177840"/>
              <a:chOff x="7064280" y="4745160"/>
              <a:chExt cx="527040" cy="177840"/>
            </a:xfrm>
          </p:grpSpPr>
          <p:sp>
            <p:nvSpPr>
              <p:cNvPr id="3673" name=""/>
              <p:cNvSpPr/>
              <p:nvPr/>
            </p:nvSpPr>
            <p:spPr>
              <a:xfrm>
                <a:off x="7064280" y="4745160"/>
                <a:ext cx="52704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3" y="173"/>
                    </a:lnTo>
                    <a:lnTo>
                      <a:pt x="373" y="186"/>
                    </a:lnTo>
                    <a:lnTo>
                      <a:pt x="317" y="198"/>
                    </a:lnTo>
                    <a:lnTo>
                      <a:pt x="259" y="207"/>
                    </a:lnTo>
                    <a:lnTo>
                      <a:pt x="198" y="214"/>
                    </a:lnTo>
                    <a:lnTo>
                      <a:pt x="135" y="219"/>
                    </a:lnTo>
                    <a:lnTo>
                      <a:pt x="68" y="222"/>
                    </a:lnTo>
                    <a:lnTo>
                      <a:pt x="0" y="224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7064280" y="4745160"/>
                <a:ext cx="52704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3" y="173"/>
                    </a:lnTo>
                    <a:lnTo>
                      <a:pt x="373" y="186"/>
                    </a:lnTo>
                    <a:lnTo>
                      <a:pt x="317" y="198"/>
                    </a:lnTo>
                    <a:lnTo>
                      <a:pt x="259" y="207"/>
                    </a:lnTo>
                    <a:lnTo>
                      <a:pt x="198" y="214"/>
                    </a:lnTo>
                    <a:lnTo>
                      <a:pt x="135" y="219"/>
                    </a:lnTo>
                    <a:lnTo>
                      <a:pt x="68" y="222"/>
                    </a:lnTo>
                    <a:lnTo>
                      <a:pt x="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5" name=""/>
            <p:cNvGrpSpPr/>
            <p:nvPr/>
          </p:nvGrpSpPr>
          <p:grpSpPr>
            <a:xfrm>
              <a:off x="7064280" y="4738680"/>
              <a:ext cx="82440" cy="185400"/>
              <a:chOff x="7064280" y="4738680"/>
              <a:chExt cx="82440" cy="185400"/>
            </a:xfrm>
          </p:grpSpPr>
          <p:sp>
            <p:nvSpPr>
              <p:cNvPr id="3676" name=""/>
              <p:cNvSpPr/>
              <p:nvPr/>
            </p:nvSpPr>
            <p:spPr>
              <a:xfrm>
                <a:off x="7064280" y="4738680"/>
                <a:ext cx="82440" cy="1854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3" y="40"/>
                    </a:lnTo>
                    <a:lnTo>
                      <a:pt x="96" y="79"/>
                    </a:lnTo>
                    <a:lnTo>
                      <a:pt x="88" y="114"/>
                    </a:lnTo>
                    <a:lnTo>
                      <a:pt x="74" y="144"/>
                    </a:lnTo>
                    <a:lnTo>
                      <a:pt x="60" y="168"/>
                    </a:lnTo>
                    <a:lnTo>
                      <a:pt x="40" y="187"/>
                    </a:lnTo>
                    <a:lnTo>
                      <a:pt x="32" y="194"/>
                    </a:lnTo>
                    <a:lnTo>
                      <a:pt x="21" y="200"/>
                    </a:lnTo>
                    <a:lnTo>
                      <a:pt x="11" y="201"/>
                    </a:lnTo>
                    <a:lnTo>
                      <a:pt x="0" y="203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7064280" y="4738680"/>
                <a:ext cx="82440" cy="1854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3" y="40"/>
                    </a:lnTo>
                    <a:lnTo>
                      <a:pt x="96" y="79"/>
                    </a:lnTo>
                    <a:lnTo>
                      <a:pt x="88" y="114"/>
                    </a:lnTo>
                    <a:lnTo>
                      <a:pt x="74" y="144"/>
                    </a:lnTo>
                    <a:lnTo>
                      <a:pt x="60" y="168"/>
                    </a:lnTo>
                    <a:lnTo>
                      <a:pt x="40" y="187"/>
                    </a:lnTo>
                    <a:lnTo>
                      <a:pt x="32" y="194"/>
                    </a:lnTo>
                    <a:lnTo>
                      <a:pt x="21" y="200"/>
                    </a:lnTo>
                    <a:lnTo>
                      <a:pt x="11" y="201"/>
                    </a:lnTo>
                    <a:lnTo>
                      <a:pt x="0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8" name=""/>
            <p:cNvSpPr/>
            <p:nvPr/>
          </p:nvSpPr>
          <p:spPr>
            <a:xfrm>
              <a:off x="7068960" y="4719600"/>
              <a:ext cx="6840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7040520" y="4622760"/>
              <a:ext cx="6660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7045200" y="4827600"/>
              <a:ext cx="7128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6113520" y="4240080"/>
              <a:ext cx="355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6108480" y="3889440"/>
              <a:ext cx="1800" cy="345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3" name=""/>
            <p:cNvGrpSpPr/>
            <p:nvPr/>
          </p:nvGrpSpPr>
          <p:grpSpPr>
            <a:xfrm>
              <a:off x="6475320" y="3886200"/>
              <a:ext cx="171360" cy="190440"/>
              <a:chOff x="6475320" y="3886200"/>
              <a:chExt cx="171360" cy="190440"/>
            </a:xfrm>
          </p:grpSpPr>
          <p:sp>
            <p:nvSpPr>
              <p:cNvPr id="3684" name=""/>
              <p:cNvSpPr/>
              <p:nvPr/>
            </p:nvSpPr>
            <p:spPr>
              <a:xfrm>
                <a:off x="6475320" y="388620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6475320" y="388620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6475320" y="4048200"/>
              <a:ext cx="171360" cy="196920"/>
              <a:chOff x="6475320" y="4048200"/>
              <a:chExt cx="171360" cy="196920"/>
            </a:xfrm>
          </p:grpSpPr>
          <p:sp>
            <p:nvSpPr>
              <p:cNvPr id="3687" name=""/>
              <p:cNvSpPr/>
              <p:nvPr/>
            </p:nvSpPr>
            <p:spPr>
              <a:xfrm>
                <a:off x="6475320" y="4048200"/>
                <a:ext cx="171360" cy="196920"/>
              </a:xfrm>
              <a:custGeom>
                <a:avLst/>
                <a:gdLst/>
                <a:ahLst/>
                <a:rect l="l" t="t" r="r" b="b"/>
                <a:pathLst>
                  <a:path w="217" h="246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7" y="73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0"/>
                    </a:lnTo>
                    <a:lnTo>
                      <a:pt x="121" y="204"/>
                    </a:lnTo>
                    <a:lnTo>
                      <a:pt x="104" y="217"/>
                    </a:lnTo>
                    <a:lnTo>
                      <a:pt x="84" y="227"/>
                    </a:lnTo>
                    <a:lnTo>
                      <a:pt x="65" y="236"/>
                    </a:lnTo>
                    <a:lnTo>
                      <a:pt x="44" y="241"/>
                    </a:lnTo>
                    <a:lnTo>
                      <a:pt x="23" y="245"/>
                    </a:lnTo>
                    <a:lnTo>
                      <a:pt x="0" y="246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6475320" y="4048200"/>
                <a:ext cx="171360" cy="196920"/>
              </a:xfrm>
              <a:custGeom>
                <a:avLst/>
                <a:gdLst/>
                <a:ahLst/>
                <a:rect l="l" t="t" r="r" b="b"/>
                <a:pathLst>
                  <a:path w="217" h="246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7" y="73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0"/>
                    </a:lnTo>
                    <a:lnTo>
                      <a:pt x="121" y="204"/>
                    </a:lnTo>
                    <a:lnTo>
                      <a:pt x="104" y="217"/>
                    </a:lnTo>
                    <a:lnTo>
                      <a:pt x="84" y="227"/>
                    </a:lnTo>
                    <a:lnTo>
                      <a:pt x="65" y="236"/>
                    </a:lnTo>
                    <a:lnTo>
                      <a:pt x="44" y="241"/>
                    </a:lnTo>
                    <a:lnTo>
                      <a:pt x="23" y="245"/>
                    </a:lnTo>
                    <a:lnTo>
                      <a:pt x="0" y="24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9" name=""/>
            <p:cNvSpPr/>
            <p:nvPr/>
          </p:nvSpPr>
          <p:spPr>
            <a:xfrm>
              <a:off x="6646680" y="4038480"/>
              <a:ext cx="57240" cy="60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5224320" y="456408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224320" y="493416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5219640" y="4570560"/>
              <a:ext cx="1440" cy="35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3" name=""/>
            <p:cNvGrpSpPr/>
            <p:nvPr/>
          </p:nvGrpSpPr>
          <p:grpSpPr>
            <a:xfrm>
              <a:off x="5586480" y="4567320"/>
              <a:ext cx="171360" cy="189000"/>
              <a:chOff x="5586480" y="4567320"/>
              <a:chExt cx="171360" cy="189000"/>
            </a:xfrm>
          </p:grpSpPr>
          <p:sp>
            <p:nvSpPr>
              <p:cNvPr id="3694" name=""/>
              <p:cNvSpPr/>
              <p:nvPr/>
            </p:nvSpPr>
            <p:spPr>
              <a:xfrm>
                <a:off x="5586480" y="4567320"/>
                <a:ext cx="171360" cy="18900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5586480" y="4567320"/>
                <a:ext cx="171360" cy="18900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6" name=""/>
            <p:cNvGrpSpPr/>
            <p:nvPr/>
          </p:nvGrpSpPr>
          <p:grpSpPr>
            <a:xfrm>
              <a:off x="5586480" y="4745160"/>
              <a:ext cx="171360" cy="188640"/>
              <a:chOff x="5586480" y="4745160"/>
              <a:chExt cx="171360" cy="188640"/>
            </a:xfrm>
          </p:grpSpPr>
          <p:sp>
            <p:nvSpPr>
              <p:cNvPr id="3697" name=""/>
              <p:cNvSpPr/>
              <p:nvPr/>
            </p:nvSpPr>
            <p:spPr>
              <a:xfrm>
                <a:off x="5586480" y="4745160"/>
                <a:ext cx="171360" cy="1886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5586480" y="4745160"/>
                <a:ext cx="171360" cy="1886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9" name=""/>
            <p:cNvSpPr/>
            <p:nvPr/>
          </p:nvSpPr>
          <p:spPr>
            <a:xfrm>
              <a:off x="5757840" y="4719600"/>
              <a:ext cx="5724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957640" y="413856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5952960" y="4143240"/>
              <a:ext cx="1800" cy="295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6846840" y="486108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6837120" y="4862520"/>
              <a:ext cx="1800" cy="189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068800" y="5049720"/>
              <a:ext cx="1766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4841640" y="4979880"/>
              <a:ext cx="2793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4854240" y="493884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591320" y="47451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6846840" y="4660920"/>
              <a:ext cx="187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6702480" y="40575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 flipH="1">
              <a:off x="6838560" y="4062600"/>
              <a:ext cx="3240" cy="598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5957640" y="398772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5068800" y="3987720"/>
              <a:ext cx="878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4908600" y="3906720"/>
              <a:ext cx="223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4921200" y="38671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6924600" y="474984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6657840" y="4448160"/>
              <a:ext cx="1440" cy="295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6642000" y="4730760"/>
              <a:ext cx="34920" cy="367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5813280" y="4749840"/>
              <a:ext cx="376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V="1">
              <a:off x="6475320" y="4750920"/>
              <a:ext cx="43812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5730840" y="41259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5772960" y="416736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068800" y="4668840"/>
              <a:ext cx="144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4908600" y="4599000"/>
              <a:ext cx="2124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4919760" y="455940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5068800" y="481824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4908600" y="4749840"/>
              <a:ext cx="2124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4921920" y="470844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7729560" y="4629240"/>
              <a:ext cx="245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7746840" y="458964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5841720" y="4783320"/>
              <a:ext cx="324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5858280" y="4743360"/>
              <a:ext cx="14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886280" y="5280120"/>
              <a:ext cx="33782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4842360" y="5340240"/>
              <a:ext cx="2019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sert inverters to eliminat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ouble bubbles on a w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3717720" y="2828880"/>
              <a:ext cx="6840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2728800" y="448488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812960" y="5248440"/>
              <a:ext cx="1849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d double bubbles to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rt output of AND 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2931120" y="454032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8" name=""/>
            <p:cNvGrpSpPr/>
            <p:nvPr/>
          </p:nvGrpSpPr>
          <p:grpSpPr>
            <a:xfrm>
              <a:off x="6183720" y="4618080"/>
              <a:ext cx="302760" cy="299520"/>
              <a:chOff x="6183720" y="4618080"/>
              <a:chExt cx="302760" cy="299520"/>
            </a:xfrm>
          </p:grpSpPr>
          <p:sp>
            <p:nvSpPr>
              <p:cNvPr id="3739" name=""/>
              <p:cNvSpPr/>
              <p:nvPr/>
            </p:nvSpPr>
            <p:spPr>
              <a:xfrm>
                <a:off x="6183720" y="4618080"/>
                <a:ext cx="242640" cy="133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 flipV="1">
                <a:off x="6183720" y="4751280"/>
                <a:ext cx="242640" cy="16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 flipH="1">
                <a:off x="6188760" y="4618080"/>
                <a:ext cx="1080" cy="2887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rot="5400000">
                <a:off x="6428520" y="4724640"/>
                <a:ext cx="56880" cy="5868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3" name=""/>
            <p:cNvSpPr/>
            <p:nvPr/>
          </p:nvSpPr>
          <p:spPr>
            <a:xfrm>
              <a:off x="5952960" y="4443480"/>
              <a:ext cx="70164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8B82-47AE-4C2A-A5DC-D85DA5B4B4F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4" name=""/>
          <p:cNvGrpSpPr/>
          <p:nvPr/>
        </p:nvGrpSpPr>
        <p:grpSpPr>
          <a:xfrm>
            <a:off x="685800" y="5181480"/>
            <a:ext cx="3384720" cy="1143000"/>
            <a:chOff x="685800" y="5181480"/>
            <a:chExt cx="3384720" cy="1143000"/>
          </a:xfrm>
        </p:grpSpPr>
        <p:grpSp>
          <p:nvGrpSpPr>
            <p:cNvPr id="3745" name=""/>
            <p:cNvGrpSpPr/>
            <p:nvPr/>
          </p:nvGrpSpPr>
          <p:grpSpPr>
            <a:xfrm>
              <a:off x="3117960" y="5181480"/>
              <a:ext cx="825480" cy="1143000"/>
              <a:chOff x="3117960" y="5181480"/>
              <a:chExt cx="825480" cy="1143000"/>
            </a:xfrm>
          </p:grpSpPr>
          <p:sp>
            <p:nvSpPr>
              <p:cNvPr id="3746" name=""/>
              <p:cNvSpPr/>
              <p:nvPr/>
            </p:nvSpPr>
            <p:spPr>
              <a:xfrm>
                <a:off x="3130560" y="5181480"/>
                <a:ext cx="73656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130560" y="51814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130560" y="57531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3187800" y="53150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3175200" y="5886360"/>
                <a:ext cx="266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3117960" y="56260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3117960" y="58802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3117960" y="6197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3930840" y="5753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117960" y="5308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3543480" y="5594400"/>
                <a:ext cx="253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3867120" y="5727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8" name=""/>
            <p:cNvSpPr/>
            <p:nvPr/>
          </p:nvSpPr>
          <p:spPr>
            <a:xfrm>
              <a:off x="3003480" y="53024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3003480" y="5619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3003480" y="58737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3003480" y="6191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395604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685800" y="5442120"/>
              <a:ext cx="2222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x2 AOI g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4927680" y="5181480"/>
            <a:ext cx="3498840" cy="1143000"/>
            <a:chOff x="4927680" y="5181480"/>
            <a:chExt cx="3498840" cy="1143000"/>
          </a:xfrm>
        </p:grpSpPr>
        <p:grpSp>
          <p:nvGrpSpPr>
            <p:cNvPr id="3765" name=""/>
            <p:cNvGrpSpPr/>
            <p:nvPr/>
          </p:nvGrpSpPr>
          <p:grpSpPr>
            <a:xfrm>
              <a:off x="7473960" y="5181480"/>
              <a:ext cx="825480" cy="1143000"/>
              <a:chOff x="7473960" y="5181480"/>
              <a:chExt cx="825480" cy="1143000"/>
            </a:xfrm>
          </p:grpSpPr>
          <p:sp>
            <p:nvSpPr>
              <p:cNvPr id="3766" name=""/>
              <p:cNvSpPr/>
              <p:nvPr/>
            </p:nvSpPr>
            <p:spPr>
              <a:xfrm>
                <a:off x="7486560" y="5181480"/>
                <a:ext cx="73692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7486560" y="51814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486560" y="57531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543800" y="53150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531200" y="58863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473960" y="56260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7473960" y="58802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7473960" y="6197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8286840" y="5753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473960" y="5308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899480" y="5594400"/>
                <a:ext cx="254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8223480" y="5727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8" name=""/>
            <p:cNvSpPr/>
            <p:nvPr/>
          </p:nvSpPr>
          <p:spPr>
            <a:xfrm>
              <a:off x="7359840" y="5302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7359840" y="56199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7359840" y="5873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7359840" y="61912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831204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 flipH="1">
              <a:off x="7333920" y="5467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 flipH="1">
              <a:off x="7321680" y="603900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927680" y="5442120"/>
              <a:ext cx="2222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x2 AOI g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6" name=""/>
          <p:cNvGrpSpPr/>
          <p:nvPr/>
        </p:nvGrpSpPr>
        <p:grpSpPr>
          <a:xfrm>
            <a:off x="4876920" y="2685960"/>
            <a:ext cx="3301920" cy="2095560"/>
            <a:chOff x="4876920" y="2685960"/>
            <a:chExt cx="3301920" cy="2095560"/>
          </a:xfrm>
        </p:grpSpPr>
        <p:sp>
          <p:nvSpPr>
            <p:cNvPr id="3787" name=""/>
            <p:cNvSpPr/>
            <p:nvPr/>
          </p:nvSpPr>
          <p:spPr>
            <a:xfrm>
              <a:off x="5181840" y="4388040"/>
              <a:ext cx="1904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7213680" y="436248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v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5143680" y="2685960"/>
              <a:ext cx="2832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ossible 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5238720" y="32068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238720" y="36640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232600" y="32130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467680" y="3214800"/>
              <a:ext cx="4312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467320" y="3187800"/>
              <a:ext cx="43164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886360" y="340380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5238720" y="37782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238720" y="42354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232600" y="3784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5467680" y="3786120"/>
              <a:ext cx="4312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467320" y="3759480"/>
              <a:ext cx="43164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886360" y="39751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810760" y="3492720"/>
              <a:ext cx="12564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810760" y="3519360"/>
              <a:ext cx="125640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6382440" y="3519360"/>
              <a:ext cx="12600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6407280" y="3517560"/>
              <a:ext cx="10116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407280" y="3594240"/>
              <a:ext cx="889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6407280" y="378468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321680" y="353052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 flipV="1">
              <a:off x="7321680" y="3708000"/>
              <a:ext cx="2538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7315200" y="3530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588440" y="368316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060880" y="3333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4876920" y="321948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5060880" y="3524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4876920" y="340992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060880" y="3905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4876920" y="379116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5060880" y="40957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4876920" y="398160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5962680" y="34354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229440" y="3625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134040" y="34416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6140520" y="3625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962680" y="4006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6229440" y="3816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6140520" y="3816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6134040" y="3822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7080480" y="37148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67736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7950240" y="3600360"/>
              <a:ext cx="228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1" name=""/>
          <p:cNvGrpSpPr/>
          <p:nvPr/>
        </p:nvGrpSpPr>
        <p:grpSpPr>
          <a:xfrm>
            <a:off x="723960" y="2724120"/>
            <a:ext cx="3213000" cy="2070000"/>
            <a:chOff x="723960" y="2724120"/>
            <a:chExt cx="3213000" cy="2070000"/>
          </a:xfrm>
        </p:grpSpPr>
        <p:sp>
          <p:nvSpPr>
            <p:cNvPr id="3832" name=""/>
            <p:cNvSpPr/>
            <p:nvPr/>
          </p:nvSpPr>
          <p:spPr>
            <a:xfrm>
              <a:off x="1015920" y="4388040"/>
              <a:ext cx="648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2095560" y="4400640"/>
              <a:ext cx="1562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787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v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447920" y="2724120"/>
              <a:ext cx="182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al concep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085760" y="320688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1085760" y="36640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 flipV="1">
              <a:off x="1079640" y="32000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1302120" y="3214800"/>
              <a:ext cx="4183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1301760" y="3187800"/>
              <a:ext cx="4186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1085760" y="377820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1085760" y="42354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 flipV="1">
              <a:off x="1079640" y="377172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302120" y="3786120"/>
              <a:ext cx="4183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301760" y="3759480"/>
              <a:ext cx="4186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026080" y="3519360"/>
              <a:ext cx="20232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442160" y="3519360"/>
              <a:ext cx="135792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1517400" y="3492720"/>
              <a:ext cx="1282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2025720" y="3492720"/>
              <a:ext cx="202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2165400" y="36259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2165400" y="38163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3067200" y="353052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 flipV="1">
              <a:off x="3067200" y="3708000"/>
              <a:ext cx="2538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3060720" y="3530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3333960" y="36831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1708200" y="3435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987560" y="3625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898640" y="3625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892520" y="34416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708200" y="4006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987560" y="3816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898640" y="3816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892520" y="3822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2800440" y="3714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88936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895320" y="3333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23960" y="321948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89532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23960" y="340992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895320" y="3905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723960" y="379116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895320" y="409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723960" y="398160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343548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3708360" y="3600360"/>
              <a:ext cx="228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-OR-invert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I function:  three stages of logic —  AND, OR, Inv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gates "packaged" as a single circuit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33AF-D315-455A-A9DF-3B54DC166A4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7" name=""/>
          <p:cNvGrpSpPr/>
          <p:nvPr/>
        </p:nvGrpSpPr>
        <p:grpSpPr>
          <a:xfrm>
            <a:off x="4648320" y="4102200"/>
            <a:ext cx="2514600" cy="1307880"/>
            <a:chOff x="4648320" y="4102200"/>
            <a:chExt cx="2514600" cy="1307880"/>
          </a:xfrm>
        </p:grpSpPr>
        <p:grpSp>
          <p:nvGrpSpPr>
            <p:cNvPr id="3878" name=""/>
            <p:cNvGrpSpPr/>
            <p:nvPr/>
          </p:nvGrpSpPr>
          <p:grpSpPr>
            <a:xfrm>
              <a:off x="5505480" y="4159080"/>
              <a:ext cx="825480" cy="1143000"/>
              <a:chOff x="5505480" y="4159080"/>
              <a:chExt cx="825480" cy="1143000"/>
            </a:xfrm>
          </p:grpSpPr>
          <p:sp>
            <p:nvSpPr>
              <p:cNvPr id="3879" name=""/>
              <p:cNvSpPr/>
              <p:nvPr/>
            </p:nvSpPr>
            <p:spPr>
              <a:xfrm>
                <a:off x="5518080" y="4159080"/>
                <a:ext cx="73656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5518080" y="41590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5518080" y="47307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5575320" y="42926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5562720" y="48639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5505480" y="46036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5505480" y="48578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5505480" y="51753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6318360" y="4730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5505480" y="428616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5931000" y="4572000"/>
                <a:ext cx="253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6254640" y="4705200"/>
                <a:ext cx="50760" cy="51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1" name=""/>
            <p:cNvSpPr/>
            <p:nvPr/>
          </p:nvSpPr>
          <p:spPr>
            <a:xfrm>
              <a:off x="5391000" y="4280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5391000" y="4597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5391000" y="4851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5391000" y="51688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6343560" y="4724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4648320" y="4102200"/>
              <a:ext cx="622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648320" y="4419720"/>
              <a:ext cx="622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4660920" y="4686480"/>
              <a:ext cx="5842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4660920" y="500364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6591240" y="4559400"/>
              <a:ext cx="571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to AOI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procedure to place in AOI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complement of the function in sum-of-products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grouping the 0s in the Karnaugh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 XOR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xor B = A’ B  +  A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I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(A’ B’  +  A B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39D-56A0-4DB9-959C-B788B140FA5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457200" y="2514600"/>
            <a:ext cx="6908760" cy="2895480"/>
            <a:chOff x="457200" y="2514600"/>
            <a:chExt cx="6908760" cy="2895480"/>
          </a:xfrm>
        </p:grpSpPr>
        <p:grpSp>
          <p:nvGrpSpPr>
            <p:cNvPr id="120" name=""/>
            <p:cNvGrpSpPr/>
            <p:nvPr/>
          </p:nvGrpSpPr>
          <p:grpSpPr>
            <a:xfrm>
              <a:off x="2387520" y="2895480"/>
              <a:ext cx="918720" cy="419400"/>
              <a:chOff x="2387520" y="2895480"/>
              <a:chExt cx="918720" cy="419400"/>
            </a:xfrm>
          </p:grpSpPr>
          <p:sp>
            <p:nvSpPr>
              <p:cNvPr id="121" name=""/>
              <p:cNvSpPr/>
              <p:nvPr/>
            </p:nvSpPr>
            <p:spPr>
              <a:xfrm>
                <a:off x="2387520" y="2928960"/>
                <a:ext cx="75852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39680" y="2895480"/>
                <a:ext cx="46656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457200" y="2903400"/>
              <a:ext cx="918720" cy="419400"/>
              <a:chOff x="457200" y="2903400"/>
              <a:chExt cx="918720" cy="419400"/>
            </a:xfrm>
          </p:grpSpPr>
          <p:sp>
            <p:nvSpPr>
              <p:cNvPr id="124" name=""/>
              <p:cNvSpPr/>
              <p:nvPr/>
            </p:nvSpPr>
            <p:spPr>
              <a:xfrm flipH="1">
                <a:off x="617040" y="2936880"/>
                <a:ext cx="75852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457200" y="2903400"/>
                <a:ext cx="46656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1473120" y="4876920"/>
              <a:ext cx="5892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' B' D  +  A' C  +  B' C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0720" y="2971800"/>
              <a:ext cx="761760" cy="76212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762120"/>
                <a:gd name="textAreaBottom" fmla="*/ 725040 h 762120"/>
              </a:gdLst>
              <a:ahLst/>
              <a:rect l="textAreaLeft" t="textAreaTop" r="textAreaRight" b="textAreaBottom"/>
              <a:pathLst>
                <a:path w="21600" h="21610">
                  <a:moveTo>
                    <a:pt x="3600" y="0"/>
                  </a:moveTo>
                  <a:arcTo wR="3600" hR="3600" stAng="16200000" swAng="-5400000"/>
                  <a:lnTo>
                    <a:pt x="0" y="18010"/>
                  </a:lnTo>
                  <a:arcTo wR="3600" hR="3600" stAng="10800000" swAng="-5400000"/>
                  <a:lnTo>
                    <a:pt x="18000" y="2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6680" y="2514600"/>
              <a:ext cx="304920" cy="7621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762120"/>
                <a:gd name="textAreaBottom" fmla="*/ 747360 h 762120"/>
              </a:gdLst>
              <a:ahLst/>
              <a:rect l="textAreaLeft" t="textAreaTop" r="textAreaRight" b="textAreaBottom"/>
              <a:pathLst>
                <a:path w="21600" h="53949">
                  <a:moveTo>
                    <a:pt x="3600" y="0"/>
                  </a:moveTo>
                  <a:arcTo wR="3600" hR="3600" stAng="16200000" swAng="-5400000"/>
                  <a:lnTo>
                    <a:pt x="0" y="50349"/>
                  </a:lnTo>
                  <a:arcTo wR="3600" hR="3600" stAng="10800000" swAng="-5400000"/>
                  <a:lnTo>
                    <a:pt x="18000" y="53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473120" y="1494000"/>
            <a:ext cx="6908760" cy="4678200"/>
            <a:chOff x="1473120" y="1494000"/>
            <a:chExt cx="6908760" cy="4678200"/>
          </a:xfrm>
        </p:grpSpPr>
        <p:grpSp>
          <p:nvGrpSpPr>
            <p:cNvPr id="130" name=""/>
            <p:cNvGrpSpPr/>
            <p:nvPr/>
          </p:nvGrpSpPr>
          <p:grpSpPr>
            <a:xfrm>
              <a:off x="7543800" y="1494000"/>
              <a:ext cx="426960" cy="2849040"/>
              <a:chOff x="7543800" y="1494000"/>
              <a:chExt cx="426960" cy="28490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7543800" y="1494000"/>
                <a:ext cx="419040" cy="918720"/>
                <a:chOff x="7543800" y="1494000"/>
                <a:chExt cx="419040" cy="918720"/>
              </a:xfrm>
            </p:grpSpPr>
            <p:sp>
              <p:nvSpPr>
                <p:cNvPr id="132" name=""/>
                <p:cNvSpPr/>
                <p:nvPr/>
              </p:nvSpPr>
              <p:spPr>
                <a:xfrm rot="16200000">
                  <a:off x="7375320" y="1855800"/>
                  <a:ext cx="758520" cy="3553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6200000">
                  <a:off x="7520040" y="1517760"/>
                  <a:ext cx="466560" cy="419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7551720" y="3424320"/>
                <a:ext cx="419040" cy="918720"/>
                <a:chOff x="7551720" y="3424320"/>
                <a:chExt cx="419040" cy="918720"/>
              </a:xfrm>
            </p:grpSpPr>
            <p:sp>
              <p:nvSpPr>
                <p:cNvPr id="135" name=""/>
                <p:cNvSpPr/>
                <p:nvPr/>
              </p:nvSpPr>
              <p:spPr>
                <a:xfrm flipH="1" rot="16200000">
                  <a:off x="7382880" y="3625920"/>
                  <a:ext cx="758520" cy="3553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rot="16200000">
                  <a:off x="7527960" y="3900240"/>
                  <a:ext cx="466560" cy="419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" name=""/>
            <p:cNvSpPr/>
            <p:nvPr/>
          </p:nvSpPr>
          <p:spPr>
            <a:xfrm>
              <a:off x="1473120" y="5638680"/>
              <a:ext cx="5892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 C' D'  +  A C'  +  A B D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0120" y="2057400"/>
              <a:ext cx="761760" cy="76212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762120"/>
                <a:gd name="textAreaBottom" fmla="*/ 725040 h 762120"/>
              </a:gdLst>
              <a:ahLst/>
              <a:rect l="textAreaLeft" t="textAreaTop" r="textAreaRight" b="textAreaBottom"/>
              <a:pathLst>
                <a:path w="21600" h="21610">
                  <a:moveTo>
                    <a:pt x="3600" y="0"/>
                  </a:moveTo>
                  <a:arcTo wR="3600" hR="3600" stAng="16200000" swAng="-5400000"/>
                  <a:lnTo>
                    <a:pt x="0" y="18010"/>
                  </a:lnTo>
                  <a:arcTo wR="3600" hR="3600" stAng="10800000" swAng="-5400000"/>
                  <a:lnTo>
                    <a:pt x="18000" y="2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7315200" y="1828440"/>
              <a:ext cx="304920" cy="7621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762120"/>
                <a:gd name="textAreaBottom" fmla="*/ 747360 h 762120"/>
              </a:gdLst>
              <a:ahLst/>
              <a:rect l="textAreaLeft" t="textAreaTop" r="textAreaRight" b="textAreaBottom"/>
              <a:pathLst>
                <a:path w="21600" h="53949">
                  <a:moveTo>
                    <a:pt x="3600" y="0"/>
                  </a:moveTo>
                  <a:arcTo wR="3600" hR="3600" stAng="16200000" swAng="-5400000"/>
                  <a:lnTo>
                    <a:pt x="0" y="50349"/>
                  </a:lnTo>
                  <a:arcTo wR="3600" hR="3600" stAng="10800000" swAng="-5400000"/>
                  <a:lnTo>
                    <a:pt x="18000" y="53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33520" y="4863960"/>
            <a:ext cx="88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4152960"/>
            <a:ext cx="1828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4152960"/>
            <a:ext cx="17780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4152960"/>
            <a:ext cx="1828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4720" y="1749600"/>
            <a:ext cx="2760120" cy="2364840"/>
            <a:chOff x="684720" y="1749600"/>
            <a:chExt cx="2760120" cy="2364840"/>
          </a:xfrm>
        </p:grpSpPr>
        <p:sp>
          <p:nvSpPr>
            <p:cNvPr id="146" name=""/>
            <p:cNvSpPr/>
            <p:nvPr/>
          </p:nvSpPr>
          <p:spPr>
            <a:xfrm>
              <a:off x="1138320" y="20700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48040" y="20685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7812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2596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86876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78120" y="19778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95760" y="24145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60920" y="270360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4560" y="1749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6372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1156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95436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30400" y="30081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40120" y="3006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7812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2596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86876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11560" y="3809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63720" y="28843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17640" y="378468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6372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1156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5436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4720" y="318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504240" y="1749600"/>
            <a:ext cx="2760120" cy="2364840"/>
            <a:chOff x="3504240" y="1749600"/>
            <a:chExt cx="2760120" cy="2364840"/>
          </a:xfrm>
        </p:grpSpPr>
        <p:sp>
          <p:nvSpPr>
            <p:cNvPr id="171" name=""/>
            <p:cNvSpPr/>
            <p:nvPr/>
          </p:nvSpPr>
          <p:spPr>
            <a:xfrm>
              <a:off x="3957840" y="20700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67560" y="20685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9764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4548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68828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97640" y="19778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15280" y="24145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80440" y="270360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04080" y="1749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8324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3108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77388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49920" y="30081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59640" y="3006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9764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4548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68828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31080" y="3809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83240" y="28843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37160" y="378468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8324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3108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77388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4240" y="318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777000" y="207000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86720" y="206856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16800" y="19782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64640" y="1981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507440" y="2428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16800" y="19782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434440" y="2414520"/>
            <a:ext cx="0" cy="90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499600" y="2703600"/>
            <a:ext cx="583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23240" y="174960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02400" y="19782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50240" y="1981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593040" y="2428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69080" y="300816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78800" y="300672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16800" y="289548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64640" y="2898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507440" y="33465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5024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02400" y="2884320"/>
            <a:ext cx="0" cy="92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56320" y="378468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02400" y="289548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50240" y="2898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593040" y="33465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23400" y="31878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5257800"/>
            <a:ext cx="264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(A xnor C) • (B xnor 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6095880"/>
            <a:ext cx="5892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T and GT are similar (flip A/C and B/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73120" y="2057400"/>
            <a:ext cx="4927680" cy="3657600"/>
            <a:chOff x="1473120" y="2057400"/>
            <a:chExt cx="4927680" cy="3657600"/>
          </a:xfrm>
        </p:grpSpPr>
        <p:sp>
          <p:nvSpPr>
            <p:cNvPr id="222" name=""/>
            <p:cNvSpPr/>
            <p:nvPr/>
          </p:nvSpPr>
          <p:spPr>
            <a:xfrm>
              <a:off x="1473120" y="5257800"/>
              <a:ext cx="492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' B' C' D'  +  A' B C' D  +  A B C D  +  A B' C 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9880" y="20574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67080" y="25146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24280" y="29718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81480" y="34290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6BA-6F4B-400C-84DF-A32E1F7C323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"/>
          <p:cNvSpPr/>
          <p:nvPr/>
        </p:nvSpPr>
        <p:spPr>
          <a:xfrm>
            <a:off x="2971800" y="6184800"/>
            <a:ext cx="4622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mplemented in a single 2x2 AOI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 flipH="1" flipV="1">
            <a:off x="2508120" y="5521320"/>
            <a:ext cx="1301760" cy="65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 flipV="1">
            <a:off x="3809880" y="5555880"/>
            <a:ext cx="46224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 flipV="1">
            <a:off x="3809880" y="5545080"/>
            <a:ext cx="2214720" cy="62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V="1">
            <a:off x="3809880" y="5568840"/>
            <a:ext cx="395460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of using AOI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A B + A C’ + B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’ B’ + A’ C + B’ C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by 2-input 3-stack AOI g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 + B) (A + C’) (B + 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[(A’ + B’) (A’ + C) (B’ + C)]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by 2-input 3-stack OAI g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4-bit equality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(A0 B0 + A0’ B0’)(A1 B1 + A1’ B1’)(A2 B2 + A2’ B2’)(A3 B3 + A3’ B3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A319-8193-428E-BA9D-DE78E7E8CE4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0" name=""/>
          <p:cNvSpPr/>
          <p:nvPr/>
        </p:nvSpPr>
        <p:spPr>
          <a:xfrm>
            <a:off x="5283360" y="2203560"/>
            <a:ext cx="1841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gh if A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B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w   if A0 = 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5270400" y="4705200"/>
            <a:ext cx="34927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all inputs are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 Ai = Bi, i=0,...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Z is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4648320" y="3498840"/>
            <a:ext cx="283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ation of bub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 flipH="1" flipV="1">
            <a:off x="2889360" y="2869920"/>
            <a:ext cx="1676160" cy="78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 flipH="1">
            <a:off x="3282480" y="3657600"/>
            <a:ext cx="129564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 flipH="1">
            <a:off x="2813040" y="2400480"/>
            <a:ext cx="2425680" cy="8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H="1" flipV="1">
            <a:off x="3765600" y="4546440"/>
            <a:ext cx="151128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7" name=""/>
          <p:cNvGrpSpPr/>
          <p:nvPr/>
        </p:nvGrpSpPr>
        <p:grpSpPr>
          <a:xfrm>
            <a:off x="774720" y="2355840"/>
            <a:ext cx="3695760" cy="4121280"/>
            <a:chOff x="774720" y="2355840"/>
            <a:chExt cx="3695760" cy="4121280"/>
          </a:xfrm>
        </p:grpSpPr>
        <p:sp>
          <p:nvSpPr>
            <p:cNvPr id="3918" name=""/>
            <p:cNvSpPr/>
            <p:nvPr/>
          </p:nvSpPr>
          <p:spPr>
            <a:xfrm>
              <a:off x="774720" y="235584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774720" y="342252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774720" y="450216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774720" y="5581800"/>
              <a:ext cx="5713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3244680" y="42354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3244680" y="459108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3238560" y="424188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3454560" y="4249800"/>
              <a:ext cx="32976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3435480" y="4243320"/>
              <a:ext cx="35496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3454200" y="4235400"/>
              <a:ext cx="3301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3435120" y="4215960"/>
              <a:ext cx="3553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3797280" y="4400640"/>
              <a:ext cx="507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3238560" y="41148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3238560" y="45975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3168720" y="46101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3168720" y="44575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3168720" y="43178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3168720" y="41655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873080" y="55627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330280" y="556272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1873080" y="60199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968480" y="56707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1968480" y="61279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425680" y="589932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1797120" y="567684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1797120" y="58291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800440" y="59817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1873080" y="449568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330280" y="449568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873080" y="495288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968480" y="460368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968480" y="506088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425680" y="483228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1797120" y="46101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1797120" y="476244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800440" y="49147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1873080" y="34290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330280" y="342900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1873080" y="38862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1968480" y="354960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1968480" y="400680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425680" y="377820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797120" y="355608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1797120" y="37083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800440" y="38606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873080" y="23623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330280" y="236232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1873080" y="28195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1968480" y="24829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1968480" y="29401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425680" y="271152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797120" y="24890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1797120" y="264168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800440" y="27939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1720800" y="25081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1720800" y="2965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1339920" y="25081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1714320" y="2514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1701720" y="2495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1720800" y="2660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1720800" y="3117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1568520" y="26607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1339920" y="26607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1568520" y="3117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1562040" y="26668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1549440" y="26478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1720800" y="4032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1339920" y="3575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1714320" y="3581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1720800" y="35751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1720800" y="3727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1720800" y="41846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1568520" y="37274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1339920" y="37274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1568520" y="41846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1562040" y="37339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1549440" y="37148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863800" y="38797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3092400" y="43369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933640" y="3886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940120" y="43369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1720800" y="50990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1339920" y="464184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714320" y="46483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720800" y="46418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1720800" y="47941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1720800" y="5251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1568520" y="47941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1339920" y="479412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1568520" y="5251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1562040" y="4800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1549440" y="4781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1720800" y="61657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1339920" y="57085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1714320" y="57150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1720800" y="57085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720800" y="58611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1720800" y="6318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1568520" y="58611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1339920" y="58611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1568520" y="6318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562040" y="5867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1549440" y="58482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863800" y="28130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3092400" y="41846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3085920" y="28195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940120" y="28130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863800" y="4946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3092400" y="44895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940120" y="44895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933640" y="4495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863800" y="6013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3092400" y="46418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3085920" y="46483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940120" y="60134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3803760" y="44132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3276720" y="4286160"/>
              <a:ext cx="660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949560" y="4286160"/>
              <a:ext cx="520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of using AOI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 AOI implementation of 4-bit equality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C11F-4C6E-4C99-8073-70886BE05F0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for 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may be sm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s have smaller fan-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may be f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ifficult to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for optimization are not as good as for two-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is more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4F0-B9D8-4A5C-A2AB-F38D29F3027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e behavior of combinational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807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values carried on signal wires ov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in explaining sequences of events (changes in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tools are used to create these wave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to the simulator includes gates and their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stimulus, that is, input signal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delay — time for change at input to cause change at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delay – typical/nominal delay – max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eful designers design for the worst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e time — time for output to transition from low to high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 time — time for output to transition from high to low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se width — time that an output stays high or stays low between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EF82-1646-4C66-8ED8-FD4ECD5DB23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2" name="" descr=""/>
          <p:cNvPicPr/>
          <p:nvPr/>
        </p:nvPicPr>
        <p:blipFill>
          <a:blip r:embed="rId1"/>
          <a:stretch/>
        </p:blipFill>
        <p:spPr>
          <a:xfrm>
            <a:off x="3962520" y="3606840"/>
            <a:ext cx="5207040" cy="2006640"/>
          </a:xfrm>
          <a:prstGeom prst="rect">
            <a:avLst/>
          </a:prstGeom>
          <a:ln w="0">
            <a:noFill/>
          </a:ln>
        </p:spPr>
      </p:pic>
      <p:sp>
        <p:nvSpPr>
          <p:cNvPr id="4043" name=""/>
          <p:cNvSpPr/>
          <p:nvPr/>
        </p:nvSpPr>
        <p:spPr>
          <a:xfrm>
            <a:off x="6095880" y="5867280"/>
            <a:ext cx="30355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s not alway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lse 3 gate-delays w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5276880" y="4921200"/>
            <a:ext cx="1714320" cy="304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2705040" y="5740560"/>
            <a:ext cx="31370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 remains high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gate delays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hanges from low to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210360" y="5486400"/>
            <a:ext cx="476280" cy="577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 flipH="1">
            <a:off x="4819320" y="5105520"/>
            <a:ext cx="399960" cy="641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8" name=""/>
          <p:cNvGrpSpPr/>
          <p:nvPr/>
        </p:nvGrpSpPr>
        <p:grpSpPr>
          <a:xfrm>
            <a:off x="5121360" y="2695680"/>
            <a:ext cx="4149360" cy="588960"/>
            <a:chOff x="5121360" y="2695680"/>
            <a:chExt cx="4149360" cy="588960"/>
          </a:xfrm>
        </p:grpSpPr>
        <p:sp>
          <p:nvSpPr>
            <p:cNvPr id="4049" name=""/>
            <p:cNvSpPr/>
            <p:nvPr/>
          </p:nvSpPr>
          <p:spPr>
            <a:xfrm>
              <a:off x="8728560" y="2895840"/>
              <a:ext cx="54216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121360" y="2695680"/>
              <a:ext cx="542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6040800" y="2695680"/>
              <a:ext cx="542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771600" y="2695680"/>
              <a:ext cx="5655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7514640" y="2695680"/>
              <a:ext cx="5655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8003880" y="2789640"/>
              <a:ext cx="44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8003880" y="3237480"/>
              <a:ext cx="45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7997760" y="2795760"/>
              <a:ext cx="0" cy="43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8245800" y="2802960"/>
              <a:ext cx="399600" cy="44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8227800" y="2796840"/>
              <a:ext cx="435600" cy="45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8245440" y="2790360"/>
              <a:ext cx="3999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8227440" y="2772720"/>
              <a:ext cx="43596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7249320" y="2736720"/>
              <a:ext cx="27072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 flipV="1">
              <a:off x="7249320" y="2913120"/>
              <a:ext cx="27072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724320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7531920" y="2889720"/>
              <a:ext cx="8244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6506280" y="2736720"/>
              <a:ext cx="27108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 flipV="1">
              <a:off x="6506280" y="2913120"/>
              <a:ext cx="27108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50052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789240" y="2889720"/>
              <a:ext cx="7056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5751720" y="2736720"/>
              <a:ext cx="27108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 flipV="1">
              <a:off x="5751720" y="2913120"/>
              <a:ext cx="27108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74596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034680" y="2889720"/>
              <a:ext cx="7056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76266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781488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56344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7814880" y="310788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7808760" y="311364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5563440" y="3284640"/>
              <a:ext cx="22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5557320" y="2925360"/>
              <a:ext cx="0" cy="35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5280120" y="2919240"/>
              <a:ext cx="2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533920" y="2895840"/>
              <a:ext cx="5868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8663760" y="301320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688356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7072560" y="291924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1290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3180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mentary changes in out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useful — pulse shaping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a problem — incorrect circuit operation (glitches/hazar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pulse shaping 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• A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76D5-A680-48AE-A509-E2F264072D8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9" name="" descr=""/>
          <p:cNvPicPr/>
          <p:nvPr/>
        </p:nvPicPr>
        <p:blipFill>
          <a:blip r:embed="rId1"/>
          <a:stretch/>
        </p:blipFill>
        <p:spPr>
          <a:xfrm>
            <a:off x="647640" y="4444920"/>
            <a:ext cx="8153640" cy="1638360"/>
          </a:xfrm>
          <a:prstGeom prst="rect">
            <a:avLst/>
          </a:prstGeom>
          <a:ln w="0">
            <a:noFill/>
          </a:ln>
        </p:spPr>
      </p:pic>
      <p:sp>
        <p:nvSpPr>
          <p:cNvPr id="4090" name=""/>
          <p:cNvSpPr/>
          <p:nvPr/>
        </p:nvSpPr>
        <p:spPr>
          <a:xfrm>
            <a:off x="1378080" y="5251320"/>
            <a:ext cx="342720" cy="101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1378080" y="5543640"/>
            <a:ext cx="711000" cy="101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1378080" y="5835600"/>
            <a:ext cx="1066680" cy="101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2019240" y="3822840"/>
            <a:ext cx="1181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def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596880" y="3314880"/>
            <a:ext cx="158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3708360" y="3924360"/>
            <a:ext cx="1536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1136520" y="3664080"/>
            <a:ext cx="203400" cy="736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 flipH="1">
            <a:off x="2216160" y="4387680"/>
            <a:ext cx="101520" cy="148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 flipH="1">
            <a:off x="1860480" y="4387680"/>
            <a:ext cx="457200" cy="116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 flipH="1">
            <a:off x="1593360" y="4375080"/>
            <a:ext cx="723960" cy="87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 flipH="1">
            <a:off x="2914560" y="4210200"/>
            <a:ext cx="81288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1" name=""/>
          <p:cNvGrpSpPr/>
          <p:nvPr/>
        </p:nvGrpSpPr>
        <p:grpSpPr>
          <a:xfrm>
            <a:off x="4267080" y="1587600"/>
            <a:ext cx="4343400" cy="1917720"/>
            <a:chOff x="4267080" y="1587600"/>
            <a:chExt cx="4343400" cy="1917720"/>
          </a:xfrm>
        </p:grpSpPr>
        <p:sp>
          <p:nvSpPr>
            <p:cNvPr id="4102" name=""/>
            <p:cNvSpPr/>
            <p:nvPr/>
          </p:nvSpPr>
          <p:spPr>
            <a:xfrm>
              <a:off x="5334120" y="158760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5423040" y="18604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429160" y="1962000"/>
              <a:ext cx="381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 flipH="1">
              <a:off x="5352480" y="1987560"/>
              <a:ext cx="12708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365800" y="2038320"/>
              <a:ext cx="1015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5352480" y="2102040"/>
              <a:ext cx="127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365800" y="2165400"/>
              <a:ext cx="10152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 flipH="1">
              <a:off x="5352480" y="2216160"/>
              <a:ext cx="127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365800" y="2279520"/>
              <a:ext cx="507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423040" y="23176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 flipV="1">
              <a:off x="5130720" y="3028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5111640" y="3029040"/>
              <a:ext cx="18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 flipV="1">
              <a:off x="5130720" y="2736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5111640" y="2838600"/>
              <a:ext cx="18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5035680" y="2851200"/>
              <a:ext cx="88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5035680" y="34290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073480" y="34671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111640" y="35053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5130720" y="34038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130720" y="31431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130720" y="323208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423040" y="2355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403960" y="2533680"/>
              <a:ext cx="3780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130720" y="254628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137200" y="25401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4267080" y="2679840"/>
              <a:ext cx="736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4483080" y="2006640"/>
              <a:ext cx="914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5626080" y="2286000"/>
              <a:ext cx="5842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8026200" y="2311560"/>
              <a:ext cx="584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6108840" y="2692440"/>
              <a:ext cx="609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934320" y="2946600"/>
              <a:ext cx="6094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435800" y="24004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7435800" y="2882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7429320" y="240660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696440" y="2414520"/>
              <a:ext cx="43128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7677360" y="2408400"/>
              <a:ext cx="4694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7696080" y="2400120"/>
              <a:ext cx="4316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7677000" y="2381040"/>
              <a:ext cx="4698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6622920" y="2736720"/>
              <a:ext cx="29232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 flipV="1">
              <a:off x="6622920" y="2927160"/>
              <a:ext cx="2923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616800" y="273672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927840" y="290196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823000" y="2736720"/>
              <a:ext cx="29196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 flipV="1">
              <a:off x="5823000" y="2927160"/>
              <a:ext cx="29196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5816520" y="273672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127560" y="29019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7029360" y="25401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7232760" y="25401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7232760" y="2743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7226280" y="274968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149800" y="25401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423040" y="29401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8248680" y="26290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622944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6432480" y="2933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42916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61960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8159760" y="259704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702936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429160" y="3327480"/>
              <a:ext cx="290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8356680" y="26352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scillatory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ther pulse shaping 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D97D-0772-4C66-9201-80886E3FA7C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hardware at varying levels of abst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descri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ual replacement for sch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archical composition of modules from prim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al/functional descri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what module does, not 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s generates circuit for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ulation seman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2F7-05A0-4C0F-9378-653B0E0498E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D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4000"/>
          </a:bodyPr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el (circa 1983) - developed by Data-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to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much more than stat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P (circa 1977) - research project at C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, but no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(circa 1985) - developed by Gateway (absorbed by Cad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Pascal an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s is only interaction with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ly efficient and easy to 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(circa 1987) - DoD sponsor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Ada (emphasis on re-use and maintain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semantics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general but ver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2CC-5BC3-4D91-A18C-6F1FF6ECD11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s structural and behavioral descri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structur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ach logic gate instantiated and connected to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describes input/output behavior of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tructural implementations could have sam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different implementation of one Boolea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’ll mostly be using behavioral Verilog in Aldec ActiveHD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y on schematic when we want structural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BC77-97F0-43CA-89CD-366FAACAA82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1" name=""/>
          <p:cNvSpPr/>
          <p:nvPr/>
        </p:nvSpPr>
        <p:spPr>
          <a:xfrm>
            <a:off x="1143000" y="1981080"/>
            <a:ext cx="72388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out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wire      abar, bbar, t1, t2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verter invA (abar, a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verter invB (bbar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nd_gate and1 (t1, a, bbar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nd_gate and2 (t2, b, abar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r_gate  or1 (out, t1, t2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ructu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BE5D-863E-4284-9938-5D35A077B526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562720" y="2514600"/>
            <a:ext cx="24890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 altern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ations of 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and without X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72280" y="5130720"/>
            <a:ext cx="3098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NOR is implemented wi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 least 3 simple 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36560" y="1670040"/>
            <a:ext cx="3987720" cy="4578120"/>
            <a:chOff x="736560" y="1670040"/>
            <a:chExt cx="3987720" cy="4578120"/>
          </a:xfrm>
        </p:grpSpPr>
        <p:sp>
          <p:nvSpPr>
            <p:cNvPr id="230" name=""/>
            <p:cNvSpPr/>
            <p:nvPr/>
          </p:nvSpPr>
          <p:spPr>
            <a:xfrm>
              <a:off x="2508120" y="26733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08120" y="2977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502000" y="2666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02000" y="25779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67240" y="26874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60760" y="2681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66880" y="2673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60400" y="2666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83600" y="3652560"/>
              <a:ext cx="8877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77120" y="3646440"/>
              <a:ext cx="90072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89680" y="3652560"/>
              <a:ext cx="756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3560" y="3646440"/>
              <a:ext cx="878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83240" y="3638520"/>
              <a:ext cx="8881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76760" y="3632400"/>
              <a:ext cx="9010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89320" y="3638520"/>
              <a:ext cx="759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83200" y="3632400"/>
              <a:ext cx="8820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33600" y="371448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33600" y="384156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327480" y="39114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27480" y="35305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33600" y="5594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33600" y="5898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327480" y="5587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92720" y="56084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86240" y="5602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92360" y="5594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85880" y="5587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08160" y="5352840"/>
              <a:ext cx="91404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01680" y="5346360"/>
              <a:ext cx="9270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08520" y="5367240"/>
              <a:ext cx="9136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02040" y="5360760"/>
              <a:ext cx="9266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02360" y="536724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95880" y="536076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02360" y="535284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95520" y="534636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29040" y="54734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9000" y="536724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32520" y="536076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9000" y="535284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32160" y="534636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08120" y="5429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08120" y="55562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17800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6388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05056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6540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79712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82640" y="226044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166968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84160" y="24508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41588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0176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289160" y="225396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328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03500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2088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90756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2240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08120" y="3308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08120" y="3612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502000" y="3301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02000" y="32130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67240" y="33224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60760" y="3316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66880" y="3308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60400" y="3301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08120" y="3943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08120" y="4248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2502000" y="3936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02000" y="38480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67240" y="39574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0760" y="3951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66880" y="39434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60400" y="39369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08120" y="45781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08120" y="48830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02000" y="4572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02000" y="448308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7240" y="45925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0760" y="45860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66880" y="45784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0400" y="45720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08160" y="5860800"/>
              <a:ext cx="91404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01680" y="5854320"/>
              <a:ext cx="9270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08520" y="5875200"/>
              <a:ext cx="9136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02040" y="5868720"/>
              <a:ext cx="9266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02360" y="587520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95880" y="586872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02360" y="586080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95520" y="58543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29040" y="59814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39000" y="587520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32520" y="586872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39000" y="586080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32160" y="58543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08120" y="5937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08120" y="606420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52720" y="2825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06880" y="3587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79800" y="2825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00400" y="283212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52720" y="40957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06880" y="3841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79800" y="3841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73320" y="38480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52720" y="4730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06880" y="3968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00400" y="397512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79800" y="4730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78200" y="3778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7820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4148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81040" y="3905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81040" y="4539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81040" y="5429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5716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5104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51040" y="2133360"/>
              <a:ext cx="0" cy="176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8080" y="38923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51040" y="391140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8080" y="45273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1040" y="454644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541656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1040" y="543564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57160" y="390528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7160" y="45399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57160" y="54291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0324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81040" y="4159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81040" y="4794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81040" y="5556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1928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0020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1280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12800" y="2133360"/>
              <a:ext cx="0" cy="20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00200" y="4146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12800" y="416556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00200" y="4781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12800" y="480060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00200" y="5543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12800" y="55623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19280" y="4159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19280" y="4794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19280" y="555624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06880" y="56829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79800" y="54925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00400" y="54990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4148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28520" y="2622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81040" y="2635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81040" y="3270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41480" y="264132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28520" y="3257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41480" y="327636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7600" y="2635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47600" y="32702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0324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81040" y="28890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81040" y="3524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03240" y="264132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90640" y="28764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03240" y="289548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90640" y="3511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03240" y="3530520"/>
              <a:ext cx="0" cy="27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09720" y="288900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09720" y="352404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206880" y="3714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52720" y="34606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73320" y="346680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79800" y="3714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2236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81040" y="2762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81040" y="4667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22360" y="26413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9760" y="27493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22360" y="2768400"/>
              <a:ext cx="0" cy="189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09760" y="4654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22360" y="4673520"/>
              <a:ext cx="0" cy="157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28840" y="276228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28840" y="466704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8448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81040" y="301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81040" y="4921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84480" y="26413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71520" y="3003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84480" y="302256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71520" y="4908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84480" y="4927320"/>
              <a:ext cx="0" cy="132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90600" y="3016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9060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2236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81040" y="3396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81040" y="40320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81040" y="5937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3804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21142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3192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31920" y="213336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19320" y="33843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31920" y="340344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9320" y="40194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31920" y="403848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19320" y="592452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31920" y="5943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38040" y="339696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38040" y="403200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38040" y="593712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8448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81040" y="3651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81040" y="4286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81040" y="6064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0016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8108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9404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94040" y="2133360"/>
              <a:ext cx="0" cy="15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81080" y="3638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94040" y="365760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81080" y="427356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94040" y="4292640"/>
              <a:ext cx="0" cy="17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81080" y="6051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94040" y="60703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00160" y="36511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00160" y="4286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00160" y="60642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06880" y="5810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79800" y="6000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00400" y="58165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6560" y="1670040"/>
              <a:ext cx="1739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62520" y="3638520"/>
              <a:ext cx="761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24360" y="5619600"/>
              <a:ext cx="761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6039000" y="4070160"/>
            <a:ext cx="1765080" cy="826560"/>
            <a:chOff x="6039000" y="4070160"/>
            <a:chExt cx="1765080" cy="826560"/>
          </a:xfrm>
        </p:grpSpPr>
        <p:sp>
          <p:nvSpPr>
            <p:cNvPr id="462" name=""/>
            <p:cNvSpPr/>
            <p:nvPr/>
          </p:nvSpPr>
          <p:spPr>
            <a:xfrm>
              <a:off x="6483240" y="40766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83240" y="43815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6477120" y="407016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642360" y="4091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635880" y="4084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642000" y="40770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635520" y="4083120"/>
              <a:ext cx="29196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58080" y="4597560"/>
              <a:ext cx="862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51600" y="4591440"/>
              <a:ext cx="8758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58440" y="4611600"/>
              <a:ext cx="8625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51960" y="4605480"/>
              <a:ext cx="87552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51920" y="4611600"/>
              <a:ext cx="756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45800" y="4605480"/>
              <a:ext cx="878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76760" y="4610880"/>
              <a:ext cx="50760" cy="25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471000" y="4604040"/>
              <a:ext cx="626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3240" y="4673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83240" y="4800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34320" y="472428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927840" y="47181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144200" y="4351320"/>
              <a:ext cx="1389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37760" y="4351320"/>
              <a:ext cx="9518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87800" y="4336920"/>
              <a:ext cx="9018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143840" y="43369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245360" y="44197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45360" y="45464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565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37440" y="41529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56520" y="46735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39000" y="4165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50040" y="41720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56520" y="4292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565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29440" y="4292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39000" y="48006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10360" y="4788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2944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22960" y="429912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18280" y="45464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1200" y="4737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12160" y="455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27840" y="4229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18280" y="44197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12160" y="42354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54920" y="42292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89960" y="4483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D1A4-14ED-42E4-AFCD-7B8FCD8F982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"/>
          <p:cNvSpPr/>
          <p:nvPr/>
        </p:nvSpPr>
        <p:spPr>
          <a:xfrm>
            <a:off x="762120" y="2590920"/>
            <a:ext cx="773424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ou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g           ou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#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ut = a ^ b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>
            <a:off x="4648320" y="5052960"/>
            <a:ext cx="3031920" cy="580680"/>
          </a:xfrm>
          <a:prstGeom prst="borderCallout1">
            <a:avLst>
              <a:gd name="adj1" fmla="val 18750"/>
              <a:gd name="adj2" fmla="val -8333"/>
              <a:gd name="adj3" fmla="val -96157"/>
              <a:gd name="adj4" fmla="val -7245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lay from input chan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 outpu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6248520" y="3276720"/>
            <a:ext cx="2438280" cy="916920"/>
          </a:xfrm>
          <a:prstGeom prst="borderCallout1">
            <a:avLst>
              <a:gd name="adj1" fmla="val 18750"/>
              <a:gd name="adj2" fmla="val -8333"/>
              <a:gd name="adj3" fmla="val 49134"/>
              <a:gd name="adj4" fmla="val -8963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ulation register - keeps track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of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F0E2-7DD1-4C5A-ABFB-D52055537B6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"/>
          <p:cNvSpPr/>
          <p:nvPr/>
        </p:nvSpPr>
        <p:spPr>
          <a:xfrm>
            <a:off x="685800" y="2209680"/>
            <a:ext cx="85852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out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reg           out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lways @(a or b) 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#6 out = a ^ b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ways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>
            <a:off x="4638600" y="5105520"/>
            <a:ext cx="4105440" cy="642600"/>
          </a:xfrm>
          <a:prstGeom prst="borderCallout1">
            <a:avLst>
              <a:gd name="adj1" fmla="val 18750"/>
              <a:gd name="adj2" fmla="val -8333"/>
              <a:gd name="adj3" fmla="val -157222"/>
              <a:gd name="adj4" fmla="val -2629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ies when block is execu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e. triggered by which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7A87-19D1-4108-B52E-3485DB5FA31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"/>
          <p:cNvSpPr/>
          <p:nvPr/>
        </p:nvSpPr>
        <p:spPr>
          <a:xfrm>
            <a:off x="609480" y="1523880"/>
            <a:ext cx="5499360" cy="52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testbench (x, y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x, y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reg [1:0]     cnt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itial begin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cnt = 0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repeat (4) begin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#10 cnt = cnt + 1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$display ("@ time=%d, x=%b, y=%b, cnt=%b",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$time, x, y, cnt); end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#10 $finish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end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x = cnt[1]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y = cnt[0]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>
            <a:off x="5689440" y="2451240"/>
            <a:ext cx="2184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riving a simulation through a “testbench”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5" name=""/>
          <p:cNvSpPr/>
          <p:nvPr/>
        </p:nvSpPr>
        <p:spPr>
          <a:xfrm>
            <a:off x="5486400" y="1779480"/>
            <a:ext cx="1544760" cy="411480"/>
          </a:xfrm>
          <a:prstGeom prst="borderCallout1">
            <a:avLst>
              <a:gd name="adj1" fmla="val 18750"/>
              <a:gd name="adj2" fmla="val -8333"/>
              <a:gd name="adj3" fmla="val 132689"/>
              <a:gd name="adj4" fmla="val -10141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-bit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5486400" y="2666880"/>
            <a:ext cx="2895480" cy="916920"/>
          </a:xfrm>
          <a:prstGeom prst="borderCallout1">
            <a:avLst>
              <a:gd name="adj1" fmla="val 18750"/>
              <a:gd name="adj2" fmla="val -8333"/>
              <a:gd name="adj3" fmla="val 33277"/>
              <a:gd name="adj4" fmla="val -8135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l block execu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once at sta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5562720" y="5715000"/>
            <a:ext cx="2187360" cy="642600"/>
          </a:xfrm>
          <a:prstGeom prst="borderCallout1">
            <a:avLst>
              <a:gd name="adj1" fmla="val 18750"/>
              <a:gd name="adj2" fmla="val -8333"/>
              <a:gd name="adj3" fmla="val -131185"/>
              <a:gd name="adj4" fmla="val -10318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ive to stop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6248520" y="4829040"/>
            <a:ext cx="2187360" cy="368280"/>
          </a:xfrm>
          <a:prstGeom prst="borderCallout1">
            <a:avLst>
              <a:gd name="adj1" fmla="val 18750"/>
              <a:gd name="adj2" fmla="val -8333"/>
              <a:gd name="adj3" fmla="val -29976"/>
              <a:gd name="adj4" fmla="val -757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 to a cons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C3DC-46C0-49DB-84A0-DCF5FD3C8057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te simulation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tiate stimulus component and device to test in a schema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1" name="" descr=""/>
          <p:cNvPicPr/>
          <p:nvPr/>
        </p:nvPicPr>
        <p:blipFill>
          <a:blip r:embed="rId1"/>
          <a:stretch/>
        </p:blipFill>
        <p:spPr>
          <a:xfrm>
            <a:off x="1822320" y="2963880"/>
            <a:ext cx="5410440" cy="1407960"/>
          </a:xfrm>
          <a:prstGeom prst="rect">
            <a:avLst/>
          </a:prstGeom>
          <a:ln w="0">
            <a:noFill/>
          </a:ln>
        </p:spPr>
      </p:pic>
      <p:sp>
        <p:nvSpPr>
          <p:cNvPr id="4192" name=""/>
          <p:cNvSpPr/>
          <p:nvPr/>
        </p:nvSpPr>
        <p:spPr>
          <a:xfrm>
            <a:off x="4944600" y="3116160"/>
            <a:ext cx="308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4946760" y="3841920"/>
            <a:ext cx="31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4946760" y="3554280"/>
            <a:ext cx="304560" cy="2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6743880" y="3193920"/>
            <a:ext cx="31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2192400" y="3489480"/>
            <a:ext cx="2328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-be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4266720" y="3282840"/>
            <a:ext cx="300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4267080" y="3573360"/>
            <a:ext cx="29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839A-8FF1-4CAB-B967-443BEB1E51D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"/>
          <p:cNvSpPr/>
          <p:nvPr/>
        </p:nvSpPr>
        <p:spPr>
          <a:xfrm>
            <a:off x="533520" y="2057400"/>
            <a:ext cx="807696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Compare1 (Equal, Alarger, Blarger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Equal, Alarger, Blarger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#5 Equal = (A &amp; B) | (~A &amp; ~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#3 Alarger = (A &amp; ~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#3 Blar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= (~A &amp; B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ato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2189-2B9B-4827-BB64-18DF90C5DA2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"/>
          <p:cNvSpPr/>
          <p:nvPr/>
        </p:nvSpPr>
        <p:spPr>
          <a:xfrm>
            <a:off x="457200" y="1663560"/>
            <a:ext cx="8458200" cy="51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life (n0, n1, n2, n3, n4, n5, n6, n7, self, out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input     n0, n1, n2, n3, n4, n5, n6, n7, sel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output    ou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      ou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[7:0] neighbor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[3:0] i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assign neighbors = {n7, n6, n5, n4, n3, n2, n1, n0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neighbors or self)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count = 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for (i = 0; i &lt; 8; i = i+1) count = count + neighbors[i]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out = (count == 3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out = out | ((self == 1) &amp; (count == 2)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CE3D-A44D-4232-99EE-469E0D3C9EB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vs. programming languag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tiation of multiple components of the sam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interconnections between modules via sc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y of modules (only leaves can be HDL in Aldec ActiveHD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 assignment (logic always comp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agation delay (computation takes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ng of signals is important (when does computation have its eff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explicitly spelled out - no dynamic struct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is naturally parallel (must support multiple thre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ments can occur in parallel (not just sequenti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4C94-3D31-4885-8B66-2D2EC1CDA56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and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s - specification of inputs, outputs, bidirectional, and internal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 assignment - a gate’s output is a function of its inputs at all times (doesn’t need to wait to be "called"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agation delay- concept of time and delay in input affecting gate out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sition - connecting modules together with wi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y - modules encapsulate functional bl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6077-749F-4B6C-AF40-E208FAE152E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orking with combination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463680" y="14936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ing in truth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letely specified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ing two-leve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ing two-leve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ND and N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s of Boolean functions and their tim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sign cas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905B-5B7B-4A5F-9154-E7B96437F2F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701720" y="4597560"/>
            <a:ext cx="17654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34120" y="5587920"/>
            <a:ext cx="22352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variable K-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of th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94120" y="1994040"/>
            <a:ext cx="321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97760" y="1784520"/>
            <a:ext cx="0" cy="353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94120" y="2819520"/>
            <a:ext cx="321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44880" y="363204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44880" y="4457880"/>
            <a:ext cx="314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00600" y="1778040"/>
            <a:ext cx="327672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2x2-bit multipli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43000" y="2654280"/>
            <a:ext cx="2590920" cy="1359000"/>
            <a:chOff x="1143000" y="2654280"/>
            <a:chExt cx="2590920" cy="1359000"/>
          </a:xfrm>
        </p:grpSpPr>
        <p:sp>
          <p:nvSpPr>
            <p:cNvPr id="518" name=""/>
            <p:cNvSpPr/>
            <p:nvPr/>
          </p:nvSpPr>
          <p:spPr>
            <a:xfrm>
              <a:off x="3429000" y="271764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81440" y="2654280"/>
              <a:ext cx="83808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19520" y="2882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19520" y="318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819520" y="34923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19520" y="3784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43000" y="271764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47920" y="2882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47920" y="318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47920" y="34923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47920" y="3784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7DD-58D6-46DA-A67E-6A4D96ACC6B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616120" y="162576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49840" y="160020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41680" y="4140360"/>
            <a:ext cx="1701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749840" y="414036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2x2-bit multiplie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6026040" y="1447920"/>
            <a:ext cx="2828880" cy="2365200"/>
            <a:chOff x="6026040" y="1447920"/>
            <a:chExt cx="2828880" cy="2365200"/>
          </a:xfrm>
        </p:grpSpPr>
        <p:sp>
          <p:nvSpPr>
            <p:cNvPr id="535" name=""/>
            <p:cNvSpPr/>
            <p:nvPr/>
          </p:nvSpPr>
          <p:spPr>
            <a:xfrm>
              <a:off x="6548400" y="1768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58120" y="1766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2882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360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72788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288200" y="167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205840" y="21128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271000" y="240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694640" y="1447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738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8216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3644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40480" y="27068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50200" y="2705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882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360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72788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21640" y="3508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73800" y="25830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27720" y="3483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738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216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3644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26040" y="2886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010200" y="3962520"/>
            <a:ext cx="2828880" cy="2365200"/>
            <a:chOff x="6010200" y="3962520"/>
            <a:chExt cx="2828880" cy="2365200"/>
          </a:xfrm>
        </p:grpSpPr>
        <p:sp>
          <p:nvSpPr>
            <p:cNvPr id="560" name=""/>
            <p:cNvSpPr/>
            <p:nvPr/>
          </p:nvSpPr>
          <p:spPr>
            <a:xfrm>
              <a:off x="6532560" y="4282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42280" y="4281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7236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7198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2626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272360" y="419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90000" y="46274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255160" y="49165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78800" y="3962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35796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054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63482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24640" y="52214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34360" y="5219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27236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7198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2626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05440" y="602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57960" y="50976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11880" y="5997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35796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054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63482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10200" y="54007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23800" y="3962520"/>
            <a:ext cx="2844720" cy="2365200"/>
            <a:chOff x="523800" y="3962520"/>
            <a:chExt cx="2844720" cy="2365200"/>
          </a:xfrm>
        </p:grpSpPr>
        <p:sp>
          <p:nvSpPr>
            <p:cNvPr id="585" name=""/>
            <p:cNvSpPr/>
            <p:nvPr/>
          </p:nvSpPr>
          <p:spPr>
            <a:xfrm>
              <a:off x="1062000" y="4282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71720" y="4281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0180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496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17924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01800" y="419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19440" y="46274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84600" y="49165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08240" y="3962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8740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3352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8780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54080" y="52214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963800" y="5219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0180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496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17924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335240" y="602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87400" y="50976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41320" y="5997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8740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352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8780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3800" y="54007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23800" y="1447920"/>
            <a:ext cx="2844720" cy="2365200"/>
            <a:chOff x="523800" y="1447920"/>
            <a:chExt cx="2844720" cy="2365200"/>
          </a:xfrm>
        </p:grpSpPr>
        <p:sp>
          <p:nvSpPr>
            <p:cNvPr id="610" name=""/>
            <p:cNvSpPr/>
            <p:nvPr/>
          </p:nvSpPr>
          <p:spPr>
            <a:xfrm>
              <a:off x="1062000" y="1768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71720" y="1766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8018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2496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7924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801800" y="167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19440" y="21128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784600" y="240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208240" y="1447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874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3352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8780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54080" y="27068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63800" y="2705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8018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496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17924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35240" y="3508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87400" y="25830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41320" y="3483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874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3352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780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3800" y="2886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2771640" y="2898720"/>
            <a:ext cx="1905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8 = A2A1B2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73080" y="2682720"/>
            <a:ext cx="304920" cy="304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893960" y="4708440"/>
            <a:ext cx="728640" cy="289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03280" y="5638680"/>
            <a:ext cx="762120" cy="304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17680" y="4724280"/>
            <a:ext cx="316080" cy="762120"/>
          </a:xfrm>
          <a:custGeom>
            <a:avLst/>
            <a:gdLst>
              <a:gd name="textAreaLeft" fmla="*/ 15120 w 316080"/>
              <a:gd name="textAreaRight" fmla="*/ 300960 w 316080"/>
              <a:gd name="textAreaTop" fmla="*/ 15120 h 762120"/>
              <a:gd name="textAreaBottom" fmla="*/ 747000 h 762120"/>
            </a:gdLst>
            <a:ahLst/>
            <a:rect l="textAreaLeft" t="textAreaTop" r="textAreaRight" b="textAreaBottom"/>
            <a:pathLst>
              <a:path w="21600" h="52046">
                <a:moveTo>
                  <a:pt x="3600" y="0"/>
                </a:moveTo>
                <a:arcTo wR="3600" hR="3600" stAng="16200000" swAng="-5400000"/>
                <a:lnTo>
                  <a:pt x="0" y="48446"/>
                </a:lnTo>
                <a:arcTo wR="3600" hR="3600" stAng="10800000" swAng="-5400000"/>
                <a:lnTo>
                  <a:pt x="18000" y="520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415880" y="5181480"/>
            <a:ext cx="304920" cy="7621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762120"/>
              <a:gd name="textAreaBottom" fmla="*/ 747360 h 762120"/>
            </a:gdLst>
            <a:ahLst/>
            <a:rect l="textAreaLeft" t="textAreaTop" r="textAreaRight" b="textAreaBottom"/>
            <a:pathLst>
              <a:path w="21600" h="53949">
                <a:moveTo>
                  <a:pt x="3600" y="0"/>
                </a:moveTo>
                <a:arcTo wR="3600" hR="3600" stAng="16200000" swAng="-5400000"/>
                <a:lnTo>
                  <a:pt x="0" y="50349"/>
                </a:lnTo>
                <a:arcTo wR="3600" hR="3600" stAng="10800000" swAng="-5400000"/>
                <a:lnTo>
                  <a:pt x="18000" y="53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869160" y="4708440"/>
            <a:ext cx="789120" cy="789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7350120" y="2685960"/>
            <a:ext cx="761760" cy="761760"/>
            <a:chOff x="7350120" y="2685960"/>
            <a:chExt cx="761760" cy="761760"/>
          </a:xfrm>
        </p:grpSpPr>
        <p:sp>
          <p:nvSpPr>
            <p:cNvPr id="642" name=""/>
            <p:cNvSpPr/>
            <p:nvPr/>
          </p:nvSpPr>
          <p:spPr>
            <a:xfrm rot="16200000">
              <a:off x="7578720" y="2914560"/>
              <a:ext cx="761760" cy="3045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16200000">
              <a:off x="7578720" y="2901960"/>
              <a:ext cx="304560" cy="76176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761760"/>
                <a:gd name="textAreaBottom" fmla="*/ 747000 h 761760"/>
              </a:gdLst>
              <a:ahLst/>
              <a:rect l="textAreaLeft" t="textAreaTop" r="textAreaRight" b="textAreaBottom"/>
              <a:pathLst>
                <a:path w="21600" h="53987">
                  <a:moveTo>
                    <a:pt x="3600" y="0"/>
                  </a:moveTo>
                  <a:arcTo wR="3600" hR="3600" stAng="16200000" swAng="-5400000"/>
                  <a:lnTo>
                    <a:pt x="0" y="50387"/>
                  </a:lnTo>
                  <a:arcTo wR="3600" hR="3600" stAng="10800000" swAng="-5400000"/>
                  <a:lnTo>
                    <a:pt x="18000" y="539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4543560" y="2063880"/>
            <a:ext cx="17398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2B2B1'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A1'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17640" y="5369040"/>
            <a:ext cx="17020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2'A1B2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1B2B1'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B2'B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A1'B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648320" y="4546440"/>
            <a:ext cx="1650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1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1726920" y="5472000"/>
            <a:ext cx="1662120" cy="16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2163240" y="5811840"/>
            <a:ext cx="1047960" cy="15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163240" y="5003640"/>
            <a:ext cx="1047960" cy="111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2501640" y="5487840"/>
            <a:ext cx="709560" cy="889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278400" y="2260440"/>
            <a:ext cx="1067040" cy="98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278400" y="2517840"/>
            <a:ext cx="1533600" cy="43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DA60-88F9-462A-BB0E-0A8816ADA3F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4626000" y="2114640"/>
            <a:ext cx="363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435720" y="1905120"/>
            <a:ext cx="0" cy="330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708440" y="1898640"/>
            <a:ext cx="377208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41280" y="4807080"/>
            <a:ext cx="17654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873680" y="5556240"/>
            <a:ext cx="3225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variable K-map for each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4 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965160" y="2808360"/>
            <a:ext cx="2590920" cy="1359000"/>
            <a:chOff x="965160" y="2808360"/>
            <a:chExt cx="2590920" cy="1359000"/>
          </a:xfrm>
        </p:grpSpPr>
        <p:sp>
          <p:nvSpPr>
            <p:cNvPr id="659" name=""/>
            <p:cNvSpPr/>
            <p:nvPr/>
          </p:nvSpPr>
          <p:spPr>
            <a:xfrm>
              <a:off x="3251160" y="287172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803600" y="2808360"/>
              <a:ext cx="83808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41680" y="30369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41680" y="3341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41680" y="3646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41680" y="3938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65160" y="287172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70080" y="30369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70080" y="3341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70080" y="3646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270080" y="3938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BCD increment by 1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532-AB21-445F-94DD-3A6D42F9960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693720" y="1580040"/>
            <a:ext cx="8070840" cy="4828680"/>
            <a:chOff x="693720" y="1580040"/>
            <a:chExt cx="8070840" cy="4828680"/>
          </a:xfrm>
        </p:grpSpPr>
        <p:grpSp>
          <p:nvGrpSpPr>
            <p:cNvPr id="672" name=""/>
            <p:cNvGrpSpPr/>
            <p:nvPr/>
          </p:nvGrpSpPr>
          <p:grpSpPr>
            <a:xfrm>
              <a:off x="6428880" y="2722680"/>
              <a:ext cx="662040" cy="450720"/>
              <a:chOff x="6428880" y="2722680"/>
              <a:chExt cx="662040" cy="45072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6525720" y="2754360"/>
                <a:ext cx="565200" cy="3708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6428880" y="272268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1555920" y="1580040"/>
              <a:ext cx="917640" cy="2334960"/>
              <a:chOff x="1555920" y="1580040"/>
              <a:chExt cx="917640" cy="233496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1568880" y="1580040"/>
                <a:ext cx="904680" cy="661320"/>
                <a:chOff x="1568880" y="1580040"/>
                <a:chExt cx="904680" cy="661320"/>
              </a:xfrm>
            </p:grpSpPr>
            <p:sp>
              <p:nvSpPr>
                <p:cNvPr id="677" name=""/>
                <p:cNvSpPr/>
                <p:nvPr/>
              </p:nvSpPr>
              <p:spPr>
                <a:xfrm rot="16200000">
                  <a:off x="1722600" y="1586520"/>
                  <a:ext cx="564840" cy="744480"/>
                </a:xfrm>
                <a:custGeom>
                  <a:avLst/>
                  <a:gdLst>
                    <a:gd name="textAreaLeft" fmla="*/ 27360 w 564840"/>
                    <a:gd name="textAreaRight" fmla="*/ 537480 w 564840"/>
                    <a:gd name="textAreaTop" fmla="*/ 27360 h 744480"/>
                    <a:gd name="textAreaBottom" fmla="*/ 717120 h 744480"/>
                  </a:gdLst>
                  <a:ahLst/>
                  <a:rect l="textAreaLeft" t="textAreaTop" r="textAreaRight" b="textAreaBottom"/>
                  <a:pathLst>
                    <a:path w="21600" h="28465">
                      <a:moveTo>
                        <a:pt x="3600" y="0"/>
                      </a:moveTo>
                      <a:arcTo wR="3600" hR="3600" stAng="16200000" swAng="-5400000"/>
                      <a:lnTo>
                        <a:pt x="0" y="24865"/>
                      </a:lnTo>
                      <a:arcTo wR="3600" hR="3600" stAng="10800000" swAng="-5400000"/>
                      <a:lnTo>
                        <a:pt x="18000" y="2846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rot="16200000">
                  <a:off x="1916640" y="1232280"/>
                  <a:ext cx="209160" cy="90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1555920" y="3252960"/>
                <a:ext cx="904680" cy="662040"/>
                <a:chOff x="1555920" y="3252960"/>
                <a:chExt cx="904680" cy="662040"/>
              </a:xfrm>
            </p:grpSpPr>
            <p:sp>
              <p:nvSpPr>
                <p:cNvPr id="680" name=""/>
                <p:cNvSpPr/>
                <p:nvPr/>
              </p:nvSpPr>
              <p:spPr>
                <a:xfrm flipH="1" rot="16200000">
                  <a:off x="1709640" y="3163320"/>
                  <a:ext cx="565200" cy="7444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744480"/>
                    <a:gd name="textAreaBottom" fmla="*/ 717120 h 744480"/>
                  </a:gdLst>
                  <a:ahLst/>
                  <a:rect l="textAreaLeft" t="textAreaTop" r="textAreaRight" b="textAreaBottom"/>
                  <a:pathLst>
                    <a:path w="21600" h="28447">
                      <a:moveTo>
                        <a:pt x="3600" y="0"/>
                      </a:moveTo>
                      <a:arcTo wR="3600" hR="3600" stAng="16200000" swAng="-5400000"/>
                      <a:lnTo>
                        <a:pt x="0" y="24847"/>
                      </a:lnTo>
                      <a:arcTo wR="3600" hR="3600" stAng="10800000" swAng="-5400000"/>
                      <a:lnTo>
                        <a:pt x="18000" y="2844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H="1" rot="16200000">
                  <a:off x="1902960" y="3357720"/>
                  <a:ext cx="209520" cy="90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2" name=""/>
            <p:cNvGrpSpPr/>
            <p:nvPr/>
          </p:nvGrpSpPr>
          <p:grpSpPr>
            <a:xfrm>
              <a:off x="8102520" y="2728800"/>
              <a:ext cx="662040" cy="451080"/>
              <a:chOff x="8102520" y="2728800"/>
              <a:chExt cx="662040" cy="451080"/>
            </a:xfrm>
          </p:grpSpPr>
          <p:sp>
            <p:nvSpPr>
              <p:cNvPr id="683" name=""/>
              <p:cNvSpPr/>
              <p:nvPr/>
            </p:nvSpPr>
            <p:spPr>
              <a:xfrm>
                <a:off x="8102520" y="2760840"/>
                <a:ext cx="565200" cy="371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555040" y="272880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7151760" y="3228840"/>
              <a:ext cx="887400" cy="646200"/>
              <a:chOff x="7151760" y="3228840"/>
              <a:chExt cx="887400" cy="646200"/>
            </a:xfrm>
          </p:grpSpPr>
          <p:sp>
            <p:nvSpPr>
              <p:cNvPr id="686" name=""/>
              <p:cNvSpPr/>
              <p:nvPr/>
            </p:nvSpPr>
            <p:spPr>
              <a:xfrm>
                <a:off x="7183440" y="3228840"/>
                <a:ext cx="822240" cy="5810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151760" y="3697200"/>
                <a:ext cx="8874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6708600" y="3994200"/>
              <a:ext cx="1808280" cy="693360"/>
              <a:chOff x="6708600" y="3994200"/>
              <a:chExt cx="1808280" cy="693360"/>
            </a:xfrm>
          </p:grpSpPr>
          <p:sp>
            <p:nvSpPr>
              <p:cNvPr id="689" name=""/>
              <p:cNvSpPr/>
              <p:nvPr/>
            </p:nvSpPr>
            <p:spPr>
              <a:xfrm flipV="1">
                <a:off x="6740640" y="4155480"/>
                <a:ext cx="1726920" cy="531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6708600" y="3994200"/>
                <a:ext cx="1808280" cy="24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6715080" y="5699160"/>
              <a:ext cx="1808280" cy="709560"/>
              <a:chOff x="6715080" y="5699160"/>
              <a:chExt cx="1808280" cy="709560"/>
            </a:xfrm>
          </p:grpSpPr>
          <p:sp>
            <p:nvSpPr>
              <p:cNvPr id="692" name=""/>
              <p:cNvSpPr/>
              <p:nvPr/>
            </p:nvSpPr>
            <p:spPr>
              <a:xfrm>
                <a:off x="6746760" y="5699160"/>
                <a:ext cx="1727280" cy="531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715080" y="6167520"/>
                <a:ext cx="1808280" cy="24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3117960" y="2646360"/>
              <a:ext cx="324324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8 = I4 I2 I1 + I8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4 = I4 I2' + I4 I1' + I4’ I2 I1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2 = I8’ I2’ I1 + I2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1 =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162080" y="2776680"/>
              <a:ext cx="758880" cy="355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93720" y="4778280"/>
              <a:ext cx="824040" cy="355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93720" y="5699160"/>
              <a:ext cx="1711440" cy="3538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99280" y="1873080"/>
              <a:ext cx="790560" cy="806760"/>
            </a:xfrm>
            <a:custGeom>
              <a:avLst/>
              <a:gdLst>
                <a:gd name="textAreaLeft" fmla="*/ 38520 w 790560"/>
                <a:gd name="textAreaRight" fmla="*/ 752040 w 790560"/>
                <a:gd name="textAreaTop" fmla="*/ 38520 h 806760"/>
                <a:gd name="textAreaBottom" fmla="*/ 768240 h 806760"/>
              </a:gdLst>
              <a:ahLst/>
              <a:rect l="textAreaLeft" t="textAreaTop" r="textAreaRight" b="textAreaBottom"/>
              <a:pathLst>
                <a:path w="21600" h="22042">
                  <a:moveTo>
                    <a:pt x="3600" y="0"/>
                  </a:moveTo>
                  <a:arcTo wR="3600" hR="3600" stAng="16200000" swAng="-5400000"/>
                  <a:lnTo>
                    <a:pt x="0" y="18442"/>
                  </a:lnTo>
                  <a:arcTo wR="3600" hR="3600" stAng="10800000" swAng="-5400000"/>
                  <a:lnTo>
                    <a:pt x="18000" y="220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7145280" y="1587960"/>
              <a:ext cx="887400" cy="645480"/>
              <a:chOff x="7145280" y="1587960"/>
              <a:chExt cx="887400" cy="645480"/>
            </a:xfrm>
          </p:grpSpPr>
          <p:sp>
            <p:nvSpPr>
              <p:cNvPr id="700" name=""/>
              <p:cNvSpPr/>
              <p:nvPr/>
            </p:nvSpPr>
            <p:spPr>
              <a:xfrm flipV="1">
                <a:off x="7176960" y="1652400"/>
                <a:ext cx="822240" cy="58068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7145280" y="1587600"/>
                <a:ext cx="887400" cy="17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2" name=""/>
          <p:cNvSpPr/>
          <p:nvPr/>
        </p:nvSpPr>
        <p:spPr>
          <a:xfrm>
            <a:off x="2571840" y="1739880"/>
            <a:ext cx="635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05400" y="1749600"/>
            <a:ext cx="584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81200" y="4184640"/>
            <a:ext cx="584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05400" y="4197240"/>
            <a:ext cx="559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BCD increment by 1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90520" y="1589040"/>
            <a:ext cx="2835000" cy="2365200"/>
            <a:chOff x="290520" y="1589040"/>
            <a:chExt cx="2835000" cy="2365200"/>
          </a:xfrm>
        </p:grpSpPr>
        <p:sp>
          <p:nvSpPr>
            <p:cNvPr id="708" name=""/>
            <p:cNvSpPr/>
            <p:nvPr/>
          </p:nvSpPr>
          <p:spPr>
            <a:xfrm>
              <a:off x="819000" y="1909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28720" y="19080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55880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0664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154944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58800" y="1817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476440" y="225396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541600" y="25430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965240" y="1589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4440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9224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3504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11080" y="28479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20800" y="28461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5880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0664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154944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9224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4400" y="27241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498320" y="3624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440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9224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63504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0520" y="302724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90520" y="4054320"/>
            <a:ext cx="2835000" cy="2365200"/>
            <a:chOff x="290520" y="4054320"/>
            <a:chExt cx="2835000" cy="2365200"/>
          </a:xfrm>
        </p:grpSpPr>
        <p:sp>
          <p:nvSpPr>
            <p:cNvPr id="733" name=""/>
            <p:cNvSpPr/>
            <p:nvPr/>
          </p:nvSpPr>
          <p:spPr>
            <a:xfrm>
              <a:off x="819000" y="43747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28720" y="4373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55880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00664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154944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58800" y="4282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476440" y="47192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41600" y="5008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965240" y="4054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4440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9224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63504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11080" y="53132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720800" y="5311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55880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00664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154944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092240" y="6114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44400" y="51894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498320" y="6089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440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09224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63504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0520" y="549252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6338880" y="1589040"/>
            <a:ext cx="2835000" cy="2365200"/>
            <a:chOff x="6338880" y="1589040"/>
            <a:chExt cx="2835000" cy="2365200"/>
          </a:xfrm>
        </p:grpSpPr>
        <p:sp>
          <p:nvSpPr>
            <p:cNvPr id="758" name=""/>
            <p:cNvSpPr/>
            <p:nvPr/>
          </p:nvSpPr>
          <p:spPr>
            <a:xfrm>
              <a:off x="6867360" y="1909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77080" y="19080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0716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05500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759780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607160" y="1817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524800" y="225396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589960" y="25430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013600" y="1589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69276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14060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68340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59440" y="28479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769160" y="28461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60716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05500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759780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4060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692760" y="27241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546680" y="3624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9276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14060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68340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338880" y="302724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6340680" y="4054320"/>
            <a:ext cx="2835000" cy="2365200"/>
            <a:chOff x="6340680" y="4054320"/>
            <a:chExt cx="2835000" cy="2365200"/>
          </a:xfrm>
        </p:grpSpPr>
        <p:sp>
          <p:nvSpPr>
            <p:cNvPr id="783" name=""/>
            <p:cNvSpPr/>
            <p:nvPr/>
          </p:nvSpPr>
          <p:spPr>
            <a:xfrm>
              <a:off x="6869160" y="43747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78880" y="4373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0896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05680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759960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608960" y="4282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526600" y="47192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591760" y="5008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015400" y="4054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9456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14240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68520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861240" y="53132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770960" y="5311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0896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05680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759960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42400" y="6114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694560" y="51894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48480" y="6089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69456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4240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668520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40680" y="549252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75E3-0093-4DD3-B7D2-2A418463D2D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finition of terms for two-level simpl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35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element of ON-set or DC-set or any group of these elements that can be combined to form a sub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ant that can't be combined with another to form a larger sub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 prime 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e implicant is essential if it alone covers an element of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participate in ALL possible covers of the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-set used to form prime implicants but not to make implicant ess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 implicant into prime implic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nimize literals per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 the ON-set with as few prime implicants as poss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nimize number of product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F8C1-E237-4FDD-AF48-AB1021BEB5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1:29Z</dcterms:created>
  <dc:creator>Gaetano Borriello</dc:creator>
  <dc:description/>
  <dc:language>en-US</dc:language>
  <cp:lastModifiedBy>Gaetano Borriello</cp:lastModifiedBy>
  <cp:lastPrinted>2000-09-30T01:10:40Z</cp:lastPrinted>
  <dcterms:modified xsi:type="dcterms:W3CDTF">2005-01-24T06:58:56Z</dcterms:modified>
  <cp:revision>42</cp:revision>
  <dc:subject/>
  <dc:title>Combination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