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269413" cy="6948488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6F7D-FDEC-4B2E-8283-FB24BC35A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C683-963E-4FA2-A4B8-2B1E154DC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70CB-5E3D-4A92-BC48-2C5F4915B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5695-05CA-40F1-8784-579656A83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93ACC-8BFD-4C92-99D6-602587753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38DB3-D5E3-4F7A-9F7F-3B2904685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C6009-0694-4343-969E-5505410AC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A615C-FC12-4376-864C-45AF18AA4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A81CF-481B-4245-A201-F1C022C6E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117A1-64F4-4B66-94E1-2ECB647C7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140FE-6B00-4AE0-BEAE-CADD4E64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8628-F60B-42E1-8DE0-620448F65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A3FE2-90DD-45B4-A798-E73E4730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EADD8-83AE-4FD8-98BF-0D4C957F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7BB8A-4F04-480E-83C1-82E391032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D162F-CAF4-4D7F-AE57-8C05DD741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C1C9A-310B-4788-BEB7-A78F9AA34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3370-B1C9-4B29-8CE0-5455B60BB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CD31-6E14-4B8A-9C84-5560DF04B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693B-A665-4D66-9827-272322766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F8F1-27B3-4106-A375-E59482E4F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B806-FAC2-4790-885F-0E9F086E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1D37-70DF-4756-A663-2DACA927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45CB-3C92-41B1-8376-9DDD9538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57200" indent="-31896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4452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9360" y="6329160"/>
            <a:ext cx="386244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BBF7C65-0D91-4F75-8C30-D631C192F20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5920" y="231840"/>
            <a:ext cx="8343720" cy="617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6640" y="1542600"/>
            <a:ext cx="7729560" cy="1776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66920" y="6324480"/>
            <a:ext cx="29368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7022ED8-592E-44A1-90EC-48BAAA7F916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400" y="1235160"/>
            <a:ext cx="8035920" cy="9255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08080" y="4013280"/>
            <a:ext cx="66024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logic design case studi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l design proced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se stud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D to 7-segment display contro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 function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line contro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endar sub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ithmetic circu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er repres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/subt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ithmetic/logic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7DCE-63D1-4766-BC23-7A3791BC0DA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/>
          <p:nvPr/>
        </p:nvSpPr>
        <p:spPr>
          <a:xfrm>
            <a:off x="3886200" y="1863720"/>
            <a:ext cx="468648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oose implementation technolog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5-variable K-map to discrete gat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plexor imple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575320" y="3260880"/>
            <a:ext cx="406440" cy="20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9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032000" y="4714920"/>
            <a:ext cx="1816200" cy="469800"/>
            <a:chOff x="4032000" y="4714920"/>
            <a:chExt cx="1816200" cy="469800"/>
          </a:xfrm>
        </p:grpSpPr>
        <p:sp>
          <p:nvSpPr>
            <p:cNvPr id="729" name=""/>
            <p:cNvSpPr/>
            <p:nvPr/>
          </p:nvSpPr>
          <p:spPr>
            <a:xfrm>
              <a:off x="4044960" y="4714920"/>
              <a:ext cx="18432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0" name=""/>
            <p:cNvGrpSpPr/>
            <p:nvPr/>
          </p:nvGrpSpPr>
          <p:grpSpPr>
            <a:xfrm>
              <a:off x="4032000" y="4803840"/>
              <a:ext cx="1816200" cy="305640"/>
              <a:chOff x="4032000" y="4803840"/>
              <a:chExt cx="1816200" cy="305640"/>
            </a:xfrm>
          </p:grpSpPr>
          <p:grpSp>
            <p:nvGrpSpPr>
              <p:cNvPr id="731" name=""/>
              <p:cNvGrpSpPr/>
              <p:nvPr/>
            </p:nvGrpSpPr>
            <p:grpSpPr>
              <a:xfrm>
                <a:off x="4032000" y="4803840"/>
                <a:ext cx="914760" cy="305640"/>
                <a:chOff x="4032000" y="4803840"/>
                <a:chExt cx="914760" cy="305640"/>
              </a:xfrm>
            </p:grpSpPr>
            <p:sp>
              <p:nvSpPr>
                <p:cNvPr id="732" name=""/>
                <p:cNvSpPr/>
                <p:nvPr/>
              </p:nvSpPr>
              <p:spPr>
                <a:xfrm>
                  <a:off x="4038480" y="4810320"/>
                  <a:ext cx="850680" cy="278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4032000" y="4803840"/>
                  <a:ext cx="863640" cy="29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4038840" y="4824360"/>
                  <a:ext cx="850320" cy="278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4032360" y="4818240"/>
                  <a:ext cx="863280" cy="29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4420440" y="4824360"/>
                  <a:ext cx="74880" cy="252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4413960" y="4818240"/>
                  <a:ext cx="87840" cy="266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4445280" y="4823280"/>
                  <a:ext cx="50040" cy="252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4439160" y="4816440"/>
                  <a:ext cx="62640" cy="266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4451400" y="4886280"/>
                  <a:ext cx="38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4451400" y="5013360"/>
                  <a:ext cx="38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4902120" y="4937040"/>
                  <a:ext cx="38160" cy="37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4896000" y="4930560"/>
                  <a:ext cx="50760" cy="504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0" bIns="-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4" name=""/>
              <p:cNvSpPr/>
              <p:nvPr/>
            </p:nvSpPr>
            <p:spPr>
              <a:xfrm>
                <a:off x="4336920" y="4886280"/>
                <a:ext cx="11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4336920" y="5013360"/>
                <a:ext cx="11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4959360" y="495000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016600" y="4950000"/>
                <a:ext cx="19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226120" y="4950000"/>
                <a:ext cx="622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9" name=""/>
          <p:cNvGrpSpPr/>
          <p:nvPr/>
        </p:nvGrpSpPr>
        <p:grpSpPr>
          <a:xfrm>
            <a:off x="5200560" y="3559320"/>
            <a:ext cx="647640" cy="1409400"/>
            <a:chOff x="5200560" y="3559320"/>
            <a:chExt cx="647640" cy="1409400"/>
          </a:xfrm>
        </p:grpSpPr>
        <p:grpSp>
          <p:nvGrpSpPr>
            <p:cNvPr id="750" name=""/>
            <p:cNvGrpSpPr/>
            <p:nvPr/>
          </p:nvGrpSpPr>
          <p:grpSpPr>
            <a:xfrm>
              <a:off x="5346720" y="3559320"/>
              <a:ext cx="247680" cy="253800"/>
              <a:chOff x="5346720" y="3559320"/>
              <a:chExt cx="247680" cy="253800"/>
            </a:xfrm>
          </p:grpSpPr>
          <p:sp>
            <p:nvSpPr>
              <p:cNvPr id="751" name=""/>
              <p:cNvSpPr/>
              <p:nvPr/>
            </p:nvSpPr>
            <p:spPr>
              <a:xfrm>
                <a:off x="5353200" y="3559320"/>
                <a:ext cx="17784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V="1">
                <a:off x="5353200" y="3673440"/>
                <a:ext cx="1778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346720" y="3559320"/>
                <a:ext cx="0" cy="24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5543640" y="3660840"/>
                <a:ext cx="50760" cy="50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5" name=""/>
            <p:cNvSpPr/>
            <p:nvPr/>
          </p:nvSpPr>
          <p:spPr>
            <a:xfrm>
              <a:off x="5226120" y="36799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200560" y="493092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219640" y="3673440"/>
              <a:ext cx="0" cy="127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607000" y="367992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4020120" y="4105440"/>
            <a:ext cx="2056320" cy="475920"/>
            <a:chOff x="4020120" y="4105440"/>
            <a:chExt cx="2056320" cy="475920"/>
          </a:xfrm>
        </p:grpSpPr>
        <p:sp>
          <p:nvSpPr>
            <p:cNvPr id="760" name=""/>
            <p:cNvSpPr/>
            <p:nvPr/>
          </p:nvSpPr>
          <p:spPr>
            <a:xfrm>
              <a:off x="4038480" y="4105440"/>
              <a:ext cx="2034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1" name=""/>
            <p:cNvGrpSpPr/>
            <p:nvPr/>
          </p:nvGrpSpPr>
          <p:grpSpPr>
            <a:xfrm>
              <a:off x="4020120" y="4168800"/>
              <a:ext cx="2056320" cy="406440"/>
              <a:chOff x="4020120" y="4168800"/>
              <a:chExt cx="2056320" cy="406440"/>
            </a:xfrm>
          </p:grpSpPr>
          <p:sp>
            <p:nvSpPr>
              <p:cNvPr id="762" name=""/>
              <p:cNvSpPr/>
              <p:nvPr/>
            </p:nvSpPr>
            <p:spPr>
              <a:xfrm flipH="1">
                <a:off x="5784480" y="4187880"/>
                <a:ext cx="291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>
                <a:off x="5784840" y="4441680"/>
                <a:ext cx="279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4" name=""/>
              <p:cNvGrpSpPr/>
              <p:nvPr/>
            </p:nvGrpSpPr>
            <p:grpSpPr>
              <a:xfrm>
                <a:off x="4020120" y="4168800"/>
                <a:ext cx="938880" cy="305640"/>
                <a:chOff x="4020120" y="4168800"/>
                <a:chExt cx="938880" cy="305640"/>
              </a:xfrm>
            </p:grpSpPr>
            <p:sp>
              <p:nvSpPr>
                <p:cNvPr id="765" name=""/>
                <p:cNvSpPr/>
                <p:nvPr/>
              </p:nvSpPr>
              <p:spPr>
                <a:xfrm>
                  <a:off x="4324320" y="4183200"/>
                  <a:ext cx="164880" cy="29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4323960" y="4168800"/>
                  <a:ext cx="165240" cy="29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4438800" y="4251240"/>
                  <a:ext cx="25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4438800" y="4378320"/>
                  <a:ext cx="25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4413600" y="4183200"/>
                  <a:ext cx="138960" cy="266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4020120" y="4183200"/>
                  <a:ext cx="938880" cy="29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4070160" y="4168800"/>
                  <a:ext cx="888840" cy="29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4413240" y="4168800"/>
                  <a:ext cx="139320" cy="29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3" name=""/>
              <p:cNvSpPr/>
              <p:nvPr/>
            </p:nvSpPr>
            <p:spPr>
              <a:xfrm>
                <a:off x="4324320" y="4251240"/>
                <a:ext cx="11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324320" y="4378320"/>
                <a:ext cx="11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4971960" y="4314960"/>
                <a:ext cx="11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5073480" y="4295880"/>
                <a:ext cx="3816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5353200" y="4441680"/>
                <a:ext cx="114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5086440" y="4187880"/>
                <a:ext cx="76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092560" y="4194000"/>
                <a:ext cx="0" cy="24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5086440" y="4441680"/>
                <a:ext cx="253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1" name=""/>
              <p:cNvGrpSpPr/>
              <p:nvPr/>
            </p:nvGrpSpPr>
            <p:grpSpPr>
              <a:xfrm>
                <a:off x="5473800" y="4321080"/>
                <a:ext cx="374400" cy="254160"/>
                <a:chOff x="5473800" y="4321080"/>
                <a:chExt cx="374400" cy="254160"/>
              </a:xfrm>
            </p:grpSpPr>
            <p:sp>
              <p:nvSpPr>
                <p:cNvPr id="782" name=""/>
                <p:cNvSpPr/>
                <p:nvPr/>
              </p:nvSpPr>
              <p:spPr>
                <a:xfrm>
                  <a:off x="5479920" y="4321080"/>
                  <a:ext cx="177840" cy="114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 flipV="1">
                  <a:off x="5479920" y="4435560"/>
                  <a:ext cx="177840" cy="139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5473800" y="4321080"/>
                  <a:ext cx="0" cy="241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5670720" y="4422600"/>
                  <a:ext cx="50760" cy="5112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5734080" y="4441680"/>
                  <a:ext cx="114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87" name=""/>
          <p:cNvGrpSpPr/>
          <p:nvPr/>
        </p:nvGrpSpPr>
        <p:grpSpPr>
          <a:xfrm>
            <a:off x="4038480" y="3679920"/>
            <a:ext cx="1809720" cy="457200"/>
            <a:chOff x="4038480" y="3679920"/>
            <a:chExt cx="1809720" cy="457200"/>
          </a:xfrm>
        </p:grpSpPr>
        <p:sp>
          <p:nvSpPr>
            <p:cNvPr id="788" name=""/>
            <p:cNvSpPr/>
            <p:nvPr/>
          </p:nvSpPr>
          <p:spPr>
            <a:xfrm>
              <a:off x="4038480" y="3679920"/>
              <a:ext cx="203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9" name=""/>
            <p:cNvGrpSpPr/>
            <p:nvPr/>
          </p:nvGrpSpPr>
          <p:grpSpPr>
            <a:xfrm>
              <a:off x="4330800" y="3775680"/>
              <a:ext cx="1517400" cy="330840"/>
              <a:chOff x="4330800" y="3775680"/>
              <a:chExt cx="1517400" cy="330840"/>
            </a:xfrm>
          </p:grpSpPr>
          <p:grpSp>
            <p:nvGrpSpPr>
              <p:cNvPr id="790" name=""/>
              <p:cNvGrpSpPr/>
              <p:nvPr/>
            </p:nvGrpSpPr>
            <p:grpSpPr>
              <a:xfrm>
                <a:off x="4451400" y="3775680"/>
                <a:ext cx="520200" cy="330840"/>
                <a:chOff x="4451400" y="3775680"/>
                <a:chExt cx="520200" cy="330840"/>
              </a:xfrm>
            </p:grpSpPr>
            <p:sp>
              <p:nvSpPr>
                <p:cNvPr id="791" name=""/>
                <p:cNvSpPr/>
                <p:nvPr/>
              </p:nvSpPr>
              <p:spPr>
                <a:xfrm>
                  <a:off x="4457520" y="3781440"/>
                  <a:ext cx="304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4457520" y="4086360"/>
                  <a:ext cx="304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4451400" y="3787920"/>
                  <a:ext cx="0" cy="291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4629600" y="3795840"/>
                  <a:ext cx="277920" cy="30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4623120" y="3789360"/>
                  <a:ext cx="290880" cy="31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4629240" y="3781800"/>
                  <a:ext cx="278280" cy="30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4622760" y="3775680"/>
                  <a:ext cx="291240" cy="316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4933800" y="3921120"/>
                  <a:ext cx="37800" cy="38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4914720" y="3915000"/>
                  <a:ext cx="50400" cy="5076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0" name=""/>
              <p:cNvSpPr/>
              <p:nvPr/>
            </p:nvSpPr>
            <p:spPr>
              <a:xfrm>
                <a:off x="4330800" y="3870360"/>
                <a:ext cx="114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4330800" y="3997440"/>
                <a:ext cx="114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978440" y="3933720"/>
                <a:ext cx="114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5353200" y="3933720"/>
                <a:ext cx="49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029200" y="3933720"/>
                <a:ext cx="311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5" name=""/>
          <p:cNvGrpSpPr/>
          <p:nvPr/>
        </p:nvGrpSpPr>
        <p:grpSpPr>
          <a:xfrm>
            <a:off x="5327640" y="3914640"/>
            <a:ext cx="520560" cy="914400"/>
            <a:chOff x="5327640" y="3914640"/>
            <a:chExt cx="520560" cy="914400"/>
          </a:xfrm>
        </p:grpSpPr>
        <p:grpSp>
          <p:nvGrpSpPr>
            <p:cNvPr id="806" name=""/>
            <p:cNvGrpSpPr/>
            <p:nvPr/>
          </p:nvGrpSpPr>
          <p:grpSpPr>
            <a:xfrm>
              <a:off x="5473800" y="4575240"/>
              <a:ext cx="247680" cy="253800"/>
              <a:chOff x="5473800" y="4575240"/>
              <a:chExt cx="247680" cy="253800"/>
            </a:xfrm>
          </p:grpSpPr>
          <p:sp>
            <p:nvSpPr>
              <p:cNvPr id="807" name=""/>
              <p:cNvSpPr/>
              <p:nvPr/>
            </p:nvSpPr>
            <p:spPr>
              <a:xfrm>
                <a:off x="5479920" y="4575240"/>
                <a:ext cx="17784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V="1">
                <a:off x="5479920" y="4689360"/>
                <a:ext cx="1778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5473800" y="4575240"/>
                <a:ext cx="0" cy="24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5670720" y="4676760"/>
                <a:ext cx="50760" cy="50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1" name=""/>
            <p:cNvSpPr/>
            <p:nvPr/>
          </p:nvSpPr>
          <p:spPr>
            <a:xfrm>
              <a:off x="5340240" y="4689360"/>
              <a:ext cx="13356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327640" y="391464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346720" y="3940200"/>
              <a:ext cx="0" cy="74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734080" y="46958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ormalize the probl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606600" y="969840"/>
            <a:ext cx="2682720" cy="10294560"/>
            <a:chOff x="606600" y="969840"/>
            <a:chExt cx="2682720" cy="10294560"/>
          </a:xfrm>
        </p:grpSpPr>
        <p:sp>
          <p:nvSpPr>
            <p:cNvPr id="817" name=""/>
            <p:cNvSpPr/>
            <p:nvPr/>
          </p:nvSpPr>
          <p:spPr>
            <a:xfrm>
              <a:off x="606600" y="969840"/>
              <a:ext cx="2546280" cy="102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C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22440" y="115380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803680" y="969840"/>
              <a:ext cx="0" cy="510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22440" y="176364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22440" y="237312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22440" y="299844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22440" y="359244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22440" y="420192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22440" y="481140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22440" y="543708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5778360" y="3178080"/>
            <a:ext cx="2381400" cy="3292560"/>
            <a:chOff x="5778360" y="3178080"/>
            <a:chExt cx="2381400" cy="3292560"/>
          </a:xfrm>
        </p:grpSpPr>
        <p:sp>
          <p:nvSpPr>
            <p:cNvPr id="828" name=""/>
            <p:cNvSpPr/>
            <p:nvPr/>
          </p:nvSpPr>
          <p:spPr>
            <a:xfrm>
              <a:off x="7108920" y="5873760"/>
              <a:ext cx="5587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156360" y="5873760"/>
              <a:ext cx="5587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613560" y="5873760"/>
              <a:ext cx="5587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137280" y="3260880"/>
              <a:ext cx="266760" cy="24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184800" y="5267160"/>
              <a:ext cx="74952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070680" y="4124160"/>
              <a:ext cx="132084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8:1 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616800" y="5267160"/>
              <a:ext cx="76176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048440" y="5267160"/>
              <a:ext cx="74952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537320" y="3946680"/>
              <a:ext cx="6224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076800" y="3178080"/>
              <a:ext cx="1320840" cy="2336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404120" y="431496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5784480" y="342576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5784480" y="367992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5784480" y="393372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261120" y="552780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718320" y="552780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5784840" y="469584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5784840" y="495000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>
              <a:off x="5784840" y="520380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201080" y="551484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5778360" y="418788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5778360" y="444168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11D2-D5DB-441E-BF2D-28CB424140E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roduction line contro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ds of varying length (+/-10%) travel on conveyor be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chanical arm pushes rods within spec (+/-5%) to one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arm pushes rods too long to other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ds that are too short stay on be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light barriers (light source + photocell) as sen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combinational logic to activate the a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standing the probl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 are three sen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 are two arm control sig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sensor reads "1" when tripped, "0" otherw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sensors A, B,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38E6-38AA-4586-B263-2C0894E660C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"/>
          <p:cNvGrpSpPr/>
          <p:nvPr/>
        </p:nvGrpSpPr>
        <p:grpSpPr>
          <a:xfrm>
            <a:off x="2646360" y="2839680"/>
            <a:ext cx="1438200" cy="3276720"/>
            <a:chOff x="2646360" y="2839680"/>
            <a:chExt cx="1438200" cy="3276720"/>
          </a:xfrm>
        </p:grpSpPr>
        <p:sp>
          <p:nvSpPr>
            <p:cNvPr id="853" name=""/>
            <p:cNvSpPr/>
            <p:nvPr/>
          </p:nvSpPr>
          <p:spPr>
            <a:xfrm rot="16200000">
              <a:off x="3251160" y="2234880"/>
              <a:ext cx="228600" cy="1438200"/>
            </a:xfrm>
            <a:prstGeom prst="can">
              <a:avLst>
                <a:gd name="adj" fmla="val 14777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rot="16200000">
              <a:off x="3255840" y="5287680"/>
              <a:ext cx="228600" cy="1428480"/>
            </a:xfrm>
            <a:prstGeom prst="can">
              <a:avLst>
                <a:gd name="adj" fmla="val 14777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865600" y="2954160"/>
              <a:ext cx="1218960" cy="3048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4265640" y="2839680"/>
            <a:ext cx="1438200" cy="3276720"/>
            <a:chOff x="4265640" y="2839680"/>
            <a:chExt cx="1438200" cy="3276720"/>
          </a:xfrm>
        </p:grpSpPr>
        <p:sp>
          <p:nvSpPr>
            <p:cNvPr id="857" name=""/>
            <p:cNvSpPr/>
            <p:nvPr/>
          </p:nvSpPr>
          <p:spPr>
            <a:xfrm rot="16200000">
              <a:off x="4870440" y="2234880"/>
              <a:ext cx="228600" cy="1438200"/>
            </a:xfrm>
            <a:prstGeom prst="can">
              <a:avLst>
                <a:gd name="adj" fmla="val 14777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rot="16200000">
              <a:off x="4875120" y="5287680"/>
              <a:ext cx="228600" cy="1428480"/>
            </a:xfrm>
            <a:prstGeom prst="can">
              <a:avLst>
                <a:gd name="adj" fmla="val 14777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484880" y="2954160"/>
              <a:ext cx="1218960" cy="3048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0" name=""/>
          <p:cNvGrpSpPr/>
          <p:nvPr/>
        </p:nvGrpSpPr>
        <p:grpSpPr>
          <a:xfrm>
            <a:off x="5856120" y="2839680"/>
            <a:ext cx="1438200" cy="3276720"/>
            <a:chOff x="5856120" y="2839680"/>
            <a:chExt cx="1438200" cy="3276720"/>
          </a:xfrm>
        </p:grpSpPr>
        <p:sp>
          <p:nvSpPr>
            <p:cNvPr id="861" name=""/>
            <p:cNvSpPr/>
            <p:nvPr/>
          </p:nvSpPr>
          <p:spPr>
            <a:xfrm rot="16200000">
              <a:off x="6460920" y="2234880"/>
              <a:ext cx="228600" cy="1438200"/>
            </a:xfrm>
            <a:prstGeom prst="can">
              <a:avLst>
                <a:gd name="adj" fmla="val 14777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rot="16200000">
              <a:off x="6465600" y="5287680"/>
              <a:ext cx="228600" cy="1428480"/>
            </a:xfrm>
            <a:prstGeom prst="can">
              <a:avLst>
                <a:gd name="adj" fmla="val 14777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075360" y="2954160"/>
              <a:ext cx="1218960" cy="3048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ketch of probl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ition of sens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o B distance = specification – 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o C distance = specification + 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4618080" y="2817360"/>
            <a:ext cx="914400" cy="2749680"/>
            <a:chOff x="4618080" y="2817360"/>
            <a:chExt cx="914400" cy="2749680"/>
          </a:xfrm>
        </p:grpSpPr>
        <p:sp>
          <p:nvSpPr>
            <p:cNvPr id="867" name=""/>
            <p:cNvSpPr/>
            <p:nvPr/>
          </p:nvSpPr>
          <p:spPr>
            <a:xfrm flipV="1">
              <a:off x="5075280" y="2817360"/>
              <a:ext cx="0" cy="35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618080" y="3166920"/>
              <a:ext cx="914400" cy="2400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808520" y="4227120"/>
              <a:ext cx="495360" cy="59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Within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pe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0" name=""/>
          <p:cNvGrpSpPr/>
          <p:nvPr/>
        </p:nvGrpSpPr>
        <p:grpSpPr>
          <a:xfrm>
            <a:off x="6218280" y="2817360"/>
            <a:ext cx="927000" cy="2762640"/>
            <a:chOff x="6218280" y="2817360"/>
            <a:chExt cx="927000" cy="2762640"/>
          </a:xfrm>
        </p:grpSpPr>
        <p:sp>
          <p:nvSpPr>
            <p:cNvPr id="871" name=""/>
            <p:cNvSpPr/>
            <p:nvPr/>
          </p:nvSpPr>
          <p:spPr>
            <a:xfrm>
              <a:off x="6218280" y="5338440"/>
              <a:ext cx="927000" cy="2415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V="1">
              <a:off x="6675480" y="2817360"/>
              <a:ext cx="0" cy="35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218280" y="3166920"/>
              <a:ext cx="914400" cy="2171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431040" y="4214520"/>
              <a:ext cx="444600" cy="59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Too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h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5" name=""/>
          <p:cNvGrpSpPr/>
          <p:nvPr/>
        </p:nvGrpSpPr>
        <p:grpSpPr>
          <a:xfrm>
            <a:off x="3017880" y="2817360"/>
            <a:ext cx="914400" cy="2978280"/>
            <a:chOff x="3017880" y="2817360"/>
            <a:chExt cx="914400" cy="2978280"/>
          </a:xfrm>
        </p:grpSpPr>
        <p:sp>
          <p:nvSpPr>
            <p:cNvPr id="876" name=""/>
            <p:cNvSpPr/>
            <p:nvPr/>
          </p:nvSpPr>
          <p:spPr>
            <a:xfrm flipV="1">
              <a:off x="3475080" y="2817360"/>
              <a:ext cx="0" cy="35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017880" y="3166920"/>
              <a:ext cx="914400" cy="2628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198960" y="4227120"/>
              <a:ext cx="419040" cy="59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Too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o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032280" y="5567040"/>
              <a:ext cx="888840" cy="2224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"/>
          <p:cNvGrpSpPr/>
          <p:nvPr/>
        </p:nvGrpSpPr>
        <p:grpSpPr>
          <a:xfrm>
            <a:off x="2408400" y="3129120"/>
            <a:ext cx="6473160" cy="2882880"/>
            <a:chOff x="2408400" y="3129120"/>
            <a:chExt cx="6473160" cy="2882880"/>
          </a:xfrm>
        </p:grpSpPr>
        <p:sp>
          <p:nvSpPr>
            <p:cNvPr id="881" name=""/>
            <p:cNvSpPr/>
            <p:nvPr/>
          </p:nvSpPr>
          <p:spPr>
            <a:xfrm>
              <a:off x="2408400" y="3129120"/>
              <a:ext cx="2282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408400" y="5364360"/>
              <a:ext cx="2282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408400" y="5681880"/>
              <a:ext cx="2282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650000" y="3535560"/>
              <a:ext cx="5457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pec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- 5%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8272080" y="4284720"/>
              <a:ext cx="609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pec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 5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700000" y="3167280"/>
              <a:ext cx="6121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700000" y="5453280"/>
              <a:ext cx="6121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700000" y="5681880"/>
              <a:ext cx="6121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589520" y="3179880"/>
              <a:ext cx="0" cy="2260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8275320" y="3179880"/>
              <a:ext cx="0" cy="2489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98CB-93A9-469C-B982-B383B3A812A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/>
          <p:nvPr/>
        </p:nvSpPr>
        <p:spPr>
          <a:xfrm>
            <a:off x="4272120" y="2882880"/>
            <a:ext cx="4546440" cy="34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 implementation now straightforwar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ust use three 3-input AND gates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"too short" = AB'C'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only first sensor tripped)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"in spec" = A B C'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irst two sensors tripp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"too long" = A B C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all three sensors tripp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893880" y="3289320"/>
            <a:ext cx="2768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2239920" y="3035160"/>
            <a:ext cx="0" cy="2514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969840" y="2946240"/>
            <a:ext cx="2870280" cy="2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unc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 noth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 noth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 noth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 noth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o shor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n't ca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spec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o lo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ormalize the probl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uth 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don't c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AFE7-7D65-4554-BA7E-08930E505BB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"/>
          <p:cNvSpPr/>
          <p:nvPr/>
        </p:nvSpPr>
        <p:spPr>
          <a:xfrm>
            <a:off x="4554360" y="2370240"/>
            <a:ext cx="4638960" cy="37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teger number_of_days ( month, leap_year_flag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witch (month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 1: return (3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 2: if (leap_year_flag ==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hen return (29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else return (28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 3: return (3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 4: return (3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 5: return (3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 6: return (3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 7: return (3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 8: return (3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 9: return (3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10: return (3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11: return (3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12: return (3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: return (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lendar subsyst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number of days in a month (to control watch displ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in controlling the display of a wrist-watch LCD scre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s: month, leap year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s: number of day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oftware implement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help understand the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A448-EF20-4511-9153-9956F4FA12E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"/>
          <p:cNvGrpSpPr/>
          <p:nvPr/>
        </p:nvGrpSpPr>
        <p:grpSpPr>
          <a:xfrm>
            <a:off x="1447920" y="3657600"/>
            <a:ext cx="2120760" cy="2476440"/>
            <a:chOff x="1447920" y="3657600"/>
            <a:chExt cx="2120760" cy="2476440"/>
          </a:xfrm>
        </p:grpSpPr>
        <p:sp>
          <p:nvSpPr>
            <p:cNvPr id="901" name=""/>
            <p:cNvSpPr/>
            <p:nvPr/>
          </p:nvSpPr>
          <p:spPr>
            <a:xfrm>
              <a:off x="1568520" y="4425840"/>
              <a:ext cx="148572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790640" y="39686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819520" y="39686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247840" y="39686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019240" y="39686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476440" y="39686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133720" y="53402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476440" y="53402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819520" y="53402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705040" y="3670200"/>
              <a:ext cx="8636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ea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600200" y="3657600"/>
              <a:ext cx="1066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on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447920" y="5727600"/>
              <a:ext cx="6858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803240" y="5727600"/>
              <a:ext cx="6858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133720" y="5727600"/>
              <a:ext cx="6858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476440" y="5727600"/>
              <a:ext cx="6858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790640" y="53402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5272200" y="1905120"/>
            <a:ext cx="3879720" cy="4051080"/>
            <a:chOff x="5272200" y="1905120"/>
            <a:chExt cx="3879720" cy="4051080"/>
          </a:xfrm>
        </p:grpSpPr>
        <p:sp>
          <p:nvSpPr>
            <p:cNvPr id="918" name=""/>
            <p:cNvSpPr/>
            <p:nvPr/>
          </p:nvSpPr>
          <p:spPr>
            <a:xfrm>
              <a:off x="5303880" y="1905120"/>
              <a:ext cx="3848040" cy="40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598760"/>
                  <a:tab algn="l" pos="2057400"/>
                  <a:tab algn="l" pos="2514600"/>
                  <a:tab algn="l" pos="29718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onth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eap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8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272200" y="2387520"/>
              <a:ext cx="364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751800" y="2165400"/>
              <a:ext cx="0" cy="36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ormalize the probl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cod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ary number for month: 4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wires for 28, 29, 30, and 3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-hot – only one true at any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ock diagram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D54B-69C9-47EF-B4AB-20E965AF539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3" name=""/>
          <p:cNvGrpSpPr/>
          <p:nvPr/>
        </p:nvGrpSpPr>
        <p:grpSpPr>
          <a:xfrm>
            <a:off x="4959360" y="1511280"/>
            <a:ext cx="3879720" cy="4051440"/>
            <a:chOff x="4959360" y="1511280"/>
            <a:chExt cx="3879720" cy="4051440"/>
          </a:xfrm>
        </p:grpSpPr>
        <p:sp>
          <p:nvSpPr>
            <p:cNvPr id="924" name=""/>
            <p:cNvSpPr/>
            <p:nvPr/>
          </p:nvSpPr>
          <p:spPr>
            <a:xfrm>
              <a:off x="4991040" y="1511280"/>
              <a:ext cx="3848040" cy="405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598760"/>
                  <a:tab algn="l" pos="2057400"/>
                  <a:tab algn="l" pos="2514600"/>
                  <a:tab algn="l" pos="29718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onth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eap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8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959360" y="1994040"/>
              <a:ext cx="364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438960" y="1771560"/>
              <a:ext cx="0" cy="36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941688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hoose implementation target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nd perform mappin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te gat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8 =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 =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 =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1 =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translate to S-o-P or P-o-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1766880" y="2376360"/>
            <a:ext cx="2414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8’ m4’ m2 m1’ leap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1751760" y="3054240"/>
            <a:ext cx="2375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8’ m4’ m2 m1’ le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785240" y="3719520"/>
            <a:ext cx="2413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8’ m4 m1’ + m8 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783800" y="4394160"/>
            <a:ext cx="2009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8’ m1 + m8 m1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CA78-7FC8-4DA6-B528-7E23D62F5E9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Leap year fla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63320" y="1176480"/>
            <a:ext cx="8343720" cy="4589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1000"/>
          </a:bodyPr>
          <a:p>
            <a:pPr marL="316440" indent="-31644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value of leap year flag given the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3002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years after 1582 (Gregorian calendar reformation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3002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p years are all the years divisible by 4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3002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pt that years divisible by 100 are not leap year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3002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years divisible by 400 are leap yea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6440" indent="-31644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ding the ye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3002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ary – easy for divisible by 4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difficult for 100 and 400 (not powers of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3002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D – easy for 100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more difficult for 4, what about 40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6440" indent="-31644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3002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 a circuit that determines if the year is divisible by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3002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 a circuit that determines if the year is divisible by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3002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 a circuit that determines if the year is divisible by 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3002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e the results of the previous three steps to yield the leap year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EB9F-9ECA-4106-9D8E-43AFE8DB2C8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: divisible-by-4 circui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4992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CD coded ye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3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M8 YM4 YM2 YM1 – YH8 YH4 YH2 YH1 – YT8 YT4 YT2 YT1 – YO8 YO4 YO2 Y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need to look at low-order two digits of the yea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years ending in 00, 04, 08, 12, 16, 20, etc. are divisible by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3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ens digit is even, then divisible by 4 if ones digit is 0, 4, or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3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ens digit is odd, then divisible by 4 if the ones digit is 2 or 6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lates into the following Boolean express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where YT1 is the year's tens digit low-order bit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8 is the high-order bit of year's ones digit, etc.):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T1’ (YO8’ YO4’ YO2’ YO1’ + YO8’ YO4 YO2’ YO1’ + YO8 YO4’ YO2’ YO1’ )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 YT1 (YO8’ YO4’ YO2 YO1’ + YO8’ YO4 YO2 YO1’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gits with values of 10 to 15 will never occur, simplify further to yield: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T1’ YO2’ YO1’ + YT1 YO2 YO1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306360" y="1595520"/>
            <a:ext cx="8640720" cy="411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1057-79FB-4098-9F95-62CB021F894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ivisible-by-100 and divisible-by-400 circui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visible-by-100 just requires checking that all bits of two low-order digits are all 0: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YT8’ YT4’ YT2’ YT1’   •   YO8’ YO4’ YO2’ YO1’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visible-by-400 combines the divisible-by-4 (applied to the thousands and hundreds digits) and divisible-by-100 circuits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YM1’ YH2’ YH1’ + YM1 YH2 YH1’)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(YT8’ YT4’ YT2’ YT1’ •  YO8’ YO4’ YO2’ YO1’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0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00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D9A8-170D-4AB0-8ED6-8EF80BBDE8B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General design procedure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or combination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Understand the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is the circuit supposed to d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down inputs (data, control) and outpu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aw block diagram or other pi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Formulate the problem using a suitable design re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uth table or waveform diagram are typ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y require encoding of symbolic inputs and outpu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Choose implementation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M, PAL, P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x, decoder and OR-g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e g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Follow implementation proce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-maps for two-level, multi-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ign tools and hardware description language (e.g., Verilo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8CF9-9D67-4169-98FF-4B1D5AF875D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ing to determine leap year fla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 results of previous three circuits: D4, D100, and D40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ap_year_fla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D4 (D100 • D400’ ) ’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D4 • D100’ + D4 • D40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D4 • D100’ + D40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BD95-D366-4FA9-9FF1-97F15DB09A2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"/>
          <p:cNvSpPr/>
          <p:nvPr/>
        </p:nvSpPr>
        <p:spPr>
          <a:xfrm>
            <a:off x="1430280" y="1866960"/>
            <a:ext cx="5310360" cy="4145040"/>
          </a:xfrm>
          <a:custGeom>
            <a:avLst/>
            <a:gdLst/>
            <a:ahLst/>
            <a:rect l="l" t="t" r="r" b="b"/>
            <a:pathLst>
              <a:path w="3345" h="2611">
                <a:moveTo>
                  <a:pt x="9" y="2611"/>
                </a:moveTo>
                <a:lnTo>
                  <a:pt x="1134" y="2611"/>
                </a:lnTo>
                <a:lnTo>
                  <a:pt x="1134" y="1644"/>
                </a:lnTo>
                <a:lnTo>
                  <a:pt x="2592" y="1635"/>
                </a:lnTo>
                <a:lnTo>
                  <a:pt x="2601" y="1468"/>
                </a:lnTo>
                <a:lnTo>
                  <a:pt x="3159" y="1468"/>
                </a:lnTo>
                <a:lnTo>
                  <a:pt x="3345" y="1468"/>
                </a:lnTo>
                <a:lnTo>
                  <a:pt x="3345" y="0"/>
                </a:lnTo>
                <a:lnTo>
                  <a:pt x="0" y="0"/>
                </a:lnTo>
                <a:lnTo>
                  <a:pt x="9" y="2611"/>
                </a:lnTo>
                <a:close/>
              </a:path>
            </a:pathLst>
          </a:cu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 of leap year fla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44" name="" descr=""/>
          <p:cNvPicPr/>
          <p:nvPr/>
        </p:nvPicPr>
        <p:blipFill>
          <a:blip r:embed="rId1"/>
          <a:stretch/>
        </p:blipFill>
        <p:spPr>
          <a:xfrm>
            <a:off x="534960" y="950760"/>
            <a:ext cx="8186760" cy="5234040"/>
          </a:xfrm>
          <a:prstGeom prst="rect">
            <a:avLst/>
          </a:prstGeom>
          <a:ln w="0">
            <a:noFill/>
          </a:ln>
        </p:spPr>
      </p:pic>
      <p:sp>
        <p:nvSpPr>
          <p:cNvPr id="945" name=""/>
          <p:cNvSpPr/>
          <p:nvPr/>
        </p:nvSpPr>
        <p:spPr>
          <a:xfrm>
            <a:off x="1444680" y="3503520"/>
            <a:ext cx="2508120" cy="250848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233880" y="4483080"/>
            <a:ext cx="2522520" cy="1548000"/>
          </a:xfrm>
          <a:prstGeom prst="rect">
            <a:avLst/>
          </a:prstGeom>
          <a:solidFill>
            <a:srgbClr val="3b812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3214800" y="1955880"/>
            <a:ext cx="2536560" cy="1547640"/>
          </a:xfrm>
          <a:prstGeom prst="rect">
            <a:avLst/>
          </a:prstGeom>
          <a:solidFill>
            <a:srgbClr val="3b812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08DF-A567-4379-BA3D-CFD8E13A7CD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rithmetic circui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cellent examples of combinational logic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me vs. space trade-of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ing things fast may require more logic and thus more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arry lookahead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ithmetic and logic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-purpose building bl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tical components of processor datapa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within most computer instru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BEC6-8008-4A0B-B596-F37FE1A008F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Number syste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ation of positive numbers is the same in most syste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jor differences are in how negative numbers are represen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ation of negative numbers come in three major sche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 and magn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s comp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s comp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'll assume a 4 bit machine wo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 different values can be represen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ly half are positive, half are neg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31A3-72C7-4045-A88B-B4BCC83B80F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2" name=""/>
          <p:cNvGrpSpPr/>
          <p:nvPr/>
        </p:nvGrpSpPr>
        <p:grpSpPr>
          <a:xfrm>
            <a:off x="5435640" y="3019320"/>
            <a:ext cx="3378240" cy="3263760"/>
            <a:chOff x="5435640" y="3019320"/>
            <a:chExt cx="3378240" cy="3263760"/>
          </a:xfrm>
        </p:grpSpPr>
        <p:grpSp>
          <p:nvGrpSpPr>
            <p:cNvPr id="953" name=""/>
            <p:cNvGrpSpPr/>
            <p:nvPr/>
          </p:nvGrpSpPr>
          <p:grpSpPr>
            <a:xfrm>
              <a:off x="5791320" y="3254400"/>
              <a:ext cx="2882880" cy="2717640"/>
              <a:chOff x="5791320" y="3254400"/>
              <a:chExt cx="2882880" cy="2717640"/>
            </a:xfrm>
          </p:grpSpPr>
          <p:sp>
            <p:nvSpPr>
              <p:cNvPr id="954" name=""/>
              <p:cNvSpPr/>
              <p:nvPr/>
            </p:nvSpPr>
            <p:spPr>
              <a:xfrm>
                <a:off x="5797440" y="3254400"/>
                <a:ext cx="2705040" cy="2717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162920" y="3349440"/>
                <a:ext cx="6094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175520" y="5661000"/>
                <a:ext cx="5335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8001000" y="4302000"/>
                <a:ext cx="6732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5842080" y="4708440"/>
                <a:ext cx="6094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6566040" y="3362400"/>
                <a:ext cx="5587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6184800" y="3578040"/>
                <a:ext cx="6224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5918040" y="3933720"/>
                <a:ext cx="5335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5791320" y="4302000"/>
                <a:ext cx="5839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5943600" y="5064120"/>
                <a:ext cx="5968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6159600" y="5381640"/>
                <a:ext cx="5968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6540480" y="5661000"/>
                <a:ext cx="5716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07160" y="5419800"/>
                <a:ext cx="5842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7861320" y="5102280"/>
                <a:ext cx="6732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7962840" y="4746600"/>
                <a:ext cx="6606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7823160" y="3933720"/>
                <a:ext cx="6350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7543800" y="3603600"/>
                <a:ext cx="5461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1" name=""/>
            <p:cNvSpPr/>
            <p:nvPr/>
          </p:nvSpPr>
          <p:spPr>
            <a:xfrm>
              <a:off x="7429680" y="3019320"/>
              <a:ext cx="330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988400" y="3324240"/>
              <a:ext cx="3301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8344080" y="3755880"/>
              <a:ext cx="330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8470800" y="4225680"/>
              <a:ext cx="3304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8483760" y="4759200"/>
              <a:ext cx="330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8344080" y="5191200"/>
              <a:ext cx="3301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8026560" y="5597280"/>
              <a:ext cx="330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378560" y="5978520"/>
              <a:ext cx="3304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527880" y="5914800"/>
              <a:ext cx="368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931000" y="5648400"/>
              <a:ext cx="4953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575320" y="5153040"/>
              <a:ext cx="4316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435640" y="4708440"/>
              <a:ext cx="380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435640" y="4200480"/>
              <a:ext cx="444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638680" y="3717720"/>
              <a:ext cx="393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931000" y="3362400"/>
              <a:ext cx="444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578640" y="3019320"/>
              <a:ext cx="482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7" name=""/>
          <p:cNvSpPr/>
          <p:nvPr/>
        </p:nvSpPr>
        <p:spPr>
          <a:xfrm>
            <a:off x="6515280" y="1749600"/>
            <a:ext cx="157464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 100 = + 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 100 = –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ign and magnitud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bit dedicate to sign (positive or nega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: 0 = positive (or zero), 1 = neg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 represent the absolute value or magnit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low order bits: 0 (000) thru 7 (1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 for n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/– 2n–1 –1  (two representations for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mbersome addition/subtra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compare magnitud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termine sign of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A446-0C84-4F23-8EE7-5A2E8E730F4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/>
          <p:nvPr/>
        </p:nvSpPr>
        <p:spPr>
          <a:xfrm>
            <a:off x="2193840" y="2898720"/>
            <a:ext cx="5067360" cy="20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=  1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=  00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2   –1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=    1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=    0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     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000   =  –7 in 1s complement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292560" y="3711600"/>
            <a:ext cx="71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343320" y="44737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359080" y="2847960"/>
            <a:ext cx="29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2371680" y="3610080"/>
            <a:ext cx="2923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1s complemen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 is a positive number, then the negative of N (its 1s complement or N' ) is N' = (2n– 1) –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1s complement of 7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cut: simply compute bit-wise complement ( 0111 -&gt; 1000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8455-B9DA-4B69-876F-A5B574B0D1C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7" name=""/>
          <p:cNvGrpSpPr/>
          <p:nvPr/>
        </p:nvGrpSpPr>
        <p:grpSpPr>
          <a:xfrm>
            <a:off x="5016600" y="2678040"/>
            <a:ext cx="3556080" cy="3556080"/>
            <a:chOff x="5016600" y="2678040"/>
            <a:chExt cx="3556080" cy="3556080"/>
          </a:xfrm>
        </p:grpSpPr>
        <p:grpSp>
          <p:nvGrpSpPr>
            <p:cNvPr id="998" name=""/>
            <p:cNvGrpSpPr/>
            <p:nvPr/>
          </p:nvGrpSpPr>
          <p:grpSpPr>
            <a:xfrm>
              <a:off x="5435640" y="3039840"/>
              <a:ext cx="2882880" cy="2718000"/>
              <a:chOff x="5435640" y="3039840"/>
              <a:chExt cx="2882880" cy="2718000"/>
            </a:xfrm>
          </p:grpSpPr>
          <p:sp>
            <p:nvSpPr>
              <p:cNvPr id="999" name=""/>
              <p:cNvSpPr/>
              <p:nvPr/>
            </p:nvSpPr>
            <p:spPr>
              <a:xfrm>
                <a:off x="5442120" y="3039840"/>
                <a:ext cx="2705040" cy="2718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6807240" y="3135240"/>
                <a:ext cx="6094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819840" y="5446800"/>
                <a:ext cx="5335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7645320" y="4087800"/>
                <a:ext cx="6732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5486400" y="4494240"/>
                <a:ext cx="6098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6210360" y="3147840"/>
                <a:ext cx="5587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829480" y="3363840"/>
                <a:ext cx="6220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562720" y="3719520"/>
                <a:ext cx="5335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5435640" y="4087800"/>
                <a:ext cx="5842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5587920" y="4849920"/>
                <a:ext cx="5972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803920" y="5167080"/>
                <a:ext cx="5968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6185160" y="5446800"/>
                <a:ext cx="5713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251840" y="5205240"/>
                <a:ext cx="5842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7505640" y="4887720"/>
                <a:ext cx="6732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607520" y="4532400"/>
                <a:ext cx="6602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7467840" y="3719520"/>
                <a:ext cx="6346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7188120" y="3389400"/>
                <a:ext cx="5461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6" name=""/>
            <p:cNvSpPr/>
            <p:nvPr/>
          </p:nvSpPr>
          <p:spPr>
            <a:xfrm>
              <a:off x="7124760" y="2678040"/>
              <a:ext cx="3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683480" y="3008160"/>
              <a:ext cx="3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8051760" y="3465360"/>
              <a:ext cx="3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8191440" y="3960720"/>
              <a:ext cx="3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8217000" y="4532400"/>
              <a:ext cx="3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8051760" y="5002200"/>
              <a:ext cx="3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7721640" y="5446800"/>
              <a:ext cx="3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061400" y="5852880"/>
              <a:ext cx="355320" cy="3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172200" y="58658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550120" y="5497560"/>
              <a:ext cx="49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156280" y="4951440"/>
              <a:ext cx="44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016600" y="4468680"/>
              <a:ext cx="4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016600" y="3948120"/>
              <a:ext cx="39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232600" y="3414600"/>
              <a:ext cx="4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550120" y="3046320"/>
              <a:ext cx="46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222960" y="2678040"/>
              <a:ext cx="40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2" name=""/>
          <p:cNvSpPr/>
          <p:nvPr/>
        </p:nvSpPr>
        <p:spPr>
          <a:xfrm>
            <a:off x="2641680" y="4189320"/>
            <a:ext cx="15746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 100 = + 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 011 = –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1s complement (cont'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traction implemented by 1s complement and then ad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 representations of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uses some complexities in ad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gh-order bit can act as sign b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EF36-8F5B-4ACD-81C6-4C82959E648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/>
          <p:nvPr/>
        </p:nvSpPr>
        <p:spPr>
          <a:xfrm>
            <a:off x="2076480" y="4181400"/>
            <a:ext cx="153684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 100 = + 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 100 = –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5156280" y="2743200"/>
            <a:ext cx="3556080" cy="3530520"/>
            <a:chOff x="5156280" y="2743200"/>
            <a:chExt cx="3556080" cy="3530520"/>
          </a:xfrm>
        </p:grpSpPr>
        <p:sp>
          <p:nvSpPr>
            <p:cNvPr id="1037" name=""/>
            <p:cNvSpPr/>
            <p:nvPr/>
          </p:nvSpPr>
          <p:spPr>
            <a:xfrm>
              <a:off x="7264800" y="2743200"/>
              <a:ext cx="3553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7823520" y="3060720"/>
              <a:ext cx="3556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8191800" y="353052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8331480" y="4025880"/>
              <a:ext cx="3556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8356680" y="459720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8191800" y="505440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7861680" y="549900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201080" y="590544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312240" y="5918040"/>
              <a:ext cx="495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689800" y="5549760"/>
              <a:ext cx="482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96320" y="5003640"/>
              <a:ext cx="380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181840" y="4533840"/>
              <a:ext cx="3938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156280" y="4012920"/>
              <a:ext cx="432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372280" y="3479760"/>
              <a:ext cx="4190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689800" y="3111480"/>
              <a:ext cx="3808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6350400" y="2743200"/>
              <a:ext cx="48240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3" name=""/>
            <p:cNvGrpSpPr/>
            <p:nvPr/>
          </p:nvGrpSpPr>
          <p:grpSpPr>
            <a:xfrm>
              <a:off x="5562720" y="3092400"/>
              <a:ext cx="2882880" cy="2717640"/>
              <a:chOff x="5562720" y="3092400"/>
              <a:chExt cx="2882880" cy="2717640"/>
            </a:xfrm>
          </p:grpSpPr>
          <p:sp>
            <p:nvSpPr>
              <p:cNvPr id="1054" name=""/>
              <p:cNvSpPr/>
              <p:nvPr/>
            </p:nvSpPr>
            <p:spPr>
              <a:xfrm>
                <a:off x="5569200" y="3092400"/>
                <a:ext cx="2705040" cy="2717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6934320" y="3187440"/>
                <a:ext cx="6098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6947280" y="5499000"/>
                <a:ext cx="5331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7772760" y="4140000"/>
                <a:ext cx="6728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613480" y="4546440"/>
                <a:ext cx="6098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6337440" y="3200400"/>
                <a:ext cx="5590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956560" y="3416040"/>
                <a:ext cx="6224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5689800" y="3771720"/>
                <a:ext cx="5335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5562720" y="4140000"/>
                <a:ext cx="5842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715360" y="4902120"/>
                <a:ext cx="5968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931000" y="5219640"/>
                <a:ext cx="5968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6312240" y="5499000"/>
                <a:ext cx="571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7378920" y="5257800"/>
                <a:ext cx="5842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7633080" y="4940280"/>
                <a:ext cx="6728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7734600" y="4584600"/>
                <a:ext cx="6602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7594920" y="3771720"/>
                <a:ext cx="6350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7315560" y="3441600"/>
                <a:ext cx="5461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2s complemen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s complement with negative numbers shifted one position clockwi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one representation for 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more negative numb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n positive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-order bit can act as sign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5BD8-4223-4392-B42A-9F41F914800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"/>
          <p:cNvSpPr/>
          <p:nvPr/>
        </p:nvSpPr>
        <p:spPr>
          <a:xfrm>
            <a:off x="5376960" y="2462040"/>
            <a:ext cx="297180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39384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=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39384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=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  0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39384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001  = repr. of –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5992920" y="321156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5504040" y="2360520"/>
            <a:ext cx="29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5364000" y="3790800"/>
            <a:ext cx="295920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39384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=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39384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=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  1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39384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111  = repr. of 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5992920" y="454032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5504040" y="3689280"/>
            <a:ext cx="29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373640" y="2919240"/>
            <a:ext cx="1066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subtra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4398840" y="4260960"/>
            <a:ext cx="10414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subtra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2s complement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 is a positive number, then the negative of N (its 2s complement or N* ) is N* = 2n –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2s complement of 7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2s complement of –7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cut: 2s complement = bit-wise complement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111 -&gt; 1000 + 1 -&gt; 1001  (representation of -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1 -&gt; 0110 + 1 -&gt; 0111  (representation of 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E814-6C44-4739-B1AC-3A092E287AF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"/>
          <p:cNvSpPr/>
          <p:nvPr/>
        </p:nvSpPr>
        <p:spPr>
          <a:xfrm>
            <a:off x="2509920" y="2925720"/>
            <a:ext cx="6350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+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2706840" y="3662280"/>
            <a:ext cx="46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3500280" y="2925720"/>
            <a:ext cx="67320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3494160" y="3700440"/>
            <a:ext cx="64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668840" y="2913120"/>
            <a:ext cx="88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–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+ (– 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–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827600" y="3687840"/>
            <a:ext cx="64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619600" y="2913120"/>
            <a:ext cx="8906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1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1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5742000" y="3687840"/>
            <a:ext cx="64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2535120" y="4970520"/>
            <a:ext cx="5968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–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630520" y="5719680"/>
            <a:ext cx="46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233880" y="4970520"/>
            <a:ext cx="93960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1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0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3419640" y="5719680"/>
            <a:ext cx="64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4948200" y="4983120"/>
            <a:ext cx="6476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–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+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–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5068800" y="5719680"/>
            <a:ext cx="470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5862600" y="4983120"/>
            <a:ext cx="67320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5856120" y="5757840"/>
            <a:ext cx="64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2s complement addition and subtrac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addition and subt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scheme makes 2s complement the virtually unanimous choice fo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er number systems in compu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0FB1-6DC7-4565-9465-96710DCE9B3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218280" y="2906640"/>
            <a:ext cx="18288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CD to 7–seg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 signa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77000" y="367524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05600" y="367524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234200" y="367524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462800" y="367524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805880" y="24177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577280" y="24177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48680" y="24177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120080" y="24177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91480" y="24177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662880" y="24177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34280" y="24177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211800" y="2874960"/>
            <a:ext cx="1828800" cy="80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211800" y="588960"/>
            <a:ext cx="1828800" cy="180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41960" y="2170080"/>
            <a:ext cx="1943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0  c1  c2  c3  c4  c5  c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97640" y="3986280"/>
            <a:ext cx="1257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   B   C  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BCD to 7-segment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isplay controll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standing the probl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is a 4 bit bcd digit (A, B, C, 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is the control signal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display (7 outputs C0 – C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ock dia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467480" y="4414680"/>
            <a:ext cx="381240" cy="685800"/>
            <a:chOff x="7467480" y="4414680"/>
            <a:chExt cx="381240" cy="685800"/>
          </a:xfrm>
        </p:grpSpPr>
        <p:sp>
          <p:nvSpPr>
            <p:cNvPr id="107" name=""/>
            <p:cNvSpPr/>
            <p:nvPr/>
          </p:nvSpPr>
          <p:spPr>
            <a:xfrm>
              <a:off x="7467480" y="44528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467480" y="47577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5400000">
              <a:off x="7619400" y="460512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772400" y="44528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772400" y="47577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5400000">
              <a:off x="7619400" y="430020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5400000">
              <a:off x="7619760" y="49100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6858000" y="4414680"/>
            <a:ext cx="380880" cy="685800"/>
            <a:chOff x="6858000" y="4414680"/>
            <a:chExt cx="380880" cy="685800"/>
          </a:xfrm>
        </p:grpSpPr>
        <p:sp>
          <p:nvSpPr>
            <p:cNvPr id="115" name=""/>
            <p:cNvSpPr/>
            <p:nvPr/>
          </p:nvSpPr>
          <p:spPr>
            <a:xfrm>
              <a:off x="6858000" y="44528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858000" y="47577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5400000">
              <a:off x="7009920" y="460512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62920" y="44528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62920" y="475776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7009920" y="430020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5400000">
              <a:off x="7010280" y="49100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6248520" y="4414680"/>
            <a:ext cx="380880" cy="685800"/>
            <a:chOff x="6248520" y="4414680"/>
            <a:chExt cx="380880" cy="685800"/>
          </a:xfrm>
        </p:grpSpPr>
        <p:sp>
          <p:nvSpPr>
            <p:cNvPr id="123" name=""/>
            <p:cNvSpPr/>
            <p:nvPr/>
          </p:nvSpPr>
          <p:spPr>
            <a:xfrm>
              <a:off x="6248520" y="44528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248520" y="475776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5400000">
              <a:off x="6400800" y="460548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553080" y="44528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553080" y="47577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5400000">
              <a:off x="6400800" y="43005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5400000">
              <a:off x="6400800" y="491004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8077320" y="4414680"/>
            <a:ext cx="380880" cy="685800"/>
            <a:chOff x="8077320" y="4414680"/>
            <a:chExt cx="380880" cy="685800"/>
          </a:xfrm>
        </p:grpSpPr>
        <p:sp>
          <p:nvSpPr>
            <p:cNvPr id="131" name=""/>
            <p:cNvSpPr/>
            <p:nvPr/>
          </p:nvSpPr>
          <p:spPr>
            <a:xfrm>
              <a:off x="8077320" y="44528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077320" y="475776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5400000">
              <a:off x="8229600" y="460548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381880" y="44528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381880" y="47577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5400000">
              <a:off x="8229600" y="43005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5400000">
              <a:off x="8229600" y="491004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5638680" y="4414680"/>
            <a:ext cx="381240" cy="685800"/>
            <a:chOff x="5638680" y="4414680"/>
            <a:chExt cx="381240" cy="685800"/>
          </a:xfrm>
        </p:grpSpPr>
        <p:sp>
          <p:nvSpPr>
            <p:cNvPr id="139" name=""/>
            <p:cNvSpPr/>
            <p:nvPr/>
          </p:nvSpPr>
          <p:spPr>
            <a:xfrm>
              <a:off x="5638680" y="44528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638680" y="47577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5400000">
              <a:off x="5790600" y="460512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943600" y="44528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943600" y="47577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5400000">
              <a:off x="5790600" y="430020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5400000">
              <a:off x="5790960" y="49100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7467480" y="5329080"/>
            <a:ext cx="381240" cy="685800"/>
            <a:chOff x="7467480" y="5329080"/>
            <a:chExt cx="381240" cy="685800"/>
          </a:xfrm>
        </p:grpSpPr>
        <p:sp>
          <p:nvSpPr>
            <p:cNvPr id="147" name=""/>
            <p:cNvSpPr/>
            <p:nvPr/>
          </p:nvSpPr>
          <p:spPr>
            <a:xfrm>
              <a:off x="7467480" y="53672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467480" y="56721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5400000">
              <a:off x="7619400" y="551952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772400" y="53672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772400" y="56721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5400000">
              <a:off x="7619400" y="521460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7619760" y="58244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6858000" y="5329080"/>
            <a:ext cx="380880" cy="685800"/>
            <a:chOff x="6858000" y="5329080"/>
            <a:chExt cx="380880" cy="685800"/>
          </a:xfrm>
        </p:grpSpPr>
        <p:sp>
          <p:nvSpPr>
            <p:cNvPr id="155" name=""/>
            <p:cNvSpPr/>
            <p:nvPr/>
          </p:nvSpPr>
          <p:spPr>
            <a:xfrm>
              <a:off x="6858000" y="53672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858000" y="56721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5400000">
              <a:off x="7009920" y="551952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162920" y="53672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162920" y="567216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5400000">
              <a:off x="7009920" y="521460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5400000">
              <a:off x="7010280" y="58244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6248520" y="5329080"/>
            <a:ext cx="380880" cy="685800"/>
            <a:chOff x="6248520" y="5329080"/>
            <a:chExt cx="380880" cy="685800"/>
          </a:xfrm>
        </p:grpSpPr>
        <p:sp>
          <p:nvSpPr>
            <p:cNvPr id="163" name=""/>
            <p:cNvSpPr/>
            <p:nvPr/>
          </p:nvSpPr>
          <p:spPr>
            <a:xfrm>
              <a:off x="6248520" y="53672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248520" y="567216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5400000">
              <a:off x="6400800" y="551988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553080" y="53672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553080" y="56721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5400000">
              <a:off x="6400800" y="52149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5400000">
              <a:off x="6400800" y="582444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8077320" y="5329080"/>
            <a:ext cx="380880" cy="685800"/>
            <a:chOff x="8077320" y="5329080"/>
            <a:chExt cx="380880" cy="685800"/>
          </a:xfrm>
        </p:grpSpPr>
        <p:sp>
          <p:nvSpPr>
            <p:cNvPr id="171" name=""/>
            <p:cNvSpPr/>
            <p:nvPr/>
          </p:nvSpPr>
          <p:spPr>
            <a:xfrm>
              <a:off x="8077320" y="53672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77320" y="567216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5400000">
              <a:off x="8229600" y="551988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381880" y="53672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381880" y="56721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5400000">
              <a:off x="8229600" y="52149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5400000">
              <a:off x="8229600" y="582444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638680" y="5329080"/>
            <a:ext cx="381240" cy="685800"/>
            <a:chOff x="5638680" y="5329080"/>
            <a:chExt cx="381240" cy="685800"/>
          </a:xfrm>
        </p:grpSpPr>
        <p:sp>
          <p:nvSpPr>
            <p:cNvPr id="179" name=""/>
            <p:cNvSpPr/>
            <p:nvPr/>
          </p:nvSpPr>
          <p:spPr>
            <a:xfrm>
              <a:off x="5638680" y="53672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638680" y="56721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5400000">
              <a:off x="5790600" y="551952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943600" y="53672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56721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5400000">
              <a:off x="5790600" y="521460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5400000">
              <a:off x="5790960" y="58244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6176880" y="716040"/>
            <a:ext cx="1905120" cy="1508040"/>
            <a:chOff x="6176880" y="716040"/>
            <a:chExt cx="1905120" cy="1508040"/>
          </a:xfrm>
        </p:grpSpPr>
        <p:sp>
          <p:nvSpPr>
            <p:cNvPr id="187" name=""/>
            <p:cNvSpPr/>
            <p:nvPr/>
          </p:nvSpPr>
          <p:spPr>
            <a:xfrm>
              <a:off x="7485120" y="960480"/>
              <a:ext cx="59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176880" y="963720"/>
              <a:ext cx="59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485120" y="1497240"/>
              <a:ext cx="59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176880" y="1481040"/>
              <a:ext cx="59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015320" y="1370160"/>
              <a:ext cx="59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015320" y="836640"/>
              <a:ext cx="59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015320" y="1919520"/>
              <a:ext cx="59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6770880" y="716040"/>
              <a:ext cx="677160" cy="1218960"/>
              <a:chOff x="6770880" y="716040"/>
              <a:chExt cx="677160" cy="1218960"/>
            </a:xfrm>
          </p:grpSpPr>
          <p:sp>
            <p:nvSpPr>
              <p:cNvPr id="195" name=""/>
              <p:cNvSpPr/>
              <p:nvPr/>
            </p:nvSpPr>
            <p:spPr>
              <a:xfrm>
                <a:off x="6770880" y="783720"/>
                <a:ext cx="135360" cy="541800"/>
              </a:xfrm>
              <a:prstGeom prst="upDownArrow">
                <a:avLst>
                  <a:gd name="adj1" fmla="val 100000"/>
                  <a:gd name="adj2" fmla="val 50033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770880" y="1325880"/>
                <a:ext cx="135360" cy="541080"/>
              </a:xfrm>
              <a:prstGeom prst="upDownArrow">
                <a:avLst>
                  <a:gd name="adj1" fmla="val 100000"/>
                  <a:gd name="adj2" fmla="val 499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5400000">
                <a:off x="7041240" y="1054440"/>
                <a:ext cx="135360" cy="541800"/>
              </a:xfrm>
              <a:prstGeom prst="upDownArrow">
                <a:avLst>
                  <a:gd name="adj1" fmla="val 100000"/>
                  <a:gd name="adj2" fmla="val 50033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312680" y="783720"/>
                <a:ext cx="135360" cy="541800"/>
              </a:xfrm>
              <a:prstGeom prst="upDownArrow">
                <a:avLst>
                  <a:gd name="adj1" fmla="val 100000"/>
                  <a:gd name="adj2" fmla="val 50033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312680" y="1325880"/>
                <a:ext cx="135360" cy="541080"/>
              </a:xfrm>
              <a:prstGeom prst="upDownArrow">
                <a:avLst>
                  <a:gd name="adj1" fmla="val 100000"/>
                  <a:gd name="adj2" fmla="val 499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5400000">
                <a:off x="7041240" y="512640"/>
                <a:ext cx="135360" cy="541800"/>
              </a:xfrm>
              <a:prstGeom prst="upDownArrow">
                <a:avLst>
                  <a:gd name="adj1" fmla="val 100000"/>
                  <a:gd name="adj2" fmla="val 50033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5400000">
                <a:off x="7041600" y="1596600"/>
                <a:ext cx="135000" cy="541800"/>
              </a:xfrm>
              <a:prstGeom prst="upDownArrow">
                <a:avLst>
                  <a:gd name="adj1" fmla="val 100000"/>
                  <a:gd name="adj2" fmla="val 501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6076-8CC6-4F98-99CA-9AB7607AE57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hy can the carry-out be ignored?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't ignore it complet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ed to check for overflow (see next two slid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re is no overflow, carry-out may be true but can be ignored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– M + N when N &gt; M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*  +  N  =  (2n –  M)  +  N  =  2n +  (N – M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gnoring carry-out is just like subtracting 2n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– M + – N where N + M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n–1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– M) + (– N) = M* +  N* = (2n– M) + (2n– N)   = 2n – (M + N)  +  2n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gnoring the carry, it is just the 2s complement representation for – (M + 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87F7-2176-41E0-978F-807B48F302C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"/>
          <p:cNvSpPr/>
          <p:nvPr/>
        </p:nvSpPr>
        <p:spPr>
          <a:xfrm>
            <a:off x="368280" y="5962680"/>
            <a:ext cx="11685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5 + 3 = –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7480440" y="5962680"/>
            <a:ext cx="14605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7 – 2 = +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5" name=""/>
          <p:cNvGrpSpPr/>
          <p:nvPr/>
        </p:nvGrpSpPr>
        <p:grpSpPr>
          <a:xfrm>
            <a:off x="5079960" y="2521080"/>
            <a:ext cx="3556080" cy="3530520"/>
            <a:chOff x="5079960" y="2521080"/>
            <a:chExt cx="3556080" cy="3530520"/>
          </a:xfrm>
        </p:grpSpPr>
        <p:sp>
          <p:nvSpPr>
            <p:cNvPr id="1106" name=""/>
            <p:cNvSpPr/>
            <p:nvPr/>
          </p:nvSpPr>
          <p:spPr>
            <a:xfrm>
              <a:off x="7188120" y="252108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746840" y="283860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8115480" y="330840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255160" y="380376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280360" y="437544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115480" y="483264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785000" y="5277240"/>
              <a:ext cx="3556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124760" y="568332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235560" y="5696280"/>
              <a:ext cx="495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5613480" y="5328000"/>
              <a:ext cx="48240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219640" y="4781880"/>
              <a:ext cx="38124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5105520" y="4311720"/>
              <a:ext cx="3934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079960" y="3791160"/>
              <a:ext cx="432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295960" y="3257640"/>
              <a:ext cx="4190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613480" y="2889360"/>
              <a:ext cx="380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273720" y="2521080"/>
              <a:ext cx="482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2" name=""/>
            <p:cNvGrpSpPr/>
            <p:nvPr/>
          </p:nvGrpSpPr>
          <p:grpSpPr>
            <a:xfrm>
              <a:off x="5486400" y="2870280"/>
              <a:ext cx="2882880" cy="2718000"/>
              <a:chOff x="5486400" y="2870280"/>
              <a:chExt cx="2882880" cy="2718000"/>
            </a:xfrm>
          </p:grpSpPr>
          <p:sp>
            <p:nvSpPr>
              <p:cNvPr id="1123" name=""/>
              <p:cNvSpPr/>
              <p:nvPr/>
            </p:nvSpPr>
            <p:spPr>
              <a:xfrm>
                <a:off x="5492880" y="2870280"/>
                <a:ext cx="2705040" cy="2718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6858000" y="2965680"/>
                <a:ext cx="6094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6870600" y="5277240"/>
                <a:ext cx="5335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696080" y="3918240"/>
                <a:ext cx="6732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5537160" y="4324680"/>
                <a:ext cx="6094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6261120" y="2978280"/>
                <a:ext cx="5587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5880240" y="3194280"/>
                <a:ext cx="6220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5613480" y="3549960"/>
                <a:ext cx="5331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5486400" y="3918240"/>
                <a:ext cx="5842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5638680" y="4680000"/>
                <a:ext cx="5968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5854680" y="4997520"/>
                <a:ext cx="5968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235560" y="5277240"/>
                <a:ext cx="5716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7302600" y="5035680"/>
                <a:ext cx="5842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7556400" y="4718160"/>
                <a:ext cx="6732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7658280" y="4362840"/>
                <a:ext cx="6602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518240" y="3549960"/>
                <a:ext cx="635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238880" y="3219840"/>
                <a:ext cx="5461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40" name=""/>
          <p:cNvSpPr/>
          <p:nvPr/>
        </p:nvSpPr>
        <p:spPr>
          <a:xfrm flipH="1">
            <a:off x="6781320" y="5149800"/>
            <a:ext cx="25560" cy="781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1" name=""/>
          <p:cNvGrpSpPr/>
          <p:nvPr/>
        </p:nvGrpSpPr>
        <p:grpSpPr>
          <a:xfrm>
            <a:off x="851040" y="2521080"/>
            <a:ext cx="3555720" cy="3530520"/>
            <a:chOff x="851040" y="2521080"/>
            <a:chExt cx="3555720" cy="3530520"/>
          </a:xfrm>
        </p:grpSpPr>
        <p:sp>
          <p:nvSpPr>
            <p:cNvPr id="1142" name=""/>
            <p:cNvSpPr/>
            <p:nvPr/>
          </p:nvSpPr>
          <p:spPr>
            <a:xfrm>
              <a:off x="2959200" y="252108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517920" y="283860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886200" y="330840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025880" y="380376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051440" y="437544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886200" y="483264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556080" y="5277240"/>
              <a:ext cx="3556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2895480" y="568332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006640" y="5696280"/>
              <a:ext cx="495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384200" y="5328000"/>
              <a:ext cx="4827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990720" y="4781880"/>
              <a:ext cx="3808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876240" y="4311720"/>
              <a:ext cx="3938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851040" y="3791160"/>
              <a:ext cx="4316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1066680" y="3257640"/>
              <a:ext cx="4194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1384200" y="2889360"/>
              <a:ext cx="3812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2044800" y="2521080"/>
              <a:ext cx="4824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8" name=""/>
            <p:cNvGrpSpPr/>
            <p:nvPr/>
          </p:nvGrpSpPr>
          <p:grpSpPr>
            <a:xfrm>
              <a:off x="1257480" y="2870280"/>
              <a:ext cx="2882880" cy="2718000"/>
              <a:chOff x="1257480" y="2870280"/>
              <a:chExt cx="2882880" cy="2718000"/>
            </a:xfrm>
          </p:grpSpPr>
          <p:sp>
            <p:nvSpPr>
              <p:cNvPr id="1159" name=""/>
              <p:cNvSpPr/>
              <p:nvPr/>
            </p:nvSpPr>
            <p:spPr>
              <a:xfrm>
                <a:off x="1263600" y="2870280"/>
                <a:ext cx="2705040" cy="2718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2629080" y="2965680"/>
                <a:ext cx="6094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2641680" y="5277240"/>
                <a:ext cx="5331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3467160" y="3918240"/>
                <a:ext cx="6732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1308240" y="4324680"/>
                <a:ext cx="6094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2031840" y="2978280"/>
                <a:ext cx="5590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1650960" y="3194280"/>
                <a:ext cx="6224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1384200" y="3549960"/>
                <a:ext cx="5335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1257480" y="3918240"/>
                <a:ext cx="5839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1409760" y="4680000"/>
                <a:ext cx="5968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1625760" y="4997520"/>
                <a:ext cx="5968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2006640" y="5277240"/>
                <a:ext cx="5713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3073320" y="5035680"/>
                <a:ext cx="5842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327480" y="4718160"/>
                <a:ext cx="6732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429000" y="4362840"/>
                <a:ext cx="6602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3289320" y="3549960"/>
                <a:ext cx="635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3009960" y="3219840"/>
                <a:ext cx="5461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76" name=""/>
          <p:cNvSpPr/>
          <p:nvPr/>
        </p:nvSpPr>
        <p:spPr>
          <a:xfrm flipH="1">
            <a:off x="2552760" y="5099040"/>
            <a:ext cx="25200" cy="800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81975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Overflow in 2s complement addition/subtrac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flow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two positive numbers to get a negative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two negative numbers to get a positive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FB21-9C85-468C-B692-A3548E2AA04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"/>
          <p:cNvSpPr/>
          <p:nvPr/>
        </p:nvSpPr>
        <p:spPr>
          <a:xfrm>
            <a:off x="1054080" y="2508120"/>
            <a:ext cx="87624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4320" rIns="19080" tIns="27000" bIns="27000" anchor="t">
            <a:noAutofit/>
          </a:bodyPr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2641680" y="2000160"/>
            <a:ext cx="11556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6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0  1  1  1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       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0 1 0 1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0 0 1 1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1 0 0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4749840" y="2558880"/>
            <a:ext cx="88884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426360" y="2050920"/>
            <a:ext cx="105408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6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  0  0  0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1 0 0 1</a:t>
            </a:r>
            <a:br>
              <a:rPr sz="1800"/>
            </a:b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   1 1 1 0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 0 1 1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5264280" y="3308400"/>
            <a:ext cx="35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1600200" y="4676760"/>
            <a:ext cx="29196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2603520" y="4118040"/>
            <a:ext cx="1054080" cy="16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6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0  0  0  0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0 1 0 1</a:t>
            </a:r>
            <a:br>
              <a:rPr sz="1800"/>
            </a:b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   0 0 1 0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0 1 1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1504800" y="5400720"/>
            <a:ext cx="35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4813200" y="4753080"/>
            <a:ext cx="92736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–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6426360" y="4219560"/>
            <a:ext cx="111744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6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  1  1  1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1 1 0 1</a:t>
            </a:r>
            <a:br>
              <a:rPr sz="1800"/>
            </a:b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   1 0 1 1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 1 0 0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1460520" y="3625920"/>
            <a:ext cx="1143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ver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5156280" y="3676680"/>
            <a:ext cx="1143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ver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1460520" y="5819760"/>
            <a:ext cx="1460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 over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5219640" y="5870520"/>
            <a:ext cx="1460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 over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Overflow condi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flow when carry into sign bit position is not equal to carry-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ABEF-237F-43A0-B5B7-B586F72C8D0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5" name=""/>
          <p:cNvGrpSpPr/>
          <p:nvPr/>
        </p:nvGrpSpPr>
        <p:grpSpPr>
          <a:xfrm>
            <a:off x="1325520" y="4233960"/>
            <a:ext cx="2253960" cy="1778040"/>
            <a:chOff x="1325520" y="4233960"/>
            <a:chExt cx="2253960" cy="1778040"/>
          </a:xfrm>
        </p:grpSpPr>
        <p:sp>
          <p:nvSpPr>
            <p:cNvPr id="1196" name=""/>
            <p:cNvSpPr/>
            <p:nvPr/>
          </p:nvSpPr>
          <p:spPr>
            <a:xfrm>
              <a:off x="1357200" y="4233960"/>
              <a:ext cx="2222280" cy="177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4842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i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i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um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1325520" y="4564080"/>
              <a:ext cx="218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182680" y="4291200"/>
              <a:ext cx="0" cy="138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9" name=""/>
          <p:cNvGrpSpPr/>
          <p:nvPr/>
        </p:nvGrpSpPr>
        <p:grpSpPr>
          <a:xfrm>
            <a:off x="6097680" y="3594240"/>
            <a:ext cx="2876400" cy="2895480"/>
            <a:chOff x="6097680" y="3594240"/>
            <a:chExt cx="2876400" cy="2895480"/>
          </a:xfrm>
        </p:grpSpPr>
        <p:sp>
          <p:nvSpPr>
            <p:cNvPr id="1200" name=""/>
            <p:cNvSpPr/>
            <p:nvPr/>
          </p:nvSpPr>
          <p:spPr>
            <a:xfrm>
              <a:off x="6129360" y="3594240"/>
              <a:ext cx="28447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48428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i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i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um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6097680" y="3924360"/>
              <a:ext cx="270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539120" y="3638520"/>
              <a:ext cx="0" cy="250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ircuits for binary addi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lf adder (add 2 1-bit numb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 = Ai' Bi + Ai Bi' = Ai xor 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t = Ai 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 adder (carry-in to cascade for multi-bit add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 = Ci xor A xor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t = B Ci  +  A Ci  +  A B = Ci (A + B) + A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8820-C5CA-4B76-ACBB-5AB6C70CD14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"/>
          <p:cNvSpPr/>
          <p:nvPr/>
        </p:nvSpPr>
        <p:spPr>
          <a:xfrm>
            <a:off x="4506840" y="3894120"/>
            <a:ext cx="4114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ut = A B + Cin (A xor B) = A B + B Cin + A C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6" name=""/>
          <p:cNvGrpSpPr/>
          <p:nvPr/>
        </p:nvGrpSpPr>
        <p:grpSpPr>
          <a:xfrm>
            <a:off x="4855320" y="1066680"/>
            <a:ext cx="3206160" cy="939600"/>
            <a:chOff x="4855320" y="1066680"/>
            <a:chExt cx="3206160" cy="939600"/>
          </a:xfrm>
        </p:grpSpPr>
        <p:sp>
          <p:nvSpPr>
            <p:cNvPr id="1207" name=""/>
            <p:cNvSpPr/>
            <p:nvPr/>
          </p:nvSpPr>
          <p:spPr>
            <a:xfrm>
              <a:off x="5337720" y="1112400"/>
              <a:ext cx="2404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337360" y="1085400"/>
              <a:ext cx="2408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515200" y="1218960"/>
              <a:ext cx="3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515200" y="1422000"/>
              <a:ext cx="3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477400" y="1112400"/>
              <a:ext cx="20232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855320" y="1112400"/>
              <a:ext cx="14594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930560" y="1085400"/>
              <a:ext cx="13842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477040" y="1085400"/>
              <a:ext cx="2026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518520" y="1506240"/>
              <a:ext cx="25344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518160" y="1491840"/>
              <a:ext cx="2538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696000" y="1625400"/>
              <a:ext cx="5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696000" y="1828440"/>
              <a:ext cx="5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658560" y="1506240"/>
              <a:ext cx="20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023520" y="1506240"/>
              <a:ext cx="147240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6099480" y="1491840"/>
              <a:ext cx="13964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658200" y="1491840"/>
              <a:ext cx="2026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337360" y="12189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064120" y="1066680"/>
              <a:ext cx="254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337360" y="14220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064120" y="1282320"/>
              <a:ext cx="241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518520" y="1625400"/>
              <a:ext cx="17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315120" y="132048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512040" y="132696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518520" y="1828440"/>
              <a:ext cx="17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5337360" y="1828440"/>
              <a:ext cx="116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924440" y="1701360"/>
              <a:ext cx="432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508880" y="17269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699320" y="172692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7820280" y="1574640"/>
              <a:ext cx="241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6" name=""/>
          <p:cNvGrpSpPr/>
          <p:nvPr/>
        </p:nvGrpSpPr>
        <p:grpSpPr>
          <a:xfrm>
            <a:off x="4474080" y="2209680"/>
            <a:ext cx="4476240" cy="1434960"/>
            <a:chOff x="4474080" y="2209680"/>
            <a:chExt cx="4476240" cy="1434960"/>
          </a:xfrm>
        </p:grpSpPr>
        <p:sp>
          <p:nvSpPr>
            <p:cNvPr id="1237" name=""/>
            <p:cNvSpPr/>
            <p:nvPr/>
          </p:nvSpPr>
          <p:spPr>
            <a:xfrm>
              <a:off x="5096160" y="2242800"/>
              <a:ext cx="21528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474080" y="2242800"/>
              <a:ext cx="14724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550040" y="2228760"/>
              <a:ext cx="139644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095800" y="2228760"/>
              <a:ext cx="21564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261040" y="234936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261040" y="255240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340680" y="231120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340680" y="279360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V="1">
              <a:off x="6334200" y="230472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581880" y="2319120"/>
              <a:ext cx="44424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581520" y="2291760"/>
              <a:ext cx="44460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340680" y="31240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340680" y="360648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V="1">
              <a:off x="6334200" y="311760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581880" y="3132000"/>
              <a:ext cx="44424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581520" y="3105720"/>
              <a:ext cx="444600" cy="493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7369560" y="2738160"/>
              <a:ext cx="21528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734520" y="2738160"/>
              <a:ext cx="147240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823440" y="2723760"/>
              <a:ext cx="13834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7369200" y="2723760"/>
              <a:ext cx="2156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7521480" y="28573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7521480" y="30603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149880" y="32637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058000" y="3263760"/>
              <a:ext cx="107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797360" y="3124080"/>
              <a:ext cx="254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058000" y="234936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797360" y="2209680"/>
              <a:ext cx="254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149880" y="34668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058000" y="3466800"/>
              <a:ext cx="107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797360" y="3339720"/>
              <a:ext cx="241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058000" y="255240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810320" y="2425320"/>
              <a:ext cx="241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149880" y="26539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6143760" y="2660400"/>
              <a:ext cx="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058000" y="2857320"/>
              <a:ext cx="107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683240" y="2717640"/>
              <a:ext cx="4824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5946840" y="245088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149880" y="24508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7331040" y="28573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039080" y="25524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7229520" y="25524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324920" y="255888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7331040" y="30603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7039080" y="33652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324920" y="306684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7229520" y="33652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8220240" y="29588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8429760" y="2831760"/>
              <a:ext cx="520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5" name=""/>
          <p:cNvGrpSpPr/>
          <p:nvPr/>
        </p:nvGrpSpPr>
        <p:grpSpPr>
          <a:xfrm>
            <a:off x="1130400" y="4983120"/>
            <a:ext cx="7200360" cy="1226880"/>
            <a:chOff x="1130400" y="4983120"/>
            <a:chExt cx="7200360" cy="1226880"/>
          </a:xfrm>
        </p:grpSpPr>
        <p:sp>
          <p:nvSpPr>
            <p:cNvPr id="1286" name=""/>
            <p:cNvSpPr/>
            <p:nvPr/>
          </p:nvSpPr>
          <p:spPr>
            <a:xfrm>
              <a:off x="1295280" y="5084640"/>
              <a:ext cx="2664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282680" y="5414760"/>
              <a:ext cx="266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238560" y="4983120"/>
              <a:ext cx="736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 xor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305240" y="556092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H="1">
              <a:off x="1530000" y="5897520"/>
              <a:ext cx="276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130400" y="5770440"/>
              <a:ext cx="4316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095880" y="4983120"/>
              <a:ext cx="1155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 xor B xor C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3" name=""/>
            <p:cNvGrpSpPr/>
            <p:nvPr/>
          </p:nvGrpSpPr>
          <p:grpSpPr>
            <a:xfrm>
              <a:off x="4946400" y="5103720"/>
              <a:ext cx="1059840" cy="704880"/>
              <a:chOff x="4946400" y="5103720"/>
              <a:chExt cx="1059840" cy="704880"/>
            </a:xfrm>
          </p:grpSpPr>
          <p:sp>
            <p:nvSpPr>
              <p:cNvPr id="1294" name=""/>
              <p:cNvSpPr/>
              <p:nvPr/>
            </p:nvSpPr>
            <p:spPr>
              <a:xfrm>
                <a:off x="4946400" y="5103720"/>
                <a:ext cx="1053720" cy="685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5206680" y="5198760"/>
                <a:ext cx="596520" cy="48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386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Half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Add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5320800" y="5109840"/>
                <a:ext cx="685440" cy="2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998"/>
                  </a:lnSpc>
                  <a:tabLst>
                    <a:tab algn="l" pos="0"/>
                    <a:tab algn="l" pos="27558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Su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5498640" y="5554440"/>
                <a:ext cx="495000" cy="2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ou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8" name=""/>
            <p:cNvSpPr/>
            <p:nvPr/>
          </p:nvSpPr>
          <p:spPr>
            <a:xfrm>
              <a:off x="3232080" y="5668920"/>
              <a:ext cx="67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956200" y="5440320"/>
              <a:ext cx="1269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in (A xor 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013440" y="5668920"/>
              <a:ext cx="25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3263760" y="5440320"/>
              <a:ext cx="4186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3924360" y="567504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3930480" y="6049800"/>
              <a:ext cx="253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286320" y="567504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292800" y="5859360"/>
              <a:ext cx="190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7505640" y="5071680"/>
              <a:ext cx="825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u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7607160" y="5846400"/>
              <a:ext cx="647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293520" y="5740200"/>
              <a:ext cx="2145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658480" y="5740200"/>
              <a:ext cx="147168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747400" y="5725800"/>
              <a:ext cx="13827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293160" y="5725800"/>
              <a:ext cx="214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6445080" y="5859360"/>
              <a:ext cx="3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000480" y="521172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7130880" y="5960880"/>
              <a:ext cx="545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244680" y="5224320"/>
              <a:ext cx="1688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311360" y="5554440"/>
              <a:ext cx="62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542960" y="5224320"/>
              <a:ext cx="63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555560" y="5554440"/>
              <a:ext cx="62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9" name=""/>
            <p:cNvGrpSpPr/>
            <p:nvPr/>
          </p:nvGrpSpPr>
          <p:grpSpPr>
            <a:xfrm>
              <a:off x="2178000" y="5103720"/>
              <a:ext cx="1059840" cy="704880"/>
              <a:chOff x="2178000" y="5103720"/>
              <a:chExt cx="1059840" cy="704880"/>
            </a:xfrm>
          </p:grpSpPr>
          <p:sp>
            <p:nvSpPr>
              <p:cNvPr id="1320" name=""/>
              <p:cNvSpPr/>
              <p:nvPr/>
            </p:nvSpPr>
            <p:spPr>
              <a:xfrm>
                <a:off x="2178000" y="5103720"/>
                <a:ext cx="1053720" cy="685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2437920" y="5198760"/>
                <a:ext cx="596520" cy="48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386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Half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Add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2552400" y="5109840"/>
                <a:ext cx="685440" cy="2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998"/>
                  </a:lnSpc>
                  <a:tabLst>
                    <a:tab algn="l" pos="0"/>
                    <a:tab algn="l" pos="27558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Su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2729880" y="5554440"/>
                <a:ext cx="495000" cy="2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ou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ull adder implementa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 g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XORs, 2 ANDs, 2 ORs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ernative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 g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lf adder is an XOR gate and AND g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XORs, 2 ANDs, 1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2905200" y="1857240"/>
            <a:ext cx="1728720" cy="613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F2F8-D0AE-4139-AE77-D714A24B1A1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7" name=""/>
          <p:cNvGrpSpPr/>
          <p:nvPr/>
        </p:nvGrpSpPr>
        <p:grpSpPr>
          <a:xfrm>
            <a:off x="447840" y="2589120"/>
            <a:ext cx="8483400" cy="3975120"/>
            <a:chOff x="447840" y="2589120"/>
            <a:chExt cx="8483400" cy="3975120"/>
          </a:xfrm>
        </p:grpSpPr>
        <p:sp>
          <p:nvSpPr>
            <p:cNvPr id="1328" name=""/>
            <p:cNvSpPr/>
            <p:nvPr/>
          </p:nvSpPr>
          <p:spPr>
            <a:xfrm>
              <a:off x="6073920" y="4201920"/>
              <a:ext cx="228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543720" y="4189320"/>
              <a:ext cx="2412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972040" y="4532400"/>
              <a:ext cx="5842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137280" y="4875120"/>
              <a:ext cx="6094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188040" y="4532400"/>
              <a:ext cx="71136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3686040" y="3262320"/>
              <a:ext cx="2160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927600" y="3262320"/>
              <a:ext cx="228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7712280" y="4417920"/>
              <a:ext cx="121896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dd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ubtra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023160" y="2589120"/>
              <a:ext cx="4060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365880" y="2589120"/>
              <a:ext cx="3938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594480" y="2589120"/>
              <a:ext cx="444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0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835680" y="3249720"/>
              <a:ext cx="5335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0" name=""/>
            <p:cNvGrpSpPr/>
            <p:nvPr/>
          </p:nvGrpSpPr>
          <p:grpSpPr>
            <a:xfrm>
              <a:off x="1317960" y="4843440"/>
              <a:ext cx="381960" cy="1574640"/>
              <a:chOff x="1317960" y="4843440"/>
              <a:chExt cx="381960" cy="1574640"/>
            </a:xfrm>
          </p:grpSpPr>
          <p:sp>
            <p:nvSpPr>
              <p:cNvPr id="1341" name=""/>
              <p:cNvSpPr/>
              <p:nvPr/>
            </p:nvSpPr>
            <p:spPr>
              <a:xfrm>
                <a:off x="1317960" y="5301360"/>
                <a:ext cx="367560" cy="252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1319400" y="5301360"/>
                <a:ext cx="380520" cy="252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1590840" y="5465520"/>
                <a:ext cx="0" cy="51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1413000" y="5465520"/>
                <a:ext cx="0" cy="51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1343520" y="5440320"/>
                <a:ext cx="342000" cy="215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1317960" y="4843440"/>
                <a:ext cx="367560" cy="140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1319400" y="4919760"/>
                <a:ext cx="380520" cy="1333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1319400" y="5440320"/>
                <a:ext cx="380520" cy="215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1590840" y="5300640"/>
                <a:ext cx="0" cy="190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1413000" y="5300640"/>
                <a:ext cx="0" cy="190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1501920" y="6253200"/>
                <a:ext cx="0" cy="164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2" name=""/>
            <p:cNvSpPr/>
            <p:nvPr/>
          </p:nvSpPr>
          <p:spPr>
            <a:xfrm>
              <a:off x="1413000" y="4691160"/>
              <a:ext cx="0" cy="81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596960" y="5294160"/>
              <a:ext cx="140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47840" y="5967360"/>
              <a:ext cx="10033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fl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978520" y="42210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435720" y="330660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200640" y="2849400"/>
              <a:ext cx="0" cy="135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657840" y="37638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6429240" y="5135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 flipH="1">
              <a:off x="5508360" y="46720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 flipH="1">
              <a:off x="6880320" y="4672080"/>
              <a:ext cx="81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6543720" y="2849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772320" y="2849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 flipH="1">
              <a:off x="6879960" y="35290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7343640" y="3535200"/>
              <a:ext cx="0" cy="113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702320" y="4201920"/>
              <a:ext cx="228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172120" y="4189320"/>
              <a:ext cx="2412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4600440" y="4532400"/>
              <a:ext cx="5842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4765680" y="4875120"/>
              <a:ext cx="6094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4816440" y="4532400"/>
              <a:ext cx="71136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651560" y="2589120"/>
              <a:ext cx="4060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994280" y="2589120"/>
              <a:ext cx="3938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222880" y="2589120"/>
              <a:ext cx="444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1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464080" y="3249720"/>
              <a:ext cx="5335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4606920" y="42210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064120" y="330660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4829040" y="2849400"/>
              <a:ext cx="0" cy="135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286240" y="37638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057640" y="5135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 flipH="1">
              <a:off x="4136760" y="46720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172120" y="2849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400720" y="2849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 flipH="1">
              <a:off x="5508360" y="35290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972040" y="35352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H="1">
              <a:off x="3210120" y="3986280"/>
              <a:ext cx="414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3330720" y="4201920"/>
              <a:ext cx="228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800520" y="4189320"/>
              <a:ext cx="2412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228840" y="4532400"/>
              <a:ext cx="5842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3394080" y="4875120"/>
              <a:ext cx="6094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444840" y="4532400"/>
              <a:ext cx="71136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3279960" y="2589120"/>
              <a:ext cx="4060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3622680" y="2589120"/>
              <a:ext cx="3938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3851280" y="2589120"/>
              <a:ext cx="444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2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4092480" y="3249720"/>
              <a:ext cx="5335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3235320" y="42210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692520" y="330660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457440" y="2849400"/>
              <a:ext cx="0" cy="135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3914640" y="37638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3686040" y="5135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H="1">
              <a:off x="2765160" y="46720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3800520" y="2849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029120" y="2849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H="1">
              <a:off x="4136760" y="35290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4600440" y="35352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057640" y="3274920"/>
              <a:ext cx="2160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299200" y="3274920"/>
              <a:ext cx="228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6429240" y="3274920"/>
              <a:ext cx="2160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6670800" y="3274920"/>
              <a:ext cx="228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301840" y="3313080"/>
              <a:ext cx="2160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543040" y="3313080"/>
              <a:ext cx="228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1946160" y="4227480"/>
              <a:ext cx="228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416320" y="4227480"/>
              <a:ext cx="2412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1844640" y="4570200"/>
              <a:ext cx="5842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009880" y="4913280"/>
              <a:ext cx="6094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060640" y="4570200"/>
              <a:ext cx="7110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895400" y="2627280"/>
              <a:ext cx="4064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238480" y="2627280"/>
              <a:ext cx="3934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467080" y="2627280"/>
              <a:ext cx="444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3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2708280" y="3198600"/>
              <a:ext cx="5335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863720" y="42210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2320920" y="330660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2085840" y="2849400"/>
              <a:ext cx="0" cy="135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2543040" y="37638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2314440" y="5135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 flipH="1">
              <a:off x="1393560" y="46720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2428920" y="2849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2657520" y="2849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 flipH="1">
              <a:off x="2765160" y="35290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3228840" y="35352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2124000" y="5522760"/>
              <a:ext cx="4064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3495600" y="5535720"/>
              <a:ext cx="4064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4867200" y="5535720"/>
              <a:ext cx="4064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6251760" y="5535720"/>
              <a:ext cx="4060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3013200" y="46782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dder/subtracto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an adder to do subtraction thanks to 2s complement re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– B  =   A + (– B)   =   A + B' +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signal selects B or 2s complement of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8877-F741-4B45-BDE1-D03E38BB635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7" name=""/>
          <p:cNvGrpSpPr/>
          <p:nvPr/>
        </p:nvGrpSpPr>
        <p:grpSpPr>
          <a:xfrm>
            <a:off x="368280" y="2878200"/>
            <a:ext cx="4559400" cy="2599920"/>
            <a:chOff x="368280" y="2878200"/>
            <a:chExt cx="4559400" cy="2599920"/>
          </a:xfrm>
        </p:grpSpPr>
        <p:sp>
          <p:nvSpPr>
            <p:cNvPr id="1438" name=""/>
            <p:cNvSpPr/>
            <p:nvPr/>
          </p:nvSpPr>
          <p:spPr>
            <a:xfrm>
              <a:off x="1302120" y="2997000"/>
              <a:ext cx="20232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730440" y="2997000"/>
              <a:ext cx="134568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806400" y="2995920"/>
              <a:ext cx="1269720" cy="41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301760" y="2995920"/>
              <a:ext cx="202680" cy="41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1352520" y="309060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1352520" y="326844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432160" y="306540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432160" y="351000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 flipV="1">
              <a:off x="2425680" y="3058560"/>
              <a:ext cx="0" cy="45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648520" y="3073320"/>
              <a:ext cx="418320" cy="46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2648160" y="3059280"/>
              <a:ext cx="418680" cy="456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2432160" y="380196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2432160" y="423360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V="1">
              <a:off x="2425680" y="37954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648520" y="3809880"/>
              <a:ext cx="418320" cy="456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648160" y="3783600"/>
              <a:ext cx="418680" cy="46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3359520" y="3454200"/>
              <a:ext cx="20232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787840" y="3454200"/>
              <a:ext cx="134568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2863800" y="3440160"/>
              <a:ext cx="126972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3359160" y="3440160"/>
              <a:ext cx="20268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3511440" y="3560760"/>
              <a:ext cx="1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3511440" y="3738600"/>
              <a:ext cx="1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2254320" y="392904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1263600" y="3929040"/>
              <a:ext cx="97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977760" y="3801960"/>
              <a:ext cx="241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1263600" y="31035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977760" y="2976480"/>
              <a:ext cx="241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2254320" y="41068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1263600" y="4106880"/>
              <a:ext cx="97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977760" y="3979800"/>
              <a:ext cx="24156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1263600" y="32814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977760" y="3166920"/>
              <a:ext cx="241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2273400" y="3369960"/>
              <a:ext cx="1458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2247840" y="3348000"/>
              <a:ext cx="0" cy="186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1282680" y="3560760"/>
              <a:ext cx="9968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711360" y="3433680"/>
              <a:ext cx="5331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2076480" y="31924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2254320" y="31924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3292560" y="3560760"/>
              <a:ext cx="2509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3086280" y="3281400"/>
              <a:ext cx="231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3314880" y="3259080"/>
              <a:ext cx="0" cy="304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3333600" y="3738600"/>
              <a:ext cx="22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3054240" y="40179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3327480" y="374472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3232080" y="401796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133880" y="36496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317840" y="3497040"/>
              <a:ext cx="457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368280" y="2912760"/>
              <a:ext cx="533520" cy="63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@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@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368280" y="3738600"/>
              <a:ext cx="55872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@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@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368280" y="3458880"/>
              <a:ext cx="4827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@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2044800" y="2963880"/>
              <a:ext cx="43164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@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3124080" y="4093920"/>
              <a:ext cx="444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@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3124080" y="2878200"/>
              <a:ext cx="6098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@N+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292640" y="3674880"/>
              <a:ext cx="6350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@N+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533520" y="4665600"/>
              <a:ext cx="99036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rriv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2959200" y="4741560"/>
              <a:ext cx="186696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wo gate delay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o compute C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 flipV="1">
              <a:off x="1143000" y="3598200"/>
              <a:ext cx="419040" cy="1091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 flipV="1">
              <a:off x="4000680" y="3903120"/>
              <a:ext cx="520560" cy="850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6" name=""/>
          <p:cNvGrpSpPr/>
          <p:nvPr/>
        </p:nvGrpSpPr>
        <p:grpSpPr>
          <a:xfrm>
            <a:off x="4997520" y="1703520"/>
            <a:ext cx="4054320" cy="4022280"/>
            <a:chOff x="4997520" y="1703520"/>
            <a:chExt cx="4054320" cy="4022280"/>
          </a:xfrm>
        </p:grpSpPr>
        <p:sp>
          <p:nvSpPr>
            <p:cNvPr id="1497" name=""/>
            <p:cNvSpPr/>
            <p:nvPr/>
          </p:nvSpPr>
          <p:spPr>
            <a:xfrm>
              <a:off x="7489800" y="1935000"/>
              <a:ext cx="95256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 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d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4997520" y="2430360"/>
              <a:ext cx="31752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997520" y="2646360"/>
              <a:ext cx="31752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5724360" y="1703520"/>
              <a:ext cx="432000" cy="4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562800" y="2440080"/>
              <a:ext cx="64764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 @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5587920" y="3332160"/>
              <a:ext cx="31752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5587920" y="3560760"/>
              <a:ext cx="31752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550200" y="2681280"/>
              <a:ext cx="78732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1 @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7147080" y="3367080"/>
              <a:ext cx="9270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 @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159600" y="4246560"/>
              <a:ext cx="31752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159600" y="4475160"/>
              <a:ext cx="31752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7134120" y="3595680"/>
              <a:ext cx="102888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2 @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7705800" y="4281480"/>
              <a:ext cx="761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 @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718320" y="514800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718320" y="537660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7718400" y="4510080"/>
              <a:ext cx="83808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3 @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8264520" y="5195880"/>
              <a:ext cx="64764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 @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8264520" y="5437080"/>
              <a:ext cx="78732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ut @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5705640" y="2297160"/>
              <a:ext cx="457200" cy="685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5362560" y="25192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5362560" y="27478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5927760" y="1954080"/>
              <a:ext cx="0" cy="32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162840" y="25192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162840" y="27478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6499080" y="275436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6276960" y="3211560"/>
              <a:ext cx="457200" cy="685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5934240" y="34336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5934240" y="36622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734160" y="34336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734160" y="36622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7070760" y="366876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6848640" y="4125960"/>
              <a:ext cx="457200" cy="685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505560" y="43480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6505560" y="45766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7305840" y="43480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7305840" y="45766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7642080" y="458316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7419960" y="5040360"/>
              <a:ext cx="457200" cy="685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7077240" y="52624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7077240" y="54910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7877160" y="52624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7877160" y="54910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ipple-carry adde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tical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pagation of carry from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to high order st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3E56-6E32-4805-8EDF-7A3ACEB2408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1" name="" descr=""/>
          <p:cNvPicPr/>
          <p:nvPr/>
        </p:nvPicPr>
        <p:blipFill>
          <a:blip r:embed="rId1"/>
          <a:stretch/>
        </p:blipFill>
        <p:spPr>
          <a:xfrm>
            <a:off x="1152360" y="3219480"/>
            <a:ext cx="7048800" cy="2882880"/>
          </a:xfrm>
          <a:prstGeom prst="rect">
            <a:avLst/>
          </a:prstGeom>
          <a:ln w="0">
            <a:noFill/>
          </a:ln>
        </p:spPr>
      </p:pic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ipple-carry adder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tical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pagation of carry from low to high order st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11 + 0001 is the worst case ad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y must propagate through all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3D6D-B527-4C08-9420-AB953C48153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rry-lookahead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30824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ry generate:  Gi = Ai B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116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30824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generate carry when A = B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30824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ry propagate:  Pi = Ai xor B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116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30824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y-in will equal carry-ou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30824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 and Cout can be re-expressed in terms of generate/propaga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116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30824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Ai xor Bi xor Ci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Pi xor 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116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30824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+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Ai Bi + Ai Ci + Bi Ci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Ai Bi + Ci (Ai + Bi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Ai Bi + Ci (Ai xor Bi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Gi + Ci 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30CF-828D-4520-A182-02F5B22128C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rry-lookahead logic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46288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express the carry logic as follow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1 = G0 + P0 C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2 = G1 + P1 C1 = G1 + P1 G0 + P1 P0 C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3 = G2 + P2 C2 = G2 + P2 G1 + P2 P1 G0 + P2 P1 P0 C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4 = G3 + P3 C3 = G3 + P3 G2 + P3 P2 G1 + P3 P2 P1 G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+ P3 P2 P1 P0 C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of the carry equations can be implemented with two-leve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inputs are now directly derived from data inputs and not from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mediate car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allows computation of all sum outputs to proceed in parall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AFBB-AC0F-4FC7-8DE0-CA523DA3967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5203800" y="2583000"/>
            <a:ext cx="384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568920" y="2297160"/>
            <a:ext cx="0" cy="3720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235480" y="2278080"/>
            <a:ext cx="389916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3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4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5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ormalize the probl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uth 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don't c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oose implementation targ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ROM, we are 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't cares imply PAL/PL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be attra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llow implementation proced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ization using K-m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A344-91A6-49A6-A7FC-A4292EB1900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"/>
          <p:cNvSpPr/>
          <p:nvPr/>
        </p:nvSpPr>
        <p:spPr>
          <a:xfrm>
            <a:off x="6230880" y="5757840"/>
            <a:ext cx="368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861840" y="387360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861840" y="4229280"/>
            <a:ext cx="33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 flipV="1">
            <a:off x="855720" y="38667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1027440" y="3881520"/>
            <a:ext cx="316800" cy="36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1027080" y="3879720"/>
            <a:ext cx="317160" cy="35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1509840" y="3970440"/>
            <a:ext cx="15192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1065240" y="3970440"/>
            <a:ext cx="1041120" cy="34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1128960" y="3956400"/>
            <a:ext cx="977400" cy="3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1509480" y="3956400"/>
            <a:ext cx="152280" cy="3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1623960" y="403848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1623960" y="419112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861840" y="481320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861840" y="5168880"/>
            <a:ext cx="33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855720" y="4819680"/>
            <a:ext cx="0" cy="34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1027440" y="4821120"/>
            <a:ext cx="316800" cy="36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1027080" y="4819680"/>
            <a:ext cx="317160" cy="35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861840" y="525780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861840" y="5600880"/>
            <a:ext cx="33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 flipV="1">
            <a:off x="855720" y="525132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1027440" y="5265720"/>
            <a:ext cx="316800" cy="36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1027080" y="5238720"/>
            <a:ext cx="31716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1052640" y="5278320"/>
            <a:ext cx="1028160" cy="34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1103400" y="5263920"/>
            <a:ext cx="97740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1496880" y="5263920"/>
            <a:ext cx="15228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1617840" y="54356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1497240" y="5278320"/>
            <a:ext cx="15192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3678120" y="402588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3678120" y="4368960"/>
            <a:ext cx="33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 flipV="1">
            <a:off x="3672000" y="401940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3672000" y="3905280"/>
            <a:ext cx="0" cy="57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3843720" y="4033800"/>
            <a:ext cx="316800" cy="35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3843360" y="4007160"/>
            <a:ext cx="317160" cy="36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3678120" y="459756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3678120" y="4952880"/>
            <a:ext cx="33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3672000" y="4603680"/>
            <a:ext cx="0" cy="34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3843720" y="4605480"/>
            <a:ext cx="316800" cy="36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3843360" y="4590720"/>
            <a:ext cx="317160" cy="36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3678120" y="510552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3678120" y="5460840"/>
            <a:ext cx="33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 flipV="1">
            <a:off x="3672000" y="50986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3843720" y="5113440"/>
            <a:ext cx="316800" cy="36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3843360" y="5099400"/>
            <a:ext cx="317160" cy="36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4148640" y="5062680"/>
            <a:ext cx="977040" cy="3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4594320" y="5062680"/>
            <a:ext cx="9792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4148280" y="5036040"/>
            <a:ext cx="977400" cy="34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4593960" y="5036040"/>
            <a:ext cx="98280" cy="34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4643280" y="5143680"/>
            <a:ext cx="1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4643280" y="5295960"/>
            <a:ext cx="1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 flipV="1">
            <a:off x="4637160" y="5365440"/>
            <a:ext cx="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4637160" y="49338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6688080" y="354492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6688080" y="3900600"/>
            <a:ext cx="33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6853680" y="3552840"/>
            <a:ext cx="316800" cy="36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6853320" y="3538800"/>
            <a:ext cx="317160" cy="36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6681960" y="3360600"/>
            <a:ext cx="0" cy="72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6688080" y="426888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6688080" y="4624560"/>
            <a:ext cx="33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 flipV="1">
            <a:off x="6681960" y="42620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6681960" y="4160880"/>
            <a:ext cx="0" cy="58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6853680" y="4276800"/>
            <a:ext cx="316800" cy="36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6853320" y="4275000"/>
            <a:ext cx="317160" cy="35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6688080" y="485316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6688080" y="5208480"/>
            <a:ext cx="33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6681960" y="4859280"/>
            <a:ext cx="0" cy="34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6853680" y="4861080"/>
            <a:ext cx="31680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6853320" y="4846320"/>
            <a:ext cx="317160" cy="36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6688080" y="529740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6688080" y="5653080"/>
            <a:ext cx="33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 flipV="1">
            <a:off x="6681960" y="529092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6853680" y="5305320"/>
            <a:ext cx="316800" cy="36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6853320" y="5290920"/>
            <a:ext cx="317160" cy="36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7209000" y="5151960"/>
            <a:ext cx="1015560" cy="34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7209360" y="5178600"/>
            <a:ext cx="1015200" cy="3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7641360" y="5178600"/>
            <a:ext cx="1512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7641000" y="5151960"/>
            <a:ext cx="151560" cy="34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7710480" y="4973760"/>
            <a:ext cx="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 flipV="1">
            <a:off x="7710480" y="548136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7716960" y="5322960"/>
            <a:ext cx="6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6548400" y="34304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6237360" y="3328920"/>
            <a:ext cx="368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3538440" y="39751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3290760" y="3860640"/>
            <a:ext cx="393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722160" y="48513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423720" y="4749840"/>
            <a:ext cx="3430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722160" y="39751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423720" y="3873600"/>
            <a:ext cx="3430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6548400" y="35701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6237360" y="3481560"/>
            <a:ext cx="3682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3538440" y="411480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3290760" y="4013280"/>
            <a:ext cx="3938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722160" y="49910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423720" y="4902120"/>
            <a:ext cx="3430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722160" y="411480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423720" y="4025880"/>
            <a:ext cx="3430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1344600" y="40384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1484280" y="40384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548400" y="42307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6237360" y="4141800"/>
            <a:ext cx="368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3538440" y="46353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3290760" y="4521240"/>
            <a:ext cx="3938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722160" y="53593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423720" y="5270400"/>
            <a:ext cx="3430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1484280" y="41911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1477800" y="4197240"/>
            <a:ext cx="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722160" y="4330800"/>
            <a:ext cx="749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423720" y="4241880"/>
            <a:ext cx="3430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2093760" y="411480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2241720" y="4064040"/>
            <a:ext cx="7524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1 @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6548400" y="438300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6237360" y="4313160"/>
            <a:ext cx="368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6548400" y="37227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6237360" y="3637080"/>
            <a:ext cx="3682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3538440" y="47750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3290760" y="4673520"/>
            <a:ext cx="393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3538440" y="42670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3290760" y="4152960"/>
            <a:ext cx="3938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722160" y="51436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423720" y="5054760"/>
            <a:ext cx="3430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722160" y="55119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423720" y="5410080"/>
            <a:ext cx="3430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1484280" y="52959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344600" y="49910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1477800" y="499752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1344600" y="54356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1484280" y="54356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6548400" y="48909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6237360" y="4802040"/>
            <a:ext cx="368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3538440" y="52196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3290760" y="5105520"/>
            <a:ext cx="3938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1484280" y="55753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1477800" y="5581800"/>
            <a:ext cx="0" cy="27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722160" y="5867280"/>
            <a:ext cx="749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423720" y="5765760"/>
            <a:ext cx="3430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2093760" y="54356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2241720" y="5384880"/>
            <a:ext cx="8110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2  @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6548400" y="50306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6237360" y="4957920"/>
            <a:ext cx="3682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6548400" y="45226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6237360" y="4465800"/>
            <a:ext cx="3682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6548400" y="38624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6237360" y="3773520"/>
            <a:ext cx="3682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3538440" y="53593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3290760" y="5257800"/>
            <a:ext cx="393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3538440" y="49276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3290760" y="4813200"/>
            <a:ext cx="393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3538440" y="44067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3290760" y="4305240"/>
            <a:ext cx="393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4503600" y="49910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4160880" y="41911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4300560" y="419112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4497480" y="4197240"/>
            <a:ext cx="0" cy="78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4503600" y="51436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4160880" y="47750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4300560" y="4775040"/>
            <a:ext cx="5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4357800" y="478152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4363920" y="51436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4503600" y="52959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4160880" y="52959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4300560" y="529596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6548400" y="53989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6237360" y="5329080"/>
            <a:ext cx="368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4503600" y="54356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4497480" y="5442120"/>
            <a:ext cx="0" cy="26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3538440" y="5715000"/>
            <a:ext cx="95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3290760" y="5613480"/>
            <a:ext cx="3938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5126040" y="52196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5275440" y="5156280"/>
            <a:ext cx="807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3 @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6548400" y="55389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6237360" y="5481720"/>
            <a:ext cx="3682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6548400" y="51703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6237360" y="5097600"/>
            <a:ext cx="3682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6548400" y="46753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6237360" y="4637160"/>
            <a:ext cx="3682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6548400" y="40147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6237360" y="3944880"/>
            <a:ext cx="368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7589880" y="50306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7170840" y="3722760"/>
            <a:ext cx="12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7310520" y="372276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7583400" y="372888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7589880" y="54626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7170840" y="5462640"/>
            <a:ext cx="12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7310520" y="546264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7170840" y="4446720"/>
            <a:ext cx="12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7589880" y="51703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7310520" y="44467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7450200" y="51703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7443720" y="4452840"/>
            <a:ext cx="0" cy="71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7170840" y="5030640"/>
            <a:ext cx="12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7589880" y="53229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7310520" y="532296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7304040" y="5037120"/>
            <a:ext cx="0" cy="27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7589880" y="56149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7583400" y="5621400"/>
            <a:ext cx="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6548400" y="5830920"/>
            <a:ext cx="102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8211960" y="53229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8375760" y="5259240"/>
            <a:ext cx="693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4 @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5" name=""/>
          <p:cNvGrpSpPr/>
          <p:nvPr/>
        </p:nvGrpSpPr>
        <p:grpSpPr>
          <a:xfrm>
            <a:off x="885960" y="2070000"/>
            <a:ext cx="4660920" cy="1315440"/>
            <a:chOff x="885960" y="2070000"/>
            <a:chExt cx="4660920" cy="1315440"/>
          </a:xfrm>
        </p:grpSpPr>
        <p:sp>
          <p:nvSpPr>
            <p:cNvPr id="1746" name=""/>
            <p:cNvSpPr/>
            <p:nvPr/>
          </p:nvSpPr>
          <p:spPr>
            <a:xfrm>
              <a:off x="2492640" y="2522520"/>
              <a:ext cx="22824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2492280" y="2495160"/>
              <a:ext cx="228600" cy="3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2657520" y="26035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2657520" y="27684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2620080" y="2522520"/>
              <a:ext cx="189360" cy="32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2061000" y="2522520"/>
              <a:ext cx="129456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2136960" y="2495160"/>
              <a:ext cx="1218600" cy="3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2619720" y="2495160"/>
              <a:ext cx="189720" cy="3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1451880" y="2103480"/>
              <a:ext cx="21456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1451520" y="2102040"/>
              <a:ext cx="21492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1603440" y="21970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1603440" y="23619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1565280" y="2103480"/>
              <a:ext cx="203040" cy="34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1019160" y="2103480"/>
              <a:ext cx="129528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1083240" y="2102040"/>
              <a:ext cx="123120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1564920" y="2102040"/>
              <a:ext cx="20340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1793880" y="297180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1793880" y="336528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V="1">
              <a:off x="1787760" y="296496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2010240" y="2979720"/>
              <a:ext cx="39312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2009880" y="2977920"/>
              <a:ext cx="39348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2327400" y="22860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2479680" y="2266920"/>
              <a:ext cx="25560" cy="381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2492640" y="260352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2486160" y="229212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2492640" y="2286000"/>
              <a:ext cx="104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3552840" y="2158920"/>
              <a:ext cx="1994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i @ 1 gate del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2492640" y="276840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1184400" y="276840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885960" y="2654280"/>
              <a:ext cx="3808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3368880" y="26794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3540240" y="2565360"/>
              <a:ext cx="18669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i @ 2 gate delay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1451160" y="236196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1425600" y="2355840"/>
              <a:ext cx="38160" cy="25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1629000" y="30985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1451160" y="309852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1444680" y="2368440"/>
              <a:ext cx="0" cy="72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1184400" y="236196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885960" y="2247840"/>
              <a:ext cx="4064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1451160" y="21970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1629000" y="32637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1184400" y="219708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1260720" y="2190600"/>
              <a:ext cx="25200" cy="25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1273320" y="21970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1273320" y="3263760"/>
              <a:ext cx="34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1266840" y="2203200"/>
              <a:ext cx="0" cy="105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885960" y="2070000"/>
              <a:ext cx="6984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2403720" y="317484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2581200" y="3174840"/>
              <a:ext cx="95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3565800" y="3047760"/>
              <a:ext cx="195552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i @ 1 gate del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6" name=""/>
          <p:cNvSpPr/>
          <p:nvPr/>
        </p:nvSpPr>
        <p:spPr>
          <a:xfrm>
            <a:off x="6338880" y="2233440"/>
            <a:ext cx="255276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creasingly complex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 for car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7837560" y="2724120"/>
            <a:ext cx="27000" cy="228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rry-lookahead implement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er with propagate and generate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3A06-57D5-4FC2-A49F-8F724750FAF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0" name=""/>
          <p:cNvGrpSpPr/>
          <p:nvPr/>
        </p:nvGrpSpPr>
        <p:grpSpPr>
          <a:xfrm>
            <a:off x="900000" y="2498760"/>
            <a:ext cx="3911760" cy="4019400"/>
            <a:chOff x="900000" y="2498760"/>
            <a:chExt cx="3911760" cy="4019400"/>
          </a:xfrm>
        </p:grpSpPr>
        <p:sp>
          <p:nvSpPr>
            <p:cNvPr id="1801" name=""/>
            <p:cNvSpPr/>
            <p:nvPr/>
          </p:nvSpPr>
          <p:spPr>
            <a:xfrm>
              <a:off x="900000" y="322272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900000" y="343872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1548000" y="2498760"/>
              <a:ext cx="4316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2322720" y="3184560"/>
              <a:ext cx="6476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 @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1459080" y="412452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1459080" y="435312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2309760" y="3425760"/>
              <a:ext cx="7876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 @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2906640" y="4111560"/>
              <a:ext cx="9273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 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2030400" y="503892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2030400" y="526752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2894040" y="4340160"/>
              <a:ext cx="10288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2 @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3465720" y="5025960"/>
              <a:ext cx="7617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 @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2589120" y="594036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2589120" y="616896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3478320" y="5254560"/>
              <a:ext cx="8380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3 @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4024440" y="5940360"/>
              <a:ext cx="6476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 @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4024440" y="6181920"/>
              <a:ext cx="7873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ut @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1528920" y="308916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1185840" y="33116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1185840" y="35402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1751040" y="274644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1986120" y="33116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1986120" y="35402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2322720" y="354636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2100240" y="400356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1757520" y="42260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1757520" y="44546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2557440" y="42260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2557440" y="44546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2894040" y="446076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2671920" y="491796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2328840" y="51404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2328840" y="53690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3129120" y="51404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3129120" y="53690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3465720" y="537516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3243240" y="583236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2900520" y="60548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2900520" y="62834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3700440" y="60548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3700440" y="62834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2" name=""/>
          <p:cNvGrpSpPr/>
          <p:nvPr/>
        </p:nvGrpSpPr>
        <p:grpSpPr>
          <a:xfrm>
            <a:off x="5805360" y="2203560"/>
            <a:ext cx="3209760" cy="3962160"/>
            <a:chOff x="5805360" y="2203560"/>
            <a:chExt cx="3209760" cy="3962160"/>
          </a:xfrm>
        </p:grpSpPr>
        <p:sp>
          <p:nvSpPr>
            <p:cNvPr id="1843" name=""/>
            <p:cNvSpPr/>
            <p:nvPr/>
          </p:nvSpPr>
          <p:spPr>
            <a:xfrm>
              <a:off x="6500520" y="254628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6503760" y="277488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6414840" y="2203560"/>
              <a:ext cx="4320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8075520" y="2558880"/>
              <a:ext cx="6476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 @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6529320" y="347328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6529320" y="368928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6008400" y="3130560"/>
              <a:ext cx="7876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 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8088120" y="3473280"/>
              <a:ext cx="9270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 @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6529320" y="437508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6516360" y="461628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5805360" y="4032360"/>
              <a:ext cx="1028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2 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8075520" y="4387680"/>
              <a:ext cx="7617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 @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6529320" y="528948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6535440" y="553068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5995800" y="4959360"/>
              <a:ext cx="8380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3 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8062920" y="5302080"/>
              <a:ext cx="6476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 @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7224480" y="242244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6881760" y="26445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6881760" y="28731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7446960" y="230832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7681680" y="26445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7224480" y="333684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6881760" y="35589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6881760" y="37875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7681680" y="35589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7224480" y="425124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6881760" y="44733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6881760" y="47019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7681680" y="44733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7224480" y="516564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6881760" y="53877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6881760" y="56163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7681680" y="53877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 flipH="1">
              <a:off x="6868440" y="2301840"/>
              <a:ext cx="58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7446960" y="322272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 flipH="1">
              <a:off x="6868440" y="3216240"/>
              <a:ext cx="58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7446960" y="413712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 flipH="1">
              <a:off x="6868440" y="4130640"/>
              <a:ext cx="58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7446960" y="505152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 flipH="1">
              <a:off x="6868440" y="5045040"/>
              <a:ext cx="58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5970600" y="5886360"/>
              <a:ext cx="8380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4 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 flipH="1">
              <a:off x="6868440" y="595944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8075520" y="5886360"/>
              <a:ext cx="8380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4 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rry-lookahead implementation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y-lookahead logic generates individual car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ms computed much more quickly in parall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ever, cost of carry logic increases with more st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200E-31DC-4B6A-BD68-230D5C6730A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8" name=""/>
          <p:cNvGrpSpPr/>
          <p:nvPr/>
        </p:nvGrpSpPr>
        <p:grpSpPr>
          <a:xfrm>
            <a:off x="361800" y="2838240"/>
            <a:ext cx="8642520" cy="3657960"/>
            <a:chOff x="361800" y="2838240"/>
            <a:chExt cx="8642520" cy="3657960"/>
          </a:xfrm>
        </p:grpSpPr>
        <p:sp>
          <p:nvSpPr>
            <p:cNvPr id="1889" name=""/>
            <p:cNvSpPr/>
            <p:nvPr/>
          </p:nvSpPr>
          <p:spPr>
            <a:xfrm>
              <a:off x="3822840" y="5524560"/>
              <a:ext cx="17143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ookahead Carry Un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8458200" y="5397480"/>
              <a:ext cx="4572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7531200" y="5130720"/>
              <a:ext cx="3934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7975440" y="5130720"/>
              <a:ext cx="4194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5473800" y="5130720"/>
              <a:ext cx="3301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5931000" y="5130720"/>
              <a:ext cx="342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3403440" y="5130720"/>
              <a:ext cx="3430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873600" y="5130720"/>
              <a:ext cx="3556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1320840" y="5130720"/>
              <a:ext cx="4190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1739880" y="5130720"/>
              <a:ext cx="4827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2463840" y="5143680"/>
              <a:ext cx="4190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4572000" y="5130720"/>
              <a:ext cx="3301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6566040" y="5130720"/>
              <a:ext cx="4442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7912080" y="5460840"/>
              <a:ext cx="49536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6286680" y="5854680"/>
              <a:ext cx="5205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3-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6730920" y="5854680"/>
              <a:ext cx="5461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3-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851040" y="5473800"/>
              <a:ext cx="5713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8128080" y="4635360"/>
              <a:ext cx="4190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7670880" y="4635360"/>
              <a:ext cx="48240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6743880" y="4800600"/>
              <a:ext cx="4572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6045120" y="4635360"/>
              <a:ext cx="53352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5587920" y="4635360"/>
              <a:ext cx="36828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4699080" y="4800600"/>
              <a:ext cx="3682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4000680" y="4635360"/>
              <a:ext cx="45720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543480" y="4635360"/>
              <a:ext cx="36828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2641680" y="4788000"/>
              <a:ext cx="3934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1955880" y="4622760"/>
              <a:ext cx="5842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1498680" y="4635360"/>
              <a:ext cx="38088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457200" y="5575320"/>
              <a:ext cx="4316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6997680" y="6058080"/>
              <a:ext cx="4320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6527880" y="6058080"/>
              <a:ext cx="4446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8394840" y="5575320"/>
              <a:ext cx="6094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469800" y="5410080"/>
              <a:ext cx="5461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851040" y="3301920"/>
              <a:ext cx="7999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[15-12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1447920" y="3301920"/>
              <a:ext cx="7873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[15-12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2324160" y="3467160"/>
              <a:ext cx="533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698400" y="4406760"/>
              <a:ext cx="76212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[15-12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2895480" y="3301920"/>
              <a:ext cx="6606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[11-8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3632040" y="3301920"/>
              <a:ext cx="6480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[11-8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4394160" y="3467160"/>
              <a:ext cx="5842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2641680" y="4406760"/>
              <a:ext cx="95256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[11-8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4940280" y="3301920"/>
              <a:ext cx="558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[7-4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753160" y="3301920"/>
              <a:ext cx="5713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[7-4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6438960" y="3467160"/>
              <a:ext cx="4698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800600" y="4406760"/>
              <a:ext cx="72396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[7-4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4915080" y="4572000"/>
              <a:ext cx="4950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2844720" y="4559400"/>
              <a:ext cx="5461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851040" y="4572000"/>
              <a:ext cx="4572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7023240" y="3301920"/>
              <a:ext cx="6476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[3-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7797960" y="3301920"/>
              <a:ext cx="6094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[3-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8521560" y="3467160"/>
              <a:ext cx="3304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6946920" y="4406760"/>
              <a:ext cx="60948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[3-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8508960" y="3632040"/>
              <a:ext cx="36828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7035840" y="4572000"/>
              <a:ext cx="4446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3" name=""/>
            <p:cNvGrpSpPr/>
            <p:nvPr/>
          </p:nvGrpSpPr>
          <p:grpSpPr>
            <a:xfrm>
              <a:off x="7023240" y="2838240"/>
              <a:ext cx="1822320" cy="1612800"/>
              <a:chOff x="7023240" y="2838240"/>
              <a:chExt cx="1822320" cy="1612800"/>
            </a:xfrm>
          </p:grpSpPr>
          <p:sp>
            <p:nvSpPr>
              <p:cNvPr id="1944" name=""/>
              <p:cNvSpPr/>
              <p:nvPr/>
            </p:nvSpPr>
            <p:spPr>
              <a:xfrm flipV="1">
                <a:off x="7169040" y="2952720"/>
                <a:ext cx="1778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 flipV="1">
                <a:off x="8083440" y="2952360"/>
                <a:ext cx="177840" cy="1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 flipV="1">
                <a:off x="7156440" y="4070520"/>
                <a:ext cx="1904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7035840" y="2908440"/>
                <a:ext cx="228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7950240" y="2895480"/>
                <a:ext cx="228600" cy="27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7023240" y="4025880"/>
                <a:ext cx="228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7620120" y="3797280"/>
                <a:ext cx="2412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8051760" y="3797280"/>
                <a:ext cx="26676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7029360" y="3308400"/>
                <a:ext cx="1371600" cy="685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8400960" y="3645000"/>
                <a:ext cx="444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 flipV="1">
                <a:off x="7251840" y="2838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 flipV="1">
                <a:off x="8166240" y="2838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 flipV="1">
                <a:off x="725184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 flipV="1">
                <a:off x="816624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 flipV="1">
                <a:off x="770904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7289640" y="3556080"/>
                <a:ext cx="876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-bit Add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0" name=""/>
            <p:cNvGrpSpPr/>
            <p:nvPr/>
          </p:nvGrpSpPr>
          <p:grpSpPr>
            <a:xfrm>
              <a:off x="4940280" y="2838240"/>
              <a:ext cx="1822320" cy="1612800"/>
              <a:chOff x="4940280" y="2838240"/>
              <a:chExt cx="1822320" cy="1612800"/>
            </a:xfrm>
          </p:grpSpPr>
          <p:sp>
            <p:nvSpPr>
              <p:cNvPr id="1961" name=""/>
              <p:cNvSpPr/>
              <p:nvPr/>
            </p:nvSpPr>
            <p:spPr>
              <a:xfrm flipV="1">
                <a:off x="5086440" y="2952720"/>
                <a:ext cx="1778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 flipV="1">
                <a:off x="6000840" y="2952360"/>
                <a:ext cx="177840" cy="1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 flipV="1">
                <a:off x="5073480" y="4070520"/>
                <a:ext cx="19080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4952880" y="2908440"/>
                <a:ext cx="228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5867280" y="2895480"/>
                <a:ext cx="228600" cy="27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4940280" y="4025880"/>
                <a:ext cx="228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5537160" y="3797280"/>
                <a:ext cx="2412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5969160" y="3797280"/>
                <a:ext cx="2664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4946760" y="3308400"/>
                <a:ext cx="1371600" cy="685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6318360" y="3645000"/>
                <a:ext cx="444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 flipV="1">
                <a:off x="5168880" y="2838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 flipV="1">
                <a:off x="6083280" y="2838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 flipV="1">
                <a:off x="516888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 flipV="1">
                <a:off x="608328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 flipV="1">
                <a:off x="562608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5207040" y="3556080"/>
                <a:ext cx="876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-bit Add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7" name=""/>
            <p:cNvGrpSpPr/>
            <p:nvPr/>
          </p:nvGrpSpPr>
          <p:grpSpPr>
            <a:xfrm>
              <a:off x="2895480" y="2838240"/>
              <a:ext cx="1822680" cy="1612800"/>
              <a:chOff x="2895480" y="2838240"/>
              <a:chExt cx="1822680" cy="1612800"/>
            </a:xfrm>
          </p:grpSpPr>
          <p:sp>
            <p:nvSpPr>
              <p:cNvPr id="1978" name=""/>
              <p:cNvSpPr/>
              <p:nvPr/>
            </p:nvSpPr>
            <p:spPr>
              <a:xfrm flipV="1">
                <a:off x="3041640" y="2952720"/>
                <a:ext cx="1778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 flipV="1">
                <a:off x="3956040" y="2952360"/>
                <a:ext cx="177840" cy="1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 flipV="1">
                <a:off x="3029040" y="4070520"/>
                <a:ext cx="1904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2908440" y="2908440"/>
                <a:ext cx="228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3822840" y="2895480"/>
                <a:ext cx="228600" cy="27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2895480" y="4025880"/>
                <a:ext cx="228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3492360" y="3797280"/>
                <a:ext cx="24156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3924360" y="3797280"/>
                <a:ext cx="26676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2901960" y="3308400"/>
                <a:ext cx="1371600" cy="685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4273560" y="3645000"/>
                <a:ext cx="444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 flipV="1">
                <a:off x="3124080" y="2838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 flipV="1">
                <a:off x="4038480" y="2838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 flipV="1">
                <a:off x="312408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 flipV="1">
                <a:off x="403848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 flipV="1">
                <a:off x="358128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3162240" y="3556080"/>
                <a:ext cx="876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-bit Add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4" name=""/>
            <p:cNvGrpSpPr/>
            <p:nvPr/>
          </p:nvGrpSpPr>
          <p:grpSpPr>
            <a:xfrm>
              <a:off x="851040" y="2838240"/>
              <a:ext cx="1822320" cy="1612800"/>
              <a:chOff x="851040" y="2838240"/>
              <a:chExt cx="1822320" cy="1612800"/>
            </a:xfrm>
          </p:grpSpPr>
          <p:sp>
            <p:nvSpPr>
              <p:cNvPr id="1995" name=""/>
              <p:cNvSpPr/>
              <p:nvPr/>
            </p:nvSpPr>
            <p:spPr>
              <a:xfrm flipV="1">
                <a:off x="996840" y="2952720"/>
                <a:ext cx="1778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 flipV="1">
                <a:off x="1911240" y="2952360"/>
                <a:ext cx="177840" cy="1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 flipV="1">
                <a:off x="984240" y="4070520"/>
                <a:ext cx="1904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863640" y="2908440"/>
                <a:ext cx="228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1778040" y="2895480"/>
                <a:ext cx="228600" cy="27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851040" y="4025880"/>
                <a:ext cx="228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1447920" y="3797280"/>
                <a:ext cx="2412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1879560" y="3797280"/>
                <a:ext cx="26676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857160" y="3308400"/>
                <a:ext cx="1371600" cy="685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2228760" y="3645000"/>
                <a:ext cx="444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 flipV="1">
                <a:off x="1079640" y="2838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 flipV="1">
                <a:off x="1994040" y="2838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 flipV="1">
                <a:off x="107964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 flipV="1">
                <a:off x="199404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 flipV="1">
                <a:off x="153684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1117440" y="3556080"/>
                <a:ext cx="876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-bit Add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1" name=""/>
            <p:cNvSpPr/>
            <p:nvPr/>
          </p:nvSpPr>
          <p:spPr>
            <a:xfrm>
              <a:off x="8166240" y="4425840"/>
              <a:ext cx="0" cy="69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7709040" y="4425840"/>
              <a:ext cx="0" cy="69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6083280" y="4425840"/>
              <a:ext cx="0" cy="69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5626080" y="4425840"/>
              <a:ext cx="0" cy="69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4038480" y="4425840"/>
              <a:ext cx="0" cy="69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3581280" y="4425840"/>
              <a:ext cx="0" cy="69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1994040" y="4425840"/>
              <a:ext cx="0" cy="69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1536840" y="4425840"/>
              <a:ext cx="0" cy="69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 flipV="1">
              <a:off x="4737240" y="3638160"/>
              <a:ext cx="0" cy="149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 flipV="1">
              <a:off x="6781680" y="3638160"/>
              <a:ext cx="0" cy="149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 flipV="1">
              <a:off x="2679840" y="3638160"/>
              <a:ext cx="0" cy="149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857160" y="5137200"/>
              <a:ext cx="75438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8400960" y="55879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 flipH="1">
              <a:off x="361800" y="5587920"/>
              <a:ext cx="49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6566040" y="605160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7023240" y="60516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rry-lookahead adder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ith cascaded carry-lookahead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y-lookahead ad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 four-bit adders with internal carry lookah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level carry lookahead unit extends lookahead to 16 b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9" name=""/>
          <p:cNvGrpSpPr/>
          <p:nvPr/>
        </p:nvGrpSpPr>
        <p:grpSpPr>
          <a:xfrm>
            <a:off x="5488560" y="1563840"/>
            <a:ext cx="3596760" cy="2181240"/>
            <a:chOff x="5488560" y="1563840"/>
            <a:chExt cx="3596760" cy="2181240"/>
          </a:xfrm>
        </p:grpSpPr>
        <p:sp>
          <p:nvSpPr>
            <p:cNvPr id="2030" name=""/>
            <p:cNvSpPr/>
            <p:nvPr/>
          </p:nvSpPr>
          <p:spPr>
            <a:xfrm>
              <a:off x="5488560" y="1563840"/>
              <a:ext cx="3549960" cy="3049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ahoma"/>
                </a:rPr>
                <a:t>G = G3 + P3 G2 + P3 P2 G1 + P3 P2 P1 G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 flipH="1">
              <a:off x="8186760" y="1871640"/>
              <a:ext cx="898560" cy="1873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2" name=""/>
          <p:cNvGrpSpPr/>
          <p:nvPr/>
        </p:nvGrpSpPr>
        <p:grpSpPr>
          <a:xfrm>
            <a:off x="6340320" y="1920960"/>
            <a:ext cx="1463760" cy="1838160"/>
            <a:chOff x="6340320" y="1920960"/>
            <a:chExt cx="1463760" cy="1838160"/>
          </a:xfrm>
        </p:grpSpPr>
        <p:sp>
          <p:nvSpPr>
            <p:cNvPr id="2033" name=""/>
            <p:cNvSpPr/>
            <p:nvPr/>
          </p:nvSpPr>
          <p:spPr>
            <a:xfrm>
              <a:off x="6340320" y="1920960"/>
              <a:ext cx="1463760" cy="3049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ahoma"/>
                </a:rPr>
                <a:t>P = P3 P2 P1 P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 flipH="1">
              <a:off x="7662960" y="2251080"/>
              <a:ext cx="131760" cy="15080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5" name=""/>
          <p:cNvGrpSpPr/>
          <p:nvPr/>
        </p:nvGrpSpPr>
        <p:grpSpPr>
          <a:xfrm>
            <a:off x="6873840" y="5390640"/>
            <a:ext cx="2087280" cy="1099080"/>
            <a:chOff x="6873840" y="5390640"/>
            <a:chExt cx="2087280" cy="1099080"/>
          </a:xfrm>
        </p:grpSpPr>
        <p:sp>
          <p:nvSpPr>
            <p:cNvPr id="2036" name=""/>
            <p:cNvSpPr/>
            <p:nvPr/>
          </p:nvSpPr>
          <p:spPr>
            <a:xfrm>
              <a:off x="7472880" y="6184800"/>
              <a:ext cx="1488240" cy="3049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ahoma"/>
                </a:rPr>
                <a:t>C1 = G0 + P0 C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 flipH="1" flipV="1">
              <a:off x="6873840" y="5390640"/>
              <a:ext cx="581040" cy="7988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8" name=""/>
          <p:cNvGrpSpPr/>
          <p:nvPr/>
        </p:nvGrpSpPr>
        <p:grpSpPr>
          <a:xfrm>
            <a:off x="3745800" y="5297400"/>
            <a:ext cx="2425320" cy="1268640"/>
            <a:chOff x="3745800" y="5297400"/>
            <a:chExt cx="2425320" cy="1268640"/>
          </a:xfrm>
        </p:grpSpPr>
        <p:sp>
          <p:nvSpPr>
            <p:cNvPr id="2039" name=""/>
            <p:cNvSpPr/>
            <p:nvPr/>
          </p:nvSpPr>
          <p:spPr>
            <a:xfrm>
              <a:off x="3745800" y="6261120"/>
              <a:ext cx="2425320" cy="3049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ahoma"/>
                </a:rPr>
                <a:t>C2 = G1 + P1 G0 + P1 P0 C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 flipV="1">
              <a:off x="4618080" y="5297400"/>
              <a:ext cx="100080" cy="9590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E10D-8F82-4A9B-9B7C-DCEEE317456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1" name=""/>
          <p:cNvGrpSpPr/>
          <p:nvPr/>
        </p:nvGrpSpPr>
        <p:grpSpPr>
          <a:xfrm>
            <a:off x="1689120" y="3117960"/>
            <a:ext cx="6089760" cy="3321000"/>
            <a:chOff x="1689120" y="3117960"/>
            <a:chExt cx="6089760" cy="3321000"/>
          </a:xfrm>
        </p:grpSpPr>
        <p:sp>
          <p:nvSpPr>
            <p:cNvPr id="2042" name=""/>
            <p:cNvSpPr/>
            <p:nvPr/>
          </p:nvSpPr>
          <p:spPr>
            <a:xfrm>
              <a:off x="5905440" y="5283360"/>
              <a:ext cx="978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4-Bit Adder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: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7404120" y="5245200"/>
              <a:ext cx="3556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4978440" y="5283360"/>
              <a:ext cx="3556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3403440" y="3187800"/>
              <a:ext cx="978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4-bit adder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7:4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5003640" y="3225960"/>
              <a:ext cx="241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2641680" y="3213000"/>
              <a:ext cx="355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5003640" y="4178160"/>
              <a:ext cx="241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2666880" y="4152960"/>
              <a:ext cx="3556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1689120" y="5295960"/>
              <a:ext cx="7239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iv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2:1 m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4432320" y="52322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4229280" y="52322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4000680" y="52322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3797280" y="52322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3568680" y="52322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3352680" y="52322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3137040" y="52322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2933640" y="52322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5423040" y="4356000"/>
              <a:ext cx="59688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dder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o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5423040" y="3276720"/>
              <a:ext cx="5968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dder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ig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2705040" y="52322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2502000" y="52322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5492880" y="5175360"/>
              <a:ext cx="18288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4349880" y="517536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3892680" y="517536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3435480" y="517536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2978280" y="517536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2521080" y="517536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4572000" y="586116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4114800" y="586116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5715000" y="586116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6172200" y="586116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6629400" y="586116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7086600" y="586116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3657600" y="586116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3200400" y="586116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2743200" y="586116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 flipH="1">
              <a:off x="4793760" y="5511960"/>
              <a:ext cx="698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 flipH="1">
              <a:off x="7308720" y="5511960"/>
              <a:ext cx="47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2978280" y="4146480"/>
              <a:ext cx="18288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3314880" y="483228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3772080" y="483228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4229280" y="483228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4686480" y="483228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 flipH="1">
              <a:off x="4794120" y="4483080"/>
              <a:ext cx="47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2978280" y="3117960"/>
              <a:ext cx="18288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3086280" y="380376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3543480" y="380376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4000680" y="380376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4457880" y="380376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 flipH="1">
              <a:off x="4794120" y="3454560"/>
              <a:ext cx="47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3321000" y="4260960"/>
              <a:ext cx="102888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3378240" y="4228920"/>
              <a:ext cx="97776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4-bit adder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7:4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2857680" y="4489560"/>
              <a:ext cx="0" cy="67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2629080" y="3460680"/>
              <a:ext cx="0" cy="170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 flipH="1">
              <a:off x="2622600" y="3454560"/>
              <a:ext cx="35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 flipH="1">
              <a:off x="2850840" y="448308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2425680" y="6134040"/>
              <a:ext cx="635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2895480" y="6134040"/>
              <a:ext cx="635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3352680" y="6121440"/>
              <a:ext cx="635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3809880" y="6134040"/>
              <a:ext cx="635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4254480" y="6134040"/>
              <a:ext cx="635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5410080" y="6134040"/>
              <a:ext cx="635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5867280" y="6134040"/>
              <a:ext cx="635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6324480" y="6121440"/>
              <a:ext cx="635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6769080" y="6134040"/>
              <a:ext cx="635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rry-select add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0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ndant hardware to make carry calculation go f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ute two high-order sums in parallel while waiting for carry-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assuming carry-in is 0 and another assuming carry-in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 correct result once carry-in is finally compu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00DE-D98B-44E7-9CD2-84071B25F46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"/>
          <p:cNvSpPr/>
          <p:nvPr/>
        </p:nvSpPr>
        <p:spPr>
          <a:xfrm>
            <a:off x="925560" y="6051600"/>
            <a:ext cx="76579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logical and arithmetic operat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ot all operations appear useful, but "fall out" of internal log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1319040" y="1863720"/>
            <a:ext cx="368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1623960" y="1863720"/>
            <a:ext cx="39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2703600" y="1863720"/>
            <a:ext cx="129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unctio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 = Ai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 = not Ai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 = Ai xor Bi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 = Ai xnor B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4802040" y="1863720"/>
            <a:ext cx="32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mmen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nput Ai transferred to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mplement of Ai transferred to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mpute XOR of Ai, Bi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mpute XNOR of Ai, B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1351080" y="2130480"/>
            <a:ext cx="7264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773280" y="1596960"/>
            <a:ext cx="2857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 = 0, logical bitwise 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773280" y="3193920"/>
            <a:ext cx="309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 = 1, C0 = 0, arithmetic 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1370160" y="3473280"/>
            <a:ext cx="253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1712880" y="3473280"/>
            <a:ext cx="2541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2563920" y="3473280"/>
            <a:ext cx="15746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 = A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 = not A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 = A plus B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 = (not A) plus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4840200" y="3473280"/>
            <a:ext cx="2946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nput A passed to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mplement of A passed to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um of A and B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um of B and complement of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760320" y="4606920"/>
            <a:ext cx="3098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 = 1, C0 = 1, arithmetic 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1370160" y="4886280"/>
            <a:ext cx="253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1712880" y="4886280"/>
            <a:ext cx="25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2347920" y="4886280"/>
            <a:ext cx="2108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 = A plus 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 = (not A) plus 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 = A plus B plus 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 = (not A) plus B plus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4865760" y="4886280"/>
            <a:ext cx="2247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ncrement A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wos complement of A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ncrement sum of A and B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 minus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rithmetic logic unit design specific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BE87-85E0-4A93-BD9C-846BD1C412E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7" name=""/>
          <p:cNvGrpSpPr/>
          <p:nvPr/>
        </p:nvGrpSpPr>
        <p:grpSpPr>
          <a:xfrm>
            <a:off x="4960800" y="1050840"/>
            <a:ext cx="3403800" cy="5295600"/>
            <a:chOff x="4960800" y="1050840"/>
            <a:chExt cx="3403800" cy="5295600"/>
          </a:xfrm>
        </p:grpSpPr>
        <p:sp>
          <p:nvSpPr>
            <p:cNvPr id="2128" name=""/>
            <p:cNvSpPr/>
            <p:nvPr/>
          </p:nvSpPr>
          <p:spPr>
            <a:xfrm>
              <a:off x="4998960" y="1050840"/>
              <a:ext cx="228600" cy="375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5354640" y="1050840"/>
              <a:ext cx="330120" cy="48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5761080" y="1050840"/>
              <a:ext cx="330120" cy="48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6192720" y="1050840"/>
              <a:ext cx="292320" cy="529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Ci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6599160" y="1050840"/>
              <a:ext cx="279360" cy="529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Ai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7005600" y="1050840"/>
              <a:ext cx="279360" cy="529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Bi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7539120" y="1050840"/>
              <a:ext cx="266760" cy="529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Fi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7754760" y="1050840"/>
              <a:ext cx="609840" cy="529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Ci+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4960800" y="1196640"/>
              <a:ext cx="3327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5018040" y="2889000"/>
              <a:ext cx="332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5005440" y="4549680"/>
              <a:ext cx="331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4992840" y="6270480"/>
              <a:ext cx="323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7399440" y="1088640"/>
              <a:ext cx="0" cy="5207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6510240" y="1056960"/>
              <a:ext cx="0" cy="525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 flipH="1">
              <a:off x="6126120" y="1063440"/>
              <a:ext cx="15840" cy="520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rithmetic logic unit design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mple ALU – truth 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9765-9172-4940-AD0F-382BBD0F4832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"/>
          <p:cNvSpPr/>
          <p:nvPr/>
        </p:nvSpPr>
        <p:spPr>
          <a:xfrm>
            <a:off x="4092480" y="5038560"/>
            <a:ext cx="1117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2 g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6" name=""/>
          <p:cNvGrpSpPr/>
          <p:nvPr/>
        </p:nvGrpSpPr>
        <p:grpSpPr>
          <a:xfrm>
            <a:off x="138600" y="2473200"/>
            <a:ext cx="8894160" cy="2506680"/>
            <a:chOff x="138600" y="2473200"/>
            <a:chExt cx="8894160" cy="2506680"/>
          </a:xfrm>
        </p:grpSpPr>
        <p:sp>
          <p:nvSpPr>
            <p:cNvPr id="2147" name=""/>
            <p:cNvSpPr/>
            <p:nvPr/>
          </p:nvSpPr>
          <p:spPr>
            <a:xfrm>
              <a:off x="740160" y="2549520"/>
              <a:ext cx="20880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138600" y="2549520"/>
              <a:ext cx="142776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226800" y="2529000"/>
              <a:ext cx="133956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739800" y="2529000"/>
              <a:ext cx="20916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896760" y="2644920"/>
              <a:ext cx="1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896760" y="2838600"/>
              <a:ext cx="1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896760" y="3384720"/>
              <a:ext cx="44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896760" y="3843360"/>
              <a:ext cx="45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888840" y="3394080"/>
              <a:ext cx="0" cy="4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1125720" y="3395520"/>
              <a:ext cx="440640" cy="49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1125360" y="3375360"/>
              <a:ext cx="441000" cy="47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704880" y="4294080"/>
              <a:ext cx="24408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704880" y="4276440"/>
              <a:ext cx="244080" cy="43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879480" y="438948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879480" y="458316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843480" y="4294080"/>
              <a:ext cx="21168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244440" y="4294080"/>
              <a:ext cx="142848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298080" y="4276440"/>
              <a:ext cx="1374840" cy="43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843120" y="4276440"/>
              <a:ext cx="212040" cy="43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3259080" y="2697120"/>
              <a:ext cx="44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3259080" y="3156120"/>
              <a:ext cx="47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 flipV="1">
              <a:off x="3251160" y="2687400"/>
              <a:ext cx="0" cy="47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3488040" y="2708280"/>
              <a:ext cx="440640" cy="47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3487680" y="2687400"/>
              <a:ext cx="441000" cy="47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3259080" y="3278160"/>
              <a:ext cx="44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3259080" y="3736800"/>
              <a:ext cx="47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 flipV="1">
              <a:off x="3251160" y="3269880"/>
              <a:ext cx="0" cy="47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3488040" y="3289320"/>
              <a:ext cx="440640" cy="47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3487680" y="3251160"/>
              <a:ext cx="44100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3259080" y="3843360"/>
              <a:ext cx="44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3259080" y="4319640"/>
              <a:ext cx="47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3251160" y="3851280"/>
              <a:ext cx="0" cy="4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3488040" y="3854520"/>
              <a:ext cx="440640" cy="49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3487680" y="3835080"/>
              <a:ext cx="441000" cy="49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3543480" y="3306600"/>
              <a:ext cx="142488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3613320" y="3287520"/>
              <a:ext cx="135504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4158000" y="3287520"/>
              <a:ext cx="21204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4316400" y="35082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4158360" y="3306600"/>
              <a:ext cx="21168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6556320" y="2627280"/>
              <a:ext cx="43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6556320" y="310212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6546960" y="2635200"/>
              <a:ext cx="0" cy="45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6785280" y="2638440"/>
              <a:ext cx="440640" cy="49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6784920" y="2616120"/>
              <a:ext cx="44100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6556320" y="3208320"/>
              <a:ext cx="43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6556320" y="368460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6546960" y="321804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6785280" y="3219480"/>
              <a:ext cx="440640" cy="49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6784920" y="3200760"/>
              <a:ext cx="441000" cy="49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6556320" y="3789360"/>
              <a:ext cx="43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6556320" y="426564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6546960" y="3798720"/>
              <a:ext cx="0" cy="45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6785280" y="3800520"/>
              <a:ext cx="44064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6784920" y="3779640"/>
              <a:ext cx="44100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6556320" y="4371840"/>
              <a:ext cx="43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6556320" y="483084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6546960" y="4379760"/>
              <a:ext cx="0" cy="44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6785280" y="4383000"/>
              <a:ext cx="440640" cy="49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6784920" y="4362120"/>
              <a:ext cx="441000" cy="47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7121880" y="3537000"/>
              <a:ext cx="135504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7737840" y="3537000"/>
              <a:ext cx="12312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7121880" y="3516120"/>
              <a:ext cx="135504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7737480" y="3516120"/>
              <a:ext cx="12348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7807320" y="3632040"/>
              <a:ext cx="1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7807320" y="3825720"/>
              <a:ext cx="1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 flipV="1">
              <a:off x="7799400" y="3939840"/>
              <a:ext cx="0" cy="17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7799400" y="3357720"/>
              <a:ext cx="0" cy="15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703440" y="264492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368280" y="2473200"/>
              <a:ext cx="493560" cy="81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\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\B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703440" y="283860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6362640" y="421308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5891040" y="4130640"/>
              <a:ext cx="5288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5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1566720" y="274968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1735200" y="2556000"/>
              <a:ext cx="5461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5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6362640" y="26798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6068880" y="2629080"/>
              <a:ext cx="389160" cy="3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3065400" y="389556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2805120" y="3844800"/>
              <a:ext cx="38736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703440" y="341964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409680" y="3336840"/>
              <a:ext cx="474480" cy="6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703440" y="361332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703440" y="380844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6362640" y="36320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5891040" y="3548160"/>
              <a:ext cx="5288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3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3065400" y="359568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2611440" y="3513240"/>
              <a:ext cx="5461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3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3065400" y="30146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2611440" y="2932200"/>
              <a:ext cx="5461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3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1566720" y="36133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1735200" y="3419640"/>
              <a:ext cx="5461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3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703440" y="438948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409680" y="4275000"/>
              <a:ext cx="47448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703440" y="458316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6362640" y="401940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5891040" y="3905280"/>
              <a:ext cx="5288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6362640" y="34369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5891040" y="3370320"/>
              <a:ext cx="5288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3065400" y="42829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2611440" y="4232160"/>
              <a:ext cx="5461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3065400" y="340200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2611440" y="3319560"/>
              <a:ext cx="5461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1673280" y="4495680"/>
              <a:ext cx="158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1822320" y="4300560"/>
              <a:ext cx="54612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6362640" y="32432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6084720" y="319248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6362640" y="28735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6068880" y="282240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3065400" y="40892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2805120" y="4038480"/>
              <a:ext cx="4046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3065400" y="282096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2805120" y="2738520"/>
              <a:ext cx="4046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4122720" y="331488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3929040" y="29257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4114800" y="2935440"/>
              <a:ext cx="0" cy="36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3929040" y="350820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4122720" y="350820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3929040" y="40892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4122720" y="370188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4114800" y="3710160"/>
              <a:ext cx="0" cy="37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5005440" y="3508200"/>
              <a:ext cx="156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5154480" y="3314880"/>
              <a:ext cx="476280" cy="3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6362640" y="440676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5923080" y="4340160"/>
              <a:ext cx="51120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\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6362640" y="38257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5916600" y="3759120"/>
              <a:ext cx="5284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\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6362640" y="304956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5964120" y="2984400"/>
              <a:ext cx="5288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\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6362640" y="46004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5818320" y="4486320"/>
              <a:ext cx="58104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\[3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\[35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6362640" y="47941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8477280" y="373680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8645400" y="3543480"/>
              <a:ext cx="387360" cy="3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7613640" y="34369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7226280" y="28735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7605720" y="288288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7419960" y="28735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7226280" y="34369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7613640" y="36320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7419960" y="36320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7410600" y="3446640"/>
              <a:ext cx="0" cy="17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7226280" y="401940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7613640" y="38257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7410600" y="3833640"/>
              <a:ext cx="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7419960" y="38257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7613640" y="401940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7226280" y="46004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7605720" y="4027320"/>
              <a:ext cx="0" cy="56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7419960" y="46004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rithmetic logic unit design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9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mple ALU – multi-level discrete gate logic imple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C504-AC71-448B-B67F-809E9D6BE50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7" name=""/>
          <p:cNvGrpSpPr/>
          <p:nvPr/>
        </p:nvGrpSpPr>
        <p:grpSpPr>
          <a:xfrm>
            <a:off x="179280" y="1724760"/>
            <a:ext cx="3384360" cy="5021640"/>
            <a:chOff x="179280" y="1724760"/>
            <a:chExt cx="3384360" cy="5021640"/>
          </a:xfrm>
        </p:grpSpPr>
        <p:sp>
          <p:nvSpPr>
            <p:cNvPr id="2298" name=""/>
            <p:cNvSpPr/>
            <p:nvPr/>
          </p:nvSpPr>
          <p:spPr>
            <a:xfrm>
              <a:off x="960120" y="240948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528480" y="2409480"/>
              <a:ext cx="0" cy="41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534960" y="240336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521640" y="2625840"/>
              <a:ext cx="419400" cy="37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536400" y="2625840"/>
              <a:ext cx="418680" cy="37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1487520" y="2156400"/>
              <a:ext cx="380520" cy="21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1488960" y="2156400"/>
              <a:ext cx="405720" cy="21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1760400" y="2307960"/>
              <a:ext cx="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1595160" y="2307960"/>
              <a:ext cx="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1512720" y="2270160"/>
              <a:ext cx="355320" cy="17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1487520" y="1724760"/>
              <a:ext cx="380520" cy="1280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1488960" y="1812960"/>
              <a:ext cx="405720" cy="1192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1488960" y="2270160"/>
              <a:ext cx="405720" cy="17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2903400" y="240948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2509560" y="2409480"/>
              <a:ext cx="0" cy="41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2516040" y="240336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2490840" y="2625840"/>
              <a:ext cx="418680" cy="37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2517480" y="2625840"/>
              <a:ext cx="418680" cy="37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2007720" y="3438360"/>
              <a:ext cx="36828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2009520" y="3438360"/>
              <a:ext cx="39348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2268360" y="3616200"/>
              <a:ext cx="0" cy="2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2103120" y="3616200"/>
              <a:ext cx="0" cy="2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2020680" y="3565440"/>
              <a:ext cx="355320" cy="18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2007720" y="3019680"/>
              <a:ext cx="368280" cy="129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2009520" y="3083040"/>
              <a:ext cx="393480" cy="123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2009520" y="3565440"/>
              <a:ext cx="393480" cy="18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591840" y="4746240"/>
              <a:ext cx="0" cy="41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198360" y="474624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204480" y="474012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179280" y="4962600"/>
              <a:ext cx="418680" cy="37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206280" y="4962600"/>
              <a:ext cx="418680" cy="37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1290600" y="4746240"/>
              <a:ext cx="0" cy="41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871560" y="474624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877680" y="474012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852480" y="4962600"/>
              <a:ext cx="418680" cy="37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879480" y="4962600"/>
              <a:ext cx="418680" cy="37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1919160" y="5445000"/>
              <a:ext cx="380520" cy="21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1920600" y="5445000"/>
              <a:ext cx="393480" cy="21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2192040" y="5597280"/>
              <a:ext cx="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2014560" y="5597280"/>
              <a:ext cx="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1944360" y="5559840"/>
              <a:ext cx="355320" cy="18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1919160" y="5000760"/>
              <a:ext cx="380520" cy="129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1920600" y="5090040"/>
              <a:ext cx="393480" cy="12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1920600" y="5559840"/>
              <a:ext cx="393480" cy="18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585720" y="5648400"/>
              <a:ext cx="355320" cy="17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534600" y="5089680"/>
              <a:ext cx="406440" cy="129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561960" y="5178240"/>
              <a:ext cx="380520" cy="120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561960" y="5648400"/>
              <a:ext cx="380520" cy="17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833400" y="5787720"/>
              <a:ext cx="0" cy="1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655560" y="5787720"/>
              <a:ext cx="0" cy="1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833400" y="224460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833400" y="2066760"/>
              <a:ext cx="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820440" y="1971720"/>
              <a:ext cx="40644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655560" y="224460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655560" y="2066760"/>
              <a:ext cx="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363240" y="1971720"/>
              <a:ext cx="320040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1384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1760400" y="2155680"/>
              <a:ext cx="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1760400" y="2066760"/>
              <a:ext cx="0" cy="7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1595160" y="2155680"/>
              <a:ext cx="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1595160" y="2066760"/>
              <a:ext cx="0" cy="7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1265040" y="1971720"/>
              <a:ext cx="45720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2801880" y="224460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2788920" y="1971720"/>
              <a:ext cx="38124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2636640" y="224460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2636640" y="2066760"/>
              <a:ext cx="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2357280" y="1983960"/>
              <a:ext cx="254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2103120" y="3438360"/>
              <a:ext cx="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1671480" y="301932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490320" y="4568400"/>
              <a:ext cx="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496800" y="3342960"/>
              <a:ext cx="116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1665000" y="3349440"/>
              <a:ext cx="38160" cy="248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1677960" y="334296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2103120" y="3349440"/>
              <a:ext cx="0" cy="7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490320" y="3349440"/>
              <a:ext cx="0" cy="120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1671480" y="318420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2712960" y="301932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2706480" y="3184200"/>
              <a:ext cx="12600" cy="12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2268360" y="3438360"/>
              <a:ext cx="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325440" y="4568400"/>
              <a:ext cx="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2712960" y="318420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2274840" y="334296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2268360" y="3349440"/>
              <a:ext cx="0" cy="7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325440" y="3184200"/>
              <a:ext cx="0" cy="137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331560" y="3178080"/>
              <a:ext cx="237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655560" y="562248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401400" y="536868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401400" y="5533920"/>
              <a:ext cx="0" cy="7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407880" y="561636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2192040" y="4314600"/>
              <a:ext cx="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2192040" y="5445000"/>
              <a:ext cx="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1163520" y="4568400"/>
              <a:ext cx="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2192040" y="4492440"/>
              <a:ext cx="0" cy="6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2198520" y="4555800"/>
              <a:ext cx="12600" cy="378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2192040" y="4568400"/>
              <a:ext cx="0" cy="86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1170000" y="4562280"/>
              <a:ext cx="101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998280" y="4568400"/>
              <a:ext cx="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744480" y="301932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2014560" y="5445000"/>
              <a:ext cx="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744480" y="3184200"/>
              <a:ext cx="0" cy="11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750600" y="430812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979200" y="4302000"/>
              <a:ext cx="38160" cy="374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1004760" y="430812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1760400" y="4314600"/>
              <a:ext cx="0" cy="111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1766880" y="543852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998280" y="4314600"/>
              <a:ext cx="0" cy="24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2103120" y="630828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2103120" y="647352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2179440" y="6416280"/>
              <a:ext cx="317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1087200" y="536868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833400" y="562248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839520" y="561636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1087200" y="5533920"/>
              <a:ext cx="0" cy="7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744480" y="6384600"/>
              <a:ext cx="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769680" y="6416280"/>
              <a:ext cx="6224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i+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1557360" y="2543040"/>
              <a:ext cx="30456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2052360" y="3838320"/>
              <a:ext cx="30492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1976400" y="5832360"/>
              <a:ext cx="30456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579240" y="2568240"/>
              <a:ext cx="228600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19796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249120" y="4905000"/>
              <a:ext cx="97776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604800" y="5921280"/>
              <a:ext cx="31752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2801880" y="2066760"/>
              <a:ext cx="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9" name=""/>
          <p:cNvSpPr/>
          <p:nvPr/>
        </p:nvSpPr>
        <p:spPr>
          <a:xfrm>
            <a:off x="2654280" y="3200400"/>
            <a:ext cx="26161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2654280" y="3657600"/>
            <a:ext cx="26161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2641680" y="5143680"/>
            <a:ext cx="41274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3551400" y="2054160"/>
            <a:ext cx="5465520" cy="42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rst-level g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e S0 to complement A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0 = 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auses gate X1 to pass A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0 = 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auses gate X1 to pass Ai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e S1 to block B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1 = 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auses gate A1 to make Bi go forward as 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don't want Bi for operations with just A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1 = 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auses gate A1 to pass B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e M to block C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 = 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auses gate A2 to make Ci go forward as 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don't want Ci for logical operations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 = 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auses gate A2 to pass Ci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ther g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or M=0 (logical operations, Ci is ignor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 = S1 Bi xor (S0 xor A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= S1'S0' ( Ai ) + S1'S0 ( Ai' ) +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S1 S0' ( Ai Bi' + Ai' Bi ) + S1 S0 ( Ai' Bi' + Ai Bi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or M=1 (arithmetic operatio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 = S1 Bi xor ( ( S0 xor Ai ) xor Ci ) =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i+1 = Ci (S0 xor Ai) + S1 Bi ( (S0 xor Ai) xor Ci ) =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just a full adder with inputs S0 xor Ai, S1 Bi, and Ci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rithmetic logic unit design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mple ALU – clever multi-level imple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B30B-5540-43DC-99BF-73EDDCEB8FE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ummary for examples of combination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26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77120" cy="5127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5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al logic desig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lize problem: encodings, truth-table, eq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implementation technology (ROM, PAL, PLA, discrete ga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 by following the design procedure for that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ary number 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ve numbers the s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ce is in how negative numbers are repres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s complement easiest to handle: one representation for zero, slightly complicated complementation, simple ad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s for binary ad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half-adder and full-ad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y lookahead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y-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U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,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A98F-9B6C-4FCE-BC2D-FE339283194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572000" y="4419720"/>
            <a:ext cx="3429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0 = A + B D + C + B' 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1 = C' D' + C D + B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2 = B + C' +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3 = B' D' + C D' + B C' D + B'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4 = B' D' + C 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5 = A + C' D' + B D' + B 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6 = A + C D' + B C' + B'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 as minimized sum-of-produc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5 unique product terms when minimized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80880" y="2286000"/>
            <a:ext cx="1676520" cy="1701720"/>
            <a:chOff x="380880" y="2286000"/>
            <a:chExt cx="1676520" cy="1701720"/>
          </a:xfrm>
        </p:grpSpPr>
        <p:sp>
          <p:nvSpPr>
            <p:cNvPr id="211" name=""/>
            <p:cNvSpPr/>
            <p:nvPr/>
          </p:nvSpPr>
          <p:spPr>
            <a:xfrm>
              <a:off x="685800" y="2539800"/>
              <a:ext cx="11430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0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1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18960" y="2539800"/>
              <a:ext cx="60984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218960" y="253980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828800" y="28447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854000" y="2997000"/>
              <a:ext cx="2034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244520" y="2286000"/>
              <a:ext cx="584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18840" y="2539800"/>
              <a:ext cx="60012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91440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609120" y="284472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914400" y="375912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09480" y="31496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939600" y="3759120"/>
              <a:ext cx="58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0880" y="3225600"/>
              <a:ext cx="230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52388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218960" y="314964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18840" y="3149640"/>
              <a:ext cx="6001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1440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609120" y="345420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52388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2057400" y="2286000"/>
            <a:ext cx="1676520" cy="1701720"/>
            <a:chOff x="2057400" y="2286000"/>
            <a:chExt cx="1676520" cy="1701720"/>
          </a:xfrm>
        </p:grpSpPr>
        <p:sp>
          <p:nvSpPr>
            <p:cNvPr id="231" name=""/>
            <p:cNvSpPr/>
            <p:nvPr/>
          </p:nvSpPr>
          <p:spPr>
            <a:xfrm>
              <a:off x="2362320" y="2539800"/>
              <a:ext cx="11430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0    X    1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0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895480" y="2539800"/>
              <a:ext cx="60984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895480" y="253980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505320" y="28447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30520" y="2997000"/>
              <a:ext cx="2034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921040" y="2286000"/>
              <a:ext cx="584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295360" y="2539800"/>
              <a:ext cx="60012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59092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2285640" y="284472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90920" y="375912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286000" y="31496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616120" y="3759120"/>
              <a:ext cx="58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057400" y="3225600"/>
              <a:ext cx="230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0040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95480" y="314964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295360" y="3149640"/>
              <a:ext cx="6001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59092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285640" y="345420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20040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2057400" y="4038480"/>
            <a:ext cx="1676520" cy="1701720"/>
            <a:chOff x="2057400" y="4038480"/>
            <a:chExt cx="1676520" cy="1701720"/>
          </a:xfrm>
        </p:grpSpPr>
        <p:sp>
          <p:nvSpPr>
            <p:cNvPr id="251" name=""/>
            <p:cNvSpPr/>
            <p:nvPr/>
          </p:nvSpPr>
          <p:spPr>
            <a:xfrm>
              <a:off x="2362320" y="4292280"/>
              <a:ext cx="11430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1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0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895480" y="4292280"/>
              <a:ext cx="60984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895480" y="429228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505320" y="45972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30520" y="4749480"/>
              <a:ext cx="2034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921040" y="4038480"/>
              <a:ext cx="584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295360" y="4292280"/>
              <a:ext cx="60012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90920" y="42922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2285640" y="459720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590920" y="551160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286000" y="49021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616120" y="5511600"/>
              <a:ext cx="58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057400" y="4978080"/>
              <a:ext cx="230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200400" y="42922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895480" y="490212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295360" y="4902120"/>
              <a:ext cx="6001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590920" y="490212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2285640" y="520668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200400" y="490212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3809880" y="2286000"/>
            <a:ext cx="1676520" cy="1701720"/>
            <a:chOff x="3809880" y="2286000"/>
            <a:chExt cx="1676520" cy="1701720"/>
          </a:xfrm>
        </p:grpSpPr>
        <p:sp>
          <p:nvSpPr>
            <p:cNvPr id="271" name=""/>
            <p:cNvSpPr/>
            <p:nvPr/>
          </p:nvSpPr>
          <p:spPr>
            <a:xfrm>
              <a:off x="4114800" y="2539800"/>
              <a:ext cx="11430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1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647960" y="2539800"/>
              <a:ext cx="60984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647960" y="253980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257800" y="28447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283000" y="2997000"/>
              <a:ext cx="2034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673520" y="2286000"/>
              <a:ext cx="584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047840" y="2539800"/>
              <a:ext cx="60012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34340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4038120" y="284472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343400" y="375912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038480" y="31496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368600" y="3759120"/>
              <a:ext cx="58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809880" y="3225600"/>
              <a:ext cx="230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95288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647960" y="314964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047840" y="3149640"/>
              <a:ext cx="6001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34340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038120" y="345420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95288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5562720" y="2286000"/>
            <a:ext cx="1675800" cy="1701720"/>
            <a:chOff x="5562720" y="2286000"/>
            <a:chExt cx="1675800" cy="1701720"/>
          </a:xfrm>
        </p:grpSpPr>
        <p:sp>
          <p:nvSpPr>
            <p:cNvPr id="291" name=""/>
            <p:cNvSpPr/>
            <p:nvPr/>
          </p:nvSpPr>
          <p:spPr>
            <a:xfrm>
              <a:off x="5867280" y="2539800"/>
              <a:ext cx="11426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0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0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0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00440" y="2539800"/>
              <a:ext cx="60948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400440" y="253980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010280" y="28447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35480" y="2997000"/>
              <a:ext cx="20304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426000" y="2286000"/>
              <a:ext cx="58392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0320" y="2539800"/>
              <a:ext cx="59976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588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5790960" y="284472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095880" y="3759120"/>
              <a:ext cx="60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790960" y="31496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121080" y="3759120"/>
              <a:ext cx="583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562720" y="3225600"/>
              <a:ext cx="229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70536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400440" y="3149640"/>
              <a:ext cx="60948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800320" y="3149640"/>
              <a:ext cx="59976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588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5790960" y="345420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70536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7238880" y="2286000"/>
            <a:ext cx="1676520" cy="1701720"/>
            <a:chOff x="7238880" y="2286000"/>
            <a:chExt cx="1676520" cy="1701720"/>
          </a:xfrm>
        </p:grpSpPr>
        <p:sp>
          <p:nvSpPr>
            <p:cNvPr id="311" name=""/>
            <p:cNvSpPr/>
            <p:nvPr/>
          </p:nvSpPr>
          <p:spPr>
            <a:xfrm>
              <a:off x="7543800" y="2539800"/>
              <a:ext cx="11430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0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0    X    0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0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076960" y="2539800"/>
              <a:ext cx="60984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076960" y="253980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686800" y="28447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712000" y="2997000"/>
              <a:ext cx="2034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102520" y="2286000"/>
              <a:ext cx="584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476840" y="2539800"/>
              <a:ext cx="60012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77240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7467120" y="284472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772400" y="375912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67480" y="31496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797600" y="3759120"/>
              <a:ext cx="58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238880" y="3225600"/>
              <a:ext cx="230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38188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076960" y="314964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476840" y="3149640"/>
              <a:ext cx="6001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77240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7467120" y="345420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38188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380880" y="4038480"/>
            <a:ext cx="1676520" cy="1701720"/>
            <a:chOff x="380880" y="4038480"/>
            <a:chExt cx="1676520" cy="1701720"/>
          </a:xfrm>
        </p:grpSpPr>
        <p:sp>
          <p:nvSpPr>
            <p:cNvPr id="331" name=""/>
            <p:cNvSpPr/>
            <p:nvPr/>
          </p:nvSpPr>
          <p:spPr>
            <a:xfrm>
              <a:off x="685800" y="4292280"/>
              <a:ext cx="11430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1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0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18960" y="4292280"/>
              <a:ext cx="60984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218960" y="429228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828800" y="45972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854000" y="4749480"/>
              <a:ext cx="2034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244520" y="4038480"/>
              <a:ext cx="584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18840" y="4292280"/>
              <a:ext cx="60012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914400" y="42922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609120" y="459720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914400" y="551160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09480" y="49021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939600" y="5511600"/>
              <a:ext cx="58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0880" y="4978080"/>
              <a:ext cx="230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523880" y="42922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218960" y="490212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18840" y="4902120"/>
              <a:ext cx="6001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914400" y="490212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609120" y="520668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523880" y="490212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A1E1-6966-4780-8541-E35F152E0DC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4724280" y="4889520"/>
            <a:ext cx="391176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0 = B C' D + C D + B' D' + B C D' + 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1 = B' D + C' D' + C D + B' D'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2 = B' D + B C' D + C' D' + C D + B C D'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3 = B C' D + B' D + B' D' + B C D'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4 = B' D' + B C D'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5 = B C' D + C' D' + A + B C D'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6 = B' C + B C' + B C D' +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09480" y="4889520"/>
            <a:ext cx="287028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0 = A + B D + C + B' 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1 = C' D' + C D + B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2 = B + C' +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3 = B' D' + C D' + B C' D + B'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4 = B' D' + C 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5 = A + C' D' + B D' + B 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6 = A + C D' + B C' + B'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143000" y="3276720"/>
            <a:ext cx="6602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 as minimized S-o-P (cont'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do bet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 unique product terms (instead of 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 terms among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output not necessarily in minimized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5791320" y="3048120"/>
            <a:ext cx="1675800" cy="1701720"/>
            <a:chOff x="5791320" y="3048120"/>
            <a:chExt cx="1675800" cy="1701720"/>
          </a:xfrm>
        </p:grpSpPr>
        <p:sp>
          <p:nvSpPr>
            <p:cNvPr id="356" name=""/>
            <p:cNvSpPr/>
            <p:nvPr/>
          </p:nvSpPr>
          <p:spPr>
            <a:xfrm>
              <a:off x="6095880" y="3301920"/>
              <a:ext cx="11426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1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629040" y="3301920"/>
              <a:ext cx="60948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629040" y="330192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238880" y="36068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264080" y="3759120"/>
              <a:ext cx="20304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654600" y="3048120"/>
              <a:ext cx="58392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028920" y="3301920"/>
              <a:ext cx="59976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324480" y="330192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6019560" y="360684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324480" y="4521240"/>
              <a:ext cx="60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019560" y="391176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349680" y="4521240"/>
              <a:ext cx="583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791320" y="3987720"/>
              <a:ext cx="229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933960" y="330192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629040" y="3911760"/>
              <a:ext cx="60948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28920" y="3911760"/>
              <a:ext cx="59976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324480" y="391176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6019560" y="421632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933960" y="391176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6400800" y="3657600"/>
            <a:ext cx="45720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095880" y="3962520"/>
            <a:ext cx="10670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5880" y="3352680"/>
            <a:ext cx="10670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400800" y="4267080"/>
            <a:ext cx="45720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012080" y="3657600"/>
            <a:ext cx="226800" cy="533520"/>
          </a:xfrm>
          <a:custGeom>
            <a:avLst/>
            <a:gdLst>
              <a:gd name="textAreaLeft" fmla="*/ 66600 w 226800"/>
              <a:gd name="textAreaRight" fmla="*/ 227160 w 226800"/>
              <a:gd name="textAreaTop" fmla="*/ 27000 h 533520"/>
              <a:gd name="textAreaBottom" fmla="*/ 50652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093"/>
                  <a:pt x="0" y="2186"/>
                </a:cubicBezTo>
                <a:lnTo>
                  <a:pt x="0" y="19414"/>
                </a:lnTo>
                <a:cubicBezTo>
                  <a:pt x="0" y="20507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6019200" y="3657600"/>
            <a:ext cx="228600" cy="533520"/>
          </a:xfrm>
          <a:custGeom>
            <a:avLst/>
            <a:gdLst>
              <a:gd name="textAreaLeft" fmla="*/ 66600 w 228600"/>
              <a:gd name="textAreaRight" fmla="*/ 228600 w 228600"/>
              <a:gd name="textAreaTop" fmla="*/ 27000 h 533520"/>
              <a:gd name="textAreaBottom" fmla="*/ 50652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093"/>
                  <a:pt x="0" y="2186"/>
                </a:cubicBezTo>
                <a:lnTo>
                  <a:pt x="0" y="19414"/>
                </a:lnTo>
                <a:cubicBezTo>
                  <a:pt x="0" y="20507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1295280" y="3048120"/>
            <a:ext cx="1676520" cy="1701720"/>
            <a:chOff x="1295280" y="3048120"/>
            <a:chExt cx="1676520" cy="1701720"/>
          </a:xfrm>
        </p:grpSpPr>
        <p:sp>
          <p:nvSpPr>
            <p:cNvPr id="382" name=""/>
            <p:cNvSpPr/>
            <p:nvPr/>
          </p:nvSpPr>
          <p:spPr>
            <a:xfrm>
              <a:off x="1600200" y="3301920"/>
              <a:ext cx="11430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1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133360" y="3301920"/>
              <a:ext cx="60984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133360" y="330192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743200" y="36068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768400" y="3759120"/>
              <a:ext cx="2034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158920" y="3048120"/>
              <a:ext cx="584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533240" y="3301920"/>
              <a:ext cx="60012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828800" y="330192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1523520" y="360684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828800" y="45212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523880" y="391176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854000" y="4521240"/>
              <a:ext cx="58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295280" y="3987720"/>
              <a:ext cx="230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438280" y="330192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133360" y="391176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533240" y="3911760"/>
              <a:ext cx="6001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828800" y="391176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1523520" y="421632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438280" y="391176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1854360" y="3352680"/>
            <a:ext cx="533160" cy="1143000"/>
          </a:xfrm>
          <a:custGeom>
            <a:avLst/>
            <a:gdLst>
              <a:gd name="textAreaLeft" fmla="*/ 25920 w 533160"/>
              <a:gd name="textAreaRight" fmla="*/ 507240 w 533160"/>
              <a:gd name="textAreaTop" fmla="*/ 25920 h 1143000"/>
              <a:gd name="textAreaBottom" fmla="*/ 1117080 h 1143000"/>
            </a:gdLst>
            <a:ahLst/>
            <a:rect l="textAreaLeft" t="textAreaTop" r="textAreaRight" b="textAreaBottom"/>
            <a:pathLst>
              <a:path w="21600" h="46290">
                <a:moveTo>
                  <a:pt x="3600" y="0"/>
                </a:moveTo>
                <a:arcTo wR="3600" hR="3600" stAng="16200000" swAng="-5400000"/>
                <a:lnTo>
                  <a:pt x="0" y="42690"/>
                </a:lnTo>
                <a:arcTo wR="3600" hR="3600" stAng="10800000" swAng="-5400000"/>
                <a:lnTo>
                  <a:pt x="18000" y="462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16200000">
            <a:off x="1854000" y="3047760"/>
            <a:ext cx="533520" cy="1143000"/>
          </a:xfrm>
          <a:custGeom>
            <a:avLst/>
            <a:gdLst>
              <a:gd name="textAreaLeft" fmla="*/ 25920 w 533520"/>
              <a:gd name="textAreaRight" fmla="*/ 507600 w 533520"/>
              <a:gd name="textAreaTop" fmla="*/ 25920 h 1143000"/>
              <a:gd name="textAreaBottom" fmla="*/ 1117080 h 1143000"/>
            </a:gdLst>
            <a:ahLst/>
            <a:rect l="textAreaLeft" t="textAreaTop" r="textAreaRight" b="textAreaBottom"/>
            <a:pathLst>
              <a:path w="21600" h="46259">
                <a:moveTo>
                  <a:pt x="3600" y="0"/>
                </a:moveTo>
                <a:arcTo wR="3600" hR="3600" stAng="16200000" swAng="-5400000"/>
                <a:lnTo>
                  <a:pt x="0" y="42659"/>
                </a:lnTo>
                <a:arcTo wR="3600" hR="3600" stAng="10800000" swAng="-5400000"/>
                <a:lnTo>
                  <a:pt x="18000" y="462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rot="16200000">
            <a:off x="1854000" y="3352680"/>
            <a:ext cx="533520" cy="1143000"/>
          </a:xfrm>
          <a:custGeom>
            <a:avLst/>
            <a:gdLst>
              <a:gd name="textAreaLeft" fmla="*/ 25920 w 533520"/>
              <a:gd name="textAreaRight" fmla="*/ 507600 w 533520"/>
              <a:gd name="textAreaTop" fmla="*/ 25920 h 1143000"/>
              <a:gd name="textAreaBottom" fmla="*/ 1117080 h 1143000"/>
            </a:gdLst>
            <a:ahLst/>
            <a:rect l="textAreaLeft" t="textAreaTop" r="textAreaRight" b="textAreaBottom"/>
            <a:pathLst>
              <a:path w="21600" h="46259">
                <a:moveTo>
                  <a:pt x="3600" y="0"/>
                </a:moveTo>
                <a:arcTo wR="3600" hR="3600" stAng="16200000" swAng="-5400000"/>
                <a:lnTo>
                  <a:pt x="0" y="42659"/>
                </a:lnTo>
                <a:arcTo wR="3600" hR="3600" stAng="10800000" swAng="-5400000"/>
                <a:lnTo>
                  <a:pt x="18000" y="462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3276720"/>
            <a:ext cx="6606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A88C-190F-4464-9016-0E90A33C611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"/>
          <p:cNvGrpSpPr/>
          <p:nvPr/>
        </p:nvGrpSpPr>
        <p:grpSpPr>
          <a:xfrm>
            <a:off x="1996920" y="890640"/>
            <a:ext cx="6054840" cy="5137200"/>
            <a:chOff x="1996920" y="890640"/>
            <a:chExt cx="6054840" cy="5137200"/>
          </a:xfrm>
        </p:grpSpPr>
        <p:sp>
          <p:nvSpPr>
            <p:cNvPr id="406" name=""/>
            <p:cNvSpPr/>
            <p:nvPr/>
          </p:nvSpPr>
          <p:spPr>
            <a:xfrm>
              <a:off x="6781680" y="1646280"/>
              <a:ext cx="1270080" cy="33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C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'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'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C'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'D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'D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CD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149640" y="1627200"/>
              <a:ext cx="0" cy="354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022560" y="1550880"/>
              <a:ext cx="0" cy="361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730600" y="1550880"/>
              <a:ext cx="0" cy="361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565360" y="1627200"/>
              <a:ext cx="0" cy="354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146320" y="1550880"/>
              <a:ext cx="0" cy="361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273400" y="1627200"/>
              <a:ext cx="0" cy="354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422520" y="270036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422520" y="30052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3416400" y="26938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75160" y="270828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574800" y="269388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013120" y="285264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867120" y="2852640"/>
              <a:ext cx="28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3079800" y="144936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31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965320" y="144936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31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2952360" y="144324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130560" y="156384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-10440" bIns="-146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086280" y="13222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67680" bIns="-68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422520" y="159552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422520" y="19004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3416400" y="15890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575160" y="16034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574800" y="15890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013120" y="174780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867120" y="1747800"/>
              <a:ext cx="285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422520" y="19638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422520" y="22687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3416400" y="19573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575160" y="19717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574800" y="19573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013120" y="211608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867120" y="2116080"/>
              <a:ext cx="28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422520" y="233208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422520" y="263700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3416400" y="23256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575160" y="234000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574800" y="232560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013120" y="248436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867120" y="2484360"/>
              <a:ext cx="28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2787120" y="1449360"/>
              <a:ext cx="14004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31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673360" y="144936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31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2660400" y="144324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838600" y="156384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-10440" bIns="-146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793960" y="13222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67680" bIns="-68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857680" y="1627200"/>
              <a:ext cx="0" cy="355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2495520" y="144936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31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381400" y="144936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31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2368080" y="144324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546280" y="156384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-10440" bIns="-146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502000" y="13222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67680" bIns="-68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438280" y="1550880"/>
              <a:ext cx="0" cy="361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2203560" y="144936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31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089080" y="144936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31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2076120" y="144324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254320" y="156384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-10440" bIns="-146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209680" y="13222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67680" bIns="-68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422520" y="305604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422520" y="33609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3416400" y="30495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575160" y="30639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574800" y="304956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013120" y="320832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867120" y="3208320"/>
              <a:ext cx="289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422520" y="341172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422520" y="37162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3416400" y="34052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575160" y="34196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574800" y="34052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013120" y="356400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867120" y="3564000"/>
              <a:ext cx="28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422520" y="376704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422520" y="40719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3416400" y="37609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575160" y="37749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574800" y="37609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013120" y="391968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867120" y="3919680"/>
              <a:ext cx="28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422520" y="412272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422520" y="44276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3416400" y="4116240"/>
              <a:ext cx="0" cy="31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575160" y="41306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574800" y="4116960"/>
              <a:ext cx="291960" cy="31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013120" y="427536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867120" y="4275360"/>
              <a:ext cx="285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422520" y="44784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422520" y="47833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3416400" y="44719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575160" y="44863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574800" y="44719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013120" y="463068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867120" y="4630680"/>
              <a:ext cx="285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422520" y="483408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422520" y="51386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3416400" y="48276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575160" y="484200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574800" y="482760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013120" y="498636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67120" y="4986360"/>
              <a:ext cx="28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114800" y="1550880"/>
              <a:ext cx="0" cy="360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6" name=""/>
            <p:cNvGrpSpPr/>
            <p:nvPr/>
          </p:nvGrpSpPr>
          <p:grpSpPr>
            <a:xfrm>
              <a:off x="3968640" y="4624920"/>
              <a:ext cx="306360" cy="1065960"/>
              <a:chOff x="3968640" y="4624920"/>
              <a:chExt cx="306360" cy="1065960"/>
            </a:xfrm>
          </p:grpSpPr>
          <p:sp>
            <p:nvSpPr>
              <p:cNvPr id="507" name=""/>
              <p:cNvSpPr/>
              <p:nvPr/>
            </p:nvSpPr>
            <p:spPr>
              <a:xfrm>
                <a:off x="3994200" y="5031360"/>
                <a:ext cx="26640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968640" y="4624920"/>
                <a:ext cx="291960" cy="95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983040" y="4675680"/>
                <a:ext cx="291960" cy="90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983040" y="5031360"/>
                <a:ext cx="29196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114800" y="5576760"/>
                <a:ext cx="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880" rIns="90000" tIns="67320" bIns="-68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2" name=""/>
            <p:cNvSpPr/>
            <p:nvPr/>
          </p:nvSpPr>
          <p:spPr>
            <a:xfrm>
              <a:off x="4470480" y="1550880"/>
              <a:ext cx="0" cy="360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3" name=""/>
            <p:cNvGrpSpPr/>
            <p:nvPr/>
          </p:nvGrpSpPr>
          <p:grpSpPr>
            <a:xfrm>
              <a:off x="4324680" y="4624920"/>
              <a:ext cx="305280" cy="1065960"/>
              <a:chOff x="4324680" y="4624920"/>
              <a:chExt cx="305280" cy="1065960"/>
            </a:xfrm>
          </p:grpSpPr>
          <p:sp>
            <p:nvSpPr>
              <p:cNvPr id="514" name=""/>
              <p:cNvSpPr/>
              <p:nvPr/>
            </p:nvSpPr>
            <p:spPr>
              <a:xfrm>
                <a:off x="4349880" y="5031360"/>
                <a:ext cx="2660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324680" y="4624920"/>
                <a:ext cx="291240" cy="95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338720" y="4675680"/>
                <a:ext cx="291240" cy="90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338720" y="5031360"/>
                <a:ext cx="2912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470480" y="5576760"/>
                <a:ext cx="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880" rIns="90000" tIns="67320" bIns="-68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9" name=""/>
            <p:cNvSpPr/>
            <p:nvPr/>
          </p:nvSpPr>
          <p:spPr>
            <a:xfrm>
              <a:off x="4826160" y="1550880"/>
              <a:ext cx="0" cy="360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0" name=""/>
            <p:cNvGrpSpPr/>
            <p:nvPr/>
          </p:nvGrpSpPr>
          <p:grpSpPr>
            <a:xfrm>
              <a:off x="4680360" y="4624920"/>
              <a:ext cx="305280" cy="1065960"/>
              <a:chOff x="4680360" y="4624920"/>
              <a:chExt cx="305280" cy="1065960"/>
            </a:xfrm>
          </p:grpSpPr>
          <p:sp>
            <p:nvSpPr>
              <p:cNvPr id="521" name=""/>
              <p:cNvSpPr/>
              <p:nvPr/>
            </p:nvSpPr>
            <p:spPr>
              <a:xfrm>
                <a:off x="4705560" y="5031360"/>
                <a:ext cx="2660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680360" y="4624920"/>
                <a:ext cx="291240" cy="95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694400" y="4675680"/>
                <a:ext cx="291240" cy="90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694400" y="5031360"/>
                <a:ext cx="2912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826160" y="5576760"/>
                <a:ext cx="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880" rIns="90000" tIns="67320" bIns="-68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6" name=""/>
            <p:cNvSpPr/>
            <p:nvPr/>
          </p:nvSpPr>
          <p:spPr>
            <a:xfrm>
              <a:off x="5194440" y="1550880"/>
              <a:ext cx="0" cy="360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7" name=""/>
            <p:cNvGrpSpPr/>
            <p:nvPr/>
          </p:nvGrpSpPr>
          <p:grpSpPr>
            <a:xfrm>
              <a:off x="5048640" y="4624920"/>
              <a:ext cx="305280" cy="1065960"/>
              <a:chOff x="5048640" y="4624920"/>
              <a:chExt cx="305280" cy="1065960"/>
            </a:xfrm>
          </p:grpSpPr>
          <p:sp>
            <p:nvSpPr>
              <p:cNvPr id="528" name=""/>
              <p:cNvSpPr/>
              <p:nvPr/>
            </p:nvSpPr>
            <p:spPr>
              <a:xfrm>
                <a:off x="5073840" y="5031360"/>
                <a:ext cx="2660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048640" y="4624920"/>
                <a:ext cx="291240" cy="95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062680" y="4675680"/>
                <a:ext cx="291240" cy="90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062680" y="5031360"/>
                <a:ext cx="2912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194440" y="5576760"/>
                <a:ext cx="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880" rIns="90000" tIns="67320" bIns="-68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3" name=""/>
            <p:cNvSpPr/>
            <p:nvPr/>
          </p:nvSpPr>
          <p:spPr>
            <a:xfrm>
              <a:off x="5562720" y="1550880"/>
              <a:ext cx="0" cy="360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4" name=""/>
            <p:cNvGrpSpPr/>
            <p:nvPr/>
          </p:nvGrpSpPr>
          <p:grpSpPr>
            <a:xfrm>
              <a:off x="5416920" y="4624920"/>
              <a:ext cx="305280" cy="1065960"/>
              <a:chOff x="5416920" y="4624920"/>
              <a:chExt cx="305280" cy="1065960"/>
            </a:xfrm>
          </p:grpSpPr>
          <p:sp>
            <p:nvSpPr>
              <p:cNvPr id="535" name=""/>
              <p:cNvSpPr/>
              <p:nvPr/>
            </p:nvSpPr>
            <p:spPr>
              <a:xfrm>
                <a:off x="5442120" y="5031360"/>
                <a:ext cx="2660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416920" y="4624920"/>
                <a:ext cx="291240" cy="95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430960" y="4675680"/>
                <a:ext cx="291240" cy="90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430960" y="5031360"/>
                <a:ext cx="2912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562720" y="5576760"/>
                <a:ext cx="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880" rIns="90000" tIns="67320" bIns="-68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0" name=""/>
            <p:cNvSpPr/>
            <p:nvPr/>
          </p:nvSpPr>
          <p:spPr>
            <a:xfrm>
              <a:off x="5918040" y="1550880"/>
              <a:ext cx="0" cy="360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1" name=""/>
            <p:cNvGrpSpPr/>
            <p:nvPr/>
          </p:nvGrpSpPr>
          <p:grpSpPr>
            <a:xfrm>
              <a:off x="5771880" y="4624920"/>
              <a:ext cx="306360" cy="1065960"/>
              <a:chOff x="5771880" y="4624920"/>
              <a:chExt cx="306360" cy="1065960"/>
            </a:xfrm>
          </p:grpSpPr>
          <p:sp>
            <p:nvSpPr>
              <p:cNvPr id="542" name=""/>
              <p:cNvSpPr/>
              <p:nvPr/>
            </p:nvSpPr>
            <p:spPr>
              <a:xfrm>
                <a:off x="5797800" y="5031360"/>
                <a:ext cx="2660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771880" y="4624920"/>
                <a:ext cx="291960" cy="95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786280" y="4675680"/>
                <a:ext cx="291960" cy="90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786280" y="5031360"/>
                <a:ext cx="29196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5918040" y="5576760"/>
                <a:ext cx="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880" rIns="90000" tIns="67320" bIns="-68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7" name=""/>
            <p:cNvSpPr/>
            <p:nvPr/>
          </p:nvSpPr>
          <p:spPr>
            <a:xfrm>
              <a:off x="6273720" y="1550880"/>
              <a:ext cx="0" cy="360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8" name=""/>
            <p:cNvGrpSpPr/>
            <p:nvPr/>
          </p:nvGrpSpPr>
          <p:grpSpPr>
            <a:xfrm>
              <a:off x="6127560" y="4624920"/>
              <a:ext cx="306360" cy="1065960"/>
              <a:chOff x="6127560" y="4624920"/>
              <a:chExt cx="306360" cy="1065960"/>
            </a:xfrm>
          </p:grpSpPr>
          <p:sp>
            <p:nvSpPr>
              <p:cNvPr id="549" name=""/>
              <p:cNvSpPr/>
              <p:nvPr/>
            </p:nvSpPr>
            <p:spPr>
              <a:xfrm>
                <a:off x="6153480" y="5031360"/>
                <a:ext cx="2660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127560" y="4624920"/>
                <a:ext cx="291960" cy="95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141960" y="4675680"/>
                <a:ext cx="291960" cy="90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6141960" y="5031360"/>
                <a:ext cx="29196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6273720" y="5576760"/>
                <a:ext cx="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880" rIns="90000" tIns="67320" bIns="-68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4" name=""/>
            <p:cNvSpPr/>
            <p:nvPr/>
          </p:nvSpPr>
          <p:spPr>
            <a:xfrm>
              <a:off x="6642000" y="1550880"/>
              <a:ext cx="0" cy="360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5" name=""/>
            <p:cNvGrpSpPr/>
            <p:nvPr/>
          </p:nvGrpSpPr>
          <p:grpSpPr>
            <a:xfrm>
              <a:off x="6495840" y="4624920"/>
              <a:ext cx="306360" cy="1065960"/>
              <a:chOff x="6495840" y="4624920"/>
              <a:chExt cx="306360" cy="1065960"/>
            </a:xfrm>
          </p:grpSpPr>
          <p:sp>
            <p:nvSpPr>
              <p:cNvPr id="556" name=""/>
              <p:cNvSpPr/>
              <p:nvPr/>
            </p:nvSpPr>
            <p:spPr>
              <a:xfrm>
                <a:off x="6521760" y="5031360"/>
                <a:ext cx="2660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495840" y="4624920"/>
                <a:ext cx="291960" cy="95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510240" y="4675680"/>
                <a:ext cx="291960" cy="90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510240" y="5031360"/>
                <a:ext cx="29196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642000" y="5576760"/>
                <a:ext cx="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880" rIns="90000" tIns="67320" bIns="-68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1" name=""/>
            <p:cNvSpPr/>
            <p:nvPr/>
          </p:nvSpPr>
          <p:spPr>
            <a:xfrm>
              <a:off x="1996920" y="890640"/>
              <a:ext cx="140976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19080" tIns="182880" bIns="27000" anchor="t">
              <a:noAutofit/>
            </a:bodyPr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279360"/>
                  <a:tab algn="l" pos="571680"/>
                  <a:tab algn="l" pos="851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835440" y="5545080"/>
              <a:ext cx="306072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19080" tIns="182880" bIns="27000" anchor="t">
              <a:noAutofit/>
            </a:bodyPr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393840"/>
                  <a:tab algn="l" pos="800280"/>
                  <a:tab algn="l" pos="1193760"/>
                  <a:tab algn="l" pos="1598760"/>
                  <a:tab algn="l" pos="199404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0  C1  C2  C3  C4  C5  C6  C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LA implement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2361960" y="1671480"/>
            <a:ext cx="574920" cy="152280"/>
            <a:chOff x="2361960" y="1671480"/>
            <a:chExt cx="574920" cy="152280"/>
          </a:xfrm>
        </p:grpSpPr>
        <p:grpSp>
          <p:nvGrpSpPr>
            <p:cNvPr id="565" name=""/>
            <p:cNvGrpSpPr/>
            <p:nvPr/>
          </p:nvGrpSpPr>
          <p:grpSpPr>
            <a:xfrm>
              <a:off x="2361960" y="1671480"/>
              <a:ext cx="152640" cy="152280"/>
              <a:chOff x="2361960" y="1671480"/>
              <a:chExt cx="152640" cy="152280"/>
            </a:xfrm>
          </p:grpSpPr>
          <p:sp>
            <p:nvSpPr>
              <p:cNvPr id="566" name=""/>
              <p:cNvSpPr/>
              <p:nvPr/>
            </p:nvSpPr>
            <p:spPr>
              <a:xfrm>
                <a:off x="2362320" y="16714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H="1">
                <a:off x="2361960" y="16714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8" name=""/>
            <p:cNvGrpSpPr/>
            <p:nvPr/>
          </p:nvGrpSpPr>
          <p:grpSpPr>
            <a:xfrm>
              <a:off x="2784240" y="1671480"/>
              <a:ext cx="152640" cy="152280"/>
              <a:chOff x="2784240" y="1671480"/>
              <a:chExt cx="152640" cy="152280"/>
            </a:xfrm>
          </p:grpSpPr>
          <p:sp>
            <p:nvSpPr>
              <p:cNvPr id="569" name=""/>
              <p:cNvSpPr/>
              <p:nvPr/>
            </p:nvSpPr>
            <p:spPr>
              <a:xfrm>
                <a:off x="2784600" y="16714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H="1">
                <a:off x="2784240" y="16714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1" name=""/>
          <p:cNvGrpSpPr/>
          <p:nvPr/>
        </p:nvGrpSpPr>
        <p:grpSpPr>
          <a:xfrm>
            <a:off x="2488680" y="2033640"/>
            <a:ext cx="324360" cy="152280"/>
            <a:chOff x="2488680" y="2033640"/>
            <a:chExt cx="324360" cy="152280"/>
          </a:xfrm>
        </p:grpSpPr>
        <p:grpSp>
          <p:nvGrpSpPr>
            <p:cNvPr id="572" name=""/>
            <p:cNvGrpSpPr/>
            <p:nvPr/>
          </p:nvGrpSpPr>
          <p:grpSpPr>
            <a:xfrm>
              <a:off x="2660400" y="2033640"/>
              <a:ext cx="152640" cy="152280"/>
              <a:chOff x="2660400" y="2033640"/>
              <a:chExt cx="152640" cy="152280"/>
            </a:xfrm>
          </p:grpSpPr>
          <p:sp>
            <p:nvSpPr>
              <p:cNvPr id="573" name=""/>
              <p:cNvSpPr/>
              <p:nvPr/>
            </p:nvSpPr>
            <p:spPr>
              <a:xfrm>
                <a:off x="2660760" y="20336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>
                <a:off x="2660400" y="20336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2488680" y="2033640"/>
              <a:ext cx="152640" cy="152280"/>
              <a:chOff x="2488680" y="2033640"/>
              <a:chExt cx="152640" cy="152280"/>
            </a:xfrm>
          </p:grpSpPr>
          <p:sp>
            <p:nvSpPr>
              <p:cNvPr id="576" name=""/>
              <p:cNvSpPr/>
              <p:nvPr/>
            </p:nvSpPr>
            <p:spPr>
              <a:xfrm>
                <a:off x="2489040" y="20336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2488680" y="20336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8" name=""/>
          <p:cNvGrpSpPr/>
          <p:nvPr/>
        </p:nvGrpSpPr>
        <p:grpSpPr>
          <a:xfrm>
            <a:off x="2488680" y="2405160"/>
            <a:ext cx="609840" cy="152280"/>
            <a:chOff x="2488680" y="2405160"/>
            <a:chExt cx="609840" cy="152280"/>
          </a:xfrm>
        </p:grpSpPr>
        <p:grpSp>
          <p:nvGrpSpPr>
            <p:cNvPr id="579" name=""/>
            <p:cNvGrpSpPr/>
            <p:nvPr/>
          </p:nvGrpSpPr>
          <p:grpSpPr>
            <a:xfrm>
              <a:off x="2945880" y="2405160"/>
              <a:ext cx="152640" cy="152280"/>
              <a:chOff x="2945880" y="2405160"/>
              <a:chExt cx="152640" cy="152280"/>
            </a:xfrm>
          </p:grpSpPr>
          <p:sp>
            <p:nvSpPr>
              <p:cNvPr id="580" name=""/>
              <p:cNvSpPr/>
              <p:nvPr/>
            </p:nvSpPr>
            <p:spPr>
              <a:xfrm>
                <a:off x="2946240" y="24051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H="1">
                <a:off x="2945880" y="24051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2" name=""/>
            <p:cNvGrpSpPr/>
            <p:nvPr/>
          </p:nvGrpSpPr>
          <p:grpSpPr>
            <a:xfrm>
              <a:off x="2488680" y="2405160"/>
              <a:ext cx="152640" cy="152280"/>
              <a:chOff x="2488680" y="2405160"/>
              <a:chExt cx="152640" cy="152280"/>
            </a:xfrm>
          </p:grpSpPr>
          <p:sp>
            <p:nvSpPr>
              <p:cNvPr id="583" name=""/>
              <p:cNvSpPr/>
              <p:nvPr/>
            </p:nvSpPr>
            <p:spPr>
              <a:xfrm>
                <a:off x="2489040" y="24051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>
                <a:off x="2488680" y="24051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5" name=""/>
          <p:cNvGrpSpPr/>
          <p:nvPr/>
        </p:nvGrpSpPr>
        <p:grpSpPr>
          <a:xfrm>
            <a:off x="2364840" y="2776680"/>
            <a:ext cx="733680" cy="152280"/>
            <a:chOff x="2364840" y="2776680"/>
            <a:chExt cx="733680" cy="152280"/>
          </a:xfrm>
        </p:grpSpPr>
        <p:grpSp>
          <p:nvGrpSpPr>
            <p:cNvPr id="586" name=""/>
            <p:cNvGrpSpPr/>
            <p:nvPr/>
          </p:nvGrpSpPr>
          <p:grpSpPr>
            <a:xfrm>
              <a:off x="2364840" y="2776680"/>
              <a:ext cx="152640" cy="152280"/>
              <a:chOff x="2364840" y="2776680"/>
              <a:chExt cx="152640" cy="152280"/>
            </a:xfrm>
          </p:grpSpPr>
          <p:sp>
            <p:nvSpPr>
              <p:cNvPr id="587" name=""/>
              <p:cNvSpPr/>
              <p:nvPr/>
            </p:nvSpPr>
            <p:spPr>
              <a:xfrm>
                <a:off x="2365200" y="2776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H="1">
                <a:off x="2364840" y="2776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2784240" y="2776680"/>
              <a:ext cx="152640" cy="152280"/>
              <a:chOff x="2784240" y="2776680"/>
              <a:chExt cx="152640" cy="152280"/>
            </a:xfrm>
          </p:grpSpPr>
          <p:sp>
            <p:nvSpPr>
              <p:cNvPr id="590" name=""/>
              <p:cNvSpPr/>
              <p:nvPr/>
            </p:nvSpPr>
            <p:spPr>
              <a:xfrm>
                <a:off x="2784600" y="2776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2784240" y="2776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2945880" y="2776680"/>
              <a:ext cx="152640" cy="152280"/>
              <a:chOff x="2945880" y="2776680"/>
              <a:chExt cx="152640" cy="152280"/>
            </a:xfrm>
          </p:grpSpPr>
          <p:sp>
            <p:nvSpPr>
              <p:cNvPr id="593" name=""/>
              <p:cNvSpPr/>
              <p:nvPr/>
            </p:nvSpPr>
            <p:spPr>
              <a:xfrm>
                <a:off x="2946240" y="2776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>
                <a:off x="2945880" y="2776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5" name=""/>
          <p:cNvGrpSpPr/>
          <p:nvPr/>
        </p:nvGrpSpPr>
        <p:grpSpPr>
          <a:xfrm>
            <a:off x="2069640" y="3129120"/>
            <a:ext cx="1162440" cy="1571400"/>
            <a:chOff x="2069640" y="3129120"/>
            <a:chExt cx="1162440" cy="1571400"/>
          </a:xfrm>
        </p:grpSpPr>
        <p:grpSp>
          <p:nvGrpSpPr>
            <p:cNvPr id="596" name=""/>
            <p:cNvGrpSpPr/>
            <p:nvPr/>
          </p:nvGrpSpPr>
          <p:grpSpPr>
            <a:xfrm>
              <a:off x="2784240" y="3129120"/>
              <a:ext cx="152640" cy="152280"/>
              <a:chOff x="2784240" y="3129120"/>
              <a:chExt cx="152640" cy="152280"/>
            </a:xfrm>
          </p:grpSpPr>
          <p:sp>
            <p:nvSpPr>
              <p:cNvPr id="597" name=""/>
              <p:cNvSpPr/>
              <p:nvPr/>
            </p:nvSpPr>
            <p:spPr>
              <a:xfrm>
                <a:off x="2784600" y="31291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H="1">
                <a:off x="2784240" y="31291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3079440" y="3129120"/>
              <a:ext cx="152640" cy="152280"/>
              <a:chOff x="3079440" y="3129120"/>
              <a:chExt cx="152640" cy="152280"/>
            </a:xfrm>
          </p:grpSpPr>
          <p:sp>
            <p:nvSpPr>
              <p:cNvPr id="600" name=""/>
              <p:cNvSpPr/>
              <p:nvPr/>
            </p:nvSpPr>
            <p:spPr>
              <a:xfrm>
                <a:off x="3079800" y="31291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3079440" y="31291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2945880" y="3481560"/>
              <a:ext cx="152640" cy="152280"/>
              <a:chOff x="2945880" y="3481560"/>
              <a:chExt cx="152640" cy="152280"/>
            </a:xfrm>
          </p:grpSpPr>
          <p:sp>
            <p:nvSpPr>
              <p:cNvPr id="603" name=""/>
              <p:cNvSpPr/>
              <p:nvPr/>
            </p:nvSpPr>
            <p:spPr>
              <a:xfrm>
                <a:off x="2946240" y="3481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H="1">
                <a:off x="2945880" y="3481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5" name=""/>
            <p:cNvGrpSpPr/>
            <p:nvPr/>
          </p:nvGrpSpPr>
          <p:grpSpPr>
            <a:xfrm>
              <a:off x="2660400" y="3481560"/>
              <a:ext cx="152640" cy="152280"/>
              <a:chOff x="2660400" y="3481560"/>
              <a:chExt cx="152640" cy="152280"/>
            </a:xfrm>
          </p:grpSpPr>
          <p:sp>
            <p:nvSpPr>
              <p:cNvPr id="606" name=""/>
              <p:cNvSpPr/>
              <p:nvPr/>
            </p:nvSpPr>
            <p:spPr>
              <a:xfrm>
                <a:off x="2660760" y="3481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>
                <a:off x="2660400" y="3481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2488680" y="3843360"/>
              <a:ext cx="152640" cy="152280"/>
              <a:chOff x="2488680" y="3843360"/>
              <a:chExt cx="152640" cy="152280"/>
            </a:xfrm>
          </p:grpSpPr>
          <p:sp>
            <p:nvSpPr>
              <p:cNvPr id="609" name=""/>
              <p:cNvSpPr/>
              <p:nvPr/>
            </p:nvSpPr>
            <p:spPr>
              <a:xfrm>
                <a:off x="2489040" y="38433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>
                <a:off x="2488680" y="38433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3079440" y="3843360"/>
              <a:ext cx="152640" cy="152280"/>
              <a:chOff x="3079440" y="3843360"/>
              <a:chExt cx="152640" cy="152280"/>
            </a:xfrm>
          </p:grpSpPr>
          <p:sp>
            <p:nvSpPr>
              <p:cNvPr id="612" name=""/>
              <p:cNvSpPr/>
              <p:nvPr/>
            </p:nvSpPr>
            <p:spPr>
              <a:xfrm>
                <a:off x="3079800" y="38433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>
                <a:off x="3079440" y="38433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4" name=""/>
            <p:cNvGrpSpPr/>
            <p:nvPr/>
          </p:nvGrpSpPr>
          <p:grpSpPr>
            <a:xfrm>
              <a:off x="2069640" y="4195800"/>
              <a:ext cx="152640" cy="152280"/>
              <a:chOff x="2069640" y="4195800"/>
              <a:chExt cx="152640" cy="152280"/>
            </a:xfrm>
          </p:grpSpPr>
          <p:sp>
            <p:nvSpPr>
              <p:cNvPr id="615" name=""/>
              <p:cNvSpPr/>
              <p:nvPr/>
            </p:nvSpPr>
            <p:spPr>
              <a:xfrm>
                <a:off x="2070000" y="419580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>
                <a:off x="2069640" y="419580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7" name=""/>
            <p:cNvGrpSpPr/>
            <p:nvPr/>
          </p:nvGrpSpPr>
          <p:grpSpPr>
            <a:xfrm>
              <a:off x="2364840" y="4548240"/>
              <a:ext cx="152640" cy="152280"/>
              <a:chOff x="2364840" y="4548240"/>
              <a:chExt cx="152640" cy="152280"/>
            </a:xfrm>
          </p:grpSpPr>
          <p:sp>
            <p:nvSpPr>
              <p:cNvPr id="618" name=""/>
              <p:cNvSpPr/>
              <p:nvPr/>
            </p:nvSpPr>
            <p:spPr>
              <a:xfrm>
                <a:off x="2365200" y="4548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>
                <a:off x="2364840" y="4548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0" name=""/>
            <p:cNvGrpSpPr/>
            <p:nvPr/>
          </p:nvGrpSpPr>
          <p:grpSpPr>
            <a:xfrm>
              <a:off x="2660400" y="4548240"/>
              <a:ext cx="152640" cy="152280"/>
              <a:chOff x="2660400" y="4548240"/>
              <a:chExt cx="152640" cy="152280"/>
            </a:xfrm>
          </p:grpSpPr>
          <p:sp>
            <p:nvSpPr>
              <p:cNvPr id="621" name=""/>
              <p:cNvSpPr/>
              <p:nvPr/>
            </p:nvSpPr>
            <p:spPr>
              <a:xfrm>
                <a:off x="2660760" y="4548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>
                <a:off x="2660400" y="4548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3079440" y="4548240"/>
              <a:ext cx="152640" cy="152280"/>
              <a:chOff x="3079440" y="4548240"/>
              <a:chExt cx="152640" cy="152280"/>
            </a:xfrm>
          </p:grpSpPr>
          <p:sp>
            <p:nvSpPr>
              <p:cNvPr id="624" name=""/>
              <p:cNvSpPr/>
              <p:nvPr/>
            </p:nvSpPr>
            <p:spPr>
              <a:xfrm>
                <a:off x="3079800" y="4548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3079440" y="4548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6" name=""/>
          <p:cNvGrpSpPr/>
          <p:nvPr/>
        </p:nvGrpSpPr>
        <p:grpSpPr>
          <a:xfrm>
            <a:off x="4041360" y="2776680"/>
            <a:ext cx="152640" cy="1923840"/>
            <a:chOff x="4041360" y="2776680"/>
            <a:chExt cx="152640" cy="1923840"/>
          </a:xfrm>
        </p:grpSpPr>
        <p:grpSp>
          <p:nvGrpSpPr>
            <p:cNvPr id="627" name=""/>
            <p:cNvGrpSpPr/>
            <p:nvPr/>
          </p:nvGrpSpPr>
          <p:grpSpPr>
            <a:xfrm>
              <a:off x="4041360" y="2776680"/>
              <a:ext cx="152640" cy="152280"/>
              <a:chOff x="4041360" y="2776680"/>
              <a:chExt cx="152640" cy="152280"/>
            </a:xfrm>
          </p:grpSpPr>
          <p:sp>
            <p:nvSpPr>
              <p:cNvPr id="628" name=""/>
              <p:cNvSpPr/>
              <p:nvPr/>
            </p:nvSpPr>
            <p:spPr>
              <a:xfrm>
                <a:off x="4041720" y="2776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>
                <a:off x="4041360" y="2776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4041360" y="3481560"/>
              <a:ext cx="152640" cy="152280"/>
              <a:chOff x="4041360" y="3481560"/>
              <a:chExt cx="152640" cy="152280"/>
            </a:xfrm>
          </p:grpSpPr>
          <p:sp>
            <p:nvSpPr>
              <p:cNvPr id="631" name=""/>
              <p:cNvSpPr/>
              <p:nvPr/>
            </p:nvSpPr>
            <p:spPr>
              <a:xfrm>
                <a:off x="4041720" y="3481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>
                <a:off x="4041360" y="3481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3" name=""/>
            <p:cNvGrpSpPr/>
            <p:nvPr/>
          </p:nvGrpSpPr>
          <p:grpSpPr>
            <a:xfrm>
              <a:off x="4041360" y="3843360"/>
              <a:ext cx="152640" cy="152280"/>
              <a:chOff x="4041360" y="3843360"/>
              <a:chExt cx="152640" cy="152280"/>
            </a:xfrm>
          </p:grpSpPr>
          <p:sp>
            <p:nvSpPr>
              <p:cNvPr id="634" name=""/>
              <p:cNvSpPr/>
              <p:nvPr/>
            </p:nvSpPr>
            <p:spPr>
              <a:xfrm>
                <a:off x="4041720" y="38433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>
                <a:off x="4041360" y="38433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6" name=""/>
            <p:cNvGrpSpPr/>
            <p:nvPr/>
          </p:nvGrpSpPr>
          <p:grpSpPr>
            <a:xfrm>
              <a:off x="4041360" y="4548240"/>
              <a:ext cx="152640" cy="152280"/>
              <a:chOff x="4041360" y="4548240"/>
              <a:chExt cx="152640" cy="152280"/>
            </a:xfrm>
          </p:grpSpPr>
          <p:sp>
            <p:nvSpPr>
              <p:cNvPr id="637" name=""/>
              <p:cNvSpPr/>
              <p:nvPr/>
            </p:nvSpPr>
            <p:spPr>
              <a:xfrm>
                <a:off x="4041720" y="4548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H="1">
                <a:off x="4041360" y="4548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9" name=""/>
          <p:cNvGrpSpPr/>
          <p:nvPr/>
        </p:nvGrpSpPr>
        <p:grpSpPr>
          <a:xfrm>
            <a:off x="4393800" y="2405160"/>
            <a:ext cx="152640" cy="1590480"/>
            <a:chOff x="4393800" y="2405160"/>
            <a:chExt cx="152640" cy="1590480"/>
          </a:xfrm>
        </p:grpSpPr>
        <p:grpSp>
          <p:nvGrpSpPr>
            <p:cNvPr id="640" name=""/>
            <p:cNvGrpSpPr/>
            <p:nvPr/>
          </p:nvGrpSpPr>
          <p:grpSpPr>
            <a:xfrm>
              <a:off x="4393800" y="2405160"/>
              <a:ext cx="152640" cy="152280"/>
              <a:chOff x="4393800" y="2405160"/>
              <a:chExt cx="152640" cy="152280"/>
            </a:xfrm>
          </p:grpSpPr>
          <p:sp>
            <p:nvSpPr>
              <p:cNvPr id="641" name=""/>
              <p:cNvSpPr/>
              <p:nvPr/>
            </p:nvSpPr>
            <p:spPr>
              <a:xfrm>
                <a:off x="4394160" y="24051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flipH="1">
                <a:off x="4393800" y="24051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3" name=""/>
            <p:cNvGrpSpPr/>
            <p:nvPr/>
          </p:nvGrpSpPr>
          <p:grpSpPr>
            <a:xfrm>
              <a:off x="4393800" y="3129120"/>
              <a:ext cx="152640" cy="152280"/>
              <a:chOff x="4393800" y="3129120"/>
              <a:chExt cx="152640" cy="152280"/>
            </a:xfrm>
          </p:grpSpPr>
          <p:sp>
            <p:nvSpPr>
              <p:cNvPr id="644" name=""/>
              <p:cNvSpPr/>
              <p:nvPr/>
            </p:nvSpPr>
            <p:spPr>
              <a:xfrm>
                <a:off x="4394160" y="31291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H="1">
                <a:off x="4393800" y="31291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6" name=""/>
            <p:cNvGrpSpPr/>
            <p:nvPr/>
          </p:nvGrpSpPr>
          <p:grpSpPr>
            <a:xfrm>
              <a:off x="4393800" y="3481560"/>
              <a:ext cx="152640" cy="152280"/>
              <a:chOff x="4393800" y="3481560"/>
              <a:chExt cx="152640" cy="152280"/>
            </a:xfrm>
          </p:grpSpPr>
          <p:sp>
            <p:nvSpPr>
              <p:cNvPr id="647" name=""/>
              <p:cNvSpPr/>
              <p:nvPr/>
            </p:nvSpPr>
            <p:spPr>
              <a:xfrm>
                <a:off x="4394160" y="3481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H="1">
                <a:off x="4393800" y="3481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9" name=""/>
            <p:cNvGrpSpPr/>
            <p:nvPr/>
          </p:nvGrpSpPr>
          <p:grpSpPr>
            <a:xfrm>
              <a:off x="4393800" y="3843360"/>
              <a:ext cx="152640" cy="152280"/>
              <a:chOff x="4393800" y="3843360"/>
              <a:chExt cx="152640" cy="152280"/>
            </a:xfrm>
          </p:grpSpPr>
          <p:sp>
            <p:nvSpPr>
              <p:cNvPr id="650" name=""/>
              <p:cNvSpPr/>
              <p:nvPr/>
            </p:nvSpPr>
            <p:spPr>
              <a:xfrm>
                <a:off x="4394160" y="38433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H="1">
                <a:off x="4393800" y="38433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2" name=""/>
          <p:cNvGrpSpPr/>
          <p:nvPr/>
        </p:nvGrpSpPr>
        <p:grpSpPr>
          <a:xfrm>
            <a:off x="4755960" y="2405160"/>
            <a:ext cx="152640" cy="2295360"/>
            <a:chOff x="4755960" y="2405160"/>
            <a:chExt cx="152640" cy="2295360"/>
          </a:xfrm>
        </p:grpSpPr>
        <p:grpSp>
          <p:nvGrpSpPr>
            <p:cNvPr id="653" name=""/>
            <p:cNvGrpSpPr/>
            <p:nvPr/>
          </p:nvGrpSpPr>
          <p:grpSpPr>
            <a:xfrm>
              <a:off x="4755960" y="2405160"/>
              <a:ext cx="152640" cy="152280"/>
              <a:chOff x="4755960" y="2405160"/>
              <a:chExt cx="152640" cy="152280"/>
            </a:xfrm>
          </p:grpSpPr>
          <p:sp>
            <p:nvSpPr>
              <p:cNvPr id="654" name=""/>
              <p:cNvSpPr/>
              <p:nvPr/>
            </p:nvSpPr>
            <p:spPr>
              <a:xfrm>
                <a:off x="4756320" y="24051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flipH="1">
                <a:off x="4755960" y="24051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6" name=""/>
            <p:cNvGrpSpPr/>
            <p:nvPr/>
          </p:nvGrpSpPr>
          <p:grpSpPr>
            <a:xfrm>
              <a:off x="4755960" y="2776680"/>
              <a:ext cx="152640" cy="152280"/>
              <a:chOff x="4755960" y="2776680"/>
              <a:chExt cx="152640" cy="152280"/>
            </a:xfrm>
          </p:grpSpPr>
          <p:sp>
            <p:nvSpPr>
              <p:cNvPr id="657" name=""/>
              <p:cNvSpPr/>
              <p:nvPr/>
            </p:nvSpPr>
            <p:spPr>
              <a:xfrm>
                <a:off x="4756320" y="2776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flipH="1">
                <a:off x="4755960" y="2776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4755960" y="3129120"/>
              <a:ext cx="152640" cy="152280"/>
              <a:chOff x="4755960" y="3129120"/>
              <a:chExt cx="152640" cy="152280"/>
            </a:xfrm>
          </p:grpSpPr>
          <p:sp>
            <p:nvSpPr>
              <p:cNvPr id="660" name=""/>
              <p:cNvSpPr/>
              <p:nvPr/>
            </p:nvSpPr>
            <p:spPr>
              <a:xfrm>
                <a:off x="4756320" y="31291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H="1">
                <a:off x="4755960" y="31291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2" name=""/>
            <p:cNvGrpSpPr/>
            <p:nvPr/>
          </p:nvGrpSpPr>
          <p:grpSpPr>
            <a:xfrm>
              <a:off x="4755960" y="3481560"/>
              <a:ext cx="152640" cy="152280"/>
              <a:chOff x="4755960" y="3481560"/>
              <a:chExt cx="152640" cy="152280"/>
            </a:xfrm>
          </p:grpSpPr>
          <p:sp>
            <p:nvSpPr>
              <p:cNvPr id="663" name=""/>
              <p:cNvSpPr/>
              <p:nvPr/>
            </p:nvSpPr>
            <p:spPr>
              <a:xfrm>
                <a:off x="4756320" y="3481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H="1">
                <a:off x="4755960" y="3481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5" name=""/>
            <p:cNvGrpSpPr/>
            <p:nvPr/>
          </p:nvGrpSpPr>
          <p:grpSpPr>
            <a:xfrm>
              <a:off x="4755960" y="4548240"/>
              <a:ext cx="152640" cy="152280"/>
              <a:chOff x="4755960" y="4548240"/>
              <a:chExt cx="152640" cy="152280"/>
            </a:xfrm>
          </p:grpSpPr>
          <p:sp>
            <p:nvSpPr>
              <p:cNvPr id="666" name=""/>
              <p:cNvSpPr/>
              <p:nvPr/>
            </p:nvSpPr>
            <p:spPr>
              <a:xfrm>
                <a:off x="4756320" y="4548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H="1">
                <a:off x="4755960" y="4548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8" name=""/>
          <p:cNvGrpSpPr/>
          <p:nvPr/>
        </p:nvGrpSpPr>
        <p:grpSpPr>
          <a:xfrm>
            <a:off x="5117760" y="1671480"/>
            <a:ext cx="1238400" cy="3028680"/>
            <a:chOff x="5117760" y="1671480"/>
            <a:chExt cx="1238400" cy="3028680"/>
          </a:xfrm>
        </p:grpSpPr>
        <p:grpSp>
          <p:nvGrpSpPr>
            <p:cNvPr id="669" name=""/>
            <p:cNvGrpSpPr/>
            <p:nvPr/>
          </p:nvGrpSpPr>
          <p:grpSpPr>
            <a:xfrm>
              <a:off x="5117760" y="2776320"/>
              <a:ext cx="152640" cy="152280"/>
              <a:chOff x="5117760" y="2776320"/>
              <a:chExt cx="152640" cy="152280"/>
            </a:xfrm>
          </p:grpSpPr>
          <p:sp>
            <p:nvSpPr>
              <p:cNvPr id="670" name=""/>
              <p:cNvSpPr/>
              <p:nvPr/>
            </p:nvSpPr>
            <p:spPr>
              <a:xfrm>
                <a:off x="5118120" y="27763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H="1">
                <a:off x="5117760" y="27763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5117760" y="2404800"/>
              <a:ext cx="152640" cy="152280"/>
              <a:chOff x="5117760" y="2404800"/>
              <a:chExt cx="152640" cy="152280"/>
            </a:xfrm>
          </p:grpSpPr>
          <p:sp>
            <p:nvSpPr>
              <p:cNvPr id="673" name=""/>
              <p:cNvSpPr/>
              <p:nvPr/>
            </p:nvSpPr>
            <p:spPr>
              <a:xfrm>
                <a:off x="5118120" y="240480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>
                <a:off x="5117760" y="240480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5117760" y="3843000"/>
              <a:ext cx="152640" cy="152280"/>
              <a:chOff x="5117760" y="3843000"/>
              <a:chExt cx="152640" cy="152280"/>
            </a:xfrm>
          </p:grpSpPr>
          <p:sp>
            <p:nvSpPr>
              <p:cNvPr id="676" name=""/>
              <p:cNvSpPr/>
              <p:nvPr/>
            </p:nvSpPr>
            <p:spPr>
              <a:xfrm>
                <a:off x="5118120" y="384300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H="1">
                <a:off x="5117760" y="384300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5117760" y="4547880"/>
              <a:ext cx="152640" cy="152280"/>
              <a:chOff x="5117760" y="4547880"/>
              <a:chExt cx="152640" cy="152280"/>
            </a:xfrm>
          </p:grpSpPr>
          <p:sp>
            <p:nvSpPr>
              <p:cNvPr id="679" name=""/>
              <p:cNvSpPr/>
              <p:nvPr/>
            </p:nvSpPr>
            <p:spPr>
              <a:xfrm>
                <a:off x="5118120" y="45478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flipH="1">
                <a:off x="5117760" y="45478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1" name=""/>
            <p:cNvGrpSpPr/>
            <p:nvPr/>
          </p:nvGrpSpPr>
          <p:grpSpPr>
            <a:xfrm>
              <a:off x="5489280" y="3843000"/>
              <a:ext cx="152640" cy="152280"/>
              <a:chOff x="5489280" y="3843000"/>
              <a:chExt cx="152640" cy="152280"/>
            </a:xfrm>
          </p:grpSpPr>
          <p:sp>
            <p:nvSpPr>
              <p:cNvPr id="682" name=""/>
              <p:cNvSpPr/>
              <p:nvPr/>
            </p:nvSpPr>
            <p:spPr>
              <a:xfrm>
                <a:off x="5489640" y="384300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H="1">
                <a:off x="5489280" y="384300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4" name=""/>
            <p:cNvGrpSpPr/>
            <p:nvPr/>
          </p:nvGrpSpPr>
          <p:grpSpPr>
            <a:xfrm>
              <a:off x="5489280" y="4547880"/>
              <a:ext cx="152640" cy="152280"/>
              <a:chOff x="5489280" y="4547880"/>
              <a:chExt cx="152640" cy="152280"/>
            </a:xfrm>
          </p:grpSpPr>
          <p:sp>
            <p:nvSpPr>
              <p:cNvPr id="685" name=""/>
              <p:cNvSpPr/>
              <p:nvPr/>
            </p:nvSpPr>
            <p:spPr>
              <a:xfrm>
                <a:off x="5489640" y="45478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H="1">
                <a:off x="5489280" y="45478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7" name=""/>
            <p:cNvGrpSpPr/>
            <p:nvPr/>
          </p:nvGrpSpPr>
          <p:grpSpPr>
            <a:xfrm>
              <a:off x="5841720" y="4547880"/>
              <a:ext cx="152640" cy="152280"/>
              <a:chOff x="5841720" y="4547880"/>
              <a:chExt cx="152640" cy="152280"/>
            </a:xfrm>
          </p:grpSpPr>
          <p:sp>
            <p:nvSpPr>
              <p:cNvPr id="688" name=""/>
              <p:cNvSpPr/>
              <p:nvPr/>
            </p:nvSpPr>
            <p:spPr>
              <a:xfrm>
                <a:off x="5842080" y="45478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H="1">
                <a:off x="5841720" y="45478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0" name=""/>
            <p:cNvGrpSpPr/>
            <p:nvPr/>
          </p:nvGrpSpPr>
          <p:grpSpPr>
            <a:xfrm>
              <a:off x="5841720" y="2776320"/>
              <a:ext cx="152640" cy="152280"/>
              <a:chOff x="5841720" y="2776320"/>
              <a:chExt cx="152640" cy="152280"/>
            </a:xfrm>
          </p:grpSpPr>
          <p:sp>
            <p:nvSpPr>
              <p:cNvPr id="691" name=""/>
              <p:cNvSpPr/>
              <p:nvPr/>
            </p:nvSpPr>
            <p:spPr>
              <a:xfrm>
                <a:off x="5842080" y="27763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H="1">
                <a:off x="5841720" y="27763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3" name=""/>
            <p:cNvGrpSpPr/>
            <p:nvPr/>
          </p:nvGrpSpPr>
          <p:grpSpPr>
            <a:xfrm>
              <a:off x="5841720" y="3128760"/>
              <a:ext cx="152640" cy="152280"/>
              <a:chOff x="5841720" y="3128760"/>
              <a:chExt cx="152640" cy="152280"/>
            </a:xfrm>
          </p:grpSpPr>
          <p:sp>
            <p:nvSpPr>
              <p:cNvPr id="694" name=""/>
              <p:cNvSpPr/>
              <p:nvPr/>
            </p:nvSpPr>
            <p:spPr>
              <a:xfrm>
                <a:off x="5842080" y="31287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H="1">
                <a:off x="5841720" y="31287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6" name=""/>
            <p:cNvGrpSpPr/>
            <p:nvPr/>
          </p:nvGrpSpPr>
          <p:grpSpPr>
            <a:xfrm>
              <a:off x="5841720" y="4195440"/>
              <a:ext cx="152640" cy="152280"/>
              <a:chOff x="5841720" y="4195440"/>
              <a:chExt cx="152640" cy="152280"/>
            </a:xfrm>
          </p:grpSpPr>
          <p:sp>
            <p:nvSpPr>
              <p:cNvPr id="697" name=""/>
              <p:cNvSpPr/>
              <p:nvPr/>
            </p:nvSpPr>
            <p:spPr>
              <a:xfrm>
                <a:off x="5842080" y="41954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H="1">
                <a:off x="5841720" y="41954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"/>
            <p:cNvGrpSpPr/>
            <p:nvPr/>
          </p:nvGrpSpPr>
          <p:grpSpPr>
            <a:xfrm>
              <a:off x="6203520" y="2033280"/>
              <a:ext cx="152640" cy="152280"/>
              <a:chOff x="6203520" y="2033280"/>
              <a:chExt cx="152640" cy="152280"/>
            </a:xfrm>
          </p:grpSpPr>
          <p:sp>
            <p:nvSpPr>
              <p:cNvPr id="700" name=""/>
              <p:cNvSpPr/>
              <p:nvPr/>
            </p:nvSpPr>
            <p:spPr>
              <a:xfrm>
                <a:off x="6203880" y="20332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H="1">
                <a:off x="6203520" y="20332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2" name=""/>
            <p:cNvGrpSpPr/>
            <p:nvPr/>
          </p:nvGrpSpPr>
          <p:grpSpPr>
            <a:xfrm>
              <a:off x="6203520" y="1671480"/>
              <a:ext cx="152640" cy="152280"/>
              <a:chOff x="6203520" y="1671480"/>
              <a:chExt cx="152640" cy="152280"/>
            </a:xfrm>
          </p:grpSpPr>
          <p:sp>
            <p:nvSpPr>
              <p:cNvPr id="703" name=""/>
              <p:cNvSpPr/>
              <p:nvPr/>
            </p:nvSpPr>
            <p:spPr>
              <a:xfrm>
                <a:off x="6203880" y="16714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>
                <a:off x="6203520" y="16714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5" name=""/>
            <p:cNvGrpSpPr/>
            <p:nvPr/>
          </p:nvGrpSpPr>
          <p:grpSpPr>
            <a:xfrm>
              <a:off x="6203520" y="4547880"/>
              <a:ext cx="152640" cy="152280"/>
              <a:chOff x="6203520" y="4547880"/>
              <a:chExt cx="152640" cy="152280"/>
            </a:xfrm>
          </p:grpSpPr>
          <p:sp>
            <p:nvSpPr>
              <p:cNvPr id="706" name=""/>
              <p:cNvSpPr/>
              <p:nvPr/>
            </p:nvSpPr>
            <p:spPr>
              <a:xfrm>
                <a:off x="6203880" y="45478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H="1">
                <a:off x="6203520" y="45478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8" name=""/>
            <p:cNvGrpSpPr/>
            <p:nvPr/>
          </p:nvGrpSpPr>
          <p:grpSpPr>
            <a:xfrm>
              <a:off x="6203520" y="4195440"/>
              <a:ext cx="152640" cy="152280"/>
              <a:chOff x="6203520" y="4195440"/>
              <a:chExt cx="152640" cy="152280"/>
            </a:xfrm>
          </p:grpSpPr>
          <p:sp>
            <p:nvSpPr>
              <p:cNvPr id="709" name=""/>
              <p:cNvSpPr/>
              <p:nvPr/>
            </p:nvSpPr>
            <p:spPr>
              <a:xfrm>
                <a:off x="6203880" y="41954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H="1">
                <a:off x="6203520" y="41954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C2B5-7C35-42A1-AFD1-DFD2808DE1B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1600200" y="4836960"/>
            <a:ext cx="39625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C0 =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3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A' B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X'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A D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C1 =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Y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A'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5'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C' D'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C2 =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5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A' B' D + A' C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3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=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4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B D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5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A' B'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X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4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= D'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Y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A' C 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5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= C'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4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A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Y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A' B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6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= A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4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C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5 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+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4'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5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A' B'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372280" y="5300640"/>
            <a:ext cx="14094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X 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= C' + 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Y 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= B' 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625760" y="2795760"/>
            <a:ext cx="3632040" cy="13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C2 = B + C' +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C2 = B' D + B C' D + C' D' + C D + B C 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C2 = B' D + B C' D + C' D' +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 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 = C D + B C D'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867060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AL implementation vs.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iscrete gate implement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45172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 of 4 product terms per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composition of functions with larger number of term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o not share terms in PAL anyway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although there are some with some shared terms)</a:t>
            </a:r>
            <a:br>
              <a:rPr sz="1700"/>
            </a:br>
            <a:br>
              <a:rPr sz="1700"/>
            </a:br>
            <a:br>
              <a:rPr sz="1700"/>
            </a:br>
            <a:br>
              <a:rPr sz="1700"/>
            </a:b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ompose into multi-level logic (hopefully with CAD suppo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nd common sub-expressions among func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789800" y="3754440"/>
            <a:ext cx="39510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need another input and another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 flipV="1">
            <a:off x="4572000" y="3862440"/>
            <a:ext cx="380880" cy="763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3428640" y="3938760"/>
            <a:ext cx="1523880" cy="152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39A3-5CC6-4B2C-AAE2-81B51B1E0DC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/>
          <p:nvPr/>
        </p:nvSpPr>
        <p:spPr>
          <a:xfrm>
            <a:off x="838080" y="3543480"/>
            <a:ext cx="4602240" cy="26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en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ways 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+ 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al 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A • B)'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al N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xor 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al x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xnor 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al xn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• 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al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A + B)'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al N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ways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800280" y="3848040"/>
            <a:ext cx="4584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117880" y="3594240"/>
            <a:ext cx="0" cy="2552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479760" y="3581280"/>
            <a:ext cx="0" cy="2590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715000" y="4267080"/>
            <a:ext cx="3060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 control inputs: C0, C1, C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 data inputs: A, B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output: 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Logical function uni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lti-purpose function blo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control inputs to specify operation to perform on oper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data inputs for oper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output of the same bit-width as oper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6A07-745E-48D3-94FD-1823B503E17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1:47:20Z</dcterms:created>
  <dc:creator>Gaetano Borriello</dc:creator>
  <dc:description/>
  <dc:language>en-US</dc:language>
  <cp:lastModifiedBy>Gaetano Borriello</cp:lastModifiedBy>
  <cp:lastPrinted>2000-04-21T18:43:25Z</cp:lastPrinted>
  <dcterms:modified xsi:type="dcterms:W3CDTF">2005-01-24T07:00:13Z</dcterms:modified>
  <cp:revision>31</cp:revision>
  <dc:subject/>
  <dc:title>Combinational Logic Examp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education/courses/cse370/99sp/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gaetano\Edu\cse370_s99\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