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E79921A-766E-4E82-B645-F3376DDF4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5589CB2-DE03-4C84-AEE1-74FC760CE3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1263BE9-1FFB-4392-B36F-2412D0E3C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B11FF9B-E689-4381-8699-332625701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00AE496-7456-4809-A5D9-F8E17061C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389F469-4B1C-41C6-9395-4FADCDEAB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592B40A-1C00-413A-878C-1673B79A6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641FD8A-9AE6-425C-B016-533E521AF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A68B67A-BEA8-4569-B648-F12E14A0CE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2D07351-ED59-49A5-BCE6-7F2AF1999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DB23D31-645C-49C3-87C7-72F29D48E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DE5B7A8-A893-4B59-BB57-2CC9783BF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A10A849-F4F0-4418-96A1-C6851C853B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0386B15-D10A-4813-A10D-D5E8110B6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7EA4F0A-57AD-4AD6-BF61-DBDD25492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0FD77A8-8CDF-47FB-A80F-F2308EA4D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8BC608C-B8E6-481A-BB6B-20A2FBE75C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38E89F1-9A9F-4462-B4F8-D6D1DEA2E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B99FD99-6D1E-417A-AC6F-1964E6B1C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FD72A1B-96EC-445E-A0D1-95D1AF515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0266E02-220B-4D70-BC13-AE2C9E163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058AA3D-B37C-459C-A49E-DFB6D1DDE8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DF215F5-5AB8-4AF3-B127-EC6DE7601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3CA41E8-C546-4EC9-BCDC-08C2701A9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21E4CD8-88F0-4091-8FC1-36C6D4CF0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B29B5AD-0577-4F67-88C0-B808B3A90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14161C7-2475-40D1-BE61-CEFE9BAE3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B251702-0AD6-441A-A731-39EE2B8F2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FF81FAF-57AA-4818-AA78-FC185DC95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2004F92-7D1D-428D-82EC-0536EED88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1888D7D-9A5C-48D4-A4CD-919FEF37A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1F5FCA4B-E918-4AAD-83B9-937384DE9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E9BDA0C-8579-4D78-8697-EE6B052B1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A341C75-6F19-4353-A429-2BA27E54CF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A43471F-E0BC-40A7-9371-4710900EF2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97C6474-E376-4687-9CDB-A97C056D6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1F0BB93-AA02-4007-BC4D-FE3FDA05C3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9E738B6-52A5-4DB0-B3A7-C15CB724C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9DC68C9-61B0-4A40-B16C-4584D11D8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8389CD6-0CF3-46B5-A5BF-7B9479FD2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C27CD87-5B76-469E-A7ED-15C9109667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844E625-CBB8-413F-964F-46C5AC3212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6A005A7-2C17-4F54-A245-E2B25F043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C02CF59-0BAF-4947-BCE0-5A10ABF93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A7B5DC4-A498-47A9-86A6-E727D15D3E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6A08-0BF9-4890-9429-0546D66CC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579E-1990-4A36-BFAE-DF657E6AF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0DA3-3F0C-4F51-9D01-FF894B8E3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62AC-580A-457D-A5EC-DF19BF68B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1EAE-3431-4289-A0BB-C6BA3B30E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3801-58BF-49D0-9A75-B14B8D8C3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FBA9-B1AD-4088-BAED-CF4F4BF9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7C50-14F5-4DE7-9468-A1987A8A2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8376-1E79-4ACD-8748-70C7EC634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2387-1D21-433C-A336-F8FFCD978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00CD-2722-42EE-BFDB-1E8E3D68D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F351-1995-4337-BB8B-6DA4F708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96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4BB-0035-44E7-B85B-A4563D4E94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4AFB-23A8-4800-BFB9-522192E74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08040" y="4723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Teoria della decisione di Bay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4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4BC-E0E9-473A-B62C-64C8A8009A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22120"/>
            <a:ext cx="842004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Teoria della decisi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4680" y="1074600"/>
            <a:ext cx="910584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oblema può essere scisso in una fase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ferenz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ui si usano i dati per addestrare un modell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|x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una seguente fase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cis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 cui si usa la posterior per fare la scelta dell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’alternativa è quella di risolvere i 2 problemi contemporaneamente e addestrare una funzione che mappi l’input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nello spazio delle decisioni, cioè delle class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inear machine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us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unzioni discriminanti line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E30A-BC61-4403-A9FF-0CF9341F7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03040" y="1225440"/>
            <a:ext cx="9507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41560" indent="-241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 dei vari metodi per rappresentare classificatori di pattern consiste in un set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zioni discriminan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=1..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classificatore finale, ossia 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ar mach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gna il vettore di fea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 clas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&gt;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 ogn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j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560" indent="-24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65520">
              <a:spcBef>
                <a:spcPts val="601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2E10-D52D-4173-8D57-476729C033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03040" y="1225440"/>
            <a:ext cx="9507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stono molte funzioni discriminant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quival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Per esempio, tutte quelle per cui i risultati di classificazione sono gli st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sempio, s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è una funzione monotona crescente, all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unzione discriminanti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8" name="Text Box 9"/>
          <p:cNvSpPr/>
          <p:nvPr/>
        </p:nvSpPr>
        <p:spPr>
          <a:xfrm>
            <a:off x="569880" y="2789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5"/>
              <p:cNvSpPr txBox="1"/>
              <p:nvPr/>
            </p:nvSpPr>
            <p:spPr>
              <a:xfrm>
                <a:off x="3619440" y="2557440"/>
                <a:ext cx="2322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" name="Picture 16" descr=""/>
          <p:cNvPicPr/>
          <p:nvPr/>
        </p:nvPicPr>
        <p:blipFill>
          <a:blip r:embed="rId1"/>
          <a:srcRect l="0" t="0" r="0" b="4526"/>
          <a:stretch/>
        </p:blipFill>
        <p:spPr>
          <a:xfrm>
            <a:off x="4083120" y="3346560"/>
            <a:ext cx="5594400" cy="2377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7"/>
          <p:cNvSpPr/>
          <p:nvPr/>
        </p:nvSpPr>
        <p:spPr>
          <a:xfrm>
            <a:off x="203040" y="4135320"/>
            <a:ext cx="402768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une form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 discrim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più semplici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re o da calcol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620E-59B7-464D-8EE6-9A29A9A2C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1"/>
          <a:stretch/>
        </p:blipFill>
        <p:spPr>
          <a:xfrm>
            <a:off x="5635800" y="1965240"/>
            <a:ext cx="4279680" cy="3632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203040" y="1225440"/>
            <a:ext cx="950760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ffetto di una funzione discriminante è quello d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videre lo spazio delle 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erfici di separ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is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unzione discriminanti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9" name="Text Box 6"/>
          <p:cNvSpPr/>
          <p:nvPr/>
        </p:nvSpPr>
        <p:spPr>
          <a:xfrm>
            <a:off x="569880" y="2789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0" y="1965240"/>
            <a:ext cx="5850000" cy="52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268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gioni sono separate c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ni di decis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inee descritte dalle funzioni discrim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 ca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tegorie ho due funzioni discriminanti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 cu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egno x a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&gt; 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5"/>
              <p:cNvSpPr txBox="1"/>
              <p:nvPr/>
            </p:nvSpPr>
            <p:spPr>
              <a:xfrm>
                <a:off x="754200" y="4521240"/>
                <a:ext cx="414000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Text Box 16"/>
          <p:cNvSpPr/>
          <p:nvPr/>
        </p:nvSpPr>
        <p:spPr>
          <a:xfrm>
            <a:off x="5148360" y="5765760"/>
            <a:ext cx="5730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ttengo un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inear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7015320" y="5472000"/>
            <a:ext cx="314280" cy="587520"/>
          </a:xfrm>
          <a:prstGeom prst="upArrow">
            <a:avLst>
              <a:gd name="adj1" fmla="val 50000"/>
              <a:gd name="adj2" fmla="val 4673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0E49-09CB-4AFA-B9FD-E629C0CD5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37960" y="824040"/>
            <a:ext cx="95076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truttura di un classificatore di Bayes è determin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densità condizion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robabilità a pri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77840"/>
            <a:ext cx="9906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La densità norma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4164120" y="1235160"/>
                <a:ext cx="1290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2"/>
              <p:cNvSpPr txBox="1"/>
              <p:nvPr/>
            </p:nvSpPr>
            <p:spPr>
              <a:xfrm>
                <a:off x="3986280" y="1693800"/>
                <a:ext cx="839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Picture 14" descr=""/>
          <p:cNvPicPr/>
          <p:nvPr/>
        </p:nvPicPr>
        <p:blipFill>
          <a:blip r:embed="rId1"/>
          <a:stretch/>
        </p:blipFill>
        <p:spPr>
          <a:xfrm>
            <a:off x="7078680" y="164952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7"/>
          <p:cNvSpPr/>
          <p:nvPr/>
        </p:nvSpPr>
        <p:spPr>
          <a:xfrm>
            <a:off x="249120" y="2292480"/>
            <a:ext cx="682956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delle più importanti densità 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ensità norm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aussiana multivari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infat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 analiticamente trattabi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ù importante, fornisce la migliore modellazione di problemi sia teorici che pra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273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eorema del Limite Centrale asserisce che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tto varie condizioni, la distribuzione della somma di d variabili aleatorie indipendenti tende ad un limite particolare conosciuto come distribuzione nor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418520" y="4319640"/>
          <a:ext cx="2209680" cy="1482840"/>
        </p:xfrm>
        <a:graphic>
          <a:graphicData uri="http://schemas.openxmlformats.org/drawingml/2006/table">
            <a:tbl>
              <a:tblPr/>
              <a:tblGrid>
                <a:gridCol w="1104840"/>
                <a:gridCol w="1104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7515360" y="5105520"/>
                <a:ext cx="6984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7496280" y="5473800"/>
                <a:ext cx="8665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7537320" y="4765680"/>
                <a:ext cx="5842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3601-8763-47AE-8E3C-769257FF40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784080" y="1366920"/>
            <a:ext cx="8501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unzione Gaussiana ha altre propri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trasformata di Fourier di una funzione Gaussiana è una funzione Gaussia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ottimale per la localizzazione nel tempo o in frequ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3240">
              <a:spcBef>
                <a:spcPts val="601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71440"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45880"/>
            <a:ext cx="99061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La densità normale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3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31A-76BB-4B40-8F0F-DE53F15412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85760" y="64440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3120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ziamo con la densità normale univariata. Essa è completamente specificata da due parametri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arianz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 indica con       N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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 si presenta nel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sata  media e varianza la densità Normale è quella dotata di massima entrop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ntropia misura l’incertezza di una distribuzione o la quantità d’informazione necessaria in media per descrivere la variabile aleatoria associata, ed è data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6683400" y="1332000"/>
            <a:ext cx="3222720" cy="25797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1987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univariat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1798560" y="2462040"/>
                <a:ext cx="56311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AutoShape 7"/>
          <p:cNvSpPr/>
          <p:nvPr/>
        </p:nvSpPr>
        <p:spPr>
          <a:xfrm rot="1863000">
            <a:off x="6581520" y="22269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49840" y="2689200"/>
            <a:ext cx="1460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Var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1"/>
              <p:cNvSpPr txBox="1"/>
              <p:nvPr/>
            </p:nvSpPr>
            <p:spPr>
              <a:xfrm>
                <a:off x="2917800" y="5823000"/>
                <a:ext cx="36972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1308240" y="1627200"/>
                <a:ext cx="5184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65B6-2950-40AF-9916-DF4886F96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9" descr=""/>
          <p:cNvPicPr/>
          <p:nvPr/>
        </p:nvPicPr>
        <p:blipFill>
          <a:blip r:embed="rId1"/>
          <a:stretch/>
        </p:blipFill>
        <p:spPr>
          <a:xfrm>
            <a:off x="6186600" y="1044720"/>
            <a:ext cx="3089160" cy="2338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446040" y="790560"/>
            <a:ext cx="870444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2840" indent="-31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enerica densità normale multivariata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ensioni si presenta nel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37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ttore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37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varia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6840" indent="-3420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= determinante della m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6840" indent="-342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trice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6840" indent="-342000"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37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i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37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mento per element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5" descr="2"/>
          <p:cNvPicPr/>
          <p:nvPr/>
        </p:nvPicPr>
        <p:blipFill>
          <a:blip r:embed="rId2"/>
          <a:stretch/>
        </p:blipFill>
        <p:spPr>
          <a:xfrm>
            <a:off x="6570720" y="3165480"/>
            <a:ext cx="2741400" cy="2336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1987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multivariat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407880" y="1574640"/>
                <a:ext cx="61452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3"/>
              <p:cNvSpPr txBox="1"/>
              <p:nvPr/>
            </p:nvSpPr>
            <p:spPr>
              <a:xfrm>
                <a:off x="4265640" y="5807160"/>
                <a:ext cx="3470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AutoShape 8"/>
          <p:cNvSpPr/>
          <p:nvPr/>
        </p:nvSpPr>
        <p:spPr>
          <a:xfrm rot="5400000">
            <a:off x="7211880" y="2995560"/>
            <a:ext cx="331560" cy="344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8907120" y="15271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8876880" y="440676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0"/>
              <p:cNvSpPr txBox="1"/>
              <p:nvPr/>
            </p:nvSpPr>
            <p:spPr>
              <a:xfrm>
                <a:off x="3254400" y="5234040"/>
                <a:ext cx="6297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14A9-BF63-4766-BBBA-5D7FFEAF91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8" descr="2"/>
          <p:cNvPicPr/>
          <p:nvPr/>
        </p:nvPicPr>
        <p:blipFill>
          <a:blip r:embed="rId1"/>
          <a:stretch/>
        </p:blipFill>
        <p:spPr>
          <a:xfrm>
            <a:off x="5527800" y="3325680"/>
            <a:ext cx="4216320" cy="333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85760" y="76356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tteristiche della matrice di covar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me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definita positiva 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nza di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=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varianza tra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sticamente indipend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è il prodotto della densità univariata p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onente per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94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94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ri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294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multivariata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6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4"/>
              <p:cNvSpPr txBox="1"/>
              <p:nvPr/>
            </p:nvSpPr>
            <p:spPr>
              <a:xfrm>
                <a:off x="3718080" y="1886040"/>
                <a:ext cx="4474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1530360" y="3078000"/>
                <a:ext cx="24606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1623960" y="4210200"/>
                <a:ext cx="20970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890640" y="5565600"/>
                <a:ext cx="332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Σ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AutoShape 19"/>
          <p:cNvSpPr/>
          <p:nvPr/>
        </p:nvSpPr>
        <p:spPr>
          <a:xfrm rot="20655000">
            <a:off x="4409640" y="5486040"/>
            <a:ext cx="1378080" cy="262080"/>
          </a:xfrm>
          <a:prstGeom prst="rightArrow">
            <a:avLst>
              <a:gd name="adj1" fmla="val 50000"/>
              <a:gd name="adj2" fmla="val 131456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20"/>
          <p:cNvSpPr/>
          <p:nvPr/>
        </p:nvSpPr>
        <p:spPr>
          <a:xfrm rot="20413800">
            <a:off x="5632200" y="4140360"/>
            <a:ext cx="3421080" cy="137448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85760" y="995400"/>
            <a:ext cx="950760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8760" indent="-24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O PARTICOLARE:  k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tto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lunghezza unitari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uno scalare che rappresenta la proiezione 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una linea in direzione definita 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nz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enera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i permett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olare l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pers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i in ogni superfici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sottospaz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 indent="-189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92D4-706D-403C-A413-366063564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2"/>
          <p:cNvPicPr/>
          <p:nvPr/>
        </p:nvPicPr>
        <p:blipFill>
          <a:blip r:embed="rId1"/>
          <a:stretch/>
        </p:blipFill>
        <p:spPr>
          <a:xfrm>
            <a:off x="5477040" y="3238560"/>
            <a:ext cx="4216320" cy="33368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69920"/>
            <a:ext cx="99061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multivariata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5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1216080" y="1450800"/>
                <a:ext cx="207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AutoShape 11"/>
          <p:cNvSpPr/>
          <p:nvPr/>
        </p:nvSpPr>
        <p:spPr>
          <a:xfrm rot="2335200">
            <a:off x="5457600" y="3897360"/>
            <a:ext cx="1377720" cy="261720"/>
          </a:xfrm>
          <a:prstGeom prst="rightArrow">
            <a:avLst>
              <a:gd name="adj1" fmla="val 50000"/>
              <a:gd name="adj2" fmla="val 131602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12"/>
          <p:cNvSpPr/>
          <p:nvPr/>
        </p:nvSpPr>
        <p:spPr>
          <a:xfrm rot="4030800">
            <a:off x="6901920" y="3962160"/>
            <a:ext cx="2581200" cy="244476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9556-D154-49D9-8219-FB0E1E383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Rev. Thomas Bayes, F.R.S (1702-1761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4" name="Picture 5" descr="bayes"/>
          <p:cNvPicPr/>
          <p:nvPr/>
        </p:nvPicPr>
        <p:blipFill>
          <a:blip r:embed="rId1"/>
          <a:stretch/>
        </p:blipFill>
        <p:spPr>
          <a:xfrm>
            <a:off x="3022560" y="1684440"/>
            <a:ext cx="3868920" cy="41590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728A-FBCC-4701-89CD-7CCF55B09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0" descr="2"/>
          <p:cNvPicPr/>
          <p:nvPr/>
        </p:nvPicPr>
        <p:blipFill>
          <a:blip r:embed="rId1"/>
          <a:stretch/>
        </p:blipFill>
        <p:spPr>
          <a:xfrm>
            <a:off x="5421240" y="2638440"/>
            <a:ext cx="4695840" cy="3809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85760" y="763560"/>
            <a:ext cx="9507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73600" indent="-273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no (trasf. sbiancant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tening trans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932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trice degli autovettori 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lon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9320" indent="-289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trice diagonale dei corrispondenti autovalo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rasformazi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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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, applicata alle coordinate dello spazio delle feature, assicura una distribuzione con matrice di covarianza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trice iden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nsit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-dimensio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ita di d + d(d+1)/2 parametri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re defin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cosa rappresentano grafica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3600" indent="-27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77480"/>
            <a:ext cx="9906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multivariata (4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9" name="Line 24"/>
          <p:cNvSpPr/>
          <p:nvPr/>
        </p:nvSpPr>
        <p:spPr>
          <a:xfrm flipV="1">
            <a:off x="5349960" y="4770360"/>
            <a:ext cx="2268360" cy="9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2878200" y="5162400"/>
            <a:ext cx="238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Media individuata d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oordinate di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9F9-C99F-42CA-A6B5-3EB9D14C6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85760" y="763560"/>
            <a:ext cx="9507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2"/>
          <p:cNvPicPr/>
          <p:nvPr/>
        </p:nvPicPr>
        <p:blipFill>
          <a:blip r:embed="rId1"/>
          <a:stretch/>
        </p:blipFill>
        <p:spPr>
          <a:xfrm>
            <a:off x="5421240" y="2638440"/>
            <a:ext cx="4695840" cy="3809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99061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nsità normale multivariata (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6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Line 9"/>
          <p:cNvSpPr/>
          <p:nvPr/>
        </p:nvSpPr>
        <p:spPr>
          <a:xfrm flipV="1">
            <a:off x="6757920" y="3974760"/>
            <a:ext cx="1709640" cy="167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 flipH="1" flipV="1">
            <a:off x="7186680" y="4416120"/>
            <a:ext cx="807840" cy="731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03120" y="1771560"/>
            <a:ext cx="4992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Gli assi principali degli iperellissoidi sono dati dagli autovettori di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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(descritti da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075280" y="3440160"/>
            <a:ext cx="2381040" cy="123012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5051520" y="3444840"/>
            <a:ext cx="2011320" cy="18669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316480" y="766800"/>
            <a:ext cx="439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Le lunghezze degli assi principali degli iperellissoidi sono dati dagli autovalori di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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(descritti da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</a:t>
            </a: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6"/>
          <p:cNvSpPr/>
          <p:nvPr/>
        </p:nvSpPr>
        <p:spPr>
          <a:xfrm rot="18739200">
            <a:off x="7590600" y="4066560"/>
            <a:ext cx="179280" cy="1251000"/>
          </a:xfrm>
          <a:prstGeom prst="upDownArrow">
            <a:avLst>
              <a:gd name="adj1" fmla="val 50000"/>
              <a:gd name="adj2" fmla="val 138912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>
            <a:off x="7689960" y="2727360"/>
            <a:ext cx="21960" cy="186696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11120" y="3505320"/>
            <a:ext cx="4952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iperellissoidi sono quei luoghi dei punti per i quali la distanza d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a anc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anza di Mahalanob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è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9"/>
              <p:cNvSpPr txBox="1"/>
              <p:nvPr/>
            </p:nvSpPr>
            <p:spPr>
              <a:xfrm>
                <a:off x="1011240" y="4505400"/>
                <a:ext cx="3602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F3D-5679-4B17-BD8A-51D7B7A550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nando ai classificatori Bayesiani, ed in particolare alle linear machine, analizziamo la funzione discriminante come si traduce nel caso di densità N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onda della natura d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a funzione discriminante può essere semplificata. Vediamo alcuni esem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Funzioni discriminanti - Densità Norma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2336760" y="2967120"/>
                <a:ext cx="480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414360" y="4565520"/>
                <a:ext cx="8982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AutoShape 8"/>
          <p:cNvSpPr/>
          <p:nvPr/>
        </p:nvSpPr>
        <p:spPr>
          <a:xfrm rot="5400000">
            <a:off x="4164840" y="40089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5806-4999-4D9D-AF4A-192D8C6755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85760" y="93492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il caso più semplice in cui le feature sono statisticamente indipendenti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 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, 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gni classe ha la stessa varia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so 1-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270000"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3" name="Picture 11" descr=""/>
          <p:cNvPicPr/>
          <p:nvPr/>
        </p:nvPicPr>
        <p:blipFill>
          <a:blip r:embed="rId1"/>
          <a:stretch/>
        </p:blipFill>
        <p:spPr>
          <a:xfrm>
            <a:off x="5032440" y="2349360"/>
            <a:ext cx="4873680" cy="368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Object 12"/>
              <p:cNvSpPr txBox="1"/>
              <p:nvPr/>
            </p:nvSpPr>
            <p:spPr>
              <a:xfrm>
                <a:off x="476280" y="2309760"/>
                <a:ext cx="5735520" cy="425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ve  il termine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uguale per ogni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uò essere ignorato giungendo alla forma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v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e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2FD-DB4B-43C5-8BDA-C9A267981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225360" y="1066680"/>
            <a:ext cx="950760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431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funzioni precedenti vengono chiam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zioni discriminanti linea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431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ni di decis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no dati da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le due classi con più alta probabilità a poste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2280" indent="-533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questo caso particolare abbi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-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9"/>
              <p:cNvSpPr txBox="1"/>
              <p:nvPr/>
            </p:nvSpPr>
            <p:spPr>
              <a:xfrm>
                <a:off x="1417680" y="3484440"/>
                <a:ext cx="7310520" cy="26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v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AutoShape 10"/>
          <p:cNvSpPr/>
          <p:nvPr/>
        </p:nvSpPr>
        <p:spPr>
          <a:xfrm rot="17969400">
            <a:off x="4732200" y="4559040"/>
            <a:ext cx="890640" cy="325440"/>
          </a:xfrm>
          <a:prstGeom prst="rightArrow">
            <a:avLst>
              <a:gd name="adj1" fmla="val 50000"/>
              <a:gd name="adj2" fmla="val 6841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447160" y="3417840"/>
            <a:ext cx="399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B: se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a posizione del confin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ecisione è insensibile ai pri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3"/>
              <p:cNvSpPr txBox="1"/>
              <p:nvPr/>
            </p:nvSpPr>
            <p:spPr>
              <a:xfrm>
                <a:off x="7024680" y="3303720"/>
                <a:ext cx="143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F3A-C99A-4648-B2B4-B02D2A635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4943520" y="3403440"/>
            <a:ext cx="4648320" cy="3249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0" y="3298680"/>
            <a:ext cx="4753080" cy="33721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funzioni discriminanti lineari definiscono un iperpiano passante p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 ortogonal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che                  , l’iperpiano che separ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togon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a linea che unisce le med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la formula precedente si nota che, a parità di varianza, il prior maggiore determina la classific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3" name="AutoShape 11"/>
          <p:cNvSpPr/>
          <p:nvPr/>
        </p:nvSpPr>
        <p:spPr>
          <a:xfrm>
            <a:off x="4203720" y="3792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2"/>
              <p:cNvSpPr txBox="1"/>
              <p:nvPr/>
            </p:nvSpPr>
            <p:spPr>
              <a:xfrm>
                <a:off x="2049480" y="1817640"/>
                <a:ext cx="1706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5" name="Text Box 13"/>
          <p:cNvSpPr/>
          <p:nvPr/>
        </p:nvSpPr>
        <p:spPr>
          <a:xfrm>
            <a:off x="8737920" y="33735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A17A-4E6B-40E9-BDCA-463C02C99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0" descr="2"/>
          <p:cNvPicPr/>
          <p:nvPr/>
        </p:nvPicPr>
        <p:blipFill>
          <a:blip r:embed="rId1"/>
          <a:stretch/>
        </p:blipFill>
        <p:spPr>
          <a:xfrm>
            <a:off x="431640" y="617400"/>
            <a:ext cx="8909280" cy="6054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4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(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6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4" name="AutoShape 8"/>
          <p:cNvSpPr/>
          <p:nvPr/>
        </p:nvSpPr>
        <p:spPr>
          <a:xfrm rot="5400000">
            <a:off x="4297680" y="2651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456440" y="16239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4472280" y="360360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722680" y="640080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DF1-DBA8-4714-ACB2-38ABFC2431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0" descr="2"/>
          <p:cNvPicPr/>
          <p:nvPr/>
        </p:nvPicPr>
        <p:blipFill>
          <a:blip r:embed="rId1"/>
          <a:stretch/>
        </p:blipFill>
        <p:spPr>
          <a:xfrm>
            <a:off x="992160" y="885960"/>
            <a:ext cx="743112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(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6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5" name="AutoShape 8"/>
          <p:cNvSpPr/>
          <p:nvPr/>
        </p:nvSpPr>
        <p:spPr>
          <a:xfrm rot="5400000">
            <a:off x="4232520" y="314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4418280" y="21589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405680" y="430704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2722680" y="640080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09C4-CFBF-45DE-A920-D76F50498D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25600" y="1817640"/>
            <a:ext cx="86644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44880" indent="-344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B.: Se le probabilità pri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=1,...,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guali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ra il termine logaritmico può essere ignorato, riducendo il classificatore ad u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assificatore di minima distan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tica, la regola di decisione ottima ha una semplice interpretazione geome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0480" indent="-2617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ssegna x alla classe la cui medi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è più v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(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6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1198440" y="1351080"/>
                <a:ext cx="731232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12"/>
          <p:cNvSpPr/>
          <p:nvPr/>
        </p:nvSpPr>
        <p:spPr>
          <a:xfrm rot="14099400">
            <a:off x="5922000" y="2710800"/>
            <a:ext cx="544320" cy="27288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55A-7CF6-4CCF-8B20-08ABFE26B3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11" descr=""/>
          <p:cNvPicPr/>
          <p:nvPr/>
        </p:nvPicPr>
        <p:blipFill>
          <a:blip r:embed="rId1"/>
          <a:stretch/>
        </p:blipFill>
        <p:spPr>
          <a:xfrm>
            <a:off x="331920" y="1700280"/>
            <a:ext cx="4849560" cy="384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"/>
          <p:cNvPicPr/>
          <p:nvPr/>
        </p:nvPicPr>
        <p:blipFill>
          <a:blip r:embed="rId2"/>
          <a:stretch/>
        </p:blipFill>
        <p:spPr>
          <a:xfrm>
            <a:off x="4946760" y="172260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(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Text Box 18"/>
          <p:cNvSpPr/>
          <p:nvPr/>
        </p:nvSpPr>
        <p:spPr>
          <a:xfrm>
            <a:off x="7587000" y="12715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362520" y="137160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E3C-9E52-4AF4-8721-444E11E316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ntroduzi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200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roccio statistico fondamentale di classificazione di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ote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685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problema di decisione è posto in termini probabilistic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685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tte le probabilità rilevanti sono conosciu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iminare le different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gole d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cisi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obabilit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d 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st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d esse associat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D23-208A-4AB4-9FF9-F5F238699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0" y="1695600"/>
            <a:ext cx="4616280" cy="4616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  (8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4971960" y="1274760"/>
            <a:ext cx="4496040" cy="46292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8"/>
          <p:cNvSpPr/>
          <p:nvPr/>
        </p:nvSpPr>
        <p:spPr>
          <a:xfrm>
            <a:off x="616320" y="12445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7720" y="11415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90F-80B5-421C-9820-628013153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altro semplice caso occorre quando le matrici di covarianza per tutte le classi sono uguali, ma arbitrar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questo caso l’ordinari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ò essere semplificata c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 è ulteriormente trattabile, con un procedimento analogo al caso precedente (sviluppando il prodotto ed eliminando il termine     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6"/>
              <p:cNvSpPr txBox="1"/>
              <p:nvPr/>
            </p:nvSpPr>
            <p:spPr>
              <a:xfrm>
                <a:off x="473040" y="2517840"/>
                <a:ext cx="91044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498680" y="3862440"/>
                <a:ext cx="6248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8"/>
              <p:cNvSpPr txBox="1"/>
              <p:nvPr/>
            </p:nvSpPr>
            <p:spPr>
              <a:xfrm>
                <a:off x="2103480" y="5616720"/>
                <a:ext cx="1100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5AD1-5882-4F4A-97A4-EC88082891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eniamo così funzioni discriminanti ancora lineari, nel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é i discriminanti sono lineari, 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ini di decis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no ancora iperp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1"/>
              <p:cNvSpPr txBox="1"/>
              <p:nvPr/>
            </p:nvSpPr>
            <p:spPr>
              <a:xfrm>
                <a:off x="1593720" y="1906560"/>
                <a:ext cx="4989600" cy="27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v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675-5C1C-4AB6-84D4-CBEE41062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le regioni di decisi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no contigue, il confine tra esse div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66" name="Picture 8" descr=""/>
          <p:cNvPicPr/>
          <p:nvPr/>
        </p:nvPicPr>
        <p:blipFill>
          <a:blip r:embed="rId1"/>
          <a:stretch/>
        </p:blipFill>
        <p:spPr>
          <a:xfrm>
            <a:off x="955800" y="2255760"/>
            <a:ext cx="7924680" cy="343224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C31E-4560-4B6A-8B9E-2AAD1DE1C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52600" y="1681200"/>
            <a:ext cx="8582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e (differentemente da prima) non è il vettore che unisce le 2 medie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l’iperpiano che 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è quindi ortogonale alla linea tra le medie; comunque, esso interseca questa linea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no uguali, allor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 trova in mezzo alle medie, altrimenti l’iperpiano ottimale di separazione si troverà spostato verso la media meno prob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3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33C6-F5A7-42DA-AF96-F2870515D1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78" name="Picture 8" descr=""/>
          <p:cNvPicPr/>
          <p:nvPr/>
        </p:nvPicPr>
        <p:blipFill>
          <a:blip r:embed="rId1"/>
          <a:stretch/>
        </p:blipFill>
        <p:spPr>
          <a:xfrm>
            <a:off x="932040" y="1504800"/>
            <a:ext cx="7848360" cy="39769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9"/>
          <p:cNvSpPr/>
          <p:nvPr/>
        </p:nvSpPr>
        <p:spPr>
          <a:xfrm>
            <a:off x="4539240" y="51544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6F8B-EEB9-4B67-8B43-7AB9D9BCEF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85" name="Picture 7" descr=""/>
          <p:cNvPicPr/>
          <p:nvPr/>
        </p:nvPicPr>
        <p:blipFill>
          <a:blip r:embed="rId1"/>
          <a:stretch/>
        </p:blipFill>
        <p:spPr>
          <a:xfrm>
            <a:off x="808200" y="1490760"/>
            <a:ext cx="7696080" cy="45687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4331160" y="561960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-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B4D-2AD8-4ED7-8840-5926ED1CBD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225360" y="1066680"/>
            <a:ext cx="95076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atrici di covarianza sono differenti per ogni categor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funzioni discriminanti sono inerentemente quadratiche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93" name="Picture 10" descr=""/>
          <p:cNvPicPr/>
          <p:nvPr/>
        </p:nvPicPr>
        <p:blipFill>
          <a:blip r:embed="rId1"/>
          <a:stretch/>
        </p:blipFill>
        <p:spPr>
          <a:xfrm>
            <a:off x="905040" y="2305080"/>
            <a:ext cx="7056360" cy="37814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11"/>
          <p:cNvSpPr/>
          <p:nvPr/>
        </p:nvSpPr>
        <p:spPr>
          <a:xfrm>
            <a:off x="6045120" y="5829480"/>
            <a:ext cx="226080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96BC-1A9C-46DB-9B84-243DFECF79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485640" y="1434960"/>
            <a:ext cx="89233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l caso 2-D le superfici di decisione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perquadr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erp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ia di iperpi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ersf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erparabolo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 indent="-2700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eriperboloidi di vario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58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he nel caso 1-D, per la varianza arbitraria, le regioni di decisione di solito sono non conness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2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1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F10-E891-453F-B36F-FC1FBD3A8F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990612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3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2187720" y="1515960"/>
            <a:ext cx="5699160" cy="4386240"/>
          </a:xfrm>
          <a:prstGeom prst="rect">
            <a:avLst/>
          </a:prstGeom>
          <a:ln w="0">
            <a:noFill/>
          </a:ln>
        </p:spPr>
      </p:pic>
      <p:sp>
        <p:nvSpPr>
          <p:cNvPr id="40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6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1594-1DEB-446B-A399-A1B89D16D8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4840" y="1160640"/>
            <a:ext cx="94852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a        lo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o di natur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 descrivere probabilisticament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ano d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class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cui sono no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              ) =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ssuna misur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gola di decis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ecidi       se P(    ) &gt; P(    ); altrimenti decidi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ù che decidere,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indovi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o stato di na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8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Un esempio semplic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1863720" y="2679840"/>
                <a:ext cx="109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89240" y="1228680"/>
                <a:ext cx="473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1"/>
              <p:cNvSpPr txBox="1"/>
              <p:nvPr/>
            </p:nvSpPr>
            <p:spPr>
              <a:xfrm>
                <a:off x="1843200" y="3090960"/>
                <a:ext cx="110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3"/>
              <p:cNvSpPr txBox="1"/>
              <p:nvPr/>
            </p:nvSpPr>
            <p:spPr>
              <a:xfrm>
                <a:off x="3438360" y="4608360"/>
                <a:ext cx="459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4"/>
              <p:cNvSpPr txBox="1"/>
              <p:nvPr/>
            </p:nvSpPr>
            <p:spPr>
              <a:xfrm>
                <a:off x="4599000" y="4611600"/>
                <a:ext cx="473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Text Box 16"/>
          <p:cNvSpPr/>
          <p:nvPr/>
        </p:nvSpPr>
        <p:spPr>
          <a:xfrm>
            <a:off x="4125960" y="290340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 Probabilità a prior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P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9"/>
              <p:cNvSpPr txBox="1"/>
              <p:nvPr/>
            </p:nvSpPr>
            <p:spPr>
              <a:xfrm>
                <a:off x="2255760" y="4595760"/>
                <a:ext cx="459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0"/>
              <p:cNvSpPr txBox="1"/>
              <p:nvPr/>
            </p:nvSpPr>
            <p:spPr>
              <a:xfrm>
                <a:off x="7701120" y="4600440"/>
                <a:ext cx="473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571B-DD40-450A-852F-1C1CC7973E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4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12" name="Picture 7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73392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373-34F3-4CBC-BC94-5CD6CF744C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5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18" name="Picture 7" descr=""/>
          <p:cNvPicPr/>
          <p:nvPr/>
        </p:nvPicPr>
        <p:blipFill>
          <a:blip r:embed="rId1"/>
          <a:stretch/>
        </p:blipFill>
        <p:spPr>
          <a:xfrm>
            <a:off x="977760" y="1982880"/>
            <a:ext cx="7772400" cy="3733560"/>
          </a:xfrm>
          <a:prstGeom prst="rect">
            <a:avLst/>
          </a:prstGeom>
          <a:ln w="0">
            <a:noFill/>
          </a:ln>
        </p:spPr>
      </p:pic>
      <p:sp>
        <p:nvSpPr>
          <p:cNvPr id="419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0CB-E8D2-4B81-A7BD-03CFF915E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6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24" name="Picture 7" descr=""/>
          <p:cNvPicPr/>
          <p:nvPr/>
        </p:nvPicPr>
        <p:blipFill>
          <a:blip r:embed="rId1"/>
          <a:stretch/>
        </p:blipFill>
        <p:spPr>
          <a:xfrm>
            <a:off x="1066680" y="1747800"/>
            <a:ext cx="7467840" cy="3527640"/>
          </a:xfrm>
          <a:prstGeom prst="rect">
            <a:avLst/>
          </a:prstGeom>
          <a:ln w="0">
            <a:noFill/>
          </a:ln>
        </p:spPr>
      </p:pic>
      <p:sp>
        <p:nvSpPr>
          <p:cNvPr id="425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FDE-6D57-4CC3-BEBF-4C16701933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7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430" name="Object 6"/>
          <p:cNvGraphicFramePr/>
          <p:nvPr/>
        </p:nvGraphicFramePr>
        <p:xfrm>
          <a:off x="1047600" y="1347840"/>
          <a:ext cx="75438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1347840"/>
                    <a:ext cx="75438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C9CC-1539-4F48-8879-BC8573995A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Funzioni discriminanti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nsità Normale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bitraria (8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4646520" y="5746680"/>
                <a:ext cx="281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37" name="Picture 7" descr=""/>
          <p:cNvPicPr/>
          <p:nvPr/>
        </p:nvPicPr>
        <p:blipFill>
          <a:blip r:embed="rId1"/>
          <a:stretch/>
        </p:blipFill>
        <p:spPr>
          <a:xfrm>
            <a:off x="1976400" y="1490760"/>
            <a:ext cx="5181480" cy="4884480"/>
          </a:xfrm>
          <a:prstGeom prst="rect">
            <a:avLst/>
          </a:prstGeom>
          <a:ln w="0">
            <a:noFill/>
          </a:ln>
        </p:spPr>
      </p:pic>
      <p:sp>
        <p:nvSpPr>
          <p:cNvPr id="438" name="Footer Placeholder 3"/>
          <p:cNvSpPr/>
          <p:nvPr/>
        </p:nvSpPr>
        <p:spPr>
          <a:xfrm>
            <a:off x="2570040" y="625644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C33-3A61-4B55-A474-D8E3D68D3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0480" y="890640"/>
            <a:ext cx="9126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ll’ipotesi precedente, con in più la singola misurazion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v.a. dipendente da        , posso otten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17520" y="3117960"/>
            <a:ext cx="4856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si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 probabilità di avere la misurazione x sapendo che lo stato di natura è      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ssata la misurazion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iù è alta                più è probabile che       sia lo stato “giust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202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ltro esempio – Formula di Bayes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1260360" y="2055960"/>
                <a:ext cx="2616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059360" y="1287360"/>
                <a:ext cx="542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6570720" y="4114800"/>
                <a:ext cx="1049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3"/>
              <p:cNvSpPr txBox="1"/>
              <p:nvPr/>
            </p:nvSpPr>
            <p:spPr>
              <a:xfrm>
                <a:off x="3691080" y="3960720"/>
                <a:ext cx="525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Text Box 15"/>
          <p:cNvSpPr/>
          <p:nvPr/>
        </p:nvSpPr>
        <p:spPr>
          <a:xfrm>
            <a:off x="4059360" y="2127240"/>
            <a:ext cx="54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ikelihood ,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babilità stato-condi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0"/>
              <p:cNvSpPr txBox="1"/>
              <p:nvPr/>
            </p:nvSpPr>
            <p:spPr>
              <a:xfrm>
                <a:off x="1433520" y="4865760"/>
                <a:ext cx="125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21"/>
              <p:cNvSpPr txBox="1"/>
              <p:nvPr/>
            </p:nvSpPr>
            <p:spPr>
              <a:xfrm>
                <a:off x="1419120" y="5240160"/>
                <a:ext cx="486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3" name="Picture 22" descr=""/>
          <p:cNvPicPr/>
          <p:nvPr/>
        </p:nvPicPr>
        <p:blipFill>
          <a:blip r:embed="rId1"/>
          <a:stretch/>
        </p:blipFill>
        <p:spPr>
          <a:xfrm>
            <a:off x="5145120" y="3178080"/>
            <a:ext cx="4761000" cy="327024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A6D-E43B-4045-AC2B-51C7A249E9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577800" y="3506760"/>
            <a:ext cx="556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P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Likelih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Evid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0840" y="890640"/>
            <a:ext cx="910584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             e                  , la decisione dello stato di natura diventa, per Bay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8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ltro esempio – Formula di Bayes (2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1704960" y="909720"/>
                <a:ext cx="91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6570720" y="4114800"/>
                <a:ext cx="10494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4"/>
              <p:cNvSpPr txBox="1"/>
              <p:nvPr/>
            </p:nvSpPr>
            <p:spPr>
              <a:xfrm>
                <a:off x="2940120" y="900000"/>
                <a:ext cx="1325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217600" y="1671480"/>
                <a:ext cx="59882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6"/>
              <p:cNvSpPr txBox="1"/>
              <p:nvPr/>
            </p:nvSpPr>
            <p:spPr>
              <a:xfrm>
                <a:off x="2212920" y="2571840"/>
                <a:ext cx="5797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879480" y="4827600"/>
                <a:ext cx="143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8"/>
              <p:cNvSpPr txBox="1"/>
              <p:nvPr/>
            </p:nvSpPr>
            <p:spPr>
              <a:xfrm>
                <a:off x="920880" y="4251240"/>
                <a:ext cx="1280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954000" y="3684600"/>
                <a:ext cx="9972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Picture 26" descr=""/>
          <p:cNvPicPr/>
          <p:nvPr/>
        </p:nvPicPr>
        <p:blipFill>
          <a:blip r:embed="rId1"/>
          <a:stretch/>
        </p:blipFill>
        <p:spPr>
          <a:xfrm>
            <a:off x="4950000" y="3772080"/>
            <a:ext cx="4705200" cy="2627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7"/>
          <p:cNvSpPr/>
          <p:nvPr/>
        </p:nvSpPr>
        <p:spPr>
          <a:xfrm>
            <a:off x="8111520" y="2743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8"/>
              <p:cNvSpPr txBox="1"/>
              <p:nvPr/>
            </p:nvSpPr>
            <p:spPr>
              <a:xfrm>
                <a:off x="866880" y="5249880"/>
                <a:ext cx="3297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CE40-0F33-4D6C-826D-2F09C9E0C3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203040" y="2440080"/>
            <a:ext cx="9536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sia i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obabilità a posterior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robabilità che lo stato di natura sia       data l’osservazion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fattore più importante è il prodotto                      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’evidenza          è semplicemente un fattore di scala, che assicura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lla formula di Bayes deriva 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a regola di decisione di Bayes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Decidi 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se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|x) &gt; P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|x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 altr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12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Regola di decisione di Bay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360360" y="1195560"/>
                <a:ext cx="4091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0"/>
              <p:cNvSpPr txBox="1"/>
              <p:nvPr/>
            </p:nvSpPr>
            <p:spPr>
              <a:xfrm>
                <a:off x="5191200" y="1192320"/>
                <a:ext cx="4327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sterio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kelihood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ri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vide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AutoShape 22"/>
          <p:cNvSpPr/>
          <p:nvPr/>
        </p:nvSpPr>
        <p:spPr>
          <a:xfrm>
            <a:off x="4624560" y="1547640"/>
            <a:ext cx="469800" cy="349560"/>
          </a:xfrm>
          <a:prstGeom prst="leftRightArrow">
            <a:avLst>
              <a:gd name="adj1" fmla="val 50000"/>
              <a:gd name="adj2" fmla="val 2675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7"/>
              <p:cNvSpPr txBox="1"/>
              <p:nvPr/>
            </p:nvSpPr>
            <p:spPr>
              <a:xfrm>
                <a:off x="3224160" y="2795760"/>
                <a:ext cx="442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2"/>
              <p:cNvSpPr txBox="1"/>
              <p:nvPr/>
            </p:nvSpPr>
            <p:spPr>
              <a:xfrm>
                <a:off x="5443560" y="3263760"/>
                <a:ext cx="2584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kelihoo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i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9"/>
              <p:cNvSpPr txBox="1"/>
              <p:nvPr/>
            </p:nvSpPr>
            <p:spPr>
              <a:xfrm>
                <a:off x="2182680" y="3710160"/>
                <a:ext cx="7430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45"/>
              <p:cNvSpPr txBox="1"/>
              <p:nvPr/>
            </p:nvSpPr>
            <p:spPr>
              <a:xfrm>
                <a:off x="3355920" y="4282920"/>
                <a:ext cx="23734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602-953D-4F4D-AB86-BDA5E3CB8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16000" y="853920"/>
            <a:ext cx="95076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 dimostrare l’efficacia  della regola di decisione di Bay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isco l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babilità d’erro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nessa a tale deci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mostro c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a regola di decisione di Bayes minimizza la probabilità d’error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o       se                                       e vice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ndi se  vogli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inimizzare la probabilità media di erro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 tutte le osservazioni possibil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 per ogn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endo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(error|x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ù piccola possibile m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curo la probabilità d’erro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re (come detto il fatt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è ininflu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12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gola di decisione di Bayes (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Rectangle 11"/>
          <p:cNvSpPr/>
          <p:nvPr/>
        </p:nvSpPr>
        <p:spPr>
          <a:xfrm>
            <a:off x="5776920" y="1863720"/>
            <a:ext cx="1217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cido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cido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6959520" y="2428920"/>
                <a:ext cx="395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3"/>
              <p:cNvSpPr txBox="1"/>
              <p:nvPr/>
            </p:nvSpPr>
            <p:spPr>
              <a:xfrm>
                <a:off x="6972480" y="1914480"/>
                <a:ext cx="404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405320" y="1897200"/>
                <a:ext cx="1249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5"/>
              <p:cNvSpPr txBox="1"/>
              <p:nvPr/>
            </p:nvSpPr>
            <p:spPr>
              <a:xfrm>
                <a:off x="4389480" y="2496960"/>
                <a:ext cx="1252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7"/>
              <p:cNvSpPr txBox="1"/>
              <p:nvPr/>
            </p:nvSpPr>
            <p:spPr>
              <a:xfrm>
                <a:off x="2147760" y="2147760"/>
                <a:ext cx="18795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3997440" y="1809720"/>
                <a:ext cx="5252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0"/>
              <p:cNvSpPr txBox="1"/>
              <p:nvPr/>
            </p:nvSpPr>
            <p:spPr>
              <a:xfrm>
                <a:off x="3057480" y="3718080"/>
                <a:ext cx="2782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1"/>
              <p:cNvSpPr txBox="1"/>
              <p:nvPr/>
            </p:nvSpPr>
            <p:spPr>
              <a:xfrm>
                <a:off x="2270160" y="3719520"/>
                <a:ext cx="377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4"/>
              <p:cNvSpPr txBox="1"/>
              <p:nvPr/>
            </p:nvSpPr>
            <p:spPr>
              <a:xfrm>
                <a:off x="1541520" y="4645080"/>
                <a:ext cx="68119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D70-17B1-4FF8-B4FD-CAE97FDA4C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9000" y="530280"/>
            <a:ext cx="95076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questo caso tale probabilità d’errore div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error|x)=min[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x), 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x)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esto mi assicura che la regola di decisione di Ba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ecidi 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se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|x)&gt; P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|x)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alt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minimizza l’err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Regola di decisione equivale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forma della regola di decisione evidenzi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’importanza della probabilità a posterior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 sottoline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’ininfluenza dell’evidenz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un fattore di scala che mostra quanto frequentemente si osserva un patter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eliminandola, si ottiene la equivalente regola di deci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ecidi 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se 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p(x|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&gt; p(x|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,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 altr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12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Regola di decisione di Bayes (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2752560" y="39304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Footer Placeholder 3"/>
          <p:cNvSpPr/>
          <p:nvPr/>
        </p:nvSpPr>
        <p:spPr>
          <a:xfrm>
            <a:off x="257004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fatto da Marco Cristani</dc:description>
  <dc:language>en-US</dc:language>
  <cp:lastModifiedBy>Marco Cristani</cp:lastModifiedBy>
  <cp:lastPrinted>2001-05-02T10:47:20Z</cp:lastPrinted>
  <dcterms:modified xsi:type="dcterms:W3CDTF">2014-10-20T11:41:50Z</dcterms:modified>
  <cp:revision>359</cp:revision>
  <dc:subject>Libro Duda 2001, Cap 2</dc:subject>
  <dc:title>Classificazione</dc:title>
</cp:coreProperties>
</file>