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  <p:sldId id="290" r:id="rId64"/>
    <p:sldId id="291" r:id="rId65"/>
    <p:sldId id="292" r:id="rId66"/>
    <p:sldId id="293" r:id="rId67"/>
    <p:sldId id="294" r:id="rId68"/>
    <p:sldId id="295" r:id="rId69"/>
    <p:sldId id="296" r:id="rId70"/>
    <p:sldId id="297" r:id="rId71"/>
    <p:sldId id="298" r:id="rId72"/>
    <p:sldId id="299" r:id="rId73"/>
    <p:sldId id="300" r:id="rId74"/>
    <p:sldId id="301" r:id="rId75"/>
    <p:sldId id="302" r:id="rId76"/>
    <p:sldId id="303" r:id="rId77"/>
    <p:sldId id="304" r:id="rId78"/>
    <p:sldId id="305" r:id="rId79"/>
    <p:sldId id="306" r:id="rId80"/>
    <p:sldId id="307" r:id="rId81"/>
    <p:sldId id="308" r:id="rId82"/>
    <p:sldId id="309" r:id="rId83"/>
    <p:sldId id="310" r:id="rId84"/>
    <p:sldId id="311" r:id="rId85"/>
    <p:sldId id="312" r:id="rId86"/>
    <p:sldId id="313" r:id="rId87"/>
    <p:sldId id="314" r:id="rId88"/>
    <p:sldId id="315" r:id="rId89"/>
    <p:sldId id="316" r:id="rId90"/>
    <p:sldId id="317" r:id="rId91"/>
    <p:sldId id="318" r:id="rId92"/>
    <p:sldId id="319" r:id="rId93"/>
    <p:sldId id="320" r:id="rId94"/>
    <p:sldId id="321" r:id="rId95"/>
    <p:sldId id="322" r:id="rId96"/>
    <p:sldId id="323" r:id="rId97"/>
    <p:sldId id="324" r:id="rId98"/>
    <p:sldId id="325" r:id="rId99"/>
    <p:sldId id="326" r:id="rId100"/>
  </p:sldIdLst>
  <p:sldSz cx="9907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slide" Target="slides/slide35.xml"/><Relationship Id="rId65" Type="http://schemas.openxmlformats.org/officeDocument/2006/relationships/slide" Target="slides/slide36.xml"/><Relationship Id="rId66" Type="http://schemas.openxmlformats.org/officeDocument/2006/relationships/slide" Target="slides/slide37.xml"/><Relationship Id="rId67" Type="http://schemas.openxmlformats.org/officeDocument/2006/relationships/slide" Target="slides/slide38.xml"/><Relationship Id="rId68" Type="http://schemas.openxmlformats.org/officeDocument/2006/relationships/slide" Target="slides/slide39.xml"/><Relationship Id="rId69" Type="http://schemas.openxmlformats.org/officeDocument/2006/relationships/slide" Target="slides/slide40.xml"/><Relationship Id="rId70" Type="http://schemas.openxmlformats.org/officeDocument/2006/relationships/slide" Target="slides/slide41.xml"/><Relationship Id="rId71" Type="http://schemas.openxmlformats.org/officeDocument/2006/relationships/slide" Target="slides/slide42.xml"/><Relationship Id="rId72" Type="http://schemas.openxmlformats.org/officeDocument/2006/relationships/slide" Target="slides/slide43.xml"/><Relationship Id="rId73" Type="http://schemas.openxmlformats.org/officeDocument/2006/relationships/slide" Target="slides/slide44.xml"/><Relationship Id="rId74" Type="http://schemas.openxmlformats.org/officeDocument/2006/relationships/slide" Target="slides/slide45.xml"/><Relationship Id="rId75" Type="http://schemas.openxmlformats.org/officeDocument/2006/relationships/slide" Target="slides/slide46.xml"/><Relationship Id="rId76" Type="http://schemas.openxmlformats.org/officeDocument/2006/relationships/slide" Target="slides/slide47.xml"/><Relationship Id="rId77" Type="http://schemas.openxmlformats.org/officeDocument/2006/relationships/slide" Target="slides/slide48.xml"/><Relationship Id="rId78" Type="http://schemas.openxmlformats.org/officeDocument/2006/relationships/slide" Target="slides/slide49.xml"/><Relationship Id="rId79" Type="http://schemas.openxmlformats.org/officeDocument/2006/relationships/slide" Target="slides/slide50.xml"/><Relationship Id="rId80" Type="http://schemas.openxmlformats.org/officeDocument/2006/relationships/slide" Target="slides/slide51.xml"/><Relationship Id="rId81" Type="http://schemas.openxmlformats.org/officeDocument/2006/relationships/slide" Target="slides/slide52.xml"/><Relationship Id="rId82" Type="http://schemas.openxmlformats.org/officeDocument/2006/relationships/slide" Target="slides/slide53.xml"/><Relationship Id="rId83" Type="http://schemas.openxmlformats.org/officeDocument/2006/relationships/slide" Target="slides/slide54.xml"/><Relationship Id="rId84" Type="http://schemas.openxmlformats.org/officeDocument/2006/relationships/slide" Target="slides/slide55.xml"/><Relationship Id="rId85" Type="http://schemas.openxmlformats.org/officeDocument/2006/relationships/slide" Target="slides/slide56.xml"/><Relationship Id="rId86" Type="http://schemas.openxmlformats.org/officeDocument/2006/relationships/slide" Target="slides/slide57.xml"/><Relationship Id="rId87" Type="http://schemas.openxmlformats.org/officeDocument/2006/relationships/slide" Target="slides/slide58.xml"/><Relationship Id="rId88" Type="http://schemas.openxmlformats.org/officeDocument/2006/relationships/slide" Target="slides/slide59.xml"/><Relationship Id="rId89" Type="http://schemas.openxmlformats.org/officeDocument/2006/relationships/slide" Target="slides/slide60.xml"/><Relationship Id="rId90" Type="http://schemas.openxmlformats.org/officeDocument/2006/relationships/slide" Target="slides/slide61.xml"/><Relationship Id="rId91" Type="http://schemas.openxmlformats.org/officeDocument/2006/relationships/slide" Target="slides/slide62.xml"/><Relationship Id="rId92" Type="http://schemas.openxmlformats.org/officeDocument/2006/relationships/slide" Target="slides/slide63.xml"/><Relationship Id="rId93" Type="http://schemas.openxmlformats.org/officeDocument/2006/relationships/slide" Target="slides/slide64.xml"/><Relationship Id="rId94" Type="http://schemas.openxmlformats.org/officeDocument/2006/relationships/slide" Target="slides/slide65.xml"/><Relationship Id="rId95" Type="http://schemas.openxmlformats.org/officeDocument/2006/relationships/slide" Target="slides/slide66.xml"/><Relationship Id="rId96" Type="http://schemas.openxmlformats.org/officeDocument/2006/relationships/slide" Target="slides/slide67.xml"/><Relationship Id="rId97" Type="http://schemas.openxmlformats.org/officeDocument/2006/relationships/slide" Target="slides/slide68.xml"/><Relationship Id="rId98" Type="http://schemas.openxmlformats.org/officeDocument/2006/relationships/slide" Target="slides/slide69.xml"/><Relationship Id="rId99" Type="http://schemas.openxmlformats.org/officeDocument/2006/relationships/slide" Target="slides/slide70.xml"/><Relationship Id="rId100" Type="http://schemas.openxmlformats.org/officeDocument/2006/relationships/slide" Target="slides/slide71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4337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dt" idx="82"/>
          </p:nvPr>
        </p:nvSpPr>
        <p:spPr>
          <a:xfrm>
            <a:off x="5800680" y="0"/>
            <a:ext cx="44337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sldImg"/>
          </p:nvPr>
        </p:nvSpPr>
        <p:spPr>
          <a:xfrm>
            <a:off x="3195720" y="531360"/>
            <a:ext cx="384480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ftr" idx="83"/>
          </p:nvPr>
        </p:nvSpPr>
        <p:spPr>
          <a:xfrm>
            <a:off x="0" y="6743520"/>
            <a:ext cx="44337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 type="sldNum" idx="84"/>
          </p:nvPr>
        </p:nvSpPr>
        <p:spPr>
          <a:xfrm>
            <a:off x="5800680" y="6743520"/>
            <a:ext cx="44337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14E1EC-B0D5-4D7D-A5A9-DD2304BEB2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B08811-A3BB-44CC-A01B-22D8EDF1E3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319716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194B8F-BD2D-4EBC-A9AB-6C87559FC7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B5C223-AA09-43EE-B8A1-3C0ED8537C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2F5191-DE49-4653-BEDD-51A610BD5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404C0D-6EAF-4FF1-9A8C-44B621A351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F91630-1661-4FCD-98F8-7A15FB8676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9ABBBD-1016-4EE0-A2D0-5D7BE18EB9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04B0AE-A508-44D7-B48C-738605934B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FD32E5-A52A-40D4-93CD-037AC512D7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540FA2-9303-4FE6-BCD5-D66AB85DD9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0F1E9F-D68B-4761-B69F-95C2F2A87C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A6FC2A-9447-45FA-A08B-908C987B99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BCB513-030D-4084-B160-B77E828872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119320-807F-468A-AB13-7DCC32EC7B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A6A480-C5DC-490B-9FDC-BFDCD86D7E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BC08B8-31CD-426C-81FD-6713C7400D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9F56B4-A337-4BE4-A8FC-8060425082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690529-2C0B-4A9D-8B7C-434989232B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B60461-A723-41BC-9053-93680CA3C2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70166F-FFD4-4DBD-8511-A1EE2079F5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E9A46C-A74D-44FA-9AB8-CE18BA7FA8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A7DEF2-FA30-434A-8998-2C3F130347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5E0F28-2F7E-47F1-960F-8610572014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45876B-7E1F-41E8-A603-B5098FA68E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A8DBAB-471D-4F89-8566-A8FB9B8B4E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E35912-A66F-4846-ADCC-2CC4325D3B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B5F9BA-01C2-449A-B74E-41D59AD418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1294E5-E53B-4ACE-B89E-5ABAC7A54D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2D7C3D-11CE-44C2-B8C7-C7A182807F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A99878-55A8-43F8-8EBD-621536F691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365892-3402-474D-81A6-0F40EDCA1A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2E7FDC-BB0A-47AA-ABDE-2A697F57C4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F362BD-6EF3-4CFD-A322-EF2E719F38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02C03E-5466-44FF-A8F4-7CEF53C3BA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C8F6A1-3C82-4E01-A808-A7E5C98BFB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62751D-B019-428E-AB96-6C65C87C19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79D18E-CB54-44C0-AB08-F06D0ABB29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A3EAE2-BE21-48A4-BA59-F71C111BCE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CD8762-AB57-4727-84EF-95FE778CFF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F7DB87-C7D5-4659-96C7-FF02DAA9C2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1D5-C1C1-49C7-B562-B1437E0D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DBD-AC89-4441-913F-3CD14E7B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2651D-9A04-4A50-8B44-192AD07B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61F34-49F3-4765-BCA3-29230EDC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45FC3-2D3D-472B-93D1-08DF71DB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63E13-EA71-4CD0-AF23-A8359247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22365-5FFE-45EA-BA59-F80F5D14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10395-48CF-48A4-908C-C0377C24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9E13D-27F5-4605-986D-5DA66160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79264-87A8-4B7D-A965-9539B01C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9942D-C38B-43DB-B092-62979CA2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435DB-4364-46FC-B4A1-CBE84E13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0D1-ABED-49CD-B908-158E00CA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7238E-DC32-4FA8-88B3-56DB43DB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9A978-3F13-408D-9A1E-9471424A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0275C-3A11-4FD7-834B-1517B840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8E936-2023-4481-95F1-79223D1B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FE3C0-167C-492E-85D1-E90E2730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C1DEE-F44E-4477-B3C2-AEB086D3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2A033-FDDE-40C6-8F19-7EAF1B8C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A8F9B-29A5-4102-83E4-97CAAF6B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8A7C4-CBFE-48EB-874F-56F44F1B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59C37-3996-432B-BF9A-317384A0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EF5-7E2F-43EF-86D9-F2E33848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FA2FA-8437-48B6-9BE3-8F6B19B8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20B04-6ED1-477A-A503-D3298A38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71E5A-08FE-42E1-BF25-DBEAFB8B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6EF87-BF1D-497E-A9C3-60F2998C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4ADA9-354E-4759-8564-A39DC3F7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6C837-52AA-4881-8A5A-1B1CE602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E635E-3257-402D-8137-E014C4E6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32B06-077A-4AA5-B4AA-04014B47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3812E-DC5B-4419-8D1A-32CD66ED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BB2A3-1F48-457B-9DDE-CB17D742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1130-4593-483C-8A35-7E06506E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72901-B929-4BE4-ACC4-3C79FBA9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F8D99-622E-42F9-B687-EF98F662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7FFC3-620E-453D-9A27-D95039D6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23E94-7F04-46F6-9B7C-7E4C5E9E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EF3AE-F48C-4402-9BDC-EEB737B1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9E6C4-6B35-4E2B-B443-59086732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2C2D8-C3B0-4080-8FA6-025AE232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EBCCD-702A-4D8B-ABF2-1E2F454A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91226-0852-46FE-A9BC-1BE60916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6AC88-1E19-4680-89B6-624A221C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6288-FF0E-4F31-85CE-CC06D476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5E13A-7B06-4D9E-8FC4-C79B260E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7A7AD-D5E1-41D6-81B8-EA05CD29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F8D05-29B5-4C17-ABDB-5E11024B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42934-A2D3-4CCF-9ED1-7E6D8BF4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8A4C9-6A20-4DA0-9E34-073687D5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EDACD-6BB2-4E24-9793-446433D9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1B84F-53DE-4BB5-A574-93C99B2E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FBBE2-56E6-4152-9799-77C009B5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0B8A6-5657-4C74-9F31-CB2AF958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B04EF-B512-4F59-9970-CC541894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AAB7-5943-41BD-8A4A-F0AC2567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A9775-1B31-4FE4-BABF-DA24B1B5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82618-625D-4399-A982-AC716E8A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9EB42-AED5-4C20-9222-B895F597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D9318-8F2A-4294-9F19-7F7FC688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E33B1-0952-4F99-8EC4-B54875EC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2D44E-0D0F-413A-9BA7-052C09FE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C8DB9-4303-4922-8363-BF875699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078D5-D258-4377-B0E8-69D78A8F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7BB2F-B575-46B6-88DB-57ABCA32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CE793-7952-4B50-8491-D06253BC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B0D5-F60F-4383-B20C-87737EA4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E126A-5647-4A09-A64D-49BBD4C7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160C17-45F2-4CBB-AC11-58F742DA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4468B-329A-4015-8472-89B5F9EC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1D1D5-B3C1-4075-ADBD-0FF4379A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EC250-05F8-4E5F-B59B-D4635855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0BDDF-C8B3-4E88-9B39-23C989F1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5B99A-CFD4-4CD7-A097-98DBF4B0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D02A3-5F5C-47A0-ABFC-511846B0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FF3F9-C70C-4768-80E6-5304D5FE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92E2E-B539-48ED-B46A-45860320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E31A-2EAA-4C08-95FB-86F116D1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4FD415-2BD6-4D60-9F39-B16B239D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E9BF6-3E94-4016-9CFB-9A61642F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1006E-82D9-47E5-8FEB-064C01CA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2FA78-6393-444E-97E1-0E51C52E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2CF50-A5AC-4945-8A09-313E6970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CCD93-8061-4A2B-884B-E2496755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3654A-A394-41E9-A4F6-5F7A7A8C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038B8-8DE3-43AB-B214-6A256AA8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ED32E-9578-4333-AD8C-556CD548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E2C7C7-5F11-45FD-91A8-31B527C3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665E-0E18-4BA6-9705-37FF0601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C6D6F-4B97-4DA1-9BDE-900D766B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AF39AD-D8C9-490A-B427-24AAAB01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DBCF7B-D7F8-4FCC-8B42-660846D6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B30FB-B03D-4522-902E-F7552E71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6F503E-374B-4515-A9FB-796DA70F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D3416-DF17-463B-B1BC-B8298767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39BB08-0F8F-460D-8941-5F3E80BC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3489AA-7F82-474D-B52F-F202B44A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25617-31BB-4AA0-94E3-8CC08935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3E468-141C-4DEC-9F38-55B8C1F5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7667-7640-4B15-BDDC-0BE9B362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55D59-C9FE-455B-9768-236858C9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5D535-5FA9-4354-9D44-D93384B7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16D466-AC20-4069-A64B-F40D77BD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FD1ED-CDEE-426B-9903-132CDD40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02413-6F54-45D7-9635-00191238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AEA05C-6C6B-4B26-878E-4212B4A1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3A115-2826-4AAB-9CFA-1C708E95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8BD1B1-CDE8-41CB-982C-192863B6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1A427D-EE08-4A1F-BBBF-A020A63F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D38581-B606-4AF4-B6DB-100A131D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8F0-62E8-4EB1-BB13-37B92D1A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CEF4-6027-451A-88D6-29D2CC46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55DE1-82FB-4FA5-B9C5-FF3076A6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4190C-8BFD-4910-AEA9-0940CB67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300CF0-0E18-4B79-9D72-81C5BD44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768561-1C8C-454F-9E53-8F58A80F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517BA-3E3D-4F62-B17A-F2C0850E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10391A-F33C-4528-B963-37840949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C21E7-DFB2-4205-9B49-B41342E0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89B49-9913-4764-9BA1-07DBB787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0ED7FB-472D-438F-B268-55B415E6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CDC23D-BDA9-4505-8A26-D926A1A6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ACA9-0607-47C0-BB7C-D3D5DA81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E77C04-7A75-4472-A3ED-2BDE25BF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B65B1-5E2D-43B9-A31E-B9382AFF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BCE590-2B28-4808-8759-04D064C6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2B376-556D-4A31-A74A-A95D7CFB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B1D702-E1FF-4A78-BF42-B803404F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64F6EE-1E7B-457F-8237-4B551ADE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3D0104-B053-4B08-8BE3-E6EDCDA7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B19E8-7FA1-455A-9422-C9DF3D65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1E443-BFC8-4715-8C79-CA005BD7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34C91C-BD9C-4451-8284-B78262FA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1209-37F8-4359-9EBE-8B9797E7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0B92B6-A7C4-488F-9371-C41F5317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2F26B-5597-4CB1-ACC2-2D69262B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D70EB-22A8-4B29-BA91-3424A462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39C6DD-BAA1-488E-9020-3510C01C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920A81-09E1-42FF-AD7D-4A254249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9D5388-95EB-4830-AF7C-A37CCF82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E7DDC9-5B73-4E7B-81F8-EE0769DA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9A1281-42EA-45F7-A1DD-394D3BC6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DBE24-C8B1-4212-A59D-8CBC3450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7F5766-AE55-4A06-A1DB-7AF9C6E8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1614-E0C9-491B-9DA6-276E454D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CD2BB3-A17D-4A1A-89A3-1C06D632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E342C-1B4B-47E9-8DBE-C32243A4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C0ED3B-63E6-4316-AE50-024C37AA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905AB1-F61E-4F6F-8F59-D6DC4BFC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C90815-E03F-481B-9A04-2D0C63F5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B036E2-42AA-4BA8-820C-E9F11459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08FCA6-F294-405C-8112-9F93DD7A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65387C-5439-44D1-8D5A-619CF6DF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16A48C-93EF-4B80-B339-611A1677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192952-3CF5-42AE-8609-C44AA0CA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CE1D-DAD4-4848-ACC2-FD15B131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131C96-C7BE-4B0E-BE13-2EA710D2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90C77D-B6A4-4E5E-98C3-4C812D89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66563-F0E8-440C-B36B-9D4EC62E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32461D-FC3F-46EB-B7A4-37AA8509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698091-3774-4D97-8C61-764656B7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8DF71B-81E9-4E14-A314-AF62CDB9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10163-385C-4A8D-B7A1-D120AC93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09C137-BD6C-47FE-AF10-F122BC2E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35F48-A948-419F-9F24-781C78AE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CE3AA5-B2C3-403C-BB53-4350DAE8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1EA2-EED6-4744-9D89-F0A795DF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12CE3D-EF08-4320-95E6-4193860A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9EB250-FA16-495B-AFEA-567649A8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6EF0EA-3135-46FB-B748-61D4D2FD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323885-6EFC-4CE0-B57E-88755880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727B0F-3E1E-4EB6-A4E5-C048E93A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6C6457-9112-43DD-8B05-E26CE656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1FB621-B087-4875-BF48-4B090254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CC5163-CA46-4B19-AE01-52BD58D8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FF0DE2-D75C-429D-B6A8-C887FB41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28BD39-2072-4288-85E1-48E6319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2A54A-E034-46F9-A727-5AD4485D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241085-6560-47BF-A64E-968CAF79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1BA97F-AB72-4F7A-B89E-81238BC0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954862-8C7B-44B1-A666-2FD395EA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C50235-F2ED-4202-91D9-908343F0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5FA785-F4F1-421B-A58C-62EAED2D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174A51-D356-4746-940D-01E131C8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3E145C-2C36-4846-816E-183C1481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031BE3-E747-4600-A5CD-841701E1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1C32E5-67F6-4F98-86D6-EF0858D1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33F256-D9F5-4A7F-91F7-0FADACF1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C9A7-C634-4743-85A4-92BB06C5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066097-3B86-45CB-A018-56B05D64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57A34E-40F5-48D2-9F88-6FA93CB3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9BB035-3C23-4C29-A2B0-E9AFCF86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7A26D3-6C4E-4C7B-AEE8-8E14934A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94C5DB-1D44-491A-BAFF-F4C15CD7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79491D-6C7A-4370-BA1B-309B440E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6BD1A6-97E9-4EBF-9F1D-44EC514E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D11365-347C-4A91-9FC3-48F5C102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EEB1C5-1AC2-45C5-9021-F1531754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C94F51-42F4-45C3-ACF1-54053DC1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8F01-08D0-4145-83FD-9EA5B775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B59F82-B0D8-4F90-A532-C25032EC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39C5C4-ADA6-4BF6-AF83-1D28B4DE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8D5B7D-72A5-465C-A412-FC179189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3C9B67-69DC-4052-9066-06352AF1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1EBB98-06BB-4D16-980E-143C545F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61D2A1-AB11-4B17-AF54-589B1C6F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87291E-8633-4D76-AB9D-B063671E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96CED9-785E-4189-B916-39FC53F1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36A2D8-11FF-46E4-A0CC-AB77CA0B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465884-F3CB-4458-8ABC-3A03B13B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BEAA8-856E-4807-BF50-19CB9E4D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1AB676-541B-4335-A3CA-81A2D8CB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3D8F97-9699-4726-A1F7-EC44D0BC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783762-67FD-49A5-9794-59ED587F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52FED1-442F-4367-A8EF-4A7433D5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EC2375-4F10-457F-8C29-3A634DA3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EEC7BF-15F9-4C7C-B69E-0BF98036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2DCA53-0F06-4748-BC21-97A1CBC0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88C42C-4AC1-4CEC-B7A9-774D4A89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CCDB1D-69D5-44FD-AA01-248CC949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B9FC90-C17F-442B-97AD-0A868630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38D-6F1B-40BC-8A4F-A996D702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611D-EB3E-4581-9F11-0F50217D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F9AFFD-3A6A-4E58-8451-8447EFA5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8B8105-5FC2-4A62-AEDD-8F3FB0FC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EB214E-DDA2-4665-BF68-AC2BDC6C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2236B2-EFD7-47AC-BFE3-E48D03BB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983A72-27B7-42E4-BF6D-9F9F6411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600275-E704-414D-B3C7-9583732E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E848C9-1C99-45DB-8964-43328D1E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FAA31C-6998-4E0A-9016-967EECE0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9781C3-5693-481C-87AA-263BF043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190A62-F287-4F68-A115-450B4B15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4887-B334-4093-A7D7-0A7755EC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9AE64B-427C-4E70-862D-6E406BDF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969C84-9EC7-439B-ADF8-3145E874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2EB8FC-EF21-4CE1-A960-28F8393A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BBEC8E-135A-4266-970F-D79A5369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6C453C-701B-40BA-862F-BA0D3964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8387DB-B76C-4B3C-B439-94FD487D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A81951-A1C1-40C8-B619-8EB924AB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9037E0-3DF2-4E25-8C21-C6DA7F0E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E2E2E0-51DA-4910-90D0-97F3F564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653BF5-CB0D-4661-BA67-EFBF73D3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4F567-07E8-41BE-A174-539E9426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21C608-371F-4B51-AC90-AB071410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0FEE39-1A40-4E53-B1FE-C7414D0D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438C7E-1561-4867-949C-93241285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DD1825-2649-4A94-A777-2C1CBE6C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839C70-F93F-4001-9F17-FA954C2C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015A-E027-4DEA-AFEC-F74FB9A2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4FFA-979B-4D02-91C0-AF53986F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DBED-C971-443F-B698-45C1F38F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39A12-04BE-472E-B278-646FE398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A237A-8505-41EA-8DF7-D92DE261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7B9EE-7C39-4E81-AD5E-F1C0548B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FDC0D-A1CB-4EE6-B787-AD8A2F30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F35-FCFC-4C3E-BB33-BF6A9610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263E4-EE5B-4AF0-859D-D2401DD2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E6C10-E0E8-49C3-8A9B-87AF3711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D6807-02F1-4C64-8B3D-54D606F2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F62CF-E247-41D9-BF98-165431F9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8AADB-450F-4DF9-855B-6D91DD3D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6075C-654E-4BEF-9DE5-DB96CCF2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23AE-22D3-43E7-9B55-9F8A5AB0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9F6D-A0E1-448F-AFFB-80B91069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D25C-0E2E-45D1-A8BE-D1112681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CEEA2-D6E6-4D96-9C36-4B199BE2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DF8-00B3-464E-A6CE-402A42B3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435E6-B00E-488C-BF3B-D1840C37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AF5FA-C833-4314-A9D0-BE3925BC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9630E-956F-492D-94ED-05518219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C3726-BE4F-4F18-ACFB-F5FA2A75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B1385E-2A29-4043-88BC-194D15E0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8C4B3-0C1B-40F6-B127-D5EDEC12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2236D-C7BD-41C6-9F43-7AEED2A6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6BA20-FA6E-4E00-AF46-64B75DE4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5CE8C-4F82-4DA5-8CBF-EB3FE55D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C2472-BE0E-4C88-AE71-DFB3A7A6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6AB-8733-42FD-8EC4-F47A1611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7CEDD-C9C4-49ED-8D4D-D5D988BC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6CB9D-997A-48F8-A2FF-00CB1B93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66F8C-EDFD-43A6-B66C-B41B4B4B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76A5D-E313-4331-BF82-CD2A3FA9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FA3D2-B691-453A-9338-6BE82F34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5EDB6-195A-4EC8-AB3B-F75B6C82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66B83-8CA9-4BC7-8407-2C1380B1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BA9BA-6CBD-4969-A099-93B19DB9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C9E4-98A6-494A-9C30-5E38328A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A125E-DA25-4AD1-97DA-5746290B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657-8158-40E6-89E4-4FD64111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C7E48-87D6-498A-AF3C-903308D7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24A25-28AF-4C59-B1DC-05D80B6A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B199D-89CB-48FB-BDCA-06E8955C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AEB53-3A7C-4ABC-9E71-A7B9DBFB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55FCE-D560-4160-B0C9-C57F87D6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E9E96-573F-4488-8882-C63540D6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6E90C-5783-4E57-A961-0C74AFCA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AA9AB-68B4-4234-B3AB-C583675C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57AA2-F831-4C3F-88F0-E7C88587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A1C4E-1E26-4813-8D30-07A741D4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5F37-8558-4609-B533-FE796781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4C4DB-6E59-4A61-91EA-491C23F9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F8E8A-B82A-437F-ADA3-4EB5D29A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D8060-2BE4-4218-BC26-E0E505C8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AD818-5327-446A-B39F-680B30EE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11A07-F786-49D1-8CA5-7C4517FE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B6CC3-A038-4C86-9513-AA74FFC8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7C92F-2F19-4FEB-99CE-F4ACE942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A25AC-6B0A-49BB-A579-DFFDAA13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C39AF-4709-4DAE-B75C-BE053C85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31882-4C20-433F-BEDE-E37A64C0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9E7-4608-4059-999E-225FF335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8505C-DFBF-4056-BFB5-C8B2F05A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C4D0E-A830-4D08-94A6-6297851E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C33C7-3D09-4AA0-A5E7-B63E1002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98D65-485F-4D6D-8944-E0F0FDBD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CB678-F81B-4AFC-91F4-35F37166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A0ADF-360F-4116-B0FB-F6FF3E00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3AA0B-9184-4CCD-B23E-3A9CACA3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562C4-6ED8-4E83-88A0-6F686AEF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EB709-9C76-49CF-B990-C245A1DB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DC28C-833A-45F7-8812-C325E52E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992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79A3-2C05-4ABF-8B60-A3157BD290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2C02-437F-4FC3-A439-A57E842F6E77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30C3-E42B-4F3C-9C44-2A52BC676C00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E436-BE37-4401-B3EA-4AFB877CE462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C32D-7103-45C5-A781-6D19CC868FDB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DE66-5938-4928-8D9D-345A3DDEF72C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E9D4-9F21-44CE-AFD0-50574E914FBC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1F87-2F10-4DD7-9F6D-26767DD2A7E4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26AD-CECB-4336-934E-F3F32BF9F642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6BB0-0881-4DBD-8B70-D4E2F11A51A0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33C3-ED62-4951-BBA1-1C3A20D19A84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3FC4-A6CF-4928-9F7C-2C7F9D57CE8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8996-E43D-4D0C-8E58-9C02DCD5A8C9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1870-D6DB-4BB8-B2F7-B024C15EEAF6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9629-73F6-4763-B142-0B6E5389044F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F0C5-0D45-4D5D-BFAD-F8238321551B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CB69-3F2A-4D49-ABED-1C13949BF2C0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73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7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7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079D-9921-4788-BE27-3239954DD35E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76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7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7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DF0D-D8FA-4620-A35E-BB35D1706B3E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79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8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8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3A96-1333-421E-96CB-0D761094FCF0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59992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E1AD-58EF-4B1C-B4BD-8C88C7D5FA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7342-72AF-474C-BD94-ECCD617CC15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166" name="Freeform 4"/>
          <p:cNvSpPr/>
          <p:nvPr/>
        </p:nvSpPr>
        <p:spPr>
          <a:xfrm>
            <a:off x="309600" y="2803680"/>
            <a:ext cx="1440" cy="3035160"/>
          </a:xfrm>
          <a:custGeom>
            <a:avLst/>
            <a:gdLst/>
            <a:ahLst/>
            <a:rect l="l" t="t" r="r" b="b"/>
            <a:pathLst>
              <a:path w="1587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0498-15D1-4ABA-93AD-2226906482C6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dt" idx="1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8CFF-B08D-49F5-8D24-8229E10AC387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9BE6-0821-4274-A797-C6CEA6AA6D68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B20F-09AD-47D3-9F78-315EA538383C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1064-6D1F-4C08-B31A-C275E2B1287A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dx.doi.org/10.1109/TPAMI.2005.169" TargetMode="External"/><Relationship Id="rId2" Type="http://schemas.openxmlformats.org/officeDocument/2006/relationships/hyperlink" Target="http://dx.doi.org/10.1109/TPAMI.2005.169" TargetMode="External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5C43-F169-46DD-92DB-382C574184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790200" y="25909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Teoria e Tecniche del Riconoscimento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1508040" y="42224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tima dei parametri: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pproccio Maximum Likelihoo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pproccio Bayesian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xpectation-Max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4"/>
          <p:cNvSpPr/>
          <p:nvPr/>
        </p:nvSpPr>
        <p:spPr>
          <a:xfrm>
            <a:off x="871560" y="457200"/>
            <a:ext cx="824400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acoltà di Scienze MM. FF. NN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à di Veron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3-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C69B-6B7E-4DCB-AF1F-7131E7E50A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Stima dei parametri – Due approcci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440" y="1104480"/>
            <a:ext cx="88074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ccio Maximum Likeli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parametri son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à fiss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 sconosci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igliore stima dei loro valori è quella c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ssimizza la probabilità di ottenere i dati di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ccio Bayesia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parametri son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ili aleator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venti determinate probabilità a p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osservazioni dei dati di training trasformano queste probabilità in probabilità a poste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A3A0-7C21-4841-8243-9123E12CB3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Stima dei parametri – Due approcci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440" y="1467000"/>
            <a:ext cx="88074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iungendo campioni di training il risultato è di rifinire meglio la forma delle densità a posteriori, causando un innalzamento di esse in corrispondenza dei veri valori dei parametri (fenomeno d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yesian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risultati dei due approcci, benché proceduralmente diversi, sono qualitativamente simi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9B88-F5DC-46D3-928D-1422B7CB78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Approccio </a:t>
            </a:r>
            <a:r>
              <a:rPr b="1" i="1" lang="en-GB" sz="4000" spc="-1" strike="noStrike">
                <a:solidFill>
                  <a:srgbClr val="3333cc"/>
                </a:solidFill>
                <a:latin typeface="Times New Roman"/>
              </a:rPr>
              <a:t>Maximum Likeliho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50520" y="11667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orza dell’ipotesi di partenza del problema, poiché i pattern del se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no i.i.d., abbiamo c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ta come funzione d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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viene chiamat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ikeliho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ispetto al set di campioni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tima di Maximum Likelihood d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è, per definizione, il valore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 massimizza p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ordiamo l’assunzione ch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è fissato ma sconosci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6" name="Object 4"/>
              <p:cNvSpPr txBox="1"/>
              <p:nvPr/>
            </p:nvSpPr>
            <p:spPr>
              <a:xfrm>
                <a:off x="2782800" y="2151000"/>
                <a:ext cx="41529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Object 5"/>
              <p:cNvSpPr txBox="1"/>
              <p:nvPr/>
            </p:nvSpPr>
            <p:spPr>
              <a:xfrm>
                <a:off x="4865760" y="4726080"/>
                <a:ext cx="333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67B4-348C-4A47-9776-B409B01943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Approccio Maximum Likelihood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02" name="Picture 7" descr=""/>
          <p:cNvPicPr/>
          <p:nvPr/>
        </p:nvPicPr>
        <p:blipFill>
          <a:blip r:embed="rId1"/>
          <a:stretch/>
        </p:blipFill>
        <p:spPr>
          <a:xfrm>
            <a:off x="2825640" y="1231920"/>
            <a:ext cx="5562720" cy="5073480"/>
          </a:xfrm>
          <a:prstGeom prst="rect">
            <a:avLst/>
          </a:prstGeom>
          <a:ln w="0">
            <a:noFill/>
          </a:ln>
        </p:spPr>
      </p:pic>
      <p:sp>
        <p:nvSpPr>
          <p:cNvPr id="1203" name="Text Box 14"/>
          <p:cNvSpPr/>
          <p:nvPr/>
        </p:nvSpPr>
        <p:spPr>
          <a:xfrm>
            <a:off x="225360" y="1084320"/>
            <a:ext cx="3056040" cy="1739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i di training 1-D assunti generati d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sità gaussiana di varianza fissata ma media sconosciu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5"/>
          <p:cNvSpPr/>
          <p:nvPr/>
        </p:nvSpPr>
        <p:spPr>
          <a:xfrm>
            <a:off x="8199360" y="996840"/>
            <a:ext cx="1533600" cy="1410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delle infinite possibili gaussia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AutoShape 16"/>
          <p:cNvSpPr/>
          <p:nvPr/>
        </p:nvSpPr>
        <p:spPr>
          <a:xfrm rot="9275400">
            <a:off x="7492680" y="888840"/>
            <a:ext cx="245880" cy="1038240"/>
          </a:xfrm>
          <a:prstGeom prst="rightArrow">
            <a:avLst>
              <a:gd name="adj1" fmla="val 50000"/>
              <a:gd name="adj2" fmla="val 5024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AutoShape 17"/>
          <p:cNvSpPr/>
          <p:nvPr/>
        </p:nvSpPr>
        <p:spPr>
          <a:xfrm rot="21286200">
            <a:off x="3225600" y="2176560"/>
            <a:ext cx="609480" cy="461880"/>
          </a:xfrm>
          <a:prstGeom prst="rightArrow">
            <a:avLst>
              <a:gd name="adj1" fmla="val 31676"/>
              <a:gd name="adj2" fmla="val 9675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8"/>
          <p:cNvSpPr/>
          <p:nvPr/>
        </p:nvSpPr>
        <p:spPr>
          <a:xfrm>
            <a:off x="174600" y="3857760"/>
            <a:ext cx="2784600" cy="1793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likelihood p(D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è funzione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mentre la densità condizionale p(x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funzione di 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19"/>
          <p:cNvSpPr/>
          <p:nvPr/>
        </p:nvSpPr>
        <p:spPr>
          <a:xfrm>
            <a:off x="6885720" y="326700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KELIHO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20"/>
          <p:cNvSpPr/>
          <p:nvPr/>
        </p:nvSpPr>
        <p:spPr>
          <a:xfrm>
            <a:off x="6943680" y="484812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OG-LIKELIHO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47E6-6A3D-4B8E-BAD1-627101DEAF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Approccio Maximum Likelihood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85440" y="11667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il numero di parametri da stimare è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a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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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scopi analitici risulta più semplice lavorare con il logaritmo della likelih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amo quind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unzione di log-likeli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5" name="Object 5"/>
              <p:cNvSpPr txBox="1"/>
              <p:nvPr/>
            </p:nvSpPr>
            <p:spPr>
              <a:xfrm>
                <a:off x="4070520" y="1708200"/>
                <a:ext cx="152856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θ</m:t>
                    </m:r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Object 6"/>
              <p:cNvSpPr txBox="1"/>
              <p:nvPr/>
            </p:nvSpPr>
            <p:spPr>
              <a:xfrm>
                <a:off x="2487600" y="5392800"/>
                <a:ext cx="55339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6629-C8D6-442A-8488-3BC1CDC1E1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Approccio Maximum Likelihood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440" y="11667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scopo è di ottenere quindi il vettor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ui la dipendenza sul data set D è implic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tanto per ricavare il ma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cui vogliamo otten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Object 6"/>
              <p:cNvSpPr txBox="1"/>
              <p:nvPr/>
            </p:nvSpPr>
            <p:spPr>
              <a:xfrm>
                <a:off x="3244680" y="1620720"/>
                <a:ext cx="2716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θ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Object 7"/>
              <p:cNvSpPr txBox="1"/>
              <p:nvPr/>
            </p:nvSpPr>
            <p:spPr>
              <a:xfrm>
                <a:off x="2552760" y="4435560"/>
                <a:ext cx="43448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Object 8"/>
              <p:cNvSpPr txBox="1"/>
              <p:nvPr/>
            </p:nvSpPr>
            <p:spPr>
              <a:xfrm>
                <a:off x="2340000" y="3165480"/>
                <a:ext cx="54309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Object 9"/>
              <p:cNvSpPr txBox="1"/>
              <p:nvPr/>
            </p:nvSpPr>
            <p:spPr>
              <a:xfrm>
                <a:off x="5678640" y="5465880"/>
                <a:ext cx="18000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6" name="AutoShape 10"/>
          <p:cNvSpPr/>
          <p:nvPr/>
        </p:nvSpPr>
        <p:spPr>
          <a:xfrm rot="5400000">
            <a:off x="4561560" y="3794760"/>
            <a:ext cx="474840" cy="1038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855A-5A7F-4BAF-8081-1911CECAF6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Approccio Maximum Likelihood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85440" y="1317240"/>
            <a:ext cx="88074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mente, una volta trovato il set di parametri che rende vera, è necessario controllare che la soluzione trovata sia effettivamente un massimo globale, piuttosto che un massimo locale o un flesso o peggio ancora un punto di min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sogna anche controllare cosa accade ai bordi degli estremi dello spazio dei parame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hiamo ora l’approccio ML ad alcuni casi specifi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BAF3-16FD-4265-B2ED-91CF36DC85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Maximum Likelihood: caso Gaussiano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440" y="11667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iamo che i campioni siano generati da una popolazione normale multivariata di medi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 covarianz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semplicità, consideriamo il caso in cui solo la medi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a sconosciuta. Consideriamo quindi il punto campio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troviam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7" name="Object 4"/>
              <p:cNvSpPr txBox="1"/>
              <p:nvPr/>
            </p:nvSpPr>
            <p:spPr>
              <a:xfrm>
                <a:off x="1228680" y="3819600"/>
                <a:ext cx="7505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Σ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Object 5"/>
              <p:cNvSpPr txBox="1"/>
              <p:nvPr/>
            </p:nvSpPr>
            <p:spPr>
              <a:xfrm>
                <a:off x="2727360" y="5635800"/>
                <a:ext cx="4048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9" name="AutoShape 6"/>
          <p:cNvSpPr/>
          <p:nvPr/>
        </p:nvSpPr>
        <p:spPr>
          <a:xfrm rot="5400000">
            <a:off x="4329720" y="4666320"/>
            <a:ext cx="611280" cy="1038240"/>
          </a:xfrm>
          <a:prstGeom prst="rightArrow">
            <a:avLst>
              <a:gd name="adj1" fmla="val 50000"/>
              <a:gd name="adj2" fmla="val 314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86C2-2727-42A3-9870-4F2199BC44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aximum Likelihood: caso Gaussiano (2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440" y="11667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nd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deduce che la stima Maximum-Likelihood di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 soddisfare la relazi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tiplicando p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 riorganizzando la somma otteni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 non è altro che la semplic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gli esempi di training, altresì indicata con       per indicarne la dipendenza dalla numerosità del training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5" name="Object 4"/>
              <p:cNvSpPr txBox="1"/>
              <p:nvPr/>
            </p:nvSpPr>
            <p:spPr>
              <a:xfrm>
                <a:off x="3413160" y="1996920"/>
                <a:ext cx="29178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Object 5"/>
              <p:cNvSpPr txBox="1"/>
              <p:nvPr/>
            </p:nvSpPr>
            <p:spPr>
              <a:xfrm>
                <a:off x="3695760" y="3719520"/>
                <a:ext cx="18349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Object 6"/>
              <p:cNvSpPr txBox="1"/>
              <p:nvPr/>
            </p:nvSpPr>
            <p:spPr>
              <a:xfrm>
                <a:off x="5230800" y="5191200"/>
                <a:ext cx="474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27D1-57D9-4040-BF8F-B2C13AC464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/>
          </p:nvPr>
        </p:nvSpPr>
        <p:spPr>
          <a:xfrm>
            <a:off x="388800" y="1120680"/>
            <a:ext cx="91980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sideriamo ora il caso più tipico in cui la distribuzione Gaussiana abbia media e covarianza ig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sideriamo prima il caso univariato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 si prende un singolo punto abbi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cui derivata 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aximum Likelihood: caso Gaussiano (3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3" name="Object 4"/>
              <p:cNvSpPr txBox="1"/>
              <p:nvPr/>
            </p:nvSpPr>
            <p:spPr>
              <a:xfrm>
                <a:off x="2330280" y="3027240"/>
                <a:ext cx="588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Object 5"/>
              <p:cNvSpPr txBox="1"/>
              <p:nvPr/>
            </p:nvSpPr>
            <p:spPr>
              <a:xfrm>
                <a:off x="1820880" y="4106880"/>
                <a:ext cx="59691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  <m:sSubSup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B225-D79B-470A-8A27-8AEEC126F2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792000" y="228600"/>
            <a:ext cx="842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Introduzion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440" y="1213920"/>
            <a:ext cx="842004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 creare un classificatore ottimale che utilizzi la regola di decisione Bayesiana è necessario conosc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probabilità a pri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nsità condiz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 performance di un classificatore dipendono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temen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lla bontà di queste compon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NON SI HANNO PRATICAMENTE MAI TUTTE QUESTE INFORMAZION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Object 4"/>
              <p:cNvSpPr txBox="1"/>
              <p:nvPr/>
            </p:nvSpPr>
            <p:spPr>
              <a:xfrm>
                <a:off x="5692680" y="2633760"/>
                <a:ext cx="936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Object 5"/>
              <p:cNvSpPr txBox="1"/>
              <p:nvPr/>
            </p:nvSpPr>
            <p:spPr>
              <a:xfrm>
                <a:off x="5702400" y="3157560"/>
                <a:ext cx="1412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47D1-D752-44E3-B993-43B55E0100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/>
          </p:nvPr>
        </p:nvSpPr>
        <p:spPr>
          <a:xfrm>
            <a:off x="742680" y="1149480"/>
            <a:ext cx="842004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guagliando a 0 e considerando tutti i punti si ottie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ove     e      sono le stime ML per </a:t>
            </a:r>
            <a:r>
              <a:rPr b="0" i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stituendo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hanno le stime ML di media e 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aximum Likelihood: caso Gaussiano (4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0" name="Object 4"/>
              <p:cNvSpPr txBox="1"/>
              <p:nvPr/>
            </p:nvSpPr>
            <p:spPr>
              <a:xfrm>
                <a:off x="1527120" y="2166840"/>
                <a:ext cx="2629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Object 5"/>
              <p:cNvSpPr txBox="1"/>
              <p:nvPr/>
            </p:nvSpPr>
            <p:spPr>
              <a:xfrm>
                <a:off x="4919760" y="2106720"/>
                <a:ext cx="38131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Object 6"/>
              <p:cNvSpPr txBox="1"/>
              <p:nvPr/>
            </p:nvSpPr>
            <p:spPr>
              <a:xfrm>
                <a:off x="2075040" y="3408480"/>
                <a:ext cx="353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7"/>
              <p:cNvSpPr txBox="1"/>
              <p:nvPr/>
            </p:nvSpPr>
            <p:spPr>
              <a:xfrm>
                <a:off x="2819520" y="3392640"/>
                <a:ext cx="384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Object 9"/>
              <p:cNvSpPr txBox="1"/>
              <p:nvPr/>
            </p:nvSpPr>
            <p:spPr>
              <a:xfrm>
                <a:off x="3220920" y="4017960"/>
                <a:ext cx="283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10"/>
              <p:cNvSpPr txBox="1"/>
              <p:nvPr/>
            </p:nvSpPr>
            <p:spPr>
              <a:xfrm>
                <a:off x="1488960" y="5072040"/>
                <a:ext cx="17431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11"/>
              <p:cNvSpPr txBox="1"/>
              <p:nvPr/>
            </p:nvSpPr>
            <p:spPr>
              <a:xfrm>
                <a:off x="5008680" y="5054760"/>
                <a:ext cx="28670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6CEA-F9EF-4D2B-8E07-4F29AADE11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/>
          </p:nvPr>
        </p:nvSpPr>
        <p:spPr>
          <a:xfrm>
            <a:off x="742680" y="1081080"/>
            <a:ext cx="84200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caso multivariato si tratta in maniera analoga con più conti. Il risultato è comun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 noti tuttavia che la stima della covarianza è sbilanciata, i.e., il valore aspettato della varianza campione su tutti i possibili insiemi di dimension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non è uguale alla vera varian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aximum Likelihood: caso Gaussiano (5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Object 5"/>
              <p:cNvSpPr txBox="1"/>
              <p:nvPr/>
            </p:nvSpPr>
            <p:spPr>
              <a:xfrm>
                <a:off x="1695600" y="2027160"/>
                <a:ext cx="18288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Object 6"/>
              <p:cNvSpPr txBox="1"/>
              <p:nvPr/>
            </p:nvSpPr>
            <p:spPr>
              <a:xfrm>
                <a:off x="4727520" y="2054160"/>
                <a:ext cx="39243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Object 8"/>
              <p:cNvSpPr txBox="1"/>
              <p:nvPr/>
            </p:nvSpPr>
            <p:spPr>
              <a:xfrm>
                <a:off x="2287440" y="4929120"/>
                <a:ext cx="481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0FAB-92B2-4F28-AD88-C2C853E764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Maximum-Likelihood: altri casi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47280" y="858960"/>
            <a:ext cx="88074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istono, oltre alla densità Gaussiana, anche altre famiglie di densità che costituiscono altrettante famiglie di paramet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240" indent="-379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tribuzione esponen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240" indent="-379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tribuzione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2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240" indent="-379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tribuzione di Bernoulli multivari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Object 9"/>
              <p:cNvSpPr txBox="1"/>
              <p:nvPr/>
            </p:nvSpPr>
            <p:spPr>
              <a:xfrm>
                <a:off x="2847960" y="2806560"/>
                <a:ext cx="455940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θ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θ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       </m:t>
                              </m:r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altriment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Object 10"/>
              <p:cNvSpPr txBox="1"/>
              <p:nvPr/>
            </p:nvSpPr>
            <p:spPr>
              <a:xfrm>
                <a:off x="2660760" y="4451400"/>
                <a:ext cx="50306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/</m:t>
                              </m:r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altriment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FBBE-2DA0-485C-89BB-B9880C4CFF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Maximum-Likelihood – Modello d’error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440" y="11667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e, se i modelli parametrici sono validi, il classificato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ximum-likelihoo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nisce risultati eccelle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ce, se si usano famiglie parametriche scorrette, il classificatore produce forti erro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0000" indent="-272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o accade anche se è nota la famiglia parametrica da usare, per esempio se si stima all’interno di una distribuzione gaussiana come parametro una varianza troppo l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0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82E1-82BA-4D2B-9424-43694774E4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-360" y="178920"/>
            <a:ext cx="9906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aximum-Likelihood – Modello d’errore (2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440" y="1302840"/>
            <a:ext cx="88074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 fat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ca un modello d’errore che dia un voto alla parametrizzazione ottenu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ltre, per applicare la stima di Maximum-Likelihood, tutti i dati di training devono essere disponibi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vogliamo utilizz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i di training, è necessario ricalcolare la procedura di stima Maximum-Likelih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B4C1-6828-4BBE-9457-7B7BC951CB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Stima di Bay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440" y="1280880"/>
            <a:ext cx="88074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ifferenza dell’approccio ML, in cui supponia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e fissato ma sconosciuto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’approccio di stima Bayesia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i parametri consider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a variabile aleat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questo caso il set di dati di training D ci permette d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vertire una distribuzione a prior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 questa variabile in una densità di probabilità a posterior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     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la difficoltà dell’argomento, è necessario un passo indietro al concetto di classificazione Bayes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ight Arrow 8"/>
          <p:cNvSpPr/>
          <p:nvPr/>
        </p:nvSpPr>
        <p:spPr>
          <a:xfrm>
            <a:off x="4635360" y="487692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354D-72EF-49C7-A5FC-D65866E59F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Approccio di stima Bayesiano – Idea centra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766440" y="14763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calcolo delle densità a posteriori 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ta alla base della classificazione Bayes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 creare un classificatore ottimale che utilizzi la regola di decisione Bayesiana è necessario conosc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robabilità a prior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densità condizional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ndo queste quantità sono sconosciute, bisogna ricorrere a tutte le informazioni a disposi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FEB5-257E-45B1-B457-90EFF27828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-360" y="178920"/>
            <a:ext cx="9906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Approccio di stima Bayesiano – Idea centrale (2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58920" y="1254240"/>
            <a:ext cx="927072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te di queste informazioni può essere derivante 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450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oscenza a p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1360" indent="-353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orma funzionale delle densità sconosci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1360" indent="-353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ntervallo dei valori dei parametri sconosc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450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ining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1360" indent="-353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a D i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 totale di camp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l nostro compito si trasforma così nella stima d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,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queste probabilità possiamo ottenere il classificatore Bayesi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C0BC-DBF2-4373-A7AC-45B91483C0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Approccio di stima Bayesiano – Idea centrale (3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61680" y="77940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0040" indent="-320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o il set di training D, la formula di Bayes dive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040" indent="-320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nzio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000" indent="-266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gionevolment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 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000" indent="-266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o il caso di learning supervisionato il set D è partizionato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di campioni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 i campioni i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artenenti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000" indent="-266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mpioni appartenenti al s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 danno informazioni sui parametri di 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) se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Object 4"/>
              <p:cNvSpPr txBox="1"/>
              <p:nvPr/>
            </p:nvSpPr>
            <p:spPr>
              <a:xfrm>
                <a:off x="1751040" y="1509840"/>
                <a:ext cx="587052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5D0D-BF82-478A-9190-6AB1B8616C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Approccio di stima Bayesiano – Idea centrale (4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61680" y="77940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e assunzioni portano a due conseguenz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amo lavorare con ogni classe indipendentemente, o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9" name="Object 4"/>
              <p:cNvSpPr txBox="1"/>
              <p:nvPr/>
            </p:nvSpPr>
            <p:spPr>
              <a:xfrm>
                <a:off x="1854360" y="2436840"/>
                <a:ext cx="583884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Object 6"/>
              <p:cNvSpPr txBox="1"/>
              <p:nvPr/>
            </p:nvSpPr>
            <p:spPr>
              <a:xfrm>
                <a:off x="2070000" y="4809960"/>
                <a:ext cx="546444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1" name="AutoShape 7"/>
          <p:cNvSpPr/>
          <p:nvPr/>
        </p:nvSpPr>
        <p:spPr>
          <a:xfrm rot="5400000">
            <a:off x="4770360" y="3787920"/>
            <a:ext cx="827280" cy="1039680"/>
          </a:xfrm>
          <a:prstGeom prst="rightArrow">
            <a:avLst>
              <a:gd name="adj1" fmla="val 50000"/>
              <a:gd name="adj2" fmla="val 4256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Oval 9"/>
          <p:cNvSpPr/>
          <p:nvPr/>
        </p:nvSpPr>
        <p:spPr>
          <a:xfrm>
            <a:off x="5965920" y="2354400"/>
            <a:ext cx="1311120" cy="734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Oval 10"/>
          <p:cNvSpPr/>
          <p:nvPr/>
        </p:nvSpPr>
        <p:spPr>
          <a:xfrm>
            <a:off x="6265800" y="4657680"/>
            <a:ext cx="1011240" cy="735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Oval 11"/>
          <p:cNvSpPr/>
          <p:nvPr/>
        </p:nvSpPr>
        <p:spPr>
          <a:xfrm>
            <a:off x="5389560" y="2327400"/>
            <a:ext cx="609480" cy="73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Oval 12"/>
          <p:cNvSpPr/>
          <p:nvPr/>
        </p:nvSpPr>
        <p:spPr>
          <a:xfrm>
            <a:off x="5629320" y="4686480"/>
            <a:ext cx="660240" cy="73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14"/>
          <p:cNvSpPr/>
          <p:nvPr/>
        </p:nvSpPr>
        <p:spPr>
          <a:xfrm>
            <a:off x="5567400" y="3081240"/>
            <a:ext cx="609480" cy="7351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15"/>
          <p:cNvSpPr/>
          <p:nvPr/>
        </p:nvSpPr>
        <p:spPr>
          <a:xfrm>
            <a:off x="5869080" y="5450040"/>
            <a:ext cx="609480" cy="73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16"/>
          <p:cNvSpPr/>
          <p:nvPr/>
        </p:nvSpPr>
        <p:spPr>
          <a:xfrm>
            <a:off x="6532560" y="5437080"/>
            <a:ext cx="1011240" cy="735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17"/>
          <p:cNvSpPr/>
          <p:nvPr/>
        </p:nvSpPr>
        <p:spPr>
          <a:xfrm>
            <a:off x="6168960" y="3046320"/>
            <a:ext cx="1487520" cy="735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194C-19BA-44EF-9A18-68BDA7F26C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685440" y="628560"/>
            <a:ext cx="84200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iù spesso, si hanno unicam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ga conoscenza del problem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da cui estrarre vaghe probabilità a prior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lcuni pattern particolarmente rappresentativ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usati pe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ddestra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l classificatore (spesso troppo pochi!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stima delle probabilità a priori di solito non risulta particolarmente diffico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stima delle densità condizionali è più comples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C8CC-084E-45C3-8C5D-D744A3D71A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/>
          </p:nvPr>
        </p:nvSpPr>
        <p:spPr>
          <a:xfrm>
            <a:off x="311040" y="779400"/>
            <a:ext cx="9258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ché ogni classe può essere trattata indipendentemente, si possono evitare le distinzioni tra le classi e semplificare la notazio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ducendola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verse istanze dello stesso probl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ss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Object 18"/>
              <p:cNvSpPr txBox="1"/>
              <p:nvPr/>
            </p:nvSpPr>
            <p:spPr>
              <a:xfrm>
                <a:off x="1874880" y="2708280"/>
                <a:ext cx="546408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Approccio di stima Bayesiano – Idea centrale (5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6" name="Oval 8"/>
          <p:cNvSpPr/>
          <p:nvPr/>
        </p:nvSpPr>
        <p:spPr>
          <a:xfrm>
            <a:off x="4235400" y="2563920"/>
            <a:ext cx="1800360" cy="734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Object 16"/>
              <p:cNvSpPr txBox="1"/>
              <p:nvPr/>
            </p:nvSpPr>
            <p:spPr>
              <a:xfrm>
                <a:off x="4471920" y="5423040"/>
                <a:ext cx="1311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Oval 19"/>
          <p:cNvSpPr/>
          <p:nvPr/>
        </p:nvSpPr>
        <p:spPr>
          <a:xfrm>
            <a:off x="4270320" y="5288040"/>
            <a:ext cx="1800360" cy="734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ight Arrow 11"/>
          <p:cNvSpPr/>
          <p:nvPr/>
        </p:nvSpPr>
        <p:spPr>
          <a:xfrm rot="5400000">
            <a:off x="4860000" y="3979080"/>
            <a:ext cx="658800" cy="1038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317B-043F-4774-8BDE-F659650AA8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-360" y="163080"/>
            <a:ext cx="9906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istribuzione dei parametri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23520" y="1228680"/>
            <a:ext cx="88074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llo che vogliamo fare è effettivamente osservare come viene ottenut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) tramite l’ausilio di un modello di parametr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plici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gionevolmente, abbi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ve l’integrazione si estende su tutto lo spazio dei parame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5" name="Object 4"/>
              <p:cNvSpPr txBox="1"/>
              <p:nvPr/>
            </p:nvSpPr>
            <p:spPr>
              <a:xfrm>
                <a:off x="2754360" y="3328920"/>
                <a:ext cx="386568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θ</m:t>
                            </m:r>
                            <m:r>
                              <m:t xml:space="preserve">|</m:t>
                            </m:r>
                          </m:e>
                        </m:nary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EC4E-5CC1-4033-8879-D67A34B210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/>
          </p:nvPr>
        </p:nvSpPr>
        <p:spPr>
          <a:xfrm>
            <a:off x="623520" y="74124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chè, per ipotesi, la probabili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indipendente dai campioni di tr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Object 4"/>
              <p:cNvSpPr txBox="1"/>
              <p:nvPr/>
            </p:nvSpPr>
            <p:spPr>
              <a:xfrm>
                <a:off x="1911240" y="1117440"/>
                <a:ext cx="5870520" cy="22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θ</m:t>
                            </m:r>
                            <m:r>
                              <m:t xml:space="preserve">|</m:t>
                            </m:r>
                          </m:e>
                        </m:nary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Distribuzione dei parametri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2" name="Oval 6"/>
          <p:cNvSpPr/>
          <p:nvPr/>
        </p:nvSpPr>
        <p:spPr>
          <a:xfrm>
            <a:off x="4086360" y="2027160"/>
            <a:ext cx="1812960" cy="735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3" name="Object 7"/>
              <p:cNvSpPr txBox="1"/>
              <p:nvPr/>
            </p:nvSpPr>
            <p:spPr>
              <a:xfrm>
                <a:off x="2075040" y="4002120"/>
                <a:ext cx="5322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C096-0628-46DB-998C-69AE960088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/>
          </p:nvPr>
        </p:nvSpPr>
        <p:spPr>
          <a:xfrm>
            <a:off x="623520" y="1028520"/>
            <a:ext cx="8807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equazione precedente lega esplicitamente la densità condiziona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) alla densità a posterior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) tramite il vettore sconosciuto di parametri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) si concentra fortemente su un valore, otteniamo una stima     del vettore più probabile, qui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questo approccio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permette di tenere conto dell’effetto di tutti gli altri modelli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tti dal valore della funzione integral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per tutti i possibili model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istribuzione dei parametri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9" name="Object 7"/>
              <p:cNvSpPr txBox="1"/>
              <p:nvPr/>
            </p:nvSpPr>
            <p:spPr>
              <a:xfrm>
                <a:off x="4264200" y="2778120"/>
                <a:ext cx="4442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Object 8"/>
              <p:cNvSpPr txBox="1"/>
              <p:nvPr/>
            </p:nvSpPr>
            <p:spPr>
              <a:xfrm>
                <a:off x="2558880" y="5302080"/>
                <a:ext cx="49626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Object 9"/>
              <p:cNvSpPr txBox="1"/>
              <p:nvPr/>
            </p:nvSpPr>
            <p:spPr>
              <a:xfrm>
                <a:off x="5754600" y="3316320"/>
                <a:ext cx="4446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C7C3-8B10-4E59-B774-37D81BC56A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800" y="979560"/>
            <a:ext cx="902016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ziamo le tecniche di stima Bayesiana per calcolare la densità a posteriori p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D), e quindi la densità 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) per il caso in cui         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cui l’unica quantità sconosciuta è la media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o quindi defin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7" name="Object 6"/>
              <p:cNvSpPr txBox="1"/>
              <p:nvPr/>
            </p:nvSpPr>
            <p:spPr>
              <a:xfrm>
                <a:off x="3795840" y="2909880"/>
                <a:ext cx="53481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Object 8"/>
              <p:cNvSpPr txBox="1"/>
              <p:nvPr/>
            </p:nvSpPr>
            <p:spPr>
              <a:xfrm>
                <a:off x="2576520" y="1125360"/>
                <a:ext cx="49626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Object 6"/>
              <p:cNvSpPr txBox="1"/>
              <p:nvPr/>
            </p:nvSpPr>
            <p:spPr>
              <a:xfrm>
                <a:off x="4600440" y="4417920"/>
                <a:ext cx="26179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1672-B20A-4B66-A548-EF4366AE96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85440" y="979200"/>
            <a:ext cx="8807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 la regola di Bayes posso scriv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O PA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-609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tic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presenta la migliore scelta ini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il parametr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 ne misura l’incertez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Object 8"/>
              <p:cNvSpPr txBox="1"/>
              <p:nvPr/>
            </p:nvSpPr>
            <p:spPr>
              <a:xfrm>
                <a:off x="2484360" y="1784520"/>
                <a:ext cx="417852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dμ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6" name="Text Box 13"/>
          <p:cNvSpPr/>
          <p:nvPr/>
        </p:nvSpPr>
        <p:spPr>
          <a:xfrm>
            <a:off x="7196040" y="183816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Densità riprodott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7" name="Object 7"/>
              <p:cNvSpPr txBox="1"/>
              <p:nvPr/>
            </p:nvSpPr>
            <p:spPr>
              <a:xfrm>
                <a:off x="3341520" y="4192560"/>
                <a:ext cx="2479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8" name="Text Box 10"/>
          <p:cNvSpPr/>
          <p:nvPr/>
        </p:nvSpPr>
        <p:spPr>
          <a:xfrm>
            <a:off x="6586560" y="4203720"/>
            <a:ext cx="30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Prior coniugat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1D2E-9424-4A92-95A3-4D997D325446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955440" y="981000"/>
            <a:ext cx="8289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la scelta del prior è arbitraria, m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 essere fatta (il prior deve essere noto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solito si sceglie un prior coniuga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prior che assicura che la forma della posteri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a trattabile, cioè abbia la stessa forma della condiziona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Questo semplifica di molto l’analis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Esempio: gaussiana per gaussiana, dirichlet per multinomia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5DEB-E86A-4176-9F5D-BDA0A35C0F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85440" y="979200"/>
            <a:ext cx="8807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niamo di av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pioni di training           D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...,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e riscriviamo la densi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iprodotta 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v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un fattore di normalizzazione dipendente da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7" name="Object 8"/>
              <p:cNvSpPr txBox="1"/>
              <p:nvPr/>
            </p:nvSpPr>
            <p:spPr>
              <a:xfrm>
                <a:off x="2789280" y="2216160"/>
                <a:ext cx="41781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dμ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8" name="Object 9"/>
              <p:cNvSpPr txBox="1"/>
              <p:nvPr/>
            </p:nvSpPr>
            <p:spPr>
              <a:xfrm>
                <a:off x="4033800" y="3276720"/>
                <a:ext cx="3048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α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0577-7FB6-47AB-8CCE-132FC6465B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440" y="1239840"/>
            <a:ext cx="88074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equazione mostra come l’osservazione del set di esempi di training influenzi la nostra idea sul vero valore d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sa relaziona la densità a priori p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con la densità a posteriori p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|D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O PAS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volgendo i calcoli, ci si accorge che, grazie al prior norma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D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ulta anch’essa normale, modificandosi in dipendenza del numero di campioni che formano il training set, evolvendosi in impulso di Dirac p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enomeno d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Bayesia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mente si giunge alle seguenti form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7A02-EBF5-40DC-9715-4A1F520105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742680" y="1981080"/>
            <a:ext cx="8420040" cy="411480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4" descr=""/>
          <p:cNvPicPr/>
          <p:nvPr/>
        </p:nvPicPr>
        <p:blipFill>
          <a:blip r:embed="rId2"/>
          <a:stretch/>
        </p:blipFill>
        <p:spPr>
          <a:xfrm>
            <a:off x="547560" y="1440000"/>
            <a:ext cx="859176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BF7A-8C4D-4722-B552-B9E1F33069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453960" y="885960"/>
            <a:ext cx="891216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sunto che la conoscenza, benché approssimativa, delle densità a priori non presenta problemi, per quanto riguarda le densità condizionali le problematiche si possono suddividere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tima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funzione sconosciu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tima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parametri sconosciut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ll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funzione conosciut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 es., stimare il vettore                          se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Object 4"/>
              <p:cNvSpPr txBox="1"/>
              <p:nvPr/>
            </p:nvSpPr>
            <p:spPr>
              <a:xfrm>
                <a:off x="6950160" y="3441600"/>
                <a:ext cx="1608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9" name="Object 5"/>
              <p:cNvSpPr txBox="1"/>
              <p:nvPr/>
            </p:nvSpPr>
            <p:spPr>
              <a:xfrm>
                <a:off x="3451320" y="4503600"/>
                <a:ext cx="1633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Object 6"/>
              <p:cNvSpPr txBox="1"/>
              <p:nvPr/>
            </p:nvSpPr>
            <p:spPr>
              <a:xfrm>
                <a:off x="1496880" y="5613480"/>
                <a:ext cx="34038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Object 8"/>
              <p:cNvSpPr txBox="1"/>
              <p:nvPr/>
            </p:nvSpPr>
            <p:spPr>
              <a:xfrm>
                <a:off x="5151600" y="5141880"/>
                <a:ext cx="2119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4CC0-EA6D-4616-B624-6B1A6DAE1F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/>
          </p:nvPr>
        </p:nvSpPr>
        <p:spPr>
          <a:xfrm>
            <a:off x="685440" y="979200"/>
            <a:ext cx="8807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rappresenta la nostra migliore scelta per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po aver osserva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pio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isura l’incertezza della nostra sce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4" name="Object 7"/>
              <p:cNvSpPr txBox="1"/>
              <p:nvPr/>
            </p:nvSpPr>
            <p:spPr>
              <a:xfrm>
                <a:off x="896760" y="1038240"/>
                <a:ext cx="7728120" cy="36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μ</m:t>
                                </m:r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ve  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n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n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5" name="PlaceHolder 2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235E-536B-4BE9-B83F-8C0A8C8308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Picture 5" descr="3"/>
          <p:cNvPicPr/>
          <p:nvPr/>
        </p:nvPicPr>
        <p:blipFill>
          <a:blip r:embed="rId1"/>
          <a:stretch/>
        </p:blipFill>
        <p:spPr>
          <a:xfrm>
            <a:off x="5187960" y="1192320"/>
            <a:ext cx="4718160" cy="492120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7" descr=""/>
          <p:cNvPicPr/>
          <p:nvPr/>
        </p:nvPicPr>
        <p:blipFill>
          <a:blip r:embed="rId2"/>
          <a:stretch/>
        </p:blipFill>
        <p:spPr>
          <a:xfrm>
            <a:off x="237960" y="1871640"/>
            <a:ext cx="5240520" cy="4016520"/>
          </a:xfrm>
          <a:prstGeom prst="rect">
            <a:avLst/>
          </a:prstGeom>
          <a:ln w="0">
            <a:noFill/>
          </a:ln>
        </p:spPr>
      </p:pic>
      <p:sp>
        <p:nvSpPr>
          <p:cNvPr id="1411" name="PlaceHolder 1"/>
          <p:cNvSpPr>
            <a:spLocks noGrp="1"/>
          </p:cNvSpPr>
          <p:nvPr>
            <p:ph/>
          </p:nvPr>
        </p:nvSpPr>
        <p:spPr>
          <a:xfrm>
            <a:off x="685440" y="979200"/>
            <a:ext cx="8807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5456-0477-4D07-9103-DA1AA1C7CC27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ERZO PASS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stima della densità condizional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x|D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16" name="Picture 16" descr="B_ESTIMATION1"/>
          <p:cNvPicPr/>
          <p:nvPr/>
        </p:nvPicPr>
        <p:blipFill>
          <a:blip r:embed="rId1"/>
          <a:stretch/>
        </p:blipFill>
        <p:spPr>
          <a:xfrm>
            <a:off x="-351000" y="2781360"/>
            <a:ext cx="10736280" cy="3614760"/>
          </a:xfrm>
          <a:prstGeom prst="rect">
            <a:avLst/>
          </a:prstGeom>
          <a:ln w="0">
            <a:noFill/>
          </a:ln>
        </p:spPr>
      </p:pic>
      <p:sp>
        <p:nvSpPr>
          <p:cNvPr id="1417" name="Oval 20"/>
          <p:cNvSpPr/>
          <p:nvPr/>
        </p:nvSpPr>
        <p:spPr>
          <a:xfrm>
            <a:off x="1098720" y="4140360"/>
            <a:ext cx="4098600" cy="736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21"/>
          <p:cNvSpPr/>
          <p:nvPr/>
        </p:nvSpPr>
        <p:spPr>
          <a:xfrm>
            <a:off x="5380200" y="4179960"/>
            <a:ext cx="4097160" cy="736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EC08-418F-4D08-B9AA-9922CFE18C97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Esempio: caso Gaussian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22" name="Picture 4" descr="B_ESTIMATION2"/>
          <p:cNvPicPr/>
          <p:nvPr/>
        </p:nvPicPr>
        <p:blipFill>
          <a:blip r:embed="rId1"/>
          <a:srcRect l="12659" t="0" r="0" b="0"/>
          <a:stretch/>
        </p:blipFill>
        <p:spPr>
          <a:xfrm>
            <a:off x="0" y="1628640"/>
            <a:ext cx="9909000" cy="16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9CC9-891C-4C8C-8E9C-7996FF838E82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Esempio: caso Gaussian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cludendo, la densità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x|D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=                    ) ottenuta è la densità condizionale desiderat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e assieme ai prior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(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duce le informazioni desiderate per il design del classificatore, al contrario dell’approccio ML che restituisce solo le stime puntual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6" name="Object 2"/>
              <p:cNvSpPr txBox="1"/>
              <p:nvPr/>
            </p:nvSpPr>
            <p:spPr>
              <a:xfrm>
                <a:off x="1442880" y="2482920"/>
                <a:ext cx="578340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Oval 8"/>
          <p:cNvSpPr/>
          <p:nvPr/>
        </p:nvSpPr>
        <p:spPr>
          <a:xfrm>
            <a:off x="3776760" y="2371680"/>
            <a:ext cx="2252520" cy="736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AutoShape 9"/>
          <p:cNvSpPr/>
          <p:nvPr/>
        </p:nvSpPr>
        <p:spPr>
          <a:xfrm rot="8626200">
            <a:off x="5555880" y="1552680"/>
            <a:ext cx="897120" cy="1038240"/>
          </a:xfrm>
          <a:prstGeom prst="rightArrow">
            <a:avLst>
              <a:gd name="adj1" fmla="val 50000"/>
              <a:gd name="adj2" fmla="val 42565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9" name="Object 3"/>
              <p:cNvSpPr txBox="1"/>
              <p:nvPr/>
            </p:nvSpPr>
            <p:spPr>
              <a:xfrm>
                <a:off x="3344760" y="4861080"/>
                <a:ext cx="12366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Object 4"/>
              <p:cNvSpPr txBox="1"/>
              <p:nvPr/>
            </p:nvSpPr>
            <p:spPr>
              <a:xfrm>
                <a:off x="4749840" y="1042920"/>
                <a:ext cx="1528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934F-390E-4D79-BE93-00DBB136BF7E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Stima di Bayes: in gener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iassumendo ed estendendole al caso generale,  le formule principali viste son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 noti la somiglianza con l’approccio ML, con la differenza che qui non si cerca il max puntu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4" name="Object 2"/>
              <p:cNvSpPr txBox="1"/>
              <p:nvPr/>
            </p:nvSpPr>
            <p:spPr>
              <a:xfrm>
                <a:off x="2533680" y="4565520"/>
                <a:ext cx="42638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Object 3"/>
              <p:cNvSpPr txBox="1"/>
              <p:nvPr/>
            </p:nvSpPr>
            <p:spPr>
              <a:xfrm>
                <a:off x="1604880" y="2187720"/>
                <a:ext cx="57657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Object 4"/>
              <p:cNvSpPr txBox="1"/>
              <p:nvPr/>
            </p:nvSpPr>
            <p:spPr>
              <a:xfrm>
                <a:off x="104760" y="3314880"/>
                <a:ext cx="452916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dμ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Object 5"/>
              <p:cNvSpPr txBox="1"/>
              <p:nvPr/>
            </p:nvSpPr>
            <p:spPr>
              <a:xfrm>
                <a:off x="4649760" y="3341520"/>
                <a:ext cx="45910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dθ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8" name="Oval 9"/>
          <p:cNvSpPr/>
          <p:nvPr/>
        </p:nvSpPr>
        <p:spPr>
          <a:xfrm>
            <a:off x="5316480" y="2233440"/>
            <a:ext cx="1519200" cy="762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Oval 10"/>
          <p:cNvSpPr/>
          <p:nvPr/>
        </p:nvSpPr>
        <p:spPr>
          <a:xfrm>
            <a:off x="7800840" y="3510000"/>
            <a:ext cx="1521000" cy="762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Oval 11"/>
          <p:cNvSpPr/>
          <p:nvPr/>
        </p:nvSpPr>
        <p:spPr>
          <a:xfrm>
            <a:off x="2478240" y="4822920"/>
            <a:ext cx="1704960" cy="736560"/>
          </a:xfrm>
          <a:prstGeom prst="ellipse">
            <a:avLst/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Oval 12"/>
          <p:cNvSpPr/>
          <p:nvPr/>
        </p:nvSpPr>
        <p:spPr>
          <a:xfrm>
            <a:off x="5330880" y="3238560"/>
            <a:ext cx="1230120" cy="735120"/>
          </a:xfrm>
          <a:prstGeom prst="ellipse">
            <a:avLst/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ight Arrow 14"/>
          <p:cNvSpPr/>
          <p:nvPr/>
        </p:nvSpPr>
        <p:spPr>
          <a:xfrm rot="1561200">
            <a:off x="7104240" y="2920680"/>
            <a:ext cx="777600" cy="5256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ight Arrow 15"/>
          <p:cNvSpPr/>
          <p:nvPr/>
        </p:nvSpPr>
        <p:spPr>
          <a:xfrm rot="8329200">
            <a:off x="4291920" y="4198680"/>
            <a:ext cx="779400" cy="52524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B093-1508-4EB0-A014-7A61F19DDB69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onclusioni: Bayes vs ML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restituisce una stima puntuale    , l’approccio Bayesiano una distribuzione su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ù ricca, tiene conto di tutti i possibili modelli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yes più accurato (in linea di principio), ML più fattibile in pratic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oltre: ML, per un dataset abbastanza grande, produce risultati buo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stime risultano equivalenti per training set di cardinalità infinita (Al limite, p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D) converge ad una funzione delt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7" name="Object 2"/>
              <p:cNvSpPr txBox="1"/>
              <p:nvPr/>
            </p:nvSpPr>
            <p:spPr>
              <a:xfrm>
                <a:off x="5172120" y="938160"/>
                <a:ext cx="447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D4C7-6B7D-4856-B1CF-2E967A6675A7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onclusioni: Bayes vs ML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ayes occorre stimare i pri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ticamente, gli approcci sono differenti per vari motiv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990720" indent="-358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ssità computazionale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990720" indent="-358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abilità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990720" indent="-358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fidabilità delle informazioni a prior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1" name="Object 2"/>
              <p:cNvSpPr txBox="1"/>
              <p:nvPr/>
            </p:nvSpPr>
            <p:spPr>
              <a:xfrm>
                <a:off x="4892760" y="973080"/>
                <a:ext cx="447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09F0-A87F-4391-9E9C-7102A4B27E63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Mapping slide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libr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ap.3 Duda until 3.4.2, 3.5.1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Expectation-Maximization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6" name="Object 2"/>
              <p:cNvSpPr txBox="1"/>
              <p:nvPr/>
            </p:nvSpPr>
            <p:spPr>
              <a:xfrm>
                <a:off x="2301840" y="5013360"/>
                <a:ext cx="49910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57" name="Picture 6" descr="Punti_Iniziale"/>
          <p:cNvPicPr/>
          <p:nvPr/>
        </p:nvPicPr>
        <p:blipFill>
          <a:blip r:embed="rId1"/>
          <a:stretch/>
        </p:blipFill>
        <p:spPr>
          <a:xfrm>
            <a:off x="2457360" y="1341360"/>
            <a:ext cx="4843440" cy="3353040"/>
          </a:xfrm>
          <a:prstGeom prst="rect">
            <a:avLst/>
          </a:prstGeom>
          <a:ln w="0">
            <a:noFill/>
          </a:ln>
        </p:spPr>
      </p:pic>
      <p:sp>
        <p:nvSpPr>
          <p:cNvPr id="1458" name="Oval 7"/>
          <p:cNvSpPr/>
          <p:nvPr/>
        </p:nvSpPr>
        <p:spPr>
          <a:xfrm rot="1762800">
            <a:off x="3079440" y="2570040"/>
            <a:ext cx="1871640" cy="100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8"/>
          <p:cNvSpPr/>
          <p:nvPr/>
        </p:nvSpPr>
        <p:spPr>
          <a:xfrm rot="21014400">
            <a:off x="4093920" y="3146400"/>
            <a:ext cx="1871640" cy="10080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Oval 9"/>
          <p:cNvSpPr/>
          <p:nvPr/>
        </p:nvSpPr>
        <p:spPr>
          <a:xfrm rot="19652400">
            <a:off x="4798800" y="2209680"/>
            <a:ext cx="1869840" cy="100836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0"/>
          <p:cNvSpPr/>
          <p:nvPr/>
        </p:nvSpPr>
        <p:spPr>
          <a:xfrm>
            <a:off x="3079800" y="1849320"/>
            <a:ext cx="140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11"/>
          <p:cNvSpPr/>
          <p:nvPr/>
        </p:nvSpPr>
        <p:spPr>
          <a:xfrm>
            <a:off x="5264280" y="3894120"/>
            <a:ext cx="140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12"/>
          <p:cNvSpPr/>
          <p:nvPr/>
        </p:nvSpPr>
        <p:spPr>
          <a:xfrm>
            <a:off x="4484520" y="170172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Oval 13"/>
          <p:cNvSpPr/>
          <p:nvPr/>
        </p:nvSpPr>
        <p:spPr>
          <a:xfrm>
            <a:off x="4154400" y="3011400"/>
            <a:ext cx="7956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Oval 14"/>
          <p:cNvSpPr/>
          <p:nvPr/>
        </p:nvSpPr>
        <p:spPr>
          <a:xfrm>
            <a:off x="5038560" y="3646440"/>
            <a:ext cx="79560" cy="7164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15"/>
          <p:cNvSpPr/>
          <p:nvPr/>
        </p:nvSpPr>
        <p:spPr>
          <a:xfrm>
            <a:off x="5740560" y="2709720"/>
            <a:ext cx="79200" cy="71640"/>
          </a:xfrm>
          <a:prstGeom prst="ellipse">
            <a:avLst/>
          </a:prstGeom>
          <a:solidFill>
            <a:srgbClr val="160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86D3-F86F-41E0-B0AC-E2D39BDB01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792000" y="228600"/>
            <a:ext cx="842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Stima dei parametri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200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l secondo punto risulta di gran lunga più semplice (sebbene complesso!), e rappresenta un problema classico nella statist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sferito nell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ttern recogn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 approccio è quello d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are i parametri dai dati di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re le stime risultanti come se fossero valori ver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zare infine la teoria di decisione Bayesiana per usare un classific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aximum Likelihood Estimation (MLE) problem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894960" y="1483920"/>
            <a:ext cx="8348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taset of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observ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={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t=1...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, i.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set comes from a parametric random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ch random process has a known form (f.i. a mixture of Gaussia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(i.i.d. data, usua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t of parameters h</a:t>
            </a:r>
            <a:r>
              <a:rPr b="0" lang="el-GR" sz="2400" spc="-1" strike="noStrike" baseline="30000">
                <a:solidFill>
                  <a:srgbClr val="ffcc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aximize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keliho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(v|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 a.k.a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ive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(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LE problem and EM solution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94960" y="1483920"/>
            <a:ext cx="8348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, the MLE is performed by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ifferentiating the likeliho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with respect to the various parameters, and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lving for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, this solution is not feasible due to the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omplex form of the likelih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he situation in which the EM algorith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el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1" name="Object 2"/>
              <p:cNvSpPr txBox="1"/>
              <p:nvPr/>
            </p:nvSpPr>
            <p:spPr>
              <a:xfrm>
                <a:off x="2709720" y="2997360"/>
                <a:ext cx="42516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θ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EM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94960" y="1483920"/>
            <a:ext cx="83487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ve proc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iteration is composed by 2 ste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step: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xpec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step: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axim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gent to a local maxima of the likelihood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spread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conometr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507960" y="259920"/>
            <a:ext cx="9398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EM placement in the maximization methods literature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894960" y="1483920"/>
            <a:ext cx="4916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Gradient desc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inear approximation to the L(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know how good is the approxi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know how big the step to 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wton meth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quadratic appr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problem as ab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each E step it builds a local lower bound of the objective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each M step, a novel h</a:t>
            </a:r>
            <a:r>
              <a:rPr b="0" lang="el-GR" sz="20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correspond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a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gger value of the objective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6" name="Picture 6" descr=""/>
          <p:cNvPicPr/>
          <p:nvPr/>
        </p:nvPicPr>
        <p:blipFill>
          <a:blip r:embed="rId1"/>
          <a:stretch/>
        </p:blipFill>
        <p:spPr>
          <a:xfrm>
            <a:off x="5797440" y="2133720"/>
            <a:ext cx="4023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LE example - Mixture of Gaussians (MoG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8" name="Object 2"/>
              <p:cNvSpPr txBox="1"/>
              <p:nvPr/>
            </p:nvSpPr>
            <p:spPr>
              <a:xfrm>
                <a:off x="507960" y="1442880"/>
                <a:ext cx="32655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79" name="Picture 4" descr="Punti_Iniziale"/>
          <p:cNvPicPr/>
          <p:nvPr/>
        </p:nvPicPr>
        <p:blipFill>
          <a:blip r:embed="rId1"/>
          <a:stretch/>
        </p:blipFill>
        <p:spPr>
          <a:xfrm>
            <a:off x="4946760" y="1268280"/>
            <a:ext cx="4841640" cy="3353040"/>
          </a:xfrm>
          <a:prstGeom prst="rect">
            <a:avLst/>
          </a:prstGeom>
          <a:ln w="0">
            <a:noFill/>
          </a:ln>
        </p:spPr>
      </p:pic>
      <p:sp>
        <p:nvSpPr>
          <p:cNvPr id="1480" name="Oval 5"/>
          <p:cNvSpPr/>
          <p:nvPr/>
        </p:nvSpPr>
        <p:spPr>
          <a:xfrm rot="1762800">
            <a:off x="5568480" y="2496960"/>
            <a:ext cx="1871640" cy="100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6"/>
          <p:cNvSpPr/>
          <p:nvPr/>
        </p:nvSpPr>
        <p:spPr>
          <a:xfrm rot="21014400">
            <a:off x="6582960" y="3073320"/>
            <a:ext cx="1871640" cy="10080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7"/>
          <p:cNvSpPr/>
          <p:nvPr/>
        </p:nvSpPr>
        <p:spPr>
          <a:xfrm rot="19652400">
            <a:off x="7286760" y="2136600"/>
            <a:ext cx="1871640" cy="100836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8"/>
          <p:cNvSpPr/>
          <p:nvPr/>
        </p:nvSpPr>
        <p:spPr>
          <a:xfrm>
            <a:off x="5568840" y="17762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9"/>
          <p:cNvSpPr/>
          <p:nvPr/>
        </p:nvSpPr>
        <p:spPr>
          <a:xfrm>
            <a:off x="7753320" y="38210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10"/>
          <p:cNvSpPr/>
          <p:nvPr/>
        </p:nvSpPr>
        <p:spPr>
          <a:xfrm>
            <a:off x="6973920" y="16286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11"/>
          <p:cNvSpPr/>
          <p:nvPr/>
        </p:nvSpPr>
        <p:spPr>
          <a:xfrm>
            <a:off x="6643800" y="2938320"/>
            <a:ext cx="7920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7" name="Object 3"/>
              <p:cNvSpPr txBox="1"/>
              <p:nvPr/>
            </p:nvSpPr>
            <p:spPr>
              <a:xfrm>
                <a:off x="554040" y="2755800"/>
                <a:ext cx="29923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Object 4"/>
              <p:cNvSpPr txBox="1"/>
              <p:nvPr/>
            </p:nvSpPr>
            <p:spPr>
              <a:xfrm>
                <a:off x="601560" y="4106880"/>
                <a:ext cx="3789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Object 5"/>
              <p:cNvSpPr txBox="1"/>
              <p:nvPr/>
            </p:nvSpPr>
            <p:spPr>
              <a:xfrm>
                <a:off x="571680" y="5326200"/>
                <a:ext cx="26622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Object 6"/>
              <p:cNvSpPr txBox="1"/>
              <p:nvPr/>
            </p:nvSpPr>
            <p:spPr>
              <a:xfrm>
                <a:off x="3192480" y="5340240"/>
                <a:ext cx="1768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1" name="Oval 16"/>
          <p:cNvSpPr/>
          <p:nvPr/>
        </p:nvSpPr>
        <p:spPr>
          <a:xfrm>
            <a:off x="268200" y="1790640"/>
            <a:ext cx="15732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Oval 17"/>
          <p:cNvSpPr/>
          <p:nvPr/>
        </p:nvSpPr>
        <p:spPr>
          <a:xfrm>
            <a:off x="264960" y="3117960"/>
            <a:ext cx="15588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Oval 18"/>
          <p:cNvSpPr/>
          <p:nvPr/>
        </p:nvSpPr>
        <p:spPr>
          <a:xfrm>
            <a:off x="262080" y="4460760"/>
            <a:ext cx="1555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Oval 19"/>
          <p:cNvSpPr/>
          <p:nvPr/>
        </p:nvSpPr>
        <p:spPr>
          <a:xfrm>
            <a:off x="258840" y="5708520"/>
            <a:ext cx="1555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Oval 20"/>
          <p:cNvSpPr/>
          <p:nvPr/>
        </p:nvSpPr>
        <p:spPr>
          <a:xfrm>
            <a:off x="7527960" y="3573360"/>
            <a:ext cx="79200" cy="7164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Oval 21"/>
          <p:cNvSpPr/>
          <p:nvPr/>
        </p:nvSpPr>
        <p:spPr>
          <a:xfrm>
            <a:off x="8229600" y="2637000"/>
            <a:ext cx="79200" cy="71280"/>
          </a:xfrm>
          <a:prstGeom prst="ellipse">
            <a:avLst/>
          </a:prstGeom>
          <a:solidFill>
            <a:srgbClr val="160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LE example - MoGs (2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8" name="Object 2"/>
              <p:cNvSpPr txBox="1"/>
              <p:nvPr/>
            </p:nvSpPr>
            <p:spPr>
              <a:xfrm>
                <a:off x="507960" y="1442880"/>
                <a:ext cx="32655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9" name="Picture 4" descr="Punti_Iniziale"/>
          <p:cNvPicPr/>
          <p:nvPr/>
        </p:nvPicPr>
        <p:blipFill>
          <a:blip r:embed="rId1"/>
          <a:stretch/>
        </p:blipFill>
        <p:spPr>
          <a:xfrm>
            <a:off x="4946760" y="1268280"/>
            <a:ext cx="4841640" cy="3353040"/>
          </a:xfrm>
          <a:prstGeom prst="rect">
            <a:avLst/>
          </a:prstGeom>
          <a:ln w="0">
            <a:noFill/>
          </a:ln>
        </p:spPr>
      </p:pic>
      <p:sp>
        <p:nvSpPr>
          <p:cNvPr id="1500" name="Oval 5"/>
          <p:cNvSpPr/>
          <p:nvPr/>
        </p:nvSpPr>
        <p:spPr>
          <a:xfrm rot="1762800">
            <a:off x="5568480" y="2496960"/>
            <a:ext cx="1871640" cy="100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6"/>
          <p:cNvSpPr/>
          <p:nvPr/>
        </p:nvSpPr>
        <p:spPr>
          <a:xfrm rot="21014400">
            <a:off x="6582960" y="3073320"/>
            <a:ext cx="1871640" cy="10080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Oval 7"/>
          <p:cNvSpPr/>
          <p:nvPr/>
        </p:nvSpPr>
        <p:spPr>
          <a:xfrm rot="19652400">
            <a:off x="7286760" y="2136600"/>
            <a:ext cx="1871640" cy="100836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8"/>
          <p:cNvSpPr/>
          <p:nvPr/>
        </p:nvSpPr>
        <p:spPr>
          <a:xfrm>
            <a:off x="5568840" y="17762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9"/>
          <p:cNvSpPr/>
          <p:nvPr/>
        </p:nvSpPr>
        <p:spPr>
          <a:xfrm>
            <a:off x="7753320" y="38210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0"/>
          <p:cNvSpPr/>
          <p:nvPr/>
        </p:nvSpPr>
        <p:spPr>
          <a:xfrm>
            <a:off x="6973920" y="16286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11"/>
          <p:cNvSpPr/>
          <p:nvPr/>
        </p:nvSpPr>
        <p:spPr>
          <a:xfrm>
            <a:off x="6643800" y="2938320"/>
            <a:ext cx="7920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Object 3"/>
              <p:cNvSpPr txBox="1"/>
              <p:nvPr/>
            </p:nvSpPr>
            <p:spPr>
              <a:xfrm>
                <a:off x="554040" y="2755800"/>
                <a:ext cx="29923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Object 4"/>
              <p:cNvSpPr txBox="1"/>
              <p:nvPr/>
            </p:nvSpPr>
            <p:spPr>
              <a:xfrm>
                <a:off x="601560" y="4106880"/>
                <a:ext cx="3789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Object 5"/>
              <p:cNvSpPr txBox="1"/>
              <p:nvPr/>
            </p:nvSpPr>
            <p:spPr>
              <a:xfrm>
                <a:off x="571680" y="5326200"/>
                <a:ext cx="26622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Object 6"/>
              <p:cNvSpPr txBox="1"/>
              <p:nvPr/>
            </p:nvSpPr>
            <p:spPr>
              <a:xfrm>
                <a:off x="3192480" y="5340240"/>
                <a:ext cx="1768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1" name="Oval 16"/>
          <p:cNvSpPr/>
          <p:nvPr/>
        </p:nvSpPr>
        <p:spPr>
          <a:xfrm>
            <a:off x="268200" y="1790640"/>
            <a:ext cx="15732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Oval 17"/>
          <p:cNvSpPr/>
          <p:nvPr/>
        </p:nvSpPr>
        <p:spPr>
          <a:xfrm>
            <a:off x="264960" y="3117960"/>
            <a:ext cx="15588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Oval 18"/>
          <p:cNvSpPr/>
          <p:nvPr/>
        </p:nvSpPr>
        <p:spPr>
          <a:xfrm>
            <a:off x="262080" y="4460760"/>
            <a:ext cx="1555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Oval 19"/>
          <p:cNvSpPr/>
          <p:nvPr/>
        </p:nvSpPr>
        <p:spPr>
          <a:xfrm>
            <a:off x="258840" y="5708520"/>
            <a:ext cx="1555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0.00185 L -3.88889E-006 -0.60023 E">
                                      <p:cBhvr>
                                        <p:cTn id="173" dur="500" fill="hold"/>
                                        <p:tgtEl>
                                          <p:spTgt spid="1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9838 E">
                                      <p:cBhvr>
                                        <p:cTn id="175" dur="500" fill="hold"/>
                                        <p:tgtEl>
                                          <p:spTgt spid="1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9838 E">
                                      <p:cBhvr>
                                        <p:cTn id="177" dur="5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LE example - MoGs (3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516" name="Picture 4" descr="Punti_Iniziale"/>
          <p:cNvPicPr/>
          <p:nvPr/>
        </p:nvPicPr>
        <p:blipFill>
          <a:blip r:embed="rId1"/>
          <a:stretch/>
        </p:blipFill>
        <p:spPr>
          <a:xfrm>
            <a:off x="4946760" y="1268280"/>
            <a:ext cx="4841640" cy="3353040"/>
          </a:xfrm>
          <a:prstGeom prst="rect">
            <a:avLst/>
          </a:prstGeom>
          <a:ln w="0">
            <a:noFill/>
          </a:ln>
        </p:spPr>
      </p:pic>
      <p:sp>
        <p:nvSpPr>
          <p:cNvPr id="1517" name="Oval 5"/>
          <p:cNvSpPr/>
          <p:nvPr/>
        </p:nvSpPr>
        <p:spPr>
          <a:xfrm rot="1762800">
            <a:off x="5568480" y="2496960"/>
            <a:ext cx="1871640" cy="100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Oval 6"/>
          <p:cNvSpPr/>
          <p:nvPr/>
        </p:nvSpPr>
        <p:spPr>
          <a:xfrm rot="21014400">
            <a:off x="6582960" y="3073320"/>
            <a:ext cx="1871640" cy="10080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Oval 7"/>
          <p:cNvSpPr/>
          <p:nvPr/>
        </p:nvSpPr>
        <p:spPr>
          <a:xfrm rot="19652400">
            <a:off x="7286760" y="2136600"/>
            <a:ext cx="1871640" cy="100836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8"/>
          <p:cNvSpPr/>
          <p:nvPr/>
        </p:nvSpPr>
        <p:spPr>
          <a:xfrm>
            <a:off x="5568840" y="17762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9"/>
          <p:cNvSpPr/>
          <p:nvPr/>
        </p:nvSpPr>
        <p:spPr>
          <a:xfrm>
            <a:off x="7753320" y="38210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10"/>
          <p:cNvSpPr/>
          <p:nvPr/>
        </p:nvSpPr>
        <p:spPr>
          <a:xfrm>
            <a:off x="6973920" y="16286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Oval 11"/>
          <p:cNvSpPr/>
          <p:nvPr/>
        </p:nvSpPr>
        <p:spPr>
          <a:xfrm>
            <a:off x="6643800" y="2938320"/>
            <a:ext cx="7920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4" name="Object 2"/>
              <p:cNvSpPr txBox="1"/>
              <p:nvPr/>
            </p:nvSpPr>
            <p:spPr>
              <a:xfrm>
                <a:off x="554040" y="1204920"/>
                <a:ext cx="26622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Object 3"/>
              <p:cNvSpPr txBox="1"/>
              <p:nvPr/>
            </p:nvSpPr>
            <p:spPr>
              <a:xfrm>
                <a:off x="3192480" y="1235160"/>
                <a:ext cx="1768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6" name="Oval 19"/>
          <p:cNvSpPr/>
          <p:nvPr/>
        </p:nvSpPr>
        <p:spPr>
          <a:xfrm>
            <a:off x="271440" y="1603440"/>
            <a:ext cx="15732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24920" y="2349000"/>
            <a:ext cx="85028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m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8" name="Object 4"/>
              <p:cNvSpPr txBox="1"/>
              <p:nvPr/>
            </p:nvSpPr>
            <p:spPr>
              <a:xfrm>
                <a:off x="2470320" y="3141720"/>
                <a:ext cx="1576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Object 5"/>
              <p:cNvSpPr txBox="1"/>
              <p:nvPr/>
            </p:nvSpPr>
            <p:spPr>
              <a:xfrm>
                <a:off x="1754280" y="2765520"/>
                <a:ext cx="387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Object 6"/>
              <p:cNvSpPr txBox="1"/>
              <p:nvPr/>
            </p:nvSpPr>
            <p:spPr>
              <a:xfrm>
                <a:off x="2171880" y="4076640"/>
                <a:ext cx="22730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1" name="Oval 24"/>
          <p:cNvSpPr/>
          <p:nvPr/>
        </p:nvSpPr>
        <p:spPr>
          <a:xfrm>
            <a:off x="2708280" y="1141560"/>
            <a:ext cx="2209680" cy="934920"/>
          </a:xfrm>
          <a:prstGeom prst="ellipse">
            <a:avLst/>
          </a:prstGeom>
          <a:solidFill>
            <a:srgbClr val="33cc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Line 25"/>
          <p:cNvSpPr/>
          <p:nvPr/>
        </p:nvSpPr>
        <p:spPr>
          <a:xfrm>
            <a:off x="3159000" y="3645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Line 26"/>
          <p:cNvSpPr/>
          <p:nvPr/>
        </p:nvSpPr>
        <p:spPr>
          <a:xfrm>
            <a:off x="3159000" y="4941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27"/>
          <p:cNvSpPr/>
          <p:nvPr/>
        </p:nvSpPr>
        <p:spPr>
          <a:xfrm>
            <a:off x="2184480" y="53737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TI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Freeform 34"/>
          <p:cNvSpPr/>
          <p:nvPr/>
        </p:nvSpPr>
        <p:spPr>
          <a:xfrm>
            <a:off x="3782880" y="2060640"/>
            <a:ext cx="1001880" cy="338436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582" h="2495">
                <a:moveTo>
                  <a:pt x="0" y="0"/>
                </a:moveTo>
                <a:cubicBezTo>
                  <a:pt x="181" y="333"/>
                  <a:pt x="362" y="666"/>
                  <a:pt x="453" y="953"/>
                </a:cubicBezTo>
                <a:cubicBezTo>
                  <a:pt x="544" y="1240"/>
                  <a:pt x="582" y="1467"/>
                  <a:pt x="544" y="1724"/>
                </a:cubicBezTo>
                <a:cubicBezTo>
                  <a:pt x="506" y="1981"/>
                  <a:pt x="366" y="2238"/>
                  <a:pt x="226" y="249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36"/>
          <p:cNvSpPr/>
          <p:nvPr/>
        </p:nvSpPr>
        <p:spPr>
          <a:xfrm>
            <a:off x="2195640" y="5829480"/>
            <a:ext cx="52275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he parameters are coupled, due to th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um of the log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</a:rPr>
              <a:t>no closed form solu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EM in one slide! - The EM trick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8" name="Object 2"/>
              <p:cNvSpPr txBox="1"/>
              <p:nvPr/>
            </p:nvSpPr>
            <p:spPr>
              <a:xfrm>
                <a:off x="1285920" y="1508040"/>
                <a:ext cx="6553080" cy="42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</m:sub>
                              <m:sup/>
                              <m:e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Q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nary>
                          </m:e>
                        </m:d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Q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9" name="Oval 9"/>
          <p:cNvSpPr/>
          <p:nvPr/>
        </p:nvSpPr>
        <p:spPr>
          <a:xfrm>
            <a:off x="1209600" y="4941720"/>
            <a:ext cx="482760" cy="412920"/>
          </a:xfrm>
          <a:prstGeom prst="ellipse">
            <a:avLst/>
          </a:prstGeom>
          <a:solidFill>
            <a:srgbClr val="00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0" name="AutoShape 10"/>
          <p:cNvCxnSpPr>
            <a:stCxn id="1539" idx="4"/>
            <a:endCxn id="1541" idx="0"/>
          </p:cNvCxnSpPr>
          <p:nvPr/>
        </p:nvCxnSpPr>
        <p:spPr>
          <a:xfrm>
            <a:off x="1450800" y="5354640"/>
            <a:ext cx="632880" cy="84672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541" name="Text Box 11"/>
          <p:cNvSpPr/>
          <p:nvPr/>
        </p:nvSpPr>
        <p:spPr>
          <a:xfrm>
            <a:off x="924120" y="620064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Jensen Inequa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Line 18"/>
          <p:cNvSpPr/>
          <p:nvPr/>
        </p:nvSpPr>
        <p:spPr>
          <a:xfrm flipH="1">
            <a:off x="1442880" y="1897200"/>
            <a:ext cx="1949760" cy="649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Line 19"/>
          <p:cNvSpPr/>
          <p:nvPr/>
        </p:nvSpPr>
        <p:spPr>
          <a:xfrm>
            <a:off x="1442880" y="2833560"/>
            <a:ext cx="0" cy="1008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Line 20"/>
          <p:cNvSpPr/>
          <p:nvPr/>
        </p:nvSpPr>
        <p:spPr>
          <a:xfrm>
            <a:off x="1442880" y="4098960"/>
            <a:ext cx="0" cy="863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21"/>
          <p:cNvSpPr/>
          <p:nvPr/>
        </p:nvSpPr>
        <p:spPr>
          <a:xfrm>
            <a:off x="2646360" y="4910040"/>
            <a:ext cx="547560" cy="50328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23"/>
          <p:cNvSpPr/>
          <p:nvPr/>
        </p:nvSpPr>
        <p:spPr>
          <a:xfrm>
            <a:off x="3788640" y="614664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tric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7" name="AutoShape 24"/>
          <p:cNvCxnSpPr>
            <a:stCxn id="1545" idx="4"/>
            <a:endCxn id="1546" idx="1"/>
          </p:cNvCxnSpPr>
          <p:nvPr/>
        </p:nvCxnSpPr>
        <p:spPr>
          <a:xfrm>
            <a:off x="2921040" y="5412960"/>
            <a:ext cx="862560" cy="93420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Novel objects in the MLE instance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894960" y="2781360"/>
            <a:ext cx="84265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idden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idd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single data poi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(h,v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 data (hidden + visible) likelih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explains how the hidden variables and the visible ones are coupled toge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Q(h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pport distribution on the hidden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distribution over the hidden variables, simpler than P(h,v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0" name="Object 2"/>
              <p:cNvSpPr txBox="1"/>
              <p:nvPr/>
            </p:nvSpPr>
            <p:spPr>
              <a:xfrm>
                <a:off x="1320840" y="1125360"/>
                <a:ext cx="810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1" name="Oval 5"/>
          <p:cNvSpPr/>
          <p:nvPr/>
        </p:nvSpPr>
        <p:spPr>
          <a:xfrm>
            <a:off x="3236760" y="1773360"/>
            <a:ext cx="779760" cy="433440"/>
          </a:xfrm>
          <a:prstGeom prst="ellipse">
            <a:avLst/>
          </a:prstGeom>
          <a:solidFill>
            <a:srgbClr val="00c6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6"/>
          <p:cNvSpPr/>
          <p:nvPr/>
        </p:nvSpPr>
        <p:spPr>
          <a:xfrm>
            <a:off x="3079800" y="1197000"/>
            <a:ext cx="1092240" cy="433440"/>
          </a:xfrm>
          <a:prstGeom prst="ellipse">
            <a:avLst/>
          </a:prstGeom>
          <a:solidFill>
            <a:srgbClr val="99cc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7"/>
          <p:cNvSpPr/>
          <p:nvPr/>
        </p:nvSpPr>
        <p:spPr>
          <a:xfrm>
            <a:off x="1911240" y="1484280"/>
            <a:ext cx="311400" cy="43344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8"/>
          <p:cNvSpPr/>
          <p:nvPr/>
        </p:nvSpPr>
        <p:spPr>
          <a:xfrm>
            <a:off x="584280" y="5291280"/>
            <a:ext cx="314280" cy="288720"/>
          </a:xfrm>
          <a:prstGeom prst="ellipse">
            <a:avLst/>
          </a:prstGeom>
          <a:solidFill>
            <a:srgbClr val="00c6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9"/>
          <p:cNvSpPr/>
          <p:nvPr/>
        </p:nvSpPr>
        <p:spPr>
          <a:xfrm>
            <a:off x="595440" y="3971880"/>
            <a:ext cx="311040" cy="289080"/>
          </a:xfrm>
          <a:prstGeom prst="ellipse">
            <a:avLst/>
          </a:prstGeom>
          <a:solidFill>
            <a:srgbClr val="99cc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10"/>
          <p:cNvSpPr/>
          <p:nvPr/>
        </p:nvSpPr>
        <p:spPr>
          <a:xfrm>
            <a:off x="601560" y="2781360"/>
            <a:ext cx="311400" cy="28872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Novel objects in the MLE instance (2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894960" y="2781360"/>
            <a:ext cx="8659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(Q(h),P(h,v)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vergence between Q,P a func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ferior bound with respect to the objective function L(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n object with Q(h)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n object with h</a:t>
            </a:r>
            <a:r>
              <a:rPr b="0" lang="el-GR" sz="2400" spc="-1" strike="noStrike" baseline="30000">
                <a:solidFill>
                  <a:srgbClr val="ffcc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9" name="Object 2"/>
              <p:cNvSpPr txBox="1"/>
              <p:nvPr/>
            </p:nvSpPr>
            <p:spPr>
              <a:xfrm>
                <a:off x="1320840" y="1125360"/>
                <a:ext cx="810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0" name="Oval 5"/>
          <p:cNvSpPr/>
          <p:nvPr/>
        </p:nvSpPr>
        <p:spPr>
          <a:xfrm>
            <a:off x="4970520" y="1268280"/>
            <a:ext cx="2574720" cy="86544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6"/>
          <p:cNvSpPr/>
          <p:nvPr/>
        </p:nvSpPr>
        <p:spPr>
          <a:xfrm>
            <a:off x="654120" y="2908440"/>
            <a:ext cx="287280" cy="27288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FAD0-701E-4048-8E27-7FDBFDF918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792000" y="228600"/>
            <a:ext cx="842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Uno sguardo d’insiem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61" name="Picture 5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77200" cy="5086080"/>
          </a:xfrm>
          <a:prstGeom prst="rect">
            <a:avLst/>
          </a:prstGeom>
          <a:ln w="0">
            <a:noFill/>
          </a:ln>
        </p:spPr>
      </p:pic>
      <p:sp>
        <p:nvSpPr>
          <p:cNvPr id="1162" name="AutoShape 6"/>
          <p:cNvSpPr/>
          <p:nvPr/>
        </p:nvSpPr>
        <p:spPr>
          <a:xfrm rot="1863000">
            <a:off x="2058840" y="2354040"/>
            <a:ext cx="246240" cy="1038240"/>
          </a:xfrm>
          <a:prstGeom prst="rightArrow">
            <a:avLst>
              <a:gd name="adj1" fmla="val 50000"/>
              <a:gd name="adj2" fmla="val 5024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inimization of the divergence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894960" y="1557000"/>
            <a:ext cx="8659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minimize F(Q,P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ternativ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4" name="Object 2"/>
              <p:cNvSpPr txBox="1"/>
              <p:nvPr/>
            </p:nvSpPr>
            <p:spPr>
              <a:xfrm>
                <a:off x="184320" y="3678120"/>
                <a:ext cx="4768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Object 3"/>
              <p:cNvSpPr txBox="1"/>
              <p:nvPr/>
            </p:nvSpPr>
            <p:spPr>
              <a:xfrm>
                <a:off x="5452920" y="3726000"/>
                <a:ext cx="4415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6" name="Text Box 18"/>
          <p:cNvSpPr/>
          <p:nvPr/>
        </p:nvSpPr>
        <p:spPr>
          <a:xfrm>
            <a:off x="117360" y="2421000"/>
            <a:ext cx="45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ith respect to Q(h), with h</a:t>
            </a:r>
            <a:r>
              <a:rPr b="0" lang="el-GR" sz="2400" spc="-1" strike="noStrike" baseline="30000">
                <a:solidFill>
                  <a:srgbClr val="ffcc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fix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9"/>
          <p:cNvSpPr/>
          <p:nvPr/>
        </p:nvSpPr>
        <p:spPr>
          <a:xfrm>
            <a:off x="5264280" y="242100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ith respect to h</a:t>
            </a:r>
            <a:r>
              <a:rPr b="0" lang="el-GR" sz="2400" spc="-1" strike="noStrike" baseline="30000">
                <a:solidFill>
                  <a:srgbClr val="ffcc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, with Q(h) fix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AutoShape 20"/>
          <p:cNvSpPr/>
          <p:nvPr/>
        </p:nvSpPr>
        <p:spPr>
          <a:xfrm>
            <a:off x="2170080" y="3309840"/>
            <a:ext cx="5461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AutoShape 21"/>
          <p:cNvSpPr/>
          <p:nvPr/>
        </p:nvSpPr>
        <p:spPr>
          <a:xfrm>
            <a:off x="7216920" y="3284640"/>
            <a:ext cx="5443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AutoShape 22"/>
          <p:cNvSpPr/>
          <p:nvPr/>
        </p:nvSpPr>
        <p:spPr>
          <a:xfrm>
            <a:off x="2162160" y="4940280"/>
            <a:ext cx="5446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AutoShape 23"/>
          <p:cNvSpPr/>
          <p:nvPr/>
        </p:nvSpPr>
        <p:spPr>
          <a:xfrm>
            <a:off x="7216920" y="4940280"/>
            <a:ext cx="5443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24"/>
          <p:cNvSpPr/>
          <p:nvPr/>
        </p:nvSpPr>
        <p:spPr>
          <a:xfrm>
            <a:off x="1987560" y="4894200"/>
            <a:ext cx="21844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unctional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eriv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25"/>
          <p:cNvSpPr/>
          <p:nvPr/>
        </p:nvSpPr>
        <p:spPr>
          <a:xfrm>
            <a:off x="7102440" y="5029200"/>
            <a:ext cx="218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eriv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4" name="Object 4"/>
              <p:cNvSpPr txBox="1"/>
              <p:nvPr/>
            </p:nvSpPr>
            <p:spPr>
              <a:xfrm>
                <a:off x="1130400" y="5700600"/>
                <a:ext cx="28969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Object 5"/>
              <p:cNvSpPr txBox="1"/>
              <p:nvPr/>
            </p:nvSpPr>
            <p:spPr>
              <a:xfrm>
                <a:off x="5370480" y="5451480"/>
                <a:ext cx="41068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6" name="AutoShape 31"/>
          <p:cNvSpPr/>
          <p:nvPr/>
        </p:nvSpPr>
        <p:spPr>
          <a:xfrm>
            <a:off x="4094280" y="2060640"/>
            <a:ext cx="2108160" cy="431640"/>
          </a:xfrm>
          <a:custGeom>
            <a:avLst/>
            <a:gdLst>
              <a:gd name="textAreaLeft" fmla="*/ 430200 w 2108160"/>
              <a:gd name="textAreaRight" fmla="*/ 1483200 w 21081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7" hR="21600" stAng="10800000" swAng="5400000"/>
                <a:lnTo>
                  <a:pt x="10789" y="0"/>
                </a:lnTo>
                <a:arcTo wR="8817" hR="21600" stAng="-5400000" swAng="2946172"/>
                <a:lnTo>
                  <a:pt x="21096" y="14400"/>
                </a:lnTo>
                <a:lnTo>
                  <a:pt x="18620" y="21600"/>
                </a:lnTo>
                <a:lnTo>
                  <a:pt x="15136" y="14400"/>
                </a:lnTo>
                <a:lnTo>
                  <a:pt x="17130" y="14400"/>
                </a:lnTo>
                <a:arcTo wR="8817" hR="21600" stAng="-2453828" swAng="-2788366"/>
                <a:lnTo>
                  <a:pt x="9803" y="135"/>
                </a:lnTo>
                <a:arcTo wR="8817" hR="21600" stAng="-5557806" swAng="-5242194"/>
                <a:close/>
              </a:path>
              <a:path fill="darkenLess" w="21600" h="21600">
                <a:moveTo>
                  <a:pt x="0" y="21600"/>
                </a:moveTo>
                <a:arcTo wR="8817" hR="21600" stAng="10800000" swAng="5400000"/>
                <a:lnTo>
                  <a:pt x="8817" y="0"/>
                </a:lnTo>
                <a:arcTo wR="8817" hR="21600" stAng="-5400000" swAng="157806"/>
                <a:lnTo>
                  <a:pt x="9803" y="135"/>
                </a:lnTo>
                <a:arcTo wR="8817" hR="21600" stAng="-5557806" swAng="-5242194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AutoShape 32"/>
          <p:cNvSpPr/>
          <p:nvPr/>
        </p:nvSpPr>
        <p:spPr>
          <a:xfrm rot="10800000">
            <a:off x="3938400" y="2923920"/>
            <a:ext cx="2106360" cy="431640"/>
          </a:xfrm>
          <a:custGeom>
            <a:avLst/>
            <a:gdLst>
              <a:gd name="textAreaLeft" fmla="*/ 429840 w 2106360"/>
              <a:gd name="textAreaRight" fmla="*/ 1482120 w 2106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7" hR="21600" stAng="10800000" swAng="5400000"/>
                <a:lnTo>
                  <a:pt x="10789" y="0"/>
                </a:lnTo>
                <a:arcTo wR="8817" hR="21600" stAng="-5400000" swAng="2946172"/>
                <a:lnTo>
                  <a:pt x="21096" y="14400"/>
                </a:lnTo>
                <a:lnTo>
                  <a:pt x="18620" y="21600"/>
                </a:lnTo>
                <a:lnTo>
                  <a:pt x="15136" y="14400"/>
                </a:lnTo>
                <a:lnTo>
                  <a:pt x="17130" y="14400"/>
                </a:lnTo>
                <a:arcTo wR="8817" hR="21600" stAng="-2453828" swAng="-2788366"/>
                <a:lnTo>
                  <a:pt x="9803" y="135"/>
                </a:lnTo>
                <a:arcTo wR="8817" hR="21600" stAng="-5557806" swAng="-5242194"/>
                <a:close/>
              </a:path>
              <a:path fill="darkenLess" w="21600" h="21600">
                <a:moveTo>
                  <a:pt x="0" y="21600"/>
                </a:moveTo>
                <a:arcTo wR="8817" hR="21600" stAng="10800000" swAng="5400000"/>
                <a:lnTo>
                  <a:pt x="8817" y="0"/>
                </a:lnTo>
                <a:arcTo wR="8817" hR="21600" stAng="-5400000" swAng="157806"/>
                <a:lnTo>
                  <a:pt x="9803" y="135"/>
                </a:lnTo>
                <a:arcTo wR="8817" hR="21600" stAng="-5557806" swAng="-5242194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core of the EM in practice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62040" y="1196640"/>
            <a:ext cx="8580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et an initial 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EP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F(Q,P) with respect to Q(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alculating for each possible value of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EP 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F(Q,P) with respect to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sol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M parameters, this is a system of M equ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Object 2"/>
              <p:cNvSpPr txBox="1"/>
              <p:nvPr/>
            </p:nvSpPr>
            <p:spPr>
              <a:xfrm>
                <a:off x="2925720" y="2490840"/>
                <a:ext cx="3743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←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Object 3"/>
              <p:cNvSpPr txBox="1"/>
              <p:nvPr/>
            </p:nvSpPr>
            <p:spPr>
              <a:xfrm>
                <a:off x="2144880" y="4365720"/>
                <a:ext cx="5518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nary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θ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2" name="Oval 8"/>
          <p:cNvSpPr/>
          <p:nvPr/>
        </p:nvSpPr>
        <p:spPr>
          <a:xfrm>
            <a:off x="2612880" y="2332080"/>
            <a:ext cx="4602240" cy="86508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9"/>
          <p:cNvSpPr/>
          <p:nvPr/>
        </p:nvSpPr>
        <p:spPr>
          <a:xfrm>
            <a:off x="7439760" y="242100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ASY TO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MPUTE !!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10"/>
          <p:cNvSpPr/>
          <p:nvPr/>
        </p:nvSpPr>
        <p:spPr>
          <a:xfrm>
            <a:off x="3938760" y="4508640"/>
            <a:ext cx="3041640" cy="79200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11"/>
          <p:cNvSpPr/>
          <p:nvPr/>
        </p:nvSpPr>
        <p:spPr>
          <a:xfrm>
            <a:off x="7830000" y="458136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ASY TO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MPUTE !!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Perplexities and practical receipts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62040" y="1196640"/>
            <a:ext cx="8580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l, but when should I use E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probabilistic problems, in which mixture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e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involved, where each data point is generated by one of the components of the mix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G (mixtures of Gaussi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MM (mixtures of sta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yes Net (mixtures of parents of a n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ucial question: what is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dicates what component of the mixture generates the data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Applications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Back to the MoGs - the E-players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62040" y="1196640"/>
            <a:ext cx="8580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Picture 4" descr="Punti_Iniziale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6124680" y="1011240"/>
            <a:ext cx="3587760" cy="2705040"/>
          </a:xfrm>
          <a:prstGeom prst="rect">
            <a:avLst/>
          </a:prstGeom>
          <a:ln w="0">
            <a:noFill/>
          </a:ln>
        </p:spPr>
      </p:pic>
      <p:sp>
        <p:nvSpPr>
          <p:cNvPr id="1591" name="Oval 5"/>
          <p:cNvSpPr/>
          <p:nvPr/>
        </p:nvSpPr>
        <p:spPr>
          <a:xfrm rot="1762800">
            <a:off x="6584760" y="2001960"/>
            <a:ext cx="1385640" cy="814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6"/>
          <p:cNvSpPr/>
          <p:nvPr/>
        </p:nvSpPr>
        <p:spPr>
          <a:xfrm rot="21014400">
            <a:off x="7337160" y="2467080"/>
            <a:ext cx="1385640" cy="81432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7"/>
          <p:cNvSpPr/>
          <p:nvPr/>
        </p:nvSpPr>
        <p:spPr>
          <a:xfrm rot="19652400">
            <a:off x="7858080" y="1711440"/>
            <a:ext cx="1386000" cy="81432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8"/>
          <p:cNvSpPr/>
          <p:nvPr/>
        </p:nvSpPr>
        <p:spPr>
          <a:xfrm>
            <a:off x="6585120" y="1420920"/>
            <a:ext cx="104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9"/>
          <p:cNvSpPr/>
          <p:nvPr/>
        </p:nvSpPr>
        <p:spPr>
          <a:xfrm>
            <a:off x="8201160" y="3070080"/>
            <a:ext cx="104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l-GR" sz="2800" spc="-1" strike="noStrike">
                <a:solidFill>
                  <a:srgbClr val="0066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10"/>
          <p:cNvSpPr/>
          <p:nvPr/>
        </p:nvSpPr>
        <p:spPr>
          <a:xfrm>
            <a:off x="7624800" y="1301760"/>
            <a:ext cx="104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10199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el-GR" sz="2800" spc="-1" strike="noStrike">
                <a:solidFill>
                  <a:srgbClr val="010199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11"/>
          <p:cNvSpPr/>
          <p:nvPr/>
        </p:nvSpPr>
        <p:spPr>
          <a:xfrm>
            <a:off x="7381800" y="2359080"/>
            <a:ext cx="58680" cy="5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8" name="Object 2"/>
              <p:cNvSpPr txBox="1"/>
              <p:nvPr/>
            </p:nvSpPr>
            <p:spPr>
              <a:xfrm>
                <a:off x="1130400" y="1020600"/>
                <a:ext cx="366552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Object 3"/>
              <p:cNvSpPr txBox="1"/>
              <p:nvPr/>
            </p:nvSpPr>
            <p:spPr>
              <a:xfrm>
                <a:off x="1130400" y="3213000"/>
                <a:ext cx="23778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Object 4"/>
              <p:cNvSpPr txBox="1"/>
              <p:nvPr/>
            </p:nvSpPr>
            <p:spPr>
              <a:xfrm>
                <a:off x="1052640" y="4122720"/>
                <a:ext cx="50702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d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Object 5"/>
              <p:cNvSpPr txBox="1"/>
              <p:nvPr/>
            </p:nvSpPr>
            <p:spPr>
              <a:xfrm>
                <a:off x="6102360" y="4149720"/>
                <a:ext cx="37861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d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|</m:t>
                                </m:r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θ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Object 6"/>
              <p:cNvSpPr txBox="1"/>
              <p:nvPr/>
            </p:nvSpPr>
            <p:spPr>
              <a:xfrm>
                <a:off x="3079800" y="5589720"/>
                <a:ext cx="1189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03" name="AutoShape 27"/>
          <p:cNvCxnSpPr>
            <a:stCxn id="1604" idx="1"/>
          </p:cNvCxnSpPr>
          <p:nvPr/>
        </p:nvCxnSpPr>
        <p:spPr>
          <a:xfrm flipH="1">
            <a:off x="4268520" y="5793840"/>
            <a:ext cx="1620000" cy="64440"/>
          </a:xfrm>
          <a:prstGeom prst="straightConnector1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604" name="Rectangle 28"/>
          <p:cNvSpPr/>
          <p:nvPr/>
        </p:nvSpPr>
        <p:spPr>
          <a:xfrm>
            <a:off x="5888160" y="5686560"/>
            <a:ext cx="2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5" name="AutoShape 31"/>
          <p:cNvCxnSpPr>
            <a:stCxn id="1606" idx="2"/>
          </p:cNvCxnSpPr>
          <p:nvPr/>
        </p:nvCxnSpPr>
        <p:spPr>
          <a:xfrm>
            <a:off x="1881000" y="4844880"/>
            <a:ext cx="1199160" cy="1013760"/>
          </a:xfrm>
          <a:prstGeom prst="straightConnector1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606" name="Rectangle 32"/>
          <p:cNvSpPr/>
          <p:nvPr/>
        </p:nvSpPr>
        <p:spPr>
          <a:xfrm>
            <a:off x="1763640" y="4629240"/>
            <a:ext cx="2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3"/>
          <p:cNvSpPr/>
          <p:nvPr/>
        </p:nvSpPr>
        <p:spPr>
          <a:xfrm>
            <a:off x="662040" y="1197000"/>
            <a:ext cx="85802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8" name="Object 7"/>
              <p:cNvSpPr txBox="1"/>
              <p:nvPr/>
            </p:nvSpPr>
            <p:spPr>
              <a:xfrm>
                <a:off x="1130400" y="2205000"/>
                <a:ext cx="4056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9" name="Text Box 35"/>
          <p:cNvSpPr/>
          <p:nvPr/>
        </p:nvSpPr>
        <p:spPr>
          <a:xfrm>
            <a:off x="2453400" y="3860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AY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0" name="Group 37"/>
          <p:cNvGrpSpPr/>
          <p:nvPr/>
        </p:nvGrpSpPr>
        <p:grpSpPr>
          <a:xfrm>
            <a:off x="6161040" y="5294160"/>
            <a:ext cx="3298680" cy="1144800"/>
            <a:chOff x="6161040" y="5294160"/>
            <a:chExt cx="3298680" cy="1144800"/>
          </a:xfrm>
        </p:grpSpPr>
        <mc:AlternateContent>
          <mc:Choice xmlns:a14="http://schemas.microsoft.com/office/drawing/2010/main" Requires="a14">
            <p:sp>
              <p:nvSpPr>
                <p:cNvPr id="1611" name="Object 8"/>
                <p:cNvSpPr txBox="1"/>
                <p:nvPr/>
              </p:nvSpPr>
              <p:spPr>
                <a:xfrm>
                  <a:off x="6161040" y="5419800"/>
                  <a:ext cx="329868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/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b>
                            <m:sup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          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2" name="Object 9"/>
                <p:cNvSpPr txBox="1"/>
                <p:nvPr/>
              </p:nvSpPr>
              <p:spPr>
                <a:xfrm>
                  <a:off x="7570440" y="5373720"/>
                  <a:ext cx="171576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3" name="Object 10"/>
                <p:cNvSpPr txBox="1"/>
                <p:nvPr/>
              </p:nvSpPr>
              <p:spPr>
                <a:xfrm>
                  <a:off x="6941520" y="5851440"/>
                  <a:ext cx="60120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4" name="Object 11"/>
                <p:cNvSpPr txBox="1"/>
                <p:nvPr/>
              </p:nvSpPr>
              <p:spPr>
                <a:xfrm>
                  <a:off x="7565040" y="5877000"/>
                  <a:ext cx="171576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5" name="Object 12"/>
                <p:cNvSpPr txBox="1"/>
                <p:nvPr/>
              </p:nvSpPr>
              <p:spPr>
                <a:xfrm>
                  <a:off x="6942960" y="5294160"/>
                  <a:ext cx="62388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16" name="Text Box 38"/>
          <p:cNvSpPr/>
          <p:nvPr/>
        </p:nvSpPr>
        <p:spPr>
          <a:xfrm>
            <a:off x="2083320" y="62373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mpute for each i, for each 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Applications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Back to the MoGs - the M-players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62040" y="1196640"/>
            <a:ext cx="8580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9" name="Picture 4" descr="Punti_Iniziale"/>
          <p:cNvPicPr/>
          <p:nvPr/>
        </p:nvPicPr>
        <p:blipFill>
          <a:blip r:embed="rId1"/>
          <a:stretch/>
        </p:blipFill>
        <p:spPr>
          <a:xfrm>
            <a:off x="6124680" y="1011240"/>
            <a:ext cx="3587760" cy="2705040"/>
          </a:xfrm>
          <a:prstGeom prst="rect">
            <a:avLst/>
          </a:prstGeom>
          <a:ln w="0">
            <a:noFill/>
          </a:ln>
        </p:spPr>
      </p:pic>
      <p:sp>
        <p:nvSpPr>
          <p:cNvPr id="1620" name="Oval 5"/>
          <p:cNvSpPr/>
          <p:nvPr/>
        </p:nvSpPr>
        <p:spPr>
          <a:xfrm rot="1762800">
            <a:off x="6584760" y="2001960"/>
            <a:ext cx="1385640" cy="814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Oval 6"/>
          <p:cNvSpPr/>
          <p:nvPr/>
        </p:nvSpPr>
        <p:spPr>
          <a:xfrm rot="21014400">
            <a:off x="7337160" y="2467080"/>
            <a:ext cx="1385640" cy="81432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7"/>
          <p:cNvSpPr/>
          <p:nvPr/>
        </p:nvSpPr>
        <p:spPr>
          <a:xfrm rot="19652400">
            <a:off x="7858080" y="1711440"/>
            <a:ext cx="1386000" cy="81432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8"/>
          <p:cNvSpPr/>
          <p:nvPr/>
        </p:nvSpPr>
        <p:spPr>
          <a:xfrm>
            <a:off x="6585120" y="1420920"/>
            <a:ext cx="104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9"/>
          <p:cNvSpPr/>
          <p:nvPr/>
        </p:nvSpPr>
        <p:spPr>
          <a:xfrm>
            <a:off x="8201160" y="3070080"/>
            <a:ext cx="104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l-GR" sz="2800" spc="-1" strike="noStrike">
                <a:solidFill>
                  <a:srgbClr val="0066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10"/>
          <p:cNvSpPr/>
          <p:nvPr/>
        </p:nvSpPr>
        <p:spPr>
          <a:xfrm>
            <a:off x="7624800" y="1301760"/>
            <a:ext cx="104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10199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el-GR" sz="2800" spc="-1" strike="noStrike">
                <a:solidFill>
                  <a:srgbClr val="010199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11"/>
          <p:cNvSpPr/>
          <p:nvPr/>
        </p:nvSpPr>
        <p:spPr>
          <a:xfrm>
            <a:off x="7381800" y="2359080"/>
            <a:ext cx="58680" cy="5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20"/>
          <p:cNvSpPr/>
          <p:nvPr/>
        </p:nvSpPr>
        <p:spPr>
          <a:xfrm>
            <a:off x="1763640" y="4629240"/>
            <a:ext cx="2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1"/>
          <p:cNvSpPr/>
          <p:nvPr/>
        </p:nvSpPr>
        <p:spPr>
          <a:xfrm>
            <a:off x="662040" y="1197000"/>
            <a:ext cx="85802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9" name="Object 2"/>
              <p:cNvSpPr txBox="1"/>
              <p:nvPr/>
            </p:nvSpPr>
            <p:spPr>
              <a:xfrm>
                <a:off x="1131840" y="1052640"/>
                <a:ext cx="48355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nary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θ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Object 3"/>
              <p:cNvSpPr txBox="1"/>
              <p:nvPr/>
            </p:nvSpPr>
            <p:spPr>
              <a:xfrm>
                <a:off x="1058760" y="2620800"/>
                <a:ext cx="4476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θ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Object 4"/>
              <p:cNvSpPr txBox="1"/>
              <p:nvPr/>
            </p:nvSpPr>
            <p:spPr>
              <a:xfrm>
                <a:off x="2084400" y="4135320"/>
                <a:ext cx="5950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Object 5"/>
              <p:cNvSpPr txBox="1"/>
              <p:nvPr/>
            </p:nvSpPr>
            <p:spPr>
              <a:xfrm>
                <a:off x="785880" y="4130640"/>
                <a:ext cx="11034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Object 6"/>
              <p:cNvSpPr txBox="1"/>
              <p:nvPr/>
            </p:nvSpPr>
            <p:spPr>
              <a:xfrm>
                <a:off x="131760" y="5246640"/>
                <a:ext cx="8938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Object 7"/>
              <p:cNvSpPr txBox="1"/>
              <p:nvPr/>
            </p:nvSpPr>
            <p:spPr>
              <a:xfrm>
                <a:off x="4030560" y="5992920"/>
                <a:ext cx="8953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Object 8"/>
              <p:cNvSpPr txBox="1"/>
              <p:nvPr/>
            </p:nvSpPr>
            <p:spPr>
              <a:xfrm>
                <a:off x="1093680" y="5268960"/>
                <a:ext cx="45640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Object 9"/>
              <p:cNvSpPr txBox="1"/>
              <p:nvPr/>
            </p:nvSpPr>
            <p:spPr>
              <a:xfrm>
                <a:off x="4719600" y="5981760"/>
                <a:ext cx="45496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7" name="Oval 41"/>
          <p:cNvSpPr/>
          <p:nvPr/>
        </p:nvSpPr>
        <p:spPr>
          <a:xfrm>
            <a:off x="3246480" y="2530440"/>
            <a:ext cx="2184480" cy="934920"/>
          </a:xfrm>
          <a:prstGeom prst="ellipse">
            <a:avLst/>
          </a:prstGeom>
          <a:solidFill>
            <a:srgbClr val="00c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42"/>
          <p:cNvSpPr/>
          <p:nvPr/>
        </p:nvSpPr>
        <p:spPr>
          <a:xfrm>
            <a:off x="4216320" y="4008600"/>
            <a:ext cx="4137120" cy="1079280"/>
          </a:xfrm>
          <a:prstGeom prst="ellipse">
            <a:avLst/>
          </a:prstGeom>
          <a:solidFill>
            <a:srgbClr val="00c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43"/>
          <p:cNvSpPr/>
          <p:nvPr/>
        </p:nvSpPr>
        <p:spPr>
          <a:xfrm>
            <a:off x="3392640" y="5316480"/>
            <a:ext cx="2574720" cy="649440"/>
          </a:xfrm>
          <a:prstGeom prst="ellipse">
            <a:avLst/>
          </a:prstGeom>
          <a:solidFill>
            <a:srgbClr val="ff00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44"/>
          <p:cNvSpPr/>
          <p:nvPr/>
        </p:nvSpPr>
        <p:spPr>
          <a:xfrm>
            <a:off x="7248600" y="6102360"/>
            <a:ext cx="2027160" cy="576360"/>
          </a:xfrm>
          <a:prstGeom prst="ellipse">
            <a:avLst/>
          </a:prstGeom>
          <a:solidFill>
            <a:srgbClr val="00cc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AutoShape 45"/>
          <p:cNvSpPr/>
          <p:nvPr/>
        </p:nvSpPr>
        <p:spPr>
          <a:xfrm rot="16200000">
            <a:off x="5692680" y="3809880"/>
            <a:ext cx="180720" cy="1873080"/>
          </a:xfrm>
          <a:custGeom>
            <a:avLst/>
            <a:gdLst>
              <a:gd name="textAreaLeft" fmla="*/ 115560 w 180720"/>
              <a:gd name="textAreaRight" fmla="*/ 181080 w 180720"/>
              <a:gd name="textAreaTop" fmla="*/ 45000 h 1873080"/>
              <a:gd name="textAreaBottom" fmla="*/ 18280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9138"/>
                </a:lnTo>
                <a:cubicBezTo>
                  <a:pt x="10800" y="9969"/>
                  <a:pt x="5400" y="10800"/>
                  <a:pt x="0" y="10800"/>
                </a:cubicBezTo>
                <a:cubicBezTo>
                  <a:pt x="5400" y="10800"/>
                  <a:pt x="10800" y="11631"/>
                  <a:pt x="10800" y="12462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AutoShape 46"/>
          <p:cNvSpPr/>
          <p:nvPr/>
        </p:nvSpPr>
        <p:spPr>
          <a:xfrm rot="16200000">
            <a:off x="7444440" y="4007520"/>
            <a:ext cx="108000" cy="1405080"/>
          </a:xfrm>
          <a:custGeom>
            <a:avLst/>
            <a:gdLst>
              <a:gd name="textAreaLeft" fmla="*/ 69120 w 108000"/>
              <a:gd name="textAreaRight" fmla="*/ 108360 w 108000"/>
              <a:gd name="textAreaTop" fmla="*/ 33840 h 1405080"/>
              <a:gd name="textAreaBottom" fmla="*/ 1371240 h 14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9138"/>
                </a:lnTo>
                <a:cubicBezTo>
                  <a:pt x="10800" y="9969"/>
                  <a:pt x="5400" y="10800"/>
                  <a:pt x="0" y="10800"/>
                </a:cubicBezTo>
                <a:cubicBezTo>
                  <a:pt x="5400" y="10800"/>
                  <a:pt x="10800" y="11631"/>
                  <a:pt x="10800" y="12462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3" name="AutoShape 47"/>
          <p:cNvCxnSpPr>
            <a:stCxn id="1641" idx="1"/>
            <a:endCxn id="1639" idx="0"/>
          </p:cNvCxnSpPr>
          <p:nvPr/>
        </p:nvCxnSpPr>
        <p:spPr>
          <a:xfrm flipH="1">
            <a:off x="4681080" y="4851360"/>
            <a:ext cx="1100880" cy="46584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644" name="AutoShape 48"/>
          <p:cNvCxnSpPr>
            <a:stCxn id="1642" idx="1"/>
            <a:endCxn id="1640" idx="0"/>
          </p:cNvCxnSpPr>
          <p:nvPr/>
        </p:nvCxnSpPr>
        <p:spPr>
          <a:xfrm>
            <a:off x="7497720" y="4778280"/>
            <a:ext cx="766080" cy="132480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645" name="AutoShape 49"/>
          <p:cNvCxnSpPr>
            <a:stCxn id="1637" idx="4"/>
            <a:endCxn id="1638" idx="1"/>
          </p:cNvCxnSpPr>
          <p:nvPr/>
        </p:nvCxnSpPr>
        <p:spPr>
          <a:xfrm>
            <a:off x="4338360" y="3465360"/>
            <a:ext cx="484920" cy="7027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646" name="Text Box 50"/>
          <p:cNvSpPr/>
          <p:nvPr/>
        </p:nvSpPr>
        <p:spPr>
          <a:xfrm>
            <a:off x="6438960" y="5300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!!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Line 51"/>
          <p:cNvSpPr/>
          <p:nvPr/>
        </p:nvSpPr>
        <p:spPr>
          <a:xfrm>
            <a:off x="870120" y="166860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Line 52"/>
          <p:cNvSpPr/>
          <p:nvPr/>
        </p:nvSpPr>
        <p:spPr>
          <a:xfrm>
            <a:off x="879480" y="315108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9" name="Object 8"/>
              <p:cNvSpPr txBox="1"/>
              <p:nvPr/>
            </p:nvSpPr>
            <p:spPr>
              <a:xfrm>
                <a:off x="169920" y="125280"/>
                <a:ext cx="68421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θ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0" name="Line 51"/>
          <p:cNvSpPr/>
          <p:nvPr/>
        </p:nvSpPr>
        <p:spPr>
          <a:xfrm>
            <a:off x="870120" y="1838160"/>
            <a:ext cx="0" cy="11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1" name="Oggetto 3"/>
              <p:cNvSpPr txBox="1"/>
              <p:nvPr/>
            </p:nvSpPr>
            <p:spPr>
              <a:xfrm>
                <a:off x="1862280" y="1119240"/>
                <a:ext cx="77468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icorda!    --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Object 8"/>
              <p:cNvSpPr txBox="1"/>
              <p:nvPr/>
            </p:nvSpPr>
            <p:spPr>
              <a:xfrm>
                <a:off x="378000" y="1838160"/>
                <a:ext cx="6359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Ν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Object 8"/>
              <p:cNvSpPr txBox="1"/>
              <p:nvPr/>
            </p:nvSpPr>
            <p:spPr>
              <a:xfrm>
                <a:off x="122400" y="2879640"/>
                <a:ext cx="5607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Object 8"/>
              <p:cNvSpPr txBox="1"/>
              <p:nvPr/>
            </p:nvSpPr>
            <p:spPr>
              <a:xfrm>
                <a:off x="117360" y="3921120"/>
                <a:ext cx="80042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5" name="Ovale 7"/>
          <p:cNvSpPr/>
          <p:nvPr/>
        </p:nvSpPr>
        <p:spPr>
          <a:xfrm>
            <a:off x="3456000" y="1838160"/>
            <a:ext cx="806400" cy="1276560"/>
          </a:xfrm>
          <a:prstGeom prst="ellipse">
            <a:avLst/>
          </a:prstGeom>
          <a:solidFill>
            <a:srgbClr val="00b05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6" name="Object 8"/>
              <p:cNvSpPr txBox="1"/>
              <p:nvPr/>
            </p:nvSpPr>
            <p:spPr>
              <a:xfrm>
                <a:off x="2738520" y="4759200"/>
                <a:ext cx="409392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7" name="Oval 43"/>
          <p:cNvSpPr/>
          <p:nvPr/>
        </p:nvSpPr>
        <p:spPr>
          <a:xfrm>
            <a:off x="3859200" y="243000"/>
            <a:ext cx="3322800" cy="804600"/>
          </a:xfrm>
          <a:prstGeom prst="ellipse">
            <a:avLst/>
          </a:prstGeom>
          <a:solidFill>
            <a:srgbClr val="ff00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58" name="Object 8"/>
              <p:cNvSpPr txBox="1"/>
              <p:nvPr/>
            </p:nvSpPr>
            <p:spPr>
              <a:xfrm>
                <a:off x="2797200" y="217440"/>
                <a:ext cx="40942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Object 8"/>
              <p:cNvSpPr txBox="1"/>
              <p:nvPr/>
            </p:nvSpPr>
            <p:spPr>
              <a:xfrm>
                <a:off x="1571760" y="2463840"/>
                <a:ext cx="66135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Object 8"/>
              <p:cNvSpPr txBox="1"/>
              <p:nvPr/>
            </p:nvSpPr>
            <p:spPr>
              <a:xfrm>
                <a:off x="5719680" y="5284800"/>
                <a:ext cx="2925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Oggetto 1"/>
              <p:cNvSpPr txBox="1"/>
              <p:nvPr/>
            </p:nvSpPr>
            <p:spPr>
              <a:xfrm>
                <a:off x="1403280" y="5478480"/>
                <a:ext cx="25304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core of the EM in practice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62040" y="1196640"/>
            <a:ext cx="8580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et an ini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EP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F(Q,P) with respect to Q(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alculating for each possible value of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EP 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F(Q,P) with respect to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obt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ITERATION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oop until convergenc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4" name="Object 2"/>
              <p:cNvSpPr txBox="1"/>
              <p:nvPr/>
            </p:nvSpPr>
            <p:spPr>
              <a:xfrm>
                <a:off x="2925720" y="2490840"/>
                <a:ext cx="3743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←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5" name="Oval 8"/>
          <p:cNvSpPr/>
          <p:nvPr/>
        </p:nvSpPr>
        <p:spPr>
          <a:xfrm>
            <a:off x="2612880" y="2332080"/>
            <a:ext cx="4602240" cy="86508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9"/>
          <p:cNvSpPr/>
          <p:nvPr/>
        </p:nvSpPr>
        <p:spPr>
          <a:xfrm>
            <a:off x="7439760" y="242100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ASY TO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MPUTE !!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7" name="Object 1"/>
              <p:cNvSpPr txBox="1"/>
              <p:nvPr/>
            </p:nvSpPr>
            <p:spPr>
              <a:xfrm>
                <a:off x="5211720" y="1119240"/>
                <a:ext cx="24638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i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i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i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Object 11"/>
              <p:cNvSpPr txBox="1"/>
              <p:nvPr/>
            </p:nvSpPr>
            <p:spPr>
              <a:xfrm>
                <a:off x="3351240" y="4781520"/>
                <a:ext cx="3205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The m-players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dea: introduce hidden variables which knowledge semplifies the computation of the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idden variables are related with the visible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cision of the hidden quantities is not an automatic process, and relies on the scient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enera, the EM well apply when we have to deal with mix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Remarks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dea: introduce hidden variables which knowledge semplifies the computation of the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idden variables are related with the visible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cision of the hidden quantities is not an automatic process, and relies on the scient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enera, the EM well apply when we have to deal with mix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010F-BC99-4712-BBEA-B7567D10A1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26600" y="192240"/>
            <a:ext cx="917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Stima dei parametri – Probabilità a priori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440" y="988920"/>
            <a:ext cx="8420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niamo di av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insieme d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i di training in cui ad ogni pattern è assegnata un’etichetta d’identità (ossia conosco per certo a quale sta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artiene il patter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sim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oblema di learning dei parametri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upervision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il numero di campioni con etichett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Object 5"/>
              <p:cNvSpPr txBox="1"/>
              <p:nvPr/>
            </p:nvSpPr>
            <p:spPr>
              <a:xfrm>
                <a:off x="3274920" y="3348000"/>
                <a:ext cx="16765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3" name="Picture 5" descr=""/>
          <p:cNvPicPr/>
          <p:nvPr/>
        </p:nvPicPr>
        <p:blipFill>
          <a:blip r:embed="rId1"/>
          <a:srcRect l="22240" t="15539" r="4517" b="5710"/>
          <a:stretch/>
        </p:blipFill>
        <p:spPr>
          <a:xfrm>
            <a:off x="193680" y="404640"/>
            <a:ext cx="8929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Materia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ndan J. Frey and Nebojsa Jojic. 2005. A Comparison of Algorithms for Inference and Learning in Probabilistic Graphical Model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EEE Trans. Pattern Anal. Mach. Intell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7, 9 (September 2005), 1392-1416. DOI=10.1109/TPAMI.2005.169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x.doi.org/10.1109/TPAMI.2005.16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entle Tutorial of the EM Algorithm and its Application to Parameter Estimation for Gaussian Mixture and Hidden Markov Models (1998) by Jeff Bilm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5A82-A26C-44EE-A652-2F66B609F7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3600" y="228600"/>
            <a:ext cx="917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Stima dei parametri – Class conditional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56760" y="1158480"/>
            <a:ext cx="9326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niamo di av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di campioni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cciati indipendentemente in accordo alla densità p(x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amo che p(x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bbia forma parametrica conosciu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problema di stima dei parametri consiste nello stimare i parametri che definiscono p(x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semplificare il problema, assumiamo inoltre ch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mpioni appartenenti al s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 danno informazioni relative ai parametri di p(x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e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49F2-9B5A-4F24-8517-3F55AEAF7E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Stima dei parametri – Due approcc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440" y="954000"/>
            <a:ext cx="88074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amente, il problema può essere formulato co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o un set di training D=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.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x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è determinata d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he è un vettore rappresentante i parametr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.e.,                      se                      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gliamo trovare il miglio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ando il set di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istono due approc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ximum-likelih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ametrica Bayes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9" name="Object 4"/>
              <p:cNvSpPr txBox="1"/>
              <p:nvPr/>
            </p:nvSpPr>
            <p:spPr>
              <a:xfrm>
                <a:off x="2662200" y="3281400"/>
                <a:ext cx="1573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Object 5"/>
              <p:cNvSpPr txBox="1"/>
              <p:nvPr/>
            </p:nvSpPr>
            <p:spPr>
              <a:xfrm>
                <a:off x="4762440" y="3255840"/>
                <a:ext cx="2922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2:54:12Z</dcterms:created>
  <dc:creator>swan</dc:creator>
  <dc:description>Rivista d Bice -18-4-01 </dc:description>
  <dc:language>en-US</dc:language>
  <cp:lastModifiedBy>Marco Cristani</cp:lastModifiedBy>
  <cp:lastPrinted>2001-05-02T10:47:20Z</cp:lastPrinted>
  <dcterms:modified xsi:type="dcterms:W3CDTF">2013-11-25T13:11:06Z</dcterms:modified>
  <cp:revision>427</cp:revision>
  <dc:subject/>
  <dc:title>Classificazione</dc:title>
</cp:coreProperties>
</file>