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C9B-155E-455A-829D-03A7EE9D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5C5-EEC1-479D-B579-F46B0DC1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07A-D94D-45B4-AE3A-77396E45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44A-13E6-4A4B-A245-3ADA3BE0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4AD-B8FD-43A2-B869-BE1D70AA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873-8842-4A10-9CFB-4CC5877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A8-B8B1-4504-BA07-75259B5F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F50-5979-400E-86DD-B1C1526E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7FA-29F1-47DE-A6E3-9F59FAE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188-9CF3-4561-B009-A841EBC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B3E-677F-4C21-A26F-677A616B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6B9-8D99-460B-89D7-7B53C86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6C2-EB47-4E20-927F-52F3DF37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2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733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09880" y="36576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3733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36576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429000" y="380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358128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019200" y="5562000"/>
            <a:ext cx="647640" cy="74916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066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971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3962520"/>
            <a:ext cx="71629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 : 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Unit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Unit = {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96252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:  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: 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:    { 0,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4267080"/>
            <a:ext cx="4419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    x     output (q,x)   nextState (q,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8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0   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</a:t>
            </a:r>
            <a:r>
              <a:rPr b="0" lang="en-US" sz="18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1  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4724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0080" y="3962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019920" y="4724280"/>
            <a:ext cx="1015920" cy="115596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42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one ru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43434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0    1    2    3     4    5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0    0    0    0     0    0    0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0    0    0    0    0     0    0    0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68580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828800"/>
            <a:ext cx="76201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x)) (y)  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3581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          if  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(y-1)      if  y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581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3962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019920" y="4724280"/>
            <a:ext cx="1015920" cy="115596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505320"/>
            <a:ext cx="3657600" cy="2666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3581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reach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1066680"/>
            <a:ext cx="73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q of a state machine M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occurs on no run of M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re is no path from the initial state of M to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reachabl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can be removed without changing the system (input/output function) implemented by 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re interesting system without inp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38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4, 5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Cou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8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4, 5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32004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4114800"/>
            <a:ext cx="8380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905120" y="4343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58092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9092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556272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nc (n)  =  n + 1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129528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0    1    2    3     4    5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0    1    2    3     4    5    6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0    1    2    3    4     5    6    7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4191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ly many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246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2720" y="54100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388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839080" y="5410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627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t another system without inp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23623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0, 1, 2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41148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9051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8862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232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Mo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5627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ncMod4 (n)  =  ( n + 1 ) mo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907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Mod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057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343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78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28954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289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670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67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3352680"/>
            <a:ext cx="4724280" cy="1676520"/>
          </a:xfrm>
          <a:custGeom>
            <a:avLst/>
            <a:gdLst/>
            <a:ahLst/>
            <a:rect l="l" t="t" r="r" b="b"/>
            <a:pathLst>
              <a:path w="2976" h="1056">
                <a:moveTo>
                  <a:pt x="2976" y="0"/>
                </a:moveTo>
                <a:cubicBezTo>
                  <a:pt x="2432" y="528"/>
                  <a:pt x="1888" y="1056"/>
                  <a:pt x="1392" y="1056"/>
                </a:cubicBezTo>
                <a:cubicBezTo>
                  <a:pt x="896" y="1056"/>
                  <a:pt x="448" y="52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19320" y="2590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 can have many different state-machine implement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762120"/>
            <a:ext cx="861048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tate machines M1 and M2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implement the same system (input/output fun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M1]  =  Inputs [M2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M1]  =  Outputs [M2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,  M1 (x) = M2 (x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5257440" y="4572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410080" y="45720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56386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fore time 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if input at time t-1 was 0, or if  t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if in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27480" y="4838760"/>
            <a:ext cx="63792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43600" y="478944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3880" y="468936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917880" y="52372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48769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426708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27440" y="5337000"/>
            <a:ext cx="709560" cy="7560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66920" y="4589640"/>
            <a:ext cx="319320" cy="2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471280" y="528804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486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7280" y="58672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5867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419112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62320" y="419112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03440" y="2432160"/>
            <a:ext cx="71136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237348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2552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84840" y="24922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51200" y="3030480"/>
            <a:ext cx="78876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25960" y="2133720"/>
            <a:ext cx="3553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5122800" y="2970360"/>
            <a:ext cx="789120" cy="9064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3208320"/>
            <a:ext cx="8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51520" y="32781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190512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9760" y="19652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86240" y="471816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64080" y="4838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33640" y="5316480"/>
            <a:ext cx="78912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08400" y="4419720"/>
            <a:ext cx="355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3880" y="54943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4267080"/>
            <a:ext cx="4800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22560" y="42512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674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7480" y="540720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43600" y="535788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63880" y="525780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917880" y="580464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87680" y="550548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54579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8120" y="5905440"/>
            <a:ext cx="488880" cy="530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472000" y="5856120"/>
            <a:ext cx="471600" cy="503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2320" y="4038480"/>
            <a:ext cx="431136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4038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06880" y="4321080"/>
            <a:ext cx="63828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733560" y="4800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48320" y="4800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9880" y="41911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38480" y="52578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60199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91320" y="56386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57150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472428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464832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1520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152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14400" y="914400"/>
            <a:ext cx="74674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wo state machines M1 and M2 ar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ween M1 and M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3048120"/>
            <a:ext cx="4572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48769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B between States [M1] and States [M2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066680" y="1295280"/>
            <a:ext cx="80773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initialState [M1] , initialState [M2]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[M1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 [M1] ( p, x )  =  output [M2] ( q, x )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nextState [M1] ( p, x ) , nextState [M2] ( q, x)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27480" y="4838760"/>
            <a:ext cx="63792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43600" y="478944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63880" y="468936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917880" y="52372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48769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26708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7440" y="5337000"/>
            <a:ext cx="709560" cy="7560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66920" y="4589640"/>
            <a:ext cx="319320" cy="2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471280" y="528804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5486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58672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5867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62320" y="419112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62320" y="419112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0, a ), ( 1, b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2057400"/>
            <a:ext cx="1524240" cy="3809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1981080"/>
            <a:ext cx="1523880" cy="38102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403440" y="2432160"/>
            <a:ext cx="71136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237348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51200" y="3030480"/>
            <a:ext cx="78876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25960" y="2133720"/>
            <a:ext cx="3553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122800" y="2970360"/>
            <a:ext cx="789120" cy="9064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81080" y="3208320"/>
            <a:ext cx="8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1520" y="32781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81080" y="190512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39760" y="19652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486240" y="471816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33640" y="5316480"/>
            <a:ext cx="78912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08400" y="4419720"/>
            <a:ext cx="355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63880" y="54943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81080" y="4267080"/>
            <a:ext cx="4800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2560" y="42512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95480" y="2209680"/>
            <a:ext cx="1676520" cy="35053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91440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81280" y="251460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480060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243828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533520" y="91440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,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,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29000" y="23623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27480" y="540720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43600" y="535788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63880" y="525780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917880" y="580464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8120" y="5905440"/>
            <a:ext cx="488880" cy="530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72000" y="5856120"/>
            <a:ext cx="471600" cy="503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4038480"/>
            <a:ext cx="431136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06880" y="4321080"/>
            <a:ext cx="63828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3733560" y="4800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48320" y="4800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41911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52578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14800" y="60199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56386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38280" y="57150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72428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464832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2133720"/>
            <a:ext cx="2210040" cy="4038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08440" y="2006640"/>
            <a:ext cx="1739880" cy="4322880"/>
          </a:xfrm>
          <a:custGeom>
            <a:avLst/>
            <a:gdLst/>
            <a:ahLst/>
            <a:rect l="l" t="t" r="r" b="b"/>
            <a:pathLst>
              <a:path w="1096" h="2723">
                <a:moveTo>
                  <a:pt x="191" y="112"/>
                </a:moveTo>
                <a:cubicBezTo>
                  <a:pt x="160" y="174"/>
                  <a:pt x="194" y="110"/>
                  <a:pt x="153" y="172"/>
                </a:cubicBezTo>
                <a:cubicBezTo>
                  <a:pt x="140" y="192"/>
                  <a:pt x="116" y="232"/>
                  <a:pt x="116" y="232"/>
                </a:cubicBezTo>
                <a:cubicBezTo>
                  <a:pt x="106" y="268"/>
                  <a:pt x="87" y="301"/>
                  <a:pt x="79" y="337"/>
                </a:cubicBezTo>
                <a:cubicBezTo>
                  <a:pt x="74" y="359"/>
                  <a:pt x="64" y="404"/>
                  <a:pt x="64" y="404"/>
                </a:cubicBezTo>
                <a:cubicBezTo>
                  <a:pt x="55" y="507"/>
                  <a:pt x="49" y="518"/>
                  <a:pt x="64" y="636"/>
                </a:cubicBezTo>
                <a:cubicBezTo>
                  <a:pt x="64" y="639"/>
                  <a:pt x="83" y="690"/>
                  <a:pt x="86" y="703"/>
                </a:cubicBezTo>
                <a:cubicBezTo>
                  <a:pt x="100" y="756"/>
                  <a:pt x="118" y="807"/>
                  <a:pt x="131" y="860"/>
                </a:cubicBezTo>
                <a:cubicBezTo>
                  <a:pt x="165" y="995"/>
                  <a:pt x="196" y="1129"/>
                  <a:pt x="228" y="1264"/>
                </a:cubicBezTo>
                <a:cubicBezTo>
                  <a:pt x="242" y="1423"/>
                  <a:pt x="278" y="1619"/>
                  <a:pt x="183" y="1758"/>
                </a:cubicBezTo>
                <a:cubicBezTo>
                  <a:pt x="171" y="1797"/>
                  <a:pt x="161" y="1836"/>
                  <a:pt x="138" y="1870"/>
                </a:cubicBezTo>
                <a:cubicBezTo>
                  <a:pt x="102" y="1988"/>
                  <a:pt x="77" y="2109"/>
                  <a:pt x="49" y="2229"/>
                </a:cubicBezTo>
                <a:cubicBezTo>
                  <a:pt x="52" y="2350"/>
                  <a:pt x="0" y="2563"/>
                  <a:pt x="131" y="2648"/>
                </a:cubicBezTo>
                <a:cubicBezTo>
                  <a:pt x="152" y="2680"/>
                  <a:pt x="185" y="2690"/>
                  <a:pt x="221" y="2701"/>
                </a:cubicBezTo>
                <a:cubicBezTo>
                  <a:pt x="236" y="2706"/>
                  <a:pt x="251" y="2711"/>
                  <a:pt x="266" y="2716"/>
                </a:cubicBezTo>
                <a:cubicBezTo>
                  <a:pt x="273" y="2718"/>
                  <a:pt x="288" y="2723"/>
                  <a:pt x="288" y="2723"/>
                </a:cubicBezTo>
                <a:cubicBezTo>
                  <a:pt x="371" y="2717"/>
                  <a:pt x="446" y="2708"/>
                  <a:pt x="520" y="2671"/>
                </a:cubicBezTo>
                <a:cubicBezTo>
                  <a:pt x="551" y="2638"/>
                  <a:pt x="594" y="2623"/>
                  <a:pt x="632" y="2596"/>
                </a:cubicBezTo>
                <a:cubicBezTo>
                  <a:pt x="642" y="2589"/>
                  <a:pt x="662" y="2574"/>
                  <a:pt x="662" y="2574"/>
                </a:cubicBezTo>
                <a:cubicBezTo>
                  <a:pt x="671" y="2560"/>
                  <a:pt x="673" y="2542"/>
                  <a:pt x="684" y="2529"/>
                </a:cubicBezTo>
                <a:cubicBezTo>
                  <a:pt x="696" y="2514"/>
                  <a:pt x="716" y="2506"/>
                  <a:pt x="729" y="2491"/>
                </a:cubicBezTo>
                <a:cubicBezTo>
                  <a:pt x="770" y="2442"/>
                  <a:pt x="807" y="2387"/>
                  <a:pt x="842" y="2334"/>
                </a:cubicBezTo>
                <a:cubicBezTo>
                  <a:pt x="864" y="2301"/>
                  <a:pt x="873" y="2259"/>
                  <a:pt x="886" y="2222"/>
                </a:cubicBezTo>
                <a:cubicBezTo>
                  <a:pt x="903" y="2173"/>
                  <a:pt x="927" y="2128"/>
                  <a:pt x="946" y="2080"/>
                </a:cubicBezTo>
                <a:cubicBezTo>
                  <a:pt x="958" y="2051"/>
                  <a:pt x="961" y="2026"/>
                  <a:pt x="976" y="1998"/>
                </a:cubicBezTo>
                <a:cubicBezTo>
                  <a:pt x="989" y="1938"/>
                  <a:pt x="1001" y="1878"/>
                  <a:pt x="1014" y="1818"/>
                </a:cubicBezTo>
                <a:cubicBezTo>
                  <a:pt x="1028" y="1688"/>
                  <a:pt x="1050" y="1559"/>
                  <a:pt x="1066" y="1429"/>
                </a:cubicBezTo>
                <a:cubicBezTo>
                  <a:pt x="1069" y="1407"/>
                  <a:pt x="1070" y="1384"/>
                  <a:pt x="1073" y="1362"/>
                </a:cubicBezTo>
                <a:cubicBezTo>
                  <a:pt x="1075" y="1349"/>
                  <a:pt x="1079" y="1337"/>
                  <a:pt x="1081" y="1324"/>
                </a:cubicBezTo>
                <a:cubicBezTo>
                  <a:pt x="1087" y="1287"/>
                  <a:pt x="1096" y="1212"/>
                  <a:pt x="1096" y="1212"/>
                </a:cubicBezTo>
                <a:cubicBezTo>
                  <a:pt x="1093" y="1055"/>
                  <a:pt x="1094" y="898"/>
                  <a:pt x="1088" y="741"/>
                </a:cubicBezTo>
                <a:cubicBezTo>
                  <a:pt x="1083" y="618"/>
                  <a:pt x="1046" y="477"/>
                  <a:pt x="991" y="367"/>
                </a:cubicBezTo>
                <a:cubicBezTo>
                  <a:pt x="950" y="285"/>
                  <a:pt x="977" y="352"/>
                  <a:pt x="939" y="299"/>
                </a:cubicBezTo>
                <a:cubicBezTo>
                  <a:pt x="918" y="269"/>
                  <a:pt x="898" y="229"/>
                  <a:pt x="872" y="202"/>
                </a:cubicBezTo>
                <a:cubicBezTo>
                  <a:pt x="806" y="134"/>
                  <a:pt x="894" y="247"/>
                  <a:pt x="827" y="165"/>
                </a:cubicBezTo>
                <a:cubicBezTo>
                  <a:pt x="747" y="68"/>
                  <a:pt x="688" y="27"/>
                  <a:pt x="565" y="0"/>
                </a:cubicBezTo>
                <a:cubicBezTo>
                  <a:pt x="505" y="3"/>
                  <a:pt x="445" y="2"/>
                  <a:pt x="385" y="8"/>
                </a:cubicBezTo>
                <a:cubicBezTo>
                  <a:pt x="369" y="10"/>
                  <a:pt x="355" y="18"/>
                  <a:pt x="340" y="23"/>
                </a:cubicBezTo>
                <a:cubicBezTo>
                  <a:pt x="333" y="25"/>
                  <a:pt x="318" y="30"/>
                  <a:pt x="318" y="30"/>
                </a:cubicBezTo>
                <a:cubicBezTo>
                  <a:pt x="277" y="57"/>
                  <a:pt x="236" y="91"/>
                  <a:pt x="191" y="112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541008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05520" y="53341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434340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05520" y="23623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752480" y="1828800"/>
            <a:ext cx="6019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only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and output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2952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is bisimulation usefu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205740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says something abo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possible input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inite state machines,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says something abo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possible relationships between st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, therefore, is easier to check than equival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3200400"/>
            <a:ext cx="172692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60440" y="419112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200400"/>
            <a:ext cx="172692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809880" y="4038480"/>
            <a:ext cx="172728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0440" y="419112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19920" y="4114800"/>
            <a:ext cx="101592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: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1, q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2T23:58:40Z</dcterms:modified>
  <cp:revision>49</cp:revision>
  <dc:subject/>
  <dc:title>PowerPoint Presentation</dc:title>
</cp:coreProperties>
</file>