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82D-E716-4E1B-A686-FB063CF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AAA-C321-4C13-906F-962AAE9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642-51DC-4EF3-B4EA-3072BF8B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F6C-2918-4CFE-A8A1-7C5155B4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60C-169B-45F0-BE86-E301D6C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8AC-9CDF-4DAB-B842-1421A2B1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E53-1F33-4438-B519-A1C65543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E67-7F3B-4ABA-8631-63CF5619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ADA-8CA9-46D2-A4B4-BB241326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5AB-BB1A-4352-A13D-FA70B94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D92-37F9-4DD9-8D1F-E59CF088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31E-A564-4F07-A408-B90ADDE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CDD-B3B0-4E6E-9AF4-BCDD998B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251460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17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668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66880" y="685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1117440"/>
            <a:ext cx="2819520" cy="73692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962520"/>
            <a:ext cx="1676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3434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z := x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 := 2·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nd: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i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gram: Inputs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990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47242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 pr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ic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light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E 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ic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light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E 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74320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00040" y="31240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200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ild Pred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133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276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4876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rong quest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former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666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audio       - video       -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4197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for communication        - for computation       - for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former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666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audio       - video       -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4197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for communication        - for computation       - for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gn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8098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inear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1981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former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2666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audio       - video       -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4197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for communication        - for computation       - for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gn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8098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inear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981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733920"/>
            <a:ext cx="1981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81280" y="5029200"/>
            <a:ext cx="1981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05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lement Pred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99280" y="5029200"/>
            <a:ext cx="1041480" cy="609480"/>
          </a:xfrm>
          <a:custGeom>
            <a:avLst/>
            <a:gdLst/>
            <a:ahLst/>
            <a:rect l="l" t="t" r="r" b="b"/>
            <a:pathLst>
              <a:path w="656" h="384">
                <a:moveTo>
                  <a:pt x="208" y="0"/>
                </a:moveTo>
                <a:cubicBezTo>
                  <a:pt x="104" y="64"/>
                  <a:pt x="0" y="128"/>
                  <a:pt x="16" y="192"/>
                </a:cubicBezTo>
                <a:cubicBezTo>
                  <a:pt x="32" y="256"/>
                  <a:pt x="200" y="384"/>
                  <a:pt x="304" y="384"/>
                </a:cubicBezTo>
                <a:cubicBezTo>
                  <a:pt x="408" y="384"/>
                  <a:pt x="624" y="256"/>
                  <a:pt x="640" y="192"/>
                </a:cubicBezTo>
                <a:cubicBezTo>
                  <a:pt x="656" y="128"/>
                  <a:pt x="440" y="32"/>
                  <a:pt x="40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e 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68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66880" y="685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1117440"/>
            <a:ext cx="2819520" cy="73692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nd: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i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68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66880" y="685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1117440"/>
            <a:ext cx="2819520" cy="73692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962520"/>
            <a:ext cx="1676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43434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z := x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 := 2·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nd: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i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gram: Inputs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03:28:50Z</dcterms:created>
  <dc:creator>Tom Henzinger</dc:creator>
  <dc:description/>
  <dc:language>en-US</dc:language>
  <cp:lastModifiedBy>Tom Henzinger</cp:lastModifiedBy>
  <dcterms:modified xsi:type="dcterms:W3CDTF">2001-02-07T00:05:19Z</dcterms:modified>
  <cp:revision>3</cp:revision>
  <dc:subject/>
  <dc:title>PowerPoint Presentation</dc:title>
</cp:coreProperties>
</file>