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F77-F758-45DC-A10A-B3413257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EF9-3709-489E-9B78-ECB78DB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3F3-13C7-4167-9428-3D9C28C9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3A6-2E54-4027-BF22-F5A37C28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478-951A-4FB5-AE98-2B2ED46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20A-AE81-4245-8535-7A38579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650-F0E5-4E34-89E0-0C2452B7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CED-B393-4890-AE38-52B37F5F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D50-570E-41F0-93C7-011AD5E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0C7-4502-46C1-9CD9-93B28B8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57E-54E2-4E4D-90A1-4C62F69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D1C-8BF0-4254-856D-DA4BB6A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C111-3155-49FF-A83B-887A1ABC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6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90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creteTime,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ntizedSound (x) 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n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ampledSound (x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, maxint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004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5760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4419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mputerInt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-maxi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n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447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Rea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{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42900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:  I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 if  -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x,y)  =        y       if  x &gt;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      if  x &lt; -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4197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ymbol"/>
                <a:ea typeface="Symbol"/>
              </a:rPr>
              <a:t>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14479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 max x  =  y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4290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-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x 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x &gt; y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y 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x &lt; -y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-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2362320"/>
            <a:ext cx="8001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alog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s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gital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eo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9724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= [ Discrete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= [ Discrete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Discrete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Discrete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438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typical frequency = 30 H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9144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t of paper :  VerticalSpace     = [ 0, 1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Space = [ 0, 8.5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V :  DiscreteVerticalSpace = { 1, 2, … , 52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4876920"/>
            <a:ext cx="66294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Intensity =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Intensity       = Intensity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33526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D :  DiscreteVerticalSpace     = { 1, 2, … , 1024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HorizontalSpace = { 1, 2, … , 128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65760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9051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ll sets A, B, 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 ]   =   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] 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6576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V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H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]]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051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ll sets A, B, 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 ]   =   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] 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4479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447920"/>
            <a:ext cx="76960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ocity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267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rivativeSpace   =  Spac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77240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, 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 (f) | x = f(x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n = 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n, n+1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],   f(x) = x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447920"/>
            <a:ext cx="7696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ocity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Velocity: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5486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im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positionVelocity (x)  =  ( position (x) , velocity (x)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267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rivativeSpace   =  Spac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514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dio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ir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5975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284436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27672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44492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971800"/>
            <a:ext cx="13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257800"/>
            <a:ext cx="8001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ntinuousTim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{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AirPressur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d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65760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NormalizedPressure = Rea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90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d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ntinuousTime,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rmalizedSound (x)  =  sound (x) – ambientAirPressur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65760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NormalizedPressure = Rea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90720"/>
            <a:ext cx="9144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mplingPeriod (sec)  =  1 / samplingFrequency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3341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crete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3341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crete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9907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creteTime,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mpledSound (x)  =  normalizedSound ( samplingPeriod · x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072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xint  =  2</a:t>
            </a:r>
            <a:r>
              <a:rPr b="0" lang="en-US" sz="2400" spc="-1" strike="noStrike" baseline="50000">
                <a:solidFill>
                  <a:srgbClr val="ff0000"/>
                </a:solidFill>
                <a:latin typeface="Comic Sans MS"/>
              </a:rPr>
              <a:t> wordsiz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mputerInt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-maxi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n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3526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05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419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5:18:01Z</dcterms:created>
  <dc:creator>tah</dc:creator>
  <dc:description/>
  <dc:language>en-US</dc:language>
  <cp:lastModifiedBy>Tom Henzinger</cp:lastModifiedBy>
  <dcterms:modified xsi:type="dcterms:W3CDTF">2001-02-07T00:28:26Z</dcterms:modified>
  <cp:revision>15</cp:revision>
  <dc:subject/>
  <dc:title>PowerPoint Presentation</dc:title>
</cp:coreProperties>
</file>