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787-FA9D-41C0-836C-1999956D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699-FEFA-4B34-AD68-F252D3DD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3CE-B507-4526-8830-41B2D9AC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166-DF10-4A46-A3CA-D4739F37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925-F6FB-4641-A86A-CA0E5226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5D3-2BE5-488A-B0D7-328F0162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B5A-FBE6-4B73-8FCF-21CA9626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16B-65B3-4F9A-9787-F82A6C5A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FB2-0C64-4598-A032-218AD917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8DE-E9D0-4728-9B12-AEA5DB69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863-4D34-455A-A4AF-1EBDFEF5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E23-8A8F-49FB-B5A2-58983E7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C604-BC73-46F2-9AF6-0E6B0979A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2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76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3505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505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2004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638320" y="3733920"/>
            <a:ext cx="381240" cy="21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 = “state”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3505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828800" y="21337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with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ite memo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naturally implement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 state mach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or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inite transition system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133360" y="47242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1337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2819520"/>
            <a:ext cx="57909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3505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010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3733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3276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3880" y="914400"/>
            <a:ext cx="609624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± :  Bool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± (x,y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213372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+1       if  x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1       if   x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22860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62520"/>
            <a:ext cx="609624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 :   In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 (x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510552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       if 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se       if   x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52578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133360" y="47242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337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819520"/>
            <a:ext cx="57909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3733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724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3505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460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33360" y="47242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1337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819520"/>
            <a:ext cx="57909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3733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724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320040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5029200" y="3733920"/>
            <a:ext cx="380880" cy="21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1972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3505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447920" y="213372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with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untable ( integer ) memo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naturally implement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e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or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nfinite transition system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1337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Systems with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unt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real ) memo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as continuous-time del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not naturally viewed naturally as transition systems.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57400" y="990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ite-Memor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828800"/>
            <a:ext cx="8991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Delay:                  remember last inp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Moving Average:  remember last 2 inpu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:                                         remember if number of past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“true”  is 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43434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finite-Memor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5334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:              remember if number of past inputs  “true”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is greater than number of past inputs  “false”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838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iscrete-Time 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6386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]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838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Base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2514600"/>
            <a:ext cx="144792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4114800"/>
            <a:ext cx="6858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35053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124080" y="28954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289548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429000" y="44197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429000" y="327636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28954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35053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32767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327672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952520" y="44197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41148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9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4419720"/>
            <a:ext cx="1524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54100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548640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pdate: memory-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emory =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838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251460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67080" y="4114800"/>
            <a:ext cx="6858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12408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429000" y="4419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429000" y="3276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412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3276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3276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952520" y="44197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411480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29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4419720"/>
            <a:ext cx="1524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040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556272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 :  State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 “initial state”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95280" y="685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1676520"/>
            <a:ext cx="77724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B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(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295280" y="685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Implementation of 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676520"/>
            <a:ext cx="77724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I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± (x,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pos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29528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23623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( set of possible input valu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( set of possible output valu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( set of states 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 State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752480" y="1066680"/>
            <a:ext cx="563904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is a finite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2670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ar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can be implemented by a two-state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cannot be implemented by finite-state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47920" y="1828800"/>
            <a:ext cx="6400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12193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React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514600"/>
            <a:ext cx="792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ystem can be implemented by a one-state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us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ystem can be implemented by a state machine ( take as state the entire history of inputs ), and every system that can be implemented by a state machine is caus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838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lock Diagram of a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86200" y="251460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411480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12408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4290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429000" y="3276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3276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5000" y="3276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3341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86200" y="4191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38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29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320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52280" y="1219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ransition Table of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tate Machine (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ar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266688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state     Input          Next state    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false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true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true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false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352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25146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57600" y="2286000"/>
            <a:ext cx="152388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31240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2895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95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f, f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895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f, f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09480" y="68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ransition Diagram of a State Machine (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ar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24382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2920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2133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657600" y="3276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09680" y="2971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60440" y="34290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334120" y="33526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1676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Bools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438280"/>
            <a:ext cx="883908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Parity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37339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      if  | trueValues 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 is ev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se      if  | trueValues 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 is o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486400"/>
            <a:ext cx="868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here  trueValues (x,y) = {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| z &lt;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(z) = true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57600" y="2286000"/>
            <a:ext cx="152388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31240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895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895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f, f, f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2895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t, 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2438280"/>
            <a:ext cx="883908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Count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7339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ue       if  | trueValues (x,y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 falseValues (x,y) |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lse      if  | trueValues (x,y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 &lt; | falseValues (x,y) |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486400"/>
            <a:ext cx="883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here  falseValues (x,y) = {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| z &lt;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(z) = false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96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3505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3505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07T00:50:29Z</dcterms:modified>
  <cp:revision>22</cp:revision>
  <dc:subject/>
  <dc:title>PowerPoint Presentation</dc:title>
</cp:coreProperties>
</file>