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4DD2-9BFB-4696-9A75-ECF93D49A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D73C-7887-49EA-B0E9-417F3851B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5077-90D5-480A-BE53-589BA0A2D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7DA4-9F9A-4CF8-81D2-DA55B1F8F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9F5D-5351-4011-BD8E-8F95707C2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99F1-5F28-411D-ACFB-01FDAFF5C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86CE-AB60-414E-834F-66274959D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488B-B450-4810-8A79-36A5B8106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EDDB-FB04-49D0-B9B7-A4EF1AF57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BCAB-BF0A-4AF3-96FB-49DADAA2F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88B4-8C5C-48EB-B824-ECA61751E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78D0-61B1-4CD9-8C8C-23D378C8D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B7DBD-6B9E-4172-9A62-041228682E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33720" y="2514600"/>
            <a:ext cx="4876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ECS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Lecture 37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(April 25, 200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m Henzing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152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ogress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85800" y="1066680"/>
            <a:ext cx="77724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all Safety Control Step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ute the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afety-uncontrollab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s of 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066680" y="2743200"/>
            <a:ext cx="80773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ery state in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rro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safety-uncontroll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all states 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or all inputs i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there exist a safety-uncontrollable state s’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           and an output o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such that  (s’,o)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possibleUpdates (s,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n   s is safety-uncontroll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685800" y="1066680"/>
            <a:ext cx="77724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gress Control Step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ute the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rogress-controllab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s of 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066680" y="2743200"/>
            <a:ext cx="739152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ery state in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progress-controll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all states 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there exists an input i     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for all states s’ and outputs o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if  (s’,o)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possibleUpdates (s,i)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then  s’ is progress-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n   s is progress-controll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54100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4100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4674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4674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3526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526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9625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199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199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62120" y="24382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7724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150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3785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772400" y="3124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8487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4674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0" y="1219320"/>
            <a:ext cx="1828800" cy="464796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7960"/>
              <a:gd name="textAreaBottom" fmla="*/ 4558680 h 4647960"/>
            </a:gdLst>
            <a:ahLst/>
            <a:rect l="textAreaLeft" t="textAreaTop" r="textAreaRight" b="textAreaBottom"/>
            <a:pathLst>
              <a:path w="21600" h="54891">
                <a:moveTo>
                  <a:pt x="3600" y="0"/>
                </a:moveTo>
                <a:arcTo wR="3600" hR="3600" stAng="16200000" swAng="-5400000"/>
                <a:lnTo>
                  <a:pt x="0" y="51291"/>
                </a:lnTo>
                <a:arcTo wR="3600" hR="3600" stAng="10800000" swAng="-5400000"/>
                <a:lnTo>
                  <a:pt x="18000" y="548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01028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9436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781680" y="3200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958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199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638680" y="3276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32767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2767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62520" y="44197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267080" y="4419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9625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267080" y="3809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53341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95280" y="3962520"/>
            <a:ext cx="60984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95280" y="22096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905120" y="251460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00200" y="27432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133720" y="2057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523880" y="3048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219320" y="1675800"/>
            <a:ext cx="85068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2193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905120" y="434340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09680" y="4343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905120" y="41911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09680" y="3733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3341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638680" y="2971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576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895480" y="3200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2637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286000" y="4648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6483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54100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100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4674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4674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3526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625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199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62120" y="24382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7724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7150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3785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772400" y="3124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8487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4674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219320"/>
            <a:ext cx="1828800" cy="464796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7960"/>
              <a:gd name="textAreaBottom" fmla="*/ 4558680 h 4647960"/>
            </a:gdLst>
            <a:ahLst/>
            <a:rect l="textAreaLeft" t="textAreaTop" r="textAreaRight" b="textAreaBottom"/>
            <a:pathLst>
              <a:path w="21600" h="54891">
                <a:moveTo>
                  <a:pt x="3600" y="0"/>
                </a:moveTo>
                <a:arcTo wR="3600" hR="3600" stAng="16200000" swAng="-5400000"/>
                <a:lnTo>
                  <a:pt x="0" y="51291"/>
                </a:lnTo>
                <a:arcTo wR="3600" hR="3600" stAng="10800000" swAng="-5400000"/>
                <a:lnTo>
                  <a:pt x="18000" y="548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01028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59436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58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32767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2767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962520" y="44197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267080" y="4419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9625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267080" y="3809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53341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3962520"/>
            <a:ext cx="60984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295280" y="22096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905120" y="251460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600200" y="27432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2057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523880" y="3048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1219320" y="1675800"/>
            <a:ext cx="85068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2193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905120" y="434340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209680" y="4343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905120" y="41911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209680" y="3733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6576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2637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3526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286000" y="4648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81480" y="3809880"/>
            <a:ext cx="1067040" cy="99072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981080" y="5562720"/>
            <a:ext cx="487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rogress-controllable (can force plant into target in 1 transi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5410080" y="4800240"/>
            <a:ext cx="152640" cy="76212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781680" y="3200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199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638680" y="3276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3341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638680" y="2971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895480" y="3200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8862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6483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54100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4100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4674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4674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3526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3526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9625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199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199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62120" y="24382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7724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7150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3785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772400" y="3124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8487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4674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58000" y="1219320"/>
            <a:ext cx="1828800" cy="464796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7960"/>
              <a:gd name="textAreaBottom" fmla="*/ 4558680 h 4647960"/>
            </a:gdLst>
            <a:ahLst/>
            <a:rect l="textAreaLeft" t="textAreaTop" r="textAreaRight" b="textAreaBottom"/>
            <a:pathLst>
              <a:path w="21600" h="54891">
                <a:moveTo>
                  <a:pt x="3600" y="0"/>
                </a:moveTo>
                <a:arcTo wR="3600" hR="3600" stAng="16200000" swAng="-5400000"/>
                <a:lnTo>
                  <a:pt x="0" y="51291"/>
                </a:lnTo>
                <a:arcTo wR="3600" hR="3600" stAng="10800000" swAng="-5400000"/>
                <a:lnTo>
                  <a:pt x="18000" y="548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01028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59436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0958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32767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2767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962520" y="44197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267080" y="4419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9625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267080" y="3809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53341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295280" y="3962520"/>
            <a:ext cx="60984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295280" y="22096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905120" y="251460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600200" y="27432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133720" y="2057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523880" y="3048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1219320" y="1675800"/>
            <a:ext cx="85068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2193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905120" y="434340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209680" y="4343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905120" y="41911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209680" y="3733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6576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2637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3526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286000" y="4648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181480" y="3809880"/>
            <a:ext cx="1067040" cy="99072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362320" y="22860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rogress-controllable (can force plant into target in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2 transi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181480" y="2057400"/>
            <a:ext cx="1067040" cy="99072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495680" y="1066680"/>
            <a:ext cx="838440" cy="106704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781680" y="3200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095880" y="2133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638680" y="3276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3341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638680" y="2971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895480" y="3200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8862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6483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54100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4100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4674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4674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3526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3526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9625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0199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0199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62120" y="24382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7724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7150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3785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772400" y="3124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8487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4674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858000" y="1219320"/>
            <a:ext cx="1828800" cy="464796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7960"/>
              <a:gd name="textAreaBottom" fmla="*/ 4558680 h 4647960"/>
            </a:gdLst>
            <a:ahLst/>
            <a:rect l="textAreaLeft" t="textAreaTop" r="textAreaRight" b="textAreaBottom"/>
            <a:pathLst>
              <a:path w="21600" h="54891">
                <a:moveTo>
                  <a:pt x="3600" y="0"/>
                </a:moveTo>
                <a:arcTo wR="3600" hR="3600" stAng="16200000" swAng="-5400000"/>
                <a:lnTo>
                  <a:pt x="0" y="51291"/>
                </a:lnTo>
                <a:arcTo wR="3600" hR="3600" stAng="10800000" swAng="-5400000"/>
                <a:lnTo>
                  <a:pt x="18000" y="548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01028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59436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958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32767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2767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962520" y="44197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267080" y="4419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9625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267080" y="3809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53341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295280" y="3962520"/>
            <a:ext cx="60984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295280" y="22096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905120" y="251460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600200" y="27432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133720" y="2057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523880" y="3048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1219320" y="1675800"/>
            <a:ext cx="85068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2193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905120" y="434340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209680" y="4343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905120" y="41911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209680" y="3733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6576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2637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286000" y="4648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181480" y="3809880"/>
            <a:ext cx="1067040" cy="99072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362320" y="22860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rogress-controllable (can force plant into target in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3 transi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181480" y="2057400"/>
            <a:ext cx="1067040" cy="99072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4114440" y="1066680"/>
            <a:ext cx="762120" cy="114300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124080" y="2057400"/>
            <a:ext cx="1067040" cy="99072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781680" y="3200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95880" y="2133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638680" y="3276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3341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2971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895480" y="3200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8862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6483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54100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4100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4674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4674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3526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3526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9625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0199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0199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62120" y="24382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7724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150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3785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772400" y="3124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8487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4674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858000" y="1219320"/>
            <a:ext cx="1828800" cy="464796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7960"/>
              <a:gd name="textAreaBottom" fmla="*/ 4558680 h 4647960"/>
            </a:gdLst>
            <a:ahLst/>
            <a:rect l="textAreaLeft" t="textAreaTop" r="textAreaRight" b="textAreaBottom"/>
            <a:pathLst>
              <a:path w="21600" h="54891">
                <a:moveTo>
                  <a:pt x="3600" y="0"/>
                </a:moveTo>
                <a:arcTo wR="3600" hR="3600" stAng="16200000" swAng="-5400000"/>
                <a:lnTo>
                  <a:pt x="0" y="51291"/>
                </a:lnTo>
                <a:arcTo wR="3600" hR="3600" stAng="10800000" swAng="-5400000"/>
                <a:lnTo>
                  <a:pt x="18000" y="548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01028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59436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0958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32767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2767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962520" y="44197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267080" y="4419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9625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267080" y="3809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53341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295280" y="3962520"/>
            <a:ext cx="60984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295280" y="22096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905120" y="251460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600200" y="27432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133720" y="2057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3880" y="3048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1219320" y="1675800"/>
            <a:ext cx="85068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2193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905120" y="434340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209680" y="4343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905120" y="41911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209680" y="3733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6576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2637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3526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286000" y="4648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181480" y="3809880"/>
            <a:ext cx="1067040" cy="99072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362320" y="22860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rogress-controllable (can force plant into target in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4 transi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181480" y="2057400"/>
            <a:ext cx="1067040" cy="99072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2057040" y="990720"/>
            <a:ext cx="762120" cy="114300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124080" y="2057400"/>
            <a:ext cx="1067040" cy="99072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066680" y="1981080"/>
            <a:ext cx="1067040" cy="99072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781680" y="3200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095880" y="2133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638680" y="3276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3341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638680" y="2971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895480" y="3200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8862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6483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54100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4100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4674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4674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3526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3526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9625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99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0199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62120" y="24382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7724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7150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3785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772400" y="3124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8487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4674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858000" y="1219320"/>
            <a:ext cx="1828800" cy="464796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7960"/>
              <a:gd name="textAreaBottom" fmla="*/ 4558680 h 4647960"/>
            </a:gdLst>
            <a:ahLst/>
            <a:rect l="textAreaLeft" t="textAreaTop" r="textAreaRight" b="textAreaBottom"/>
            <a:pathLst>
              <a:path w="21600" h="54891">
                <a:moveTo>
                  <a:pt x="3600" y="0"/>
                </a:moveTo>
                <a:arcTo wR="3600" hR="3600" stAng="16200000" swAng="-5400000"/>
                <a:lnTo>
                  <a:pt x="0" y="51291"/>
                </a:lnTo>
                <a:arcTo wR="3600" hR="3600" stAng="10800000" swAng="-5400000"/>
                <a:lnTo>
                  <a:pt x="18000" y="548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01028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59436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958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32767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2767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962520" y="44197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267080" y="4419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9625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267080" y="3809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53341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295280" y="3962520"/>
            <a:ext cx="60984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295280" y="22096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905120" y="251460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600200" y="27432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133720" y="2057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523880" y="3048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1219320" y="1675800"/>
            <a:ext cx="85068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2193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905120" y="434340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209680" y="4343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905120" y="41911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209680" y="3733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6576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2637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3526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286000" y="4648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781680" y="3200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095880" y="2133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638680" y="3276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3341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638680" y="2971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895480" y="3200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8862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6483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09480" y="3657600"/>
            <a:ext cx="3733920" cy="23623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62120" y="54864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ogress-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343400" y="601992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5334120" y="15238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334120" y="3276720"/>
            <a:ext cx="60948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7391520" y="3276720"/>
            <a:ext cx="60948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7391520" y="15238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276720" y="3276720"/>
            <a:ext cx="60948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276720" y="15238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886200" y="18288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943600" y="350532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943600" y="18288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85800" y="167652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696080" y="20574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638680" y="20574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302600" y="38098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696080" y="23623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772400" y="2362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391520" y="4343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781680" y="457200"/>
            <a:ext cx="1828800" cy="464832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8320"/>
              <a:gd name="textAreaBottom" fmla="*/ 4559040 h 4648320"/>
            </a:gdLst>
            <a:ahLst/>
            <a:rect l="textAreaLeft" t="textAreaTop" r="textAreaRight" b="textAreaBottom"/>
            <a:pathLst>
              <a:path w="21600" h="54895">
                <a:moveTo>
                  <a:pt x="3600" y="0"/>
                </a:moveTo>
                <a:arcTo wR="3600" hR="3600" stAng="16200000" swAng="-5400000"/>
                <a:lnTo>
                  <a:pt x="0" y="51295"/>
                </a:lnTo>
                <a:arcTo wR="3600" hR="3600" stAng="10800000" swAng="-5400000"/>
                <a:lnTo>
                  <a:pt x="18000" y="548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934320" y="5335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28600" y="152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5867280" y="198108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019920" y="3505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11480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3200400" y="990000"/>
            <a:ext cx="85104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200400" y="609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886200" y="36576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191120" y="3657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886200" y="350532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191120" y="3048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5257800" y="990000"/>
            <a:ext cx="85104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219320" y="320040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219320" y="1447920"/>
            <a:ext cx="60948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828800" y="175248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523880" y="198108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05740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447920" y="2286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1143000" y="9144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143000" y="533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828800" y="358128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581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828800" y="34290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133720" y="2971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581280" y="20574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187800" y="38098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276720" y="4343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209680" y="3886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705720" y="2438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0199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562720" y="2514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257800" y="609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562720" y="2209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819520" y="2438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809880" y="198108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572000" y="2286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33520" y="2895480"/>
            <a:ext cx="3733560" cy="23623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85800" y="47242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ogress-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343400" y="601992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80880" y="571500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green:  helpful inputs (ensure progress towards target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lue:     safe inputs (keep plant out of uncontrollable st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380880" y="2133720"/>
            <a:ext cx="853452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subset 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afety-controllable is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sistent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there is an input i such that for all states 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, all states in possibleUpdates (s,i) are safety-controll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une from the state machine whose states are the consistent subsets of Safety-controllable and whose outputs ar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fe th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s without successor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the result contains possibleInitialStates (of the plant) as a state, then it is the desired Controller.  Otherwise, no controller exis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04920" y="457200"/>
            <a:ext cx="853416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all Safety Control Step 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ck consistent set of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safety-controllab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lant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666880" y="2590920"/>
            <a:ext cx="4343400" cy="1066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762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Safety Control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14400" y="19810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i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28800" y="31240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010280" y="312408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666880" y="25909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ite-state machine 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43000" y="2895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43000" y="43434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  set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rro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f plant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666880" y="3124080"/>
            <a:ext cx="43434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380880" y="1752480"/>
            <a:ext cx="876312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subset 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rogress-controllable is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sistent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 there is an input i such that for all states 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, all states in possibleUpdates (s,i) are progress-controll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truct the state machine whose states are the consistent subsets of Safety-controllable without target states (including the empty set Ø), and whose outputs are saf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the result contains possibleInitialStates (of the plant) as a state, and there is an acyclic, output-closed subgraph from possibleInitialStates to Ø, then prune away all states not in the subgraph; this is the desired Controller.  Otherwise, no controller exis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04920" y="457200"/>
            <a:ext cx="853416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all Safety Control Step 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ck consistent set of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rogress-controllab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lant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990720" y="2514600"/>
            <a:ext cx="73911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 usual, if the plant is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utput-deterministi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then we need consider only consistent sets of size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In other words, the controller always knows the state of the pla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5334120" y="15238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334120" y="3276720"/>
            <a:ext cx="60948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7391520" y="3276720"/>
            <a:ext cx="60948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7391520" y="15238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276720" y="3276720"/>
            <a:ext cx="60948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276720" y="15238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886200" y="18288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943600" y="350532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943600" y="18288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85800" y="167652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696080" y="20574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638680" y="20574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302600" y="38098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696080" y="23623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772400" y="2362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391520" y="4343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781680" y="457200"/>
            <a:ext cx="1828800" cy="464832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8320"/>
              <a:gd name="textAreaBottom" fmla="*/ 4559040 h 4648320"/>
            </a:gdLst>
            <a:ahLst/>
            <a:rect l="textAreaLeft" t="textAreaTop" r="textAreaRight" b="textAreaBottom"/>
            <a:pathLst>
              <a:path w="21600" h="54895">
                <a:moveTo>
                  <a:pt x="3600" y="0"/>
                </a:moveTo>
                <a:arcTo wR="3600" hR="3600" stAng="16200000" swAng="-5400000"/>
                <a:lnTo>
                  <a:pt x="0" y="51295"/>
                </a:lnTo>
                <a:arcTo wR="3600" hR="3600" stAng="10800000" swAng="-5400000"/>
                <a:lnTo>
                  <a:pt x="18000" y="548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934320" y="5335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28600" y="152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5867280" y="198108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019920" y="3505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11480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V="1">
            <a:off x="3200400" y="990000"/>
            <a:ext cx="85104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609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886200" y="36576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191120" y="3657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886200" y="350532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191120" y="3048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V="1">
            <a:off x="5257800" y="990000"/>
            <a:ext cx="85104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219320" y="320040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219320" y="1447920"/>
            <a:ext cx="60948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828800" y="175248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523880" y="198108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05740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447920" y="2286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V="1">
            <a:off x="1143000" y="9144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143000" y="533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828800" y="358128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133720" y="3581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828800" y="34290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133720" y="2971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581280" y="20574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187800" y="38098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276720" y="4343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209680" y="3886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705720" y="2438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0199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562720" y="2514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257800" y="609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562720" y="2209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819520" y="2438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809880" y="198108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572000" y="2286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33520" y="2895480"/>
            <a:ext cx="3733560" cy="23623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85800" y="47242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ogress-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343400" y="601992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209680" y="57913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utput-deterministic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>
            <a:off x="228600" y="152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334120" y="1168560"/>
            <a:ext cx="609480" cy="355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334120" y="233676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391520" y="233676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391520" y="1168560"/>
            <a:ext cx="609480" cy="355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276720" y="233676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276720" y="1168560"/>
            <a:ext cx="609480" cy="355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886200" y="13716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943600" y="248904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943600" y="13716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85800" y="12700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7696080" y="152388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638680" y="152388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302600" y="2692440"/>
            <a:ext cx="85068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696080" y="17272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772400" y="1727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3915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781680" y="457200"/>
            <a:ext cx="1828800" cy="30988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098880"/>
              <a:gd name="textAreaBottom" fmla="*/ 3009600 h 3098880"/>
            </a:gdLst>
            <a:ahLst/>
            <a:rect l="textAreaLeft" t="textAreaTop" r="textAreaRight" b="textAreaBottom"/>
            <a:pathLst>
              <a:path w="21600" h="36598">
                <a:moveTo>
                  <a:pt x="3600" y="0"/>
                </a:moveTo>
                <a:arcTo wR="3600" hR="3600" stAng="16200000" swAng="-5400000"/>
                <a:lnTo>
                  <a:pt x="0" y="32998"/>
                </a:lnTo>
                <a:arcTo wR="3600" hR="3600" stAng="10800000" swAng="-5400000"/>
                <a:lnTo>
                  <a:pt x="18000" y="365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934320" y="50796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V="1">
            <a:off x="5867280" y="1473120"/>
            <a:ext cx="16002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019920" y="24890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11480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V="1">
            <a:off x="3200400" y="812880"/>
            <a:ext cx="85104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200400" y="457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886200" y="259092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19112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886200" y="248904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V="1">
            <a:off x="5257800" y="812880"/>
            <a:ext cx="85104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219320" y="228600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219320" y="111744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828800" y="132084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523880" y="147312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057400" y="914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447920" y="1600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V="1">
            <a:off x="1143000" y="761400"/>
            <a:ext cx="851040" cy="3553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143000" y="380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828800" y="254016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133720" y="25401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828800" y="243828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133720" y="2057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581280" y="152388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187800" y="2692440"/>
            <a:ext cx="85068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276720" y="2971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20968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705720" y="17780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01992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562720" y="1828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257800" y="457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56272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819520" y="1676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809880" y="1473120"/>
            <a:ext cx="16002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572000" y="1600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33520" y="2082960"/>
            <a:ext cx="3733560" cy="15746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85800" y="33019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ogress-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343400" y="601992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28600" y="60199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Safe out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486400" y="4673520"/>
            <a:ext cx="609480" cy="3556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5486400" y="5842080"/>
            <a:ext cx="609480" cy="3556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7543800" y="4673520"/>
            <a:ext cx="609480" cy="3556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429000" y="4673520"/>
            <a:ext cx="609480" cy="3556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038480" y="4876920"/>
            <a:ext cx="144792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095880" y="4876920"/>
            <a:ext cx="144792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838080" y="4775040"/>
            <a:ext cx="53352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791320" y="5029200"/>
            <a:ext cx="0" cy="81288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6019920" y="4978440"/>
            <a:ext cx="1600200" cy="9144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2670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V="1">
            <a:off x="3352680" y="4317840"/>
            <a:ext cx="85104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352680" y="39625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V="1">
            <a:off x="5410080" y="4317840"/>
            <a:ext cx="85104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371600" y="4622760"/>
            <a:ext cx="609480" cy="3556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981080" y="4826160"/>
            <a:ext cx="144792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209680" y="4419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858000" y="52833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6172200" y="4495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715000" y="5334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410080" y="39625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715000" y="5029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962520" y="4978440"/>
            <a:ext cx="1600200" cy="9144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7242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7625880" y="464832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/>
          <p:nvPr/>
        </p:nvSpPr>
        <p:spPr>
          <a:xfrm>
            <a:off x="228600" y="152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334120" y="1168560"/>
            <a:ext cx="609480" cy="355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334120" y="233676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7391520" y="233676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391520" y="1168560"/>
            <a:ext cx="609480" cy="355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276720" y="233676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276720" y="1168560"/>
            <a:ext cx="609480" cy="355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886200" y="13716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943600" y="248904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5943600" y="13716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85800" y="12700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7696080" y="152388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638680" y="152388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7302600" y="2692440"/>
            <a:ext cx="85068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7696080" y="17272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7772400" y="1727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73915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781680" y="457200"/>
            <a:ext cx="1828800" cy="30988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098880"/>
              <a:gd name="textAreaBottom" fmla="*/ 3009600 h 3098880"/>
            </a:gdLst>
            <a:ahLst/>
            <a:rect l="textAreaLeft" t="textAreaTop" r="textAreaRight" b="textAreaBottom"/>
            <a:pathLst>
              <a:path w="21600" h="36598">
                <a:moveTo>
                  <a:pt x="3600" y="0"/>
                </a:moveTo>
                <a:arcTo wR="3600" hR="3600" stAng="16200000" swAng="-5400000"/>
                <a:lnTo>
                  <a:pt x="0" y="32998"/>
                </a:lnTo>
                <a:arcTo wR="3600" hR="3600" stAng="10800000" swAng="-5400000"/>
                <a:lnTo>
                  <a:pt x="18000" y="365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934320" y="50796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5867280" y="1473120"/>
            <a:ext cx="16002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019920" y="24890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11480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3200400" y="812880"/>
            <a:ext cx="85104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200400" y="457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886200" y="259092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19112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886200" y="248904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V="1">
            <a:off x="5257800" y="812880"/>
            <a:ext cx="85104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219320" y="228600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219320" y="111744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1828800" y="132084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523880" y="147312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057400" y="914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1447920" y="1600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V="1">
            <a:off x="1143000" y="761400"/>
            <a:ext cx="851040" cy="3553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143000" y="380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828800" y="254016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133720" y="25401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828800" y="243828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2133720" y="2057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581280" y="152388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187800" y="2692440"/>
            <a:ext cx="85068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276720" y="2971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220968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705720" y="17780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01992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562720" y="1828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257800" y="457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56272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819520" y="1676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809880" y="1473120"/>
            <a:ext cx="16002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572000" y="1600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33520" y="2082960"/>
            <a:ext cx="3733560" cy="15746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85800" y="33019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ogress-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343400" y="601992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28600" y="60199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cyclic, output-closed sub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5486400" y="4673520"/>
            <a:ext cx="609480" cy="355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486400" y="5842080"/>
            <a:ext cx="609480" cy="355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7543800" y="4673520"/>
            <a:ext cx="609480" cy="355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3429000" y="4673520"/>
            <a:ext cx="609480" cy="355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4038480" y="487692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6095880" y="487692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838080" y="477504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791320" y="5029200"/>
            <a:ext cx="0" cy="812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V="1">
            <a:off x="6019920" y="4978440"/>
            <a:ext cx="16002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2670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 flipV="1">
            <a:off x="3352680" y="4317840"/>
            <a:ext cx="85104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352680" y="39625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V="1">
            <a:off x="5410080" y="4317840"/>
            <a:ext cx="85104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371600" y="4622760"/>
            <a:ext cx="609480" cy="355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981080" y="482616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2209680" y="4419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6858000" y="52833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248520" y="4495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715000" y="5334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5410080" y="39625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5715000" y="5029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962520" y="4978440"/>
            <a:ext cx="16002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47242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7625880" y="464832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"/>
          <p:cNvSpPr/>
          <p:nvPr/>
        </p:nvSpPr>
        <p:spPr>
          <a:xfrm>
            <a:off x="228600" y="152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5334120" y="1168560"/>
            <a:ext cx="609480" cy="355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5334120" y="233676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7391520" y="233676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7391520" y="1168560"/>
            <a:ext cx="609480" cy="355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276720" y="233676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276720" y="1168560"/>
            <a:ext cx="609480" cy="355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886200" y="13716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943600" y="248904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943600" y="13716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685800" y="12700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7696080" y="152388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5638680" y="152388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7302600" y="2692440"/>
            <a:ext cx="85068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7696080" y="17272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7772400" y="1727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73915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6781680" y="457200"/>
            <a:ext cx="1828800" cy="30988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098880"/>
              <a:gd name="textAreaBottom" fmla="*/ 3009600 h 3098880"/>
            </a:gdLst>
            <a:ahLst/>
            <a:rect l="textAreaLeft" t="textAreaTop" r="textAreaRight" b="textAreaBottom"/>
            <a:pathLst>
              <a:path w="21600" h="36598">
                <a:moveTo>
                  <a:pt x="3600" y="0"/>
                </a:moveTo>
                <a:arcTo wR="3600" hR="3600" stAng="16200000" swAng="-5400000"/>
                <a:lnTo>
                  <a:pt x="0" y="32998"/>
                </a:lnTo>
                <a:arcTo wR="3600" hR="3600" stAng="10800000" swAng="-5400000"/>
                <a:lnTo>
                  <a:pt x="18000" y="365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6934320" y="50796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V="1">
            <a:off x="5867280" y="1473120"/>
            <a:ext cx="16002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6019920" y="24890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411480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V="1">
            <a:off x="3200400" y="812880"/>
            <a:ext cx="85104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200400" y="457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3886200" y="259092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419112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886200" y="248904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flipV="1">
            <a:off x="5257800" y="812880"/>
            <a:ext cx="85104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219320" y="228600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1219320" y="111744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828800" y="132084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523880" y="147312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057400" y="914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447920" y="1600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V="1">
            <a:off x="1143000" y="761400"/>
            <a:ext cx="851040" cy="3553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143000" y="380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828800" y="254016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133720" y="25401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1828800" y="243828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2133720" y="2057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581280" y="152388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3187800" y="2692440"/>
            <a:ext cx="85068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276720" y="2971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220968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6705720" y="17780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601992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5562720" y="1828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257800" y="457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556272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2819520" y="1676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809880" y="1473120"/>
            <a:ext cx="16002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572000" y="1600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33520" y="2082960"/>
            <a:ext cx="3733560" cy="15746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85800" y="33019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ogress-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343400" y="601992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228600" y="60199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ru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5486400" y="4673520"/>
            <a:ext cx="609480" cy="355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5486400" y="5842080"/>
            <a:ext cx="609480" cy="355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543800" y="4673520"/>
            <a:ext cx="609480" cy="355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3429000" y="4673520"/>
            <a:ext cx="609480" cy="355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4038480" y="487692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6095880" y="487692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838080" y="477504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5791320" y="5029200"/>
            <a:ext cx="0" cy="812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 flipV="1">
            <a:off x="6019920" y="4978440"/>
            <a:ext cx="16002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42670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1371600" y="4622760"/>
            <a:ext cx="609480" cy="355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1981080" y="482616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2209680" y="4419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0" y="52833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63244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638680" y="51814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3962520" y="4978440"/>
            <a:ext cx="16002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47242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7625880" y="464832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"/>
          <p:cNvSpPr/>
          <p:nvPr/>
        </p:nvSpPr>
        <p:spPr>
          <a:xfrm>
            <a:off x="228600" y="152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5334120" y="1168560"/>
            <a:ext cx="609480" cy="355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5334120" y="233676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7391520" y="233676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7391520" y="1168560"/>
            <a:ext cx="609480" cy="355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276720" y="233676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276720" y="1168560"/>
            <a:ext cx="609480" cy="355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886200" y="13716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5943600" y="248904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5943600" y="13716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85800" y="12700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7696080" y="152388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5638680" y="152388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7302600" y="2692440"/>
            <a:ext cx="85068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7696080" y="17272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7772400" y="1727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73915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6781680" y="457200"/>
            <a:ext cx="1828800" cy="30988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098880"/>
              <a:gd name="textAreaBottom" fmla="*/ 3009600 h 3098880"/>
            </a:gdLst>
            <a:ahLst/>
            <a:rect l="textAreaLeft" t="textAreaTop" r="textAreaRight" b="textAreaBottom"/>
            <a:pathLst>
              <a:path w="21600" h="36598">
                <a:moveTo>
                  <a:pt x="3600" y="0"/>
                </a:moveTo>
                <a:arcTo wR="3600" hR="3600" stAng="16200000" swAng="-5400000"/>
                <a:lnTo>
                  <a:pt x="0" y="32998"/>
                </a:lnTo>
                <a:arcTo wR="3600" hR="3600" stAng="10800000" swAng="-5400000"/>
                <a:lnTo>
                  <a:pt x="18000" y="365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934320" y="50796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 flipV="1">
            <a:off x="5867280" y="1473120"/>
            <a:ext cx="16002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6019920" y="24890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411480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3200400" y="812880"/>
            <a:ext cx="85104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200400" y="457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886200" y="259092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419112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886200" y="248904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 flipV="1">
            <a:off x="5257800" y="812880"/>
            <a:ext cx="85104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1219320" y="228600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1219320" y="111744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828800" y="132084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1523880" y="147312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2057400" y="914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1447920" y="1600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V="1">
            <a:off x="1143000" y="761400"/>
            <a:ext cx="851040" cy="3553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1143000" y="380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828800" y="254016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2133720" y="25401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828800" y="243828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2133720" y="2057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581280" y="152388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87800" y="2692440"/>
            <a:ext cx="85068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276720" y="2971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220968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6705720" y="17780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01992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5562720" y="1828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5257800" y="457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556272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2819520" y="1676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809880" y="1473120"/>
            <a:ext cx="16002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4572000" y="1600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33520" y="2082960"/>
            <a:ext cx="3733560" cy="15746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685800" y="33019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ogress-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4343400" y="601992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04920" y="411480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5486400" y="4902120"/>
            <a:ext cx="609480" cy="3556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486400" y="6070680"/>
            <a:ext cx="609480" cy="3556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7543800" y="4902120"/>
            <a:ext cx="609480" cy="3556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429000" y="4902120"/>
            <a:ext cx="609480" cy="3556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4038480" y="5105520"/>
            <a:ext cx="144792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6095880" y="5105520"/>
            <a:ext cx="144792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838080" y="5003640"/>
            <a:ext cx="53352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5791320" y="5257800"/>
            <a:ext cx="0" cy="81288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 flipV="1">
            <a:off x="6019920" y="5207040"/>
            <a:ext cx="1600200" cy="9144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4267080" y="4724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371600" y="4851360"/>
            <a:ext cx="609480" cy="3556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1981080" y="5054760"/>
            <a:ext cx="144792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2209680" y="46483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858000" y="55119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6324480" y="4724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5638680" y="5410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962520" y="5207040"/>
            <a:ext cx="1600200" cy="9144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4724280" y="5334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8153280" y="4800600"/>
            <a:ext cx="355680" cy="558720"/>
          </a:xfrm>
          <a:custGeom>
            <a:avLst/>
            <a:gdLst/>
            <a:ahLst/>
            <a:rect l="l" t="t" r="r" b="b"/>
            <a:pathLst>
              <a:path w="224" h="352">
                <a:moveTo>
                  <a:pt x="0" y="224"/>
                </a:moveTo>
                <a:cubicBezTo>
                  <a:pt x="80" y="288"/>
                  <a:pt x="160" y="352"/>
                  <a:pt x="192" y="320"/>
                </a:cubicBezTo>
                <a:cubicBezTo>
                  <a:pt x="224" y="288"/>
                  <a:pt x="224" y="64"/>
                  <a:pt x="192" y="32"/>
                </a:cubicBezTo>
                <a:cubicBezTo>
                  <a:pt x="160" y="0"/>
                  <a:pt x="80" y="64"/>
                  <a:pt x="0" y="128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8001000" y="5334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7625880" y="487692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/>
          <p:nvPr/>
        </p:nvSpPr>
        <p:spPr>
          <a:xfrm>
            <a:off x="1828800" y="6858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Game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9718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32004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50292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52578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3048120" y="19051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2767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5105520" y="19051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53341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1066680" y="3429000"/>
            <a:ext cx="106704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1295280" y="3505320"/>
            <a:ext cx="83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6934320" y="342900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7162920" y="350532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"/>
          <p:cNvSpPr/>
          <p:nvPr/>
        </p:nvSpPr>
        <p:spPr>
          <a:xfrm>
            <a:off x="29718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32004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50292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52578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3048120" y="19051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2767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5105520" y="19051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53341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066680" y="3429000"/>
            <a:ext cx="106704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1295280" y="3505320"/>
            <a:ext cx="83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934320" y="342900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7162920" y="350532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 flipH="1">
            <a:off x="1980720" y="2666880"/>
            <a:ext cx="1219320" cy="9144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4038480" y="2590920"/>
            <a:ext cx="2895840" cy="11430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 flipH="1">
            <a:off x="2133720" y="2590920"/>
            <a:ext cx="3047760" cy="11430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095880" y="2590920"/>
            <a:ext cx="1067040" cy="9144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1981080" y="4267080"/>
            <a:ext cx="1143000" cy="9907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 flipV="1">
            <a:off x="1905120" y="2590920"/>
            <a:ext cx="1218960" cy="9144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 flipV="1">
            <a:off x="2133720" y="2742840"/>
            <a:ext cx="3124080" cy="11430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 flipH="1" flipV="1">
            <a:off x="3962160" y="2742840"/>
            <a:ext cx="2971800" cy="11430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flipH="1" flipV="1">
            <a:off x="6171840" y="2438280"/>
            <a:ext cx="1143000" cy="9907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 flipH="1">
            <a:off x="5943240" y="4267080"/>
            <a:ext cx="1219320" cy="9907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flipH="1" flipV="1">
            <a:off x="2057040" y="4114440"/>
            <a:ext cx="1219320" cy="106668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 flipV="1">
            <a:off x="5791320" y="4190760"/>
            <a:ext cx="1218960" cy="99036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52280" y="152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green:  turn-1 / </a:t>
            </a:r>
            <a:r>
              <a:rPr b="0" lang="en-US" sz="2400" spc="-1" strike="noStrike">
                <a:solidFill>
                  <a:srgbClr val="009900"/>
                </a:solidFill>
                <a:latin typeface="CommonBullets"/>
                <a:ea typeface="CommonBullets"/>
              </a:rPr>
              <a:t>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"/>
          <p:cNvSpPr/>
          <p:nvPr/>
        </p:nvSpPr>
        <p:spPr>
          <a:xfrm>
            <a:off x="29718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32004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50292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52578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3048120" y="19051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32767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5105520" y="19051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53341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1066680" y="3429000"/>
            <a:ext cx="106704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1295280" y="3505320"/>
            <a:ext cx="83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6934320" y="342900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7162920" y="350532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 flipH="1">
            <a:off x="1980720" y="2666880"/>
            <a:ext cx="121932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4038480" y="2590920"/>
            <a:ext cx="289584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 flipH="1">
            <a:off x="2133720" y="2590920"/>
            <a:ext cx="304776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6095880" y="2590920"/>
            <a:ext cx="106704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1981080" y="4191120"/>
            <a:ext cx="1143000" cy="99036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flipH="1">
            <a:off x="5943240" y="4267080"/>
            <a:ext cx="1219320" cy="99072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152280" y="152280"/>
            <a:ext cx="441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green:  turn-1 / </a:t>
            </a:r>
            <a:r>
              <a:rPr b="0" lang="en-US" sz="2400" spc="-1" strike="noStrike">
                <a:solidFill>
                  <a:srgbClr val="0099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lue:     turn-2-adjacent / </a:t>
            </a:r>
            <a:r>
              <a:rPr b="0" lang="en-US" sz="24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3505320" y="2819520"/>
            <a:ext cx="0" cy="22860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3733920" y="2819520"/>
            <a:ext cx="1523880" cy="23619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4114800" y="2362320"/>
            <a:ext cx="99072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2133720" y="3962520"/>
            <a:ext cx="480060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609480" y="3263760"/>
            <a:ext cx="53352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 flipH="1">
            <a:off x="7924680" y="3276720"/>
            <a:ext cx="533520" cy="104112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666880" y="2286000"/>
            <a:ext cx="4343400" cy="1066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762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Safety Control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14400" y="19810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2819520"/>
            <a:ext cx="83808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010280" y="28195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666880" y="22860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ite-state machine 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666880" y="2819520"/>
            <a:ext cx="43434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666880" y="3733920"/>
            <a:ext cx="4343400" cy="1066680"/>
          </a:xfrm>
          <a:prstGeom prst="rect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828800" y="4267080"/>
            <a:ext cx="838080" cy="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010280" y="426708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66880" y="373392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inite-state machine 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828800" y="2819160"/>
            <a:ext cx="0" cy="144756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848720" y="281916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90720" y="5181480"/>
            <a:ext cx="670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the composite system never enters a state in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rro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312408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lant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924680" y="312408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"/>
          <p:cNvSpPr/>
          <p:nvPr/>
        </p:nvSpPr>
        <p:spPr>
          <a:xfrm>
            <a:off x="29718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32004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50292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52578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3048120" y="19051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32767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5105520" y="19051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53341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1066680" y="3429000"/>
            <a:ext cx="106704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1295280" y="3505320"/>
            <a:ext cx="83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6934320" y="342900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7162920" y="350532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 flipH="1">
            <a:off x="1980720" y="2666880"/>
            <a:ext cx="121932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4038480" y="2590920"/>
            <a:ext cx="289584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 flipH="1">
            <a:off x="2133720" y="2590920"/>
            <a:ext cx="304776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6095880" y="2590920"/>
            <a:ext cx="106704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1981080" y="4191120"/>
            <a:ext cx="1143000" cy="99036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 flipH="1">
            <a:off x="5943240" y="4267080"/>
            <a:ext cx="1219320" cy="99072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52280" y="1522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green:  turn-1 / </a:t>
            </a:r>
            <a:r>
              <a:rPr b="0" lang="en-US" sz="2400" spc="-1" strike="noStrike">
                <a:solidFill>
                  <a:srgbClr val="0099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lue:     turn-2-adjacent / </a:t>
            </a:r>
            <a:r>
              <a:rPr b="0" lang="en-US" sz="24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996600"/>
                </a:solidFill>
                <a:latin typeface="Comic Sans MS"/>
              </a:rPr>
              <a:t>red:      turn-2-diagonal / </a:t>
            </a:r>
            <a:r>
              <a:rPr b="0" lang="en-US" sz="2400" spc="-1" strike="noStrike">
                <a:solidFill>
                  <a:srgbClr val="9966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3505320" y="2819520"/>
            <a:ext cx="0" cy="22860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3733920" y="2819520"/>
            <a:ext cx="1523880" cy="23619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4114800" y="2362320"/>
            <a:ext cx="99072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2133720" y="3886200"/>
            <a:ext cx="480060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609480" y="3263760"/>
            <a:ext cx="53352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H="1">
            <a:off x="7924680" y="3276720"/>
            <a:ext cx="533520" cy="104112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2590920" y="1752480"/>
            <a:ext cx="53316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562720" y="2819520"/>
            <a:ext cx="0" cy="228600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 flipH="1">
            <a:off x="3809520" y="2743200"/>
            <a:ext cx="1600200" cy="243828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2133720" y="4038480"/>
            <a:ext cx="4800600" cy="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495360" y="2959200"/>
            <a:ext cx="799920" cy="171432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flipH="1">
            <a:off x="7771680" y="2971800"/>
            <a:ext cx="800280" cy="171468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"/>
          <p:cNvSpPr/>
          <p:nvPr/>
        </p:nvSpPr>
        <p:spPr>
          <a:xfrm>
            <a:off x="29718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2004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0292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2578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3048120" y="19051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32767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5105520" y="19051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53341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1066680" y="3429000"/>
            <a:ext cx="106704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1295280" y="3505320"/>
            <a:ext cx="83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6934320" y="342900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7162920" y="350532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 flipH="1">
            <a:off x="1980720" y="2666880"/>
            <a:ext cx="121932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4038480" y="2590920"/>
            <a:ext cx="289584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H="1">
            <a:off x="2133720" y="2590920"/>
            <a:ext cx="304776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6095880" y="2590920"/>
            <a:ext cx="106704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1981080" y="4191120"/>
            <a:ext cx="1143000" cy="99036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 flipH="1">
            <a:off x="5943240" y="4267080"/>
            <a:ext cx="1219320" cy="99072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152280" y="1522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green:  turn-1 / </a:t>
            </a:r>
            <a:r>
              <a:rPr b="0" lang="en-US" sz="2400" spc="-1" strike="noStrike">
                <a:solidFill>
                  <a:srgbClr val="0099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lue:     turn-2-adjacent / </a:t>
            </a:r>
            <a:r>
              <a:rPr b="0" lang="en-US" sz="24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996600"/>
                </a:solidFill>
                <a:latin typeface="Comic Sans MS"/>
              </a:rPr>
              <a:t>red:      turn-2-diagonal / </a:t>
            </a:r>
            <a:r>
              <a:rPr b="0" lang="en-US" sz="2400" spc="-1" strike="noStrike">
                <a:solidFill>
                  <a:srgbClr val="9966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3505320" y="2819520"/>
            <a:ext cx="0" cy="22860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3733920" y="2819520"/>
            <a:ext cx="1523880" cy="23619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114800" y="2362320"/>
            <a:ext cx="99072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2133720" y="3886200"/>
            <a:ext cx="480060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609480" y="3263760"/>
            <a:ext cx="53352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 flipH="1">
            <a:off x="7924680" y="3276720"/>
            <a:ext cx="533520" cy="104112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2590920" y="1752480"/>
            <a:ext cx="53316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5562720" y="2819520"/>
            <a:ext cx="0" cy="228600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 flipH="1">
            <a:off x="3809520" y="2743200"/>
            <a:ext cx="1600200" cy="243828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2133720" y="4038480"/>
            <a:ext cx="4800600" cy="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495360" y="2959200"/>
            <a:ext cx="799920" cy="171432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 flipH="1">
            <a:off x="7771680" y="2971800"/>
            <a:ext cx="800280" cy="171468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1600200" y="2971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3581280" y="1447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5638680" y="1447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7467480" y="2971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2286000" y="4800600"/>
            <a:ext cx="4495680" cy="1676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962520" y="5943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"/>
          <p:cNvSpPr/>
          <p:nvPr/>
        </p:nvSpPr>
        <p:spPr>
          <a:xfrm>
            <a:off x="29718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32004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50292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52578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3048120" y="19051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32767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5105520" y="1905120"/>
            <a:ext cx="1066680" cy="914400"/>
          </a:xfrm>
          <a:prstGeom prst="ellipse">
            <a:avLst/>
          </a:prstGeom>
          <a:solidFill>
            <a:srgbClr val="9966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53341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1066680" y="3429000"/>
            <a:ext cx="106704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1295280" y="3505320"/>
            <a:ext cx="83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6934320" y="342900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7162920" y="350532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 flipH="1">
            <a:off x="1980720" y="2666880"/>
            <a:ext cx="121932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4038480" y="2590920"/>
            <a:ext cx="289584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 flipH="1">
            <a:off x="2133720" y="2590920"/>
            <a:ext cx="304776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6095880" y="2590920"/>
            <a:ext cx="106704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1981080" y="4191120"/>
            <a:ext cx="1143000" cy="99036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 flipH="1">
            <a:off x="5943240" y="4267080"/>
            <a:ext cx="1219320" cy="99072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152280" y="1522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green:  turn-1 / </a:t>
            </a:r>
            <a:r>
              <a:rPr b="0" lang="en-US" sz="2400" spc="-1" strike="noStrike">
                <a:solidFill>
                  <a:srgbClr val="0099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lue:     turn-2-adjacent / </a:t>
            </a:r>
            <a:r>
              <a:rPr b="0" lang="en-US" sz="24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996600"/>
                </a:solidFill>
                <a:latin typeface="Comic Sans MS"/>
              </a:rPr>
              <a:t>red:      turn-2-diagonal / </a:t>
            </a:r>
            <a:r>
              <a:rPr b="0" lang="en-US" sz="2400" spc="-1" strike="noStrike">
                <a:solidFill>
                  <a:srgbClr val="9966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3505320" y="2819520"/>
            <a:ext cx="0" cy="22860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3733920" y="2819520"/>
            <a:ext cx="1523880" cy="23619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4114800" y="2362320"/>
            <a:ext cx="99072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2133720" y="3886200"/>
            <a:ext cx="480060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609480" y="3263760"/>
            <a:ext cx="53352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 flipH="1">
            <a:off x="7924680" y="3276720"/>
            <a:ext cx="533520" cy="104112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2590920" y="1752480"/>
            <a:ext cx="53316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562720" y="2819520"/>
            <a:ext cx="0" cy="228600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 flipH="1">
            <a:off x="3809520" y="2743200"/>
            <a:ext cx="1600200" cy="243828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133720" y="4038480"/>
            <a:ext cx="4800600" cy="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495360" y="2959200"/>
            <a:ext cx="799920" cy="171432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 flipH="1">
            <a:off x="7771680" y="2971800"/>
            <a:ext cx="800280" cy="171468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1600200" y="2971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3581280" y="1447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5638680" y="1447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7467480" y="2971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2286000" y="4800600"/>
            <a:ext cx="4495680" cy="1676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3962520" y="5943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4876920" y="1676520"/>
            <a:ext cx="1523880" cy="1371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5715000" y="6858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rogress-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 flipH="1">
            <a:off x="6019920" y="1143000"/>
            <a:ext cx="304560" cy="609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"/>
          <p:cNvSpPr/>
          <p:nvPr/>
        </p:nvSpPr>
        <p:spPr>
          <a:xfrm>
            <a:off x="29718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32004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50292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52578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3048120" y="1905120"/>
            <a:ext cx="1066680" cy="9144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32767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5105520" y="1905120"/>
            <a:ext cx="1066680" cy="914400"/>
          </a:xfrm>
          <a:prstGeom prst="ellipse">
            <a:avLst/>
          </a:prstGeom>
          <a:solidFill>
            <a:srgbClr val="9966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53341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1066680" y="3429000"/>
            <a:ext cx="106704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1295280" y="3505320"/>
            <a:ext cx="83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6934320" y="342900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7162920" y="350532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 flipH="1">
            <a:off x="1980720" y="2666880"/>
            <a:ext cx="121932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4038480" y="2590920"/>
            <a:ext cx="289584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 flipH="1">
            <a:off x="2133720" y="2590920"/>
            <a:ext cx="304776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6095880" y="2590920"/>
            <a:ext cx="106704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1981080" y="4191120"/>
            <a:ext cx="1143000" cy="99036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 flipH="1">
            <a:off x="5943240" y="4267080"/>
            <a:ext cx="1219320" cy="99072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152280" y="1522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green:  turn-1 / </a:t>
            </a:r>
            <a:r>
              <a:rPr b="0" lang="en-US" sz="2400" spc="-1" strike="noStrike">
                <a:solidFill>
                  <a:srgbClr val="0099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lue:     turn-2-adjacent / </a:t>
            </a:r>
            <a:r>
              <a:rPr b="0" lang="en-US" sz="24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996600"/>
                </a:solidFill>
                <a:latin typeface="Comic Sans MS"/>
              </a:rPr>
              <a:t>red:      turn-2-diagonal / </a:t>
            </a:r>
            <a:r>
              <a:rPr b="0" lang="en-US" sz="2400" spc="-1" strike="noStrike">
                <a:solidFill>
                  <a:srgbClr val="9966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3505320" y="2819520"/>
            <a:ext cx="0" cy="22860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3733920" y="2819520"/>
            <a:ext cx="1523880" cy="23619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4114800" y="2362320"/>
            <a:ext cx="99072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2133720" y="3886200"/>
            <a:ext cx="480060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609480" y="3263760"/>
            <a:ext cx="53352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 flipH="1">
            <a:off x="7924680" y="3276720"/>
            <a:ext cx="533520" cy="104112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2590920" y="1752480"/>
            <a:ext cx="53316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5562720" y="2819520"/>
            <a:ext cx="0" cy="228600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 flipH="1">
            <a:off x="3809520" y="2743200"/>
            <a:ext cx="1600200" cy="243828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2133720" y="4038480"/>
            <a:ext cx="4800600" cy="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495360" y="2959200"/>
            <a:ext cx="799920" cy="171432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 flipH="1">
            <a:off x="7771680" y="2971800"/>
            <a:ext cx="800280" cy="171468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1600200" y="2971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3581280" y="1447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5638680" y="1447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7467480" y="2971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2286000" y="4800600"/>
            <a:ext cx="4495680" cy="1676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3962520" y="5943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2819520" y="1676520"/>
            <a:ext cx="1523880" cy="1371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5715000" y="6858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rogress-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 flipH="1">
            <a:off x="4267080" y="1066680"/>
            <a:ext cx="1447920" cy="914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"/>
          <p:cNvSpPr/>
          <p:nvPr/>
        </p:nvSpPr>
        <p:spPr>
          <a:xfrm>
            <a:off x="29718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32004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50292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52578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3048120" y="1905120"/>
            <a:ext cx="1066680" cy="9144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32767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5105520" y="1905120"/>
            <a:ext cx="1066680" cy="914400"/>
          </a:xfrm>
          <a:prstGeom prst="ellipse">
            <a:avLst/>
          </a:prstGeom>
          <a:solidFill>
            <a:srgbClr val="9966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53341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1066680" y="3429000"/>
            <a:ext cx="1067040" cy="914400"/>
          </a:xfrm>
          <a:prstGeom prst="ellipse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1295280" y="3505320"/>
            <a:ext cx="83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6934320" y="342900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7162920" y="350532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H="1">
            <a:off x="1980720" y="2666880"/>
            <a:ext cx="121932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4038480" y="2590920"/>
            <a:ext cx="289584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 flipH="1">
            <a:off x="2133720" y="2590920"/>
            <a:ext cx="304776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6095880" y="2590920"/>
            <a:ext cx="106704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1981080" y="4191120"/>
            <a:ext cx="1143000" cy="99036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 flipH="1">
            <a:off x="5943240" y="4267080"/>
            <a:ext cx="1219320" cy="99072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152280" y="1522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green:  turn-1 / </a:t>
            </a:r>
            <a:r>
              <a:rPr b="0" lang="en-US" sz="2400" spc="-1" strike="noStrike">
                <a:solidFill>
                  <a:srgbClr val="0099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lue:     turn-2-adjacent / </a:t>
            </a:r>
            <a:r>
              <a:rPr b="0" lang="en-US" sz="24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996600"/>
                </a:solidFill>
                <a:latin typeface="Comic Sans MS"/>
              </a:rPr>
              <a:t>red:      turn-2-diagonal / </a:t>
            </a:r>
            <a:r>
              <a:rPr b="0" lang="en-US" sz="2400" spc="-1" strike="noStrike">
                <a:solidFill>
                  <a:srgbClr val="9966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3505320" y="2819520"/>
            <a:ext cx="0" cy="22860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3733920" y="2819520"/>
            <a:ext cx="1523880" cy="23619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4114800" y="2362320"/>
            <a:ext cx="99072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2133720" y="3886200"/>
            <a:ext cx="480060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609480" y="3263760"/>
            <a:ext cx="53352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 flipH="1">
            <a:off x="7924680" y="3276720"/>
            <a:ext cx="533520" cy="104112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2590920" y="1752480"/>
            <a:ext cx="53316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5562720" y="2819520"/>
            <a:ext cx="0" cy="228600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 flipH="1">
            <a:off x="3809520" y="2743200"/>
            <a:ext cx="1600200" cy="243828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2133720" y="4038480"/>
            <a:ext cx="4800600" cy="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495360" y="2959200"/>
            <a:ext cx="799920" cy="171432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 flipH="1">
            <a:off x="7771680" y="2971800"/>
            <a:ext cx="800280" cy="171468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1600200" y="2971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3581280" y="1447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5638680" y="1447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7467480" y="2971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2286000" y="4800600"/>
            <a:ext cx="4495680" cy="1676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3962520" y="5943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838080" y="3200400"/>
            <a:ext cx="1524240" cy="1371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5715000" y="6858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rogress-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 flipH="1">
            <a:off x="2285640" y="1066680"/>
            <a:ext cx="3429000" cy="2438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"/>
          <p:cNvSpPr/>
          <p:nvPr/>
        </p:nvSpPr>
        <p:spPr>
          <a:xfrm>
            <a:off x="29718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32004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50292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52578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3048120" y="1905120"/>
            <a:ext cx="1066680" cy="9144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32767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5105520" y="1905120"/>
            <a:ext cx="1066680" cy="914400"/>
          </a:xfrm>
          <a:prstGeom prst="ellipse">
            <a:avLst/>
          </a:prstGeom>
          <a:solidFill>
            <a:srgbClr val="9966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53341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1066680" y="3429000"/>
            <a:ext cx="1067040" cy="914400"/>
          </a:xfrm>
          <a:prstGeom prst="ellipse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1295280" y="3505320"/>
            <a:ext cx="83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6934320" y="3429000"/>
            <a:ext cx="1066680" cy="914400"/>
          </a:xfrm>
          <a:prstGeom prst="ellipse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7162920" y="350532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 flipH="1">
            <a:off x="1980720" y="2666880"/>
            <a:ext cx="121932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4038480" y="2590920"/>
            <a:ext cx="289584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 flipH="1">
            <a:off x="2133720" y="2590920"/>
            <a:ext cx="304776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6095880" y="2590920"/>
            <a:ext cx="106704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1981080" y="4191120"/>
            <a:ext cx="1143000" cy="99036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 flipH="1">
            <a:off x="5943240" y="4267080"/>
            <a:ext cx="1219320" cy="99072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152280" y="1522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green:  turn-1 / </a:t>
            </a:r>
            <a:r>
              <a:rPr b="0" lang="en-US" sz="2400" spc="-1" strike="noStrike">
                <a:solidFill>
                  <a:srgbClr val="0099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lue:     turn-2-adjacent / </a:t>
            </a:r>
            <a:r>
              <a:rPr b="0" lang="en-US" sz="24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996600"/>
                </a:solidFill>
                <a:latin typeface="Comic Sans MS"/>
              </a:rPr>
              <a:t>red:      turn-2-diagonal / </a:t>
            </a:r>
            <a:r>
              <a:rPr b="0" lang="en-US" sz="2400" spc="-1" strike="noStrike">
                <a:solidFill>
                  <a:srgbClr val="9966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3505320" y="2819520"/>
            <a:ext cx="0" cy="22860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3733920" y="2819520"/>
            <a:ext cx="1523880" cy="23619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4114800" y="2362320"/>
            <a:ext cx="99072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2133720" y="3886200"/>
            <a:ext cx="480060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609480" y="3263760"/>
            <a:ext cx="53352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 flipH="1">
            <a:off x="7924680" y="3276720"/>
            <a:ext cx="533520" cy="104112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2590920" y="1752480"/>
            <a:ext cx="53316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5562720" y="2819520"/>
            <a:ext cx="0" cy="228600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 flipH="1">
            <a:off x="3809520" y="2743200"/>
            <a:ext cx="1600200" cy="243828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2133720" y="4038480"/>
            <a:ext cx="4800600" cy="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495360" y="2959200"/>
            <a:ext cx="799920" cy="171432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 flipH="1">
            <a:off x="7771680" y="2971800"/>
            <a:ext cx="800280" cy="171468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1600200" y="2971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3581280" y="1447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5638680" y="1447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7467480" y="2971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2286000" y="4800600"/>
            <a:ext cx="4495680" cy="1676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3962520" y="5943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6705720" y="3200400"/>
            <a:ext cx="1523880" cy="1371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5715000" y="6858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rogress-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6705720" y="1143000"/>
            <a:ext cx="533160" cy="2057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"/>
          <p:cNvSpPr/>
          <p:nvPr/>
        </p:nvSpPr>
        <p:spPr>
          <a:xfrm>
            <a:off x="29718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32004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50292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52578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3048120" y="1905120"/>
            <a:ext cx="1066680" cy="9144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32767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5105520" y="1905120"/>
            <a:ext cx="1066680" cy="914400"/>
          </a:xfrm>
          <a:prstGeom prst="ellipse">
            <a:avLst/>
          </a:prstGeom>
          <a:solidFill>
            <a:srgbClr val="9966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53341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1066680" y="3429000"/>
            <a:ext cx="1067040" cy="914400"/>
          </a:xfrm>
          <a:prstGeom prst="ellipse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1295280" y="3505320"/>
            <a:ext cx="83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6934320" y="3429000"/>
            <a:ext cx="1066680" cy="914400"/>
          </a:xfrm>
          <a:prstGeom prst="ellipse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7162920" y="350532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 flipH="1">
            <a:off x="1980720" y="2666880"/>
            <a:ext cx="121932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4038480" y="2590920"/>
            <a:ext cx="289584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 flipH="1">
            <a:off x="2133720" y="2590920"/>
            <a:ext cx="304776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6095880" y="2590920"/>
            <a:ext cx="106704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1981080" y="4191120"/>
            <a:ext cx="1143000" cy="99036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 flipH="1">
            <a:off x="5943240" y="4267080"/>
            <a:ext cx="1219320" cy="99072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152280" y="1522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green:  turn-1 / </a:t>
            </a:r>
            <a:r>
              <a:rPr b="0" lang="en-US" sz="2400" spc="-1" strike="noStrike">
                <a:solidFill>
                  <a:srgbClr val="0099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lue:     turn-2-adjacent / </a:t>
            </a:r>
            <a:r>
              <a:rPr b="0" lang="en-US" sz="24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996600"/>
                </a:solidFill>
                <a:latin typeface="Comic Sans MS"/>
              </a:rPr>
              <a:t>red:      turn-2-diagonal / </a:t>
            </a:r>
            <a:r>
              <a:rPr b="0" lang="en-US" sz="2400" spc="-1" strike="noStrike">
                <a:solidFill>
                  <a:srgbClr val="9966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3505320" y="2819520"/>
            <a:ext cx="0" cy="22860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3733920" y="2819520"/>
            <a:ext cx="1523880" cy="23619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4114800" y="2362320"/>
            <a:ext cx="99072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2133720" y="3886200"/>
            <a:ext cx="480060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609480" y="3263760"/>
            <a:ext cx="53352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 flipH="1">
            <a:off x="7924680" y="3276720"/>
            <a:ext cx="533520" cy="104112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2590920" y="1752480"/>
            <a:ext cx="53316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5562720" y="2819520"/>
            <a:ext cx="0" cy="228600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 flipH="1">
            <a:off x="3809520" y="2743200"/>
            <a:ext cx="1600200" cy="243828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2133720" y="4038480"/>
            <a:ext cx="4800600" cy="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495360" y="2959200"/>
            <a:ext cx="799920" cy="171432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 flipH="1">
            <a:off x="7771680" y="2971800"/>
            <a:ext cx="800280" cy="171468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1600200" y="2971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3581280" y="1447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5638680" y="1447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7467480" y="2971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2286000" y="4800600"/>
            <a:ext cx="4495680" cy="1676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3962520" y="5943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5638680" y="38088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ll states are progress-controll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"/>
          <p:cNvSpPr/>
          <p:nvPr/>
        </p:nvSpPr>
        <p:spPr>
          <a:xfrm>
            <a:off x="29718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32004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50292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52578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3048120" y="1905120"/>
            <a:ext cx="1066680" cy="9144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32767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5105520" y="1905120"/>
            <a:ext cx="1066680" cy="914400"/>
          </a:xfrm>
          <a:prstGeom prst="ellipse">
            <a:avLst/>
          </a:prstGeom>
          <a:solidFill>
            <a:srgbClr val="9966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53341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066680" y="3429000"/>
            <a:ext cx="1067040" cy="914400"/>
          </a:xfrm>
          <a:prstGeom prst="ellipse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1295280" y="3505320"/>
            <a:ext cx="83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6934320" y="3429000"/>
            <a:ext cx="1066680" cy="914400"/>
          </a:xfrm>
          <a:prstGeom prst="ellipse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7162920" y="350532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 flipH="1">
            <a:off x="1980720" y="2666880"/>
            <a:ext cx="121932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4038480" y="2590920"/>
            <a:ext cx="289584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 flipH="1">
            <a:off x="2133720" y="2590920"/>
            <a:ext cx="304776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6095880" y="2590920"/>
            <a:ext cx="106704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1981080" y="4191120"/>
            <a:ext cx="1143000" cy="99036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 flipH="1">
            <a:off x="5943240" y="4267080"/>
            <a:ext cx="1219320" cy="99072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152280" y="1522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green:  turn-1 / </a:t>
            </a:r>
            <a:r>
              <a:rPr b="0" lang="en-US" sz="2400" spc="-1" strike="noStrike">
                <a:solidFill>
                  <a:srgbClr val="0099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lue:     turn-2-adjacent / </a:t>
            </a:r>
            <a:r>
              <a:rPr b="0" lang="en-US" sz="24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996600"/>
                </a:solidFill>
                <a:latin typeface="Comic Sans MS"/>
              </a:rPr>
              <a:t>red:      turn-2-diagonal / </a:t>
            </a:r>
            <a:r>
              <a:rPr b="0" lang="en-US" sz="2400" spc="-1" strike="noStrike">
                <a:solidFill>
                  <a:srgbClr val="9966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3505320" y="2819520"/>
            <a:ext cx="0" cy="22860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3733920" y="2819520"/>
            <a:ext cx="1523880" cy="23619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4114800" y="2362320"/>
            <a:ext cx="99072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2133720" y="3886200"/>
            <a:ext cx="480060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609480" y="3263760"/>
            <a:ext cx="53352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 flipH="1">
            <a:off x="7924680" y="3276720"/>
            <a:ext cx="533520" cy="104112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2590920" y="1752480"/>
            <a:ext cx="53316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5562720" y="2819520"/>
            <a:ext cx="0" cy="228600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 flipH="1">
            <a:off x="3809520" y="2743200"/>
            <a:ext cx="1600200" cy="243828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2133720" y="4038480"/>
            <a:ext cx="4800600" cy="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495360" y="2959200"/>
            <a:ext cx="799920" cy="171432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 flipH="1">
            <a:off x="7771680" y="2971800"/>
            <a:ext cx="800280" cy="171468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1600200" y="2971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3581280" y="1447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5638680" y="1447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7467480" y="2971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2514600" y="4800600"/>
            <a:ext cx="3962520" cy="1676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3962520" y="5943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5638680" y="38088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ll states are progress-controll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57200" y="571500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inputs are saf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781680" y="57150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subsets are consist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4038480" y="1676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1371600" y="4343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2819520" y="5791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7315200" y="4343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5867280" y="5867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6172200" y="1752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"/>
          <p:cNvSpPr/>
          <p:nvPr/>
        </p:nvSpPr>
        <p:spPr>
          <a:xfrm>
            <a:off x="152280" y="152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3429000" y="762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q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4114800" y="3808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"/>
          <p:cNvSpPr/>
          <p:nvPr/>
        </p:nvSpPr>
        <p:spPr>
          <a:xfrm>
            <a:off x="152280" y="152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3429000" y="762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q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4114800" y="3808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3429000" y="16765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4114800" y="12952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2819520" y="685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 flipH="1">
            <a:off x="4876920" y="685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066680" y="13716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trol is a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Gam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Plant vs. 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14400" y="2438280"/>
            <a:ext cx="75438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round consists of two moves: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rst Controller chooses plant input,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n Plant chooses plant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able plant state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controller has a strategy to meet the objective (avoid error st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 plant stat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plant has a strategy to violate the objective (reach an error sta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"/>
          <p:cNvSpPr/>
          <p:nvPr/>
        </p:nvSpPr>
        <p:spPr>
          <a:xfrm>
            <a:off x="152280" y="152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3429000" y="762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q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4114800" y="3808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3429000" y="16765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4038480" y="12952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3429000" y="25909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4114800" y="2209680"/>
            <a:ext cx="0" cy="3812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2819520" y="685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2819520" y="16002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 flipV="1">
            <a:off x="4191120" y="1294920"/>
            <a:ext cx="0" cy="3812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 flipH="1">
            <a:off x="4876920" y="685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"/>
          <p:cNvSpPr/>
          <p:nvPr/>
        </p:nvSpPr>
        <p:spPr>
          <a:xfrm>
            <a:off x="152280" y="152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3429000" y="762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q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4114800" y="3808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3429000" y="16765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4038480" y="12952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3429000" y="25909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4114800" y="2209680"/>
            <a:ext cx="0" cy="38124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3429000" y="35053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4114800" y="31240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2819520" y="685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2819520" y="16002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4648320" y="1219320"/>
            <a:ext cx="469800" cy="1447560"/>
          </a:xfrm>
          <a:custGeom>
            <a:avLst/>
            <a:gdLst/>
            <a:ahLst/>
            <a:rect l="l" t="t" r="r" b="b"/>
            <a:pathLst>
              <a:path w="296" h="912">
                <a:moveTo>
                  <a:pt x="48" y="912"/>
                </a:moveTo>
                <a:cubicBezTo>
                  <a:pt x="172" y="748"/>
                  <a:pt x="296" y="584"/>
                  <a:pt x="288" y="432"/>
                </a:cubicBezTo>
                <a:cubicBezTo>
                  <a:pt x="280" y="280"/>
                  <a:pt x="140" y="140"/>
                  <a:pt x="0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 flipV="1">
            <a:off x="4191120" y="1294920"/>
            <a:ext cx="0" cy="3812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 flipH="1">
            <a:off x="4876920" y="685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"/>
          <p:cNvSpPr/>
          <p:nvPr/>
        </p:nvSpPr>
        <p:spPr>
          <a:xfrm>
            <a:off x="152280" y="152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3429000" y="762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q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4114800" y="3808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3429000" y="16765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4038480" y="12952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3429000" y="25909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4114800" y="2209680"/>
            <a:ext cx="0" cy="38124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3429000" y="35053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4114800" y="31240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3429000" y="44197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4114800" y="4038480"/>
            <a:ext cx="0" cy="3812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2819520" y="34290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2819520" y="685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2819520" y="16002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 flipH="1">
            <a:off x="4876920" y="34290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4648320" y="1219320"/>
            <a:ext cx="469800" cy="1447560"/>
          </a:xfrm>
          <a:custGeom>
            <a:avLst/>
            <a:gdLst/>
            <a:ahLst/>
            <a:rect l="l" t="t" r="r" b="b"/>
            <a:pathLst>
              <a:path w="296" h="912">
                <a:moveTo>
                  <a:pt x="48" y="912"/>
                </a:moveTo>
                <a:cubicBezTo>
                  <a:pt x="172" y="748"/>
                  <a:pt x="296" y="584"/>
                  <a:pt x="288" y="432"/>
                </a:cubicBezTo>
                <a:cubicBezTo>
                  <a:pt x="280" y="280"/>
                  <a:pt x="140" y="140"/>
                  <a:pt x="0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 flipV="1">
            <a:off x="4191120" y="1294920"/>
            <a:ext cx="0" cy="3812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 flipH="1">
            <a:off x="4876920" y="685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"/>
          <p:cNvSpPr/>
          <p:nvPr/>
        </p:nvSpPr>
        <p:spPr>
          <a:xfrm>
            <a:off x="152280" y="152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3429000" y="762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q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4114800" y="3808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3429000" y="16765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4038480" y="12952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3429000" y="25909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4114800" y="2209680"/>
            <a:ext cx="0" cy="38124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3429000" y="35053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4114800" y="31240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3429000" y="44197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4114800" y="4038480"/>
            <a:ext cx="0" cy="38124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3429000" y="5334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4114800" y="49528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2882880" y="4368960"/>
            <a:ext cx="622440" cy="57132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2819520" y="34290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2819520" y="685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2819520" y="16002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 flipH="1">
            <a:off x="4876920" y="34290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4648320" y="1219320"/>
            <a:ext cx="469800" cy="1447560"/>
          </a:xfrm>
          <a:custGeom>
            <a:avLst/>
            <a:gdLst/>
            <a:ahLst/>
            <a:rect l="l" t="t" r="r" b="b"/>
            <a:pathLst>
              <a:path w="296" h="912">
                <a:moveTo>
                  <a:pt x="48" y="912"/>
                </a:moveTo>
                <a:cubicBezTo>
                  <a:pt x="172" y="748"/>
                  <a:pt x="296" y="584"/>
                  <a:pt x="288" y="432"/>
                </a:cubicBezTo>
                <a:cubicBezTo>
                  <a:pt x="280" y="280"/>
                  <a:pt x="140" y="140"/>
                  <a:pt x="0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 flipV="1">
            <a:off x="4191120" y="1294920"/>
            <a:ext cx="0" cy="3812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 flipH="1">
            <a:off x="4876920" y="685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"/>
          <p:cNvSpPr/>
          <p:nvPr/>
        </p:nvSpPr>
        <p:spPr>
          <a:xfrm>
            <a:off x="152280" y="152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3429000" y="762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q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4114800" y="3808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3429000" y="16765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4038480" y="12952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3429000" y="25909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4114800" y="2209680"/>
            <a:ext cx="0" cy="38124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3429000" y="35053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4114800" y="31240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3429000" y="44197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4114800" y="4038480"/>
            <a:ext cx="0" cy="38124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3429000" y="5334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4114800" y="49528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5334120" y="5334120"/>
            <a:ext cx="14475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4876920" y="5562720"/>
            <a:ext cx="4572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2882880" y="4368960"/>
            <a:ext cx="622440" cy="57132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4648320" y="3962520"/>
            <a:ext cx="469800" cy="1447560"/>
          </a:xfrm>
          <a:custGeom>
            <a:avLst/>
            <a:gdLst/>
            <a:ahLst/>
            <a:rect l="l" t="t" r="r" b="b"/>
            <a:pathLst>
              <a:path w="296" h="912">
                <a:moveTo>
                  <a:pt x="48" y="912"/>
                </a:moveTo>
                <a:cubicBezTo>
                  <a:pt x="172" y="748"/>
                  <a:pt x="296" y="584"/>
                  <a:pt x="288" y="432"/>
                </a:cubicBezTo>
                <a:cubicBezTo>
                  <a:pt x="280" y="280"/>
                  <a:pt x="140" y="140"/>
                  <a:pt x="0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2819520" y="5257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2819520" y="34290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2819520" y="685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2819520" y="16002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 flipH="1">
            <a:off x="4876920" y="34290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4648320" y="1219320"/>
            <a:ext cx="469800" cy="1447560"/>
          </a:xfrm>
          <a:custGeom>
            <a:avLst/>
            <a:gdLst/>
            <a:ahLst/>
            <a:rect l="l" t="t" r="r" b="b"/>
            <a:pathLst>
              <a:path w="296" h="912">
                <a:moveTo>
                  <a:pt x="48" y="912"/>
                </a:moveTo>
                <a:cubicBezTo>
                  <a:pt x="172" y="748"/>
                  <a:pt x="296" y="584"/>
                  <a:pt x="288" y="432"/>
                </a:cubicBezTo>
                <a:cubicBezTo>
                  <a:pt x="280" y="280"/>
                  <a:pt x="140" y="140"/>
                  <a:pt x="0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 flipV="1">
            <a:off x="4191120" y="1294920"/>
            <a:ext cx="0" cy="3812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 flipH="1">
            <a:off x="4876920" y="685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"/>
          <p:cNvSpPr/>
          <p:nvPr/>
        </p:nvSpPr>
        <p:spPr>
          <a:xfrm>
            <a:off x="152280" y="152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3429000" y="762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q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4114800" y="3808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3429000" y="16765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4038480" y="12952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3429000" y="25909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4114800" y="2209680"/>
            <a:ext cx="0" cy="38124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3429000" y="35053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4114800" y="31240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3429000" y="44197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4114800" y="4038480"/>
            <a:ext cx="0" cy="38124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3429000" y="5334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4114800" y="49528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5334120" y="5334120"/>
            <a:ext cx="14475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4876920" y="5562720"/>
            <a:ext cx="45720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7238880" y="5334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6781680" y="5562720"/>
            <a:ext cx="457200" cy="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 flipH="1" flipV="1">
            <a:off x="4800600" y="3886200"/>
            <a:ext cx="990720" cy="14479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2882880" y="4368960"/>
            <a:ext cx="622440" cy="57132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4648320" y="3962520"/>
            <a:ext cx="469800" cy="1447560"/>
          </a:xfrm>
          <a:custGeom>
            <a:avLst/>
            <a:gdLst/>
            <a:ahLst/>
            <a:rect l="l" t="t" r="r" b="b"/>
            <a:pathLst>
              <a:path w="296" h="912">
                <a:moveTo>
                  <a:pt x="48" y="912"/>
                </a:moveTo>
                <a:cubicBezTo>
                  <a:pt x="172" y="748"/>
                  <a:pt x="296" y="584"/>
                  <a:pt x="288" y="432"/>
                </a:cubicBezTo>
                <a:cubicBezTo>
                  <a:pt x="280" y="280"/>
                  <a:pt x="140" y="140"/>
                  <a:pt x="0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2819520" y="5257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2819520" y="34290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2819520" y="685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2819520" y="16002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 flipH="1">
            <a:off x="4876920" y="34290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4648320" y="1219320"/>
            <a:ext cx="469800" cy="1447560"/>
          </a:xfrm>
          <a:custGeom>
            <a:avLst/>
            <a:gdLst/>
            <a:ahLst/>
            <a:rect l="l" t="t" r="r" b="b"/>
            <a:pathLst>
              <a:path w="296" h="912">
                <a:moveTo>
                  <a:pt x="48" y="912"/>
                </a:moveTo>
                <a:cubicBezTo>
                  <a:pt x="172" y="748"/>
                  <a:pt x="296" y="584"/>
                  <a:pt x="288" y="432"/>
                </a:cubicBezTo>
                <a:cubicBezTo>
                  <a:pt x="280" y="280"/>
                  <a:pt x="140" y="140"/>
                  <a:pt x="0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 flipV="1">
            <a:off x="4191120" y="1294920"/>
            <a:ext cx="0" cy="3812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 flipH="1">
            <a:off x="4876920" y="685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"/>
          <p:cNvSpPr/>
          <p:nvPr/>
        </p:nvSpPr>
        <p:spPr>
          <a:xfrm>
            <a:off x="152280" y="152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3429000" y="762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q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4114800" y="3808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3429000" y="16765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4114800" y="12952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3429000" y="25909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4114800" y="2209680"/>
            <a:ext cx="0" cy="3812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3429000" y="35053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4114800" y="31240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3429000" y="44197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4114800" y="4038480"/>
            <a:ext cx="0" cy="3812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3429000" y="5334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4114800" y="49528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5334120" y="5334120"/>
            <a:ext cx="14475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4876920" y="5562720"/>
            <a:ext cx="4572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7238880" y="5334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6781680" y="5562720"/>
            <a:ext cx="457200" cy="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4100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100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4674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4674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3526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3526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371600" y="31240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625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199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199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38080" y="33526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7724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150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6576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1981080" y="2666880"/>
            <a:ext cx="144792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1981080" y="3428640"/>
            <a:ext cx="1447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3785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772400" y="3124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487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4674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0" y="1219320"/>
            <a:ext cx="1828800" cy="464796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7960"/>
              <a:gd name="textAreaBottom" fmla="*/ 4558680 h 4647960"/>
            </a:gdLst>
            <a:ahLst/>
            <a:rect l="textAreaLeft" t="textAreaTop" r="textAreaRight" b="textAreaBottom"/>
            <a:pathLst>
              <a:path w="21600" h="54891">
                <a:moveTo>
                  <a:pt x="3600" y="0"/>
                </a:moveTo>
                <a:arcTo wR="3600" hR="3600" stAng="16200000" swAng="-5400000"/>
                <a:lnTo>
                  <a:pt x="0" y="51291"/>
                </a:lnTo>
                <a:arcTo wR="3600" hR="3600" stAng="10800000" swAng="-5400000"/>
                <a:lnTo>
                  <a:pt x="18000" y="548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01028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59436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43600" y="3124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58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199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9528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2133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812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32767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767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438280" y="3352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1295280" y="2590200"/>
            <a:ext cx="85104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05120" y="3581280"/>
            <a:ext cx="1447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81080" y="38862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95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0" y="2514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380880"/>
            <a:ext cx="3962520" cy="5715000"/>
          </a:xfrm>
          <a:custGeom>
            <a:avLst/>
            <a:gdLst>
              <a:gd name="textAreaLeft" fmla="*/ 193320 w 3962520"/>
              <a:gd name="textAreaRight" fmla="*/ 3769200 w 3962520"/>
              <a:gd name="textAreaTop" fmla="*/ 193320 h 5715000"/>
              <a:gd name="textAreaBottom" fmla="*/ 5521680 h 5715000"/>
            </a:gdLst>
            <a:ahLst/>
            <a:rect l="textAreaLeft" t="textAreaTop" r="textAreaRight" b="textAreaBottom"/>
            <a:pathLst>
              <a:path w="21600" h="31152">
                <a:moveTo>
                  <a:pt x="3600" y="0"/>
                </a:moveTo>
                <a:arcTo wR="3600" hR="3600" stAng="16200000" swAng="-5400000"/>
                <a:lnTo>
                  <a:pt x="0" y="27552"/>
                </a:lnTo>
                <a:arcTo wR="3600" hR="3600" stAng="10800000" swAng="-5400000"/>
                <a:lnTo>
                  <a:pt x="18000" y="311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62720" y="5335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1905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1066680"/>
            <a:ext cx="3657600" cy="4648320"/>
          </a:xfrm>
          <a:custGeom>
            <a:avLst/>
            <a:gdLst>
              <a:gd name="textAreaLeft" fmla="*/ 178560 w 3657600"/>
              <a:gd name="textAreaRight" fmla="*/ 3479040 w 3657600"/>
              <a:gd name="textAreaTop" fmla="*/ 178560 h 4648320"/>
              <a:gd name="textAreaBottom" fmla="*/ 4469760 h 4648320"/>
            </a:gdLst>
            <a:ahLst/>
            <a:rect l="textAreaLeft" t="textAreaTop" r="textAreaRight" b="textAreaBottom"/>
            <a:pathLst>
              <a:path w="21600" h="27450">
                <a:moveTo>
                  <a:pt x="3600" y="0"/>
                </a:moveTo>
                <a:arcTo wR="3600" hR="3600" stAng="16200000" swAng="-5400000"/>
                <a:lnTo>
                  <a:pt x="0" y="23850"/>
                </a:lnTo>
                <a:arcTo wR="3600" hR="3600" stAng="10800000" swAng="-5400000"/>
                <a:lnTo>
                  <a:pt x="18000" y="274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51055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962520" y="44197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4419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625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3809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34120" y="457200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5105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447920" y="1752480"/>
            <a:ext cx="6553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er objective = SAFETY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y away from the states in the set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76520" y="3581280"/>
            <a:ext cx="6095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lant objective = PROGRES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t to a state in the set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990720" y="1981080"/>
            <a:ext cx="70102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dual control probl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troller attempts to lead the plant into a specified set of states (the “target” st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295280" y="144792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fety Control  vs.  Progress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66680" y="2743200"/>
            <a:ext cx="73915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roles of Plant and Controller are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t the progress-controllable states are not the safety-uncontrollable, because the game is not symmetric (the controller always moves firs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ill, the solutions are very simila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54100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4100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4674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1240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625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199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199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962520" y="44197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38080" y="33526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7724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6576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1981080" y="2666880"/>
            <a:ext cx="144792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1981080" y="3428640"/>
            <a:ext cx="1447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3785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772400" y="3124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8487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4674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0" y="1219320"/>
            <a:ext cx="1828800" cy="464796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7960"/>
              <a:gd name="textAreaBottom" fmla="*/ 4558680 h 4647960"/>
            </a:gdLst>
            <a:ahLst/>
            <a:rect l="textAreaLeft" t="textAreaTop" r="textAreaRight" b="textAreaBottom"/>
            <a:pathLst>
              <a:path w="21600" h="54891">
                <a:moveTo>
                  <a:pt x="3600" y="0"/>
                </a:moveTo>
                <a:arcTo wR="3600" hR="3600" stAng="16200000" swAng="-5400000"/>
                <a:lnTo>
                  <a:pt x="0" y="51291"/>
                </a:lnTo>
                <a:arcTo wR="3600" hR="3600" stAng="10800000" swAng="-5400000"/>
                <a:lnTo>
                  <a:pt x="18000" y="548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10280" y="129528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rror = 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59436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43600" y="3124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58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199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9528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267080" y="2133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812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32767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2767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267080" y="4419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438280" y="3352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1295280" y="2590200"/>
            <a:ext cx="85104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581280"/>
            <a:ext cx="1447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81080" y="38862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95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0" y="2514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029200" y="380880"/>
            <a:ext cx="3962520" cy="5715000"/>
          </a:xfrm>
          <a:custGeom>
            <a:avLst/>
            <a:gdLst>
              <a:gd name="textAreaLeft" fmla="*/ 193320 w 3962520"/>
              <a:gd name="textAreaRight" fmla="*/ 3769200 w 3962520"/>
              <a:gd name="textAreaTop" fmla="*/ 193320 h 5715000"/>
              <a:gd name="textAreaBottom" fmla="*/ 5521680 h 5715000"/>
            </a:gdLst>
            <a:ahLst/>
            <a:rect l="textAreaLeft" t="textAreaTop" r="textAreaRight" b="textAreaBottom"/>
            <a:pathLst>
              <a:path w="21600" h="31152">
                <a:moveTo>
                  <a:pt x="3600" y="0"/>
                </a:moveTo>
                <a:arcTo wR="3600" hR="3600" stAng="16200000" swAng="-5400000"/>
                <a:lnTo>
                  <a:pt x="0" y="27552"/>
                </a:lnTo>
                <a:arcTo wR="3600" hR="3600" stAng="10800000" swAng="-5400000"/>
                <a:lnTo>
                  <a:pt x="18000" y="311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05520" y="5335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afety-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905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1066680"/>
            <a:ext cx="3657600" cy="4648320"/>
          </a:xfrm>
          <a:custGeom>
            <a:avLst/>
            <a:gdLst>
              <a:gd name="textAreaLeft" fmla="*/ 178560 w 3657600"/>
              <a:gd name="textAreaRight" fmla="*/ 3479040 w 3657600"/>
              <a:gd name="textAreaTop" fmla="*/ 178560 h 4648320"/>
              <a:gd name="textAreaBottom" fmla="*/ 4469760 h 4648320"/>
            </a:gdLst>
            <a:ahLst/>
            <a:rect l="textAreaLeft" t="textAreaTop" r="textAreaRight" b="textAreaBottom"/>
            <a:pathLst>
              <a:path w="21600" h="27450">
                <a:moveTo>
                  <a:pt x="3600" y="0"/>
                </a:moveTo>
                <a:arcTo wR="3600" hR="3600" stAng="16200000" swAng="-5400000"/>
                <a:lnTo>
                  <a:pt x="0" y="23850"/>
                </a:lnTo>
                <a:arcTo wR="3600" hR="3600" stAng="10800000" swAng="-5400000"/>
                <a:lnTo>
                  <a:pt x="18000" y="274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14400" y="51055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safety-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625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267080" y="3809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4120" y="457200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34120" y="5105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4572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rogress-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90920" y="838080"/>
            <a:ext cx="990360" cy="1676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371600" y="601992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rogress-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4419720" y="4343040"/>
            <a:ext cx="1218960" cy="1676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838080"/>
            <a:ext cx="1066680" cy="1676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1676160" y="3505320"/>
            <a:ext cx="685800" cy="2590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3T05:10:30Z</dcterms:created>
  <dc:creator>tah</dc:creator>
  <dc:description/>
  <dc:language>en-US</dc:language>
  <cp:lastModifiedBy>tah</cp:lastModifiedBy>
  <dcterms:modified xsi:type="dcterms:W3CDTF">2001-04-25T09:03:17Z</dcterms:modified>
  <cp:revision>19</cp:revision>
  <dc:subject/>
  <dc:title>  </dc:title>
</cp:coreProperties>
</file>