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958-3134-4F7A-A45B-FC497B97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468-BE61-479B-9250-E5D4A051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832-D2F4-49F5-BF46-6FCDB0F6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8AC-0B00-48C7-BD56-FE7FB07F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9B3-0893-43FD-87A1-CA46EEF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23C-BC8D-48AC-B2D0-F58F3A0D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9EC-BB35-48C4-8C17-48739A36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267-36C4-4134-8F86-CFF301F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F81-5E3F-4AF4-B82D-79AD0D01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B3A-4544-4449-943F-E012D85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9CA-5091-4559-ACB9-B9AD51B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C49-0AF6-47A0-835B-774CF4B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F9CF-EAB9-428F-BAF4-4A78C1F0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31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429000"/>
            <a:ext cx="1524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59092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114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-Diagram Composition of 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64832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259092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-Diagram Composition of 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46483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905120"/>
            <a:ext cx="609588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gain 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e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4382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7339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if  y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-1)     if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e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438280"/>
            <a:ext cx="73152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7339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if  y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-1)     if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2278080"/>
            <a:ext cx="8077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0,1) ,   Delay (sin) (y)  =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,   Delay (sin) (y)  =  sin (y-1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4572000"/>
            <a:ext cx="746784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0,1) ,   Delay (id) (y)  =  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,   Delay (id) (y)  =  y - 1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066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057400"/>
            <a:ext cx="8001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d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Delay (id) (0)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 Delay (id) (y)  =  y - 1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9112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lt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Delay (alt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 true), (1, false), (2, true), (3, false) , … }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8380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23623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delay over finite set of val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-time delay, or infinite set of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System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2743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0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057400" y="1523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297180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transduc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no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1460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combination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257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System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057400" y="1523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9718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memory-free or dela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very cycle contains at least one de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sequenti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Moving-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24382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MovAvg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iscMovAvg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373392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( x (y) + x (y-1) + x (y-2) )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Moving-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438280"/>
            <a:ext cx="883908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MovAv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iscMovAvg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373392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( x (y) + x (y-1) + x (y-2) )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 Moving-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514600"/>
            <a:ext cx="853452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MovAv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ntMovAvg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96252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              x (t) dt  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41148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410080" y="457200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86400" y="45720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4120" y="495288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0060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 Moving-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2514600"/>
            <a:ext cx="838224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MovAv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ntMovAvg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8120" y="380988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              x (t)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396252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410080" y="4419720"/>
            <a:ext cx="7632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86400" y="441972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4800600"/>
            <a:ext cx="75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00600" y="4648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33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gral is a quantifier that binds the variable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Moving-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2514600"/>
            <a:ext cx="83822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MovAvg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iscMovAvg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8120" y="380988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x (t)   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396252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578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 = y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533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 is a quantifier that binds the variable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Noncausal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24382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Predict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373392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   if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,  x (z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     if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x (z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990720" y="11430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or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mplementab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 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 (t) = y (t)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n   ( F (x) ) (z)  =  ( F (y) ) (z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666880"/>
            <a:ext cx="4647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143000"/>
            <a:ext cx="6476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transducive system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F (x) ) (y)  =  f ( x (y)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0200" y="838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-free 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752480"/>
            <a:ext cx="84582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identity system 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ry constant system  Co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ry composition of memory-fre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ry block-diagram composition of 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combination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1752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 Id (x) = x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19112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constant con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nst (x) ) (y) = cons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14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dent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onsta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29000"/>
            <a:ext cx="1524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429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029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F  and  G  are memory-fre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429000"/>
            <a:ext cx="9144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5029200"/>
            <a:ext cx="64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F  and  G  are memory-fre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n  G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  is memory-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133720"/>
            <a:ext cx="647676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209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07T00:38:23Z</dcterms:modified>
  <cp:revision>15</cp:revision>
  <dc:subject/>
  <dc:title>PowerPoint Presentation</dc:title>
</cp:coreProperties>
</file>