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2FA-D178-416D-9453-EFDE5441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29D-D7C6-412A-9FD9-8826C91C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17E-560E-4212-8871-443BF6DE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497-36FA-41A7-A11B-4AECFC97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977-FA91-46E8-BB7A-773C1B5D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3E7-F5B3-4ACD-AD85-AD603EF2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346-BB32-4D57-AABD-85BA24B7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354-7B17-4BF2-BDD3-487F0D63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DDE-6CB1-470F-B54E-F84E7728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80C-F49F-4EE5-BD8E-9B7F8092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1F4-27D0-4107-8D06-2EB516B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F0C-B82E-42E0-B89A-0E419DB1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0710-2FD7-4981-842C-10B22E613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251460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19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ve no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209680"/>
            <a:ext cx="2286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 numb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209680"/>
            <a:ext cx="685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!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 c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209680"/>
            <a:ext cx="708660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ge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it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     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ulation-of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it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-a-university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it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 truth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20968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uth valu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¬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uth valu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uth valu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ression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 constants have mea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09680"/>
            <a:ext cx="7620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+ 20                                Result: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! + 2) ·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opulation-of ( Berkeley )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· 20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4 + 2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 4 + 20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well-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7400" y="1219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514600"/>
            <a:ext cx="5867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ue                     Result: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alse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ue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als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ression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 variables have no mea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20968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! + y) ·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209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ee variable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066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fier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move free variables from expre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209680"/>
            <a:ext cx="2895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  x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  x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,  x + 1 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x + 1 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  x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2209680"/>
            <a:ext cx="4724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fre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e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well-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198108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mathematical express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well-form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“type mismatch”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contain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ee variab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is a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h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a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e.g., 20, Berkeley, fal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19520" y="2514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vens =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2· y )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1066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209680"/>
            <a:ext cx="655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1, 2, 3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Atlanta, Berkeley, Chicago, Detroit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1, 2, 3, 4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209680"/>
            <a:ext cx="7162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th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1, 2, 3 }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Atlanta, Berkele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a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209680"/>
            <a:ext cx="7391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,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,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|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066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fier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move free variables from expre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2209680"/>
            <a:ext cx="32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|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| x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2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x = 2·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| x + 7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220968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fre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2, 4, 6, 8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well-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un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a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209680"/>
            <a:ext cx="7619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066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ea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onst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be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0968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1, 2, 3, 4, …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true, false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ti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Atlanta, Chicago, Berkeley, Detroit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82880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vens =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x = 2· y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Evens be the set of all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· y for some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ve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· y )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vens =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2·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886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vens =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y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)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886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vens =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x |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y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2· 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886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4800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nt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Even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2· y ) }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3886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4800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5257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ve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·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886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4800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5257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1066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ve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2209680"/>
            <a:ext cx="655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certa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keley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certain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certain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05:07:45Z</dcterms:created>
  <dc:creator>tah</dc:creator>
  <dc:description/>
  <dc:language>en-US</dc:language>
  <cp:lastModifiedBy>Tom Henzinger</cp:lastModifiedBy>
  <dcterms:modified xsi:type="dcterms:W3CDTF">2001-02-07T00:07:27Z</dcterms:modified>
  <cp:revision>8</cp:revision>
  <dc:subject/>
  <dc:title>PowerPoint Presentation</dc:title>
</cp:coreProperties>
</file>