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758-00AA-474F-9F44-A342706B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482-93AD-4ECE-800E-1D11D053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059-8739-403F-9758-0ED1A6CE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A52-ADB6-4EA9-A01A-6A89244D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AC0-B98A-4648-B606-7A4033A9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082-286E-4852-9B97-AAF0F618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5EE-BC56-49B7-8648-2BC9B453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3B1-9596-4D0E-8C3A-53922D48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12C-A5E4-4A4D-84F4-1B15182D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AAC-B7F3-47DF-B9C5-7B3D18AE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B92-9570-4A32-9BC6-F31F89B3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244-B64C-4234-BC47-4194F57D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6CDE-F575-4F28-A096-1AD9164E6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9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36232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     f         f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  0         1         2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236232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     f         f        t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  0         1         2        2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362320"/>
            <a:ext cx="7162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     f         f        t         t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  0         1         2        2        2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342900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09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is block diagram is ok, because every cycle contains a de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29718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50292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29718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50292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0040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1828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23623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64832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44197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36232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44197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ath without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          t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         1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2362320"/>
            <a:ext cx="7162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         f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         f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          t         t         t        f          f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         1         2         2       2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2193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19810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FeedbackLoop ]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  =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States [ Parity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 LastThree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{ true, false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0, 1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initialState [ Parity ], initialState [ LastThree 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true, 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66680" y="457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eedbackLoop System,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144792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( ( q1, q2 ) , 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[ Parity] ( q1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3505320"/>
            <a:ext cx="51814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value of this does not matt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410080" y="25146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457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eedbackLoop System,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1447920"/>
            <a:ext cx="716256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( ( q1, q2 ) , 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[ Parity] ( q1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this be  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FeedbackLoop ]  ( ( q1, q2 ) ,  x ) 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nextState [ LastThree ] ( q2, y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05120" y="15238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57200"/>
            <a:ext cx="7086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Parity Syste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]                 =  { true, fals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       =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(q,x)  =  (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(q,x)        = 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657600"/>
            <a:ext cx="807732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LastThree Syste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]                 =  { 0, 1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       =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(q,x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(q,x)        =  ( ( q = 2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518148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              if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n (q+1, 2)   if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5257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066680" y="457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eedbackLoop System,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1447920"/>
            <a:ext cx="716256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( ( q1, q2 ) , 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[ Parity] ( q1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this be  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FeedbackLoop ]  ( ( q1, q2 ) ,  x ) 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nextState [ LastThree ] ( q2, y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 z  =  output [ LastThree ] ( q2, y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66680" y="457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eedbackLoop System,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1447920"/>
            <a:ext cx="71625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( ( q1, q2 ) , 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[ Parity] ( q1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this be  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FeedbackLoop ]  ( ( q1, q2 ) ,  x ) 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nextState [ LastThree ] ( q2, y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 z  =  output [ LastThree ] ( q2, y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FeedbackLoop ]  ( ( q1, q2 ) ,  x ) 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nextState [ Parity ] ( q1,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676520" y="2362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2133720"/>
            <a:ext cx="5638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every cycle contains a delay, then all values can be comp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 cycle without delay, then some values may not be well-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47920" y="1219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ll-D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30481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3124080"/>
            <a:ext cx="6858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335268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3124080"/>
            <a:ext cx="1600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71800" y="3352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3962520"/>
            <a:ext cx="312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095880" y="312372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2362320"/>
            <a:ext cx="3962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25909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447920" y="1219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ll-D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0481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3124080"/>
            <a:ext cx="6858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339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71800" y="335268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3124080"/>
            <a:ext cx="1600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352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962520"/>
            <a:ext cx="312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095880" y="312372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362320"/>
            <a:ext cx="3962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5909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57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51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81680" y="3352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7920" y="1219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ll-D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81080" y="30481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3124080"/>
            <a:ext cx="6858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12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35268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055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3124080"/>
            <a:ext cx="1600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3352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3962520"/>
            <a:ext cx="312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095880" y="312372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2362320"/>
            <a:ext cx="3962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25909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81680" y="3352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541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 legal outpu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600200" y="1219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Ill-D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30481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3124080"/>
            <a:ext cx="6858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339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335268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3124080"/>
            <a:ext cx="1600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71800" y="3352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962520"/>
            <a:ext cx="312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095880" y="312372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2362320"/>
            <a:ext cx="3962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25909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600200" y="1219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Ill-D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30481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3124080"/>
            <a:ext cx="6858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335268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124080"/>
            <a:ext cx="1600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3352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71800" y="3962520"/>
            <a:ext cx="312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095880" y="312372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2362320"/>
            <a:ext cx="3962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25909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057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600200" y="1219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Ill-D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30481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3124080"/>
            <a:ext cx="6858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71800" y="335268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055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124080"/>
            <a:ext cx="1600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3352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3962520"/>
            <a:ext cx="312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095880" y="312372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90920" y="2362320"/>
            <a:ext cx="3962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2280" y="25909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057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051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71800" y="541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e legal output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286000" y="2590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Vend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68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24382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133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57600" y="3276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2971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60440" y="34290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334120" y="33526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676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Bools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62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30481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{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297180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35812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3581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576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576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2819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238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Coins = { Nickel, Dime, Quarter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2819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th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13372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24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81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246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2428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1972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81280" y="2819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3962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N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33720" y="5257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4114800"/>
            <a:ext cx="3353040" cy="1155600"/>
          </a:xfrm>
          <a:custGeom>
            <a:avLst/>
            <a:gdLst/>
            <a:ahLst/>
            <a:rect l="l" t="t" r="r" b="b"/>
            <a:pathLst>
              <a:path w="2112" h="728">
                <a:moveTo>
                  <a:pt x="2112" y="48"/>
                </a:moveTo>
                <a:cubicBezTo>
                  <a:pt x="1760" y="388"/>
                  <a:pt x="1408" y="728"/>
                  <a:pt x="1056" y="720"/>
                </a:cubicBezTo>
                <a:cubicBezTo>
                  <a:pt x="704" y="712"/>
                  <a:pt x="352" y="3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2514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Q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58092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3200400"/>
            <a:ext cx="2057400" cy="533520"/>
          </a:xfrm>
          <a:custGeom>
            <a:avLst/>
            <a:gdLst/>
            <a:ahLst/>
            <a:rect l="l" t="t" r="r" b="b"/>
            <a:pathLst>
              <a:path w="1296" h="336">
                <a:moveTo>
                  <a:pt x="1296" y="336"/>
                </a:moveTo>
                <a:cubicBezTo>
                  <a:pt x="1044" y="168"/>
                  <a:pt x="792" y="0"/>
                  <a:pt x="576" y="0"/>
                </a:cubicBezTo>
                <a:cubicBezTo>
                  <a:pt x="360" y="0"/>
                  <a:pt x="180" y="1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1447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Q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2880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N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05320" y="3886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48520" y="30481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{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97180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48520" y="3581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520" y="3581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57600" y="3276720"/>
            <a:ext cx="1905120" cy="53316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57600" y="380988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2819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2819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63868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th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98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297180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72200" y="32767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5780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5780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-76320" y="35812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576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3505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5780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62720" y="3886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73392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627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62720" y="2743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3880" y="5105520"/>
            <a:ext cx="693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Select = { selectCoke, selectDiet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Dispense = { dispenseCoke, dispenseDiet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05740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38280" y="32004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34120" y="42670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4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14600" y="3429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76720" y="2629080"/>
            <a:ext cx="2057400" cy="72360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0" y="456"/>
                </a:moveTo>
                <a:cubicBezTo>
                  <a:pt x="132" y="300"/>
                  <a:pt x="264" y="144"/>
                  <a:pt x="480" y="72"/>
                </a:cubicBezTo>
                <a:cubicBezTo>
                  <a:pt x="696" y="0"/>
                  <a:pt x="996" y="12"/>
                  <a:pt x="12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276720" y="396180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0" y="456"/>
                </a:moveTo>
                <a:cubicBezTo>
                  <a:pt x="132" y="300"/>
                  <a:pt x="264" y="144"/>
                  <a:pt x="480" y="72"/>
                </a:cubicBezTo>
                <a:cubicBezTo>
                  <a:pt x="696" y="0"/>
                  <a:pt x="996" y="12"/>
                  <a:pt x="12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36840" y="2882880"/>
            <a:ext cx="977760" cy="1612800"/>
          </a:xfrm>
          <a:custGeom>
            <a:avLst/>
            <a:gdLst/>
            <a:ahLst/>
            <a:rect l="l" t="t" r="r" b="b"/>
            <a:pathLst>
              <a:path w="616" h="1016">
                <a:moveTo>
                  <a:pt x="616" y="296"/>
                </a:moveTo>
                <a:cubicBezTo>
                  <a:pt x="396" y="148"/>
                  <a:pt x="176" y="0"/>
                  <a:pt x="88" y="104"/>
                </a:cubicBezTo>
                <a:cubicBezTo>
                  <a:pt x="0" y="208"/>
                  <a:pt x="0" y="824"/>
                  <a:pt x="88" y="920"/>
                </a:cubicBezTo>
                <a:cubicBezTo>
                  <a:pt x="176" y="1016"/>
                  <a:pt x="396" y="848"/>
                  <a:pt x="616" y="6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19520" y="2286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152388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C,25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C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C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2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25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19520" y="4648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&lt;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4419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981080" y="609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0968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05520" y="53341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05520" y="27432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39625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8148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943600" y="2324160"/>
            <a:ext cx="939960" cy="939600"/>
          </a:xfrm>
          <a:custGeom>
            <a:avLst/>
            <a:gdLst/>
            <a:ahLst/>
            <a:rect l="l" t="t" r="r" b="b"/>
            <a:pathLst>
              <a:path w="592" h="592">
                <a:moveTo>
                  <a:pt x="0" y="360"/>
                </a:moveTo>
                <a:cubicBezTo>
                  <a:pt x="196" y="180"/>
                  <a:pt x="392" y="0"/>
                  <a:pt x="480" y="24"/>
                </a:cubicBezTo>
                <a:cubicBezTo>
                  <a:pt x="568" y="48"/>
                  <a:pt x="592" y="416"/>
                  <a:pt x="528" y="504"/>
                </a:cubicBezTo>
                <a:cubicBezTo>
                  <a:pt x="464" y="592"/>
                  <a:pt x="176" y="544"/>
                  <a:pt x="96" y="552"/>
                </a:cubicBezTo>
                <a:cubicBezTo>
                  <a:pt x="16" y="560"/>
                  <a:pt x="32" y="556"/>
                  <a:pt x="48" y="5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4080" y="3429000"/>
            <a:ext cx="1981440" cy="609480"/>
          </a:xfrm>
          <a:custGeom>
            <a:avLst/>
            <a:gdLst/>
            <a:ahLst/>
            <a:rect l="l" t="t" r="r" b="b"/>
            <a:pathLst>
              <a:path w="1248" h="384">
                <a:moveTo>
                  <a:pt x="1248" y="0"/>
                </a:moveTo>
                <a:cubicBezTo>
                  <a:pt x="728" y="160"/>
                  <a:pt x="208" y="320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1320" y="3581280"/>
            <a:ext cx="304560" cy="1752840"/>
          </a:xfrm>
          <a:custGeom>
            <a:avLst/>
            <a:gdLst/>
            <a:ahLst/>
            <a:rect l="l" t="t" r="r" b="b"/>
            <a:pathLst>
              <a:path w="144" h="816">
                <a:moveTo>
                  <a:pt x="0" y="0"/>
                </a:moveTo>
                <a:cubicBezTo>
                  <a:pt x="72" y="124"/>
                  <a:pt x="144" y="248"/>
                  <a:pt x="144" y="384"/>
                </a:cubicBezTo>
                <a:cubicBezTo>
                  <a:pt x="144" y="520"/>
                  <a:pt x="72" y="668"/>
                  <a:pt x="0" y="8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48520" y="1981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1676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4267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D,x)|x&lt;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152388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25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C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C,25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C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C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2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25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65760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24852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4920" y="297180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627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32767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578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5780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-76320" y="35812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6576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3886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73392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657600" y="3124080"/>
            <a:ext cx="1905120" cy="15264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33920" y="3276720"/>
            <a:ext cx="1828800" cy="22860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33920" y="3276720"/>
            <a:ext cx="1828800" cy="60948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57600" y="3809880"/>
            <a:ext cx="1905120" cy="7632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657600" y="3505320"/>
            <a:ext cx="1905120" cy="30456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657600" y="3123720"/>
            <a:ext cx="1905120" cy="68580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62720" y="3505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5627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4320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562720" y="2743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819520" y="685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62520" y="2133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33920" y="2057400"/>
            <a:ext cx="190476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57400" y="2438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638680" y="2286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392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48520" y="1752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19051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38680" y="3048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05520" y="3276720"/>
            <a:ext cx="1371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341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52680" y="29718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52680" y="3276720"/>
            <a:ext cx="1143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 { 0, … 30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339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33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412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38680" y="2666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2743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733920" y="2285640"/>
            <a:ext cx="1904760" cy="1522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2438280"/>
            <a:ext cx="1828800" cy="2286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9880" y="2438280"/>
            <a:ext cx="1828800" cy="6098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33920" y="2971800"/>
            <a:ext cx="1904760" cy="763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733920" y="2666520"/>
            <a:ext cx="1904760" cy="3049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733920" y="2285640"/>
            <a:ext cx="1904760" cy="685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886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3920" y="3809880"/>
            <a:ext cx="190476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526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386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86200" y="3809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" y="48006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38680" y="4724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724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4120" y="3809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41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57400" y="4724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3809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7339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386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733560" y="4191120"/>
            <a:ext cx="1904760" cy="5331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33920" y="47242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3352680" y="2971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99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304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1600200"/>
            <a:ext cx="31244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8120" y="4191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5740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38880" y="2133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2388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81080" y="4267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th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819520" y="685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62520" y="2133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33920" y="2057400"/>
            <a:ext cx="190476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438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286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3392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248520" y="1752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19051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38680" y="3048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05520" y="3276720"/>
            <a:ext cx="1371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41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412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29718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52680" y="3276720"/>
            <a:ext cx="1143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 { 0, … 30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7339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33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3412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638680" y="2666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48520" y="2743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733920" y="2285640"/>
            <a:ext cx="1904760" cy="1522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9880" y="2438280"/>
            <a:ext cx="1828800" cy="2286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09880" y="2438280"/>
            <a:ext cx="1828800" cy="6098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33920" y="2971800"/>
            <a:ext cx="1904760" cy="763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733920" y="2666520"/>
            <a:ext cx="1904760" cy="3049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733920" y="2285640"/>
            <a:ext cx="1904760" cy="685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62520" y="3886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733920" y="3809880"/>
            <a:ext cx="190476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6386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3809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8006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38680" y="4724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248520" y="4724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34120" y="3809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41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4724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3809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6386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733560" y="4191120"/>
            <a:ext cx="1904760" cy="5331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33920" y="47242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2971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199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304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1600200"/>
            <a:ext cx="31244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4191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004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38680" y="1905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526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867280" y="4724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38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386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52680" y="4724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38880" y="2133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4267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th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838080" y="762120"/>
            <a:ext cx="76201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in                            N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Q       Q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lect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C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D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th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Coll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Disp    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2120" y="2286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" y="2362320"/>
            <a:ext cx="380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8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2860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22096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2057400"/>
            <a:ext cx="1447560" cy="30492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895480" y="3047400"/>
            <a:ext cx="1447920" cy="2286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27432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2004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858000" y="31240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{ 0, 1, 2 }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2057400"/>
            <a:ext cx="1447560" cy="30492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3048120"/>
            <a:ext cx="3886200" cy="1320840"/>
          </a:xfrm>
          <a:custGeom>
            <a:avLst/>
            <a:gdLst/>
            <a:ahLst/>
            <a:rect l="l" t="t" r="r" b="b"/>
            <a:pathLst>
              <a:path w="2448" h="832">
                <a:moveTo>
                  <a:pt x="2448" y="0"/>
                </a:moveTo>
                <a:cubicBezTo>
                  <a:pt x="2052" y="400"/>
                  <a:pt x="1656" y="800"/>
                  <a:pt x="1248" y="816"/>
                </a:cubicBezTo>
                <a:cubicBezTo>
                  <a:pt x="840" y="832"/>
                  <a:pt x="208" y="216"/>
                  <a:pt x="0" y="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267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838080" y="762120"/>
            <a:ext cx="78487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in                            N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Q       Q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lect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C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D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unds                        0         5        5        0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oda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C        D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ange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N        N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set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f         f        t          t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thru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Coll           0         5        5        0        0  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Disp          n         n         C        n        n         C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62120" y="2286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600200" y="685800"/>
            <a:ext cx="6019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1828800"/>
            <a:ext cx="7620120" cy="47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.  Draw the transition diagram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x)) (y)  =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2.  Draw the transition diagram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00600" y="358128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             if  y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(y-1)      if  y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91120" y="35812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66880" y="5638680"/>
            <a:ext cx="152424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52880" y="5638680"/>
            <a:ext cx="152424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91120" y="6019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77120" y="6019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5715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5715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36232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36232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36232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  0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36232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     f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  0         1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10T01:16:19Z</dcterms:modified>
  <cp:revision>36</cp:revision>
  <dc:subject/>
  <dc:title>PowerPoint Presentation</dc:title>
</cp:coreProperties>
</file>