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7019925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D3C7-F979-49AC-9B5C-9EC8631FD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62B2-7A48-40C2-9618-04275A13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A671-C728-4F0A-ABE9-83B16C065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9B44-3E4C-4FD7-99AC-516C37E4B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892C-9431-4C13-A777-99C99A93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4D1E-B951-4ABF-82D9-C0B6AECC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6ED0-1935-40F5-A4DD-3CC009AE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BFA7-5012-40DB-A740-865C4466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0271-A11C-48A4-A42D-9D077B8D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E866-280E-4FB1-99AF-E99439CB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3C0F-258B-4A0E-953E-7418DB6A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077E-D84A-4B7F-BD93-7AC4415A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3B35-AF8B-45B6-901E-F82A5FC24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2514600"/>
            <a:ext cx="4876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38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April 27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52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666880" y="1905120"/>
            <a:ext cx="3886200" cy="3200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09680" y="838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Discrete-Time Reactiv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35053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53080" y="3505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971800"/>
            <a:ext cx="243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53080" y="2971800"/>
            <a:ext cx="274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5638680"/>
            <a:ext cx="822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: 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 ]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utput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66880" y="1905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666880" y="1905120"/>
            <a:ext cx="3886200" cy="320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00200" y="8380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 Machine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35053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3505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971800"/>
            <a:ext cx="243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53080" y="2971800"/>
            <a:ext cx="274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86200" y="2514600"/>
            <a:ext cx="144792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4114800"/>
            <a:ext cx="144792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3505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124080" y="28954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28954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429000" y="4419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29000" y="3276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3276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2895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9920" y="28954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9920" y="3505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32767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32767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334120" y="44197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419112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nitial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8480" y="2895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86200" y="2590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2590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62720" y="4419720"/>
            <a:ext cx="15238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4419720"/>
            <a:ext cx="15238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5562720"/>
            <a:ext cx="7239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dat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tialSta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1905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334120" y="2133720"/>
            <a:ext cx="175248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86600" y="18288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emory-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62920" y="41911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lay stores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5334120" y="4267080"/>
            <a:ext cx="182880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95280" y="10666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stic Stat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23623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( set of possible input values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( set of possible output values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s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( set of states 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itialStat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:  States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Inputs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States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981080" y="1981080"/>
            <a:ext cx="56390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y block diagram of N state machines with the state spac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tates1, States2, … State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be implemented by a single state machine with the state sp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s1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States2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…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States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is called a “product machin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838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duct of State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0880" y="160020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active System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very input signal, there i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xactly o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utput sig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43434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tSys :  [ Tim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puts ]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Output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81280" y="3733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1219320"/>
            <a:ext cx="8458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ndeterministic Reactive Sy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very input signal, there i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ne or mo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utput sig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35053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ondetSys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[ Tim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puts ]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Output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41911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 ],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utputs ],  (x,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ondetS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2819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inary re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4100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Every pair  (x,y)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NondetSys  is called a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47920" y="2514600"/>
            <a:ext cx="6324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em  S1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fin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ystem  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Time [S1] = Time [S2]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Inputs [S1] = Inputs [S2]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 Outputs [S1] = Outputs [S2]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ehaviors [S1]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Behaviors [S2]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304920"/>
            <a:ext cx="3048120" cy="147240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S1 is a more detailed description of S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S2 is an abstraction or property of S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800240" y="1828800"/>
            <a:ext cx="685800" cy="6858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447920" y="1523880"/>
            <a:ext cx="6324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ems  S1  and  S2  ar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equiva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Time [S1] = Time [S2]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Inputs [S1] = Inputs [S2]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 Outputs [S1] = Outputs [S2]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ehaviors [S1]  = Behaviors [S2]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76520" y="10666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deterministic 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2057400"/>
            <a:ext cx="7848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ssibleInitialState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ssibleUpdates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P(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utputs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) \ 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563868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eceptiveness (i.e., machine must be prepared to accept every input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696080" y="5105160"/>
            <a:ext cx="457200" cy="6094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66680" y="1066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1080" y="2362320"/>
            <a:ext cx="5334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-determin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determin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24280" y="4038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19320" y="5335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duciv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05320" y="1371600"/>
            <a:ext cx="175248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19051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57800" y="19051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75248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76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pu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43600" y="1676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266688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ansduciveSystem :  Values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3657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ctiv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5320" y="4343400"/>
            <a:ext cx="175248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48769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48769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472428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6483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put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46483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56386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activeSystem :  [ Tim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Values ]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Value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447920" y="609480"/>
            <a:ext cx="54864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tate machine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is only one initial state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very state and every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here is only one successor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71600" y="3809880"/>
            <a:ext cx="72388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tate machine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-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is only one initial state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very state and every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-output pai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ere is only one successor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33520" y="83808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terministic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2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is simulated by  M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iff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is equivalent to  M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23623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-deterministic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2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is simulated by  M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iff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refines  M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39625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ndeterministic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2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is simulated by  M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implies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refines  M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5562720"/>
            <a:ext cx="3429000" cy="8254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dition on infinitely many behav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705720" y="4952880"/>
            <a:ext cx="0" cy="6098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5562720"/>
            <a:ext cx="3048120" cy="8254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elation between finitely many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286000" y="4952880"/>
            <a:ext cx="0" cy="6098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8600" y="304920"/>
            <a:ext cx="8686800" cy="74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binary relation 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[M1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[M2]  is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imulatio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 M1 by 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InitialStates [M1] ,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InitialStates [M2],  ( p, q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p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 [M1] , 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q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 [M2] ,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f  ( p, q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n  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x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Inputs ,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y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Outputs ,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p’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 [M1] ,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f  ( p’, y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Updates [M1] ( p, x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n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tates [M2]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 q’, y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Updates [M2] ( q, x ) 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 p’, q’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905120" y="121932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check if M1 refines M2,            check if M1 is simulated by det(M2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2514600"/>
            <a:ext cx="5791320" cy="268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refines  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refines  det(M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is simulated by   det(M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4120" y="4572000"/>
            <a:ext cx="1523880" cy="838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6400440" y="5410080"/>
            <a:ext cx="15228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86400" y="5943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-determin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91440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M2  is a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-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 machine, then a simulation S of M1 by M2 can be found as follow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2362320"/>
            <a:ext cx="70102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If  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ossibleInitialStates [M1] 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sibleInitialStates [M2]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 { q 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 (p,q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If  (p,q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 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p’,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ossibleUpdates [M1] (p,x)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sibleUpdates [M2] (q,x)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 { q’ 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 (p’,q’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905120" y="12952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-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362320"/>
            <a:ext cx="7925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: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non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 machine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: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utput-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 machin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t(M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that is equivalent to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0" y="4343400"/>
            <a:ext cx="5791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s [det(M)]    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nputs [M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utputs [det(M)] 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s [M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057400" y="8380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ubset 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2057400"/>
            <a:ext cx="9677520" cy="38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itialState [ det(M) ]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ossibleInitialStates [M]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tates [ det(M) ]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 initialState [det(M)] 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eat as long as new transitions can be added to det(M)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oose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States [det(M)]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and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x,y)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Inputs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Outpu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t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{ q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States [M] |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p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P,  (q,y)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possibleUpdates [M] (p,x) }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Ø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t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ates [det(M)] = States [det(M)]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{Q}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t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update [det(M)] (P,x) = (Q,y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19320" y="12193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nimiz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2514600"/>
            <a:ext cx="7315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put :      nondeterministic state machine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 :   minimize (M), the state machine with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the fewest states that is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bisimilar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the result is unique up to renaming of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28600" y="304920"/>
            <a:ext cx="8839080" cy="74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binary relation 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[M1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[M2]  is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isimulatio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tween M1 and 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1.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InitialStates [M1] ,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InitialStates [M2],  ( p, q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2. 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p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 [M1] , 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q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 [M2] ,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f  ( p, q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n  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x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Inputs ,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y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Outputs ,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p’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 [M1] ,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f  ( p’, y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Updates [M1] ( p, x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n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tates [M2]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 q’, y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Updates [M2] ( q, x ) 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 p’, q’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,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04920" y="1523880"/>
            <a:ext cx="8839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1.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InitialStates [M2] ,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InitialStates [M1],  ( p, q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2. 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p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 [M1] , 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q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 [M2] ,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f  ( p, q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n  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x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Inputs ,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y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Outputs ,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q’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 [M2] ,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f  ( q’, y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Updates [M2] ( q, x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n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tates [M1]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 p’, y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Updates [M1] ( q, x ) 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 p’, q’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914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819520"/>
            <a:ext cx="82296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rete tim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=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{ 0, 1, 2, …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inuous tim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=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{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|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066680" y="3808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n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 machines M1 and M2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9907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is equivalent to 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simulates M2  and  M2 simulates 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and M2 are bisimi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6708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41911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-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 machines M1 and M2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57400" y="4876920"/>
            <a:ext cx="5334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is equivalent to 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and M2 are bisimi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67080" y="2590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057400"/>
            <a:ext cx="85345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Let  Q  be set of all reachable states of 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Maintain a set P of state se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tially let  P = { Q }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eat until no longer possible: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plit 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 When done, every state set in P represents a singl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 of the smallest state machine bisimilar to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9907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nimiz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828800" y="6094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plit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1371600"/>
            <a:ext cx="83059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there ex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wo state sets  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  and  R’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wo states  r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  and  r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 input 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 output  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ut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’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R’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( r’, y )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possibleUpdates ( r1, x )  and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’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R’,  ( r’, y )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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possibleUpdates ( r2, x )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t  R1 = { 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 |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’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’,  ( r’, y 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ossibleUpdates ( r, x )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t  R2  =  R \ R1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t  P  =  ( P \ { R } 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{ R1, R2 }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362320" y="1600200"/>
            <a:ext cx="434340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4572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inite-Stat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afet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1219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3880" y="21337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05720" y="21337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62320" y="1600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machin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1905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2819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 s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states of Pl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213372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3733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38280" y="4191120"/>
            <a:ext cx="4343400" cy="10666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472428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81680" y="4724280"/>
            <a:ext cx="838440" cy="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438280" y="41911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nite-state machine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548640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the composite system never enters a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600200" y="3809880"/>
            <a:ext cx="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7620120" y="3809880"/>
            <a:ext cx="0" cy="91440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362320" y="1600200"/>
            <a:ext cx="434340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4572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inite-Stat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1219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3880" y="21337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21337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62320" y="1600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machin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1905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2819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 s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states of Pl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62320" y="213372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733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38280" y="4191120"/>
            <a:ext cx="4343400" cy="10666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472428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81680" y="4724280"/>
            <a:ext cx="838440" cy="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1911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nite-state machine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8080" y="54864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the composite system is guaranteed to enter a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600200" y="3809880"/>
            <a:ext cx="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7620120" y="3809880"/>
            <a:ext cx="0" cy="91440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5800" y="10666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 th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afety-uncontroll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of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2438280"/>
            <a:ext cx="80773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safety-un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ll states 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or all inputs i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there exist a safety-uncontrollable state s’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  and an output 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such that  (s’,o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Updates (s,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  s is safety-un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10666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 the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of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2438280"/>
            <a:ext cx="739116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progress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ll states 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here exists an input i 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for all states s’ and outputs o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if  (s’,o)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possibleUpdates (s,i)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then  s’ is 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  s is progress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676520" y="457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ical Exam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1371600"/>
            <a:ext cx="8305920" cy="54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.  Convert between the following system representa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.  Mathematical input-output definiti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2.  Transition diagram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3.  Block di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y the following algorithms on state machi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.  Product constructi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2. Subset constructi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3. Check for existence of a simulati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4.  Minimizati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  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5.  Compute controllable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plain the following concep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. Memory-free vs. finite-state vs. infinite-state          2. Equivalence/refinement vs. simulation vs. bisimulation 3. Safety vs. progress contro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447920" y="1143000"/>
            <a:ext cx="647676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eactive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 :  [ Tim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Values ]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Value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emory-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exists a transducive system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 :  Values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Values ] ,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Ti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 F (x) ) (y)  =  f ( x (y) 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90720" y="1143000"/>
            <a:ext cx="7315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eactive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 :  [ Tim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Values ]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Value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aus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x, y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Values ] ,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z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Ti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f       (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t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Time,  t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z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x (t) = y (t) 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hen   ( F (x) ) (z)  =  ( F (y) ) (z)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447920" y="11430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Dela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2438280"/>
            <a:ext cx="7315200" cy="23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  [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Values 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alue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Ti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alues ] 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i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Delay (x) ) (y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95680" y="3733920"/>
            <a:ext cx="3962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if  y &lt;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(y-1)     if 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95680" y="3886200"/>
            <a:ext cx="5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447920" y="2362320"/>
            <a:ext cx="7086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rete-time delay over finite set of valu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ini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inuous-time delay, or infinite set of val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fini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057400" y="53352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gal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ansduciv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lock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1371600"/>
            <a:ext cx="6019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all components are transduciv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no cy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2590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.g., combinational circ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37339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gal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activ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lock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4495680"/>
            <a:ext cx="762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all components are memory-free or delay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every cycle contains at least one del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43200" y="5715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.g., sequential circ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828800" y="2133720"/>
            <a:ext cx="5486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rete-time reactive systems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nite memo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 naturally implemented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inite state machin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23:05:13Z</dcterms:created>
  <dc:creator>Tom Henzinger</dc:creator>
  <dc:description/>
  <dc:language>en-US</dc:language>
  <cp:lastModifiedBy>Tom Henzinger</cp:lastModifiedBy>
  <dcterms:modified xsi:type="dcterms:W3CDTF">2001-04-26T03:53:33Z</dcterms:modified>
  <cp:revision>4</cp:revision>
  <dc:subject/>
  <dc:title>  </dc:title>
</cp:coreProperties>
</file>