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ECE-8A22-49B3-8A1E-1A4B93B8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E6F-242A-4C4E-A0CF-63C0EE47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9E0-F496-44F3-A74B-3B762B94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029-6AAD-4731-8DBB-05781A38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2EC-DFAB-4C5A-8203-A18EB512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BE5-5072-4AD3-B1B8-F277CB60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806-2FA0-4FB5-8B03-5CEB0DFE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B22-8CB4-4CF1-835D-5CB26A4D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939-0572-419D-A25F-DFA9078D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154-4353-4A34-869E-9845BB16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7F6-EF88-4009-BD3C-4FC243DD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EA0-C18E-46E6-9426-1736DA24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6798-E06A-44D6-8228-C2CAC831E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16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deter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33720" y="533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4479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0       10      10       01       01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sponding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4038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possible run on the same in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8769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0         1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0       10       1         0        0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533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4479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0       10      10       01       01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71600" y="28195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41148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133720" y="220932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286000" y="2362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505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133360" y="365724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2209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666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4038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3808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886200" y="99036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038480" y="114300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22860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243828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609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447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2819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3657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53341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038480" y="426672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885840" y="327672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480060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09880" y="49525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32004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3200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36576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44956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61722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49528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294560"/>
            <a:ext cx="53316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724280" y="15120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952880" y="220896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5181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6019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514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657600" y="25142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1295280"/>
            <a:ext cx="241200" cy="1219320"/>
          </a:xfrm>
          <a:custGeom>
            <a:avLst/>
            <a:gdLst/>
            <a:ahLst/>
            <a:rect l="l" t="t" r="r" b="b"/>
            <a:pathLst>
              <a:path w="152" h="768">
                <a:moveTo>
                  <a:pt x="0" y="0"/>
                </a:moveTo>
                <a:cubicBezTo>
                  <a:pt x="68" y="152"/>
                  <a:pt x="136" y="304"/>
                  <a:pt x="144" y="432"/>
                </a:cubicBezTo>
                <a:cubicBezTo>
                  <a:pt x="152" y="560"/>
                  <a:pt x="100" y="664"/>
                  <a:pt x="48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1752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37160" y="4572000"/>
            <a:ext cx="190440" cy="838080"/>
          </a:xfrm>
          <a:custGeom>
            <a:avLst/>
            <a:gdLst/>
            <a:ahLst/>
            <a:rect l="l" t="t" r="r" b="b"/>
            <a:pathLst>
              <a:path w="120" h="528">
                <a:moveTo>
                  <a:pt x="16" y="528"/>
                </a:moveTo>
                <a:cubicBezTo>
                  <a:pt x="8" y="528"/>
                  <a:pt x="0" y="528"/>
                  <a:pt x="16" y="480"/>
                </a:cubicBezTo>
                <a:cubicBezTo>
                  <a:pt x="32" y="432"/>
                  <a:pt x="104" y="320"/>
                  <a:pt x="112" y="240"/>
                </a:cubicBezTo>
                <a:cubicBezTo>
                  <a:pt x="120" y="160"/>
                  <a:pt x="92" y="80"/>
                  <a:pt x="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876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3352680"/>
            <a:ext cx="711360" cy="2133720"/>
          </a:xfrm>
          <a:custGeom>
            <a:avLst/>
            <a:gdLst/>
            <a:ahLst/>
            <a:rect l="l" t="t" r="r" b="b"/>
            <a:pathLst>
              <a:path w="448" h="1344">
                <a:moveTo>
                  <a:pt x="48" y="0"/>
                </a:moveTo>
                <a:cubicBezTo>
                  <a:pt x="188" y="172"/>
                  <a:pt x="328" y="344"/>
                  <a:pt x="384" y="528"/>
                </a:cubicBezTo>
                <a:cubicBezTo>
                  <a:pt x="440" y="712"/>
                  <a:pt x="448" y="968"/>
                  <a:pt x="384" y="1104"/>
                </a:cubicBezTo>
                <a:cubicBezTo>
                  <a:pt x="320" y="1240"/>
                  <a:pt x="160" y="1292"/>
                  <a:pt x="0" y="1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1219320"/>
            <a:ext cx="965160" cy="2590560"/>
          </a:xfrm>
          <a:custGeom>
            <a:avLst/>
            <a:gdLst/>
            <a:ahLst/>
            <a:rect l="l" t="t" r="r" b="b"/>
            <a:pathLst>
              <a:path w="608" h="1632">
                <a:moveTo>
                  <a:pt x="144" y="1632"/>
                </a:moveTo>
                <a:cubicBezTo>
                  <a:pt x="280" y="1492"/>
                  <a:pt x="416" y="1352"/>
                  <a:pt x="480" y="1152"/>
                </a:cubicBezTo>
                <a:cubicBezTo>
                  <a:pt x="544" y="952"/>
                  <a:pt x="608" y="624"/>
                  <a:pt x="528" y="432"/>
                </a:cubicBezTo>
                <a:cubicBezTo>
                  <a:pt x="448" y="240"/>
                  <a:pt x="224" y="12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1981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334120" y="34286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2743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ffer of size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 = { 0, 1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28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 sta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905120" y="1219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Uncertainty: Lossy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274320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33526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3352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371600" y="28195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1600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41148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133720" y="220932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86000" y="2362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505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2133360" y="365724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2209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2666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4038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3808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886200" y="99036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038480" y="114300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22860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3885840" y="243828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609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447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2819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3657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53341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038480" y="426672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885840" y="327672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480060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3809880" y="49525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911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32004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200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791320" y="45684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867280" y="609480"/>
            <a:ext cx="83844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867280" y="373356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943600" y="388584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867280" y="259056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943600" y="274284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15000" y="5410080"/>
            <a:ext cx="9144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791320" y="556236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9907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790960" y="11426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426708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867280" y="320004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30481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5866920" y="44197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594360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714640" y="609552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36576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38862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44956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61722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49528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048120" y="1294560"/>
            <a:ext cx="53316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724280" y="15120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952880" y="220896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5181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6019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914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2514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657600" y="25142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1295280"/>
            <a:ext cx="241200" cy="1219320"/>
          </a:xfrm>
          <a:custGeom>
            <a:avLst/>
            <a:gdLst/>
            <a:ahLst/>
            <a:rect l="l" t="t" r="r" b="b"/>
            <a:pathLst>
              <a:path w="152" h="768">
                <a:moveTo>
                  <a:pt x="0" y="0"/>
                </a:moveTo>
                <a:cubicBezTo>
                  <a:pt x="68" y="152"/>
                  <a:pt x="136" y="304"/>
                  <a:pt x="144" y="432"/>
                </a:cubicBezTo>
                <a:cubicBezTo>
                  <a:pt x="152" y="560"/>
                  <a:pt x="100" y="664"/>
                  <a:pt x="48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91320" y="1752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37160" y="4572000"/>
            <a:ext cx="190440" cy="838080"/>
          </a:xfrm>
          <a:custGeom>
            <a:avLst/>
            <a:gdLst/>
            <a:ahLst/>
            <a:rect l="l" t="t" r="r" b="b"/>
            <a:pathLst>
              <a:path w="120" h="528">
                <a:moveTo>
                  <a:pt x="16" y="528"/>
                </a:moveTo>
                <a:cubicBezTo>
                  <a:pt x="8" y="528"/>
                  <a:pt x="0" y="528"/>
                  <a:pt x="16" y="480"/>
                </a:cubicBezTo>
                <a:cubicBezTo>
                  <a:pt x="32" y="432"/>
                  <a:pt x="104" y="320"/>
                  <a:pt x="112" y="240"/>
                </a:cubicBezTo>
                <a:cubicBezTo>
                  <a:pt x="120" y="160"/>
                  <a:pt x="92" y="80"/>
                  <a:pt x="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800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3352680"/>
            <a:ext cx="711360" cy="2133720"/>
          </a:xfrm>
          <a:custGeom>
            <a:avLst/>
            <a:gdLst/>
            <a:ahLst/>
            <a:rect l="l" t="t" r="r" b="b"/>
            <a:pathLst>
              <a:path w="448" h="1344">
                <a:moveTo>
                  <a:pt x="48" y="0"/>
                </a:moveTo>
                <a:cubicBezTo>
                  <a:pt x="188" y="172"/>
                  <a:pt x="328" y="344"/>
                  <a:pt x="384" y="528"/>
                </a:cubicBezTo>
                <a:cubicBezTo>
                  <a:pt x="440" y="712"/>
                  <a:pt x="448" y="968"/>
                  <a:pt x="384" y="1104"/>
                </a:cubicBezTo>
                <a:cubicBezTo>
                  <a:pt x="320" y="1240"/>
                  <a:pt x="160" y="1292"/>
                  <a:pt x="0" y="1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1219320"/>
            <a:ext cx="965160" cy="2590560"/>
          </a:xfrm>
          <a:custGeom>
            <a:avLst/>
            <a:gdLst/>
            <a:ahLst/>
            <a:rect l="l" t="t" r="r" b="b"/>
            <a:pathLst>
              <a:path w="608" h="1632">
                <a:moveTo>
                  <a:pt x="144" y="1632"/>
                </a:moveTo>
                <a:cubicBezTo>
                  <a:pt x="280" y="1492"/>
                  <a:pt x="416" y="1352"/>
                  <a:pt x="480" y="1152"/>
                </a:cubicBezTo>
                <a:cubicBezTo>
                  <a:pt x="544" y="952"/>
                  <a:pt x="608" y="624"/>
                  <a:pt x="528" y="432"/>
                </a:cubicBezTo>
                <a:cubicBezTo>
                  <a:pt x="448" y="240"/>
                  <a:pt x="224" y="12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44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3080" y="1981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334120" y="34286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219320" y="4038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possible run on the same in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8769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33720" y="533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4479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0        0        0        0         0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905120" y="12193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Properties: Vend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81280" y="274320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10080" y="33526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281952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3352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28195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3429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33720" y="50292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ect = Dispense = { Coke, Diet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14400" y="7621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-unrequested-soda” proper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ever the machine dispenses Coke, then the most recent request was for Cok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ever the machine dispenses Diet, then the most recent request was for D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14600" y="4343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52578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3581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505320" y="42670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429000" y="411480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4952880"/>
            <a:ext cx="13716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429000" y="5105160"/>
            <a:ext cx="13716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4495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334120" y="4495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9360" y="5105520"/>
            <a:ext cx="470160" cy="393480"/>
          </a:xfrm>
          <a:custGeom>
            <a:avLst/>
            <a:gdLst/>
            <a:ahLst/>
            <a:rect l="l" t="t" r="r" b="b"/>
            <a:pathLst>
              <a:path w="296" h="248">
                <a:moveTo>
                  <a:pt x="200" y="0"/>
                </a:moveTo>
                <a:cubicBezTo>
                  <a:pt x="100" y="4"/>
                  <a:pt x="0" y="8"/>
                  <a:pt x="8" y="48"/>
                </a:cubicBezTo>
                <a:cubicBezTo>
                  <a:pt x="16" y="88"/>
                  <a:pt x="200" y="232"/>
                  <a:pt x="248" y="240"/>
                </a:cubicBezTo>
                <a:cubicBezTo>
                  <a:pt x="296" y="248"/>
                  <a:pt x="296" y="172"/>
                  <a:pt x="296" y="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15000" y="3594240"/>
            <a:ext cx="355680" cy="672840"/>
          </a:xfrm>
          <a:custGeom>
            <a:avLst/>
            <a:gdLst/>
            <a:ahLst/>
            <a:rect l="l" t="t" r="r" b="b"/>
            <a:pathLst>
              <a:path w="224" h="424">
                <a:moveTo>
                  <a:pt x="0" y="136"/>
                </a:moveTo>
                <a:cubicBezTo>
                  <a:pt x="80" y="68"/>
                  <a:pt x="160" y="0"/>
                  <a:pt x="192" y="40"/>
                </a:cubicBezTo>
                <a:cubicBezTo>
                  <a:pt x="224" y="80"/>
                  <a:pt x="216" y="328"/>
                  <a:pt x="192" y="376"/>
                </a:cubicBezTo>
                <a:cubicBezTo>
                  <a:pt x="168" y="424"/>
                  <a:pt x="108" y="376"/>
                  <a:pt x="48" y="3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715000" y="5486400"/>
            <a:ext cx="355680" cy="673200"/>
          </a:xfrm>
          <a:custGeom>
            <a:avLst/>
            <a:gdLst/>
            <a:ahLst/>
            <a:rect l="l" t="t" r="r" b="b"/>
            <a:pathLst>
              <a:path w="224" h="424">
                <a:moveTo>
                  <a:pt x="0" y="136"/>
                </a:moveTo>
                <a:cubicBezTo>
                  <a:pt x="80" y="68"/>
                  <a:pt x="160" y="0"/>
                  <a:pt x="192" y="40"/>
                </a:cubicBezTo>
                <a:cubicBezTo>
                  <a:pt x="224" y="80"/>
                  <a:pt x="216" y="328"/>
                  <a:pt x="192" y="376"/>
                </a:cubicBezTo>
                <a:cubicBezTo>
                  <a:pt x="168" y="424"/>
                  <a:pt x="108" y="376"/>
                  <a:pt x="48" y="3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76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62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4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3657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4648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588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5334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3720" y="53341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5880" y="5791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3962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5791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33720" y="5562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33920" y="3505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5791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33920" y="3733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219320" y="4038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possible run on the same in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48769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C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D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n       C        C         C        C         D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3720" y="533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14479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C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D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C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n       C        C        C        n        D       n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15238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v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35053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ne or 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6520" y="1447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3581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5720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6668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038480" y="33526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4267080"/>
            <a:ext cx="12193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36760" y="4343400"/>
            <a:ext cx="1092240" cy="1282680"/>
          </a:xfrm>
          <a:custGeom>
            <a:avLst/>
            <a:gdLst/>
            <a:ahLst/>
            <a:rect l="l" t="t" r="r" b="b"/>
            <a:pathLst>
              <a:path w="688" h="808">
                <a:moveTo>
                  <a:pt x="592" y="0"/>
                </a:moveTo>
                <a:cubicBezTo>
                  <a:pt x="312" y="252"/>
                  <a:pt x="32" y="504"/>
                  <a:pt x="16" y="624"/>
                </a:cubicBezTo>
                <a:cubicBezTo>
                  <a:pt x="0" y="744"/>
                  <a:pt x="384" y="808"/>
                  <a:pt x="496" y="720"/>
                </a:cubicBezTo>
                <a:cubicBezTo>
                  <a:pt x="608" y="632"/>
                  <a:pt x="648" y="364"/>
                  <a:pt x="688" y="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32767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447920" y="11430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 Reactive System 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17524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Sys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3581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 Reactive System 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Sy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4952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,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, 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ndetS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33520" y="23623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pair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x,y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ondetSy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s calle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the nondeterministic reactive system NondetSy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447920" y="251460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 S1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ystem 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181480" y="304920"/>
            <a:ext cx="3048120" cy="14724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1 is a more detailed description of S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2 is an abstraction or property of S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800240" y="1828800"/>
            <a:ext cx="6858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57200" y="137160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1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ffer of size 2                  Arbitrary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ing machine                  No-unrequested-soda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r coin                               Nondeterministic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90720" y="53341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 output signal   heads, heads, heads, heads, …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or    tails, tails, tails, tails, 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990360" y="3962520"/>
            <a:ext cx="1066680" cy="1295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447920" y="152388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 S1  and  S2 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=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85800" y="1219320"/>
            <a:ext cx="77724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 causal discrete-time react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implemen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eterministic) state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3352680"/>
            <a:ext cx="8229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 causal discrete-time react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implemen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state mach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676520" y="1219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438280"/>
            <a:ext cx="7162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: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67652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05740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InitialStat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Updat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P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) \ 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57150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ptiveness (i.e., machine cannot prohibit an inpu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7696080" y="510516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98108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 Channel withou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2096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C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2448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2895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98108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 Channel withou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22096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C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100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2895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7220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46483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38680" y="43434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1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4419720"/>
            <a:ext cx="888840" cy="1498320"/>
          </a:xfrm>
          <a:custGeom>
            <a:avLst/>
            <a:gdLst/>
            <a:ahLst/>
            <a:rect l="l" t="t" r="r" b="b"/>
            <a:pathLst>
              <a:path w="560" h="944">
                <a:moveTo>
                  <a:pt x="0" y="288"/>
                </a:moveTo>
                <a:cubicBezTo>
                  <a:pt x="200" y="144"/>
                  <a:pt x="400" y="0"/>
                  <a:pt x="480" y="96"/>
                </a:cubicBezTo>
                <a:cubicBezTo>
                  <a:pt x="560" y="192"/>
                  <a:pt x="560" y="784"/>
                  <a:pt x="480" y="864"/>
                </a:cubicBezTo>
                <a:cubicBezTo>
                  <a:pt x="400" y="944"/>
                  <a:pt x="200" y="760"/>
                  <a:pt x="0" y="5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76520" y="1447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590920"/>
            <a:ext cx="3810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odeling random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odeling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odeling uncertain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odeling proper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98108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never drops two in a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1280" y="26668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3392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10080" y="32767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27432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76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27432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3352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72200" y="3352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981080" y="76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never drops two in a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0574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ime 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the input at time t-1 was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the input at time t-1 was not dropped, or t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8120" y="4876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65724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56236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76840" y="51814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771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339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4572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981080" y="76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never drops two in a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1828800"/>
            <a:ext cx="6705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  =  { 0, 1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  =  { 0, 1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 =  { a, b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InitialStates  =  { b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Updates ( a, 0 )  =  { ( b, 0 ) } possibleUpdates ( a, 1 )   =  { ( b, 1 ) } possibleUpdates ( b, 0 )  =  { ( b, 0 ) , ( 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 possibleUpdates ( b, 1 )   =  { ( b, 1 ) , ( 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066680" y="12193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tream, ther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32004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tream, ther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e or 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49528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run generates an output stream, and therefore every run gives rise to a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0512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Randomness: Coin T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2096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666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heads, tails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Randomness: Coin T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46483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724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h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419720"/>
            <a:ext cx="888840" cy="1498320"/>
          </a:xfrm>
          <a:custGeom>
            <a:avLst/>
            <a:gdLst/>
            <a:ahLst/>
            <a:rect l="l" t="t" r="r" b="b"/>
            <a:pathLst>
              <a:path w="560" h="944">
                <a:moveTo>
                  <a:pt x="0" y="288"/>
                </a:moveTo>
                <a:cubicBezTo>
                  <a:pt x="200" y="144"/>
                  <a:pt x="400" y="0"/>
                  <a:pt x="480" y="96"/>
                </a:cubicBezTo>
                <a:cubicBezTo>
                  <a:pt x="560" y="192"/>
                  <a:pt x="560" y="784"/>
                  <a:pt x="480" y="864"/>
                </a:cubicBezTo>
                <a:cubicBezTo>
                  <a:pt x="400" y="944"/>
                  <a:pt x="200" y="760"/>
                  <a:pt x="0" y="5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22096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2666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5909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heads, tails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62320" y="762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1676520"/>
            <a:ext cx="69343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0          1          2          3    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heads   heads  tails     heads   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36576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possibl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572000"/>
            <a:ext cx="693396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0          1          2          3    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tails     heads  tails     heads   h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05120" y="12193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Abstraction: Channel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74320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33526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3352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28195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1600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41148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133720" y="220932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286000" y="2362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3505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133360" y="365724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209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2666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038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808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886200" y="99036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038480" y="114300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2860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885840" y="243828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609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1447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2819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657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3341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038480" y="426672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885840" y="327672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480060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809880" y="49525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32004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3200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791320" y="45684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867280" y="609480"/>
            <a:ext cx="83844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73356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943600" y="388584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867280" y="259056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943600" y="274284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5410080"/>
            <a:ext cx="9144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91320" y="556236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9907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790960" y="11426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26708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867280" y="320004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30481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866920" y="44197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94360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14640" y="609552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6576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44956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61722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49528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048120" y="1294560"/>
            <a:ext cx="53316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724280" y="15120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952880" y="220896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181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6019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2514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142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1295280"/>
            <a:ext cx="241200" cy="1219320"/>
          </a:xfrm>
          <a:custGeom>
            <a:avLst/>
            <a:gdLst/>
            <a:ahLst/>
            <a:rect l="l" t="t" r="r" b="b"/>
            <a:pathLst>
              <a:path w="152" h="768">
                <a:moveTo>
                  <a:pt x="0" y="0"/>
                </a:moveTo>
                <a:cubicBezTo>
                  <a:pt x="68" y="152"/>
                  <a:pt x="136" y="304"/>
                  <a:pt x="144" y="432"/>
                </a:cubicBezTo>
                <a:cubicBezTo>
                  <a:pt x="152" y="560"/>
                  <a:pt x="100" y="664"/>
                  <a:pt x="48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752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37160" y="4572000"/>
            <a:ext cx="190440" cy="838080"/>
          </a:xfrm>
          <a:custGeom>
            <a:avLst/>
            <a:gdLst/>
            <a:ahLst/>
            <a:rect l="l" t="t" r="r" b="b"/>
            <a:pathLst>
              <a:path w="120" h="528">
                <a:moveTo>
                  <a:pt x="16" y="528"/>
                </a:moveTo>
                <a:cubicBezTo>
                  <a:pt x="8" y="528"/>
                  <a:pt x="0" y="528"/>
                  <a:pt x="16" y="480"/>
                </a:cubicBezTo>
                <a:cubicBezTo>
                  <a:pt x="32" y="432"/>
                  <a:pt x="104" y="320"/>
                  <a:pt x="112" y="240"/>
                </a:cubicBezTo>
                <a:cubicBezTo>
                  <a:pt x="120" y="160"/>
                  <a:pt x="92" y="80"/>
                  <a:pt x="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3352680"/>
            <a:ext cx="711360" cy="2133720"/>
          </a:xfrm>
          <a:custGeom>
            <a:avLst/>
            <a:gdLst/>
            <a:ahLst/>
            <a:rect l="l" t="t" r="r" b="b"/>
            <a:pathLst>
              <a:path w="448" h="1344">
                <a:moveTo>
                  <a:pt x="48" y="0"/>
                </a:moveTo>
                <a:cubicBezTo>
                  <a:pt x="188" y="172"/>
                  <a:pt x="328" y="344"/>
                  <a:pt x="384" y="528"/>
                </a:cubicBezTo>
                <a:cubicBezTo>
                  <a:pt x="440" y="712"/>
                  <a:pt x="448" y="968"/>
                  <a:pt x="384" y="1104"/>
                </a:cubicBezTo>
                <a:cubicBezTo>
                  <a:pt x="320" y="1240"/>
                  <a:pt x="160" y="1292"/>
                  <a:pt x="0" y="1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1219320"/>
            <a:ext cx="965160" cy="2590560"/>
          </a:xfrm>
          <a:custGeom>
            <a:avLst/>
            <a:gdLst/>
            <a:ahLst/>
            <a:rect l="l" t="t" r="r" b="b"/>
            <a:pathLst>
              <a:path w="608" h="1632">
                <a:moveTo>
                  <a:pt x="144" y="1632"/>
                </a:moveTo>
                <a:cubicBezTo>
                  <a:pt x="280" y="1492"/>
                  <a:pt x="416" y="1352"/>
                  <a:pt x="480" y="1152"/>
                </a:cubicBezTo>
                <a:cubicBezTo>
                  <a:pt x="544" y="952"/>
                  <a:pt x="608" y="624"/>
                  <a:pt x="528" y="432"/>
                </a:cubicBezTo>
                <a:cubicBezTo>
                  <a:pt x="448" y="240"/>
                  <a:pt x="224" y="12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1981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34120" y="34286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2743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= channel cont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33720" y="533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4479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0       10      10       01       01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21T15:32:58Z</dcterms:modified>
  <cp:revision>60</cp:revision>
  <dc:subject/>
  <dc:title>PowerPoint Presentation</dc:title>
</cp:coreProperties>
</file>