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</p:sldIdLst>
  <p:sldSz cx="9144000" cy="6858000"/>
  <p:notesSz cx="7019925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9257-B114-4E94-8596-9203E2388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9A69-72E1-4C38-A796-81ECB8C0B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7424-E12E-4CDF-B01A-A9951D031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5254-AD89-4542-B8B0-74BC185B9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A244-0762-489C-9951-AB1E8CBE9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D531-B26E-4459-AB17-720D7EC36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ABD6-2A38-4DD2-BE15-FFE671439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1C14-9D23-451E-9ABA-8735EDE66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E310-2A25-458E-B8ED-E3BCE6BC5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78A2-37CE-4660-ACD5-34C10B361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5877-B498-4677-B5BF-74093BAD5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0B20-8B28-4764-9E32-5E52CA8D1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F060D-B255-4B02-B602-14A0B8B0E5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33720" y="2514600"/>
            <a:ext cx="48765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ECS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Lecture 1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(February 14, 200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m Henzing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2280" y="15228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inim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86000" y="2286000"/>
            <a:ext cx="1600200" cy="1523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438280" y="27432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90720" y="304812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86200" y="304812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181480" y="2286000"/>
            <a:ext cx="1600200" cy="1523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7432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De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781680" y="304812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52280" y="2514600"/>
            <a:ext cx="2210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B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934320" y="2514600"/>
            <a:ext cx="2209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B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3124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 1 1 0 0 0 1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0" y="31240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 1 1 0 0 0 1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286000" y="106668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co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219320" y="2362320"/>
            <a:ext cx="6553080" cy="19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ate between time t-1 and 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t &gt; 0 and output at time t-1 was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b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t &gt; 0 and output at time t-1 wa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971800" y="2895480"/>
            <a:ext cx="91440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410080" y="2819520"/>
            <a:ext cx="91440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124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638680" y="30481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6200" y="327672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191120" y="2819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86200" y="34290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267080" y="3429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86000" y="106668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co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425680" y="3657600"/>
            <a:ext cx="825480" cy="749160"/>
          </a:xfrm>
          <a:custGeom>
            <a:avLst/>
            <a:gdLst/>
            <a:ahLst/>
            <a:rect l="l" t="t" r="r" b="b"/>
            <a:pathLst>
              <a:path w="520" h="472">
                <a:moveTo>
                  <a:pt x="392" y="0"/>
                </a:moveTo>
                <a:cubicBezTo>
                  <a:pt x="196" y="108"/>
                  <a:pt x="0" y="216"/>
                  <a:pt x="8" y="288"/>
                </a:cubicBezTo>
                <a:cubicBezTo>
                  <a:pt x="16" y="360"/>
                  <a:pt x="360" y="472"/>
                  <a:pt x="440" y="432"/>
                </a:cubicBezTo>
                <a:cubicBezTo>
                  <a:pt x="520" y="392"/>
                  <a:pt x="504" y="220"/>
                  <a:pt x="488" y="4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942880" y="3657600"/>
            <a:ext cx="825480" cy="749160"/>
          </a:xfrm>
          <a:custGeom>
            <a:avLst/>
            <a:gdLst/>
            <a:ahLst/>
            <a:rect l="l" t="t" r="r" b="b"/>
            <a:pathLst>
              <a:path w="520" h="472">
                <a:moveTo>
                  <a:pt x="392" y="0"/>
                </a:moveTo>
                <a:cubicBezTo>
                  <a:pt x="196" y="108"/>
                  <a:pt x="0" y="216"/>
                  <a:pt x="8" y="288"/>
                </a:cubicBezTo>
                <a:cubicBezTo>
                  <a:pt x="16" y="360"/>
                  <a:pt x="360" y="472"/>
                  <a:pt x="440" y="432"/>
                </a:cubicBezTo>
                <a:cubicBezTo>
                  <a:pt x="520" y="392"/>
                  <a:pt x="504" y="220"/>
                  <a:pt x="488" y="4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19920" y="4343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286000" y="4343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2971800" y="2895480"/>
            <a:ext cx="91440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410080" y="2819520"/>
            <a:ext cx="91440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124080" y="3124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30481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886200" y="327672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191120" y="2819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34290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267080" y="3429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106668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co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425680" y="3657600"/>
            <a:ext cx="825480" cy="749160"/>
          </a:xfrm>
          <a:custGeom>
            <a:avLst/>
            <a:gdLst/>
            <a:ahLst/>
            <a:rect l="l" t="t" r="r" b="b"/>
            <a:pathLst>
              <a:path w="520" h="472">
                <a:moveTo>
                  <a:pt x="392" y="0"/>
                </a:moveTo>
                <a:cubicBezTo>
                  <a:pt x="196" y="108"/>
                  <a:pt x="0" y="216"/>
                  <a:pt x="8" y="288"/>
                </a:cubicBezTo>
                <a:cubicBezTo>
                  <a:pt x="16" y="360"/>
                  <a:pt x="360" y="472"/>
                  <a:pt x="440" y="432"/>
                </a:cubicBezTo>
                <a:cubicBezTo>
                  <a:pt x="520" y="392"/>
                  <a:pt x="504" y="220"/>
                  <a:pt x="488" y="4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942880" y="3657600"/>
            <a:ext cx="825480" cy="749160"/>
          </a:xfrm>
          <a:custGeom>
            <a:avLst/>
            <a:gdLst/>
            <a:ahLst/>
            <a:rect l="l" t="t" r="r" b="b"/>
            <a:pathLst>
              <a:path w="520" h="472">
                <a:moveTo>
                  <a:pt x="392" y="0"/>
                </a:moveTo>
                <a:cubicBezTo>
                  <a:pt x="196" y="108"/>
                  <a:pt x="0" y="216"/>
                  <a:pt x="8" y="288"/>
                </a:cubicBezTo>
                <a:cubicBezTo>
                  <a:pt x="16" y="360"/>
                  <a:pt x="360" y="472"/>
                  <a:pt x="440" y="432"/>
                </a:cubicBezTo>
                <a:cubicBezTo>
                  <a:pt x="520" y="392"/>
                  <a:pt x="504" y="220"/>
                  <a:pt x="488" y="4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019920" y="4343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0" y="4343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2514600"/>
            <a:ext cx="38088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286000" y="106668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co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219320" y="2362320"/>
            <a:ext cx="7924680" cy="19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ate between time t-1 and 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t &gt; 0 and output at time t-1 was 0,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or  t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b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t &gt; 0 and output at time t-1 wa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2286000" y="1295280"/>
            <a:ext cx="1600200" cy="1524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438280" y="175248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90720" y="205740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886200" y="205740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181480" y="1295280"/>
            <a:ext cx="1600200" cy="1524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334120" y="17524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781680" y="205740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809880" y="4191120"/>
            <a:ext cx="1600200" cy="1523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514600" y="4952880"/>
            <a:ext cx="129528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410080" y="4952880"/>
            <a:ext cx="129564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4648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3352680"/>
            <a:ext cx="38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hould be equivalent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3808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715000" y="59436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 state (memory-fre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2590920" y="1066680"/>
            <a:ext cx="152388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743200" y="1219320"/>
            <a:ext cx="12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828800" y="13716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876920" y="1066680"/>
            <a:ext cx="152388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029200" y="12193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114800" y="13716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400800" y="13716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971800" y="2895480"/>
            <a:ext cx="91440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410080" y="2819520"/>
            <a:ext cx="91440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4800600"/>
            <a:ext cx="91440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4724280"/>
            <a:ext cx="91440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124080" y="31240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,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562720" y="495288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,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124080" y="5029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,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562720" y="30481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,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2590920" y="1066680"/>
            <a:ext cx="152388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1219320"/>
            <a:ext cx="12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828800" y="13716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876920" y="1066680"/>
            <a:ext cx="152388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029200" y="12193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14800" y="13716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400800" y="13716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971800" y="2895480"/>
            <a:ext cx="91440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410080" y="2819520"/>
            <a:ext cx="91440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971800" y="4800600"/>
            <a:ext cx="91440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410080" y="4724280"/>
            <a:ext cx="91440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124080" y="31240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,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562720" y="495288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,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124080" y="5029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,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562720" y="30481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,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590920" y="2590920"/>
            <a:ext cx="4572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2590920" y="1066680"/>
            <a:ext cx="152388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743200" y="1219320"/>
            <a:ext cx="12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828800" y="13716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876920" y="1066680"/>
            <a:ext cx="152388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12193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13716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400800" y="13716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971800" y="2895480"/>
            <a:ext cx="91440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410080" y="2819520"/>
            <a:ext cx="91440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971800" y="4800600"/>
            <a:ext cx="91440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410080" y="4724280"/>
            <a:ext cx="91440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124080" y="31240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,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495288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,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124080" y="5029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,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562720" y="30481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,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90920" y="2590920"/>
            <a:ext cx="4572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295280" y="1143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095880" y="990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809880" y="990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267080" y="914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238880" y="1143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917720" y="3149640"/>
            <a:ext cx="1054080" cy="482400"/>
          </a:xfrm>
          <a:custGeom>
            <a:avLst/>
            <a:gdLst/>
            <a:ahLst/>
            <a:rect l="l" t="t" r="r" b="b"/>
            <a:pathLst>
              <a:path w="664" h="304">
                <a:moveTo>
                  <a:pt x="664" y="128"/>
                </a:moveTo>
                <a:cubicBezTo>
                  <a:pt x="660" y="112"/>
                  <a:pt x="656" y="96"/>
                  <a:pt x="568" y="80"/>
                </a:cubicBezTo>
                <a:cubicBezTo>
                  <a:pt x="480" y="64"/>
                  <a:pt x="216" y="0"/>
                  <a:pt x="136" y="32"/>
                </a:cubicBezTo>
                <a:cubicBezTo>
                  <a:pt x="56" y="64"/>
                  <a:pt x="0" y="240"/>
                  <a:pt x="88" y="272"/>
                </a:cubicBezTo>
                <a:cubicBezTo>
                  <a:pt x="176" y="304"/>
                  <a:pt x="420" y="264"/>
                  <a:pt x="664" y="22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295280" y="3200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2590920" y="1066680"/>
            <a:ext cx="152388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743200" y="1219320"/>
            <a:ext cx="12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828800" y="13716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876920" y="1066680"/>
            <a:ext cx="152388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029200" y="12193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114800" y="13716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400800" y="13716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971800" y="2895480"/>
            <a:ext cx="91440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410080" y="2819520"/>
            <a:ext cx="91440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971800" y="4800600"/>
            <a:ext cx="91440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410080" y="4724280"/>
            <a:ext cx="91440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124080" y="31240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,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562720" y="495288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,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124080" y="5029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,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562720" y="30481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,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2590920"/>
            <a:ext cx="4572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295280" y="1143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095880" y="990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809880" y="990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267080" y="914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238880" y="1143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917720" y="3149640"/>
            <a:ext cx="1054080" cy="482400"/>
          </a:xfrm>
          <a:custGeom>
            <a:avLst/>
            <a:gdLst/>
            <a:ahLst/>
            <a:rect l="l" t="t" r="r" b="b"/>
            <a:pathLst>
              <a:path w="664" h="304">
                <a:moveTo>
                  <a:pt x="664" y="128"/>
                </a:moveTo>
                <a:cubicBezTo>
                  <a:pt x="660" y="112"/>
                  <a:pt x="656" y="96"/>
                  <a:pt x="568" y="80"/>
                </a:cubicBezTo>
                <a:cubicBezTo>
                  <a:pt x="480" y="64"/>
                  <a:pt x="216" y="0"/>
                  <a:pt x="136" y="32"/>
                </a:cubicBezTo>
                <a:cubicBezTo>
                  <a:pt x="56" y="64"/>
                  <a:pt x="0" y="240"/>
                  <a:pt x="88" y="272"/>
                </a:cubicBezTo>
                <a:cubicBezTo>
                  <a:pt x="176" y="304"/>
                  <a:pt x="420" y="264"/>
                  <a:pt x="664" y="22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219320" y="3200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809880" y="3657600"/>
            <a:ext cx="1676520" cy="129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886200" y="4114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85800" y="1066680"/>
            <a:ext cx="8001000" cy="48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quivalenc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between state machines M1 and M2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or every input signa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M1 and M2 produce the same output sig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Bisimulatio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between M1 and M2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initial states of M1 and M2 are related, and for all related states p of M1 and q of M2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or every input valu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p and q produce the same output value, and the next states are again rela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590920" y="1066680"/>
            <a:ext cx="152388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743200" y="1219320"/>
            <a:ext cx="12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828800" y="13716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876920" y="1066680"/>
            <a:ext cx="152388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029200" y="12193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114800" y="13716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400800" y="13716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971800" y="2895480"/>
            <a:ext cx="91440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410080" y="2819520"/>
            <a:ext cx="91440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971800" y="4800600"/>
            <a:ext cx="91440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410080" y="4724280"/>
            <a:ext cx="91440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124080" y="31240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,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562720" y="495288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,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124080" y="5029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,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562720" y="30481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,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590920" y="2590920"/>
            <a:ext cx="4572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295280" y="1143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095880" y="990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809880" y="990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267080" y="914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238880" y="1143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917720" y="3149640"/>
            <a:ext cx="1054080" cy="482400"/>
          </a:xfrm>
          <a:custGeom>
            <a:avLst/>
            <a:gdLst/>
            <a:ahLst/>
            <a:rect l="l" t="t" r="r" b="b"/>
            <a:pathLst>
              <a:path w="664" h="304">
                <a:moveTo>
                  <a:pt x="664" y="128"/>
                </a:moveTo>
                <a:cubicBezTo>
                  <a:pt x="660" y="112"/>
                  <a:pt x="656" y="96"/>
                  <a:pt x="568" y="80"/>
                </a:cubicBezTo>
                <a:cubicBezTo>
                  <a:pt x="480" y="64"/>
                  <a:pt x="216" y="0"/>
                  <a:pt x="136" y="32"/>
                </a:cubicBezTo>
                <a:cubicBezTo>
                  <a:pt x="56" y="64"/>
                  <a:pt x="0" y="240"/>
                  <a:pt x="88" y="272"/>
                </a:cubicBezTo>
                <a:cubicBezTo>
                  <a:pt x="176" y="304"/>
                  <a:pt x="420" y="264"/>
                  <a:pt x="664" y="22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219320" y="3200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809880" y="3657600"/>
            <a:ext cx="1676520" cy="129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886200" y="4114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886200" y="3505320"/>
            <a:ext cx="1676520" cy="1295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495680" y="36576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2590920" y="1066680"/>
            <a:ext cx="152388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743200" y="1219320"/>
            <a:ext cx="12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828800" y="13716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876920" y="1066680"/>
            <a:ext cx="152388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029200" y="12193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114800" y="13716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400800" y="13716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971800" y="2895480"/>
            <a:ext cx="91440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410080" y="2819520"/>
            <a:ext cx="91440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971800" y="4800600"/>
            <a:ext cx="91440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410080" y="4724280"/>
            <a:ext cx="91440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24080" y="31240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,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95288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,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124080" y="5029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,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562720" y="30481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,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590920" y="2590920"/>
            <a:ext cx="4572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295280" y="1143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095880" y="990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809880" y="990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267080" y="914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238880" y="1143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917720" y="3149640"/>
            <a:ext cx="1054080" cy="482400"/>
          </a:xfrm>
          <a:custGeom>
            <a:avLst/>
            <a:gdLst/>
            <a:ahLst/>
            <a:rect l="l" t="t" r="r" b="b"/>
            <a:pathLst>
              <a:path w="664" h="304">
                <a:moveTo>
                  <a:pt x="664" y="128"/>
                </a:moveTo>
                <a:cubicBezTo>
                  <a:pt x="660" y="112"/>
                  <a:pt x="656" y="96"/>
                  <a:pt x="568" y="80"/>
                </a:cubicBezTo>
                <a:cubicBezTo>
                  <a:pt x="480" y="64"/>
                  <a:pt x="216" y="0"/>
                  <a:pt x="136" y="32"/>
                </a:cubicBezTo>
                <a:cubicBezTo>
                  <a:pt x="56" y="64"/>
                  <a:pt x="0" y="240"/>
                  <a:pt x="88" y="272"/>
                </a:cubicBezTo>
                <a:cubicBezTo>
                  <a:pt x="176" y="304"/>
                  <a:pt x="420" y="264"/>
                  <a:pt x="664" y="22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219320" y="3200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809880" y="3657600"/>
            <a:ext cx="1676520" cy="129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886200" y="4114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3505320"/>
            <a:ext cx="1676520" cy="1295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495680" y="36576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6324480" y="4876920"/>
            <a:ext cx="1054080" cy="482400"/>
          </a:xfrm>
          <a:custGeom>
            <a:avLst/>
            <a:gdLst/>
            <a:ahLst/>
            <a:rect l="l" t="t" r="r" b="b"/>
            <a:pathLst>
              <a:path w="664" h="304">
                <a:moveTo>
                  <a:pt x="664" y="128"/>
                </a:moveTo>
                <a:cubicBezTo>
                  <a:pt x="660" y="112"/>
                  <a:pt x="656" y="96"/>
                  <a:pt x="568" y="80"/>
                </a:cubicBezTo>
                <a:cubicBezTo>
                  <a:pt x="480" y="64"/>
                  <a:pt x="216" y="0"/>
                  <a:pt x="136" y="32"/>
                </a:cubicBezTo>
                <a:cubicBezTo>
                  <a:pt x="56" y="64"/>
                  <a:pt x="0" y="240"/>
                  <a:pt x="88" y="272"/>
                </a:cubicBezTo>
                <a:cubicBezTo>
                  <a:pt x="176" y="304"/>
                  <a:pt x="420" y="264"/>
                  <a:pt x="664" y="22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315200" y="48769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2590920" y="1066680"/>
            <a:ext cx="152388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743200" y="1219320"/>
            <a:ext cx="12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28800" y="13716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876920" y="1066680"/>
            <a:ext cx="152388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029200" y="12193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114800" y="13716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400800" y="13716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971800" y="2895480"/>
            <a:ext cx="91440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410080" y="4724280"/>
            <a:ext cx="91440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124080" y="31240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,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562720" y="495288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,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590920" y="2590920"/>
            <a:ext cx="4572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917720" y="3149640"/>
            <a:ext cx="1054080" cy="482400"/>
          </a:xfrm>
          <a:custGeom>
            <a:avLst/>
            <a:gdLst/>
            <a:ahLst/>
            <a:rect l="l" t="t" r="r" b="b"/>
            <a:pathLst>
              <a:path w="664" h="304">
                <a:moveTo>
                  <a:pt x="664" y="128"/>
                </a:moveTo>
                <a:cubicBezTo>
                  <a:pt x="660" y="112"/>
                  <a:pt x="656" y="96"/>
                  <a:pt x="568" y="80"/>
                </a:cubicBezTo>
                <a:cubicBezTo>
                  <a:pt x="480" y="64"/>
                  <a:pt x="216" y="0"/>
                  <a:pt x="136" y="32"/>
                </a:cubicBezTo>
                <a:cubicBezTo>
                  <a:pt x="56" y="64"/>
                  <a:pt x="0" y="240"/>
                  <a:pt x="88" y="272"/>
                </a:cubicBezTo>
                <a:cubicBezTo>
                  <a:pt x="176" y="304"/>
                  <a:pt x="420" y="264"/>
                  <a:pt x="664" y="22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219320" y="3200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809880" y="3657600"/>
            <a:ext cx="1676520" cy="129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886200" y="4114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886200" y="3505320"/>
            <a:ext cx="1676520" cy="1295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495680" y="36576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6324480" y="4876920"/>
            <a:ext cx="1054080" cy="482400"/>
          </a:xfrm>
          <a:custGeom>
            <a:avLst/>
            <a:gdLst/>
            <a:ahLst/>
            <a:rect l="l" t="t" r="r" b="b"/>
            <a:pathLst>
              <a:path w="664" h="304">
                <a:moveTo>
                  <a:pt x="664" y="128"/>
                </a:moveTo>
                <a:cubicBezTo>
                  <a:pt x="660" y="112"/>
                  <a:pt x="656" y="96"/>
                  <a:pt x="568" y="80"/>
                </a:cubicBezTo>
                <a:cubicBezTo>
                  <a:pt x="480" y="64"/>
                  <a:pt x="216" y="0"/>
                  <a:pt x="136" y="32"/>
                </a:cubicBezTo>
                <a:cubicBezTo>
                  <a:pt x="56" y="64"/>
                  <a:pt x="0" y="240"/>
                  <a:pt x="88" y="272"/>
                </a:cubicBezTo>
                <a:cubicBezTo>
                  <a:pt x="176" y="304"/>
                  <a:pt x="420" y="264"/>
                  <a:pt x="664" y="22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315200" y="48769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33520" y="579132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Remove unreachable state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2286000" y="1295280"/>
            <a:ext cx="1600200" cy="1524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438280" y="175248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990720" y="205740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205740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181480" y="1295280"/>
            <a:ext cx="1600200" cy="1524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334120" y="17524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781680" y="205740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09880" y="4191120"/>
            <a:ext cx="1600200" cy="1523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514600" y="4952880"/>
            <a:ext cx="129528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410080" y="4952880"/>
            <a:ext cx="129564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343400" y="4648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666880" y="3352680"/>
            <a:ext cx="38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hould be equivalent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391520" y="3808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620120" y="59436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2590920" y="1066680"/>
            <a:ext cx="152388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743200" y="1219320"/>
            <a:ext cx="12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828800" y="13716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876920" y="1066680"/>
            <a:ext cx="152388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029200" y="12193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114800" y="13716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400800" y="13716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048120" y="2209680"/>
            <a:ext cx="91440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2209680"/>
            <a:ext cx="91440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200400" y="24382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,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410080" y="2438280"/>
            <a:ext cx="60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,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95480" y="2057400"/>
            <a:ext cx="30492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81080" y="2438280"/>
            <a:ext cx="1054080" cy="482760"/>
          </a:xfrm>
          <a:custGeom>
            <a:avLst/>
            <a:gdLst/>
            <a:ahLst/>
            <a:rect l="l" t="t" r="r" b="b"/>
            <a:pathLst>
              <a:path w="664" h="304">
                <a:moveTo>
                  <a:pt x="664" y="128"/>
                </a:moveTo>
                <a:cubicBezTo>
                  <a:pt x="660" y="112"/>
                  <a:pt x="656" y="96"/>
                  <a:pt x="568" y="80"/>
                </a:cubicBezTo>
                <a:cubicBezTo>
                  <a:pt x="480" y="64"/>
                  <a:pt x="216" y="0"/>
                  <a:pt x="136" y="32"/>
                </a:cubicBezTo>
                <a:cubicBezTo>
                  <a:pt x="56" y="64"/>
                  <a:pt x="0" y="240"/>
                  <a:pt x="88" y="272"/>
                </a:cubicBezTo>
                <a:cubicBezTo>
                  <a:pt x="176" y="304"/>
                  <a:pt x="420" y="264"/>
                  <a:pt x="664" y="22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295280" y="2438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962520" y="281952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267080" y="28195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962520" y="251460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267080" y="2133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6172200" y="2362320"/>
            <a:ext cx="1054080" cy="482400"/>
          </a:xfrm>
          <a:custGeom>
            <a:avLst/>
            <a:gdLst/>
            <a:ahLst/>
            <a:rect l="l" t="t" r="r" b="b"/>
            <a:pathLst>
              <a:path w="664" h="304">
                <a:moveTo>
                  <a:pt x="664" y="128"/>
                </a:moveTo>
                <a:cubicBezTo>
                  <a:pt x="660" y="112"/>
                  <a:pt x="656" y="96"/>
                  <a:pt x="568" y="80"/>
                </a:cubicBezTo>
                <a:cubicBezTo>
                  <a:pt x="480" y="64"/>
                  <a:pt x="216" y="0"/>
                  <a:pt x="136" y="32"/>
                </a:cubicBezTo>
                <a:cubicBezTo>
                  <a:pt x="56" y="64"/>
                  <a:pt x="0" y="240"/>
                  <a:pt x="88" y="272"/>
                </a:cubicBezTo>
                <a:cubicBezTo>
                  <a:pt x="176" y="304"/>
                  <a:pt x="420" y="264"/>
                  <a:pt x="664" y="22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162920" y="2362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191120" y="4191120"/>
            <a:ext cx="91440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657600" y="457200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H="1">
            <a:off x="5105520" y="4343400"/>
            <a:ext cx="1054080" cy="482760"/>
          </a:xfrm>
          <a:custGeom>
            <a:avLst/>
            <a:gdLst/>
            <a:ahLst/>
            <a:rect l="l" t="t" r="r" b="b"/>
            <a:pathLst>
              <a:path w="664" h="304">
                <a:moveTo>
                  <a:pt x="664" y="128"/>
                </a:moveTo>
                <a:cubicBezTo>
                  <a:pt x="660" y="112"/>
                  <a:pt x="656" y="96"/>
                  <a:pt x="568" y="80"/>
                </a:cubicBezTo>
                <a:cubicBezTo>
                  <a:pt x="480" y="64"/>
                  <a:pt x="216" y="0"/>
                  <a:pt x="136" y="32"/>
                </a:cubicBezTo>
                <a:cubicBezTo>
                  <a:pt x="56" y="64"/>
                  <a:pt x="0" y="240"/>
                  <a:pt x="88" y="272"/>
                </a:cubicBezTo>
                <a:cubicBezTo>
                  <a:pt x="176" y="304"/>
                  <a:pt x="420" y="264"/>
                  <a:pt x="664" y="22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095880" y="4114800"/>
            <a:ext cx="9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962520" y="5486400"/>
            <a:ext cx="152388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200400" y="57913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486400" y="57913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495680" y="56386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495680" y="44197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2590920" y="1066680"/>
            <a:ext cx="152388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743200" y="1219320"/>
            <a:ext cx="12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828800" y="13716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876920" y="1066680"/>
            <a:ext cx="152388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029200" y="12193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114800" y="13716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400800" y="13716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048120" y="2209680"/>
            <a:ext cx="91440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257800" y="2209680"/>
            <a:ext cx="91440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200400" y="24382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,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410080" y="2438280"/>
            <a:ext cx="60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,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895480" y="2057400"/>
            <a:ext cx="30492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981080" y="2438280"/>
            <a:ext cx="1054080" cy="482760"/>
          </a:xfrm>
          <a:custGeom>
            <a:avLst/>
            <a:gdLst/>
            <a:ahLst/>
            <a:rect l="l" t="t" r="r" b="b"/>
            <a:pathLst>
              <a:path w="664" h="304">
                <a:moveTo>
                  <a:pt x="664" y="128"/>
                </a:moveTo>
                <a:cubicBezTo>
                  <a:pt x="660" y="112"/>
                  <a:pt x="656" y="96"/>
                  <a:pt x="568" y="80"/>
                </a:cubicBezTo>
                <a:cubicBezTo>
                  <a:pt x="480" y="64"/>
                  <a:pt x="216" y="0"/>
                  <a:pt x="136" y="32"/>
                </a:cubicBezTo>
                <a:cubicBezTo>
                  <a:pt x="56" y="64"/>
                  <a:pt x="0" y="240"/>
                  <a:pt x="88" y="272"/>
                </a:cubicBezTo>
                <a:cubicBezTo>
                  <a:pt x="176" y="304"/>
                  <a:pt x="420" y="264"/>
                  <a:pt x="664" y="22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2438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962520" y="281952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267080" y="28195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62520" y="251460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267080" y="2133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6172200" y="2362320"/>
            <a:ext cx="1054080" cy="482400"/>
          </a:xfrm>
          <a:custGeom>
            <a:avLst/>
            <a:gdLst/>
            <a:ahLst/>
            <a:rect l="l" t="t" r="r" b="b"/>
            <a:pathLst>
              <a:path w="664" h="304">
                <a:moveTo>
                  <a:pt x="664" y="128"/>
                </a:moveTo>
                <a:cubicBezTo>
                  <a:pt x="660" y="112"/>
                  <a:pt x="656" y="96"/>
                  <a:pt x="568" y="80"/>
                </a:cubicBezTo>
                <a:cubicBezTo>
                  <a:pt x="480" y="64"/>
                  <a:pt x="216" y="0"/>
                  <a:pt x="136" y="32"/>
                </a:cubicBezTo>
                <a:cubicBezTo>
                  <a:pt x="56" y="64"/>
                  <a:pt x="0" y="240"/>
                  <a:pt x="88" y="272"/>
                </a:cubicBezTo>
                <a:cubicBezTo>
                  <a:pt x="176" y="304"/>
                  <a:pt x="420" y="264"/>
                  <a:pt x="664" y="22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162920" y="2362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191120" y="4191120"/>
            <a:ext cx="91440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657600" y="457200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5105520" y="4343400"/>
            <a:ext cx="1054080" cy="482760"/>
          </a:xfrm>
          <a:custGeom>
            <a:avLst/>
            <a:gdLst/>
            <a:ahLst/>
            <a:rect l="l" t="t" r="r" b="b"/>
            <a:pathLst>
              <a:path w="664" h="304">
                <a:moveTo>
                  <a:pt x="664" y="128"/>
                </a:moveTo>
                <a:cubicBezTo>
                  <a:pt x="660" y="112"/>
                  <a:pt x="656" y="96"/>
                  <a:pt x="568" y="80"/>
                </a:cubicBezTo>
                <a:cubicBezTo>
                  <a:pt x="480" y="64"/>
                  <a:pt x="216" y="0"/>
                  <a:pt x="136" y="32"/>
                </a:cubicBezTo>
                <a:cubicBezTo>
                  <a:pt x="56" y="64"/>
                  <a:pt x="0" y="240"/>
                  <a:pt x="88" y="272"/>
                </a:cubicBezTo>
                <a:cubicBezTo>
                  <a:pt x="176" y="304"/>
                  <a:pt x="420" y="264"/>
                  <a:pt x="664" y="22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095880" y="4114800"/>
            <a:ext cx="9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962520" y="5486400"/>
            <a:ext cx="152388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200400" y="57913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486400" y="57913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495680" y="56386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495680" y="44197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768760" y="1920960"/>
            <a:ext cx="3684600" cy="3395520"/>
          </a:xfrm>
          <a:custGeom>
            <a:avLst/>
            <a:gdLst/>
            <a:ahLst/>
            <a:rect l="l" t="t" r="r" b="b"/>
            <a:pathLst>
              <a:path w="2321" h="2139">
                <a:moveTo>
                  <a:pt x="319" y="68"/>
                </a:moveTo>
                <a:cubicBezTo>
                  <a:pt x="296" y="75"/>
                  <a:pt x="272" y="78"/>
                  <a:pt x="251" y="89"/>
                </a:cubicBezTo>
                <a:cubicBezTo>
                  <a:pt x="227" y="101"/>
                  <a:pt x="221" y="110"/>
                  <a:pt x="193" y="115"/>
                </a:cubicBezTo>
                <a:cubicBezTo>
                  <a:pt x="169" y="131"/>
                  <a:pt x="138" y="149"/>
                  <a:pt x="120" y="172"/>
                </a:cubicBezTo>
                <a:cubicBezTo>
                  <a:pt x="88" y="212"/>
                  <a:pt x="130" y="168"/>
                  <a:pt x="99" y="199"/>
                </a:cubicBezTo>
                <a:cubicBezTo>
                  <a:pt x="94" y="220"/>
                  <a:pt x="96" y="221"/>
                  <a:pt x="83" y="240"/>
                </a:cubicBezTo>
                <a:cubicBezTo>
                  <a:pt x="73" y="254"/>
                  <a:pt x="52" y="282"/>
                  <a:pt x="52" y="282"/>
                </a:cubicBezTo>
                <a:cubicBezTo>
                  <a:pt x="46" y="302"/>
                  <a:pt x="21" y="335"/>
                  <a:pt x="21" y="335"/>
                </a:cubicBezTo>
                <a:cubicBezTo>
                  <a:pt x="13" y="368"/>
                  <a:pt x="6" y="401"/>
                  <a:pt x="0" y="434"/>
                </a:cubicBezTo>
                <a:cubicBezTo>
                  <a:pt x="2" y="497"/>
                  <a:pt x="0" y="560"/>
                  <a:pt x="5" y="623"/>
                </a:cubicBezTo>
                <a:cubicBezTo>
                  <a:pt x="8" y="661"/>
                  <a:pt x="18" y="673"/>
                  <a:pt x="31" y="701"/>
                </a:cubicBezTo>
                <a:cubicBezTo>
                  <a:pt x="40" y="722"/>
                  <a:pt x="46" y="749"/>
                  <a:pt x="57" y="769"/>
                </a:cubicBezTo>
                <a:cubicBezTo>
                  <a:pt x="91" y="831"/>
                  <a:pt x="144" y="883"/>
                  <a:pt x="188" y="937"/>
                </a:cubicBezTo>
                <a:cubicBezTo>
                  <a:pt x="225" y="983"/>
                  <a:pt x="258" y="1067"/>
                  <a:pt x="303" y="1099"/>
                </a:cubicBezTo>
                <a:cubicBezTo>
                  <a:pt x="311" y="1128"/>
                  <a:pt x="338" y="1147"/>
                  <a:pt x="356" y="1173"/>
                </a:cubicBezTo>
                <a:cubicBezTo>
                  <a:pt x="388" y="1219"/>
                  <a:pt x="411" y="1269"/>
                  <a:pt x="455" y="1303"/>
                </a:cubicBezTo>
                <a:cubicBezTo>
                  <a:pt x="472" y="1349"/>
                  <a:pt x="493" y="1374"/>
                  <a:pt x="529" y="1403"/>
                </a:cubicBezTo>
                <a:cubicBezTo>
                  <a:pt x="554" y="1465"/>
                  <a:pt x="534" y="1430"/>
                  <a:pt x="602" y="1497"/>
                </a:cubicBezTo>
                <a:cubicBezTo>
                  <a:pt x="609" y="1504"/>
                  <a:pt x="623" y="1518"/>
                  <a:pt x="623" y="1518"/>
                </a:cubicBezTo>
                <a:cubicBezTo>
                  <a:pt x="635" y="1570"/>
                  <a:pt x="662" y="1585"/>
                  <a:pt x="691" y="1623"/>
                </a:cubicBezTo>
                <a:cubicBezTo>
                  <a:pt x="702" y="1658"/>
                  <a:pt x="687" y="1618"/>
                  <a:pt x="717" y="1665"/>
                </a:cubicBezTo>
                <a:cubicBezTo>
                  <a:pt x="743" y="1706"/>
                  <a:pt x="770" y="1764"/>
                  <a:pt x="785" y="1811"/>
                </a:cubicBezTo>
                <a:cubicBezTo>
                  <a:pt x="796" y="1845"/>
                  <a:pt x="791" y="1885"/>
                  <a:pt x="822" y="1906"/>
                </a:cubicBezTo>
                <a:cubicBezTo>
                  <a:pt x="825" y="1923"/>
                  <a:pt x="852" y="1968"/>
                  <a:pt x="864" y="1979"/>
                </a:cubicBezTo>
                <a:cubicBezTo>
                  <a:pt x="876" y="1991"/>
                  <a:pt x="894" y="1994"/>
                  <a:pt x="906" y="2005"/>
                </a:cubicBezTo>
                <a:cubicBezTo>
                  <a:pt x="957" y="2049"/>
                  <a:pt x="978" y="2101"/>
                  <a:pt x="1047" y="2110"/>
                </a:cubicBezTo>
                <a:cubicBezTo>
                  <a:pt x="1136" y="2139"/>
                  <a:pt x="1065" y="2132"/>
                  <a:pt x="1230" y="2126"/>
                </a:cubicBezTo>
                <a:cubicBezTo>
                  <a:pt x="1251" y="2121"/>
                  <a:pt x="1274" y="2120"/>
                  <a:pt x="1293" y="2110"/>
                </a:cubicBezTo>
                <a:cubicBezTo>
                  <a:pt x="1322" y="2096"/>
                  <a:pt x="1350" y="2076"/>
                  <a:pt x="1382" y="2068"/>
                </a:cubicBezTo>
                <a:cubicBezTo>
                  <a:pt x="1401" y="2055"/>
                  <a:pt x="1421" y="2044"/>
                  <a:pt x="1440" y="2031"/>
                </a:cubicBezTo>
                <a:cubicBezTo>
                  <a:pt x="1455" y="2009"/>
                  <a:pt x="1471" y="2005"/>
                  <a:pt x="1492" y="1989"/>
                </a:cubicBezTo>
                <a:cubicBezTo>
                  <a:pt x="1520" y="1969"/>
                  <a:pt x="1541" y="1941"/>
                  <a:pt x="1565" y="1916"/>
                </a:cubicBezTo>
                <a:cubicBezTo>
                  <a:pt x="1583" y="1898"/>
                  <a:pt x="1611" y="1893"/>
                  <a:pt x="1633" y="1879"/>
                </a:cubicBezTo>
                <a:cubicBezTo>
                  <a:pt x="1638" y="1872"/>
                  <a:pt x="1642" y="1864"/>
                  <a:pt x="1649" y="1859"/>
                </a:cubicBezTo>
                <a:cubicBezTo>
                  <a:pt x="1653" y="1855"/>
                  <a:pt x="1661" y="1857"/>
                  <a:pt x="1665" y="1853"/>
                </a:cubicBezTo>
                <a:cubicBezTo>
                  <a:pt x="1675" y="1843"/>
                  <a:pt x="1678" y="1828"/>
                  <a:pt x="1686" y="1817"/>
                </a:cubicBezTo>
                <a:cubicBezTo>
                  <a:pt x="1693" y="1794"/>
                  <a:pt x="1712" y="1749"/>
                  <a:pt x="1712" y="1749"/>
                </a:cubicBezTo>
                <a:cubicBezTo>
                  <a:pt x="1721" y="1700"/>
                  <a:pt x="1745" y="1658"/>
                  <a:pt x="1764" y="1612"/>
                </a:cubicBezTo>
                <a:cubicBezTo>
                  <a:pt x="1769" y="1600"/>
                  <a:pt x="1770" y="1587"/>
                  <a:pt x="1775" y="1576"/>
                </a:cubicBezTo>
                <a:cubicBezTo>
                  <a:pt x="1782" y="1561"/>
                  <a:pt x="1801" y="1534"/>
                  <a:pt x="1801" y="1534"/>
                </a:cubicBezTo>
                <a:cubicBezTo>
                  <a:pt x="1807" y="1493"/>
                  <a:pt x="1822" y="1452"/>
                  <a:pt x="1838" y="1413"/>
                </a:cubicBezTo>
                <a:cubicBezTo>
                  <a:pt x="1850" y="1350"/>
                  <a:pt x="1831" y="1427"/>
                  <a:pt x="1864" y="1361"/>
                </a:cubicBezTo>
                <a:cubicBezTo>
                  <a:pt x="1898" y="1292"/>
                  <a:pt x="1920" y="1206"/>
                  <a:pt x="1984" y="1157"/>
                </a:cubicBezTo>
                <a:cubicBezTo>
                  <a:pt x="1996" y="1086"/>
                  <a:pt x="1977" y="1152"/>
                  <a:pt x="2021" y="1089"/>
                </a:cubicBezTo>
                <a:cubicBezTo>
                  <a:pt x="2029" y="1078"/>
                  <a:pt x="2029" y="1063"/>
                  <a:pt x="2037" y="1052"/>
                </a:cubicBezTo>
                <a:cubicBezTo>
                  <a:pt x="2045" y="1041"/>
                  <a:pt x="2059" y="1036"/>
                  <a:pt x="2068" y="1026"/>
                </a:cubicBezTo>
                <a:cubicBezTo>
                  <a:pt x="2092" y="1000"/>
                  <a:pt x="2100" y="961"/>
                  <a:pt x="2120" y="932"/>
                </a:cubicBezTo>
                <a:cubicBezTo>
                  <a:pt x="2138" y="905"/>
                  <a:pt x="2159" y="880"/>
                  <a:pt x="2178" y="853"/>
                </a:cubicBezTo>
                <a:cubicBezTo>
                  <a:pt x="2195" y="829"/>
                  <a:pt x="2202" y="803"/>
                  <a:pt x="2220" y="780"/>
                </a:cubicBezTo>
                <a:cubicBezTo>
                  <a:pt x="2229" y="750"/>
                  <a:pt x="2249" y="724"/>
                  <a:pt x="2262" y="696"/>
                </a:cubicBezTo>
                <a:cubicBezTo>
                  <a:pt x="2271" y="677"/>
                  <a:pt x="2275" y="657"/>
                  <a:pt x="2283" y="638"/>
                </a:cubicBezTo>
                <a:cubicBezTo>
                  <a:pt x="2288" y="598"/>
                  <a:pt x="2296" y="561"/>
                  <a:pt x="2309" y="523"/>
                </a:cubicBezTo>
                <a:cubicBezTo>
                  <a:pt x="2315" y="426"/>
                  <a:pt x="2321" y="380"/>
                  <a:pt x="2309" y="267"/>
                </a:cubicBezTo>
                <a:cubicBezTo>
                  <a:pt x="2306" y="240"/>
                  <a:pt x="2272" y="208"/>
                  <a:pt x="2257" y="188"/>
                </a:cubicBezTo>
                <a:cubicBezTo>
                  <a:pt x="2223" y="145"/>
                  <a:pt x="2154" y="86"/>
                  <a:pt x="2099" y="73"/>
                </a:cubicBezTo>
                <a:cubicBezTo>
                  <a:pt x="2010" y="8"/>
                  <a:pt x="1888" y="9"/>
                  <a:pt x="1780" y="0"/>
                </a:cubicBezTo>
                <a:cubicBezTo>
                  <a:pt x="1558" y="7"/>
                  <a:pt x="1341" y="52"/>
                  <a:pt x="1120" y="62"/>
                </a:cubicBezTo>
                <a:cubicBezTo>
                  <a:pt x="899" y="72"/>
                  <a:pt x="489" y="68"/>
                  <a:pt x="319" y="68"/>
                </a:cubicBezTo>
                <a:close/>
              </a:path>
            </a:pathLst>
          </a:custGeom>
          <a:noFill/>
          <a:ln w="19080">
            <a:solidFill>
              <a:srgbClr val="ff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52280" y="4343400"/>
            <a:ext cx="342900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Bisimulation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 = { ( (0,a), q ), ( (1,b), q )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1905120" y="121932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Minimization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143000" y="2514600"/>
            <a:ext cx="73152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put :      state machine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utput :   minimize (M),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h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tate machine with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     the fewest states that is bisimilar to M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the result is unique up to renaming of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stat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533520" y="1828800"/>
            <a:ext cx="861048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 minimize (M) = N , th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.  M and N are bisimilar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i.e., there is a bisimulation between M and N 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  For every state machine N’ that is bisimilar to 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a.  N’ has at least as many states as 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b.  If N’ has the same number of states as N,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then N’ and N differ only in the names of sta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2057400" y="83808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Minimization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066680" y="2133720"/>
            <a:ext cx="7010640" cy="35049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371600" y="2362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at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286000" y="3505320"/>
            <a:ext cx="15228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934320" y="3505320"/>
            <a:ext cx="15228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124080" y="4191120"/>
            <a:ext cx="15264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057400" y="4648320"/>
            <a:ext cx="15228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429000" y="3124080"/>
            <a:ext cx="15228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181480" y="5029200"/>
            <a:ext cx="15264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105520" y="2895480"/>
            <a:ext cx="15228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943600" y="3733920"/>
            <a:ext cx="15228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238880" y="4343400"/>
            <a:ext cx="15264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2057400" y="83808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Minimization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066680" y="2133720"/>
            <a:ext cx="7010640" cy="35049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286000" y="3505320"/>
            <a:ext cx="15228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934320" y="3505320"/>
            <a:ext cx="15228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124080" y="4191120"/>
            <a:ext cx="15264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057400" y="4648320"/>
            <a:ext cx="15228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429000" y="3124080"/>
            <a:ext cx="15228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181480" y="5029200"/>
            <a:ext cx="15264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105520" y="2895480"/>
            <a:ext cx="15228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943600" y="3733920"/>
            <a:ext cx="15228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7238880" y="4343400"/>
            <a:ext cx="15264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09680" y="4800600"/>
            <a:ext cx="38124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581280" y="320040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362320" y="365760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095880" y="3886200"/>
            <a:ext cx="38124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flipV="1">
            <a:off x="3276720" y="396216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 flipH="1" flipV="1">
            <a:off x="6857640" y="2971800"/>
            <a:ext cx="15228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H="1" flipV="1">
            <a:off x="6705360" y="3962520"/>
            <a:ext cx="53316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4800600" y="5181480"/>
            <a:ext cx="38088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V="1">
            <a:off x="5257800" y="2590920"/>
            <a:ext cx="45720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505320" y="28195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334120" y="27432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352680" y="411480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828800" y="48769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828800" y="36576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029200" y="52578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934320" y="38862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15000" y="39625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934320" y="31240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057400" y="1600200"/>
            <a:ext cx="518148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heorem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two state machines M1 and M2 are equivalent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iff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there is a bisimulation between M1 and M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676520" y="373392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w do we find a bisimulation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2057400" y="83808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Minimization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066680" y="2133720"/>
            <a:ext cx="7010640" cy="35049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286000" y="3505320"/>
            <a:ext cx="15228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934320" y="3505320"/>
            <a:ext cx="15228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124080" y="4191120"/>
            <a:ext cx="15264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057400" y="4648320"/>
            <a:ext cx="15228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429000" y="3124080"/>
            <a:ext cx="15228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181480" y="5029200"/>
            <a:ext cx="15264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105520" y="2895480"/>
            <a:ext cx="15228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943600" y="3733920"/>
            <a:ext cx="15228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7238880" y="4343400"/>
            <a:ext cx="15264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09680" y="4800600"/>
            <a:ext cx="38124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581280" y="320040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362320" y="365760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095880" y="3886200"/>
            <a:ext cx="38124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 flipV="1">
            <a:off x="3276720" y="396216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H="1" flipV="1">
            <a:off x="6857640" y="2971800"/>
            <a:ext cx="15228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flipH="1" flipV="1">
            <a:off x="6705360" y="3962520"/>
            <a:ext cx="53316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H="1">
            <a:off x="4800600" y="5181480"/>
            <a:ext cx="38088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flipV="1">
            <a:off x="5257800" y="2590920"/>
            <a:ext cx="45720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505320" y="28195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5334120" y="27432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352680" y="411480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828800" y="48769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828800" y="36576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029200" y="52578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934320" y="38862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15000" y="39625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934320" y="31240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 flipH="1">
            <a:off x="4114440" y="2133720"/>
            <a:ext cx="609480" cy="35049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/>
          <p:nvPr/>
        </p:nvSpPr>
        <p:spPr>
          <a:xfrm>
            <a:off x="2057400" y="83808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Minimization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286000" y="3505320"/>
            <a:ext cx="15228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934320" y="3505320"/>
            <a:ext cx="15228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124080" y="4191120"/>
            <a:ext cx="15264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057400" y="4648320"/>
            <a:ext cx="15228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429000" y="3124080"/>
            <a:ext cx="15228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181480" y="5029200"/>
            <a:ext cx="15264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105520" y="2895480"/>
            <a:ext cx="15228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943600" y="3733920"/>
            <a:ext cx="15228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7238880" y="4343400"/>
            <a:ext cx="15264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419720" y="2133720"/>
            <a:ext cx="3657600" cy="35049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066680" y="2133720"/>
            <a:ext cx="3124440" cy="3504960"/>
          </a:xfrm>
          <a:custGeom>
            <a:avLst/>
            <a:gdLst>
              <a:gd name="textAreaLeft" fmla="*/ 152280 w 3124440"/>
              <a:gd name="textAreaRight" fmla="*/ 2972160 w 3124440"/>
              <a:gd name="textAreaTop" fmla="*/ 152280 h 3504960"/>
              <a:gd name="textAreaBottom" fmla="*/ 3352680 h 3504960"/>
            </a:gdLst>
            <a:ahLst/>
            <a:rect l="textAreaLeft" t="textAreaTop" r="textAreaRight" b="textAreaBottom"/>
            <a:pathLst>
              <a:path w="21600" h="24230">
                <a:moveTo>
                  <a:pt x="3600" y="0"/>
                </a:moveTo>
                <a:arcTo wR="3600" hR="3600" stAng="16200000" swAng="-5400000"/>
                <a:lnTo>
                  <a:pt x="0" y="20630"/>
                </a:lnTo>
                <a:arcTo wR="3600" hR="3600" stAng="10800000" swAng="-5400000"/>
                <a:lnTo>
                  <a:pt x="18000" y="242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2057400" y="83808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Minimization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286000" y="3505320"/>
            <a:ext cx="15228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934320" y="3505320"/>
            <a:ext cx="15228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124080" y="4191120"/>
            <a:ext cx="15264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057400" y="4648320"/>
            <a:ext cx="15228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429000" y="3124080"/>
            <a:ext cx="15228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5181480" y="5029200"/>
            <a:ext cx="15264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105520" y="2895480"/>
            <a:ext cx="15228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943600" y="3733920"/>
            <a:ext cx="15228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343400"/>
            <a:ext cx="15264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419720" y="2133720"/>
            <a:ext cx="3657600" cy="35049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066680" y="2133720"/>
            <a:ext cx="3124440" cy="3504960"/>
          </a:xfrm>
          <a:custGeom>
            <a:avLst/>
            <a:gdLst>
              <a:gd name="textAreaLeft" fmla="*/ 152280 w 3124440"/>
              <a:gd name="textAreaRight" fmla="*/ 2972160 w 3124440"/>
              <a:gd name="textAreaTop" fmla="*/ 152280 h 3504960"/>
              <a:gd name="textAreaBottom" fmla="*/ 3352680 h 3504960"/>
            </a:gdLst>
            <a:ahLst/>
            <a:rect l="textAreaLeft" t="textAreaTop" r="textAreaRight" b="textAreaBottom"/>
            <a:pathLst>
              <a:path w="21600" h="24230">
                <a:moveTo>
                  <a:pt x="3600" y="0"/>
                </a:moveTo>
                <a:arcTo wR="3600" hR="3600" stAng="16200000" swAng="-5400000"/>
                <a:lnTo>
                  <a:pt x="0" y="20630"/>
                </a:lnTo>
                <a:arcTo wR="3600" hR="3600" stAng="10800000" swAng="-5400000"/>
                <a:lnTo>
                  <a:pt x="18000" y="242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581280" y="3200400"/>
            <a:ext cx="121932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H="1">
            <a:off x="1828800" y="35812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flipV="1">
            <a:off x="2133720" y="41911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flipH="1">
            <a:off x="3047760" y="4343400"/>
            <a:ext cx="15228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581280" y="32767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828800" y="32004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523880" y="434340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124080" y="434340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/>
          <p:nvPr/>
        </p:nvSpPr>
        <p:spPr>
          <a:xfrm>
            <a:off x="2057400" y="83808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Minimization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286000" y="3505320"/>
            <a:ext cx="15228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934320" y="3505320"/>
            <a:ext cx="15228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124080" y="4191120"/>
            <a:ext cx="15264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2057400" y="4648320"/>
            <a:ext cx="15228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429000" y="3124080"/>
            <a:ext cx="15228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181480" y="5029200"/>
            <a:ext cx="15264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105520" y="2895480"/>
            <a:ext cx="15228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943600" y="3733920"/>
            <a:ext cx="15228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7238880" y="4343400"/>
            <a:ext cx="15264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419720" y="2133720"/>
            <a:ext cx="3657600" cy="35049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066680" y="2133720"/>
            <a:ext cx="3124440" cy="3504960"/>
          </a:xfrm>
          <a:custGeom>
            <a:avLst/>
            <a:gdLst>
              <a:gd name="textAreaLeft" fmla="*/ 152280 w 3124440"/>
              <a:gd name="textAreaRight" fmla="*/ 2972160 w 3124440"/>
              <a:gd name="textAreaTop" fmla="*/ 152280 h 3504960"/>
              <a:gd name="textAreaBottom" fmla="*/ 3352680 h 3504960"/>
            </a:gdLst>
            <a:ahLst/>
            <a:rect l="textAreaLeft" t="textAreaTop" r="textAreaRight" b="textAreaBottom"/>
            <a:pathLst>
              <a:path w="21600" h="24230">
                <a:moveTo>
                  <a:pt x="3600" y="0"/>
                </a:moveTo>
                <a:arcTo wR="3600" hR="3600" stAng="16200000" swAng="-5400000"/>
                <a:lnTo>
                  <a:pt x="0" y="20630"/>
                </a:lnTo>
                <a:arcTo wR="3600" hR="3600" stAng="10800000" swAng="-5400000"/>
                <a:lnTo>
                  <a:pt x="18000" y="242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581280" y="3200400"/>
            <a:ext cx="121932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>
            <a:off x="1828800" y="35812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2133720" y="41911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>
            <a:off x="3047760" y="4343400"/>
            <a:ext cx="15228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581280" y="32767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1828800" y="32004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523880" y="434340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3124080" y="434340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590920" y="2133720"/>
            <a:ext cx="380880" cy="14475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971800" y="3581280"/>
            <a:ext cx="1219320" cy="762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2057400" y="83808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Minimization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286000" y="3505320"/>
            <a:ext cx="15228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6934320" y="3505320"/>
            <a:ext cx="15228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124080" y="4191120"/>
            <a:ext cx="15264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2057400" y="4648320"/>
            <a:ext cx="15228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429000" y="3124080"/>
            <a:ext cx="15228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181480" y="5029200"/>
            <a:ext cx="15264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5105520" y="2895480"/>
            <a:ext cx="15228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5943600" y="3733920"/>
            <a:ext cx="15228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238880" y="4343400"/>
            <a:ext cx="15264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4419720" y="2133720"/>
            <a:ext cx="3657600" cy="35049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2895480" y="2133720"/>
            <a:ext cx="1295640" cy="160020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1600200"/>
              <a:gd name="textAreaBottom" fmla="*/ 1537200 h 1600200"/>
            </a:gdLst>
            <a:ahLst/>
            <a:rect l="textAreaLeft" t="textAreaTop" r="textAreaRight" b="textAreaBottom"/>
            <a:pathLst>
              <a:path w="21600" h="26676">
                <a:moveTo>
                  <a:pt x="3600" y="0"/>
                </a:moveTo>
                <a:arcTo wR="3600" hR="3600" stAng="16200000" swAng="-5400000"/>
                <a:lnTo>
                  <a:pt x="0" y="23076"/>
                </a:lnTo>
                <a:arcTo wR="3600" hR="3600" stAng="10800000" swAng="-5400000"/>
                <a:lnTo>
                  <a:pt x="18000" y="2667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066680" y="2362320"/>
            <a:ext cx="0" cy="297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219320" y="213372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295280" y="5638680"/>
            <a:ext cx="2667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 flipV="1">
            <a:off x="4191120" y="403848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743200" y="22860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895480" y="38862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 flipV="1">
            <a:off x="3887640" y="5180760"/>
            <a:ext cx="30456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428" y="540"/>
                </a:moveTo>
                <a:arcTo wR="10800" hR="10800" stAng="-6491750" swAng="6491750"/>
                <a:lnTo>
                  <a:pt x="10800" y="10800"/>
                </a:lnTo>
                <a:close/>
              </a:path>
              <a:path fill="none" w="21600" h="21600">
                <a:moveTo>
                  <a:pt x="7428" y="540"/>
                </a:moveTo>
                <a:arcTo wR="10800" hR="10800" stAng="-6491750" swAng="6491750"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 flipH="1" flipV="1">
            <a:off x="1067760" y="5180760"/>
            <a:ext cx="30348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410" y="546"/>
                </a:moveTo>
                <a:arcTo wR="10800" hR="10800" stAng="-6497597" swAng="7637684"/>
                <a:lnTo>
                  <a:pt x="10800" y="10800"/>
                </a:lnTo>
                <a:close/>
              </a:path>
              <a:path fill="none" w="21600" h="21600">
                <a:moveTo>
                  <a:pt x="7410" y="546"/>
                </a:moveTo>
                <a:arcTo wR="10800" hR="10800" stAng="-6497597" swAng="7637684"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H="1" flipV="1">
            <a:off x="2742120" y="3428280"/>
            <a:ext cx="30456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271" y="13"/>
                </a:moveTo>
                <a:arcTo wR="10800" hR="10800" stAng="-5568449" swAng="5136039"/>
                <a:lnTo>
                  <a:pt x="10800" y="10800"/>
                </a:lnTo>
                <a:close/>
              </a:path>
              <a:path fill="none" w="21600" h="21600">
                <a:moveTo>
                  <a:pt x="10271" y="13"/>
                </a:moveTo>
                <a:arcTo wR="10800" hR="10800" stAng="-5568449" swAng="5136039"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893760" y="3886200"/>
            <a:ext cx="30456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271" y="13"/>
                </a:moveTo>
                <a:arcTo wR="10800" hR="10800" stAng="-5568449" swAng="5136039"/>
                <a:lnTo>
                  <a:pt x="10800" y="10800"/>
                </a:lnTo>
                <a:close/>
              </a:path>
              <a:path fill="none" w="21600" h="21600">
                <a:moveTo>
                  <a:pt x="10271" y="13"/>
                </a:moveTo>
                <a:arcTo wR="10800" hR="10800" stAng="-5568449" swAng="5136039"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446200" y="2133720"/>
            <a:ext cx="30456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271" y="13"/>
                </a:moveTo>
                <a:arcTo wR="10800" hR="10800" stAng="-5568449" swAng="5136039"/>
                <a:lnTo>
                  <a:pt x="10800" y="10800"/>
                </a:lnTo>
                <a:close/>
              </a:path>
              <a:path fill="none" w="21600" h="21600">
                <a:moveTo>
                  <a:pt x="10271" y="13"/>
                </a:moveTo>
                <a:arcTo wR="10800" hR="10800" stAng="-5568449" swAng="5136039"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flipH="1">
            <a:off x="1065600" y="2133720"/>
            <a:ext cx="30456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271" y="13"/>
                </a:moveTo>
                <a:arcTo wR="10800" hR="10800" stAng="-5568449" swAng="5136039"/>
                <a:lnTo>
                  <a:pt x="10800" y="10800"/>
                </a:lnTo>
                <a:close/>
              </a:path>
              <a:path fill="none" w="21600" h="21600">
                <a:moveTo>
                  <a:pt x="10271" y="13"/>
                </a:moveTo>
                <a:arcTo wR="10800" hR="10800" stAng="-5568449" swAng="5136039"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2057400" y="83808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Minimization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286000" y="3505320"/>
            <a:ext cx="15228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934320" y="3505320"/>
            <a:ext cx="15228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124080" y="4191120"/>
            <a:ext cx="15264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057400" y="4648320"/>
            <a:ext cx="15228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429000" y="3124080"/>
            <a:ext cx="15228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181480" y="5029200"/>
            <a:ext cx="15264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105520" y="2895480"/>
            <a:ext cx="15228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943600" y="3733920"/>
            <a:ext cx="15228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7238880" y="4343400"/>
            <a:ext cx="15264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419720" y="2133720"/>
            <a:ext cx="3657600" cy="35049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895480" y="2133720"/>
            <a:ext cx="1295640" cy="160020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1600200"/>
              <a:gd name="textAreaBottom" fmla="*/ 1537200 h 1600200"/>
            </a:gdLst>
            <a:ahLst/>
            <a:rect l="textAreaLeft" t="textAreaTop" r="textAreaRight" b="textAreaBottom"/>
            <a:pathLst>
              <a:path w="21600" h="26676">
                <a:moveTo>
                  <a:pt x="3600" y="0"/>
                </a:moveTo>
                <a:arcTo wR="3600" hR="3600" stAng="16200000" swAng="-5400000"/>
                <a:lnTo>
                  <a:pt x="0" y="23076"/>
                </a:lnTo>
                <a:arcTo wR="3600" hR="3600" stAng="10800000" swAng="-5400000"/>
                <a:lnTo>
                  <a:pt x="18000" y="2667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1066680" y="2362320"/>
            <a:ext cx="0" cy="297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1219320" y="213372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1295280" y="5638680"/>
            <a:ext cx="2667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 flipV="1">
            <a:off x="4191120" y="403848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743200" y="22860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2895480" y="38862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 flipV="1">
            <a:off x="3887640" y="5180760"/>
            <a:ext cx="30456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428" y="540"/>
                </a:moveTo>
                <a:arcTo wR="10800" hR="10800" stAng="-6491750" swAng="6491750"/>
                <a:lnTo>
                  <a:pt x="10800" y="10800"/>
                </a:lnTo>
                <a:close/>
              </a:path>
              <a:path fill="none" w="21600" h="21600">
                <a:moveTo>
                  <a:pt x="7428" y="540"/>
                </a:moveTo>
                <a:arcTo wR="10800" hR="10800" stAng="-6491750" swAng="6491750"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 flipH="1" flipV="1">
            <a:off x="1067760" y="5180760"/>
            <a:ext cx="30348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410" y="546"/>
                </a:moveTo>
                <a:arcTo wR="10800" hR="10800" stAng="-6497597" swAng="7637684"/>
                <a:lnTo>
                  <a:pt x="10800" y="10800"/>
                </a:lnTo>
                <a:close/>
              </a:path>
              <a:path fill="none" w="21600" h="21600">
                <a:moveTo>
                  <a:pt x="7410" y="546"/>
                </a:moveTo>
                <a:arcTo wR="10800" hR="10800" stAng="-6497597" swAng="7637684"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flipH="1" flipV="1">
            <a:off x="2742120" y="3428280"/>
            <a:ext cx="30456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271" y="13"/>
                </a:moveTo>
                <a:arcTo wR="10800" hR="10800" stAng="-5568449" swAng="5136039"/>
                <a:lnTo>
                  <a:pt x="10800" y="10800"/>
                </a:lnTo>
                <a:close/>
              </a:path>
              <a:path fill="none" w="21600" h="21600">
                <a:moveTo>
                  <a:pt x="10271" y="13"/>
                </a:moveTo>
                <a:arcTo wR="10800" hR="10800" stAng="-5568449" swAng="5136039"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893760" y="3886200"/>
            <a:ext cx="30456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271" y="13"/>
                </a:moveTo>
                <a:arcTo wR="10800" hR="10800" stAng="-5568449" swAng="5136039"/>
                <a:lnTo>
                  <a:pt x="10800" y="10800"/>
                </a:lnTo>
                <a:close/>
              </a:path>
              <a:path fill="none" w="21600" h="21600">
                <a:moveTo>
                  <a:pt x="10271" y="13"/>
                </a:moveTo>
                <a:arcTo wR="10800" hR="10800" stAng="-5568449" swAng="5136039"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2446200" y="2133720"/>
            <a:ext cx="30456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271" y="13"/>
                </a:moveTo>
                <a:arcTo wR="10800" hR="10800" stAng="-5568449" swAng="5136039"/>
                <a:lnTo>
                  <a:pt x="10800" y="10800"/>
                </a:lnTo>
                <a:close/>
              </a:path>
              <a:path fill="none" w="21600" h="21600">
                <a:moveTo>
                  <a:pt x="10271" y="13"/>
                </a:moveTo>
                <a:arcTo wR="10800" hR="10800" stAng="-5568449" swAng="5136039"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 flipH="1">
            <a:off x="1065600" y="2133720"/>
            <a:ext cx="30456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271" y="13"/>
                </a:moveTo>
                <a:arcTo wR="10800" hR="10800" stAng="-5568449" swAng="5136039"/>
                <a:lnTo>
                  <a:pt x="10800" y="10800"/>
                </a:lnTo>
                <a:close/>
              </a:path>
              <a:path fill="none" w="21600" h="21600">
                <a:moveTo>
                  <a:pt x="10271" y="13"/>
                </a:moveTo>
                <a:arcTo wR="10800" hR="10800" stAng="-5568449" swAng="5136039"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2209680" y="4800600"/>
            <a:ext cx="38124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 flipV="1">
            <a:off x="2438280" y="3352320"/>
            <a:ext cx="68580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276720" y="4267080"/>
            <a:ext cx="1447560" cy="76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2133720" y="31240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1828800" y="48769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429000" y="42670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/>
          <p:nvPr/>
        </p:nvSpPr>
        <p:spPr>
          <a:xfrm>
            <a:off x="2057400" y="83808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Minimization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286000" y="3505320"/>
            <a:ext cx="15228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6934320" y="3505320"/>
            <a:ext cx="15228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124080" y="4191120"/>
            <a:ext cx="15264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057400" y="4648320"/>
            <a:ext cx="15228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3429000" y="3124080"/>
            <a:ext cx="15228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5181480" y="5029200"/>
            <a:ext cx="15264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105520" y="2895480"/>
            <a:ext cx="15228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943600" y="3733920"/>
            <a:ext cx="15228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7238880" y="4343400"/>
            <a:ext cx="15264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4419720" y="2133720"/>
            <a:ext cx="3657600" cy="35049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2895480" y="2133720"/>
            <a:ext cx="1295640" cy="160020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1600200"/>
              <a:gd name="textAreaBottom" fmla="*/ 1537200 h 1600200"/>
            </a:gdLst>
            <a:ahLst/>
            <a:rect l="textAreaLeft" t="textAreaTop" r="textAreaRight" b="textAreaBottom"/>
            <a:pathLst>
              <a:path w="21600" h="26676">
                <a:moveTo>
                  <a:pt x="3600" y="0"/>
                </a:moveTo>
                <a:arcTo wR="3600" hR="3600" stAng="16200000" swAng="-5400000"/>
                <a:lnTo>
                  <a:pt x="0" y="23076"/>
                </a:lnTo>
                <a:arcTo wR="3600" hR="3600" stAng="10800000" swAng="-5400000"/>
                <a:lnTo>
                  <a:pt x="18000" y="2667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066680" y="2362320"/>
            <a:ext cx="0" cy="297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1219320" y="213372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1295280" y="5638680"/>
            <a:ext cx="2667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 flipV="1">
            <a:off x="4191120" y="403848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743200" y="22860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895480" y="38862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V="1">
            <a:off x="3887640" y="5180760"/>
            <a:ext cx="30456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428" y="540"/>
                </a:moveTo>
                <a:arcTo wR="10800" hR="10800" stAng="-6491750" swAng="6491750"/>
                <a:lnTo>
                  <a:pt x="10800" y="10800"/>
                </a:lnTo>
                <a:close/>
              </a:path>
              <a:path fill="none" w="21600" h="21600">
                <a:moveTo>
                  <a:pt x="7428" y="540"/>
                </a:moveTo>
                <a:arcTo wR="10800" hR="10800" stAng="-6491750" swAng="6491750"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 flipH="1" flipV="1">
            <a:off x="1067760" y="5180760"/>
            <a:ext cx="30348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410" y="546"/>
                </a:moveTo>
                <a:arcTo wR="10800" hR="10800" stAng="-6497597" swAng="7637684"/>
                <a:lnTo>
                  <a:pt x="10800" y="10800"/>
                </a:lnTo>
                <a:close/>
              </a:path>
              <a:path fill="none" w="21600" h="21600">
                <a:moveTo>
                  <a:pt x="7410" y="546"/>
                </a:moveTo>
                <a:arcTo wR="10800" hR="10800" stAng="-6497597" swAng="7637684"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flipH="1" flipV="1">
            <a:off x="2742120" y="3428280"/>
            <a:ext cx="30456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271" y="13"/>
                </a:moveTo>
                <a:arcTo wR="10800" hR="10800" stAng="-5568449" swAng="5136039"/>
                <a:lnTo>
                  <a:pt x="10800" y="10800"/>
                </a:lnTo>
                <a:close/>
              </a:path>
              <a:path fill="none" w="21600" h="21600">
                <a:moveTo>
                  <a:pt x="10271" y="13"/>
                </a:moveTo>
                <a:arcTo wR="10800" hR="10800" stAng="-5568449" swAng="5136039"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893760" y="3886200"/>
            <a:ext cx="30456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271" y="13"/>
                </a:moveTo>
                <a:arcTo wR="10800" hR="10800" stAng="-5568449" swAng="5136039"/>
                <a:lnTo>
                  <a:pt x="10800" y="10800"/>
                </a:lnTo>
                <a:close/>
              </a:path>
              <a:path fill="none" w="21600" h="21600">
                <a:moveTo>
                  <a:pt x="10271" y="13"/>
                </a:moveTo>
                <a:arcTo wR="10800" hR="10800" stAng="-5568449" swAng="5136039"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2446200" y="2133720"/>
            <a:ext cx="30456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271" y="13"/>
                </a:moveTo>
                <a:arcTo wR="10800" hR="10800" stAng="-5568449" swAng="5136039"/>
                <a:lnTo>
                  <a:pt x="10800" y="10800"/>
                </a:lnTo>
                <a:close/>
              </a:path>
              <a:path fill="none" w="21600" h="21600">
                <a:moveTo>
                  <a:pt x="10271" y="13"/>
                </a:moveTo>
                <a:arcTo wR="10800" hR="10800" stAng="-5568449" swAng="5136039"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 flipH="1">
            <a:off x="1065600" y="2133720"/>
            <a:ext cx="30456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271" y="13"/>
                </a:moveTo>
                <a:arcTo wR="10800" hR="10800" stAng="-5568449" swAng="5136039"/>
                <a:lnTo>
                  <a:pt x="10800" y="10800"/>
                </a:lnTo>
                <a:close/>
              </a:path>
              <a:path fill="none" w="21600" h="21600">
                <a:moveTo>
                  <a:pt x="10271" y="13"/>
                </a:moveTo>
                <a:arcTo wR="10800" hR="10800" stAng="-5568449" swAng="5136039"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2209680" y="4800600"/>
            <a:ext cx="38124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 flipV="1">
            <a:off x="2438280" y="3352320"/>
            <a:ext cx="68580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3276720" y="4267080"/>
            <a:ext cx="1447560" cy="76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2133720" y="31240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1828800" y="48769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429000" y="42670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 flipV="1">
            <a:off x="1066680" y="3809520"/>
            <a:ext cx="1752840" cy="381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2057400" y="83808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Minimization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286000" y="3505320"/>
            <a:ext cx="15228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6934320" y="3505320"/>
            <a:ext cx="15228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124080" y="4191120"/>
            <a:ext cx="15264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2057400" y="4648320"/>
            <a:ext cx="15228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3429000" y="3124080"/>
            <a:ext cx="15228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5029200"/>
            <a:ext cx="15264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5105520" y="2895480"/>
            <a:ext cx="15228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5943600" y="3733920"/>
            <a:ext cx="15228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238880" y="4343400"/>
            <a:ext cx="15264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4419720" y="2133720"/>
            <a:ext cx="3657600" cy="35049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2895480" y="2133720"/>
            <a:ext cx="1295640" cy="160020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1600200"/>
              <a:gd name="textAreaBottom" fmla="*/ 1537200 h 1600200"/>
            </a:gdLst>
            <a:ahLst/>
            <a:rect l="textAreaLeft" t="textAreaTop" r="textAreaRight" b="textAreaBottom"/>
            <a:pathLst>
              <a:path w="21600" h="26676">
                <a:moveTo>
                  <a:pt x="3600" y="0"/>
                </a:moveTo>
                <a:arcTo wR="3600" hR="3600" stAng="16200000" swAng="-5400000"/>
                <a:lnTo>
                  <a:pt x="0" y="23076"/>
                </a:lnTo>
                <a:arcTo wR="3600" hR="3600" stAng="10800000" swAng="-5400000"/>
                <a:lnTo>
                  <a:pt x="18000" y="2667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1066680" y="2362320"/>
            <a:ext cx="0" cy="297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1219320" y="213372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1295280" y="5638680"/>
            <a:ext cx="2667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V="1">
            <a:off x="4191120" y="403848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743200" y="22860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895480" y="38862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V="1">
            <a:off x="3887640" y="5180760"/>
            <a:ext cx="30456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428" y="540"/>
                </a:moveTo>
                <a:arcTo wR="10800" hR="10800" stAng="-6491750" swAng="6491750"/>
                <a:lnTo>
                  <a:pt x="10800" y="10800"/>
                </a:lnTo>
                <a:close/>
              </a:path>
              <a:path fill="none" w="21600" h="21600">
                <a:moveTo>
                  <a:pt x="7428" y="540"/>
                </a:moveTo>
                <a:arcTo wR="10800" hR="10800" stAng="-6491750" swAng="6491750"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 flipH="1" flipV="1">
            <a:off x="1067760" y="5180760"/>
            <a:ext cx="30348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410" y="546"/>
                </a:moveTo>
                <a:arcTo wR="10800" hR="10800" stAng="-6497597" swAng="7637684"/>
                <a:lnTo>
                  <a:pt x="10800" y="10800"/>
                </a:lnTo>
                <a:close/>
              </a:path>
              <a:path fill="none" w="21600" h="21600">
                <a:moveTo>
                  <a:pt x="7410" y="546"/>
                </a:moveTo>
                <a:arcTo wR="10800" hR="10800" stAng="-6497597" swAng="7637684"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 flipH="1" flipV="1">
            <a:off x="2742120" y="3428280"/>
            <a:ext cx="30456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271" y="13"/>
                </a:moveTo>
                <a:arcTo wR="10800" hR="10800" stAng="-5568449" swAng="5136039"/>
                <a:lnTo>
                  <a:pt x="10800" y="10800"/>
                </a:lnTo>
                <a:close/>
              </a:path>
              <a:path fill="none" w="21600" h="21600">
                <a:moveTo>
                  <a:pt x="10271" y="13"/>
                </a:moveTo>
                <a:arcTo wR="10800" hR="10800" stAng="-5568449" swAng="5136039"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893760" y="3886200"/>
            <a:ext cx="30456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271" y="13"/>
                </a:moveTo>
                <a:arcTo wR="10800" hR="10800" stAng="-5568449" swAng="5136039"/>
                <a:lnTo>
                  <a:pt x="10800" y="10800"/>
                </a:lnTo>
                <a:close/>
              </a:path>
              <a:path fill="none" w="21600" h="21600">
                <a:moveTo>
                  <a:pt x="10271" y="13"/>
                </a:moveTo>
                <a:arcTo wR="10800" hR="10800" stAng="-5568449" swAng="5136039"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2446200" y="2133720"/>
            <a:ext cx="30456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271" y="13"/>
                </a:moveTo>
                <a:arcTo wR="10800" hR="10800" stAng="-5568449" swAng="5136039"/>
                <a:lnTo>
                  <a:pt x="10800" y="10800"/>
                </a:lnTo>
                <a:close/>
              </a:path>
              <a:path fill="none" w="21600" h="21600">
                <a:moveTo>
                  <a:pt x="10271" y="13"/>
                </a:moveTo>
                <a:arcTo wR="10800" hR="10800" stAng="-5568449" swAng="5136039"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 flipH="1">
            <a:off x="1065600" y="2133720"/>
            <a:ext cx="30456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271" y="13"/>
                </a:moveTo>
                <a:arcTo wR="10800" hR="10800" stAng="-5568449" swAng="5136039"/>
                <a:lnTo>
                  <a:pt x="10800" y="10800"/>
                </a:lnTo>
                <a:close/>
              </a:path>
              <a:path fill="none" w="21600" h="21600">
                <a:moveTo>
                  <a:pt x="10271" y="13"/>
                </a:moveTo>
                <a:arcTo wR="10800" hR="10800" stAng="-5568449" swAng="5136039"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2209680" y="4800600"/>
            <a:ext cx="38124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 flipV="1">
            <a:off x="2438280" y="3352320"/>
            <a:ext cx="68580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3276720" y="4267080"/>
            <a:ext cx="1447560" cy="76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133720" y="31240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828800" y="48769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3429000" y="42670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 flipV="1">
            <a:off x="1066680" y="3809520"/>
            <a:ext cx="1752840" cy="381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819520" y="3809880"/>
            <a:ext cx="152280" cy="1828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"/>
          <p:cNvSpPr/>
          <p:nvPr/>
        </p:nvSpPr>
        <p:spPr>
          <a:xfrm>
            <a:off x="2057400" y="83808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Minimization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286000" y="3505320"/>
            <a:ext cx="15228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6934320" y="3505320"/>
            <a:ext cx="15228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124080" y="4191120"/>
            <a:ext cx="15264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057400" y="4648320"/>
            <a:ext cx="15228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429000" y="3124080"/>
            <a:ext cx="15228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5181480" y="5029200"/>
            <a:ext cx="15264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5105520" y="2895480"/>
            <a:ext cx="15228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5943600" y="3733920"/>
            <a:ext cx="15228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7238880" y="4343400"/>
            <a:ext cx="15264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4419720" y="2133720"/>
            <a:ext cx="3657600" cy="35049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895480" y="2133720"/>
            <a:ext cx="1295640" cy="160020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1600200"/>
              <a:gd name="textAreaBottom" fmla="*/ 1537200 h 1600200"/>
            </a:gdLst>
            <a:ahLst/>
            <a:rect l="textAreaLeft" t="textAreaTop" r="textAreaRight" b="textAreaBottom"/>
            <a:pathLst>
              <a:path w="21600" h="26676">
                <a:moveTo>
                  <a:pt x="3600" y="0"/>
                </a:moveTo>
                <a:arcTo wR="3600" hR="3600" stAng="16200000" swAng="-5400000"/>
                <a:lnTo>
                  <a:pt x="0" y="23076"/>
                </a:lnTo>
                <a:arcTo wR="3600" hR="3600" stAng="10800000" swAng="-5400000"/>
                <a:lnTo>
                  <a:pt x="18000" y="2667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990720" y="2133720"/>
            <a:ext cx="1676160" cy="16761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990720" y="4038480"/>
            <a:ext cx="1447560" cy="1600200"/>
          </a:xfrm>
          <a:custGeom>
            <a:avLst/>
            <a:gdLst>
              <a:gd name="textAreaLeft" fmla="*/ 70560 w 1447560"/>
              <a:gd name="textAreaRight" fmla="*/ 1377000 w 1447560"/>
              <a:gd name="textAreaTop" fmla="*/ 70560 h 1600200"/>
              <a:gd name="textAreaBottom" fmla="*/ 1529640 h 1600200"/>
            </a:gdLst>
            <a:ahLst/>
            <a:rect l="textAreaLeft" t="textAreaTop" r="textAreaRight" b="textAreaBottom"/>
            <a:pathLst>
              <a:path w="21600" h="23877">
                <a:moveTo>
                  <a:pt x="3600" y="0"/>
                </a:moveTo>
                <a:arcTo wR="3600" hR="3600" stAng="16200000" swAng="-5400000"/>
                <a:lnTo>
                  <a:pt x="0" y="20277"/>
                </a:lnTo>
                <a:arcTo wR="3600" hR="3600" stAng="10800000" swAng="-5400000"/>
                <a:lnTo>
                  <a:pt x="18000" y="238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666880" y="4038480"/>
            <a:ext cx="1524240" cy="1600200"/>
          </a:xfrm>
          <a:custGeom>
            <a:avLst/>
            <a:gdLst>
              <a:gd name="textAreaLeft" fmla="*/ 74160 w 1524240"/>
              <a:gd name="textAreaRight" fmla="*/ 1450080 w 1524240"/>
              <a:gd name="textAreaTop" fmla="*/ 74160 h 1600200"/>
              <a:gd name="textAreaBottom" fmla="*/ 1526040 h 1600200"/>
            </a:gdLst>
            <a:ahLst/>
            <a:rect l="textAreaLeft" t="textAreaTop" r="textAreaRight" b="textAreaBottom"/>
            <a:pathLst>
              <a:path w="21600" h="22676">
                <a:moveTo>
                  <a:pt x="3600" y="0"/>
                </a:moveTo>
                <a:arcTo wR="3600" hR="3600" stAng="16200000" swAng="-5400000"/>
                <a:lnTo>
                  <a:pt x="0" y="19076"/>
                </a:lnTo>
                <a:arcTo wR="3600" hR="3600" stAng="10800000" swAng="-5400000"/>
                <a:lnTo>
                  <a:pt x="18000" y="2267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"/>
          <p:cNvSpPr/>
          <p:nvPr/>
        </p:nvSpPr>
        <p:spPr>
          <a:xfrm>
            <a:off x="1981080" y="838080"/>
            <a:ext cx="54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Minimization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228600" y="1981080"/>
            <a:ext cx="891540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.  Let  Q  be set of all reachable states of 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  Maintain a set P of state se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itially let  P = { Q }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a.   Repeat until no longer possible: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output split P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b.   Repeat until no longer possible: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next-state split P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.  When done, every state set in P represents a single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ate of the smallest state machine bisimilar to 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0" y="106668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dge Enco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371600" y="2286000"/>
            <a:ext cx="7086600" cy="24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code 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[ Nat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Bins ]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[ Nat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Bins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ch that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[ Nat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Bins ] 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Nat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Encode (x)) (y)  =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3581280"/>
            <a:ext cx="4572000" cy="19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 (y)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f  y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f  y &gt; 0  and  x (y) = x (y-1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f  y &gt; 0  and  x (y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x (y-1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267080" y="3733920"/>
            <a:ext cx="76320" cy="1218960"/>
          </a:xfrm>
          <a:custGeom>
            <a:avLst/>
            <a:gdLst>
              <a:gd name="textAreaLeft" fmla="*/ 48960 w 76320"/>
              <a:gd name="textAreaRight" fmla="*/ 76320 w 76320"/>
              <a:gd name="textAreaTop" fmla="*/ 31680 h 1218960"/>
              <a:gd name="textAreaBottom" fmla="*/ 1187280 h 1218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"/>
          <p:cNvSpPr/>
          <p:nvPr/>
        </p:nvSpPr>
        <p:spPr>
          <a:xfrm>
            <a:off x="1828800" y="76212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Output split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523880" y="1828800"/>
            <a:ext cx="6477120" cy="42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f there ex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 state set  R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wo states  r1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R  and  r2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n input  x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Inpu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uch th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output ( r1, x ) 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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output ( r2, x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et  R1 = { r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R | output (r,x) = output (r1,x) }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et  R2  =  R \ R1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et  P  =  ( P \ { R } 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{ R1, R2 }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"/>
          <p:cNvSpPr/>
          <p:nvPr/>
        </p:nvSpPr>
        <p:spPr>
          <a:xfrm>
            <a:off x="1523880" y="1905120"/>
            <a:ext cx="5410440" cy="31240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1828800" y="76212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Output spli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1752480" y="21337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2362320" y="3124080"/>
            <a:ext cx="15228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5029200" y="4038480"/>
            <a:ext cx="15228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 flipH="1" flipV="1">
            <a:off x="4876560" y="2819520"/>
            <a:ext cx="22860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V="1">
            <a:off x="2514600" y="2895120"/>
            <a:ext cx="106668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029200" y="3200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2590920" y="3124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1905120" y="30481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r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876920" y="41911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"/>
          <p:cNvSpPr/>
          <p:nvPr/>
        </p:nvSpPr>
        <p:spPr>
          <a:xfrm>
            <a:off x="1828800" y="76212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Output spli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1752480" y="21337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2362320" y="3124080"/>
            <a:ext cx="15228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5029200" y="4038480"/>
            <a:ext cx="15228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 flipH="1" flipV="1">
            <a:off x="4876560" y="2819520"/>
            <a:ext cx="22860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V="1">
            <a:off x="2514600" y="2895120"/>
            <a:ext cx="106668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029200" y="3200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2590920" y="3124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1905120" y="30481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r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4876920" y="41911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1523880" y="1905120"/>
            <a:ext cx="2362320" cy="3124080"/>
          </a:xfrm>
          <a:custGeom>
            <a:avLst/>
            <a:gdLst>
              <a:gd name="textAreaLeft" fmla="*/ 115200 w 2362320"/>
              <a:gd name="textAreaRight" fmla="*/ 2247120 w 2362320"/>
              <a:gd name="textAreaTop" fmla="*/ 115200 h 3124080"/>
              <a:gd name="textAreaBottom" fmla="*/ 3008880 h 3124080"/>
            </a:gdLst>
            <a:ahLst/>
            <a:rect l="textAreaLeft" t="textAreaTop" r="textAreaRight" b="textAreaBottom"/>
            <a:pathLst>
              <a:path w="21600" h="28564">
                <a:moveTo>
                  <a:pt x="3600" y="0"/>
                </a:moveTo>
                <a:arcTo wR="3600" hR="3600" stAng="16200000" swAng="-5400000"/>
                <a:lnTo>
                  <a:pt x="0" y="24964"/>
                </a:lnTo>
                <a:arcTo wR="3600" hR="3600" stAng="10800000" swAng="-5400000"/>
                <a:lnTo>
                  <a:pt x="18000" y="285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4114800" y="1905120"/>
            <a:ext cx="2819520" cy="3124080"/>
          </a:xfrm>
          <a:custGeom>
            <a:avLst/>
            <a:gdLst>
              <a:gd name="textAreaLeft" fmla="*/ 137520 w 2819520"/>
              <a:gd name="textAreaRight" fmla="*/ 2682000 w 2819520"/>
              <a:gd name="textAreaTop" fmla="*/ 137520 h 3124080"/>
              <a:gd name="textAreaBottom" fmla="*/ 2986560 h 3124080"/>
            </a:gdLst>
            <a:ahLst/>
            <a:rect l="textAreaLeft" t="textAreaTop" r="textAreaRight" b="textAreaBottom"/>
            <a:pathLst>
              <a:path w="21600" h="23933">
                <a:moveTo>
                  <a:pt x="3600" y="0"/>
                </a:moveTo>
                <a:arcTo wR="3600" hR="3600" stAng="16200000" swAng="-5400000"/>
                <a:lnTo>
                  <a:pt x="0" y="20333"/>
                </a:lnTo>
                <a:arcTo wR="3600" hR="3600" stAng="10800000" swAng="-5400000"/>
                <a:lnTo>
                  <a:pt x="18000" y="2393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6095880" y="21337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"/>
          <p:cNvSpPr/>
          <p:nvPr/>
        </p:nvSpPr>
        <p:spPr>
          <a:xfrm>
            <a:off x="1828800" y="76212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Next-state split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1371600" y="1828800"/>
            <a:ext cx="7162920" cy="42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f there ex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wo state sets  R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P  and  R’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wo states  r1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R  and  r2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n input  x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Inpu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uch th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nextState ( r1, x ) 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R’  and  nextState ( r2, x ) 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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R’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et  R1 = { r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R | nextState (r,x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R’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}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et  R2  =  R \ R1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et  P  =  ( P \ { R } 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{ R1, R2 }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1523880" y="1905120"/>
            <a:ext cx="1981440" cy="3124080"/>
          </a:xfrm>
          <a:custGeom>
            <a:avLst/>
            <a:gdLst>
              <a:gd name="textAreaLeft" fmla="*/ 96480 w 1981440"/>
              <a:gd name="textAreaRight" fmla="*/ 1884960 w 1981440"/>
              <a:gd name="textAreaTop" fmla="*/ 96480 h 3124080"/>
              <a:gd name="textAreaBottom" fmla="*/ 3027600 h 3124080"/>
            </a:gdLst>
            <a:ahLst/>
            <a:rect l="textAreaLeft" t="textAreaTop" r="textAreaRight" b="textAreaBottom"/>
            <a:pathLst>
              <a:path w="21600" h="34054">
                <a:moveTo>
                  <a:pt x="3600" y="0"/>
                </a:moveTo>
                <a:arcTo wR="3600" hR="3600" stAng="16200000" swAng="-5400000"/>
                <a:lnTo>
                  <a:pt x="0" y="30454"/>
                </a:lnTo>
                <a:arcTo wR="3600" hR="3600" stAng="10800000" swAng="-5400000"/>
                <a:lnTo>
                  <a:pt x="18000" y="3405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1828800" y="60948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Next-state spli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4572000" y="1828800"/>
            <a:ext cx="1981080" cy="15238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648320" y="3809880"/>
            <a:ext cx="1981080" cy="152424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800600" y="1981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1752480" y="21337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2362320" y="3048120"/>
            <a:ext cx="15228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2362320" y="4038480"/>
            <a:ext cx="15228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 flipV="1">
            <a:off x="2514600" y="2819520"/>
            <a:ext cx="236232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2514600" y="4114800"/>
            <a:ext cx="281952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3657600" y="2438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581280" y="46483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1905120" y="30481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r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1905120" y="41148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"/>
          <p:cNvSpPr/>
          <p:nvPr/>
        </p:nvSpPr>
        <p:spPr>
          <a:xfrm>
            <a:off x="1828800" y="60948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Next-state spli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572000" y="1828800"/>
            <a:ext cx="1981080" cy="15238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4648320" y="3809880"/>
            <a:ext cx="1981080" cy="152424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4800600" y="1981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1752480" y="21337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2362320" y="3048120"/>
            <a:ext cx="15228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4038480"/>
            <a:ext cx="15228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V="1">
            <a:off x="2514600" y="2819520"/>
            <a:ext cx="236232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2514600" y="4114800"/>
            <a:ext cx="281952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3657600" y="2438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3581280" y="46483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1905120" y="30481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r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1905120" y="41148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1523880" y="1905120"/>
            <a:ext cx="1981440" cy="18288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1523880" y="3886200"/>
            <a:ext cx="1981440" cy="11430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2743200" y="44956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"/>
          <p:cNvSpPr/>
          <p:nvPr/>
        </p:nvSpPr>
        <p:spPr>
          <a:xfrm>
            <a:off x="2971800" y="1828800"/>
            <a:ext cx="91440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4648320" y="1828800"/>
            <a:ext cx="91440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2971800" y="3733920"/>
            <a:ext cx="91440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4648320" y="3733920"/>
            <a:ext cx="91440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3886200" y="22860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3733920" y="2590920"/>
            <a:ext cx="106668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 flipV="1">
            <a:off x="3809880" y="2666520"/>
            <a:ext cx="99072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3886200" y="41911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6324480" y="1828800"/>
            <a:ext cx="91440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6324480" y="3733920"/>
            <a:ext cx="91440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5562720" y="2286000"/>
            <a:ext cx="761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5410080" y="2590920"/>
            <a:ext cx="106704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 flipV="1">
            <a:off x="5486400" y="2666520"/>
            <a:ext cx="99072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5562720" y="4191120"/>
            <a:ext cx="761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1523880" y="2743200"/>
            <a:ext cx="91440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 flipV="1">
            <a:off x="2362320" y="2514600"/>
            <a:ext cx="6858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362320" y="3429000"/>
            <a:ext cx="68580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1066680" y="320040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3581280" y="838080"/>
            <a:ext cx="3200400" cy="990720"/>
          </a:xfrm>
          <a:custGeom>
            <a:avLst/>
            <a:gdLst/>
            <a:ahLst/>
            <a:rect l="l" t="t" r="r" b="b"/>
            <a:pathLst>
              <a:path w="2016" h="624">
                <a:moveTo>
                  <a:pt x="2016" y="624"/>
                </a:moveTo>
                <a:cubicBezTo>
                  <a:pt x="1632" y="312"/>
                  <a:pt x="1248" y="0"/>
                  <a:pt x="912" y="0"/>
                </a:cubicBezTo>
                <a:cubicBezTo>
                  <a:pt x="576" y="0"/>
                  <a:pt x="288" y="312"/>
                  <a:pt x="0" y="62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flipV="1">
            <a:off x="3505320" y="4647600"/>
            <a:ext cx="3200400" cy="990360"/>
          </a:xfrm>
          <a:custGeom>
            <a:avLst/>
            <a:gdLst/>
            <a:ahLst/>
            <a:rect l="l" t="t" r="r" b="b"/>
            <a:pathLst>
              <a:path w="2016" h="624">
                <a:moveTo>
                  <a:pt x="2016" y="624"/>
                </a:moveTo>
                <a:cubicBezTo>
                  <a:pt x="1632" y="312"/>
                  <a:pt x="1248" y="0"/>
                  <a:pt x="912" y="0"/>
                </a:cubicBezTo>
                <a:cubicBezTo>
                  <a:pt x="576" y="0"/>
                  <a:pt x="288" y="312"/>
                  <a:pt x="0" y="62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1828800" y="29718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6629400" y="3962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6629400" y="20574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4952880" y="39625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4952880" y="2057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3276720" y="3962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3276720" y="20574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286000" y="228600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3962520" y="19051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3429000" y="33526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2209680" y="365760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3429000" y="274320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3886200" y="41911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5562720" y="190512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5105520" y="335268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4724280" y="45720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5105520" y="274320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5562720" y="41911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4724280" y="15228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4648320" y="594360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4648320" y="563868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228600" y="30492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 = { a, b, c, d, e, f, g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"/>
          <p:cNvSpPr/>
          <p:nvPr/>
        </p:nvSpPr>
        <p:spPr>
          <a:xfrm>
            <a:off x="2971800" y="1828800"/>
            <a:ext cx="91440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4648320" y="1828800"/>
            <a:ext cx="91440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2971800" y="3733920"/>
            <a:ext cx="91440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4648320" y="3733920"/>
            <a:ext cx="91440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3886200" y="22860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3733920" y="2590920"/>
            <a:ext cx="106668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 flipV="1">
            <a:off x="3809880" y="2666520"/>
            <a:ext cx="99072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3886200" y="41911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6324480" y="1828800"/>
            <a:ext cx="91440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324480" y="3733920"/>
            <a:ext cx="91440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5562720" y="2286000"/>
            <a:ext cx="761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5410080" y="2590920"/>
            <a:ext cx="106704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 flipV="1">
            <a:off x="5486400" y="2666520"/>
            <a:ext cx="99072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5562720" y="4191120"/>
            <a:ext cx="761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1523880" y="2743200"/>
            <a:ext cx="91440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 flipV="1">
            <a:off x="2362320" y="2514600"/>
            <a:ext cx="6858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2362320" y="3429000"/>
            <a:ext cx="68580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1066680" y="320040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3581280" y="838080"/>
            <a:ext cx="3200400" cy="990720"/>
          </a:xfrm>
          <a:custGeom>
            <a:avLst/>
            <a:gdLst/>
            <a:ahLst/>
            <a:rect l="l" t="t" r="r" b="b"/>
            <a:pathLst>
              <a:path w="2016" h="624">
                <a:moveTo>
                  <a:pt x="2016" y="624"/>
                </a:moveTo>
                <a:cubicBezTo>
                  <a:pt x="1632" y="312"/>
                  <a:pt x="1248" y="0"/>
                  <a:pt x="912" y="0"/>
                </a:cubicBezTo>
                <a:cubicBezTo>
                  <a:pt x="576" y="0"/>
                  <a:pt x="288" y="312"/>
                  <a:pt x="0" y="62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 flipV="1">
            <a:off x="3505320" y="4647600"/>
            <a:ext cx="3200400" cy="990360"/>
          </a:xfrm>
          <a:custGeom>
            <a:avLst/>
            <a:gdLst/>
            <a:ahLst/>
            <a:rect l="l" t="t" r="r" b="b"/>
            <a:pathLst>
              <a:path w="2016" h="624">
                <a:moveTo>
                  <a:pt x="2016" y="624"/>
                </a:moveTo>
                <a:cubicBezTo>
                  <a:pt x="1632" y="312"/>
                  <a:pt x="1248" y="0"/>
                  <a:pt x="912" y="0"/>
                </a:cubicBezTo>
                <a:cubicBezTo>
                  <a:pt x="576" y="0"/>
                  <a:pt x="288" y="312"/>
                  <a:pt x="0" y="62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1828800" y="29718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6629400" y="3962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629400" y="20574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4952880" y="39625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4952880" y="2057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3276720" y="3962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3276720" y="20574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2286000" y="228600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3962520" y="19051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3429000" y="33526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2209680" y="365760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3429000" y="274320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3886200" y="41911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5562720" y="190512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5105520" y="335268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4724280" y="45720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5105520" y="274320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5562720" y="41911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4724280" y="15228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4648320" y="594360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4648320" y="563868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228600" y="30492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 = { { a, b, c, d, e, f, g }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1219320" y="1143000"/>
            <a:ext cx="6400800" cy="40384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"/>
          <p:cNvSpPr/>
          <p:nvPr/>
        </p:nvSpPr>
        <p:spPr>
          <a:xfrm>
            <a:off x="2971800" y="1828800"/>
            <a:ext cx="91440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4648320" y="1828800"/>
            <a:ext cx="91440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2971800" y="3733920"/>
            <a:ext cx="91440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4648320" y="3733920"/>
            <a:ext cx="91440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3886200" y="22860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3733920" y="2590920"/>
            <a:ext cx="106668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 flipV="1">
            <a:off x="3809880" y="2666520"/>
            <a:ext cx="99072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3886200" y="41911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6324480" y="1828800"/>
            <a:ext cx="91440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6324480" y="3733920"/>
            <a:ext cx="91440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5562720" y="2286000"/>
            <a:ext cx="761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5410080" y="2590920"/>
            <a:ext cx="106704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 flipV="1">
            <a:off x="5486400" y="2666520"/>
            <a:ext cx="99072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5562720" y="4191120"/>
            <a:ext cx="761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1523880" y="2743200"/>
            <a:ext cx="91440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2362320" y="2514600"/>
            <a:ext cx="6858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2362320" y="3429000"/>
            <a:ext cx="68580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1066680" y="320040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3581280" y="838080"/>
            <a:ext cx="3200400" cy="990720"/>
          </a:xfrm>
          <a:custGeom>
            <a:avLst/>
            <a:gdLst/>
            <a:ahLst/>
            <a:rect l="l" t="t" r="r" b="b"/>
            <a:pathLst>
              <a:path w="2016" h="624">
                <a:moveTo>
                  <a:pt x="2016" y="624"/>
                </a:moveTo>
                <a:cubicBezTo>
                  <a:pt x="1632" y="312"/>
                  <a:pt x="1248" y="0"/>
                  <a:pt x="912" y="0"/>
                </a:cubicBezTo>
                <a:cubicBezTo>
                  <a:pt x="576" y="0"/>
                  <a:pt x="288" y="312"/>
                  <a:pt x="0" y="62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 flipV="1">
            <a:off x="3505320" y="4647600"/>
            <a:ext cx="3200400" cy="990360"/>
          </a:xfrm>
          <a:custGeom>
            <a:avLst/>
            <a:gdLst/>
            <a:ahLst/>
            <a:rect l="l" t="t" r="r" b="b"/>
            <a:pathLst>
              <a:path w="2016" h="624">
                <a:moveTo>
                  <a:pt x="2016" y="624"/>
                </a:moveTo>
                <a:cubicBezTo>
                  <a:pt x="1632" y="312"/>
                  <a:pt x="1248" y="0"/>
                  <a:pt x="912" y="0"/>
                </a:cubicBezTo>
                <a:cubicBezTo>
                  <a:pt x="576" y="0"/>
                  <a:pt x="288" y="312"/>
                  <a:pt x="0" y="62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1828800" y="29718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6629400" y="3962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6629400" y="20574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4952880" y="39625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4952880" y="2057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3276720" y="3962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3276720" y="20574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2286000" y="228600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3962520" y="19051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3429000" y="33526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2209680" y="365760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3429000" y="274320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3886200" y="41911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5562720" y="190512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5105520" y="335268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4724280" y="45720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5105520" y="274320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5562720" y="41911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4724280" y="15228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4648320" y="594360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4648320" y="563868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1219320" y="1219320"/>
            <a:ext cx="2895480" cy="4038480"/>
          </a:xfrm>
          <a:custGeom>
            <a:avLst/>
            <a:gdLst>
              <a:gd name="textAreaLeft" fmla="*/ 141120 w 2895480"/>
              <a:gd name="textAreaRight" fmla="*/ 2754360 w 2895480"/>
              <a:gd name="textAreaTop" fmla="*/ 141120 h 4038480"/>
              <a:gd name="textAreaBottom" fmla="*/ 3897360 h 4038480"/>
            </a:gdLst>
            <a:ahLst/>
            <a:rect l="textAreaLeft" t="textAreaTop" r="textAreaRight" b="textAreaBottom"/>
            <a:pathLst>
              <a:path w="21600" h="30126">
                <a:moveTo>
                  <a:pt x="3600" y="0"/>
                </a:moveTo>
                <a:arcTo wR="3600" hR="3600" stAng="16200000" swAng="-5400000"/>
                <a:lnTo>
                  <a:pt x="0" y="26526"/>
                </a:lnTo>
                <a:arcTo wR="3600" hR="3600" stAng="10800000" swAng="-5400000"/>
                <a:lnTo>
                  <a:pt x="18000" y="3012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4343400" y="1143000"/>
            <a:ext cx="3276720" cy="4038480"/>
          </a:xfrm>
          <a:custGeom>
            <a:avLst/>
            <a:gdLst>
              <a:gd name="textAreaLeft" fmla="*/ 159840 w 3276720"/>
              <a:gd name="textAreaRight" fmla="*/ 3116880 w 3276720"/>
              <a:gd name="textAreaTop" fmla="*/ 159840 h 4038480"/>
              <a:gd name="textAreaBottom" fmla="*/ 3878640 h 4038480"/>
            </a:gdLst>
            <a:ahLst/>
            <a:rect l="textAreaLeft" t="textAreaTop" r="textAreaRight" b="textAreaBottom"/>
            <a:pathLst>
              <a:path w="21600" h="26621">
                <a:moveTo>
                  <a:pt x="3600" y="0"/>
                </a:moveTo>
                <a:arcTo wR="3600" hR="3600" stAng="16200000" swAng="-5400000"/>
                <a:lnTo>
                  <a:pt x="0" y="23021"/>
                </a:lnTo>
                <a:arcTo wR="3600" hR="3600" stAng="10800000" swAng="-5400000"/>
                <a:lnTo>
                  <a:pt x="18000" y="2662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685800" y="58672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Output spl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228600" y="30492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 = { { a, b, c }, { d, e, f, g }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"/>
          <p:cNvSpPr/>
          <p:nvPr/>
        </p:nvSpPr>
        <p:spPr>
          <a:xfrm>
            <a:off x="2971800" y="1828800"/>
            <a:ext cx="91440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4648320" y="1828800"/>
            <a:ext cx="91440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2971800" y="3733920"/>
            <a:ext cx="91440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4648320" y="3733920"/>
            <a:ext cx="91440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3886200" y="22860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3733920" y="2590920"/>
            <a:ext cx="106668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 flipV="1">
            <a:off x="3809880" y="2666520"/>
            <a:ext cx="99072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3886200" y="41911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6324480" y="1828800"/>
            <a:ext cx="91440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6324480" y="3733920"/>
            <a:ext cx="91440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5562720" y="2286000"/>
            <a:ext cx="761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5410080" y="2590920"/>
            <a:ext cx="106704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 flipV="1">
            <a:off x="5486400" y="2666520"/>
            <a:ext cx="99072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5562720" y="4191120"/>
            <a:ext cx="761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1523880" y="2743200"/>
            <a:ext cx="91440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 flipV="1">
            <a:off x="2362320" y="2514600"/>
            <a:ext cx="6858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2362320" y="3429000"/>
            <a:ext cx="68580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1066680" y="320040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3581280" y="838080"/>
            <a:ext cx="3200400" cy="990720"/>
          </a:xfrm>
          <a:custGeom>
            <a:avLst/>
            <a:gdLst/>
            <a:ahLst/>
            <a:rect l="l" t="t" r="r" b="b"/>
            <a:pathLst>
              <a:path w="2016" h="624">
                <a:moveTo>
                  <a:pt x="2016" y="624"/>
                </a:moveTo>
                <a:cubicBezTo>
                  <a:pt x="1632" y="312"/>
                  <a:pt x="1248" y="0"/>
                  <a:pt x="912" y="0"/>
                </a:cubicBezTo>
                <a:cubicBezTo>
                  <a:pt x="576" y="0"/>
                  <a:pt x="288" y="312"/>
                  <a:pt x="0" y="62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 flipV="1">
            <a:off x="3505320" y="4647600"/>
            <a:ext cx="3200400" cy="990360"/>
          </a:xfrm>
          <a:custGeom>
            <a:avLst/>
            <a:gdLst/>
            <a:ahLst/>
            <a:rect l="l" t="t" r="r" b="b"/>
            <a:pathLst>
              <a:path w="2016" h="624">
                <a:moveTo>
                  <a:pt x="2016" y="624"/>
                </a:moveTo>
                <a:cubicBezTo>
                  <a:pt x="1632" y="312"/>
                  <a:pt x="1248" y="0"/>
                  <a:pt x="912" y="0"/>
                </a:cubicBezTo>
                <a:cubicBezTo>
                  <a:pt x="576" y="0"/>
                  <a:pt x="288" y="312"/>
                  <a:pt x="0" y="62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1828800" y="29718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6629400" y="3962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6629400" y="20574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4952880" y="39625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4952880" y="2057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3276720" y="3962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3276720" y="20574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2286000" y="228600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3962520" y="19051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3429000" y="33526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2209680" y="365760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3429000" y="274320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3886200" y="41911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5562720" y="190512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5105520" y="335268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4724280" y="45720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5105520" y="274320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5562720" y="41911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4724280" y="15228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4648320" y="594360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4648320" y="563868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1219320" y="1219320"/>
            <a:ext cx="1371600" cy="4038480"/>
          </a:xfrm>
          <a:custGeom>
            <a:avLst/>
            <a:gdLst>
              <a:gd name="textAreaLeft" fmla="*/ 66960 w 1371600"/>
              <a:gd name="textAreaRight" fmla="*/ 1304640 w 1371600"/>
              <a:gd name="textAreaTop" fmla="*/ 66960 h 4038480"/>
              <a:gd name="textAreaBottom" fmla="*/ 3971520 h 4038480"/>
            </a:gdLst>
            <a:ahLst/>
            <a:rect l="textAreaLeft" t="textAreaTop" r="textAreaRight" b="textAreaBottom"/>
            <a:pathLst>
              <a:path w="21600" h="63587">
                <a:moveTo>
                  <a:pt x="3600" y="0"/>
                </a:moveTo>
                <a:arcTo wR="3600" hR="3600" stAng="16200000" swAng="-5400000"/>
                <a:lnTo>
                  <a:pt x="0" y="59987"/>
                </a:lnTo>
                <a:arcTo wR="3600" hR="3600" stAng="10800000" swAng="-5400000"/>
                <a:lnTo>
                  <a:pt x="18000" y="6358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4343400" y="1143000"/>
            <a:ext cx="3276720" cy="4038480"/>
          </a:xfrm>
          <a:custGeom>
            <a:avLst/>
            <a:gdLst>
              <a:gd name="textAreaLeft" fmla="*/ 159840 w 3276720"/>
              <a:gd name="textAreaRight" fmla="*/ 3116880 w 3276720"/>
              <a:gd name="textAreaTop" fmla="*/ 159840 h 4038480"/>
              <a:gd name="textAreaBottom" fmla="*/ 3878640 h 4038480"/>
            </a:gdLst>
            <a:ahLst/>
            <a:rect l="textAreaLeft" t="textAreaTop" r="textAreaRight" b="textAreaBottom"/>
            <a:pathLst>
              <a:path w="21600" h="26621">
                <a:moveTo>
                  <a:pt x="3600" y="0"/>
                </a:moveTo>
                <a:arcTo wR="3600" hR="3600" stAng="16200000" swAng="-5400000"/>
                <a:lnTo>
                  <a:pt x="0" y="23021"/>
                </a:lnTo>
                <a:arcTo wR="3600" hR="3600" stAng="10800000" swAng="-5400000"/>
                <a:lnTo>
                  <a:pt x="18000" y="2662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685800" y="58672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Next-state spl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2743200" y="1219320"/>
            <a:ext cx="1371600" cy="4038480"/>
          </a:xfrm>
          <a:custGeom>
            <a:avLst/>
            <a:gdLst>
              <a:gd name="textAreaLeft" fmla="*/ 66960 w 1371600"/>
              <a:gd name="textAreaRight" fmla="*/ 1304640 w 1371600"/>
              <a:gd name="textAreaTop" fmla="*/ 66960 h 4038480"/>
              <a:gd name="textAreaBottom" fmla="*/ 3971520 h 4038480"/>
            </a:gdLst>
            <a:ahLst/>
            <a:rect l="textAreaLeft" t="textAreaTop" r="textAreaRight" b="textAreaBottom"/>
            <a:pathLst>
              <a:path w="21600" h="63587">
                <a:moveTo>
                  <a:pt x="3600" y="0"/>
                </a:moveTo>
                <a:arcTo wR="3600" hR="3600" stAng="16200000" swAng="-5400000"/>
                <a:lnTo>
                  <a:pt x="0" y="59987"/>
                </a:lnTo>
                <a:arcTo wR="3600" hR="3600" stAng="10800000" swAng="-5400000"/>
                <a:lnTo>
                  <a:pt x="18000" y="6358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228600" y="304920"/>
            <a:ext cx="411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 = { { a }, { b, c }, { d, e, f, g }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1280" y="2438280"/>
            <a:ext cx="2133720" cy="1524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114800" y="2895480"/>
            <a:ext cx="12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86000" y="320040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715000" y="320040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14400" y="2590920"/>
            <a:ext cx="2209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B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324480" y="2590920"/>
            <a:ext cx="2210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B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90720" y="34290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 1 1 0 0 0 1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400800" y="34290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 1 0 1 0 0 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"/>
          <p:cNvSpPr/>
          <p:nvPr/>
        </p:nvSpPr>
        <p:spPr>
          <a:xfrm>
            <a:off x="2971800" y="1828800"/>
            <a:ext cx="91440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4648320" y="1828800"/>
            <a:ext cx="91440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2971800" y="3733920"/>
            <a:ext cx="91440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648320" y="3733920"/>
            <a:ext cx="91440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3886200" y="22860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3733920" y="2590920"/>
            <a:ext cx="106668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 flipV="1">
            <a:off x="3809880" y="2666520"/>
            <a:ext cx="99072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3886200" y="41911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6324480" y="1828800"/>
            <a:ext cx="91440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6324480" y="3733920"/>
            <a:ext cx="91440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5562720" y="2286000"/>
            <a:ext cx="761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5410080" y="2590920"/>
            <a:ext cx="106704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 flipV="1">
            <a:off x="5486400" y="2666520"/>
            <a:ext cx="99072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5562720" y="4191120"/>
            <a:ext cx="761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1523880" y="2743200"/>
            <a:ext cx="91440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 flipV="1">
            <a:off x="2362320" y="2514600"/>
            <a:ext cx="6858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2362320" y="3429000"/>
            <a:ext cx="68580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1066680" y="320040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3581280" y="838080"/>
            <a:ext cx="3200400" cy="990720"/>
          </a:xfrm>
          <a:custGeom>
            <a:avLst/>
            <a:gdLst/>
            <a:ahLst/>
            <a:rect l="l" t="t" r="r" b="b"/>
            <a:pathLst>
              <a:path w="2016" h="624">
                <a:moveTo>
                  <a:pt x="2016" y="624"/>
                </a:moveTo>
                <a:cubicBezTo>
                  <a:pt x="1632" y="312"/>
                  <a:pt x="1248" y="0"/>
                  <a:pt x="912" y="0"/>
                </a:cubicBezTo>
                <a:cubicBezTo>
                  <a:pt x="576" y="0"/>
                  <a:pt x="288" y="312"/>
                  <a:pt x="0" y="62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 flipV="1">
            <a:off x="3505320" y="4647600"/>
            <a:ext cx="3200400" cy="990360"/>
          </a:xfrm>
          <a:custGeom>
            <a:avLst/>
            <a:gdLst/>
            <a:ahLst/>
            <a:rect l="l" t="t" r="r" b="b"/>
            <a:pathLst>
              <a:path w="2016" h="624">
                <a:moveTo>
                  <a:pt x="2016" y="624"/>
                </a:moveTo>
                <a:cubicBezTo>
                  <a:pt x="1632" y="312"/>
                  <a:pt x="1248" y="0"/>
                  <a:pt x="912" y="0"/>
                </a:cubicBezTo>
                <a:cubicBezTo>
                  <a:pt x="576" y="0"/>
                  <a:pt x="288" y="312"/>
                  <a:pt x="0" y="62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828800" y="29718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6629400" y="3962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6629400" y="20574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952880" y="39625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4952880" y="2057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3276720" y="3962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276720" y="20574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2286000" y="228600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962520" y="19051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3429000" y="33526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2209680" y="365760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3429000" y="274320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886200" y="41911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5562720" y="190512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5105520" y="335268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4724280" y="45720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5105520" y="274320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5562720" y="41911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4724280" y="15228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4648320" y="594360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4648320" y="563868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1219320" y="1219320"/>
            <a:ext cx="1371600" cy="4038480"/>
          </a:xfrm>
          <a:custGeom>
            <a:avLst/>
            <a:gdLst>
              <a:gd name="textAreaLeft" fmla="*/ 66960 w 1371600"/>
              <a:gd name="textAreaRight" fmla="*/ 1304640 w 1371600"/>
              <a:gd name="textAreaTop" fmla="*/ 66960 h 4038480"/>
              <a:gd name="textAreaBottom" fmla="*/ 3971520 h 4038480"/>
            </a:gdLst>
            <a:ahLst/>
            <a:rect l="textAreaLeft" t="textAreaTop" r="textAreaRight" b="textAreaBottom"/>
            <a:pathLst>
              <a:path w="21600" h="63587">
                <a:moveTo>
                  <a:pt x="3600" y="0"/>
                </a:moveTo>
                <a:arcTo wR="3600" hR="3600" stAng="16200000" swAng="-5400000"/>
                <a:lnTo>
                  <a:pt x="0" y="59987"/>
                </a:lnTo>
                <a:arcTo wR="3600" hR="3600" stAng="10800000" swAng="-5400000"/>
                <a:lnTo>
                  <a:pt x="18000" y="6358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4343400" y="1143000"/>
            <a:ext cx="1447920" cy="403848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4038480"/>
              <a:gd name="textAreaBottom" fmla="*/ 3967920 h 4038480"/>
            </a:gdLst>
            <a:ahLst/>
            <a:rect l="textAreaLeft" t="textAreaTop" r="textAreaRight" b="textAreaBottom"/>
            <a:pathLst>
              <a:path w="21600" h="60236">
                <a:moveTo>
                  <a:pt x="3600" y="0"/>
                </a:moveTo>
                <a:arcTo wR="3600" hR="3600" stAng="16200000" swAng="-5400000"/>
                <a:lnTo>
                  <a:pt x="0" y="56636"/>
                </a:lnTo>
                <a:arcTo wR="3600" hR="3600" stAng="10800000" swAng="-5400000"/>
                <a:lnTo>
                  <a:pt x="18000" y="6023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685800" y="58672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Next-state spl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2743200" y="1219320"/>
            <a:ext cx="1371600" cy="4038480"/>
          </a:xfrm>
          <a:custGeom>
            <a:avLst/>
            <a:gdLst>
              <a:gd name="textAreaLeft" fmla="*/ 66960 w 1371600"/>
              <a:gd name="textAreaRight" fmla="*/ 1304640 w 1371600"/>
              <a:gd name="textAreaTop" fmla="*/ 66960 h 4038480"/>
              <a:gd name="textAreaBottom" fmla="*/ 3971520 h 4038480"/>
            </a:gdLst>
            <a:ahLst/>
            <a:rect l="textAreaLeft" t="textAreaTop" r="textAreaRight" b="textAreaBottom"/>
            <a:pathLst>
              <a:path w="21600" h="63587">
                <a:moveTo>
                  <a:pt x="3600" y="0"/>
                </a:moveTo>
                <a:arcTo wR="3600" hR="3600" stAng="16200000" swAng="-5400000"/>
                <a:lnTo>
                  <a:pt x="0" y="59987"/>
                </a:lnTo>
                <a:arcTo wR="3600" hR="3600" stAng="10800000" swAng="-5400000"/>
                <a:lnTo>
                  <a:pt x="18000" y="6358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5943600" y="1143000"/>
            <a:ext cx="1523880" cy="4038480"/>
          </a:xfrm>
          <a:custGeom>
            <a:avLst/>
            <a:gdLst>
              <a:gd name="textAreaLeft" fmla="*/ 74160 w 1523880"/>
              <a:gd name="textAreaRight" fmla="*/ 1449720 w 1523880"/>
              <a:gd name="textAreaTop" fmla="*/ 74160 h 4038480"/>
              <a:gd name="textAreaBottom" fmla="*/ 3964320 h 4038480"/>
            </a:gdLst>
            <a:ahLst/>
            <a:rect l="textAreaLeft" t="textAreaTop" r="textAreaRight" b="textAreaBottom"/>
            <a:pathLst>
              <a:path w="21600" h="57234">
                <a:moveTo>
                  <a:pt x="3600" y="0"/>
                </a:moveTo>
                <a:arcTo wR="3600" hR="3600" stAng="16200000" swAng="-5400000"/>
                <a:lnTo>
                  <a:pt x="0" y="53634"/>
                </a:lnTo>
                <a:arcTo wR="3600" hR="3600" stAng="10800000" swAng="-5400000"/>
                <a:lnTo>
                  <a:pt x="18000" y="572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228600" y="304920"/>
            <a:ext cx="419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 = { { a }, { b, c }, { d, e }, { f, g }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"/>
          <p:cNvSpPr/>
          <p:nvPr/>
        </p:nvSpPr>
        <p:spPr>
          <a:xfrm>
            <a:off x="3886200" y="22860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886200" y="41911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5562720" y="2286000"/>
            <a:ext cx="761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5562720" y="4191120"/>
            <a:ext cx="761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 flipV="1">
            <a:off x="2362320" y="2514600"/>
            <a:ext cx="6858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2362320" y="3429000"/>
            <a:ext cx="68580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1066680" y="320040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581280" y="838080"/>
            <a:ext cx="3200400" cy="990720"/>
          </a:xfrm>
          <a:custGeom>
            <a:avLst/>
            <a:gdLst/>
            <a:ahLst/>
            <a:rect l="l" t="t" r="r" b="b"/>
            <a:pathLst>
              <a:path w="2016" h="624">
                <a:moveTo>
                  <a:pt x="2016" y="624"/>
                </a:moveTo>
                <a:cubicBezTo>
                  <a:pt x="1632" y="312"/>
                  <a:pt x="1248" y="0"/>
                  <a:pt x="912" y="0"/>
                </a:cubicBezTo>
                <a:cubicBezTo>
                  <a:pt x="576" y="0"/>
                  <a:pt x="288" y="312"/>
                  <a:pt x="0" y="62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2286000" y="228600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962520" y="19051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2209680" y="365760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886200" y="41911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5562720" y="190512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4724280" y="45720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562720" y="41911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4724280" y="15228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1219320" y="1219320"/>
            <a:ext cx="1371600" cy="4038480"/>
          </a:xfrm>
          <a:custGeom>
            <a:avLst/>
            <a:gdLst>
              <a:gd name="textAreaLeft" fmla="*/ 66960 w 1371600"/>
              <a:gd name="textAreaRight" fmla="*/ 1304640 w 1371600"/>
              <a:gd name="textAreaTop" fmla="*/ 66960 h 4038480"/>
              <a:gd name="textAreaBottom" fmla="*/ 3971520 h 4038480"/>
            </a:gdLst>
            <a:ahLst/>
            <a:rect l="textAreaLeft" t="textAreaTop" r="textAreaRight" b="textAreaBottom"/>
            <a:pathLst>
              <a:path w="21600" h="63587">
                <a:moveTo>
                  <a:pt x="3600" y="0"/>
                </a:moveTo>
                <a:arcTo wR="3600" hR="3600" stAng="16200000" swAng="-5400000"/>
                <a:lnTo>
                  <a:pt x="0" y="59987"/>
                </a:lnTo>
                <a:arcTo wR="3600" hR="3600" stAng="10800000" swAng="-5400000"/>
                <a:lnTo>
                  <a:pt x="18000" y="6358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4343400" y="1143000"/>
            <a:ext cx="1447920" cy="403848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4038480"/>
              <a:gd name="textAreaBottom" fmla="*/ 3967920 h 4038480"/>
            </a:gdLst>
            <a:ahLst/>
            <a:rect l="textAreaLeft" t="textAreaTop" r="textAreaRight" b="textAreaBottom"/>
            <a:pathLst>
              <a:path w="21600" h="60236">
                <a:moveTo>
                  <a:pt x="3600" y="0"/>
                </a:moveTo>
                <a:arcTo wR="3600" hR="3600" stAng="16200000" swAng="-5400000"/>
                <a:lnTo>
                  <a:pt x="0" y="56636"/>
                </a:lnTo>
                <a:arcTo wR="3600" hR="3600" stAng="10800000" swAng="-5400000"/>
                <a:lnTo>
                  <a:pt x="18000" y="6023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2286000" y="5791320"/>
            <a:ext cx="464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Minimal bisimilar state machi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2743200" y="1219320"/>
            <a:ext cx="1371600" cy="4038480"/>
          </a:xfrm>
          <a:custGeom>
            <a:avLst/>
            <a:gdLst>
              <a:gd name="textAreaLeft" fmla="*/ 66960 w 1371600"/>
              <a:gd name="textAreaRight" fmla="*/ 1304640 w 1371600"/>
              <a:gd name="textAreaTop" fmla="*/ 66960 h 4038480"/>
              <a:gd name="textAreaBottom" fmla="*/ 3971520 h 4038480"/>
            </a:gdLst>
            <a:ahLst/>
            <a:rect l="textAreaLeft" t="textAreaTop" r="textAreaRight" b="textAreaBottom"/>
            <a:pathLst>
              <a:path w="21600" h="63587">
                <a:moveTo>
                  <a:pt x="3600" y="0"/>
                </a:moveTo>
                <a:arcTo wR="3600" hR="3600" stAng="16200000" swAng="-5400000"/>
                <a:lnTo>
                  <a:pt x="0" y="59987"/>
                </a:lnTo>
                <a:arcTo wR="3600" hR="3600" stAng="10800000" swAng="-5400000"/>
                <a:lnTo>
                  <a:pt x="18000" y="6358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5943600" y="1143000"/>
            <a:ext cx="1523880" cy="4038480"/>
          </a:xfrm>
          <a:custGeom>
            <a:avLst/>
            <a:gdLst>
              <a:gd name="textAreaLeft" fmla="*/ 74160 w 1523880"/>
              <a:gd name="textAreaRight" fmla="*/ 1449720 w 1523880"/>
              <a:gd name="textAreaTop" fmla="*/ 74160 h 4038480"/>
              <a:gd name="textAreaBottom" fmla="*/ 3964320 h 4038480"/>
            </a:gdLst>
            <a:ahLst/>
            <a:rect l="textAreaLeft" t="textAreaTop" r="textAreaRight" b="textAreaBottom"/>
            <a:pathLst>
              <a:path w="21600" h="57234">
                <a:moveTo>
                  <a:pt x="3600" y="0"/>
                </a:moveTo>
                <a:arcTo wR="3600" hR="3600" stAng="16200000" swAng="-5400000"/>
                <a:lnTo>
                  <a:pt x="0" y="53634"/>
                </a:lnTo>
                <a:arcTo wR="3600" hR="3600" stAng="10800000" swAng="-5400000"/>
                <a:lnTo>
                  <a:pt x="18000" y="572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1600200" y="2971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{ a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2819520" y="297180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{ b, c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4495680" y="29718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{ d, e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6095880" y="29718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{ f, g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/>
          <p:nvPr/>
        </p:nvSpPr>
        <p:spPr>
          <a:xfrm>
            <a:off x="762120" y="320040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2438280" y="320040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4343400" y="320040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2438280" y="350532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4343400" y="35053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6172200" y="320040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5181480" y="114300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6248520" y="35053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5257800" y="8380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2514600" y="480060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 instead of 7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1447920" y="2971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{ a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3124080" y="29718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{ b, c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5029200" y="29718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{ d, e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6934320" y="297180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{ f, g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124080" y="2590920"/>
            <a:ext cx="1143000" cy="12189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219320" y="2590920"/>
            <a:ext cx="1143000" cy="12189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6934320" y="2666880"/>
            <a:ext cx="1143000" cy="12193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5029200" y="2590920"/>
            <a:ext cx="1143000" cy="12189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2362320" y="3200400"/>
            <a:ext cx="761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4267080" y="32004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6172200" y="32004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3962520" y="1523880"/>
            <a:ext cx="3504960" cy="1143000"/>
          </a:xfrm>
          <a:custGeom>
            <a:avLst/>
            <a:gdLst/>
            <a:ahLst/>
            <a:rect l="l" t="t" r="r" b="b"/>
            <a:pathLst>
              <a:path w="2208" h="720">
                <a:moveTo>
                  <a:pt x="2208" y="720"/>
                </a:moveTo>
                <a:cubicBezTo>
                  <a:pt x="1768" y="360"/>
                  <a:pt x="1328" y="0"/>
                  <a:pt x="960" y="0"/>
                </a:cubicBezTo>
                <a:cubicBezTo>
                  <a:pt x="592" y="0"/>
                  <a:pt x="296" y="360"/>
                  <a:pt x="0" y="72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"/>
          <p:cNvSpPr/>
          <p:nvPr/>
        </p:nvSpPr>
        <p:spPr>
          <a:xfrm>
            <a:off x="762120" y="1066680"/>
            <a:ext cx="7848360" cy="3781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ore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re is a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bisimulatio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between two state machines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re is an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isomorphism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between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inimize (M1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inimize (M2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i.e., a bisimulation that is a one-to-one and onto function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3505320" y="3505320"/>
            <a:ext cx="228600" cy="1828800"/>
          </a:xfrm>
          <a:prstGeom prst="line">
            <a:avLst/>
          </a:prstGeom>
          <a:ln w="9360">
            <a:solidFill>
              <a:srgbClr val="00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2057400" y="541008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a renaming of the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"/>
          <p:cNvSpPr/>
          <p:nvPr/>
        </p:nvSpPr>
        <p:spPr>
          <a:xfrm>
            <a:off x="1295280" y="114300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w to check if M1 and M2 are equivalent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1600200" y="2286000"/>
            <a:ext cx="6629400" cy="25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inimize M1 and call the result N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inimize M2 and call the result 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eck if the states of N1 can be renamed so that N1 and N2 are iden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286000" y="106668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dge Enco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219320" y="2362320"/>
            <a:ext cx="6553080" cy="19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ate between time t-1 and 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t &gt; 0 and input at time t-1 was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t &gt; 0 and input at time t-1 wa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971800" y="2895480"/>
            <a:ext cx="91440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410080" y="2819520"/>
            <a:ext cx="91440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3124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638680" y="30481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327672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191120" y="2819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86200" y="34290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267080" y="3429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0" y="106668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dge Enco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425680" y="3657600"/>
            <a:ext cx="825480" cy="749160"/>
          </a:xfrm>
          <a:custGeom>
            <a:avLst/>
            <a:gdLst/>
            <a:ahLst/>
            <a:rect l="l" t="t" r="r" b="b"/>
            <a:pathLst>
              <a:path w="520" h="472">
                <a:moveTo>
                  <a:pt x="392" y="0"/>
                </a:moveTo>
                <a:cubicBezTo>
                  <a:pt x="196" y="108"/>
                  <a:pt x="0" y="216"/>
                  <a:pt x="8" y="288"/>
                </a:cubicBezTo>
                <a:cubicBezTo>
                  <a:pt x="16" y="360"/>
                  <a:pt x="360" y="472"/>
                  <a:pt x="440" y="432"/>
                </a:cubicBezTo>
                <a:cubicBezTo>
                  <a:pt x="520" y="392"/>
                  <a:pt x="504" y="220"/>
                  <a:pt x="488" y="4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5942880" y="3657600"/>
            <a:ext cx="825480" cy="749160"/>
          </a:xfrm>
          <a:custGeom>
            <a:avLst/>
            <a:gdLst/>
            <a:ahLst/>
            <a:rect l="l" t="t" r="r" b="b"/>
            <a:pathLst>
              <a:path w="520" h="472">
                <a:moveTo>
                  <a:pt x="392" y="0"/>
                </a:moveTo>
                <a:cubicBezTo>
                  <a:pt x="196" y="108"/>
                  <a:pt x="0" y="216"/>
                  <a:pt x="8" y="288"/>
                </a:cubicBezTo>
                <a:cubicBezTo>
                  <a:pt x="16" y="360"/>
                  <a:pt x="360" y="472"/>
                  <a:pt x="440" y="432"/>
                </a:cubicBezTo>
                <a:cubicBezTo>
                  <a:pt x="520" y="392"/>
                  <a:pt x="504" y="220"/>
                  <a:pt x="488" y="4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019920" y="4343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86000" y="4343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971800" y="2895480"/>
            <a:ext cx="91440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2819520"/>
            <a:ext cx="91440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124080" y="3124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30481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327672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191120" y="2819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886200" y="34290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267080" y="3429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286000" y="106668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dge Enco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425680" y="3657600"/>
            <a:ext cx="825480" cy="749160"/>
          </a:xfrm>
          <a:custGeom>
            <a:avLst/>
            <a:gdLst/>
            <a:ahLst/>
            <a:rect l="l" t="t" r="r" b="b"/>
            <a:pathLst>
              <a:path w="520" h="472">
                <a:moveTo>
                  <a:pt x="392" y="0"/>
                </a:moveTo>
                <a:cubicBezTo>
                  <a:pt x="196" y="108"/>
                  <a:pt x="0" y="216"/>
                  <a:pt x="8" y="288"/>
                </a:cubicBezTo>
                <a:cubicBezTo>
                  <a:pt x="16" y="360"/>
                  <a:pt x="360" y="472"/>
                  <a:pt x="440" y="432"/>
                </a:cubicBezTo>
                <a:cubicBezTo>
                  <a:pt x="520" y="392"/>
                  <a:pt x="504" y="220"/>
                  <a:pt x="488" y="4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5942880" y="3657600"/>
            <a:ext cx="825480" cy="749160"/>
          </a:xfrm>
          <a:custGeom>
            <a:avLst/>
            <a:gdLst/>
            <a:ahLst/>
            <a:rect l="l" t="t" r="r" b="b"/>
            <a:pathLst>
              <a:path w="520" h="472">
                <a:moveTo>
                  <a:pt x="392" y="0"/>
                </a:moveTo>
                <a:cubicBezTo>
                  <a:pt x="196" y="108"/>
                  <a:pt x="0" y="216"/>
                  <a:pt x="8" y="288"/>
                </a:cubicBezTo>
                <a:cubicBezTo>
                  <a:pt x="16" y="360"/>
                  <a:pt x="360" y="472"/>
                  <a:pt x="440" y="432"/>
                </a:cubicBezTo>
                <a:cubicBezTo>
                  <a:pt x="520" y="392"/>
                  <a:pt x="504" y="220"/>
                  <a:pt x="488" y="4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19920" y="4343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86000" y="4343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819520" y="2514600"/>
            <a:ext cx="30456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86000" y="106668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dge Enco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219320" y="2362320"/>
            <a:ext cx="7467480" cy="19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ate between time t-1 and 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t &gt; 0 and input at time t-1 was 0,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or  t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t &gt; 0 and input at time t-1 wa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7T05:45:59Z</dcterms:created>
  <dc:creator>Valued Sony Customer</dc:creator>
  <dc:description/>
  <dc:language>en-US</dc:language>
  <cp:lastModifiedBy>Tom Henzinger</cp:lastModifiedBy>
  <dcterms:modified xsi:type="dcterms:W3CDTF">2001-02-16T16:45:18Z</dcterms:modified>
  <cp:revision>53</cp:revision>
  <dc:subject/>
  <dc:title>PowerPoint Presentation</dc:title>
</cp:coreProperties>
</file>