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</p:sldIdLst>
  <p:sldSz cx="9144000" cy="6858000"/>
  <p:notesSz cx="7019925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06AA-CFCD-4938-BF23-76DCA9069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B37D-33EC-474D-B348-5CA603B7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3DFF-A1AD-45DF-94E5-E7F2E7472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B0B6-698C-4A9C-B260-1930E3423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6E3C-7F59-412F-A76E-0F669456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4CD5-FA27-4E3D-AD1A-D729E611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851E-E0EF-4058-AD66-3E5D16AC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D8E0-3BA1-45B9-8F32-5676BF6C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F4AE-D720-47A1-B824-DF4454BB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C023-9C11-401C-AD59-433EEADD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DD67-305F-44E8-8444-1F095A13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B001-98F5-4026-B0C4-F468CCE1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3762-087C-4272-A92B-061D00886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2514600"/>
            <a:ext cx="4876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ECS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cture 1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February 26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m Henzin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1522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905120" y="121932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, to check if M1 refines M2,         check if M1 is simulated by det(M2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2514600"/>
            <a:ext cx="5791320" cy="268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refines  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refines  det(M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is simulated by  det(M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905120" y="121932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, to check if M1 refines M2,         check if M1 is simulated by det(M2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2514600"/>
            <a:ext cx="5791320" cy="268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refines  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refines  det(M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is simulated by   det(M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4120" y="4572000"/>
            <a:ext cx="1523880" cy="838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400440" y="5410080"/>
            <a:ext cx="15228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59436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-determin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905120" y="13716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ubset 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2743200"/>
            <a:ext cx="7925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:    nondeterministic state machine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: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-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 machine det(M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that is equivalent to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05120" y="13716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ubset 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2743200"/>
            <a:ext cx="7925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: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non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 machine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: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utput-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 machin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t(M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that is equivalent to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4800600"/>
            <a:ext cx="5791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s [det(M)]    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nputs [M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utputs [det(M)] 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s [M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057400" y="8380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ubset 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2057400"/>
            <a:ext cx="9677520" cy="38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itialState [ det(M) ]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ossibleInitialStates [M]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tates [ det(M) ]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 initialState [det(M)] 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eat as long as new transitions can be added to det(M)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oose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States [det(M)]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and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x,y)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Inputs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Outpu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t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{ q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States [M] |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p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P,  (q,y)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possibleUpdates [M] (p,x) }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Q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Ø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t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ates [det(M)] = States [det(M)]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{Q}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t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update [det(M)] (P,x) = (Q,y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24080" y="16765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67280" y="26668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91320" y="9144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8120" y="4572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0384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2286000"/>
            <a:ext cx="18288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2590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219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1828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0040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p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19920" y="11430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58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4648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24080" y="16765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67280" y="26668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91320" y="9144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44956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4572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384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38480" y="2286000"/>
            <a:ext cx="18288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495288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19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2590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1219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2680" y="1828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0040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p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11430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58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67280" y="47242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{q1,q2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4648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867280" y="19051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19810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236232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1905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0040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1337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2057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82880" y="1447920"/>
            <a:ext cx="1117800" cy="53316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15000" y="1371600"/>
            <a:ext cx="1117440" cy="5335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68580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91320" y="60948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23623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4952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867280" y="19051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19810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236232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19720" y="1905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0040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21337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2057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82880" y="1447920"/>
            <a:ext cx="1117800" cy="53316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1371600"/>
            <a:ext cx="1117440" cy="5335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68580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91320" y="60948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14600" y="23623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3200" y="48769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4952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09680" y="52578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867280" y="19051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8120" y="19810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236232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19720" y="1905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67280" y="21337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2057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82880" y="1447920"/>
            <a:ext cx="1117800" cy="53316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15000" y="1371600"/>
            <a:ext cx="1117440" cy="5335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8120" y="68580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91320" y="60948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14600" y="23623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43200" y="48769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4952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77960" y="4343400"/>
            <a:ext cx="1117800" cy="5335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09680" y="52578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66680" y="10666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2362320"/>
            <a:ext cx="5334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-determin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determin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724280" y="4038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867280" y="19051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8120" y="19810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62520" y="236232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1905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0040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21337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2057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82880" y="1447920"/>
            <a:ext cx="1117800" cy="53316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15000" y="1371600"/>
            <a:ext cx="1117440" cy="5335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68580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91320" y="60948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14600" y="23623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482436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48769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57600" y="51814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4724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5029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,b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4952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77960" y="4343400"/>
            <a:ext cx="1117800" cy="5335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43200" y="3962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09680" y="52578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867280" y="19051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8120" y="19810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2520" y="236232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19720" y="1905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67280" y="21337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2057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82880" y="1447920"/>
            <a:ext cx="1117800" cy="53316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15000" y="1371600"/>
            <a:ext cx="1117440" cy="5335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8120" y="68580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791320" y="60948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14600" y="23623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00600" y="482436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43200" y="48769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57600" y="51814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4724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1952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5029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,b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4952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77960" y="4343400"/>
            <a:ext cx="1117800" cy="5335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43200" y="3962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09680" y="52578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657240" y="53341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988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867280" y="19051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48120" y="19810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62520" y="236232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19720" y="1905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0040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67280" y="21337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2057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82880" y="1447920"/>
            <a:ext cx="1117800" cy="53316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1371600"/>
            <a:ext cx="1117440" cy="5335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8120" y="68580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60948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14600" y="23623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00600" y="482436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43200" y="48769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51814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33920" y="4724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1952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0" y="5029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,b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4952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77960" y="4343400"/>
            <a:ext cx="1117800" cy="5335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43200" y="3962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09680" y="52578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48320" y="4343400"/>
            <a:ext cx="1117440" cy="5335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00600" y="3962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657240" y="53341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988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5867280" y="19051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48120" y="19810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36232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19720" y="1905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0040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67280" y="21337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520" y="2057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82880" y="1447920"/>
            <a:ext cx="1117800" cy="53316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15000" y="1371600"/>
            <a:ext cx="1117440" cy="5335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8120" y="68580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91320" y="60948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14600" y="23623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800600" y="482436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43200" y="48769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57600" y="51814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4724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1952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0" y="5029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,b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4952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77960" y="4343400"/>
            <a:ext cx="1117800" cy="5335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743200" y="3962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52578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0" y="482436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15000" y="528156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705720" y="5029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b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91320" y="4876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648320" y="4343400"/>
            <a:ext cx="1117440" cy="5335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00600" y="3962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657240" y="53341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988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5867280" y="19051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8120" y="19810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62520" y="236232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19720" y="1905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20040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67280" y="21337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3520" y="2057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882880" y="1447920"/>
            <a:ext cx="1117800" cy="53316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715000" y="1371600"/>
            <a:ext cx="1117440" cy="5335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48120" y="68580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91320" y="60948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14600" y="23623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00600" y="482436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743200" y="48769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57600" y="51814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33920" y="4724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81952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0" y="5029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,b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4952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77960" y="4343400"/>
            <a:ext cx="1117800" cy="5335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743200" y="3962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09680" y="52578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0" y="482436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15000" y="528156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05720" y="5029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b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91320" y="449568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48320" y="4343400"/>
            <a:ext cx="1117440" cy="5335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00600" y="3962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3657240" y="53341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988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5867280" y="19051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48120" y="19810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62520" y="236232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19720" y="1905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0040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867280" y="21337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2057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882880" y="1447920"/>
            <a:ext cx="1117800" cy="53316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715000" y="1371600"/>
            <a:ext cx="1117440" cy="5335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048120" y="68580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91320" y="60948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23623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00600" y="482436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48769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657600" y="51814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733920" y="4724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81952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72000" y="5029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,b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3520" y="4952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77960" y="4343400"/>
            <a:ext cx="1117800" cy="5335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43200" y="3962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209680" y="52578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0" y="482436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15000" y="528156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705720" y="5029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b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290840"/>
            <a:ext cx="1117440" cy="5335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449568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48320" y="4343400"/>
            <a:ext cx="1117440" cy="5335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800600" y="3962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3657240" y="53341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0988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5867280" y="19051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8120" y="19810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62520" y="236232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419720" y="1905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0040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21337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3520" y="2057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82880" y="1447920"/>
            <a:ext cx="1117800" cy="53316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5000" y="1371600"/>
            <a:ext cx="1117440" cy="5335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048120" y="68580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91320" y="60948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514600" y="23623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800600" y="482436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43200" y="48769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1814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33920" y="4724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81952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0" y="5029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,b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33520" y="4952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77960" y="4343400"/>
            <a:ext cx="1117800" cy="5335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3962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09680" y="52578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0" y="482436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715000" y="528156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05720" y="5029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b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705720" y="4290840"/>
            <a:ext cx="1117440" cy="5335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781680" y="35053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91320" y="449568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648320" y="4343400"/>
            <a:ext cx="1117440" cy="5335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800600" y="3962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3657240" y="53341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0988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60948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4952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143000"/>
            <a:ext cx="914400" cy="64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8120" y="120168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62520" y="149544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0040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867280" y="1295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882880" y="790560"/>
            <a:ext cx="1117800" cy="4111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715000" y="73332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048120" y="3808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514600" y="149544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419720" y="1066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867280" y="304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67280" y="260820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048120" y="266688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962520" y="296064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76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67280" y="2743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882880" y="2257560"/>
            <a:ext cx="1117800" cy="4093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15000" y="219852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1828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296064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419720" y="25146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867280" y="1828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362320" y="380880"/>
            <a:ext cx="464796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60948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33520" y="4952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67280" y="1143000"/>
            <a:ext cx="914400" cy="64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8120" y="120168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962520" y="149544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0040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867280" y="1295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882880" y="790560"/>
            <a:ext cx="1117800" cy="4111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15000" y="73332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48120" y="3808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514600" y="149544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19720" y="1066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867280" y="304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867280" y="260820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048120" y="266688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62520" y="296064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276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67280" y="2743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882880" y="2257560"/>
            <a:ext cx="1117800" cy="4093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715000" y="219852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971800" y="1828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14600" y="296064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419720" y="25146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867280" y="1828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62320" y="380880"/>
            <a:ext cx="464796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666880" y="482436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438280" y="50292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,c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133720" y="52578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60948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520" y="4952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67280" y="1143000"/>
            <a:ext cx="914400" cy="64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048120" y="120168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962520" y="149544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20040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867280" y="1295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882880" y="790560"/>
            <a:ext cx="1117800" cy="4111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715000" y="73332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048120" y="3808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14600" y="149544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419720" y="1066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67280" y="304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867280" y="260820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048120" y="266688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962520" y="296064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76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2743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882880" y="2257560"/>
            <a:ext cx="1117800" cy="4093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15000" y="219852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971800" y="1828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514600" y="296064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19720" y="25146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67280" y="1828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362320" y="380880"/>
            <a:ext cx="464796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482436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438280" y="50292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,c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33720" y="52578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800600" y="41148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4319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,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3581280" y="4723920"/>
            <a:ext cx="12956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581280" y="4495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28800" y="1295280"/>
            <a:ext cx="54864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tate machine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is only one initial state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very state and every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here is only one successor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48769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nce, for every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sign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ere is exactly one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60948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3520" y="4952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867280" y="1143000"/>
            <a:ext cx="914400" cy="64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48120" y="120168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962520" y="149544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0040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867280" y="1295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882880" y="790560"/>
            <a:ext cx="1117800" cy="4111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715000" y="73332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048120" y="3808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514600" y="149544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419720" y="1066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867280" y="304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67280" y="260820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8120" y="266688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62520" y="296064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276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867280" y="2743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82880" y="2257560"/>
            <a:ext cx="1117800" cy="4093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715000" y="219852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971800" y="1828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514600" y="296064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419720" y="25146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867280" y="1828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362320" y="380880"/>
            <a:ext cx="464796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666880" y="482436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8280" y="50292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,c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133720" y="52578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800600" y="41148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0" y="4319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,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3581280" y="4723920"/>
            <a:ext cx="12956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581280" y="4495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800600" y="551016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72000" y="571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b,c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581280" y="5410080"/>
            <a:ext cx="121932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581280" y="5562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60948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33520" y="4952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867280" y="1143000"/>
            <a:ext cx="914400" cy="64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048120" y="120168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962520" y="149544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20040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867280" y="1295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882880" y="790560"/>
            <a:ext cx="1117800" cy="4111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15000" y="73332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048120" y="3808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514600" y="149544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419720" y="1066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867280" y="304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867280" y="260820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048120" y="266688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962520" y="296064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276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867280" y="2743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882880" y="2257560"/>
            <a:ext cx="1117800" cy="4093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715000" y="219852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971800" y="1828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296064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419720" y="25146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67280" y="1828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362320" y="380880"/>
            <a:ext cx="464796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666880" y="482436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438280" y="50292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,c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133720" y="52578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800600" y="41148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572000" y="4319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,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3581280" y="4723920"/>
            <a:ext cx="12956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581280" y="4495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800600" y="551016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572000" y="571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b,c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581280" y="5410080"/>
            <a:ext cx="121932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581280" y="5562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572000" y="372276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5627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60948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33520" y="4952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867280" y="1143000"/>
            <a:ext cx="914400" cy="64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048120" y="120168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962520" y="149544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20040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867280" y="1295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882880" y="790560"/>
            <a:ext cx="1117800" cy="4111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715000" y="73332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048120" y="3808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514600" y="149544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419720" y="1066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867280" y="304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867280" y="260820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048120" y="266688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962520" y="296064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276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867280" y="2743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882880" y="2257560"/>
            <a:ext cx="1117800" cy="4093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715000" y="219852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971800" y="1828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514600" y="296064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419720" y="25146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1828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2320" y="380880"/>
            <a:ext cx="464796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666880" y="482436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50292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,c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133720" y="52578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800600" y="41148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572000" y="4319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,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3581280" y="4723920"/>
            <a:ext cx="12956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81280" y="4495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800600" y="551016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572000" y="571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b,c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581280" y="5410080"/>
            <a:ext cx="121932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81280" y="5562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572000" y="372276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5627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162920" y="41148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010280" y="431964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b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715000" y="44956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019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60948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33520" y="4952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867280" y="1143000"/>
            <a:ext cx="914400" cy="64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048120" y="120168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962520" y="149544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20040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867280" y="1295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882880" y="790560"/>
            <a:ext cx="1117800" cy="4111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715000" y="73332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48120" y="3808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514600" y="149544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419720" y="1066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867280" y="304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867280" y="260820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048120" y="266688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962520" y="296064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276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867280" y="2743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882880" y="2257560"/>
            <a:ext cx="1117800" cy="4093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715000" y="219852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971800" y="1828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514600" y="296064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419720" y="25146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1828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362320" y="380880"/>
            <a:ext cx="464796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666880" y="482436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38280" y="50292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,c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133720" y="52578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800600" y="41148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572000" y="4319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,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3581280" y="4723920"/>
            <a:ext cx="12956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581280" y="4495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800600" y="551016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572000" y="571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b,c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581280" y="5410080"/>
            <a:ext cx="121932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581280" y="5562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572000" y="372276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5627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62920" y="41148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010280" y="431964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b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715000" y="44956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019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086600" y="3733920"/>
            <a:ext cx="1117440" cy="4093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077320" y="3657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60948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33520" y="4952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867280" y="1143000"/>
            <a:ext cx="914400" cy="64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048120" y="120168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962520" y="149544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20040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867280" y="1295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82880" y="790560"/>
            <a:ext cx="1117800" cy="4111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715000" y="73332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048120" y="3808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514600" y="149544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419720" y="1066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867280" y="304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867280" y="260820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048120" y="266688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96064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276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867280" y="2743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882880" y="2257560"/>
            <a:ext cx="1117800" cy="4093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715000" y="219852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971800" y="1828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4600" y="296064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419720" y="25146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867280" y="1828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362320" y="380880"/>
            <a:ext cx="464796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66880" y="482436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438280" y="50292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,c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133720" y="52578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800600" y="41148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572000" y="4319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,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3581280" y="4723920"/>
            <a:ext cx="12956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581280" y="4495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800600" y="551016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572000" y="571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b,c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581280" y="5410080"/>
            <a:ext cx="121932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581280" y="5562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572000" y="372276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5627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162920" y="41148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1964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b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715000" y="44956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019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086600" y="3733920"/>
            <a:ext cx="1117440" cy="4093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8077320" y="3657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648320" y="509436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638680" y="4952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60948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33520" y="4952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867280" y="1143000"/>
            <a:ext cx="914400" cy="64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048120" y="120168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962520" y="149544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20040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867280" y="1295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882880" y="790560"/>
            <a:ext cx="1117800" cy="4111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715000" y="73332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048120" y="3808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149544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419720" y="1066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867280" y="304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867280" y="260820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266688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962520" y="296064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276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867280" y="2743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882880" y="2257560"/>
            <a:ext cx="1117800" cy="4093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15000" y="219852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71800" y="1828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514600" y="296064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419720" y="25146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867280" y="1828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362320" y="380880"/>
            <a:ext cx="464796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666880" y="482436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438280" y="50292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,c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133720" y="52578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800600" y="41148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572000" y="4319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,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3581280" y="4723920"/>
            <a:ext cx="12956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581280" y="4495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800600" y="551016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572000" y="571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b,c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581280" y="5410080"/>
            <a:ext cx="121932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581280" y="5562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572000" y="372276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5627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162920" y="41148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010280" y="431964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b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715000" y="44956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019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086600" y="3733920"/>
            <a:ext cx="1117440" cy="4093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8077320" y="3657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648320" y="509436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638680" y="4952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162920" y="55627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010280" y="57675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715000" y="5943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019920" y="55627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60948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33520" y="4952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867280" y="1143000"/>
            <a:ext cx="914400" cy="64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048120" y="120168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962520" y="149544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20040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867280" y="1295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882880" y="790560"/>
            <a:ext cx="1117800" cy="4111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715000" y="73332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048120" y="3808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514600" y="149544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419720" y="1066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867280" y="304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867280" y="260820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048120" y="266688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962520" y="296064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276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867280" y="2743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882880" y="2257560"/>
            <a:ext cx="1117800" cy="4093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715000" y="219852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971800" y="1828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514600" y="296064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419720" y="25146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867280" y="1828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362320" y="380880"/>
            <a:ext cx="464796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666880" y="482436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438280" y="50292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,c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133720" y="52578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800600" y="41148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572000" y="4319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,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3581280" y="4723920"/>
            <a:ext cx="12956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581280" y="4495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800600" y="551016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572000" y="571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b,c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581280" y="5410080"/>
            <a:ext cx="121932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581280" y="5562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572000" y="372276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5627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162920" y="41148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010280" y="431964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b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715000" y="44956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19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086600" y="3733920"/>
            <a:ext cx="1117440" cy="4093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8077320" y="3657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648320" y="509436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638680" y="4952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162920" y="55627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010280" y="57675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715000" y="5943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019920" y="55627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086600" y="518148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077320" y="5105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533520" y="990720"/>
            <a:ext cx="838188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or a given reactive system 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re is a nondeterministic state machine that implements S with n states, then there is a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-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 machine that implements S with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s.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[Subset constructio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There may not be an output-deterministic state machine that implements S with fewer tha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n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s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[Homework 5, Problem C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There may not be a unique nondeterministic state machine that implements S with the fewest sta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4114800" y="19810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248520" y="19810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029200" y="23623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191120" y="1066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181480" y="1905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505320" y="2362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102200" y="1536840"/>
            <a:ext cx="939600" cy="444240"/>
          </a:xfrm>
          <a:custGeom>
            <a:avLst/>
            <a:gdLst/>
            <a:ahLst/>
            <a:rect l="l" t="t" r="r" b="b"/>
            <a:pathLst>
              <a:path w="592" h="280">
                <a:moveTo>
                  <a:pt x="200" y="280"/>
                </a:moveTo>
                <a:cubicBezTo>
                  <a:pt x="100" y="180"/>
                  <a:pt x="0" y="80"/>
                  <a:pt x="56" y="40"/>
                </a:cubicBezTo>
                <a:cubicBezTo>
                  <a:pt x="112" y="0"/>
                  <a:pt x="480" y="0"/>
                  <a:pt x="536" y="40"/>
                </a:cubicBezTo>
                <a:cubicBezTo>
                  <a:pt x="592" y="80"/>
                  <a:pt x="492" y="180"/>
                  <a:pt x="392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248520" y="1523880"/>
            <a:ext cx="939600" cy="444600"/>
          </a:xfrm>
          <a:custGeom>
            <a:avLst/>
            <a:gdLst/>
            <a:ahLst/>
            <a:rect l="l" t="t" r="r" b="b"/>
            <a:pathLst>
              <a:path w="592" h="280">
                <a:moveTo>
                  <a:pt x="200" y="280"/>
                </a:moveTo>
                <a:cubicBezTo>
                  <a:pt x="100" y="180"/>
                  <a:pt x="0" y="80"/>
                  <a:pt x="56" y="40"/>
                </a:cubicBezTo>
                <a:cubicBezTo>
                  <a:pt x="112" y="0"/>
                  <a:pt x="480" y="0"/>
                  <a:pt x="536" y="40"/>
                </a:cubicBezTo>
                <a:cubicBezTo>
                  <a:pt x="592" y="80"/>
                  <a:pt x="492" y="180"/>
                  <a:pt x="392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238880" y="99072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114800" y="47242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248520" y="47242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029200" y="51055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114800" y="35053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181480" y="4648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51055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102200" y="4280040"/>
            <a:ext cx="939600" cy="444240"/>
          </a:xfrm>
          <a:custGeom>
            <a:avLst/>
            <a:gdLst/>
            <a:ahLst/>
            <a:rect l="l" t="t" r="r" b="b"/>
            <a:pathLst>
              <a:path w="592" h="280">
                <a:moveTo>
                  <a:pt x="200" y="280"/>
                </a:moveTo>
                <a:cubicBezTo>
                  <a:pt x="100" y="180"/>
                  <a:pt x="0" y="80"/>
                  <a:pt x="56" y="40"/>
                </a:cubicBezTo>
                <a:cubicBezTo>
                  <a:pt x="112" y="0"/>
                  <a:pt x="480" y="0"/>
                  <a:pt x="536" y="40"/>
                </a:cubicBezTo>
                <a:cubicBezTo>
                  <a:pt x="592" y="80"/>
                  <a:pt x="492" y="180"/>
                  <a:pt x="392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248520" y="4267080"/>
            <a:ext cx="939600" cy="444600"/>
          </a:xfrm>
          <a:custGeom>
            <a:avLst/>
            <a:gdLst/>
            <a:ahLst/>
            <a:rect l="l" t="t" r="r" b="b"/>
            <a:pathLst>
              <a:path w="592" h="280">
                <a:moveTo>
                  <a:pt x="200" y="280"/>
                </a:moveTo>
                <a:cubicBezTo>
                  <a:pt x="100" y="180"/>
                  <a:pt x="0" y="80"/>
                  <a:pt x="56" y="40"/>
                </a:cubicBezTo>
                <a:cubicBezTo>
                  <a:pt x="112" y="0"/>
                  <a:pt x="480" y="0"/>
                  <a:pt x="536" y="40"/>
                </a:cubicBezTo>
                <a:cubicBezTo>
                  <a:pt x="592" y="80"/>
                  <a:pt x="492" y="180"/>
                  <a:pt x="392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238880" y="373392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80880" y="3048120"/>
            <a:ext cx="26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quivalent but not isomorphic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2209680" y="251460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 what does minimization do for nondeterministic state machin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43000" y="1447920"/>
            <a:ext cx="72388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tate machine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-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is only one initial state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very state and every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-output pai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ere is only one successor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48769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nce, for every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ehavi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ere is exactly one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1219320" y="12193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Nondeterministic Minimiz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143000" y="2514600"/>
            <a:ext cx="7315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put :      nondeterministic state machine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 :   minimize (M), the state machine with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the fewest states that is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bisimilar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the result is unique up to renaming of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228600" y="304920"/>
            <a:ext cx="8839080" cy="74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binary relation 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[M1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[M2]  is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isimulatio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tween M1 and 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1.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InitialStates [M1] ,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InitialStates [M2],  ( p, q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2. 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p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 [M1] , 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q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 [M2] ,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f  ( p, q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n  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x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Inputs ,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y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Outputs ,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p’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 [M1] ,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f  ( p’, y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Updates [M1] ( p, x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n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’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tates [M2]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 q’, y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Updates [M2] ( q, x ) 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 p’, q’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,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304920" y="1523880"/>
            <a:ext cx="88390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1.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InitialStates [M2] ,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InitialStates [M1],  ( p, q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2. 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p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 [M1] , 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q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 [M2] ,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f  ( p, q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n  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x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Inputs ,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y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Outputs ,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q’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 [M2] ,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f  ( q’, y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Updates [M2] ( q, x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n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’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tates [M1]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 p’, y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Updates [M1] ( q, x ) 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 p’, q’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657600" y="914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2590920" y="213372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514600" y="365760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74320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66688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876920" y="205740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02920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276720" y="24382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505320" y="1981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362320" y="1828800"/>
            <a:ext cx="1066680" cy="27432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743200"/>
              <a:gd name="textAreaBottom" fmla="*/ 2691360 h 2743200"/>
            </a:gdLst>
            <a:ahLst/>
            <a:rect l="textAreaLeft" t="textAreaTop" r="textAreaRight" b="textAreaBottom"/>
            <a:pathLst>
              <a:path w="21600" h="55538">
                <a:moveTo>
                  <a:pt x="3600" y="0"/>
                </a:moveTo>
                <a:arcTo wR="3600" hR="3600" stAng="16200000" swAng="-5400000"/>
                <a:lnTo>
                  <a:pt x="0" y="51938"/>
                </a:lnTo>
                <a:arcTo wR="3600" hR="3600" stAng="10800000" swAng="-5400000"/>
                <a:lnTo>
                  <a:pt x="18000" y="555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362320" y="1295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2590920" y="213372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514600" y="365760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74320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66688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876920" y="205740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02920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276720" y="24382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505320" y="1981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362320" y="1828800"/>
            <a:ext cx="1066680" cy="27432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743200"/>
              <a:gd name="textAreaBottom" fmla="*/ 2691360 h 2743200"/>
            </a:gdLst>
            <a:ahLst/>
            <a:rect l="textAreaLeft" t="textAreaTop" r="textAreaRight" b="textAreaBottom"/>
            <a:pathLst>
              <a:path w="21600" h="55538">
                <a:moveTo>
                  <a:pt x="3600" y="0"/>
                </a:moveTo>
                <a:arcTo wR="3600" hR="3600" stAng="16200000" swAng="-5400000"/>
                <a:lnTo>
                  <a:pt x="0" y="51938"/>
                </a:lnTo>
                <a:arcTo wR="3600" hR="3600" stAng="10800000" swAng="-5400000"/>
                <a:lnTo>
                  <a:pt x="18000" y="555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800600" y="358128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952880" y="3657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200400" y="39625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42900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362320" y="1295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2590920" y="213372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514600" y="365760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74320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66688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876920" y="205740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02920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76720" y="24382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505320" y="1981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362320" y="1828800"/>
            <a:ext cx="1066680" cy="27432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743200"/>
              <a:gd name="textAreaBottom" fmla="*/ 2691360 h 2743200"/>
            </a:gdLst>
            <a:ahLst/>
            <a:rect l="textAreaLeft" t="textAreaTop" r="textAreaRight" b="textAreaBottom"/>
            <a:pathLst>
              <a:path w="21600" h="55538">
                <a:moveTo>
                  <a:pt x="3600" y="0"/>
                </a:moveTo>
                <a:arcTo wR="3600" hR="3600" stAng="16200000" swAng="-5400000"/>
                <a:lnTo>
                  <a:pt x="0" y="51938"/>
                </a:lnTo>
                <a:arcTo wR="3600" hR="3600" stAng="10800000" swAng="-5400000"/>
                <a:lnTo>
                  <a:pt x="18000" y="555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800600" y="358128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52880" y="3657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200400" y="39625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42900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572000" y="1828800"/>
            <a:ext cx="1219320" cy="274320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2743200"/>
              <a:gd name="textAreaBottom" fmla="*/ 2683800 h 2743200"/>
            </a:gdLst>
            <a:ahLst/>
            <a:rect l="textAreaLeft" t="textAreaTop" r="textAreaRight" b="textAreaBottom"/>
            <a:pathLst>
              <a:path w="21600" h="48587">
                <a:moveTo>
                  <a:pt x="3600" y="0"/>
                </a:moveTo>
                <a:arcTo wR="3600" hR="3600" stAng="16200000" swAng="-5400000"/>
                <a:lnTo>
                  <a:pt x="0" y="44987"/>
                </a:lnTo>
                <a:arcTo wR="3600" hR="3600" stAng="10800000" swAng="-5400000"/>
                <a:lnTo>
                  <a:pt x="18000" y="485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362320" y="1295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2590920" y="213372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514600" y="365760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74320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66688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876920" y="205740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02920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276720" y="24382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505320" y="1981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362320" y="1828800"/>
            <a:ext cx="1066680" cy="27432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743200"/>
              <a:gd name="textAreaBottom" fmla="*/ 2691360 h 2743200"/>
            </a:gdLst>
            <a:ahLst/>
            <a:rect l="textAreaLeft" t="textAreaTop" r="textAreaRight" b="textAreaBottom"/>
            <a:pathLst>
              <a:path w="21600" h="55538">
                <a:moveTo>
                  <a:pt x="3600" y="0"/>
                </a:moveTo>
                <a:arcTo wR="3600" hR="3600" stAng="16200000" swAng="-5400000"/>
                <a:lnTo>
                  <a:pt x="0" y="51938"/>
                </a:lnTo>
                <a:arcTo wR="3600" hR="3600" stAng="10800000" swAng="-5400000"/>
                <a:lnTo>
                  <a:pt x="18000" y="555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800600" y="358128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952880" y="3657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200400" y="39625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42900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572000" y="1828800"/>
            <a:ext cx="1219320" cy="274320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2743200"/>
              <a:gd name="textAreaBottom" fmla="*/ 2683800 h 2743200"/>
            </a:gdLst>
            <a:ahLst/>
            <a:rect l="textAreaLeft" t="textAreaTop" r="textAreaRight" b="textAreaBottom"/>
            <a:pathLst>
              <a:path w="21600" h="48587">
                <a:moveTo>
                  <a:pt x="3600" y="0"/>
                </a:moveTo>
                <a:arcTo wR="3600" hR="3600" stAng="16200000" swAng="-5400000"/>
                <a:lnTo>
                  <a:pt x="0" y="44987"/>
                </a:lnTo>
                <a:arcTo wR="3600" hR="3600" stAng="10800000" swAng="-5400000"/>
                <a:lnTo>
                  <a:pt x="18000" y="485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362320" y="1295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124080" y="4191120"/>
            <a:ext cx="16765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35268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800600" y="487692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952880" y="4952880"/>
            <a:ext cx="45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3200400" y="1142640"/>
            <a:ext cx="16002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429000" y="1066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733920" y="1447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2590920" y="213372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514600" y="365760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74320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66688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876920" y="205740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02920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276720" y="24382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505320" y="1981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362320" y="1828800"/>
            <a:ext cx="1066680" cy="27432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743200"/>
              <a:gd name="textAreaBottom" fmla="*/ 2691360 h 2743200"/>
            </a:gdLst>
            <a:ahLst/>
            <a:rect l="textAreaLeft" t="textAreaTop" r="textAreaRight" b="textAreaBottom"/>
            <a:pathLst>
              <a:path w="21600" h="55538">
                <a:moveTo>
                  <a:pt x="3600" y="0"/>
                </a:moveTo>
                <a:arcTo wR="3600" hR="3600" stAng="16200000" swAng="-5400000"/>
                <a:lnTo>
                  <a:pt x="0" y="51938"/>
                </a:lnTo>
                <a:arcTo wR="3600" hR="3600" stAng="10800000" swAng="-5400000"/>
                <a:lnTo>
                  <a:pt x="18000" y="555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800600" y="358128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952880" y="3657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200400" y="39625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42900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572000" y="1828800"/>
            <a:ext cx="1219320" cy="396252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3962520"/>
              <a:gd name="textAreaBottom" fmla="*/ 3903120 h 3962520"/>
            </a:gdLst>
            <a:ahLst/>
            <a:rect l="textAreaLeft" t="textAreaTop" r="textAreaRight" b="textAreaBottom"/>
            <a:pathLst>
              <a:path w="21600" h="70181">
                <a:moveTo>
                  <a:pt x="3600" y="0"/>
                </a:moveTo>
                <a:arcTo wR="3600" hR="3600" stAng="16200000" swAng="-5400000"/>
                <a:lnTo>
                  <a:pt x="0" y="66581"/>
                </a:lnTo>
                <a:arcTo wR="3600" hR="3600" stAng="10800000" swAng="-5400000"/>
                <a:lnTo>
                  <a:pt x="18000" y="701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362320" y="1295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124080" y="4191120"/>
            <a:ext cx="16765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35268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800600" y="487692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952880" y="4952880"/>
            <a:ext cx="45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1066680" y="17524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 machines M1 and M2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133720" y="2971800"/>
            <a:ext cx="53337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is equivalent to 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and M2 are bisimi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1066680" y="17524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n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 machines M1 and M2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133720" y="2971800"/>
            <a:ext cx="53337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is equivalent to 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and M2 are bisimi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34340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66680" y="10666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81080" y="2362320"/>
            <a:ext cx="5334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-determin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determin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62320" y="2057400"/>
            <a:ext cx="4572000" cy="2133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243828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imulations can be found 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1066680" y="2133720"/>
            <a:ext cx="7010640" cy="3504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3716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28600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93432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124080" y="419112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057400" y="4648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429000" y="3124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181480" y="50292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105520" y="28954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943600" y="37339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238880" y="43434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143000" y="9907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Nondeterministic Minimiz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>
            <a:off x="1066680" y="2133720"/>
            <a:ext cx="7010640" cy="3504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28600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93432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124080" y="419112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057400" y="4648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429000" y="3124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181480" y="50292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105520" y="28954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943600" y="37339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238880" y="43434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209680" y="480060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581280" y="3200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362320" y="3657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095880" y="388620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3276720" y="396216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 flipV="1">
            <a:off x="6857640" y="2971800"/>
            <a:ext cx="1522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 flipV="1">
            <a:off x="6705360" y="3962520"/>
            <a:ext cx="53316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4800600" y="518148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flipV="1">
            <a:off x="5257800" y="2590920"/>
            <a:ext cx="457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505320" y="2819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334120" y="2819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352680" y="41148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828800" y="4876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828800" y="3657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029200" y="5257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010280" y="3886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638680" y="39625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010280" y="3124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4114440" y="2133720"/>
            <a:ext cx="609480" cy="3504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181480" y="2590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800600" y="5029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7816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019920" y="3809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705720" y="3124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143000" y="9907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Nondeterministic Minimiz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>
            <a:off x="228600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93432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124080" y="419112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057400" y="4648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429000" y="3124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181480" y="50292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105520" y="28954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943600" y="37339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238880" y="43434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419720" y="2133720"/>
            <a:ext cx="3657600" cy="3504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066680" y="2133720"/>
            <a:ext cx="3124440" cy="3504960"/>
          </a:xfrm>
          <a:custGeom>
            <a:avLst/>
            <a:gdLst>
              <a:gd name="textAreaLeft" fmla="*/ 152280 w 3124440"/>
              <a:gd name="textAreaRight" fmla="*/ 2972160 w 3124440"/>
              <a:gd name="textAreaTop" fmla="*/ 152280 h 3504960"/>
              <a:gd name="textAreaBottom" fmla="*/ 3352680 h 3504960"/>
            </a:gdLst>
            <a:ahLst/>
            <a:rect l="textAreaLeft" t="textAreaTop" r="textAreaRight" b="textAreaBottom"/>
            <a:pathLst>
              <a:path w="21600" h="24230">
                <a:moveTo>
                  <a:pt x="3600" y="0"/>
                </a:moveTo>
                <a:arcTo wR="3600" hR="3600" stAng="16200000" swAng="-5400000"/>
                <a:lnTo>
                  <a:pt x="0" y="20630"/>
                </a:lnTo>
                <a:arcTo wR="3600" hR="3600" stAng="10800000" swAng="-5400000"/>
                <a:lnTo>
                  <a:pt x="18000" y="242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143000" y="9907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Nondeterministic Minimiz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228600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93432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124080" y="419112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057400" y="4648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429000" y="3124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181480" y="50292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105520" y="28954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943600" y="37339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238880" y="43434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419720" y="2133720"/>
            <a:ext cx="3657600" cy="3504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066680" y="2133720"/>
            <a:ext cx="3124440" cy="3504960"/>
          </a:xfrm>
          <a:custGeom>
            <a:avLst/>
            <a:gdLst>
              <a:gd name="textAreaLeft" fmla="*/ 152280 w 3124440"/>
              <a:gd name="textAreaRight" fmla="*/ 2972160 w 3124440"/>
              <a:gd name="textAreaTop" fmla="*/ 152280 h 3504960"/>
              <a:gd name="textAreaBottom" fmla="*/ 3352680 h 3504960"/>
            </a:gdLst>
            <a:ahLst/>
            <a:rect l="textAreaLeft" t="textAreaTop" r="textAreaRight" b="textAreaBottom"/>
            <a:pathLst>
              <a:path w="21600" h="24230">
                <a:moveTo>
                  <a:pt x="3600" y="0"/>
                </a:moveTo>
                <a:arcTo wR="3600" hR="3600" stAng="16200000" swAng="-5400000"/>
                <a:lnTo>
                  <a:pt x="0" y="20630"/>
                </a:lnTo>
                <a:arcTo wR="3600" hR="3600" stAng="10800000" swAng="-5400000"/>
                <a:lnTo>
                  <a:pt x="18000" y="242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581280" y="3200400"/>
            <a:ext cx="45720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>
            <a:off x="1828800" y="3581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2133720" y="41911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3047760" y="434340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505320" y="3352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828800" y="32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523880" y="4343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24080" y="4343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590920" y="2133720"/>
            <a:ext cx="380880" cy="1447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971800" y="3581280"/>
            <a:ext cx="121932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505320" y="3048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143000" y="9907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Nondeterministic Minimiz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228600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93432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124080" y="419112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057400" y="4648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429000" y="3124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181480" y="50292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105520" y="28954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943600" y="37339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238880" y="43434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419720" y="2133720"/>
            <a:ext cx="3657600" cy="3504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895480" y="2133720"/>
            <a:ext cx="1295640" cy="160020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1600200"/>
              <a:gd name="textAreaBottom" fmla="*/ 1537200 h 1600200"/>
            </a:gdLst>
            <a:ahLst/>
            <a:rect l="textAreaLeft" t="textAreaTop" r="textAreaRight" b="textAreaBottom"/>
            <a:pathLst>
              <a:path w="21600" h="26676">
                <a:moveTo>
                  <a:pt x="3600" y="0"/>
                </a:moveTo>
                <a:arcTo wR="3600" hR="3600" stAng="16200000" swAng="-5400000"/>
                <a:lnTo>
                  <a:pt x="0" y="23076"/>
                </a:lnTo>
                <a:arcTo wR="3600" hR="3600" stAng="10800000" swAng="-5400000"/>
                <a:lnTo>
                  <a:pt x="18000" y="266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066680" y="236232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219320" y="21337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295280" y="563868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4191120" y="40384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743200" y="2286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895480" y="38862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V="1">
            <a:off x="3887640" y="518076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428" y="540"/>
                </a:moveTo>
                <a:arcTo wR="10800" hR="10800" stAng="-6491750" swAng="6491750"/>
                <a:lnTo>
                  <a:pt x="10800" y="10800"/>
                </a:lnTo>
                <a:close/>
              </a:path>
              <a:path fill="none" w="21600" h="21600">
                <a:moveTo>
                  <a:pt x="7428" y="540"/>
                </a:moveTo>
                <a:arcTo wR="10800" hR="10800" stAng="-6491750" swAng="649175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H="1" flipV="1">
            <a:off x="1067760" y="5180760"/>
            <a:ext cx="303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410" y="546"/>
                </a:moveTo>
                <a:arcTo wR="10800" hR="10800" stAng="-6497597" swAng="7637684"/>
                <a:lnTo>
                  <a:pt x="10800" y="10800"/>
                </a:lnTo>
                <a:close/>
              </a:path>
              <a:path fill="none" w="21600" h="21600">
                <a:moveTo>
                  <a:pt x="7410" y="546"/>
                </a:moveTo>
                <a:arcTo wR="10800" hR="10800" stAng="-6497597" swAng="7637684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 flipV="1">
            <a:off x="2742120" y="342828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71" y="13"/>
                </a:moveTo>
                <a:arcTo wR="10800" hR="10800" stAng="-5568449" swAng="5136039"/>
                <a:lnTo>
                  <a:pt x="10800" y="10800"/>
                </a:lnTo>
                <a:close/>
              </a:path>
              <a:path fill="none" w="21600" h="21600">
                <a:moveTo>
                  <a:pt x="10271" y="13"/>
                </a:moveTo>
                <a:arcTo wR="10800" hR="10800" stAng="-5568449" swAng="5136039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893760" y="388620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71" y="13"/>
                </a:moveTo>
                <a:arcTo wR="10800" hR="10800" stAng="-5568449" swAng="5136039"/>
                <a:lnTo>
                  <a:pt x="10800" y="10800"/>
                </a:lnTo>
                <a:close/>
              </a:path>
              <a:path fill="none" w="21600" h="21600">
                <a:moveTo>
                  <a:pt x="10271" y="13"/>
                </a:moveTo>
                <a:arcTo wR="10800" hR="10800" stAng="-5568449" swAng="5136039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446200" y="213372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71" y="13"/>
                </a:moveTo>
                <a:arcTo wR="10800" hR="10800" stAng="-5568449" swAng="5136039"/>
                <a:lnTo>
                  <a:pt x="10800" y="10800"/>
                </a:lnTo>
                <a:close/>
              </a:path>
              <a:path fill="none" w="21600" h="21600">
                <a:moveTo>
                  <a:pt x="10271" y="13"/>
                </a:moveTo>
                <a:arcTo wR="10800" hR="10800" stAng="-5568449" swAng="5136039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H="1">
            <a:off x="1065600" y="213372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71" y="13"/>
                </a:moveTo>
                <a:arcTo wR="10800" hR="10800" stAng="-5568449" swAng="5136039"/>
                <a:lnTo>
                  <a:pt x="10800" y="10800"/>
                </a:lnTo>
                <a:close/>
              </a:path>
              <a:path fill="none" w="21600" h="21600">
                <a:moveTo>
                  <a:pt x="10271" y="13"/>
                </a:moveTo>
                <a:arcTo wR="10800" hR="10800" stAng="-5568449" swAng="5136039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143000" y="9907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Nondeterministic Minimiz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"/>
          <p:cNvSpPr/>
          <p:nvPr/>
        </p:nvSpPr>
        <p:spPr>
          <a:xfrm>
            <a:off x="228600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93432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124080" y="419112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057400" y="4648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429000" y="3124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181480" y="50292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105520" y="28954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943600" y="37339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238880" y="43434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419720" y="2133720"/>
            <a:ext cx="3657600" cy="3504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895480" y="2133720"/>
            <a:ext cx="1295640" cy="160020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1600200"/>
              <a:gd name="textAreaBottom" fmla="*/ 1537200 h 1600200"/>
            </a:gdLst>
            <a:ahLst/>
            <a:rect l="textAreaLeft" t="textAreaTop" r="textAreaRight" b="textAreaBottom"/>
            <a:pathLst>
              <a:path w="21600" h="26676">
                <a:moveTo>
                  <a:pt x="3600" y="0"/>
                </a:moveTo>
                <a:arcTo wR="3600" hR="3600" stAng="16200000" swAng="-5400000"/>
                <a:lnTo>
                  <a:pt x="0" y="23076"/>
                </a:lnTo>
                <a:arcTo wR="3600" hR="3600" stAng="10800000" swAng="-5400000"/>
                <a:lnTo>
                  <a:pt x="18000" y="266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066680" y="236232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219320" y="21337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295280" y="563868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V="1">
            <a:off x="4191120" y="40384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743200" y="2286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895480" y="38862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V="1">
            <a:off x="3887640" y="518076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428" y="540"/>
                </a:moveTo>
                <a:arcTo wR="10800" hR="10800" stAng="-6491750" swAng="6491750"/>
                <a:lnTo>
                  <a:pt x="10800" y="10800"/>
                </a:lnTo>
                <a:close/>
              </a:path>
              <a:path fill="none" w="21600" h="21600">
                <a:moveTo>
                  <a:pt x="7428" y="540"/>
                </a:moveTo>
                <a:arcTo wR="10800" hR="10800" stAng="-6491750" swAng="649175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 flipV="1">
            <a:off x="1067760" y="5180760"/>
            <a:ext cx="303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410" y="546"/>
                </a:moveTo>
                <a:arcTo wR="10800" hR="10800" stAng="-6497597" swAng="7637684"/>
                <a:lnTo>
                  <a:pt x="10800" y="10800"/>
                </a:lnTo>
                <a:close/>
              </a:path>
              <a:path fill="none" w="21600" h="21600">
                <a:moveTo>
                  <a:pt x="7410" y="546"/>
                </a:moveTo>
                <a:arcTo wR="10800" hR="10800" stAng="-6497597" swAng="7637684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H="1" flipV="1">
            <a:off x="2742120" y="342828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71" y="13"/>
                </a:moveTo>
                <a:arcTo wR="10800" hR="10800" stAng="-5568449" swAng="5136039"/>
                <a:lnTo>
                  <a:pt x="10800" y="10800"/>
                </a:lnTo>
                <a:close/>
              </a:path>
              <a:path fill="none" w="21600" h="21600">
                <a:moveTo>
                  <a:pt x="10271" y="13"/>
                </a:moveTo>
                <a:arcTo wR="10800" hR="10800" stAng="-5568449" swAng="5136039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893760" y="388620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71" y="13"/>
                </a:moveTo>
                <a:arcTo wR="10800" hR="10800" stAng="-5568449" swAng="5136039"/>
                <a:lnTo>
                  <a:pt x="10800" y="10800"/>
                </a:lnTo>
                <a:close/>
              </a:path>
              <a:path fill="none" w="21600" h="21600">
                <a:moveTo>
                  <a:pt x="10271" y="13"/>
                </a:moveTo>
                <a:arcTo wR="10800" hR="10800" stAng="-5568449" swAng="5136039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446200" y="213372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71" y="13"/>
                </a:moveTo>
                <a:arcTo wR="10800" hR="10800" stAng="-5568449" swAng="5136039"/>
                <a:lnTo>
                  <a:pt x="10800" y="10800"/>
                </a:lnTo>
                <a:close/>
              </a:path>
              <a:path fill="none" w="21600" h="21600">
                <a:moveTo>
                  <a:pt x="10271" y="13"/>
                </a:moveTo>
                <a:arcTo wR="10800" hR="10800" stAng="-5568449" swAng="5136039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>
            <a:off x="1065600" y="213372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71" y="13"/>
                </a:moveTo>
                <a:arcTo wR="10800" hR="10800" stAng="-5568449" swAng="5136039"/>
                <a:lnTo>
                  <a:pt x="10800" y="10800"/>
                </a:lnTo>
                <a:close/>
              </a:path>
              <a:path fill="none" w="21600" h="21600">
                <a:moveTo>
                  <a:pt x="10271" y="13"/>
                </a:moveTo>
                <a:arcTo wR="10800" hR="10800" stAng="-5568449" swAng="5136039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209680" y="4724280"/>
            <a:ext cx="27432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438280" y="35812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276720" y="4267080"/>
            <a:ext cx="144756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581280" y="3276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362320" y="4876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429000" y="42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1066680" y="3809520"/>
            <a:ext cx="1752840" cy="381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124080" y="3352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143000" y="9907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Nondeterministic Minimiz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228600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93432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124080" y="419112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057400" y="4648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429000" y="3124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181480" y="50292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105520" y="28954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943600" y="37339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238880" y="43434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419720" y="2133720"/>
            <a:ext cx="3657600" cy="3504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895480" y="2133720"/>
            <a:ext cx="1295640" cy="160020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1600200"/>
              <a:gd name="textAreaBottom" fmla="*/ 1537200 h 1600200"/>
            </a:gdLst>
            <a:ahLst/>
            <a:rect l="textAreaLeft" t="textAreaTop" r="textAreaRight" b="textAreaBottom"/>
            <a:pathLst>
              <a:path w="21600" h="26676">
                <a:moveTo>
                  <a:pt x="3600" y="0"/>
                </a:moveTo>
                <a:arcTo wR="3600" hR="3600" stAng="16200000" swAng="-5400000"/>
                <a:lnTo>
                  <a:pt x="0" y="23076"/>
                </a:lnTo>
                <a:arcTo wR="3600" hR="3600" stAng="10800000" swAng="-5400000"/>
                <a:lnTo>
                  <a:pt x="18000" y="266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990720" y="2133720"/>
            <a:ext cx="1676160" cy="1676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990720" y="4038480"/>
            <a:ext cx="3200400" cy="1600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143000" y="9907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Nondeterministic Minimiz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/>
          <p:nvPr/>
        </p:nvSpPr>
        <p:spPr>
          <a:xfrm>
            <a:off x="762120" y="2057400"/>
            <a:ext cx="807696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Let  Q  be set of all reachable states of 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Maintain a set P of state se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tially let  P = { Q }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eat until no longer possible: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plit 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 When done, every state set in P represents a singl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 of the smallest nondeterministic state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chine bisimilar to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143000" y="9907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Nondeterministic Minimiz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/>
          <p:nvPr/>
        </p:nvSpPr>
        <p:spPr>
          <a:xfrm>
            <a:off x="1828800" y="6094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plit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85800" y="1371600"/>
            <a:ext cx="83059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there ex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wo state sets  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  and  R’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wo states  r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  and  r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 input 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 output  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ut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’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R’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( r’, y )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possibleUpdates ( r1, x )  and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’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R’,  ( r’, y )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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possibleUpdates ( r2, x )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t  R1 = { 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 |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’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’,  ( r’, y 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ossibleUpdates ( r, x )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}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t  R2  =  R \ R1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t  P  =  ( P \ { R } 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{ R1, R2 }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"/>
          <p:cNvSpPr/>
          <p:nvPr/>
        </p:nvSpPr>
        <p:spPr>
          <a:xfrm>
            <a:off x="1523880" y="1905120"/>
            <a:ext cx="1981440" cy="3124080"/>
          </a:xfrm>
          <a:custGeom>
            <a:avLst/>
            <a:gdLst>
              <a:gd name="textAreaLeft" fmla="*/ 96480 w 1981440"/>
              <a:gd name="textAreaRight" fmla="*/ 1884960 w 1981440"/>
              <a:gd name="textAreaTop" fmla="*/ 96480 h 3124080"/>
              <a:gd name="textAreaBottom" fmla="*/ 3027600 h 3124080"/>
            </a:gdLst>
            <a:ahLst/>
            <a:rect l="textAreaLeft" t="textAreaTop" r="textAreaRight" b="textAreaBottom"/>
            <a:pathLst>
              <a:path w="21600" h="34054">
                <a:moveTo>
                  <a:pt x="3600" y="0"/>
                </a:moveTo>
                <a:arcTo wR="3600" hR="3600" stAng="16200000" swAng="-5400000"/>
                <a:lnTo>
                  <a:pt x="0" y="30454"/>
                </a:lnTo>
                <a:arcTo wR="3600" hR="3600" stAng="10800000" swAng="-5400000"/>
                <a:lnTo>
                  <a:pt x="18000" y="340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828800" y="6094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pl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572000" y="1828800"/>
            <a:ext cx="1981080" cy="3200400"/>
          </a:xfrm>
          <a:custGeom>
            <a:avLst/>
            <a:gdLst>
              <a:gd name="textAreaLeft" fmla="*/ 96480 w 1981080"/>
              <a:gd name="textAreaRight" fmla="*/ 1884600 w 1981080"/>
              <a:gd name="textAreaTop" fmla="*/ 96480 h 3200400"/>
              <a:gd name="textAreaBottom" fmla="*/ 3103920 h 3200400"/>
            </a:gdLst>
            <a:ahLst/>
            <a:rect l="textAreaLeft" t="textAreaTop" r="textAreaRight" b="textAreaBottom"/>
            <a:pathLst>
              <a:path w="21600" h="34892">
                <a:moveTo>
                  <a:pt x="3600" y="0"/>
                </a:moveTo>
                <a:arcTo wR="3600" hR="3600" stAng="16200000" swAng="-5400000"/>
                <a:lnTo>
                  <a:pt x="0" y="31292"/>
                </a:lnTo>
                <a:arcTo wR="3600" hR="3600" stAng="10800000" swAng="-5400000"/>
                <a:lnTo>
                  <a:pt x="18000" y="348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8006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7524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362320" y="30481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362320" y="40384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2514600" y="2819520"/>
            <a:ext cx="25146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514600" y="4114800"/>
            <a:ext cx="26668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65760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58128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905120" y="3048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1905120" y="4114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8954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371600" y="1905120"/>
            <a:ext cx="69343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M2  is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 machine,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is simulated by  M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is equivalent to  M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3505320"/>
            <a:ext cx="990360" cy="53316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905120" y="4038480"/>
            <a:ext cx="1371600" cy="121932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5257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f and only if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3962520"/>
            <a:ext cx="2361960" cy="68580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4572000"/>
            <a:ext cx="457200" cy="68580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53341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M1 refines M2, and M2 refines 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"/>
          <p:cNvSpPr/>
          <p:nvPr/>
        </p:nvSpPr>
        <p:spPr>
          <a:xfrm>
            <a:off x="1523880" y="1905120"/>
            <a:ext cx="1981440" cy="1752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828800" y="6094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pl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572000" y="1828800"/>
            <a:ext cx="1981080" cy="3200400"/>
          </a:xfrm>
          <a:custGeom>
            <a:avLst/>
            <a:gdLst>
              <a:gd name="textAreaLeft" fmla="*/ 96480 w 1981080"/>
              <a:gd name="textAreaRight" fmla="*/ 1884600 w 1981080"/>
              <a:gd name="textAreaTop" fmla="*/ 96480 h 3200400"/>
              <a:gd name="textAreaBottom" fmla="*/ 3103920 h 3200400"/>
            </a:gdLst>
            <a:ahLst/>
            <a:rect l="textAreaLeft" t="textAreaTop" r="textAreaRight" b="textAreaBottom"/>
            <a:pathLst>
              <a:path w="21600" h="34892">
                <a:moveTo>
                  <a:pt x="3600" y="0"/>
                </a:moveTo>
                <a:arcTo wR="3600" hR="3600" stAng="16200000" swAng="-5400000"/>
                <a:lnTo>
                  <a:pt x="0" y="31292"/>
                </a:lnTo>
                <a:arcTo wR="3600" hR="3600" stAng="10800000" swAng="-5400000"/>
                <a:lnTo>
                  <a:pt x="18000" y="348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8006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7524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362320" y="30481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362320" y="40384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2514600" y="2819520"/>
            <a:ext cx="25146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514600" y="4114800"/>
            <a:ext cx="26668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65760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58128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905120" y="3048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905120" y="4114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8954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523880" y="3809880"/>
            <a:ext cx="1981440" cy="12193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"/>
          <p:cNvSpPr/>
          <p:nvPr/>
        </p:nvSpPr>
        <p:spPr>
          <a:xfrm>
            <a:off x="3809880" y="129528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181480" y="434340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666880" y="441972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181480" y="266688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666880" y="274320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191120" y="914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H="1">
            <a:off x="3276360" y="190512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419720" y="1905120"/>
            <a:ext cx="8380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048120" y="34290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352680" y="3276720"/>
            <a:ext cx="190512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H="1">
            <a:off x="3352680" y="3276720"/>
            <a:ext cx="190512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562720" y="33526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120760" y="3200400"/>
            <a:ext cx="622440" cy="1371600"/>
          </a:xfrm>
          <a:custGeom>
            <a:avLst/>
            <a:gdLst/>
            <a:ahLst/>
            <a:rect l="l" t="t" r="r" b="b"/>
            <a:pathLst>
              <a:path w="392" h="864">
                <a:moveTo>
                  <a:pt x="392" y="864"/>
                </a:moveTo>
                <a:cubicBezTo>
                  <a:pt x="204" y="696"/>
                  <a:pt x="16" y="528"/>
                  <a:pt x="8" y="384"/>
                </a:cubicBezTo>
                <a:cubicBezTo>
                  <a:pt x="0" y="240"/>
                  <a:pt x="172" y="120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572000" y="1600200"/>
            <a:ext cx="2438280" cy="2895480"/>
          </a:xfrm>
          <a:custGeom>
            <a:avLst/>
            <a:gdLst/>
            <a:ahLst/>
            <a:rect l="l" t="t" r="r" b="b"/>
            <a:pathLst>
              <a:path w="1536" h="1824">
                <a:moveTo>
                  <a:pt x="864" y="1824"/>
                </a:moveTo>
                <a:cubicBezTo>
                  <a:pt x="1200" y="1472"/>
                  <a:pt x="1536" y="1120"/>
                  <a:pt x="1392" y="816"/>
                </a:cubicBezTo>
                <a:cubicBezTo>
                  <a:pt x="1248" y="512"/>
                  <a:pt x="624" y="256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200400" y="19810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562720" y="3581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419720" y="32004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657600" y="32004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048120" y="36576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800600" y="20574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600200" y="3581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858000" y="28954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038480" y="1371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410080" y="4419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895480" y="4495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33412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895480" y="2895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114800" y="586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"/>
          <p:cNvSpPr/>
          <p:nvPr/>
        </p:nvSpPr>
        <p:spPr>
          <a:xfrm>
            <a:off x="3809880" y="129528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181480" y="434340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666880" y="441972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181480" y="266688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666880" y="274320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191120" y="914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3276360" y="190512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419720" y="1905120"/>
            <a:ext cx="8380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048120" y="34290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352680" y="3276720"/>
            <a:ext cx="190512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3352680" y="3276720"/>
            <a:ext cx="190512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562720" y="33526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120760" y="3200400"/>
            <a:ext cx="622440" cy="1371600"/>
          </a:xfrm>
          <a:custGeom>
            <a:avLst/>
            <a:gdLst/>
            <a:ahLst/>
            <a:rect l="l" t="t" r="r" b="b"/>
            <a:pathLst>
              <a:path w="392" h="864">
                <a:moveTo>
                  <a:pt x="392" y="864"/>
                </a:moveTo>
                <a:cubicBezTo>
                  <a:pt x="204" y="696"/>
                  <a:pt x="16" y="528"/>
                  <a:pt x="8" y="384"/>
                </a:cubicBezTo>
                <a:cubicBezTo>
                  <a:pt x="0" y="240"/>
                  <a:pt x="172" y="120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572000" y="1600200"/>
            <a:ext cx="2438280" cy="2895480"/>
          </a:xfrm>
          <a:custGeom>
            <a:avLst/>
            <a:gdLst/>
            <a:ahLst/>
            <a:rect l="l" t="t" r="r" b="b"/>
            <a:pathLst>
              <a:path w="1536" h="1824">
                <a:moveTo>
                  <a:pt x="864" y="1824"/>
                </a:moveTo>
                <a:cubicBezTo>
                  <a:pt x="1200" y="1472"/>
                  <a:pt x="1536" y="1120"/>
                  <a:pt x="1392" y="816"/>
                </a:cubicBezTo>
                <a:cubicBezTo>
                  <a:pt x="1248" y="512"/>
                  <a:pt x="624" y="256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200400" y="19810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562720" y="3581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419720" y="32004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657600" y="32004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048120" y="36576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800600" y="20574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600200" y="3581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858000" y="28954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038480" y="1371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410080" y="4419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895480" y="4495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33412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2895480" y="2895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114800" y="586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219320" y="533520"/>
            <a:ext cx="6476760" cy="4952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3809880" y="129528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181480" y="434340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666880" y="441972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5181480" y="266688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666880" y="274320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191120" y="914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3276360" y="190512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419720" y="1905120"/>
            <a:ext cx="8380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048120" y="34290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352680" y="3276720"/>
            <a:ext cx="190512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>
            <a:off x="3352680" y="3276720"/>
            <a:ext cx="190512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562720" y="33526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120760" y="3200400"/>
            <a:ext cx="622440" cy="1371600"/>
          </a:xfrm>
          <a:custGeom>
            <a:avLst/>
            <a:gdLst/>
            <a:ahLst/>
            <a:rect l="l" t="t" r="r" b="b"/>
            <a:pathLst>
              <a:path w="392" h="864">
                <a:moveTo>
                  <a:pt x="392" y="864"/>
                </a:moveTo>
                <a:cubicBezTo>
                  <a:pt x="204" y="696"/>
                  <a:pt x="16" y="528"/>
                  <a:pt x="8" y="384"/>
                </a:cubicBezTo>
                <a:cubicBezTo>
                  <a:pt x="0" y="240"/>
                  <a:pt x="172" y="120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572000" y="1600200"/>
            <a:ext cx="2438280" cy="2895480"/>
          </a:xfrm>
          <a:custGeom>
            <a:avLst/>
            <a:gdLst/>
            <a:ahLst/>
            <a:rect l="l" t="t" r="r" b="b"/>
            <a:pathLst>
              <a:path w="1536" h="1824">
                <a:moveTo>
                  <a:pt x="864" y="1824"/>
                </a:moveTo>
                <a:cubicBezTo>
                  <a:pt x="1200" y="1472"/>
                  <a:pt x="1536" y="1120"/>
                  <a:pt x="1392" y="816"/>
                </a:cubicBezTo>
                <a:cubicBezTo>
                  <a:pt x="1248" y="512"/>
                  <a:pt x="624" y="256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200400" y="19810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562720" y="3581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419720" y="32004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657600" y="32004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048120" y="36576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800600" y="20574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600200" y="3581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858000" y="28954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038480" y="1371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410080" y="4419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895480" y="4495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33412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895480" y="2895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114800" y="586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219320" y="533520"/>
            <a:ext cx="6476760" cy="30477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219320" y="4114800"/>
            <a:ext cx="6476760" cy="12193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553080" y="4800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705720" y="4419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553080" y="1219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705720" y="762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705720" y="990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/>
          <p:nvPr/>
        </p:nvSpPr>
        <p:spPr>
          <a:xfrm>
            <a:off x="3809880" y="129528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5181480" y="434340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2666880" y="441972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181480" y="266688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2666880" y="274320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191120" y="914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3276360" y="190512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19720" y="1905120"/>
            <a:ext cx="8380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048120" y="34290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352680" y="3276720"/>
            <a:ext cx="190512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H="1">
            <a:off x="3352680" y="3276720"/>
            <a:ext cx="190512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562720" y="33526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120760" y="3200400"/>
            <a:ext cx="622440" cy="1371600"/>
          </a:xfrm>
          <a:custGeom>
            <a:avLst/>
            <a:gdLst/>
            <a:ahLst/>
            <a:rect l="l" t="t" r="r" b="b"/>
            <a:pathLst>
              <a:path w="392" h="864">
                <a:moveTo>
                  <a:pt x="392" y="864"/>
                </a:moveTo>
                <a:cubicBezTo>
                  <a:pt x="204" y="696"/>
                  <a:pt x="16" y="528"/>
                  <a:pt x="8" y="384"/>
                </a:cubicBezTo>
                <a:cubicBezTo>
                  <a:pt x="0" y="240"/>
                  <a:pt x="172" y="120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572000" y="1600200"/>
            <a:ext cx="2438280" cy="2895480"/>
          </a:xfrm>
          <a:custGeom>
            <a:avLst/>
            <a:gdLst/>
            <a:ahLst/>
            <a:rect l="l" t="t" r="r" b="b"/>
            <a:pathLst>
              <a:path w="1536" h="1824">
                <a:moveTo>
                  <a:pt x="864" y="1824"/>
                </a:moveTo>
                <a:cubicBezTo>
                  <a:pt x="1200" y="1472"/>
                  <a:pt x="1536" y="1120"/>
                  <a:pt x="1392" y="816"/>
                </a:cubicBezTo>
                <a:cubicBezTo>
                  <a:pt x="1248" y="512"/>
                  <a:pt x="624" y="256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200400" y="19810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562720" y="3581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419720" y="32004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657600" y="32004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048120" y="36576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800600" y="20574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600200" y="3581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6858000" y="28954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038480" y="1371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410080" y="4419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895480" y="4495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33412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895480" y="2895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114800" y="586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219320" y="2438280"/>
            <a:ext cx="6476760" cy="11430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1219320" y="4114800"/>
            <a:ext cx="6476760" cy="12193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219320" y="762120"/>
            <a:ext cx="6476760" cy="1295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7391520" y="35812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7696080" y="1828800"/>
            <a:ext cx="609840" cy="2819520"/>
          </a:xfrm>
          <a:custGeom>
            <a:avLst/>
            <a:gdLst/>
            <a:ahLst/>
            <a:rect l="l" t="t" r="r" b="b"/>
            <a:pathLst>
              <a:path w="384" h="1776">
                <a:moveTo>
                  <a:pt x="0" y="0"/>
                </a:moveTo>
                <a:cubicBezTo>
                  <a:pt x="192" y="188"/>
                  <a:pt x="384" y="376"/>
                  <a:pt x="384" y="672"/>
                </a:cubicBezTo>
                <a:cubicBezTo>
                  <a:pt x="384" y="968"/>
                  <a:pt x="192" y="1372"/>
                  <a:pt x="0" y="177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391520" y="3581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8229600" y="3276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8077320" y="28954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"/>
          <p:cNvSpPr/>
          <p:nvPr/>
        </p:nvSpPr>
        <p:spPr>
          <a:xfrm>
            <a:off x="3809880" y="129528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181480" y="434340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666880" y="441972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181480" y="266688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666880" y="274320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191120" y="914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3276360" y="190512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419720" y="1905120"/>
            <a:ext cx="8380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048120" y="34290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352680" y="3276720"/>
            <a:ext cx="190512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H="1">
            <a:off x="3352680" y="3276720"/>
            <a:ext cx="190512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562720" y="33526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120760" y="3200400"/>
            <a:ext cx="622440" cy="1371600"/>
          </a:xfrm>
          <a:custGeom>
            <a:avLst/>
            <a:gdLst/>
            <a:ahLst/>
            <a:rect l="l" t="t" r="r" b="b"/>
            <a:pathLst>
              <a:path w="392" h="864">
                <a:moveTo>
                  <a:pt x="392" y="864"/>
                </a:moveTo>
                <a:cubicBezTo>
                  <a:pt x="204" y="696"/>
                  <a:pt x="16" y="528"/>
                  <a:pt x="8" y="384"/>
                </a:cubicBezTo>
                <a:cubicBezTo>
                  <a:pt x="0" y="240"/>
                  <a:pt x="172" y="120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572000" y="1600200"/>
            <a:ext cx="2438280" cy="2895480"/>
          </a:xfrm>
          <a:custGeom>
            <a:avLst/>
            <a:gdLst/>
            <a:ahLst/>
            <a:rect l="l" t="t" r="r" b="b"/>
            <a:pathLst>
              <a:path w="1536" h="1824">
                <a:moveTo>
                  <a:pt x="864" y="1824"/>
                </a:moveTo>
                <a:cubicBezTo>
                  <a:pt x="1200" y="1472"/>
                  <a:pt x="1536" y="1120"/>
                  <a:pt x="1392" y="816"/>
                </a:cubicBezTo>
                <a:cubicBezTo>
                  <a:pt x="1248" y="512"/>
                  <a:pt x="624" y="256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200400" y="19810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562720" y="3581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419720" y="32004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657600" y="32004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048120" y="36576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800600" y="20574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600200" y="3581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858000" y="28954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038480" y="1371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410080" y="4419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895480" y="4495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33412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895480" y="2895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114800" y="586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219320" y="2438280"/>
            <a:ext cx="6476760" cy="11430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219320" y="4114800"/>
            <a:ext cx="3047760" cy="12193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219320" y="762120"/>
            <a:ext cx="6476760" cy="1295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495680" y="4114800"/>
            <a:ext cx="3200400" cy="12193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914400" y="3429000"/>
            <a:ext cx="304920" cy="762120"/>
          </a:xfrm>
          <a:custGeom>
            <a:avLst/>
            <a:gdLst/>
            <a:ahLst/>
            <a:rect l="l" t="t" r="r" b="b"/>
            <a:pathLst>
              <a:path w="192" h="480">
                <a:moveTo>
                  <a:pt x="192" y="480"/>
                </a:moveTo>
                <a:cubicBezTo>
                  <a:pt x="96" y="424"/>
                  <a:pt x="0" y="368"/>
                  <a:pt x="0" y="288"/>
                </a:cubicBezTo>
                <a:cubicBezTo>
                  <a:pt x="0" y="208"/>
                  <a:pt x="96" y="104"/>
                  <a:pt x="19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H="1">
            <a:off x="7695360" y="3429000"/>
            <a:ext cx="304920" cy="762120"/>
          </a:xfrm>
          <a:custGeom>
            <a:avLst/>
            <a:gdLst/>
            <a:ahLst/>
            <a:rect l="l" t="t" r="r" b="b"/>
            <a:pathLst>
              <a:path w="192" h="480">
                <a:moveTo>
                  <a:pt x="192" y="480"/>
                </a:moveTo>
                <a:cubicBezTo>
                  <a:pt x="96" y="424"/>
                  <a:pt x="0" y="368"/>
                  <a:pt x="0" y="288"/>
                </a:cubicBezTo>
                <a:cubicBezTo>
                  <a:pt x="0" y="208"/>
                  <a:pt x="96" y="104"/>
                  <a:pt x="19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380880" y="36576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7924680" y="3809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7772400" y="3581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"/>
          <p:cNvSpPr/>
          <p:nvPr/>
        </p:nvSpPr>
        <p:spPr>
          <a:xfrm>
            <a:off x="3809880" y="129528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181480" y="434340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666880" y="441972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809880" y="281952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191120" y="914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191120" y="19810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H="1">
            <a:off x="3200040" y="3429000"/>
            <a:ext cx="76212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419720" y="3429000"/>
            <a:ext cx="91440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572000" y="1600200"/>
            <a:ext cx="2438280" cy="2895480"/>
          </a:xfrm>
          <a:custGeom>
            <a:avLst/>
            <a:gdLst/>
            <a:ahLst/>
            <a:rect l="l" t="t" r="r" b="b"/>
            <a:pathLst>
              <a:path w="1536" h="1824">
                <a:moveTo>
                  <a:pt x="864" y="1824"/>
                </a:moveTo>
                <a:cubicBezTo>
                  <a:pt x="1200" y="1472"/>
                  <a:pt x="1536" y="1120"/>
                  <a:pt x="1392" y="816"/>
                </a:cubicBezTo>
                <a:cubicBezTo>
                  <a:pt x="1248" y="512"/>
                  <a:pt x="624" y="256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657600" y="2133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724280" y="35053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3200400" y="35053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981080" y="35053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858000" y="28954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038480" y="1371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410080" y="4419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895480" y="4495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3886200" y="289548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828800" y="57913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nimal state machin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isimila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962520" y="289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,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438280" y="3124080"/>
            <a:ext cx="1371600" cy="1295640"/>
          </a:xfrm>
          <a:custGeom>
            <a:avLst/>
            <a:gdLst/>
            <a:ahLst/>
            <a:rect l="l" t="t" r="r" b="b"/>
            <a:pathLst>
              <a:path w="864" h="864">
                <a:moveTo>
                  <a:pt x="288" y="864"/>
                </a:moveTo>
                <a:cubicBezTo>
                  <a:pt x="144" y="648"/>
                  <a:pt x="0" y="432"/>
                  <a:pt x="96" y="288"/>
                </a:cubicBezTo>
                <a:cubicBezTo>
                  <a:pt x="192" y="144"/>
                  <a:pt x="528" y="72"/>
                  <a:pt x="86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"/>
          <p:cNvSpPr/>
          <p:nvPr/>
        </p:nvSpPr>
        <p:spPr>
          <a:xfrm>
            <a:off x="3809880" y="129528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809880" y="434340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809880" y="281952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191120" y="914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191120" y="19810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657600" y="2133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666880" y="35812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486400" y="28954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038480" y="1371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886200" y="289548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600200" y="5486400"/>
            <a:ext cx="5791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nimal state machin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quival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n general, this is difficult to fi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962520" y="289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,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191120" y="35053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657600" y="36576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886200" y="4495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,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495680" y="1828800"/>
            <a:ext cx="914400" cy="2666880"/>
          </a:xfrm>
          <a:custGeom>
            <a:avLst/>
            <a:gdLst/>
            <a:ahLst/>
            <a:rect l="l" t="t" r="r" b="b"/>
            <a:pathLst>
              <a:path w="576" h="1680">
                <a:moveTo>
                  <a:pt x="0" y="1680"/>
                </a:moveTo>
                <a:cubicBezTo>
                  <a:pt x="288" y="1388"/>
                  <a:pt x="576" y="1096"/>
                  <a:pt x="576" y="816"/>
                </a:cubicBezTo>
                <a:cubicBezTo>
                  <a:pt x="576" y="536"/>
                  <a:pt x="288" y="26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187800" y="3276720"/>
            <a:ext cx="698400" cy="1218960"/>
          </a:xfrm>
          <a:custGeom>
            <a:avLst/>
            <a:gdLst/>
            <a:ahLst/>
            <a:rect l="l" t="t" r="r" b="b"/>
            <a:pathLst>
              <a:path w="440" h="768">
                <a:moveTo>
                  <a:pt x="440" y="768"/>
                </a:moveTo>
                <a:cubicBezTo>
                  <a:pt x="228" y="616"/>
                  <a:pt x="16" y="464"/>
                  <a:pt x="8" y="336"/>
                </a:cubicBezTo>
                <a:cubicBezTo>
                  <a:pt x="0" y="208"/>
                  <a:pt x="196" y="104"/>
                  <a:pt x="39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09480" y="1905120"/>
            <a:ext cx="7925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M2  is a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-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 machine,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is simulated by  M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 refines   M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3505320"/>
            <a:ext cx="990360" cy="53316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3962520"/>
            <a:ext cx="1295280" cy="68580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09480" y="1905120"/>
            <a:ext cx="7925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M2  is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n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 machine,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is simulated by  M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 refines   M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3505320"/>
            <a:ext cx="1676520" cy="53316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3200" y="3962520"/>
            <a:ext cx="1295280" cy="68580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95280" y="1676520"/>
            <a:ext cx="70106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tunat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very nondeterministic state machine M, we can find a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-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 machin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t(M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at is equivalent to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44197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This is called “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ubset construc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”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7T05:45:59Z</dcterms:created>
  <dc:creator>Valued Sony Customer</dc:creator>
  <dc:description/>
  <dc:language>en-US</dc:language>
  <cp:lastModifiedBy>tah</cp:lastModifiedBy>
  <dcterms:modified xsi:type="dcterms:W3CDTF">2001-02-25T07:37:45Z</dcterms:modified>
  <cp:revision>71</cp:revision>
  <dc:subject/>
  <dc:title>PowerPoint Presentation</dc:title>
</cp:coreProperties>
</file>