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9F29-2531-48EE-A8F1-09FFCDC8A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11AA-C528-4F3B-921D-E36D9801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AD31-98DC-45B3-AFB5-FB05A3B17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424D-83C4-4CBA-877A-D4A43852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0264-8612-4AFE-A37E-6E52B8D7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B256-C497-449D-9A51-37C1A357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BAD0-4005-4973-A15E-A77AA909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2511-CF19-4485-9091-51B5B948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4C07-427B-4D9C-9152-413E08EB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9586-96FD-45C2-9222-6CA6DC43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20A2-5AA3-4D69-92F3-A2CC19AF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000E-7DFA-4003-8161-65BC8E70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1F1E-8388-4F2D-82AF-135A25766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1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February 7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522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duct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81952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609480"/>
            <a:ext cx="624852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72200" y="3124080"/>
            <a:ext cx="83808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3581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057400" y="25905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5909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35812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4120" y="4648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2590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386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638680" y="3733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38680" y="37339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1028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7180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3809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0080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arityOrLast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t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77240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f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19520" y="4648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219320" y="7621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arityOrLastThre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280" y="1981080"/>
            <a:ext cx="8991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put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ParityOrLastThree ]     = 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OrLastThree ]   = 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OrLastThree ]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States [ Parity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[ LastThree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{ true, false 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{ 0, 1, 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itial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OrLastThree 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( initialState [ Parity ], initialState [ LastThree 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( true, 0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066680" y="76212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arityOrLastThree System,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2209680"/>
            <a:ext cx="8610480" cy="19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xtStat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ParityOrLastThree ]  ( ( q1, q2 ) , x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 nextState [ Parity ] (q1, x) , nextState [ LastThree ] (q2, x) 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OrLastThree ] ( ( q1, q2 ) , x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    output [ Parity ] (q1, x)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output [ LastThree ] (q2,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9810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5120" y="388620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384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7220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72200" y="213372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33720" y="2209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574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148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244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2448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191120" y="2286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52480" y="1676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274320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00480" y="1092240"/>
            <a:ext cx="838080" cy="965160"/>
          </a:xfrm>
          <a:custGeom>
            <a:avLst/>
            <a:gdLst/>
            <a:ahLst/>
            <a:rect l="l" t="t" r="r" b="b"/>
            <a:pathLst>
              <a:path w="528" h="608">
                <a:moveTo>
                  <a:pt x="72" y="608"/>
                </a:moveTo>
                <a:cubicBezTo>
                  <a:pt x="36" y="384"/>
                  <a:pt x="0" y="160"/>
                  <a:pt x="72" y="80"/>
                </a:cubicBezTo>
                <a:cubicBezTo>
                  <a:pt x="144" y="0"/>
                  <a:pt x="480" y="40"/>
                  <a:pt x="504" y="128"/>
                </a:cubicBezTo>
                <a:cubicBezTo>
                  <a:pt x="528" y="216"/>
                  <a:pt x="372" y="412"/>
                  <a:pt x="216" y="6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14600" y="685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800600" y="2895480"/>
            <a:ext cx="144792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895120" y="43434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0040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2743200" y="274284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209680" y="4799880"/>
            <a:ext cx="838440" cy="965160"/>
          </a:xfrm>
          <a:custGeom>
            <a:avLst/>
            <a:gdLst/>
            <a:ahLst/>
            <a:rect l="l" t="t" r="r" b="b"/>
            <a:pathLst>
              <a:path w="528" h="608">
                <a:moveTo>
                  <a:pt x="72" y="608"/>
                </a:moveTo>
                <a:cubicBezTo>
                  <a:pt x="36" y="384"/>
                  <a:pt x="0" y="160"/>
                  <a:pt x="72" y="80"/>
                </a:cubicBezTo>
                <a:cubicBezTo>
                  <a:pt x="144" y="0"/>
                  <a:pt x="480" y="40"/>
                  <a:pt x="504" y="128"/>
                </a:cubicBezTo>
                <a:cubicBezTo>
                  <a:pt x="528" y="216"/>
                  <a:pt x="372" y="412"/>
                  <a:pt x="216" y="6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14600" y="3276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6232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29200" y="2666880"/>
            <a:ext cx="129528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971440" y="24382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05720" y="30481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0572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95480" y="1434960"/>
            <a:ext cx="3581640" cy="774720"/>
          </a:xfrm>
          <a:custGeom>
            <a:avLst/>
            <a:gdLst/>
            <a:ahLst/>
            <a:rect l="l" t="t" r="r" b="b"/>
            <a:pathLst>
              <a:path w="2256" h="488">
                <a:moveTo>
                  <a:pt x="2256" y="440"/>
                </a:moveTo>
                <a:cubicBezTo>
                  <a:pt x="1844" y="220"/>
                  <a:pt x="1432" y="0"/>
                  <a:pt x="1056" y="8"/>
                </a:cubicBezTo>
                <a:cubicBezTo>
                  <a:pt x="680" y="16"/>
                  <a:pt x="340" y="252"/>
                  <a:pt x="0" y="4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4340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162920" y="2743200"/>
            <a:ext cx="533160" cy="1523880"/>
          </a:xfrm>
          <a:custGeom>
            <a:avLst/>
            <a:gdLst/>
            <a:ahLst/>
            <a:rect l="l" t="t" r="r" b="b"/>
            <a:pathLst>
              <a:path w="336" h="960">
                <a:moveTo>
                  <a:pt x="0" y="960"/>
                </a:moveTo>
                <a:cubicBezTo>
                  <a:pt x="168" y="800"/>
                  <a:pt x="336" y="640"/>
                  <a:pt x="336" y="480"/>
                </a:cubicBezTo>
                <a:cubicBezTo>
                  <a:pt x="336" y="320"/>
                  <a:pt x="168" y="160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69608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19520" y="4648320"/>
            <a:ext cx="3581280" cy="774720"/>
          </a:xfrm>
          <a:custGeom>
            <a:avLst/>
            <a:gdLst/>
            <a:ahLst/>
            <a:rect l="l" t="t" r="r" b="b"/>
            <a:pathLst>
              <a:path w="2256" h="488">
                <a:moveTo>
                  <a:pt x="2256" y="48"/>
                </a:moveTo>
                <a:cubicBezTo>
                  <a:pt x="1820" y="268"/>
                  <a:pt x="1384" y="488"/>
                  <a:pt x="1008" y="480"/>
                </a:cubicBezTo>
                <a:cubicBezTo>
                  <a:pt x="632" y="472"/>
                  <a:pt x="316" y="236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91120" y="5486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81952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1952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71600" y="609480"/>
            <a:ext cx="624852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172200" y="3124080"/>
            <a:ext cx="83808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3520" y="3581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057400" y="25905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25909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7400" y="35812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4648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38680" y="2590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6386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638680" y="3733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37339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01028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7180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71800" y="3809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0080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arityAndLast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9608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19520" y="4648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81952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1952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71600" y="609480"/>
            <a:ext cx="624852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72200" y="3124080"/>
            <a:ext cx="83808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3520" y="3581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057400" y="25905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57400" y="25909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57400" y="35812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05740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648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38680" y="2590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638680" y="3733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638680" y="37339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1028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97180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71800" y="3809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0080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arityAndLast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9608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t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77240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f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19520" y="4648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219320" y="7621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arityAndLastThre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2280" y="1981080"/>
            <a:ext cx="8991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puts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ParityAndLastThree ]     = 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AndLastThree ]   = 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AndLastThree ]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States [ Parity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[ LastThree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{ true, false 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{ 0, 1, 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itial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AndLastThree 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( initialState [ Parity ], initialState [ LastThree 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( true, 0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066680" y="76212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arityAndLastThree System,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2209680"/>
            <a:ext cx="8610480" cy="19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extStat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ParityAndLastThree ]  ( ( q1, q2 ) , x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 nextState [ Parity ] (q1, x) , nextState [ LastThree ] (q2, x) 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ParityAndLastThree ] ( ( q1, q2 ) , x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    output [ Parity ] (q1, x)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utput [ LastThree ] (q2,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9810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05120" y="388620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3848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384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17220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172200" y="213372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133720" y="2209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0574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148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3244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32448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91120" y="2286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752480" y="1676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95480" y="274320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400480" y="1092240"/>
            <a:ext cx="838080" cy="965160"/>
          </a:xfrm>
          <a:custGeom>
            <a:avLst/>
            <a:gdLst/>
            <a:ahLst/>
            <a:rect l="l" t="t" r="r" b="b"/>
            <a:pathLst>
              <a:path w="528" h="608">
                <a:moveTo>
                  <a:pt x="72" y="608"/>
                </a:moveTo>
                <a:cubicBezTo>
                  <a:pt x="36" y="384"/>
                  <a:pt x="0" y="160"/>
                  <a:pt x="72" y="80"/>
                </a:cubicBezTo>
                <a:cubicBezTo>
                  <a:pt x="144" y="0"/>
                  <a:pt x="480" y="40"/>
                  <a:pt x="504" y="128"/>
                </a:cubicBezTo>
                <a:cubicBezTo>
                  <a:pt x="528" y="216"/>
                  <a:pt x="372" y="412"/>
                  <a:pt x="216" y="6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14600" y="685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0988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800600" y="2895480"/>
            <a:ext cx="144792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0060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2895120" y="43434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0040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2743200" y="274284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2209680" y="4799880"/>
            <a:ext cx="838440" cy="965160"/>
          </a:xfrm>
          <a:custGeom>
            <a:avLst/>
            <a:gdLst/>
            <a:ahLst/>
            <a:rect l="l" t="t" r="r" b="b"/>
            <a:pathLst>
              <a:path w="528" h="608">
                <a:moveTo>
                  <a:pt x="72" y="608"/>
                </a:moveTo>
                <a:cubicBezTo>
                  <a:pt x="36" y="384"/>
                  <a:pt x="0" y="160"/>
                  <a:pt x="72" y="80"/>
                </a:cubicBezTo>
                <a:cubicBezTo>
                  <a:pt x="144" y="0"/>
                  <a:pt x="480" y="40"/>
                  <a:pt x="504" y="128"/>
                </a:cubicBezTo>
                <a:cubicBezTo>
                  <a:pt x="528" y="216"/>
                  <a:pt x="372" y="412"/>
                  <a:pt x="216" y="6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14600" y="3276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36232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29200" y="2666880"/>
            <a:ext cx="129528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86728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2971440" y="24382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004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05720" y="30481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70572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1434960"/>
            <a:ext cx="3581640" cy="774720"/>
          </a:xfrm>
          <a:custGeom>
            <a:avLst/>
            <a:gdLst/>
            <a:ahLst/>
            <a:rect l="l" t="t" r="r" b="b"/>
            <a:pathLst>
              <a:path w="2256" h="488">
                <a:moveTo>
                  <a:pt x="2256" y="440"/>
                </a:moveTo>
                <a:cubicBezTo>
                  <a:pt x="1844" y="220"/>
                  <a:pt x="1432" y="0"/>
                  <a:pt x="1056" y="8"/>
                </a:cubicBezTo>
                <a:cubicBezTo>
                  <a:pt x="680" y="16"/>
                  <a:pt x="340" y="252"/>
                  <a:pt x="0" y="4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4340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162920" y="2743200"/>
            <a:ext cx="533160" cy="1523880"/>
          </a:xfrm>
          <a:custGeom>
            <a:avLst/>
            <a:gdLst/>
            <a:ahLst/>
            <a:rect l="l" t="t" r="r" b="b"/>
            <a:pathLst>
              <a:path w="336" h="960">
                <a:moveTo>
                  <a:pt x="0" y="960"/>
                </a:moveTo>
                <a:cubicBezTo>
                  <a:pt x="168" y="800"/>
                  <a:pt x="336" y="640"/>
                  <a:pt x="336" y="480"/>
                </a:cubicBezTo>
                <a:cubicBezTo>
                  <a:pt x="336" y="320"/>
                  <a:pt x="168" y="160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9608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19520" y="4648320"/>
            <a:ext cx="3581280" cy="774720"/>
          </a:xfrm>
          <a:custGeom>
            <a:avLst/>
            <a:gdLst/>
            <a:ahLst/>
            <a:rect l="l" t="t" r="r" b="b"/>
            <a:pathLst>
              <a:path w="2256" h="488">
                <a:moveTo>
                  <a:pt x="2256" y="48"/>
                </a:moveTo>
                <a:cubicBezTo>
                  <a:pt x="1820" y="268"/>
                  <a:pt x="1384" y="488"/>
                  <a:pt x="1008" y="480"/>
                </a:cubicBezTo>
                <a:cubicBezTo>
                  <a:pt x="632" y="472"/>
                  <a:pt x="316" y="236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191120" y="5486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281952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81952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71600" y="609480"/>
            <a:ext cx="624852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172200" y="3124080"/>
            <a:ext cx="83808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3520" y="25909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057400" y="25909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5740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4120" y="4648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638680" y="2590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6386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638680" y="3733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38680" y="37339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01028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97180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71800" y="3809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40080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put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175248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69608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520" y="46483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380988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447920" y="2666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47920" y="4724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19520" y="4648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133720" y="2514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osition of State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81952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81952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71600" y="609480"/>
            <a:ext cx="624852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172200" y="3124080"/>
            <a:ext cx="83808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3520" y="25909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057400" y="25909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05740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34120" y="4648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638680" y="2590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6386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638680" y="3733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638680" y="37339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01028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7180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71800" y="3809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40080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put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175248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9608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3520" y="46483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380988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27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t, f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4724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t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696080" y="3657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f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447920" y="2666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447920" y="4724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1219320" y="7621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putPairs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2280" y="1981080"/>
            <a:ext cx="8991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put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InputPairs ]     =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ools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InputPairs ]   = 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InputPairs ]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States [ Parity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[ LastThree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{ true, false 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{ 0, 1, 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itial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InputPairs 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( initialState [ Parity ], initialState [ LastThree 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( true, 0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066680" y="76212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putPairs System,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2209680"/>
            <a:ext cx="8610480" cy="19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extStat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InputPairs ]  ( ( q1, q2 ) ,  (x1, x2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 nextState [ Parity ] (q1, x1) , nextState [ LastThree ] (q2, x2) 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InputPairs ] ( ( q1, q2 ) ,  (x1, x2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    output [ Parity ] (q1, x1)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utput [ LastThree ] (q2, x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9810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905120" y="388620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03848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0384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17220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72200" y="213372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33720" y="2209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0574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1148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3244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32448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91120" y="2286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752480" y="1676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19810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905120" y="388620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03848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0384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17220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213372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133720" y="2209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0574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148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3244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32448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91120" y="2286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52480" y="1676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95480" y="274320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400480" y="1092240"/>
            <a:ext cx="838080" cy="965160"/>
          </a:xfrm>
          <a:custGeom>
            <a:avLst/>
            <a:gdLst/>
            <a:ahLst/>
            <a:rect l="l" t="t" r="r" b="b"/>
            <a:pathLst>
              <a:path w="528" h="608">
                <a:moveTo>
                  <a:pt x="72" y="608"/>
                </a:moveTo>
                <a:cubicBezTo>
                  <a:pt x="36" y="384"/>
                  <a:pt x="0" y="160"/>
                  <a:pt x="72" y="80"/>
                </a:cubicBezTo>
                <a:cubicBezTo>
                  <a:pt x="144" y="0"/>
                  <a:pt x="480" y="40"/>
                  <a:pt x="504" y="128"/>
                </a:cubicBezTo>
                <a:cubicBezTo>
                  <a:pt x="528" y="216"/>
                  <a:pt x="372" y="412"/>
                  <a:pt x="216" y="6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133720" y="685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f,f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09880" y="3200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t,t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19810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05120" y="388620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03848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0384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172200" y="213372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133720" y="2209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0574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1148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3244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32448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91120" y="2286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752480" y="1676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95480" y="274320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00480" y="1092240"/>
            <a:ext cx="838080" cy="965160"/>
          </a:xfrm>
          <a:custGeom>
            <a:avLst/>
            <a:gdLst/>
            <a:ahLst/>
            <a:rect l="l" t="t" r="r" b="b"/>
            <a:pathLst>
              <a:path w="528" h="608">
                <a:moveTo>
                  <a:pt x="72" y="608"/>
                </a:moveTo>
                <a:cubicBezTo>
                  <a:pt x="36" y="384"/>
                  <a:pt x="0" y="160"/>
                  <a:pt x="72" y="80"/>
                </a:cubicBezTo>
                <a:cubicBezTo>
                  <a:pt x="144" y="0"/>
                  <a:pt x="480" y="40"/>
                  <a:pt x="504" y="128"/>
                </a:cubicBezTo>
                <a:cubicBezTo>
                  <a:pt x="528" y="216"/>
                  <a:pt x="372" y="412"/>
                  <a:pt x="216" y="6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133720" y="685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f,f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09880" y="3200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t,t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5146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95480" y="2057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f,t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438280" y="29718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3200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t,f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81952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1952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371600" y="609480"/>
            <a:ext cx="624852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33520" y="3581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057400" y="25905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057400" y="25909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057400" y="35812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05740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334120" y="266688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97180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971800" y="3809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4120" y="464832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96080" y="1828800"/>
            <a:ext cx="1447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696080" y="3733920"/>
            <a:ext cx="1447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23888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4724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819520" y="4648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281952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1952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371600" y="609480"/>
            <a:ext cx="624852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33520" y="3581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2057400" y="25905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57400" y="25909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057400" y="35812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05740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4120" y="266688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97180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971800" y="3809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f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334120" y="464832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696080" y="1828800"/>
            <a:ext cx="1447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96080" y="3809880"/>
            <a:ext cx="1447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20120" y="4724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f, f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20120" y="27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f, f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3888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162920" y="4724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819520" y="4648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1219320" y="7621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OutputPairs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52280" y="1981080"/>
            <a:ext cx="8991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put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OutputPairs ]     = 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OutputPairs ]   =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ools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OutputPairs ]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States [ Parity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[ LastThree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{ true, false 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{ 0, 1, 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itial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OutputPairs 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( initialState [ Parity ], initialState [ LastThree 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( true, 0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1066680" y="76212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OutputPairs System,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3520" y="2209680"/>
            <a:ext cx="8610480" cy="19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extStat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OutputPairs ]  ( ( q1, q2 ) ,  x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 nextState [ Parity ] (q1, x) , nextState [ LastThree ] (q2, x) 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OutputPairs ] ( ( q1, q2 ) ,  x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utput [ Parity ] (q1, x)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utput [ LastThree ] (q2, x)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43000" y="6858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ition Diagram of the Parit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25146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952880" y="243828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19520" y="2666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29200" y="2666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2133720"/>
            <a:ext cx="1447920" cy="457200"/>
          </a:xfrm>
          <a:custGeom>
            <a:avLst/>
            <a:gdLst/>
            <a:ahLst/>
            <a:rect l="l" t="t" r="r" b="b"/>
            <a:pathLst>
              <a:path w="912" h="288">
                <a:moveTo>
                  <a:pt x="0" y="288"/>
                </a:moveTo>
                <a:cubicBezTo>
                  <a:pt x="140" y="144"/>
                  <a:pt x="280" y="0"/>
                  <a:pt x="432" y="0"/>
                </a:cubicBezTo>
                <a:cubicBezTo>
                  <a:pt x="584" y="0"/>
                  <a:pt x="832" y="240"/>
                  <a:pt x="912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657600" y="3276720"/>
            <a:ext cx="1447920" cy="457200"/>
          </a:xfrm>
          <a:custGeom>
            <a:avLst/>
            <a:gdLst/>
            <a:ahLst/>
            <a:rect l="l" t="t" r="r" b="b"/>
            <a:pathLst>
              <a:path w="912" h="288">
                <a:moveTo>
                  <a:pt x="0" y="288"/>
                </a:moveTo>
                <a:cubicBezTo>
                  <a:pt x="140" y="144"/>
                  <a:pt x="280" y="0"/>
                  <a:pt x="432" y="0"/>
                </a:cubicBezTo>
                <a:cubicBezTo>
                  <a:pt x="584" y="0"/>
                  <a:pt x="832" y="240"/>
                  <a:pt x="912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2971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60440" y="3429000"/>
            <a:ext cx="1016280" cy="1168560"/>
          </a:xfrm>
          <a:custGeom>
            <a:avLst/>
            <a:gdLst/>
            <a:ahLst/>
            <a:rect l="l" t="t" r="r" b="b"/>
            <a:pathLst>
              <a:path w="640" h="736">
                <a:moveTo>
                  <a:pt x="448" y="0"/>
                </a:moveTo>
                <a:cubicBezTo>
                  <a:pt x="224" y="136"/>
                  <a:pt x="0" y="272"/>
                  <a:pt x="16" y="384"/>
                </a:cubicBezTo>
                <a:cubicBezTo>
                  <a:pt x="32" y="496"/>
                  <a:pt x="448" y="736"/>
                  <a:pt x="544" y="672"/>
                </a:cubicBezTo>
                <a:cubicBezTo>
                  <a:pt x="640" y="608"/>
                  <a:pt x="616" y="304"/>
                  <a:pt x="5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5334120" y="3352680"/>
            <a:ext cx="1015920" cy="1168560"/>
          </a:xfrm>
          <a:custGeom>
            <a:avLst/>
            <a:gdLst/>
            <a:ahLst/>
            <a:rect l="l" t="t" r="r" b="b"/>
            <a:pathLst>
              <a:path w="640" h="736">
                <a:moveTo>
                  <a:pt x="448" y="0"/>
                </a:moveTo>
                <a:cubicBezTo>
                  <a:pt x="224" y="136"/>
                  <a:pt x="0" y="272"/>
                  <a:pt x="16" y="384"/>
                </a:cubicBezTo>
                <a:cubicBezTo>
                  <a:pt x="32" y="496"/>
                  <a:pt x="448" y="736"/>
                  <a:pt x="544" y="672"/>
                </a:cubicBezTo>
                <a:cubicBezTo>
                  <a:pt x="640" y="608"/>
                  <a:pt x="616" y="304"/>
                  <a:pt x="5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1676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3733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4343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4191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53341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=  Bools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s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Bool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19810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05120" y="388620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03848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0384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7220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172200" y="213372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133720" y="2209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574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148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3244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32448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191120" y="2286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52480" y="1676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895480" y="274320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400480" y="1092240"/>
            <a:ext cx="838080" cy="965160"/>
          </a:xfrm>
          <a:custGeom>
            <a:avLst/>
            <a:gdLst/>
            <a:ahLst/>
            <a:rect l="l" t="t" r="r" b="b"/>
            <a:pathLst>
              <a:path w="528" h="608">
                <a:moveTo>
                  <a:pt x="72" y="608"/>
                </a:moveTo>
                <a:cubicBezTo>
                  <a:pt x="36" y="384"/>
                  <a:pt x="0" y="160"/>
                  <a:pt x="72" y="80"/>
                </a:cubicBezTo>
                <a:cubicBezTo>
                  <a:pt x="144" y="0"/>
                  <a:pt x="480" y="40"/>
                  <a:pt x="504" y="128"/>
                </a:cubicBezTo>
                <a:cubicBezTo>
                  <a:pt x="528" y="216"/>
                  <a:pt x="372" y="412"/>
                  <a:pt x="216" y="6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14600" y="685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t,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0988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t,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4800600" y="2895480"/>
            <a:ext cx="144792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876920" y="37339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f,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2895120" y="43434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48120" y="4343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f,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2743200" y="274284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2209680" y="4799880"/>
            <a:ext cx="838440" cy="965160"/>
          </a:xfrm>
          <a:custGeom>
            <a:avLst/>
            <a:gdLst/>
            <a:ahLst/>
            <a:rect l="l" t="t" r="r" b="b"/>
            <a:pathLst>
              <a:path w="528" h="608">
                <a:moveTo>
                  <a:pt x="72" y="608"/>
                </a:moveTo>
                <a:cubicBezTo>
                  <a:pt x="36" y="384"/>
                  <a:pt x="0" y="160"/>
                  <a:pt x="72" y="80"/>
                </a:cubicBezTo>
                <a:cubicBezTo>
                  <a:pt x="144" y="0"/>
                  <a:pt x="480" y="40"/>
                  <a:pt x="504" y="128"/>
                </a:cubicBezTo>
                <a:cubicBezTo>
                  <a:pt x="528" y="216"/>
                  <a:pt x="372" y="412"/>
                  <a:pt x="216" y="6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057400" y="3276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f,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36232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f,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029200" y="2666880"/>
            <a:ext cx="129528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95288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t,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2971440" y="24382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048120" y="1981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t,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705720" y="30481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629400" y="3276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t,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95480" y="1434960"/>
            <a:ext cx="3581640" cy="774720"/>
          </a:xfrm>
          <a:custGeom>
            <a:avLst/>
            <a:gdLst/>
            <a:ahLst/>
            <a:rect l="l" t="t" r="r" b="b"/>
            <a:pathLst>
              <a:path w="2256" h="488">
                <a:moveTo>
                  <a:pt x="2256" y="440"/>
                </a:moveTo>
                <a:cubicBezTo>
                  <a:pt x="1844" y="220"/>
                  <a:pt x="1432" y="0"/>
                  <a:pt x="1056" y="8"/>
                </a:cubicBezTo>
                <a:cubicBezTo>
                  <a:pt x="680" y="16"/>
                  <a:pt x="340" y="252"/>
                  <a:pt x="0" y="4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343400" y="990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t,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162920" y="2743200"/>
            <a:ext cx="533160" cy="1523880"/>
          </a:xfrm>
          <a:custGeom>
            <a:avLst/>
            <a:gdLst/>
            <a:ahLst/>
            <a:rect l="l" t="t" r="r" b="b"/>
            <a:pathLst>
              <a:path w="336" h="960">
                <a:moveTo>
                  <a:pt x="0" y="960"/>
                </a:moveTo>
                <a:cubicBezTo>
                  <a:pt x="168" y="800"/>
                  <a:pt x="336" y="640"/>
                  <a:pt x="336" y="480"/>
                </a:cubicBezTo>
                <a:cubicBezTo>
                  <a:pt x="336" y="320"/>
                  <a:pt x="168" y="160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696080" y="3276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f,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819520" y="4648320"/>
            <a:ext cx="3581280" cy="774720"/>
          </a:xfrm>
          <a:custGeom>
            <a:avLst/>
            <a:gdLst/>
            <a:ahLst/>
            <a:rect l="l" t="t" r="r" b="b"/>
            <a:pathLst>
              <a:path w="2256" h="488">
                <a:moveTo>
                  <a:pt x="2256" y="48"/>
                </a:moveTo>
                <a:cubicBezTo>
                  <a:pt x="1820" y="268"/>
                  <a:pt x="1384" y="488"/>
                  <a:pt x="1008" y="480"/>
                </a:cubicBezTo>
                <a:cubicBezTo>
                  <a:pt x="632" y="472"/>
                  <a:pt x="316" y="236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91120" y="5486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f,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1752480" y="1523880"/>
            <a:ext cx="56390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y block diagram of N state machines with the state spac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tates1, States2, … State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be implemented by a single state machine with the state sp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s1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States2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…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States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is called a “product machin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403848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03848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447920" y="609480"/>
            <a:ext cx="609588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85800" y="24382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352680" y="25146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057400" y="46483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55308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19112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191120" y="3809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eedback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0" y="1600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696080" y="1828800"/>
            <a:ext cx="1447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038480" y="4648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010280" y="26668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655308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666880" y="213372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19520" y="22860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819520" y="2286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2057400" y="27432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057400" y="2743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6095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is block diagram is ok, because every cycle contains a del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403848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03848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447920" y="609480"/>
            <a:ext cx="609588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5800" y="24382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352680" y="25146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057400" y="46483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55308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19112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191120" y="3809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eedback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1600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f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696080" y="1828800"/>
            <a:ext cx="1447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620120" y="2666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038480" y="4648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010280" y="26668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655308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666880" y="213372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819520" y="22860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819520" y="2286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057400" y="27432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057400" y="2743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6294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403848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03848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447920" y="609480"/>
            <a:ext cx="609588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85800" y="24382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352680" y="25146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057400" y="46483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55308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19112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191120" y="3809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eedback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1600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f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96080" y="1828800"/>
            <a:ext cx="1447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0120" y="2666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038480" y="4648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010280" y="26668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655308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666880" y="213372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819520" y="22860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819520" y="2286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2057400" y="27432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57400" y="2743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6294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36232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403848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47920" y="609480"/>
            <a:ext cx="609588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5800" y="24382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352680" y="25146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057400" y="46483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55308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19112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191120" y="3809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eedback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0" y="1600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f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696080" y="1828800"/>
            <a:ext cx="1447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620120" y="2666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038480" y="4648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010280" y="26668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655308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666880" y="213372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19520" y="22860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19520" y="2286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2057400" y="27432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057400" y="2743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6294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36232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429000" y="2057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403848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03848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447920" y="609480"/>
            <a:ext cx="609588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24382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352680" y="25146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057400" y="46483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55308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19112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191120" y="3809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eedback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0" y="1600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f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696080" y="1828800"/>
            <a:ext cx="1447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620120" y="2666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038480" y="4648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010280" y="26668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655308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666880" y="213372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819520" y="22860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819520" y="2286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2057400" y="27432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057400" y="2743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6294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36232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50532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403848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03848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447920" y="609480"/>
            <a:ext cx="609588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85800" y="24382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352680" y="25146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057400" y="46483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55308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19112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191120" y="3809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eedback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1600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f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696080" y="1828800"/>
            <a:ext cx="1447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2666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648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010280" y="26668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655308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666880" y="213372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819520" y="22860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819520" y="2286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2057400" y="27432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057400" y="2743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6294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36232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50532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403848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03848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447920" y="609480"/>
            <a:ext cx="609588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85800" y="24382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352680" y="25146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46483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55308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19112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191120" y="3809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eedback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0" y="1600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f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696080" y="1828800"/>
            <a:ext cx="1447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20120" y="2666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38480" y="4648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010280" y="26668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655308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666880" y="213372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819520" y="22860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819520" y="2286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2057400" y="27432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57400" y="2743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6294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36232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276720" y="1676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403848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03848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447920" y="609480"/>
            <a:ext cx="609588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24382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352680" y="25146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057400" y="46483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5308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19112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191120" y="3809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eedback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0" y="1600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f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696080" y="1828800"/>
            <a:ext cx="1447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620120" y="2666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t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38480" y="4648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010280" y="26668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655308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666880" y="213372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819520" y="22860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819520" y="2286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2057400" y="27432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057400" y="2743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62940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t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36232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,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76720" y="1676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,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43000" y="6858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ition Diagram of the LastThre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2860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220968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19520" y="2057400"/>
            <a:ext cx="1447560" cy="304920"/>
          </a:xfrm>
          <a:custGeom>
            <a:avLst/>
            <a:gdLst/>
            <a:ahLst/>
            <a:rect l="l" t="t" r="r" b="b"/>
            <a:pathLst>
              <a:path w="912" h="288">
                <a:moveTo>
                  <a:pt x="0" y="288"/>
                </a:moveTo>
                <a:cubicBezTo>
                  <a:pt x="140" y="144"/>
                  <a:pt x="280" y="0"/>
                  <a:pt x="432" y="0"/>
                </a:cubicBezTo>
                <a:cubicBezTo>
                  <a:pt x="584" y="0"/>
                  <a:pt x="832" y="240"/>
                  <a:pt x="912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895480" y="3047400"/>
            <a:ext cx="1447920" cy="228600"/>
          </a:xfrm>
          <a:custGeom>
            <a:avLst/>
            <a:gdLst/>
            <a:ahLst/>
            <a:rect l="l" t="t" r="r" b="b"/>
            <a:pathLst>
              <a:path w="912" h="288">
                <a:moveTo>
                  <a:pt x="0" y="288"/>
                </a:moveTo>
                <a:cubicBezTo>
                  <a:pt x="140" y="144"/>
                  <a:pt x="280" y="0"/>
                  <a:pt x="432" y="0"/>
                </a:cubicBezTo>
                <a:cubicBezTo>
                  <a:pt x="584" y="0"/>
                  <a:pt x="832" y="240"/>
                  <a:pt x="912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27432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3200400"/>
            <a:ext cx="1016280" cy="1168560"/>
          </a:xfrm>
          <a:custGeom>
            <a:avLst/>
            <a:gdLst/>
            <a:ahLst/>
            <a:rect l="l" t="t" r="r" b="b"/>
            <a:pathLst>
              <a:path w="640" h="736">
                <a:moveTo>
                  <a:pt x="448" y="0"/>
                </a:moveTo>
                <a:cubicBezTo>
                  <a:pt x="224" y="136"/>
                  <a:pt x="0" y="272"/>
                  <a:pt x="16" y="384"/>
                </a:cubicBezTo>
                <a:cubicBezTo>
                  <a:pt x="32" y="496"/>
                  <a:pt x="448" y="736"/>
                  <a:pt x="544" y="672"/>
                </a:cubicBezTo>
                <a:cubicBezTo>
                  <a:pt x="640" y="608"/>
                  <a:pt x="616" y="304"/>
                  <a:pt x="5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858000" y="3124080"/>
            <a:ext cx="1015920" cy="1168560"/>
          </a:xfrm>
          <a:custGeom>
            <a:avLst/>
            <a:gdLst/>
            <a:ahLst/>
            <a:rect l="l" t="t" r="r" b="b"/>
            <a:pathLst>
              <a:path w="640" h="736">
                <a:moveTo>
                  <a:pt x="448" y="0"/>
                </a:moveTo>
                <a:cubicBezTo>
                  <a:pt x="224" y="136"/>
                  <a:pt x="0" y="272"/>
                  <a:pt x="16" y="384"/>
                </a:cubicBezTo>
                <a:cubicBezTo>
                  <a:pt x="32" y="496"/>
                  <a:pt x="448" y="736"/>
                  <a:pt x="544" y="672"/>
                </a:cubicBezTo>
                <a:cubicBezTo>
                  <a:pt x="640" y="608"/>
                  <a:pt x="616" y="304"/>
                  <a:pt x="5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53341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=  { 0, 1, 2 }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s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Bool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77120" y="220968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2057400"/>
            <a:ext cx="1447560" cy="304920"/>
          </a:xfrm>
          <a:custGeom>
            <a:avLst/>
            <a:gdLst/>
            <a:ahLst/>
            <a:rect l="l" t="t" r="r" b="b"/>
            <a:pathLst>
              <a:path w="912" h="288">
                <a:moveTo>
                  <a:pt x="0" y="288"/>
                </a:moveTo>
                <a:cubicBezTo>
                  <a:pt x="140" y="144"/>
                  <a:pt x="280" y="0"/>
                  <a:pt x="432" y="0"/>
                </a:cubicBezTo>
                <a:cubicBezTo>
                  <a:pt x="584" y="0"/>
                  <a:pt x="832" y="240"/>
                  <a:pt x="912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3048120"/>
            <a:ext cx="3886200" cy="1320840"/>
          </a:xfrm>
          <a:custGeom>
            <a:avLst/>
            <a:gdLst/>
            <a:ahLst/>
            <a:rect l="l" t="t" r="r" b="b"/>
            <a:pathLst>
              <a:path w="2448" h="832">
                <a:moveTo>
                  <a:pt x="2448" y="0"/>
                </a:moveTo>
                <a:cubicBezTo>
                  <a:pt x="2052" y="400"/>
                  <a:pt x="1656" y="800"/>
                  <a:pt x="1248" y="816"/>
                </a:cubicBezTo>
                <a:cubicBezTo>
                  <a:pt x="840" y="832"/>
                  <a:pt x="208" y="216"/>
                  <a:pt x="0" y="9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8168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1523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1600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3276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4267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4343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0" y="4191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1600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403848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03848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447920" y="609480"/>
            <a:ext cx="609588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24382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352680" y="25146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057400" y="46483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55308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9112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191120" y="3809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eedback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0" y="1600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f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696080" y="1828800"/>
            <a:ext cx="1447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620120" y="2666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t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038480" y="4648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10280" y="26668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655308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666880" y="213372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819520" y="22860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819520" y="2286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2057400" y="27432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057400" y="2743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62940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t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36232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, f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276720" y="1676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,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403848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03848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447920" y="609480"/>
            <a:ext cx="609588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" y="24382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352680" y="25146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057400" y="46483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55308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19112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191120" y="3809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eedback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1600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f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696080" y="1828800"/>
            <a:ext cx="1447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620120" y="2666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t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038480" y="4648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010280" y="26668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655308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666880" y="213372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819520" y="22860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819520" y="2286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2057400" y="27432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057400" y="2743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62940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t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36232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, f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971800" y="1676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, f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403848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03848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447920" y="609480"/>
            <a:ext cx="609588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85800" y="24382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352680" y="25146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057400" y="46483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55308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19112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191120" y="3809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eedback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1600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f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696080" y="1828800"/>
            <a:ext cx="1447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620120" y="2666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t, t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038480" y="4648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010280" y="26668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655308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666880" y="213372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819520" y="22860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819520" y="2286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2057400" y="27432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057400" y="2743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62940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t,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36232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, f,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971800" y="1676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, f,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2514600" y="23623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Vending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2133720" y="12193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in Col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886200" y="2819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657600" y="2743200"/>
            <a:ext cx="190512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048120" y="335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562720" y="335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88620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l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33520" y="312408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400800" y="312408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838080" y="4876920"/>
            <a:ext cx="8001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Coins = {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ckel, Dime, Quarter }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Coin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Coi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{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} .   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nds for “no input.”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2133720" y="762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in Col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094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8288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143000" y="38862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048120" y="36576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362320" y="38862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2670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581280" y="38862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800600" y="389412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705720" y="36576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019920" y="38862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9246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238880" y="38862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458200" y="38862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8580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048120" y="3733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9051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705720" y="37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486400" y="37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267080" y="3733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924680" y="3733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066680" y="2133720"/>
            <a:ext cx="2057400" cy="160020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384"/>
                </a:moveTo>
                <a:cubicBezTo>
                  <a:pt x="180" y="192"/>
                  <a:pt x="360" y="0"/>
                  <a:pt x="576" y="0"/>
                </a:cubicBezTo>
                <a:cubicBezTo>
                  <a:pt x="792" y="0"/>
                  <a:pt x="1044" y="192"/>
                  <a:pt x="1296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286000" y="2057400"/>
            <a:ext cx="2057400" cy="167652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384"/>
                </a:moveTo>
                <a:cubicBezTo>
                  <a:pt x="180" y="192"/>
                  <a:pt x="360" y="0"/>
                  <a:pt x="576" y="0"/>
                </a:cubicBezTo>
                <a:cubicBezTo>
                  <a:pt x="792" y="0"/>
                  <a:pt x="1044" y="192"/>
                  <a:pt x="1296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724280" y="2057400"/>
            <a:ext cx="2057400" cy="167652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384"/>
                </a:moveTo>
                <a:cubicBezTo>
                  <a:pt x="180" y="192"/>
                  <a:pt x="360" y="0"/>
                  <a:pt x="576" y="0"/>
                </a:cubicBezTo>
                <a:cubicBezTo>
                  <a:pt x="792" y="0"/>
                  <a:pt x="1044" y="192"/>
                  <a:pt x="1296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943600" y="2133720"/>
            <a:ext cx="2057400" cy="160020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384"/>
                </a:moveTo>
                <a:cubicBezTo>
                  <a:pt x="180" y="192"/>
                  <a:pt x="360" y="0"/>
                  <a:pt x="576" y="0"/>
                </a:cubicBezTo>
                <a:cubicBezTo>
                  <a:pt x="792" y="0"/>
                  <a:pt x="1044" y="192"/>
                  <a:pt x="1296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505320" y="2057400"/>
            <a:ext cx="2057400" cy="167652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384"/>
                </a:moveTo>
                <a:cubicBezTo>
                  <a:pt x="180" y="192"/>
                  <a:pt x="360" y="0"/>
                  <a:pt x="576" y="0"/>
                </a:cubicBezTo>
                <a:cubicBezTo>
                  <a:pt x="792" y="0"/>
                  <a:pt x="1044" y="192"/>
                  <a:pt x="1296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086600" y="2133720"/>
            <a:ext cx="2057400" cy="15238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384"/>
                </a:moveTo>
                <a:cubicBezTo>
                  <a:pt x="180" y="192"/>
                  <a:pt x="360" y="0"/>
                  <a:pt x="576" y="0"/>
                </a:cubicBezTo>
                <a:cubicBezTo>
                  <a:pt x="792" y="0"/>
                  <a:pt x="1044" y="192"/>
                  <a:pt x="1296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8381880" y="2209680"/>
            <a:ext cx="2057400" cy="152424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384"/>
                </a:moveTo>
                <a:cubicBezTo>
                  <a:pt x="180" y="192"/>
                  <a:pt x="360" y="0"/>
                  <a:pt x="576" y="0"/>
                </a:cubicBezTo>
                <a:cubicBezTo>
                  <a:pt x="792" y="0"/>
                  <a:pt x="1044" y="192"/>
                  <a:pt x="1296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066680" y="4114800"/>
            <a:ext cx="5715000" cy="1219320"/>
          </a:xfrm>
          <a:custGeom>
            <a:avLst/>
            <a:gdLst/>
            <a:ahLst/>
            <a:rect l="l" t="t" r="r" b="b"/>
            <a:pathLst>
              <a:path w="3600" h="768">
                <a:moveTo>
                  <a:pt x="0" y="0"/>
                </a:moveTo>
                <a:cubicBezTo>
                  <a:pt x="612" y="384"/>
                  <a:pt x="1224" y="768"/>
                  <a:pt x="1824" y="768"/>
                </a:cubicBezTo>
                <a:cubicBezTo>
                  <a:pt x="2424" y="768"/>
                  <a:pt x="3012" y="384"/>
                  <a:pt x="360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286000" y="4114800"/>
            <a:ext cx="5715000" cy="1219320"/>
          </a:xfrm>
          <a:custGeom>
            <a:avLst/>
            <a:gdLst/>
            <a:ahLst/>
            <a:rect l="l" t="t" r="r" b="b"/>
            <a:pathLst>
              <a:path w="3600" h="768">
                <a:moveTo>
                  <a:pt x="0" y="0"/>
                </a:moveTo>
                <a:cubicBezTo>
                  <a:pt x="612" y="384"/>
                  <a:pt x="1224" y="768"/>
                  <a:pt x="1824" y="768"/>
                </a:cubicBezTo>
                <a:cubicBezTo>
                  <a:pt x="2424" y="768"/>
                  <a:pt x="3012" y="384"/>
                  <a:pt x="360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505320" y="4114800"/>
            <a:ext cx="5715000" cy="1219320"/>
          </a:xfrm>
          <a:custGeom>
            <a:avLst/>
            <a:gdLst/>
            <a:ahLst/>
            <a:rect l="l" t="t" r="r" b="b"/>
            <a:pathLst>
              <a:path w="3600" h="768">
                <a:moveTo>
                  <a:pt x="0" y="0"/>
                </a:moveTo>
                <a:cubicBezTo>
                  <a:pt x="612" y="384"/>
                  <a:pt x="1224" y="768"/>
                  <a:pt x="1824" y="768"/>
                </a:cubicBezTo>
                <a:cubicBezTo>
                  <a:pt x="2424" y="768"/>
                  <a:pt x="3012" y="384"/>
                  <a:pt x="360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24280" y="4114800"/>
            <a:ext cx="5715000" cy="1219320"/>
          </a:xfrm>
          <a:custGeom>
            <a:avLst/>
            <a:gdLst/>
            <a:ahLst/>
            <a:rect l="l" t="t" r="r" b="b"/>
            <a:pathLst>
              <a:path w="3600" h="768">
                <a:moveTo>
                  <a:pt x="0" y="0"/>
                </a:moveTo>
                <a:cubicBezTo>
                  <a:pt x="612" y="384"/>
                  <a:pt x="1224" y="768"/>
                  <a:pt x="1824" y="768"/>
                </a:cubicBezTo>
                <a:cubicBezTo>
                  <a:pt x="2424" y="768"/>
                  <a:pt x="3012" y="384"/>
                  <a:pt x="360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943600" y="4114800"/>
            <a:ext cx="5715000" cy="1219320"/>
          </a:xfrm>
          <a:custGeom>
            <a:avLst/>
            <a:gdLst/>
            <a:ahLst/>
            <a:rect l="l" t="t" r="r" b="b"/>
            <a:pathLst>
              <a:path w="3600" h="768">
                <a:moveTo>
                  <a:pt x="0" y="0"/>
                </a:moveTo>
                <a:cubicBezTo>
                  <a:pt x="612" y="384"/>
                  <a:pt x="1224" y="768"/>
                  <a:pt x="1824" y="768"/>
                </a:cubicBezTo>
                <a:cubicBezTo>
                  <a:pt x="2424" y="768"/>
                  <a:pt x="3012" y="384"/>
                  <a:pt x="360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162920" y="4114800"/>
            <a:ext cx="5715000" cy="1219320"/>
          </a:xfrm>
          <a:custGeom>
            <a:avLst/>
            <a:gdLst/>
            <a:ahLst/>
            <a:rect l="l" t="t" r="r" b="b"/>
            <a:pathLst>
              <a:path w="3600" h="768">
                <a:moveTo>
                  <a:pt x="0" y="0"/>
                </a:moveTo>
                <a:cubicBezTo>
                  <a:pt x="612" y="384"/>
                  <a:pt x="1224" y="768"/>
                  <a:pt x="1824" y="768"/>
                </a:cubicBezTo>
                <a:cubicBezTo>
                  <a:pt x="2424" y="768"/>
                  <a:pt x="3012" y="384"/>
                  <a:pt x="360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8458200" y="4038480"/>
            <a:ext cx="5715000" cy="1219320"/>
          </a:xfrm>
          <a:custGeom>
            <a:avLst/>
            <a:gdLst/>
            <a:ahLst/>
            <a:rect l="l" t="t" r="r" b="b"/>
            <a:pathLst>
              <a:path w="3600" h="768">
                <a:moveTo>
                  <a:pt x="0" y="0"/>
                </a:moveTo>
                <a:cubicBezTo>
                  <a:pt x="612" y="384"/>
                  <a:pt x="1224" y="768"/>
                  <a:pt x="1824" y="768"/>
                </a:cubicBezTo>
                <a:cubicBezTo>
                  <a:pt x="2424" y="768"/>
                  <a:pt x="3012" y="384"/>
                  <a:pt x="360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676520" y="1828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36560" y="3124080"/>
            <a:ext cx="279360" cy="533520"/>
          </a:xfrm>
          <a:custGeom>
            <a:avLst/>
            <a:gdLst/>
            <a:ahLst/>
            <a:rect l="l" t="t" r="r" b="b"/>
            <a:pathLst>
              <a:path w="176" h="336">
                <a:moveTo>
                  <a:pt x="64" y="336"/>
                </a:moveTo>
                <a:cubicBezTo>
                  <a:pt x="32" y="216"/>
                  <a:pt x="0" y="96"/>
                  <a:pt x="16" y="48"/>
                </a:cubicBezTo>
                <a:cubicBezTo>
                  <a:pt x="32" y="0"/>
                  <a:pt x="144" y="0"/>
                  <a:pt x="160" y="48"/>
                </a:cubicBezTo>
                <a:cubicBezTo>
                  <a:pt x="176" y="96"/>
                  <a:pt x="144" y="216"/>
                  <a:pt x="112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981080" y="3124080"/>
            <a:ext cx="279360" cy="533520"/>
          </a:xfrm>
          <a:custGeom>
            <a:avLst/>
            <a:gdLst/>
            <a:ahLst/>
            <a:rect l="l" t="t" r="r" b="b"/>
            <a:pathLst>
              <a:path w="176" h="336">
                <a:moveTo>
                  <a:pt x="64" y="336"/>
                </a:moveTo>
                <a:cubicBezTo>
                  <a:pt x="32" y="216"/>
                  <a:pt x="0" y="96"/>
                  <a:pt x="16" y="48"/>
                </a:cubicBezTo>
                <a:cubicBezTo>
                  <a:pt x="32" y="0"/>
                  <a:pt x="144" y="0"/>
                  <a:pt x="160" y="48"/>
                </a:cubicBezTo>
                <a:cubicBezTo>
                  <a:pt x="176" y="96"/>
                  <a:pt x="144" y="216"/>
                  <a:pt x="112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200400" y="3124080"/>
            <a:ext cx="279360" cy="533520"/>
          </a:xfrm>
          <a:custGeom>
            <a:avLst/>
            <a:gdLst/>
            <a:ahLst/>
            <a:rect l="l" t="t" r="r" b="b"/>
            <a:pathLst>
              <a:path w="176" h="336">
                <a:moveTo>
                  <a:pt x="64" y="336"/>
                </a:moveTo>
                <a:cubicBezTo>
                  <a:pt x="32" y="216"/>
                  <a:pt x="0" y="96"/>
                  <a:pt x="16" y="48"/>
                </a:cubicBezTo>
                <a:cubicBezTo>
                  <a:pt x="32" y="0"/>
                  <a:pt x="144" y="0"/>
                  <a:pt x="160" y="48"/>
                </a:cubicBezTo>
                <a:cubicBezTo>
                  <a:pt x="176" y="96"/>
                  <a:pt x="144" y="216"/>
                  <a:pt x="112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419720" y="3124080"/>
            <a:ext cx="279360" cy="533520"/>
          </a:xfrm>
          <a:custGeom>
            <a:avLst/>
            <a:gdLst/>
            <a:ahLst/>
            <a:rect l="l" t="t" r="r" b="b"/>
            <a:pathLst>
              <a:path w="176" h="336">
                <a:moveTo>
                  <a:pt x="64" y="336"/>
                </a:moveTo>
                <a:cubicBezTo>
                  <a:pt x="32" y="216"/>
                  <a:pt x="0" y="96"/>
                  <a:pt x="16" y="48"/>
                </a:cubicBezTo>
                <a:cubicBezTo>
                  <a:pt x="32" y="0"/>
                  <a:pt x="144" y="0"/>
                  <a:pt x="160" y="48"/>
                </a:cubicBezTo>
                <a:cubicBezTo>
                  <a:pt x="176" y="96"/>
                  <a:pt x="144" y="216"/>
                  <a:pt x="112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638680" y="3124080"/>
            <a:ext cx="279360" cy="533520"/>
          </a:xfrm>
          <a:custGeom>
            <a:avLst/>
            <a:gdLst/>
            <a:ahLst/>
            <a:rect l="l" t="t" r="r" b="b"/>
            <a:pathLst>
              <a:path w="176" h="336">
                <a:moveTo>
                  <a:pt x="64" y="336"/>
                </a:moveTo>
                <a:cubicBezTo>
                  <a:pt x="32" y="216"/>
                  <a:pt x="0" y="96"/>
                  <a:pt x="16" y="48"/>
                </a:cubicBezTo>
                <a:cubicBezTo>
                  <a:pt x="32" y="0"/>
                  <a:pt x="144" y="0"/>
                  <a:pt x="160" y="48"/>
                </a:cubicBezTo>
                <a:cubicBezTo>
                  <a:pt x="176" y="96"/>
                  <a:pt x="144" y="216"/>
                  <a:pt x="112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781680" y="3124080"/>
            <a:ext cx="279360" cy="533520"/>
          </a:xfrm>
          <a:custGeom>
            <a:avLst/>
            <a:gdLst/>
            <a:ahLst/>
            <a:rect l="l" t="t" r="r" b="b"/>
            <a:pathLst>
              <a:path w="176" h="336">
                <a:moveTo>
                  <a:pt x="64" y="336"/>
                </a:moveTo>
                <a:cubicBezTo>
                  <a:pt x="32" y="216"/>
                  <a:pt x="0" y="96"/>
                  <a:pt x="16" y="48"/>
                </a:cubicBezTo>
                <a:cubicBezTo>
                  <a:pt x="32" y="0"/>
                  <a:pt x="144" y="0"/>
                  <a:pt x="160" y="48"/>
                </a:cubicBezTo>
                <a:cubicBezTo>
                  <a:pt x="176" y="96"/>
                  <a:pt x="144" y="216"/>
                  <a:pt x="112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8077320" y="3124080"/>
            <a:ext cx="279360" cy="533520"/>
          </a:xfrm>
          <a:custGeom>
            <a:avLst/>
            <a:gdLst/>
            <a:ahLst/>
            <a:rect l="l" t="t" r="r" b="b"/>
            <a:pathLst>
              <a:path w="176" h="336">
                <a:moveTo>
                  <a:pt x="64" y="336"/>
                </a:moveTo>
                <a:cubicBezTo>
                  <a:pt x="32" y="216"/>
                  <a:pt x="0" y="96"/>
                  <a:pt x="16" y="48"/>
                </a:cubicBezTo>
                <a:cubicBezTo>
                  <a:pt x="32" y="0"/>
                  <a:pt x="144" y="0"/>
                  <a:pt x="160" y="48"/>
                </a:cubicBezTo>
                <a:cubicBezTo>
                  <a:pt x="176" y="96"/>
                  <a:pt x="144" y="216"/>
                  <a:pt x="112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334120" y="17524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114800" y="1752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895480" y="1752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696080" y="1828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553080" y="1828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09480" y="28195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828800" y="2819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048120" y="28195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267080" y="2819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486400" y="2819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629400" y="2819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924680" y="2819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505320" y="38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066680" y="3886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286000" y="3886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162920" y="3886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943600" y="3886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724280" y="3886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505320" y="53341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724280" y="5334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019920" y="53341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2133720" y="12193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Coin Col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886200" y="2971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657600" y="2895480"/>
            <a:ext cx="190512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048120" y="3505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562720" y="3276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88620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lect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248520" y="304812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{0, … 30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33520" y="327672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562720" y="3809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172200" y="358128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2578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257800" y="3657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2133720" y="762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Coin Col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094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8288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143000" y="38862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048120" y="36576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2670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705720" y="36576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9246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8580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048120" y="3733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9051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705720" y="37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486400" y="37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267080" y="3733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924680" y="3733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066680" y="2133720"/>
            <a:ext cx="2057400" cy="160020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384"/>
                </a:moveTo>
                <a:cubicBezTo>
                  <a:pt x="180" y="192"/>
                  <a:pt x="360" y="0"/>
                  <a:pt x="576" y="0"/>
                </a:cubicBezTo>
                <a:cubicBezTo>
                  <a:pt x="792" y="0"/>
                  <a:pt x="1044" y="192"/>
                  <a:pt x="1296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066680" y="4114800"/>
            <a:ext cx="5715000" cy="1219320"/>
          </a:xfrm>
          <a:custGeom>
            <a:avLst/>
            <a:gdLst/>
            <a:ahLst/>
            <a:rect l="l" t="t" r="r" b="b"/>
            <a:pathLst>
              <a:path w="3600" h="768">
                <a:moveTo>
                  <a:pt x="0" y="0"/>
                </a:moveTo>
                <a:cubicBezTo>
                  <a:pt x="612" y="384"/>
                  <a:pt x="1224" y="768"/>
                  <a:pt x="1824" y="768"/>
                </a:cubicBezTo>
                <a:cubicBezTo>
                  <a:pt x="2424" y="768"/>
                  <a:pt x="3012" y="384"/>
                  <a:pt x="360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523880" y="1828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0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36560" y="3124080"/>
            <a:ext cx="279360" cy="533520"/>
          </a:xfrm>
          <a:custGeom>
            <a:avLst/>
            <a:gdLst/>
            <a:ahLst/>
            <a:rect l="l" t="t" r="r" b="b"/>
            <a:pathLst>
              <a:path w="176" h="336">
                <a:moveTo>
                  <a:pt x="64" y="336"/>
                </a:moveTo>
                <a:cubicBezTo>
                  <a:pt x="32" y="216"/>
                  <a:pt x="0" y="96"/>
                  <a:pt x="16" y="48"/>
                </a:cubicBezTo>
                <a:cubicBezTo>
                  <a:pt x="32" y="0"/>
                  <a:pt x="144" y="0"/>
                  <a:pt x="160" y="48"/>
                </a:cubicBezTo>
                <a:cubicBezTo>
                  <a:pt x="176" y="96"/>
                  <a:pt x="144" y="216"/>
                  <a:pt x="112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4920" y="28195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0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066680" y="3505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(0,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352680" y="53341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0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2133720" y="762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Coin Col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094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8288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143000" y="38862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048120" y="36576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2670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705720" y="36576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9246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8580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048120" y="3733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9051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705720" y="37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486400" y="37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267080" y="3733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924680" y="3733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066680" y="2133720"/>
            <a:ext cx="2057400" cy="160020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384"/>
                </a:moveTo>
                <a:cubicBezTo>
                  <a:pt x="180" y="192"/>
                  <a:pt x="360" y="0"/>
                  <a:pt x="576" y="0"/>
                </a:cubicBezTo>
                <a:cubicBezTo>
                  <a:pt x="792" y="0"/>
                  <a:pt x="1044" y="192"/>
                  <a:pt x="1296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066680" y="4114800"/>
            <a:ext cx="5715000" cy="1219320"/>
          </a:xfrm>
          <a:custGeom>
            <a:avLst/>
            <a:gdLst/>
            <a:ahLst/>
            <a:rect l="l" t="t" r="r" b="b"/>
            <a:pathLst>
              <a:path w="3600" h="768">
                <a:moveTo>
                  <a:pt x="0" y="0"/>
                </a:moveTo>
                <a:cubicBezTo>
                  <a:pt x="612" y="384"/>
                  <a:pt x="1224" y="768"/>
                  <a:pt x="1824" y="768"/>
                </a:cubicBezTo>
                <a:cubicBezTo>
                  <a:pt x="2424" y="768"/>
                  <a:pt x="3012" y="384"/>
                  <a:pt x="360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523880" y="1828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0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36560" y="3124080"/>
            <a:ext cx="279360" cy="533520"/>
          </a:xfrm>
          <a:custGeom>
            <a:avLst/>
            <a:gdLst/>
            <a:ahLst/>
            <a:rect l="l" t="t" r="r" b="b"/>
            <a:pathLst>
              <a:path w="176" h="336">
                <a:moveTo>
                  <a:pt x="64" y="336"/>
                </a:moveTo>
                <a:cubicBezTo>
                  <a:pt x="32" y="216"/>
                  <a:pt x="0" y="96"/>
                  <a:pt x="16" y="48"/>
                </a:cubicBezTo>
                <a:cubicBezTo>
                  <a:pt x="32" y="0"/>
                  <a:pt x="144" y="0"/>
                  <a:pt x="160" y="48"/>
                </a:cubicBezTo>
                <a:cubicBezTo>
                  <a:pt x="176" y="96"/>
                  <a:pt x="144" y="216"/>
                  <a:pt x="112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04920" y="28195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0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066680" y="3505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(0,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352680" y="53341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0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858000" y="3124080"/>
            <a:ext cx="279360" cy="533520"/>
          </a:xfrm>
          <a:custGeom>
            <a:avLst/>
            <a:gdLst/>
            <a:ahLst/>
            <a:rect l="l" t="t" r="r" b="b"/>
            <a:pathLst>
              <a:path w="176" h="336">
                <a:moveTo>
                  <a:pt x="64" y="336"/>
                </a:moveTo>
                <a:cubicBezTo>
                  <a:pt x="32" y="216"/>
                  <a:pt x="0" y="96"/>
                  <a:pt x="16" y="48"/>
                </a:cubicBezTo>
                <a:cubicBezTo>
                  <a:pt x="32" y="0"/>
                  <a:pt x="144" y="0"/>
                  <a:pt x="160" y="48"/>
                </a:cubicBezTo>
                <a:cubicBezTo>
                  <a:pt x="176" y="96"/>
                  <a:pt x="144" y="216"/>
                  <a:pt x="112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477120" y="25146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25,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238880" y="38862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477120" y="28195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25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086600" y="3505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(25,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477120" y="2209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25,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2133720" y="12193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in Collector with Re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886200" y="2971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657600" y="2895480"/>
            <a:ext cx="190512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048120" y="3276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562720" y="3276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80988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lect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248520" y="304812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{0, … 30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33520" y="297180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562720" y="3809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172200" y="358128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2578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257800" y="3657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048120" y="3809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33520" y="358128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6576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657600" y="3657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819520" y="3886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905120" y="152388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457200"/>
            <a:ext cx="7086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Parity System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]                 =  { true, false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itial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 ]        = 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ext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 ] (q,x)  =  (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 ] (q,x)        = 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3657600"/>
            <a:ext cx="807732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LastThree System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LastThree]                 =  { 0, 1, 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itial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LastThree ]        =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ext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LastThree ] (q,x) 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LastThree ] (q,x)        =  ( ( q = 2 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53080" y="518148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                 if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in (q+1, 2)   if 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48520" y="5257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2133720" y="762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in Collector with Re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094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8288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800600" y="38862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048120" y="36576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2670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705720" y="36576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9246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8580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048120" y="3733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9051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705720" y="37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486400" y="37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267080" y="3733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924680" y="3733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724280" y="2133720"/>
            <a:ext cx="2057400" cy="160020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384"/>
                </a:moveTo>
                <a:cubicBezTo>
                  <a:pt x="180" y="192"/>
                  <a:pt x="360" y="0"/>
                  <a:pt x="576" y="0"/>
                </a:cubicBezTo>
                <a:cubicBezTo>
                  <a:pt x="792" y="0"/>
                  <a:pt x="1044" y="192"/>
                  <a:pt x="1296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029200" y="1752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D,f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15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419720" y="3124080"/>
            <a:ext cx="279360" cy="533520"/>
          </a:xfrm>
          <a:custGeom>
            <a:avLst/>
            <a:gdLst/>
            <a:ahLst/>
            <a:rect l="l" t="t" r="r" b="b"/>
            <a:pathLst>
              <a:path w="176" h="336">
                <a:moveTo>
                  <a:pt x="64" y="336"/>
                </a:moveTo>
                <a:cubicBezTo>
                  <a:pt x="32" y="216"/>
                  <a:pt x="0" y="96"/>
                  <a:pt x="16" y="48"/>
                </a:cubicBezTo>
                <a:cubicBezTo>
                  <a:pt x="32" y="0"/>
                  <a:pt x="144" y="0"/>
                  <a:pt x="160" y="48"/>
                </a:cubicBezTo>
                <a:cubicBezTo>
                  <a:pt x="176" y="96"/>
                  <a:pt x="144" y="216"/>
                  <a:pt x="112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581280" y="28195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f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15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724280" y="39625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N,f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15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133720" y="52578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t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15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066680" y="4114800"/>
            <a:ext cx="3353040" cy="1155600"/>
          </a:xfrm>
          <a:custGeom>
            <a:avLst/>
            <a:gdLst/>
            <a:ahLst/>
            <a:rect l="l" t="t" r="r" b="b"/>
            <a:pathLst>
              <a:path w="2112" h="728">
                <a:moveTo>
                  <a:pt x="2112" y="48"/>
                </a:moveTo>
                <a:cubicBezTo>
                  <a:pt x="1760" y="388"/>
                  <a:pt x="1408" y="728"/>
                  <a:pt x="1056" y="720"/>
                </a:cubicBezTo>
                <a:cubicBezTo>
                  <a:pt x="704" y="712"/>
                  <a:pt x="352" y="356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581280" y="25146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Q,f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15,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2133720" y="762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in Collector with Re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094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8288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800600" y="38862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048120" y="36576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670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705720" y="36576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9246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8580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048120" y="3733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9051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705720" y="37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486400" y="37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267080" y="3733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924680" y="3733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724280" y="2133720"/>
            <a:ext cx="2057400" cy="160020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384"/>
                </a:moveTo>
                <a:cubicBezTo>
                  <a:pt x="180" y="192"/>
                  <a:pt x="360" y="0"/>
                  <a:pt x="576" y="0"/>
                </a:cubicBezTo>
                <a:cubicBezTo>
                  <a:pt x="792" y="0"/>
                  <a:pt x="1044" y="192"/>
                  <a:pt x="1296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029200" y="1752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D,f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15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419720" y="3124080"/>
            <a:ext cx="279360" cy="533520"/>
          </a:xfrm>
          <a:custGeom>
            <a:avLst/>
            <a:gdLst/>
            <a:ahLst/>
            <a:rect l="l" t="t" r="r" b="b"/>
            <a:pathLst>
              <a:path w="176" h="336">
                <a:moveTo>
                  <a:pt x="64" y="336"/>
                </a:moveTo>
                <a:cubicBezTo>
                  <a:pt x="32" y="216"/>
                  <a:pt x="0" y="96"/>
                  <a:pt x="16" y="48"/>
                </a:cubicBezTo>
                <a:cubicBezTo>
                  <a:pt x="32" y="0"/>
                  <a:pt x="144" y="0"/>
                  <a:pt x="160" y="48"/>
                </a:cubicBezTo>
                <a:cubicBezTo>
                  <a:pt x="176" y="96"/>
                  <a:pt x="144" y="216"/>
                  <a:pt x="112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581280" y="28195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f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15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724280" y="39625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N,f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15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133720" y="52578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t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15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066680" y="4114800"/>
            <a:ext cx="3353040" cy="1155600"/>
          </a:xfrm>
          <a:custGeom>
            <a:avLst/>
            <a:gdLst/>
            <a:ahLst/>
            <a:rect l="l" t="t" r="r" b="b"/>
            <a:pathLst>
              <a:path w="2112" h="728">
                <a:moveTo>
                  <a:pt x="2112" y="48"/>
                </a:moveTo>
                <a:cubicBezTo>
                  <a:pt x="1760" y="388"/>
                  <a:pt x="1408" y="728"/>
                  <a:pt x="1056" y="720"/>
                </a:cubicBezTo>
                <a:cubicBezTo>
                  <a:pt x="704" y="712"/>
                  <a:pt x="352" y="356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581280" y="25146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Q,f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15,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3580920" y="38862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286000" y="3200400"/>
            <a:ext cx="2057400" cy="533520"/>
          </a:xfrm>
          <a:custGeom>
            <a:avLst/>
            <a:gdLst/>
            <a:ahLst/>
            <a:rect l="l" t="t" r="r" b="b"/>
            <a:pathLst>
              <a:path w="1296" h="336">
                <a:moveTo>
                  <a:pt x="1296" y="336"/>
                </a:moveTo>
                <a:cubicBezTo>
                  <a:pt x="1044" y="168"/>
                  <a:pt x="792" y="0"/>
                  <a:pt x="576" y="0"/>
                </a:cubicBezTo>
                <a:cubicBezTo>
                  <a:pt x="360" y="0"/>
                  <a:pt x="180" y="168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029200" y="1447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Q,t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15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828800" y="2895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N,t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15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505320" y="38862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D,t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15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2133720" y="12193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in Collector with Re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886200" y="2971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657600" y="2895480"/>
            <a:ext cx="190512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048120" y="3276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562720" y="3276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809880" y="2895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llect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248520" y="304812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{0, … 30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33520" y="297180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562720" y="3809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172200" y="358128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257800" y="2895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25780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048120" y="3809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33520" y="358128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657600" y="2895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65760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657600" y="3276720"/>
            <a:ext cx="1905120" cy="53316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657600" y="38098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/>
          <p:nvPr/>
        </p:nvSpPr>
        <p:spPr>
          <a:xfrm>
            <a:off x="2133720" y="12193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da Dispen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886200" y="2971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657600" y="2895480"/>
            <a:ext cx="190512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048120" y="3276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562720" y="3276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80988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248520" y="304812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Dispens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04920" y="2971800"/>
            <a:ext cx="259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elect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562720" y="3809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172200" y="358128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2578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257800" y="3657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048120" y="3809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-76320" y="35812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{ 0, … 30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6576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657600" y="3657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523880" y="5105520"/>
            <a:ext cx="6934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Select = { selectCoke, selectDiet }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Dispense = { dispenseCoke, dispenseDiet }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819520" y="3886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fu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562720" y="3886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/>
          <p:nvPr/>
        </p:nvSpPr>
        <p:spPr>
          <a:xfrm>
            <a:off x="2057400" y="6858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da Dispen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438280" y="32004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334120" y="45720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34120" y="22096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514600" y="342900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41008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4100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2057400" y="762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da Dispen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438280" y="32004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334120" y="42670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334120" y="22096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514600" y="342900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41008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4100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276720" y="2629080"/>
            <a:ext cx="2057400" cy="723600"/>
          </a:xfrm>
          <a:custGeom>
            <a:avLst/>
            <a:gdLst/>
            <a:ahLst/>
            <a:rect l="l" t="t" r="r" b="b"/>
            <a:pathLst>
              <a:path w="1296" h="456">
                <a:moveTo>
                  <a:pt x="0" y="456"/>
                </a:moveTo>
                <a:cubicBezTo>
                  <a:pt x="132" y="300"/>
                  <a:pt x="264" y="144"/>
                  <a:pt x="480" y="72"/>
                </a:cubicBezTo>
                <a:cubicBezTo>
                  <a:pt x="696" y="0"/>
                  <a:pt x="996" y="12"/>
                  <a:pt x="12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3276720" y="3961800"/>
            <a:ext cx="2057400" cy="723960"/>
          </a:xfrm>
          <a:custGeom>
            <a:avLst/>
            <a:gdLst/>
            <a:ahLst/>
            <a:rect l="l" t="t" r="r" b="b"/>
            <a:pathLst>
              <a:path w="1296" h="456">
                <a:moveTo>
                  <a:pt x="0" y="456"/>
                </a:moveTo>
                <a:cubicBezTo>
                  <a:pt x="132" y="300"/>
                  <a:pt x="264" y="144"/>
                  <a:pt x="480" y="72"/>
                </a:cubicBezTo>
                <a:cubicBezTo>
                  <a:pt x="696" y="0"/>
                  <a:pt x="996" y="12"/>
                  <a:pt x="12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536840" y="2882880"/>
            <a:ext cx="977760" cy="1612800"/>
          </a:xfrm>
          <a:custGeom>
            <a:avLst/>
            <a:gdLst/>
            <a:ahLst/>
            <a:rect l="l" t="t" r="r" b="b"/>
            <a:pathLst>
              <a:path w="616" h="1016">
                <a:moveTo>
                  <a:pt x="616" y="296"/>
                </a:moveTo>
                <a:cubicBezTo>
                  <a:pt x="396" y="148"/>
                  <a:pt x="176" y="0"/>
                  <a:pt x="88" y="104"/>
                </a:cubicBezTo>
                <a:cubicBezTo>
                  <a:pt x="0" y="208"/>
                  <a:pt x="0" y="824"/>
                  <a:pt x="88" y="920"/>
                </a:cubicBezTo>
                <a:cubicBezTo>
                  <a:pt x="176" y="1016"/>
                  <a:pt x="396" y="848"/>
                  <a:pt x="616" y="6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895480" y="2286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{(C,x)|x&lt;25}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,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80880" y="2666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{(D,x)|x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20}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D,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80880" y="2362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{(C,x)|x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25}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C,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895480" y="4648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{(D,x)|x&lt;20}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,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80880" y="4419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{(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x)|x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}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,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/>
          <p:nvPr/>
        </p:nvSpPr>
        <p:spPr>
          <a:xfrm>
            <a:off x="1981080" y="6094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da Dispen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438280" y="32004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334120" y="48006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334120" y="22096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514600" y="342900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410080" y="5029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4100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71800" y="1981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{(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x)|x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25}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C,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172200" y="1790640"/>
            <a:ext cx="939960" cy="939960"/>
          </a:xfrm>
          <a:custGeom>
            <a:avLst/>
            <a:gdLst/>
            <a:ahLst/>
            <a:rect l="l" t="t" r="r" b="b"/>
            <a:pathLst>
              <a:path w="592" h="592">
                <a:moveTo>
                  <a:pt x="0" y="360"/>
                </a:moveTo>
                <a:cubicBezTo>
                  <a:pt x="196" y="180"/>
                  <a:pt x="392" y="0"/>
                  <a:pt x="480" y="24"/>
                </a:cubicBezTo>
                <a:cubicBezTo>
                  <a:pt x="568" y="48"/>
                  <a:pt x="592" y="416"/>
                  <a:pt x="528" y="504"/>
                </a:cubicBezTo>
                <a:cubicBezTo>
                  <a:pt x="464" y="592"/>
                  <a:pt x="176" y="544"/>
                  <a:pt x="96" y="552"/>
                </a:cubicBezTo>
                <a:cubicBezTo>
                  <a:pt x="16" y="560"/>
                  <a:pt x="32" y="556"/>
                  <a:pt x="48" y="55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352680" y="2895480"/>
            <a:ext cx="1981440" cy="609840"/>
          </a:xfrm>
          <a:custGeom>
            <a:avLst/>
            <a:gdLst/>
            <a:ahLst/>
            <a:rect l="l" t="t" r="r" b="b"/>
            <a:pathLst>
              <a:path w="1248" h="384">
                <a:moveTo>
                  <a:pt x="1248" y="0"/>
                </a:moveTo>
                <a:cubicBezTo>
                  <a:pt x="728" y="160"/>
                  <a:pt x="208" y="320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019920" y="3048120"/>
            <a:ext cx="304560" cy="1752480"/>
          </a:xfrm>
          <a:custGeom>
            <a:avLst/>
            <a:gdLst/>
            <a:ahLst/>
            <a:rect l="l" t="t" r="r" b="b"/>
            <a:pathLst>
              <a:path w="144" h="816">
                <a:moveTo>
                  <a:pt x="0" y="0"/>
                </a:moveTo>
                <a:cubicBezTo>
                  <a:pt x="72" y="124"/>
                  <a:pt x="144" y="248"/>
                  <a:pt x="144" y="384"/>
                </a:cubicBezTo>
                <a:cubicBezTo>
                  <a:pt x="144" y="520"/>
                  <a:pt x="72" y="668"/>
                  <a:pt x="0" y="81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47712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{(C,x)|x&lt;25}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,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477120" y="1143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{(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x)|x&lt;25}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,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971800" y="2286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{(C,x)|x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25}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C,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971800" y="2590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{(D,x)|x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20}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D,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324480" y="3733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{(D,x)|x&lt;20}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,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2133720" y="12193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da Dispenser with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886200" y="2971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657600" y="2895480"/>
            <a:ext cx="190512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048120" y="3276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562720" y="3124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80988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248520" y="289548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Dispens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04920" y="2971800"/>
            <a:ext cx="259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elect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562720" y="3505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172200" y="327672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25780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257800" y="3352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048120" y="3809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-76320" y="35812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{ 0, … 30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6576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657600" y="3657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819520" y="3886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fu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562720" y="3505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257800" y="3733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562720" y="3886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324480" y="3733920"/>
            <a:ext cx="289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562720" y="3886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2057400" y="762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da Dispenser with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438280" y="32004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334120" y="42670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334120" y="22096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514600" y="342900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41008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4100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276720" y="2629080"/>
            <a:ext cx="2057400" cy="723600"/>
          </a:xfrm>
          <a:custGeom>
            <a:avLst/>
            <a:gdLst/>
            <a:ahLst/>
            <a:rect l="l" t="t" r="r" b="b"/>
            <a:pathLst>
              <a:path w="1296" h="456">
                <a:moveTo>
                  <a:pt x="0" y="456"/>
                </a:moveTo>
                <a:cubicBezTo>
                  <a:pt x="132" y="300"/>
                  <a:pt x="264" y="144"/>
                  <a:pt x="480" y="72"/>
                </a:cubicBezTo>
                <a:cubicBezTo>
                  <a:pt x="696" y="0"/>
                  <a:pt x="996" y="12"/>
                  <a:pt x="12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3276720" y="3961800"/>
            <a:ext cx="2057400" cy="723960"/>
          </a:xfrm>
          <a:custGeom>
            <a:avLst/>
            <a:gdLst/>
            <a:ahLst/>
            <a:rect l="l" t="t" r="r" b="b"/>
            <a:pathLst>
              <a:path w="1296" h="456">
                <a:moveTo>
                  <a:pt x="0" y="456"/>
                </a:moveTo>
                <a:cubicBezTo>
                  <a:pt x="132" y="300"/>
                  <a:pt x="264" y="144"/>
                  <a:pt x="480" y="72"/>
                </a:cubicBezTo>
                <a:cubicBezTo>
                  <a:pt x="696" y="0"/>
                  <a:pt x="996" y="12"/>
                  <a:pt x="12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536840" y="2882880"/>
            <a:ext cx="977760" cy="1612800"/>
          </a:xfrm>
          <a:custGeom>
            <a:avLst/>
            <a:gdLst/>
            <a:ahLst/>
            <a:rect l="l" t="t" r="r" b="b"/>
            <a:pathLst>
              <a:path w="616" h="1016">
                <a:moveTo>
                  <a:pt x="616" y="296"/>
                </a:moveTo>
                <a:cubicBezTo>
                  <a:pt x="396" y="148"/>
                  <a:pt x="176" y="0"/>
                  <a:pt x="88" y="104"/>
                </a:cubicBezTo>
                <a:cubicBezTo>
                  <a:pt x="0" y="208"/>
                  <a:pt x="0" y="824"/>
                  <a:pt x="88" y="920"/>
                </a:cubicBezTo>
                <a:cubicBezTo>
                  <a:pt x="176" y="1016"/>
                  <a:pt x="396" y="848"/>
                  <a:pt x="616" y="6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819520" y="22860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{(C,x)|x&lt;25}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,f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80880" y="1523880"/>
            <a:ext cx="1905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C,25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C,t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C,30)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(C,t,N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D,20)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(D,t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D,25)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(D,t,N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D,30)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(D,t,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819520" y="46483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{(C,x)|x&lt;20}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,f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80880" y="44197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{(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x)|x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}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,f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2133720" y="12193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da Dispenser with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886200" y="2971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657600" y="2895480"/>
            <a:ext cx="190512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048120" y="3276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562720" y="3124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657600" y="2895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248520" y="289548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Dispens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04920" y="2971800"/>
            <a:ext cx="259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elect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562720" y="3505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172200" y="327672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257800" y="3124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257800" y="3505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048120" y="3809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-76320" y="35812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{ 0, … 30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657600" y="2895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65760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257800" y="38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562720" y="3886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324480" y="3733920"/>
            <a:ext cx="289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V="1">
            <a:off x="3657600" y="3124080"/>
            <a:ext cx="1905120" cy="15264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733920" y="3276720"/>
            <a:ext cx="1828800" cy="2286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733920" y="3276720"/>
            <a:ext cx="1828800" cy="60948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657600" y="3809880"/>
            <a:ext cx="1905120" cy="7632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3657600" y="3505320"/>
            <a:ext cx="1905120" cy="30456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3657600" y="3123720"/>
            <a:ext cx="1905120" cy="6858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666880" y="1371600"/>
            <a:ext cx="3886200" cy="434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313524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313524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320" y="266688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81680" y="259092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1763640"/>
            <a:ext cx="144792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4735440"/>
            <a:ext cx="144792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31352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124080" y="21445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21448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429000" y="50403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429000" y="252540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25257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4120" y="22971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9920" y="229716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313524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3745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15000" y="374508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4120" y="504036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91120" y="481176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5040360"/>
            <a:ext cx="15238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5040360"/>
            <a:ext cx="15238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3211560"/>
            <a:ext cx="144792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35924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313524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359244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05320" y="35924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29000" y="3973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57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 of Parit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3429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next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1905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1371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60958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 path without delay from input to output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2514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648320" y="22856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2286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3429000"/>
            <a:ext cx="457200" cy="6858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6200" y="35812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86200" y="39625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3733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"/>
          <p:cNvSpPr/>
          <p:nvPr/>
        </p:nvSpPr>
        <p:spPr>
          <a:xfrm>
            <a:off x="2819520" y="6858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nding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962520" y="21337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733920" y="2057400"/>
            <a:ext cx="190476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057400" y="24382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638680" y="22860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733920" y="2057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248520" y="175248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Dispens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0" y="19051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elect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638680" y="3048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105520" y="3276720"/>
            <a:ext cx="13716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334120" y="2286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334120" y="2666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352680" y="29718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352680" y="3276720"/>
            <a:ext cx="11430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  { 0, … 30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733920" y="2057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7339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34120" y="3048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5638680" y="2666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248520" y="27432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3733920" y="2285640"/>
            <a:ext cx="1904760" cy="15228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809880" y="2438280"/>
            <a:ext cx="1828800" cy="2286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809880" y="2438280"/>
            <a:ext cx="1828800" cy="60984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33920" y="2971800"/>
            <a:ext cx="1904760" cy="7632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3733920" y="2666520"/>
            <a:ext cx="1904760" cy="30492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3733920" y="2285640"/>
            <a:ext cx="1904760" cy="6858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962520" y="3886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733920" y="3809880"/>
            <a:ext cx="190476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352680" y="4191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638680" y="4191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886200" y="3809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llect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28600" y="480060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638680" y="47242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248520" y="472428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334120" y="3809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34120" y="4724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057400" y="47242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733920" y="3809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733920" y="4724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638680" y="41911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3733560" y="4191120"/>
            <a:ext cx="1904760" cy="53316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733920" y="472428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V="1">
            <a:off x="3352680" y="297144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01992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019920" y="30481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124080" y="1600200"/>
            <a:ext cx="31244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048120" y="41911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fu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"/>
          <p:cNvSpPr/>
          <p:nvPr/>
        </p:nvSpPr>
        <p:spPr>
          <a:xfrm>
            <a:off x="2209680" y="1828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Space of Vending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219320" y="3352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 0, 5, 10, 15, 20, 25, 30 }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{ none, Coke, Diet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124080" y="4800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21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66880" y="1371600"/>
            <a:ext cx="3886200" cy="434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28800" y="313524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313524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266688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81680" y="259092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6200" y="1763640"/>
            <a:ext cx="144792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4735440"/>
            <a:ext cx="144792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31352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124080" y="21445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21448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429000" y="50403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429000" y="252540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25257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22971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19920" y="229716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19920" y="313524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3745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374508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334120" y="504036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481176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5040360"/>
            <a:ext cx="15238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5040360"/>
            <a:ext cx="15238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3211560"/>
            <a:ext cx="144792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2520" y="35924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313524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359244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35924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3973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457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 of LastThre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3429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next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1905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66880" y="1371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60958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ath without delay from input to outpu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19720" y="1981080"/>
            <a:ext cx="457200" cy="6858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86200" y="21337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25146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76920" y="2286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3429000"/>
            <a:ext cx="457200" cy="6858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86200" y="35812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39625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3733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20040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0040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38280" y="25909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382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52680" y="18288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52680" y="3809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236232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15000" y="25909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1500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00400" y="4648320"/>
            <a:ext cx="2514600" cy="0"/>
          </a:xfrm>
          <a:prstGeom prst="line">
            <a:avLst/>
          </a:prstGeom>
          <a:ln w="19080">
            <a:solidFill>
              <a:srgbClr val="ff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280" y="441972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236232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441972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05320" y="46483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ependency without d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81952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1952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71600" y="609480"/>
            <a:ext cx="624852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3124080"/>
            <a:ext cx="83808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3581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057400" y="25905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7400" y="25909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7400" y="35812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5740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4120" y="4648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2590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638680" y="3733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638680" y="37339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1028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7180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3809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0080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arityOrLast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9608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4648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05:45:59Z</dcterms:created>
  <dc:creator>Valued Sony Customer</dc:creator>
  <dc:description/>
  <dc:language>en-US</dc:language>
  <cp:lastModifiedBy>Tom Henzinger</cp:lastModifiedBy>
  <dcterms:modified xsi:type="dcterms:W3CDTF">2001-02-10T01:14:50Z</dcterms:modified>
  <cp:revision>30</cp:revision>
  <dc:subject/>
  <dc:title>PowerPoint Presentation</dc:title>
</cp:coreProperties>
</file>