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945-3126-4929-93E6-A173EE54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AC2-AE87-4F67-9C92-C95AD2C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760-F717-4F35-8D68-5FC03F62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FED-B3CB-4CBB-B054-7314D98F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30B-A81E-4069-860C-25478026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FA1-8CA2-45D3-A363-32288953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361-EC54-4A4F-8952-84097A9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A0C-C6B3-4D92-A3EC-23B0D55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30E-C595-4547-AB88-7A5A2CD0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B07-0886-4931-9A16-BEC9C3B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03E-0F30-4BC8-BAB4-C77A864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831-A377-40C1-BC11-EBFB9D6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312B-37D1-4A40-A592-001FED30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1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Exam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777240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Convert between three (possibly nondeterministic) system re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put-output defini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erministic cas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fine S: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 such that for all 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and all y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(S(x))(y) = 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deterministic cas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fine 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 such that for all 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and all y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,   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  iff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ition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Equivalence, bisimulation, minimization of deterministic stat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514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inement, simulation, and minimization o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057400"/>
            <a:ext cx="746748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state machines M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ondeterministic state machine M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M1 by M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dition on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143000"/>
            <a:ext cx="0" cy="1447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715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lation betwee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800240" y="4419720"/>
            <a:ext cx="685800" cy="1295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057400"/>
            <a:ext cx="746748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state machines M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ondeterministic state machine M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M1 by M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505320"/>
            <a:ext cx="838440" cy="5331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“if-and-only-if”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3962160"/>
            <a:ext cx="1371600" cy="1447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962520"/>
            <a:ext cx="2210040" cy="7617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symmetric 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553080" y="4724280"/>
            <a:ext cx="7632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5867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e say that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2 simulates M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62320" y="21337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following,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[M1] = Inputs [M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[M1] = Outputs [M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304920"/>
            <a:ext cx="868680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1 by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914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refines Lossy Channel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158" name="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600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 Syst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is simulated by Lossy Channel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179" name="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1887480"/>
            <a:ext cx="3776760" cy="4551480"/>
          </a:xfrm>
          <a:custGeom>
            <a:avLst/>
            <a:gdLst/>
            <a:ahLst/>
            <a:rect l="l" t="t" r="r" b="b"/>
            <a:pathLst>
              <a:path w="2379" h="2867">
                <a:moveTo>
                  <a:pt x="1055" y="113"/>
                </a:moveTo>
                <a:cubicBezTo>
                  <a:pt x="1018" y="148"/>
                  <a:pt x="1002" y="168"/>
                  <a:pt x="957" y="202"/>
                </a:cubicBezTo>
                <a:cubicBezTo>
                  <a:pt x="947" y="209"/>
                  <a:pt x="944" y="224"/>
                  <a:pt x="935" y="232"/>
                </a:cubicBezTo>
                <a:cubicBezTo>
                  <a:pt x="924" y="242"/>
                  <a:pt x="909" y="246"/>
                  <a:pt x="898" y="255"/>
                </a:cubicBezTo>
                <a:cubicBezTo>
                  <a:pt x="882" y="269"/>
                  <a:pt x="868" y="285"/>
                  <a:pt x="853" y="300"/>
                </a:cubicBezTo>
                <a:cubicBezTo>
                  <a:pt x="816" y="337"/>
                  <a:pt x="785" y="382"/>
                  <a:pt x="748" y="419"/>
                </a:cubicBezTo>
                <a:cubicBezTo>
                  <a:pt x="692" y="475"/>
                  <a:pt x="774" y="428"/>
                  <a:pt x="673" y="502"/>
                </a:cubicBezTo>
                <a:cubicBezTo>
                  <a:pt x="663" y="509"/>
                  <a:pt x="651" y="515"/>
                  <a:pt x="643" y="524"/>
                </a:cubicBezTo>
                <a:cubicBezTo>
                  <a:pt x="631" y="537"/>
                  <a:pt x="613" y="569"/>
                  <a:pt x="613" y="569"/>
                </a:cubicBezTo>
                <a:cubicBezTo>
                  <a:pt x="598" y="615"/>
                  <a:pt x="611" y="585"/>
                  <a:pt x="561" y="651"/>
                </a:cubicBezTo>
                <a:cubicBezTo>
                  <a:pt x="553" y="662"/>
                  <a:pt x="552" y="677"/>
                  <a:pt x="546" y="689"/>
                </a:cubicBezTo>
                <a:cubicBezTo>
                  <a:pt x="529" y="723"/>
                  <a:pt x="511" y="759"/>
                  <a:pt x="494" y="793"/>
                </a:cubicBezTo>
                <a:cubicBezTo>
                  <a:pt x="441" y="900"/>
                  <a:pt x="499" y="779"/>
                  <a:pt x="449" y="853"/>
                </a:cubicBezTo>
                <a:cubicBezTo>
                  <a:pt x="372" y="968"/>
                  <a:pt x="329" y="1105"/>
                  <a:pt x="254" y="1220"/>
                </a:cubicBezTo>
                <a:cubicBezTo>
                  <a:pt x="241" y="1277"/>
                  <a:pt x="206" y="1318"/>
                  <a:pt x="180" y="1369"/>
                </a:cubicBezTo>
                <a:cubicBezTo>
                  <a:pt x="170" y="1388"/>
                  <a:pt x="167" y="1410"/>
                  <a:pt x="157" y="1429"/>
                </a:cubicBezTo>
                <a:cubicBezTo>
                  <a:pt x="149" y="1445"/>
                  <a:pt x="135" y="1458"/>
                  <a:pt x="127" y="1474"/>
                </a:cubicBezTo>
                <a:cubicBezTo>
                  <a:pt x="122" y="1484"/>
                  <a:pt x="117" y="1494"/>
                  <a:pt x="112" y="1504"/>
                </a:cubicBezTo>
                <a:cubicBezTo>
                  <a:pt x="103" y="1543"/>
                  <a:pt x="78" y="1571"/>
                  <a:pt x="67" y="1609"/>
                </a:cubicBezTo>
                <a:cubicBezTo>
                  <a:pt x="55" y="1650"/>
                  <a:pt x="54" y="1693"/>
                  <a:pt x="30" y="1728"/>
                </a:cubicBezTo>
                <a:cubicBezTo>
                  <a:pt x="16" y="1780"/>
                  <a:pt x="7" y="1832"/>
                  <a:pt x="0" y="1885"/>
                </a:cubicBezTo>
                <a:cubicBezTo>
                  <a:pt x="2" y="1960"/>
                  <a:pt x="2" y="2035"/>
                  <a:pt x="7" y="2110"/>
                </a:cubicBezTo>
                <a:cubicBezTo>
                  <a:pt x="11" y="2174"/>
                  <a:pt x="63" y="2285"/>
                  <a:pt x="97" y="2342"/>
                </a:cubicBezTo>
                <a:cubicBezTo>
                  <a:pt x="111" y="2365"/>
                  <a:pt x="119" y="2394"/>
                  <a:pt x="142" y="2409"/>
                </a:cubicBezTo>
                <a:cubicBezTo>
                  <a:pt x="174" y="2430"/>
                  <a:pt x="159" y="2417"/>
                  <a:pt x="187" y="2447"/>
                </a:cubicBezTo>
                <a:cubicBezTo>
                  <a:pt x="201" y="2491"/>
                  <a:pt x="182" y="2449"/>
                  <a:pt x="224" y="2484"/>
                </a:cubicBezTo>
                <a:cubicBezTo>
                  <a:pt x="256" y="2510"/>
                  <a:pt x="272" y="2542"/>
                  <a:pt x="307" y="2559"/>
                </a:cubicBezTo>
                <a:cubicBezTo>
                  <a:pt x="324" y="2567"/>
                  <a:pt x="343" y="2572"/>
                  <a:pt x="359" y="2581"/>
                </a:cubicBezTo>
                <a:cubicBezTo>
                  <a:pt x="437" y="2624"/>
                  <a:pt x="496" y="2680"/>
                  <a:pt x="583" y="2708"/>
                </a:cubicBezTo>
                <a:cubicBezTo>
                  <a:pt x="667" y="2773"/>
                  <a:pt x="810" y="2787"/>
                  <a:pt x="913" y="2798"/>
                </a:cubicBezTo>
                <a:cubicBezTo>
                  <a:pt x="920" y="2801"/>
                  <a:pt x="927" y="2805"/>
                  <a:pt x="935" y="2806"/>
                </a:cubicBezTo>
                <a:cubicBezTo>
                  <a:pt x="955" y="2810"/>
                  <a:pt x="976" y="2808"/>
                  <a:pt x="995" y="2813"/>
                </a:cubicBezTo>
                <a:cubicBezTo>
                  <a:pt x="1004" y="2815"/>
                  <a:pt x="1009" y="2824"/>
                  <a:pt x="1017" y="2828"/>
                </a:cubicBezTo>
                <a:cubicBezTo>
                  <a:pt x="1056" y="2845"/>
                  <a:pt x="1112" y="2846"/>
                  <a:pt x="1152" y="2850"/>
                </a:cubicBezTo>
                <a:cubicBezTo>
                  <a:pt x="1229" y="2867"/>
                  <a:pt x="1308" y="2861"/>
                  <a:pt x="1384" y="2843"/>
                </a:cubicBezTo>
                <a:cubicBezTo>
                  <a:pt x="1453" y="2808"/>
                  <a:pt x="1422" y="2818"/>
                  <a:pt x="1474" y="2806"/>
                </a:cubicBezTo>
                <a:cubicBezTo>
                  <a:pt x="1524" y="2781"/>
                  <a:pt x="1560" y="2744"/>
                  <a:pt x="1616" y="2731"/>
                </a:cubicBezTo>
                <a:cubicBezTo>
                  <a:pt x="1674" y="2686"/>
                  <a:pt x="1749" y="2667"/>
                  <a:pt x="1810" y="2626"/>
                </a:cubicBezTo>
                <a:cubicBezTo>
                  <a:pt x="1856" y="2595"/>
                  <a:pt x="1897" y="2551"/>
                  <a:pt x="1952" y="2536"/>
                </a:cubicBezTo>
                <a:cubicBezTo>
                  <a:pt x="1988" y="2489"/>
                  <a:pt x="2045" y="2474"/>
                  <a:pt x="2087" y="2432"/>
                </a:cubicBezTo>
                <a:cubicBezTo>
                  <a:pt x="2102" y="2417"/>
                  <a:pt x="2114" y="2399"/>
                  <a:pt x="2132" y="2387"/>
                </a:cubicBezTo>
                <a:cubicBezTo>
                  <a:pt x="2147" y="2377"/>
                  <a:pt x="2177" y="2357"/>
                  <a:pt x="2177" y="2357"/>
                </a:cubicBezTo>
                <a:cubicBezTo>
                  <a:pt x="2201" y="2320"/>
                  <a:pt x="2238" y="2293"/>
                  <a:pt x="2267" y="2260"/>
                </a:cubicBezTo>
                <a:cubicBezTo>
                  <a:pt x="2291" y="2233"/>
                  <a:pt x="2301" y="2203"/>
                  <a:pt x="2326" y="2177"/>
                </a:cubicBezTo>
                <a:cubicBezTo>
                  <a:pt x="2347" y="2118"/>
                  <a:pt x="2366" y="2067"/>
                  <a:pt x="2379" y="2005"/>
                </a:cubicBezTo>
                <a:cubicBezTo>
                  <a:pt x="2373" y="1796"/>
                  <a:pt x="2377" y="1665"/>
                  <a:pt x="2289" y="1489"/>
                </a:cubicBezTo>
                <a:cubicBezTo>
                  <a:pt x="2278" y="1433"/>
                  <a:pt x="2270" y="1375"/>
                  <a:pt x="2244" y="1324"/>
                </a:cubicBezTo>
                <a:cubicBezTo>
                  <a:pt x="2227" y="1233"/>
                  <a:pt x="2186" y="1143"/>
                  <a:pt x="2154" y="1055"/>
                </a:cubicBezTo>
                <a:cubicBezTo>
                  <a:pt x="2135" y="1003"/>
                  <a:pt x="2123" y="949"/>
                  <a:pt x="2102" y="898"/>
                </a:cubicBezTo>
                <a:cubicBezTo>
                  <a:pt x="2089" y="828"/>
                  <a:pt x="2058" y="760"/>
                  <a:pt x="2042" y="689"/>
                </a:cubicBezTo>
                <a:cubicBezTo>
                  <a:pt x="2037" y="667"/>
                  <a:pt x="2024" y="648"/>
                  <a:pt x="2012" y="629"/>
                </a:cubicBezTo>
                <a:cubicBezTo>
                  <a:pt x="2002" y="614"/>
                  <a:pt x="1982" y="584"/>
                  <a:pt x="1982" y="584"/>
                </a:cubicBezTo>
                <a:cubicBezTo>
                  <a:pt x="1968" y="539"/>
                  <a:pt x="1941" y="496"/>
                  <a:pt x="1915" y="457"/>
                </a:cubicBezTo>
                <a:cubicBezTo>
                  <a:pt x="1907" y="432"/>
                  <a:pt x="1878" y="389"/>
                  <a:pt x="1878" y="389"/>
                </a:cubicBezTo>
                <a:cubicBezTo>
                  <a:pt x="1875" y="379"/>
                  <a:pt x="1875" y="368"/>
                  <a:pt x="1870" y="359"/>
                </a:cubicBezTo>
                <a:cubicBezTo>
                  <a:pt x="1862" y="343"/>
                  <a:pt x="1840" y="315"/>
                  <a:pt x="1840" y="315"/>
                </a:cubicBezTo>
                <a:cubicBezTo>
                  <a:pt x="1815" y="234"/>
                  <a:pt x="1746" y="172"/>
                  <a:pt x="1683" y="120"/>
                </a:cubicBezTo>
                <a:cubicBezTo>
                  <a:pt x="1655" y="97"/>
                  <a:pt x="1628" y="66"/>
                  <a:pt x="1593" y="53"/>
                </a:cubicBezTo>
                <a:cubicBezTo>
                  <a:pt x="1527" y="29"/>
                  <a:pt x="1459" y="24"/>
                  <a:pt x="1391" y="8"/>
                </a:cubicBezTo>
                <a:cubicBezTo>
                  <a:pt x="1227" y="14"/>
                  <a:pt x="1239" y="0"/>
                  <a:pt x="1145" y="30"/>
                </a:cubicBezTo>
                <a:cubicBezTo>
                  <a:pt x="1130" y="40"/>
                  <a:pt x="1110" y="45"/>
                  <a:pt x="1100" y="60"/>
                </a:cubicBezTo>
                <a:cubicBezTo>
                  <a:pt x="1067" y="110"/>
                  <a:pt x="1086" y="97"/>
                  <a:pt x="1055" y="11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= { (a, q), (b, q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202" name="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a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’ = { (q, b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30400" y="1898640"/>
            <a:ext cx="2627280" cy="4205160"/>
          </a:xfrm>
          <a:custGeom>
            <a:avLst/>
            <a:gdLst/>
            <a:ahLst/>
            <a:rect l="l" t="t" r="r" b="b"/>
            <a:pathLst>
              <a:path w="1655" h="2649">
                <a:moveTo>
                  <a:pt x="151" y="136"/>
                </a:moveTo>
                <a:cubicBezTo>
                  <a:pt x="124" y="163"/>
                  <a:pt x="105" y="194"/>
                  <a:pt x="84" y="225"/>
                </a:cubicBezTo>
                <a:cubicBezTo>
                  <a:pt x="70" y="245"/>
                  <a:pt x="68" y="272"/>
                  <a:pt x="54" y="293"/>
                </a:cubicBezTo>
                <a:cubicBezTo>
                  <a:pt x="43" y="342"/>
                  <a:pt x="31" y="385"/>
                  <a:pt x="24" y="435"/>
                </a:cubicBezTo>
                <a:cubicBezTo>
                  <a:pt x="30" y="647"/>
                  <a:pt x="0" y="673"/>
                  <a:pt x="91" y="809"/>
                </a:cubicBezTo>
                <a:cubicBezTo>
                  <a:pt x="107" y="833"/>
                  <a:pt x="112" y="852"/>
                  <a:pt x="136" y="869"/>
                </a:cubicBezTo>
                <a:cubicBezTo>
                  <a:pt x="141" y="879"/>
                  <a:pt x="145" y="890"/>
                  <a:pt x="151" y="899"/>
                </a:cubicBezTo>
                <a:cubicBezTo>
                  <a:pt x="165" y="920"/>
                  <a:pt x="196" y="958"/>
                  <a:pt x="196" y="958"/>
                </a:cubicBezTo>
                <a:cubicBezTo>
                  <a:pt x="233" y="1070"/>
                  <a:pt x="324" y="1153"/>
                  <a:pt x="376" y="1258"/>
                </a:cubicBezTo>
                <a:cubicBezTo>
                  <a:pt x="386" y="1308"/>
                  <a:pt x="400" y="1354"/>
                  <a:pt x="421" y="1400"/>
                </a:cubicBezTo>
                <a:cubicBezTo>
                  <a:pt x="430" y="1420"/>
                  <a:pt x="451" y="1460"/>
                  <a:pt x="451" y="1460"/>
                </a:cubicBezTo>
                <a:cubicBezTo>
                  <a:pt x="459" y="1505"/>
                  <a:pt x="468" y="1546"/>
                  <a:pt x="488" y="1587"/>
                </a:cubicBezTo>
                <a:cubicBezTo>
                  <a:pt x="495" y="1622"/>
                  <a:pt x="511" y="1649"/>
                  <a:pt x="518" y="1684"/>
                </a:cubicBezTo>
                <a:cubicBezTo>
                  <a:pt x="528" y="1732"/>
                  <a:pt x="533" y="1775"/>
                  <a:pt x="555" y="1819"/>
                </a:cubicBezTo>
                <a:cubicBezTo>
                  <a:pt x="579" y="1931"/>
                  <a:pt x="580" y="2090"/>
                  <a:pt x="645" y="2185"/>
                </a:cubicBezTo>
                <a:cubicBezTo>
                  <a:pt x="671" y="2271"/>
                  <a:pt x="701" y="2355"/>
                  <a:pt x="750" y="2432"/>
                </a:cubicBezTo>
                <a:cubicBezTo>
                  <a:pt x="764" y="2454"/>
                  <a:pt x="787" y="2489"/>
                  <a:pt x="810" y="2507"/>
                </a:cubicBezTo>
                <a:cubicBezTo>
                  <a:pt x="824" y="2518"/>
                  <a:pt x="854" y="2537"/>
                  <a:pt x="854" y="2537"/>
                </a:cubicBezTo>
                <a:cubicBezTo>
                  <a:pt x="857" y="2544"/>
                  <a:pt x="856" y="2553"/>
                  <a:pt x="862" y="2559"/>
                </a:cubicBezTo>
                <a:cubicBezTo>
                  <a:pt x="868" y="2565"/>
                  <a:pt x="877" y="2563"/>
                  <a:pt x="884" y="2567"/>
                </a:cubicBezTo>
                <a:cubicBezTo>
                  <a:pt x="930" y="2591"/>
                  <a:pt x="976" y="2611"/>
                  <a:pt x="1027" y="2619"/>
                </a:cubicBezTo>
                <a:cubicBezTo>
                  <a:pt x="1072" y="2635"/>
                  <a:pt x="1122" y="2640"/>
                  <a:pt x="1169" y="2649"/>
                </a:cubicBezTo>
                <a:cubicBezTo>
                  <a:pt x="1252" y="2644"/>
                  <a:pt x="1269" y="2642"/>
                  <a:pt x="1333" y="2627"/>
                </a:cubicBezTo>
                <a:cubicBezTo>
                  <a:pt x="1385" y="2592"/>
                  <a:pt x="1361" y="2603"/>
                  <a:pt x="1401" y="2589"/>
                </a:cubicBezTo>
                <a:cubicBezTo>
                  <a:pt x="1420" y="2562"/>
                  <a:pt x="1444" y="2545"/>
                  <a:pt x="1468" y="2522"/>
                </a:cubicBezTo>
                <a:cubicBezTo>
                  <a:pt x="1482" y="2476"/>
                  <a:pt x="1526" y="2462"/>
                  <a:pt x="1550" y="2425"/>
                </a:cubicBezTo>
                <a:cubicBezTo>
                  <a:pt x="1574" y="2388"/>
                  <a:pt x="1602" y="2347"/>
                  <a:pt x="1617" y="2305"/>
                </a:cubicBezTo>
                <a:cubicBezTo>
                  <a:pt x="1631" y="2268"/>
                  <a:pt x="1639" y="2223"/>
                  <a:pt x="1647" y="2185"/>
                </a:cubicBezTo>
                <a:cubicBezTo>
                  <a:pt x="1650" y="2173"/>
                  <a:pt x="1655" y="2148"/>
                  <a:pt x="1655" y="2148"/>
                </a:cubicBezTo>
                <a:cubicBezTo>
                  <a:pt x="1652" y="2078"/>
                  <a:pt x="1653" y="2008"/>
                  <a:pt x="1647" y="1938"/>
                </a:cubicBezTo>
                <a:cubicBezTo>
                  <a:pt x="1641" y="1864"/>
                  <a:pt x="1609" y="1815"/>
                  <a:pt x="1580" y="1751"/>
                </a:cubicBezTo>
                <a:cubicBezTo>
                  <a:pt x="1553" y="1693"/>
                  <a:pt x="1541" y="1634"/>
                  <a:pt x="1505" y="1579"/>
                </a:cubicBezTo>
                <a:cubicBezTo>
                  <a:pt x="1485" y="1515"/>
                  <a:pt x="1519" y="1618"/>
                  <a:pt x="1475" y="1519"/>
                </a:cubicBezTo>
                <a:cubicBezTo>
                  <a:pt x="1471" y="1510"/>
                  <a:pt x="1474" y="1498"/>
                  <a:pt x="1468" y="1490"/>
                </a:cubicBezTo>
                <a:cubicBezTo>
                  <a:pt x="1463" y="1482"/>
                  <a:pt x="1453" y="1480"/>
                  <a:pt x="1445" y="1475"/>
                </a:cubicBezTo>
                <a:cubicBezTo>
                  <a:pt x="1443" y="1465"/>
                  <a:pt x="1443" y="1454"/>
                  <a:pt x="1438" y="1445"/>
                </a:cubicBezTo>
                <a:cubicBezTo>
                  <a:pt x="1430" y="1429"/>
                  <a:pt x="1408" y="1400"/>
                  <a:pt x="1408" y="1400"/>
                </a:cubicBezTo>
                <a:cubicBezTo>
                  <a:pt x="1390" y="1342"/>
                  <a:pt x="1360" y="1289"/>
                  <a:pt x="1333" y="1235"/>
                </a:cubicBezTo>
                <a:cubicBezTo>
                  <a:pt x="1328" y="1225"/>
                  <a:pt x="1323" y="1215"/>
                  <a:pt x="1318" y="1205"/>
                </a:cubicBezTo>
                <a:cubicBezTo>
                  <a:pt x="1313" y="1195"/>
                  <a:pt x="1303" y="1175"/>
                  <a:pt x="1303" y="1175"/>
                </a:cubicBezTo>
                <a:cubicBezTo>
                  <a:pt x="1301" y="1163"/>
                  <a:pt x="1300" y="1150"/>
                  <a:pt x="1296" y="1138"/>
                </a:cubicBezTo>
                <a:cubicBezTo>
                  <a:pt x="1288" y="1117"/>
                  <a:pt x="1272" y="1100"/>
                  <a:pt x="1266" y="1078"/>
                </a:cubicBezTo>
                <a:cubicBezTo>
                  <a:pt x="1263" y="1068"/>
                  <a:pt x="1263" y="1057"/>
                  <a:pt x="1258" y="1048"/>
                </a:cubicBezTo>
                <a:cubicBezTo>
                  <a:pt x="1248" y="1031"/>
                  <a:pt x="1232" y="1019"/>
                  <a:pt x="1221" y="1003"/>
                </a:cubicBezTo>
                <a:cubicBezTo>
                  <a:pt x="1198" y="930"/>
                  <a:pt x="1158" y="856"/>
                  <a:pt x="1124" y="786"/>
                </a:cubicBezTo>
                <a:cubicBezTo>
                  <a:pt x="1116" y="748"/>
                  <a:pt x="1119" y="732"/>
                  <a:pt x="1086" y="712"/>
                </a:cubicBezTo>
                <a:cubicBezTo>
                  <a:pt x="1080" y="678"/>
                  <a:pt x="1064" y="654"/>
                  <a:pt x="1056" y="622"/>
                </a:cubicBezTo>
                <a:cubicBezTo>
                  <a:pt x="1051" y="603"/>
                  <a:pt x="1049" y="573"/>
                  <a:pt x="1041" y="554"/>
                </a:cubicBezTo>
                <a:cubicBezTo>
                  <a:pt x="1018" y="499"/>
                  <a:pt x="1035" y="564"/>
                  <a:pt x="1019" y="510"/>
                </a:cubicBezTo>
                <a:cubicBezTo>
                  <a:pt x="995" y="428"/>
                  <a:pt x="976" y="342"/>
                  <a:pt x="929" y="270"/>
                </a:cubicBezTo>
                <a:cubicBezTo>
                  <a:pt x="915" y="227"/>
                  <a:pt x="933" y="267"/>
                  <a:pt x="899" y="233"/>
                </a:cubicBezTo>
                <a:cubicBezTo>
                  <a:pt x="858" y="192"/>
                  <a:pt x="896" y="201"/>
                  <a:pt x="832" y="158"/>
                </a:cubicBezTo>
                <a:cubicBezTo>
                  <a:pt x="820" y="150"/>
                  <a:pt x="772" y="119"/>
                  <a:pt x="757" y="106"/>
                </a:cubicBezTo>
                <a:cubicBezTo>
                  <a:pt x="721" y="75"/>
                  <a:pt x="752" y="88"/>
                  <a:pt x="712" y="76"/>
                </a:cubicBezTo>
                <a:cubicBezTo>
                  <a:pt x="663" y="43"/>
                  <a:pt x="595" y="27"/>
                  <a:pt x="540" y="8"/>
                </a:cubicBezTo>
                <a:cubicBezTo>
                  <a:pt x="436" y="12"/>
                  <a:pt x="371" y="0"/>
                  <a:pt x="286" y="31"/>
                </a:cubicBezTo>
                <a:cubicBezTo>
                  <a:pt x="264" y="53"/>
                  <a:pt x="252" y="74"/>
                  <a:pt x="226" y="91"/>
                </a:cubicBezTo>
                <a:cubicBezTo>
                  <a:pt x="224" y="98"/>
                  <a:pt x="224" y="107"/>
                  <a:pt x="219" y="113"/>
                </a:cubicBezTo>
                <a:cubicBezTo>
                  <a:pt x="213" y="120"/>
                  <a:pt x="203" y="122"/>
                  <a:pt x="196" y="128"/>
                </a:cubicBezTo>
                <a:cubicBezTo>
                  <a:pt x="188" y="135"/>
                  <a:pt x="184" y="148"/>
                  <a:pt x="174" y="150"/>
                </a:cubicBezTo>
                <a:cubicBezTo>
                  <a:pt x="165" y="152"/>
                  <a:pt x="159" y="141"/>
                  <a:pt x="151" y="136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225" name="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1800" y="1887480"/>
            <a:ext cx="3776760" cy="4551480"/>
          </a:xfrm>
          <a:custGeom>
            <a:avLst/>
            <a:gdLst/>
            <a:ahLst/>
            <a:rect l="l" t="t" r="r" b="b"/>
            <a:pathLst>
              <a:path w="2379" h="2867">
                <a:moveTo>
                  <a:pt x="1055" y="113"/>
                </a:moveTo>
                <a:cubicBezTo>
                  <a:pt x="1018" y="148"/>
                  <a:pt x="1002" y="168"/>
                  <a:pt x="957" y="202"/>
                </a:cubicBezTo>
                <a:cubicBezTo>
                  <a:pt x="947" y="209"/>
                  <a:pt x="944" y="224"/>
                  <a:pt x="935" y="232"/>
                </a:cubicBezTo>
                <a:cubicBezTo>
                  <a:pt x="924" y="242"/>
                  <a:pt x="909" y="246"/>
                  <a:pt x="898" y="255"/>
                </a:cubicBezTo>
                <a:cubicBezTo>
                  <a:pt x="882" y="269"/>
                  <a:pt x="868" y="285"/>
                  <a:pt x="853" y="300"/>
                </a:cubicBezTo>
                <a:cubicBezTo>
                  <a:pt x="816" y="337"/>
                  <a:pt x="785" y="382"/>
                  <a:pt x="748" y="419"/>
                </a:cubicBezTo>
                <a:cubicBezTo>
                  <a:pt x="692" y="475"/>
                  <a:pt x="774" y="428"/>
                  <a:pt x="673" y="502"/>
                </a:cubicBezTo>
                <a:cubicBezTo>
                  <a:pt x="663" y="509"/>
                  <a:pt x="651" y="515"/>
                  <a:pt x="643" y="524"/>
                </a:cubicBezTo>
                <a:cubicBezTo>
                  <a:pt x="631" y="537"/>
                  <a:pt x="613" y="569"/>
                  <a:pt x="613" y="569"/>
                </a:cubicBezTo>
                <a:cubicBezTo>
                  <a:pt x="598" y="615"/>
                  <a:pt x="611" y="585"/>
                  <a:pt x="561" y="651"/>
                </a:cubicBezTo>
                <a:cubicBezTo>
                  <a:pt x="553" y="662"/>
                  <a:pt x="552" y="677"/>
                  <a:pt x="546" y="689"/>
                </a:cubicBezTo>
                <a:cubicBezTo>
                  <a:pt x="529" y="723"/>
                  <a:pt x="511" y="759"/>
                  <a:pt x="494" y="793"/>
                </a:cubicBezTo>
                <a:cubicBezTo>
                  <a:pt x="441" y="900"/>
                  <a:pt x="499" y="779"/>
                  <a:pt x="449" y="853"/>
                </a:cubicBezTo>
                <a:cubicBezTo>
                  <a:pt x="372" y="968"/>
                  <a:pt x="329" y="1105"/>
                  <a:pt x="254" y="1220"/>
                </a:cubicBezTo>
                <a:cubicBezTo>
                  <a:pt x="241" y="1277"/>
                  <a:pt x="206" y="1318"/>
                  <a:pt x="180" y="1369"/>
                </a:cubicBezTo>
                <a:cubicBezTo>
                  <a:pt x="170" y="1388"/>
                  <a:pt x="167" y="1410"/>
                  <a:pt x="157" y="1429"/>
                </a:cubicBezTo>
                <a:cubicBezTo>
                  <a:pt x="149" y="1445"/>
                  <a:pt x="135" y="1458"/>
                  <a:pt x="127" y="1474"/>
                </a:cubicBezTo>
                <a:cubicBezTo>
                  <a:pt x="122" y="1484"/>
                  <a:pt x="117" y="1494"/>
                  <a:pt x="112" y="1504"/>
                </a:cubicBezTo>
                <a:cubicBezTo>
                  <a:pt x="103" y="1543"/>
                  <a:pt x="78" y="1571"/>
                  <a:pt x="67" y="1609"/>
                </a:cubicBezTo>
                <a:cubicBezTo>
                  <a:pt x="55" y="1650"/>
                  <a:pt x="54" y="1693"/>
                  <a:pt x="30" y="1728"/>
                </a:cubicBezTo>
                <a:cubicBezTo>
                  <a:pt x="16" y="1780"/>
                  <a:pt x="7" y="1832"/>
                  <a:pt x="0" y="1885"/>
                </a:cubicBezTo>
                <a:cubicBezTo>
                  <a:pt x="2" y="1960"/>
                  <a:pt x="2" y="2035"/>
                  <a:pt x="7" y="2110"/>
                </a:cubicBezTo>
                <a:cubicBezTo>
                  <a:pt x="11" y="2174"/>
                  <a:pt x="63" y="2285"/>
                  <a:pt x="97" y="2342"/>
                </a:cubicBezTo>
                <a:cubicBezTo>
                  <a:pt x="111" y="2365"/>
                  <a:pt x="119" y="2394"/>
                  <a:pt x="142" y="2409"/>
                </a:cubicBezTo>
                <a:cubicBezTo>
                  <a:pt x="174" y="2430"/>
                  <a:pt x="159" y="2417"/>
                  <a:pt x="187" y="2447"/>
                </a:cubicBezTo>
                <a:cubicBezTo>
                  <a:pt x="201" y="2491"/>
                  <a:pt x="182" y="2449"/>
                  <a:pt x="224" y="2484"/>
                </a:cubicBezTo>
                <a:cubicBezTo>
                  <a:pt x="256" y="2510"/>
                  <a:pt x="272" y="2542"/>
                  <a:pt x="307" y="2559"/>
                </a:cubicBezTo>
                <a:cubicBezTo>
                  <a:pt x="324" y="2567"/>
                  <a:pt x="343" y="2572"/>
                  <a:pt x="359" y="2581"/>
                </a:cubicBezTo>
                <a:cubicBezTo>
                  <a:pt x="437" y="2624"/>
                  <a:pt x="496" y="2680"/>
                  <a:pt x="583" y="2708"/>
                </a:cubicBezTo>
                <a:cubicBezTo>
                  <a:pt x="667" y="2773"/>
                  <a:pt x="810" y="2787"/>
                  <a:pt x="913" y="2798"/>
                </a:cubicBezTo>
                <a:cubicBezTo>
                  <a:pt x="920" y="2801"/>
                  <a:pt x="927" y="2805"/>
                  <a:pt x="935" y="2806"/>
                </a:cubicBezTo>
                <a:cubicBezTo>
                  <a:pt x="955" y="2810"/>
                  <a:pt x="976" y="2808"/>
                  <a:pt x="995" y="2813"/>
                </a:cubicBezTo>
                <a:cubicBezTo>
                  <a:pt x="1004" y="2815"/>
                  <a:pt x="1009" y="2824"/>
                  <a:pt x="1017" y="2828"/>
                </a:cubicBezTo>
                <a:cubicBezTo>
                  <a:pt x="1056" y="2845"/>
                  <a:pt x="1112" y="2846"/>
                  <a:pt x="1152" y="2850"/>
                </a:cubicBezTo>
                <a:cubicBezTo>
                  <a:pt x="1229" y="2867"/>
                  <a:pt x="1308" y="2861"/>
                  <a:pt x="1384" y="2843"/>
                </a:cubicBezTo>
                <a:cubicBezTo>
                  <a:pt x="1453" y="2808"/>
                  <a:pt x="1422" y="2818"/>
                  <a:pt x="1474" y="2806"/>
                </a:cubicBezTo>
                <a:cubicBezTo>
                  <a:pt x="1524" y="2781"/>
                  <a:pt x="1560" y="2744"/>
                  <a:pt x="1616" y="2731"/>
                </a:cubicBezTo>
                <a:cubicBezTo>
                  <a:pt x="1674" y="2686"/>
                  <a:pt x="1749" y="2667"/>
                  <a:pt x="1810" y="2626"/>
                </a:cubicBezTo>
                <a:cubicBezTo>
                  <a:pt x="1856" y="2595"/>
                  <a:pt x="1897" y="2551"/>
                  <a:pt x="1952" y="2536"/>
                </a:cubicBezTo>
                <a:cubicBezTo>
                  <a:pt x="1988" y="2489"/>
                  <a:pt x="2045" y="2474"/>
                  <a:pt x="2087" y="2432"/>
                </a:cubicBezTo>
                <a:cubicBezTo>
                  <a:pt x="2102" y="2417"/>
                  <a:pt x="2114" y="2399"/>
                  <a:pt x="2132" y="2387"/>
                </a:cubicBezTo>
                <a:cubicBezTo>
                  <a:pt x="2147" y="2377"/>
                  <a:pt x="2177" y="2357"/>
                  <a:pt x="2177" y="2357"/>
                </a:cubicBezTo>
                <a:cubicBezTo>
                  <a:pt x="2201" y="2320"/>
                  <a:pt x="2238" y="2293"/>
                  <a:pt x="2267" y="2260"/>
                </a:cubicBezTo>
                <a:cubicBezTo>
                  <a:pt x="2291" y="2233"/>
                  <a:pt x="2301" y="2203"/>
                  <a:pt x="2326" y="2177"/>
                </a:cubicBezTo>
                <a:cubicBezTo>
                  <a:pt x="2347" y="2118"/>
                  <a:pt x="2366" y="2067"/>
                  <a:pt x="2379" y="2005"/>
                </a:cubicBezTo>
                <a:cubicBezTo>
                  <a:pt x="2373" y="1796"/>
                  <a:pt x="2377" y="1665"/>
                  <a:pt x="2289" y="1489"/>
                </a:cubicBezTo>
                <a:cubicBezTo>
                  <a:pt x="2278" y="1433"/>
                  <a:pt x="2270" y="1375"/>
                  <a:pt x="2244" y="1324"/>
                </a:cubicBezTo>
                <a:cubicBezTo>
                  <a:pt x="2227" y="1233"/>
                  <a:pt x="2186" y="1143"/>
                  <a:pt x="2154" y="1055"/>
                </a:cubicBezTo>
                <a:cubicBezTo>
                  <a:pt x="2135" y="1003"/>
                  <a:pt x="2123" y="949"/>
                  <a:pt x="2102" y="898"/>
                </a:cubicBezTo>
                <a:cubicBezTo>
                  <a:pt x="2089" y="828"/>
                  <a:pt x="2058" y="760"/>
                  <a:pt x="2042" y="689"/>
                </a:cubicBezTo>
                <a:cubicBezTo>
                  <a:pt x="2037" y="667"/>
                  <a:pt x="2024" y="648"/>
                  <a:pt x="2012" y="629"/>
                </a:cubicBezTo>
                <a:cubicBezTo>
                  <a:pt x="2002" y="614"/>
                  <a:pt x="1982" y="584"/>
                  <a:pt x="1982" y="584"/>
                </a:cubicBezTo>
                <a:cubicBezTo>
                  <a:pt x="1968" y="539"/>
                  <a:pt x="1941" y="496"/>
                  <a:pt x="1915" y="457"/>
                </a:cubicBezTo>
                <a:cubicBezTo>
                  <a:pt x="1907" y="432"/>
                  <a:pt x="1878" y="389"/>
                  <a:pt x="1878" y="389"/>
                </a:cubicBezTo>
                <a:cubicBezTo>
                  <a:pt x="1875" y="379"/>
                  <a:pt x="1875" y="368"/>
                  <a:pt x="1870" y="359"/>
                </a:cubicBezTo>
                <a:cubicBezTo>
                  <a:pt x="1862" y="343"/>
                  <a:pt x="1840" y="315"/>
                  <a:pt x="1840" y="315"/>
                </a:cubicBezTo>
                <a:cubicBezTo>
                  <a:pt x="1815" y="234"/>
                  <a:pt x="1746" y="172"/>
                  <a:pt x="1683" y="120"/>
                </a:cubicBezTo>
                <a:cubicBezTo>
                  <a:pt x="1655" y="97"/>
                  <a:pt x="1628" y="66"/>
                  <a:pt x="1593" y="53"/>
                </a:cubicBezTo>
                <a:cubicBezTo>
                  <a:pt x="1527" y="29"/>
                  <a:pt x="1459" y="24"/>
                  <a:pt x="1391" y="8"/>
                </a:cubicBezTo>
                <a:cubicBezTo>
                  <a:pt x="1227" y="14"/>
                  <a:pt x="1239" y="0"/>
                  <a:pt x="1145" y="30"/>
                </a:cubicBezTo>
                <a:cubicBezTo>
                  <a:pt x="1130" y="40"/>
                  <a:pt x="1110" y="45"/>
                  <a:pt x="1100" y="60"/>
                </a:cubicBezTo>
                <a:cubicBezTo>
                  <a:pt x="1067" y="110"/>
                  <a:pt x="1086" y="97"/>
                  <a:pt x="1055" y="11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a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” = { (q, a), (q, b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1932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13372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27432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1932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13372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27432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038480"/>
            <a:ext cx="7010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ime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zero from now will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second zero from now will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next zero will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072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2800" y="3073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048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048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191120"/>
            <a:ext cx="3886200" cy="100332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05360" y="3809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refines 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16002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= { (3,b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1600200"/>
            <a:ext cx="19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02000" y="1978200"/>
            <a:ext cx="3679920" cy="3979800"/>
          </a:xfrm>
          <a:custGeom>
            <a:avLst/>
            <a:gdLst/>
            <a:ahLst/>
            <a:rect l="l" t="t" r="r" b="b"/>
            <a:pathLst>
              <a:path w="2318" h="2507">
                <a:moveTo>
                  <a:pt x="878" y="105"/>
                </a:moveTo>
                <a:cubicBezTo>
                  <a:pt x="857" y="141"/>
                  <a:pt x="813" y="207"/>
                  <a:pt x="774" y="220"/>
                </a:cubicBezTo>
                <a:cubicBezTo>
                  <a:pt x="749" y="244"/>
                  <a:pt x="715" y="287"/>
                  <a:pt x="685" y="299"/>
                </a:cubicBezTo>
                <a:cubicBezTo>
                  <a:pt x="671" y="325"/>
                  <a:pt x="661" y="344"/>
                  <a:pt x="638" y="362"/>
                </a:cubicBezTo>
                <a:cubicBezTo>
                  <a:pt x="627" y="390"/>
                  <a:pt x="601" y="414"/>
                  <a:pt x="585" y="440"/>
                </a:cubicBezTo>
                <a:cubicBezTo>
                  <a:pt x="563" y="476"/>
                  <a:pt x="546" y="516"/>
                  <a:pt x="522" y="550"/>
                </a:cubicBezTo>
                <a:cubicBezTo>
                  <a:pt x="510" y="610"/>
                  <a:pt x="529" y="545"/>
                  <a:pt x="496" y="592"/>
                </a:cubicBezTo>
                <a:cubicBezTo>
                  <a:pt x="492" y="598"/>
                  <a:pt x="493" y="606"/>
                  <a:pt x="491" y="613"/>
                </a:cubicBezTo>
                <a:cubicBezTo>
                  <a:pt x="481" y="643"/>
                  <a:pt x="464" y="672"/>
                  <a:pt x="444" y="697"/>
                </a:cubicBezTo>
                <a:cubicBezTo>
                  <a:pt x="434" y="760"/>
                  <a:pt x="451" y="697"/>
                  <a:pt x="407" y="754"/>
                </a:cubicBezTo>
                <a:cubicBezTo>
                  <a:pt x="372" y="799"/>
                  <a:pt x="345" y="859"/>
                  <a:pt x="323" y="911"/>
                </a:cubicBezTo>
                <a:cubicBezTo>
                  <a:pt x="312" y="971"/>
                  <a:pt x="330" y="910"/>
                  <a:pt x="297" y="953"/>
                </a:cubicBezTo>
                <a:cubicBezTo>
                  <a:pt x="291" y="961"/>
                  <a:pt x="285" y="989"/>
                  <a:pt x="281" y="1000"/>
                </a:cubicBezTo>
                <a:cubicBezTo>
                  <a:pt x="269" y="1035"/>
                  <a:pt x="260" y="1063"/>
                  <a:pt x="234" y="1089"/>
                </a:cubicBezTo>
                <a:cubicBezTo>
                  <a:pt x="221" y="1158"/>
                  <a:pt x="174" y="1230"/>
                  <a:pt x="135" y="1288"/>
                </a:cubicBezTo>
                <a:cubicBezTo>
                  <a:pt x="129" y="1321"/>
                  <a:pt x="113" y="1350"/>
                  <a:pt x="93" y="1377"/>
                </a:cubicBezTo>
                <a:cubicBezTo>
                  <a:pt x="91" y="1389"/>
                  <a:pt x="91" y="1402"/>
                  <a:pt x="88" y="1414"/>
                </a:cubicBezTo>
                <a:cubicBezTo>
                  <a:pt x="83" y="1432"/>
                  <a:pt x="67" y="1466"/>
                  <a:pt x="67" y="1466"/>
                </a:cubicBezTo>
                <a:cubicBezTo>
                  <a:pt x="48" y="1570"/>
                  <a:pt x="27" y="1670"/>
                  <a:pt x="14" y="1775"/>
                </a:cubicBezTo>
                <a:cubicBezTo>
                  <a:pt x="14" y="1783"/>
                  <a:pt x="0" y="1963"/>
                  <a:pt x="35" y="2016"/>
                </a:cubicBezTo>
                <a:cubicBezTo>
                  <a:pt x="45" y="2060"/>
                  <a:pt x="58" y="2107"/>
                  <a:pt x="88" y="2142"/>
                </a:cubicBezTo>
                <a:cubicBezTo>
                  <a:pt x="99" y="2154"/>
                  <a:pt x="116" y="2159"/>
                  <a:pt x="130" y="2168"/>
                </a:cubicBezTo>
                <a:cubicBezTo>
                  <a:pt x="141" y="2175"/>
                  <a:pt x="150" y="2187"/>
                  <a:pt x="161" y="2194"/>
                </a:cubicBezTo>
                <a:cubicBezTo>
                  <a:pt x="171" y="2200"/>
                  <a:pt x="225" y="2219"/>
                  <a:pt x="229" y="2220"/>
                </a:cubicBezTo>
                <a:cubicBezTo>
                  <a:pt x="265" y="2249"/>
                  <a:pt x="305" y="2275"/>
                  <a:pt x="350" y="2283"/>
                </a:cubicBezTo>
                <a:cubicBezTo>
                  <a:pt x="379" y="2301"/>
                  <a:pt x="409" y="2305"/>
                  <a:pt x="439" y="2320"/>
                </a:cubicBezTo>
                <a:cubicBezTo>
                  <a:pt x="544" y="2373"/>
                  <a:pt x="646" y="2383"/>
                  <a:pt x="763" y="2399"/>
                </a:cubicBezTo>
                <a:cubicBezTo>
                  <a:pt x="824" y="2407"/>
                  <a:pt x="874" y="2420"/>
                  <a:pt x="936" y="2425"/>
                </a:cubicBezTo>
                <a:cubicBezTo>
                  <a:pt x="989" y="2439"/>
                  <a:pt x="1043" y="2458"/>
                  <a:pt x="1098" y="2467"/>
                </a:cubicBezTo>
                <a:cubicBezTo>
                  <a:pt x="1167" y="2479"/>
                  <a:pt x="1214" y="2479"/>
                  <a:pt x="1276" y="2503"/>
                </a:cubicBezTo>
                <a:cubicBezTo>
                  <a:pt x="1414" y="2500"/>
                  <a:pt x="1617" y="2507"/>
                  <a:pt x="1753" y="2446"/>
                </a:cubicBezTo>
                <a:cubicBezTo>
                  <a:pt x="1790" y="2429"/>
                  <a:pt x="1825" y="2409"/>
                  <a:pt x="1863" y="2393"/>
                </a:cubicBezTo>
                <a:cubicBezTo>
                  <a:pt x="1889" y="2367"/>
                  <a:pt x="1905" y="2373"/>
                  <a:pt x="1936" y="2357"/>
                </a:cubicBezTo>
                <a:cubicBezTo>
                  <a:pt x="1993" y="2329"/>
                  <a:pt x="1931" y="2355"/>
                  <a:pt x="1988" y="2320"/>
                </a:cubicBezTo>
                <a:cubicBezTo>
                  <a:pt x="2030" y="2295"/>
                  <a:pt x="2072" y="2267"/>
                  <a:pt x="2114" y="2241"/>
                </a:cubicBezTo>
                <a:cubicBezTo>
                  <a:pt x="2127" y="2201"/>
                  <a:pt x="2105" y="2257"/>
                  <a:pt x="2140" y="2210"/>
                </a:cubicBezTo>
                <a:cubicBezTo>
                  <a:pt x="2178" y="2158"/>
                  <a:pt x="2105" y="2221"/>
                  <a:pt x="2167" y="2173"/>
                </a:cubicBezTo>
                <a:cubicBezTo>
                  <a:pt x="2192" y="2132"/>
                  <a:pt x="2218" y="2087"/>
                  <a:pt x="2256" y="2058"/>
                </a:cubicBezTo>
                <a:cubicBezTo>
                  <a:pt x="2261" y="2049"/>
                  <a:pt x="2267" y="2041"/>
                  <a:pt x="2271" y="2032"/>
                </a:cubicBezTo>
                <a:cubicBezTo>
                  <a:pt x="2279" y="2013"/>
                  <a:pt x="2292" y="1974"/>
                  <a:pt x="2292" y="1974"/>
                </a:cubicBezTo>
                <a:cubicBezTo>
                  <a:pt x="2294" y="1962"/>
                  <a:pt x="2294" y="1950"/>
                  <a:pt x="2297" y="1938"/>
                </a:cubicBezTo>
                <a:cubicBezTo>
                  <a:pt x="2303" y="1913"/>
                  <a:pt x="2318" y="1864"/>
                  <a:pt x="2318" y="1864"/>
                </a:cubicBezTo>
                <a:cubicBezTo>
                  <a:pt x="2316" y="1744"/>
                  <a:pt x="2316" y="1623"/>
                  <a:pt x="2313" y="1503"/>
                </a:cubicBezTo>
                <a:cubicBezTo>
                  <a:pt x="2312" y="1467"/>
                  <a:pt x="2308" y="1423"/>
                  <a:pt x="2297" y="1388"/>
                </a:cubicBezTo>
                <a:cubicBezTo>
                  <a:pt x="2292" y="1370"/>
                  <a:pt x="2276" y="1336"/>
                  <a:pt x="2276" y="1336"/>
                </a:cubicBezTo>
                <a:cubicBezTo>
                  <a:pt x="2272" y="1292"/>
                  <a:pt x="2274" y="1270"/>
                  <a:pt x="2250" y="1236"/>
                </a:cubicBezTo>
                <a:cubicBezTo>
                  <a:pt x="2242" y="1196"/>
                  <a:pt x="2232" y="1149"/>
                  <a:pt x="2208" y="1116"/>
                </a:cubicBezTo>
                <a:cubicBezTo>
                  <a:pt x="2196" y="1071"/>
                  <a:pt x="2190" y="1031"/>
                  <a:pt x="2161" y="995"/>
                </a:cubicBezTo>
                <a:cubicBezTo>
                  <a:pt x="2154" y="942"/>
                  <a:pt x="2133" y="865"/>
                  <a:pt x="2093" y="828"/>
                </a:cubicBezTo>
                <a:cubicBezTo>
                  <a:pt x="2078" y="797"/>
                  <a:pt x="2055" y="758"/>
                  <a:pt x="2025" y="739"/>
                </a:cubicBezTo>
                <a:cubicBezTo>
                  <a:pt x="2004" y="706"/>
                  <a:pt x="1996" y="655"/>
                  <a:pt x="1962" y="634"/>
                </a:cubicBezTo>
                <a:cubicBezTo>
                  <a:pt x="1942" y="601"/>
                  <a:pt x="1906" y="531"/>
                  <a:pt x="1868" y="519"/>
                </a:cubicBezTo>
                <a:cubicBezTo>
                  <a:pt x="1857" y="473"/>
                  <a:pt x="1874" y="518"/>
                  <a:pt x="1842" y="492"/>
                </a:cubicBezTo>
                <a:cubicBezTo>
                  <a:pt x="1838" y="489"/>
                  <a:pt x="1840" y="481"/>
                  <a:pt x="1837" y="477"/>
                </a:cubicBezTo>
                <a:cubicBezTo>
                  <a:pt x="1829" y="467"/>
                  <a:pt x="1810" y="451"/>
                  <a:pt x="1810" y="451"/>
                </a:cubicBezTo>
                <a:cubicBezTo>
                  <a:pt x="1803" y="429"/>
                  <a:pt x="1788" y="416"/>
                  <a:pt x="1774" y="398"/>
                </a:cubicBezTo>
                <a:cubicBezTo>
                  <a:pt x="1765" y="386"/>
                  <a:pt x="1753" y="376"/>
                  <a:pt x="1748" y="362"/>
                </a:cubicBezTo>
                <a:cubicBezTo>
                  <a:pt x="1746" y="357"/>
                  <a:pt x="1745" y="351"/>
                  <a:pt x="1742" y="346"/>
                </a:cubicBezTo>
                <a:cubicBezTo>
                  <a:pt x="1731" y="327"/>
                  <a:pt x="1709" y="310"/>
                  <a:pt x="1695" y="293"/>
                </a:cubicBezTo>
                <a:cubicBezTo>
                  <a:pt x="1651" y="240"/>
                  <a:pt x="1679" y="252"/>
                  <a:pt x="1643" y="241"/>
                </a:cubicBezTo>
                <a:cubicBezTo>
                  <a:pt x="1639" y="236"/>
                  <a:pt x="1637" y="230"/>
                  <a:pt x="1632" y="225"/>
                </a:cubicBezTo>
                <a:cubicBezTo>
                  <a:pt x="1628" y="221"/>
                  <a:pt x="1621" y="220"/>
                  <a:pt x="1617" y="215"/>
                </a:cubicBezTo>
                <a:cubicBezTo>
                  <a:pt x="1592" y="186"/>
                  <a:pt x="1621" y="199"/>
                  <a:pt x="1591" y="189"/>
                </a:cubicBezTo>
                <a:cubicBezTo>
                  <a:pt x="1565" y="163"/>
                  <a:pt x="1544" y="135"/>
                  <a:pt x="1507" y="126"/>
                </a:cubicBezTo>
                <a:cubicBezTo>
                  <a:pt x="1469" y="101"/>
                  <a:pt x="1487" y="108"/>
                  <a:pt x="1454" y="100"/>
                </a:cubicBezTo>
                <a:cubicBezTo>
                  <a:pt x="1441" y="90"/>
                  <a:pt x="1423" y="80"/>
                  <a:pt x="1407" y="74"/>
                </a:cubicBezTo>
                <a:cubicBezTo>
                  <a:pt x="1390" y="68"/>
                  <a:pt x="1355" y="58"/>
                  <a:pt x="1355" y="58"/>
                </a:cubicBezTo>
                <a:cubicBezTo>
                  <a:pt x="1334" y="43"/>
                  <a:pt x="1312" y="40"/>
                  <a:pt x="1287" y="32"/>
                </a:cubicBezTo>
                <a:cubicBezTo>
                  <a:pt x="1259" y="13"/>
                  <a:pt x="1220" y="14"/>
                  <a:pt x="1187" y="5"/>
                </a:cubicBezTo>
                <a:cubicBezTo>
                  <a:pt x="1136" y="7"/>
                  <a:pt x="1013" y="0"/>
                  <a:pt x="946" y="21"/>
                </a:cubicBezTo>
                <a:cubicBezTo>
                  <a:pt x="929" y="33"/>
                  <a:pt x="907" y="47"/>
                  <a:pt x="894" y="63"/>
                </a:cubicBezTo>
                <a:cubicBezTo>
                  <a:pt x="867" y="96"/>
                  <a:pt x="900" y="65"/>
                  <a:pt x="873" y="89"/>
                </a:cubicBezTo>
                <a:cubicBezTo>
                  <a:pt x="867" y="108"/>
                  <a:pt x="862" y="105"/>
                  <a:pt x="878" y="105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1600200"/>
            <a:ext cx="198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,b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30400" y="1828800"/>
            <a:ext cx="6008760" cy="4017960"/>
          </a:xfrm>
          <a:custGeom>
            <a:avLst/>
            <a:gdLst/>
            <a:ahLst/>
            <a:rect l="l" t="t" r="r" b="b"/>
            <a:pathLst>
              <a:path w="3785" h="2531">
                <a:moveTo>
                  <a:pt x="2294" y="110"/>
                </a:moveTo>
                <a:cubicBezTo>
                  <a:pt x="2227" y="142"/>
                  <a:pt x="2203" y="215"/>
                  <a:pt x="2147" y="257"/>
                </a:cubicBezTo>
                <a:cubicBezTo>
                  <a:pt x="2132" y="286"/>
                  <a:pt x="2114" y="305"/>
                  <a:pt x="2095" y="330"/>
                </a:cubicBezTo>
                <a:cubicBezTo>
                  <a:pt x="2069" y="365"/>
                  <a:pt x="2047" y="404"/>
                  <a:pt x="2016" y="435"/>
                </a:cubicBezTo>
                <a:cubicBezTo>
                  <a:pt x="1993" y="482"/>
                  <a:pt x="1940" y="504"/>
                  <a:pt x="1911" y="545"/>
                </a:cubicBezTo>
                <a:cubicBezTo>
                  <a:pt x="1884" y="583"/>
                  <a:pt x="1869" y="599"/>
                  <a:pt x="1833" y="628"/>
                </a:cubicBezTo>
                <a:cubicBezTo>
                  <a:pt x="1813" y="662"/>
                  <a:pt x="1789" y="665"/>
                  <a:pt x="1760" y="691"/>
                </a:cubicBezTo>
                <a:cubicBezTo>
                  <a:pt x="1723" y="724"/>
                  <a:pt x="1697" y="751"/>
                  <a:pt x="1650" y="765"/>
                </a:cubicBezTo>
                <a:cubicBezTo>
                  <a:pt x="1606" y="796"/>
                  <a:pt x="1556" y="813"/>
                  <a:pt x="1508" y="838"/>
                </a:cubicBezTo>
                <a:cubicBezTo>
                  <a:pt x="1483" y="851"/>
                  <a:pt x="1462" y="872"/>
                  <a:pt x="1435" y="880"/>
                </a:cubicBezTo>
                <a:cubicBezTo>
                  <a:pt x="1418" y="885"/>
                  <a:pt x="1399" y="888"/>
                  <a:pt x="1383" y="895"/>
                </a:cubicBezTo>
                <a:cubicBezTo>
                  <a:pt x="1329" y="920"/>
                  <a:pt x="1281" y="958"/>
                  <a:pt x="1225" y="979"/>
                </a:cubicBezTo>
                <a:cubicBezTo>
                  <a:pt x="1154" y="1036"/>
                  <a:pt x="1049" y="1057"/>
                  <a:pt x="964" y="1084"/>
                </a:cubicBezTo>
                <a:cubicBezTo>
                  <a:pt x="926" y="1096"/>
                  <a:pt x="897" y="1122"/>
                  <a:pt x="859" y="1131"/>
                </a:cubicBezTo>
                <a:cubicBezTo>
                  <a:pt x="824" y="1159"/>
                  <a:pt x="783" y="1175"/>
                  <a:pt x="738" y="1183"/>
                </a:cubicBezTo>
                <a:cubicBezTo>
                  <a:pt x="702" y="1212"/>
                  <a:pt x="665" y="1213"/>
                  <a:pt x="623" y="1231"/>
                </a:cubicBezTo>
                <a:cubicBezTo>
                  <a:pt x="558" y="1258"/>
                  <a:pt x="491" y="1280"/>
                  <a:pt x="430" y="1314"/>
                </a:cubicBezTo>
                <a:cubicBezTo>
                  <a:pt x="382" y="1340"/>
                  <a:pt x="431" y="1323"/>
                  <a:pt x="393" y="1335"/>
                </a:cubicBezTo>
                <a:cubicBezTo>
                  <a:pt x="374" y="1354"/>
                  <a:pt x="344" y="1361"/>
                  <a:pt x="320" y="1372"/>
                </a:cubicBezTo>
                <a:cubicBezTo>
                  <a:pt x="309" y="1382"/>
                  <a:pt x="300" y="1394"/>
                  <a:pt x="288" y="1403"/>
                </a:cubicBezTo>
                <a:cubicBezTo>
                  <a:pt x="283" y="1406"/>
                  <a:pt x="276" y="1405"/>
                  <a:pt x="272" y="1409"/>
                </a:cubicBezTo>
                <a:cubicBezTo>
                  <a:pt x="267" y="1415"/>
                  <a:pt x="267" y="1424"/>
                  <a:pt x="262" y="1430"/>
                </a:cubicBezTo>
                <a:cubicBezTo>
                  <a:pt x="256" y="1437"/>
                  <a:pt x="247" y="1439"/>
                  <a:pt x="241" y="1445"/>
                </a:cubicBezTo>
                <a:cubicBezTo>
                  <a:pt x="220" y="1466"/>
                  <a:pt x="201" y="1496"/>
                  <a:pt x="183" y="1519"/>
                </a:cubicBezTo>
                <a:cubicBezTo>
                  <a:pt x="162" y="1547"/>
                  <a:pt x="137" y="1570"/>
                  <a:pt x="115" y="1597"/>
                </a:cubicBezTo>
                <a:cubicBezTo>
                  <a:pt x="109" y="1624"/>
                  <a:pt x="94" y="1642"/>
                  <a:pt x="79" y="1665"/>
                </a:cubicBezTo>
                <a:cubicBezTo>
                  <a:pt x="79" y="1666"/>
                  <a:pt x="71" y="1702"/>
                  <a:pt x="68" y="1707"/>
                </a:cubicBezTo>
                <a:cubicBezTo>
                  <a:pt x="38" y="1755"/>
                  <a:pt x="67" y="1688"/>
                  <a:pt x="42" y="1744"/>
                </a:cubicBezTo>
                <a:cubicBezTo>
                  <a:pt x="30" y="1770"/>
                  <a:pt x="26" y="1800"/>
                  <a:pt x="16" y="1827"/>
                </a:cubicBezTo>
                <a:cubicBezTo>
                  <a:pt x="8" y="1917"/>
                  <a:pt x="0" y="2013"/>
                  <a:pt x="26" y="2100"/>
                </a:cubicBezTo>
                <a:cubicBezTo>
                  <a:pt x="33" y="2122"/>
                  <a:pt x="44" y="2153"/>
                  <a:pt x="53" y="2173"/>
                </a:cubicBezTo>
                <a:cubicBezTo>
                  <a:pt x="58" y="2184"/>
                  <a:pt x="73" y="2205"/>
                  <a:pt x="73" y="2205"/>
                </a:cubicBezTo>
                <a:cubicBezTo>
                  <a:pt x="98" y="2289"/>
                  <a:pt x="214" y="2370"/>
                  <a:pt x="288" y="2403"/>
                </a:cubicBezTo>
                <a:cubicBezTo>
                  <a:pt x="309" y="2413"/>
                  <a:pt x="334" y="2411"/>
                  <a:pt x="356" y="2419"/>
                </a:cubicBezTo>
                <a:cubicBezTo>
                  <a:pt x="409" y="2439"/>
                  <a:pt x="445" y="2469"/>
                  <a:pt x="508" y="2472"/>
                </a:cubicBezTo>
                <a:cubicBezTo>
                  <a:pt x="588" y="2475"/>
                  <a:pt x="669" y="2478"/>
                  <a:pt x="749" y="2482"/>
                </a:cubicBezTo>
                <a:cubicBezTo>
                  <a:pt x="810" y="2485"/>
                  <a:pt x="871" y="2489"/>
                  <a:pt x="932" y="2493"/>
                </a:cubicBezTo>
                <a:cubicBezTo>
                  <a:pt x="1133" y="2531"/>
                  <a:pt x="1327" y="2479"/>
                  <a:pt x="1524" y="2456"/>
                </a:cubicBezTo>
                <a:cubicBezTo>
                  <a:pt x="1559" y="2441"/>
                  <a:pt x="1592" y="2435"/>
                  <a:pt x="1629" y="2430"/>
                </a:cubicBezTo>
                <a:cubicBezTo>
                  <a:pt x="1659" y="2408"/>
                  <a:pt x="1693" y="2411"/>
                  <a:pt x="1728" y="2403"/>
                </a:cubicBezTo>
                <a:cubicBezTo>
                  <a:pt x="1822" y="2382"/>
                  <a:pt x="1895" y="2370"/>
                  <a:pt x="1995" y="2362"/>
                </a:cubicBezTo>
                <a:cubicBezTo>
                  <a:pt x="2269" y="2365"/>
                  <a:pt x="2523" y="2371"/>
                  <a:pt x="2791" y="2398"/>
                </a:cubicBezTo>
                <a:cubicBezTo>
                  <a:pt x="2892" y="2422"/>
                  <a:pt x="2776" y="2397"/>
                  <a:pt x="2927" y="2414"/>
                </a:cubicBezTo>
                <a:cubicBezTo>
                  <a:pt x="2991" y="2421"/>
                  <a:pt x="3056" y="2437"/>
                  <a:pt x="3121" y="2445"/>
                </a:cubicBezTo>
                <a:cubicBezTo>
                  <a:pt x="3173" y="2444"/>
                  <a:pt x="3341" y="2449"/>
                  <a:pt x="3425" y="2430"/>
                </a:cubicBezTo>
                <a:cubicBezTo>
                  <a:pt x="3460" y="2422"/>
                  <a:pt x="3494" y="2403"/>
                  <a:pt x="3529" y="2393"/>
                </a:cubicBezTo>
                <a:cubicBezTo>
                  <a:pt x="3578" y="2364"/>
                  <a:pt x="3626" y="2329"/>
                  <a:pt x="3666" y="2288"/>
                </a:cubicBezTo>
                <a:cubicBezTo>
                  <a:pt x="3686" y="2267"/>
                  <a:pt x="3700" y="2238"/>
                  <a:pt x="3718" y="2215"/>
                </a:cubicBezTo>
                <a:cubicBezTo>
                  <a:pt x="3724" y="2196"/>
                  <a:pt x="3733" y="2180"/>
                  <a:pt x="3744" y="2163"/>
                </a:cubicBezTo>
                <a:cubicBezTo>
                  <a:pt x="3752" y="2136"/>
                  <a:pt x="3763" y="2111"/>
                  <a:pt x="3770" y="2084"/>
                </a:cubicBezTo>
                <a:cubicBezTo>
                  <a:pt x="3768" y="2010"/>
                  <a:pt x="3785" y="1800"/>
                  <a:pt x="3718" y="1718"/>
                </a:cubicBezTo>
                <a:cubicBezTo>
                  <a:pt x="3703" y="1636"/>
                  <a:pt x="3655" y="1535"/>
                  <a:pt x="3618" y="1461"/>
                </a:cubicBezTo>
                <a:cubicBezTo>
                  <a:pt x="3610" y="1419"/>
                  <a:pt x="3580" y="1388"/>
                  <a:pt x="3561" y="1351"/>
                </a:cubicBezTo>
                <a:cubicBezTo>
                  <a:pt x="3539" y="1306"/>
                  <a:pt x="3537" y="1256"/>
                  <a:pt x="3519" y="1210"/>
                </a:cubicBezTo>
                <a:cubicBezTo>
                  <a:pt x="3511" y="1189"/>
                  <a:pt x="3452" y="1111"/>
                  <a:pt x="3435" y="1094"/>
                </a:cubicBezTo>
                <a:cubicBezTo>
                  <a:pt x="3424" y="1066"/>
                  <a:pt x="3406" y="1045"/>
                  <a:pt x="3388" y="1021"/>
                </a:cubicBezTo>
                <a:cubicBezTo>
                  <a:pt x="3377" y="986"/>
                  <a:pt x="3347" y="948"/>
                  <a:pt x="3320" y="922"/>
                </a:cubicBezTo>
                <a:cubicBezTo>
                  <a:pt x="3284" y="847"/>
                  <a:pt x="3239" y="777"/>
                  <a:pt x="3194" y="707"/>
                </a:cubicBezTo>
                <a:cubicBezTo>
                  <a:pt x="3170" y="669"/>
                  <a:pt x="3158" y="636"/>
                  <a:pt x="3131" y="602"/>
                </a:cubicBezTo>
                <a:cubicBezTo>
                  <a:pt x="3126" y="571"/>
                  <a:pt x="3117" y="557"/>
                  <a:pt x="3105" y="529"/>
                </a:cubicBezTo>
                <a:cubicBezTo>
                  <a:pt x="3100" y="502"/>
                  <a:pt x="3089" y="491"/>
                  <a:pt x="3079" y="466"/>
                </a:cubicBezTo>
                <a:cubicBezTo>
                  <a:pt x="3069" y="441"/>
                  <a:pt x="3064" y="417"/>
                  <a:pt x="3053" y="393"/>
                </a:cubicBezTo>
                <a:cubicBezTo>
                  <a:pt x="3044" y="336"/>
                  <a:pt x="3026" y="281"/>
                  <a:pt x="2990" y="236"/>
                </a:cubicBezTo>
                <a:cubicBezTo>
                  <a:pt x="2978" y="173"/>
                  <a:pt x="2997" y="240"/>
                  <a:pt x="2964" y="194"/>
                </a:cubicBezTo>
                <a:cubicBezTo>
                  <a:pt x="2925" y="140"/>
                  <a:pt x="3004" y="207"/>
                  <a:pt x="2938" y="157"/>
                </a:cubicBezTo>
                <a:cubicBezTo>
                  <a:pt x="2917" y="91"/>
                  <a:pt x="2885" y="57"/>
                  <a:pt x="2823" y="31"/>
                </a:cubicBezTo>
                <a:cubicBezTo>
                  <a:pt x="2810" y="19"/>
                  <a:pt x="2808" y="15"/>
                  <a:pt x="2786" y="10"/>
                </a:cubicBezTo>
                <a:cubicBezTo>
                  <a:pt x="2765" y="5"/>
                  <a:pt x="2723" y="0"/>
                  <a:pt x="2723" y="0"/>
                </a:cubicBezTo>
                <a:cubicBezTo>
                  <a:pt x="2680" y="8"/>
                  <a:pt x="2636" y="8"/>
                  <a:pt x="2592" y="16"/>
                </a:cubicBezTo>
                <a:cubicBezTo>
                  <a:pt x="2539" y="26"/>
                  <a:pt x="2489" y="40"/>
                  <a:pt x="2435" y="47"/>
                </a:cubicBezTo>
                <a:cubicBezTo>
                  <a:pt x="2419" y="52"/>
                  <a:pt x="2404" y="58"/>
                  <a:pt x="2388" y="63"/>
                </a:cubicBezTo>
                <a:cubicBezTo>
                  <a:pt x="2368" y="81"/>
                  <a:pt x="2341" y="91"/>
                  <a:pt x="2315" y="99"/>
                </a:cubicBezTo>
                <a:cubicBezTo>
                  <a:pt x="2292" y="106"/>
                  <a:pt x="2294" y="98"/>
                  <a:pt x="2294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19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Reactiv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505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819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nary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ry pair  (x,y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ondetSys  is called a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600200"/>
            <a:ext cx="198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(3,a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30400" y="1828800"/>
            <a:ext cx="6008760" cy="4017960"/>
          </a:xfrm>
          <a:custGeom>
            <a:avLst/>
            <a:gdLst/>
            <a:ahLst/>
            <a:rect l="l" t="t" r="r" b="b"/>
            <a:pathLst>
              <a:path w="3785" h="2531">
                <a:moveTo>
                  <a:pt x="2294" y="110"/>
                </a:moveTo>
                <a:cubicBezTo>
                  <a:pt x="2227" y="142"/>
                  <a:pt x="2203" y="215"/>
                  <a:pt x="2147" y="257"/>
                </a:cubicBezTo>
                <a:cubicBezTo>
                  <a:pt x="2132" y="286"/>
                  <a:pt x="2114" y="305"/>
                  <a:pt x="2095" y="330"/>
                </a:cubicBezTo>
                <a:cubicBezTo>
                  <a:pt x="2069" y="365"/>
                  <a:pt x="2047" y="404"/>
                  <a:pt x="2016" y="435"/>
                </a:cubicBezTo>
                <a:cubicBezTo>
                  <a:pt x="1993" y="482"/>
                  <a:pt x="1940" y="504"/>
                  <a:pt x="1911" y="545"/>
                </a:cubicBezTo>
                <a:cubicBezTo>
                  <a:pt x="1884" y="583"/>
                  <a:pt x="1869" y="599"/>
                  <a:pt x="1833" y="628"/>
                </a:cubicBezTo>
                <a:cubicBezTo>
                  <a:pt x="1813" y="662"/>
                  <a:pt x="1789" y="665"/>
                  <a:pt x="1760" y="691"/>
                </a:cubicBezTo>
                <a:cubicBezTo>
                  <a:pt x="1723" y="724"/>
                  <a:pt x="1697" y="751"/>
                  <a:pt x="1650" y="765"/>
                </a:cubicBezTo>
                <a:cubicBezTo>
                  <a:pt x="1606" y="796"/>
                  <a:pt x="1556" y="813"/>
                  <a:pt x="1508" y="838"/>
                </a:cubicBezTo>
                <a:cubicBezTo>
                  <a:pt x="1483" y="851"/>
                  <a:pt x="1462" y="872"/>
                  <a:pt x="1435" y="880"/>
                </a:cubicBezTo>
                <a:cubicBezTo>
                  <a:pt x="1418" y="885"/>
                  <a:pt x="1399" y="888"/>
                  <a:pt x="1383" y="895"/>
                </a:cubicBezTo>
                <a:cubicBezTo>
                  <a:pt x="1329" y="920"/>
                  <a:pt x="1281" y="958"/>
                  <a:pt x="1225" y="979"/>
                </a:cubicBezTo>
                <a:cubicBezTo>
                  <a:pt x="1154" y="1036"/>
                  <a:pt x="1049" y="1057"/>
                  <a:pt x="964" y="1084"/>
                </a:cubicBezTo>
                <a:cubicBezTo>
                  <a:pt x="926" y="1096"/>
                  <a:pt x="897" y="1122"/>
                  <a:pt x="859" y="1131"/>
                </a:cubicBezTo>
                <a:cubicBezTo>
                  <a:pt x="824" y="1159"/>
                  <a:pt x="783" y="1175"/>
                  <a:pt x="738" y="1183"/>
                </a:cubicBezTo>
                <a:cubicBezTo>
                  <a:pt x="702" y="1212"/>
                  <a:pt x="665" y="1213"/>
                  <a:pt x="623" y="1231"/>
                </a:cubicBezTo>
                <a:cubicBezTo>
                  <a:pt x="558" y="1258"/>
                  <a:pt x="491" y="1280"/>
                  <a:pt x="430" y="1314"/>
                </a:cubicBezTo>
                <a:cubicBezTo>
                  <a:pt x="382" y="1340"/>
                  <a:pt x="431" y="1323"/>
                  <a:pt x="393" y="1335"/>
                </a:cubicBezTo>
                <a:cubicBezTo>
                  <a:pt x="374" y="1354"/>
                  <a:pt x="344" y="1361"/>
                  <a:pt x="320" y="1372"/>
                </a:cubicBezTo>
                <a:cubicBezTo>
                  <a:pt x="309" y="1382"/>
                  <a:pt x="300" y="1394"/>
                  <a:pt x="288" y="1403"/>
                </a:cubicBezTo>
                <a:cubicBezTo>
                  <a:pt x="283" y="1406"/>
                  <a:pt x="276" y="1405"/>
                  <a:pt x="272" y="1409"/>
                </a:cubicBezTo>
                <a:cubicBezTo>
                  <a:pt x="267" y="1415"/>
                  <a:pt x="267" y="1424"/>
                  <a:pt x="262" y="1430"/>
                </a:cubicBezTo>
                <a:cubicBezTo>
                  <a:pt x="256" y="1437"/>
                  <a:pt x="247" y="1439"/>
                  <a:pt x="241" y="1445"/>
                </a:cubicBezTo>
                <a:cubicBezTo>
                  <a:pt x="220" y="1466"/>
                  <a:pt x="201" y="1496"/>
                  <a:pt x="183" y="1519"/>
                </a:cubicBezTo>
                <a:cubicBezTo>
                  <a:pt x="162" y="1547"/>
                  <a:pt x="137" y="1570"/>
                  <a:pt x="115" y="1597"/>
                </a:cubicBezTo>
                <a:cubicBezTo>
                  <a:pt x="109" y="1624"/>
                  <a:pt x="94" y="1642"/>
                  <a:pt x="79" y="1665"/>
                </a:cubicBezTo>
                <a:cubicBezTo>
                  <a:pt x="79" y="1666"/>
                  <a:pt x="71" y="1702"/>
                  <a:pt x="68" y="1707"/>
                </a:cubicBezTo>
                <a:cubicBezTo>
                  <a:pt x="38" y="1755"/>
                  <a:pt x="67" y="1688"/>
                  <a:pt x="42" y="1744"/>
                </a:cubicBezTo>
                <a:cubicBezTo>
                  <a:pt x="30" y="1770"/>
                  <a:pt x="26" y="1800"/>
                  <a:pt x="16" y="1827"/>
                </a:cubicBezTo>
                <a:cubicBezTo>
                  <a:pt x="8" y="1917"/>
                  <a:pt x="0" y="2013"/>
                  <a:pt x="26" y="2100"/>
                </a:cubicBezTo>
                <a:cubicBezTo>
                  <a:pt x="33" y="2122"/>
                  <a:pt x="44" y="2153"/>
                  <a:pt x="53" y="2173"/>
                </a:cubicBezTo>
                <a:cubicBezTo>
                  <a:pt x="58" y="2184"/>
                  <a:pt x="73" y="2205"/>
                  <a:pt x="73" y="2205"/>
                </a:cubicBezTo>
                <a:cubicBezTo>
                  <a:pt x="98" y="2289"/>
                  <a:pt x="214" y="2370"/>
                  <a:pt x="288" y="2403"/>
                </a:cubicBezTo>
                <a:cubicBezTo>
                  <a:pt x="309" y="2413"/>
                  <a:pt x="334" y="2411"/>
                  <a:pt x="356" y="2419"/>
                </a:cubicBezTo>
                <a:cubicBezTo>
                  <a:pt x="409" y="2439"/>
                  <a:pt x="445" y="2469"/>
                  <a:pt x="508" y="2472"/>
                </a:cubicBezTo>
                <a:cubicBezTo>
                  <a:pt x="588" y="2475"/>
                  <a:pt x="669" y="2478"/>
                  <a:pt x="749" y="2482"/>
                </a:cubicBezTo>
                <a:cubicBezTo>
                  <a:pt x="810" y="2485"/>
                  <a:pt x="871" y="2489"/>
                  <a:pt x="932" y="2493"/>
                </a:cubicBezTo>
                <a:cubicBezTo>
                  <a:pt x="1133" y="2531"/>
                  <a:pt x="1327" y="2479"/>
                  <a:pt x="1524" y="2456"/>
                </a:cubicBezTo>
                <a:cubicBezTo>
                  <a:pt x="1559" y="2441"/>
                  <a:pt x="1592" y="2435"/>
                  <a:pt x="1629" y="2430"/>
                </a:cubicBezTo>
                <a:cubicBezTo>
                  <a:pt x="1659" y="2408"/>
                  <a:pt x="1693" y="2411"/>
                  <a:pt x="1728" y="2403"/>
                </a:cubicBezTo>
                <a:cubicBezTo>
                  <a:pt x="1822" y="2382"/>
                  <a:pt x="1895" y="2370"/>
                  <a:pt x="1995" y="2362"/>
                </a:cubicBezTo>
                <a:cubicBezTo>
                  <a:pt x="2269" y="2365"/>
                  <a:pt x="2523" y="2371"/>
                  <a:pt x="2791" y="2398"/>
                </a:cubicBezTo>
                <a:cubicBezTo>
                  <a:pt x="2892" y="2422"/>
                  <a:pt x="2776" y="2397"/>
                  <a:pt x="2927" y="2414"/>
                </a:cubicBezTo>
                <a:cubicBezTo>
                  <a:pt x="2991" y="2421"/>
                  <a:pt x="3056" y="2437"/>
                  <a:pt x="3121" y="2445"/>
                </a:cubicBezTo>
                <a:cubicBezTo>
                  <a:pt x="3173" y="2444"/>
                  <a:pt x="3341" y="2449"/>
                  <a:pt x="3425" y="2430"/>
                </a:cubicBezTo>
                <a:cubicBezTo>
                  <a:pt x="3460" y="2422"/>
                  <a:pt x="3494" y="2403"/>
                  <a:pt x="3529" y="2393"/>
                </a:cubicBezTo>
                <a:cubicBezTo>
                  <a:pt x="3578" y="2364"/>
                  <a:pt x="3626" y="2329"/>
                  <a:pt x="3666" y="2288"/>
                </a:cubicBezTo>
                <a:cubicBezTo>
                  <a:pt x="3686" y="2267"/>
                  <a:pt x="3700" y="2238"/>
                  <a:pt x="3718" y="2215"/>
                </a:cubicBezTo>
                <a:cubicBezTo>
                  <a:pt x="3724" y="2196"/>
                  <a:pt x="3733" y="2180"/>
                  <a:pt x="3744" y="2163"/>
                </a:cubicBezTo>
                <a:cubicBezTo>
                  <a:pt x="3752" y="2136"/>
                  <a:pt x="3763" y="2111"/>
                  <a:pt x="3770" y="2084"/>
                </a:cubicBezTo>
                <a:cubicBezTo>
                  <a:pt x="3768" y="2010"/>
                  <a:pt x="3785" y="1800"/>
                  <a:pt x="3718" y="1718"/>
                </a:cubicBezTo>
                <a:cubicBezTo>
                  <a:pt x="3703" y="1636"/>
                  <a:pt x="3655" y="1535"/>
                  <a:pt x="3618" y="1461"/>
                </a:cubicBezTo>
                <a:cubicBezTo>
                  <a:pt x="3610" y="1419"/>
                  <a:pt x="3580" y="1388"/>
                  <a:pt x="3561" y="1351"/>
                </a:cubicBezTo>
                <a:cubicBezTo>
                  <a:pt x="3539" y="1306"/>
                  <a:pt x="3537" y="1256"/>
                  <a:pt x="3519" y="1210"/>
                </a:cubicBezTo>
                <a:cubicBezTo>
                  <a:pt x="3511" y="1189"/>
                  <a:pt x="3452" y="1111"/>
                  <a:pt x="3435" y="1094"/>
                </a:cubicBezTo>
                <a:cubicBezTo>
                  <a:pt x="3424" y="1066"/>
                  <a:pt x="3406" y="1045"/>
                  <a:pt x="3388" y="1021"/>
                </a:cubicBezTo>
                <a:cubicBezTo>
                  <a:pt x="3377" y="986"/>
                  <a:pt x="3347" y="948"/>
                  <a:pt x="3320" y="922"/>
                </a:cubicBezTo>
                <a:cubicBezTo>
                  <a:pt x="3284" y="847"/>
                  <a:pt x="3239" y="777"/>
                  <a:pt x="3194" y="707"/>
                </a:cubicBezTo>
                <a:cubicBezTo>
                  <a:pt x="3170" y="669"/>
                  <a:pt x="3158" y="636"/>
                  <a:pt x="3131" y="602"/>
                </a:cubicBezTo>
                <a:cubicBezTo>
                  <a:pt x="3126" y="571"/>
                  <a:pt x="3117" y="557"/>
                  <a:pt x="3105" y="529"/>
                </a:cubicBezTo>
                <a:cubicBezTo>
                  <a:pt x="3100" y="502"/>
                  <a:pt x="3089" y="491"/>
                  <a:pt x="3079" y="466"/>
                </a:cubicBezTo>
                <a:cubicBezTo>
                  <a:pt x="3069" y="441"/>
                  <a:pt x="3064" y="417"/>
                  <a:pt x="3053" y="393"/>
                </a:cubicBezTo>
                <a:cubicBezTo>
                  <a:pt x="3044" y="336"/>
                  <a:pt x="3026" y="281"/>
                  <a:pt x="2990" y="236"/>
                </a:cubicBezTo>
                <a:cubicBezTo>
                  <a:pt x="2978" y="173"/>
                  <a:pt x="2997" y="240"/>
                  <a:pt x="2964" y="194"/>
                </a:cubicBezTo>
                <a:cubicBezTo>
                  <a:pt x="2925" y="140"/>
                  <a:pt x="3004" y="207"/>
                  <a:pt x="2938" y="157"/>
                </a:cubicBezTo>
                <a:cubicBezTo>
                  <a:pt x="2917" y="91"/>
                  <a:pt x="2885" y="57"/>
                  <a:pt x="2823" y="31"/>
                </a:cubicBezTo>
                <a:cubicBezTo>
                  <a:pt x="2810" y="19"/>
                  <a:pt x="2808" y="15"/>
                  <a:pt x="2786" y="10"/>
                </a:cubicBezTo>
                <a:cubicBezTo>
                  <a:pt x="2765" y="5"/>
                  <a:pt x="2723" y="0"/>
                  <a:pt x="2723" y="0"/>
                </a:cubicBezTo>
                <a:cubicBezTo>
                  <a:pt x="2680" y="8"/>
                  <a:pt x="2636" y="8"/>
                  <a:pt x="2592" y="16"/>
                </a:cubicBezTo>
                <a:cubicBezTo>
                  <a:pt x="2539" y="26"/>
                  <a:pt x="2489" y="40"/>
                  <a:pt x="2435" y="47"/>
                </a:cubicBezTo>
                <a:cubicBezTo>
                  <a:pt x="2419" y="52"/>
                  <a:pt x="2404" y="58"/>
                  <a:pt x="2388" y="63"/>
                </a:cubicBezTo>
                <a:cubicBezTo>
                  <a:pt x="2368" y="81"/>
                  <a:pt x="2341" y="91"/>
                  <a:pt x="2315" y="99"/>
                </a:cubicBezTo>
                <a:cubicBezTo>
                  <a:pt x="2292" y="106"/>
                  <a:pt x="2294" y="98"/>
                  <a:pt x="2294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95520" y="1954080"/>
            <a:ext cx="4380120" cy="3638520"/>
          </a:xfrm>
          <a:custGeom>
            <a:avLst/>
            <a:gdLst/>
            <a:ahLst/>
            <a:rect l="l" t="t" r="r" b="b"/>
            <a:pathLst>
              <a:path w="2759" h="2292">
                <a:moveTo>
                  <a:pt x="57" y="146"/>
                </a:moveTo>
                <a:cubicBezTo>
                  <a:pt x="0" y="221"/>
                  <a:pt x="31" y="325"/>
                  <a:pt x="36" y="413"/>
                </a:cubicBezTo>
                <a:cubicBezTo>
                  <a:pt x="40" y="484"/>
                  <a:pt x="75" y="555"/>
                  <a:pt x="119" y="607"/>
                </a:cubicBezTo>
                <a:cubicBezTo>
                  <a:pt x="153" y="646"/>
                  <a:pt x="170" y="703"/>
                  <a:pt x="208" y="738"/>
                </a:cubicBezTo>
                <a:cubicBezTo>
                  <a:pt x="276" y="802"/>
                  <a:pt x="367" y="843"/>
                  <a:pt x="449" y="884"/>
                </a:cubicBezTo>
                <a:cubicBezTo>
                  <a:pt x="483" y="901"/>
                  <a:pt x="521" y="913"/>
                  <a:pt x="554" y="932"/>
                </a:cubicBezTo>
                <a:cubicBezTo>
                  <a:pt x="635" y="978"/>
                  <a:pt x="599" y="969"/>
                  <a:pt x="653" y="979"/>
                </a:cubicBezTo>
                <a:cubicBezTo>
                  <a:pt x="684" y="996"/>
                  <a:pt x="714" y="1015"/>
                  <a:pt x="748" y="1026"/>
                </a:cubicBezTo>
                <a:cubicBezTo>
                  <a:pt x="825" y="1078"/>
                  <a:pt x="926" y="1136"/>
                  <a:pt x="1020" y="1146"/>
                </a:cubicBezTo>
                <a:cubicBezTo>
                  <a:pt x="1063" y="1168"/>
                  <a:pt x="1099" y="1178"/>
                  <a:pt x="1146" y="1188"/>
                </a:cubicBezTo>
                <a:cubicBezTo>
                  <a:pt x="1203" y="1213"/>
                  <a:pt x="1257" y="1234"/>
                  <a:pt x="1313" y="1262"/>
                </a:cubicBezTo>
                <a:cubicBezTo>
                  <a:pt x="1339" y="1275"/>
                  <a:pt x="1392" y="1298"/>
                  <a:pt x="1392" y="1298"/>
                </a:cubicBezTo>
                <a:cubicBezTo>
                  <a:pt x="1427" y="1329"/>
                  <a:pt x="1454" y="1339"/>
                  <a:pt x="1497" y="1356"/>
                </a:cubicBezTo>
                <a:cubicBezTo>
                  <a:pt x="1529" y="1400"/>
                  <a:pt x="1572" y="1429"/>
                  <a:pt x="1601" y="1476"/>
                </a:cubicBezTo>
                <a:cubicBezTo>
                  <a:pt x="1673" y="1593"/>
                  <a:pt x="1769" y="1689"/>
                  <a:pt x="1847" y="1801"/>
                </a:cubicBezTo>
                <a:cubicBezTo>
                  <a:pt x="1880" y="1848"/>
                  <a:pt x="1918" y="1891"/>
                  <a:pt x="1952" y="1937"/>
                </a:cubicBezTo>
                <a:cubicBezTo>
                  <a:pt x="1960" y="1948"/>
                  <a:pt x="1963" y="1964"/>
                  <a:pt x="1973" y="1974"/>
                </a:cubicBezTo>
                <a:cubicBezTo>
                  <a:pt x="1990" y="1992"/>
                  <a:pt x="2031" y="2021"/>
                  <a:pt x="2031" y="2021"/>
                </a:cubicBezTo>
                <a:cubicBezTo>
                  <a:pt x="2051" y="2056"/>
                  <a:pt x="2068" y="2075"/>
                  <a:pt x="2104" y="2094"/>
                </a:cubicBezTo>
                <a:cubicBezTo>
                  <a:pt x="2177" y="2213"/>
                  <a:pt x="2319" y="2262"/>
                  <a:pt x="2450" y="2283"/>
                </a:cubicBezTo>
                <a:cubicBezTo>
                  <a:pt x="2477" y="2292"/>
                  <a:pt x="2491" y="2268"/>
                  <a:pt x="2518" y="2262"/>
                </a:cubicBezTo>
                <a:cubicBezTo>
                  <a:pt x="2542" y="2236"/>
                  <a:pt x="2572" y="2212"/>
                  <a:pt x="2607" y="2204"/>
                </a:cubicBezTo>
                <a:cubicBezTo>
                  <a:pt x="2629" y="2169"/>
                  <a:pt x="2650" y="2132"/>
                  <a:pt x="2675" y="2099"/>
                </a:cubicBezTo>
                <a:cubicBezTo>
                  <a:pt x="2683" y="2075"/>
                  <a:pt x="2693" y="2065"/>
                  <a:pt x="2711" y="2047"/>
                </a:cubicBezTo>
                <a:cubicBezTo>
                  <a:pt x="2719" y="2018"/>
                  <a:pt x="2726" y="1982"/>
                  <a:pt x="2743" y="1958"/>
                </a:cubicBezTo>
                <a:cubicBezTo>
                  <a:pt x="2746" y="1923"/>
                  <a:pt x="2757" y="1888"/>
                  <a:pt x="2758" y="1853"/>
                </a:cubicBezTo>
                <a:cubicBezTo>
                  <a:pt x="2759" y="1802"/>
                  <a:pt x="2757" y="1752"/>
                  <a:pt x="2753" y="1701"/>
                </a:cubicBezTo>
                <a:cubicBezTo>
                  <a:pt x="2749" y="1645"/>
                  <a:pt x="2728" y="1619"/>
                  <a:pt x="2690" y="1581"/>
                </a:cubicBezTo>
                <a:cubicBezTo>
                  <a:pt x="2673" y="1564"/>
                  <a:pt x="2678" y="1551"/>
                  <a:pt x="2664" y="1534"/>
                </a:cubicBezTo>
                <a:cubicBezTo>
                  <a:pt x="2653" y="1521"/>
                  <a:pt x="2640" y="1509"/>
                  <a:pt x="2628" y="1497"/>
                </a:cubicBezTo>
                <a:cubicBezTo>
                  <a:pt x="2584" y="1452"/>
                  <a:pt x="2581" y="1419"/>
                  <a:pt x="2512" y="1403"/>
                </a:cubicBezTo>
                <a:cubicBezTo>
                  <a:pt x="2494" y="1390"/>
                  <a:pt x="2481" y="1374"/>
                  <a:pt x="2460" y="1366"/>
                </a:cubicBezTo>
                <a:cubicBezTo>
                  <a:pt x="2445" y="1360"/>
                  <a:pt x="2413" y="1351"/>
                  <a:pt x="2413" y="1351"/>
                </a:cubicBezTo>
                <a:cubicBezTo>
                  <a:pt x="2365" y="1303"/>
                  <a:pt x="2371" y="1324"/>
                  <a:pt x="2324" y="1288"/>
                </a:cubicBezTo>
                <a:cubicBezTo>
                  <a:pt x="2303" y="1272"/>
                  <a:pt x="2284" y="1249"/>
                  <a:pt x="2261" y="1235"/>
                </a:cubicBezTo>
                <a:cubicBezTo>
                  <a:pt x="2253" y="1230"/>
                  <a:pt x="2243" y="1229"/>
                  <a:pt x="2235" y="1225"/>
                </a:cubicBezTo>
                <a:cubicBezTo>
                  <a:pt x="2224" y="1220"/>
                  <a:pt x="2213" y="1215"/>
                  <a:pt x="2203" y="1209"/>
                </a:cubicBezTo>
                <a:cubicBezTo>
                  <a:pt x="2169" y="1187"/>
                  <a:pt x="2155" y="1173"/>
                  <a:pt x="2114" y="1162"/>
                </a:cubicBezTo>
                <a:cubicBezTo>
                  <a:pt x="2069" y="1128"/>
                  <a:pt x="2020" y="1111"/>
                  <a:pt x="1973" y="1078"/>
                </a:cubicBezTo>
                <a:cubicBezTo>
                  <a:pt x="1928" y="1046"/>
                  <a:pt x="1859" y="985"/>
                  <a:pt x="1800" y="974"/>
                </a:cubicBezTo>
                <a:cubicBezTo>
                  <a:pt x="1783" y="950"/>
                  <a:pt x="1774" y="950"/>
                  <a:pt x="1748" y="937"/>
                </a:cubicBezTo>
                <a:cubicBezTo>
                  <a:pt x="1711" y="900"/>
                  <a:pt x="1756" y="941"/>
                  <a:pt x="1706" y="911"/>
                </a:cubicBezTo>
                <a:cubicBezTo>
                  <a:pt x="1677" y="894"/>
                  <a:pt x="1653" y="874"/>
                  <a:pt x="1622" y="858"/>
                </a:cubicBezTo>
                <a:cubicBezTo>
                  <a:pt x="1597" y="829"/>
                  <a:pt x="1521" y="755"/>
                  <a:pt x="1481" y="743"/>
                </a:cubicBezTo>
                <a:cubicBezTo>
                  <a:pt x="1464" y="720"/>
                  <a:pt x="1468" y="722"/>
                  <a:pt x="1444" y="706"/>
                </a:cubicBezTo>
                <a:cubicBezTo>
                  <a:pt x="1430" y="697"/>
                  <a:pt x="1402" y="680"/>
                  <a:pt x="1402" y="680"/>
                </a:cubicBezTo>
                <a:cubicBezTo>
                  <a:pt x="1388" y="659"/>
                  <a:pt x="1372" y="651"/>
                  <a:pt x="1350" y="638"/>
                </a:cubicBezTo>
                <a:cubicBezTo>
                  <a:pt x="1326" y="607"/>
                  <a:pt x="1284" y="585"/>
                  <a:pt x="1250" y="565"/>
                </a:cubicBezTo>
                <a:cubicBezTo>
                  <a:pt x="1216" y="524"/>
                  <a:pt x="1174" y="515"/>
                  <a:pt x="1140" y="481"/>
                </a:cubicBezTo>
                <a:cubicBezTo>
                  <a:pt x="1118" y="459"/>
                  <a:pt x="1102" y="436"/>
                  <a:pt x="1078" y="418"/>
                </a:cubicBezTo>
                <a:cubicBezTo>
                  <a:pt x="1054" y="358"/>
                  <a:pt x="990" y="337"/>
                  <a:pt x="941" y="303"/>
                </a:cubicBezTo>
                <a:cubicBezTo>
                  <a:pt x="827" y="223"/>
                  <a:pt x="724" y="121"/>
                  <a:pt x="585" y="78"/>
                </a:cubicBezTo>
                <a:cubicBezTo>
                  <a:pt x="547" y="52"/>
                  <a:pt x="506" y="43"/>
                  <a:pt x="460" y="36"/>
                </a:cubicBezTo>
                <a:cubicBezTo>
                  <a:pt x="367" y="0"/>
                  <a:pt x="255" y="30"/>
                  <a:pt x="156" y="36"/>
                </a:cubicBezTo>
                <a:cubicBezTo>
                  <a:pt x="109" y="48"/>
                  <a:pt x="33" y="82"/>
                  <a:pt x="57" y="146"/>
                </a:cubicBezTo>
                <a:close/>
              </a:path>
            </a:pathLst>
          </a:custGeom>
          <a:noFill/>
          <a:ln w="19080">
            <a:solidFill>
              <a:srgbClr val="d6009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 Third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 Third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400800" y="541008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0666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 cases of nondeterministic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43000" y="2819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(“almost deterministic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4572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these machines, simulations can be found easily (provided they exi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447920" y="121932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input-output pair, there is only one successo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5257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or example, LCwD and NotTwice are output-deterministic; ThirdZero is deterministi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4038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stic implies output-deterministic, but not vice ver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295280" y="190512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signal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exactly one run of the 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exactly one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33520" y="914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 a simulation S of M1 by M2 can be found as follow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236232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If 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InitialStates [M1]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[M2]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f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’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Updates [M1] (p,x)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[M2] (q,x)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’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’,q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05120" y="4038480"/>
            <a:ext cx="1371600" cy="12193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and only if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3962520"/>
            <a:ext cx="236196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4572000"/>
            <a:ext cx="457200" cy="685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5334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1 refines M2, and M2 refines 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143000" y="990720"/>
            <a:ext cx="7238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 M2  may not refine  M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Recall  M1 = ThirdZero  and  M2 = NotTwice 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838080" y="129528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 M1 refine M2 even if M1 is not simulated by M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86200" y="228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behaviors: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0000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0400" y="6324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two behaviors: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0000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33920" y="838080"/>
            <a:ext cx="1066680" cy="4496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4496040"/>
              <a:gd name="textAreaBottom" fmla="*/ 4444200 h 4496040"/>
            </a:gdLst>
            <a:ahLst/>
            <a:rect l="textAreaLeft" t="textAreaTop" r="textAreaRight" b="textAreaBottom"/>
            <a:pathLst>
              <a:path w="21600" h="91020">
                <a:moveTo>
                  <a:pt x="3600" y="0"/>
                </a:moveTo>
                <a:arcTo wR="3600" hR="3600" stAng="16200000" swAng="-5400000"/>
                <a:lnTo>
                  <a:pt x="0" y="87420"/>
                </a:lnTo>
                <a:arcTo wR="3600" hR="3600" stAng="10800000" swAng="-5400000"/>
                <a:lnTo>
                  <a:pt x="18000" y="91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(b, y), (c, 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33920" y="838080"/>
            <a:ext cx="1066680" cy="4496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4496040"/>
              <a:gd name="textAreaBottom" fmla="*/ 4444200 h 4496040"/>
            </a:gdLst>
            <a:ahLst/>
            <a:rect l="textAreaLeft" t="textAreaTop" r="textAreaRight" b="textAreaBottom"/>
            <a:pathLst>
              <a:path w="21600" h="91020">
                <a:moveTo>
                  <a:pt x="3600" y="0"/>
                </a:moveTo>
                <a:arcTo wR="3600" hR="3600" stAng="16200000" swAng="-5400000"/>
                <a:lnTo>
                  <a:pt x="0" y="87420"/>
                </a:lnTo>
                <a:arcTo wR="3600" hR="3600" stAng="10800000" swAng="-5400000"/>
                <a:lnTo>
                  <a:pt x="18000" y="91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(b, y), (c, y), (d, z), (e, u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37120" y="939960"/>
            <a:ext cx="2255760" cy="3876480"/>
          </a:xfrm>
          <a:custGeom>
            <a:avLst/>
            <a:gdLst/>
            <a:ahLst/>
            <a:rect l="l" t="t" r="r" b="b"/>
            <a:pathLst>
              <a:path w="1421" h="2442">
                <a:moveTo>
                  <a:pt x="309" y="15"/>
                </a:moveTo>
                <a:cubicBezTo>
                  <a:pt x="277" y="25"/>
                  <a:pt x="247" y="37"/>
                  <a:pt x="215" y="47"/>
                </a:cubicBezTo>
                <a:cubicBezTo>
                  <a:pt x="201" y="60"/>
                  <a:pt x="192" y="75"/>
                  <a:pt x="178" y="89"/>
                </a:cubicBezTo>
                <a:cubicBezTo>
                  <a:pt x="170" y="123"/>
                  <a:pt x="142" y="154"/>
                  <a:pt x="121" y="183"/>
                </a:cubicBezTo>
                <a:cubicBezTo>
                  <a:pt x="90" y="286"/>
                  <a:pt x="108" y="398"/>
                  <a:pt x="189" y="471"/>
                </a:cubicBezTo>
                <a:cubicBezTo>
                  <a:pt x="202" y="524"/>
                  <a:pt x="182" y="469"/>
                  <a:pt x="210" y="497"/>
                </a:cubicBezTo>
                <a:cubicBezTo>
                  <a:pt x="242" y="529"/>
                  <a:pt x="198" y="511"/>
                  <a:pt x="236" y="523"/>
                </a:cubicBezTo>
                <a:cubicBezTo>
                  <a:pt x="287" y="574"/>
                  <a:pt x="339" y="614"/>
                  <a:pt x="409" y="633"/>
                </a:cubicBezTo>
                <a:cubicBezTo>
                  <a:pt x="466" y="667"/>
                  <a:pt x="526" y="704"/>
                  <a:pt x="592" y="717"/>
                </a:cubicBezTo>
                <a:cubicBezTo>
                  <a:pt x="624" y="743"/>
                  <a:pt x="665" y="760"/>
                  <a:pt x="702" y="780"/>
                </a:cubicBezTo>
                <a:cubicBezTo>
                  <a:pt x="806" y="838"/>
                  <a:pt x="717" y="813"/>
                  <a:pt x="775" y="827"/>
                </a:cubicBezTo>
                <a:cubicBezTo>
                  <a:pt x="853" y="878"/>
                  <a:pt x="894" y="980"/>
                  <a:pt x="917" y="1068"/>
                </a:cubicBezTo>
                <a:cubicBezTo>
                  <a:pt x="909" y="1129"/>
                  <a:pt x="893" y="1182"/>
                  <a:pt x="854" y="1230"/>
                </a:cubicBezTo>
                <a:cubicBezTo>
                  <a:pt x="848" y="1255"/>
                  <a:pt x="847" y="1274"/>
                  <a:pt x="822" y="1283"/>
                </a:cubicBezTo>
                <a:cubicBezTo>
                  <a:pt x="793" y="1332"/>
                  <a:pt x="748" y="1373"/>
                  <a:pt x="702" y="1408"/>
                </a:cubicBezTo>
                <a:cubicBezTo>
                  <a:pt x="683" y="1423"/>
                  <a:pt x="656" y="1428"/>
                  <a:pt x="639" y="1445"/>
                </a:cubicBezTo>
                <a:cubicBezTo>
                  <a:pt x="613" y="1471"/>
                  <a:pt x="627" y="1462"/>
                  <a:pt x="597" y="1476"/>
                </a:cubicBezTo>
                <a:cubicBezTo>
                  <a:pt x="571" y="1502"/>
                  <a:pt x="539" y="1507"/>
                  <a:pt x="508" y="1529"/>
                </a:cubicBezTo>
                <a:cubicBezTo>
                  <a:pt x="457" y="1566"/>
                  <a:pt x="394" y="1591"/>
                  <a:pt x="335" y="1613"/>
                </a:cubicBezTo>
                <a:cubicBezTo>
                  <a:pt x="288" y="1649"/>
                  <a:pt x="255" y="1679"/>
                  <a:pt x="215" y="1722"/>
                </a:cubicBezTo>
                <a:cubicBezTo>
                  <a:pt x="202" y="1737"/>
                  <a:pt x="183" y="1747"/>
                  <a:pt x="173" y="1764"/>
                </a:cubicBezTo>
                <a:cubicBezTo>
                  <a:pt x="159" y="1786"/>
                  <a:pt x="126" y="1827"/>
                  <a:pt x="126" y="1827"/>
                </a:cubicBezTo>
                <a:cubicBezTo>
                  <a:pt x="115" y="1863"/>
                  <a:pt x="132" y="1822"/>
                  <a:pt x="100" y="1853"/>
                </a:cubicBezTo>
                <a:cubicBezTo>
                  <a:pt x="96" y="1857"/>
                  <a:pt x="97" y="1864"/>
                  <a:pt x="94" y="1869"/>
                </a:cubicBezTo>
                <a:cubicBezTo>
                  <a:pt x="82" y="1888"/>
                  <a:pt x="65" y="1902"/>
                  <a:pt x="47" y="1916"/>
                </a:cubicBezTo>
                <a:cubicBezTo>
                  <a:pt x="42" y="1943"/>
                  <a:pt x="30" y="1954"/>
                  <a:pt x="21" y="1979"/>
                </a:cubicBezTo>
                <a:cubicBezTo>
                  <a:pt x="9" y="2010"/>
                  <a:pt x="7" y="2024"/>
                  <a:pt x="0" y="2052"/>
                </a:cubicBezTo>
                <a:cubicBezTo>
                  <a:pt x="21" y="2150"/>
                  <a:pt x="26" y="2202"/>
                  <a:pt x="105" y="2262"/>
                </a:cubicBezTo>
                <a:cubicBezTo>
                  <a:pt x="153" y="2339"/>
                  <a:pt x="213" y="2347"/>
                  <a:pt x="293" y="2367"/>
                </a:cubicBezTo>
                <a:cubicBezTo>
                  <a:pt x="365" y="2385"/>
                  <a:pt x="435" y="2408"/>
                  <a:pt x="508" y="2424"/>
                </a:cubicBezTo>
                <a:cubicBezTo>
                  <a:pt x="672" y="2421"/>
                  <a:pt x="836" y="2442"/>
                  <a:pt x="985" y="2367"/>
                </a:cubicBezTo>
                <a:cubicBezTo>
                  <a:pt x="1022" y="2348"/>
                  <a:pt x="1039" y="2310"/>
                  <a:pt x="1079" y="2293"/>
                </a:cubicBezTo>
                <a:cubicBezTo>
                  <a:pt x="1091" y="2275"/>
                  <a:pt x="1107" y="2267"/>
                  <a:pt x="1121" y="2251"/>
                </a:cubicBezTo>
                <a:cubicBezTo>
                  <a:pt x="1151" y="2216"/>
                  <a:pt x="1179" y="2179"/>
                  <a:pt x="1205" y="2141"/>
                </a:cubicBezTo>
                <a:cubicBezTo>
                  <a:pt x="1215" y="2112"/>
                  <a:pt x="1233" y="2086"/>
                  <a:pt x="1246" y="2058"/>
                </a:cubicBezTo>
                <a:cubicBezTo>
                  <a:pt x="1252" y="2019"/>
                  <a:pt x="1262" y="2007"/>
                  <a:pt x="1288" y="1979"/>
                </a:cubicBezTo>
                <a:cubicBezTo>
                  <a:pt x="1306" y="1930"/>
                  <a:pt x="1328" y="1882"/>
                  <a:pt x="1346" y="1832"/>
                </a:cubicBezTo>
                <a:cubicBezTo>
                  <a:pt x="1353" y="1783"/>
                  <a:pt x="1372" y="1739"/>
                  <a:pt x="1383" y="1691"/>
                </a:cubicBezTo>
                <a:cubicBezTo>
                  <a:pt x="1409" y="1462"/>
                  <a:pt x="1421" y="1225"/>
                  <a:pt x="1367" y="1000"/>
                </a:cubicBezTo>
                <a:cubicBezTo>
                  <a:pt x="1364" y="914"/>
                  <a:pt x="1369" y="807"/>
                  <a:pt x="1346" y="722"/>
                </a:cubicBezTo>
                <a:cubicBezTo>
                  <a:pt x="1338" y="692"/>
                  <a:pt x="1322" y="679"/>
                  <a:pt x="1309" y="654"/>
                </a:cubicBezTo>
                <a:cubicBezTo>
                  <a:pt x="1279" y="595"/>
                  <a:pt x="1246" y="543"/>
                  <a:pt x="1205" y="492"/>
                </a:cubicBezTo>
                <a:cubicBezTo>
                  <a:pt x="1191" y="444"/>
                  <a:pt x="1153" y="407"/>
                  <a:pt x="1126" y="366"/>
                </a:cubicBezTo>
                <a:cubicBezTo>
                  <a:pt x="1088" y="308"/>
                  <a:pt x="1026" y="206"/>
                  <a:pt x="964" y="167"/>
                </a:cubicBezTo>
                <a:cubicBezTo>
                  <a:pt x="772" y="47"/>
                  <a:pt x="571" y="10"/>
                  <a:pt x="346" y="0"/>
                </a:cubicBezTo>
                <a:cubicBezTo>
                  <a:pt x="336" y="3"/>
                  <a:pt x="309" y="4"/>
                  <a:pt x="309" y="15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43400" y="2022480"/>
            <a:ext cx="2551320" cy="4471920"/>
          </a:xfrm>
          <a:custGeom>
            <a:avLst/>
            <a:gdLst/>
            <a:ahLst/>
            <a:rect l="l" t="t" r="r" b="b"/>
            <a:pathLst>
              <a:path w="1607" h="2817">
                <a:moveTo>
                  <a:pt x="143" y="135"/>
                </a:moveTo>
                <a:cubicBezTo>
                  <a:pt x="108" y="157"/>
                  <a:pt x="145" y="130"/>
                  <a:pt x="116" y="166"/>
                </a:cubicBezTo>
                <a:cubicBezTo>
                  <a:pt x="105" y="179"/>
                  <a:pt x="80" y="203"/>
                  <a:pt x="80" y="203"/>
                </a:cubicBezTo>
                <a:cubicBezTo>
                  <a:pt x="68" y="246"/>
                  <a:pt x="53" y="292"/>
                  <a:pt x="27" y="328"/>
                </a:cubicBezTo>
                <a:cubicBezTo>
                  <a:pt x="24" y="343"/>
                  <a:pt x="12" y="355"/>
                  <a:pt x="12" y="370"/>
                </a:cubicBezTo>
                <a:cubicBezTo>
                  <a:pt x="9" y="463"/>
                  <a:pt x="0" y="521"/>
                  <a:pt x="43" y="590"/>
                </a:cubicBezTo>
                <a:cubicBezTo>
                  <a:pt x="49" y="613"/>
                  <a:pt x="51" y="624"/>
                  <a:pt x="74" y="632"/>
                </a:cubicBezTo>
                <a:cubicBezTo>
                  <a:pt x="90" y="662"/>
                  <a:pt x="128" y="712"/>
                  <a:pt x="163" y="721"/>
                </a:cubicBezTo>
                <a:cubicBezTo>
                  <a:pt x="177" y="758"/>
                  <a:pt x="164" y="734"/>
                  <a:pt x="226" y="773"/>
                </a:cubicBezTo>
                <a:cubicBezTo>
                  <a:pt x="276" y="804"/>
                  <a:pt x="282" y="822"/>
                  <a:pt x="342" y="836"/>
                </a:cubicBezTo>
                <a:cubicBezTo>
                  <a:pt x="410" y="874"/>
                  <a:pt x="377" y="865"/>
                  <a:pt x="436" y="873"/>
                </a:cubicBezTo>
                <a:cubicBezTo>
                  <a:pt x="506" y="901"/>
                  <a:pt x="579" y="915"/>
                  <a:pt x="650" y="941"/>
                </a:cubicBezTo>
                <a:cubicBezTo>
                  <a:pt x="703" y="961"/>
                  <a:pt x="747" y="986"/>
                  <a:pt x="802" y="999"/>
                </a:cubicBezTo>
                <a:cubicBezTo>
                  <a:pt x="835" y="1042"/>
                  <a:pt x="798" y="999"/>
                  <a:pt x="844" y="1035"/>
                </a:cubicBezTo>
                <a:cubicBezTo>
                  <a:pt x="893" y="1073"/>
                  <a:pt x="936" y="1110"/>
                  <a:pt x="975" y="1156"/>
                </a:cubicBezTo>
                <a:cubicBezTo>
                  <a:pt x="988" y="1171"/>
                  <a:pt x="997" y="1190"/>
                  <a:pt x="1012" y="1203"/>
                </a:cubicBezTo>
                <a:cubicBezTo>
                  <a:pt x="1031" y="1219"/>
                  <a:pt x="1069" y="1250"/>
                  <a:pt x="1069" y="1250"/>
                </a:cubicBezTo>
                <a:cubicBezTo>
                  <a:pt x="1074" y="1262"/>
                  <a:pt x="1077" y="1276"/>
                  <a:pt x="1085" y="1287"/>
                </a:cubicBezTo>
                <a:cubicBezTo>
                  <a:pt x="1090" y="1294"/>
                  <a:pt x="1101" y="1295"/>
                  <a:pt x="1106" y="1302"/>
                </a:cubicBezTo>
                <a:cubicBezTo>
                  <a:pt x="1110" y="1308"/>
                  <a:pt x="1108" y="1317"/>
                  <a:pt x="1111" y="1323"/>
                </a:cubicBezTo>
                <a:cubicBezTo>
                  <a:pt x="1117" y="1334"/>
                  <a:pt x="1132" y="1355"/>
                  <a:pt x="1132" y="1355"/>
                </a:cubicBezTo>
                <a:cubicBezTo>
                  <a:pt x="1144" y="1418"/>
                  <a:pt x="1128" y="1351"/>
                  <a:pt x="1148" y="1397"/>
                </a:cubicBezTo>
                <a:cubicBezTo>
                  <a:pt x="1159" y="1421"/>
                  <a:pt x="1159" y="1449"/>
                  <a:pt x="1164" y="1475"/>
                </a:cubicBezTo>
                <a:cubicBezTo>
                  <a:pt x="1161" y="1494"/>
                  <a:pt x="1164" y="1517"/>
                  <a:pt x="1153" y="1533"/>
                </a:cubicBezTo>
                <a:cubicBezTo>
                  <a:pt x="1143" y="1548"/>
                  <a:pt x="1115" y="1557"/>
                  <a:pt x="1101" y="1569"/>
                </a:cubicBezTo>
                <a:cubicBezTo>
                  <a:pt x="1000" y="1661"/>
                  <a:pt x="1112" y="1569"/>
                  <a:pt x="1038" y="1622"/>
                </a:cubicBezTo>
                <a:cubicBezTo>
                  <a:pt x="1012" y="1641"/>
                  <a:pt x="985" y="1652"/>
                  <a:pt x="959" y="1669"/>
                </a:cubicBezTo>
                <a:cubicBezTo>
                  <a:pt x="922" y="1693"/>
                  <a:pt x="885" y="1729"/>
                  <a:pt x="844" y="1747"/>
                </a:cubicBezTo>
                <a:cubicBezTo>
                  <a:pt x="818" y="1758"/>
                  <a:pt x="791" y="1767"/>
                  <a:pt x="766" y="1779"/>
                </a:cubicBezTo>
                <a:cubicBezTo>
                  <a:pt x="722" y="1800"/>
                  <a:pt x="683" y="1825"/>
                  <a:pt x="635" y="1836"/>
                </a:cubicBezTo>
                <a:cubicBezTo>
                  <a:pt x="600" y="1871"/>
                  <a:pt x="553" y="1881"/>
                  <a:pt x="514" y="1910"/>
                </a:cubicBezTo>
                <a:cubicBezTo>
                  <a:pt x="486" y="1931"/>
                  <a:pt x="465" y="1951"/>
                  <a:pt x="431" y="1962"/>
                </a:cubicBezTo>
                <a:cubicBezTo>
                  <a:pt x="352" y="2025"/>
                  <a:pt x="270" y="2091"/>
                  <a:pt x="184" y="2145"/>
                </a:cubicBezTo>
                <a:cubicBezTo>
                  <a:pt x="172" y="2177"/>
                  <a:pt x="154" y="2203"/>
                  <a:pt x="127" y="2224"/>
                </a:cubicBezTo>
                <a:cubicBezTo>
                  <a:pt x="117" y="2241"/>
                  <a:pt x="112" y="2260"/>
                  <a:pt x="101" y="2276"/>
                </a:cubicBezTo>
                <a:cubicBezTo>
                  <a:pt x="94" y="2285"/>
                  <a:pt x="82" y="2289"/>
                  <a:pt x="74" y="2297"/>
                </a:cubicBezTo>
                <a:cubicBezTo>
                  <a:pt x="56" y="2364"/>
                  <a:pt x="52" y="2431"/>
                  <a:pt x="80" y="2496"/>
                </a:cubicBezTo>
                <a:cubicBezTo>
                  <a:pt x="86" y="2529"/>
                  <a:pt x="130" y="2584"/>
                  <a:pt x="153" y="2606"/>
                </a:cubicBezTo>
                <a:cubicBezTo>
                  <a:pt x="203" y="2655"/>
                  <a:pt x="256" y="2700"/>
                  <a:pt x="315" y="2737"/>
                </a:cubicBezTo>
                <a:cubicBezTo>
                  <a:pt x="364" y="2768"/>
                  <a:pt x="432" y="2768"/>
                  <a:pt x="488" y="2779"/>
                </a:cubicBezTo>
                <a:cubicBezTo>
                  <a:pt x="511" y="2784"/>
                  <a:pt x="533" y="2791"/>
                  <a:pt x="556" y="2795"/>
                </a:cubicBezTo>
                <a:cubicBezTo>
                  <a:pt x="599" y="2803"/>
                  <a:pt x="687" y="2816"/>
                  <a:pt x="687" y="2816"/>
                </a:cubicBezTo>
                <a:cubicBezTo>
                  <a:pt x="745" y="2814"/>
                  <a:pt x="803" y="2817"/>
                  <a:pt x="860" y="2810"/>
                </a:cubicBezTo>
                <a:cubicBezTo>
                  <a:pt x="879" y="2808"/>
                  <a:pt x="983" y="2759"/>
                  <a:pt x="1001" y="2753"/>
                </a:cubicBezTo>
                <a:cubicBezTo>
                  <a:pt x="1063" y="2691"/>
                  <a:pt x="1117" y="2644"/>
                  <a:pt x="1174" y="2575"/>
                </a:cubicBezTo>
                <a:cubicBezTo>
                  <a:pt x="1257" y="2475"/>
                  <a:pt x="1300" y="2365"/>
                  <a:pt x="1363" y="2255"/>
                </a:cubicBezTo>
                <a:cubicBezTo>
                  <a:pt x="1373" y="2212"/>
                  <a:pt x="1387" y="2177"/>
                  <a:pt x="1410" y="2140"/>
                </a:cubicBezTo>
                <a:cubicBezTo>
                  <a:pt x="1428" y="2062"/>
                  <a:pt x="1459" y="1984"/>
                  <a:pt x="1488" y="1910"/>
                </a:cubicBezTo>
                <a:cubicBezTo>
                  <a:pt x="1499" y="1840"/>
                  <a:pt x="1525" y="1772"/>
                  <a:pt x="1546" y="1705"/>
                </a:cubicBezTo>
                <a:cubicBezTo>
                  <a:pt x="1562" y="1653"/>
                  <a:pt x="1566" y="1596"/>
                  <a:pt x="1577" y="1543"/>
                </a:cubicBezTo>
                <a:cubicBezTo>
                  <a:pt x="1607" y="1184"/>
                  <a:pt x="1566" y="813"/>
                  <a:pt x="1389" y="496"/>
                </a:cubicBezTo>
                <a:cubicBezTo>
                  <a:pt x="1323" y="378"/>
                  <a:pt x="1220" y="218"/>
                  <a:pt x="1101" y="145"/>
                </a:cubicBezTo>
                <a:cubicBezTo>
                  <a:pt x="1065" y="97"/>
                  <a:pt x="1105" y="142"/>
                  <a:pt x="1007" y="98"/>
                </a:cubicBezTo>
                <a:cubicBezTo>
                  <a:pt x="990" y="90"/>
                  <a:pt x="977" y="74"/>
                  <a:pt x="959" y="67"/>
                </a:cubicBezTo>
                <a:cubicBezTo>
                  <a:pt x="925" y="53"/>
                  <a:pt x="855" y="35"/>
                  <a:pt x="855" y="35"/>
                </a:cubicBezTo>
                <a:cubicBezTo>
                  <a:pt x="817" y="0"/>
                  <a:pt x="866" y="39"/>
                  <a:pt x="745" y="46"/>
                </a:cubicBezTo>
                <a:cubicBezTo>
                  <a:pt x="713" y="48"/>
                  <a:pt x="539" y="38"/>
                  <a:pt x="483" y="35"/>
                </a:cubicBezTo>
                <a:cubicBezTo>
                  <a:pt x="437" y="41"/>
                  <a:pt x="395" y="37"/>
                  <a:pt x="347" y="40"/>
                </a:cubicBezTo>
                <a:cubicBezTo>
                  <a:pt x="288" y="53"/>
                  <a:pt x="257" y="62"/>
                  <a:pt x="211" y="93"/>
                </a:cubicBezTo>
                <a:cubicBezTo>
                  <a:pt x="202" y="99"/>
                  <a:pt x="194" y="109"/>
                  <a:pt x="184" y="114"/>
                </a:cubicBezTo>
                <a:cubicBezTo>
                  <a:pt x="174" y="119"/>
                  <a:pt x="153" y="124"/>
                  <a:pt x="153" y="124"/>
                </a:cubicBezTo>
                <a:cubicBezTo>
                  <a:pt x="142" y="141"/>
                  <a:pt x="143" y="146"/>
                  <a:pt x="143" y="135"/>
                </a:cubicBezTo>
                <a:close/>
              </a:path>
            </a:pathLst>
          </a:custGeom>
          <a:noFill/>
          <a:ln w="19080">
            <a:solidFill>
              <a:srgbClr val="d6009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16200" y="855720"/>
            <a:ext cx="1670040" cy="4573440"/>
          </a:xfrm>
          <a:custGeom>
            <a:avLst/>
            <a:gdLst/>
            <a:ahLst/>
            <a:rect l="l" t="t" r="r" b="b"/>
            <a:pathLst>
              <a:path w="1052" h="2881">
                <a:moveTo>
                  <a:pt x="178" y="84"/>
                </a:moveTo>
                <a:cubicBezTo>
                  <a:pt x="161" y="101"/>
                  <a:pt x="140" y="117"/>
                  <a:pt x="120" y="131"/>
                </a:cubicBezTo>
                <a:cubicBezTo>
                  <a:pt x="112" y="157"/>
                  <a:pt x="91" y="150"/>
                  <a:pt x="73" y="173"/>
                </a:cubicBezTo>
                <a:cubicBezTo>
                  <a:pt x="65" y="183"/>
                  <a:pt x="52" y="205"/>
                  <a:pt x="52" y="205"/>
                </a:cubicBezTo>
                <a:cubicBezTo>
                  <a:pt x="40" y="240"/>
                  <a:pt x="31" y="273"/>
                  <a:pt x="21" y="309"/>
                </a:cubicBezTo>
                <a:cubicBezTo>
                  <a:pt x="25" y="431"/>
                  <a:pt x="8" y="460"/>
                  <a:pt x="63" y="540"/>
                </a:cubicBezTo>
                <a:cubicBezTo>
                  <a:pt x="70" y="561"/>
                  <a:pt x="96" y="574"/>
                  <a:pt x="115" y="587"/>
                </a:cubicBezTo>
                <a:cubicBezTo>
                  <a:pt x="165" y="622"/>
                  <a:pt x="213" y="662"/>
                  <a:pt x="272" y="681"/>
                </a:cubicBezTo>
                <a:cubicBezTo>
                  <a:pt x="292" y="695"/>
                  <a:pt x="314" y="701"/>
                  <a:pt x="335" y="712"/>
                </a:cubicBezTo>
                <a:cubicBezTo>
                  <a:pt x="375" y="732"/>
                  <a:pt x="411" y="765"/>
                  <a:pt x="455" y="775"/>
                </a:cubicBezTo>
                <a:cubicBezTo>
                  <a:pt x="473" y="787"/>
                  <a:pt x="513" y="802"/>
                  <a:pt x="513" y="802"/>
                </a:cubicBezTo>
                <a:cubicBezTo>
                  <a:pt x="522" y="809"/>
                  <a:pt x="529" y="817"/>
                  <a:pt x="539" y="822"/>
                </a:cubicBezTo>
                <a:cubicBezTo>
                  <a:pt x="547" y="826"/>
                  <a:pt x="557" y="824"/>
                  <a:pt x="565" y="828"/>
                </a:cubicBezTo>
                <a:cubicBezTo>
                  <a:pt x="682" y="895"/>
                  <a:pt x="563" y="844"/>
                  <a:pt x="639" y="875"/>
                </a:cubicBezTo>
                <a:cubicBezTo>
                  <a:pt x="683" y="922"/>
                  <a:pt x="614" y="853"/>
                  <a:pt x="686" y="901"/>
                </a:cubicBezTo>
                <a:cubicBezTo>
                  <a:pt x="703" y="912"/>
                  <a:pt x="722" y="946"/>
                  <a:pt x="733" y="964"/>
                </a:cubicBezTo>
                <a:cubicBezTo>
                  <a:pt x="777" y="1033"/>
                  <a:pt x="817" y="1094"/>
                  <a:pt x="838" y="1173"/>
                </a:cubicBezTo>
                <a:cubicBezTo>
                  <a:pt x="835" y="1241"/>
                  <a:pt x="845" y="1302"/>
                  <a:pt x="817" y="1362"/>
                </a:cubicBezTo>
                <a:cubicBezTo>
                  <a:pt x="800" y="1436"/>
                  <a:pt x="760" y="1506"/>
                  <a:pt x="701" y="1556"/>
                </a:cubicBezTo>
                <a:cubicBezTo>
                  <a:pt x="682" y="1594"/>
                  <a:pt x="655" y="1607"/>
                  <a:pt x="628" y="1639"/>
                </a:cubicBezTo>
                <a:cubicBezTo>
                  <a:pt x="592" y="1682"/>
                  <a:pt x="560" y="1731"/>
                  <a:pt x="518" y="1770"/>
                </a:cubicBezTo>
                <a:cubicBezTo>
                  <a:pt x="496" y="1816"/>
                  <a:pt x="463" y="1824"/>
                  <a:pt x="424" y="1864"/>
                </a:cubicBezTo>
                <a:cubicBezTo>
                  <a:pt x="408" y="1880"/>
                  <a:pt x="395" y="1899"/>
                  <a:pt x="377" y="1912"/>
                </a:cubicBezTo>
                <a:cubicBezTo>
                  <a:pt x="365" y="1921"/>
                  <a:pt x="351" y="1927"/>
                  <a:pt x="340" y="1938"/>
                </a:cubicBezTo>
                <a:cubicBezTo>
                  <a:pt x="307" y="1971"/>
                  <a:pt x="314" y="1981"/>
                  <a:pt x="267" y="2001"/>
                </a:cubicBezTo>
                <a:cubicBezTo>
                  <a:pt x="228" y="2065"/>
                  <a:pt x="280" y="1988"/>
                  <a:pt x="220" y="2048"/>
                </a:cubicBezTo>
                <a:cubicBezTo>
                  <a:pt x="213" y="2055"/>
                  <a:pt x="210" y="2066"/>
                  <a:pt x="204" y="2074"/>
                </a:cubicBezTo>
                <a:cubicBezTo>
                  <a:pt x="181" y="2104"/>
                  <a:pt x="155" y="2133"/>
                  <a:pt x="131" y="2163"/>
                </a:cubicBezTo>
                <a:cubicBezTo>
                  <a:pt x="118" y="2197"/>
                  <a:pt x="91" y="2216"/>
                  <a:pt x="68" y="2242"/>
                </a:cubicBezTo>
                <a:cubicBezTo>
                  <a:pt x="36" y="2278"/>
                  <a:pt x="14" y="2337"/>
                  <a:pt x="0" y="2383"/>
                </a:cubicBezTo>
                <a:cubicBezTo>
                  <a:pt x="4" y="2454"/>
                  <a:pt x="1" y="2576"/>
                  <a:pt x="26" y="2655"/>
                </a:cubicBezTo>
                <a:cubicBezTo>
                  <a:pt x="39" y="2697"/>
                  <a:pt x="122" y="2736"/>
                  <a:pt x="157" y="2744"/>
                </a:cubicBezTo>
                <a:cubicBezTo>
                  <a:pt x="241" y="2792"/>
                  <a:pt x="328" y="2827"/>
                  <a:pt x="424" y="2838"/>
                </a:cubicBezTo>
                <a:cubicBezTo>
                  <a:pt x="594" y="2831"/>
                  <a:pt x="633" y="2881"/>
                  <a:pt x="712" y="2802"/>
                </a:cubicBezTo>
                <a:cubicBezTo>
                  <a:pt x="731" y="2762"/>
                  <a:pt x="710" y="2798"/>
                  <a:pt x="743" y="2765"/>
                </a:cubicBezTo>
                <a:cubicBezTo>
                  <a:pt x="787" y="2721"/>
                  <a:pt x="729" y="2769"/>
                  <a:pt x="775" y="2718"/>
                </a:cubicBezTo>
                <a:cubicBezTo>
                  <a:pt x="800" y="2691"/>
                  <a:pt x="823" y="2671"/>
                  <a:pt x="843" y="2639"/>
                </a:cubicBezTo>
                <a:cubicBezTo>
                  <a:pt x="865" y="2605"/>
                  <a:pt x="880" y="2567"/>
                  <a:pt x="895" y="2530"/>
                </a:cubicBezTo>
                <a:cubicBezTo>
                  <a:pt x="899" y="2521"/>
                  <a:pt x="906" y="2503"/>
                  <a:pt x="906" y="2503"/>
                </a:cubicBezTo>
                <a:cubicBezTo>
                  <a:pt x="917" y="2385"/>
                  <a:pt x="950" y="2273"/>
                  <a:pt x="974" y="2158"/>
                </a:cubicBezTo>
                <a:cubicBezTo>
                  <a:pt x="979" y="2131"/>
                  <a:pt x="988" y="2105"/>
                  <a:pt x="995" y="2079"/>
                </a:cubicBezTo>
                <a:cubicBezTo>
                  <a:pt x="1001" y="2054"/>
                  <a:pt x="1016" y="2006"/>
                  <a:pt x="1016" y="2006"/>
                </a:cubicBezTo>
                <a:cubicBezTo>
                  <a:pt x="1033" y="1798"/>
                  <a:pt x="1052" y="1292"/>
                  <a:pt x="942" y="1032"/>
                </a:cubicBezTo>
                <a:cubicBezTo>
                  <a:pt x="928" y="884"/>
                  <a:pt x="912" y="721"/>
                  <a:pt x="853" y="582"/>
                </a:cubicBezTo>
                <a:cubicBezTo>
                  <a:pt x="844" y="535"/>
                  <a:pt x="837" y="478"/>
                  <a:pt x="817" y="435"/>
                </a:cubicBezTo>
                <a:cubicBezTo>
                  <a:pt x="810" y="402"/>
                  <a:pt x="809" y="359"/>
                  <a:pt x="791" y="330"/>
                </a:cubicBezTo>
                <a:cubicBezTo>
                  <a:pt x="780" y="283"/>
                  <a:pt x="773" y="229"/>
                  <a:pt x="754" y="184"/>
                </a:cubicBezTo>
                <a:cubicBezTo>
                  <a:pt x="740" y="153"/>
                  <a:pt x="704" y="133"/>
                  <a:pt x="681" y="110"/>
                </a:cubicBezTo>
                <a:cubicBezTo>
                  <a:pt x="660" y="89"/>
                  <a:pt x="646" y="87"/>
                  <a:pt x="618" y="68"/>
                </a:cubicBezTo>
                <a:cubicBezTo>
                  <a:pt x="533" y="11"/>
                  <a:pt x="511" y="12"/>
                  <a:pt x="403" y="0"/>
                </a:cubicBezTo>
                <a:cubicBezTo>
                  <a:pt x="370" y="2"/>
                  <a:pt x="337" y="4"/>
                  <a:pt x="304" y="6"/>
                </a:cubicBezTo>
                <a:cubicBezTo>
                  <a:pt x="288" y="7"/>
                  <a:pt x="270" y="4"/>
                  <a:pt x="256" y="11"/>
                </a:cubicBezTo>
                <a:cubicBezTo>
                  <a:pt x="244" y="17"/>
                  <a:pt x="240" y="33"/>
                  <a:pt x="230" y="42"/>
                </a:cubicBezTo>
                <a:cubicBezTo>
                  <a:pt x="226" y="45"/>
                  <a:pt x="220" y="45"/>
                  <a:pt x="215" y="47"/>
                </a:cubicBezTo>
                <a:cubicBezTo>
                  <a:pt x="204" y="69"/>
                  <a:pt x="201" y="77"/>
                  <a:pt x="178" y="84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4343400" y="22860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3920" y="380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67080" y="457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495680" y="28195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733920" y="2057400"/>
            <a:ext cx="990360" cy="335268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3352680"/>
              <a:gd name="textAreaBottom" fmla="*/ 3304440 h 3352680"/>
            </a:gdLst>
            <a:ahLst/>
            <a:rect l="textAreaLeft" t="textAreaTop" r="textAreaRight" b="textAreaBottom"/>
            <a:pathLst>
              <a:path w="21600" h="73104">
                <a:moveTo>
                  <a:pt x="3600" y="0"/>
                </a:moveTo>
                <a:arcTo wR="3600" hR="3600" stAng="16200000" swAng="-5400000"/>
                <a:lnTo>
                  <a:pt x="0" y="69504"/>
                </a:lnTo>
                <a:arcTo wR="3600" hR="3600" stAng="10800000" swAng="-5400000"/>
                <a:lnTo>
                  <a:pt x="18000" y="73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286000"/>
            <a:ext cx="8229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usal discrete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5638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 must be prepared to accept every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3434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0512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0574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666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2666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743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2743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36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76840" y="51814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21T21:03:47Z</dcterms:modified>
  <cp:revision>66</cp:revision>
  <dc:subject/>
  <dc:title>PowerPoint Presentation</dc:title>
</cp:coreProperties>
</file>