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C268-67A2-4D45-AAD1-C21E8467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BDB4-4259-4658-A7A1-29E64DBA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1A91-0721-47F0-925D-8CE88001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3B6-6623-47A0-8845-41F8315A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E61-B4C1-47A9-B24D-AA75539D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E68-74B0-40AF-B380-7F9E47E5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3D5-BBFB-4AB0-BE93-8015E5F2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473-081B-42A7-A85D-B51A222F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846-E48F-4D92-9C72-77A54E9A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916-DD3B-4791-A686-8C4740F1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462C-2DC2-424D-B55C-82303804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039-44AC-4DC8-BF26-74E8D5DC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EF97-9A89-43B7-B515-8C76FC87F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January 22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522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s, Tuples,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1066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pl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2209680"/>
            <a:ext cx="6781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2, 7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2-tuple (or “pair”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2, 7, 1 )                            3-tuple (or “trip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b, e, r, k, e, l, e, y )           8-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449568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      { 2, 7 }  = { 7, 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2, 7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 7, 2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pl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2209680"/>
            <a:ext cx="69343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ythin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ythin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Result: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ai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uple 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4800600"/>
            <a:ext cx="59436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     ( 2, 7 , 1 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ir x,  x =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tional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perat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o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u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2057400"/>
            <a:ext cx="830592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ai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air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ipl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riple                                       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ir x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ir y,        let    x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= y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= y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iple x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iple y,   let    x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= y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x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= y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x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= y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tional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perat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o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057400"/>
            <a:ext cx="86104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t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set of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t                                   set of tr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x, y,       let    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       =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 u |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v,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w,  u = (v,w)    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v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w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{ (v,w) | v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w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y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x, y, z,   let    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   =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 (u,v,w) |    u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v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w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z 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819520" y="2514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220968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2209680"/>
            <a:ext cx="8153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three th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 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mai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 a se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 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ng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( a se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 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raph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 for every domain element,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a range elemen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1066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220968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, 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35268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Domai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Real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Rang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  [-1,1]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  { 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Reals | -1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1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raph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  for each real x, the real sin 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-1,1]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3733920"/>
            <a:ext cx="83818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lly,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rap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a function can be thought of as 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 of pair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(x,y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 Reals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-1,1] ) |  y = sin ( x 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=  { … , (0,0) , … , (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/2, 1) , … , (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,0), … , (3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/2,-1), … }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19810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362320" y="685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1981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1066680"/>
            <a:ext cx="4952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895480"/>
            <a:ext cx="4952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1066680"/>
            <a:ext cx="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1066680"/>
            <a:ext cx="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1066680"/>
            <a:ext cx="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1066680"/>
            <a:ext cx="5638680" cy="1828800"/>
          </a:xfrm>
          <a:custGeom>
            <a:avLst/>
            <a:gdLst/>
            <a:ahLst/>
            <a:rect l="l" t="t" r="r" b="b"/>
            <a:pathLst>
              <a:path w="3552" h="1152">
                <a:moveTo>
                  <a:pt x="0" y="576"/>
                </a:moveTo>
                <a:cubicBezTo>
                  <a:pt x="304" y="288"/>
                  <a:pt x="608" y="0"/>
                  <a:pt x="912" y="0"/>
                </a:cubicBezTo>
                <a:cubicBezTo>
                  <a:pt x="1216" y="0"/>
                  <a:pt x="1520" y="384"/>
                  <a:pt x="1824" y="576"/>
                </a:cubicBezTo>
                <a:cubicBezTo>
                  <a:pt x="2128" y="768"/>
                  <a:pt x="2448" y="1152"/>
                  <a:pt x="2736" y="1152"/>
                </a:cubicBezTo>
                <a:cubicBezTo>
                  <a:pt x="3024" y="1152"/>
                  <a:pt x="3416" y="672"/>
                  <a:pt x="3552" y="57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75480" y="416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83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914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1828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90720" y="1219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perat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reall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342900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main :       Nats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nge:          Nat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raph:          { ( x 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ats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ats  | y = x!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= { (1,1), (2,2), (3,6), (4, 24), … }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0384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276720"/>
            <a:ext cx="84582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main :       Nats</a:t>
            </a:r>
            <a:r>
              <a:rPr b="0" lang="en-US" sz="2400" spc="-1" strike="noStrike" baseline="5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  Nats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Nat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nge:          Nat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raph:          { ( (x,y) , z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ats</a:t>
            </a:r>
            <a:r>
              <a:rPr b="0" lang="en-US" sz="2400" spc="-1" strike="noStrike" baseline="5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ats  | z = x + y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= { ( (1,1), 2 ), ( (1,2), 3 ), … , ( (7,5), 12), … }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219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perat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reall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38280" y="3048120"/>
            <a:ext cx="4724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unordered colle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up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ordered colle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unction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1295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rtant Mathematic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0384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276720"/>
            <a:ext cx="8763120" cy="26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main :       Bools</a:t>
            </a:r>
            <a:r>
              <a:rPr b="0" lang="en-US" sz="2400" spc="-1" strike="noStrike" baseline="5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nge:          Bool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raph:          { ( (true,   true),  true )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( (true,  false), false)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( (false, true),  false)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( (false, false), false)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219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perat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reall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90720" y="11430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domain and range of a function are finite, then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rap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be given by 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3505320"/>
            <a:ext cx="358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     true      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     false     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    true      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    false     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2819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         y         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33526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2819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762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perator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905120"/>
            <a:ext cx="784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ain (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unc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Result: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ge (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unc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        set of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omain elem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range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572000"/>
            <a:ext cx="5943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     domain ( sin )  = Re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ge ( sin )    = [-1,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           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5120" y="1143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2895480"/>
            <a:ext cx="51818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f : Doma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ange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main,  f ( x )  =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05120" y="160020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double : Na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,  double ( x )  =  2· x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342900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main ( double )  =  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nge   ( double )  =  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raph   ( double )  =  { (1,2), (2,4), (3,6), (4,8),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05120" y="1523880"/>
            <a:ext cx="586728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exp : Nats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,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,  exp ( x , y )  =  x 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3352680"/>
            <a:ext cx="731520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main ( exp )  =  Nats</a:t>
            </a:r>
            <a:r>
              <a:rPr b="0" lang="en-US" sz="2400" spc="-1" strike="noStrike" baseline="50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nge   ( exp )  =  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raph   ( exp )  =  { ( (1,1) , 1 ), … , ( (2,3) , 8 ),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1143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tiona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perator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66688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set of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 </a:t>
            </a:r>
            <a:r>
              <a:rPr b="0" lang="en-US" sz="2400" spc="-1" strike="noStrike">
                <a:solidFill>
                  <a:srgbClr val="000000"/>
                </a:solidFill>
                <a:latin typeface="CommonBullets"/>
                <a:ea typeface="CommonBullets"/>
              </a:rPr>
              <a:t>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-to-one (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t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unc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          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143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eanin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additiona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pera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514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20968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x, y,  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 f | domain ( f ) = 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range ( f ) = y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88620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x, y, z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 ] ,  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 </a:t>
            </a:r>
            <a:r>
              <a:rPr b="0" lang="en-US" sz="2400" spc="-1" strike="noStrike">
                <a:solidFill>
                  <a:srgbClr val="ff0000"/>
                </a:solidFill>
                <a:latin typeface="CommonBullets"/>
                <a:ea typeface="CommonBullets"/>
              </a:rPr>
              <a:t>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 :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,   ( g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f ) ( u )  =  g ( f ( u )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914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eanin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additiona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pera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2514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05740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 f ,  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ne-to-one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)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,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domain(f),  if  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 then  f(x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f(y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419112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 f ,  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nto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)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range(f),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domain(f),   x = f(y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19520" y="2514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066680"/>
            <a:ext cx="6934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Evens = {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,  x = 2· y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Evens be the set of all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2· y for some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1066680"/>
            <a:ext cx="6934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ve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|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ve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set of all 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uch th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some 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3962520"/>
            <a:ext cx="20574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ta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perat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uantifie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62320" y="1295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514600"/>
            <a:ext cx="7772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tan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e.g.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1, 2, 3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perato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uantifie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x |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tional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ta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be defined:     e.g.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tional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perat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on set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438280"/>
            <a:ext cx="6477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t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                                    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\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t                                     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                                     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t                                      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(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            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733920" y="266688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1066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eaning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tiona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perat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be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2209680"/>
            <a:ext cx="8534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x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t y,   let    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  =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 z |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x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t y,   let    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  =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 z |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x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t y,   let    x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\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   =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 z |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x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t y,   let    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z |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x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t y,   let    x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x,                let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=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 y |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19520" y="2514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9T05:07:45Z</dcterms:created>
  <dc:creator>tah</dc:creator>
  <dc:description/>
  <dc:language>en-US</dc:language>
  <cp:lastModifiedBy>Tom Henzinger</cp:lastModifiedBy>
  <dcterms:modified xsi:type="dcterms:W3CDTF">2001-02-07T00:12:59Z</dcterms:modified>
  <cp:revision>9</cp:revision>
  <dc:subject/>
  <dc:title>PowerPoint Presentation</dc:title>
</cp:coreProperties>
</file>