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B43-6C3A-4308-88C0-5E0B4A30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0A4-7085-448F-A065-433F727F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28B-473D-4D40-96DC-4BF27640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408-72DD-4BB0-B724-14C9E3D0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354-EFFF-4262-B015-5565EB5A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765-9A3A-42A8-900F-95099BF3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6C32-69CC-4F59-B97D-0EF2960C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2D2-7CEA-4886-87D3-C8B776B5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77AB-9554-4F7D-8EEF-568ECFA3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E85-9373-4E29-AF15-3EB2C30E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3A6-490A-4F31-BECC-C7D65B3A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132-058F-4810-B81D-9650831B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EA94-0683-4A85-8467-5A51DF992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January 29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ansduciv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or Sequent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257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[ Continuous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ressure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ar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or Sequent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257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: [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har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Continuous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ssure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337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42900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60948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2004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342900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2004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990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337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42900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60948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350532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342900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91520" y="3200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990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28800" y="1295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666880"/>
            <a:ext cx="4647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y-fre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us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memor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inite-memor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990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transducive system is a reac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2057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 :  Value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962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 : 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48006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Values ]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F (x) ) (y)  =  f ( x (y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71600" y="990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transducive system is a reac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2057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 :  Value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962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 : 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ime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8006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Values ]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(x,y)  =  f ( x (y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transducive system is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inuous-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2057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 :  Value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3962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 :  [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ime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480060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F (x) ) (y)  =  f ( x (y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62320" y="9907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rmalize :  Real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Re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438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96252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rmalize :  [ Real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Real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Real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Real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4800600"/>
            <a:ext cx="7772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]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Normalize (x) ) (y)  =  normalize ( x (y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x (y) -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600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,   normalize (x)  = x - 5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914400"/>
            <a:ext cx="89917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 (sin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Normalize (sin) (y)  =  sin (y) - 50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2895480"/>
            <a:ext cx="88394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 (id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Normalize (id) (y)  =  y - 50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4800600"/>
            <a:ext cx="88394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 (53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Normalize (53) (y)  =  3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5120" y="11430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ous-Time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0574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nd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37339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48006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pledSound  mov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914400"/>
            <a:ext cx="89917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 (sin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Normalize (sin) (y)  =  sin (y) - 50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2895480"/>
            <a:ext cx="88394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 (id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Normalize (id) (y)  =  y - 50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4800600"/>
            <a:ext cx="88394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 (53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rmalize (53)  = 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362320" y="9907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nc :  Real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Re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2438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96252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nc :  [ Real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Real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Real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Real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4800600"/>
            <a:ext cx="7772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]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Trunc (x) ) (y)  =  trunc ( x (y)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600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,   trunc (x) 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1143000"/>
            <a:ext cx="29718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56    if  x &gt; 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        if  -25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256   if  x &lt; -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12193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0880" y="914400"/>
            <a:ext cx="86108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nc (sin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Trunc (sin) (y)  =  sin (y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95480"/>
            <a:ext cx="86108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nc (id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Trunc (id) (y) 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4800600"/>
            <a:ext cx="86108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nc (500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Trunc (500)  =  256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3200400"/>
            <a:ext cx="25146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      if  y &lt; 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56   if 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32767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transducive system is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rete-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057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 :  Value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3962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 :  [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ime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80060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F (x) ) (y)  =  f ( x (y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7652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antize :  Real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Computer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2438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96252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antize :  [ Nat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Real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omputerInt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4800600"/>
            <a:ext cx="7772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Quantize (x) ) (y)  =  quantize ( x (y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trunc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1600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,   quantize (x)  =  trunc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914400"/>
            <a:ext cx="8763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ze (squareroot) :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omputer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Quantize (squareroot) 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(0,0), (1,1), (2,1), (3,1), (4,2), (5,2), … , (1000000,256), … }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124080"/>
            <a:ext cx="8686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ze (id) :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omputer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Quantize (id) 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(0,0), (1,1), (2,2), (3,3), … , (256,256), (257,256), …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5257800"/>
            <a:ext cx="8610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ze (pi) :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omputer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Quantize (pi)  =  3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gate :  Bool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2438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96252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gate :  [ Nat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Bool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Bool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4800600"/>
            <a:ext cx="7772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Negate (x) ) (y)  =  negate ( x (y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600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,   negate (x)  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3124080"/>
            <a:ext cx="8686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e (alt) :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Negate (alt) 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(0,true),  (1, false), (2, true), (3, false) , (4, true), … }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5257800"/>
            <a:ext cx="8610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e (true) :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Negate (true)  =  false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990720"/>
            <a:ext cx="5638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lt :  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B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 alt (y) 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1295280"/>
            <a:ext cx="28958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rue      if  y  o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alse     if  y  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5880" y="13716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1143000"/>
            <a:ext cx="6476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activ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 :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-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exists a transducive system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 :  Values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Values ] ,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i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 F (x) ) (y)  =  f ( x (y)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2666880"/>
            <a:ext cx="75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inuousTimeSignal :   ContinuousTime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creteTimeSignal :      DiscreteTime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4343400"/>
            <a:ext cx="670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ousTimeSignal  =  evolution of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TimeSignal      =  stream of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8380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ousTime  = 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|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Time     =  { 0, 1, 2, 3, 4,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5120" y="838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Discrete-Time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057400"/>
            <a:ext cx="685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xt : 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e :   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ndingMachine :  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267080"/>
            <a:ext cx="815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hars   =  { a, b, c,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Bins      =  { 0, 1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Events  =  { dropQuarter, requestCoke, deliverCoke, …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ducive or Combination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52578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duciveSystem :  Value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ducive or Combination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5257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Bool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12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ducive or Combination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52578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:  Frame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or Sequent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52578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ctiveSystem : 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or Sequent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5257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: 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Frame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am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Tom Henzinger</cp:lastModifiedBy>
  <dcterms:modified xsi:type="dcterms:W3CDTF">2001-02-07T00:39:01Z</dcterms:modified>
  <cp:revision>10</cp:revision>
  <dc:subject/>
  <dc:title>PowerPoint Presentation</dc:title>
</cp:coreProperties>
</file>