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290-48B4-4036-BFF4-89FC22F1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6AC-3D45-4DA0-BDD5-EFFF4DAB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58A-D90D-4C2F-89A7-D450F77C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BFF-5E52-4F90-BEBC-9C92B4DD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2FB-5D19-46BD-AA75-389AF00E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8F7-E341-45F4-B7A1-9FB81349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294-6462-41ED-8574-0386F191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10A-80B6-4EC1-BD9E-79AC91EC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EA2-51E8-44DF-8B91-865C4CB8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5DE-6E4C-4D2C-8533-2A73AFD9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7C0-C222-40B6-B9D4-116A95BA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AD1-8211-46DF-9BB4-BA249E30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313E-ADB0-4A47-B40F-8F8DC118A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January 24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52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ock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rt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rt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57200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ain: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: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: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true, false ), ( false, true 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2133720"/>
            <a:ext cx="12193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2133720"/>
            <a:ext cx="12193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29718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25146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2743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5328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2133720"/>
            <a:ext cx="12193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25146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2133720"/>
            <a:ext cx="12193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29718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25146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2743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5328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is is again a system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2133720"/>
            <a:ext cx="121932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2971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25146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2133720"/>
            <a:ext cx="121932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2971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25146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2743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1752480"/>
            <a:ext cx="4648320" cy="2438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9718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2971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dent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971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02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2743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1752480"/>
            <a:ext cx="4648320" cy="2438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9718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4572000"/>
            <a:ext cx="708660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ain: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: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: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( x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r>
              <a:rPr b="0" lang="en-US" sz="2400" spc="-1" strike="noStrike" baseline="5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x = y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71600" y="12193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Composition is Function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 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96252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ause    domai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=  domain (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=  range (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, 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)  =  id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2438280"/>
            <a:ext cx="1143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 baseline="5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2895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true, fals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2438280"/>
            <a:ext cx="1143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 baseline="5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66880" y="251460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Syste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Signa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666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327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2666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327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666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327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5105520"/>
            <a:ext cx="7848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(exp)  =  { ( (x,y), z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| z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2666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340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327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9880" y="3124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2514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5105520"/>
            <a:ext cx="7848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(exp)  =  { ( (x,y), z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| z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2666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27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3124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2514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5105520"/>
            <a:ext cx="7848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(exp)  =  { ( (x,y), z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| z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14600" y="21337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2819520"/>
            <a:ext cx="6098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62520" y="28195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4600" y="35053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32004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2514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3048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886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290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8640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72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95280" y="2057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00400" y="2057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838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5334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cannot be written easily using </a:t>
            </a:r>
            <a:r>
              <a:rPr b="0" lang="en-US" sz="2400" spc="-1" strike="noStrike">
                <a:solidFill>
                  <a:srgbClr val="0000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514600" y="21337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2819520"/>
            <a:ext cx="6098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28195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14600" y="35053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32004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2514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3048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3886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290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90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8640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72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9528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95280" y="2057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838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514600" y="21337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10080" y="2819520"/>
            <a:ext cx="6098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28195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14600" y="35053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9528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19920" y="32004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2514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2900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3048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3886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90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2900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8640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8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72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9528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2057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838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514600" y="21337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2819520"/>
            <a:ext cx="6098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28195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14600" y="35053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9528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19920" y="32004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2514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2900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429000" y="3048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24080" y="3886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90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90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8640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38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72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95280" y="2057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838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526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9568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514600" y="21337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10080" y="2819520"/>
            <a:ext cx="6098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62520" y="28195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14600" y="35053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9528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32004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2514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2900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29000" y="3048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3886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290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38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72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9528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95280" y="2057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0880" y="838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526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9568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ystem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29718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971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743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572000"/>
            <a:ext cx="6095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ain:    set of possible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:      set of possibl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:      set of pairs ( input, outpu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514600" y="21337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0080" y="2819520"/>
            <a:ext cx="609840" cy="838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28195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14600" y="35053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38862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53080" y="3200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2514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2900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3048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3886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90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90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8640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38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2743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3886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21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838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81080" y="1600200"/>
            <a:ext cx="4572000" cy="32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1080" y="25146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81080" y="38862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9920" y="3200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19920" y="1600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5257800"/>
            <a:ext cx="8001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ai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=  Bool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=  { ( (x,y), z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| z =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7621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38862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53080" y="3200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05720" y="2743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3886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0880" y="838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81080" y="1600200"/>
            <a:ext cx="4572000" cy="32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3848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5257800"/>
            <a:ext cx="8001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ai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=  Bool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=  { ( (x,y), z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| z =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514600" y="10666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143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 with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358128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29718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19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743200" y="2133720"/>
            <a:ext cx="38862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09680" y="28195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09680" y="4038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09880" y="281952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952880" y="2819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32004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281952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38098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5288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181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814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58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52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95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95680" y="37339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95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386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514600" y="10666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38280" y="1143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 with F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19720" y="358128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29718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19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2133720"/>
            <a:ext cx="38862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28195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09680" y="4038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952880" y="2819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8148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81480" y="32004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038480" y="2819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038480" y="3809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5288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181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1814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58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52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37339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6386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193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193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514600" y="10666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1143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 with F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76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19720" y="358128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62720" y="29718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743200" y="2133720"/>
            <a:ext cx="38862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09680" y="28195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09680" y="4038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098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2819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181480" y="32004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2819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038480" y="3809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95288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181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14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58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352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37339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95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6386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193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862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514600" y="10666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38280" y="1143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 with F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358128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29718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743200" y="2133720"/>
            <a:ext cx="38862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09680" y="28195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09680" y="4038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98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52880" y="2819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8148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81480" y="32004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038480" y="2819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038480" y="3809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181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814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958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37339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495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386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193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193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862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0552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292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514600" y="10666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1143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 with F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76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19720" y="358128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62720" y="29718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43200" y="2133720"/>
            <a:ext cx="38862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28195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09680" y="4038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098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2819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8148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81480" y="32004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2819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38480" y="3809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5288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181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814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958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5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95680" y="37339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95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386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193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2193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862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0552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292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6748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209680" y="1447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Joi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7180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4038480"/>
            <a:ext cx="6858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48320" y="3352680"/>
            <a:ext cx="6858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0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2880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28800" y="4419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57600" y="31240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14800" y="312408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57600" y="44197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14800" y="38098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34120" y="3809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2362320"/>
            <a:ext cx="3581280" cy="28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209680" y="1447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i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7180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71800" y="4038480"/>
            <a:ext cx="6858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648320" y="3352680"/>
            <a:ext cx="6858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1240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800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828800" y="4419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657600" y="3124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31240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6576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114800" y="3809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34120" y="3809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0" y="2362320"/>
            <a:ext cx="3581280" cy="28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2895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580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2209680" y="1447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i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7180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971800" y="4038480"/>
            <a:ext cx="6858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8320" y="3352680"/>
            <a:ext cx="6858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240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240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00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28800" y="4419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7600" y="3124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31240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576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3809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34120" y="3809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0" y="2362320"/>
            <a:ext cx="3581280" cy="28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2895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580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33920" y="26668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733920" y="4495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38098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2743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362320" y="91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3200" y="2057400"/>
            <a:ext cx="32004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5053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2280" y="5181480"/>
            <a:ext cx="89917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f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2362320" y="91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743200" y="2057400"/>
            <a:ext cx="32004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6320" y="5181480"/>
            <a:ext cx="906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de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8195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195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627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62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238880" y="2362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o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238880" y="32004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a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362320" y="91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743200" y="2057400"/>
            <a:ext cx="32004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053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8195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627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562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6320" y="5181480"/>
            <a:ext cx="906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de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2362320" y="91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43200" y="2057400"/>
            <a:ext cx="32004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053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195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195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5627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2388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6320" y="5181480"/>
            <a:ext cx="906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de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362320" y="91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743200" y="2057400"/>
            <a:ext cx="32004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053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8195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8195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5627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562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6320" y="5181480"/>
            <a:ext cx="906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de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2362320" y="91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743200" y="2057400"/>
            <a:ext cx="32004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5053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8195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8195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5627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2388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6320" y="5181480"/>
            <a:ext cx="906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de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2362320" y="91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741760" y="2055960"/>
            <a:ext cx="3198600" cy="1984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5053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8195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5627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562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2388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320" y="5181480"/>
            <a:ext cx="906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de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828800" y="914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possibl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1760" y="2055960"/>
            <a:ext cx="3198600" cy="1984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195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8195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627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562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57600" y="3276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505320" y="2895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76720" y="266688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 program for Euclid’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572000" y="20574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6320" y="5181480"/>
            <a:ext cx="906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de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1828800" y="914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possibl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741760" y="2055960"/>
            <a:ext cx="3198600" cy="1984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195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8195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5627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562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657600" y="3276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505320" y="2895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50532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0" y="20574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6320" y="5181480"/>
            <a:ext cx="906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de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1676520" y="10666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 c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d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743200" y="2895480"/>
            <a:ext cx="198108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828800" y="3200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82880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24280" y="320040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724280" y="3733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34120" y="3505320"/>
            <a:ext cx="106668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40080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209680" y="2514600"/>
            <a:ext cx="457200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20040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41972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7432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7432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41972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257800" y="3581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ero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52480" y="5181480"/>
            <a:ext cx="57913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erocheck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zerocheck (x)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x = 0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914400" y="2743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91440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705720" y="3200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2743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676520" y="10666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 can hid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3200" y="2895480"/>
            <a:ext cx="1981080" cy="1143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28800" y="3200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24280" y="3200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724280" y="3733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334120" y="3505320"/>
            <a:ext cx="1066680" cy="533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7816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09680" y="2514600"/>
            <a:ext cx="45720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20040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7432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32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41972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257800" y="3581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ero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52480" y="5181480"/>
            <a:ext cx="57913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erocheck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zerocheck (x)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x = 0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914400" y="2743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91440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705720" y="3200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295280" y="3200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400800" y="3733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676520" y="10666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 can hid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7816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209680" y="2514600"/>
            <a:ext cx="45720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096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09680" y="3048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62120" y="2743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6212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705720" y="3200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2952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295280" y="3200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733920" y="3276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38080" y="52578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bl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sible (x,y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x = q· y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1371600" y="1219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dden 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illegal, for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86200" y="3048120"/>
            <a:ext cx="68580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28600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27672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743200" y="2514600"/>
            <a:ext cx="26668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38480" y="3276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1371600" y="1219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dden inputs are illegal, for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886200" y="3048120"/>
            <a:ext cx="685800" cy="990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743200" y="3733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2767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5720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2514600"/>
            <a:ext cx="266688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038480" y="3276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41008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057400" y="3733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14300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0958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1371600" y="1219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tant func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ve no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876920" y="2971800"/>
            <a:ext cx="68580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09680" y="373392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809880" y="32767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56272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209680" y="2514600"/>
            <a:ext cx="41911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02920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4008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523880" y="3733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971800" y="2971800"/>
            <a:ext cx="83808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9718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1371600" y="1219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an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876920" y="2971800"/>
            <a:ext cx="68580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209680" y="373392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09880" y="32767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56272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09680" y="2514600"/>
            <a:ext cx="41911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4008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3733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35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971800" y="2971800"/>
            <a:ext cx="83808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9718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862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16292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1828800" y="990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yc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illegal, for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657600" y="2514600"/>
            <a:ext cx="182880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962520" y="2971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05740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48640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486400" y="34290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867280" y="34290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3276720" y="4343400"/>
            <a:ext cx="2590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3276720" y="34290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276720" y="34290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666880" y="1981080"/>
            <a:ext cx="3733920" cy="289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2514600" y="1447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289548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re nested, directed, acyclic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llow compositional, hierarchical syste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7432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990720" y="2666880"/>
            <a:ext cx="77724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t x,  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unction f,  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main (f) | x = f(x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,   n = 2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 n, n+1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1, 2, 3 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Na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],   f(x)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743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743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457200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ain: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: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: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1, 1 ), ( 2, 2 ), ( 3, 6), ( 4, 24 ),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rt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rt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0:51:10Z</dcterms:created>
  <dc:creator>Tom Henzinger</dc:creator>
  <dc:description/>
  <dc:language>en-US</dc:language>
  <cp:lastModifiedBy>Tom Henzinger</cp:lastModifiedBy>
  <dcterms:modified xsi:type="dcterms:W3CDTF">2001-02-07T00:22:39Z</dcterms:modified>
  <cp:revision>5</cp:revision>
  <dc:subject/>
  <dc:title>PowerPoint Presentation</dc:title>
</cp:coreProperties>
</file>