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E26-33A5-4262-9450-53CCCB20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5CA-D114-4C45-9A6D-7C88E903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127-882C-4D9F-AFAB-3719C768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FA8-BE18-4BA5-A7A1-A204C38A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E4F-EE00-46F7-8734-818D117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29D-4537-44BB-99FD-39356339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311-0471-43C7-A902-71CBA93E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1C4-3E9F-45A5-867A-A53D5816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7F0-9EA2-461B-B9AB-F4085C28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77D-6B75-454E-8F4C-0744B313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3D5-F9D0-4E98-87D4-B96649CD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5D7-CA67-41B4-8BFA-778DDB53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1139-26FB-4364-AAD4-5A58F9F13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ition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66880" y="990720"/>
            <a:ext cx="3886200" cy="48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32115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3211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2666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18399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81176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2115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22208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2208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29000" y="5116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429000" y="26017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602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2373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237348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321156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821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382104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334120" y="5116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888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11668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11668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28788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3668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2115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668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36687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40496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990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648320" y="23619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2362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350532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3657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4038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1523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819520"/>
            <a:ext cx="7620120" cy="157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after i-th inpu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f first i inputs contain i more true’s than fals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if first i inputs contain i more false’s than tru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5181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finitely many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71600" y="685800"/>
            <a:ext cx="7162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State (q,x)  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± (x,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(q,x)  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s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66880" y="990720"/>
            <a:ext cx="3886200" cy="48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2115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3211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2666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18399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481176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2115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24080" y="22208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2208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429000" y="5116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429000" y="26017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602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2373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237348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321156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821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82104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334120" y="5116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4876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51166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28788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668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2115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3668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36687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0496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990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23623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50532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3657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4038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209680"/>
            <a:ext cx="68580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9528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23623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( set of possible input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( set of possible output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( set of states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09480" y="6858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676520"/>
            <a:ext cx="77724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q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685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676520"/>
            <a:ext cx="77724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± (x,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s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438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133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657600" y="3276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34290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334120" y="33526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Bool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50292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Int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1828800"/>
            <a:ext cx="9143640" cy="2496600"/>
            <a:chOff x="0" y="1828800"/>
            <a:chExt cx="9143640" cy="2496600"/>
          </a:xfrm>
        </p:grpSpPr>
        <p:sp>
          <p:nvSpPr>
            <p:cNvPr id="244" name=""/>
            <p:cNvSpPr/>
            <p:nvPr/>
          </p:nvSpPr>
          <p:spPr>
            <a:xfrm>
              <a:off x="3174840" y="2708640"/>
              <a:ext cx="825480" cy="81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16240" y="2640600"/>
              <a:ext cx="825480" cy="81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38200" y="28436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79600" y="28436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3240" y="237024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936600" y="338472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82800" y="196416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82800" y="385884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0" y="2573280"/>
              <a:ext cx="825120" cy="81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21000" y="2776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15000" y="2302560"/>
              <a:ext cx="120600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778000" y="331668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24200" y="1896480"/>
              <a:ext cx="177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24200" y="3791520"/>
              <a:ext cx="177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51000" y="223452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14360" y="324900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60200" y="182880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65600" y="37234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33440" y="2776320"/>
              <a:ext cx="825120" cy="81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96800" y="2911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1840" y="243756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095200" y="3452040"/>
              <a:ext cx="120600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41400" y="20314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41400" y="392652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440" y="2437560"/>
              <a:ext cx="120600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53800" y="345204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2031480"/>
              <a:ext cx="177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3926520"/>
              <a:ext cx="177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581280" y="1828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09680" y="838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1676520"/>
            <a:ext cx="6400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  =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s    =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 for every state and input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at most one outgoing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ceptiven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for every state and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at least one outgoing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because “update” is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52388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Reactive System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/output function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mposition of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 p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( called 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p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 what delay stores is called 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52480" y="1143000"/>
            <a:ext cx="59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228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the transition diagram of a state machin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3048120"/>
            <a:ext cx="63248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     =  B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all times t, the output is true iff the inputs at times t-2, t-1, and t are all tru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4197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219320" y="1828800"/>
            <a:ext cx="7162560" cy="2190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after i-th inpu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f i-th input is fals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or i =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 if i-th input is true and (i-1)-st input is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f both i-th and (i-1)-st inputs ar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05320" y="4952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ree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or i = 1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22860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895480" y="3047400"/>
            <a:ext cx="1447920" cy="2286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2743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32004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858000" y="31240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{ 0, 1, 2 }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3048120"/>
            <a:ext cx="3886200" cy="1320840"/>
          </a:xfrm>
          <a:custGeom>
            <a:avLst/>
            <a:gdLst/>
            <a:ahLst/>
            <a:rect l="l" t="t" r="r" b="b"/>
            <a:pathLst>
              <a:path w="2448" h="832">
                <a:moveTo>
                  <a:pt x="2448" y="0"/>
                </a:moveTo>
                <a:cubicBezTo>
                  <a:pt x="2052" y="400"/>
                  <a:pt x="1656" y="800"/>
                  <a:pt x="1248" y="816"/>
                </a:cubicBezTo>
                <a:cubicBezTo>
                  <a:pt x="840" y="832"/>
                  <a:pt x="208" y="216"/>
                  <a:pt x="0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81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290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4267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00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905120" y="1523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457200"/>
            <a:ext cx="7086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]                 =  { true, fals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       =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=  (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      =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657600"/>
            <a:ext cx="80773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LastThree Sy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]                 = 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       =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      =  ( ( q = 2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51814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              if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 (q+1, 2)   if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09480" y="228600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 s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arityOrLastThre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arityOrLastThre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ParityOrLastThre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arityOrLastThre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819520" y="16765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3733920"/>
            <a:ext cx="251460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1676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257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182880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236232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2895480"/>
            <a:ext cx="685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733560" y="3124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213336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33920" y="2133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2666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19520" y="25909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581280" y="19810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2514600"/>
            <a:ext cx="76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25146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48320" y="19810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29200" y="19810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25909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25909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647960" y="3124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1828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u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2362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x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28954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ini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388620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441972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62520" y="4952880"/>
            <a:ext cx="685800" cy="38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7335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733920" y="4190760"/>
            <a:ext cx="0" cy="9903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41911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47242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4648320"/>
            <a:ext cx="76176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581280" y="4038480"/>
            <a:ext cx="0" cy="6098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038480"/>
            <a:ext cx="3812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4572000"/>
            <a:ext cx="76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4572000"/>
            <a:ext cx="152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48320" y="4038480"/>
            <a:ext cx="380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4038480"/>
            <a:ext cx="0" cy="6098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29200" y="4648320"/>
            <a:ext cx="3049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46483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4648320"/>
            <a:ext cx="0" cy="5331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6479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3886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Ou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86200" y="4419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Nx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4952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n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62520" y="182880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236232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62520" y="2895480"/>
            <a:ext cx="685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733560" y="3124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33920" y="2133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666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25146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19810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25909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647960" y="3124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1828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u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2362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x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28954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ini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388620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62520" y="441972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4952880"/>
            <a:ext cx="685800" cy="38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7335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33920" y="41911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47242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1280" y="4038480"/>
            <a:ext cx="3812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9880" y="4572000"/>
            <a:ext cx="152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4038480"/>
            <a:ext cx="380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46483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6479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3886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Ou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4419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Nx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4952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n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91320" y="3276720"/>
            <a:ext cx="609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627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160020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62520" y="304812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62520" y="4495680"/>
            <a:ext cx="685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733560" y="4724280"/>
            <a:ext cx="22860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19051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0532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32004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48320" y="3276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647960" y="4724280"/>
            <a:ext cx="22860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86200" y="1600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u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86200" y="3048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x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62520" y="44956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ini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2520" y="350532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4952880"/>
            <a:ext cx="685800" cy="38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7335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23623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33920" y="38098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2209680"/>
            <a:ext cx="38088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09880" y="3657600"/>
            <a:ext cx="152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0" y="2209680"/>
            <a:ext cx="380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37339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6479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2057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Ou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3505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Nx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62520" y="4952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n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73560" y="1676520"/>
            <a:ext cx="609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44960" y="1828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44960" y="2057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83400" y="1981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1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6386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160020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62520" y="304812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4495680"/>
            <a:ext cx="685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733560" y="4724280"/>
            <a:ext cx="22860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7600" y="19051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7180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7180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3276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647960" y="4724280"/>
            <a:ext cx="22860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1600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u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3048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x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44956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ini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86200" y="205740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62520" y="350532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62520" y="4952880"/>
            <a:ext cx="685800" cy="38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7335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23623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38098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3657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8320" y="37339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6479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2057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Ou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86200" y="3505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Nx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4952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n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73560" y="1676520"/>
            <a:ext cx="609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44960" y="1828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44960" y="2057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83400" y="1981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2819520"/>
            <a:ext cx="22860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1800" y="1371600"/>
            <a:ext cx="32767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4267080"/>
            <a:ext cx="22860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743200" y="472428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43200" y="335268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743200" y="1904760"/>
            <a:ext cx="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1752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95288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666880" y="5181480"/>
            <a:ext cx="106704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666880" y="2361960"/>
            <a:ext cx="0" cy="28191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2362320"/>
            <a:ext cx="9907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66880" y="3809880"/>
            <a:ext cx="106704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373392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3733920"/>
            <a:ext cx="0" cy="14475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876560" y="51814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32767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276720"/>
            <a:ext cx="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76920" y="47242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248520" y="1981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4320" y="19810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0574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57400" y="1752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05740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5812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50532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343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1800" y="2819520"/>
            <a:ext cx="22860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1371600"/>
            <a:ext cx="32767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71800" y="4267080"/>
            <a:ext cx="22860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934320" y="19810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0574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752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5740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51460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2514600" y="32767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514600" y="2209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146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460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5780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7280" y="3505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257440" y="4876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3200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47242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Or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OrLastThree ]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OrLastThree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Sta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OrLastThree ]  ( ( q1, q2 ) 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) , nextState [ LastThree ] (q2, x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( ( q1, q2 ) 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 output [ Parity ] (q1, x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output [ LastThree ] (q2,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528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057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34340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438280"/>
            <a:ext cx="88390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Parity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37339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      if  | trueValues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 is ev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     if  | trueValues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 is o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ere  trueValues (x,y) = {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| z &lt;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(z) = true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057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4340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62920" y="2743200"/>
            <a:ext cx="533160" cy="1523880"/>
          </a:xfrm>
          <a:custGeom>
            <a:avLst/>
            <a:gdLst/>
            <a:ahLst/>
            <a:rect l="l" t="t" r="r" b="b"/>
            <a:pathLst>
              <a:path w="336" h="960">
                <a:moveTo>
                  <a:pt x="0" y="960"/>
                </a:moveTo>
                <a:cubicBezTo>
                  <a:pt x="168" y="800"/>
                  <a:pt x="336" y="640"/>
                  <a:pt x="336" y="480"/>
                </a:cubicBezTo>
                <a:cubicBezTo>
                  <a:pt x="336" y="320"/>
                  <a:pt x="168" y="16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6960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19520" y="4648320"/>
            <a:ext cx="358128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8"/>
                </a:moveTo>
                <a:cubicBezTo>
                  <a:pt x="1820" y="268"/>
                  <a:pt x="1384" y="488"/>
                  <a:pt x="1008" y="480"/>
                </a:cubicBezTo>
                <a:cubicBezTo>
                  <a:pt x="632" y="472"/>
                  <a:pt x="316" y="2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911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438280"/>
            <a:ext cx="88390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unt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7339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       if  | trueValues (x,y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falseValues (x,y) |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se      if  | trueValues (x,y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&lt; | falseValues (x,y) |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486400"/>
            <a:ext cx="883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ere  falseValues (x,y) = {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| z &lt;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(z) = false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411480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29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3341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4191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56272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334120" y="2133720"/>
            <a:ext cx="17524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1828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4191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store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4120" y="4267080"/>
            <a:ext cx="182880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66880" y="685800"/>
            <a:ext cx="388620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2971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2971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524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176364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9255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389736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297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24080" y="13064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3064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29000" y="4202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429000" y="16873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687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1459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145908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229716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9066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290664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4120" y="4202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9736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306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1687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001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420228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420228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37348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2754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3135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24494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2971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27543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135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96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334120" y="4049640"/>
            <a:ext cx="182880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3135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4120" y="1763640"/>
            <a:ext cx="17524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409720" y="2677680"/>
            <a:ext cx="16765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3973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store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   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1523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2819520"/>
            <a:ext cx="7696080" cy="157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after i-th inpu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f first i inputs contain even number of tru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if first i inputs contain odd number of tru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wo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685800"/>
            <a:ext cx="7162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State (q,x)  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q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(q,x)  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07T07:26:28Z</dcterms:modified>
  <cp:revision>26</cp:revision>
  <dc:subject/>
  <dc:title>PowerPoint Presentation</dc:title>
</cp:coreProperties>
</file>