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C1F9920-9AC4-4ED8-953A-529329611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8E4FEFC-0623-4F76-9B20-E6B0964E0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5DD043B-1CEE-4887-AF5B-FF9C781DB5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1CA6D7E-1C32-453F-BAE2-A0F412F165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ACFE1DB-A713-4623-BE8D-1A3070CE98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1D9BAD8-B2EE-4642-BD83-1F2C0383B9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56B78AA-21B1-4184-B543-91FE319FA8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6AE0FCF-8544-4DA7-8833-B42F3AEAA1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2E76D2C-49B2-48F7-BF28-FF298B151C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234CBF0-AEF8-4BF0-B439-1F8585BF36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4E3DE04-F1BE-48EE-AD49-08C7807322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94143FF-CDE7-48AE-A633-2C03E99481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6DF8AC1-D83A-4F6A-89C7-85D8595AD3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3E95BFD-5363-43FD-BED3-11D25C563F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90AE5C4-4811-456C-B942-D4E52D4ED9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3184560" y="530280"/>
            <a:ext cx="3828960" cy="26510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328760" y="3357360"/>
            <a:ext cx="753408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5C51B5D-D757-4D95-865E-966F53AA04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D4DC002-A9CA-4C56-97C8-8DA0C37EAD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C1AA415-4652-459D-A46E-9C52ABD314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90C8BF9-112A-4A9A-9E4E-A5B16FEFC3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EDD-5FD0-4AE6-AE0A-8DEE9788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936-EAAF-4E49-AE18-EFECCE8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50BE2-D6BE-4030-B450-58C090ED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D2FB-FD84-4707-86F8-4CC74C9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D4864-B78B-4E2F-A06E-17D423F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04D12-6AA0-4BC6-8E75-C03C86C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0918-8672-4947-B8CF-AF5DAD4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387AE-8683-4D22-9F26-D7EA813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A9991-77F6-4287-A1AD-9043CA3E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4362B-4B3E-4AEF-A56C-4505950F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BF82C-3988-4A9E-A5DD-1ADBEE2B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F7705-5997-4838-92E4-F12CB08C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F4A-3CE8-4EFE-8D9F-E4A6C153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79D1E-4153-427E-8B7B-7C965000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25CC9-A99D-441B-9D43-B3BFA7B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24EF5-E92E-4E53-859C-80CBDFF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AC364-16CF-468F-B902-1A2E0B73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8137-F56D-4D00-8421-91B7415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8BA34-7683-4E0C-9592-ACD8AE2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20C05-3F49-4244-BD8D-21AD5E3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BB88-F0C2-436C-A70E-3AEE024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DF6A-1065-4E99-81C2-9CFB04C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0476A-C85D-439E-ABF6-1DCC00B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12C-FDC4-490A-8919-E0362FA8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46B3E-6EB7-4CC3-B601-22CD04E4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0F62B-CE56-4D72-ADA9-8224EFF3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F8FCE-C98D-431D-A53E-A25F16B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A8EE7-E349-45E5-AFA3-4AEB082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4B6B-1EF7-45DF-A234-4E8F4EC2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6ECB8-E773-447C-8954-9754C7A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06BD-D0A7-42DE-ABCB-60177D2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4AE68-8885-43F2-A8B6-E1B2F26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83BF7-C768-4F07-8775-4312D3F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CBEC0-4AB3-469E-9554-8131E14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64AF-A40A-467C-94CF-0BD32487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0CF01-6E4C-4368-904E-DE3EDB0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141AE-C175-4F00-8010-160C742E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FE08-562D-4C3C-BA8D-704F1A0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F04A-C856-4BC2-B0C6-EF12CB2A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1F340-BF6E-48E1-9B2C-9200E52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BA82A-02B2-4F0C-A4AA-53237A70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D47A6-8CE0-4E8D-AADB-EF0538B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58EFC-9BEC-47FE-82CB-19306A4E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B3A4A-4782-4243-8040-9AA6D94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6FB78-4675-4E36-A085-C6E4328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90B3-FE0F-40C8-973D-457FAD35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B10F1-72D8-4448-8C2A-D3267FC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B776-079A-43A9-8967-096CC8D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9D3E-0200-4A46-944A-D91888BA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4CDF5-B7B7-4A2F-BBFC-74A5DD6F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25BA-CB38-4829-97DE-204D7853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74452-A122-4279-860A-65BCA8E9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6C7F4-24EF-4DE3-931E-0DF3E54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480D5-F2C4-4731-884E-7A97FEFA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19E38-48D7-401A-8C18-BCFF713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61610-CF53-45DC-B41B-18E2268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A598-42ED-4D0E-9147-D58B2F5C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EDC41-BD87-495E-9044-0EAE8520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AC049-0AAB-495E-8D8B-C479C0A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67844-6BF4-489F-83AE-201AF0C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76718-9540-49F3-8F4F-3E37643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8987F-CFFB-4599-B9D7-2067D68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386A2-FC45-42DD-9EAB-6F6F704F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AD590-AE18-4156-B62D-043E22B6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0C0F0-4298-4839-852C-DCC9F270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CB230-0D0D-422E-B181-BCD9749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E74F1-26C9-464D-9295-C3E593A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DED-1514-43F4-B8CB-A7EC73E9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9929C-7C29-42AA-93AB-60B4D23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5FBF4-7CB8-4815-B597-F9470F79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ABE03-7FBE-4FDD-B9B9-877C919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7DD67-94AC-4398-B5DE-1414B6F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8D783-456A-4DD2-A2BA-B3884BC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E2C15-E935-489A-AFCC-066EF12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96DAD-BC58-4C2A-9EEC-18F07CC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8D699-8407-456E-B962-C6FCE9E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A3B61-B662-4AD6-B433-FB0623F7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E7B1-5BA6-4660-9CBA-B597884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A4EC-E99A-46F3-97FC-EB0DF0E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E23-CA1D-4A18-B261-D0AD285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71F-99CA-4667-945B-36DC4B0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676-84D1-47C4-A0F7-CD50B92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CB5-D6FB-41C2-AC12-48803DD0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1F8-96C7-4B1F-8820-BBCEF9E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B1BF-2CE8-445F-8FFB-34B1CF3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515F-56D3-462B-8408-1C715DF2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E07F-6171-48CE-ABAD-16C28054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7E72-AE35-4C4E-8D21-164B2107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FD6E-0941-4921-8D8F-8C8ECF9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B81A-4308-47C9-954D-7BA18A9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2123-D150-4A73-A3F0-E4E02079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E80-6448-4AF7-AF3E-30C90E2B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88C1-5F6E-4040-ABA5-5FB5028B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30BA-EF99-4755-9A17-A18BF57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79E2-44A4-41A9-9589-80FB9AE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0246-DB17-48FB-B74C-B490F56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2033-3F42-4499-A04B-4D686C4D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9B66-EF37-4C90-9D5B-C9D84FFF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DEE0-5B7F-4B89-8314-15697E00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CD90-9C40-4129-91E3-24FDF82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49A3-0F3A-4996-8044-1D221EB9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A595-DA01-4E93-B273-6EE3B16C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7FA-C05D-4FF5-B3D2-F23CC90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637E-A12E-48A6-895F-EA40C661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7C8B-1B08-4063-8EE3-061FAED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F334-E651-4B35-B437-3202D556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1590-66FF-4D95-9955-128DC84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9B41-4FB8-4979-99A2-4DBA9A0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A007-D056-4830-995E-A87EDA4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A631-F71F-4C58-8C98-A5B58DD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BA54-5789-400F-AA86-46DE08FE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5829-2B5C-49D9-A6A1-E23796D0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EAB3-5182-458C-931D-C618121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BCB-A1F3-4EAF-B172-A0118B6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26CA-1C99-490E-8818-55D4D2A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BD4C-25A7-4C4B-B0C6-6E4D948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1CF8-3AC8-46CA-9D86-3ACA0C78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E11E-3649-40DE-B584-73126C06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A93D-CAC2-4B18-B656-ED5973B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FC2B-E717-4AB4-B6EC-C39FC22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B05F-3548-4B0F-B770-F26C5D0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CAAE-5FD9-4C88-AD45-486519A5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5244-1F88-4B5E-AFF6-EE0345D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7376-8BC8-4B78-8703-2C349BA6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6A5-8913-43A0-96DD-E7DC60B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D362-11A8-4593-9B3B-443FEE62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8DBA-05BC-4E89-BF16-BB7B3D70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9ECC-DCD3-4B76-8A71-BEEBF20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7471-7EF5-4007-954C-BDE2D91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D719-42D6-4031-ADAC-244F330C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2B963-4FA2-4387-B0AB-D71C486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CEF1-A60F-41C6-9438-7294CB1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57D9-C80D-44AD-9B80-83CD5B4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717A-CB37-49C3-A054-BCFACD7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417D-AD16-47B3-ADF1-87143FD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110-F564-4B63-AFAF-DC83816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6B26-4791-4B6F-99B1-F6D2B5F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05E1-B40A-4A8F-B53B-ECB0494E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62CF-73B2-440D-A743-0C7F6B74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50C4-7E37-4418-8F1A-69E2191D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8C2C-58A8-413B-AE3D-912D1DCA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DFEB9-C143-4298-8B61-87ED479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2B0B8-8E00-472F-8ACE-819B0063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6A17-55CA-4519-A4D3-CDC4EA7C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9C6D-78CC-44EB-9992-8D2DA706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F2007-B2C1-46E2-B802-2CEF404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A48-7AD9-48B7-B39C-0ED62E8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626C-0B8F-4496-8411-A03703A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6AAC4-3C0A-4F1E-B902-9D40D65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01617-704A-4AF9-9E77-D44D21D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F31D-7AFE-4EBD-B847-3529BD8C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8B4F-6284-459A-AF3C-DFCC5AD1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2BCE9-84EA-4950-99F3-F7B47453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088E-9B4B-40A8-BFF4-0DDCB09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D0BD-AA20-48F8-985F-345442E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EBF5-3CE2-4147-AADB-1F8A00AC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F1BAF-D637-40C7-94A1-F125F628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0F0-57DB-47D3-865A-14F5499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ACF52-5943-42F7-B6B0-8235E207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075B-5866-47BA-9201-45B8235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73203-9346-4D99-8EB5-7F50EC4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C34C0-3D36-48B6-A5BA-44CB557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264A-4CAC-415E-A152-2247B84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33352-8DCF-44A0-81B7-0A4C95C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8917-2995-469D-BD4A-EB29FAEF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1C10F-FFE4-469F-8C58-0B2A3F46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8E06C-2F0E-407B-9EF4-F72BF30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73368-2825-423E-BE6E-5025D305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776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A963-549B-4C77-B494-27F7041FB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5879-E69D-4F57-9303-DA623BF9EA2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766-3C6B-42DB-B7C8-E5EDB524A8B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B4B-08E0-4F48-BBC8-CEAD17175B9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36C1-4FE1-4C64-8DF0-CD32E902D38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ADC8-8647-48B9-995F-9F5FECFD1E7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CB5-E695-405F-934A-F8C7A7968E49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ABF-133B-458C-9E97-FAF4AEB3953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921-CAF1-48D4-9DF8-A3C7739279D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63C-358A-4574-AC40-54AE0832BB3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74A-433E-4825-8C7A-D94484CC71E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70F-3388-447A-AA6C-057DB53CD44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8F17-B022-426D-A228-684119DCD83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B734-E685-4CA3-8FDE-4CE52DB3555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E557-711E-49AB-A162-55ED306D1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39200" y="4709880"/>
            <a:ext cx="90824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Estrazione delle featu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Principal Component Analysis, Eigen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4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476-265D-4FC9-BFBE-BDBC3410D5E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07960" y="1484280"/>
            <a:ext cx="8345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processing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contenere esclusivamente facce (no outli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immagini devono essere ragionevolmente prive di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Le facce devono avere la stessa dimensione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risca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tesse condizioni di illuminazione, o compens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Non ci deve essere sfondo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taglia le facce, catturale su sfondo neutro (alternativa: background subtr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In maniera automatica, utilizzo di un metodo di fac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4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7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0" name="Text Box 1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1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5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74C-A2B3-42A4-B2EA-E6B3DC20036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2840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ie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507960" y="907920"/>
            <a:ext cx="9047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opo aver ricavato 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lla matrice di covarianza S, calcolo le compon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a} (o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roie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facci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d 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ricostruzion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possono avvenire anche nei sottospazi descritti dalle eigenfaces con eigenvalues più grandi – riduzione dimension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353880" y="1714680"/>
            <a:ext cx="4208760" cy="792000"/>
            <a:chOff x="353880" y="1714680"/>
            <a:chExt cx="4208760" cy="792000"/>
          </a:xfrm>
        </p:grpSpPr>
        <mc:AlternateContent>
          <mc:Choice xmlns:a14="http://schemas.microsoft.com/office/drawing/2010/main" Requires="a14">
            <p:sp>
              <p:nvSpPr>
                <p:cNvPr id="757" name="Object 8"/>
                <p:cNvSpPr txBox="1"/>
                <p:nvPr/>
              </p:nvSpPr>
              <p:spPr>
                <a:xfrm>
                  <a:off x="353880" y="1714680"/>
                  <a:ext cx="4208760" cy="39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e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58" name="AutoShape 6"/>
            <p:cNvSpPr/>
            <p:nvPr/>
          </p:nvSpPr>
          <p:spPr>
            <a:xfrm rot="16200000">
              <a:off x="97488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9" name="Object 9"/>
                <p:cNvSpPr txBox="1"/>
                <p:nvPr/>
              </p:nvSpPr>
              <p:spPr>
                <a:xfrm>
                  <a:off x="887400" y="2163600"/>
                  <a:ext cx="2880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AutoShape 8"/>
            <p:cNvSpPr/>
            <p:nvPr/>
          </p:nvSpPr>
          <p:spPr>
            <a:xfrm rot="16200000">
              <a:off x="218844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Object 10"/>
                <p:cNvSpPr txBox="1"/>
                <p:nvPr/>
              </p:nvSpPr>
              <p:spPr>
                <a:xfrm>
                  <a:off x="2077200" y="2163600"/>
                  <a:ext cx="334800" cy="33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2" name="AutoShape 10"/>
            <p:cNvSpPr/>
            <p:nvPr/>
          </p:nvSpPr>
          <p:spPr>
            <a:xfrm rot="16200000">
              <a:off x="3759120" y="1592280"/>
              <a:ext cx="111240" cy="1142280"/>
            </a:xfrm>
            <a:custGeom>
              <a:avLst/>
              <a:gdLst>
                <a:gd name="textAreaLeft" fmla="*/ 71280 w 111240"/>
                <a:gd name="textAreaRight" fmla="*/ 111600 w 111240"/>
                <a:gd name="textAreaTop" fmla="*/ 29520 h 1142280"/>
                <a:gd name="textAreaBottom" fmla="*/ 1112760 h 114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Object 11"/>
                <p:cNvSpPr txBox="1"/>
                <p:nvPr/>
              </p:nvSpPr>
              <p:spPr>
                <a:xfrm>
                  <a:off x="3624480" y="2153880"/>
                  <a:ext cx="383760" cy="35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4" name="Object 2"/>
              <p:cNvSpPr txBox="1"/>
              <p:nvPr/>
            </p:nvSpPr>
            <p:spPr>
              <a:xfrm>
                <a:off x="5765760" y="1700280"/>
                <a:ext cx="363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5" name="Picture 13" descr=""/>
          <p:cNvPicPr/>
          <p:nvPr/>
        </p:nvPicPr>
        <p:blipFill>
          <a:blip r:embed="rId1"/>
          <a:stretch/>
        </p:blipFill>
        <p:spPr>
          <a:xfrm>
            <a:off x="1467000" y="3751200"/>
            <a:ext cx="5832360" cy="12034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4" descr=""/>
          <p:cNvPicPr/>
          <p:nvPr/>
        </p:nvPicPr>
        <p:blipFill>
          <a:blip r:embed="rId2"/>
          <a:srcRect l="37064" t="16771" r="27963" b="20294"/>
          <a:stretch/>
        </p:blipFill>
        <p:spPr>
          <a:xfrm>
            <a:off x="117360" y="3716280"/>
            <a:ext cx="87336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7" name="Object 3"/>
              <p:cNvSpPr txBox="1"/>
              <p:nvPr/>
            </p:nvSpPr>
            <p:spPr>
              <a:xfrm>
                <a:off x="1511280" y="4843440"/>
                <a:ext cx="5851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8" name="Text Box 16"/>
          <p:cNvSpPr/>
          <p:nvPr/>
        </p:nvSpPr>
        <p:spPr>
          <a:xfrm>
            <a:off x="7841880" y="4832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"/>
              <p:cNvSpPr txBox="1"/>
              <p:nvPr/>
            </p:nvSpPr>
            <p:spPr>
              <a:xfrm>
                <a:off x="8134200" y="4861080"/>
                <a:ext cx="846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70" name="Picture 18" descr=""/>
          <p:cNvPicPr/>
          <p:nvPr/>
        </p:nvPicPr>
        <p:blipFill>
          <a:blip r:embed="rId3"/>
          <a:srcRect l="37064" t="16771" r="27963" b="20294"/>
          <a:stretch/>
        </p:blipFill>
        <p:spPr>
          <a:xfrm>
            <a:off x="8931240" y="3355920"/>
            <a:ext cx="873000" cy="14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1" name="Object 5"/>
              <p:cNvSpPr txBox="1"/>
              <p:nvPr/>
            </p:nvSpPr>
            <p:spPr>
              <a:xfrm>
                <a:off x="9321840" y="4732200"/>
                <a:ext cx="21600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6"/>
              <p:cNvSpPr txBox="1"/>
              <p:nvPr/>
            </p:nvSpPr>
            <p:spPr>
              <a:xfrm>
                <a:off x="7797960" y="4748040"/>
                <a:ext cx="54432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3" name="Picture 21" descr=""/>
          <p:cNvPicPr/>
          <p:nvPr/>
        </p:nvPicPr>
        <p:blipFill>
          <a:blip r:embed="rId4"/>
          <a:srcRect l="92642" t="19997" r="2153" b="52231"/>
          <a:stretch/>
        </p:blipFill>
        <p:spPr>
          <a:xfrm>
            <a:off x="7527960" y="3355920"/>
            <a:ext cx="779400" cy="140976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2"/>
          <p:cNvSpPr/>
          <p:nvPr/>
        </p:nvSpPr>
        <p:spPr>
          <a:xfrm>
            <a:off x="978480" y="4862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1052640" y="4508640"/>
            <a:ext cx="15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reeform 24"/>
          <p:cNvSpPr/>
          <p:nvPr/>
        </p:nvSpPr>
        <p:spPr>
          <a:xfrm>
            <a:off x="745020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reeform 25"/>
          <p:cNvSpPr/>
          <p:nvPr/>
        </p:nvSpPr>
        <p:spPr>
          <a:xfrm>
            <a:off x="8931240" y="4797360"/>
            <a:ext cx="388800" cy="216000"/>
          </a:xfrm>
          <a:custGeom>
            <a:avLst/>
            <a:gdLst>
              <a:gd name="textAreaLeft" fmla="*/ 0 w 388800"/>
              <a:gd name="textAreaRight" fmla="*/ 389160 w 388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6" h="136">
                <a:moveTo>
                  <a:pt x="0" y="136"/>
                </a:moveTo>
                <a:cubicBezTo>
                  <a:pt x="49" y="124"/>
                  <a:pt x="99" y="113"/>
                  <a:pt x="136" y="90"/>
                </a:cubicBezTo>
                <a:cubicBezTo>
                  <a:pt x="173" y="67"/>
                  <a:pt x="199" y="33"/>
                  <a:pt x="226" y="0"/>
                </a:cubicBezTo>
              </a:path>
            </a:pathLst>
          </a:custGeom>
          <a:noFill/>
          <a:ln w="73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428760" y="5156280"/>
                <a:ext cx="21564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9" name="Picture 41" descr="face2_reconstructed"/>
          <p:cNvPicPr/>
          <p:nvPr/>
        </p:nvPicPr>
        <p:blipFill>
          <a:blip r:embed="rId5"/>
          <a:stretch/>
        </p:blipFill>
        <p:spPr>
          <a:xfrm>
            <a:off x="6513480" y="5445000"/>
            <a:ext cx="1041480" cy="7016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2" descr="face_reconstructed_70"/>
          <p:cNvPicPr/>
          <p:nvPr/>
        </p:nvPicPr>
        <p:blipFill>
          <a:blip r:embed="rId6"/>
          <a:stretch/>
        </p:blipFill>
        <p:spPr>
          <a:xfrm>
            <a:off x="5421240" y="5446800"/>
            <a:ext cx="984240" cy="7048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43" descr="face_reconstructed_50"/>
          <p:cNvPicPr/>
          <p:nvPr/>
        </p:nvPicPr>
        <p:blipFill>
          <a:blip r:embed="rId7"/>
          <a:stretch/>
        </p:blipFill>
        <p:spPr>
          <a:xfrm>
            <a:off x="432900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4" descr="face_reconstructed_30"/>
          <p:cNvPicPr/>
          <p:nvPr/>
        </p:nvPicPr>
        <p:blipFill>
          <a:blip r:embed="rId8"/>
          <a:stretch/>
        </p:blipFill>
        <p:spPr>
          <a:xfrm>
            <a:off x="3230640" y="5454720"/>
            <a:ext cx="1003320" cy="7174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5" descr="face_reconstructed_20"/>
          <p:cNvPicPr/>
          <p:nvPr/>
        </p:nvPicPr>
        <p:blipFill>
          <a:blip r:embed="rId9"/>
          <a:stretch/>
        </p:blipFill>
        <p:spPr>
          <a:xfrm>
            <a:off x="2143080" y="5454720"/>
            <a:ext cx="1001880" cy="7174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6" descr="face_reconstructed_10"/>
          <p:cNvPicPr/>
          <p:nvPr/>
        </p:nvPicPr>
        <p:blipFill>
          <a:blip r:embed="rId10"/>
          <a:stretch/>
        </p:blipFill>
        <p:spPr>
          <a:xfrm>
            <a:off x="1052640" y="5454720"/>
            <a:ext cx="1003320" cy="71748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47"/>
          <p:cNvSpPr/>
          <p:nvPr/>
        </p:nvSpPr>
        <p:spPr>
          <a:xfrm>
            <a:off x="9788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206964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9"/>
          <p:cNvSpPr/>
          <p:nvPr/>
        </p:nvSpPr>
        <p:spPr>
          <a:xfrm>
            <a:off x="315468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0"/>
          <p:cNvSpPr/>
          <p:nvPr/>
        </p:nvSpPr>
        <p:spPr>
          <a:xfrm>
            <a:off x="42537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51"/>
          <p:cNvSpPr/>
          <p:nvPr/>
        </p:nvSpPr>
        <p:spPr>
          <a:xfrm>
            <a:off x="535572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2"/>
          <p:cNvSpPr/>
          <p:nvPr/>
        </p:nvSpPr>
        <p:spPr>
          <a:xfrm>
            <a:off x="6492960" y="5913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"/>
                <a:ea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53"/>
          <p:cNvSpPr/>
          <p:nvPr/>
        </p:nvSpPr>
        <p:spPr>
          <a:xfrm>
            <a:off x="303120" y="5641920"/>
            <a:ext cx="67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e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4CD-28AD-48D5-A868-3CC211F20B7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507960" y="1484280"/>
            <a:ext cx="8736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 (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igen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): in pra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Picture 42" descr="db_eigfacessmall"/>
          <p:cNvPicPr/>
          <p:nvPr/>
        </p:nvPicPr>
        <p:blipFill>
          <a:blip r:embed="rId1"/>
          <a:stretch/>
        </p:blipFill>
        <p:spPr>
          <a:xfrm>
            <a:off x="2612880" y="2060640"/>
            <a:ext cx="445788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7" name="Object 2"/>
              <p:cNvSpPr txBox="1"/>
              <p:nvPr/>
            </p:nvSpPr>
            <p:spPr>
              <a:xfrm>
                <a:off x="3781440" y="2060640"/>
                <a:ext cx="342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3"/>
              <p:cNvSpPr txBox="1"/>
              <p:nvPr/>
            </p:nvSpPr>
            <p:spPr>
              <a:xfrm>
                <a:off x="4859280" y="206064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4"/>
              <p:cNvSpPr txBox="1"/>
              <p:nvPr/>
            </p:nvSpPr>
            <p:spPr>
              <a:xfrm>
                <a:off x="5951520" y="2048040"/>
                <a:ext cx="37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5"/>
              <p:cNvSpPr txBox="1"/>
              <p:nvPr/>
            </p:nvSpPr>
            <p:spPr>
              <a:xfrm>
                <a:off x="2639880" y="3220920"/>
                <a:ext cx="3142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6"/>
              <p:cNvSpPr txBox="1"/>
              <p:nvPr/>
            </p:nvSpPr>
            <p:spPr>
              <a:xfrm>
                <a:off x="2583000" y="2149560"/>
                <a:ext cx="4014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80C8-8B74-405C-89F1-4E3C9E03A18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ia                                            pertan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 un’img 256 x 256 ho                    : problemi di overflo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ick: calcolo gli autovettori di           , ossia       , tenuto c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he di solito si usano 20-30 eigenfaces e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2"/>
              <p:cNvSpPr txBox="1"/>
              <p:nvPr/>
            </p:nvSpPr>
            <p:spPr>
              <a:xfrm>
                <a:off x="1600200" y="1413000"/>
                <a:ext cx="3071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53"/>
          <p:cNvSpPr/>
          <p:nvPr/>
        </p:nvSpPr>
        <p:spPr>
          <a:xfrm>
            <a:off x="1401120" y="2284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54"/>
          <p:cNvSpPr/>
          <p:nvPr/>
        </p:nvSpPr>
        <p:spPr>
          <a:xfrm>
            <a:off x="6672240" y="2349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N x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3"/>
              <p:cNvSpPr txBox="1"/>
              <p:nvPr/>
            </p:nvSpPr>
            <p:spPr>
              <a:xfrm>
                <a:off x="4040280" y="3213000"/>
                <a:ext cx="1306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S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5536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4"/>
              <p:cNvSpPr txBox="1"/>
              <p:nvPr/>
            </p:nvSpPr>
            <p:spPr>
              <a:xfrm>
                <a:off x="4430880" y="4037040"/>
                <a:ext cx="726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5979960" y="4035600"/>
                <a:ext cx="522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6"/>
              <p:cNvSpPr txBox="1"/>
              <p:nvPr/>
            </p:nvSpPr>
            <p:spPr>
              <a:xfrm>
                <a:off x="895320" y="5084640"/>
                <a:ext cx="3900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A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λA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ct 7"/>
              <p:cNvSpPr txBox="1"/>
              <p:nvPr/>
            </p:nvSpPr>
            <p:spPr>
              <a:xfrm>
                <a:off x="7137360" y="5516640"/>
                <a:ext cx="108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4" name="Rectangle 60"/>
          <p:cNvSpPr/>
          <p:nvPr/>
        </p:nvSpPr>
        <p:spPr>
          <a:xfrm>
            <a:off x="4958280" y="55530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03A-EAAA-4774-A14C-B51229152F5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not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507960" y="1971720"/>
            <a:ext cx="873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M autovalor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’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corrispondono agli M autovalori più grandi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(così come i corrispondenti autovet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DA6-FC2D-42C6-9850-52869F75486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igenfaces - algoritm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507960" y="1700280"/>
            <a:ext cx="873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ottraggo ad ogni immagin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(k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,k=1...M, l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ttenendo i vettori         da cui costruisc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Calcolo M autovettori                  di            formando la m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gli M autovettori più grandi di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AA’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, o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icavo i corrispondenti componenti (o coeff. di proiezio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o in forma matriciale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2"/>
              <p:cNvSpPr txBox="1"/>
              <p:nvPr/>
            </p:nvSpPr>
            <p:spPr>
              <a:xfrm>
                <a:off x="7016760" y="2133720"/>
                <a:ext cx="544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3"/>
              <p:cNvSpPr txBox="1"/>
              <p:nvPr/>
            </p:nvSpPr>
            <p:spPr>
              <a:xfrm>
                <a:off x="5148360" y="2550960"/>
                <a:ext cx="593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A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4"/>
              <p:cNvSpPr txBox="1"/>
              <p:nvPr/>
            </p:nvSpPr>
            <p:spPr>
              <a:xfrm>
                <a:off x="3840120" y="2568600"/>
                <a:ext cx="1101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5"/>
              <p:cNvSpPr txBox="1"/>
              <p:nvPr/>
            </p:nvSpPr>
            <p:spPr>
              <a:xfrm>
                <a:off x="6862680" y="2959200"/>
                <a:ext cx="984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6"/>
              <p:cNvSpPr txBox="1"/>
              <p:nvPr/>
            </p:nvSpPr>
            <p:spPr>
              <a:xfrm>
                <a:off x="3938760" y="4292640"/>
                <a:ext cx="1625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7"/>
              <p:cNvSpPr txBox="1"/>
              <p:nvPr/>
            </p:nvSpPr>
            <p:spPr>
              <a:xfrm>
                <a:off x="6937200" y="1617840"/>
                <a:ext cx="148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8"/>
              <p:cNvSpPr txBox="1"/>
              <p:nvPr/>
            </p:nvSpPr>
            <p:spPr>
              <a:xfrm>
                <a:off x="3460680" y="2158920"/>
                <a:ext cx="622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9"/>
              <p:cNvSpPr txBox="1"/>
              <p:nvPr/>
            </p:nvSpPr>
            <p:spPr>
              <a:xfrm>
                <a:off x="8396280" y="2571840"/>
                <a:ext cx="5475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10"/>
              <p:cNvSpPr txBox="1"/>
              <p:nvPr/>
            </p:nvSpPr>
            <p:spPr>
              <a:xfrm>
                <a:off x="3902040" y="3429000"/>
                <a:ext cx="1598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  <m:limLow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11"/>
              <p:cNvSpPr txBox="1"/>
              <p:nvPr/>
            </p:nvSpPr>
            <p:spPr>
              <a:xfrm>
                <a:off x="3860640" y="5300640"/>
                <a:ext cx="2067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limLow>
                          <m:e>
                            <m:r>
                              <m:t xml:space="preserve">ω</m:t>
                            </m:r>
                          </m:e>
                          <m:lim>
                            <m:r>
                              <m:t xml:space="preserve">M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lim>
                        </m:limLow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t xml:space="preserve">U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lim>
                    </m:limLow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limLow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C02-35AC-495F-8B50-80A9868720D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0000"/>
                </a:solidFill>
                <a:latin typeface="Tahoma"/>
              </a:rPr>
              <a:t>Proprietà chiave della rappresentazione ad eigenfaces</a:t>
            </a:r>
            <a:endParaRPr b="0" lang="en-US" sz="33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358560" y="1295280"/>
            <a:ext cx="7650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immagini                 usate per costruire l’eigen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 la proiezione nell’eigenspace dell’i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sia, la distanza nell’eigenspace è approssimativ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guale alla distanza tra due immagi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2"/>
              <p:cNvSpPr txBox="1"/>
              <p:nvPr/>
            </p:nvSpPr>
            <p:spPr>
              <a:xfrm>
                <a:off x="2825640" y="1876320"/>
                <a:ext cx="107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3"/>
              <p:cNvSpPr txBox="1"/>
              <p:nvPr/>
            </p:nvSpPr>
            <p:spPr>
              <a:xfrm>
                <a:off x="1679400" y="2471760"/>
                <a:ext cx="549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4"/>
              <p:cNvSpPr txBox="1"/>
              <p:nvPr/>
            </p:nvSpPr>
            <p:spPr>
              <a:xfrm>
                <a:off x="2455920" y="4151160"/>
                <a:ext cx="4829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Rectangle 11"/>
          <p:cNvSpPr/>
          <p:nvPr/>
        </p:nvSpPr>
        <p:spPr>
          <a:xfrm>
            <a:off x="2394000" y="4038480"/>
            <a:ext cx="495288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5"/>
              <p:cNvSpPr txBox="1"/>
              <p:nvPr/>
            </p:nvSpPr>
            <p:spPr>
              <a:xfrm>
                <a:off x="7137360" y="2468520"/>
                <a:ext cx="47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6"/>
              <p:cNvSpPr txBox="1"/>
              <p:nvPr/>
            </p:nvSpPr>
            <p:spPr>
              <a:xfrm>
                <a:off x="7099200" y="3068640"/>
                <a:ext cx="515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7"/>
              <p:cNvSpPr txBox="1"/>
              <p:nvPr/>
            </p:nvSpPr>
            <p:spPr>
              <a:xfrm>
                <a:off x="1641600" y="3068640"/>
                <a:ext cx="622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4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1B2-7DE9-4B21-8393-EF3599EADE8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zza il database d’immagini etichettato (&lt;volti,identità&gt;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gui PCA — calcola le eigenfaces, form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i K coefficienti per ogni immagin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a le M proiezioni nello spazio delle eigenfaces </a:t>
            </a:r>
            <a:r>
              <a:rPr b="1" lang="el-GR" sz="1600" spc="-1" strike="noStrike">
                <a:solidFill>
                  <a:srgbClr val="000000"/>
                </a:solidFill>
                <a:latin typeface="바탕"/>
                <a:ea typeface="바탕"/>
              </a:rPr>
              <a:t>ω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k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1,...,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la sogl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una nuova img (da riconoscere)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 sottraggo la media del dataset di train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otte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ietto, ossia calcolo le K componen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olo il set di distan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2"/>
              <p:cNvSpPr txBox="1"/>
              <p:nvPr/>
            </p:nvSpPr>
            <p:spPr>
              <a:xfrm>
                <a:off x="2365200" y="2744640"/>
                <a:ext cx="4838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AutoShape 5"/>
          <p:cNvSpPr/>
          <p:nvPr/>
        </p:nvSpPr>
        <p:spPr>
          <a:xfrm>
            <a:off x="741240" y="1052640"/>
            <a:ext cx="311400" cy="2305080"/>
          </a:xfrm>
          <a:custGeom>
            <a:avLst/>
            <a:gdLst>
              <a:gd name="textAreaLeft" fmla="*/ 199080 w 311400"/>
              <a:gd name="textAreaRight" fmla="*/ 311400 w 311400"/>
              <a:gd name="textAreaTop" fmla="*/ 64800 h 2305080"/>
              <a:gd name="textAreaBottom" fmla="*/ 224028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8850"/>
                </a:lnTo>
                <a:cubicBezTo>
                  <a:pt x="10800" y="9825"/>
                  <a:pt x="5400" y="10800"/>
                  <a:pt x="0" y="10800"/>
                </a:cubicBezTo>
                <a:cubicBezTo>
                  <a:pt x="5400" y="10800"/>
                  <a:pt x="10800" y="11775"/>
                  <a:pt x="10800" y="1275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 rot="16200000">
            <a:off x="-172440" y="20178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3"/>
              <p:cNvSpPr txBox="1"/>
              <p:nvPr/>
            </p:nvSpPr>
            <p:spPr>
              <a:xfrm>
                <a:off x="1836720" y="4327560"/>
                <a:ext cx="275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4"/>
              <p:cNvSpPr txBox="1"/>
              <p:nvPr/>
            </p:nvSpPr>
            <p:spPr>
              <a:xfrm>
                <a:off x="2624040" y="5084640"/>
                <a:ext cx="4238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pe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5"/>
              <p:cNvSpPr txBox="1"/>
              <p:nvPr/>
            </p:nvSpPr>
            <p:spPr>
              <a:xfrm>
                <a:off x="5823000" y="4365720"/>
                <a:ext cx="11034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Object 6"/>
              <p:cNvSpPr txBox="1"/>
              <p:nvPr/>
            </p:nvSpPr>
            <p:spPr>
              <a:xfrm>
                <a:off x="7527960" y="3747960"/>
                <a:ext cx="244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55" name="Rectangle 11"/>
          <p:cNvSpPr/>
          <p:nvPr/>
        </p:nvSpPr>
        <p:spPr>
          <a:xfrm>
            <a:off x="4955760" y="4365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2"/>
          <p:cNvSpPr/>
          <p:nvPr/>
        </p:nvSpPr>
        <p:spPr>
          <a:xfrm>
            <a:off x="741240" y="3429000"/>
            <a:ext cx="311400" cy="38876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09800 h 3887640"/>
              <a:gd name="textAreaBottom" fmla="*/ 377784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4920"/>
                </a:lnTo>
                <a:cubicBezTo>
                  <a:pt x="10800" y="5895"/>
                  <a:pt x="5400" y="6870"/>
                  <a:pt x="0" y="6870"/>
                </a:cubicBezTo>
                <a:cubicBezTo>
                  <a:pt x="5400" y="6870"/>
                  <a:pt x="10800" y="7845"/>
                  <a:pt x="10800" y="8820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 rot="16200000">
            <a:off x="-679320" y="4539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6E8-85CD-4172-9979-F57FEA6AFE2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6168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Riconoscimento con le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915400" cy="610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ostruisco la faccia usando eigenfaces e compon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olo la distanza tra la faccia di partenza incognita e la ricostru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 è un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nuova fac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è una faccia conosciuta, la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be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esima, dov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2"/>
              <p:cNvSpPr txBox="1"/>
              <p:nvPr/>
            </p:nvSpPr>
            <p:spPr>
              <a:xfrm>
                <a:off x="2470320" y="1413000"/>
                <a:ext cx="36082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oppure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AutoShape 14"/>
          <p:cNvSpPr/>
          <p:nvPr/>
        </p:nvSpPr>
        <p:spPr>
          <a:xfrm>
            <a:off x="741240" y="-531720"/>
            <a:ext cx="311400" cy="6913440"/>
          </a:xfrm>
          <a:custGeom>
            <a:avLst/>
            <a:gdLst>
              <a:gd name="textAreaLeft" fmla="*/ 199080 w 311400"/>
              <a:gd name="textAreaRight" fmla="*/ 311400 w 311400"/>
              <a:gd name="textAreaTop" fmla="*/ 195120 h 6913440"/>
              <a:gd name="textAreaBottom" fmla="*/ 6718320 h 69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5"/>
                  <a:pt x="10800" y="1950"/>
                </a:cubicBezTo>
                <a:lnTo>
                  <a:pt x="10800" y="6789"/>
                </a:lnTo>
                <a:cubicBezTo>
                  <a:pt x="10800" y="7764"/>
                  <a:pt x="5400" y="8739"/>
                  <a:pt x="0" y="8739"/>
                </a:cubicBezTo>
                <a:cubicBezTo>
                  <a:pt x="5400" y="8739"/>
                  <a:pt x="10800" y="9714"/>
                  <a:pt x="10800" y="10689"/>
                </a:cubicBezTo>
                <a:lnTo>
                  <a:pt x="10800" y="19650"/>
                </a:lnTo>
                <a:cubicBezTo>
                  <a:pt x="10800" y="20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 rot="16200000">
            <a:off x="-679320" y="21632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ONO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3"/>
              <p:cNvSpPr txBox="1"/>
              <p:nvPr/>
            </p:nvSpPr>
            <p:spPr>
              <a:xfrm>
                <a:off x="3314880" y="2997360"/>
                <a:ext cx="1750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4"/>
              <p:cNvSpPr txBox="1"/>
              <p:nvPr/>
            </p:nvSpPr>
            <p:spPr>
              <a:xfrm>
                <a:off x="1816200" y="3786120"/>
                <a:ext cx="799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≥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5"/>
              <p:cNvSpPr txBox="1"/>
              <p:nvPr/>
            </p:nvSpPr>
            <p:spPr>
              <a:xfrm>
                <a:off x="1517760" y="4278240"/>
                <a:ext cx="3422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θ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6"/>
              <p:cNvSpPr txBox="1"/>
              <p:nvPr/>
            </p:nvSpPr>
            <p:spPr>
              <a:xfrm>
                <a:off x="1481040" y="4819680"/>
                <a:ext cx="2613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e  min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7"/>
              <p:cNvSpPr txBox="1"/>
              <p:nvPr/>
            </p:nvSpPr>
            <p:spPr>
              <a:xfrm>
                <a:off x="3475080" y="5567400"/>
                <a:ext cx="2379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0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4143-BEEE-47B9-AE46-550F14FCD21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Dettagli pratici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grpSp>
        <p:nvGrpSpPr>
          <p:cNvPr id="873" name="Group 11"/>
          <p:cNvGrpSpPr/>
          <p:nvPr/>
        </p:nvGrpSpPr>
        <p:grpSpPr>
          <a:xfrm>
            <a:off x="5264280" y="1989000"/>
            <a:ext cx="3359880" cy="2545920"/>
            <a:chOff x="5264280" y="1989000"/>
            <a:chExt cx="3359880" cy="2545920"/>
          </a:xfrm>
        </p:grpSpPr>
        <p:grpSp>
          <p:nvGrpSpPr>
            <p:cNvPr id="874" name="Group 12"/>
            <p:cNvGrpSpPr/>
            <p:nvPr/>
          </p:nvGrpSpPr>
          <p:grpSpPr>
            <a:xfrm>
              <a:off x="5264280" y="1989000"/>
              <a:ext cx="3321720" cy="2268360"/>
              <a:chOff x="5264280" y="1989000"/>
              <a:chExt cx="3321720" cy="2268360"/>
            </a:xfrm>
          </p:grpSpPr>
          <p:pic>
            <p:nvPicPr>
              <p:cNvPr id="875" name="Picture 13" descr="baback1"/>
              <p:cNvPicPr/>
              <p:nvPr/>
            </p:nvPicPr>
            <p:blipFill>
              <a:blip r:embed="rId1"/>
              <a:srcRect l="51053" t="0" r="0" b="7904"/>
              <a:stretch/>
            </p:blipFill>
            <p:spPr>
              <a:xfrm>
                <a:off x="5264280" y="1989000"/>
                <a:ext cx="3321720" cy="22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Rectangle 14"/>
              <p:cNvSpPr/>
              <p:nvPr/>
            </p:nvSpPr>
            <p:spPr>
              <a:xfrm>
                <a:off x="63475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15"/>
              <p:cNvSpPr/>
              <p:nvPr/>
            </p:nvSpPr>
            <p:spPr>
              <a:xfrm>
                <a:off x="5686920" y="2328480"/>
                <a:ext cx="247320" cy="241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Text Box 16"/>
            <p:cNvSpPr/>
            <p:nvPr/>
          </p:nvSpPr>
          <p:spPr>
            <a:xfrm>
              <a:off x="5933160" y="4190760"/>
              <a:ext cx="317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17"/>
            <p:cNvSpPr/>
            <p:nvPr/>
          </p:nvSpPr>
          <p:spPr>
            <a:xfrm>
              <a:off x="8273520" y="4190760"/>
              <a:ext cx="3506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18"/>
            <p:cNvSpPr/>
            <p:nvPr/>
          </p:nvSpPr>
          <p:spPr>
            <a:xfrm>
              <a:off x="5370480" y="4190760"/>
              <a:ext cx="459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5000"/>
                </a:lnSpc>
                <a:spcBef>
                  <a:spcPts val="400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1" name="Picture 20" descr="txp_fig"/>
          <p:cNvPicPr/>
          <p:nvPr/>
        </p:nvPicPr>
        <p:blipFill>
          <a:blip r:embed="rId2"/>
          <a:stretch/>
        </p:blipFill>
        <p:spPr>
          <a:xfrm>
            <a:off x="4952880" y="2205000"/>
            <a:ext cx="214560" cy="2095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52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ti eigenvector usa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olla il decadimento degli eigen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i “buoni” ossia trattabili hanno poche dimensioni ad alta varia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 caso in cui tutti gli N autovalori sono stati calcolati per un dataset N-dimensionale v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255760" y="2114640"/>
                <a:ext cx="468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3"/>
              <p:cNvSpPr txBox="1"/>
              <p:nvPr/>
            </p:nvSpPr>
            <p:spPr>
              <a:xfrm>
                <a:off x="1576440" y="4714920"/>
                <a:ext cx="182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ve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83E-84B8-46BE-A274-81AC614AC9F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0" descr="graph1"/>
          <p:cNvPicPr/>
          <p:nvPr/>
        </p:nvPicPr>
        <p:blipFill>
          <a:blip r:embed="rId1"/>
          <a:stretch/>
        </p:blipFill>
        <p:spPr>
          <a:xfrm>
            <a:off x="6626160" y="339084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rincipal Component Analysi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3043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dato = un vettore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dimensionale di valori di pix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niamo N=2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ati = punti 2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6669000" y="1916280"/>
            <a:ext cx="39060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ome posso descrivere in modo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compatt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questi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pun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584280" y="342900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 1: Con un punto (vettore) sol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8012160" y="4245120"/>
            <a:ext cx="1569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"/>
              <p:cNvSpPr txBox="1"/>
              <p:nvPr/>
            </p:nvSpPr>
            <p:spPr>
              <a:xfrm>
                <a:off x="1501920" y="4221000"/>
                <a:ext cx="42494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6" name="AutoShape 12"/>
          <p:cNvSpPr/>
          <p:nvPr/>
        </p:nvSpPr>
        <p:spPr>
          <a:xfrm rot="5400000">
            <a:off x="3367800" y="486936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4"/>
          <p:cNvSpPr/>
          <p:nvPr/>
        </p:nvSpPr>
        <p:spPr>
          <a:xfrm>
            <a:off x="584280" y="5516640"/>
            <a:ext cx="585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u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: il vettore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3"/>
              <p:cNvSpPr txBox="1"/>
              <p:nvPr/>
            </p:nvSpPr>
            <p:spPr>
              <a:xfrm>
                <a:off x="4406760" y="5300640"/>
                <a:ext cx="19353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9" name="Freeform 16"/>
          <p:cNvSpPr/>
          <p:nvPr/>
        </p:nvSpPr>
        <p:spPr>
          <a:xfrm>
            <a:off x="6591240" y="4581360"/>
            <a:ext cx="1495440" cy="127188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271880"/>
              <a:gd name="textAreaBottom" fmla="*/ 1271880 h 1271880"/>
            </a:gdLst>
            <a:ahLst/>
            <a:rect l="textAreaLeft" t="textAreaTop" r="textAreaRight" b="textAreaBottom"/>
            <a:pathLst>
              <a:path w="869" h="801">
                <a:moveTo>
                  <a:pt x="0" y="726"/>
                </a:moveTo>
                <a:cubicBezTo>
                  <a:pt x="290" y="763"/>
                  <a:pt x="581" y="801"/>
                  <a:pt x="725" y="680"/>
                </a:cubicBezTo>
                <a:cubicBezTo>
                  <a:pt x="869" y="559"/>
                  <a:pt x="865" y="279"/>
                  <a:pt x="861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7"/>
          <p:cNvSpPr/>
          <p:nvPr/>
        </p:nvSpPr>
        <p:spPr>
          <a:xfrm rot="20307000">
            <a:off x="7243560" y="5326200"/>
            <a:ext cx="30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Tahoma"/>
                <a:ea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m poco espressivo!!!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428760" y="3316320"/>
            <a:ext cx="8893080" cy="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19" descr="graph1"/>
          <p:cNvPicPr/>
          <p:nvPr/>
        </p:nvPicPr>
        <p:blipFill>
          <a:blip r:embed="rId2"/>
          <a:stretch/>
        </p:blipFill>
        <p:spPr>
          <a:xfrm>
            <a:off x="3703680" y="1268280"/>
            <a:ext cx="2843280" cy="1967040"/>
          </a:xfrm>
          <a:prstGeom prst="rect">
            <a:avLst/>
          </a:prstGeom>
          <a:ln w="0">
            <a:noFill/>
          </a:ln>
        </p:spPr>
      </p:pic>
      <p:sp>
        <p:nvSpPr>
          <p:cNvPr id="603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F437-CF8C-4D28-BD12-7BE9AF5826F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00"/>
                </a:solidFill>
                <a:latin typeface="Tahoma"/>
              </a:rPr>
              <a:t>Problemi eigenfaces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88" name="Picture 16" descr=""/>
          <p:cNvPicPr/>
          <p:nvPr/>
        </p:nvPicPr>
        <p:blipFill>
          <a:blip r:embed="rId1"/>
          <a:stretch/>
        </p:blipFill>
        <p:spPr>
          <a:xfrm>
            <a:off x="6356520" y="1268280"/>
            <a:ext cx="3431880" cy="111132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17"/>
          <p:cNvSpPr/>
          <p:nvPr/>
        </p:nvSpPr>
        <p:spPr>
          <a:xfrm>
            <a:off x="507960" y="1341360"/>
            <a:ext cx="5380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Illuminazi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 stessi soggetti con differente illuminazione risultano lontani nello spazio delle eigen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Pose differen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le componenti di un volto frontale non servono per un riconoscimento con pr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Allineamento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Espressione facciale diffe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Arial"/>
              </a:rPr>
              <a:t>Out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ample outliers = non 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ntra-sample outliers = facce affette da 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18" descr=""/>
          <p:cNvPicPr/>
          <p:nvPr/>
        </p:nvPicPr>
        <p:blipFill>
          <a:blip r:embed="rId2"/>
          <a:stretch/>
        </p:blipFill>
        <p:spPr>
          <a:xfrm>
            <a:off x="6381720" y="5445000"/>
            <a:ext cx="3119400" cy="74772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9" descr=""/>
          <p:cNvPicPr/>
          <p:nvPr/>
        </p:nvPicPr>
        <p:blipFill>
          <a:blip r:embed="rId3"/>
          <a:stretch/>
        </p:blipFill>
        <p:spPr>
          <a:xfrm>
            <a:off x="6381720" y="2565360"/>
            <a:ext cx="2847960" cy="96516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0" descr=""/>
          <p:cNvPicPr/>
          <p:nvPr/>
        </p:nvPicPr>
        <p:blipFill>
          <a:blip r:embed="rId4"/>
          <a:stretch/>
        </p:blipFill>
        <p:spPr>
          <a:xfrm>
            <a:off x="6381720" y="3573360"/>
            <a:ext cx="2847960" cy="9572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1" descr=""/>
          <p:cNvPicPr/>
          <p:nvPr/>
        </p:nvPicPr>
        <p:blipFill>
          <a:blip r:embed="rId5"/>
          <a:stretch/>
        </p:blipFill>
        <p:spPr>
          <a:xfrm>
            <a:off x="6381720" y="4697280"/>
            <a:ext cx="3119400" cy="747720"/>
          </a:xfrm>
          <a:prstGeom prst="rect">
            <a:avLst/>
          </a:prstGeom>
          <a:ln w="0">
            <a:noFill/>
          </a:ln>
        </p:spPr>
      </p:pic>
      <p:sp>
        <p:nvSpPr>
          <p:cNvPr id="894" name="Freeform 22"/>
          <p:cNvSpPr/>
          <p:nvPr/>
        </p:nvSpPr>
        <p:spPr>
          <a:xfrm rot="19296600">
            <a:off x="9164160" y="3860280"/>
            <a:ext cx="622440" cy="814680"/>
          </a:xfrm>
          <a:custGeom>
            <a:avLst/>
            <a:gdLst>
              <a:gd name="textAreaLeft" fmla="*/ 0 w 622440"/>
              <a:gd name="textAreaRight" fmla="*/ 622800 w 62244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990" h="513">
                <a:moveTo>
                  <a:pt x="317" y="0"/>
                </a:moveTo>
                <a:cubicBezTo>
                  <a:pt x="570" y="30"/>
                  <a:pt x="824" y="60"/>
                  <a:pt x="907" y="136"/>
                </a:cubicBezTo>
                <a:cubicBezTo>
                  <a:pt x="990" y="212"/>
                  <a:pt x="967" y="393"/>
                  <a:pt x="816" y="453"/>
                </a:cubicBezTo>
                <a:cubicBezTo>
                  <a:pt x="665" y="513"/>
                  <a:pt x="136" y="491"/>
                  <a:pt x="0" y="499"/>
                </a:cubicBezTo>
              </a:path>
            </a:pathLst>
          </a:custGeom>
          <a:noFill/>
          <a:ln w="66600">
            <a:solidFill>
              <a:srgbClr val="ff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24"/>
          <p:cNvSpPr/>
          <p:nvPr/>
        </p:nvSpPr>
        <p:spPr>
          <a:xfrm flipV="1">
            <a:off x="4875120" y="3068640"/>
            <a:ext cx="13273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5"/>
          <p:cNvSpPr/>
          <p:nvPr/>
        </p:nvSpPr>
        <p:spPr>
          <a:xfrm flipV="1">
            <a:off x="5680080" y="4292280"/>
            <a:ext cx="622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CE8-AC1B-4738-A1C3-46A9069A55B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Tahoma"/>
              </a:rPr>
              <a:t>Problemi eigenfaces (2)</a:t>
            </a:r>
            <a:endParaRPr b="0" lang="en-US" sz="37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900" name="Picture 1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95320" y="2421000"/>
            <a:ext cx="7764480" cy="34495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21"/>
          <p:cNvSpPr/>
          <p:nvPr/>
        </p:nvSpPr>
        <p:spPr>
          <a:xfrm>
            <a:off x="507960" y="1197000"/>
            <a:ext cx="8267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unzionale solo per la rappresentazione di dati appartenenti ad un’unica 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Non separano classi dif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389-F6F5-4542-8062-9F64B2BB86E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28" descr="graph1"/>
          <p:cNvPicPr/>
          <p:nvPr/>
        </p:nvPicPr>
        <p:blipFill>
          <a:blip r:embed="rId1"/>
          <a:stretch/>
        </p:blipFill>
        <p:spPr>
          <a:xfrm>
            <a:off x="3549600" y="379080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6746760" y="1557360"/>
            <a:ext cx="304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496800" y="2637000"/>
            <a:ext cx="304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upp. una retta di proiezione nello spa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7"/>
          <p:cNvSpPr/>
          <p:nvPr/>
        </p:nvSpPr>
        <p:spPr>
          <a:xfrm flipV="1">
            <a:off x="3852720" y="3902040"/>
            <a:ext cx="2324160" cy="16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3225960" y="270972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3772080" y="2565360"/>
            <a:ext cx="5929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cune vanno bene          ...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ltre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ui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3"/>
          <p:cNvSpPr/>
          <p:nvPr/>
        </p:nvSpPr>
        <p:spPr>
          <a:xfrm rot="5400000">
            <a:off x="4839840" y="2998800"/>
            <a:ext cx="36036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24"/>
          <p:cNvSpPr/>
          <p:nvPr/>
        </p:nvSpPr>
        <p:spPr>
          <a:xfrm rot="5400000">
            <a:off x="8195400" y="2997720"/>
            <a:ext cx="36036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5"/>
          <p:cNvSpPr/>
          <p:nvPr/>
        </p:nvSpPr>
        <p:spPr>
          <a:xfrm rot="5400000">
            <a:off x="1954080" y="3070080"/>
            <a:ext cx="36036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428760" y="1268280"/>
            <a:ext cx="9048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SOL2: Con una retta di proiezion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che minimizzi la distanza media quadratica con tutti i 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29" descr="graph1"/>
          <p:cNvPicPr/>
          <p:nvPr/>
        </p:nvPicPr>
        <p:blipFill>
          <a:blip r:embed="rId2"/>
          <a:stretch/>
        </p:blipFill>
        <p:spPr>
          <a:xfrm>
            <a:off x="58428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17" name="Line 30"/>
          <p:cNvSpPr/>
          <p:nvPr/>
        </p:nvSpPr>
        <p:spPr>
          <a:xfrm flipV="1">
            <a:off x="844560" y="3811320"/>
            <a:ext cx="2325600" cy="16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2"/>
          <p:cNvSpPr/>
          <p:nvPr/>
        </p:nvSpPr>
        <p:spPr>
          <a:xfrm flipH="1" flipV="1">
            <a:off x="1380600" y="5076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4"/>
          <p:cNvSpPr/>
          <p:nvPr/>
        </p:nvSpPr>
        <p:spPr>
          <a:xfrm flipH="1" flipV="1">
            <a:off x="1987200" y="4653000"/>
            <a:ext cx="17460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5"/>
          <p:cNvSpPr/>
          <p:nvPr/>
        </p:nvSpPr>
        <p:spPr>
          <a:xfrm flipH="1" flipV="1">
            <a:off x="1747800" y="4812840"/>
            <a:ext cx="763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7"/>
          <p:cNvSpPr/>
          <p:nvPr/>
        </p:nvSpPr>
        <p:spPr>
          <a:xfrm flipH="1" flipV="1">
            <a:off x="2430000" y="434988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38"/>
          <p:cNvSpPr/>
          <p:nvPr/>
        </p:nvSpPr>
        <p:spPr>
          <a:xfrm flipH="1" flipV="1">
            <a:off x="2871360" y="4029120"/>
            <a:ext cx="88920" cy="109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39"/>
          <p:cNvSpPr/>
          <p:nvPr/>
        </p:nvSpPr>
        <p:spPr>
          <a:xfrm flipH="1" flipV="1">
            <a:off x="2327040" y="4212720"/>
            <a:ext cx="88920" cy="109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40"/>
          <p:cNvSpPr/>
          <p:nvPr/>
        </p:nvSpPr>
        <p:spPr>
          <a:xfrm flipH="1" flipV="1">
            <a:off x="1442520" y="5157360"/>
            <a:ext cx="7812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1"/>
          <p:cNvSpPr/>
          <p:nvPr/>
        </p:nvSpPr>
        <p:spPr>
          <a:xfrm flipH="1" flipV="1">
            <a:off x="1035000" y="5292360"/>
            <a:ext cx="77760" cy="95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42" descr="graph1"/>
          <p:cNvPicPr/>
          <p:nvPr/>
        </p:nvPicPr>
        <p:blipFill>
          <a:blip r:embed="rId3"/>
          <a:stretch/>
        </p:blipFill>
        <p:spPr>
          <a:xfrm>
            <a:off x="6746760" y="3789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627" name="Line 43"/>
          <p:cNvSpPr/>
          <p:nvPr/>
        </p:nvSpPr>
        <p:spPr>
          <a:xfrm>
            <a:off x="7215120" y="4437000"/>
            <a:ext cx="210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E48C-34C5-46F8-98E4-51E9ECFAB1F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4" descr="graph1"/>
          <p:cNvPicPr/>
          <p:nvPr/>
        </p:nvPicPr>
        <p:blipFill>
          <a:blip r:embed="rId1"/>
          <a:stretch/>
        </p:blipFill>
        <p:spPr>
          <a:xfrm>
            <a:off x="4606920" y="2125800"/>
            <a:ext cx="2843280" cy="19666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7960" y="1267920"/>
            <a:ext cx="86565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convenienza, imponiamo passaggio dalla media, e specifichiamo quindi i punti della retta 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1989000" y="2708280"/>
                <a:ext cx="2068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4" name="Oval 8"/>
          <p:cNvSpPr/>
          <p:nvPr/>
        </p:nvSpPr>
        <p:spPr>
          <a:xfrm>
            <a:off x="6037200" y="3038400"/>
            <a:ext cx="763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9"/>
          <p:cNvSpPr/>
          <p:nvPr/>
        </p:nvSpPr>
        <p:spPr>
          <a:xfrm flipV="1">
            <a:off x="6124680" y="2491920"/>
            <a:ext cx="85716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Object 3"/>
          <p:cNvGraphicFramePr/>
          <p:nvPr/>
        </p:nvGraphicFramePr>
        <p:xfrm>
          <a:off x="6100920" y="3830760"/>
          <a:ext cx="2822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0920" y="3830760"/>
                    <a:ext cx="2822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4"/>
          <p:cNvGraphicFramePr/>
          <p:nvPr/>
        </p:nvGraphicFramePr>
        <p:xfrm>
          <a:off x="4564080" y="270972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64080" y="270972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0" name="Object 5"/>
              <p:cNvSpPr txBox="1"/>
              <p:nvPr/>
            </p:nvSpPr>
            <p:spPr>
              <a:xfrm>
                <a:off x="6012000" y="2438280"/>
                <a:ext cx="4618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1" name="AutoShape 13"/>
          <p:cNvSpPr/>
          <p:nvPr/>
        </p:nvSpPr>
        <p:spPr>
          <a:xfrm flipV="1" rot="3235800">
            <a:off x="6301080" y="2149560"/>
            <a:ext cx="160200" cy="1154160"/>
          </a:xfrm>
          <a:custGeom>
            <a:avLst/>
            <a:gdLst>
              <a:gd name="textAreaLeft" fmla="*/ 102240 w 160200"/>
              <a:gd name="textAreaRight" fmla="*/ 160560 w 160200"/>
              <a:gd name="textAreaTop" fmla="*/ 27720 h 1154160"/>
              <a:gd name="textAreaBottom" fmla="*/ 112644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6"/>
              <p:cNvSpPr txBox="1"/>
              <p:nvPr/>
            </p:nvSpPr>
            <p:spPr>
              <a:xfrm>
                <a:off x="6462720" y="2781360"/>
                <a:ext cx="2062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7"/>
              <p:cNvSpPr txBox="1"/>
              <p:nvPr/>
            </p:nvSpPr>
            <p:spPr>
              <a:xfrm>
                <a:off x="5989680" y="3125880"/>
                <a:ext cx="3222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AutoShape 16"/>
          <p:cNvSpPr/>
          <p:nvPr/>
        </p:nvSpPr>
        <p:spPr>
          <a:xfrm>
            <a:off x="4140360" y="2565360"/>
            <a:ext cx="3888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8"/>
              <p:cNvSpPr txBox="1"/>
              <p:nvPr/>
            </p:nvSpPr>
            <p:spPr>
              <a:xfrm>
                <a:off x="2146320" y="2276640"/>
                <a:ext cx="1733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9"/>
              <p:cNvSpPr txBox="1"/>
              <p:nvPr/>
            </p:nvSpPr>
            <p:spPr>
              <a:xfrm>
                <a:off x="6905520" y="2133720"/>
                <a:ext cx="462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Oval 20"/>
          <p:cNvSpPr/>
          <p:nvPr/>
        </p:nvSpPr>
        <p:spPr>
          <a:xfrm>
            <a:off x="6964200" y="2460600"/>
            <a:ext cx="781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0"/>
              <p:cNvSpPr txBox="1"/>
              <p:nvPr/>
            </p:nvSpPr>
            <p:spPr>
              <a:xfrm>
                <a:off x="942840" y="5013360"/>
                <a:ext cx="53355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in</m:t>
                            </m:r>
                          </m:e>
                          <m:lim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lim>
                        </m:limLow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  <m:r>
                                          <m:t xml:space="preserve">e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9" name="Rectangle 22"/>
          <p:cNvSpPr/>
          <p:nvPr/>
        </p:nvSpPr>
        <p:spPr>
          <a:xfrm>
            <a:off x="507960" y="423720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roviamo quindi i coefficienti               che minimizzano la distanza 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11"/>
              <p:cNvSpPr txBox="1"/>
              <p:nvPr/>
            </p:nvSpPr>
            <p:spPr>
              <a:xfrm>
                <a:off x="4275000" y="4276800"/>
                <a:ext cx="1043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3B6-EFB3-46D9-8114-9A696000DB8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P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7960" y="1278000"/>
            <a:ext cx="86565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stituendo                           in                         ottenia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ossia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2249640" y="1282680"/>
                <a:ext cx="2176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4579920" y="1306440"/>
                <a:ext cx="1873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4"/>
              <p:cNvSpPr txBox="1"/>
              <p:nvPr/>
            </p:nvSpPr>
            <p:spPr>
              <a:xfrm>
                <a:off x="1432080" y="2279520"/>
                <a:ext cx="3376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5"/>
              <p:cNvSpPr txBox="1"/>
              <p:nvPr/>
            </p:nvSpPr>
            <p:spPr>
              <a:xfrm>
                <a:off x="1130400" y="1638360"/>
                <a:ext cx="690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9" name="Rectangle 28"/>
          <p:cNvSpPr/>
          <p:nvPr/>
        </p:nvSpPr>
        <p:spPr>
          <a:xfrm>
            <a:off x="584280" y="335592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are          significa massimizzare         tenuto conto che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, via moltiplicatori di Lagrange; ossia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6"/>
              <p:cNvSpPr txBox="1"/>
              <p:nvPr/>
            </p:nvSpPr>
            <p:spPr>
              <a:xfrm>
                <a:off x="5734080" y="2276640"/>
                <a:ext cx="2919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7"/>
              <p:cNvSpPr txBox="1"/>
              <p:nvPr/>
            </p:nvSpPr>
            <p:spPr>
              <a:xfrm>
                <a:off x="2435400" y="3368520"/>
                <a:ext cx="56196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8"/>
              <p:cNvSpPr txBox="1"/>
              <p:nvPr/>
            </p:nvSpPr>
            <p:spPr>
              <a:xfrm>
                <a:off x="5635800" y="337824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9"/>
              <p:cNvSpPr txBox="1"/>
              <p:nvPr/>
            </p:nvSpPr>
            <p:spPr>
              <a:xfrm>
                <a:off x="895320" y="3716280"/>
                <a:ext cx="749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10"/>
              <p:cNvSpPr txBox="1"/>
              <p:nvPr/>
            </p:nvSpPr>
            <p:spPr>
              <a:xfrm>
                <a:off x="6265800" y="3703680"/>
                <a:ext cx="2603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1"/>
              <p:cNvSpPr txBox="1"/>
              <p:nvPr/>
            </p:nvSpPr>
            <p:spPr>
              <a:xfrm>
                <a:off x="749160" y="5237280"/>
                <a:ext cx="2497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λ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Rectangle 35"/>
          <p:cNvSpPr/>
          <p:nvPr/>
        </p:nvSpPr>
        <p:spPr>
          <a:xfrm>
            <a:off x="584280" y="4797360"/>
            <a:ext cx="865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Minimiz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36"/>
          <p:cNvSpPr/>
          <p:nvPr/>
        </p:nvSpPr>
        <p:spPr>
          <a:xfrm>
            <a:off x="3470400" y="5229360"/>
            <a:ext cx="3902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12"/>
              <p:cNvSpPr txBox="1"/>
              <p:nvPr/>
            </p:nvSpPr>
            <p:spPr>
              <a:xfrm>
                <a:off x="3917880" y="5445000"/>
                <a:ext cx="10350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λ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Rectangle 38"/>
          <p:cNvSpPr/>
          <p:nvPr/>
        </p:nvSpPr>
        <p:spPr>
          <a:xfrm>
            <a:off x="5500800" y="2276640"/>
            <a:ext cx="3430440" cy="79200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9"/>
          <p:cNvSpPr/>
          <p:nvPr/>
        </p:nvSpPr>
        <p:spPr>
          <a:xfrm>
            <a:off x="5440320" y="2006640"/>
            <a:ext cx="33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Arial"/>
              </a:rPr>
              <a:t>Scatter matrix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≈ mat. di co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0"/>
          <p:cNvSpPr/>
          <p:nvPr/>
        </p:nvSpPr>
        <p:spPr>
          <a:xfrm>
            <a:off x="5578560" y="4452840"/>
            <a:ext cx="3432240" cy="187344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1"/>
          <p:cNvSpPr/>
          <p:nvPr/>
        </p:nvSpPr>
        <p:spPr>
          <a:xfrm>
            <a:off x="5559480" y="4437000"/>
            <a:ext cx="391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nti fat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deve essere autovet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i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e essere mas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3"/>
              <p:cNvSpPr txBox="1"/>
              <p:nvPr/>
            </p:nvSpPr>
            <p:spPr>
              <a:xfrm>
                <a:off x="6218280" y="5292720"/>
                <a:ext cx="2098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4"/>
              <p:cNvSpPr txBox="1"/>
              <p:nvPr/>
            </p:nvSpPr>
            <p:spPr>
              <a:xfrm>
                <a:off x="5811840" y="579600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AutoShape 45"/>
          <p:cNvSpPr/>
          <p:nvPr/>
        </p:nvSpPr>
        <p:spPr>
          <a:xfrm>
            <a:off x="5110200" y="5229360"/>
            <a:ext cx="3906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46"/>
          <p:cNvSpPr/>
          <p:nvPr/>
        </p:nvSpPr>
        <p:spPr>
          <a:xfrm rot="21340800">
            <a:off x="2846520" y="1915920"/>
            <a:ext cx="2574720" cy="50292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497" h="317">
                <a:moveTo>
                  <a:pt x="0" y="317"/>
                </a:moveTo>
                <a:cubicBezTo>
                  <a:pt x="193" y="158"/>
                  <a:pt x="386" y="0"/>
                  <a:pt x="635" y="0"/>
                </a:cubicBezTo>
                <a:cubicBezTo>
                  <a:pt x="884" y="0"/>
                  <a:pt x="1190" y="158"/>
                  <a:pt x="1497" y="317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43E-F991-48A6-B30E-9B1975D2EE7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680" name="Picture 3" descr="graph3"/>
          <p:cNvPicPr/>
          <p:nvPr/>
        </p:nvPicPr>
        <p:blipFill>
          <a:blip r:embed="rId1"/>
          <a:stretch/>
        </p:blipFill>
        <p:spPr>
          <a:xfrm>
            <a:off x="5030640" y="3357720"/>
            <a:ext cx="2730600" cy="2222280"/>
          </a:xfrm>
          <a:prstGeom prst="rect">
            <a:avLst/>
          </a:prstGeom>
          <a:ln w="0">
            <a:noFill/>
          </a:ln>
        </p:spPr>
      </p:pic>
      <p:sp>
        <p:nvSpPr>
          <p:cNvPr id="681" name="Freeform 4"/>
          <p:cNvSpPr/>
          <p:nvPr/>
        </p:nvSpPr>
        <p:spPr>
          <a:xfrm rot="19878600">
            <a:off x="4287960" y="3474720"/>
            <a:ext cx="2589120" cy="1090440"/>
          </a:xfrm>
          <a:custGeom>
            <a:avLst/>
            <a:gdLst>
              <a:gd name="textAreaLeft" fmla="*/ 0 w 2589120"/>
              <a:gd name="textAreaRight" fmla="*/ 2589480 w 258912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257" h="740">
                <a:moveTo>
                  <a:pt x="0" y="15"/>
                </a:moveTo>
                <a:cubicBezTo>
                  <a:pt x="427" y="7"/>
                  <a:pt x="855" y="0"/>
                  <a:pt x="1056" y="121"/>
                </a:cubicBezTo>
                <a:cubicBezTo>
                  <a:pt x="1257" y="242"/>
                  <a:pt x="1231" y="491"/>
                  <a:pt x="1205" y="74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5"/>
          <p:cNvSpPr/>
          <p:nvPr/>
        </p:nvSpPr>
        <p:spPr>
          <a:xfrm>
            <a:off x="2457360" y="4340160"/>
            <a:ext cx="3667320" cy="1609920"/>
          </a:xfrm>
          <a:custGeom>
            <a:avLst/>
            <a:gdLst>
              <a:gd name="textAreaLeft" fmla="*/ 0 w 3667320"/>
              <a:gd name="textAreaRight" fmla="*/ 3667680 w 366732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2132" h="823">
                <a:moveTo>
                  <a:pt x="0" y="589"/>
                </a:moveTo>
                <a:cubicBezTo>
                  <a:pt x="366" y="706"/>
                  <a:pt x="733" y="823"/>
                  <a:pt x="1088" y="725"/>
                </a:cubicBezTo>
                <a:cubicBezTo>
                  <a:pt x="1443" y="627"/>
                  <a:pt x="1787" y="313"/>
                  <a:pt x="2132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6"/>
          <p:cNvSpPr/>
          <p:nvPr/>
        </p:nvSpPr>
        <p:spPr>
          <a:xfrm rot="2607000">
            <a:off x="6330600" y="4314960"/>
            <a:ext cx="235080" cy="215640"/>
          </a:xfrm>
          <a:prstGeom prst="rect">
            <a:avLst/>
          </a:prstGeom>
          <a:noFill/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Object 2"/>
          <p:cNvGraphicFramePr/>
          <p:nvPr/>
        </p:nvGraphicFramePr>
        <p:xfrm>
          <a:off x="6462720" y="5275440"/>
          <a:ext cx="2840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62720" y="5275440"/>
                    <a:ext cx="284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"/>
          <p:cNvGraphicFramePr/>
          <p:nvPr/>
        </p:nvGraphicFramePr>
        <p:xfrm>
          <a:off x="5030640" y="4267080"/>
          <a:ext cx="30492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30640" y="4267080"/>
                    <a:ext cx="30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8" name="Object 4"/>
              <p:cNvSpPr txBox="1"/>
              <p:nvPr/>
            </p:nvSpPr>
            <p:spPr>
              <a:xfrm>
                <a:off x="4329000" y="1380960"/>
                <a:ext cx="2089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5"/>
              <p:cNvSpPr txBox="1"/>
              <p:nvPr/>
            </p:nvSpPr>
            <p:spPr>
              <a:xfrm>
                <a:off x="1209600" y="4078440"/>
                <a:ext cx="1784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6"/>
              <p:cNvSpPr txBox="1"/>
              <p:nvPr/>
            </p:nvSpPr>
            <p:spPr>
              <a:xfrm>
                <a:off x="3078000" y="4073400"/>
                <a:ext cx="1797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7"/>
              <p:cNvSpPr txBox="1"/>
              <p:nvPr/>
            </p:nvSpPr>
            <p:spPr>
              <a:xfrm>
                <a:off x="1442880" y="501336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8"/>
              <p:cNvSpPr txBox="1"/>
              <p:nvPr/>
            </p:nvSpPr>
            <p:spPr>
              <a:xfrm>
                <a:off x="3159000" y="4941720"/>
                <a:ext cx="13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Rectangle 22"/>
          <p:cNvSpPr/>
          <p:nvPr/>
        </p:nvSpPr>
        <p:spPr>
          <a:xfrm>
            <a:off x="584280" y="1523880"/>
            <a:ext cx="421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è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5"/>
          <p:cNvSpPr/>
          <p:nvPr/>
        </p:nvSpPr>
        <p:spPr>
          <a:xfrm>
            <a:off x="584280" y="2637000"/>
            <a:ext cx="717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ttengo 2 autovettori (e autovalori): quale prendo?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D064-4464-4C2E-847C-4FBC0BAFB15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3716280" y="1406520"/>
                <a:ext cx="2089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9" name="Rectangle 11"/>
          <p:cNvSpPr/>
          <p:nvPr/>
        </p:nvSpPr>
        <p:spPr>
          <a:xfrm>
            <a:off x="507960" y="1555920"/>
            <a:ext cx="86565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La matrice di covarianza                           è simmetrica, 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gli autovett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ono ortogonali, formanti una base per lo spazio N dimensi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gli autovalori più grandi 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hanno nelle direzioni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massima dispers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1357200" y="3002040"/>
                <a:ext cx="1643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3214800" y="2997360"/>
                <a:ext cx="16794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3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5"/>
              <p:cNvSpPr txBox="1"/>
              <p:nvPr/>
            </p:nvSpPr>
            <p:spPr>
              <a:xfrm>
                <a:off x="1590840" y="3959280"/>
                <a:ext cx="1222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6"/>
              <p:cNvSpPr txBox="1"/>
              <p:nvPr/>
            </p:nvSpPr>
            <p:spPr>
              <a:xfrm>
                <a:off x="3214800" y="3956040"/>
                <a:ext cx="1245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Picture 16" descr="graph3"/>
          <p:cNvPicPr/>
          <p:nvPr/>
        </p:nvPicPr>
        <p:blipFill>
          <a:blip r:embed="rId1"/>
          <a:stretch/>
        </p:blipFill>
        <p:spPr>
          <a:xfrm>
            <a:off x="5654520" y="3319560"/>
            <a:ext cx="2808360" cy="22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5" name="Object 7"/>
          <p:cNvGraphicFramePr/>
          <p:nvPr/>
        </p:nvGraphicFramePr>
        <p:xfrm>
          <a:off x="7058160" y="5408640"/>
          <a:ext cx="234720" cy="3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8160" y="5408640"/>
                    <a:ext cx="2347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8"/>
          <p:cNvGraphicFramePr/>
          <p:nvPr/>
        </p:nvGraphicFramePr>
        <p:xfrm>
          <a:off x="5654520" y="4255920"/>
          <a:ext cx="25272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4255920"/>
                    <a:ext cx="252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4E9-6667-42D1-B647-48BAD7D1B18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Esempio - osserv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6288120" y="5373720"/>
                <a:ext cx="25812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3" name="Rectangle 5"/>
          <p:cNvSpPr/>
          <p:nvPr/>
        </p:nvSpPr>
        <p:spPr>
          <a:xfrm>
            <a:off x="507960" y="1484280"/>
            <a:ext cx="86565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coefficienti         ,  per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=1,...,N, sono le componenti del punto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er la base tro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Quindi un punto può essere scrit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3"/>
              <p:cNvSpPr txBox="1"/>
              <p:nvPr/>
            </p:nvSpPr>
            <p:spPr>
              <a:xfrm>
                <a:off x="2625840" y="1484280"/>
                <a:ext cx="519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1066680" y="1928880"/>
                <a:ext cx="519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16" name="Group 15"/>
          <p:cNvGrpSpPr/>
          <p:nvPr/>
        </p:nvGrpSpPr>
        <p:grpSpPr>
          <a:xfrm>
            <a:off x="2690640" y="2421000"/>
            <a:ext cx="3822480" cy="3023640"/>
            <a:chOff x="2690640" y="2421000"/>
            <a:chExt cx="3822480" cy="3023640"/>
          </a:xfrm>
        </p:grpSpPr>
        <p:pic>
          <p:nvPicPr>
            <p:cNvPr id="717" name="Picture 16" descr="graph3"/>
            <p:cNvPicPr/>
            <p:nvPr/>
          </p:nvPicPr>
          <p:blipFill>
            <a:blip r:embed="rId1"/>
            <a:stretch/>
          </p:blipFill>
          <p:spPr>
            <a:xfrm>
              <a:off x="2690640" y="2421000"/>
              <a:ext cx="382248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Line 17"/>
            <p:cNvSpPr/>
            <p:nvPr/>
          </p:nvSpPr>
          <p:spPr>
            <a:xfrm flipH="1" flipV="1">
              <a:off x="5152680" y="3226320"/>
              <a:ext cx="11844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8"/>
            <p:cNvSpPr/>
            <p:nvPr/>
          </p:nvSpPr>
          <p:spPr>
            <a:xfrm flipH="1">
              <a:off x="4539600" y="3224880"/>
              <a:ext cx="605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9"/>
            <p:cNvSpPr/>
            <p:nvPr/>
          </p:nvSpPr>
          <p:spPr>
            <a:xfrm>
              <a:off x="5150880" y="323064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20"/>
            <p:cNvSpPr/>
            <p:nvPr/>
          </p:nvSpPr>
          <p:spPr>
            <a:xfrm>
              <a:off x="4675320" y="3228840"/>
              <a:ext cx="46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24"/>
          <p:cNvSpPr/>
          <p:nvPr/>
        </p:nvSpPr>
        <p:spPr>
          <a:xfrm>
            <a:off x="4094280" y="2997360"/>
            <a:ext cx="701640" cy="43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5"/>
          <p:cNvSpPr/>
          <p:nvPr/>
        </p:nvSpPr>
        <p:spPr>
          <a:xfrm flipH="1">
            <a:off x="5264280" y="2997360"/>
            <a:ext cx="390240" cy="2872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5"/>
              <p:cNvSpPr txBox="1"/>
              <p:nvPr/>
            </p:nvSpPr>
            <p:spPr>
              <a:xfrm>
                <a:off x="4979880" y="2844720"/>
                <a:ext cx="520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6"/>
              <p:cNvSpPr txBox="1"/>
              <p:nvPr/>
            </p:nvSpPr>
            <p:spPr>
              <a:xfrm>
                <a:off x="4719600" y="3860640"/>
                <a:ext cx="3207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Oval 28"/>
          <p:cNvSpPr/>
          <p:nvPr/>
        </p:nvSpPr>
        <p:spPr>
          <a:xfrm>
            <a:off x="4633920" y="3846600"/>
            <a:ext cx="763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7"/>
              <p:cNvSpPr txBox="1"/>
              <p:nvPr/>
            </p:nvSpPr>
            <p:spPr>
              <a:xfrm>
                <a:off x="3705120" y="263700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8"/>
              <p:cNvSpPr txBox="1"/>
              <p:nvPr/>
            </p:nvSpPr>
            <p:spPr>
              <a:xfrm>
                <a:off x="5576760" y="2565360"/>
                <a:ext cx="519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9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F92-46C8-4A5A-8C2C-5A927B79186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ahoma"/>
              </a:rPr>
              <a:t>Da PCA ad eigenfac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507960" y="1484280"/>
            <a:ext cx="8345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o un gruppo di punti, ho trovato la base che descrive lo scattering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gni punto puo’ essere mappato tramite i componenti della base (numero componenti = numero dimensioni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Usare meno componenti (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le componenti principal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) permette di proiettare i punti in un sottospazio altamente informativ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riduzione della dimensionalità dei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Ora passiamo alle facce (...punti!)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ataset di M facce, N dimen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28" descr="amber1"/>
          <p:cNvPicPr/>
          <p:nvPr/>
        </p:nvPicPr>
        <p:blipFill>
          <a:blip r:embed="rId1"/>
          <a:stretch/>
        </p:blipFill>
        <p:spPr>
          <a:xfrm>
            <a:off x="507960" y="5013360"/>
            <a:ext cx="1033560" cy="11444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4" descr="paul1"/>
          <p:cNvPicPr/>
          <p:nvPr/>
        </p:nvPicPr>
        <p:blipFill>
          <a:blip r:embed="rId2"/>
          <a:stretch/>
        </p:blipFill>
        <p:spPr>
          <a:xfrm>
            <a:off x="5576760" y="5013360"/>
            <a:ext cx="1033560" cy="11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5" name="Object 2"/>
              <p:cNvSpPr txBox="1"/>
              <p:nvPr/>
            </p:nvSpPr>
            <p:spPr>
              <a:xfrm>
                <a:off x="1565280" y="4941720"/>
                <a:ext cx="1001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3"/>
              <p:cNvSpPr txBox="1"/>
              <p:nvPr/>
            </p:nvSpPr>
            <p:spPr>
              <a:xfrm>
                <a:off x="3836880" y="4941720"/>
                <a:ext cx="1038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Object 4"/>
              <p:cNvSpPr txBox="1"/>
              <p:nvPr/>
            </p:nvSpPr>
            <p:spPr>
              <a:xfrm>
                <a:off x="6669000" y="4941720"/>
                <a:ext cx="115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8" name="Text Box 40"/>
          <p:cNvSpPr/>
          <p:nvPr/>
        </p:nvSpPr>
        <p:spPr>
          <a:xfrm>
            <a:off x="4957200" y="5268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1"/>
          <p:cNvSpPr/>
          <p:nvPr/>
        </p:nvSpPr>
        <p:spPr>
          <a:xfrm>
            <a:off x="8158320" y="515772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.B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 soli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  <a:ea typeface="Arial"/>
              </a:rPr>
              <a:t>M&lt;&lt;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42" descr="andyp1"/>
          <p:cNvPicPr/>
          <p:nvPr/>
        </p:nvPicPr>
        <p:blipFill>
          <a:blip r:embed="rId3"/>
          <a:stretch/>
        </p:blipFill>
        <p:spPr>
          <a:xfrm>
            <a:off x="2768760" y="5013360"/>
            <a:ext cx="1033200" cy="114444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 </dc:description>
  <dc:language>en-US</dc:language>
  <cp:lastModifiedBy>Marco Cristani</cp:lastModifiedBy>
  <cp:lastPrinted>2001-05-02T10:47:20Z</cp:lastPrinted>
  <dcterms:modified xsi:type="dcterms:W3CDTF">2014-10-27T13:01:11Z</dcterms:modified>
  <cp:revision>430</cp:revision>
  <dc:subject/>
  <dc:title>Classificazione</dc:title>
</cp:coreProperties>
</file>