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1796-113A-4B4B-9002-7B4067A48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B240-698F-4EE6-A240-D20FB17E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E212-FED6-4DCE-97D4-FD9911BCE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EF6B-0554-4D92-8DB3-1A75588AB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373F-8C31-4A30-B75C-CCE5DF8B1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8589-271A-468B-9DD0-AAAA5347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520B-1526-4B2C-97B2-0EC51D48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A934-3803-48E0-9C9A-E9899FE2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9A79-980A-455C-B80F-DD2216AA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35E3-2FE2-46AD-835E-0FFF118B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0246-E380-4C2E-9BCB-2A30AABA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A457-1F10-4FA8-B210-C2595F19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DE8B-0C28-4CAD-A98E-FC9D97F3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D7A2-B800-420B-9748-79EA89B1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D541-AF29-4330-A0C8-788855FE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E1FD-8001-4217-84C7-3C084A56F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1064-EB8B-4DB0-9402-292B3B642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FBB0-F6BE-4729-AEE1-3D850CA9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EE23-59FA-4DF5-82CE-EAE78D3E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97FD-3B51-4988-8631-6A055974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4393-8F94-40E3-B4D1-1F5B4CDD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6D1F-D313-43EC-AC11-8435C099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21EB-C30C-43C2-BD79-C9FDD781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5D48-F305-4B0F-B080-FC55BFD9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A3C5961-977B-4E36-8E75-DC74669EE8C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1D2C8E6-6AFC-480E-84F7-F5BC79ADC1B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logic gates and 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able logic devices (PAL with FF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proced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transi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state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1875-011C-49B6-A455-D067F539EEF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22V10 PAL Macro Cel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tial logic element + output/input se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3" name="" descr=""/>
          <p:cNvPicPr/>
          <p:nvPr/>
        </p:nvPicPr>
        <p:blipFill>
          <a:blip r:embed="rId1"/>
          <a:srcRect l="13893" t="9226" r="0" b="0"/>
          <a:stretch/>
        </p:blipFill>
        <p:spPr>
          <a:xfrm>
            <a:off x="2043000" y="2344680"/>
            <a:ext cx="5507280" cy="364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496A-F9B0-4B46-9E4C-26C00BE9946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ight Game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63320" y="163944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g of War g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LEDs, 2 push buttons (L, 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6" name=""/>
          <p:cNvGrpSpPr/>
          <p:nvPr/>
        </p:nvGrpSpPr>
        <p:grpSpPr>
          <a:xfrm>
            <a:off x="1063080" y="3710160"/>
            <a:ext cx="7124400" cy="1563120"/>
            <a:chOff x="1063080" y="3710160"/>
            <a:chExt cx="7124400" cy="1563120"/>
          </a:xfrm>
        </p:grpSpPr>
        <p:sp>
          <p:nvSpPr>
            <p:cNvPr id="1467" name=""/>
            <p:cNvSpPr/>
            <p:nvPr/>
          </p:nvSpPr>
          <p:spPr>
            <a:xfrm>
              <a:off x="4371840" y="4498560"/>
              <a:ext cx="54324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303880" y="4498560"/>
              <a:ext cx="54144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69" name=""/>
            <p:cNvCxnSpPr>
              <a:stCxn id="1467" idx="7"/>
              <a:endCxn id="1468" idx="1"/>
            </p:cNvCxnSpPr>
            <p:nvPr/>
          </p:nvCxnSpPr>
          <p:spPr>
            <a:xfrm>
              <a:off x="4836600" y="457776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70" name=""/>
            <p:cNvCxnSpPr>
              <a:stCxn id="1468" idx="3"/>
              <a:endCxn id="1467" idx="5"/>
            </p:cNvCxnSpPr>
            <p:nvPr/>
          </p:nvCxnSpPr>
          <p:spPr>
            <a:xfrm flipH="1">
              <a:off x="4836600" y="496044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71" name=""/>
            <p:cNvCxnSpPr>
              <a:endCxn id="1467" idx="0"/>
            </p:cNvCxnSpPr>
            <p:nvPr/>
          </p:nvCxnSpPr>
          <p:spPr>
            <a:xfrm flipH="1">
              <a:off x="4642920" y="4033080"/>
              <a:ext cx="37440" cy="465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2" name=""/>
            <p:cNvSpPr/>
            <p:nvPr/>
          </p:nvSpPr>
          <p:spPr>
            <a:xfrm>
              <a:off x="6234120" y="4498560"/>
              <a:ext cx="54468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3" name=""/>
            <p:cNvCxnSpPr>
              <a:endCxn id="1472" idx="1"/>
            </p:cNvCxnSpPr>
            <p:nvPr/>
          </p:nvCxnSpPr>
          <p:spPr>
            <a:xfrm>
              <a:off x="5767560" y="457776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74" name=""/>
            <p:cNvCxnSpPr>
              <a:stCxn id="1472" idx="3"/>
            </p:cNvCxnSpPr>
            <p:nvPr/>
          </p:nvCxnSpPr>
          <p:spPr>
            <a:xfrm flipH="1">
              <a:off x="5767200" y="496044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5" name=""/>
            <p:cNvSpPr/>
            <p:nvPr/>
          </p:nvSpPr>
          <p:spPr>
            <a:xfrm>
              <a:off x="7162920" y="4498560"/>
              <a:ext cx="54432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6" name=""/>
            <p:cNvCxnSpPr>
              <a:endCxn id="1475" idx="1"/>
            </p:cNvCxnSpPr>
            <p:nvPr/>
          </p:nvCxnSpPr>
          <p:spPr>
            <a:xfrm>
              <a:off x="6695640" y="457776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7" name=""/>
            <p:cNvSpPr/>
            <p:nvPr/>
          </p:nvSpPr>
          <p:spPr>
            <a:xfrm>
              <a:off x="1581120" y="4500360"/>
              <a:ext cx="54468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6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511360" y="4500360"/>
              <a:ext cx="54288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5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9" name=""/>
            <p:cNvCxnSpPr>
              <a:stCxn id="1478" idx="3"/>
              <a:endCxn id="1477" idx="5"/>
            </p:cNvCxnSpPr>
            <p:nvPr/>
          </p:nvCxnSpPr>
          <p:spPr>
            <a:xfrm flipH="1">
              <a:off x="2045880" y="496188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0" name=""/>
            <p:cNvSpPr/>
            <p:nvPr/>
          </p:nvSpPr>
          <p:spPr>
            <a:xfrm>
              <a:off x="3444840" y="4500360"/>
              <a:ext cx="54288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81" name=""/>
            <p:cNvCxnSpPr>
              <a:endCxn id="1480" idx="1"/>
            </p:cNvCxnSpPr>
            <p:nvPr/>
          </p:nvCxnSpPr>
          <p:spPr>
            <a:xfrm>
              <a:off x="2977920" y="457920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2" name=""/>
            <p:cNvCxnSpPr>
              <a:stCxn id="1480" idx="3"/>
            </p:cNvCxnSpPr>
            <p:nvPr/>
          </p:nvCxnSpPr>
          <p:spPr>
            <a:xfrm flipH="1">
              <a:off x="2977920" y="496188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3" name=""/>
            <p:cNvCxnSpPr/>
            <p:nvPr/>
          </p:nvCxnSpPr>
          <p:spPr>
            <a:xfrm>
              <a:off x="3904920" y="457776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4" name=""/>
            <p:cNvCxnSpPr/>
            <p:nvPr/>
          </p:nvCxnSpPr>
          <p:spPr>
            <a:xfrm flipH="1">
              <a:off x="3904920" y="496188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5" name=""/>
            <p:cNvCxnSpPr>
              <a:stCxn id="1477" idx="3"/>
              <a:endCxn id="1477" idx="1"/>
            </p:cNvCxnSpPr>
            <p:nvPr/>
          </p:nvCxnSpPr>
          <p:spPr>
            <a:xfrm flipH="1" flipV="1" rot="5400000">
              <a:off x="1469160" y="4768920"/>
              <a:ext cx="384480" cy="2160"/>
            </a:xfrm>
            <a:prstGeom prst="curvedConnector5">
              <a:avLst>
                <a:gd name="adj1" fmla="val -81068"/>
                <a:gd name="adj2" fmla="val -16600000"/>
                <a:gd name="adj3" fmla="val -8106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6" name=""/>
            <p:cNvCxnSpPr>
              <a:stCxn id="1475" idx="5"/>
              <a:endCxn id="1475" idx="7"/>
            </p:cNvCxnSpPr>
            <p:nvPr/>
          </p:nvCxnSpPr>
          <p:spPr>
            <a:xfrm flipH="1" flipV="1" rot="5400000">
              <a:off x="7437240" y="4768200"/>
              <a:ext cx="383040" cy="2160"/>
            </a:xfrm>
            <a:prstGeom prst="curvedConnector5">
              <a:avLst>
                <a:gd name="adj1" fmla="val -81091"/>
                <a:gd name="adj2" fmla="val 15540000"/>
                <a:gd name="adj3" fmla="val -8109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7" name=""/>
            <p:cNvSpPr/>
            <p:nvPr/>
          </p:nvSpPr>
          <p:spPr>
            <a:xfrm>
              <a:off x="4532760" y="371016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700680" y="42890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769000" y="42890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027480" y="4930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838760" y="42890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095800" y="4930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906720" y="42890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165560" y="4930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977920" y="42890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236760" y="4930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304000" y="4930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B603-ACCF-42CD-A3EA-7ED6018F2E6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ight Game FSM 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139680" y="979200"/>
            <a:ext cx="8344080" cy="2889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dule Light_Game (LEDS, LPB, RPB, CLK, RESE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put LPB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put RPB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put CLK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put RES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utput [6:0] LEDS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g [6:0] posit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g lef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g righ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144360" y="3919680"/>
            <a:ext cx="896328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egin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ft &lt;= LP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ight &lt;= RP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RESET) position &lt;= 7'b0001000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 if ((position == 7'b0000001) || (position == 7'b1000000))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 if (L) position &lt;= position &lt;&lt;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 if (R) position &lt;= position &gt;&gt; 1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522600" y="2070000"/>
            <a:ext cx="3218040" cy="11350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marL="347760" indent="-347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ire L, 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ssign L = ~left &amp;&amp; LP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ssign R = ~right &amp;&amp; RP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ssign LEDS = positio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498600" y="3952800"/>
            <a:ext cx="8507160" cy="2116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060800" y="1700280"/>
            <a:ext cx="21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combinational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193640" y="358920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equential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2F9A-CE86-4BF0-85CB-6C7E6ABEA4B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traffic light controll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486640" cy="4703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usy highway is intersected by a little used farm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s C sense the presence of cars waiting on the farm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no car on farmroad, light remain green in highway 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vehicle on farmroad, highway lights go from Green to Yellow to Red, allowing the farmroad lights to become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stay green only as long as a farmroad car is detected but never longer than a set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these are met, farm lights transition from Green to Yellow to Red, allowing highway to return to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 if farmroad vehicles are waiting, highway gets at least a set interval as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you have an interval timer that genera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hort time pulse (TS)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ong time pulse (TL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response to a set (ST) sig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 is to be used for timing yellow lights and TL for green l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30C5-F236-4DAF-BA3D-946DB1FC501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"/>
          <p:cNvSpPr/>
          <p:nvPr/>
        </p:nvSpPr>
        <p:spPr>
          <a:xfrm>
            <a:off x="3733920" y="2921040"/>
            <a:ext cx="0" cy="888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H="1">
            <a:off x="1308240" y="3809880"/>
            <a:ext cx="2450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305240" y="2921040"/>
            <a:ext cx="0" cy="863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267080" y="3809880"/>
            <a:ext cx="25275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H="1">
            <a:off x="4280040" y="4724280"/>
            <a:ext cx="2565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305240" y="4749840"/>
            <a:ext cx="0" cy="977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733920" y="4749840"/>
            <a:ext cx="0" cy="977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H="1">
            <a:off x="1295280" y="4724280"/>
            <a:ext cx="24638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311720" y="426708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H="1">
            <a:off x="1327320" y="4267080"/>
            <a:ext cx="241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968640" y="4159080"/>
            <a:ext cx="114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740040" y="358128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083120" y="495288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213680" y="4127400"/>
            <a:ext cx="1346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igh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733920" y="2362320"/>
            <a:ext cx="14731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rm r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flipV="1">
            <a:off x="3943440" y="3232080"/>
            <a:ext cx="1270080" cy="292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5283360" y="3086280"/>
            <a:ext cx="17143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r sen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 flipV="1">
            <a:off x="4184640" y="3231720"/>
            <a:ext cx="1041480" cy="1638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traffic light controller (cont’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way/farm road inters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99E1-8E2B-4FAD-A420-F725F8DD943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traffic light controller (cont’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8074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27080"/>
                <a:tab algn="l" pos="3718080"/>
                <a:tab algn="l" pos="4743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ulation of inputs and outputs</a:t>
            </a:r>
            <a:br>
              <a:rPr sz="1800"/>
            </a:b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pu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scrip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ce FSM in initial st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G, HY, H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ssert green/yellow/red highway ligh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ct vehicle on the farm roa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G, FY, F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ssert green/yellow/red highway ligh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rt time interval expir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art timing a short or long interv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g time interval expir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27080"/>
                <a:tab algn="l" pos="3718080"/>
                <a:tab algn="l" pos="4743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ulation of unique states – some light configurations imply others</a:t>
            </a:r>
            <a:br>
              <a:rPr sz="1800"/>
            </a:b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way green (farm road re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way yellow (farm road re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rm road green (highway re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rm road yellow (highway re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89A7-C3C5-4DC8-B13F-98FF8672965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traffic light controller (cont’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1" name=""/>
          <p:cNvGrpSpPr/>
          <p:nvPr/>
        </p:nvGrpSpPr>
        <p:grpSpPr>
          <a:xfrm>
            <a:off x="2576520" y="2076480"/>
            <a:ext cx="4508640" cy="4051440"/>
            <a:chOff x="2576520" y="2076480"/>
            <a:chExt cx="4508640" cy="4051440"/>
          </a:xfrm>
        </p:grpSpPr>
        <p:sp>
          <p:nvSpPr>
            <p:cNvPr id="1532" name=""/>
            <p:cNvSpPr/>
            <p:nvPr/>
          </p:nvSpPr>
          <p:spPr>
            <a:xfrm>
              <a:off x="5472000" y="2076480"/>
              <a:ext cx="1054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310440" y="3828960"/>
              <a:ext cx="774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167440" y="3219480"/>
              <a:ext cx="1206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 / 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795840" y="2152800"/>
              <a:ext cx="1155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TL•C)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186000" y="3219480"/>
              <a:ext cx="1435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L•C / 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576520" y="3828960"/>
              <a:ext cx="774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490920" y="4667400"/>
              <a:ext cx="12063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 / 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253040" y="5734080"/>
              <a:ext cx="1003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TL+C')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167440" y="4667400"/>
              <a:ext cx="14857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L+C' / 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405320" y="268596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405320" y="481968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472000" y="37530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338640" y="37530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45" name=""/>
            <p:cNvCxnSpPr>
              <a:stCxn id="1541" idx="3"/>
              <a:endCxn id="1544" idx="7"/>
            </p:cNvCxnSpPr>
            <p:nvPr/>
          </p:nvCxnSpPr>
          <p:spPr>
            <a:xfrm flipH="1">
              <a:off x="3858840" y="3206880"/>
              <a:ext cx="635760" cy="635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6" name=""/>
            <p:cNvCxnSpPr>
              <a:stCxn id="1544" idx="5"/>
              <a:endCxn id="1542" idx="1"/>
            </p:cNvCxnSpPr>
            <p:nvPr/>
          </p:nvCxnSpPr>
          <p:spPr>
            <a:xfrm>
              <a:off x="3859200" y="4273560"/>
              <a:ext cx="635760" cy="635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7" name=""/>
            <p:cNvCxnSpPr>
              <a:stCxn id="1542" idx="7"/>
              <a:endCxn id="1543" idx="3"/>
            </p:cNvCxnSpPr>
            <p:nvPr/>
          </p:nvCxnSpPr>
          <p:spPr>
            <a:xfrm flipV="1">
              <a:off x="4925880" y="4273200"/>
              <a:ext cx="635760" cy="635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8" name=""/>
            <p:cNvCxnSpPr>
              <a:stCxn id="1543" idx="1"/>
              <a:endCxn id="1541" idx="5"/>
            </p:cNvCxnSpPr>
            <p:nvPr/>
          </p:nvCxnSpPr>
          <p:spPr>
            <a:xfrm flipH="1" flipV="1">
              <a:off x="4925520" y="3206520"/>
              <a:ext cx="635760" cy="635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9" name=""/>
            <p:cNvCxnSpPr>
              <a:stCxn id="1541" idx="6"/>
              <a:endCxn id="1541" idx="2"/>
            </p:cNvCxnSpPr>
            <p:nvPr/>
          </p:nvCxnSpPr>
          <p:spPr>
            <a:xfrm flipH="1">
              <a:off x="4404600" y="2990880"/>
              <a:ext cx="610200" cy="2160"/>
            </a:xfrm>
            <a:prstGeom prst="curvedConnector5">
              <a:avLst>
                <a:gd name="adj1" fmla="val -37485"/>
                <a:gd name="adj2" fmla="val -16800000"/>
                <a:gd name="adj3" fmla="val -3748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0" name=""/>
            <p:cNvCxnSpPr>
              <a:stCxn id="1544" idx="0"/>
              <a:endCxn id="1544" idx="4"/>
            </p:cNvCxnSpPr>
            <p:nvPr/>
          </p:nvCxnSpPr>
          <p:spPr>
            <a:xfrm flipH="1" rot="16200000">
              <a:off x="3339000" y="4055760"/>
              <a:ext cx="610200" cy="2520"/>
            </a:xfrm>
            <a:prstGeom prst="curvedConnector5">
              <a:avLst>
                <a:gd name="adj1" fmla="val -37485"/>
                <a:gd name="adj2" fmla="val -20500000"/>
                <a:gd name="adj3" fmla="val -3748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1" name=""/>
            <p:cNvCxnSpPr>
              <a:stCxn id="1543" idx="4"/>
              <a:endCxn id="1543" idx="0"/>
            </p:cNvCxnSpPr>
            <p:nvPr/>
          </p:nvCxnSpPr>
          <p:spPr>
            <a:xfrm flipH="1" flipV="1" rot="5400000">
              <a:off x="5472720" y="4056480"/>
              <a:ext cx="610200" cy="2160"/>
            </a:xfrm>
            <a:prstGeom prst="curvedConnector5">
              <a:avLst>
                <a:gd name="adj1" fmla="val -37485"/>
                <a:gd name="adj2" fmla="val 16800000"/>
                <a:gd name="adj3" fmla="val -3748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2" name=""/>
            <p:cNvCxnSpPr/>
            <p:nvPr/>
          </p:nvCxnSpPr>
          <p:spPr>
            <a:xfrm flipH="1" flipV="1" rot="10800000">
              <a:off x="4404240" y="5124240"/>
              <a:ext cx="610200" cy="2160"/>
            </a:xfrm>
            <a:prstGeom prst="curvedConnector5">
              <a:avLst>
                <a:gd name="adj1" fmla="val -37485"/>
                <a:gd name="adj2" fmla="val 19540000"/>
                <a:gd name="adj3" fmla="val -3748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53" name=""/>
            <p:cNvSpPr/>
            <p:nvPr/>
          </p:nvSpPr>
          <p:spPr>
            <a:xfrm flipH="1">
              <a:off x="4938480" y="2228760"/>
              <a:ext cx="5331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2A80-9E15-494A-B0D6-F574FDA30A2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4" name=""/>
          <p:cNvGrpSpPr/>
          <p:nvPr/>
        </p:nvGrpSpPr>
        <p:grpSpPr>
          <a:xfrm>
            <a:off x="285840" y="2622600"/>
            <a:ext cx="8489880" cy="2978280"/>
            <a:chOff x="285840" y="2622600"/>
            <a:chExt cx="8489880" cy="2978280"/>
          </a:xfrm>
        </p:grpSpPr>
        <p:sp>
          <p:nvSpPr>
            <p:cNvPr id="1555" name=""/>
            <p:cNvSpPr/>
            <p:nvPr/>
          </p:nvSpPr>
          <p:spPr>
            <a:xfrm>
              <a:off x="380880" y="2666880"/>
              <a:ext cx="8394840" cy="29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4113360"/>
                  <a:tab algn="l" pos="4570560"/>
                  <a:tab algn="l" pos="5029200"/>
                  <a:tab algn="l" pos="5942160"/>
                  <a:tab algn="l" pos="6399360"/>
                  <a:tab algn="l" pos="73137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ello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ello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ellow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ellow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85840" y="3124080"/>
              <a:ext cx="826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733920" y="2635200"/>
              <a:ext cx="0" cy="27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829480" y="2635200"/>
              <a:ext cx="0" cy="278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892160" y="2622600"/>
              <a:ext cx="0" cy="27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0" name=""/>
          <p:cNvSpPr/>
          <p:nvPr/>
        </p:nvSpPr>
        <p:spPr>
          <a:xfrm>
            <a:off x="762120" y="5562720"/>
            <a:ext cx="82422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spcBef>
                <a:spcPts val="499"/>
              </a:spcBef>
              <a:tabLst>
                <a:tab algn="l" pos="0"/>
                <a:tab algn="l" pos="914400"/>
                <a:tab algn="l" pos="2286000"/>
                <a:tab algn="l" pos="3656160"/>
                <a:tab algn="l" pos="50292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A1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G = 0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0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G = 1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Y = 1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A2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G = 0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1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G = 0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Y = 1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A3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G = 000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001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G = 010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Y = 100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one-ho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5950080" y="1952640"/>
            <a:ext cx="32004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 encoding – similar problem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 state assignm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Green = 00, Yellow = 01, Red = 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traffic light controller (cont’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te state table with symbolic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ider state assign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B00C-864F-4A72-8134-C7C9793FFAC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ogic for different state assignmen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9000"/>
          </a:bodyPr>
          <a:p>
            <a:pPr marL="344160" indent="-34416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1 = C•TL'•PS1•PS0 + TS•PS1'•PS0 + TS•PS1•PS0' + C'•PS1•PS0 + TL•PS1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0 = C•TL•PS1'•PS0' + C•TL'•PS1•PS0 + PS1'•PS0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 = C•TL•PS1'•PS0' + TS•PS1'•PS0 + TS•PS1•PS0' + C'•PS1•PS0 + TL•PS1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1 = PS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0 = PS1'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1 = PS1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0 = PS1•PS0‘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1 = C•TL•PS1' + TS'•PS1 + C'•PS1'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0 = TS•PS1•PS0' + PS1'•PS0 + TS'•PS1•PS0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 = C•TL•PS1' + C'•PS1'•PS0 + TS•PS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1 = PS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0 = PS1•PS0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1 = PS0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0 = PS1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3 = C'•PS2 + TL•PS2 + TS'•PS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2 = TS•PS1 + C•TL'•PS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1 = C•TL•PS0 + TS'•PS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0 = C'•PS0 + TL'•PS0 + TS•PS3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 = C•TL•PS0 + TS•PS1 + C'•PS2 + TL•PS2 + TS•PS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1 = PS3 + PS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0 = PS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1 = PS1 + PS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0 = PS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7392-4BC4-4867-BD7C-9BE787300C9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 implementation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ls for representing sequential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te state machines and their state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, Moore, and synchronous Mealy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 state machine design proced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ing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ing state transi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ing codes to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ing next state and outpu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ing combination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 technolo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logic + 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 with FFs (programmable logic devices – P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D29B-15C9-45D6-BF04-5512FF69AA6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dian filter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ove single 0s between two 1s (output = NS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328760" y="2214720"/>
            <a:ext cx="2666880" cy="3810960"/>
            <a:chOff x="1328760" y="2214720"/>
            <a:chExt cx="2666880" cy="3810960"/>
          </a:xfrm>
        </p:grpSpPr>
        <p:sp>
          <p:nvSpPr>
            <p:cNvPr id="89" name=""/>
            <p:cNvSpPr/>
            <p:nvPr/>
          </p:nvSpPr>
          <p:spPr>
            <a:xfrm>
              <a:off x="2395440" y="27478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0" name=""/>
            <p:cNvCxnSpPr>
              <a:stCxn id="89" idx="7"/>
              <a:endCxn id="89" idx="1"/>
            </p:cNvCxnSpPr>
            <p:nvPr/>
          </p:nvCxnSpPr>
          <p:spPr>
            <a:xfrm rot="5400000">
              <a:off x="2660760" y="2636640"/>
              <a:ext cx="2520" cy="378720"/>
            </a:xfrm>
            <a:prstGeom prst="curvedConnector5">
              <a:avLst>
                <a:gd name="adj1" fmla="val -19300000"/>
                <a:gd name="adj2" fmla="val 49952"/>
                <a:gd name="adj3" fmla="val -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1" name=""/>
            <p:cNvSpPr/>
            <p:nvPr/>
          </p:nvSpPr>
          <p:spPr>
            <a:xfrm>
              <a:off x="3385440" y="4729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23320" y="32050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1040" y="2214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4" name=""/>
            <p:cNvCxnSpPr>
              <a:stCxn id="89" idx="4"/>
              <a:endCxn id="95" idx="0"/>
            </p:cNvCxnSpPr>
            <p:nvPr/>
          </p:nvCxnSpPr>
          <p:spPr>
            <a:xfrm flipV="1" rot="10800000">
              <a:off x="2661480" y="3281040"/>
              <a:ext cx="1080" cy="3056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5" name=""/>
            <p:cNvSpPr/>
            <p:nvPr/>
          </p:nvSpPr>
          <p:spPr>
            <a:xfrm>
              <a:off x="2395440" y="35863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62280" y="442440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28960" y="442440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95440" y="52624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62480" y="52624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28760" y="52624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1" name=""/>
            <p:cNvCxnSpPr>
              <a:stCxn id="95" idx="2"/>
              <a:endCxn id="96" idx="0"/>
            </p:cNvCxnSpPr>
            <p:nvPr/>
          </p:nvCxnSpPr>
          <p:spPr>
            <a:xfrm flipV="1" rot="10800000">
              <a:off x="2127960" y="3852360"/>
              <a:ext cx="267120" cy="57240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2" name=""/>
            <p:cNvCxnSpPr>
              <a:stCxn id="95" idx="6"/>
              <a:endCxn id="97" idx="0"/>
            </p:cNvCxnSpPr>
            <p:nvPr/>
          </p:nvCxnSpPr>
          <p:spPr>
            <a:xfrm>
              <a:off x="2928600" y="3852720"/>
              <a:ext cx="267120" cy="57240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" name=""/>
            <p:cNvCxnSpPr>
              <a:stCxn id="96" idx="2"/>
              <a:endCxn id="100" idx="0"/>
            </p:cNvCxnSpPr>
            <p:nvPr/>
          </p:nvCxnSpPr>
          <p:spPr>
            <a:xfrm flipV="1" rot="10800000">
              <a:off x="1594800" y="4690080"/>
              <a:ext cx="267120" cy="5720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" name=""/>
            <p:cNvCxnSpPr>
              <a:stCxn id="96" idx="6"/>
              <a:endCxn id="98" idx="0"/>
            </p:cNvCxnSpPr>
            <p:nvPr/>
          </p:nvCxnSpPr>
          <p:spPr>
            <a:xfrm>
              <a:off x="2395080" y="4690800"/>
              <a:ext cx="267120" cy="5720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5" name=""/>
            <p:cNvCxnSpPr>
              <a:stCxn id="97" idx="2"/>
              <a:endCxn id="98" idx="0"/>
            </p:cNvCxnSpPr>
            <p:nvPr/>
          </p:nvCxnSpPr>
          <p:spPr>
            <a:xfrm flipV="1" rot="10800000">
              <a:off x="2661480" y="4690080"/>
              <a:ext cx="267120" cy="5720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" name=""/>
            <p:cNvCxnSpPr>
              <a:stCxn id="97" idx="6"/>
              <a:endCxn id="99" idx="0"/>
            </p:cNvCxnSpPr>
            <p:nvPr/>
          </p:nvCxnSpPr>
          <p:spPr>
            <a:xfrm>
              <a:off x="3462480" y="4690800"/>
              <a:ext cx="267120" cy="5720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7" name=""/>
            <p:cNvCxnSpPr>
              <a:stCxn id="100" idx="1"/>
              <a:endCxn id="95" idx="2"/>
            </p:cNvCxnSpPr>
            <p:nvPr/>
          </p:nvCxnSpPr>
          <p:spPr>
            <a:xfrm flipH="1" flipV="1" rot="5400000">
              <a:off x="1156320" y="4101840"/>
              <a:ext cx="1488240" cy="9892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" name=""/>
            <p:cNvCxnSpPr>
              <a:stCxn id="100" idx="1"/>
              <a:endCxn id="89" idx="2"/>
            </p:cNvCxnSpPr>
            <p:nvPr/>
          </p:nvCxnSpPr>
          <p:spPr>
            <a:xfrm flipH="1" flipV="1" rot="5400000">
              <a:off x="737280" y="3682800"/>
              <a:ext cx="2326320" cy="9892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9" name=""/>
            <p:cNvCxnSpPr>
              <a:stCxn id="98" idx="7"/>
              <a:endCxn id="99" idx="1"/>
            </p:cNvCxnSpPr>
            <p:nvPr/>
          </p:nvCxnSpPr>
          <p:spPr>
            <a:xfrm flipH="1" rot="16200000">
              <a:off x="3194640" y="4995360"/>
              <a:ext cx="2520" cy="689760"/>
            </a:xfrm>
            <a:prstGeom prst="curvedConnector5">
              <a:avLst>
                <a:gd name="adj1" fmla="val -7200000"/>
                <a:gd name="adj2" fmla="val 49973"/>
                <a:gd name="adj3" fmla="val -7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0" name=""/>
            <p:cNvCxnSpPr>
              <a:stCxn id="99" idx="3"/>
              <a:endCxn id="98" idx="5"/>
            </p:cNvCxnSpPr>
            <p:nvPr/>
          </p:nvCxnSpPr>
          <p:spPr>
            <a:xfrm rot="5400000">
              <a:off x="3194280" y="5374440"/>
              <a:ext cx="2160" cy="689760"/>
            </a:xfrm>
            <a:prstGeom prst="curvedConnector5">
              <a:avLst>
                <a:gd name="adj1" fmla="val 7080000"/>
                <a:gd name="adj2" fmla="val 49973"/>
                <a:gd name="adj3" fmla="val 708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98" idx="1"/>
              <a:endCxn id="98" idx="3"/>
            </p:cNvCxnSpPr>
            <p:nvPr/>
          </p:nvCxnSpPr>
          <p:spPr>
            <a:xfrm flipH="1" rot="16200000">
              <a:off x="2284920" y="5528160"/>
              <a:ext cx="378720" cy="2520"/>
            </a:xfrm>
            <a:prstGeom prst="curvedConnector5">
              <a:avLst>
                <a:gd name="adj1" fmla="val -14652"/>
                <a:gd name="adj2" fmla="val -9500000"/>
                <a:gd name="adj3" fmla="val -1465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stCxn id="99" idx="3"/>
              <a:endCxn id="100" idx="4"/>
            </p:cNvCxnSpPr>
            <p:nvPr/>
          </p:nvCxnSpPr>
          <p:spPr>
            <a:xfrm rot="5400000">
              <a:off x="2528280" y="4784760"/>
              <a:ext cx="78480" cy="1945440"/>
            </a:xfrm>
            <a:prstGeom prst="curvedConnector5">
              <a:avLst>
                <a:gd name="adj1" fmla="val 393548"/>
                <a:gd name="adj2" fmla="val 49990"/>
                <a:gd name="adj3" fmla="val 393548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3" name=""/>
            <p:cNvSpPr/>
            <p:nvPr/>
          </p:nvSpPr>
          <p:spPr>
            <a:xfrm>
              <a:off x="2851920" y="38908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99640" y="4729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80520" y="5535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37520" y="53388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32960" y="41958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18760" y="4729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75840" y="38908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32960" y="4729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80520" y="51865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61560" y="5688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61560" y="3281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endCxn id="89" idx="6"/>
            </p:cNvCxnSpPr>
            <p:nvPr/>
          </p:nvCxnSpPr>
          <p:spPr>
            <a:xfrm flipH="1">
              <a:off x="2928600" y="2976480"/>
              <a:ext cx="381600" cy="38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5" name=""/>
            <p:cNvSpPr/>
            <p:nvPr/>
          </p:nvSpPr>
          <p:spPr>
            <a:xfrm>
              <a:off x="3220920" y="2747880"/>
              <a:ext cx="70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092560" y="1935000"/>
            <a:ext cx="3232080" cy="4051440"/>
            <a:chOff x="5092560" y="1935000"/>
            <a:chExt cx="3232080" cy="4051440"/>
          </a:xfrm>
        </p:grpSpPr>
        <p:sp>
          <p:nvSpPr>
            <p:cNvPr id="127" name=""/>
            <p:cNvSpPr/>
            <p:nvPr/>
          </p:nvSpPr>
          <p:spPr>
            <a:xfrm>
              <a:off x="5099040" y="1935000"/>
              <a:ext cx="3225600" cy="40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   PS1  PS2  PS3  NS1 NS2  NS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92560" y="2455560"/>
              <a:ext cx="313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320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757920" y="2239920"/>
              <a:ext cx="0" cy="363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86320" y="2462040"/>
              <a:ext cx="0" cy="340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8F0F-F006-4F4F-96E3-2B60894AE96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dian filter FS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ed using the standard procedure and individual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Fs and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917640" y="2414520"/>
            <a:ext cx="3232080" cy="4051440"/>
            <a:chOff x="917640" y="2414520"/>
            <a:chExt cx="3232080" cy="4051440"/>
          </a:xfrm>
        </p:grpSpPr>
        <p:sp>
          <p:nvSpPr>
            <p:cNvPr id="134" name=""/>
            <p:cNvSpPr/>
            <p:nvPr/>
          </p:nvSpPr>
          <p:spPr>
            <a:xfrm>
              <a:off x="924120" y="2414520"/>
              <a:ext cx="3225600" cy="40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   PS1  PS2  PS3  NS1 NS2  NS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17640" y="2935080"/>
              <a:ext cx="313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320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83000" y="2719440"/>
              <a:ext cx="0" cy="363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11400" y="2941560"/>
              <a:ext cx="0" cy="340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015160" y="3602160"/>
            <a:ext cx="312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1 = Reset’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2 = Reset’ ( PS1 + PS2 I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3 = Reset’ P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= P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A671-0762-4EC1-9AE7-E9CE088933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dian filter FS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t it looks like a shift register if you look at it 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13400" y="290520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41" idx="7"/>
            <a:endCxn id="141" idx="1"/>
          </p:cNvCxnSpPr>
          <p:nvPr/>
        </p:nvCxnSpPr>
        <p:spPr>
          <a:xfrm rot="5400000">
            <a:off x="6678720" y="2794680"/>
            <a:ext cx="2160" cy="378720"/>
          </a:xfrm>
          <a:prstGeom prst="curvedConnector5">
            <a:avLst>
              <a:gd name="adj1" fmla="val -19300000"/>
              <a:gd name="adj2" fmla="val 49952"/>
              <a:gd name="adj3" fmla="val -193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7403400" y="4886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41280" y="33624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89000" y="23716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1" idx="4"/>
            <a:endCxn id="147" idx="0"/>
          </p:cNvCxnSpPr>
          <p:nvPr/>
        </p:nvCxnSpPr>
        <p:spPr>
          <a:xfrm flipV="1" rot="10800000">
            <a:off x="6679440" y="3438000"/>
            <a:ext cx="1080" cy="3056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6413400" y="3743280"/>
            <a:ext cx="5335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80240" y="4581360"/>
            <a:ext cx="53316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46920" y="4581360"/>
            <a:ext cx="5335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13400" y="541980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80440" y="5419800"/>
            <a:ext cx="5331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46720" y="541980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47" idx="2"/>
            <a:endCxn id="148" idx="0"/>
          </p:cNvCxnSpPr>
          <p:nvPr/>
        </p:nvCxnSpPr>
        <p:spPr>
          <a:xfrm flipV="1" rot="10800000">
            <a:off x="6145920" y="4008960"/>
            <a:ext cx="267120" cy="5720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7" idx="6"/>
            <a:endCxn id="149" idx="0"/>
          </p:cNvCxnSpPr>
          <p:nvPr/>
        </p:nvCxnSpPr>
        <p:spPr>
          <a:xfrm>
            <a:off x="6946560" y="4009680"/>
            <a:ext cx="267120" cy="5720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8" idx="2"/>
            <a:endCxn id="152" idx="0"/>
          </p:cNvCxnSpPr>
          <p:nvPr/>
        </p:nvCxnSpPr>
        <p:spPr>
          <a:xfrm flipV="1" rot="10800000">
            <a:off x="5612760" y="484776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48" idx="6"/>
            <a:endCxn id="157" idx="1"/>
          </p:cNvCxnSpPr>
          <p:nvPr/>
        </p:nvCxnSpPr>
        <p:spPr>
          <a:xfrm flipV="1">
            <a:off x="6413400" y="3831840"/>
            <a:ext cx="1364400" cy="1016640"/>
          </a:xfrm>
          <a:prstGeom prst="curvedConnector5">
            <a:avLst>
              <a:gd name="adj1" fmla="val 47136"/>
              <a:gd name="adj2" fmla="val 65072"/>
              <a:gd name="adj3" fmla="val 47136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8" name=""/>
          <p:cNvCxnSpPr>
            <a:stCxn id="149" idx="2"/>
            <a:endCxn id="150" idx="0"/>
          </p:cNvCxnSpPr>
          <p:nvPr/>
        </p:nvCxnSpPr>
        <p:spPr>
          <a:xfrm flipV="1" rot="10800000">
            <a:off x="6679440" y="484776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9" idx="6"/>
            <a:endCxn id="151" idx="0"/>
          </p:cNvCxnSpPr>
          <p:nvPr/>
        </p:nvCxnSpPr>
        <p:spPr>
          <a:xfrm>
            <a:off x="7480440" y="484812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2" idx="1"/>
            <a:endCxn id="147" idx="2"/>
          </p:cNvCxnSpPr>
          <p:nvPr/>
        </p:nvCxnSpPr>
        <p:spPr>
          <a:xfrm flipH="1" flipV="1" rot="5400000">
            <a:off x="5174280" y="4259160"/>
            <a:ext cx="1488240" cy="98928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2" idx="1"/>
            <a:endCxn id="141" idx="2"/>
          </p:cNvCxnSpPr>
          <p:nvPr/>
        </p:nvCxnSpPr>
        <p:spPr>
          <a:xfrm flipH="1" flipV="1" rot="5400000">
            <a:off x="4755240" y="3840120"/>
            <a:ext cx="2326320" cy="98928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0" idx="7"/>
            <a:endCxn id="151" idx="1"/>
          </p:cNvCxnSpPr>
          <p:nvPr/>
        </p:nvCxnSpPr>
        <p:spPr>
          <a:xfrm flipH="1" rot="16200000">
            <a:off x="7212960" y="5153400"/>
            <a:ext cx="2160" cy="689760"/>
          </a:xfrm>
          <a:prstGeom prst="curvedConnector5">
            <a:avLst>
              <a:gd name="adj1" fmla="val -7200000"/>
              <a:gd name="adj2" fmla="val 49973"/>
              <a:gd name="adj3" fmla="val -72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51" idx="6"/>
            <a:endCxn id="157" idx="4"/>
          </p:cNvCxnSpPr>
          <p:nvPr/>
        </p:nvCxnSpPr>
        <p:spPr>
          <a:xfrm flipH="1" flipV="1">
            <a:off x="7965720" y="4287240"/>
            <a:ext cx="48240" cy="1399320"/>
          </a:xfrm>
          <a:prstGeom prst="curvedConnector5">
            <a:avLst>
              <a:gd name="adj1" fmla="val -479699"/>
              <a:gd name="adj2" fmla="val 29773"/>
              <a:gd name="adj3" fmla="val -479699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50" idx="1"/>
            <a:endCxn id="150" idx="3"/>
          </p:cNvCxnSpPr>
          <p:nvPr/>
        </p:nvCxnSpPr>
        <p:spPr>
          <a:xfrm flipH="1" rot="16200000">
            <a:off x="6302880" y="5684400"/>
            <a:ext cx="378360" cy="2520"/>
          </a:xfrm>
          <a:prstGeom prst="curvedConnector5">
            <a:avLst>
              <a:gd name="adj1" fmla="val -14666"/>
              <a:gd name="adj2" fmla="val -9500000"/>
              <a:gd name="adj3" fmla="val -1466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1" idx="3"/>
            <a:endCxn id="152" idx="4"/>
          </p:cNvCxnSpPr>
          <p:nvPr/>
        </p:nvCxnSpPr>
        <p:spPr>
          <a:xfrm rot="5400000">
            <a:off x="6546240" y="4941720"/>
            <a:ext cx="78480" cy="1945440"/>
          </a:xfrm>
          <a:prstGeom prst="curvedConnector5">
            <a:avLst>
              <a:gd name="adj1" fmla="val 393548"/>
              <a:gd name="adj2" fmla="val 49990"/>
              <a:gd name="adj3" fmla="val 39354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7111440" y="41590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17600" y="4886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32040" y="54435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55480" y="54957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50920" y="43527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28880" y="45529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93800" y="40482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50920" y="4886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98480" y="53434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79520" y="58453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879520" y="34383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endCxn id="141" idx="6"/>
          </p:cNvCxnSpPr>
          <p:nvPr/>
        </p:nvCxnSpPr>
        <p:spPr>
          <a:xfrm flipH="1">
            <a:off x="6946560" y="3133800"/>
            <a:ext cx="381600" cy="38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>
            <a:off x="7238880" y="290520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48080" y="2900520"/>
            <a:ext cx="5331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9" idx="7"/>
            <a:endCxn id="179" idx="1"/>
          </p:cNvCxnSpPr>
          <p:nvPr/>
        </p:nvCxnSpPr>
        <p:spPr>
          <a:xfrm rot="5400000">
            <a:off x="2813040" y="2790000"/>
            <a:ext cx="2160" cy="378360"/>
          </a:xfrm>
          <a:prstGeom prst="curvedConnector5">
            <a:avLst>
              <a:gd name="adj1" fmla="val -19300000"/>
              <a:gd name="adj2" fmla="val 50000"/>
              <a:gd name="adj3" fmla="val -193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3537720" y="4881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75960" y="33577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23320" y="2367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79" idx="4"/>
            <a:endCxn id="185" idx="0"/>
          </p:cNvCxnSpPr>
          <p:nvPr/>
        </p:nvCxnSpPr>
        <p:spPr>
          <a:xfrm flipV="1" rot="10800000">
            <a:off x="2813760" y="3433320"/>
            <a:ext cx="1080" cy="3056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2548080" y="3738600"/>
            <a:ext cx="53316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14560" y="4576680"/>
            <a:ext cx="5335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81240" y="4576680"/>
            <a:ext cx="5335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48080" y="5415120"/>
            <a:ext cx="5331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14760" y="541512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81040" y="541512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85" idx="2"/>
            <a:endCxn id="186" idx="0"/>
          </p:cNvCxnSpPr>
          <p:nvPr/>
        </p:nvCxnSpPr>
        <p:spPr>
          <a:xfrm flipV="1" rot="10800000">
            <a:off x="2280600" y="4004280"/>
            <a:ext cx="267120" cy="5720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85" idx="6"/>
            <a:endCxn id="187" idx="0"/>
          </p:cNvCxnSpPr>
          <p:nvPr/>
        </p:nvCxnSpPr>
        <p:spPr>
          <a:xfrm>
            <a:off x="3080880" y="4005000"/>
            <a:ext cx="267120" cy="5720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86" idx="2"/>
            <a:endCxn id="190" idx="0"/>
          </p:cNvCxnSpPr>
          <p:nvPr/>
        </p:nvCxnSpPr>
        <p:spPr>
          <a:xfrm flipV="1" rot="10800000">
            <a:off x="1747080" y="484308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86" idx="6"/>
            <a:endCxn id="188" idx="0"/>
          </p:cNvCxnSpPr>
          <p:nvPr/>
        </p:nvCxnSpPr>
        <p:spPr>
          <a:xfrm>
            <a:off x="2548080" y="4843440"/>
            <a:ext cx="267120" cy="572400"/>
          </a:xfrm>
          <a:prstGeom prst="curvedConnector2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87" idx="2"/>
            <a:endCxn id="188" idx="0"/>
          </p:cNvCxnSpPr>
          <p:nvPr/>
        </p:nvCxnSpPr>
        <p:spPr>
          <a:xfrm flipV="1" rot="10800000">
            <a:off x="2813760" y="484308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87" idx="6"/>
            <a:endCxn id="189" idx="0"/>
          </p:cNvCxnSpPr>
          <p:nvPr/>
        </p:nvCxnSpPr>
        <p:spPr>
          <a:xfrm>
            <a:off x="3614400" y="484344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0" idx="1"/>
            <a:endCxn id="185" idx="2"/>
          </p:cNvCxnSpPr>
          <p:nvPr/>
        </p:nvCxnSpPr>
        <p:spPr>
          <a:xfrm flipH="1" flipV="1" rot="5400000">
            <a:off x="1309320" y="4254120"/>
            <a:ext cx="1488240" cy="9900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0" idx="1"/>
            <a:endCxn id="179" idx="2"/>
          </p:cNvCxnSpPr>
          <p:nvPr/>
        </p:nvCxnSpPr>
        <p:spPr>
          <a:xfrm flipH="1" flipV="1" rot="5400000">
            <a:off x="890280" y="3834720"/>
            <a:ext cx="2326680" cy="9900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88" idx="7"/>
            <a:endCxn id="189" idx="1"/>
          </p:cNvCxnSpPr>
          <p:nvPr/>
        </p:nvCxnSpPr>
        <p:spPr>
          <a:xfrm flipH="1" rot="16200000">
            <a:off x="3347280" y="5148720"/>
            <a:ext cx="2160" cy="689760"/>
          </a:xfrm>
          <a:prstGeom prst="curvedConnector5">
            <a:avLst>
              <a:gd name="adj1" fmla="val -7200000"/>
              <a:gd name="adj2" fmla="val 49973"/>
              <a:gd name="adj3" fmla="val -72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89" idx="3"/>
            <a:endCxn id="188" idx="5"/>
          </p:cNvCxnSpPr>
          <p:nvPr/>
        </p:nvCxnSpPr>
        <p:spPr>
          <a:xfrm rot="5400000">
            <a:off x="3346560" y="5526720"/>
            <a:ext cx="2520" cy="689760"/>
          </a:xfrm>
          <a:prstGeom prst="curvedConnector5">
            <a:avLst>
              <a:gd name="adj1" fmla="val 7083333"/>
              <a:gd name="adj2" fmla="val 49973"/>
              <a:gd name="adj3" fmla="val 7083333"/>
            </a:avLst>
          </a:prstGeom>
          <a:ln w="1260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01" name=""/>
          <p:cNvCxnSpPr>
            <a:stCxn id="188" idx="1"/>
            <a:endCxn id="188" idx="3"/>
          </p:cNvCxnSpPr>
          <p:nvPr/>
        </p:nvCxnSpPr>
        <p:spPr>
          <a:xfrm flipH="1" rot="16200000">
            <a:off x="2437560" y="5679720"/>
            <a:ext cx="378360" cy="2160"/>
          </a:xfrm>
          <a:prstGeom prst="curvedConnector5">
            <a:avLst>
              <a:gd name="adj1" fmla="val -14666"/>
              <a:gd name="adj2" fmla="val -9500000"/>
              <a:gd name="adj3" fmla="val -1466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9" idx="3"/>
            <a:endCxn id="190" idx="4"/>
          </p:cNvCxnSpPr>
          <p:nvPr/>
        </p:nvCxnSpPr>
        <p:spPr>
          <a:xfrm rot="5400000">
            <a:off x="2680560" y="4937040"/>
            <a:ext cx="78480" cy="1945440"/>
          </a:xfrm>
          <a:prstGeom prst="curvedConnector5">
            <a:avLst>
              <a:gd name="adj1" fmla="val 393548"/>
              <a:gd name="adj2" fmla="val 49990"/>
              <a:gd name="adj3" fmla="val 39354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3004560" y="40435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51920" y="4881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33160" y="5688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90160" y="54910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85240" y="43480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71040" y="4881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28120" y="40435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85240" y="4881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33160" y="5338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13840" y="5840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13840" y="34336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endCxn id="179" idx="6"/>
          </p:cNvCxnSpPr>
          <p:nvPr/>
        </p:nvCxnSpPr>
        <p:spPr>
          <a:xfrm flipH="1">
            <a:off x="3080520" y="3128760"/>
            <a:ext cx="381960" cy="38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3373560" y="290052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9320" y="3754440"/>
            <a:ext cx="533520" cy="5335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157" idx="2"/>
            <a:endCxn id="148" idx="7"/>
          </p:cNvCxnSpPr>
          <p:nvPr/>
        </p:nvCxnSpPr>
        <p:spPr>
          <a:xfrm flipV="1" rot="10800000">
            <a:off x="6334920" y="4020120"/>
            <a:ext cx="1364400" cy="639000"/>
          </a:xfrm>
          <a:prstGeom prst="curvedConnector2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157" idx="3"/>
            <a:endCxn id="149" idx="7"/>
          </p:cNvCxnSpPr>
          <p:nvPr/>
        </p:nvCxnSpPr>
        <p:spPr>
          <a:xfrm rot="5400000">
            <a:off x="7364520" y="4247640"/>
            <a:ext cx="450000" cy="375120"/>
          </a:xfrm>
          <a:prstGeom prst="curvedConnector5">
            <a:avLst>
              <a:gd name="adj1" fmla="val 49799"/>
              <a:gd name="adj2" fmla="val 49951"/>
              <a:gd name="adj3" fmla="val 49799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7536960" y="4384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51200" y="37465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25920" y="2097000"/>
            <a:ext cx="1200240" cy="115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0B3D-110C-4AFA-9B99-A6F2B60643D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dian filter FS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lternate implementation with S/R FFs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et input (S) does the median filter function by making the next state 111 whenever the input is 1 and PS2 is 1 (1 input to state x1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42120" y="2666880"/>
            <a:ext cx="131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 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PS2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1 =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2 = P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3 = P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= P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960480" y="2347560"/>
            <a:ext cx="6210360" cy="2576880"/>
            <a:chOff x="960480" y="2347560"/>
            <a:chExt cx="6210360" cy="2576880"/>
          </a:xfrm>
        </p:grpSpPr>
        <p:sp>
          <p:nvSpPr>
            <p:cNvPr id="225" name=""/>
            <p:cNvSpPr/>
            <p:nvPr/>
          </p:nvSpPr>
          <p:spPr>
            <a:xfrm>
              <a:off x="2633760" y="2595600"/>
              <a:ext cx="33606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46880" y="4048200"/>
              <a:ext cx="723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60480" y="4581360"/>
              <a:ext cx="507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2520720" y="26780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63880" y="251316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63880" y="2830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70000" y="25192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5400000">
              <a:off x="2215080" y="2546280"/>
              <a:ext cx="3171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5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56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5400000">
              <a:off x="2208600" y="2540160"/>
              <a:ext cx="32940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69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69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5400000">
              <a:off x="2215080" y="2532240"/>
              <a:ext cx="3168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5400000">
              <a:off x="2208240" y="2516400"/>
              <a:ext cx="32976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1940040" y="2585880"/>
              <a:ext cx="12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1940040" y="2757600"/>
              <a:ext cx="12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2098440" y="3057480"/>
              <a:ext cx="995760" cy="1675800"/>
              <a:chOff x="2098440" y="3057480"/>
              <a:chExt cx="995760" cy="1675800"/>
            </a:xfrm>
          </p:grpSpPr>
          <p:sp>
            <p:nvSpPr>
              <p:cNvPr id="239" name=""/>
              <p:cNvSpPr/>
              <p:nvPr/>
            </p:nvSpPr>
            <p:spPr>
              <a:xfrm>
                <a:off x="2332080" y="3666960"/>
                <a:ext cx="533520" cy="838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2522880" y="4276080"/>
                <a:ext cx="759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 flipV="1">
                <a:off x="2598840" y="4276080"/>
                <a:ext cx="763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355840" y="4047840"/>
                <a:ext cx="2541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665440" y="404784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349720" y="3744720"/>
                <a:ext cx="2538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673360" y="374472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09844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210348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256120" y="3819240"/>
                <a:ext cx="7596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865600" y="3819240"/>
                <a:ext cx="7632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309420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293652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210312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286524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2594160" y="4504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4841640" y="3057480"/>
              <a:ext cx="995760" cy="1675800"/>
              <a:chOff x="4841640" y="3057480"/>
              <a:chExt cx="995760" cy="1675800"/>
            </a:xfrm>
          </p:grpSpPr>
          <p:sp>
            <p:nvSpPr>
              <p:cNvPr id="256" name=""/>
              <p:cNvSpPr/>
              <p:nvPr/>
            </p:nvSpPr>
            <p:spPr>
              <a:xfrm>
                <a:off x="5075280" y="3666960"/>
                <a:ext cx="533520" cy="838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5266080" y="4276080"/>
                <a:ext cx="759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flipV="1">
                <a:off x="5342040" y="4276080"/>
                <a:ext cx="763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099040" y="4047840"/>
                <a:ext cx="2541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408640" y="404784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092920" y="3744720"/>
                <a:ext cx="2538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416560" y="374472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484164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484668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999320" y="3819240"/>
                <a:ext cx="7596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608800" y="3819240"/>
                <a:ext cx="7632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583740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567972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484632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560844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5337360" y="4504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3474720" y="3057480"/>
              <a:ext cx="995760" cy="1675800"/>
              <a:chOff x="3474720" y="3057480"/>
              <a:chExt cx="995760" cy="1675800"/>
            </a:xfrm>
          </p:grpSpPr>
          <p:sp>
            <p:nvSpPr>
              <p:cNvPr id="273" name=""/>
              <p:cNvSpPr/>
              <p:nvPr/>
            </p:nvSpPr>
            <p:spPr>
              <a:xfrm>
                <a:off x="3708360" y="3666960"/>
                <a:ext cx="533520" cy="838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3899160" y="4276080"/>
                <a:ext cx="759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 flipV="1">
                <a:off x="3975120" y="4276080"/>
                <a:ext cx="763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732120" y="4047840"/>
                <a:ext cx="2541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41720" y="404784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726000" y="3744720"/>
                <a:ext cx="2538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49640" y="374472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347472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347976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632400" y="3819240"/>
                <a:ext cx="7596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241880" y="3819240"/>
                <a:ext cx="7632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447048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431280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347940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424152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3970440" y="4504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1927080" y="3052800"/>
              <a:ext cx="29196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493640" y="42004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494000" y="4728960"/>
              <a:ext cx="38336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37000" y="267660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37400" y="2676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70480" y="2676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94200" y="2676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12800" y="2938320"/>
              <a:ext cx="20340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1617840" y="3052440"/>
              <a:ext cx="19836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19280" y="293832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1807560" y="30304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1498320" y="30542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1870200" y="305424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36800" y="2752560"/>
              <a:ext cx="468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094200" y="4195800"/>
              <a:ext cx="4330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37000" y="4200480"/>
              <a:ext cx="42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4655880" y="2347560"/>
              <a:ext cx="4680" cy="18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1951200" y="2357280"/>
              <a:ext cx="270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46160" y="2347920"/>
              <a:ext cx="504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917720" y="417672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37160" y="417672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446720" y="265284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70080" y="265284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79720" y="303372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456000" y="303372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37400" y="42004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60480" y="404820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60480" y="290520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521800" y="26496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0DA1-AC53-4CEF-BEE9-AD2C75E5B89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898560" y="2971800"/>
            <a:ext cx="7277040" cy="3581280"/>
            <a:chOff x="898560" y="2971800"/>
            <a:chExt cx="7277040" cy="3581280"/>
          </a:xfrm>
        </p:grpSpPr>
        <p:sp>
          <p:nvSpPr>
            <p:cNvPr id="319" name=""/>
            <p:cNvSpPr/>
            <p:nvPr/>
          </p:nvSpPr>
          <p:spPr>
            <a:xfrm>
              <a:off x="1660680" y="3562200"/>
              <a:ext cx="0" cy="24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25560" y="3562200"/>
              <a:ext cx="0" cy="24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1978200" y="3562200"/>
              <a:ext cx="152280" cy="2463840"/>
              <a:chOff x="1978200" y="3562200"/>
              <a:chExt cx="152280" cy="2463840"/>
            </a:xfrm>
          </p:grpSpPr>
          <p:sp>
            <p:nvSpPr>
              <p:cNvPr id="322" name=""/>
              <p:cNvSpPr/>
              <p:nvPr/>
            </p:nvSpPr>
            <p:spPr>
              <a:xfrm>
                <a:off x="197820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13048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422440" y="3562200"/>
              <a:ext cx="152640" cy="2463840"/>
              <a:chOff x="2422440" y="3562200"/>
              <a:chExt cx="152640" cy="2463840"/>
            </a:xfrm>
          </p:grpSpPr>
          <p:sp>
            <p:nvSpPr>
              <p:cNvPr id="325" name=""/>
              <p:cNvSpPr/>
              <p:nvPr/>
            </p:nvSpPr>
            <p:spPr>
              <a:xfrm>
                <a:off x="242244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57508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879640" y="3562200"/>
              <a:ext cx="152640" cy="2463840"/>
              <a:chOff x="2879640" y="3562200"/>
              <a:chExt cx="152640" cy="2463840"/>
            </a:xfrm>
          </p:grpSpPr>
          <p:sp>
            <p:nvSpPr>
              <p:cNvPr id="328" name=""/>
              <p:cNvSpPr/>
              <p:nvPr/>
            </p:nvSpPr>
            <p:spPr>
              <a:xfrm>
                <a:off x="287964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3228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3336840" y="3562200"/>
              <a:ext cx="152640" cy="2463840"/>
              <a:chOff x="3336840" y="3562200"/>
              <a:chExt cx="152640" cy="2463840"/>
            </a:xfrm>
          </p:grpSpPr>
          <p:sp>
            <p:nvSpPr>
              <p:cNvPr id="331" name=""/>
              <p:cNvSpPr/>
              <p:nvPr/>
            </p:nvSpPr>
            <p:spPr>
              <a:xfrm>
                <a:off x="333684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48948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3807000" y="3562200"/>
              <a:ext cx="1828800" cy="2463840"/>
              <a:chOff x="3807000" y="3562200"/>
              <a:chExt cx="1828800" cy="2463840"/>
            </a:xfrm>
          </p:grpSpPr>
          <p:sp>
            <p:nvSpPr>
              <p:cNvPr id="334" name=""/>
              <p:cNvSpPr/>
              <p:nvPr/>
            </p:nvSpPr>
            <p:spPr>
              <a:xfrm>
                <a:off x="563580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47056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5165640" y="3562200"/>
                <a:ext cx="152640" cy="2463840"/>
                <a:chOff x="5165640" y="3562200"/>
                <a:chExt cx="152640" cy="24638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531828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516564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4708440" y="3562200"/>
                <a:ext cx="152640" cy="2463840"/>
                <a:chOff x="4708440" y="3562200"/>
                <a:chExt cx="152640" cy="246384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486108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70844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4251240" y="3562200"/>
                <a:ext cx="152640" cy="2463840"/>
                <a:chOff x="4251240" y="3562200"/>
                <a:chExt cx="152640" cy="246384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440388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25124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3807000" y="3562200"/>
                <a:ext cx="152280" cy="2463840"/>
                <a:chOff x="3807000" y="3562200"/>
                <a:chExt cx="152280" cy="246384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395928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380700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8" name=""/>
            <p:cNvSpPr/>
            <p:nvPr/>
          </p:nvSpPr>
          <p:spPr>
            <a:xfrm>
              <a:off x="1514520" y="403848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14520" y="420372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1514520" y="4368600"/>
              <a:ext cx="4267080" cy="165240"/>
              <a:chOff x="1514520" y="4368600"/>
              <a:chExt cx="4267080" cy="165240"/>
            </a:xfrm>
          </p:grpSpPr>
          <p:sp>
            <p:nvSpPr>
              <p:cNvPr id="351" name=""/>
              <p:cNvSpPr/>
              <p:nvPr/>
            </p:nvSpPr>
            <p:spPr>
              <a:xfrm>
                <a:off x="1514520" y="436860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514520" y="453384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1514520" y="4686120"/>
              <a:ext cx="4267080" cy="165240"/>
              <a:chOff x="1514520" y="4686120"/>
              <a:chExt cx="4267080" cy="165240"/>
            </a:xfrm>
          </p:grpSpPr>
          <p:sp>
            <p:nvSpPr>
              <p:cNvPr id="354" name=""/>
              <p:cNvSpPr/>
              <p:nvPr/>
            </p:nvSpPr>
            <p:spPr>
              <a:xfrm>
                <a:off x="1514520" y="468612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514520" y="485136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5788080" y="3968280"/>
              <a:ext cx="171000" cy="166320"/>
              <a:chOff x="5788080" y="3968280"/>
              <a:chExt cx="171000" cy="166320"/>
            </a:xfrm>
          </p:grpSpPr>
          <p:sp>
            <p:nvSpPr>
              <p:cNvPr id="357" name=""/>
              <p:cNvSpPr/>
              <p:nvPr/>
            </p:nvSpPr>
            <p:spPr>
              <a:xfrm>
                <a:off x="5794560" y="397512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794560" y="411480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5788080" y="396828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833080" y="398304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833080" y="396900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5788080" y="4133880"/>
              <a:ext cx="171000" cy="166320"/>
              <a:chOff x="5788080" y="4133880"/>
              <a:chExt cx="171000" cy="166320"/>
            </a:xfrm>
          </p:grpSpPr>
          <p:sp>
            <p:nvSpPr>
              <p:cNvPr id="363" name=""/>
              <p:cNvSpPr/>
              <p:nvPr/>
            </p:nvSpPr>
            <p:spPr>
              <a:xfrm>
                <a:off x="5794560" y="414000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794560" y="426708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5788080" y="413388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833080" y="414792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833080" y="413388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5788080" y="4298760"/>
              <a:ext cx="171000" cy="153720"/>
              <a:chOff x="5788080" y="4298760"/>
              <a:chExt cx="171000" cy="153720"/>
            </a:xfrm>
          </p:grpSpPr>
          <p:sp>
            <p:nvSpPr>
              <p:cNvPr id="369" name=""/>
              <p:cNvSpPr/>
              <p:nvPr/>
            </p:nvSpPr>
            <p:spPr>
              <a:xfrm>
                <a:off x="5794560" y="430524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794560" y="443232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5788080" y="429876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833080" y="431316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833080" y="429876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5788080" y="4451040"/>
              <a:ext cx="171000" cy="166680"/>
              <a:chOff x="5788080" y="4451040"/>
              <a:chExt cx="171000" cy="166680"/>
            </a:xfrm>
          </p:grpSpPr>
          <p:sp>
            <p:nvSpPr>
              <p:cNvPr id="375" name=""/>
              <p:cNvSpPr/>
              <p:nvPr/>
            </p:nvSpPr>
            <p:spPr>
              <a:xfrm>
                <a:off x="5794560" y="445752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794560" y="459720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5788080" y="445104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833080" y="446544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833080" y="445104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5788080" y="4615920"/>
              <a:ext cx="171000" cy="166320"/>
              <a:chOff x="5788080" y="4615920"/>
              <a:chExt cx="171000" cy="166320"/>
            </a:xfrm>
          </p:grpSpPr>
          <p:sp>
            <p:nvSpPr>
              <p:cNvPr id="381" name=""/>
              <p:cNvSpPr/>
              <p:nvPr/>
            </p:nvSpPr>
            <p:spPr>
              <a:xfrm>
                <a:off x="5794560" y="462276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794560" y="476244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5788080" y="461592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833080" y="463068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833080" y="461664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5788080" y="4781520"/>
              <a:ext cx="171000" cy="153360"/>
              <a:chOff x="5788080" y="4781520"/>
              <a:chExt cx="171000" cy="153360"/>
            </a:xfrm>
          </p:grpSpPr>
          <p:sp>
            <p:nvSpPr>
              <p:cNvPr id="387" name=""/>
              <p:cNvSpPr/>
              <p:nvPr/>
            </p:nvSpPr>
            <p:spPr>
              <a:xfrm>
                <a:off x="5794560" y="478764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794560" y="491472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5788080" y="478152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833080" y="479556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833080" y="478152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1362240" y="53467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476360" y="5511600"/>
              <a:ext cx="156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873520" y="5327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025800" y="549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60720" y="5302080"/>
              <a:ext cx="20304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260720" y="5454360"/>
              <a:ext cx="20304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228680" y="53020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25600" y="5505480"/>
              <a:ext cx="637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082880" y="54608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3342960" y="5346720"/>
              <a:ext cx="261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3520800" y="5511600"/>
              <a:ext cx="231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30720" y="53402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483000" y="5492520"/>
              <a:ext cx="381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5819400" y="5302080"/>
              <a:ext cx="2415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flipV="1">
              <a:off x="5819400" y="5454360"/>
              <a:ext cx="24156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067440" y="53020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832720" y="550548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6061320" y="5460840"/>
              <a:ext cx="143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14520" y="501624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514520" y="518148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5788080" y="4933440"/>
              <a:ext cx="171000" cy="166320"/>
              <a:chOff x="5788080" y="4933440"/>
              <a:chExt cx="171000" cy="166320"/>
            </a:xfrm>
          </p:grpSpPr>
          <p:sp>
            <p:nvSpPr>
              <p:cNvPr id="413" name=""/>
              <p:cNvSpPr/>
              <p:nvPr/>
            </p:nvSpPr>
            <p:spPr>
              <a:xfrm>
                <a:off x="5794560" y="494028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94560" y="507996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5788080" y="493344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33080" y="494820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33080" y="493416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5788080" y="5098680"/>
              <a:ext cx="171000" cy="166680"/>
              <a:chOff x="5788080" y="5098680"/>
              <a:chExt cx="171000" cy="166680"/>
            </a:xfrm>
          </p:grpSpPr>
          <p:sp>
            <p:nvSpPr>
              <p:cNvPr id="419" name=""/>
              <p:cNvSpPr/>
              <p:nvPr/>
            </p:nvSpPr>
            <p:spPr>
              <a:xfrm>
                <a:off x="5794560" y="510516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794560" y="524484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5788080" y="509868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833080" y="511308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833080" y="509868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5553000" y="4438080"/>
              <a:ext cx="110484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553360" y="4452840"/>
              <a:ext cx="11044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23520" y="4452840"/>
              <a:ext cx="16416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023160" y="4438080"/>
              <a:ext cx="16452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105600" y="404496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105600" y="479376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959440" y="46861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959440" y="40384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959440" y="43686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959440" y="4533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959440" y="50162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959440" y="51814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959440" y="42037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959440" y="4851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658200" y="46227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051680" y="4552920"/>
              <a:ext cx="292320" cy="393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331040" y="4844880"/>
              <a:ext cx="7632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99400" y="4863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31040" y="46227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419960" y="486396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051680" y="478152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7051680" y="4857480"/>
              <a:ext cx="8892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892920" y="3574800"/>
              <a:ext cx="0" cy="24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886800" y="4844880"/>
              <a:ext cx="3780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489800" y="4870440"/>
              <a:ext cx="0" cy="58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020000" y="4470120"/>
              <a:ext cx="482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 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59680" y="4686120"/>
              <a:ext cx="304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17600" y="3085920"/>
              <a:ext cx="6402600" cy="636480"/>
            </a:xfrm>
            <a:custGeom>
              <a:avLst/>
              <a:gdLst/>
              <a:ahLst/>
              <a:rect l="l" t="t" r="r" b="b"/>
              <a:pathLst>
                <a:path w="4033" h="401">
                  <a:moveTo>
                    <a:pt x="24" y="224"/>
                  </a:moveTo>
                  <a:lnTo>
                    <a:pt x="24" y="216"/>
                  </a:lnTo>
                  <a:lnTo>
                    <a:pt x="264" y="400"/>
                  </a:lnTo>
                  <a:lnTo>
                    <a:pt x="872" y="280"/>
                  </a:lnTo>
                  <a:lnTo>
                    <a:pt x="1424" y="376"/>
                  </a:lnTo>
                  <a:lnTo>
                    <a:pt x="1768" y="264"/>
                  </a:lnTo>
                  <a:lnTo>
                    <a:pt x="2016" y="384"/>
                  </a:lnTo>
                  <a:lnTo>
                    <a:pt x="2592" y="296"/>
                  </a:lnTo>
                  <a:lnTo>
                    <a:pt x="2792" y="360"/>
                  </a:lnTo>
                  <a:lnTo>
                    <a:pt x="3200" y="224"/>
                  </a:lnTo>
                  <a:lnTo>
                    <a:pt x="3688" y="400"/>
                  </a:lnTo>
                  <a:lnTo>
                    <a:pt x="3920" y="320"/>
                  </a:lnTo>
                  <a:lnTo>
                    <a:pt x="4032" y="184"/>
                  </a:lnTo>
                  <a:lnTo>
                    <a:pt x="4032" y="88"/>
                  </a:lnTo>
                  <a:lnTo>
                    <a:pt x="0" y="88"/>
                  </a:lnTo>
                  <a:lnTo>
                    <a:pt x="16" y="216"/>
                  </a:lnTo>
                  <a:lnTo>
                    <a:pt x="0" y="200"/>
                  </a:lnTo>
                  <a:lnTo>
                    <a:pt x="208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98560" y="2971800"/>
              <a:ext cx="72644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317600" y="5765760"/>
              <a:ext cx="6402600" cy="636480"/>
            </a:xfrm>
            <a:custGeom>
              <a:avLst/>
              <a:gdLst/>
              <a:ahLst/>
              <a:rect l="l" t="t" r="r" b="b"/>
              <a:pathLst>
                <a:path w="4033" h="401">
                  <a:moveTo>
                    <a:pt x="4008" y="176"/>
                  </a:moveTo>
                  <a:lnTo>
                    <a:pt x="4008" y="184"/>
                  </a:lnTo>
                  <a:lnTo>
                    <a:pt x="3768" y="0"/>
                  </a:lnTo>
                  <a:lnTo>
                    <a:pt x="3160" y="120"/>
                  </a:lnTo>
                  <a:lnTo>
                    <a:pt x="2608" y="24"/>
                  </a:lnTo>
                  <a:lnTo>
                    <a:pt x="2264" y="136"/>
                  </a:lnTo>
                  <a:lnTo>
                    <a:pt x="2016" y="16"/>
                  </a:lnTo>
                  <a:lnTo>
                    <a:pt x="1440" y="104"/>
                  </a:lnTo>
                  <a:lnTo>
                    <a:pt x="1240" y="40"/>
                  </a:lnTo>
                  <a:lnTo>
                    <a:pt x="832" y="176"/>
                  </a:lnTo>
                  <a:lnTo>
                    <a:pt x="344" y="0"/>
                  </a:lnTo>
                  <a:lnTo>
                    <a:pt x="112" y="80"/>
                  </a:lnTo>
                  <a:lnTo>
                    <a:pt x="0" y="216"/>
                  </a:lnTo>
                  <a:lnTo>
                    <a:pt x="0" y="312"/>
                  </a:lnTo>
                  <a:lnTo>
                    <a:pt x="4032" y="312"/>
                  </a:lnTo>
                  <a:lnTo>
                    <a:pt x="4016" y="184"/>
                  </a:lnTo>
                  <a:lnTo>
                    <a:pt x="4032" y="200"/>
                  </a:lnTo>
                  <a:lnTo>
                    <a:pt x="3824" y="40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11160" y="6095880"/>
              <a:ext cx="72644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using PAL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able logic building block for sequential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ro-cell: FF +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-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level logic capability like PAL (e.g., 8 product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C019-AB99-40B0-BB9B-C72620304AB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312840" y="1386000"/>
            <a:ext cx="51559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reset'(Q0'N + Q0N' + Q1N + Q1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reset'(Q1 + D + Q0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Q1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5658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nding machine example (Moore PLD mapping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1913760" y="1800360"/>
            <a:ext cx="7070040" cy="4657320"/>
            <a:chOff x="1913760" y="1800360"/>
            <a:chExt cx="7070040" cy="4657320"/>
          </a:xfrm>
        </p:grpSpPr>
        <p:grpSp>
          <p:nvGrpSpPr>
            <p:cNvPr id="460" name=""/>
            <p:cNvGrpSpPr/>
            <p:nvPr/>
          </p:nvGrpSpPr>
          <p:grpSpPr>
            <a:xfrm>
              <a:off x="2546640" y="2004480"/>
              <a:ext cx="5778360" cy="1553760"/>
              <a:chOff x="2546640" y="2004480"/>
              <a:chExt cx="5778360" cy="1553760"/>
            </a:xfrm>
          </p:grpSpPr>
          <p:grpSp>
            <p:nvGrpSpPr>
              <p:cNvPr id="461" name=""/>
              <p:cNvGrpSpPr/>
              <p:nvPr/>
            </p:nvGrpSpPr>
            <p:grpSpPr>
              <a:xfrm>
                <a:off x="3443400" y="2004480"/>
                <a:ext cx="119160" cy="1553760"/>
                <a:chOff x="3443400" y="2004480"/>
                <a:chExt cx="119160" cy="15537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344340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35625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3030120" y="218376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030120" y="231300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6" name=""/>
              <p:cNvGrpSpPr/>
              <p:nvPr/>
            </p:nvGrpSpPr>
            <p:grpSpPr>
              <a:xfrm>
                <a:off x="3030120" y="2442600"/>
                <a:ext cx="3346920" cy="129240"/>
                <a:chOff x="3030120" y="2442600"/>
                <a:chExt cx="3346920" cy="12924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3030120" y="244260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3030120" y="257184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3030120" y="2691720"/>
                <a:ext cx="3346920" cy="129240"/>
                <a:chOff x="3030120" y="2691720"/>
                <a:chExt cx="3346920" cy="12924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3030120" y="269172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3030120" y="282096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2" name=""/>
              <p:cNvSpPr/>
              <p:nvPr/>
            </p:nvSpPr>
            <p:spPr>
              <a:xfrm>
                <a:off x="3030120" y="295056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030120" y="308016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4" name=""/>
              <p:cNvGrpSpPr/>
              <p:nvPr/>
            </p:nvGrpSpPr>
            <p:grpSpPr>
              <a:xfrm>
                <a:off x="3742200" y="2004480"/>
                <a:ext cx="119160" cy="1553760"/>
                <a:chOff x="3742200" y="2004480"/>
                <a:chExt cx="119160" cy="155376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374220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8613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3144240" y="2004480"/>
                <a:ext cx="119520" cy="1553760"/>
                <a:chOff x="3144240" y="2004480"/>
                <a:chExt cx="119520" cy="155376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314424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32637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4041000" y="2004480"/>
                <a:ext cx="119520" cy="1553760"/>
                <a:chOff x="4041000" y="2004480"/>
                <a:chExt cx="119520" cy="155376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404100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41605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4340160" y="2004480"/>
                <a:ext cx="119160" cy="1553760"/>
                <a:chOff x="4340160" y="2004480"/>
                <a:chExt cx="119160" cy="155376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43401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44593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4937400" y="2004480"/>
                <a:ext cx="119520" cy="1553760"/>
                <a:chOff x="4937400" y="2004480"/>
                <a:chExt cx="119520" cy="155376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493740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50569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5236560" y="2004480"/>
                <a:ext cx="119160" cy="1553760"/>
                <a:chOff x="5236560" y="2004480"/>
                <a:chExt cx="119160" cy="155376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52365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53557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4638960" y="2004480"/>
                <a:ext cx="119160" cy="1553760"/>
                <a:chOff x="4638960" y="2004480"/>
                <a:chExt cx="119160" cy="155376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46389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7581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5535360" y="2004480"/>
                <a:ext cx="119160" cy="1553760"/>
                <a:chOff x="5535360" y="2004480"/>
                <a:chExt cx="119160" cy="155376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55353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6545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5834160" y="2004480"/>
                <a:ext cx="119520" cy="1553760"/>
                <a:chOff x="5834160" y="2004480"/>
                <a:chExt cx="119520" cy="155376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58341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595368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1" name=""/>
              <p:cNvSpPr/>
              <p:nvPr/>
            </p:nvSpPr>
            <p:spPr>
              <a:xfrm flipH="1">
                <a:off x="2972160" y="3318840"/>
                <a:ext cx="58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846960" y="3318840"/>
                <a:ext cx="2607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413520" y="316944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533040" y="328896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712320" y="316944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831840" y="328896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905560" y="3288960"/>
                <a:ext cx="59400" cy="5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8" name=""/>
              <p:cNvGrpSpPr/>
              <p:nvPr/>
            </p:nvGrpSpPr>
            <p:grpSpPr>
              <a:xfrm>
                <a:off x="6382440" y="2128320"/>
                <a:ext cx="133560" cy="129960"/>
                <a:chOff x="6382440" y="2128320"/>
                <a:chExt cx="133560" cy="12996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6387480" y="21337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387480" y="2242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flipV="1">
                  <a:off x="6382440" y="212832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6418080" y="213984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6417720" y="212904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6382440" y="2258280"/>
                <a:ext cx="133560" cy="129960"/>
                <a:chOff x="6382440" y="2258280"/>
                <a:chExt cx="133560" cy="12996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6387480" y="22629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6387480" y="2362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V="1">
                  <a:off x="6382440" y="225828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418080" y="226908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6417720" y="225828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6382440" y="2387880"/>
                <a:ext cx="133560" cy="120240"/>
                <a:chOff x="6382440" y="2387880"/>
                <a:chExt cx="133560" cy="12024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6387480" y="23929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387480" y="24922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flipV="1">
                  <a:off x="6382440" y="238788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418080" y="239904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417720" y="238788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6382440" y="2506680"/>
                <a:ext cx="133560" cy="130320"/>
                <a:chOff x="6382440" y="2506680"/>
                <a:chExt cx="133560" cy="13032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6387480" y="25117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6387480" y="26211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flipV="1">
                  <a:off x="6382440" y="250668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418080" y="251784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6417720" y="250668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6382440" y="2636280"/>
                <a:ext cx="133560" cy="129960"/>
                <a:chOff x="6382440" y="2636280"/>
                <a:chExt cx="133560" cy="12996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6387480" y="2641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387480" y="27507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V="1">
                  <a:off x="6382440" y="263628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418080" y="264780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417720" y="263700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"/>
              <p:cNvGrpSpPr/>
              <p:nvPr/>
            </p:nvGrpSpPr>
            <p:grpSpPr>
              <a:xfrm>
                <a:off x="6382440" y="2766240"/>
                <a:ext cx="133560" cy="119880"/>
                <a:chOff x="6382440" y="2766240"/>
                <a:chExt cx="133560" cy="11988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6387480" y="27709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387480" y="28706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V="1">
                  <a:off x="6382440" y="276624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6418080" y="277704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6417720" y="276624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4" name=""/>
              <p:cNvSpPr/>
              <p:nvPr/>
            </p:nvSpPr>
            <p:spPr>
              <a:xfrm flipH="1">
                <a:off x="6611400" y="3259440"/>
                <a:ext cx="1254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5" name=""/>
              <p:cNvGrpSpPr/>
              <p:nvPr/>
            </p:nvGrpSpPr>
            <p:grpSpPr>
              <a:xfrm>
                <a:off x="6382440" y="2885400"/>
                <a:ext cx="133560" cy="129960"/>
                <a:chOff x="6382440" y="2885400"/>
                <a:chExt cx="133560" cy="1299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6387480" y="2890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6387480" y="29998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flipV="1">
                  <a:off x="6382440" y="288540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418080" y="289692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417720" y="288612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6382440" y="3014640"/>
                <a:ext cx="133560" cy="130320"/>
                <a:chOff x="6382440" y="3014640"/>
                <a:chExt cx="133560" cy="13032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6387480" y="3019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6387480" y="31294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 flipV="1">
                  <a:off x="6382440" y="301500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6418080" y="302580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6417720" y="301464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7" name=""/>
              <p:cNvSpPr/>
              <p:nvPr/>
            </p:nvSpPr>
            <p:spPr>
              <a:xfrm>
                <a:off x="6198120" y="2498040"/>
                <a:ext cx="86580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198480" y="2508480"/>
                <a:ext cx="86544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567120" y="2508480"/>
                <a:ext cx="128160" cy="26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566760" y="2498040"/>
                <a:ext cx="12852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631200" y="2188440"/>
                <a:ext cx="0" cy="30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>
                <a:off x="6631200" y="277632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516720" y="2691720"/>
                <a:ext cx="16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516720" y="21837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516720" y="244260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516720" y="25718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516720" y="29505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516720" y="30801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516720" y="231300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516720" y="28209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089480" y="2661480"/>
                <a:ext cx="29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268760" y="2840760"/>
                <a:ext cx="10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687080" y="266148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268760" y="2004480"/>
                <a:ext cx="0" cy="155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866720" y="2661480"/>
                <a:ext cx="0" cy="59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6" name=""/>
              <p:cNvGrpSpPr/>
              <p:nvPr/>
            </p:nvGrpSpPr>
            <p:grpSpPr>
              <a:xfrm>
                <a:off x="7388280" y="2542320"/>
                <a:ext cx="292680" cy="358560"/>
                <a:chOff x="7388280" y="2542320"/>
                <a:chExt cx="292680" cy="35856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7409520" y="2578320"/>
                  <a:ext cx="14544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7513920" y="2578320"/>
                  <a:ext cx="15300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7388640" y="2542320"/>
                  <a:ext cx="292320" cy="358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7388640" y="2792880"/>
                  <a:ext cx="83160" cy="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flipH="1">
                  <a:off x="7388280" y="2829240"/>
                  <a:ext cx="83160" cy="34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2" name=""/>
              <p:cNvSpPr/>
              <p:nvPr/>
            </p:nvSpPr>
            <p:spPr>
              <a:xfrm flipH="1">
                <a:off x="2860200" y="3199680"/>
                <a:ext cx="56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735000" y="3199680"/>
                <a:ext cx="2771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785680" y="313956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2785680" y="325944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2785680" y="3139560"/>
                <a:ext cx="0" cy="23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2546640" y="3259440"/>
                <a:ext cx="23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6439680" y="313956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439680" y="325944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6611400" y="3147120"/>
                <a:ext cx="0" cy="23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6454440" y="3288960"/>
                <a:ext cx="59760" cy="5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239240" y="281088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164360" y="263160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7194240" y="2332800"/>
                <a:ext cx="0" cy="32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194240" y="2332800"/>
                <a:ext cx="74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16200000">
                <a:off x="7732080" y="2437200"/>
                <a:ext cx="545400" cy="119160"/>
              </a:xfrm>
              <a:custGeom>
                <a:avLst/>
                <a:gdLst>
                  <a:gd name="textAreaLeft" fmla="*/ 91080 w 545400"/>
                  <a:gd name="textAreaRight" fmla="*/ 454320 w 545400"/>
                  <a:gd name="textAreaTop" fmla="*/ 19800 h 119160"/>
                  <a:gd name="textAreaBottom" fmla="*/ 9936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247" y="21600"/>
                    </a:lnTo>
                    <a:lnTo>
                      <a:pt x="3353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068320" y="248976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8008560" y="2721600"/>
                <a:ext cx="0" cy="20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963560" y="2923200"/>
                <a:ext cx="89640" cy="89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2546640" y="3454200"/>
              <a:ext cx="5778360" cy="1553760"/>
              <a:chOff x="2546640" y="3454200"/>
              <a:chExt cx="5778360" cy="1553760"/>
            </a:xfrm>
          </p:grpSpPr>
          <p:grpSp>
            <p:nvGrpSpPr>
              <p:cNvPr id="601" name=""/>
              <p:cNvGrpSpPr/>
              <p:nvPr/>
            </p:nvGrpSpPr>
            <p:grpSpPr>
              <a:xfrm>
                <a:off x="3443400" y="3454200"/>
                <a:ext cx="119160" cy="1553760"/>
                <a:chOff x="3443400" y="3454200"/>
                <a:chExt cx="119160" cy="155376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344340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5625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4" name=""/>
              <p:cNvSpPr/>
              <p:nvPr/>
            </p:nvSpPr>
            <p:spPr>
              <a:xfrm>
                <a:off x="3030120" y="363348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030120" y="376272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6" name=""/>
              <p:cNvGrpSpPr/>
              <p:nvPr/>
            </p:nvGrpSpPr>
            <p:grpSpPr>
              <a:xfrm>
                <a:off x="3030120" y="3892320"/>
                <a:ext cx="3346920" cy="129600"/>
                <a:chOff x="3030120" y="3892320"/>
                <a:chExt cx="3346920" cy="12960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3030120" y="389232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3030120" y="402192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3030120" y="4141440"/>
                <a:ext cx="3346920" cy="129240"/>
                <a:chOff x="3030120" y="4141440"/>
                <a:chExt cx="3346920" cy="12924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3030120" y="414144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3030120" y="427068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2" name=""/>
              <p:cNvSpPr/>
              <p:nvPr/>
            </p:nvSpPr>
            <p:spPr>
              <a:xfrm>
                <a:off x="3030120" y="440028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030120" y="452988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4" name=""/>
              <p:cNvGrpSpPr/>
              <p:nvPr/>
            </p:nvGrpSpPr>
            <p:grpSpPr>
              <a:xfrm>
                <a:off x="3742200" y="3454200"/>
                <a:ext cx="119160" cy="1553760"/>
                <a:chOff x="3742200" y="3454200"/>
                <a:chExt cx="119160" cy="15537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374220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38613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3144240" y="3454200"/>
                <a:ext cx="119520" cy="1553760"/>
                <a:chOff x="3144240" y="3454200"/>
                <a:chExt cx="119520" cy="15537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314424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32637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4041000" y="3454200"/>
                <a:ext cx="119520" cy="1553760"/>
                <a:chOff x="4041000" y="3454200"/>
                <a:chExt cx="119520" cy="15537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404100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41605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4340160" y="3454200"/>
                <a:ext cx="119160" cy="1553760"/>
                <a:chOff x="4340160" y="3454200"/>
                <a:chExt cx="119160" cy="15537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43401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44593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4937400" y="3454200"/>
                <a:ext cx="119520" cy="1553760"/>
                <a:chOff x="4937400" y="3454200"/>
                <a:chExt cx="119520" cy="15537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493740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0569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5236560" y="3454200"/>
                <a:ext cx="119160" cy="1553760"/>
                <a:chOff x="5236560" y="3454200"/>
                <a:chExt cx="119160" cy="15537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52365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3557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4638960" y="3454200"/>
                <a:ext cx="119160" cy="1553760"/>
                <a:chOff x="4638960" y="3454200"/>
                <a:chExt cx="119160" cy="15537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46389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47581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5535360" y="3454200"/>
                <a:ext cx="119160" cy="1553760"/>
                <a:chOff x="5535360" y="3454200"/>
                <a:chExt cx="119160" cy="15537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55353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56545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5834160" y="3454200"/>
                <a:ext cx="119520" cy="1553760"/>
                <a:chOff x="5834160" y="3454200"/>
                <a:chExt cx="119520" cy="15537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58341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95368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1" name=""/>
              <p:cNvSpPr/>
              <p:nvPr/>
            </p:nvSpPr>
            <p:spPr>
              <a:xfrm flipH="1">
                <a:off x="2972520" y="4768560"/>
                <a:ext cx="1188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459320" y="4768560"/>
                <a:ext cx="199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011480" y="461916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130640" y="4739040"/>
                <a:ext cx="59760" cy="5940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309920" y="461916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429440" y="4739040"/>
                <a:ext cx="59760" cy="5940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905560" y="4739040"/>
                <a:ext cx="59400" cy="59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8" name=""/>
              <p:cNvGrpSpPr/>
              <p:nvPr/>
            </p:nvGrpSpPr>
            <p:grpSpPr>
              <a:xfrm>
                <a:off x="6382440" y="3578040"/>
                <a:ext cx="133560" cy="129960"/>
                <a:chOff x="6382440" y="3578040"/>
                <a:chExt cx="133560" cy="12996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6387480" y="35834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6387480" y="36925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flipV="1">
                  <a:off x="6382440" y="357804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418080" y="358956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6417720" y="357876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4" name=""/>
              <p:cNvGrpSpPr/>
              <p:nvPr/>
            </p:nvGrpSpPr>
            <p:grpSpPr>
              <a:xfrm>
                <a:off x="6382440" y="3708000"/>
                <a:ext cx="133560" cy="129960"/>
                <a:chOff x="6382440" y="3708000"/>
                <a:chExt cx="133560" cy="12996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6387480" y="3712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387480" y="3812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V="1">
                  <a:off x="6382440" y="37080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6418080" y="371880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6417720" y="37080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0" name=""/>
              <p:cNvGrpSpPr/>
              <p:nvPr/>
            </p:nvGrpSpPr>
            <p:grpSpPr>
              <a:xfrm>
                <a:off x="6382440" y="3837600"/>
                <a:ext cx="133560" cy="120240"/>
                <a:chOff x="6382440" y="3837600"/>
                <a:chExt cx="133560" cy="12024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6387480" y="38426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6387480" y="39420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 flipV="1">
                  <a:off x="6382440" y="38376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6418080" y="384876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6417720" y="38376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6" name=""/>
              <p:cNvGrpSpPr/>
              <p:nvPr/>
            </p:nvGrpSpPr>
            <p:grpSpPr>
              <a:xfrm>
                <a:off x="6382440" y="3956400"/>
                <a:ext cx="133560" cy="130320"/>
                <a:chOff x="6382440" y="3956400"/>
                <a:chExt cx="133560" cy="13032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6387480" y="39614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6387480" y="40712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 flipV="1">
                  <a:off x="6382440" y="395676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6418080" y="396756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6417720" y="395640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2" name=""/>
              <p:cNvGrpSpPr/>
              <p:nvPr/>
            </p:nvGrpSpPr>
            <p:grpSpPr>
              <a:xfrm>
                <a:off x="6382440" y="4086000"/>
                <a:ext cx="133560" cy="129960"/>
                <a:chOff x="6382440" y="4086000"/>
                <a:chExt cx="133560" cy="12996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6387480" y="4091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6387480" y="42004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 flipV="1">
                  <a:off x="6382440" y="408600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6418080" y="409752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6417720" y="408672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8" name=""/>
              <p:cNvGrpSpPr/>
              <p:nvPr/>
            </p:nvGrpSpPr>
            <p:grpSpPr>
              <a:xfrm>
                <a:off x="6382440" y="4215960"/>
                <a:ext cx="133560" cy="119880"/>
                <a:chOff x="6382440" y="4215960"/>
                <a:chExt cx="133560" cy="11988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6387480" y="42206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6387480" y="43203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 flipV="1">
                  <a:off x="6382440" y="421596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6418080" y="422676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6417720" y="421596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4" name=""/>
              <p:cNvSpPr/>
              <p:nvPr/>
            </p:nvSpPr>
            <p:spPr>
              <a:xfrm flipH="1">
                <a:off x="6611400" y="4709160"/>
                <a:ext cx="1254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5" name=""/>
              <p:cNvGrpSpPr/>
              <p:nvPr/>
            </p:nvGrpSpPr>
            <p:grpSpPr>
              <a:xfrm>
                <a:off x="6382440" y="4335120"/>
                <a:ext cx="133560" cy="129960"/>
                <a:chOff x="6382440" y="4335120"/>
                <a:chExt cx="133560" cy="12996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6387480" y="43405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6387480" y="44496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 flipV="1">
                  <a:off x="6382440" y="433512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6418080" y="434664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6417720" y="433584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6382440" y="4464360"/>
                <a:ext cx="133560" cy="130320"/>
                <a:chOff x="6382440" y="4464360"/>
                <a:chExt cx="133560" cy="1303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6387480" y="4469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6387480" y="45792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 flipV="1">
                  <a:off x="6382440" y="446472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6418080" y="447552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6417720" y="446436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7" name=""/>
              <p:cNvSpPr/>
              <p:nvPr/>
            </p:nvSpPr>
            <p:spPr>
              <a:xfrm>
                <a:off x="6198120" y="3947760"/>
                <a:ext cx="86580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198480" y="3958200"/>
                <a:ext cx="86544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567120" y="3958200"/>
                <a:ext cx="128160" cy="26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566760" y="3947760"/>
                <a:ext cx="12852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631200" y="3638160"/>
                <a:ext cx="0" cy="30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6631200" y="422604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516720" y="4141440"/>
                <a:ext cx="16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516720" y="36334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516720" y="38923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516720" y="40219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516720" y="44002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516720" y="45298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516720" y="37627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516720" y="42706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089480" y="4111200"/>
                <a:ext cx="29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268760" y="42904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687080" y="4111200"/>
                <a:ext cx="25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268760" y="3454200"/>
                <a:ext cx="0" cy="155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866720" y="4111200"/>
                <a:ext cx="0" cy="59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6" name=""/>
              <p:cNvGrpSpPr/>
              <p:nvPr/>
            </p:nvGrpSpPr>
            <p:grpSpPr>
              <a:xfrm>
                <a:off x="7388280" y="3992040"/>
                <a:ext cx="292680" cy="358560"/>
                <a:chOff x="7388280" y="3992040"/>
                <a:chExt cx="292680" cy="358560"/>
              </a:xfrm>
            </p:grpSpPr>
            <p:sp>
              <p:nvSpPr>
                <p:cNvPr id="717" name=""/>
                <p:cNvSpPr/>
                <p:nvPr/>
              </p:nvSpPr>
              <p:spPr>
                <a:xfrm>
                  <a:off x="7409520" y="4028040"/>
                  <a:ext cx="14544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7513920" y="4028040"/>
                  <a:ext cx="15300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7388640" y="3992040"/>
                  <a:ext cx="292320" cy="358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388640" y="4242600"/>
                  <a:ext cx="83160" cy="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 flipH="1">
                  <a:off x="7388280" y="4278960"/>
                  <a:ext cx="83160" cy="34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2" name=""/>
              <p:cNvSpPr/>
              <p:nvPr/>
            </p:nvSpPr>
            <p:spPr>
              <a:xfrm flipH="1">
                <a:off x="2860560" y="4649400"/>
                <a:ext cx="1180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340160" y="4649400"/>
                <a:ext cx="216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785680" y="458928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>
                <a:off x="2785680" y="470916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2785680" y="4589280"/>
                <a:ext cx="0" cy="23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>
                <a:off x="2546640" y="4709160"/>
                <a:ext cx="23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6439320" y="458928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439320" y="470916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6611400" y="4596840"/>
                <a:ext cx="0" cy="23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6454440" y="4739040"/>
                <a:ext cx="59760" cy="59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239240" y="426060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164360" y="408132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7194240" y="3782520"/>
                <a:ext cx="0" cy="32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194240" y="3782520"/>
                <a:ext cx="74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rot="16200000">
                <a:off x="7732080" y="3886920"/>
                <a:ext cx="545400" cy="119160"/>
              </a:xfrm>
              <a:custGeom>
                <a:avLst/>
                <a:gdLst>
                  <a:gd name="textAreaLeft" fmla="*/ 91080 w 545400"/>
                  <a:gd name="textAreaRight" fmla="*/ 454320 w 545400"/>
                  <a:gd name="textAreaTop" fmla="*/ 19800 h 119160"/>
                  <a:gd name="textAreaBottom" fmla="*/ 9936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247" y="21600"/>
                    </a:lnTo>
                    <a:lnTo>
                      <a:pt x="3353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8068320" y="393948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8008560" y="4170960"/>
                <a:ext cx="0" cy="20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963560" y="4372920"/>
                <a:ext cx="89280" cy="89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3443760" y="4903560"/>
              <a:ext cx="119160" cy="1554120"/>
              <a:chOff x="3443760" y="4903560"/>
              <a:chExt cx="119160" cy="1554120"/>
            </a:xfrm>
          </p:grpSpPr>
          <p:sp>
            <p:nvSpPr>
              <p:cNvPr id="741" name=""/>
              <p:cNvSpPr/>
              <p:nvPr/>
            </p:nvSpPr>
            <p:spPr>
              <a:xfrm>
                <a:off x="34437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35629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" name=""/>
            <p:cNvSpPr/>
            <p:nvPr/>
          </p:nvSpPr>
          <p:spPr>
            <a:xfrm>
              <a:off x="3030120" y="5082840"/>
              <a:ext cx="334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030120" y="5212440"/>
              <a:ext cx="334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5" name=""/>
            <p:cNvGrpSpPr/>
            <p:nvPr/>
          </p:nvGrpSpPr>
          <p:grpSpPr>
            <a:xfrm>
              <a:off x="3030120" y="5342040"/>
              <a:ext cx="3346920" cy="129240"/>
              <a:chOff x="3030120" y="5342040"/>
              <a:chExt cx="3346920" cy="129240"/>
            </a:xfrm>
          </p:grpSpPr>
          <p:sp>
            <p:nvSpPr>
              <p:cNvPr id="746" name=""/>
              <p:cNvSpPr/>
              <p:nvPr/>
            </p:nvSpPr>
            <p:spPr>
              <a:xfrm>
                <a:off x="3030120" y="534204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030120" y="547128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3030120" y="5591160"/>
              <a:ext cx="3346920" cy="129240"/>
              <a:chOff x="3030120" y="5591160"/>
              <a:chExt cx="3346920" cy="129240"/>
            </a:xfrm>
          </p:grpSpPr>
          <p:sp>
            <p:nvSpPr>
              <p:cNvPr id="749" name=""/>
              <p:cNvSpPr/>
              <p:nvPr/>
            </p:nvSpPr>
            <p:spPr>
              <a:xfrm>
                <a:off x="3030120" y="559116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030120" y="572040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1" name=""/>
            <p:cNvSpPr/>
            <p:nvPr/>
          </p:nvSpPr>
          <p:spPr>
            <a:xfrm>
              <a:off x="3030120" y="5850360"/>
              <a:ext cx="334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030120" y="5979600"/>
              <a:ext cx="334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3" name=""/>
            <p:cNvGrpSpPr/>
            <p:nvPr/>
          </p:nvGrpSpPr>
          <p:grpSpPr>
            <a:xfrm>
              <a:off x="3742560" y="4903560"/>
              <a:ext cx="119160" cy="1554120"/>
              <a:chOff x="3742560" y="4903560"/>
              <a:chExt cx="119160" cy="1554120"/>
            </a:xfrm>
          </p:grpSpPr>
          <p:sp>
            <p:nvSpPr>
              <p:cNvPr id="754" name=""/>
              <p:cNvSpPr/>
              <p:nvPr/>
            </p:nvSpPr>
            <p:spPr>
              <a:xfrm>
                <a:off x="37425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8617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3144600" y="4903560"/>
              <a:ext cx="119520" cy="1554120"/>
              <a:chOff x="3144600" y="4903560"/>
              <a:chExt cx="119520" cy="1554120"/>
            </a:xfrm>
          </p:grpSpPr>
          <p:sp>
            <p:nvSpPr>
              <p:cNvPr id="757" name=""/>
              <p:cNvSpPr/>
              <p:nvPr/>
            </p:nvSpPr>
            <p:spPr>
              <a:xfrm>
                <a:off x="314460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2641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4041360" y="4903560"/>
              <a:ext cx="119520" cy="1554120"/>
              <a:chOff x="4041360" y="4903560"/>
              <a:chExt cx="119520" cy="1554120"/>
            </a:xfrm>
          </p:grpSpPr>
          <p:sp>
            <p:nvSpPr>
              <p:cNvPr id="760" name=""/>
              <p:cNvSpPr/>
              <p:nvPr/>
            </p:nvSpPr>
            <p:spPr>
              <a:xfrm>
                <a:off x="40413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416088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4340160" y="4903560"/>
              <a:ext cx="119160" cy="1554120"/>
              <a:chOff x="4340160" y="4903560"/>
              <a:chExt cx="119160" cy="1554120"/>
            </a:xfrm>
          </p:grpSpPr>
          <p:sp>
            <p:nvSpPr>
              <p:cNvPr id="763" name=""/>
              <p:cNvSpPr/>
              <p:nvPr/>
            </p:nvSpPr>
            <p:spPr>
              <a:xfrm>
                <a:off x="43401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4593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4937760" y="4903560"/>
              <a:ext cx="119520" cy="1554120"/>
              <a:chOff x="4937760" y="4903560"/>
              <a:chExt cx="119520" cy="1554120"/>
            </a:xfrm>
          </p:grpSpPr>
          <p:sp>
            <p:nvSpPr>
              <p:cNvPr id="766" name=""/>
              <p:cNvSpPr/>
              <p:nvPr/>
            </p:nvSpPr>
            <p:spPr>
              <a:xfrm>
                <a:off x="49377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05728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5236920" y="4903560"/>
              <a:ext cx="119160" cy="1554120"/>
              <a:chOff x="5236920" y="4903560"/>
              <a:chExt cx="119160" cy="1554120"/>
            </a:xfrm>
          </p:grpSpPr>
          <p:sp>
            <p:nvSpPr>
              <p:cNvPr id="769" name=""/>
              <p:cNvSpPr/>
              <p:nvPr/>
            </p:nvSpPr>
            <p:spPr>
              <a:xfrm>
                <a:off x="52369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35608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4638960" y="4903560"/>
              <a:ext cx="119160" cy="1554120"/>
              <a:chOff x="4638960" y="4903560"/>
              <a:chExt cx="119160" cy="1554120"/>
            </a:xfrm>
          </p:grpSpPr>
          <p:sp>
            <p:nvSpPr>
              <p:cNvPr id="772" name=""/>
              <p:cNvSpPr/>
              <p:nvPr/>
            </p:nvSpPr>
            <p:spPr>
              <a:xfrm>
                <a:off x="46389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7581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5535720" y="4903560"/>
              <a:ext cx="119160" cy="1554120"/>
              <a:chOff x="5535720" y="4903560"/>
              <a:chExt cx="119160" cy="1554120"/>
            </a:xfrm>
          </p:grpSpPr>
          <p:sp>
            <p:nvSpPr>
              <p:cNvPr id="775" name=""/>
              <p:cNvSpPr/>
              <p:nvPr/>
            </p:nvSpPr>
            <p:spPr>
              <a:xfrm>
                <a:off x="55357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65488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834520" y="4903560"/>
              <a:ext cx="119520" cy="1554120"/>
              <a:chOff x="5834520" y="4903560"/>
              <a:chExt cx="119520" cy="1554120"/>
            </a:xfrm>
          </p:grpSpPr>
          <p:sp>
            <p:nvSpPr>
              <p:cNvPr id="778" name=""/>
              <p:cNvSpPr/>
              <p:nvPr/>
            </p:nvSpPr>
            <p:spPr>
              <a:xfrm>
                <a:off x="58345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95404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 flipH="1">
              <a:off x="2972520" y="6218640"/>
              <a:ext cx="177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072400" y="6218640"/>
              <a:ext cx="138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609080" y="6071760"/>
              <a:ext cx="59760" cy="5940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728960" y="6191280"/>
              <a:ext cx="59400" cy="5976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908240" y="6071760"/>
              <a:ext cx="59400" cy="5940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027760" y="6191280"/>
              <a:ext cx="59760" cy="5976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905560" y="6188760"/>
              <a:ext cx="59400" cy="59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"/>
            <p:cNvGrpSpPr/>
            <p:nvPr/>
          </p:nvGrpSpPr>
          <p:grpSpPr>
            <a:xfrm>
              <a:off x="6382440" y="5028120"/>
              <a:ext cx="133560" cy="129600"/>
              <a:chOff x="6382440" y="5028120"/>
              <a:chExt cx="133560" cy="129600"/>
            </a:xfrm>
          </p:grpSpPr>
          <p:sp>
            <p:nvSpPr>
              <p:cNvPr id="788" name=""/>
              <p:cNvSpPr/>
              <p:nvPr/>
            </p:nvSpPr>
            <p:spPr>
              <a:xfrm>
                <a:off x="6387480" y="50331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387480" y="514260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V="1">
                <a:off x="6382440" y="5028120"/>
                <a:ext cx="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418080" y="5039280"/>
                <a:ext cx="9792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417720" y="5028480"/>
                <a:ext cx="9828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6382440" y="5157720"/>
              <a:ext cx="133560" cy="129960"/>
              <a:chOff x="6382440" y="5157720"/>
              <a:chExt cx="133560" cy="129960"/>
            </a:xfrm>
          </p:grpSpPr>
          <p:sp>
            <p:nvSpPr>
              <p:cNvPr id="794" name=""/>
              <p:cNvSpPr/>
              <p:nvPr/>
            </p:nvSpPr>
            <p:spPr>
              <a:xfrm>
                <a:off x="6387480" y="516240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387480" y="526212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6382440" y="515772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418080" y="516852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417720" y="515772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6382440" y="5287320"/>
              <a:ext cx="133560" cy="120240"/>
              <a:chOff x="6382440" y="5287320"/>
              <a:chExt cx="133560" cy="120240"/>
            </a:xfrm>
          </p:grpSpPr>
          <p:sp>
            <p:nvSpPr>
              <p:cNvPr id="800" name=""/>
              <p:cNvSpPr/>
              <p:nvPr/>
            </p:nvSpPr>
            <p:spPr>
              <a:xfrm>
                <a:off x="6387480" y="52923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387480" y="539172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V="1">
                <a:off x="6382440" y="528732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18080" y="5298480"/>
                <a:ext cx="9792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417720" y="528732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6382440" y="5406480"/>
              <a:ext cx="133560" cy="130320"/>
              <a:chOff x="6382440" y="5406480"/>
              <a:chExt cx="133560" cy="130320"/>
            </a:xfrm>
          </p:grpSpPr>
          <p:sp>
            <p:nvSpPr>
              <p:cNvPr id="806" name=""/>
              <p:cNvSpPr/>
              <p:nvPr/>
            </p:nvSpPr>
            <p:spPr>
              <a:xfrm>
                <a:off x="6387480" y="541152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387480" y="55209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6382440" y="540648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418080" y="541764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417720" y="5406480"/>
                <a:ext cx="9828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6382440" y="5536080"/>
              <a:ext cx="133560" cy="129960"/>
              <a:chOff x="6382440" y="5536080"/>
              <a:chExt cx="133560" cy="129960"/>
            </a:xfrm>
          </p:grpSpPr>
          <p:sp>
            <p:nvSpPr>
              <p:cNvPr id="812" name=""/>
              <p:cNvSpPr/>
              <p:nvPr/>
            </p:nvSpPr>
            <p:spPr>
              <a:xfrm>
                <a:off x="6387480" y="554148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87480" y="56505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V="1">
                <a:off x="6382440" y="553608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418080" y="5547600"/>
                <a:ext cx="9792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417720" y="5536800"/>
                <a:ext cx="9828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7" name=""/>
            <p:cNvGrpSpPr/>
            <p:nvPr/>
          </p:nvGrpSpPr>
          <p:grpSpPr>
            <a:xfrm>
              <a:off x="6382440" y="5665680"/>
              <a:ext cx="133560" cy="119880"/>
              <a:chOff x="6382440" y="5665680"/>
              <a:chExt cx="133560" cy="119880"/>
            </a:xfrm>
          </p:grpSpPr>
          <p:sp>
            <p:nvSpPr>
              <p:cNvPr id="818" name=""/>
              <p:cNvSpPr/>
              <p:nvPr/>
            </p:nvSpPr>
            <p:spPr>
              <a:xfrm>
                <a:off x="6387480" y="56703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387480" y="577008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V="1">
                <a:off x="6382440" y="566568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418080" y="5676480"/>
                <a:ext cx="9792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417720" y="566568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3" name=""/>
            <p:cNvSpPr/>
            <p:nvPr/>
          </p:nvSpPr>
          <p:spPr>
            <a:xfrm flipH="1">
              <a:off x="6611400" y="6158880"/>
              <a:ext cx="125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4" name=""/>
            <p:cNvGrpSpPr/>
            <p:nvPr/>
          </p:nvGrpSpPr>
          <p:grpSpPr>
            <a:xfrm>
              <a:off x="6382440" y="5785200"/>
              <a:ext cx="133560" cy="129960"/>
              <a:chOff x="6382440" y="5785200"/>
              <a:chExt cx="133560" cy="129960"/>
            </a:xfrm>
          </p:grpSpPr>
          <p:sp>
            <p:nvSpPr>
              <p:cNvPr id="825" name=""/>
              <p:cNvSpPr/>
              <p:nvPr/>
            </p:nvSpPr>
            <p:spPr>
              <a:xfrm>
                <a:off x="6387480" y="579060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387480" y="589968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V="1">
                <a:off x="6382440" y="578520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418080" y="5796720"/>
                <a:ext cx="9792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417720" y="5785920"/>
                <a:ext cx="9828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6382440" y="5914440"/>
              <a:ext cx="133560" cy="130320"/>
              <a:chOff x="6382440" y="5914440"/>
              <a:chExt cx="133560" cy="130320"/>
            </a:xfrm>
          </p:grpSpPr>
          <p:sp>
            <p:nvSpPr>
              <p:cNvPr id="831" name=""/>
              <p:cNvSpPr/>
              <p:nvPr/>
            </p:nvSpPr>
            <p:spPr>
              <a:xfrm>
                <a:off x="6387480" y="591948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387480" y="602892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6382440" y="591444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418080" y="592560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417720" y="5914440"/>
                <a:ext cx="9828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6" name=""/>
            <p:cNvSpPr/>
            <p:nvPr/>
          </p:nvSpPr>
          <p:spPr>
            <a:xfrm>
              <a:off x="6198480" y="5397480"/>
              <a:ext cx="865800" cy="29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198840" y="5407920"/>
              <a:ext cx="865440" cy="2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567480" y="5407920"/>
              <a:ext cx="128160" cy="26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567120" y="5397480"/>
              <a:ext cx="128520" cy="29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631560" y="5087880"/>
              <a:ext cx="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V="1">
              <a:off x="6631560" y="56754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517080" y="5591160"/>
              <a:ext cx="16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517080" y="50828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517080" y="53420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517080" y="547164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517080" y="585036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17080" y="597960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517080" y="52124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517080" y="572040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089840" y="5561280"/>
              <a:ext cx="29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269120" y="5740560"/>
              <a:ext cx="10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687440" y="5561280"/>
              <a:ext cx="25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269120" y="4903560"/>
              <a:ext cx="0" cy="155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866720" y="5561280"/>
              <a:ext cx="0" cy="59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7388280" y="5441400"/>
              <a:ext cx="292680" cy="358560"/>
              <a:chOff x="7388280" y="5441400"/>
              <a:chExt cx="292680" cy="358560"/>
            </a:xfrm>
          </p:grpSpPr>
          <p:sp>
            <p:nvSpPr>
              <p:cNvPr id="856" name=""/>
              <p:cNvSpPr/>
              <p:nvPr/>
            </p:nvSpPr>
            <p:spPr>
              <a:xfrm>
                <a:off x="7409520" y="5477400"/>
                <a:ext cx="14544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513920" y="5477400"/>
                <a:ext cx="15300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388640" y="5441400"/>
                <a:ext cx="292320" cy="358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388640" y="5691960"/>
                <a:ext cx="83160" cy="36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7388280" y="5728320"/>
                <a:ext cx="83160" cy="3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1" name=""/>
            <p:cNvSpPr/>
            <p:nvPr/>
          </p:nvSpPr>
          <p:spPr>
            <a:xfrm flipH="1" flipV="1">
              <a:off x="2860920" y="6098760"/>
              <a:ext cx="178560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786040" y="6039360"/>
              <a:ext cx="17928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2786040" y="6158880"/>
              <a:ext cx="179280" cy="11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2786040" y="6039360"/>
              <a:ext cx="0" cy="23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2546640" y="6158880"/>
              <a:ext cx="23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6440040" y="6039360"/>
              <a:ext cx="17928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440040" y="6158880"/>
              <a:ext cx="179280" cy="11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6611400" y="6046560"/>
              <a:ext cx="0" cy="23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6454440" y="6188760"/>
              <a:ext cx="59760" cy="59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239240" y="5710680"/>
              <a:ext cx="59400" cy="5976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164360" y="5531400"/>
              <a:ext cx="59760" cy="5976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7194600" y="523224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194600" y="5232600"/>
              <a:ext cx="74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rot="16200000">
              <a:off x="7732080" y="5337000"/>
              <a:ext cx="545040" cy="119160"/>
            </a:xfrm>
            <a:custGeom>
              <a:avLst/>
              <a:gdLst>
                <a:gd name="textAreaLeft" fmla="*/ 91080 w 545040"/>
                <a:gd name="textAreaRight" fmla="*/ 453960 w 545040"/>
                <a:gd name="textAreaTop" fmla="*/ 19800 h 119160"/>
                <a:gd name="textAreaBottom" fmla="*/ 99360 h 11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247" y="21600"/>
                  </a:lnTo>
                  <a:lnTo>
                    <a:pt x="3353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068320" y="5389200"/>
              <a:ext cx="25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>
              <a:off x="8008920" y="5620680"/>
              <a:ext cx="0" cy="20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963920" y="5822640"/>
              <a:ext cx="89640" cy="89280"/>
            </a:xfrm>
            <a:prstGeom prst="rect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945320" y="6102000"/>
              <a:ext cx="156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8361360" y="2371680"/>
              <a:ext cx="424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353440" y="3827520"/>
              <a:ext cx="424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341560" y="5272560"/>
              <a:ext cx="642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948800" y="5911200"/>
              <a:ext cx="570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954200" y="4457880"/>
              <a:ext cx="49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971840" y="3015720"/>
              <a:ext cx="49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086960" y="1800360"/>
              <a:ext cx="498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235600" y="3147840"/>
              <a:ext cx="319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237760" y="4592520"/>
              <a:ext cx="313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913760" y="6058080"/>
              <a:ext cx="645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275360" y="501552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4268880" y="501444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677760" y="5015520"/>
              <a:ext cx="12924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3671640" y="5014440"/>
              <a:ext cx="13536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693680" y="356616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4687200" y="356508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693680" y="369576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4687200" y="369468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693680" y="3825360"/>
              <a:ext cx="12960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4687200" y="382392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693680" y="21164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4687200" y="211536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693680" y="22460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4687200" y="224496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693680" y="23756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4687200" y="237420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693680" y="25052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4687200" y="250380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275360" y="356616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4268880" y="356508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976560" y="369576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3970080" y="369468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677760" y="3825360"/>
              <a:ext cx="12924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3671640" y="3823920"/>
              <a:ext cx="13536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378600" y="3825360"/>
              <a:ext cx="12960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3372120" y="382392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797280" y="21164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3790800" y="211536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378600" y="212148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3372120" y="212040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677760" y="2246040"/>
              <a:ext cx="12924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3671640" y="2244960"/>
              <a:ext cx="13536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98480" y="2246040"/>
              <a:ext cx="12924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3492360" y="2244960"/>
              <a:ext cx="13536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275360" y="23756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4268880" y="237420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378600" y="23756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3372120" y="237420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275360" y="25052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4268880" y="250380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976560" y="25052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3970080" y="250380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CEA8-FD8E-4273-B965-A04081D669A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7927920" y="5783400"/>
            <a:ext cx="601560" cy="415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348000" y="4994280"/>
            <a:ext cx="1573200" cy="720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07880" y="1506600"/>
            <a:ext cx="63248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reset'(Q1Q0N' + Q1N + Q1D + Q0'ND + Q0N'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nding machine (synch. Mealy PLD mapping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1743120" y="1814400"/>
            <a:ext cx="7271280" cy="4657680"/>
            <a:chOff x="1743120" y="1814400"/>
            <a:chExt cx="7271280" cy="4657680"/>
          </a:xfrm>
        </p:grpSpPr>
        <p:sp>
          <p:nvSpPr>
            <p:cNvPr id="936" name=""/>
            <p:cNvSpPr/>
            <p:nvPr/>
          </p:nvSpPr>
          <p:spPr>
            <a:xfrm>
              <a:off x="1743120" y="5306760"/>
              <a:ext cx="8506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7" name=""/>
            <p:cNvGrpSpPr/>
            <p:nvPr/>
          </p:nvGrpSpPr>
          <p:grpSpPr>
            <a:xfrm>
              <a:off x="2576160" y="2019240"/>
              <a:ext cx="5778720" cy="1554120"/>
              <a:chOff x="2576160" y="2019240"/>
              <a:chExt cx="5778720" cy="1554120"/>
            </a:xfrm>
          </p:grpSpPr>
          <p:grpSp>
            <p:nvGrpSpPr>
              <p:cNvPr id="938" name=""/>
              <p:cNvGrpSpPr/>
              <p:nvPr/>
            </p:nvGrpSpPr>
            <p:grpSpPr>
              <a:xfrm>
                <a:off x="3472920" y="2019240"/>
                <a:ext cx="119160" cy="1554120"/>
                <a:chOff x="3472920" y="2019240"/>
                <a:chExt cx="119160" cy="1554120"/>
              </a:xfrm>
            </p:grpSpPr>
            <p:sp>
              <p:nvSpPr>
                <p:cNvPr id="939" name=""/>
                <p:cNvSpPr/>
                <p:nvPr/>
              </p:nvSpPr>
              <p:spPr>
                <a:xfrm>
                  <a:off x="347292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35920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1" name=""/>
              <p:cNvSpPr/>
              <p:nvPr/>
            </p:nvSpPr>
            <p:spPr>
              <a:xfrm>
                <a:off x="3059640" y="219852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059640" y="232776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3" name=""/>
              <p:cNvGrpSpPr/>
              <p:nvPr/>
            </p:nvGrpSpPr>
            <p:grpSpPr>
              <a:xfrm>
                <a:off x="3059640" y="2457360"/>
                <a:ext cx="3347280" cy="129240"/>
                <a:chOff x="3059640" y="2457360"/>
                <a:chExt cx="3347280" cy="129240"/>
              </a:xfrm>
            </p:grpSpPr>
            <p:sp>
              <p:nvSpPr>
                <p:cNvPr id="944" name=""/>
                <p:cNvSpPr/>
                <p:nvPr/>
              </p:nvSpPr>
              <p:spPr>
                <a:xfrm>
                  <a:off x="3059640" y="245736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3059640" y="258660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6" name=""/>
              <p:cNvGrpSpPr/>
              <p:nvPr/>
            </p:nvGrpSpPr>
            <p:grpSpPr>
              <a:xfrm>
                <a:off x="3059640" y="2706480"/>
                <a:ext cx="3347280" cy="129240"/>
                <a:chOff x="3059640" y="2706480"/>
                <a:chExt cx="3347280" cy="129240"/>
              </a:xfrm>
            </p:grpSpPr>
            <p:sp>
              <p:nvSpPr>
                <p:cNvPr id="947" name=""/>
                <p:cNvSpPr/>
                <p:nvPr/>
              </p:nvSpPr>
              <p:spPr>
                <a:xfrm>
                  <a:off x="3059640" y="270648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3059640" y="283572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9" name=""/>
              <p:cNvSpPr/>
              <p:nvPr/>
            </p:nvSpPr>
            <p:spPr>
              <a:xfrm>
                <a:off x="3059640" y="296532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059640" y="309528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1" name=""/>
              <p:cNvGrpSpPr/>
              <p:nvPr/>
            </p:nvGrpSpPr>
            <p:grpSpPr>
              <a:xfrm>
                <a:off x="3771720" y="2019240"/>
                <a:ext cx="119160" cy="1554120"/>
                <a:chOff x="3771720" y="2019240"/>
                <a:chExt cx="119160" cy="155412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377172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38908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3173760" y="2019240"/>
                <a:ext cx="119520" cy="1554120"/>
                <a:chOff x="3173760" y="2019240"/>
                <a:chExt cx="119520" cy="155412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317376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32932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070520" y="2019240"/>
                <a:ext cx="119520" cy="1554120"/>
                <a:chOff x="4070520" y="2019240"/>
                <a:chExt cx="119520" cy="155412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407052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1900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4369680" y="2019240"/>
                <a:ext cx="119160" cy="1554120"/>
                <a:chOff x="4369680" y="2019240"/>
                <a:chExt cx="119160" cy="155412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43696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44888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4967280" y="2019240"/>
                <a:ext cx="119520" cy="1554120"/>
                <a:chOff x="4967280" y="2019240"/>
                <a:chExt cx="119520" cy="155412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49672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508680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5266440" y="2019240"/>
                <a:ext cx="119160" cy="1554120"/>
                <a:chOff x="5266440" y="2019240"/>
                <a:chExt cx="119160" cy="155412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52664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538560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4668480" y="2019240"/>
                <a:ext cx="119160" cy="1554120"/>
                <a:chOff x="4668480" y="2019240"/>
                <a:chExt cx="119160" cy="155412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46684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47876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5565240" y="2019240"/>
                <a:ext cx="119160" cy="1554120"/>
                <a:chOff x="5565240" y="2019240"/>
                <a:chExt cx="119160" cy="155412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55652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568440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5864040" y="2019240"/>
                <a:ext cx="119520" cy="1554120"/>
                <a:chOff x="5864040" y="2019240"/>
                <a:chExt cx="119520" cy="155412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58640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98356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8" name=""/>
              <p:cNvSpPr/>
              <p:nvPr/>
            </p:nvSpPr>
            <p:spPr>
              <a:xfrm flipH="1">
                <a:off x="3001680" y="3333960"/>
                <a:ext cx="58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876480" y="3333960"/>
                <a:ext cx="2607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443040" y="318456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562560" y="330408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741840" y="318456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3861720" y="330408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2935080" y="3304080"/>
                <a:ext cx="59400" cy="5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5" name=""/>
              <p:cNvGrpSpPr/>
              <p:nvPr/>
            </p:nvGrpSpPr>
            <p:grpSpPr>
              <a:xfrm>
                <a:off x="6411960" y="2143080"/>
                <a:ext cx="133560" cy="129960"/>
                <a:chOff x="6411960" y="2143080"/>
                <a:chExt cx="133560" cy="129960"/>
              </a:xfrm>
            </p:grpSpPr>
            <p:sp>
              <p:nvSpPr>
                <p:cNvPr id="986" name=""/>
                <p:cNvSpPr/>
                <p:nvPr/>
              </p:nvSpPr>
              <p:spPr>
                <a:xfrm>
                  <a:off x="6417000" y="21484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6417000" y="22575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flipV="1">
                  <a:off x="6411960" y="214308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6447600" y="215460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6447240" y="214380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1" name=""/>
              <p:cNvGrpSpPr/>
              <p:nvPr/>
            </p:nvGrpSpPr>
            <p:grpSpPr>
              <a:xfrm>
                <a:off x="6411960" y="2273040"/>
                <a:ext cx="133560" cy="129960"/>
                <a:chOff x="6411960" y="2273040"/>
                <a:chExt cx="133560" cy="12996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6417000" y="22777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6417000" y="23774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flipV="1">
                  <a:off x="6411960" y="227304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6447600" y="228384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6447240" y="227304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7" name=""/>
              <p:cNvGrpSpPr/>
              <p:nvPr/>
            </p:nvGrpSpPr>
            <p:grpSpPr>
              <a:xfrm>
                <a:off x="6411960" y="2402640"/>
                <a:ext cx="133560" cy="120240"/>
                <a:chOff x="6411960" y="2402640"/>
                <a:chExt cx="133560" cy="120240"/>
              </a:xfrm>
            </p:grpSpPr>
            <p:sp>
              <p:nvSpPr>
                <p:cNvPr id="998" name=""/>
                <p:cNvSpPr/>
                <p:nvPr/>
              </p:nvSpPr>
              <p:spPr>
                <a:xfrm>
                  <a:off x="6417000" y="2407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6417000" y="25070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flipV="1">
                  <a:off x="6411960" y="240264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6447600" y="241380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6447240" y="240264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3" name=""/>
              <p:cNvGrpSpPr/>
              <p:nvPr/>
            </p:nvGrpSpPr>
            <p:grpSpPr>
              <a:xfrm>
                <a:off x="6411960" y="2521800"/>
                <a:ext cx="133560" cy="130320"/>
                <a:chOff x="6411960" y="2521800"/>
                <a:chExt cx="133560" cy="130320"/>
              </a:xfrm>
            </p:grpSpPr>
            <p:sp>
              <p:nvSpPr>
                <p:cNvPr id="1004" name=""/>
                <p:cNvSpPr/>
                <p:nvPr/>
              </p:nvSpPr>
              <p:spPr>
                <a:xfrm>
                  <a:off x="6417000" y="25268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6417000" y="26362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flipV="1">
                  <a:off x="6411960" y="252180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6447600" y="253296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6447240" y="252180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9" name=""/>
              <p:cNvGrpSpPr/>
              <p:nvPr/>
            </p:nvGrpSpPr>
            <p:grpSpPr>
              <a:xfrm>
                <a:off x="6411960" y="2651400"/>
                <a:ext cx="133560" cy="129960"/>
                <a:chOff x="6411960" y="2651400"/>
                <a:chExt cx="133560" cy="129960"/>
              </a:xfrm>
            </p:grpSpPr>
            <p:sp>
              <p:nvSpPr>
                <p:cNvPr id="1010" name=""/>
                <p:cNvSpPr/>
                <p:nvPr/>
              </p:nvSpPr>
              <p:spPr>
                <a:xfrm>
                  <a:off x="6417000" y="2656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6417000" y="27658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V="1">
                  <a:off x="6411960" y="265140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6447600" y="266292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6447240" y="265212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5" name=""/>
              <p:cNvGrpSpPr/>
              <p:nvPr/>
            </p:nvGrpSpPr>
            <p:grpSpPr>
              <a:xfrm>
                <a:off x="6411960" y="2781000"/>
                <a:ext cx="133560" cy="119880"/>
                <a:chOff x="6411960" y="2781000"/>
                <a:chExt cx="133560" cy="119880"/>
              </a:xfrm>
            </p:grpSpPr>
            <p:sp>
              <p:nvSpPr>
                <p:cNvPr id="1016" name=""/>
                <p:cNvSpPr/>
                <p:nvPr/>
              </p:nvSpPr>
              <p:spPr>
                <a:xfrm>
                  <a:off x="6417000" y="2785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6417000" y="2885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 flipV="1">
                  <a:off x="6411960" y="27810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6447600" y="279180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6447240" y="27810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1" name=""/>
              <p:cNvSpPr/>
              <p:nvPr/>
            </p:nvSpPr>
            <p:spPr>
              <a:xfrm flipH="1">
                <a:off x="6640560" y="3274560"/>
                <a:ext cx="125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2" name=""/>
              <p:cNvGrpSpPr/>
              <p:nvPr/>
            </p:nvGrpSpPr>
            <p:grpSpPr>
              <a:xfrm>
                <a:off x="6411960" y="2900520"/>
                <a:ext cx="133560" cy="129960"/>
                <a:chOff x="6411960" y="2900520"/>
                <a:chExt cx="133560" cy="129960"/>
              </a:xfrm>
            </p:grpSpPr>
            <p:sp>
              <p:nvSpPr>
                <p:cNvPr id="1023" name=""/>
                <p:cNvSpPr/>
                <p:nvPr/>
              </p:nvSpPr>
              <p:spPr>
                <a:xfrm>
                  <a:off x="6417000" y="29059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6417000" y="30150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 flipV="1">
                  <a:off x="6411960" y="290052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6447600" y="291204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6447240" y="290124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8" name=""/>
              <p:cNvGrpSpPr/>
              <p:nvPr/>
            </p:nvGrpSpPr>
            <p:grpSpPr>
              <a:xfrm>
                <a:off x="6411960" y="3029760"/>
                <a:ext cx="133560" cy="130320"/>
                <a:chOff x="6411960" y="3029760"/>
                <a:chExt cx="133560" cy="130320"/>
              </a:xfrm>
            </p:grpSpPr>
            <p:sp>
              <p:nvSpPr>
                <p:cNvPr id="1029" name=""/>
                <p:cNvSpPr/>
                <p:nvPr/>
              </p:nvSpPr>
              <p:spPr>
                <a:xfrm>
                  <a:off x="6417000" y="3034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6417000" y="31446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 flipV="1">
                  <a:off x="6411960" y="303012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6447600" y="304092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6447240" y="302976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4" name=""/>
              <p:cNvSpPr/>
              <p:nvPr/>
            </p:nvSpPr>
            <p:spPr>
              <a:xfrm>
                <a:off x="6228000" y="2512080"/>
                <a:ext cx="86580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228360" y="2523600"/>
                <a:ext cx="86544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6597000" y="2523600"/>
                <a:ext cx="128160" cy="26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6596640" y="2512080"/>
                <a:ext cx="12852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661080" y="2203200"/>
                <a:ext cx="0" cy="30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V="1">
                <a:off x="6661080" y="279108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6546600" y="2706480"/>
                <a:ext cx="16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546600" y="21985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546600" y="24573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546600" y="258660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546600" y="29653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546600" y="30952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546600" y="23277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546600" y="28357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119360" y="2676600"/>
                <a:ext cx="29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7298640" y="2855880"/>
                <a:ext cx="10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716960" y="267660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7298640" y="201924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7896600" y="2676600"/>
                <a:ext cx="0" cy="59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3" name=""/>
              <p:cNvGrpSpPr/>
              <p:nvPr/>
            </p:nvGrpSpPr>
            <p:grpSpPr>
              <a:xfrm>
                <a:off x="7417800" y="2557080"/>
                <a:ext cx="292680" cy="358560"/>
                <a:chOff x="7417800" y="2557080"/>
                <a:chExt cx="292680" cy="35856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7439040" y="2593080"/>
                  <a:ext cx="14544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543440" y="2593080"/>
                  <a:ext cx="15300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7418160" y="2557080"/>
                  <a:ext cx="292320" cy="358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7418160" y="2807640"/>
                  <a:ext cx="83160" cy="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 flipH="1">
                  <a:off x="7417800" y="2844000"/>
                  <a:ext cx="83160" cy="34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9" name=""/>
              <p:cNvSpPr/>
              <p:nvPr/>
            </p:nvSpPr>
            <p:spPr>
              <a:xfrm flipH="1">
                <a:off x="2889720" y="3214440"/>
                <a:ext cx="56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764520" y="3214440"/>
                <a:ext cx="2772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815200" y="315468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H="1">
                <a:off x="2815200" y="327456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V="1">
                <a:off x="2815200" y="3154680"/>
                <a:ext cx="0" cy="23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H="1">
                <a:off x="2576160" y="3274560"/>
                <a:ext cx="23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H="1">
                <a:off x="6469560" y="315468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6469560" y="327456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V="1">
                <a:off x="6640920" y="3161880"/>
                <a:ext cx="0" cy="23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H="1">
                <a:off x="6483960" y="3304080"/>
                <a:ext cx="59760" cy="5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268760" y="282600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194240" y="264672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V="1">
                <a:off x="7224120" y="2347560"/>
                <a:ext cx="0" cy="32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224120" y="2347920"/>
                <a:ext cx="74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rot="16200000">
                <a:off x="7761960" y="2451960"/>
                <a:ext cx="545400" cy="119160"/>
              </a:xfrm>
              <a:custGeom>
                <a:avLst/>
                <a:gdLst>
                  <a:gd name="textAreaLeft" fmla="*/ 91080 w 545400"/>
                  <a:gd name="textAreaRight" fmla="*/ 454320 w 545400"/>
                  <a:gd name="textAreaTop" fmla="*/ 19800 h 119160"/>
                  <a:gd name="textAreaBottom" fmla="*/ 9936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247" y="21600"/>
                    </a:lnTo>
                    <a:lnTo>
                      <a:pt x="3353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8098200" y="250452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V="1">
                <a:off x="8038440" y="2736360"/>
                <a:ext cx="0" cy="20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7993440" y="2937960"/>
                <a:ext cx="89640" cy="89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7" name=""/>
            <p:cNvGrpSpPr/>
            <p:nvPr/>
          </p:nvGrpSpPr>
          <p:grpSpPr>
            <a:xfrm>
              <a:off x="2576160" y="3468600"/>
              <a:ext cx="5778720" cy="1554120"/>
              <a:chOff x="2576160" y="3468600"/>
              <a:chExt cx="5778720" cy="1554120"/>
            </a:xfrm>
          </p:grpSpPr>
          <p:grpSp>
            <p:nvGrpSpPr>
              <p:cNvPr id="1078" name=""/>
              <p:cNvGrpSpPr/>
              <p:nvPr/>
            </p:nvGrpSpPr>
            <p:grpSpPr>
              <a:xfrm>
                <a:off x="3472920" y="3468600"/>
                <a:ext cx="119160" cy="1554120"/>
                <a:chOff x="3472920" y="3468600"/>
                <a:chExt cx="119160" cy="1554120"/>
              </a:xfrm>
            </p:grpSpPr>
            <p:sp>
              <p:nvSpPr>
                <p:cNvPr id="1079" name=""/>
                <p:cNvSpPr/>
                <p:nvPr/>
              </p:nvSpPr>
              <p:spPr>
                <a:xfrm>
                  <a:off x="347292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35920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1" name=""/>
              <p:cNvSpPr/>
              <p:nvPr/>
            </p:nvSpPr>
            <p:spPr>
              <a:xfrm>
                <a:off x="3059640" y="364788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3059640" y="377712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3" name=""/>
              <p:cNvGrpSpPr/>
              <p:nvPr/>
            </p:nvGrpSpPr>
            <p:grpSpPr>
              <a:xfrm>
                <a:off x="3059640" y="3906720"/>
                <a:ext cx="3347280" cy="129600"/>
                <a:chOff x="3059640" y="3906720"/>
                <a:chExt cx="3347280" cy="12960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3059640" y="390672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3059640" y="403632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3059640" y="4155840"/>
                <a:ext cx="3347280" cy="129240"/>
                <a:chOff x="3059640" y="4155840"/>
                <a:chExt cx="3347280" cy="12924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3059640" y="415584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3059640" y="428508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9" name=""/>
              <p:cNvSpPr/>
              <p:nvPr/>
            </p:nvSpPr>
            <p:spPr>
              <a:xfrm>
                <a:off x="3059640" y="441468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059640" y="454464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1" name=""/>
              <p:cNvGrpSpPr/>
              <p:nvPr/>
            </p:nvGrpSpPr>
            <p:grpSpPr>
              <a:xfrm>
                <a:off x="3771720" y="3468600"/>
                <a:ext cx="119160" cy="1554120"/>
                <a:chOff x="3771720" y="3468600"/>
                <a:chExt cx="119160" cy="1554120"/>
              </a:xfrm>
            </p:grpSpPr>
            <p:sp>
              <p:nvSpPr>
                <p:cNvPr id="1092" name=""/>
                <p:cNvSpPr/>
                <p:nvPr/>
              </p:nvSpPr>
              <p:spPr>
                <a:xfrm>
                  <a:off x="377172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38908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4" name=""/>
              <p:cNvGrpSpPr/>
              <p:nvPr/>
            </p:nvGrpSpPr>
            <p:grpSpPr>
              <a:xfrm>
                <a:off x="3173760" y="3468600"/>
                <a:ext cx="119520" cy="1554120"/>
                <a:chOff x="3173760" y="3468600"/>
                <a:chExt cx="119520" cy="155412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317376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32932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7" name=""/>
              <p:cNvGrpSpPr/>
              <p:nvPr/>
            </p:nvGrpSpPr>
            <p:grpSpPr>
              <a:xfrm>
                <a:off x="4070520" y="3468600"/>
                <a:ext cx="119520" cy="1554120"/>
                <a:chOff x="4070520" y="3468600"/>
                <a:chExt cx="119520" cy="1554120"/>
              </a:xfrm>
            </p:grpSpPr>
            <p:sp>
              <p:nvSpPr>
                <p:cNvPr id="1098" name=""/>
                <p:cNvSpPr/>
                <p:nvPr/>
              </p:nvSpPr>
              <p:spPr>
                <a:xfrm>
                  <a:off x="407052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41900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0" name=""/>
              <p:cNvGrpSpPr/>
              <p:nvPr/>
            </p:nvGrpSpPr>
            <p:grpSpPr>
              <a:xfrm>
                <a:off x="4369680" y="3468600"/>
                <a:ext cx="119160" cy="1554120"/>
                <a:chOff x="4369680" y="3468600"/>
                <a:chExt cx="119160" cy="1554120"/>
              </a:xfrm>
            </p:grpSpPr>
            <p:sp>
              <p:nvSpPr>
                <p:cNvPr id="1101" name=""/>
                <p:cNvSpPr/>
                <p:nvPr/>
              </p:nvSpPr>
              <p:spPr>
                <a:xfrm>
                  <a:off x="43696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44888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3" name=""/>
              <p:cNvGrpSpPr/>
              <p:nvPr/>
            </p:nvGrpSpPr>
            <p:grpSpPr>
              <a:xfrm>
                <a:off x="4967280" y="3468600"/>
                <a:ext cx="119520" cy="1554120"/>
                <a:chOff x="4967280" y="3468600"/>
                <a:chExt cx="119520" cy="1554120"/>
              </a:xfrm>
            </p:grpSpPr>
            <p:sp>
              <p:nvSpPr>
                <p:cNvPr id="1104" name=""/>
                <p:cNvSpPr/>
                <p:nvPr/>
              </p:nvSpPr>
              <p:spPr>
                <a:xfrm>
                  <a:off x="49672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508680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6" name=""/>
              <p:cNvGrpSpPr/>
              <p:nvPr/>
            </p:nvGrpSpPr>
            <p:grpSpPr>
              <a:xfrm>
                <a:off x="5266440" y="3468600"/>
                <a:ext cx="119160" cy="1554120"/>
                <a:chOff x="5266440" y="3468600"/>
                <a:chExt cx="119160" cy="1554120"/>
              </a:xfrm>
            </p:grpSpPr>
            <p:sp>
              <p:nvSpPr>
                <p:cNvPr id="1107" name=""/>
                <p:cNvSpPr/>
                <p:nvPr/>
              </p:nvSpPr>
              <p:spPr>
                <a:xfrm>
                  <a:off x="52664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538560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9" name=""/>
              <p:cNvGrpSpPr/>
              <p:nvPr/>
            </p:nvGrpSpPr>
            <p:grpSpPr>
              <a:xfrm>
                <a:off x="4668480" y="3468600"/>
                <a:ext cx="119160" cy="1554120"/>
                <a:chOff x="4668480" y="3468600"/>
                <a:chExt cx="119160" cy="1554120"/>
              </a:xfrm>
            </p:grpSpPr>
            <p:sp>
              <p:nvSpPr>
                <p:cNvPr id="1110" name=""/>
                <p:cNvSpPr/>
                <p:nvPr/>
              </p:nvSpPr>
              <p:spPr>
                <a:xfrm>
                  <a:off x="46684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47876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5565240" y="3468600"/>
                <a:ext cx="119160" cy="1554120"/>
                <a:chOff x="5565240" y="3468600"/>
                <a:chExt cx="119160" cy="155412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55652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568440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5" name=""/>
              <p:cNvGrpSpPr/>
              <p:nvPr/>
            </p:nvGrpSpPr>
            <p:grpSpPr>
              <a:xfrm>
                <a:off x="5864040" y="3468600"/>
                <a:ext cx="119520" cy="1554120"/>
                <a:chOff x="5864040" y="3468600"/>
                <a:chExt cx="119520" cy="155412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58640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598356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8" name=""/>
              <p:cNvSpPr/>
              <p:nvPr/>
            </p:nvSpPr>
            <p:spPr>
              <a:xfrm flipH="1">
                <a:off x="3002040" y="4783320"/>
                <a:ext cx="1188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4489200" y="4783320"/>
                <a:ext cx="199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041000" y="463392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160520" y="4753800"/>
                <a:ext cx="59760" cy="5940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339800" y="463392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459320" y="4753800"/>
                <a:ext cx="59760" cy="5940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2935080" y="4753800"/>
                <a:ext cx="59400" cy="59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5" name=""/>
              <p:cNvGrpSpPr/>
              <p:nvPr/>
            </p:nvGrpSpPr>
            <p:grpSpPr>
              <a:xfrm>
                <a:off x="6411960" y="3592440"/>
                <a:ext cx="133560" cy="129960"/>
                <a:chOff x="6411960" y="3592440"/>
                <a:chExt cx="133560" cy="12996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6417000" y="35978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6417000" y="37069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 flipV="1">
                  <a:off x="6411960" y="359244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6447600" y="360396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6447240" y="359316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6411960" y="3722400"/>
                <a:ext cx="133560" cy="129960"/>
                <a:chOff x="6411960" y="3722400"/>
                <a:chExt cx="133560" cy="12996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6417000" y="37270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6417000" y="3826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 flipV="1">
                  <a:off x="6411960" y="37224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6447600" y="373320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6447240" y="37224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6411960" y="3852000"/>
                <a:ext cx="133560" cy="120240"/>
                <a:chOff x="6411960" y="3852000"/>
                <a:chExt cx="133560" cy="12024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6417000" y="38570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6417000" y="3956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 flipV="1">
                  <a:off x="6411960" y="38520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6447600" y="386316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6447240" y="38520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6411960" y="3971160"/>
                <a:ext cx="133560" cy="130320"/>
                <a:chOff x="6411960" y="3971160"/>
                <a:chExt cx="133560" cy="13032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6417000" y="39762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6417000" y="40860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 flipV="1">
                  <a:off x="6411960" y="397152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6447600" y="398232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6447240" y="397116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6411960" y="4100760"/>
                <a:ext cx="133560" cy="129960"/>
                <a:chOff x="6411960" y="4100760"/>
                <a:chExt cx="133560" cy="12996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6417000" y="41061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6417000" y="42152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 flipV="1">
                  <a:off x="6411960" y="410076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6447600" y="411228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6447240" y="410148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6411960" y="4230360"/>
                <a:ext cx="133560" cy="119880"/>
                <a:chOff x="6411960" y="4230360"/>
                <a:chExt cx="133560" cy="11988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6417000" y="42350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6417000" y="43347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 flipV="1">
                  <a:off x="6411960" y="423036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6447600" y="424116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447240" y="423036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1" name=""/>
              <p:cNvSpPr/>
              <p:nvPr/>
            </p:nvSpPr>
            <p:spPr>
              <a:xfrm flipH="1">
                <a:off x="6640560" y="4723920"/>
                <a:ext cx="125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2" name=""/>
              <p:cNvGrpSpPr/>
              <p:nvPr/>
            </p:nvGrpSpPr>
            <p:grpSpPr>
              <a:xfrm>
                <a:off x="6411960" y="4349880"/>
                <a:ext cx="133560" cy="129960"/>
                <a:chOff x="6411960" y="4349880"/>
                <a:chExt cx="133560" cy="129960"/>
              </a:xfrm>
            </p:grpSpPr>
            <p:sp>
              <p:nvSpPr>
                <p:cNvPr id="1163" name=""/>
                <p:cNvSpPr/>
                <p:nvPr/>
              </p:nvSpPr>
              <p:spPr>
                <a:xfrm>
                  <a:off x="6417000" y="43552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6417000" y="44643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 flipV="1">
                  <a:off x="6411960" y="434988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6447600" y="436140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6447240" y="435060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8" name=""/>
              <p:cNvGrpSpPr/>
              <p:nvPr/>
            </p:nvGrpSpPr>
            <p:grpSpPr>
              <a:xfrm>
                <a:off x="6411960" y="4479120"/>
                <a:ext cx="133560" cy="130320"/>
                <a:chOff x="6411960" y="4479120"/>
                <a:chExt cx="133560" cy="130320"/>
              </a:xfrm>
            </p:grpSpPr>
            <p:sp>
              <p:nvSpPr>
                <p:cNvPr id="1169" name=""/>
                <p:cNvSpPr/>
                <p:nvPr/>
              </p:nvSpPr>
              <p:spPr>
                <a:xfrm>
                  <a:off x="6417000" y="44841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6417000" y="45939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flipV="1">
                  <a:off x="6411960" y="447948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6447600" y="449028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6447240" y="447912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4" name=""/>
              <p:cNvSpPr/>
              <p:nvPr/>
            </p:nvSpPr>
            <p:spPr>
              <a:xfrm>
                <a:off x="6228000" y="3961440"/>
                <a:ext cx="86580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228360" y="3972960"/>
                <a:ext cx="86544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6597000" y="3972960"/>
                <a:ext cx="128160" cy="26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6596640" y="3961440"/>
                <a:ext cx="12852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6661080" y="3652560"/>
                <a:ext cx="0" cy="30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flipV="1">
                <a:off x="6661080" y="424044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546600" y="4155840"/>
                <a:ext cx="16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546600" y="36478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546600" y="39067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546600" y="40363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546600" y="44146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546600" y="454464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546600" y="37771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46600" y="42850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119360" y="4125960"/>
                <a:ext cx="29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298640" y="430524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716960" y="4125960"/>
                <a:ext cx="25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298640" y="346860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896600" y="4125960"/>
                <a:ext cx="0" cy="59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3" name=""/>
              <p:cNvGrpSpPr/>
              <p:nvPr/>
            </p:nvGrpSpPr>
            <p:grpSpPr>
              <a:xfrm>
                <a:off x="7417800" y="4006440"/>
                <a:ext cx="292680" cy="358560"/>
                <a:chOff x="7417800" y="4006440"/>
                <a:chExt cx="292680" cy="35856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7439040" y="4042440"/>
                  <a:ext cx="14544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7543440" y="4042440"/>
                  <a:ext cx="15300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7418160" y="4006440"/>
                  <a:ext cx="292320" cy="358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7418160" y="4257000"/>
                  <a:ext cx="83160" cy="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 flipH="1">
                  <a:off x="7417800" y="4293360"/>
                  <a:ext cx="83160" cy="34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9" name=""/>
              <p:cNvSpPr/>
              <p:nvPr/>
            </p:nvSpPr>
            <p:spPr>
              <a:xfrm flipH="1">
                <a:off x="2889720" y="4663800"/>
                <a:ext cx="118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369680" y="4663800"/>
                <a:ext cx="2166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2815200" y="460404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H="1">
                <a:off x="2815200" y="472392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V="1">
                <a:off x="2815200" y="4604040"/>
                <a:ext cx="0" cy="23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flipH="1">
                <a:off x="2576160" y="4723920"/>
                <a:ext cx="23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flipH="1">
                <a:off x="6469200" y="460404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6469200" y="472392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flipV="1">
                <a:off x="6640920" y="4611240"/>
                <a:ext cx="0" cy="23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H="1">
                <a:off x="6483960" y="4753800"/>
                <a:ext cx="59760" cy="59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268760" y="427536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194240" y="409608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V="1">
                <a:off x="7224120" y="3796920"/>
                <a:ext cx="0" cy="32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224120" y="3797280"/>
                <a:ext cx="74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rot="16200000">
                <a:off x="7761960" y="3901320"/>
                <a:ext cx="545400" cy="119160"/>
              </a:xfrm>
              <a:custGeom>
                <a:avLst/>
                <a:gdLst>
                  <a:gd name="textAreaLeft" fmla="*/ 91080 w 545400"/>
                  <a:gd name="textAreaRight" fmla="*/ 454320 w 545400"/>
                  <a:gd name="textAreaTop" fmla="*/ 19800 h 119160"/>
                  <a:gd name="textAreaBottom" fmla="*/ 9936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247" y="21600"/>
                    </a:lnTo>
                    <a:lnTo>
                      <a:pt x="3353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8098200" y="395388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flipV="1">
                <a:off x="8038440" y="4185360"/>
                <a:ext cx="0" cy="20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993440" y="4387320"/>
                <a:ext cx="89280" cy="89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3473280" y="4917960"/>
              <a:ext cx="119160" cy="1554120"/>
              <a:chOff x="3473280" y="4917960"/>
              <a:chExt cx="119160" cy="1554120"/>
            </a:xfrm>
          </p:grpSpPr>
          <p:sp>
            <p:nvSpPr>
              <p:cNvPr id="1218" name=""/>
              <p:cNvSpPr/>
              <p:nvPr/>
            </p:nvSpPr>
            <p:spPr>
              <a:xfrm>
                <a:off x="347328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35924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>
              <a:off x="3060720" y="5097240"/>
              <a:ext cx="334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060720" y="5227560"/>
              <a:ext cx="334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2" name=""/>
            <p:cNvGrpSpPr/>
            <p:nvPr/>
          </p:nvGrpSpPr>
          <p:grpSpPr>
            <a:xfrm>
              <a:off x="3060720" y="5356080"/>
              <a:ext cx="3346560" cy="130320"/>
              <a:chOff x="3060720" y="5356080"/>
              <a:chExt cx="3346560" cy="130320"/>
            </a:xfrm>
          </p:grpSpPr>
          <p:sp>
            <p:nvSpPr>
              <p:cNvPr id="1223" name=""/>
              <p:cNvSpPr/>
              <p:nvPr/>
            </p:nvSpPr>
            <p:spPr>
              <a:xfrm>
                <a:off x="3060720" y="5356080"/>
                <a:ext cx="334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3060720" y="5486400"/>
                <a:ext cx="334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5" name=""/>
            <p:cNvGrpSpPr/>
            <p:nvPr/>
          </p:nvGrpSpPr>
          <p:grpSpPr>
            <a:xfrm>
              <a:off x="3060720" y="5605200"/>
              <a:ext cx="3346560" cy="130320"/>
              <a:chOff x="3060720" y="5605200"/>
              <a:chExt cx="3346560" cy="130320"/>
            </a:xfrm>
          </p:grpSpPr>
          <p:sp>
            <p:nvSpPr>
              <p:cNvPr id="1226" name=""/>
              <p:cNvSpPr/>
              <p:nvPr/>
            </p:nvSpPr>
            <p:spPr>
              <a:xfrm>
                <a:off x="3060720" y="5605200"/>
                <a:ext cx="334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3060720" y="5735520"/>
                <a:ext cx="334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8" name=""/>
            <p:cNvSpPr/>
            <p:nvPr/>
          </p:nvSpPr>
          <p:spPr>
            <a:xfrm>
              <a:off x="3060720" y="5864040"/>
              <a:ext cx="334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060720" y="5994360"/>
              <a:ext cx="334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0" name=""/>
            <p:cNvGrpSpPr/>
            <p:nvPr/>
          </p:nvGrpSpPr>
          <p:grpSpPr>
            <a:xfrm>
              <a:off x="3771720" y="4917960"/>
              <a:ext cx="120960" cy="1554120"/>
              <a:chOff x="3771720" y="4917960"/>
              <a:chExt cx="120960" cy="1554120"/>
            </a:xfrm>
          </p:grpSpPr>
          <p:sp>
            <p:nvSpPr>
              <p:cNvPr id="1231" name=""/>
              <p:cNvSpPr/>
              <p:nvPr/>
            </p:nvSpPr>
            <p:spPr>
              <a:xfrm>
                <a:off x="377172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89268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3" name=""/>
            <p:cNvGrpSpPr/>
            <p:nvPr/>
          </p:nvGrpSpPr>
          <p:grpSpPr>
            <a:xfrm>
              <a:off x="3174840" y="4917960"/>
              <a:ext cx="119160" cy="1554120"/>
              <a:chOff x="3174840" y="4917960"/>
              <a:chExt cx="119160" cy="1554120"/>
            </a:xfrm>
          </p:grpSpPr>
          <p:sp>
            <p:nvSpPr>
              <p:cNvPr id="1234" name=""/>
              <p:cNvSpPr/>
              <p:nvPr/>
            </p:nvSpPr>
            <p:spPr>
              <a:xfrm>
                <a:off x="31748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29400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6" name=""/>
            <p:cNvGrpSpPr/>
            <p:nvPr/>
          </p:nvGrpSpPr>
          <p:grpSpPr>
            <a:xfrm>
              <a:off x="4071960" y="4917960"/>
              <a:ext cx="119160" cy="1554120"/>
              <a:chOff x="4071960" y="4917960"/>
              <a:chExt cx="119160" cy="1554120"/>
            </a:xfrm>
          </p:grpSpPr>
          <p:sp>
            <p:nvSpPr>
              <p:cNvPr id="1237" name=""/>
              <p:cNvSpPr/>
              <p:nvPr/>
            </p:nvSpPr>
            <p:spPr>
              <a:xfrm>
                <a:off x="407196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419112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9" name=""/>
            <p:cNvGrpSpPr/>
            <p:nvPr/>
          </p:nvGrpSpPr>
          <p:grpSpPr>
            <a:xfrm>
              <a:off x="4370400" y="4917960"/>
              <a:ext cx="119160" cy="1554120"/>
              <a:chOff x="4370400" y="4917960"/>
              <a:chExt cx="119160" cy="1554120"/>
            </a:xfrm>
          </p:grpSpPr>
          <p:sp>
            <p:nvSpPr>
              <p:cNvPr id="1240" name=""/>
              <p:cNvSpPr/>
              <p:nvPr/>
            </p:nvSpPr>
            <p:spPr>
              <a:xfrm>
                <a:off x="437040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48956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2" name=""/>
            <p:cNvGrpSpPr/>
            <p:nvPr/>
          </p:nvGrpSpPr>
          <p:grpSpPr>
            <a:xfrm>
              <a:off x="4967280" y="4917960"/>
              <a:ext cx="120600" cy="1554120"/>
              <a:chOff x="4967280" y="4917960"/>
              <a:chExt cx="120600" cy="1554120"/>
            </a:xfrm>
          </p:grpSpPr>
          <p:sp>
            <p:nvSpPr>
              <p:cNvPr id="1243" name=""/>
              <p:cNvSpPr/>
              <p:nvPr/>
            </p:nvSpPr>
            <p:spPr>
              <a:xfrm>
                <a:off x="496728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08788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5" name=""/>
            <p:cNvGrpSpPr/>
            <p:nvPr/>
          </p:nvGrpSpPr>
          <p:grpSpPr>
            <a:xfrm>
              <a:off x="5267160" y="4917960"/>
              <a:ext cx="119160" cy="1554120"/>
              <a:chOff x="5267160" y="4917960"/>
              <a:chExt cx="119160" cy="1554120"/>
            </a:xfrm>
          </p:grpSpPr>
          <p:sp>
            <p:nvSpPr>
              <p:cNvPr id="1246" name=""/>
              <p:cNvSpPr/>
              <p:nvPr/>
            </p:nvSpPr>
            <p:spPr>
              <a:xfrm>
                <a:off x="526716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38632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8" name=""/>
            <p:cNvGrpSpPr/>
            <p:nvPr/>
          </p:nvGrpSpPr>
          <p:grpSpPr>
            <a:xfrm>
              <a:off x="4668840" y="4917960"/>
              <a:ext cx="120600" cy="1554120"/>
              <a:chOff x="4668840" y="4917960"/>
              <a:chExt cx="120600" cy="1554120"/>
            </a:xfrm>
          </p:grpSpPr>
          <p:sp>
            <p:nvSpPr>
              <p:cNvPr id="1249" name=""/>
              <p:cNvSpPr/>
              <p:nvPr/>
            </p:nvSpPr>
            <p:spPr>
              <a:xfrm>
                <a:off x="46688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7894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1" name=""/>
            <p:cNvGrpSpPr/>
            <p:nvPr/>
          </p:nvGrpSpPr>
          <p:grpSpPr>
            <a:xfrm>
              <a:off x="5565600" y="4917960"/>
              <a:ext cx="119160" cy="1554120"/>
              <a:chOff x="5565600" y="4917960"/>
              <a:chExt cx="119160" cy="1554120"/>
            </a:xfrm>
          </p:grpSpPr>
          <p:sp>
            <p:nvSpPr>
              <p:cNvPr id="1252" name=""/>
              <p:cNvSpPr/>
              <p:nvPr/>
            </p:nvSpPr>
            <p:spPr>
              <a:xfrm>
                <a:off x="556560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568476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4" name=""/>
            <p:cNvGrpSpPr/>
            <p:nvPr/>
          </p:nvGrpSpPr>
          <p:grpSpPr>
            <a:xfrm>
              <a:off x="5864040" y="4917960"/>
              <a:ext cx="120960" cy="1554120"/>
              <a:chOff x="5864040" y="4917960"/>
              <a:chExt cx="120960" cy="1554120"/>
            </a:xfrm>
          </p:grpSpPr>
          <p:sp>
            <p:nvSpPr>
              <p:cNvPr id="1255" name=""/>
              <p:cNvSpPr/>
              <p:nvPr/>
            </p:nvSpPr>
            <p:spPr>
              <a:xfrm>
                <a:off x="58640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98500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7" name=""/>
            <p:cNvSpPr/>
            <p:nvPr/>
          </p:nvSpPr>
          <p:spPr>
            <a:xfrm flipH="1">
              <a:off x="3003120" y="6232320"/>
              <a:ext cx="177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102280" y="6232320"/>
              <a:ext cx="13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38600" y="6086520"/>
              <a:ext cx="60480" cy="586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759200" y="6205320"/>
              <a:ext cx="58680" cy="604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938840" y="6086520"/>
              <a:ext cx="58680" cy="586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057640" y="6205320"/>
              <a:ext cx="60480" cy="604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935440" y="6203880"/>
              <a:ext cx="60120" cy="58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4" name=""/>
            <p:cNvGrpSpPr/>
            <p:nvPr/>
          </p:nvGrpSpPr>
          <p:grpSpPr>
            <a:xfrm>
              <a:off x="6413400" y="5041440"/>
              <a:ext cx="132840" cy="131400"/>
              <a:chOff x="6413400" y="5041440"/>
              <a:chExt cx="132840" cy="131400"/>
            </a:xfrm>
          </p:grpSpPr>
          <p:sp>
            <p:nvSpPr>
              <p:cNvPr id="1265" name=""/>
              <p:cNvSpPr/>
              <p:nvPr/>
            </p:nvSpPr>
            <p:spPr>
              <a:xfrm>
                <a:off x="6418440" y="504684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418440" y="515736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V="1">
                <a:off x="6413400" y="5041440"/>
                <a:ext cx="0" cy="12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448320" y="5052960"/>
                <a:ext cx="9792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6447960" y="5042160"/>
                <a:ext cx="9828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0" name=""/>
            <p:cNvGrpSpPr/>
            <p:nvPr/>
          </p:nvGrpSpPr>
          <p:grpSpPr>
            <a:xfrm>
              <a:off x="6413400" y="5172120"/>
              <a:ext cx="132840" cy="129960"/>
              <a:chOff x="6413400" y="5172120"/>
              <a:chExt cx="132840" cy="129960"/>
            </a:xfrm>
          </p:grpSpPr>
          <p:sp>
            <p:nvSpPr>
              <p:cNvPr id="1271" name=""/>
              <p:cNvSpPr/>
              <p:nvPr/>
            </p:nvSpPr>
            <p:spPr>
              <a:xfrm>
                <a:off x="6418440" y="517680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418440" y="52765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V="1">
                <a:off x="6413400" y="517212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448320" y="518292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447960" y="517212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6" name=""/>
            <p:cNvGrpSpPr/>
            <p:nvPr/>
          </p:nvGrpSpPr>
          <p:grpSpPr>
            <a:xfrm>
              <a:off x="6413400" y="5302080"/>
              <a:ext cx="132840" cy="120240"/>
              <a:chOff x="6413400" y="5302080"/>
              <a:chExt cx="132840" cy="120240"/>
            </a:xfrm>
          </p:grpSpPr>
          <p:sp>
            <p:nvSpPr>
              <p:cNvPr id="1277" name=""/>
              <p:cNvSpPr/>
              <p:nvPr/>
            </p:nvSpPr>
            <p:spPr>
              <a:xfrm>
                <a:off x="6418440" y="53071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418440" y="540648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flipV="1">
                <a:off x="6413400" y="530208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48320" y="5313240"/>
                <a:ext cx="9792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47960" y="530208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2" name=""/>
            <p:cNvGrpSpPr/>
            <p:nvPr/>
          </p:nvGrpSpPr>
          <p:grpSpPr>
            <a:xfrm>
              <a:off x="6413400" y="5420880"/>
              <a:ext cx="132840" cy="130320"/>
              <a:chOff x="6413400" y="5420880"/>
              <a:chExt cx="132840" cy="130320"/>
            </a:xfrm>
          </p:grpSpPr>
          <p:sp>
            <p:nvSpPr>
              <p:cNvPr id="1283" name=""/>
              <p:cNvSpPr/>
              <p:nvPr/>
            </p:nvSpPr>
            <p:spPr>
              <a:xfrm>
                <a:off x="6418440" y="54259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6418440" y="553536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V="1">
                <a:off x="6413400" y="542088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6448320" y="543204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6447960" y="5420880"/>
                <a:ext cx="9828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8" name=""/>
            <p:cNvGrpSpPr/>
            <p:nvPr/>
          </p:nvGrpSpPr>
          <p:grpSpPr>
            <a:xfrm>
              <a:off x="6413400" y="5549400"/>
              <a:ext cx="132840" cy="131400"/>
              <a:chOff x="6413400" y="5549400"/>
              <a:chExt cx="132840" cy="131400"/>
            </a:xfrm>
          </p:grpSpPr>
          <p:sp>
            <p:nvSpPr>
              <p:cNvPr id="1289" name=""/>
              <p:cNvSpPr/>
              <p:nvPr/>
            </p:nvSpPr>
            <p:spPr>
              <a:xfrm>
                <a:off x="6418440" y="555480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6418440" y="56653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V="1">
                <a:off x="6413400" y="5549400"/>
                <a:ext cx="0" cy="12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6448320" y="5560920"/>
                <a:ext cx="9792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47960" y="5550120"/>
                <a:ext cx="9828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4" name=""/>
            <p:cNvGrpSpPr/>
            <p:nvPr/>
          </p:nvGrpSpPr>
          <p:grpSpPr>
            <a:xfrm>
              <a:off x="6413400" y="5680080"/>
              <a:ext cx="132840" cy="119880"/>
              <a:chOff x="6413400" y="5680080"/>
              <a:chExt cx="132840" cy="119880"/>
            </a:xfrm>
          </p:grpSpPr>
          <p:sp>
            <p:nvSpPr>
              <p:cNvPr id="1295" name=""/>
              <p:cNvSpPr/>
              <p:nvPr/>
            </p:nvSpPr>
            <p:spPr>
              <a:xfrm>
                <a:off x="6418440" y="568476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418440" y="578448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V="1">
                <a:off x="6413400" y="568008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6448320" y="5690880"/>
                <a:ext cx="9792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6447960" y="568008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0" name=""/>
            <p:cNvSpPr/>
            <p:nvPr/>
          </p:nvSpPr>
          <p:spPr>
            <a:xfrm flipH="1">
              <a:off x="6642000" y="6173640"/>
              <a:ext cx="12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1" name=""/>
            <p:cNvGrpSpPr/>
            <p:nvPr/>
          </p:nvGrpSpPr>
          <p:grpSpPr>
            <a:xfrm>
              <a:off x="6413400" y="5798880"/>
              <a:ext cx="132840" cy="131040"/>
              <a:chOff x="6413400" y="5798880"/>
              <a:chExt cx="132840" cy="131040"/>
            </a:xfrm>
          </p:grpSpPr>
          <p:sp>
            <p:nvSpPr>
              <p:cNvPr id="1302" name=""/>
              <p:cNvSpPr/>
              <p:nvPr/>
            </p:nvSpPr>
            <p:spPr>
              <a:xfrm>
                <a:off x="6418440" y="58039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18440" y="591480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V="1">
                <a:off x="6413400" y="5798880"/>
                <a:ext cx="0" cy="12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6448320" y="5810040"/>
                <a:ext cx="9792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447960" y="5799240"/>
                <a:ext cx="9828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7" name=""/>
            <p:cNvGrpSpPr/>
            <p:nvPr/>
          </p:nvGrpSpPr>
          <p:grpSpPr>
            <a:xfrm>
              <a:off x="6413400" y="5928840"/>
              <a:ext cx="132840" cy="130320"/>
              <a:chOff x="6413400" y="5928840"/>
              <a:chExt cx="132840" cy="130320"/>
            </a:xfrm>
          </p:grpSpPr>
          <p:sp>
            <p:nvSpPr>
              <p:cNvPr id="1308" name=""/>
              <p:cNvSpPr/>
              <p:nvPr/>
            </p:nvSpPr>
            <p:spPr>
              <a:xfrm>
                <a:off x="6418440" y="593388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418440" y="60433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flipV="1">
                <a:off x="6413400" y="592884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6448320" y="594000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447960" y="5928840"/>
                <a:ext cx="9828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3" name=""/>
            <p:cNvSpPr/>
            <p:nvPr/>
          </p:nvSpPr>
          <p:spPr>
            <a:xfrm>
              <a:off x="6227640" y="5411520"/>
              <a:ext cx="866520" cy="2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228000" y="5422680"/>
              <a:ext cx="866160" cy="2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596280" y="5422680"/>
              <a:ext cx="12960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595920" y="5411520"/>
              <a:ext cx="129960" cy="2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661080" y="5102280"/>
              <a:ext cx="0" cy="30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V="1">
              <a:off x="6661080" y="568908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546960" y="5605200"/>
              <a:ext cx="16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546960" y="50972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546960" y="535608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546960" y="54864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546960" y="58640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546960" y="599436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546960" y="522756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546960" y="573552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120080" y="5575320"/>
              <a:ext cx="29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299360" y="575460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718400" y="557532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99360" y="4917960"/>
              <a:ext cx="0" cy="155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897680" y="5575320"/>
              <a:ext cx="0" cy="59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2" name=""/>
            <p:cNvGrpSpPr/>
            <p:nvPr/>
          </p:nvGrpSpPr>
          <p:grpSpPr>
            <a:xfrm>
              <a:off x="7418520" y="5456160"/>
              <a:ext cx="293400" cy="358920"/>
              <a:chOff x="7418520" y="5456160"/>
              <a:chExt cx="293400" cy="358920"/>
            </a:xfrm>
          </p:grpSpPr>
          <p:sp>
            <p:nvSpPr>
              <p:cNvPr id="1333" name=""/>
              <p:cNvSpPr/>
              <p:nvPr/>
            </p:nvSpPr>
            <p:spPr>
              <a:xfrm>
                <a:off x="7439760" y="5492520"/>
                <a:ext cx="1461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7544520" y="5492520"/>
                <a:ext cx="15372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7418520" y="5456160"/>
                <a:ext cx="293400" cy="3589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7418520" y="5707080"/>
                <a:ext cx="83520" cy="36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H="1">
                <a:off x="7418520" y="5743440"/>
                <a:ext cx="83520" cy="3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8" name=""/>
            <p:cNvSpPr/>
            <p:nvPr/>
          </p:nvSpPr>
          <p:spPr>
            <a:xfrm flipH="1" flipV="1">
              <a:off x="2890440" y="6113520"/>
              <a:ext cx="17859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816280" y="6053040"/>
              <a:ext cx="17928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H="1">
              <a:off x="2816280" y="6173640"/>
              <a:ext cx="17928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V="1">
              <a:off x="2816280" y="605304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>
              <a:off x="2576520" y="61736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H="1">
              <a:off x="6470640" y="6053040"/>
              <a:ext cx="17928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470640" y="6173640"/>
              <a:ext cx="17928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V="1">
              <a:off x="6642000" y="606096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>
              <a:off x="6484320" y="6203880"/>
              <a:ext cx="60120" cy="58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269120" y="5724360"/>
              <a:ext cx="60480" cy="604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194600" y="5545080"/>
              <a:ext cx="60120" cy="6012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V="1">
              <a:off x="7224840" y="524628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224840" y="5246640"/>
              <a:ext cx="74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rot="16200000">
              <a:off x="7762680" y="5351040"/>
              <a:ext cx="544680" cy="119160"/>
            </a:xfrm>
            <a:custGeom>
              <a:avLst/>
              <a:gdLst>
                <a:gd name="textAreaLeft" fmla="*/ 91080 w 544680"/>
                <a:gd name="textAreaRight" fmla="*/ 453600 w 544680"/>
                <a:gd name="textAreaTop" fmla="*/ 19800 h 119160"/>
                <a:gd name="textAreaBottom" fmla="*/ 99360 h 11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247" y="21600"/>
                  </a:lnTo>
                  <a:lnTo>
                    <a:pt x="3353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8099280" y="540360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V="1">
              <a:off x="8039160" y="563544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994520" y="5837040"/>
              <a:ext cx="88920" cy="88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975200" y="6116400"/>
              <a:ext cx="156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391960" y="2386080"/>
              <a:ext cx="424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384040" y="3841560"/>
              <a:ext cx="424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8372160" y="5286240"/>
              <a:ext cx="642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988040" y="5925960"/>
              <a:ext cx="49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984800" y="4471920"/>
              <a:ext cx="49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8002080" y="3030480"/>
              <a:ext cx="49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117560" y="1814400"/>
              <a:ext cx="498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265480" y="3162240"/>
              <a:ext cx="319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267640" y="4606920"/>
              <a:ext cx="313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943640" y="6072120"/>
              <a:ext cx="645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724280" y="357984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4718160" y="357984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724280" y="370980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>
              <a:off x="4718160" y="370836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724280" y="384012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H="1">
              <a:off x="4718160" y="383832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724280" y="213048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>
              <a:off x="4718160" y="2128680"/>
              <a:ext cx="13464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724280" y="226044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4718160" y="225900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724280" y="238896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H="1">
              <a:off x="4718160" y="238896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724280" y="251928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H="1">
              <a:off x="4718160" y="251784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305240" y="3579840"/>
              <a:ext cx="1303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>
              <a:off x="4298760" y="3579840"/>
              <a:ext cx="1368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006800" y="370980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H="1">
              <a:off x="3999960" y="370836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708360" y="384012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3701520" y="383832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408480" y="3840120"/>
              <a:ext cx="12996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H="1">
              <a:off x="3401640" y="3838320"/>
              <a:ext cx="1364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827520" y="213048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H="1">
              <a:off x="3820680" y="2128680"/>
              <a:ext cx="13500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408480" y="2135160"/>
              <a:ext cx="12996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H="1">
              <a:off x="3401640" y="2135160"/>
              <a:ext cx="1364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708360" y="226044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H="1">
              <a:off x="3701520" y="225900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529080" y="226044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H="1">
              <a:off x="3522240" y="225900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305240" y="2388960"/>
              <a:ext cx="1303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H="1">
              <a:off x="4298760" y="2388960"/>
              <a:ext cx="1368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408480" y="2388960"/>
              <a:ext cx="12996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3401640" y="2388960"/>
              <a:ext cx="1364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305240" y="2519280"/>
              <a:ext cx="1303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H="1">
              <a:off x="4298760" y="2517840"/>
              <a:ext cx="1368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006800" y="251928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3999960" y="251784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4" name=""/>
            <p:cNvGrpSpPr/>
            <p:nvPr/>
          </p:nvGrpSpPr>
          <p:grpSpPr>
            <a:xfrm>
              <a:off x="4717800" y="5029200"/>
              <a:ext cx="136440" cy="133200"/>
              <a:chOff x="4717800" y="5029200"/>
              <a:chExt cx="136440" cy="133200"/>
            </a:xfrm>
          </p:grpSpPr>
          <p:sp>
            <p:nvSpPr>
              <p:cNvPr id="1405" name=""/>
              <p:cNvSpPr/>
              <p:nvPr/>
            </p:nvSpPr>
            <p:spPr>
              <a:xfrm>
                <a:off x="4724280" y="503064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H="1">
                <a:off x="4717800" y="502920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7" name=""/>
            <p:cNvGrpSpPr/>
            <p:nvPr/>
          </p:nvGrpSpPr>
          <p:grpSpPr>
            <a:xfrm>
              <a:off x="4717800" y="5162400"/>
              <a:ext cx="136440" cy="133200"/>
              <a:chOff x="4717800" y="5162400"/>
              <a:chExt cx="136440" cy="133200"/>
            </a:xfrm>
          </p:grpSpPr>
          <p:sp>
            <p:nvSpPr>
              <p:cNvPr id="1408" name=""/>
              <p:cNvSpPr/>
              <p:nvPr/>
            </p:nvSpPr>
            <p:spPr>
              <a:xfrm>
                <a:off x="4724280" y="516384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flipH="1">
                <a:off x="4717800" y="516240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0" name=""/>
            <p:cNvGrpSpPr/>
            <p:nvPr/>
          </p:nvGrpSpPr>
          <p:grpSpPr>
            <a:xfrm>
              <a:off x="4717800" y="5295960"/>
              <a:ext cx="136440" cy="133200"/>
              <a:chOff x="4717800" y="5295960"/>
              <a:chExt cx="136440" cy="133200"/>
            </a:xfrm>
          </p:grpSpPr>
          <p:sp>
            <p:nvSpPr>
              <p:cNvPr id="1411" name=""/>
              <p:cNvSpPr/>
              <p:nvPr/>
            </p:nvSpPr>
            <p:spPr>
              <a:xfrm>
                <a:off x="4724280" y="52974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H="1">
                <a:off x="4717800" y="52959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3" name=""/>
            <p:cNvGrpSpPr/>
            <p:nvPr/>
          </p:nvGrpSpPr>
          <p:grpSpPr>
            <a:xfrm>
              <a:off x="4717800" y="5416560"/>
              <a:ext cx="136440" cy="133200"/>
              <a:chOff x="4717800" y="5416560"/>
              <a:chExt cx="136440" cy="133200"/>
            </a:xfrm>
          </p:grpSpPr>
          <p:sp>
            <p:nvSpPr>
              <p:cNvPr id="1414" name=""/>
              <p:cNvSpPr/>
              <p:nvPr/>
            </p:nvSpPr>
            <p:spPr>
              <a:xfrm>
                <a:off x="4724280" y="54180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flipH="1">
                <a:off x="4717800" y="54165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6" name=""/>
            <p:cNvGrpSpPr/>
            <p:nvPr/>
          </p:nvGrpSpPr>
          <p:grpSpPr>
            <a:xfrm>
              <a:off x="4717800" y="5537160"/>
              <a:ext cx="136440" cy="133200"/>
              <a:chOff x="4717800" y="5537160"/>
              <a:chExt cx="136440" cy="133200"/>
            </a:xfrm>
          </p:grpSpPr>
          <p:sp>
            <p:nvSpPr>
              <p:cNvPr id="1417" name=""/>
              <p:cNvSpPr/>
              <p:nvPr/>
            </p:nvSpPr>
            <p:spPr>
              <a:xfrm>
                <a:off x="4724280" y="55386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H="1">
                <a:off x="4717800" y="55371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9" name=""/>
            <p:cNvGrpSpPr/>
            <p:nvPr/>
          </p:nvGrpSpPr>
          <p:grpSpPr>
            <a:xfrm>
              <a:off x="4298760" y="5029200"/>
              <a:ext cx="136800" cy="133200"/>
              <a:chOff x="4298760" y="5029200"/>
              <a:chExt cx="136800" cy="133200"/>
            </a:xfrm>
          </p:grpSpPr>
          <p:sp>
            <p:nvSpPr>
              <p:cNvPr id="1420" name=""/>
              <p:cNvSpPr/>
              <p:nvPr/>
            </p:nvSpPr>
            <p:spPr>
              <a:xfrm>
                <a:off x="4305240" y="503064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flipH="1">
                <a:off x="4298760" y="502920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2" name=""/>
            <p:cNvGrpSpPr/>
            <p:nvPr/>
          </p:nvGrpSpPr>
          <p:grpSpPr>
            <a:xfrm>
              <a:off x="3701880" y="5029200"/>
              <a:ext cx="136800" cy="133200"/>
              <a:chOff x="3701880" y="5029200"/>
              <a:chExt cx="136800" cy="133200"/>
            </a:xfrm>
          </p:grpSpPr>
          <p:sp>
            <p:nvSpPr>
              <p:cNvPr id="1423" name=""/>
              <p:cNvSpPr/>
              <p:nvPr/>
            </p:nvSpPr>
            <p:spPr>
              <a:xfrm>
                <a:off x="3708360" y="503064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flipH="1">
                <a:off x="3701880" y="502920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5" name=""/>
            <p:cNvGrpSpPr/>
            <p:nvPr/>
          </p:nvGrpSpPr>
          <p:grpSpPr>
            <a:xfrm>
              <a:off x="3517560" y="5029200"/>
              <a:ext cx="136440" cy="133200"/>
              <a:chOff x="3517560" y="5029200"/>
              <a:chExt cx="136440" cy="133200"/>
            </a:xfrm>
          </p:grpSpPr>
          <p:sp>
            <p:nvSpPr>
              <p:cNvPr id="1426" name=""/>
              <p:cNvSpPr/>
              <p:nvPr/>
            </p:nvSpPr>
            <p:spPr>
              <a:xfrm>
                <a:off x="3524040" y="503064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 flipH="1">
                <a:off x="3517560" y="502920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8" name=""/>
            <p:cNvGrpSpPr/>
            <p:nvPr/>
          </p:nvGrpSpPr>
          <p:grpSpPr>
            <a:xfrm>
              <a:off x="4298760" y="5162400"/>
              <a:ext cx="136800" cy="133200"/>
              <a:chOff x="4298760" y="5162400"/>
              <a:chExt cx="136800" cy="133200"/>
            </a:xfrm>
          </p:grpSpPr>
          <p:sp>
            <p:nvSpPr>
              <p:cNvPr id="1429" name=""/>
              <p:cNvSpPr/>
              <p:nvPr/>
            </p:nvSpPr>
            <p:spPr>
              <a:xfrm>
                <a:off x="4305240" y="516384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H="1">
                <a:off x="4298760" y="516240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1" name=""/>
            <p:cNvGrpSpPr/>
            <p:nvPr/>
          </p:nvGrpSpPr>
          <p:grpSpPr>
            <a:xfrm>
              <a:off x="3403440" y="5162400"/>
              <a:ext cx="136800" cy="133200"/>
              <a:chOff x="3403440" y="5162400"/>
              <a:chExt cx="136800" cy="133200"/>
            </a:xfrm>
          </p:grpSpPr>
          <p:sp>
            <p:nvSpPr>
              <p:cNvPr id="1432" name=""/>
              <p:cNvSpPr/>
              <p:nvPr/>
            </p:nvSpPr>
            <p:spPr>
              <a:xfrm>
                <a:off x="3409920" y="516384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flipH="1">
                <a:off x="3403440" y="516240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4" name=""/>
            <p:cNvGrpSpPr/>
            <p:nvPr/>
          </p:nvGrpSpPr>
          <p:grpSpPr>
            <a:xfrm>
              <a:off x="4012920" y="5302080"/>
              <a:ext cx="136440" cy="133200"/>
              <a:chOff x="4012920" y="5302080"/>
              <a:chExt cx="136440" cy="133200"/>
            </a:xfrm>
          </p:grpSpPr>
          <p:sp>
            <p:nvSpPr>
              <p:cNvPr id="1435" name=""/>
              <p:cNvSpPr/>
              <p:nvPr/>
            </p:nvSpPr>
            <p:spPr>
              <a:xfrm>
                <a:off x="4019400" y="530352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flipH="1">
                <a:off x="4012920" y="530208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7" name=""/>
            <p:cNvGrpSpPr/>
            <p:nvPr/>
          </p:nvGrpSpPr>
          <p:grpSpPr>
            <a:xfrm>
              <a:off x="4298760" y="5295960"/>
              <a:ext cx="136800" cy="133200"/>
              <a:chOff x="4298760" y="5295960"/>
              <a:chExt cx="136800" cy="133200"/>
            </a:xfrm>
          </p:grpSpPr>
          <p:sp>
            <p:nvSpPr>
              <p:cNvPr id="1438" name=""/>
              <p:cNvSpPr/>
              <p:nvPr/>
            </p:nvSpPr>
            <p:spPr>
              <a:xfrm>
                <a:off x="4305240" y="529740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flipH="1">
                <a:off x="4298760" y="529596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0" name=""/>
            <p:cNvGrpSpPr/>
            <p:nvPr/>
          </p:nvGrpSpPr>
          <p:grpSpPr>
            <a:xfrm>
              <a:off x="3822480" y="5416560"/>
              <a:ext cx="136440" cy="133200"/>
              <a:chOff x="3822480" y="5416560"/>
              <a:chExt cx="136440" cy="133200"/>
            </a:xfrm>
          </p:grpSpPr>
          <p:sp>
            <p:nvSpPr>
              <p:cNvPr id="1441" name=""/>
              <p:cNvSpPr/>
              <p:nvPr/>
            </p:nvSpPr>
            <p:spPr>
              <a:xfrm>
                <a:off x="3828960" y="54180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flipH="1">
                <a:off x="3822480" y="54165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3" name=""/>
            <p:cNvGrpSpPr/>
            <p:nvPr/>
          </p:nvGrpSpPr>
          <p:grpSpPr>
            <a:xfrm>
              <a:off x="3403440" y="5416560"/>
              <a:ext cx="136800" cy="133200"/>
              <a:chOff x="3403440" y="5416560"/>
              <a:chExt cx="136800" cy="133200"/>
            </a:xfrm>
          </p:grpSpPr>
          <p:sp>
            <p:nvSpPr>
              <p:cNvPr id="1444" name=""/>
              <p:cNvSpPr/>
              <p:nvPr/>
            </p:nvSpPr>
            <p:spPr>
              <a:xfrm>
                <a:off x="3409920" y="541800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 flipH="1">
                <a:off x="3403440" y="541656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6" name=""/>
            <p:cNvGrpSpPr/>
            <p:nvPr/>
          </p:nvGrpSpPr>
          <p:grpSpPr>
            <a:xfrm>
              <a:off x="4000320" y="5422680"/>
              <a:ext cx="136800" cy="133200"/>
              <a:chOff x="4000320" y="5422680"/>
              <a:chExt cx="136800" cy="133200"/>
            </a:xfrm>
          </p:grpSpPr>
          <p:sp>
            <p:nvSpPr>
              <p:cNvPr id="1447" name=""/>
              <p:cNvSpPr/>
              <p:nvPr/>
            </p:nvSpPr>
            <p:spPr>
              <a:xfrm>
                <a:off x="4006800" y="542412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flipH="1">
                <a:off x="4000320" y="542268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9" name=""/>
            <p:cNvGrpSpPr/>
            <p:nvPr/>
          </p:nvGrpSpPr>
          <p:grpSpPr>
            <a:xfrm>
              <a:off x="3701880" y="5543280"/>
              <a:ext cx="136800" cy="133200"/>
              <a:chOff x="3701880" y="5543280"/>
              <a:chExt cx="136800" cy="133200"/>
            </a:xfrm>
          </p:grpSpPr>
          <p:sp>
            <p:nvSpPr>
              <p:cNvPr id="1450" name=""/>
              <p:cNvSpPr/>
              <p:nvPr/>
            </p:nvSpPr>
            <p:spPr>
              <a:xfrm>
                <a:off x="3708360" y="554472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flipH="1">
                <a:off x="3701880" y="554328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2" name=""/>
            <p:cNvGrpSpPr/>
            <p:nvPr/>
          </p:nvGrpSpPr>
          <p:grpSpPr>
            <a:xfrm>
              <a:off x="3517560" y="5537160"/>
              <a:ext cx="136440" cy="133200"/>
              <a:chOff x="3517560" y="5537160"/>
              <a:chExt cx="136440" cy="133200"/>
            </a:xfrm>
          </p:grpSpPr>
          <p:sp>
            <p:nvSpPr>
              <p:cNvPr id="1453" name=""/>
              <p:cNvSpPr/>
              <p:nvPr/>
            </p:nvSpPr>
            <p:spPr>
              <a:xfrm>
                <a:off x="3524040" y="55386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flipH="1">
                <a:off x="3517560" y="55371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5" name=""/>
            <p:cNvGrpSpPr/>
            <p:nvPr/>
          </p:nvGrpSpPr>
          <p:grpSpPr>
            <a:xfrm>
              <a:off x="4000320" y="5537160"/>
              <a:ext cx="136800" cy="133200"/>
              <a:chOff x="4000320" y="5537160"/>
              <a:chExt cx="136800" cy="133200"/>
            </a:xfrm>
          </p:grpSpPr>
          <p:sp>
            <p:nvSpPr>
              <p:cNvPr id="1456" name=""/>
              <p:cNvSpPr/>
              <p:nvPr/>
            </p:nvSpPr>
            <p:spPr>
              <a:xfrm>
                <a:off x="4006800" y="553860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flipH="1">
                <a:off x="4000320" y="553716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343D-88F2-444C-B9E5-F0E512CC3E9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22V10 P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al logic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ments (So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tial logic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ments (D-FF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 to 10 out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 to 10 F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 to 22 in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0" name="" descr=""/>
          <p:cNvPicPr/>
          <p:nvPr/>
        </p:nvPicPr>
        <p:blipFill>
          <a:blip r:embed="rId1"/>
          <a:stretch/>
        </p:blipFill>
        <p:spPr>
          <a:xfrm>
            <a:off x="3706920" y="385920"/>
            <a:ext cx="5257800" cy="628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6FE3-3124-425C-B55B-37FE516ACB9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2:03:47Z</dcterms:created>
  <dc:creator>Gaetano Borriello</dc:creator>
  <dc:description/>
  <dc:language>en-US</dc:language>
  <cp:lastModifiedBy>Gaetano Borriello</cp:lastModifiedBy>
  <cp:lastPrinted>2000-05-11T19:00:15Z</cp:lastPrinted>
  <dcterms:modified xsi:type="dcterms:W3CDTF">2005-01-24T07:01:51Z</dcterms:modified>
  <cp:revision>36</cp:revision>
  <dc:subject/>
  <dc:title>Sequential logic imple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