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F3A-4E74-49A4-9BF4-6D499F64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C37-66F0-46E0-834B-76F0614F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F77-6824-42EA-9D1F-D06EEF8E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F27-3E63-4069-981E-ADEDB8BD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F071-42B4-480B-86C0-DC760A71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17DA-42F0-4461-B34F-20F729E3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E929-6AB5-4EC5-B8BF-6D011554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8B99-76F4-41C4-A935-BFB33FBC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CCBC-39CA-4FFF-8B96-403DA4EB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A827-1378-43E1-A263-165B48F8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5A5C-9710-486A-8E30-DE58300F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1E5-CCA4-4D39-AD03-C123C44A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318F-EEAA-4D5E-A732-D410A043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D695-1622-4BBC-8F38-9FF6D13C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92FB-3170-4D11-A7D3-E1470AE1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994D-FBB3-4928-9B65-34A0A79C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26C7-E778-486F-A6B7-2BBDC58A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D46-1494-45DF-AB75-1DA02C33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E99-50C4-489D-B94B-81DDFA47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2D4-25E8-48F9-8403-1D8BB004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94E-2419-4AF9-AB6B-32B1F268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9F2-4AFD-4BC5-886F-54944C29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6C1-7180-4B01-A00B-260B2C1C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8EC-0BDC-4DAF-9A88-6690BA86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141DE01-504B-4CE3-A814-997F1E0CCC5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7729D28-2214-4D5A-90E1-244B07D460D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opt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states require fewer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bits require fewer log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s: state, inputs,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fewer bits has fewer equations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ch may be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more bits (e.g., one-hot) has simpler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directly related to complexity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/output encoding may or may not be under design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179-A041-487B-A52A-129DA8B7B87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implementation of edge dete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Ad hoc" solution - not minimal but cheap and 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90720" y="2286000"/>
            <a:ext cx="2971800" cy="3611880"/>
            <a:chOff x="990720" y="2286000"/>
            <a:chExt cx="2971800" cy="3611880"/>
          </a:xfrm>
        </p:grpSpPr>
        <p:sp>
          <p:nvSpPr>
            <p:cNvPr id="370" name=""/>
            <p:cNvSpPr/>
            <p:nvPr/>
          </p:nvSpPr>
          <p:spPr>
            <a:xfrm>
              <a:off x="2209680" y="28195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3809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3"/>
              <a:endCxn id="371" idx="5"/>
            </p:cNvCxnSpPr>
            <p:nvPr/>
          </p:nvCxnSpPr>
          <p:spPr>
            <a:xfrm rot="5400000">
              <a:off x="2475000" y="3236040"/>
              <a:ext cx="2160" cy="2061360"/>
            </a:xfrm>
            <a:prstGeom prst="curvedConnector5">
              <a:avLst>
                <a:gd name="adj1" fmla="val 19300000"/>
                <a:gd name="adj2" fmla="val 49991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71" idx="0"/>
              <a:endCxn id="370" idx="2"/>
            </p:cNvCxnSpPr>
            <p:nvPr/>
          </p:nvCxnSpPr>
          <p:spPr>
            <a:xfrm flipH="1" flipV="1" rot="5400000">
              <a:off x="1371240" y="2971440"/>
              <a:ext cx="724320" cy="9529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stCxn id="370" idx="6"/>
              <a:endCxn id="372" idx="0"/>
            </p:cNvCxnSpPr>
            <p:nvPr/>
          </p:nvCxnSpPr>
          <p:spPr>
            <a:xfrm>
              <a:off x="2743200" y="3086280"/>
              <a:ext cx="953280" cy="7243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"/>
            <p:cNvCxnSpPr>
              <a:stCxn id="370" idx="7"/>
              <a:endCxn id="370" idx="1"/>
            </p:cNvCxnSpPr>
            <p:nvPr/>
          </p:nvCxnSpPr>
          <p:spPr>
            <a:xfrm rot="5400000">
              <a:off x="2475000" y="27090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7" name=""/>
            <p:cNvSpPr/>
            <p:nvPr/>
          </p:nvSpPr>
          <p:spPr>
            <a:xfrm>
              <a:off x="122256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52320" y="30481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89240" y="22860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1960" y="358128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1960" y="55627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320" y="48006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1" idx="7"/>
              <a:endCxn id="372" idx="1"/>
            </p:cNvCxnSpPr>
            <p:nvPr/>
          </p:nvCxnSpPr>
          <p:spPr>
            <a:xfrm flipH="1" rot="16200000">
              <a:off x="2475360" y="2856960"/>
              <a:ext cx="2520" cy="2061360"/>
            </a:xfrm>
            <a:prstGeom prst="curvedConnector5">
              <a:avLst>
                <a:gd name="adj1" fmla="val -19300000"/>
                <a:gd name="adj2" fmla="val 49991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4" name=""/>
            <p:cNvSpPr/>
            <p:nvPr/>
          </p:nvSpPr>
          <p:spPr>
            <a:xfrm>
              <a:off x="2209680" y="48006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2"/>
              <a:endCxn id="371" idx="4"/>
            </p:cNvCxnSpPr>
            <p:nvPr/>
          </p:nvCxnSpPr>
          <p:spPr>
            <a:xfrm rot="10800000">
              <a:off x="1256760" y="4342680"/>
              <a:ext cx="952920" cy="724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72" idx="4"/>
              <a:endCxn id="384" idx="6"/>
            </p:cNvCxnSpPr>
            <p:nvPr/>
          </p:nvCxnSpPr>
          <p:spPr>
            <a:xfrm rot="5400000">
              <a:off x="2856960" y="4228920"/>
              <a:ext cx="724680" cy="953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84" idx="3"/>
              <a:endCxn id="384" idx="5"/>
            </p:cNvCxnSpPr>
            <p:nvPr/>
          </p:nvCxnSpPr>
          <p:spPr>
            <a:xfrm flipH="1" rot="16200000">
              <a:off x="2475720" y="506772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2365560" y="426708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8520" y="48006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41000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82A-E07F-4AA4-8686-186C64F2A5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bit vectors to assign to each “symbolic”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n state bits for m states there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/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)!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log n &lt;=  m &lt;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s possible for 1st state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 for 2nd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2 for 3rd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number even for small values of n and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ctable for state machines of an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uristics are necessary for practic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some metric for the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 (amount of logic and number of F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(depth of logic and fano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es (decompos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828-0B9D-4615-9943-C750336958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 strate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 – just number states as they appear in th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– pick random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– use as many state bits as there are states (bit=1 –&gt;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– use outputs to help encod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– rules of thumb that seem to work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uarantee of optimality – another intractabl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B31-2F39-40E5-BBA4-3DB4348A8C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ne-hot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function requires only predecessor state bits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programmab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s of flip-flops readi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unctions with small support (signals its dependent up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 for larg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any states require too many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FSMs into smaller pieces that can be one-hot en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light variations to one-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+ all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C21-F08A-41BF-94A6-C787BF89BD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879560" y="2286000"/>
            <a:ext cx="256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7880" y="388620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419112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79560" y="538488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4230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52480" y="572760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9720" y="243828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i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 *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3962520"/>
            <a:ext cx="153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k *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548640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 = i  * a +  i  *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= i *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58000" y="1998720"/>
            <a:ext cx="2031480" cy="1155240"/>
            <a:chOff x="6858000" y="1998720"/>
            <a:chExt cx="2031480" cy="1155240"/>
          </a:xfrm>
        </p:grpSpPr>
        <p:sp>
          <p:nvSpPr>
            <p:cNvPr id="410" name=""/>
            <p:cNvSpPr/>
            <p:nvPr/>
          </p:nvSpPr>
          <p:spPr>
            <a:xfrm>
              <a:off x="70801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945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37320" y="27032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867080" y="2360520"/>
              <a:ext cx="24084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08720" y="2360520"/>
              <a:ext cx="21528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0" y="239220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76960" y="2442960"/>
              <a:ext cx="81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7000" y="19987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8800" y="2023920"/>
              <a:ext cx="55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4200" y="26971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89680" y="3581280"/>
            <a:ext cx="1966680" cy="1143000"/>
            <a:chOff x="6889680" y="3581280"/>
            <a:chExt cx="1966680" cy="1143000"/>
          </a:xfrm>
        </p:grpSpPr>
        <p:sp>
          <p:nvSpPr>
            <p:cNvPr id="421" name=""/>
            <p:cNvSpPr/>
            <p:nvPr/>
          </p:nvSpPr>
          <p:spPr>
            <a:xfrm>
              <a:off x="707328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96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30120" y="35877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88920" y="3816360"/>
              <a:ext cx="2408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73200" y="3816360"/>
              <a:ext cx="215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74760" y="35812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1792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160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89680" y="380988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44200" y="3860640"/>
              <a:ext cx="81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k /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648480" y="5207040"/>
            <a:ext cx="2622600" cy="1168200"/>
            <a:chOff x="6648480" y="5207040"/>
            <a:chExt cx="2622600" cy="1168200"/>
          </a:xfrm>
        </p:grpSpPr>
        <p:sp>
          <p:nvSpPr>
            <p:cNvPr id="432" name=""/>
            <p:cNvSpPr/>
            <p:nvPr/>
          </p:nvSpPr>
          <p:spPr>
            <a:xfrm>
              <a:off x="716292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9636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056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84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912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772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200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28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12160" y="553716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18320" y="5207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77320" y="52322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1560" y="549900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euristics for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45600" cy="4862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nex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ancestor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have a common outpu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outpu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446-DE84-443D-82EF-9F8890DA87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approach to heuristic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667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urrent methods are variants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determine which states “attract” each other (weighted p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generate constraints on codes (which should be in same c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place codes on Boolean cube so as to maximize constraints satis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ighted 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weights make sense depending on whether we are optimizing for two-level or multi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consider all possible embeddings of state clusters in Boolean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s for ordering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une search for best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cube (more state bits) to satisfy mor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54B-4646-46F4-A276-817366B2F9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utput-based 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320" y="148752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outputs as state bits - use outputs to help distinguish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create new functions for state bits when output can serve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s in nicely with synchronous Mealy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1000" y="5529240"/>
            <a:ext cx="4127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ST’ H1’ H0’ F1 F0’ + ST H1 H0’ F1’ F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’ H0’ F1 F0’ + ST’ H1’ H0 F1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ST H1’ H0 F1 F0’ + ST’ H1 H0’ F1’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 H0’ F1’ F0’ + ST’ H1 H0’ F1’ F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37160" y="5521320"/>
            <a:ext cx="43513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patterns are unique to states, we do n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 ANY state bits – implement 5 fun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 for each output) instead of 7 (outputs pl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state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0440" y="2665440"/>
            <a:ext cx="8489880" cy="2978280"/>
            <a:chOff x="460440" y="2665440"/>
            <a:chExt cx="8489880" cy="2978280"/>
          </a:xfrm>
        </p:grpSpPr>
        <p:sp>
          <p:nvSpPr>
            <p:cNvPr id="453" name=""/>
            <p:cNvSpPr/>
            <p:nvPr/>
          </p:nvSpPr>
          <p:spPr>
            <a:xfrm>
              <a:off x="555480" y="270972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0440" y="316692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08520" y="267804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4080" y="267804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66760" y="266544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93C-C358-49D0-AE86-E852F11B57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urrent state assignment approa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ight encodings using close to the minimum number of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of 10 random seems to be adequate (averages as well as heuris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approaches are not even close to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ustom chip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for small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small equations with easy to estimat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FPGAs and other programmabl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-based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hoc - no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approach taken by human des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very small circuits for most F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10D-F162-4B49-BC03-005A2FE939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optimiz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forward in fully-specified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ly intractable, in general (with don’t c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-of-10-random just as good or better for most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encoding can be attractive (especially for PAL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3EA-D398-4B7A-9BC4-954C4C424E6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ic approach to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identify and combine states that have equivalen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input combinations, states transition to same or equival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lace all states in on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itially partition set based on outp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uccessively partition resulting subsets based on next state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epeat (3) until no further partitioning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left in the same set are 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nomial tim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63E-7FCD-4809-BC31-3680CA611C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479680" y="2303640"/>
            <a:ext cx="6343200" cy="2158920"/>
            <a:chOff x="2479680" y="2303640"/>
            <a:chExt cx="6343200" cy="2158920"/>
          </a:xfrm>
        </p:grpSpPr>
        <p:sp>
          <p:nvSpPr>
            <p:cNvPr id="89" name=""/>
            <p:cNvSpPr/>
            <p:nvPr/>
          </p:nvSpPr>
          <p:spPr>
            <a:xfrm>
              <a:off x="2600280" y="2303640"/>
              <a:ext cx="62226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92280" y="2836800"/>
              <a:ext cx="621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56280" y="232272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92720" y="230976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94040" y="232272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9680" y="2322720"/>
              <a:ext cx="6235560" cy="21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inimizatio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880" y="4284720"/>
            <a:ext cx="2925360" cy="2265120"/>
            <a:chOff x="650880" y="4284720"/>
            <a:chExt cx="2925360" cy="2265120"/>
          </a:xfrm>
        </p:grpSpPr>
        <p:sp>
          <p:nvSpPr>
            <p:cNvPr id="98" name=""/>
            <p:cNvSpPr/>
            <p:nvPr/>
          </p:nvSpPr>
          <p:spPr>
            <a:xfrm>
              <a:off x="1946160" y="4492440"/>
              <a:ext cx="38052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317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55640" y="510228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6320" y="51022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50720" y="57117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05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124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8" idx="3"/>
              <a:endCxn id="101" idx="7"/>
            </p:cNvCxnSpPr>
            <p:nvPr/>
          </p:nvCxnSpPr>
          <p:spPr>
            <a:xfrm flipH="1">
              <a:off x="1661040" y="4817880"/>
              <a:ext cx="34020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1" idx="3"/>
              <a:endCxn id="99" idx="0"/>
            </p:cNvCxnSpPr>
            <p:nvPr/>
          </p:nvCxnSpPr>
          <p:spPr>
            <a:xfrm flipH="1">
              <a:off x="122148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1" idx="5"/>
              <a:endCxn id="104" idx="0"/>
            </p:cNvCxnSpPr>
            <p:nvPr/>
          </p:nvCxnSpPr>
          <p:spPr>
            <a:xfrm>
              <a:off x="166140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3"/>
              <a:endCxn id="102" idx="0"/>
            </p:cNvCxnSpPr>
            <p:nvPr/>
          </p:nvCxnSpPr>
          <p:spPr>
            <a:xfrm flipH="1">
              <a:off x="2441160" y="5427360"/>
              <a:ext cx="16992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00" idx="5"/>
              <a:endCxn id="103" idx="0"/>
            </p:cNvCxnSpPr>
            <p:nvPr/>
          </p:nvCxnSpPr>
          <p:spPr>
            <a:xfrm>
              <a:off x="288072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8" idx="5"/>
              <a:endCxn id="100" idx="1"/>
            </p:cNvCxnSpPr>
            <p:nvPr/>
          </p:nvCxnSpPr>
          <p:spPr>
            <a:xfrm>
              <a:off x="2271600" y="4817880"/>
              <a:ext cx="33984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endCxn id="98" idx="1"/>
            </p:cNvCxnSpPr>
            <p:nvPr/>
          </p:nvCxnSpPr>
          <p:spPr>
            <a:xfrm>
              <a:off x="1737720" y="42847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endCxn id="98" idx="2"/>
            </p:cNvCxnSpPr>
            <p:nvPr/>
          </p:nvCxnSpPr>
          <p:spPr>
            <a:xfrm flipH="1" flipV="1" rot="5400000">
              <a:off x="383760" y="4949640"/>
              <a:ext cx="1829520" cy="12960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 flipH="1">
              <a:off x="650880" y="65498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048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976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76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62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3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9554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63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6456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61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747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556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842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651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18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836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624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644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7188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6696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74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25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4F3-33B5-4D82-8860-216D33941D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71560" y="4140360"/>
            <a:ext cx="5600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4 S5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5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)   (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00200" y="1676520"/>
            <a:ext cx="6343560" cy="2158920"/>
            <a:chOff x="1600200" y="1676520"/>
            <a:chExt cx="6343560" cy="2158920"/>
          </a:xfrm>
        </p:grpSpPr>
        <p:sp>
          <p:nvSpPr>
            <p:cNvPr id="138" name=""/>
            <p:cNvSpPr/>
            <p:nvPr/>
          </p:nvSpPr>
          <p:spPr>
            <a:xfrm>
              <a:off x="1720800" y="1676520"/>
              <a:ext cx="622296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2800" y="22096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7160" y="16952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3240" y="16826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4560" y="169524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1695240"/>
              <a:ext cx="6235920" cy="21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791320" y="4419720"/>
            <a:ext cx="24382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is equivalent to 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is equivalent to 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4 is equivalent to 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hod of successive part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773-6D18-4711-8C4B-C6F529FDBEC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90920" y="2133720"/>
            <a:ext cx="6178320" cy="1568160"/>
            <a:chOff x="2590920" y="2133720"/>
            <a:chExt cx="6178320" cy="1568160"/>
          </a:xfrm>
        </p:grpSpPr>
        <p:sp>
          <p:nvSpPr>
            <p:cNvPr id="147" name=""/>
            <p:cNvSpPr/>
            <p:nvPr/>
          </p:nvSpPr>
          <p:spPr>
            <a:xfrm>
              <a:off x="2622600" y="2152440"/>
              <a:ext cx="61466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+ 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2647800"/>
              <a:ext cx="59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0440" y="21337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6880" y="2133720"/>
              <a:ext cx="0" cy="14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90800" y="21463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0920" y="2133720"/>
              <a:ext cx="5994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minimized 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00280" y="3773520"/>
            <a:ext cx="3000960" cy="2493720"/>
            <a:chOff x="800280" y="3773520"/>
            <a:chExt cx="3000960" cy="2493720"/>
          </a:xfrm>
        </p:grpSpPr>
        <p:sp>
          <p:nvSpPr>
            <p:cNvPr id="156" name=""/>
            <p:cNvSpPr/>
            <p:nvPr/>
          </p:nvSpPr>
          <p:spPr>
            <a:xfrm>
              <a:off x="2400120" y="3981240"/>
              <a:ext cx="38088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0120" y="4819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0640" y="54291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09960" y="540864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7" idx="3"/>
              <a:endCxn id="158" idx="0"/>
            </p:cNvCxnSpPr>
            <p:nvPr/>
          </p:nvCxnSpPr>
          <p:spPr>
            <a:xfrm flipH="1">
              <a:off x="1980720" y="5144760"/>
              <a:ext cx="47520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7" idx="5"/>
              <a:endCxn id="159" idx="0"/>
            </p:cNvCxnSpPr>
            <p:nvPr/>
          </p:nvCxnSpPr>
          <p:spPr>
            <a:xfrm>
              <a:off x="2725560" y="5145120"/>
              <a:ext cx="47520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6" idx="4"/>
              <a:endCxn id="157" idx="0"/>
            </p:cNvCxnSpPr>
            <p:nvPr/>
          </p:nvCxnSpPr>
          <p:spPr>
            <a:xfrm>
              <a:off x="2590560" y="43624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endCxn id="156" idx="1"/>
            </p:cNvCxnSpPr>
            <p:nvPr/>
          </p:nvCxnSpPr>
          <p:spPr>
            <a:xfrm>
              <a:off x="2192040" y="37735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65" idx="0"/>
              <a:endCxn id="156" idx="2"/>
            </p:cNvCxnSpPr>
            <p:nvPr/>
          </p:nvCxnSpPr>
          <p:spPr>
            <a:xfrm flipH="1" flipV="1" rot="5400000">
              <a:off x="562680" y="4408920"/>
              <a:ext cx="2075400" cy="1600560"/>
            </a:xfrm>
            <a:prstGeom prst="bentConnector4">
              <a:avLst>
                <a:gd name="adj1" fmla="val 99913"/>
                <a:gd name="adj2" fmla="val 8569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 flipH="1">
              <a:off x="800280" y="62467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74720" y="441792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324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044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832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5810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933640" y="5713200"/>
              <a:ext cx="151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520" y="57132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252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4880" y="579096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1A1-30A1-4CE8-B0BD-C19CE58788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60920" y="5283360"/>
            <a:ext cx="3022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mbolic sta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ion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33840" y="3213000"/>
            <a:ext cx="4254480" cy="2108160"/>
            <a:chOff x="4533840" y="3213000"/>
            <a:chExt cx="4254480" cy="2108160"/>
          </a:xfrm>
        </p:grpSpPr>
        <p:sp>
          <p:nvSpPr>
            <p:cNvPr id="178" name=""/>
            <p:cNvSpPr/>
            <p:nvPr/>
          </p:nvSpPr>
          <p:spPr>
            <a:xfrm>
              <a:off x="4572000" y="3213000"/>
              <a:ext cx="4216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3840" y="369576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748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7684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610160" y="2133720"/>
            <a:ext cx="2997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input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82160" y="2588040"/>
            <a:ext cx="2540160" cy="3347640"/>
            <a:chOff x="1082160" y="2588040"/>
            <a:chExt cx="2540160" cy="3347640"/>
          </a:xfrm>
        </p:grpSpPr>
        <p:sp>
          <p:nvSpPr>
            <p:cNvPr id="186" name=""/>
            <p:cNvSpPr/>
            <p:nvPr/>
          </p:nvSpPr>
          <p:spPr>
            <a:xfrm>
              <a:off x="1548000" y="3422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84760" y="32133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0240" y="3581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316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51480" y="3905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1680" y="4280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32400" y="4577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5324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7520" y="49723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8240" y="4714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68920" y="5227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1400" y="5294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7800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91560" y="2932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46400" y="3465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2840" y="3714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63520" y="4560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0920" y="4475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69760" y="3873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8320" y="49276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14720" y="56880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7400" y="5507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27480" y="5264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33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033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37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37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37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236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864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655640" y="4524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0920" y="5362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960920" y="5515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876040" y="33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8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0920" y="429588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884600" y="330480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884600" y="444816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837080" y="3353040"/>
              <a:ext cx="100080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920" y="3229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60920" y="3076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2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789560" y="3381480"/>
              <a:ext cx="101016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37080" y="3343320"/>
              <a:ext cx="90540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1913040" y="3285720"/>
              <a:ext cx="88596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14" idx="5"/>
              <a:endCxn id="214" idx="3"/>
            </p:cNvCxnSpPr>
            <p:nvPr/>
          </p:nvCxnSpPr>
          <p:spPr>
            <a:xfrm rot="5400000">
              <a:off x="2950560" y="5439600"/>
              <a:ext cx="2160" cy="324360"/>
            </a:xfrm>
            <a:prstGeom prst="curvedConnector5">
              <a:avLst>
                <a:gd name="adj1" fmla="val 18600000"/>
                <a:gd name="adj2" fmla="val 50000"/>
                <a:gd name="adj3" fmla="val 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12" idx="7"/>
              <a:endCxn id="212" idx="1"/>
            </p:cNvCxnSpPr>
            <p:nvPr/>
          </p:nvCxnSpPr>
          <p:spPr>
            <a:xfrm rot="5400000">
              <a:off x="2950560" y="2828880"/>
              <a:ext cx="2520" cy="324360"/>
            </a:xfrm>
            <a:prstGeom prst="curvedConnector5">
              <a:avLst>
                <a:gd name="adj1" fmla="val -18600000"/>
                <a:gd name="adj2" fmla="val 50000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09" idx="7"/>
              <a:endCxn id="209" idx="1"/>
            </p:cNvCxnSpPr>
            <p:nvPr/>
          </p:nvCxnSpPr>
          <p:spPr>
            <a:xfrm rot="5400000">
              <a:off x="1730520" y="2828880"/>
              <a:ext cx="2520" cy="32472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11" idx="2"/>
              <a:endCxn id="209" idx="2"/>
            </p:cNvCxnSpPr>
            <p:nvPr/>
          </p:nvCxnSpPr>
          <p:spPr>
            <a:xfrm flipH="1" rot="10800000">
              <a:off x="1503000" y="3152160"/>
              <a:ext cx="2160" cy="2286720"/>
            </a:xfrm>
            <a:prstGeom prst="curvedConnector5">
              <a:avLst>
                <a:gd name="adj1" fmla="val -23400000"/>
                <a:gd name="adj2" fmla="val 49992"/>
                <a:gd name="adj3" fmla="val -23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10" idx="3"/>
              <a:endCxn id="210" idx="1"/>
            </p:cNvCxnSpPr>
            <p:nvPr/>
          </p:nvCxnSpPr>
          <p:spPr>
            <a:xfrm flipH="1" flipV="1" rot="5400000">
              <a:off x="1407600" y="4294440"/>
              <a:ext cx="324720" cy="2520"/>
            </a:xfrm>
            <a:prstGeom prst="curvedConnector5">
              <a:avLst>
                <a:gd name="adj1" fmla="val -29411"/>
                <a:gd name="adj2" fmla="val -7800000"/>
                <a:gd name="adj3" fmla="val -294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12" idx="6"/>
              <a:endCxn id="214" idx="6"/>
            </p:cNvCxnSpPr>
            <p:nvPr/>
          </p:nvCxnSpPr>
          <p:spPr>
            <a:xfrm>
              <a:off x="3181320" y="3152880"/>
              <a:ext cx="2160" cy="2286720"/>
            </a:xfrm>
            <a:prstGeom prst="curvedConnector5">
              <a:avLst>
                <a:gd name="adj1" fmla="val 12000000"/>
                <a:gd name="adj2" fmla="val 49992"/>
                <a:gd name="adj3" fmla="val 12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4" idx="6"/>
              <a:endCxn id="212" idx="6"/>
            </p:cNvCxnSpPr>
            <p:nvPr/>
          </p:nvCxnSpPr>
          <p:spPr>
            <a:xfrm flipV="1">
              <a:off x="3181320" y="3152520"/>
              <a:ext cx="2160" cy="2286720"/>
            </a:xfrm>
            <a:prstGeom prst="curvedConnector5">
              <a:avLst>
                <a:gd name="adj1" fmla="val 24500000"/>
                <a:gd name="adj2" fmla="val 49992"/>
                <a:gd name="adj3" fmla="val 245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3041640" y="3683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334120" y="2438280"/>
            <a:ext cx="4953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806-E549-42FC-9834-9F64ADF95E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222920" y="3405240"/>
            <a:ext cx="516240" cy="732600"/>
            <a:chOff x="1222920" y="3405240"/>
            <a:chExt cx="516240" cy="732600"/>
          </a:xfrm>
        </p:grpSpPr>
        <p:sp>
          <p:nvSpPr>
            <p:cNvPr id="242" name=""/>
            <p:cNvSpPr/>
            <p:nvPr/>
          </p:nvSpPr>
          <p:spPr>
            <a:xfrm>
              <a:off x="1235520" y="340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35520" y="358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2920" y="37479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22920" y="39243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222920" y="4775040"/>
            <a:ext cx="503640" cy="733680"/>
            <a:chOff x="1222920" y="4775040"/>
            <a:chExt cx="503640" cy="733680"/>
          </a:xfrm>
        </p:grpSpPr>
        <p:sp>
          <p:nvSpPr>
            <p:cNvPr id="247" name=""/>
            <p:cNvSpPr/>
            <p:nvPr/>
          </p:nvSpPr>
          <p:spPr>
            <a:xfrm>
              <a:off x="12229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29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2920" y="5118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229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908720" y="4103640"/>
            <a:ext cx="503640" cy="720000"/>
            <a:chOff x="1908720" y="4103640"/>
            <a:chExt cx="503640" cy="720000"/>
          </a:xfrm>
        </p:grpSpPr>
        <p:sp>
          <p:nvSpPr>
            <p:cNvPr id="252" name=""/>
            <p:cNvSpPr/>
            <p:nvPr/>
          </p:nvSpPr>
          <p:spPr>
            <a:xfrm>
              <a:off x="1908720" y="41036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720" y="4280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720" y="44323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8720" y="46101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08720" y="5475240"/>
            <a:ext cx="503640" cy="720000"/>
            <a:chOff x="1908720" y="5475240"/>
            <a:chExt cx="503640" cy="720000"/>
          </a:xfrm>
        </p:grpSpPr>
        <p:sp>
          <p:nvSpPr>
            <p:cNvPr id="257" name=""/>
            <p:cNvSpPr/>
            <p:nvPr/>
          </p:nvSpPr>
          <p:spPr>
            <a:xfrm>
              <a:off x="19087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7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8720" y="5829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87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94520" y="4775040"/>
            <a:ext cx="516240" cy="733680"/>
            <a:chOff x="2594520" y="4775040"/>
            <a:chExt cx="516240" cy="733680"/>
          </a:xfrm>
        </p:grpSpPr>
        <p:sp>
          <p:nvSpPr>
            <p:cNvPr id="262" name=""/>
            <p:cNvSpPr/>
            <p:nvPr/>
          </p:nvSpPr>
          <p:spPr>
            <a:xfrm>
              <a:off x="26071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71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440" y="5118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945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75640" y="5475240"/>
            <a:ext cx="508320" cy="720000"/>
            <a:chOff x="3275640" y="5475240"/>
            <a:chExt cx="508320" cy="720000"/>
          </a:xfrm>
        </p:grpSpPr>
        <p:sp>
          <p:nvSpPr>
            <p:cNvPr id="267" name=""/>
            <p:cNvSpPr/>
            <p:nvPr/>
          </p:nvSpPr>
          <p:spPr>
            <a:xfrm>
              <a:off x="3275640" y="5829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03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803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803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633920" y="3346560"/>
            <a:ext cx="4254480" cy="2006640"/>
            <a:chOff x="4633920" y="3346560"/>
            <a:chExt cx="4254480" cy="2006640"/>
          </a:xfrm>
        </p:grpSpPr>
        <p:sp>
          <p:nvSpPr>
            <p:cNvPr id="272" name=""/>
            <p:cNvSpPr/>
            <p:nvPr/>
          </p:nvSpPr>
          <p:spPr>
            <a:xfrm>
              <a:off x="5446800" y="4997520"/>
              <a:ext cx="2743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nimized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0==S4) (S3==S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72080" y="3346560"/>
              <a:ext cx="42163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3920" y="378648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8016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7692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 char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out incompatible states based on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ross out more cells if indexed chart entries are already cross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27640" y="2743200"/>
            <a:ext cx="3744360" cy="3718800"/>
            <a:chOff x="827640" y="2743200"/>
            <a:chExt cx="3744360" cy="3718800"/>
          </a:xfrm>
        </p:grpSpPr>
        <p:sp>
          <p:nvSpPr>
            <p:cNvPr id="280" name=""/>
            <p:cNvSpPr/>
            <p:nvPr/>
          </p:nvSpPr>
          <p:spPr>
            <a:xfrm>
              <a:off x="840240" y="295596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0240" y="363852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7640" y="433548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0240" y="501804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5560" y="571500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467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488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900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599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58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143000" y="2743200"/>
              <a:ext cx="3429000" cy="3429000"/>
              <a:chOff x="1143000" y="2743200"/>
              <a:chExt cx="3429000" cy="3429000"/>
            </a:xfrm>
          </p:grpSpPr>
          <p:sp>
            <p:nvSpPr>
              <p:cNvPr id="291" name=""/>
              <p:cNvSpPr/>
              <p:nvPr/>
            </p:nvSpPr>
            <p:spPr>
              <a:xfrm>
                <a:off x="1143000" y="5486400"/>
                <a:ext cx="34290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4800600"/>
                <a:ext cx="27432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43000" y="4114800"/>
                <a:ext cx="20574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3000" y="3429000"/>
                <a:ext cx="13716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3000" y="27432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2743200"/>
                <a:ext cx="685800" cy="3429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28800" y="3429000"/>
                <a:ext cx="685800" cy="274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14600" y="4114800"/>
                <a:ext cx="685800" cy="20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00400" y="4800600"/>
                <a:ext cx="685800" cy="1371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28440" y="3429000"/>
            <a:ext cx="686160" cy="685800"/>
            <a:chOff x="1828440" y="3429000"/>
            <a:chExt cx="686160" cy="685800"/>
          </a:xfrm>
        </p:grpSpPr>
        <p:sp>
          <p:nvSpPr>
            <p:cNvPr id="302" name=""/>
            <p:cNvSpPr/>
            <p:nvPr/>
          </p:nvSpPr>
          <p:spPr>
            <a:xfrm>
              <a:off x="182880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2844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42640" y="4114800"/>
            <a:ext cx="3429360" cy="2057400"/>
            <a:chOff x="1142640" y="4114800"/>
            <a:chExt cx="3429360" cy="2057400"/>
          </a:xfrm>
        </p:grpSpPr>
        <p:grpSp>
          <p:nvGrpSpPr>
            <p:cNvPr id="305" name=""/>
            <p:cNvGrpSpPr/>
            <p:nvPr/>
          </p:nvGrpSpPr>
          <p:grpSpPr>
            <a:xfrm>
              <a:off x="1142640" y="5486400"/>
              <a:ext cx="686160" cy="685800"/>
              <a:chOff x="1142640" y="5486400"/>
              <a:chExt cx="686160" cy="685800"/>
            </a:xfrm>
          </p:grpSpPr>
          <p:sp>
            <p:nvSpPr>
              <p:cNvPr id="306" name=""/>
              <p:cNvSpPr/>
              <p:nvPr/>
            </p:nvSpPr>
            <p:spPr>
              <a:xfrm>
                <a:off x="11430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1426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514240" y="5486400"/>
              <a:ext cx="686160" cy="685800"/>
              <a:chOff x="2514240" y="5486400"/>
              <a:chExt cx="686160" cy="6858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146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5142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200040" y="4800600"/>
              <a:ext cx="686160" cy="685800"/>
              <a:chOff x="3200040" y="4800600"/>
              <a:chExt cx="686160" cy="685800"/>
            </a:xfrm>
          </p:grpSpPr>
          <p:sp>
            <p:nvSpPr>
              <p:cNvPr id="312" name=""/>
              <p:cNvSpPr/>
              <p:nvPr/>
            </p:nvSpPr>
            <p:spPr>
              <a:xfrm>
                <a:off x="32004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2000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885840" y="5486400"/>
              <a:ext cx="686160" cy="685800"/>
              <a:chOff x="3885840" y="5486400"/>
              <a:chExt cx="686160" cy="6858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8858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4240" y="4114800"/>
              <a:ext cx="686160" cy="685800"/>
              <a:chOff x="2514240" y="4114800"/>
              <a:chExt cx="686160" cy="685800"/>
            </a:xfrm>
          </p:grpSpPr>
          <p:sp>
            <p:nvSpPr>
              <p:cNvPr id="318" name=""/>
              <p:cNvSpPr/>
              <p:nvPr/>
            </p:nvSpPr>
            <p:spPr>
              <a:xfrm>
                <a:off x="25146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5142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142640" y="4114800"/>
              <a:ext cx="686160" cy="685800"/>
              <a:chOff x="1142640" y="4114800"/>
              <a:chExt cx="686160" cy="6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11430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1426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828440" y="4800600"/>
              <a:ext cx="686160" cy="685800"/>
              <a:chOff x="1828440" y="4800600"/>
              <a:chExt cx="686160" cy="68580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8284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142640" y="2743200"/>
            <a:ext cx="686160" cy="685800"/>
            <a:chOff x="1142640" y="2743200"/>
            <a:chExt cx="686160" cy="685800"/>
          </a:xfrm>
        </p:grpSpPr>
        <p:sp>
          <p:nvSpPr>
            <p:cNvPr id="327" name=""/>
            <p:cNvSpPr/>
            <p:nvPr/>
          </p:nvSpPr>
          <p:spPr>
            <a:xfrm>
              <a:off x="114300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4264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142640" y="3429000"/>
            <a:ext cx="686160" cy="685800"/>
            <a:chOff x="1142640" y="3429000"/>
            <a:chExt cx="686160" cy="685800"/>
          </a:xfrm>
        </p:grpSpPr>
        <p:sp>
          <p:nvSpPr>
            <p:cNvPr id="330" name=""/>
            <p:cNvSpPr/>
            <p:nvPr/>
          </p:nvSpPr>
          <p:spPr>
            <a:xfrm>
              <a:off x="114300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14264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828440" y="4114800"/>
            <a:ext cx="686160" cy="685800"/>
            <a:chOff x="1828440" y="4114800"/>
            <a:chExt cx="686160" cy="685800"/>
          </a:xfrm>
        </p:grpSpPr>
        <p:sp>
          <p:nvSpPr>
            <p:cNvPr id="333" name=""/>
            <p:cNvSpPr/>
            <p:nvPr/>
          </p:nvSpPr>
          <p:spPr>
            <a:xfrm>
              <a:off x="182880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2844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14240" y="4800600"/>
            <a:ext cx="686160" cy="685800"/>
            <a:chOff x="2514240" y="4800600"/>
            <a:chExt cx="686160" cy="685800"/>
          </a:xfrm>
        </p:grpSpPr>
        <p:sp>
          <p:nvSpPr>
            <p:cNvPr id="336" name=""/>
            <p:cNvSpPr/>
            <p:nvPr/>
          </p:nvSpPr>
          <p:spPr>
            <a:xfrm>
              <a:off x="251460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51424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828440" y="5486400"/>
            <a:ext cx="686160" cy="685800"/>
            <a:chOff x="1828440" y="5486400"/>
            <a:chExt cx="686160" cy="685800"/>
          </a:xfrm>
        </p:grpSpPr>
        <p:sp>
          <p:nvSpPr>
            <p:cNvPr id="339" name=""/>
            <p:cNvSpPr/>
            <p:nvPr/>
          </p:nvSpPr>
          <p:spPr>
            <a:xfrm>
              <a:off x="182880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82844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FB1-6625-47AC-8B92-D995B36D79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incompletely specified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3387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ce of states is transitive when machine is fully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not transitive when don't cares are presen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is compatible with both S0 and S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0 and S2 are incompat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lynomial time algorithm exists for determining best grouping of states into equivalent sets that will yield the smallest number of final st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CDF-628E-4F10-B7F9-DFC98F291D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029200" y="2362320"/>
            <a:ext cx="2539800" cy="2286000"/>
            <a:chOff x="5029200" y="2362320"/>
            <a:chExt cx="2539800" cy="2286000"/>
          </a:xfrm>
        </p:grpSpPr>
        <p:sp>
          <p:nvSpPr>
            <p:cNvPr id="344" name=""/>
            <p:cNvSpPr/>
            <p:nvPr/>
          </p:nvSpPr>
          <p:spPr>
            <a:xfrm>
              <a:off x="5092560" y="2362320"/>
              <a:ext cx="22860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48428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2692440"/>
              <a:ext cx="253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87840" y="2362320"/>
              <a:ext cx="180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105520" y="4952880"/>
            <a:ext cx="227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(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or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18120" y="5397480"/>
            <a:ext cx="1930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states may not yield best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edge detector - outputs 1 when last two input changes from 0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46240" y="2590920"/>
            <a:ext cx="2282760" cy="2849760"/>
            <a:chOff x="1146240" y="2590920"/>
            <a:chExt cx="2282760" cy="2849760"/>
          </a:xfrm>
        </p:grpSpPr>
        <p:sp>
          <p:nvSpPr>
            <p:cNvPr id="352" name=""/>
            <p:cNvSpPr/>
            <p:nvPr/>
          </p:nvSpPr>
          <p:spPr>
            <a:xfrm>
              <a:off x="1371600" y="30481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44956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5480" y="37339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4" idx="4"/>
              <a:endCxn id="353" idx="6"/>
            </p:cNvCxnSpPr>
            <p:nvPr/>
          </p:nvCxnSpPr>
          <p:spPr>
            <a:xfrm rot="5400000">
              <a:off x="2285280" y="3886200"/>
              <a:ext cx="49608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3" idx="5"/>
              <a:endCxn id="353" idx="3"/>
            </p:cNvCxnSpPr>
            <p:nvPr/>
          </p:nvCxnSpPr>
          <p:spPr>
            <a:xfrm rot="5400000">
              <a:off x="1636920" y="476316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3" idx="1"/>
              <a:endCxn id="352" idx="3"/>
            </p:cNvCxnSpPr>
            <p:nvPr/>
          </p:nvCxnSpPr>
          <p:spPr>
            <a:xfrm flipV="1">
              <a:off x="1449000" y="3503160"/>
              <a:ext cx="1080" cy="1070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2" idx="4"/>
              <a:endCxn id="354" idx="2"/>
            </p:cNvCxnSpPr>
            <p:nvPr/>
          </p:nvCxnSpPr>
          <p:spPr>
            <a:xfrm flipH="1" rot="16200000">
              <a:off x="2057040" y="3161880"/>
              <a:ext cx="42012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>
              <a:stCxn id="354" idx="0"/>
              <a:endCxn id="352" idx="6"/>
            </p:cNvCxnSpPr>
            <p:nvPr/>
          </p:nvCxnSpPr>
          <p:spPr>
            <a:xfrm flipV="1" rot="16200000">
              <a:off x="2323800" y="2895120"/>
              <a:ext cx="41976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52" idx="7"/>
              <a:endCxn id="352" idx="1"/>
            </p:cNvCxnSpPr>
            <p:nvPr/>
          </p:nvCxnSpPr>
          <p:spPr>
            <a:xfrm rot="5400000">
              <a:off x="1636920" y="29376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1" name=""/>
            <p:cNvSpPr/>
            <p:nvPr/>
          </p:nvSpPr>
          <p:spPr>
            <a:xfrm>
              <a:off x="1146240" y="39625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784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79760" y="25909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4760" y="38862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6160" y="51055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560" y="45720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DAE-CD1A-4881-A043-1203BED63C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25Z</dcterms:modified>
  <cp:revision>28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