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269413" cy="6948488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CE74-29C4-4F3C-84BD-1006787A3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706E-8110-45ED-B202-7153466AB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34FD-C69B-4997-82F0-9B0938079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1F4A-7EAD-40E8-BEAD-ABB034A15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B9334-F44B-423D-ACEC-FC547CA53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71698-99A7-476B-82A1-39BC31848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B528D-0477-4A9F-AE1B-35F85002A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6509C-ACBD-4925-BA20-EF02AA388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2D737-C46A-4B3E-AE86-BC5C25BFE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1DA34-B3B3-4EE0-9157-1E5906350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15362-6704-4B6A-96B8-F5546999A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3524-731D-4775-93A3-3B030E52A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56043-F3F2-4F36-A521-F2F974D1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0D777-A601-4118-91FB-7EAEC9A13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9AEA3-4B90-4C4B-8737-620D82743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BA966-A203-48A8-8ACC-A69B42279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DF13A-B8B3-40EF-A798-93637B192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89F2-BF40-4B41-B72B-6DD80C4C8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C825-06E1-4029-AB24-F55AEE08D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4524-345A-4333-9FAE-0618FDC59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EE29-C6E9-4351-AE62-9AC088320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B83D-515E-49A3-A39A-1C5852B9D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07FF-D9AF-4957-93F1-497D995F8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7BD5-A9D3-4A0B-A706-B8F1F9E40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57200" indent="-318960">
              <a:spcBef>
                <a:spcPts val="55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03520" indent="-344520">
              <a:spcBef>
                <a:spcPts val="55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3680" y="647856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54280" y="6483240"/>
            <a:ext cx="396072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43800" y="647856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3A24DCE-6028-4ED0-9CDA-2886992E490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5920" y="231840"/>
            <a:ext cx="8343720" cy="617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26640" y="1542600"/>
            <a:ext cx="7729560" cy="1776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3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66920" y="6324480"/>
            <a:ext cx="29368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353CDBC-E0A0-4508-B226-6AF142C80C7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17400" y="1235160"/>
            <a:ext cx="8035920" cy="9255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08080" y="4013280"/>
            <a:ext cx="66024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binational Logic Technologi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ndard g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te pack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 libr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ular log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x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od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wo-level programmable log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964A-FFC4-43F5-9F78-1C30BBCBA66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2629080" y="1866960"/>
            <a:ext cx="2158920" cy="81288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2"/>
          <a:stretch/>
        </p:blipFill>
        <p:spPr>
          <a:xfrm>
            <a:off x="2247840" y="3594240"/>
            <a:ext cx="2540160" cy="273024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3"/>
          <a:stretch/>
        </p:blipFill>
        <p:spPr>
          <a:xfrm>
            <a:off x="5245200" y="1866960"/>
            <a:ext cx="2222280" cy="81288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4"/>
          <a:stretch/>
        </p:blipFill>
        <p:spPr>
          <a:xfrm>
            <a:off x="5245200" y="3594240"/>
            <a:ext cx="2603520" cy="273024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Gate level implementation of mux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:1 mux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:1 mu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EAD6-83AD-4CDF-BA49-6B4572FFBCC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663480" y="5226120"/>
            <a:ext cx="38480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trol signals B and C simultaneously choos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e of I0, I1, I2, I3 and one of I4, I5, I6, I7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trol signal A chooses which of th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per or lower mux's output to gate to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073920" y="2711520"/>
            <a:ext cx="19177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ternativ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5181480" y="3098880"/>
            <a:ext cx="4114800" cy="3556080"/>
            <a:chOff x="5181480" y="3098880"/>
            <a:chExt cx="4114800" cy="3556080"/>
          </a:xfrm>
        </p:grpSpPr>
        <p:sp>
          <p:nvSpPr>
            <p:cNvPr id="348" name=""/>
            <p:cNvSpPr/>
            <p:nvPr/>
          </p:nvSpPr>
          <p:spPr>
            <a:xfrm>
              <a:off x="6134040" y="6045120"/>
              <a:ext cx="546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737560" y="4305240"/>
              <a:ext cx="5587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746840" y="603252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 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454720" y="35686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454720" y="37972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797440" y="3460680"/>
              <a:ext cx="9144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3905280"/>
              <a:ext cx="0" cy="207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711840" y="368316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454720" y="42544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454720" y="44830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797440" y="4146480"/>
              <a:ext cx="914400" cy="457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>
              <a:off x="6248520" y="459108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711840" y="4368960"/>
              <a:ext cx="33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454720" y="49402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454720" y="51688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797440" y="4832280"/>
              <a:ext cx="914400" cy="457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527688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711840" y="5054760"/>
              <a:ext cx="33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454720" y="56260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4720" y="58546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797440" y="5518080"/>
              <a:ext cx="914400" cy="457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6248520" y="596268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711840" y="574056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169040" y="4368960"/>
              <a:ext cx="33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054920" y="482616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054920" y="459756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169040" y="5054760"/>
              <a:ext cx="33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512120" y="426096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7848720" y="516204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8077320" y="516204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721640" y="4203720"/>
              <a:ext cx="5335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 algn="ctr"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: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8426520" y="47116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162920" y="3689280"/>
              <a:ext cx="0" cy="67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7162920" y="5048280"/>
              <a:ext cx="0" cy="69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7048440" y="481968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048440" y="4375080"/>
              <a:ext cx="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0" bIns="-58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81760" y="3187800"/>
              <a:ext cx="5335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 algn="ctr"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: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981760" y="3873600"/>
              <a:ext cx="5335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 algn="ctr"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: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981760" y="4559400"/>
              <a:ext cx="5335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 algn="ctr"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: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981760" y="5245200"/>
              <a:ext cx="5335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 algn="ctr"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: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181480" y="4470480"/>
              <a:ext cx="3049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4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181480" y="3784680"/>
              <a:ext cx="3049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2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181480" y="3098880"/>
              <a:ext cx="3049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181480" y="5156280"/>
              <a:ext cx="3049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6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683320" y="3346560"/>
              <a:ext cx="2857320" cy="2743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962840" y="3162240"/>
              <a:ext cx="53352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 algn="ctr"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8: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ascading multiplexer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rge multiplexers can be made by cascading smaller 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816120" y="2000160"/>
            <a:ext cx="3999960" cy="2984400"/>
            <a:chOff x="816120" y="2000160"/>
            <a:chExt cx="3999960" cy="2984400"/>
          </a:xfrm>
        </p:grpSpPr>
        <p:sp>
          <p:nvSpPr>
            <p:cNvPr id="397" name=""/>
            <p:cNvSpPr/>
            <p:nvPr/>
          </p:nvSpPr>
          <p:spPr>
            <a:xfrm>
              <a:off x="4257720" y="2863800"/>
              <a:ext cx="5583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16120" y="2000160"/>
              <a:ext cx="30456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2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089000" y="2355840"/>
              <a:ext cx="32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089000" y="2813040"/>
              <a:ext cx="32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089000" y="2584440"/>
              <a:ext cx="32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089000" y="3041640"/>
              <a:ext cx="32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431720" y="2247840"/>
              <a:ext cx="91404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1768320" y="3148920"/>
              <a:ext cx="0" cy="12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1996920" y="3148920"/>
              <a:ext cx="0" cy="118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346120" y="26985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689200" y="3155760"/>
              <a:ext cx="32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689200" y="3384360"/>
              <a:ext cx="32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031920" y="3047760"/>
              <a:ext cx="91404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3483000" y="3492360"/>
              <a:ext cx="0" cy="115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368520" y="4375080"/>
              <a:ext cx="5457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946320" y="32702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16120" y="3143160"/>
              <a:ext cx="30456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4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5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6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089000" y="3498840"/>
              <a:ext cx="32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089000" y="3956040"/>
              <a:ext cx="32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089000" y="3727440"/>
              <a:ext cx="32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089000" y="4184640"/>
              <a:ext cx="32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431720" y="3390840"/>
              <a:ext cx="914040" cy="9144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>
              <a:off x="1768320" y="429228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V="1">
              <a:off x="1996920" y="429228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66800" y="4362120"/>
              <a:ext cx="7617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  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346120" y="38415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82720" y="270504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2682720" y="337788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317600" y="2133360"/>
              <a:ext cx="2742840" cy="228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561320" y="3549600"/>
              <a:ext cx="601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: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561320" y="2406600"/>
              <a:ext cx="601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: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202920" y="2968560"/>
              <a:ext cx="601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: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466440" y="2101680"/>
              <a:ext cx="601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8: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5525-9301-41C8-9066-050C2DD997D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ultiplexers as general-purpose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45172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2</a:t>
            </a:r>
            <a:r>
              <a:rPr b="0" lang="en-US" sz="31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1 multiplexer can implement any function of n variab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the variables used as control inputs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ata inputs tied to 0 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essence, a lookup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A,B,C) = m0 + m2 + m6 + m7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= A'B'C' + A'BC' + ABC' + 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811880" y="4156200"/>
            <a:ext cx="3271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  A'B'C'(1) + A'B'C(0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+ A'BC'(1) + A'BC(0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+ AB'C'(0) + AB'C(0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+ ABC'(1) + ABC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32240" y="5810400"/>
            <a:ext cx="668556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Z = A'B'C'I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+ A'B'CI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+ A'BC'I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+ A'BCI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+</a:t>
            </a: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      AB'C'I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+ AB'CI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+ ABC'I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+ ABCI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6656040" y="3168720"/>
            <a:ext cx="1986480" cy="2666880"/>
            <a:chOff x="6656040" y="3168720"/>
            <a:chExt cx="1986480" cy="2666880"/>
          </a:xfrm>
        </p:grpSpPr>
        <p:sp>
          <p:nvSpPr>
            <p:cNvPr id="435" name=""/>
            <p:cNvSpPr/>
            <p:nvPr/>
          </p:nvSpPr>
          <p:spPr>
            <a:xfrm>
              <a:off x="7824960" y="5556240"/>
              <a:ext cx="5587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037280" y="5543640"/>
              <a:ext cx="5590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431120" y="5543640"/>
              <a:ext cx="5587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948360" y="3193920"/>
              <a:ext cx="165240" cy="21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024680" y="4933800"/>
              <a:ext cx="6476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961320" y="4083120"/>
              <a:ext cx="11300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8:1 MU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392960" y="4933800"/>
              <a:ext cx="6476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761240" y="4933800"/>
              <a:ext cx="6476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85000" y="3168720"/>
              <a:ext cx="11430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028000" y="415908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6656040" y="33210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6656040" y="35496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6656040" y="37782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6656040" y="40068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113600" y="52261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494480" y="52261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656040" y="42354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656040" y="44640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6656040" y="46926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>
              <a:off x="6656040" y="49212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875720" y="52261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8447040" y="4027320"/>
              <a:ext cx="195480" cy="59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6389640" y="3193920"/>
            <a:ext cx="2244600" cy="2108160"/>
            <a:chOff x="6389640" y="3193920"/>
            <a:chExt cx="2244600" cy="2108160"/>
          </a:xfrm>
        </p:grpSpPr>
        <p:sp>
          <p:nvSpPr>
            <p:cNvPr id="458" name=""/>
            <p:cNvSpPr/>
            <p:nvPr/>
          </p:nvSpPr>
          <p:spPr>
            <a:xfrm>
              <a:off x="6389640" y="3193920"/>
              <a:ext cx="190440" cy="21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39120" y="4041720"/>
              <a:ext cx="195120" cy="59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D897-C036-485F-B971-A0F1150C772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0" name=""/>
          <p:cNvGrpSpPr/>
          <p:nvPr/>
        </p:nvGrpSpPr>
        <p:grpSpPr>
          <a:xfrm>
            <a:off x="3778200" y="4389480"/>
            <a:ext cx="2076480" cy="2324160"/>
            <a:chOff x="3778200" y="4389480"/>
            <a:chExt cx="2076480" cy="2324160"/>
          </a:xfrm>
        </p:grpSpPr>
        <p:sp>
          <p:nvSpPr>
            <p:cNvPr id="461" name=""/>
            <p:cNvSpPr/>
            <p:nvPr/>
          </p:nvSpPr>
          <p:spPr>
            <a:xfrm>
              <a:off x="3848040" y="4389480"/>
              <a:ext cx="1803240" cy="23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473440" y="4694400"/>
              <a:ext cx="381240" cy="18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'</a:t>
              </a:r>
              <a:br>
                <a:rPr sz="1400"/>
              </a:b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'</a:t>
              </a:r>
              <a:br>
                <a:rPr sz="1400"/>
              </a:b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790800" y="4656240"/>
              <a:ext cx="1955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105160" y="4408560"/>
              <a:ext cx="0" cy="199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647960" y="4662360"/>
              <a:ext cx="0" cy="175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778200" y="5075280"/>
              <a:ext cx="1993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>
              <a:off x="3790440" y="5506920"/>
              <a:ext cx="1994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790800" y="5951520"/>
              <a:ext cx="1994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6553080" y="4675320"/>
            <a:ext cx="2324160" cy="1847880"/>
            <a:chOff x="6553080" y="4675320"/>
            <a:chExt cx="2324160" cy="1847880"/>
          </a:xfrm>
        </p:grpSpPr>
        <p:sp>
          <p:nvSpPr>
            <p:cNvPr id="470" name=""/>
            <p:cNvSpPr/>
            <p:nvPr/>
          </p:nvSpPr>
          <p:spPr>
            <a:xfrm>
              <a:off x="7619760" y="5926320"/>
              <a:ext cx="5590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013600" y="5926320"/>
              <a:ext cx="5587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493040" y="5469120"/>
              <a:ext cx="6476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861320" y="5469120"/>
              <a:ext cx="6476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343720" y="4910040"/>
              <a:ext cx="5335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061040" y="4732200"/>
              <a:ext cx="279360" cy="12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067520" y="4675320"/>
              <a:ext cx="1130040" cy="1066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061040" y="5037120"/>
              <a:ext cx="11304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:1 MU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223120" y="5214960"/>
              <a:ext cx="35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H="1">
              <a:off x="6813360" y="488484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>
              <a:off x="6813360" y="510048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>
              <a:off x="6825600" y="5329080"/>
              <a:ext cx="24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6838560" y="553248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553080" y="4732200"/>
              <a:ext cx="343080" cy="12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'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'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645320" y="574200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8026200" y="574200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6" name=""/>
          <p:cNvSpPr/>
          <p:nvPr/>
        </p:nvSpPr>
        <p:spPr>
          <a:xfrm>
            <a:off x="3200400" y="5056200"/>
            <a:ext cx="5335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1104840" y="4218120"/>
            <a:ext cx="2019240" cy="2666880"/>
            <a:chOff x="1104840" y="4218120"/>
            <a:chExt cx="2019240" cy="2666880"/>
          </a:xfrm>
        </p:grpSpPr>
        <p:sp>
          <p:nvSpPr>
            <p:cNvPr id="488" name=""/>
            <p:cNvSpPr/>
            <p:nvPr/>
          </p:nvSpPr>
          <p:spPr>
            <a:xfrm>
              <a:off x="2514600" y="6605640"/>
              <a:ext cx="5587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752480" y="6593040"/>
              <a:ext cx="5590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146320" y="6593040"/>
              <a:ext cx="5587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663560" y="4243320"/>
              <a:ext cx="165240" cy="21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104840" y="4243320"/>
              <a:ext cx="190440" cy="21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739880" y="5983200"/>
              <a:ext cx="6476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676520" y="5132520"/>
              <a:ext cx="11300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8:1 MU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108160" y="5983200"/>
              <a:ext cx="6476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476440" y="5983200"/>
              <a:ext cx="6476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600200" y="4218120"/>
              <a:ext cx="11430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743200" y="520848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1371240" y="43704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1371240" y="45990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1371240" y="48276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1371240" y="50562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828800" y="62755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209680" y="62755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flipH="1">
              <a:off x="1371240" y="52848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1371240" y="55134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>
              <a:off x="1371240" y="57420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1371240" y="59706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590920" y="62755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ultiplexers as general-purpose logic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45172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2</a:t>
            </a:r>
            <a:r>
              <a:rPr b="0" lang="en-US" sz="3100" spc="-1" strike="noStrike" baseline="30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1 multiplexer can implement any function of n variab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n-1 variables used as control inputs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ata inputs tied to the last variable or its comp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A,B,C) = m0 + m2 + m6 + m7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= A'B'C' + A'BC' + ABC' + ABC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= A'B'(C') + A'B(C') + AB'(0) + AB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C0C8-4765-4384-8546-1CE7AC7BC6E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1255680" y="2076480"/>
            <a:ext cx="160020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marL="152280" indent="-152280" algn="ctr">
              <a:lnSpc>
                <a:spcPts val="1397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-1 mux control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ts val="1397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mux data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645320" y="1595520"/>
            <a:ext cx="14176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 possi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figuration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f truth ta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ws can b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pressed a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function of 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490920" y="1492200"/>
            <a:ext cx="4013280" cy="20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0" bIns="27000" anchor="t">
            <a:noAutofit/>
          </a:bodyPr>
          <a:p>
            <a:pPr>
              <a:lnSpc>
                <a:spcPts val="2599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 . 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F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ff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ff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1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'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878440" y="2489040"/>
            <a:ext cx="0" cy="330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323040" y="2476440"/>
            <a:ext cx="0" cy="330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780240" y="2489040"/>
            <a:ext cx="0" cy="330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237440" y="2489040"/>
            <a:ext cx="0" cy="343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707080" y="2882880"/>
            <a:ext cx="16956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421080" y="1562040"/>
            <a:ext cx="1771560" cy="285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268960" y="1562040"/>
            <a:ext cx="228600" cy="285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198960" y="1924200"/>
            <a:ext cx="4317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649840" y="1606680"/>
            <a:ext cx="0" cy="90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2798640" y="1917720"/>
            <a:ext cx="559080" cy="495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V="1">
            <a:off x="2811600" y="2095560"/>
            <a:ext cx="2489040" cy="812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ultiplexers as general-purpose logic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944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er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(A,B,C,D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 be realized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y an 8:1 MU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638280" y="2963880"/>
            <a:ext cx="7559640" cy="3744720"/>
            <a:chOff x="638280" y="2963880"/>
            <a:chExt cx="7559640" cy="3744720"/>
          </a:xfrm>
        </p:grpSpPr>
        <p:sp>
          <p:nvSpPr>
            <p:cNvPr id="529" name=""/>
            <p:cNvSpPr/>
            <p:nvPr/>
          </p:nvSpPr>
          <p:spPr>
            <a:xfrm>
              <a:off x="638280" y="5388120"/>
              <a:ext cx="23112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hoose A,B,C as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ntrol variab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0" name=""/>
            <p:cNvGrpSpPr/>
            <p:nvPr/>
          </p:nvGrpSpPr>
          <p:grpSpPr>
            <a:xfrm>
              <a:off x="3137040" y="2963880"/>
              <a:ext cx="5060880" cy="3744720"/>
              <a:chOff x="3137040" y="2963880"/>
              <a:chExt cx="5060880" cy="3744720"/>
            </a:xfrm>
          </p:grpSpPr>
          <p:grpSp>
            <p:nvGrpSpPr>
              <p:cNvPr id="531" name=""/>
              <p:cNvGrpSpPr/>
              <p:nvPr/>
            </p:nvGrpSpPr>
            <p:grpSpPr>
              <a:xfrm>
                <a:off x="6178680" y="3807000"/>
                <a:ext cx="2019240" cy="2666880"/>
                <a:chOff x="6178680" y="3807000"/>
                <a:chExt cx="2019240" cy="2666880"/>
              </a:xfrm>
            </p:grpSpPr>
            <p:sp>
              <p:nvSpPr>
                <p:cNvPr id="532" name=""/>
                <p:cNvSpPr/>
                <p:nvPr/>
              </p:nvSpPr>
              <p:spPr>
                <a:xfrm>
                  <a:off x="7588440" y="6194520"/>
                  <a:ext cx="558720" cy="27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698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6826320" y="6181920"/>
                  <a:ext cx="559080" cy="27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698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7220160" y="6181920"/>
                  <a:ext cx="558720" cy="27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698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6737400" y="3832200"/>
                  <a:ext cx="165240" cy="210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698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6178680" y="3832200"/>
                  <a:ext cx="190440" cy="210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698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ff"/>
                      </a:solidFill>
                      <a:latin typeface="Arial"/>
                    </a:rPr>
                    <a:t>1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ff00"/>
                      </a:solidFill>
                      <a:latin typeface="Arial"/>
                    </a:rPr>
                    <a:t>D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ff"/>
                      </a:solidFill>
                      <a:latin typeface="Arial"/>
                    </a:rPr>
                    <a:t>1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ff0000"/>
                      </a:solidFill>
                      <a:latin typeface="Arial"/>
                    </a:rPr>
                    <a:t>D’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ff00"/>
                      </a:solidFill>
                      <a:latin typeface="Arial"/>
                    </a:rPr>
                    <a:t>D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ff0000"/>
                      </a:solidFill>
                      <a:latin typeface="Arial"/>
                    </a:rPr>
                    <a:t>D’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ff0000"/>
                      </a:solidFill>
                      <a:latin typeface="Arial"/>
                    </a:rPr>
                    <a:t>D’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6813720" y="5572080"/>
                  <a:ext cx="647640" cy="59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698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6750360" y="4721400"/>
                  <a:ext cx="1130040" cy="59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 algn="ctr">
                    <a:lnSpc>
                      <a:spcPts val="1698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8:1 MUX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7182000" y="5572080"/>
                  <a:ext cx="647640" cy="59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698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7550280" y="5572080"/>
                  <a:ext cx="647640" cy="59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698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6674040" y="3807000"/>
                  <a:ext cx="1143000" cy="20574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7817040" y="4797360"/>
                  <a:ext cx="380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 flipH="1">
                  <a:off x="6445080" y="3959280"/>
                  <a:ext cx="228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 flipH="1">
                  <a:off x="6445080" y="4187880"/>
                  <a:ext cx="228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 flipH="1">
                  <a:off x="6445080" y="4416480"/>
                  <a:ext cx="228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 flipH="1">
                  <a:off x="6445080" y="4645080"/>
                  <a:ext cx="228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6902640" y="586440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7283520" y="586440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 flipH="1">
                  <a:off x="6445080" y="4873680"/>
                  <a:ext cx="228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 flipH="1">
                  <a:off x="6445080" y="5102280"/>
                  <a:ext cx="228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 flipH="1">
                  <a:off x="6445080" y="5330880"/>
                  <a:ext cx="228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 flipH="1">
                  <a:off x="6445080" y="5559480"/>
                  <a:ext cx="228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7664760" y="586440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4" name=""/>
              <p:cNvGrpSpPr/>
              <p:nvPr/>
            </p:nvGrpSpPr>
            <p:grpSpPr>
              <a:xfrm>
                <a:off x="3137040" y="2963880"/>
                <a:ext cx="2464920" cy="3744720"/>
                <a:chOff x="3137040" y="2963880"/>
                <a:chExt cx="2464920" cy="3744720"/>
              </a:xfrm>
            </p:grpSpPr>
            <p:sp>
              <p:nvSpPr>
                <p:cNvPr id="555" name=""/>
                <p:cNvSpPr/>
                <p:nvPr/>
              </p:nvSpPr>
              <p:spPr>
                <a:xfrm>
                  <a:off x="4938480" y="3254400"/>
                  <a:ext cx="241200" cy="371160"/>
                </a:xfrm>
                <a:prstGeom prst="rect">
                  <a:avLst/>
                </a:prstGeom>
                <a:noFill/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3162240" y="2963880"/>
                  <a:ext cx="2044440" cy="373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698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D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ts val="1698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5221080" y="3281400"/>
                  <a:ext cx="380880" cy="3390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ct val="98000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ff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98000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ff00"/>
                      </a:solidFill>
                      <a:latin typeface="Arial"/>
                    </a:rPr>
                    <a:t>D</a:t>
                  </a:r>
                  <a:br>
                    <a:rPr sz="1400"/>
                  </a:b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br>
                    <a:rPr sz="1400"/>
                  </a:b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ff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98000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0000"/>
                      </a:solidFill>
                      <a:latin typeface="Arial"/>
                    </a:rPr>
                    <a:t>D'</a:t>
                  </a:r>
                  <a:br>
                    <a:rPr sz="1400"/>
                  </a:br>
                  <a:br>
                    <a:rPr sz="1400"/>
                  </a:br>
                  <a:r>
                    <a:rPr b="0" lang="en-US" sz="1400" spc="-1" strike="noStrike">
                      <a:solidFill>
                        <a:srgbClr val="00ff00"/>
                      </a:solidFill>
                      <a:latin typeface="Arial"/>
                    </a:rPr>
                    <a:t>D</a:t>
                  </a:r>
                  <a:br>
                    <a:rPr sz="1400"/>
                  </a:br>
                  <a:br>
                    <a:rPr sz="1400"/>
                  </a:br>
                  <a:r>
                    <a:rPr b="0" lang="en-US" sz="1400" spc="-1" strike="noStrike">
                      <a:solidFill>
                        <a:srgbClr val="ff0000"/>
                      </a:solidFill>
                      <a:latin typeface="Arial"/>
                    </a:rPr>
                    <a:t>D’</a:t>
                  </a:r>
                  <a:br>
                    <a:rPr sz="1400"/>
                  </a:br>
                  <a:br>
                    <a:rPr sz="1400"/>
                  </a:br>
                  <a:r>
                    <a:rPr b="0" lang="en-US" sz="1400" spc="-1" strike="noStrike">
                      <a:solidFill>
                        <a:srgbClr val="ff0000"/>
                      </a:solidFill>
                      <a:latin typeface="Arial"/>
                    </a:rPr>
                    <a:t>D’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98000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3137040" y="3230280"/>
                  <a:ext cx="2247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4870440" y="2982960"/>
                  <a:ext cx="0" cy="3724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4406760" y="3236760"/>
                  <a:ext cx="0" cy="3471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3137040" y="3649680"/>
                  <a:ext cx="199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 flipH="1">
                  <a:off x="3137040" y="4081320"/>
                  <a:ext cx="199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3137040" y="4525920"/>
                  <a:ext cx="199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3137040" y="4944960"/>
                  <a:ext cx="1955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3137040" y="5364000"/>
                  <a:ext cx="199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 flipH="1">
                  <a:off x="3137040" y="5796000"/>
                  <a:ext cx="199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3137040" y="6240240"/>
                  <a:ext cx="199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4938480" y="3673440"/>
                  <a:ext cx="241200" cy="371520"/>
                </a:xfrm>
                <a:prstGeom prst="rect">
                  <a:avLst/>
                </a:prstGeom>
                <a:noFill/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3137040" y="3649680"/>
                  <a:ext cx="2247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3137040" y="4081320"/>
                  <a:ext cx="2247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3137040" y="4525920"/>
                  <a:ext cx="2247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3137040" y="4944960"/>
                  <a:ext cx="2247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3137040" y="5364000"/>
                  <a:ext cx="2247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3137040" y="5796000"/>
                  <a:ext cx="2247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3137040" y="6240240"/>
                  <a:ext cx="2247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4938480" y="4130640"/>
                  <a:ext cx="241200" cy="3715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4938480" y="4549680"/>
                  <a:ext cx="241200" cy="371520"/>
                </a:xfrm>
                <a:prstGeom prst="rect">
                  <a:avLst/>
                </a:prstGeom>
                <a:noFill/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4938480" y="4968720"/>
                  <a:ext cx="241200" cy="371520"/>
                </a:xfrm>
                <a:prstGeom prst="rect">
                  <a:avLst/>
                </a:pr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4938480" y="5387760"/>
                  <a:ext cx="241200" cy="371520"/>
                </a:xfrm>
                <a:prstGeom prst="rect">
                  <a:avLst/>
                </a:prstGeom>
                <a:noFill/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4938480" y="5844960"/>
                  <a:ext cx="241200" cy="371520"/>
                </a:xfrm>
                <a:prstGeom prst="rect">
                  <a:avLst/>
                </a:pr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4938480" y="6264000"/>
                  <a:ext cx="241200" cy="371520"/>
                </a:xfrm>
                <a:prstGeom prst="rect">
                  <a:avLst/>
                </a:pr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2F5A-2AC2-4DCA-A71B-75F190A4578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lize F = B’CD’ + ABC’ with a 4:1 multiplexer and a minimum of other gat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838080" y="2590920"/>
            <a:ext cx="2247840" cy="3743280"/>
            <a:chOff x="838080" y="2590920"/>
            <a:chExt cx="2247840" cy="3743280"/>
          </a:xfrm>
        </p:grpSpPr>
        <p:sp>
          <p:nvSpPr>
            <p:cNvPr id="585" name=""/>
            <p:cNvSpPr/>
            <p:nvPr/>
          </p:nvSpPr>
          <p:spPr>
            <a:xfrm>
              <a:off x="863280" y="2590920"/>
              <a:ext cx="2044800" cy="37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838080" y="2857680"/>
              <a:ext cx="22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571480" y="2610000"/>
              <a:ext cx="0" cy="372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838080" y="3276720"/>
              <a:ext cx="1993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H="1">
              <a:off x="838080" y="3708360"/>
              <a:ext cx="1993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838080" y="4152960"/>
              <a:ext cx="1993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838080" y="4572000"/>
              <a:ext cx="1955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838080" y="4991040"/>
              <a:ext cx="1993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H="1">
              <a:off x="838080" y="5423040"/>
              <a:ext cx="1993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838080" y="5867280"/>
              <a:ext cx="1993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838080" y="3276720"/>
              <a:ext cx="22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838080" y="3708360"/>
              <a:ext cx="22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838080" y="4152960"/>
              <a:ext cx="22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838080" y="4572000"/>
              <a:ext cx="22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838080" y="4991040"/>
              <a:ext cx="22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838080" y="5423040"/>
              <a:ext cx="22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838080" y="5867280"/>
              <a:ext cx="22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1166760" y="2552760"/>
            <a:ext cx="4191120" cy="3805200"/>
            <a:chOff x="1166760" y="2552760"/>
            <a:chExt cx="4191120" cy="3805200"/>
          </a:xfrm>
        </p:grpSpPr>
        <p:sp>
          <p:nvSpPr>
            <p:cNvPr id="603" name=""/>
            <p:cNvSpPr/>
            <p:nvPr/>
          </p:nvSpPr>
          <p:spPr>
            <a:xfrm>
              <a:off x="1166760" y="2552760"/>
              <a:ext cx="903240" cy="3805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4" name=""/>
            <p:cNvGrpSpPr/>
            <p:nvPr/>
          </p:nvGrpSpPr>
          <p:grpSpPr>
            <a:xfrm>
              <a:off x="2971800" y="2571840"/>
              <a:ext cx="2386080" cy="2200320"/>
              <a:chOff x="2971800" y="2571840"/>
              <a:chExt cx="2386080" cy="2200320"/>
            </a:xfrm>
          </p:grpSpPr>
          <p:sp>
            <p:nvSpPr>
              <p:cNvPr id="605" name=""/>
              <p:cNvSpPr/>
              <p:nvPr/>
            </p:nvSpPr>
            <p:spPr>
              <a:xfrm flipH="1">
                <a:off x="2984760" y="2784600"/>
                <a:ext cx="1133280" cy="28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H="1">
                <a:off x="2971800" y="2784600"/>
                <a:ext cx="1146240" cy="1987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4101120" y="2571840"/>
                <a:ext cx="1256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 when B’C’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8" name=""/>
            <p:cNvGrpSpPr/>
            <p:nvPr/>
          </p:nvGrpSpPr>
          <p:grpSpPr>
            <a:xfrm>
              <a:off x="3003480" y="3473280"/>
              <a:ext cx="2351880" cy="1742760"/>
              <a:chOff x="3003480" y="3473280"/>
              <a:chExt cx="2351880" cy="1742760"/>
            </a:xfrm>
          </p:grpSpPr>
          <p:sp>
            <p:nvSpPr>
              <p:cNvPr id="609" name=""/>
              <p:cNvSpPr/>
              <p:nvPr/>
            </p:nvSpPr>
            <p:spPr>
              <a:xfrm flipH="1" flipV="1">
                <a:off x="3026880" y="3473280"/>
                <a:ext cx="1036440" cy="171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H="1">
                <a:off x="3003480" y="3644640"/>
                <a:ext cx="1072800" cy="1571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4066560" y="3482640"/>
                <a:ext cx="1288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D’ when B’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2" name=""/>
            <p:cNvGrpSpPr/>
            <p:nvPr/>
          </p:nvGrpSpPr>
          <p:grpSpPr>
            <a:xfrm>
              <a:off x="3041280" y="3940200"/>
              <a:ext cx="2208240" cy="1676520"/>
              <a:chOff x="3041280" y="3940200"/>
              <a:chExt cx="2208240" cy="1676520"/>
            </a:xfrm>
          </p:grpSpPr>
          <p:sp>
            <p:nvSpPr>
              <p:cNvPr id="613" name=""/>
              <p:cNvSpPr/>
              <p:nvPr/>
            </p:nvSpPr>
            <p:spPr>
              <a:xfrm flipH="1" flipV="1">
                <a:off x="3041280" y="3940200"/>
                <a:ext cx="99036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H="1">
                <a:off x="3041280" y="4397400"/>
                <a:ext cx="996840" cy="1219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4014360" y="4245120"/>
                <a:ext cx="1235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 when BC’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6" name=""/>
            <p:cNvGrpSpPr/>
            <p:nvPr/>
          </p:nvGrpSpPr>
          <p:grpSpPr>
            <a:xfrm>
              <a:off x="3041640" y="4397040"/>
              <a:ext cx="2211120" cy="1676880"/>
              <a:chOff x="3041640" y="4397040"/>
              <a:chExt cx="2211120" cy="1676880"/>
            </a:xfrm>
          </p:grpSpPr>
          <p:sp>
            <p:nvSpPr>
              <p:cNvPr id="617" name=""/>
              <p:cNvSpPr/>
              <p:nvPr/>
            </p:nvSpPr>
            <p:spPr>
              <a:xfrm flipH="1" flipV="1">
                <a:off x="3041640" y="4397040"/>
                <a:ext cx="990720" cy="68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H="1">
                <a:off x="3041640" y="5083200"/>
                <a:ext cx="990720" cy="9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066200" y="4930920"/>
                <a:ext cx="1186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 when B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0" name=""/>
          <p:cNvSpPr/>
          <p:nvPr/>
        </p:nvSpPr>
        <p:spPr>
          <a:xfrm>
            <a:off x="5401080" y="5715000"/>
            <a:ext cx="339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 = B’C’(0) + B’C(D’) + BC’(A) + BC(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1" name=""/>
          <p:cNvGrpSpPr/>
          <p:nvPr/>
        </p:nvGrpSpPr>
        <p:grpSpPr>
          <a:xfrm>
            <a:off x="6248520" y="3581280"/>
            <a:ext cx="2324160" cy="1847880"/>
            <a:chOff x="6248520" y="3581280"/>
            <a:chExt cx="2324160" cy="1847880"/>
          </a:xfrm>
        </p:grpSpPr>
        <p:sp>
          <p:nvSpPr>
            <p:cNvPr id="622" name=""/>
            <p:cNvSpPr/>
            <p:nvPr/>
          </p:nvSpPr>
          <p:spPr>
            <a:xfrm>
              <a:off x="7315200" y="4832280"/>
              <a:ext cx="5590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709040" y="4832280"/>
              <a:ext cx="5587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188480" y="4375080"/>
              <a:ext cx="6476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556760" y="4375080"/>
              <a:ext cx="6476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8039160" y="3816000"/>
              <a:ext cx="5335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756480" y="3638160"/>
              <a:ext cx="279360" cy="12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762960" y="3581280"/>
              <a:ext cx="1130040" cy="1066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756480" y="3943080"/>
              <a:ext cx="11304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:1 MU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918560" y="4120920"/>
              <a:ext cx="35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flipH="1">
              <a:off x="6508800" y="379080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6508800" y="400644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H="1">
              <a:off x="6521040" y="4235040"/>
              <a:ext cx="24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>
              <a:off x="6534000" y="443844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248520" y="3638160"/>
              <a:ext cx="343080" cy="12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’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340760" y="464796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721640" y="464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8" name=""/>
          <p:cNvSpPr/>
          <p:nvPr/>
        </p:nvSpPr>
        <p:spPr>
          <a:xfrm>
            <a:off x="293760" y="2494080"/>
            <a:ext cx="8682120" cy="416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6D91-3B65-4EB1-ADEB-3A142316631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/>
          <p:nvPr/>
        </p:nvSpPr>
        <p:spPr>
          <a:xfrm>
            <a:off x="2117520" y="3805200"/>
            <a:ext cx="1380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1:2 Decoder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0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1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929600" y="4795920"/>
            <a:ext cx="1855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 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2:4 Decoder: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0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1’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0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1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1’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2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1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0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3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1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074200" y="3805200"/>
            <a:ext cx="2340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     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3:8 Decoder: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0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2’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1’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0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1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2’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1’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2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2’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1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0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3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2’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1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4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2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1’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0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5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2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1’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6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2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1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0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7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2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1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multiplexers/decoder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oders/demultiplexers: general concep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data input, n control inputs,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out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 inputs (called “selects” (S)) represent binary index of output to which the input is conn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input usually called “enable” (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5A6B-E8C3-4919-B754-A574530FE7F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2362320" y="165096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tive-high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197760" y="1650960"/>
            <a:ext cx="1104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tive-low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44600" y="4089240"/>
            <a:ext cx="1434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tive-high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079960" y="4089240"/>
            <a:ext cx="1104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tive-low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2590920" y="2120760"/>
            <a:ext cx="2692440" cy="1079280"/>
            <a:chOff x="2590920" y="2120760"/>
            <a:chExt cx="2692440" cy="1079280"/>
          </a:xfrm>
        </p:grpSpPr>
        <p:sp>
          <p:nvSpPr>
            <p:cNvPr id="649" name=""/>
            <p:cNvSpPr/>
            <p:nvPr/>
          </p:nvSpPr>
          <p:spPr>
            <a:xfrm>
              <a:off x="4673880" y="2209680"/>
              <a:ext cx="5968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590920" y="2120760"/>
              <a:ext cx="279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2501640"/>
              <a:ext cx="5079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686480" y="2844360"/>
              <a:ext cx="5968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956400" y="215856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956400" y="253980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V="1">
              <a:off x="3949920" y="2152080"/>
              <a:ext cx="0" cy="39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166280" y="2172960"/>
              <a:ext cx="35496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159800" y="2166480"/>
              <a:ext cx="38016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165920" y="2158920"/>
              <a:ext cx="35532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159440" y="2165040"/>
              <a:ext cx="38052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956400" y="279360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956400" y="317484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V="1">
              <a:off x="3949920" y="2787120"/>
              <a:ext cx="0" cy="39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166280" y="2808000"/>
              <a:ext cx="35496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159800" y="2801520"/>
              <a:ext cx="38016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165920" y="2793960"/>
              <a:ext cx="35532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159440" y="2787840"/>
              <a:ext cx="380520" cy="39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295800" y="2355480"/>
              <a:ext cx="22860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V="1">
              <a:off x="3295800" y="2495160"/>
              <a:ext cx="22860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289680" y="23554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537000" y="2482560"/>
              <a:ext cx="6372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540320" y="234936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791160" y="227304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791160" y="306036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702240" y="306036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695760" y="2279520"/>
              <a:ext cx="0" cy="77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683160" y="2247480"/>
              <a:ext cx="5076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876760" y="2273040"/>
              <a:ext cx="81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702240" y="227304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540320" y="298440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130920" y="250164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791160" y="290808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784680" y="282564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130920" y="2819160"/>
              <a:ext cx="64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124440" y="250812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098880" y="2653920"/>
              <a:ext cx="511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124440" y="2673000"/>
              <a:ext cx="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876760" y="266688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791160" y="242532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625920" y="250164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784680" y="2431800"/>
              <a:ext cx="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1" name=""/>
          <p:cNvGrpSpPr/>
          <p:nvPr/>
        </p:nvGrpSpPr>
        <p:grpSpPr>
          <a:xfrm>
            <a:off x="6172200" y="2120760"/>
            <a:ext cx="2743200" cy="1074240"/>
            <a:chOff x="6172200" y="2120760"/>
            <a:chExt cx="2743200" cy="1074240"/>
          </a:xfrm>
        </p:grpSpPr>
        <p:sp>
          <p:nvSpPr>
            <p:cNvPr id="692" name=""/>
            <p:cNvSpPr/>
            <p:nvPr/>
          </p:nvSpPr>
          <p:spPr>
            <a:xfrm>
              <a:off x="8305560" y="2196720"/>
              <a:ext cx="5968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172200" y="2120760"/>
              <a:ext cx="3682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\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222960" y="2501640"/>
              <a:ext cx="5079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8318520" y="2831760"/>
              <a:ext cx="5968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588080" y="215856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588080" y="253980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V="1">
              <a:off x="7581600" y="2152080"/>
              <a:ext cx="0" cy="39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797960" y="2172960"/>
              <a:ext cx="35496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791840" y="2166480"/>
              <a:ext cx="38016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797600" y="2158920"/>
              <a:ext cx="35532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791480" y="2165040"/>
              <a:ext cx="38052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588080" y="279360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588080" y="317484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flipV="1">
              <a:off x="7581600" y="2787120"/>
              <a:ext cx="0" cy="39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797960" y="2808000"/>
              <a:ext cx="35496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791840" y="2801520"/>
              <a:ext cx="38016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797600" y="2793960"/>
              <a:ext cx="35532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791480" y="2787840"/>
              <a:ext cx="380520" cy="39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927840" y="2673000"/>
              <a:ext cx="22860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flipV="1">
              <a:off x="6927840" y="2812680"/>
              <a:ext cx="22860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921360" y="267300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169040" y="2800080"/>
              <a:ext cx="6336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8172360" y="234936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422840" y="227304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422840" y="306036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334280" y="306036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327800" y="2279520"/>
              <a:ext cx="0" cy="77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315200" y="2247480"/>
              <a:ext cx="5076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508440" y="2273040"/>
              <a:ext cx="81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334280" y="227304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8172360" y="298440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762600" y="281916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422840" y="290808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416720" y="282564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762600" y="2501640"/>
              <a:ext cx="64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756120" y="250812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730920" y="265392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756120" y="2673000"/>
              <a:ext cx="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508440" y="2666880"/>
              <a:ext cx="24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422840" y="242532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257960" y="281916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416720" y="2431800"/>
              <a:ext cx="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511760" y="2406240"/>
              <a:ext cx="63720" cy="63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511760" y="2241360"/>
              <a:ext cx="6372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511760" y="3041280"/>
              <a:ext cx="63720" cy="63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511760" y="2876400"/>
              <a:ext cx="6372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8" name=""/>
          <p:cNvGrpSpPr/>
          <p:nvPr/>
        </p:nvGrpSpPr>
        <p:grpSpPr>
          <a:xfrm>
            <a:off x="1308240" y="3632040"/>
            <a:ext cx="2781000" cy="3073680"/>
            <a:chOff x="1308240" y="3632040"/>
            <a:chExt cx="2781000" cy="3073680"/>
          </a:xfrm>
        </p:grpSpPr>
        <p:sp>
          <p:nvSpPr>
            <p:cNvPr id="739" name=""/>
            <p:cNvSpPr/>
            <p:nvPr/>
          </p:nvSpPr>
          <p:spPr>
            <a:xfrm>
              <a:off x="1892160" y="6362640"/>
              <a:ext cx="6480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505320" y="4762440"/>
              <a:ext cx="5713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517920" y="5283360"/>
              <a:ext cx="5713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517920" y="3746520"/>
              <a:ext cx="5713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308240" y="3632040"/>
              <a:ext cx="2538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517920" y="4254480"/>
              <a:ext cx="5713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273400" y="6375240"/>
              <a:ext cx="64764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flipH="1" flipV="1">
              <a:off x="2622600" y="5784840"/>
              <a:ext cx="13968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V="1">
              <a:off x="2508120" y="5784840"/>
              <a:ext cx="11448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H="1">
              <a:off x="2495160" y="59817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610000" y="57466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H="1" flipV="1">
              <a:off x="2241720" y="5784840"/>
              <a:ext cx="13968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V="1">
              <a:off x="2127240" y="5784840"/>
              <a:ext cx="11448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2114280" y="59817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228760" y="57466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952720" y="373392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952720" y="40384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374004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111840" y="374796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05360" y="374184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111480" y="373392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105000" y="372744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952720" y="424188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952720" y="45464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946240" y="424800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111840" y="425592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105360" y="424980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11480" y="424188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105000" y="423540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952720" y="474984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952720" y="50547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946240" y="475632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111840" y="476424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105360" y="475776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111480" y="4749480"/>
              <a:ext cx="27900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105000" y="474336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952720" y="525780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952720" y="55627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946240" y="526428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111840" y="527220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05360" y="526572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111480" y="5257440"/>
              <a:ext cx="27900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105000" y="525132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397320" y="388620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247840" y="56070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825640" y="388620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825640" y="43941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247840" y="363852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235240" y="387360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247840" y="3892680"/>
              <a:ext cx="0" cy="49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235240" y="438156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247840" y="4400640"/>
              <a:ext cx="0" cy="119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254320" y="3886200"/>
              <a:ext cx="55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254320" y="4394160"/>
              <a:ext cx="55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397320" y="43941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629080" y="56070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825640" y="40132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825640" y="502920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629080" y="363852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616120" y="40006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629080" y="4019400"/>
              <a:ext cx="0" cy="100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616120" y="501660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629080" y="5035680"/>
              <a:ext cx="0" cy="55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635200" y="40132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635200" y="50292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397320" y="490212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825640" y="375912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825640" y="42670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825640" y="47750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825640" y="52833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1555920" y="375912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790640" y="37465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1809720" y="375912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1809720" y="426708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790640" y="42544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809720" y="477504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790640" y="476244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809720" y="528336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803240" y="376560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1803240" y="427356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803240" y="478152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247840" y="598788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825640" y="490212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825640" y="54100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063880" y="61088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044800" y="60958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057400" y="3638520"/>
              <a:ext cx="0" cy="125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044800" y="48895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057400" y="490860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044800" y="53974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057400" y="541656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057400" y="6114960"/>
              <a:ext cx="0" cy="24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063880" y="4902120"/>
              <a:ext cx="74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063880" y="5410080"/>
              <a:ext cx="74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629080" y="598788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825640" y="45212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825640" y="55371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444760" y="61088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425680" y="60958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438280" y="3638520"/>
              <a:ext cx="0" cy="87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425680" y="450864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438280" y="4527720"/>
              <a:ext cx="0" cy="100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425680" y="552456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438280" y="5543640"/>
              <a:ext cx="0" cy="55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438280" y="6114960"/>
              <a:ext cx="0" cy="24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444760" y="452124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444760" y="553716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397320" y="54100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5638680" y="3638520"/>
            <a:ext cx="2819520" cy="3054240"/>
            <a:chOff x="5638680" y="3638520"/>
            <a:chExt cx="2819520" cy="3054240"/>
          </a:xfrm>
        </p:grpSpPr>
        <p:sp>
          <p:nvSpPr>
            <p:cNvPr id="848" name=""/>
            <p:cNvSpPr/>
            <p:nvPr/>
          </p:nvSpPr>
          <p:spPr>
            <a:xfrm>
              <a:off x="6261120" y="6350040"/>
              <a:ext cx="6476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873920" y="4749840"/>
              <a:ext cx="5716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886880" y="5270400"/>
              <a:ext cx="57132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886880" y="3733920"/>
              <a:ext cx="5713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638680" y="3645000"/>
              <a:ext cx="3556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\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886880" y="4241880"/>
              <a:ext cx="5713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642000" y="6362640"/>
              <a:ext cx="6476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H="1" flipV="1">
              <a:off x="7004160" y="5784840"/>
              <a:ext cx="13968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flipV="1">
              <a:off x="6889680" y="5784840"/>
              <a:ext cx="11448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 flipH="1">
              <a:off x="6876720" y="59817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91200" y="5746680"/>
              <a:ext cx="5112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H="1" flipV="1">
              <a:off x="6622920" y="5784840"/>
              <a:ext cx="13968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V="1">
              <a:off x="6508800" y="5784840"/>
              <a:ext cx="11412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H="1">
              <a:off x="6496200" y="5981760"/>
              <a:ext cx="26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610320" y="57466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334280" y="373392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7334280" y="40384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327800" y="374004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493400" y="374796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486920" y="374184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7493040" y="373392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7486560" y="372744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334280" y="424188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334280" y="45464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7327800" y="424800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493400" y="425592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7486920" y="424980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7493040" y="424188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486560" y="423540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334280" y="474984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334280" y="50547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327800" y="475632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493400" y="476424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486920" y="475776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493040" y="4749480"/>
              <a:ext cx="27900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486560" y="474336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334280" y="525780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334280" y="55627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27800" y="526428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493400" y="527220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486920" y="526572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93040" y="5257440"/>
              <a:ext cx="27900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86560" y="525132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778880" y="388620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629400" y="598788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207200" y="388620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207200" y="43941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445080" y="61088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426360" y="6095880"/>
              <a:ext cx="378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438960" y="363852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426360" y="3873600"/>
              <a:ext cx="378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438960" y="3892680"/>
              <a:ext cx="0" cy="49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426360" y="4381560"/>
              <a:ext cx="378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438960" y="4400640"/>
              <a:ext cx="0" cy="170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438960" y="6114960"/>
              <a:ext cx="0" cy="24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445080" y="3886200"/>
              <a:ext cx="749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445080" y="4394160"/>
              <a:ext cx="749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778880" y="43941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010280" y="598788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207200" y="40132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207200" y="502920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826320" y="61088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807240" y="60958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6819840" y="363852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6807240" y="40006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819840" y="4019400"/>
              <a:ext cx="0" cy="100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807240" y="501660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6819840" y="5035680"/>
              <a:ext cx="0" cy="10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6819840" y="6114960"/>
              <a:ext cx="0" cy="24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826320" y="401328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6826320" y="502920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7778880" y="490212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7207200" y="375912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7207200" y="42670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207200" y="47750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7207200" y="52833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937120" y="3759120"/>
              <a:ext cx="24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172200" y="37465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191280" y="375912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191280" y="426708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172200" y="42544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6191280" y="477504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172200" y="476244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6191280" y="528336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6184800" y="376560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6184800" y="427356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184800" y="478152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6629400" y="56070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207200" y="54100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207200" y="490212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629400" y="3638520"/>
              <a:ext cx="0" cy="125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616800" y="48895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629400" y="490860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6616800" y="53974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629400" y="541656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635880" y="5410080"/>
              <a:ext cx="55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635880" y="4902120"/>
              <a:ext cx="55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7010280" y="56070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7207200" y="55371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7207200" y="45212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010280" y="3638520"/>
              <a:ext cx="0" cy="87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997680" y="450864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010280" y="4527720"/>
              <a:ext cx="0" cy="100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6997680" y="552456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7010280" y="554364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7016760" y="55371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016760" y="45212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7778880" y="54100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7270920" y="551808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7270920" y="5391000"/>
              <a:ext cx="50760" cy="51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7270920" y="526428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7270920" y="501012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7270920" y="488304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270920" y="475632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7270920" y="450216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7270920" y="437508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7270920" y="4248000"/>
              <a:ext cx="50760" cy="51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7270920" y="399420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270920" y="386712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270920" y="374004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Gate level implementation of demultiplexer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:2 decoders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:4 decod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5E59-1B93-40FF-B362-4769F0AA6EC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"/>
          <p:cNvSpPr/>
          <p:nvPr/>
        </p:nvSpPr>
        <p:spPr>
          <a:xfrm>
            <a:off x="4343400" y="4038480"/>
            <a:ext cx="4038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multiplexer generates appropri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interm based on control sign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t "decodes" control signa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multiplexers as general-purpose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n: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decoder can implement any function of n variab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the variables used as control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nable inputs tied to 1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ppropriate minterms summed to form the func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3" name=""/>
          <p:cNvGrpSpPr/>
          <p:nvPr/>
        </p:nvGrpSpPr>
        <p:grpSpPr>
          <a:xfrm>
            <a:off x="914400" y="3581280"/>
            <a:ext cx="2806560" cy="2667240"/>
            <a:chOff x="914400" y="3581280"/>
            <a:chExt cx="2806560" cy="2667240"/>
          </a:xfrm>
        </p:grpSpPr>
        <p:sp>
          <p:nvSpPr>
            <p:cNvPr id="974" name=""/>
            <p:cNvSpPr/>
            <p:nvPr/>
          </p:nvSpPr>
          <p:spPr>
            <a:xfrm>
              <a:off x="3124080" y="3657600"/>
              <a:ext cx="59688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6858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'C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'C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C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C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'C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'C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C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502000" y="5969160"/>
              <a:ext cx="5587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714680" y="5956200"/>
              <a:ext cx="5587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108160" y="5956200"/>
              <a:ext cx="5587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514600" y="3606840"/>
              <a:ext cx="165240" cy="21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1701720" y="5346720"/>
              <a:ext cx="6476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1523880" y="4495680"/>
              <a:ext cx="11304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:8 DE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070000" y="5346720"/>
              <a:ext cx="6476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438280" y="5346720"/>
              <a:ext cx="6480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914400" y="4419720"/>
              <a:ext cx="5335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1600200" y="3581280"/>
              <a:ext cx="11430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1219320" y="457200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 flipH="1">
              <a:off x="2742840" y="37339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 flipH="1">
              <a:off x="2742840" y="39625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 flipH="1">
              <a:off x="2742840" y="41911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 flipH="1">
              <a:off x="2742840" y="44197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1790640" y="56386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171880" y="56386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 flipH="1">
              <a:off x="2742840" y="46483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 flipH="1">
              <a:off x="2742840" y="48769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 flipH="1">
              <a:off x="2742840" y="51055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 flipH="1">
              <a:off x="2742840" y="53341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552760" y="56386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BEC2-83FB-4ED6-B9F7-CB085E9A2CA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7" name=""/>
          <p:cNvGrpSpPr/>
          <p:nvPr/>
        </p:nvGrpSpPr>
        <p:grpSpPr>
          <a:xfrm>
            <a:off x="6254280" y="2680920"/>
            <a:ext cx="2730960" cy="3175200"/>
            <a:chOff x="6254280" y="2680920"/>
            <a:chExt cx="2730960" cy="3175200"/>
          </a:xfrm>
        </p:grpSpPr>
        <p:sp>
          <p:nvSpPr>
            <p:cNvPr id="998" name=""/>
            <p:cNvSpPr/>
            <p:nvPr/>
          </p:nvSpPr>
          <p:spPr>
            <a:xfrm>
              <a:off x="6801120" y="2707920"/>
              <a:ext cx="1307520" cy="41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6794640" y="2689200"/>
              <a:ext cx="13327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6877440" y="2680920"/>
              <a:ext cx="123120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6870960" y="2687400"/>
              <a:ext cx="125640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7372080" y="2680920"/>
              <a:ext cx="1774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7365600" y="2687400"/>
              <a:ext cx="19044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7518240" y="289692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7372440" y="2707920"/>
              <a:ext cx="177120" cy="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7365960" y="2689200"/>
              <a:ext cx="19008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6565680" y="2706480"/>
              <a:ext cx="939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6718320" y="2896920"/>
              <a:ext cx="787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6896160" y="308736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8140680" y="289692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6559560" y="2712960"/>
              <a:ext cx="0" cy="39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 flipH="1">
              <a:off x="6254280" y="30938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6254640" y="355104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 flipV="1">
              <a:off x="6711840" y="2890800"/>
              <a:ext cx="0" cy="66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6298920" y="5856120"/>
              <a:ext cx="57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 flipV="1">
              <a:off x="6864120" y="3080880"/>
              <a:ext cx="12960" cy="275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8350200" y="2744640"/>
              <a:ext cx="6350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8" name=""/>
          <p:cNvGrpSpPr/>
          <p:nvPr/>
        </p:nvGrpSpPr>
        <p:grpSpPr>
          <a:xfrm>
            <a:off x="6254640" y="4071600"/>
            <a:ext cx="2705040" cy="1536840"/>
            <a:chOff x="6254640" y="4071600"/>
            <a:chExt cx="2705040" cy="1536840"/>
          </a:xfrm>
        </p:grpSpPr>
        <p:sp>
          <p:nvSpPr>
            <p:cNvPr id="1019" name=""/>
            <p:cNvSpPr/>
            <p:nvPr/>
          </p:nvSpPr>
          <p:spPr>
            <a:xfrm>
              <a:off x="6801120" y="4092480"/>
              <a:ext cx="130752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6794640" y="4086000"/>
              <a:ext cx="13327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6877440" y="4078440"/>
              <a:ext cx="123120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6870960" y="4071600"/>
              <a:ext cx="12564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7372080" y="4078440"/>
              <a:ext cx="17748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7365600" y="4071600"/>
              <a:ext cx="1904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7518240" y="430668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7372440" y="4092480"/>
              <a:ext cx="17712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7365960" y="4086000"/>
              <a:ext cx="19008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6553080" y="4090680"/>
              <a:ext cx="95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6718320" y="4306680"/>
              <a:ext cx="787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6883200" y="4497120"/>
              <a:ext cx="62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8140680" y="430668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6711840" y="4325760"/>
              <a:ext cx="0" cy="128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 flipH="1">
              <a:off x="6286320" y="560844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6254640" y="51512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6559560" y="4084560"/>
              <a:ext cx="0" cy="10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870600" y="4484520"/>
              <a:ext cx="38160" cy="38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6864120" y="4465440"/>
              <a:ext cx="50760" cy="63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8324640" y="4167000"/>
              <a:ext cx="6350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9" name=""/>
          <p:cNvGrpSpPr/>
          <p:nvPr/>
        </p:nvGrpSpPr>
        <p:grpSpPr>
          <a:xfrm>
            <a:off x="6864480" y="5672160"/>
            <a:ext cx="1853640" cy="622440"/>
            <a:chOff x="6864480" y="5672160"/>
            <a:chExt cx="1853640" cy="622440"/>
          </a:xfrm>
        </p:grpSpPr>
        <p:sp>
          <p:nvSpPr>
            <p:cNvPr id="1040" name=""/>
            <p:cNvSpPr/>
            <p:nvPr/>
          </p:nvSpPr>
          <p:spPr>
            <a:xfrm>
              <a:off x="7518240" y="5672160"/>
              <a:ext cx="25380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 flipV="1">
              <a:off x="7518240" y="5850000"/>
              <a:ext cx="25380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7512120" y="567216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7785000" y="5824800"/>
              <a:ext cx="7596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6896160" y="5856480"/>
              <a:ext cx="60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873920" y="585648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6870600" y="5843880"/>
              <a:ext cx="37800" cy="378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6864480" y="5837400"/>
              <a:ext cx="50400" cy="63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8083440" y="5697720"/>
              <a:ext cx="6346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42616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multiplexers as general-purpose logic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37540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1 = A'BC'D + A'B'CD + ABC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2 = ABC'D' + AB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3 = (A' + B' + C' + D'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1" name=""/>
          <p:cNvGrpSpPr/>
          <p:nvPr/>
        </p:nvGrpSpPr>
        <p:grpSpPr>
          <a:xfrm>
            <a:off x="2943360" y="2255760"/>
            <a:ext cx="3276000" cy="4635360"/>
            <a:chOff x="2943360" y="2255760"/>
            <a:chExt cx="3276000" cy="4635360"/>
          </a:xfrm>
        </p:grpSpPr>
        <p:sp>
          <p:nvSpPr>
            <p:cNvPr id="1052" name=""/>
            <p:cNvSpPr/>
            <p:nvPr/>
          </p:nvSpPr>
          <p:spPr>
            <a:xfrm>
              <a:off x="4098600" y="6294240"/>
              <a:ext cx="5587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340160" y="6294240"/>
              <a:ext cx="55836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4848120" y="2255760"/>
              <a:ext cx="1371240" cy="38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spcAft>
                  <a:spcPts val="2001"/>
                </a:spcAft>
                <a:tabLst>
                  <a:tab algn="l" pos="0"/>
                  <a:tab algn="l" pos="6858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'C'D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'C'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'CD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'C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C'D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C'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CD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C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8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'C'D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'C'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'CD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'C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C'D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C'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CD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C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908160" y="3938400"/>
              <a:ext cx="1104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:16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E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943360" y="4084560"/>
              <a:ext cx="78696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n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4009680" y="2255760"/>
              <a:ext cx="1142640" cy="3733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628800" y="4236840"/>
              <a:ext cx="380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162320" y="598932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4390920" y="5989320"/>
              <a:ext cx="108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848120" y="5989320"/>
              <a:ext cx="108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5152680" y="24080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 flipV="1">
              <a:off x="5152680" y="26366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 flipH="1">
              <a:off x="4619160" y="5989320"/>
              <a:ext cx="108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568760" y="6294240"/>
              <a:ext cx="55836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784400" y="6294240"/>
              <a:ext cx="5587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5152680" y="28652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 flipV="1">
              <a:off x="5152680" y="30938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5152680" y="33224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 flipV="1">
              <a:off x="5152680" y="35510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152680" y="37796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 flipV="1">
              <a:off x="5152680" y="40082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152680" y="42368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 flipV="1">
              <a:off x="5152680" y="44654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152680" y="46940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 flipV="1">
              <a:off x="5152680" y="49226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5152680" y="51512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V="1">
              <a:off x="5152680" y="53798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5152680" y="56084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V="1">
              <a:off x="5152680" y="58370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E826-CBF7-42E0-9481-103028625A0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andom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nsistors quickly integrated into logic gates (1960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talog of common gates (1970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as Instruments Logic Data Book – the yellow b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common packages listed and characterized (delays, pow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 packag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14-pin IC: 6-inverters, 4 NAND gates, 4 XOR g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day, very few parts are still in 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ever, parts libraries exist for chip des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ers reuse already characterized logic gates on c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e reasons as 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ce is that the parts don’t exist in physical inventory – created a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ED1D-8BBB-4D9C-919F-D4C6AED5EAD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"/>
          <p:cNvSpPr/>
          <p:nvPr/>
        </p:nvSpPr>
        <p:spPr>
          <a:xfrm>
            <a:off x="4832280" y="3701880"/>
            <a:ext cx="4557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191120" y="3691080"/>
            <a:ext cx="4554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4511520" y="3691080"/>
            <a:ext cx="4557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4781520" y="1982880"/>
            <a:ext cx="1563840" cy="17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spcAft>
                <a:spcPts val="2001"/>
              </a:spcAft>
              <a:tabLst>
                <a:tab algn="l" pos="0"/>
                <a:tab algn="l" pos="6858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'B'C'D'E'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4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5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6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4097160" y="3319560"/>
            <a:ext cx="5288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4035600" y="2562120"/>
            <a:ext cx="9014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:8 D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397400" y="3319560"/>
            <a:ext cx="528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4697280" y="3319560"/>
            <a:ext cx="5288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3548160" y="2573280"/>
            <a:ext cx="4348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071960" y="1905120"/>
            <a:ext cx="920880" cy="1625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3770280" y="268776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4211640" y="3541680"/>
            <a:ext cx="0" cy="23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4522680" y="3541680"/>
            <a:ext cx="0" cy="236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4853160" y="3551400"/>
            <a:ext cx="0" cy="2330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5013360" y="209700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5013360" y="227340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5003640" y="245916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5013360" y="263520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5013360" y="282096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5013360" y="299736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5003640" y="318456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5013360" y="336060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2471760" y="4437000"/>
            <a:ext cx="4557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2792520" y="4437000"/>
            <a:ext cx="4554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3124080" y="3505320"/>
            <a:ext cx="1087560" cy="10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spcAft>
                <a:spcPts val="2001"/>
              </a:spcAft>
              <a:tabLst>
                <a:tab algn="l" pos="0"/>
                <a:tab algn="l" pos="6858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2378160" y="4064040"/>
            <a:ext cx="5284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2295360" y="3713040"/>
            <a:ext cx="90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:4 D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2678040" y="4064040"/>
            <a:ext cx="5288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1828800" y="3733920"/>
            <a:ext cx="4348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2352600" y="3459240"/>
            <a:ext cx="920880" cy="81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2050920" y="384660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2492280" y="4287960"/>
            <a:ext cx="0" cy="258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2803680" y="4287960"/>
            <a:ext cx="0" cy="247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3295800" y="3567240"/>
            <a:ext cx="288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3295800" y="3743280"/>
            <a:ext cx="288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3284640" y="393048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3295800" y="4106880"/>
            <a:ext cx="288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4071960" y="4183200"/>
            <a:ext cx="920880" cy="1627200"/>
          </a:xfrm>
          <a:prstGeom prst="rect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5013360" y="437508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5013360" y="455148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5003640" y="473724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5013360" y="491328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5013360" y="510048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5013360" y="527688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003640" y="546264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7080120" y="3701880"/>
            <a:ext cx="4557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6438960" y="3691080"/>
            <a:ext cx="4554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6759720" y="3691080"/>
            <a:ext cx="4554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7070760" y="1992240"/>
            <a:ext cx="1314360" cy="17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spcAft>
                <a:spcPts val="2001"/>
              </a:spcAft>
              <a:tabLst>
                <a:tab algn="l" pos="0"/>
                <a:tab algn="l" pos="6858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'BC'DE'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4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5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6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6345360" y="3319560"/>
            <a:ext cx="528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6303960" y="2562120"/>
            <a:ext cx="9000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:8 D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6645240" y="3319560"/>
            <a:ext cx="5288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6945480" y="3319560"/>
            <a:ext cx="528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5796000" y="2573280"/>
            <a:ext cx="4348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6319800" y="1905120"/>
            <a:ext cx="920880" cy="1625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6018120" y="268776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6459480" y="3541680"/>
            <a:ext cx="0" cy="230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6769080" y="3541680"/>
            <a:ext cx="0" cy="2227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7101000" y="3541680"/>
            <a:ext cx="0" cy="230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7261200" y="209700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7261200" y="227340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7251840" y="245916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7261200" y="263520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7261200" y="282096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7261200" y="299736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7251840" y="318456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7261200" y="336060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7080120" y="5979960"/>
            <a:ext cx="4557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6438960" y="5970600"/>
            <a:ext cx="4554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6319800" y="4183200"/>
            <a:ext cx="920880" cy="1627200"/>
          </a:xfrm>
          <a:prstGeom prst="rect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6759720" y="5970600"/>
            <a:ext cx="4554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7091280" y="4260960"/>
            <a:ext cx="1366920" cy="17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spcAft>
                <a:spcPts val="2001"/>
              </a:spcAft>
              <a:tabLst>
                <a:tab algn="l" pos="0"/>
                <a:tab algn="l" pos="6858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B'C'D'E'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4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5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6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B'C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5796000" y="4851360"/>
            <a:ext cx="434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6018120" y="496584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3765600" y="2692440"/>
            <a:ext cx="0" cy="86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 flipH="1">
            <a:off x="3511080" y="3567240"/>
            <a:ext cx="258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3543480" y="4105440"/>
            <a:ext cx="206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3765600" y="411156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3490920" y="3930480"/>
            <a:ext cx="251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6013440" y="3935520"/>
            <a:ext cx="0" cy="10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6004080" y="2692440"/>
            <a:ext cx="0" cy="104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 flipH="1">
            <a:off x="3419640" y="3743280"/>
            <a:ext cx="2589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ascading decoder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:32 deco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x2:4 deco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x3:8 deco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4035600" y="4842000"/>
            <a:ext cx="9014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:8 D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3548160" y="4851360"/>
            <a:ext cx="434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3770280" y="496584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4781520" y="4260960"/>
            <a:ext cx="1273320" cy="17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spcAft>
                <a:spcPts val="2001"/>
              </a:spcAft>
              <a:tabLst>
                <a:tab algn="l" pos="0"/>
                <a:tab algn="l" pos="6858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4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5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6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BC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4832280" y="5979960"/>
            <a:ext cx="4557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4191120" y="5970600"/>
            <a:ext cx="4554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4511520" y="5970600"/>
            <a:ext cx="455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4097160" y="5597640"/>
            <a:ext cx="5288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4397400" y="5597640"/>
            <a:ext cx="5284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4697280" y="5597640"/>
            <a:ext cx="5288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4211640" y="5819760"/>
            <a:ext cx="0" cy="25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4522680" y="5819760"/>
            <a:ext cx="0" cy="24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4853160" y="5830920"/>
            <a:ext cx="0" cy="247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5013360" y="563868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6345360" y="5597640"/>
            <a:ext cx="5284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6283440" y="4842000"/>
            <a:ext cx="9000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:8 D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6645240" y="5597640"/>
            <a:ext cx="5288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6945480" y="5597640"/>
            <a:ext cx="5284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6459480" y="5819760"/>
            <a:ext cx="0" cy="25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6769080" y="5819760"/>
            <a:ext cx="0" cy="24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7101000" y="5830920"/>
            <a:ext cx="0" cy="247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7261200" y="437508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7261200" y="455148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7251840" y="473724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7261200" y="491328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7261200" y="510048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7261200" y="527688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7251840" y="546264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7261200" y="563868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D34A-1ED9-492F-A297-8A7E497A308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"/>
          <p:cNvSpPr/>
          <p:nvPr/>
        </p:nvSpPr>
        <p:spPr>
          <a:xfrm>
            <a:off x="1720800" y="3645000"/>
            <a:ext cx="5727600" cy="2311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5" name=""/>
          <p:cNvGrpSpPr/>
          <p:nvPr/>
        </p:nvGrpSpPr>
        <p:grpSpPr>
          <a:xfrm>
            <a:off x="2133720" y="3308400"/>
            <a:ext cx="1600200" cy="2254320"/>
            <a:chOff x="2133720" y="3308400"/>
            <a:chExt cx="1600200" cy="2254320"/>
          </a:xfrm>
        </p:grpSpPr>
        <p:sp>
          <p:nvSpPr>
            <p:cNvPr id="1196" name=""/>
            <p:cNvSpPr/>
            <p:nvPr/>
          </p:nvSpPr>
          <p:spPr>
            <a:xfrm>
              <a:off x="2133720" y="4114800"/>
              <a:ext cx="1600200" cy="1447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2629080" y="3308400"/>
              <a:ext cx="87624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•   •   •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577960" y="3638520"/>
              <a:ext cx="92736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413080" y="4546440"/>
              <a:ext cx="1092240" cy="93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N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rra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3581280" y="3352680"/>
              <a:ext cx="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2590920" y="3352680"/>
              <a:ext cx="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2286000" y="3352680"/>
              <a:ext cx="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3" name=""/>
          <p:cNvGrpSpPr/>
          <p:nvPr/>
        </p:nvGrpSpPr>
        <p:grpSpPr>
          <a:xfrm>
            <a:off x="5270400" y="4114800"/>
            <a:ext cx="1854360" cy="2286000"/>
            <a:chOff x="5270400" y="4114800"/>
            <a:chExt cx="1854360" cy="2286000"/>
          </a:xfrm>
        </p:grpSpPr>
        <p:sp>
          <p:nvSpPr>
            <p:cNvPr id="1204" name=""/>
            <p:cNvSpPr/>
            <p:nvPr/>
          </p:nvSpPr>
          <p:spPr>
            <a:xfrm>
              <a:off x="5410080" y="4114800"/>
              <a:ext cx="1600200" cy="1447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5854680" y="5937120"/>
              <a:ext cx="10922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•   •   •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5702400" y="5581800"/>
              <a:ext cx="118116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5270400" y="4438800"/>
              <a:ext cx="1854360" cy="93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R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rra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6858000" y="5562720"/>
              <a:ext cx="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5867280" y="5562720"/>
              <a:ext cx="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5562720" y="5562720"/>
              <a:ext cx="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1" name=""/>
          <p:cNvGrpSpPr/>
          <p:nvPr/>
        </p:nvGrpSpPr>
        <p:grpSpPr>
          <a:xfrm>
            <a:off x="3733920" y="4343400"/>
            <a:ext cx="1676160" cy="1263600"/>
            <a:chOff x="3733920" y="4343400"/>
            <a:chExt cx="1676160" cy="1263600"/>
          </a:xfrm>
        </p:grpSpPr>
        <p:sp>
          <p:nvSpPr>
            <p:cNvPr id="1212" name=""/>
            <p:cNvSpPr/>
            <p:nvPr/>
          </p:nvSpPr>
          <p:spPr>
            <a:xfrm>
              <a:off x="3746520" y="4667400"/>
              <a:ext cx="1460520" cy="93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roduc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er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733920" y="434340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733920" y="457200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3733920" y="541008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rogrammable logic array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-fabricated building block of many AND/OR g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ually NOR or N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personalized" by making/breaking connections among the g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mable array block diagram for sum of products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8FEE-8DB3-4BB2-B74C-F75461197CE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"/>
          <p:cNvSpPr/>
          <p:nvPr/>
        </p:nvSpPr>
        <p:spPr>
          <a:xfrm>
            <a:off x="1117440" y="2540160"/>
            <a:ext cx="12319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2616120" y="2273400"/>
            <a:ext cx="1968480" cy="10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0 = A  + B' C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1 = A C'  +  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2 = B' C'  +  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3 = B' C  + 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1549440" y="3797280"/>
            <a:ext cx="2184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sonality mat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5715000" y="3936960"/>
            <a:ext cx="318780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 = uncomplemented in te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 = complemented in te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does not particip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5727600" y="5194440"/>
            <a:ext cx="33022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 = term connected to 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 = no connection to 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5359320" y="3606840"/>
            <a:ext cx="1384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put sid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5359320" y="4902120"/>
            <a:ext cx="15750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put sid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5" name=""/>
          <p:cNvGrpSpPr/>
          <p:nvPr/>
        </p:nvGrpSpPr>
        <p:grpSpPr>
          <a:xfrm>
            <a:off x="425520" y="4425840"/>
            <a:ext cx="4514760" cy="2000520"/>
            <a:chOff x="425520" y="4425840"/>
            <a:chExt cx="4514760" cy="2000520"/>
          </a:xfrm>
        </p:grpSpPr>
        <p:sp>
          <p:nvSpPr>
            <p:cNvPr id="1226" name=""/>
            <p:cNvSpPr/>
            <p:nvPr/>
          </p:nvSpPr>
          <p:spPr>
            <a:xfrm>
              <a:off x="533520" y="4432320"/>
              <a:ext cx="440676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114480"/>
                  <a:tab algn="l" pos="1143000"/>
                  <a:tab algn="l" pos="1600200"/>
                  <a:tab algn="l" pos="2057400"/>
                  <a:tab algn="l" pos="2514600"/>
                  <a:tab algn="l" pos="2971800"/>
                  <a:tab algn="l" pos="3429000"/>
                  <a:tab algn="l" pos="38862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roduct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114480"/>
                  <a:tab algn="l" pos="1143000"/>
                  <a:tab algn="l" pos="1600200"/>
                  <a:tab algn="l" pos="2057400"/>
                  <a:tab algn="l" pos="2514600"/>
                  <a:tab algn="l" pos="2971800"/>
                  <a:tab algn="l" pos="3429000"/>
                  <a:tab algn="l" pos="38862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erm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3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'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C'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'C'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425520" y="4978440"/>
              <a:ext cx="441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2984400" y="4438800"/>
              <a:ext cx="0" cy="18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1600200" y="4425840"/>
              <a:ext cx="0" cy="190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0" name=""/>
          <p:cNvGrpSpPr/>
          <p:nvPr/>
        </p:nvGrpSpPr>
        <p:grpSpPr>
          <a:xfrm>
            <a:off x="4641480" y="5124600"/>
            <a:ext cx="2534040" cy="1428480"/>
            <a:chOff x="4641480" y="5124600"/>
            <a:chExt cx="2534040" cy="1428480"/>
          </a:xfrm>
        </p:grpSpPr>
        <p:sp>
          <p:nvSpPr>
            <p:cNvPr id="1231" name=""/>
            <p:cNvSpPr/>
            <p:nvPr/>
          </p:nvSpPr>
          <p:spPr>
            <a:xfrm>
              <a:off x="5384880" y="5892840"/>
              <a:ext cx="179064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use of ter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 flipH="1" flipV="1">
              <a:off x="4667400" y="5124600"/>
              <a:ext cx="698400" cy="9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 flipH="1" flipV="1">
              <a:off x="4641480" y="5924520"/>
              <a:ext cx="72396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 flipH="1">
              <a:off x="4667040" y="6051600"/>
              <a:ext cx="68580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nabling concep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ared product terms among outpu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792F-22F9-4067-B613-E4751ACEF46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7" name=""/>
          <p:cNvGrpSpPr/>
          <p:nvPr/>
        </p:nvGrpSpPr>
        <p:grpSpPr>
          <a:xfrm>
            <a:off x="3580920" y="2438280"/>
            <a:ext cx="4839120" cy="4049640"/>
            <a:chOff x="3580920" y="2438280"/>
            <a:chExt cx="4839120" cy="4049640"/>
          </a:xfrm>
        </p:grpSpPr>
        <p:sp>
          <p:nvSpPr>
            <p:cNvPr id="1238" name=""/>
            <p:cNvSpPr/>
            <p:nvPr/>
          </p:nvSpPr>
          <p:spPr>
            <a:xfrm>
              <a:off x="5743080" y="5387760"/>
              <a:ext cx="29340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5748840" y="5382000"/>
              <a:ext cx="293400" cy="90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5741640" y="5387760"/>
              <a:ext cx="28188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5735880" y="5382000"/>
              <a:ext cx="293400" cy="90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5765760" y="5764320"/>
              <a:ext cx="257760" cy="12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5747040" y="5758200"/>
              <a:ext cx="282600" cy="14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5743080" y="5764320"/>
              <a:ext cx="293400" cy="12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5748840" y="5758200"/>
              <a:ext cx="293400" cy="14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 flipH="1">
              <a:off x="6017760" y="5823000"/>
              <a:ext cx="18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559120" y="582300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871240" y="5828760"/>
              <a:ext cx="0" cy="5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6461280" y="5387760"/>
              <a:ext cx="28188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6455160" y="5382000"/>
              <a:ext cx="293400" cy="90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6447600" y="5387760"/>
              <a:ext cx="28260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6442200" y="5382000"/>
              <a:ext cx="293400" cy="90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6483240" y="5764320"/>
              <a:ext cx="246600" cy="12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6465960" y="5758200"/>
              <a:ext cx="269640" cy="14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6461280" y="5764320"/>
              <a:ext cx="281880" cy="12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6455160" y="5758200"/>
              <a:ext cx="293400" cy="14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 flipH="1">
              <a:off x="6724080" y="5823000"/>
              <a:ext cx="18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6277320" y="5823000"/>
              <a:ext cx="164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6589080" y="5828760"/>
              <a:ext cx="0" cy="5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7155720" y="5387760"/>
              <a:ext cx="29340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7149960" y="5382000"/>
              <a:ext cx="293400" cy="90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7142760" y="5387760"/>
              <a:ext cx="29340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7136640" y="5382000"/>
              <a:ext cx="305640" cy="90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7178400" y="5764320"/>
              <a:ext cx="257760" cy="12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7160400" y="5758200"/>
              <a:ext cx="281880" cy="14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7155720" y="5764320"/>
              <a:ext cx="293400" cy="12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7149960" y="5758200"/>
              <a:ext cx="293400" cy="14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 flipH="1">
              <a:off x="7431120" y="582300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6971760" y="5823000"/>
              <a:ext cx="164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7283880" y="5828760"/>
              <a:ext cx="0" cy="5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7862040" y="5387760"/>
              <a:ext cx="28188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7856280" y="5382000"/>
              <a:ext cx="293400" cy="90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7849080" y="5387760"/>
              <a:ext cx="28188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7843680" y="5382000"/>
              <a:ext cx="292680" cy="90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7873200" y="5764320"/>
              <a:ext cx="257760" cy="12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7867080" y="5758200"/>
              <a:ext cx="269640" cy="14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7862040" y="5764320"/>
              <a:ext cx="281880" cy="12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7856280" y="5758200"/>
              <a:ext cx="293400" cy="14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 flipH="1">
              <a:off x="8125560" y="582300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7666200" y="5823000"/>
              <a:ext cx="17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7978320" y="5828760"/>
              <a:ext cx="0" cy="5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 flipH="1">
              <a:off x="3710520" y="2673720"/>
              <a:ext cx="141120" cy="17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3592800" y="2673720"/>
              <a:ext cx="117720" cy="17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 flipH="1">
              <a:off x="3580920" y="2667600"/>
              <a:ext cx="27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3699000" y="2862000"/>
              <a:ext cx="46800" cy="46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 flipH="1">
              <a:off x="4087440" y="2673720"/>
              <a:ext cx="141120" cy="17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3969720" y="2673720"/>
              <a:ext cx="117720" cy="17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 flipH="1">
              <a:off x="3957480" y="2667600"/>
              <a:ext cx="27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075560" y="2862000"/>
              <a:ext cx="58680" cy="46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 flipH="1">
              <a:off x="4475520" y="2673720"/>
              <a:ext cx="129240" cy="17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4358160" y="2673720"/>
              <a:ext cx="117720" cy="17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 flipH="1">
              <a:off x="4345920" y="2667600"/>
              <a:ext cx="258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464000" y="2862000"/>
              <a:ext cx="46800" cy="46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4923360" y="312696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4923360" y="3421080"/>
              <a:ext cx="30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 flipV="1">
              <a:off x="4917240" y="3120840"/>
              <a:ext cx="0" cy="30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4917240" y="3038400"/>
              <a:ext cx="0" cy="48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5094360" y="3151800"/>
              <a:ext cx="270360" cy="28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5089320" y="3134160"/>
              <a:ext cx="29232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5094000" y="3127320"/>
              <a:ext cx="270360" cy="29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5088960" y="3121560"/>
              <a:ext cx="29268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4923360" y="435132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4923360" y="4633560"/>
              <a:ext cx="30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 flipV="1">
              <a:off x="4917240" y="4344840"/>
              <a:ext cx="0" cy="29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4917240" y="4262760"/>
              <a:ext cx="0" cy="47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094360" y="4364280"/>
              <a:ext cx="270360" cy="29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089320" y="4358520"/>
              <a:ext cx="292320" cy="29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094000" y="4351320"/>
              <a:ext cx="270360" cy="28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088960" y="4333680"/>
              <a:ext cx="29268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4923360" y="495180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923360" y="5257800"/>
              <a:ext cx="30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 flipV="1">
              <a:off x="4917240" y="4945320"/>
              <a:ext cx="0" cy="31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4917240" y="4863240"/>
              <a:ext cx="0" cy="47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5094360" y="4965120"/>
              <a:ext cx="27036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5089320" y="4959000"/>
              <a:ext cx="29232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094000" y="4952160"/>
              <a:ext cx="27036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088960" y="4946040"/>
              <a:ext cx="29268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4923360" y="556380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4923360" y="5857920"/>
              <a:ext cx="30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 flipV="1">
              <a:off x="4917240" y="5558040"/>
              <a:ext cx="0" cy="30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4917240" y="5475600"/>
              <a:ext cx="0" cy="47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5094360" y="5577120"/>
              <a:ext cx="270360" cy="29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5089320" y="5571000"/>
              <a:ext cx="292320" cy="30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5094000" y="5564160"/>
              <a:ext cx="270360" cy="29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5088960" y="5569920"/>
              <a:ext cx="292680" cy="29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4923360" y="373896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4923360" y="4021560"/>
              <a:ext cx="30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 flipV="1">
              <a:off x="4917240" y="3732840"/>
              <a:ext cx="0" cy="29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4917240" y="3650760"/>
              <a:ext cx="0" cy="47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094360" y="3752280"/>
              <a:ext cx="270360" cy="29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5089320" y="3746160"/>
              <a:ext cx="292320" cy="30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5094000" y="3739320"/>
              <a:ext cx="270360" cy="29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5088960" y="3733200"/>
              <a:ext cx="292680" cy="30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5871240" y="6264360"/>
              <a:ext cx="0" cy="9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5871240" y="6370200"/>
              <a:ext cx="0" cy="11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6589080" y="6264360"/>
              <a:ext cx="0" cy="9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6589080" y="6370200"/>
              <a:ext cx="0" cy="11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7283880" y="6264360"/>
              <a:ext cx="0" cy="9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7283880" y="6370200"/>
              <a:ext cx="0" cy="11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5370480" y="5705280"/>
              <a:ext cx="11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614196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6130080" y="5693040"/>
              <a:ext cx="46800" cy="47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683640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6824520" y="5693040"/>
              <a:ext cx="46800" cy="47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754272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7531200" y="5693040"/>
              <a:ext cx="35280" cy="47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823716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8225640" y="5693040"/>
              <a:ext cx="46800" cy="47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5500080" y="5705280"/>
              <a:ext cx="635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6147720" y="5705280"/>
              <a:ext cx="68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6842160" y="5705280"/>
              <a:ext cx="694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7548840" y="5705280"/>
              <a:ext cx="68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8243280" y="570528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5370480" y="5104800"/>
              <a:ext cx="11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600084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670680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741348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810792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5500080" y="5104800"/>
              <a:ext cx="49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5988600" y="509292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6006240" y="5104800"/>
              <a:ext cx="694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6695280" y="509292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6712920" y="5104800"/>
              <a:ext cx="694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7401600" y="509292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7419240" y="5104800"/>
              <a:ext cx="68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8096040" y="509292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8113680" y="5104800"/>
              <a:ext cx="30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6000840" y="5110560"/>
              <a:ext cx="0" cy="58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6706800" y="5110560"/>
              <a:ext cx="0" cy="58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7413480" y="5110560"/>
              <a:ext cx="0" cy="58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8107920" y="5110560"/>
              <a:ext cx="0" cy="58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5370480" y="4492440"/>
              <a:ext cx="11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587124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658908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728388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797832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5500080" y="4492440"/>
              <a:ext cx="36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5859000" y="448092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5877000" y="4492440"/>
              <a:ext cx="70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6577200" y="4480920"/>
              <a:ext cx="3528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6595200" y="4492440"/>
              <a:ext cx="68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7272360" y="448092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7289640" y="4492440"/>
              <a:ext cx="68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7966800" y="448092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7984440" y="4492440"/>
              <a:ext cx="43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5871240" y="4498560"/>
              <a:ext cx="0" cy="120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6589080" y="4498560"/>
              <a:ext cx="0" cy="120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7283880" y="4498560"/>
              <a:ext cx="0" cy="120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7978320" y="4498560"/>
              <a:ext cx="0" cy="120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7978320" y="6264360"/>
              <a:ext cx="0" cy="9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7978320" y="6370200"/>
              <a:ext cx="0" cy="11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3716640" y="2556000"/>
              <a:ext cx="0" cy="10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4805640" y="310320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4805640" y="430416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4805640" y="492804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4805640" y="552852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4805640" y="370404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3722400" y="254988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3893040" y="2526480"/>
              <a:ext cx="46800" cy="46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3904920" y="243828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3904920" y="2556000"/>
              <a:ext cx="0" cy="54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3893040" y="309168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3904920" y="3109320"/>
              <a:ext cx="0" cy="58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3893040" y="369180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3904920" y="3709440"/>
              <a:ext cx="0" cy="58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3893040" y="429228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3904920" y="4309920"/>
              <a:ext cx="0" cy="61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3893040" y="4916160"/>
              <a:ext cx="46800" cy="23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3904920" y="4934160"/>
              <a:ext cx="0" cy="58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3893040" y="5516640"/>
              <a:ext cx="46800" cy="46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3904920" y="5534280"/>
              <a:ext cx="0" cy="58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3910680" y="3103200"/>
              <a:ext cx="88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3910680" y="3704040"/>
              <a:ext cx="88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3910680" y="4304160"/>
              <a:ext cx="88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3910680" y="4928040"/>
              <a:ext cx="88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3910680" y="5528520"/>
              <a:ext cx="88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4093200" y="2556000"/>
              <a:ext cx="0" cy="10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4805640" y="333864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4805640" y="456336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4805640" y="516348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4805640" y="576396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4805640" y="393912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4098960" y="254988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4269960" y="2526480"/>
              <a:ext cx="46800" cy="46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4281480" y="243828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4281480" y="2556000"/>
              <a:ext cx="0" cy="77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4269960" y="3327120"/>
              <a:ext cx="46800" cy="3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4281480" y="3344760"/>
              <a:ext cx="0" cy="58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4269960" y="392760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4281480" y="3945240"/>
              <a:ext cx="0" cy="61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4269960" y="4551480"/>
              <a:ext cx="46800" cy="23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4281480" y="4568760"/>
              <a:ext cx="0" cy="58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4269960" y="5151960"/>
              <a:ext cx="46800" cy="46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4281480" y="5169600"/>
              <a:ext cx="0" cy="58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4269960" y="5752440"/>
              <a:ext cx="46800" cy="46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4281480" y="5770080"/>
              <a:ext cx="0" cy="35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4287600" y="3338640"/>
              <a:ext cx="50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4287600" y="3939120"/>
              <a:ext cx="50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287600" y="4563360"/>
              <a:ext cx="50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4287600" y="5163480"/>
              <a:ext cx="50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4287600" y="5763960"/>
              <a:ext cx="50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4482000" y="2556000"/>
              <a:ext cx="0" cy="10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4487400" y="2549880"/>
              <a:ext cx="17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4658400" y="2526480"/>
              <a:ext cx="46800" cy="46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4669920" y="243828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4669920" y="2556000"/>
              <a:ext cx="0" cy="35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3716640" y="2921040"/>
              <a:ext cx="0" cy="10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3716640" y="3038400"/>
              <a:ext cx="0" cy="308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562392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632988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702504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773100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5370480" y="3279960"/>
              <a:ext cx="11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5500080" y="3279960"/>
              <a:ext cx="11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5612040" y="3268080"/>
              <a:ext cx="3528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5629680" y="3279960"/>
              <a:ext cx="694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6318360" y="326808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6336000" y="3279960"/>
              <a:ext cx="68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7012800" y="3268080"/>
              <a:ext cx="4716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7030440" y="3279960"/>
              <a:ext cx="694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7719480" y="326808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7737120" y="3279960"/>
              <a:ext cx="68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5623920" y="3285720"/>
              <a:ext cx="0" cy="241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6329880" y="3285720"/>
              <a:ext cx="0" cy="241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7025040" y="3285720"/>
              <a:ext cx="0" cy="241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7731000" y="3285720"/>
              <a:ext cx="0" cy="241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4093200" y="2921040"/>
              <a:ext cx="0" cy="10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4805640" y="322092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4805640" y="443376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4805640" y="503424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4805640" y="564624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4805640" y="383328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4093200" y="3038400"/>
              <a:ext cx="0" cy="17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4081320" y="3209400"/>
              <a:ext cx="46800" cy="23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4093200" y="3227040"/>
              <a:ext cx="0" cy="60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4081320" y="382140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4093200" y="3839040"/>
              <a:ext cx="0" cy="58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4081320" y="442188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4093200" y="4439520"/>
              <a:ext cx="0" cy="58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4081320" y="5022360"/>
              <a:ext cx="46800" cy="46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4093200" y="5040000"/>
              <a:ext cx="0" cy="60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4081320" y="5646240"/>
              <a:ext cx="46800" cy="23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4093200" y="5652000"/>
              <a:ext cx="0" cy="47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4098960" y="3220920"/>
              <a:ext cx="694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4098960" y="3833280"/>
              <a:ext cx="694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4098960" y="4433760"/>
              <a:ext cx="694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4098960" y="5034240"/>
              <a:ext cx="694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4098960" y="5646240"/>
              <a:ext cx="694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4482000" y="2921040"/>
              <a:ext cx="0" cy="10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4805640" y="346824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4805640" y="466884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4805640" y="529308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4805640" y="589356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4805640" y="406872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4482000" y="3038400"/>
              <a:ext cx="0" cy="42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4469760" y="3456720"/>
              <a:ext cx="3528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4482000" y="3474360"/>
              <a:ext cx="0" cy="58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4469760" y="4056840"/>
              <a:ext cx="3528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4482000" y="4074840"/>
              <a:ext cx="0" cy="58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4469760" y="4657320"/>
              <a:ext cx="3528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4482000" y="4674960"/>
              <a:ext cx="0" cy="61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4469760" y="5281560"/>
              <a:ext cx="3528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4482000" y="5299200"/>
              <a:ext cx="0" cy="58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4469760" y="5881680"/>
              <a:ext cx="35280" cy="46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4482000" y="5899320"/>
              <a:ext cx="0" cy="22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4487400" y="3468240"/>
              <a:ext cx="30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4487400" y="4068720"/>
              <a:ext cx="30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4487400" y="4668840"/>
              <a:ext cx="30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4487400" y="5293080"/>
              <a:ext cx="30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4487400" y="5893560"/>
              <a:ext cx="30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574128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645948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715428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786060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5370480" y="3891960"/>
              <a:ext cx="11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5500080" y="3891960"/>
              <a:ext cx="235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5741280" y="3880440"/>
              <a:ext cx="3528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5747400" y="3891960"/>
              <a:ext cx="70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6447960" y="388044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6465600" y="3891960"/>
              <a:ext cx="68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7142760" y="388044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7160040" y="3891960"/>
              <a:ext cx="694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7848720" y="3880440"/>
              <a:ext cx="3528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7866720" y="3891960"/>
              <a:ext cx="55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5741280" y="3898080"/>
              <a:ext cx="0" cy="180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6459480" y="3898080"/>
              <a:ext cx="0" cy="180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7154280" y="3898080"/>
              <a:ext cx="0" cy="180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7860600" y="3898080"/>
              <a:ext cx="0" cy="180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9" name=""/>
            <p:cNvGrpSpPr/>
            <p:nvPr/>
          </p:nvGrpSpPr>
          <p:grpSpPr>
            <a:xfrm>
              <a:off x="3704760" y="2973600"/>
              <a:ext cx="1212480" cy="88200"/>
              <a:chOff x="3704760" y="2973600"/>
              <a:chExt cx="1212480" cy="88200"/>
            </a:xfrm>
          </p:grpSpPr>
          <p:sp>
            <p:nvSpPr>
              <p:cNvPr id="1530" name=""/>
              <p:cNvSpPr/>
              <p:nvPr/>
            </p:nvSpPr>
            <p:spPr>
              <a:xfrm>
                <a:off x="3722400" y="2985480"/>
                <a:ext cx="118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4917240" y="2991240"/>
                <a:ext cx="0" cy="70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3704760" y="2973600"/>
                <a:ext cx="47160" cy="35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3" name=""/>
            <p:cNvGrpSpPr/>
            <p:nvPr/>
          </p:nvGrpSpPr>
          <p:grpSpPr>
            <a:xfrm>
              <a:off x="3704760" y="3574080"/>
              <a:ext cx="1212480" cy="88200"/>
              <a:chOff x="3704760" y="3574080"/>
              <a:chExt cx="1212480" cy="88200"/>
            </a:xfrm>
          </p:grpSpPr>
          <p:sp>
            <p:nvSpPr>
              <p:cNvPr id="1534" name=""/>
              <p:cNvSpPr/>
              <p:nvPr/>
            </p:nvSpPr>
            <p:spPr>
              <a:xfrm>
                <a:off x="3722400" y="3585960"/>
                <a:ext cx="118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4917240" y="3591720"/>
                <a:ext cx="0" cy="70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3704760" y="3574080"/>
                <a:ext cx="47160" cy="35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7" name=""/>
            <p:cNvGrpSpPr/>
            <p:nvPr/>
          </p:nvGrpSpPr>
          <p:grpSpPr>
            <a:xfrm>
              <a:off x="3704760" y="4197960"/>
              <a:ext cx="1212480" cy="88200"/>
              <a:chOff x="3704760" y="4197960"/>
              <a:chExt cx="1212480" cy="88200"/>
            </a:xfrm>
          </p:grpSpPr>
          <p:sp>
            <p:nvSpPr>
              <p:cNvPr id="1538" name=""/>
              <p:cNvSpPr/>
              <p:nvPr/>
            </p:nvSpPr>
            <p:spPr>
              <a:xfrm>
                <a:off x="3722400" y="4209480"/>
                <a:ext cx="118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4917240" y="4215600"/>
                <a:ext cx="0" cy="70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3704760" y="4197960"/>
                <a:ext cx="47160" cy="35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1" name=""/>
            <p:cNvGrpSpPr/>
            <p:nvPr/>
          </p:nvGrpSpPr>
          <p:grpSpPr>
            <a:xfrm>
              <a:off x="3704760" y="4810680"/>
              <a:ext cx="1212480" cy="99360"/>
              <a:chOff x="3704760" y="4810680"/>
              <a:chExt cx="1212480" cy="99360"/>
            </a:xfrm>
          </p:grpSpPr>
          <p:sp>
            <p:nvSpPr>
              <p:cNvPr id="1542" name=""/>
              <p:cNvSpPr/>
              <p:nvPr/>
            </p:nvSpPr>
            <p:spPr>
              <a:xfrm>
                <a:off x="3722400" y="4822200"/>
                <a:ext cx="118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4917240" y="4828320"/>
                <a:ext cx="0" cy="81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3704760" y="4810680"/>
                <a:ext cx="47160" cy="34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5" name=""/>
            <p:cNvGrpSpPr/>
            <p:nvPr/>
          </p:nvGrpSpPr>
          <p:grpSpPr>
            <a:xfrm>
              <a:off x="3704760" y="5410800"/>
              <a:ext cx="1212480" cy="99720"/>
              <a:chOff x="3704760" y="5410800"/>
              <a:chExt cx="1212480" cy="99720"/>
            </a:xfrm>
          </p:grpSpPr>
          <p:sp>
            <p:nvSpPr>
              <p:cNvPr id="1546" name=""/>
              <p:cNvSpPr/>
              <p:nvPr/>
            </p:nvSpPr>
            <p:spPr>
              <a:xfrm>
                <a:off x="3722400" y="5433840"/>
                <a:ext cx="118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4917240" y="5439960"/>
                <a:ext cx="0" cy="70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3704760" y="5410800"/>
                <a:ext cx="47160" cy="46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9" name=""/>
            <p:cNvGrpSpPr/>
            <p:nvPr/>
          </p:nvGrpSpPr>
          <p:grpSpPr>
            <a:xfrm>
              <a:off x="4658400" y="5887440"/>
              <a:ext cx="258840" cy="123120"/>
              <a:chOff x="4658400" y="5887440"/>
              <a:chExt cx="258840" cy="123120"/>
            </a:xfrm>
          </p:grpSpPr>
          <p:sp>
            <p:nvSpPr>
              <p:cNvPr id="1550" name=""/>
              <p:cNvSpPr/>
              <p:nvPr/>
            </p:nvSpPr>
            <p:spPr>
              <a:xfrm>
                <a:off x="4699080" y="5987160"/>
                <a:ext cx="211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 flipV="1">
                <a:off x="4917240" y="5887440"/>
                <a:ext cx="0" cy="105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4658400" y="5963760"/>
                <a:ext cx="46800" cy="46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3" name=""/>
            <p:cNvGrpSpPr/>
            <p:nvPr/>
          </p:nvGrpSpPr>
          <p:grpSpPr>
            <a:xfrm>
              <a:off x="4658400" y="5286960"/>
              <a:ext cx="258840" cy="99720"/>
              <a:chOff x="4658400" y="5286960"/>
              <a:chExt cx="258840" cy="99720"/>
            </a:xfrm>
          </p:grpSpPr>
          <p:sp>
            <p:nvSpPr>
              <p:cNvPr id="1554" name=""/>
              <p:cNvSpPr/>
              <p:nvPr/>
            </p:nvSpPr>
            <p:spPr>
              <a:xfrm>
                <a:off x="4699080" y="5375160"/>
                <a:ext cx="211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 flipV="1">
                <a:off x="4917240" y="5286960"/>
                <a:ext cx="0" cy="9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4658400" y="5351400"/>
                <a:ext cx="46800" cy="35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7" name=""/>
            <p:cNvGrpSpPr/>
            <p:nvPr/>
          </p:nvGrpSpPr>
          <p:grpSpPr>
            <a:xfrm>
              <a:off x="4658400" y="4663440"/>
              <a:ext cx="258840" cy="122760"/>
              <a:chOff x="4658400" y="4663440"/>
              <a:chExt cx="258840" cy="122760"/>
            </a:xfrm>
          </p:grpSpPr>
          <p:sp>
            <p:nvSpPr>
              <p:cNvPr id="1558" name=""/>
              <p:cNvSpPr/>
              <p:nvPr/>
            </p:nvSpPr>
            <p:spPr>
              <a:xfrm>
                <a:off x="4699080" y="4751280"/>
                <a:ext cx="211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 flipV="1">
                <a:off x="4917240" y="4663440"/>
                <a:ext cx="0" cy="93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4658400" y="4739400"/>
                <a:ext cx="46800" cy="46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1" name=""/>
            <p:cNvGrpSpPr/>
            <p:nvPr/>
          </p:nvGrpSpPr>
          <p:grpSpPr>
            <a:xfrm>
              <a:off x="4658400" y="4062240"/>
              <a:ext cx="258840" cy="123480"/>
              <a:chOff x="4658400" y="4062240"/>
              <a:chExt cx="258840" cy="123480"/>
            </a:xfrm>
          </p:grpSpPr>
          <p:sp>
            <p:nvSpPr>
              <p:cNvPr id="1562" name=""/>
              <p:cNvSpPr/>
              <p:nvPr/>
            </p:nvSpPr>
            <p:spPr>
              <a:xfrm>
                <a:off x="4699080" y="4150800"/>
                <a:ext cx="211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 flipV="1">
                <a:off x="4917240" y="4062240"/>
                <a:ext cx="0" cy="93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4658400" y="4138920"/>
                <a:ext cx="46800" cy="46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5" name=""/>
            <p:cNvGrpSpPr/>
            <p:nvPr/>
          </p:nvGrpSpPr>
          <p:grpSpPr>
            <a:xfrm>
              <a:off x="4658400" y="3461760"/>
              <a:ext cx="258840" cy="111600"/>
              <a:chOff x="4658400" y="3461760"/>
              <a:chExt cx="258840" cy="111600"/>
            </a:xfrm>
          </p:grpSpPr>
          <p:sp>
            <p:nvSpPr>
              <p:cNvPr id="1566" name=""/>
              <p:cNvSpPr/>
              <p:nvPr/>
            </p:nvSpPr>
            <p:spPr>
              <a:xfrm>
                <a:off x="4699080" y="3550320"/>
                <a:ext cx="211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 flipV="1">
                <a:off x="4917240" y="3461760"/>
                <a:ext cx="0" cy="93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4658400" y="3538440"/>
                <a:ext cx="46800" cy="34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Before programmin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possible connections are available before "programming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reality, all AND and OR gates are N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82E4-4611-4385-8358-FA87AB20A68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1" name=""/>
          <p:cNvGrpSpPr/>
          <p:nvPr/>
        </p:nvGrpSpPr>
        <p:grpSpPr>
          <a:xfrm>
            <a:off x="3162240" y="2666880"/>
            <a:ext cx="4915080" cy="3976560"/>
            <a:chOff x="3162240" y="2666880"/>
            <a:chExt cx="4915080" cy="3976560"/>
          </a:xfrm>
        </p:grpSpPr>
        <p:sp>
          <p:nvSpPr>
            <p:cNvPr id="1572" name=""/>
            <p:cNvSpPr/>
            <p:nvPr/>
          </p:nvSpPr>
          <p:spPr>
            <a:xfrm flipH="1">
              <a:off x="3286080" y="3135600"/>
              <a:ext cx="135720" cy="18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3173760" y="3135600"/>
              <a:ext cx="112680" cy="18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 flipH="1">
              <a:off x="3162240" y="3129840"/>
              <a:ext cx="25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3275280" y="3327840"/>
              <a:ext cx="56160" cy="56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 flipH="1">
              <a:off x="3681720" y="3135600"/>
              <a:ext cx="135360" cy="18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3568680" y="3135600"/>
              <a:ext cx="113040" cy="18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 flipH="1">
              <a:off x="3557160" y="3129840"/>
              <a:ext cx="259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3659400" y="3327840"/>
              <a:ext cx="56160" cy="56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 flipH="1">
              <a:off x="4066200" y="3135600"/>
              <a:ext cx="135360" cy="18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3941640" y="3135600"/>
              <a:ext cx="124560" cy="18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 flipH="1">
              <a:off x="3930120" y="3129840"/>
              <a:ext cx="271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4054680" y="3327840"/>
              <a:ext cx="56520" cy="56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4461480" y="35481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4461480" y="3853080"/>
              <a:ext cx="31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 flipV="1">
              <a:off x="4456080" y="3542400"/>
              <a:ext cx="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4625640" y="3560400"/>
              <a:ext cx="2930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4620600" y="3555000"/>
              <a:ext cx="292320" cy="31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4625280" y="3548160"/>
              <a:ext cx="2934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4620240" y="3542400"/>
              <a:ext cx="292680" cy="31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4461480" y="44290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4461480" y="4734360"/>
              <a:ext cx="31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 flipV="1">
              <a:off x="4456080" y="4423680"/>
              <a:ext cx="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4625640" y="4453200"/>
              <a:ext cx="293040" cy="29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4620600" y="4436280"/>
              <a:ext cx="292320" cy="32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4625280" y="4428720"/>
              <a:ext cx="29340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4620240" y="4423320"/>
              <a:ext cx="292680" cy="31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4461480" y="48808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4461480" y="5186160"/>
              <a:ext cx="31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 flipV="1">
              <a:off x="4456080" y="4875480"/>
              <a:ext cx="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4625640" y="4893840"/>
              <a:ext cx="2930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4620600" y="4888080"/>
              <a:ext cx="292320" cy="31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4625280" y="4881600"/>
              <a:ext cx="2934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4620240" y="4864680"/>
              <a:ext cx="292680" cy="32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4461480" y="53215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4461480" y="5615280"/>
              <a:ext cx="31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 flipV="1">
              <a:off x="4456080" y="53161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4625640" y="5334480"/>
              <a:ext cx="2930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4620600" y="5328720"/>
              <a:ext cx="292320" cy="31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4625280" y="5321520"/>
              <a:ext cx="29340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4620240" y="5316120"/>
              <a:ext cx="292680" cy="31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5308560" y="5813640"/>
              <a:ext cx="271080" cy="14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5275440" y="5418360"/>
              <a:ext cx="304200" cy="94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5287680" y="5463000"/>
              <a:ext cx="304200" cy="90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5287680" y="5813640"/>
              <a:ext cx="304200" cy="14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5495400" y="5926320"/>
              <a:ext cx="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5360040" y="5926320"/>
              <a:ext cx="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6021000" y="5813640"/>
              <a:ext cx="270360" cy="14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5987160" y="5418360"/>
              <a:ext cx="304200" cy="94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6010920" y="5463000"/>
              <a:ext cx="292680" cy="90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6010920" y="5813640"/>
              <a:ext cx="292680" cy="14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6207480" y="5926320"/>
              <a:ext cx="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6082920" y="5926320"/>
              <a:ext cx="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6732360" y="5813640"/>
              <a:ext cx="271080" cy="14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6699240" y="5418360"/>
              <a:ext cx="304200" cy="94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6722640" y="5463000"/>
              <a:ext cx="293400" cy="90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6722640" y="5813640"/>
              <a:ext cx="293400" cy="14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6919200" y="5926320"/>
              <a:ext cx="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6794640" y="5926320"/>
              <a:ext cx="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7444800" y="5813640"/>
              <a:ext cx="270360" cy="14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7410960" y="5418360"/>
              <a:ext cx="304200" cy="94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7434720" y="5463000"/>
              <a:ext cx="304200" cy="90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7434720" y="5813640"/>
              <a:ext cx="304200" cy="14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7630920" y="5926320"/>
              <a:ext cx="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7506720" y="5926320"/>
              <a:ext cx="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4461480" y="39884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4461480" y="4293720"/>
              <a:ext cx="31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 flipV="1">
              <a:off x="4456080" y="3983040"/>
              <a:ext cx="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4625640" y="4001040"/>
              <a:ext cx="2930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4620600" y="3995280"/>
              <a:ext cx="292320" cy="31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4625280" y="3988800"/>
              <a:ext cx="2934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4620240" y="3983040"/>
              <a:ext cx="292680" cy="31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3292200" y="338400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3292200" y="3508200"/>
              <a:ext cx="0" cy="221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5427720" y="6355440"/>
              <a:ext cx="0" cy="12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5427720" y="649080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6082920" y="580176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4913280" y="4587120"/>
              <a:ext cx="12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6082920" y="4592880"/>
              <a:ext cx="0" cy="119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6060240" y="4575960"/>
              <a:ext cx="45000" cy="33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5049360" y="4587120"/>
              <a:ext cx="102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6088680" y="4587120"/>
              <a:ext cx="1988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6139440" y="6355440"/>
              <a:ext cx="0" cy="12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6139440" y="649080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6919200" y="580176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6207480" y="580176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4913280" y="3694680"/>
              <a:ext cx="12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6919200" y="3700440"/>
              <a:ext cx="0" cy="208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6907680" y="3683520"/>
              <a:ext cx="33840" cy="45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6207480" y="3700440"/>
              <a:ext cx="0" cy="208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6195960" y="3683520"/>
              <a:ext cx="33840" cy="45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5049360" y="3694680"/>
              <a:ext cx="1152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6212880" y="3694680"/>
              <a:ext cx="7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6924960" y="3694680"/>
              <a:ext cx="1152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6794640" y="580176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5495400" y="580176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4913280" y="5028120"/>
              <a:ext cx="12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6794640" y="5033880"/>
              <a:ext cx="0" cy="75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6772320" y="5016600"/>
              <a:ext cx="45000" cy="33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5495400" y="5033880"/>
              <a:ext cx="0" cy="75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5484240" y="5016600"/>
              <a:ext cx="33840" cy="33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5049360" y="5028120"/>
              <a:ext cx="440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5501160" y="5028120"/>
              <a:ext cx="128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6800400" y="5028120"/>
              <a:ext cx="127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6851520" y="6355440"/>
              <a:ext cx="0" cy="12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6851520" y="649080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4913280" y="5468760"/>
              <a:ext cx="12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7630920" y="580176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5360040" y="580176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7630920" y="5474160"/>
              <a:ext cx="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7619400" y="5457600"/>
              <a:ext cx="45360" cy="45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5360040" y="5474160"/>
              <a:ext cx="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5348520" y="5457600"/>
              <a:ext cx="45000" cy="45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5049360" y="546876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5365440" y="5468760"/>
              <a:ext cx="225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7636320" y="5468760"/>
              <a:ext cx="440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4913280" y="4146480"/>
              <a:ext cx="12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7506720" y="580176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7506720" y="4152240"/>
              <a:ext cx="0" cy="163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7484040" y="4124160"/>
              <a:ext cx="45000" cy="45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5049360" y="4146480"/>
              <a:ext cx="245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7512120" y="4146480"/>
              <a:ext cx="56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7563240" y="6355440"/>
              <a:ext cx="0" cy="12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7563240" y="649080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3292200" y="301140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4337280" y="3627000"/>
              <a:ext cx="11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4337280" y="4530960"/>
              <a:ext cx="11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4337280" y="5411880"/>
              <a:ext cx="11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3489840" y="5411880"/>
              <a:ext cx="83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3484440" y="5389560"/>
              <a:ext cx="33840" cy="45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3489840" y="4530960"/>
              <a:ext cx="83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3484440" y="4508280"/>
              <a:ext cx="33840" cy="33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3489840" y="3627000"/>
              <a:ext cx="83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3484440" y="3615480"/>
              <a:ext cx="33840" cy="45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3484440" y="288720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3484440" y="2994480"/>
              <a:ext cx="33840" cy="33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3484440" y="301140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3484440" y="3632760"/>
              <a:ext cx="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3484440" y="4536360"/>
              <a:ext cx="0" cy="87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3484440" y="541764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3297960" y="3005640"/>
              <a:ext cx="18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3687480" y="301140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4337280" y="3762720"/>
              <a:ext cx="11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3885120" y="3762720"/>
              <a:ext cx="440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3857040" y="3740040"/>
              <a:ext cx="45000" cy="45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3879360" y="288720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3857040" y="2994480"/>
              <a:ext cx="45000" cy="33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3879360" y="3011400"/>
              <a:ext cx="0" cy="74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3879360" y="3768120"/>
              <a:ext cx="0" cy="195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3693240" y="3005640"/>
              <a:ext cx="180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3687480" y="338400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4337280" y="4079160"/>
              <a:ext cx="11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4337280" y="4960080"/>
              <a:ext cx="11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3687480" y="3508200"/>
              <a:ext cx="0" cy="56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3664800" y="4067640"/>
              <a:ext cx="45000" cy="45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3687480" y="4084560"/>
              <a:ext cx="0" cy="87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3664800" y="4948920"/>
              <a:ext cx="45000" cy="45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3687480" y="4965840"/>
              <a:ext cx="0" cy="75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3693240" y="4960080"/>
              <a:ext cx="63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3693240" y="4079160"/>
              <a:ext cx="63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4071600" y="301140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4337280" y="5084280"/>
              <a:ext cx="11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4337280" y="4203360"/>
              <a:ext cx="11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4280760" y="5084280"/>
              <a:ext cx="4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4252680" y="5073120"/>
              <a:ext cx="33480" cy="45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4275000" y="288720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4252680" y="2994480"/>
              <a:ext cx="33480" cy="33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4275000" y="3011400"/>
              <a:ext cx="0" cy="118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4252680" y="4191840"/>
              <a:ext cx="33480" cy="4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4275000" y="4208760"/>
              <a:ext cx="0" cy="87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4275000" y="5090040"/>
              <a:ext cx="0" cy="63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4077360" y="3005640"/>
              <a:ext cx="19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4280760" y="4203360"/>
              <a:ext cx="4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4071600" y="338400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4337280" y="4655160"/>
              <a:ext cx="11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4077360" y="4655160"/>
              <a:ext cx="248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4060440" y="4644000"/>
              <a:ext cx="33840" cy="33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4071600" y="3508200"/>
              <a:ext cx="0" cy="114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4071600" y="4660560"/>
              <a:ext cx="0" cy="106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4337280" y="5536080"/>
              <a:ext cx="11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3382560" y="2678040"/>
              <a:ext cx="4856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3777840" y="2666880"/>
              <a:ext cx="4856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4161960" y="2666880"/>
              <a:ext cx="497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5891040" y="6338520"/>
              <a:ext cx="5648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6580080" y="6338520"/>
              <a:ext cx="5648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7303320" y="6338520"/>
              <a:ext cx="5648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5167800" y="6327360"/>
              <a:ext cx="5648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4930200" y="3480120"/>
              <a:ext cx="5986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4907880" y="3931920"/>
              <a:ext cx="6325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'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4919040" y="4372560"/>
              <a:ext cx="632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C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4907880" y="4813560"/>
              <a:ext cx="6663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'C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4930200" y="5254200"/>
              <a:ext cx="4856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fter programmin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wanted connections are "blown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se (normally connected, break unwanted on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i-fuse (normally disconnected, make wanted connec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A8F9-4A89-4B81-9E4D-9CE4AAB88CF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5" name=""/>
          <p:cNvGrpSpPr/>
          <p:nvPr/>
        </p:nvGrpSpPr>
        <p:grpSpPr>
          <a:xfrm>
            <a:off x="609480" y="3016080"/>
            <a:ext cx="3454560" cy="2336760"/>
            <a:chOff x="609480" y="3016080"/>
            <a:chExt cx="3454560" cy="2336760"/>
          </a:xfrm>
        </p:grpSpPr>
        <p:sp>
          <p:nvSpPr>
            <p:cNvPr id="1766" name=""/>
            <p:cNvSpPr/>
            <p:nvPr/>
          </p:nvSpPr>
          <p:spPr>
            <a:xfrm flipH="1">
              <a:off x="1676520" y="3143160"/>
              <a:ext cx="139680" cy="17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1562040" y="3143160"/>
              <a:ext cx="114480" cy="17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 flipH="1">
              <a:off x="1549080" y="313668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1727280" y="32572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1682640" y="30160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1746360" y="3320640"/>
              <a:ext cx="0" cy="147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1619280" y="3244680"/>
              <a:ext cx="0" cy="154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2019240" y="328896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2019240" y="35938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 flipV="1">
              <a:off x="2012760" y="32828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2178360" y="330336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2171880" y="329688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2178000" y="328932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2171520" y="328284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609480" y="344160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2463840" y="3441600"/>
              <a:ext cx="154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2019240" y="365724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2019240" y="39621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 flipV="1">
              <a:off x="2012760" y="365112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2178360" y="367164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2171880" y="366516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2178000" y="365760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2171520" y="365112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609480" y="380988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2463840" y="3809880"/>
              <a:ext cx="1574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2019240" y="402552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2019240" y="43304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 flipV="1">
              <a:off x="2012760" y="401940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2178360" y="403992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2171880" y="403344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2178000" y="402588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2171520" y="401940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609480" y="417816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2463840" y="4178160"/>
              <a:ext cx="1574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2019240" y="439380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2019240" y="46987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 flipV="1">
              <a:off x="2012760" y="438768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2178360" y="440820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2171880" y="440172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2178000" y="439416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2171520" y="438768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609480" y="454644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2463840" y="4546440"/>
              <a:ext cx="160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09" name=""/>
            <p:cNvGrpSpPr/>
            <p:nvPr/>
          </p:nvGrpSpPr>
          <p:grpSpPr>
            <a:xfrm>
              <a:off x="1688760" y="3396960"/>
              <a:ext cx="114120" cy="88920"/>
              <a:chOff x="1688760" y="3396960"/>
              <a:chExt cx="114120" cy="88920"/>
            </a:xfrm>
          </p:grpSpPr>
          <p:sp>
            <p:nvSpPr>
              <p:cNvPr id="1810" name=""/>
              <p:cNvSpPr/>
              <p:nvPr/>
            </p:nvSpPr>
            <p:spPr>
              <a:xfrm>
                <a:off x="1701720" y="33969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 flipH="1">
                <a:off x="1688760" y="33969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2" name=""/>
            <p:cNvGrpSpPr/>
            <p:nvPr/>
          </p:nvGrpSpPr>
          <p:grpSpPr>
            <a:xfrm>
              <a:off x="1688760" y="3765240"/>
              <a:ext cx="114120" cy="88920"/>
              <a:chOff x="1688760" y="3765240"/>
              <a:chExt cx="114120" cy="88920"/>
            </a:xfrm>
          </p:grpSpPr>
          <p:sp>
            <p:nvSpPr>
              <p:cNvPr id="1813" name=""/>
              <p:cNvSpPr/>
              <p:nvPr/>
            </p:nvSpPr>
            <p:spPr>
              <a:xfrm>
                <a:off x="1701720" y="37652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 flipH="1">
                <a:off x="1688760" y="376524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5" name=""/>
            <p:cNvGrpSpPr/>
            <p:nvPr/>
          </p:nvGrpSpPr>
          <p:grpSpPr>
            <a:xfrm>
              <a:off x="1688760" y="4133520"/>
              <a:ext cx="114120" cy="88920"/>
              <a:chOff x="1688760" y="4133520"/>
              <a:chExt cx="114120" cy="88920"/>
            </a:xfrm>
          </p:grpSpPr>
          <p:sp>
            <p:nvSpPr>
              <p:cNvPr id="1816" name=""/>
              <p:cNvSpPr/>
              <p:nvPr/>
            </p:nvSpPr>
            <p:spPr>
              <a:xfrm>
                <a:off x="1701720" y="41335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 flipH="1">
                <a:off x="1688760" y="41335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8" name=""/>
            <p:cNvGrpSpPr/>
            <p:nvPr/>
          </p:nvGrpSpPr>
          <p:grpSpPr>
            <a:xfrm>
              <a:off x="1688760" y="4501800"/>
              <a:ext cx="114120" cy="88920"/>
              <a:chOff x="1688760" y="4501800"/>
              <a:chExt cx="114120" cy="88920"/>
            </a:xfrm>
          </p:grpSpPr>
          <p:sp>
            <p:nvSpPr>
              <p:cNvPr id="1819" name=""/>
              <p:cNvSpPr/>
              <p:nvPr/>
            </p:nvSpPr>
            <p:spPr>
              <a:xfrm>
                <a:off x="1701720" y="45018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 flipH="1">
                <a:off x="1688760" y="45018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1" name=""/>
            <p:cNvGrpSpPr/>
            <p:nvPr/>
          </p:nvGrpSpPr>
          <p:grpSpPr>
            <a:xfrm>
              <a:off x="1562040" y="3396960"/>
              <a:ext cx="114480" cy="88920"/>
              <a:chOff x="1562040" y="3396960"/>
              <a:chExt cx="114480" cy="88920"/>
            </a:xfrm>
          </p:grpSpPr>
          <p:sp>
            <p:nvSpPr>
              <p:cNvPr id="1822" name=""/>
              <p:cNvSpPr/>
              <p:nvPr/>
            </p:nvSpPr>
            <p:spPr>
              <a:xfrm>
                <a:off x="1574640" y="33969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 flipH="1">
                <a:off x="1562040" y="339696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4" name=""/>
            <p:cNvGrpSpPr/>
            <p:nvPr/>
          </p:nvGrpSpPr>
          <p:grpSpPr>
            <a:xfrm>
              <a:off x="1562040" y="3765240"/>
              <a:ext cx="114480" cy="88920"/>
              <a:chOff x="1562040" y="3765240"/>
              <a:chExt cx="114480" cy="88920"/>
            </a:xfrm>
          </p:grpSpPr>
          <p:sp>
            <p:nvSpPr>
              <p:cNvPr id="1825" name=""/>
              <p:cNvSpPr/>
              <p:nvPr/>
            </p:nvSpPr>
            <p:spPr>
              <a:xfrm>
                <a:off x="1574640" y="37652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 flipH="1">
                <a:off x="1562040" y="376524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7" name=""/>
            <p:cNvGrpSpPr/>
            <p:nvPr/>
          </p:nvGrpSpPr>
          <p:grpSpPr>
            <a:xfrm>
              <a:off x="1562040" y="4133520"/>
              <a:ext cx="114480" cy="88920"/>
              <a:chOff x="1562040" y="4133520"/>
              <a:chExt cx="114480" cy="88920"/>
            </a:xfrm>
          </p:grpSpPr>
          <p:sp>
            <p:nvSpPr>
              <p:cNvPr id="1828" name=""/>
              <p:cNvSpPr/>
              <p:nvPr/>
            </p:nvSpPr>
            <p:spPr>
              <a:xfrm>
                <a:off x="1574640" y="41335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 flipH="1">
                <a:off x="1562040" y="413352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0" name=""/>
            <p:cNvGrpSpPr/>
            <p:nvPr/>
          </p:nvGrpSpPr>
          <p:grpSpPr>
            <a:xfrm>
              <a:off x="1562040" y="4501800"/>
              <a:ext cx="114480" cy="88920"/>
              <a:chOff x="1562040" y="4501800"/>
              <a:chExt cx="114480" cy="88920"/>
            </a:xfrm>
          </p:grpSpPr>
          <p:sp>
            <p:nvSpPr>
              <p:cNvPr id="1831" name=""/>
              <p:cNvSpPr/>
              <p:nvPr/>
            </p:nvSpPr>
            <p:spPr>
              <a:xfrm>
                <a:off x="1574640" y="45018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 flipH="1">
                <a:off x="1562040" y="450180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33" name=""/>
            <p:cNvSpPr/>
            <p:nvPr/>
          </p:nvSpPr>
          <p:spPr>
            <a:xfrm flipH="1">
              <a:off x="1384200" y="3143160"/>
              <a:ext cx="139680" cy="17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1270080" y="3143160"/>
              <a:ext cx="114120" cy="17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 flipH="1">
              <a:off x="1256760" y="313668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1434960" y="32572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1390680" y="30160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1454040" y="3320640"/>
              <a:ext cx="0" cy="147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1326960" y="3244680"/>
              <a:ext cx="0" cy="154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40" name=""/>
            <p:cNvGrpSpPr/>
            <p:nvPr/>
          </p:nvGrpSpPr>
          <p:grpSpPr>
            <a:xfrm>
              <a:off x="1396800" y="3396960"/>
              <a:ext cx="114480" cy="88920"/>
              <a:chOff x="1396800" y="3396960"/>
              <a:chExt cx="114480" cy="88920"/>
            </a:xfrm>
          </p:grpSpPr>
          <p:sp>
            <p:nvSpPr>
              <p:cNvPr id="1841" name=""/>
              <p:cNvSpPr/>
              <p:nvPr/>
            </p:nvSpPr>
            <p:spPr>
              <a:xfrm>
                <a:off x="1409760" y="33969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 flipH="1">
                <a:off x="1396800" y="339696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3" name=""/>
            <p:cNvGrpSpPr/>
            <p:nvPr/>
          </p:nvGrpSpPr>
          <p:grpSpPr>
            <a:xfrm>
              <a:off x="1396800" y="3765240"/>
              <a:ext cx="114480" cy="88920"/>
              <a:chOff x="1396800" y="3765240"/>
              <a:chExt cx="114480" cy="88920"/>
            </a:xfrm>
          </p:grpSpPr>
          <p:sp>
            <p:nvSpPr>
              <p:cNvPr id="1844" name=""/>
              <p:cNvSpPr/>
              <p:nvPr/>
            </p:nvSpPr>
            <p:spPr>
              <a:xfrm>
                <a:off x="1409760" y="37652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 flipH="1">
                <a:off x="1396800" y="376524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6" name=""/>
            <p:cNvGrpSpPr/>
            <p:nvPr/>
          </p:nvGrpSpPr>
          <p:grpSpPr>
            <a:xfrm>
              <a:off x="1396800" y="4133520"/>
              <a:ext cx="114480" cy="88920"/>
              <a:chOff x="1396800" y="4133520"/>
              <a:chExt cx="114480" cy="88920"/>
            </a:xfrm>
          </p:grpSpPr>
          <p:sp>
            <p:nvSpPr>
              <p:cNvPr id="1847" name=""/>
              <p:cNvSpPr/>
              <p:nvPr/>
            </p:nvSpPr>
            <p:spPr>
              <a:xfrm>
                <a:off x="1409760" y="41335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 flipH="1">
                <a:off x="1396800" y="413352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9" name=""/>
            <p:cNvGrpSpPr/>
            <p:nvPr/>
          </p:nvGrpSpPr>
          <p:grpSpPr>
            <a:xfrm>
              <a:off x="1396800" y="4501800"/>
              <a:ext cx="114480" cy="88920"/>
              <a:chOff x="1396800" y="4501800"/>
              <a:chExt cx="114480" cy="88920"/>
            </a:xfrm>
          </p:grpSpPr>
          <p:sp>
            <p:nvSpPr>
              <p:cNvPr id="1850" name=""/>
              <p:cNvSpPr/>
              <p:nvPr/>
            </p:nvSpPr>
            <p:spPr>
              <a:xfrm>
                <a:off x="1409760" y="45018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 flipH="1">
                <a:off x="1396800" y="450180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2" name=""/>
            <p:cNvGrpSpPr/>
            <p:nvPr/>
          </p:nvGrpSpPr>
          <p:grpSpPr>
            <a:xfrm>
              <a:off x="1269720" y="3396960"/>
              <a:ext cx="114120" cy="88920"/>
              <a:chOff x="1269720" y="3396960"/>
              <a:chExt cx="114120" cy="88920"/>
            </a:xfrm>
          </p:grpSpPr>
          <p:sp>
            <p:nvSpPr>
              <p:cNvPr id="1853" name=""/>
              <p:cNvSpPr/>
              <p:nvPr/>
            </p:nvSpPr>
            <p:spPr>
              <a:xfrm>
                <a:off x="1282680" y="33969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 flipH="1">
                <a:off x="1269720" y="33969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5" name=""/>
            <p:cNvGrpSpPr/>
            <p:nvPr/>
          </p:nvGrpSpPr>
          <p:grpSpPr>
            <a:xfrm>
              <a:off x="1269720" y="3765240"/>
              <a:ext cx="114120" cy="88920"/>
              <a:chOff x="1269720" y="3765240"/>
              <a:chExt cx="114120" cy="88920"/>
            </a:xfrm>
          </p:grpSpPr>
          <p:sp>
            <p:nvSpPr>
              <p:cNvPr id="1856" name=""/>
              <p:cNvSpPr/>
              <p:nvPr/>
            </p:nvSpPr>
            <p:spPr>
              <a:xfrm>
                <a:off x="1282680" y="37652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 flipH="1">
                <a:off x="1269720" y="376524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8" name=""/>
            <p:cNvGrpSpPr/>
            <p:nvPr/>
          </p:nvGrpSpPr>
          <p:grpSpPr>
            <a:xfrm>
              <a:off x="1269720" y="4133520"/>
              <a:ext cx="114120" cy="88920"/>
              <a:chOff x="1269720" y="4133520"/>
              <a:chExt cx="114120" cy="88920"/>
            </a:xfrm>
          </p:grpSpPr>
          <p:sp>
            <p:nvSpPr>
              <p:cNvPr id="1859" name=""/>
              <p:cNvSpPr/>
              <p:nvPr/>
            </p:nvSpPr>
            <p:spPr>
              <a:xfrm>
                <a:off x="1282680" y="41335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 flipH="1">
                <a:off x="1269720" y="41335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1" name=""/>
            <p:cNvGrpSpPr/>
            <p:nvPr/>
          </p:nvGrpSpPr>
          <p:grpSpPr>
            <a:xfrm>
              <a:off x="1269720" y="4501800"/>
              <a:ext cx="114120" cy="88920"/>
              <a:chOff x="1269720" y="4501800"/>
              <a:chExt cx="114120" cy="88920"/>
            </a:xfrm>
          </p:grpSpPr>
          <p:sp>
            <p:nvSpPr>
              <p:cNvPr id="1862" name=""/>
              <p:cNvSpPr/>
              <p:nvPr/>
            </p:nvSpPr>
            <p:spPr>
              <a:xfrm>
                <a:off x="1282680" y="45018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 flipH="1">
                <a:off x="1269720" y="45018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64" name=""/>
            <p:cNvSpPr/>
            <p:nvPr/>
          </p:nvSpPr>
          <p:spPr>
            <a:xfrm flipH="1">
              <a:off x="1092240" y="3143160"/>
              <a:ext cx="139680" cy="17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977760" y="3143160"/>
              <a:ext cx="114480" cy="17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 flipH="1">
              <a:off x="964800" y="313668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1143000" y="32572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1098360" y="30160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1162080" y="3320640"/>
              <a:ext cx="0" cy="147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1035000" y="3244680"/>
              <a:ext cx="0" cy="154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1" name=""/>
            <p:cNvGrpSpPr/>
            <p:nvPr/>
          </p:nvGrpSpPr>
          <p:grpSpPr>
            <a:xfrm>
              <a:off x="1104840" y="3396960"/>
              <a:ext cx="114480" cy="88920"/>
              <a:chOff x="1104840" y="3396960"/>
              <a:chExt cx="114480" cy="88920"/>
            </a:xfrm>
          </p:grpSpPr>
          <p:sp>
            <p:nvSpPr>
              <p:cNvPr id="1872" name=""/>
              <p:cNvSpPr/>
              <p:nvPr/>
            </p:nvSpPr>
            <p:spPr>
              <a:xfrm>
                <a:off x="1117440" y="33969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 flipH="1">
                <a:off x="1104840" y="339696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4" name=""/>
            <p:cNvGrpSpPr/>
            <p:nvPr/>
          </p:nvGrpSpPr>
          <p:grpSpPr>
            <a:xfrm>
              <a:off x="1104840" y="3765240"/>
              <a:ext cx="114480" cy="88920"/>
              <a:chOff x="1104840" y="3765240"/>
              <a:chExt cx="114480" cy="88920"/>
            </a:xfrm>
          </p:grpSpPr>
          <p:sp>
            <p:nvSpPr>
              <p:cNvPr id="1875" name=""/>
              <p:cNvSpPr/>
              <p:nvPr/>
            </p:nvSpPr>
            <p:spPr>
              <a:xfrm>
                <a:off x="1117440" y="37652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 flipH="1">
                <a:off x="1104840" y="376524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7" name=""/>
            <p:cNvGrpSpPr/>
            <p:nvPr/>
          </p:nvGrpSpPr>
          <p:grpSpPr>
            <a:xfrm>
              <a:off x="1104840" y="4133520"/>
              <a:ext cx="114480" cy="88920"/>
              <a:chOff x="1104840" y="4133520"/>
              <a:chExt cx="114480" cy="88920"/>
            </a:xfrm>
          </p:grpSpPr>
          <p:sp>
            <p:nvSpPr>
              <p:cNvPr id="1878" name=""/>
              <p:cNvSpPr/>
              <p:nvPr/>
            </p:nvSpPr>
            <p:spPr>
              <a:xfrm>
                <a:off x="1117440" y="41335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 flipH="1">
                <a:off x="1104840" y="413352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0" name=""/>
            <p:cNvGrpSpPr/>
            <p:nvPr/>
          </p:nvGrpSpPr>
          <p:grpSpPr>
            <a:xfrm>
              <a:off x="1104840" y="4501800"/>
              <a:ext cx="114480" cy="88920"/>
              <a:chOff x="1104840" y="4501800"/>
              <a:chExt cx="114480" cy="88920"/>
            </a:xfrm>
          </p:grpSpPr>
          <p:sp>
            <p:nvSpPr>
              <p:cNvPr id="1881" name=""/>
              <p:cNvSpPr/>
              <p:nvPr/>
            </p:nvSpPr>
            <p:spPr>
              <a:xfrm>
                <a:off x="1117440" y="45018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 flipH="1">
                <a:off x="1104840" y="450180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3" name=""/>
            <p:cNvGrpSpPr/>
            <p:nvPr/>
          </p:nvGrpSpPr>
          <p:grpSpPr>
            <a:xfrm>
              <a:off x="977760" y="3396960"/>
              <a:ext cx="114480" cy="88920"/>
              <a:chOff x="977760" y="3396960"/>
              <a:chExt cx="114480" cy="88920"/>
            </a:xfrm>
          </p:grpSpPr>
          <p:sp>
            <p:nvSpPr>
              <p:cNvPr id="1884" name=""/>
              <p:cNvSpPr/>
              <p:nvPr/>
            </p:nvSpPr>
            <p:spPr>
              <a:xfrm>
                <a:off x="990720" y="339696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 flipH="1">
                <a:off x="977760" y="339696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6" name=""/>
            <p:cNvGrpSpPr/>
            <p:nvPr/>
          </p:nvGrpSpPr>
          <p:grpSpPr>
            <a:xfrm>
              <a:off x="977760" y="3765240"/>
              <a:ext cx="114480" cy="88920"/>
              <a:chOff x="977760" y="3765240"/>
              <a:chExt cx="114480" cy="88920"/>
            </a:xfrm>
          </p:grpSpPr>
          <p:sp>
            <p:nvSpPr>
              <p:cNvPr id="1887" name=""/>
              <p:cNvSpPr/>
              <p:nvPr/>
            </p:nvSpPr>
            <p:spPr>
              <a:xfrm>
                <a:off x="990720" y="37652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 flipH="1">
                <a:off x="977760" y="376524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9" name=""/>
            <p:cNvGrpSpPr/>
            <p:nvPr/>
          </p:nvGrpSpPr>
          <p:grpSpPr>
            <a:xfrm>
              <a:off x="977760" y="4133520"/>
              <a:ext cx="114480" cy="88920"/>
              <a:chOff x="977760" y="4133520"/>
              <a:chExt cx="114480" cy="88920"/>
            </a:xfrm>
          </p:grpSpPr>
          <p:sp>
            <p:nvSpPr>
              <p:cNvPr id="1890" name=""/>
              <p:cNvSpPr/>
              <p:nvPr/>
            </p:nvSpPr>
            <p:spPr>
              <a:xfrm>
                <a:off x="990720" y="413352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 flipH="1">
                <a:off x="977760" y="413352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2" name=""/>
            <p:cNvGrpSpPr/>
            <p:nvPr/>
          </p:nvGrpSpPr>
          <p:grpSpPr>
            <a:xfrm>
              <a:off x="977760" y="4501800"/>
              <a:ext cx="114480" cy="88920"/>
              <a:chOff x="977760" y="4501800"/>
              <a:chExt cx="114480" cy="88920"/>
            </a:xfrm>
          </p:grpSpPr>
          <p:sp>
            <p:nvSpPr>
              <p:cNvPr id="1893" name=""/>
              <p:cNvSpPr/>
              <p:nvPr/>
            </p:nvSpPr>
            <p:spPr>
              <a:xfrm>
                <a:off x="990720" y="450180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 flipH="1">
                <a:off x="977760" y="450180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95" name=""/>
            <p:cNvSpPr/>
            <p:nvPr/>
          </p:nvSpPr>
          <p:spPr>
            <a:xfrm flipH="1">
              <a:off x="799920" y="3143160"/>
              <a:ext cx="139680" cy="17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685800" y="3143160"/>
              <a:ext cx="114120" cy="17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 flipH="1">
              <a:off x="673200" y="3136680"/>
              <a:ext cx="26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850680" y="3257280"/>
              <a:ext cx="5112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806400" y="30160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869760" y="3320640"/>
              <a:ext cx="0" cy="147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743040" y="3244680"/>
              <a:ext cx="0" cy="153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02" name=""/>
            <p:cNvGrpSpPr/>
            <p:nvPr/>
          </p:nvGrpSpPr>
          <p:grpSpPr>
            <a:xfrm>
              <a:off x="812520" y="3396960"/>
              <a:ext cx="114120" cy="88920"/>
              <a:chOff x="812520" y="3396960"/>
              <a:chExt cx="114120" cy="88920"/>
            </a:xfrm>
          </p:grpSpPr>
          <p:sp>
            <p:nvSpPr>
              <p:cNvPr id="1903" name=""/>
              <p:cNvSpPr/>
              <p:nvPr/>
            </p:nvSpPr>
            <p:spPr>
              <a:xfrm>
                <a:off x="825480" y="33969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 flipH="1">
                <a:off x="812520" y="33969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5" name=""/>
            <p:cNvGrpSpPr/>
            <p:nvPr/>
          </p:nvGrpSpPr>
          <p:grpSpPr>
            <a:xfrm>
              <a:off x="812520" y="3765240"/>
              <a:ext cx="114120" cy="88920"/>
              <a:chOff x="812520" y="3765240"/>
              <a:chExt cx="114120" cy="88920"/>
            </a:xfrm>
          </p:grpSpPr>
          <p:sp>
            <p:nvSpPr>
              <p:cNvPr id="1906" name=""/>
              <p:cNvSpPr/>
              <p:nvPr/>
            </p:nvSpPr>
            <p:spPr>
              <a:xfrm>
                <a:off x="825480" y="37652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 flipH="1">
                <a:off x="812520" y="376524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8" name=""/>
            <p:cNvGrpSpPr/>
            <p:nvPr/>
          </p:nvGrpSpPr>
          <p:grpSpPr>
            <a:xfrm>
              <a:off x="812520" y="4133520"/>
              <a:ext cx="114120" cy="88920"/>
              <a:chOff x="812520" y="4133520"/>
              <a:chExt cx="114120" cy="88920"/>
            </a:xfrm>
          </p:grpSpPr>
          <p:sp>
            <p:nvSpPr>
              <p:cNvPr id="1909" name=""/>
              <p:cNvSpPr/>
              <p:nvPr/>
            </p:nvSpPr>
            <p:spPr>
              <a:xfrm>
                <a:off x="825480" y="41335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 flipH="1">
                <a:off x="812520" y="41335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1" name=""/>
            <p:cNvGrpSpPr/>
            <p:nvPr/>
          </p:nvGrpSpPr>
          <p:grpSpPr>
            <a:xfrm>
              <a:off x="812520" y="4501800"/>
              <a:ext cx="114120" cy="88920"/>
              <a:chOff x="812520" y="4501800"/>
              <a:chExt cx="114120" cy="88920"/>
            </a:xfrm>
          </p:grpSpPr>
          <p:sp>
            <p:nvSpPr>
              <p:cNvPr id="1912" name=""/>
              <p:cNvSpPr/>
              <p:nvPr/>
            </p:nvSpPr>
            <p:spPr>
              <a:xfrm>
                <a:off x="825480" y="45018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 flipH="1">
                <a:off x="812520" y="45018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4" name=""/>
            <p:cNvGrpSpPr/>
            <p:nvPr/>
          </p:nvGrpSpPr>
          <p:grpSpPr>
            <a:xfrm>
              <a:off x="685440" y="3396960"/>
              <a:ext cx="114120" cy="88920"/>
              <a:chOff x="685440" y="3396960"/>
              <a:chExt cx="114120" cy="88920"/>
            </a:xfrm>
          </p:grpSpPr>
          <p:sp>
            <p:nvSpPr>
              <p:cNvPr id="1915" name=""/>
              <p:cNvSpPr/>
              <p:nvPr/>
            </p:nvSpPr>
            <p:spPr>
              <a:xfrm>
                <a:off x="698400" y="33969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 flipH="1">
                <a:off x="685440" y="33969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7" name=""/>
            <p:cNvGrpSpPr/>
            <p:nvPr/>
          </p:nvGrpSpPr>
          <p:grpSpPr>
            <a:xfrm>
              <a:off x="685440" y="3765240"/>
              <a:ext cx="114120" cy="88920"/>
              <a:chOff x="685440" y="3765240"/>
              <a:chExt cx="114120" cy="88920"/>
            </a:xfrm>
          </p:grpSpPr>
          <p:sp>
            <p:nvSpPr>
              <p:cNvPr id="1918" name=""/>
              <p:cNvSpPr/>
              <p:nvPr/>
            </p:nvSpPr>
            <p:spPr>
              <a:xfrm>
                <a:off x="698400" y="37652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 flipH="1">
                <a:off x="685440" y="376524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0" name=""/>
            <p:cNvGrpSpPr/>
            <p:nvPr/>
          </p:nvGrpSpPr>
          <p:grpSpPr>
            <a:xfrm>
              <a:off x="685440" y="4133520"/>
              <a:ext cx="114120" cy="88920"/>
              <a:chOff x="685440" y="4133520"/>
              <a:chExt cx="114120" cy="88920"/>
            </a:xfrm>
          </p:grpSpPr>
          <p:sp>
            <p:nvSpPr>
              <p:cNvPr id="1921" name=""/>
              <p:cNvSpPr/>
              <p:nvPr/>
            </p:nvSpPr>
            <p:spPr>
              <a:xfrm>
                <a:off x="698400" y="41335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 flipH="1">
                <a:off x="685440" y="41335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3" name=""/>
            <p:cNvGrpSpPr/>
            <p:nvPr/>
          </p:nvGrpSpPr>
          <p:grpSpPr>
            <a:xfrm>
              <a:off x="685440" y="4501800"/>
              <a:ext cx="114120" cy="88920"/>
              <a:chOff x="685440" y="4501800"/>
              <a:chExt cx="114120" cy="88920"/>
            </a:xfrm>
          </p:grpSpPr>
          <p:sp>
            <p:nvSpPr>
              <p:cNvPr id="1924" name=""/>
              <p:cNvSpPr/>
              <p:nvPr/>
            </p:nvSpPr>
            <p:spPr>
              <a:xfrm>
                <a:off x="698400" y="45018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 flipH="1">
                <a:off x="685440" y="45018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6" name=""/>
            <p:cNvGrpSpPr/>
            <p:nvPr/>
          </p:nvGrpSpPr>
          <p:grpSpPr>
            <a:xfrm>
              <a:off x="2565720" y="3244680"/>
              <a:ext cx="305280" cy="2108160"/>
              <a:chOff x="2565720" y="3244680"/>
              <a:chExt cx="305280" cy="2108160"/>
            </a:xfrm>
          </p:grpSpPr>
          <p:sp>
            <p:nvSpPr>
              <p:cNvPr id="1927" name=""/>
              <p:cNvSpPr/>
              <p:nvPr/>
            </p:nvSpPr>
            <p:spPr>
              <a:xfrm>
                <a:off x="2590920" y="4692240"/>
                <a:ext cx="26604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2565720" y="4285800"/>
                <a:ext cx="291240" cy="952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2579760" y="4336920"/>
                <a:ext cx="291240" cy="901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2579760" y="4692240"/>
                <a:ext cx="29124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2711520" y="3244680"/>
                <a:ext cx="0" cy="156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2711520" y="5238360"/>
                <a:ext cx="0" cy="1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33" name=""/>
              <p:cNvGrpSpPr/>
              <p:nvPr/>
            </p:nvGrpSpPr>
            <p:grpSpPr>
              <a:xfrm>
                <a:off x="2653920" y="3396960"/>
                <a:ext cx="114120" cy="88920"/>
                <a:chOff x="2653920" y="3396960"/>
                <a:chExt cx="114120" cy="88920"/>
              </a:xfrm>
            </p:grpSpPr>
            <p:sp>
              <p:nvSpPr>
                <p:cNvPr id="1934" name=""/>
                <p:cNvSpPr/>
                <p:nvPr/>
              </p:nvSpPr>
              <p:spPr>
                <a:xfrm>
                  <a:off x="2666880" y="33969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5" name=""/>
                <p:cNvSpPr/>
                <p:nvPr/>
              </p:nvSpPr>
              <p:spPr>
                <a:xfrm flipH="1">
                  <a:off x="2653920" y="33969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6" name=""/>
              <p:cNvGrpSpPr/>
              <p:nvPr/>
            </p:nvGrpSpPr>
            <p:grpSpPr>
              <a:xfrm>
                <a:off x="2653920" y="3765240"/>
                <a:ext cx="114120" cy="88920"/>
                <a:chOff x="2653920" y="3765240"/>
                <a:chExt cx="114120" cy="88920"/>
              </a:xfrm>
            </p:grpSpPr>
            <p:sp>
              <p:nvSpPr>
                <p:cNvPr id="1937" name=""/>
                <p:cNvSpPr/>
                <p:nvPr/>
              </p:nvSpPr>
              <p:spPr>
                <a:xfrm>
                  <a:off x="2666880" y="376524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8" name=""/>
                <p:cNvSpPr/>
                <p:nvPr/>
              </p:nvSpPr>
              <p:spPr>
                <a:xfrm flipH="1">
                  <a:off x="2653920" y="376524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9" name=""/>
              <p:cNvGrpSpPr/>
              <p:nvPr/>
            </p:nvGrpSpPr>
            <p:grpSpPr>
              <a:xfrm>
                <a:off x="2653920" y="4133520"/>
                <a:ext cx="114120" cy="88920"/>
                <a:chOff x="2653920" y="4133520"/>
                <a:chExt cx="114120" cy="88920"/>
              </a:xfrm>
            </p:grpSpPr>
            <p:sp>
              <p:nvSpPr>
                <p:cNvPr id="1940" name=""/>
                <p:cNvSpPr/>
                <p:nvPr/>
              </p:nvSpPr>
              <p:spPr>
                <a:xfrm>
                  <a:off x="2666880" y="41335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1" name=""/>
                <p:cNvSpPr/>
                <p:nvPr/>
              </p:nvSpPr>
              <p:spPr>
                <a:xfrm flipH="1">
                  <a:off x="2653920" y="41335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2" name=""/>
              <p:cNvGrpSpPr/>
              <p:nvPr/>
            </p:nvGrpSpPr>
            <p:grpSpPr>
              <a:xfrm>
                <a:off x="2653920" y="4501800"/>
                <a:ext cx="114120" cy="88920"/>
                <a:chOff x="2653920" y="4501800"/>
                <a:chExt cx="114120" cy="88920"/>
              </a:xfrm>
            </p:grpSpPr>
            <p:sp>
              <p:nvSpPr>
                <p:cNvPr id="1943" name=""/>
                <p:cNvSpPr/>
                <p:nvPr/>
              </p:nvSpPr>
              <p:spPr>
                <a:xfrm>
                  <a:off x="2666880" y="4501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4" name=""/>
                <p:cNvSpPr/>
                <p:nvPr/>
              </p:nvSpPr>
              <p:spPr>
                <a:xfrm flipH="1">
                  <a:off x="2653920" y="45018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45" name=""/>
            <p:cNvGrpSpPr/>
            <p:nvPr/>
          </p:nvGrpSpPr>
          <p:grpSpPr>
            <a:xfrm>
              <a:off x="2934000" y="3244680"/>
              <a:ext cx="305280" cy="2108160"/>
              <a:chOff x="2934000" y="3244680"/>
              <a:chExt cx="305280" cy="2108160"/>
            </a:xfrm>
          </p:grpSpPr>
          <p:sp>
            <p:nvSpPr>
              <p:cNvPr id="1946" name=""/>
              <p:cNvSpPr/>
              <p:nvPr/>
            </p:nvSpPr>
            <p:spPr>
              <a:xfrm>
                <a:off x="2959200" y="4692240"/>
                <a:ext cx="26604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2934000" y="4285800"/>
                <a:ext cx="291240" cy="952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2948040" y="4336920"/>
                <a:ext cx="291240" cy="901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2948040" y="4692240"/>
                <a:ext cx="29124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3079800" y="3244680"/>
                <a:ext cx="0" cy="156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3079800" y="5238360"/>
                <a:ext cx="0" cy="1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52" name=""/>
              <p:cNvGrpSpPr/>
              <p:nvPr/>
            </p:nvGrpSpPr>
            <p:grpSpPr>
              <a:xfrm>
                <a:off x="3022200" y="3396960"/>
                <a:ext cx="114120" cy="88920"/>
                <a:chOff x="3022200" y="3396960"/>
                <a:chExt cx="114120" cy="88920"/>
              </a:xfrm>
            </p:grpSpPr>
            <p:sp>
              <p:nvSpPr>
                <p:cNvPr id="1953" name=""/>
                <p:cNvSpPr/>
                <p:nvPr/>
              </p:nvSpPr>
              <p:spPr>
                <a:xfrm>
                  <a:off x="3035160" y="33969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4" name=""/>
                <p:cNvSpPr/>
                <p:nvPr/>
              </p:nvSpPr>
              <p:spPr>
                <a:xfrm flipH="1">
                  <a:off x="3022200" y="33969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5" name=""/>
              <p:cNvGrpSpPr/>
              <p:nvPr/>
            </p:nvGrpSpPr>
            <p:grpSpPr>
              <a:xfrm>
                <a:off x="3022200" y="3765240"/>
                <a:ext cx="114120" cy="88920"/>
                <a:chOff x="3022200" y="3765240"/>
                <a:chExt cx="114120" cy="88920"/>
              </a:xfrm>
            </p:grpSpPr>
            <p:sp>
              <p:nvSpPr>
                <p:cNvPr id="1956" name=""/>
                <p:cNvSpPr/>
                <p:nvPr/>
              </p:nvSpPr>
              <p:spPr>
                <a:xfrm>
                  <a:off x="3035160" y="376524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7" name=""/>
                <p:cNvSpPr/>
                <p:nvPr/>
              </p:nvSpPr>
              <p:spPr>
                <a:xfrm flipH="1">
                  <a:off x="3022200" y="376524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8" name=""/>
              <p:cNvGrpSpPr/>
              <p:nvPr/>
            </p:nvGrpSpPr>
            <p:grpSpPr>
              <a:xfrm>
                <a:off x="3022200" y="4133520"/>
                <a:ext cx="114120" cy="88920"/>
                <a:chOff x="3022200" y="4133520"/>
                <a:chExt cx="114120" cy="88920"/>
              </a:xfrm>
            </p:grpSpPr>
            <p:sp>
              <p:nvSpPr>
                <p:cNvPr id="1959" name=""/>
                <p:cNvSpPr/>
                <p:nvPr/>
              </p:nvSpPr>
              <p:spPr>
                <a:xfrm>
                  <a:off x="3035160" y="41335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0" name=""/>
                <p:cNvSpPr/>
                <p:nvPr/>
              </p:nvSpPr>
              <p:spPr>
                <a:xfrm flipH="1">
                  <a:off x="3022200" y="41335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1" name=""/>
              <p:cNvGrpSpPr/>
              <p:nvPr/>
            </p:nvGrpSpPr>
            <p:grpSpPr>
              <a:xfrm>
                <a:off x="3022200" y="4501800"/>
                <a:ext cx="114120" cy="88920"/>
                <a:chOff x="3022200" y="4501800"/>
                <a:chExt cx="114120" cy="88920"/>
              </a:xfrm>
            </p:grpSpPr>
            <p:sp>
              <p:nvSpPr>
                <p:cNvPr id="1962" name=""/>
                <p:cNvSpPr/>
                <p:nvPr/>
              </p:nvSpPr>
              <p:spPr>
                <a:xfrm>
                  <a:off x="3035160" y="4501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3" name=""/>
                <p:cNvSpPr/>
                <p:nvPr/>
              </p:nvSpPr>
              <p:spPr>
                <a:xfrm flipH="1">
                  <a:off x="3022200" y="45018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64" name=""/>
            <p:cNvGrpSpPr/>
            <p:nvPr/>
          </p:nvGrpSpPr>
          <p:grpSpPr>
            <a:xfrm>
              <a:off x="3289680" y="3244680"/>
              <a:ext cx="305640" cy="2108160"/>
              <a:chOff x="3289680" y="3244680"/>
              <a:chExt cx="305640" cy="2108160"/>
            </a:xfrm>
          </p:grpSpPr>
          <p:sp>
            <p:nvSpPr>
              <p:cNvPr id="1965" name=""/>
              <p:cNvSpPr/>
              <p:nvPr/>
            </p:nvSpPr>
            <p:spPr>
              <a:xfrm>
                <a:off x="3314880" y="4692240"/>
                <a:ext cx="26604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3289680" y="4285800"/>
                <a:ext cx="291240" cy="952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3303360" y="4336920"/>
                <a:ext cx="291960" cy="901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3303360" y="4692240"/>
                <a:ext cx="29196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3435480" y="3244680"/>
                <a:ext cx="0" cy="156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3435480" y="5238360"/>
                <a:ext cx="0" cy="1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71" name=""/>
              <p:cNvGrpSpPr/>
              <p:nvPr/>
            </p:nvGrpSpPr>
            <p:grpSpPr>
              <a:xfrm>
                <a:off x="3377880" y="3396960"/>
                <a:ext cx="114120" cy="88920"/>
                <a:chOff x="3377880" y="3396960"/>
                <a:chExt cx="114120" cy="88920"/>
              </a:xfrm>
            </p:grpSpPr>
            <p:sp>
              <p:nvSpPr>
                <p:cNvPr id="1972" name=""/>
                <p:cNvSpPr/>
                <p:nvPr/>
              </p:nvSpPr>
              <p:spPr>
                <a:xfrm>
                  <a:off x="3390840" y="33969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3" name=""/>
                <p:cNvSpPr/>
                <p:nvPr/>
              </p:nvSpPr>
              <p:spPr>
                <a:xfrm flipH="1">
                  <a:off x="3377880" y="33969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4" name=""/>
              <p:cNvGrpSpPr/>
              <p:nvPr/>
            </p:nvGrpSpPr>
            <p:grpSpPr>
              <a:xfrm>
                <a:off x="3377880" y="3765240"/>
                <a:ext cx="114120" cy="88920"/>
                <a:chOff x="3377880" y="3765240"/>
                <a:chExt cx="114120" cy="88920"/>
              </a:xfrm>
            </p:grpSpPr>
            <p:sp>
              <p:nvSpPr>
                <p:cNvPr id="1975" name=""/>
                <p:cNvSpPr/>
                <p:nvPr/>
              </p:nvSpPr>
              <p:spPr>
                <a:xfrm>
                  <a:off x="3390840" y="376524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6" name=""/>
                <p:cNvSpPr/>
                <p:nvPr/>
              </p:nvSpPr>
              <p:spPr>
                <a:xfrm flipH="1">
                  <a:off x="3377880" y="376524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7" name=""/>
              <p:cNvGrpSpPr/>
              <p:nvPr/>
            </p:nvGrpSpPr>
            <p:grpSpPr>
              <a:xfrm>
                <a:off x="3377880" y="4133520"/>
                <a:ext cx="114120" cy="88920"/>
                <a:chOff x="3377880" y="4133520"/>
                <a:chExt cx="114120" cy="88920"/>
              </a:xfrm>
            </p:grpSpPr>
            <p:sp>
              <p:nvSpPr>
                <p:cNvPr id="1978" name=""/>
                <p:cNvSpPr/>
                <p:nvPr/>
              </p:nvSpPr>
              <p:spPr>
                <a:xfrm>
                  <a:off x="3390840" y="41335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9" name=""/>
                <p:cNvSpPr/>
                <p:nvPr/>
              </p:nvSpPr>
              <p:spPr>
                <a:xfrm flipH="1">
                  <a:off x="3377880" y="41335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0" name=""/>
              <p:cNvGrpSpPr/>
              <p:nvPr/>
            </p:nvGrpSpPr>
            <p:grpSpPr>
              <a:xfrm>
                <a:off x="3377880" y="4501800"/>
                <a:ext cx="114120" cy="88920"/>
                <a:chOff x="3377880" y="4501800"/>
                <a:chExt cx="114120" cy="88920"/>
              </a:xfrm>
            </p:grpSpPr>
            <p:sp>
              <p:nvSpPr>
                <p:cNvPr id="1981" name=""/>
                <p:cNvSpPr/>
                <p:nvPr/>
              </p:nvSpPr>
              <p:spPr>
                <a:xfrm>
                  <a:off x="3390840" y="4501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2" name=""/>
                <p:cNvSpPr/>
                <p:nvPr/>
              </p:nvSpPr>
              <p:spPr>
                <a:xfrm flipH="1">
                  <a:off x="3377880" y="45018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83" name=""/>
            <p:cNvGrpSpPr/>
            <p:nvPr/>
          </p:nvGrpSpPr>
          <p:grpSpPr>
            <a:xfrm>
              <a:off x="3644640" y="3244680"/>
              <a:ext cx="306360" cy="2108160"/>
              <a:chOff x="3644640" y="3244680"/>
              <a:chExt cx="306360" cy="2108160"/>
            </a:xfrm>
          </p:grpSpPr>
          <p:sp>
            <p:nvSpPr>
              <p:cNvPr id="1984" name=""/>
              <p:cNvSpPr/>
              <p:nvPr/>
            </p:nvSpPr>
            <p:spPr>
              <a:xfrm>
                <a:off x="3670560" y="4692240"/>
                <a:ext cx="26604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3644640" y="4285800"/>
                <a:ext cx="291960" cy="952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3659040" y="4336920"/>
                <a:ext cx="291960" cy="901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3659040" y="4692240"/>
                <a:ext cx="29196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3790800" y="3244680"/>
                <a:ext cx="0" cy="156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3790800" y="5238360"/>
                <a:ext cx="0" cy="1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90" name=""/>
              <p:cNvGrpSpPr/>
              <p:nvPr/>
            </p:nvGrpSpPr>
            <p:grpSpPr>
              <a:xfrm>
                <a:off x="3733560" y="3396960"/>
                <a:ext cx="114120" cy="88920"/>
                <a:chOff x="3733560" y="3396960"/>
                <a:chExt cx="114120" cy="88920"/>
              </a:xfrm>
            </p:grpSpPr>
            <p:sp>
              <p:nvSpPr>
                <p:cNvPr id="1991" name=""/>
                <p:cNvSpPr/>
                <p:nvPr/>
              </p:nvSpPr>
              <p:spPr>
                <a:xfrm>
                  <a:off x="3746520" y="33969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2" name=""/>
                <p:cNvSpPr/>
                <p:nvPr/>
              </p:nvSpPr>
              <p:spPr>
                <a:xfrm flipH="1">
                  <a:off x="3733560" y="33969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3" name=""/>
              <p:cNvGrpSpPr/>
              <p:nvPr/>
            </p:nvGrpSpPr>
            <p:grpSpPr>
              <a:xfrm>
                <a:off x="3733560" y="3765240"/>
                <a:ext cx="114120" cy="88920"/>
                <a:chOff x="3733560" y="3765240"/>
                <a:chExt cx="114120" cy="88920"/>
              </a:xfrm>
            </p:grpSpPr>
            <p:sp>
              <p:nvSpPr>
                <p:cNvPr id="1994" name=""/>
                <p:cNvSpPr/>
                <p:nvPr/>
              </p:nvSpPr>
              <p:spPr>
                <a:xfrm>
                  <a:off x="3746520" y="376524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5" name=""/>
                <p:cNvSpPr/>
                <p:nvPr/>
              </p:nvSpPr>
              <p:spPr>
                <a:xfrm flipH="1">
                  <a:off x="3733560" y="376524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6" name=""/>
              <p:cNvGrpSpPr/>
              <p:nvPr/>
            </p:nvGrpSpPr>
            <p:grpSpPr>
              <a:xfrm>
                <a:off x="3733560" y="4133520"/>
                <a:ext cx="114120" cy="88920"/>
                <a:chOff x="3733560" y="4133520"/>
                <a:chExt cx="114120" cy="88920"/>
              </a:xfrm>
            </p:grpSpPr>
            <p:sp>
              <p:nvSpPr>
                <p:cNvPr id="1997" name=""/>
                <p:cNvSpPr/>
                <p:nvPr/>
              </p:nvSpPr>
              <p:spPr>
                <a:xfrm>
                  <a:off x="3746520" y="41335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8" name=""/>
                <p:cNvSpPr/>
                <p:nvPr/>
              </p:nvSpPr>
              <p:spPr>
                <a:xfrm flipH="1">
                  <a:off x="3733560" y="41335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9" name=""/>
              <p:cNvGrpSpPr/>
              <p:nvPr/>
            </p:nvGrpSpPr>
            <p:grpSpPr>
              <a:xfrm>
                <a:off x="3733560" y="4501800"/>
                <a:ext cx="114120" cy="88920"/>
                <a:chOff x="3733560" y="4501800"/>
                <a:chExt cx="114120" cy="88920"/>
              </a:xfrm>
            </p:grpSpPr>
            <p:sp>
              <p:nvSpPr>
                <p:cNvPr id="2000" name=""/>
                <p:cNvSpPr/>
                <p:nvPr/>
              </p:nvSpPr>
              <p:spPr>
                <a:xfrm>
                  <a:off x="3746520" y="4501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1" name=""/>
                <p:cNvSpPr/>
                <p:nvPr/>
              </p:nvSpPr>
              <p:spPr>
                <a:xfrm flipH="1">
                  <a:off x="3733560" y="45018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002" name=""/>
          <p:cNvSpPr/>
          <p:nvPr/>
        </p:nvSpPr>
        <p:spPr>
          <a:xfrm>
            <a:off x="5365800" y="2679840"/>
            <a:ext cx="299700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tation for implemen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0 = A B  +  A' B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1 = C D'  +  C'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3" name=""/>
          <p:cNvGrpSpPr/>
          <p:nvPr/>
        </p:nvGrpSpPr>
        <p:grpSpPr>
          <a:xfrm>
            <a:off x="1244160" y="2190600"/>
            <a:ext cx="114120" cy="88560"/>
            <a:chOff x="1244160" y="2190600"/>
            <a:chExt cx="114120" cy="88560"/>
          </a:xfrm>
        </p:grpSpPr>
        <p:sp>
          <p:nvSpPr>
            <p:cNvPr id="2004" name=""/>
            <p:cNvSpPr/>
            <p:nvPr/>
          </p:nvSpPr>
          <p:spPr>
            <a:xfrm>
              <a:off x="1257120" y="2190600"/>
              <a:ext cx="88920" cy="88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 flipH="1">
              <a:off x="1244160" y="2190600"/>
              <a:ext cx="114120" cy="88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6" name=""/>
          <p:cNvGrpSpPr/>
          <p:nvPr/>
        </p:nvGrpSpPr>
        <p:grpSpPr>
          <a:xfrm>
            <a:off x="6559560" y="4273560"/>
            <a:ext cx="1092240" cy="2266920"/>
            <a:chOff x="6559560" y="4273560"/>
            <a:chExt cx="1092240" cy="2266920"/>
          </a:xfrm>
        </p:grpSpPr>
        <p:grpSp>
          <p:nvGrpSpPr>
            <p:cNvPr id="2007" name=""/>
            <p:cNvGrpSpPr/>
            <p:nvPr/>
          </p:nvGrpSpPr>
          <p:grpSpPr>
            <a:xfrm>
              <a:off x="6997320" y="4273560"/>
              <a:ext cx="114120" cy="88920"/>
              <a:chOff x="6997320" y="4273560"/>
              <a:chExt cx="114120" cy="88920"/>
            </a:xfrm>
          </p:grpSpPr>
          <p:sp>
            <p:nvSpPr>
              <p:cNvPr id="2008" name=""/>
              <p:cNvSpPr/>
              <p:nvPr/>
            </p:nvSpPr>
            <p:spPr>
              <a:xfrm>
                <a:off x="7010280" y="42735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 flipH="1">
                <a:off x="6997320" y="42735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0" name=""/>
            <p:cNvGrpSpPr/>
            <p:nvPr/>
          </p:nvGrpSpPr>
          <p:grpSpPr>
            <a:xfrm>
              <a:off x="6997320" y="4641840"/>
              <a:ext cx="114120" cy="88920"/>
              <a:chOff x="6997320" y="4641840"/>
              <a:chExt cx="114120" cy="88920"/>
            </a:xfrm>
          </p:grpSpPr>
          <p:sp>
            <p:nvSpPr>
              <p:cNvPr id="2011" name=""/>
              <p:cNvSpPr/>
              <p:nvPr/>
            </p:nvSpPr>
            <p:spPr>
              <a:xfrm>
                <a:off x="7010280" y="46418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 flipH="1">
                <a:off x="6997320" y="464184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3" name=""/>
            <p:cNvSpPr/>
            <p:nvPr/>
          </p:nvSpPr>
          <p:spPr>
            <a:xfrm>
              <a:off x="6559560" y="6210360"/>
              <a:ext cx="10922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+A'B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4" name=""/>
          <p:cNvGrpSpPr/>
          <p:nvPr/>
        </p:nvGrpSpPr>
        <p:grpSpPr>
          <a:xfrm>
            <a:off x="6877080" y="5010120"/>
            <a:ext cx="1117440" cy="1720800"/>
            <a:chOff x="6877080" y="5010120"/>
            <a:chExt cx="1117440" cy="1720800"/>
          </a:xfrm>
        </p:grpSpPr>
        <p:grpSp>
          <p:nvGrpSpPr>
            <p:cNvPr id="2015" name=""/>
            <p:cNvGrpSpPr/>
            <p:nvPr/>
          </p:nvGrpSpPr>
          <p:grpSpPr>
            <a:xfrm>
              <a:off x="7365600" y="5010120"/>
              <a:ext cx="114120" cy="88920"/>
              <a:chOff x="7365600" y="5010120"/>
              <a:chExt cx="114120" cy="88920"/>
            </a:xfrm>
          </p:grpSpPr>
          <p:sp>
            <p:nvSpPr>
              <p:cNvPr id="2016" name=""/>
              <p:cNvSpPr/>
              <p:nvPr/>
            </p:nvSpPr>
            <p:spPr>
              <a:xfrm>
                <a:off x="7378560" y="50101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 flipH="1">
                <a:off x="7365600" y="50101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8" name=""/>
            <p:cNvGrpSpPr/>
            <p:nvPr/>
          </p:nvGrpSpPr>
          <p:grpSpPr>
            <a:xfrm>
              <a:off x="7365600" y="5378400"/>
              <a:ext cx="114120" cy="88920"/>
              <a:chOff x="7365600" y="5378400"/>
              <a:chExt cx="114120" cy="88920"/>
            </a:xfrm>
          </p:grpSpPr>
          <p:sp>
            <p:nvSpPr>
              <p:cNvPr id="2019" name=""/>
              <p:cNvSpPr/>
              <p:nvPr/>
            </p:nvSpPr>
            <p:spPr>
              <a:xfrm>
                <a:off x="7378560" y="53784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 flipH="1">
                <a:off x="7365600" y="53784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1" name=""/>
            <p:cNvSpPr/>
            <p:nvPr/>
          </p:nvSpPr>
          <p:spPr>
            <a:xfrm>
              <a:off x="6877080" y="6400800"/>
              <a:ext cx="11174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D'+C'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2" name=""/>
          <p:cNvGrpSpPr/>
          <p:nvPr/>
        </p:nvGrpSpPr>
        <p:grpSpPr>
          <a:xfrm>
            <a:off x="5028840" y="4178160"/>
            <a:ext cx="3994560" cy="330480"/>
            <a:chOff x="5028840" y="4178160"/>
            <a:chExt cx="3994560" cy="330480"/>
          </a:xfrm>
        </p:grpSpPr>
        <p:grpSp>
          <p:nvGrpSpPr>
            <p:cNvPr id="2023" name=""/>
            <p:cNvGrpSpPr/>
            <p:nvPr/>
          </p:nvGrpSpPr>
          <p:grpSpPr>
            <a:xfrm>
              <a:off x="5321160" y="4273560"/>
              <a:ext cx="114480" cy="88920"/>
              <a:chOff x="5321160" y="4273560"/>
              <a:chExt cx="114480" cy="88920"/>
            </a:xfrm>
          </p:grpSpPr>
          <p:sp>
            <p:nvSpPr>
              <p:cNvPr id="2024" name=""/>
              <p:cNvSpPr/>
              <p:nvPr/>
            </p:nvSpPr>
            <p:spPr>
              <a:xfrm>
                <a:off x="5334120" y="427356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 flipH="1">
                <a:off x="5321160" y="427356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6" name=""/>
            <p:cNvGrpSpPr/>
            <p:nvPr/>
          </p:nvGrpSpPr>
          <p:grpSpPr>
            <a:xfrm>
              <a:off x="5028840" y="4273560"/>
              <a:ext cx="114120" cy="88920"/>
              <a:chOff x="5028840" y="4273560"/>
              <a:chExt cx="114120" cy="88920"/>
            </a:xfrm>
          </p:grpSpPr>
          <p:sp>
            <p:nvSpPr>
              <p:cNvPr id="2027" name=""/>
              <p:cNvSpPr/>
              <p:nvPr/>
            </p:nvSpPr>
            <p:spPr>
              <a:xfrm>
                <a:off x="5041800" y="42735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 flipH="1">
                <a:off x="5028840" y="42735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9" name=""/>
            <p:cNvSpPr/>
            <p:nvPr/>
          </p:nvSpPr>
          <p:spPr>
            <a:xfrm>
              <a:off x="8350200" y="4178160"/>
              <a:ext cx="6732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0" name=""/>
          <p:cNvGrpSpPr/>
          <p:nvPr/>
        </p:nvGrpSpPr>
        <p:grpSpPr>
          <a:xfrm>
            <a:off x="5155920" y="4533840"/>
            <a:ext cx="3943800" cy="330120"/>
            <a:chOff x="5155920" y="4533840"/>
            <a:chExt cx="3943800" cy="330120"/>
          </a:xfrm>
        </p:grpSpPr>
        <p:grpSp>
          <p:nvGrpSpPr>
            <p:cNvPr id="2031" name=""/>
            <p:cNvGrpSpPr/>
            <p:nvPr/>
          </p:nvGrpSpPr>
          <p:grpSpPr>
            <a:xfrm>
              <a:off x="5448240" y="4641840"/>
              <a:ext cx="114480" cy="88920"/>
              <a:chOff x="5448240" y="4641840"/>
              <a:chExt cx="114480" cy="88920"/>
            </a:xfrm>
          </p:grpSpPr>
          <p:sp>
            <p:nvSpPr>
              <p:cNvPr id="2032" name=""/>
              <p:cNvSpPr/>
              <p:nvPr/>
            </p:nvSpPr>
            <p:spPr>
              <a:xfrm>
                <a:off x="5460840" y="46418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 flipH="1">
                <a:off x="5448240" y="464184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4" name=""/>
            <p:cNvGrpSpPr/>
            <p:nvPr/>
          </p:nvGrpSpPr>
          <p:grpSpPr>
            <a:xfrm>
              <a:off x="5155920" y="4641840"/>
              <a:ext cx="114120" cy="88920"/>
              <a:chOff x="5155920" y="4641840"/>
              <a:chExt cx="114120" cy="88920"/>
            </a:xfrm>
          </p:grpSpPr>
          <p:sp>
            <p:nvSpPr>
              <p:cNvPr id="2035" name=""/>
              <p:cNvSpPr/>
              <p:nvPr/>
            </p:nvSpPr>
            <p:spPr>
              <a:xfrm>
                <a:off x="5168880" y="46418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 flipH="1">
                <a:off x="5155920" y="464184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37" name=""/>
            <p:cNvSpPr/>
            <p:nvPr/>
          </p:nvSpPr>
          <p:spPr>
            <a:xfrm>
              <a:off x="8362800" y="4533840"/>
              <a:ext cx="736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8" name=""/>
          <p:cNvGrpSpPr/>
          <p:nvPr/>
        </p:nvGrpSpPr>
        <p:grpSpPr>
          <a:xfrm>
            <a:off x="5613120" y="4915080"/>
            <a:ext cx="3486600" cy="330120"/>
            <a:chOff x="5613120" y="4915080"/>
            <a:chExt cx="3486600" cy="330120"/>
          </a:xfrm>
        </p:grpSpPr>
        <p:grpSp>
          <p:nvGrpSpPr>
            <p:cNvPr id="2039" name=""/>
            <p:cNvGrpSpPr/>
            <p:nvPr/>
          </p:nvGrpSpPr>
          <p:grpSpPr>
            <a:xfrm>
              <a:off x="6032160" y="5010120"/>
              <a:ext cx="114120" cy="88920"/>
              <a:chOff x="6032160" y="5010120"/>
              <a:chExt cx="114120" cy="88920"/>
            </a:xfrm>
          </p:grpSpPr>
          <p:sp>
            <p:nvSpPr>
              <p:cNvPr id="2040" name=""/>
              <p:cNvSpPr/>
              <p:nvPr/>
            </p:nvSpPr>
            <p:spPr>
              <a:xfrm>
                <a:off x="6045120" y="50101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 flipH="1">
                <a:off x="6032160" y="50101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2" name=""/>
            <p:cNvGrpSpPr/>
            <p:nvPr/>
          </p:nvGrpSpPr>
          <p:grpSpPr>
            <a:xfrm>
              <a:off x="5613120" y="5010120"/>
              <a:ext cx="114120" cy="88920"/>
              <a:chOff x="5613120" y="5010120"/>
              <a:chExt cx="114120" cy="88920"/>
            </a:xfrm>
          </p:grpSpPr>
          <p:sp>
            <p:nvSpPr>
              <p:cNvPr id="2043" name=""/>
              <p:cNvSpPr/>
              <p:nvPr/>
            </p:nvSpPr>
            <p:spPr>
              <a:xfrm>
                <a:off x="5626080" y="50101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 flipH="1">
                <a:off x="5613120" y="50101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45" name=""/>
            <p:cNvSpPr/>
            <p:nvPr/>
          </p:nvSpPr>
          <p:spPr>
            <a:xfrm>
              <a:off x="8362800" y="4915080"/>
              <a:ext cx="736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D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6" name=""/>
          <p:cNvGrpSpPr/>
          <p:nvPr/>
        </p:nvGrpSpPr>
        <p:grpSpPr>
          <a:xfrm>
            <a:off x="5740200" y="5283360"/>
            <a:ext cx="3384720" cy="330120"/>
            <a:chOff x="5740200" y="5283360"/>
            <a:chExt cx="3384720" cy="330120"/>
          </a:xfrm>
        </p:grpSpPr>
        <p:grpSp>
          <p:nvGrpSpPr>
            <p:cNvPr id="2047" name=""/>
            <p:cNvGrpSpPr/>
            <p:nvPr/>
          </p:nvGrpSpPr>
          <p:grpSpPr>
            <a:xfrm>
              <a:off x="5905440" y="5378400"/>
              <a:ext cx="114480" cy="88920"/>
              <a:chOff x="5905440" y="5378400"/>
              <a:chExt cx="114480" cy="88920"/>
            </a:xfrm>
          </p:grpSpPr>
          <p:sp>
            <p:nvSpPr>
              <p:cNvPr id="2048" name=""/>
              <p:cNvSpPr/>
              <p:nvPr/>
            </p:nvSpPr>
            <p:spPr>
              <a:xfrm>
                <a:off x="5918040" y="53784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 flipH="1">
                <a:off x="5905440" y="537840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0" name=""/>
            <p:cNvGrpSpPr/>
            <p:nvPr/>
          </p:nvGrpSpPr>
          <p:grpSpPr>
            <a:xfrm>
              <a:off x="5740200" y="5378400"/>
              <a:ext cx="114120" cy="88920"/>
              <a:chOff x="5740200" y="5378400"/>
              <a:chExt cx="114120" cy="88920"/>
            </a:xfrm>
          </p:grpSpPr>
          <p:sp>
            <p:nvSpPr>
              <p:cNvPr id="2051" name=""/>
              <p:cNvSpPr/>
              <p:nvPr/>
            </p:nvSpPr>
            <p:spPr>
              <a:xfrm>
                <a:off x="5753160" y="537840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 flipH="1">
                <a:off x="5740200" y="53784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53" name=""/>
            <p:cNvSpPr/>
            <p:nvPr/>
          </p:nvSpPr>
          <p:spPr>
            <a:xfrm>
              <a:off x="8388360" y="5283360"/>
              <a:ext cx="7365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'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4" name=""/>
          <p:cNvGrpSpPr/>
          <p:nvPr/>
        </p:nvGrpSpPr>
        <p:grpSpPr>
          <a:xfrm>
            <a:off x="4952880" y="3645000"/>
            <a:ext cx="3454560" cy="2584440"/>
            <a:chOff x="4952880" y="3645000"/>
            <a:chExt cx="3454560" cy="2584440"/>
          </a:xfrm>
        </p:grpSpPr>
        <p:sp>
          <p:nvSpPr>
            <p:cNvPr id="2055" name=""/>
            <p:cNvSpPr/>
            <p:nvPr/>
          </p:nvSpPr>
          <p:spPr>
            <a:xfrm flipH="1">
              <a:off x="6019920" y="401940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5905440" y="4019400"/>
              <a:ext cx="1144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 flipH="1">
              <a:off x="5892480" y="401328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6070680" y="41338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6026040" y="38926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6089760" y="4197240"/>
              <a:ext cx="0" cy="147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5962680" y="4121280"/>
              <a:ext cx="0" cy="154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6362640" y="416556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6362640" y="44704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 flipV="1">
              <a:off x="6356520" y="4159080"/>
              <a:ext cx="0" cy="31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6521760" y="417996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6515280" y="417348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6521400" y="416592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6514920" y="4159800"/>
              <a:ext cx="291960" cy="31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4952880" y="4318200"/>
              <a:ext cx="138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6807240" y="4318200"/>
              <a:ext cx="154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6362640" y="453384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6362640" y="48387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 flipV="1">
              <a:off x="6356520" y="452772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6521760" y="454824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6515280" y="454176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6521400" y="453420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6514920" y="452772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4952880" y="4686480"/>
              <a:ext cx="138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6807240" y="4686480"/>
              <a:ext cx="1574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6362640" y="490212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6362640" y="52070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 flipV="1">
              <a:off x="6356520" y="489600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6521760" y="491652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6515280" y="491004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6521400" y="490248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6514920" y="489600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4952880" y="5054760"/>
              <a:ext cx="138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6807240" y="5054760"/>
              <a:ext cx="1574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6362640" y="527040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6362640" y="55753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 flipV="1">
              <a:off x="6356520" y="526428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6521760" y="528480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6515280" y="527832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6521400" y="527076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6514920" y="526428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4952880" y="5423040"/>
              <a:ext cx="138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6807240" y="5423040"/>
              <a:ext cx="160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 flipH="1">
              <a:off x="5727600" y="401940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5613480" y="4019400"/>
              <a:ext cx="11412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 flipH="1">
              <a:off x="5600880" y="4013280"/>
              <a:ext cx="26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5778360" y="4133880"/>
              <a:ext cx="5112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5734080" y="38926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5797440" y="4197240"/>
              <a:ext cx="0" cy="147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5670720" y="4121280"/>
              <a:ext cx="0" cy="154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 flipH="1">
              <a:off x="5435640" y="401940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5321160" y="4019400"/>
              <a:ext cx="1144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 flipH="1">
              <a:off x="5308200" y="401328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5486400" y="41338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5442120" y="38926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5505480" y="4197240"/>
              <a:ext cx="0" cy="147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5378400" y="4121280"/>
              <a:ext cx="0" cy="154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 flipH="1">
              <a:off x="5143680" y="401940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5029200" y="4019400"/>
              <a:ext cx="1144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 flipH="1">
              <a:off x="5016240" y="401328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5194440" y="41338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5149800" y="38926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5213520" y="4197240"/>
              <a:ext cx="0" cy="147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5086440" y="4121280"/>
              <a:ext cx="0" cy="153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6934320" y="5568840"/>
              <a:ext cx="2664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6908760" y="516240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6923160" y="5213520"/>
              <a:ext cx="29124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6923160" y="5568840"/>
              <a:ext cx="2912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7054920" y="4121280"/>
              <a:ext cx="0" cy="156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7054920" y="611496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7302600" y="5568840"/>
              <a:ext cx="2664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7277040" y="516240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7291440" y="5213520"/>
              <a:ext cx="2919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7291440" y="556884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7423200" y="4121280"/>
              <a:ext cx="0" cy="156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7423200" y="611496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7658280" y="556884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7633080" y="5162400"/>
              <a:ext cx="29124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7647120" y="5213520"/>
              <a:ext cx="29124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7647120" y="5568840"/>
              <a:ext cx="2912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7778880" y="4121280"/>
              <a:ext cx="0" cy="156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7778880" y="611496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8013960" y="556884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7988040" y="516240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8002440" y="5213520"/>
              <a:ext cx="2919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8002440" y="556884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8134200" y="4121280"/>
              <a:ext cx="0" cy="156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8134200" y="611496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5035680" y="3645000"/>
              <a:ext cx="5461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5340240" y="3645000"/>
              <a:ext cx="5461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5619600" y="3645000"/>
              <a:ext cx="559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5911920" y="3645000"/>
              <a:ext cx="5587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85816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lternate representation for high fan-in structur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4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ort-hand notation so we don't have to draw all the wi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ifies a connection is present and perpendicular signal is an input to g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CA0F-0F1C-404A-8FAB-358A7B03E1D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9" name=""/>
          <p:cNvGrpSpPr/>
          <p:nvPr/>
        </p:nvGrpSpPr>
        <p:grpSpPr>
          <a:xfrm>
            <a:off x="1069920" y="4475160"/>
            <a:ext cx="2508480" cy="2070000"/>
            <a:chOff x="1069920" y="4475160"/>
            <a:chExt cx="2508480" cy="2070000"/>
          </a:xfrm>
        </p:grpSpPr>
        <p:sp>
          <p:nvSpPr>
            <p:cNvPr id="2150" name=""/>
            <p:cNvSpPr/>
            <p:nvPr/>
          </p:nvSpPr>
          <p:spPr>
            <a:xfrm>
              <a:off x="1076400" y="4475160"/>
              <a:ext cx="2502000" cy="20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65160"/>
                  <a:tab algn="l" pos="1257480"/>
                  <a:tab algn="l" pos="1536840"/>
                  <a:tab algn="l" pos="1828800"/>
                  <a:tab algn="l" pos="21081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65160"/>
                  <a:tab algn="l" pos="1257480"/>
                  <a:tab algn="l" pos="1536840"/>
                  <a:tab algn="l" pos="1828800"/>
                  <a:tab algn="l" pos="21081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65160"/>
                  <a:tab algn="l" pos="1257480"/>
                  <a:tab algn="l" pos="1536840"/>
                  <a:tab algn="l" pos="1828800"/>
                  <a:tab algn="l" pos="21081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65160"/>
                  <a:tab algn="l" pos="1257480"/>
                  <a:tab algn="l" pos="1536840"/>
                  <a:tab algn="l" pos="1828800"/>
                  <a:tab algn="l" pos="21081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65160"/>
                  <a:tab algn="l" pos="1257480"/>
                  <a:tab algn="l" pos="1536840"/>
                  <a:tab algn="l" pos="1828800"/>
                  <a:tab algn="l" pos="21081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65160"/>
                  <a:tab algn="l" pos="1257480"/>
                  <a:tab algn="l" pos="1536840"/>
                  <a:tab algn="l" pos="1828800"/>
                  <a:tab algn="l" pos="21081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65160"/>
                  <a:tab algn="l" pos="1257480"/>
                  <a:tab algn="l" pos="1536840"/>
                  <a:tab algn="l" pos="1828800"/>
                  <a:tab algn="l" pos="21081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65160"/>
                  <a:tab algn="l" pos="1257480"/>
                  <a:tab algn="l" pos="1536840"/>
                  <a:tab algn="l" pos="1828800"/>
                  <a:tab algn="l" pos="21081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65160"/>
                  <a:tab algn="l" pos="1257480"/>
                  <a:tab algn="l" pos="1536840"/>
                  <a:tab algn="l" pos="1828800"/>
                  <a:tab algn="l" pos="21081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1069920" y="4703760"/>
              <a:ext cx="242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1711440" y="4532040"/>
              <a:ext cx="0" cy="193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3" name=""/>
          <p:cNvGrpSpPr/>
          <p:nvPr/>
        </p:nvGrpSpPr>
        <p:grpSpPr>
          <a:xfrm>
            <a:off x="4371840" y="2278080"/>
            <a:ext cx="4248000" cy="4495680"/>
            <a:chOff x="4371840" y="2278080"/>
            <a:chExt cx="4248000" cy="4495680"/>
          </a:xfrm>
        </p:grpSpPr>
        <p:sp>
          <p:nvSpPr>
            <p:cNvPr id="2154" name=""/>
            <p:cNvSpPr/>
            <p:nvPr/>
          </p:nvSpPr>
          <p:spPr>
            <a:xfrm>
              <a:off x="7921440" y="2697120"/>
              <a:ext cx="698400" cy="30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'C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'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C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'C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'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C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5489280" y="279864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5489280" y="31035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 flipV="1">
              <a:off x="5483160" y="279216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5648400" y="281304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5641920" y="280656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5648040" y="2798280"/>
              <a:ext cx="27900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5641560" y="279216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4371840" y="295092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5933880" y="295092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5489280" y="316692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5489280" y="34718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 flipV="1">
              <a:off x="5483160" y="31604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5648400" y="318132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5641920" y="317484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5648040" y="3166560"/>
              <a:ext cx="27900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5641560" y="316044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4371840" y="331920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5933880" y="331920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5489280" y="353520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5489280" y="38401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 flipV="1">
              <a:off x="5483160" y="3528720"/>
              <a:ext cx="0" cy="31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5648400" y="354960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5641920" y="354312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5648040" y="353556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5641560" y="3529440"/>
              <a:ext cx="291960" cy="31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4371840" y="368784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5933880" y="368784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5489280" y="390348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5489280" y="420840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 flipV="1">
              <a:off x="5483160" y="389736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5648400" y="391788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5641920" y="391140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5648040" y="390384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5641560" y="389736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4371840" y="405612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5933880" y="405612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 flipH="1">
              <a:off x="5184000" y="2652480"/>
              <a:ext cx="14004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5070240" y="2652480"/>
              <a:ext cx="11412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 flipH="1">
              <a:off x="5057280" y="26463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5190840" y="25257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5254560" y="2792160"/>
              <a:ext cx="0" cy="299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5127480" y="2754360"/>
              <a:ext cx="0" cy="303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 flipH="1">
              <a:off x="4892400" y="265248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4778280" y="2652480"/>
              <a:ext cx="11412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 flipH="1">
              <a:off x="4764960" y="26463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4898880" y="25257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4962240" y="2792160"/>
              <a:ext cx="0" cy="299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4835160" y="2741400"/>
              <a:ext cx="0" cy="304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03" name=""/>
            <p:cNvGrpSpPr/>
            <p:nvPr/>
          </p:nvGrpSpPr>
          <p:grpSpPr>
            <a:xfrm>
              <a:off x="4905000" y="2906640"/>
              <a:ext cx="114480" cy="88920"/>
              <a:chOff x="4905000" y="2906640"/>
              <a:chExt cx="114480" cy="88920"/>
            </a:xfrm>
          </p:grpSpPr>
          <p:sp>
            <p:nvSpPr>
              <p:cNvPr id="2204" name=""/>
              <p:cNvSpPr/>
              <p:nvPr/>
            </p:nvSpPr>
            <p:spPr>
              <a:xfrm>
                <a:off x="4917960" y="29066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 flipH="1">
                <a:off x="4905000" y="290664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06" name=""/>
            <p:cNvSpPr/>
            <p:nvPr/>
          </p:nvSpPr>
          <p:spPr>
            <a:xfrm flipH="1">
              <a:off x="4600440" y="265248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4485960" y="2652480"/>
              <a:ext cx="1144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 flipH="1">
              <a:off x="4473000" y="26463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4606560" y="25257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4670280" y="2792160"/>
              <a:ext cx="0" cy="299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4543200" y="2754360"/>
              <a:ext cx="0" cy="303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12" name=""/>
            <p:cNvGrpSpPr/>
            <p:nvPr/>
          </p:nvGrpSpPr>
          <p:grpSpPr>
            <a:xfrm>
              <a:off x="4612680" y="2906640"/>
              <a:ext cx="114120" cy="88920"/>
              <a:chOff x="4612680" y="2906640"/>
              <a:chExt cx="114120" cy="88920"/>
            </a:xfrm>
          </p:grpSpPr>
          <p:sp>
            <p:nvSpPr>
              <p:cNvPr id="2213" name=""/>
              <p:cNvSpPr/>
              <p:nvPr/>
            </p:nvSpPr>
            <p:spPr>
              <a:xfrm>
                <a:off x="4625640" y="29066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 flipH="1">
                <a:off x="4612680" y="290664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15" name=""/>
            <p:cNvSpPr/>
            <p:nvPr/>
          </p:nvSpPr>
          <p:spPr>
            <a:xfrm>
              <a:off x="6060960" y="564984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6035760" y="5243400"/>
              <a:ext cx="29124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6049800" y="5294520"/>
              <a:ext cx="29124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6049800" y="5649840"/>
              <a:ext cx="2912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6181560" y="2754360"/>
              <a:ext cx="0" cy="300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6181560" y="61959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21" name=""/>
            <p:cNvGrpSpPr/>
            <p:nvPr/>
          </p:nvGrpSpPr>
          <p:grpSpPr>
            <a:xfrm>
              <a:off x="6124320" y="5484600"/>
              <a:ext cx="114480" cy="88920"/>
              <a:chOff x="6124320" y="5484600"/>
              <a:chExt cx="114480" cy="88920"/>
            </a:xfrm>
          </p:grpSpPr>
          <p:sp>
            <p:nvSpPr>
              <p:cNvPr id="2222" name=""/>
              <p:cNvSpPr/>
              <p:nvPr/>
            </p:nvSpPr>
            <p:spPr>
              <a:xfrm>
                <a:off x="6136920" y="54846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 flipH="1">
                <a:off x="6124320" y="548460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24" name=""/>
            <p:cNvSpPr/>
            <p:nvPr/>
          </p:nvSpPr>
          <p:spPr>
            <a:xfrm>
              <a:off x="6429240" y="5649840"/>
              <a:ext cx="2664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6403680" y="524340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6418080" y="5294520"/>
              <a:ext cx="2919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6418080" y="564984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6549840" y="2754360"/>
              <a:ext cx="0" cy="300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6549840" y="61959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0" name=""/>
            <p:cNvGrpSpPr/>
            <p:nvPr/>
          </p:nvGrpSpPr>
          <p:grpSpPr>
            <a:xfrm>
              <a:off x="6492600" y="5116320"/>
              <a:ext cx="114480" cy="88920"/>
              <a:chOff x="6492600" y="5116320"/>
              <a:chExt cx="114480" cy="88920"/>
            </a:xfrm>
          </p:grpSpPr>
          <p:sp>
            <p:nvSpPr>
              <p:cNvPr id="2231" name=""/>
              <p:cNvSpPr/>
              <p:nvPr/>
            </p:nvSpPr>
            <p:spPr>
              <a:xfrm>
                <a:off x="6505200" y="51163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 flipH="1">
                <a:off x="6492600" y="511632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3" name=""/>
            <p:cNvGrpSpPr/>
            <p:nvPr/>
          </p:nvGrpSpPr>
          <p:grpSpPr>
            <a:xfrm>
              <a:off x="6492600" y="5484600"/>
              <a:ext cx="114480" cy="88920"/>
              <a:chOff x="6492600" y="5484600"/>
              <a:chExt cx="114480" cy="88920"/>
            </a:xfrm>
          </p:grpSpPr>
          <p:sp>
            <p:nvSpPr>
              <p:cNvPr id="2234" name=""/>
              <p:cNvSpPr/>
              <p:nvPr/>
            </p:nvSpPr>
            <p:spPr>
              <a:xfrm>
                <a:off x="6505200" y="54846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 flipH="1">
                <a:off x="6492600" y="548460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6" name=""/>
            <p:cNvSpPr/>
            <p:nvPr/>
          </p:nvSpPr>
          <p:spPr>
            <a:xfrm>
              <a:off x="6784920" y="564984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6759720" y="5243400"/>
              <a:ext cx="29124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6773760" y="5294520"/>
              <a:ext cx="29124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6773760" y="5649840"/>
              <a:ext cx="2912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6905520" y="2754360"/>
              <a:ext cx="0" cy="300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6905520" y="61959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7140600" y="564984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7114680" y="524340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7129080" y="5294520"/>
              <a:ext cx="2919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7129080" y="564984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7260840" y="2754360"/>
              <a:ext cx="0" cy="300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7260840" y="61959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4492440" y="2278080"/>
              <a:ext cx="5461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4797360" y="2278080"/>
              <a:ext cx="5457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5063760" y="2278080"/>
              <a:ext cx="559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7508880" y="564984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7482960" y="524340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7497360" y="5294520"/>
              <a:ext cx="2919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7497360" y="564984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7629120" y="2754360"/>
              <a:ext cx="0" cy="300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7629120" y="61959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5489280" y="427176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5489280" y="45766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 flipV="1">
              <a:off x="5483160" y="42656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5648400" y="428616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5641920" y="427968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5648040" y="427212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5641560" y="426564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4371840" y="442440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5933880" y="442440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5489280" y="464004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5489280" y="49449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 flipV="1">
              <a:off x="5483160" y="463392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5648400" y="465444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5641920" y="464796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5648040" y="464040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5641560" y="463392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4371840" y="479268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5933880" y="479268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5489280" y="500832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5489280" y="53132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 flipV="1">
              <a:off x="5483160" y="500220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5648400" y="502272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5641920" y="501624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5648040" y="500868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5641560" y="500220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4371840" y="516096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5933880" y="516096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5489280" y="537660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5489280" y="56815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 flipV="1">
              <a:off x="5483160" y="537048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5648400" y="539100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5641920" y="538452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5648040" y="537696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5641560" y="537048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4371840" y="552924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5933880" y="552924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93" name=""/>
            <p:cNvGrpSpPr/>
            <p:nvPr/>
          </p:nvGrpSpPr>
          <p:grpSpPr>
            <a:xfrm>
              <a:off x="5196960" y="2906640"/>
              <a:ext cx="114120" cy="88920"/>
              <a:chOff x="5196960" y="2906640"/>
              <a:chExt cx="114120" cy="88920"/>
            </a:xfrm>
          </p:grpSpPr>
          <p:sp>
            <p:nvSpPr>
              <p:cNvPr id="2294" name=""/>
              <p:cNvSpPr/>
              <p:nvPr/>
            </p:nvSpPr>
            <p:spPr>
              <a:xfrm>
                <a:off x="5209920" y="29066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 flipH="1">
                <a:off x="5196960" y="290664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6" name=""/>
            <p:cNvGrpSpPr/>
            <p:nvPr/>
          </p:nvGrpSpPr>
          <p:grpSpPr>
            <a:xfrm>
              <a:off x="7571880" y="3274920"/>
              <a:ext cx="114120" cy="88920"/>
              <a:chOff x="7571880" y="3274920"/>
              <a:chExt cx="114120" cy="88920"/>
            </a:xfrm>
          </p:grpSpPr>
          <p:sp>
            <p:nvSpPr>
              <p:cNvPr id="2297" name=""/>
              <p:cNvSpPr/>
              <p:nvPr/>
            </p:nvSpPr>
            <p:spPr>
              <a:xfrm>
                <a:off x="7584840" y="32749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 flipH="1">
                <a:off x="7571880" y="32749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9" name=""/>
            <p:cNvGrpSpPr/>
            <p:nvPr/>
          </p:nvGrpSpPr>
          <p:grpSpPr>
            <a:xfrm>
              <a:off x="6492600" y="4748040"/>
              <a:ext cx="114480" cy="88920"/>
              <a:chOff x="6492600" y="4748040"/>
              <a:chExt cx="114480" cy="88920"/>
            </a:xfrm>
          </p:grpSpPr>
          <p:sp>
            <p:nvSpPr>
              <p:cNvPr id="2300" name=""/>
              <p:cNvSpPr/>
              <p:nvPr/>
            </p:nvSpPr>
            <p:spPr>
              <a:xfrm>
                <a:off x="6505200" y="47480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 flipH="1">
                <a:off x="6492600" y="474804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2" name=""/>
            <p:cNvGrpSpPr/>
            <p:nvPr/>
          </p:nvGrpSpPr>
          <p:grpSpPr>
            <a:xfrm>
              <a:off x="6847920" y="2906640"/>
              <a:ext cx="114120" cy="88920"/>
              <a:chOff x="6847920" y="2906640"/>
              <a:chExt cx="114120" cy="88920"/>
            </a:xfrm>
          </p:grpSpPr>
          <p:sp>
            <p:nvSpPr>
              <p:cNvPr id="2303" name=""/>
              <p:cNvSpPr/>
              <p:nvPr/>
            </p:nvSpPr>
            <p:spPr>
              <a:xfrm>
                <a:off x="6860880" y="29066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 flipH="1">
                <a:off x="6847920" y="290664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05" name=""/>
            <p:cNvSpPr/>
            <p:nvPr/>
          </p:nvSpPr>
          <p:spPr>
            <a:xfrm>
              <a:off x="5235480" y="276696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4943160" y="276696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4651200" y="276696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08" name=""/>
            <p:cNvGrpSpPr/>
            <p:nvPr/>
          </p:nvGrpSpPr>
          <p:grpSpPr>
            <a:xfrm>
              <a:off x="4905000" y="3274920"/>
              <a:ext cx="114480" cy="88920"/>
              <a:chOff x="4905000" y="3274920"/>
              <a:chExt cx="114480" cy="88920"/>
            </a:xfrm>
          </p:grpSpPr>
          <p:sp>
            <p:nvSpPr>
              <p:cNvPr id="2309" name=""/>
              <p:cNvSpPr/>
              <p:nvPr/>
            </p:nvSpPr>
            <p:spPr>
              <a:xfrm>
                <a:off x="4917960" y="32749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 flipH="1">
                <a:off x="4905000" y="327492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1" name=""/>
            <p:cNvGrpSpPr/>
            <p:nvPr/>
          </p:nvGrpSpPr>
          <p:grpSpPr>
            <a:xfrm>
              <a:off x="4612680" y="3274920"/>
              <a:ext cx="114120" cy="88920"/>
              <a:chOff x="4612680" y="3274920"/>
              <a:chExt cx="114120" cy="88920"/>
            </a:xfrm>
          </p:grpSpPr>
          <p:sp>
            <p:nvSpPr>
              <p:cNvPr id="2312" name=""/>
              <p:cNvSpPr/>
              <p:nvPr/>
            </p:nvSpPr>
            <p:spPr>
              <a:xfrm>
                <a:off x="4625640" y="32749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 flipH="1">
                <a:off x="4612680" y="32749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4" name=""/>
            <p:cNvGrpSpPr/>
            <p:nvPr/>
          </p:nvGrpSpPr>
          <p:grpSpPr>
            <a:xfrm>
              <a:off x="5069880" y="3274920"/>
              <a:ext cx="114120" cy="88920"/>
              <a:chOff x="5069880" y="3274920"/>
              <a:chExt cx="114120" cy="88920"/>
            </a:xfrm>
          </p:grpSpPr>
          <p:sp>
            <p:nvSpPr>
              <p:cNvPr id="2315" name=""/>
              <p:cNvSpPr/>
              <p:nvPr/>
            </p:nvSpPr>
            <p:spPr>
              <a:xfrm>
                <a:off x="5082840" y="32749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 flipH="1">
                <a:off x="5069880" y="32749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7" name=""/>
            <p:cNvGrpSpPr/>
            <p:nvPr/>
          </p:nvGrpSpPr>
          <p:grpSpPr>
            <a:xfrm>
              <a:off x="4777920" y="3643200"/>
              <a:ext cx="114120" cy="88920"/>
              <a:chOff x="4777920" y="3643200"/>
              <a:chExt cx="114120" cy="88920"/>
            </a:xfrm>
          </p:grpSpPr>
          <p:sp>
            <p:nvSpPr>
              <p:cNvPr id="2318" name=""/>
              <p:cNvSpPr/>
              <p:nvPr/>
            </p:nvSpPr>
            <p:spPr>
              <a:xfrm>
                <a:off x="4790880" y="36432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 flipH="1">
                <a:off x="4777920" y="36432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0" name=""/>
            <p:cNvGrpSpPr/>
            <p:nvPr/>
          </p:nvGrpSpPr>
          <p:grpSpPr>
            <a:xfrm>
              <a:off x="4612680" y="3643200"/>
              <a:ext cx="114120" cy="88920"/>
              <a:chOff x="4612680" y="3643200"/>
              <a:chExt cx="114120" cy="88920"/>
            </a:xfrm>
          </p:grpSpPr>
          <p:sp>
            <p:nvSpPr>
              <p:cNvPr id="2321" name=""/>
              <p:cNvSpPr/>
              <p:nvPr/>
            </p:nvSpPr>
            <p:spPr>
              <a:xfrm>
                <a:off x="4625640" y="36432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 flipH="1">
                <a:off x="4612680" y="36432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3" name=""/>
            <p:cNvGrpSpPr/>
            <p:nvPr/>
          </p:nvGrpSpPr>
          <p:grpSpPr>
            <a:xfrm>
              <a:off x="5196960" y="3643200"/>
              <a:ext cx="114120" cy="88920"/>
              <a:chOff x="5196960" y="3643200"/>
              <a:chExt cx="114120" cy="88920"/>
            </a:xfrm>
          </p:grpSpPr>
          <p:sp>
            <p:nvSpPr>
              <p:cNvPr id="2324" name=""/>
              <p:cNvSpPr/>
              <p:nvPr/>
            </p:nvSpPr>
            <p:spPr>
              <a:xfrm>
                <a:off x="5209920" y="36432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 flipH="1">
                <a:off x="5196960" y="36432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6" name=""/>
            <p:cNvGrpSpPr/>
            <p:nvPr/>
          </p:nvGrpSpPr>
          <p:grpSpPr>
            <a:xfrm>
              <a:off x="4777920" y="4011480"/>
              <a:ext cx="114120" cy="88920"/>
              <a:chOff x="4777920" y="4011480"/>
              <a:chExt cx="114120" cy="88920"/>
            </a:xfrm>
          </p:grpSpPr>
          <p:sp>
            <p:nvSpPr>
              <p:cNvPr id="2327" name=""/>
              <p:cNvSpPr/>
              <p:nvPr/>
            </p:nvSpPr>
            <p:spPr>
              <a:xfrm>
                <a:off x="4790880" y="401148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 flipH="1">
                <a:off x="4777920" y="401148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9" name=""/>
            <p:cNvGrpSpPr/>
            <p:nvPr/>
          </p:nvGrpSpPr>
          <p:grpSpPr>
            <a:xfrm>
              <a:off x="4612680" y="4011480"/>
              <a:ext cx="114120" cy="88920"/>
              <a:chOff x="4612680" y="4011480"/>
              <a:chExt cx="114120" cy="88920"/>
            </a:xfrm>
          </p:grpSpPr>
          <p:sp>
            <p:nvSpPr>
              <p:cNvPr id="2330" name=""/>
              <p:cNvSpPr/>
              <p:nvPr/>
            </p:nvSpPr>
            <p:spPr>
              <a:xfrm>
                <a:off x="4625640" y="401148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 flipH="1">
                <a:off x="4612680" y="401148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2" name=""/>
            <p:cNvGrpSpPr/>
            <p:nvPr/>
          </p:nvGrpSpPr>
          <p:grpSpPr>
            <a:xfrm>
              <a:off x="5069880" y="4011480"/>
              <a:ext cx="114120" cy="88920"/>
              <a:chOff x="5069880" y="4011480"/>
              <a:chExt cx="114120" cy="88920"/>
            </a:xfrm>
          </p:grpSpPr>
          <p:sp>
            <p:nvSpPr>
              <p:cNvPr id="2333" name=""/>
              <p:cNvSpPr/>
              <p:nvPr/>
            </p:nvSpPr>
            <p:spPr>
              <a:xfrm>
                <a:off x="5082840" y="401148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 flipH="1">
                <a:off x="5069880" y="401148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5" name=""/>
            <p:cNvGrpSpPr/>
            <p:nvPr/>
          </p:nvGrpSpPr>
          <p:grpSpPr>
            <a:xfrm>
              <a:off x="4905000" y="4379760"/>
              <a:ext cx="114480" cy="88920"/>
              <a:chOff x="4905000" y="4379760"/>
              <a:chExt cx="114480" cy="88920"/>
            </a:xfrm>
          </p:grpSpPr>
          <p:sp>
            <p:nvSpPr>
              <p:cNvPr id="2336" name=""/>
              <p:cNvSpPr/>
              <p:nvPr/>
            </p:nvSpPr>
            <p:spPr>
              <a:xfrm>
                <a:off x="4917960" y="43797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 flipH="1">
                <a:off x="4905000" y="437976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8" name=""/>
            <p:cNvGrpSpPr/>
            <p:nvPr/>
          </p:nvGrpSpPr>
          <p:grpSpPr>
            <a:xfrm>
              <a:off x="5196960" y="4379760"/>
              <a:ext cx="114120" cy="88920"/>
              <a:chOff x="5196960" y="4379760"/>
              <a:chExt cx="114120" cy="88920"/>
            </a:xfrm>
          </p:grpSpPr>
          <p:sp>
            <p:nvSpPr>
              <p:cNvPr id="2339" name=""/>
              <p:cNvSpPr/>
              <p:nvPr/>
            </p:nvSpPr>
            <p:spPr>
              <a:xfrm>
                <a:off x="5209920" y="43797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 flipH="1">
                <a:off x="5196960" y="43797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1" name=""/>
            <p:cNvGrpSpPr/>
            <p:nvPr/>
          </p:nvGrpSpPr>
          <p:grpSpPr>
            <a:xfrm>
              <a:off x="4905000" y="4748040"/>
              <a:ext cx="114480" cy="88920"/>
              <a:chOff x="4905000" y="4748040"/>
              <a:chExt cx="114480" cy="88920"/>
            </a:xfrm>
          </p:grpSpPr>
          <p:sp>
            <p:nvSpPr>
              <p:cNvPr id="2342" name=""/>
              <p:cNvSpPr/>
              <p:nvPr/>
            </p:nvSpPr>
            <p:spPr>
              <a:xfrm>
                <a:off x="4917960" y="47480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 flipH="1">
                <a:off x="4905000" y="474804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4" name=""/>
            <p:cNvGrpSpPr/>
            <p:nvPr/>
          </p:nvGrpSpPr>
          <p:grpSpPr>
            <a:xfrm>
              <a:off x="5069880" y="4748040"/>
              <a:ext cx="114120" cy="88920"/>
              <a:chOff x="5069880" y="4748040"/>
              <a:chExt cx="114120" cy="88920"/>
            </a:xfrm>
          </p:grpSpPr>
          <p:sp>
            <p:nvSpPr>
              <p:cNvPr id="2345" name=""/>
              <p:cNvSpPr/>
              <p:nvPr/>
            </p:nvSpPr>
            <p:spPr>
              <a:xfrm>
                <a:off x="5082840" y="47480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 flipH="1">
                <a:off x="5069880" y="474804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7" name=""/>
            <p:cNvGrpSpPr/>
            <p:nvPr/>
          </p:nvGrpSpPr>
          <p:grpSpPr>
            <a:xfrm>
              <a:off x="4777920" y="5116320"/>
              <a:ext cx="114120" cy="88920"/>
              <a:chOff x="4777920" y="5116320"/>
              <a:chExt cx="114120" cy="88920"/>
            </a:xfrm>
          </p:grpSpPr>
          <p:sp>
            <p:nvSpPr>
              <p:cNvPr id="2348" name=""/>
              <p:cNvSpPr/>
              <p:nvPr/>
            </p:nvSpPr>
            <p:spPr>
              <a:xfrm>
                <a:off x="4790880" y="51163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 flipH="1">
                <a:off x="4777920" y="51163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0" name=""/>
            <p:cNvGrpSpPr/>
            <p:nvPr/>
          </p:nvGrpSpPr>
          <p:grpSpPr>
            <a:xfrm>
              <a:off x="5196960" y="5116320"/>
              <a:ext cx="114120" cy="88920"/>
              <a:chOff x="5196960" y="5116320"/>
              <a:chExt cx="114120" cy="88920"/>
            </a:xfrm>
          </p:grpSpPr>
          <p:sp>
            <p:nvSpPr>
              <p:cNvPr id="2351" name=""/>
              <p:cNvSpPr/>
              <p:nvPr/>
            </p:nvSpPr>
            <p:spPr>
              <a:xfrm>
                <a:off x="5209920" y="51163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 flipH="1">
                <a:off x="5196960" y="51163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3" name=""/>
            <p:cNvGrpSpPr/>
            <p:nvPr/>
          </p:nvGrpSpPr>
          <p:grpSpPr>
            <a:xfrm>
              <a:off x="4777920" y="5484600"/>
              <a:ext cx="114120" cy="88920"/>
              <a:chOff x="4777920" y="5484600"/>
              <a:chExt cx="114120" cy="88920"/>
            </a:xfrm>
          </p:grpSpPr>
          <p:sp>
            <p:nvSpPr>
              <p:cNvPr id="2354" name=""/>
              <p:cNvSpPr/>
              <p:nvPr/>
            </p:nvSpPr>
            <p:spPr>
              <a:xfrm>
                <a:off x="4790880" y="54846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 flipH="1">
                <a:off x="4777920" y="54846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6" name=""/>
            <p:cNvGrpSpPr/>
            <p:nvPr/>
          </p:nvGrpSpPr>
          <p:grpSpPr>
            <a:xfrm>
              <a:off x="5069880" y="5484600"/>
              <a:ext cx="114120" cy="88920"/>
              <a:chOff x="5069880" y="5484600"/>
              <a:chExt cx="114120" cy="88920"/>
            </a:xfrm>
          </p:grpSpPr>
          <p:sp>
            <p:nvSpPr>
              <p:cNvPr id="2357" name=""/>
              <p:cNvSpPr/>
              <p:nvPr/>
            </p:nvSpPr>
            <p:spPr>
              <a:xfrm>
                <a:off x="5082840" y="54846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 flipH="1">
                <a:off x="5069880" y="54846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9" name=""/>
            <p:cNvGrpSpPr/>
            <p:nvPr/>
          </p:nvGrpSpPr>
          <p:grpSpPr>
            <a:xfrm>
              <a:off x="4485960" y="4379760"/>
              <a:ext cx="114480" cy="88920"/>
              <a:chOff x="4485960" y="4379760"/>
              <a:chExt cx="114480" cy="88920"/>
            </a:xfrm>
          </p:grpSpPr>
          <p:sp>
            <p:nvSpPr>
              <p:cNvPr id="2360" name=""/>
              <p:cNvSpPr/>
              <p:nvPr/>
            </p:nvSpPr>
            <p:spPr>
              <a:xfrm>
                <a:off x="4498560" y="43797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 flipH="1">
                <a:off x="4485960" y="437976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2" name=""/>
            <p:cNvGrpSpPr/>
            <p:nvPr/>
          </p:nvGrpSpPr>
          <p:grpSpPr>
            <a:xfrm>
              <a:off x="4485960" y="4748040"/>
              <a:ext cx="114480" cy="88920"/>
              <a:chOff x="4485960" y="4748040"/>
              <a:chExt cx="114480" cy="88920"/>
            </a:xfrm>
          </p:grpSpPr>
          <p:sp>
            <p:nvSpPr>
              <p:cNvPr id="2363" name=""/>
              <p:cNvSpPr/>
              <p:nvPr/>
            </p:nvSpPr>
            <p:spPr>
              <a:xfrm>
                <a:off x="4498560" y="47480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 flipH="1">
                <a:off x="4485960" y="474804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5" name=""/>
            <p:cNvGrpSpPr/>
            <p:nvPr/>
          </p:nvGrpSpPr>
          <p:grpSpPr>
            <a:xfrm>
              <a:off x="4485960" y="5116320"/>
              <a:ext cx="114480" cy="88920"/>
              <a:chOff x="4485960" y="5116320"/>
              <a:chExt cx="114480" cy="88920"/>
            </a:xfrm>
          </p:grpSpPr>
          <p:sp>
            <p:nvSpPr>
              <p:cNvPr id="2366" name=""/>
              <p:cNvSpPr/>
              <p:nvPr/>
            </p:nvSpPr>
            <p:spPr>
              <a:xfrm>
                <a:off x="4498560" y="51163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 flipH="1">
                <a:off x="4485960" y="511632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8" name=""/>
            <p:cNvGrpSpPr/>
            <p:nvPr/>
          </p:nvGrpSpPr>
          <p:grpSpPr>
            <a:xfrm>
              <a:off x="4485960" y="5484600"/>
              <a:ext cx="114480" cy="88920"/>
              <a:chOff x="4485960" y="5484600"/>
              <a:chExt cx="114480" cy="88920"/>
            </a:xfrm>
          </p:grpSpPr>
          <p:sp>
            <p:nvSpPr>
              <p:cNvPr id="2369" name=""/>
              <p:cNvSpPr/>
              <p:nvPr/>
            </p:nvSpPr>
            <p:spPr>
              <a:xfrm>
                <a:off x="4498560" y="54846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 flipH="1">
                <a:off x="4485960" y="548460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1" name=""/>
            <p:cNvGrpSpPr/>
            <p:nvPr/>
          </p:nvGrpSpPr>
          <p:grpSpPr>
            <a:xfrm>
              <a:off x="6492600" y="4024080"/>
              <a:ext cx="114480" cy="88560"/>
              <a:chOff x="6492600" y="4024080"/>
              <a:chExt cx="114480" cy="88560"/>
            </a:xfrm>
          </p:grpSpPr>
          <p:sp>
            <p:nvSpPr>
              <p:cNvPr id="2372" name=""/>
              <p:cNvSpPr/>
              <p:nvPr/>
            </p:nvSpPr>
            <p:spPr>
              <a:xfrm>
                <a:off x="6505200" y="4024080"/>
                <a:ext cx="88920" cy="88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 flipH="1">
                <a:off x="6492600" y="4024080"/>
                <a:ext cx="114480" cy="88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4" name=""/>
            <p:cNvGrpSpPr/>
            <p:nvPr/>
          </p:nvGrpSpPr>
          <p:grpSpPr>
            <a:xfrm>
              <a:off x="6492600" y="4379760"/>
              <a:ext cx="114480" cy="88920"/>
              <a:chOff x="6492600" y="4379760"/>
              <a:chExt cx="114480" cy="88920"/>
            </a:xfrm>
          </p:grpSpPr>
          <p:sp>
            <p:nvSpPr>
              <p:cNvPr id="2375" name=""/>
              <p:cNvSpPr/>
              <p:nvPr/>
            </p:nvSpPr>
            <p:spPr>
              <a:xfrm>
                <a:off x="6505200" y="43797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 flipH="1">
                <a:off x="6492600" y="437976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7" name=""/>
            <p:cNvGrpSpPr/>
            <p:nvPr/>
          </p:nvGrpSpPr>
          <p:grpSpPr>
            <a:xfrm>
              <a:off x="6492600" y="3643200"/>
              <a:ext cx="114480" cy="88920"/>
              <a:chOff x="6492600" y="3643200"/>
              <a:chExt cx="114480" cy="88920"/>
            </a:xfrm>
          </p:grpSpPr>
          <p:sp>
            <p:nvSpPr>
              <p:cNvPr id="2378" name=""/>
              <p:cNvSpPr/>
              <p:nvPr/>
            </p:nvSpPr>
            <p:spPr>
              <a:xfrm>
                <a:off x="6505200" y="36432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 flipH="1">
                <a:off x="6492600" y="364320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0" name=""/>
            <p:cNvGrpSpPr/>
            <p:nvPr/>
          </p:nvGrpSpPr>
          <p:grpSpPr>
            <a:xfrm>
              <a:off x="7203600" y="4748040"/>
              <a:ext cx="114120" cy="88920"/>
              <a:chOff x="7203600" y="4748040"/>
              <a:chExt cx="114120" cy="88920"/>
            </a:xfrm>
          </p:grpSpPr>
          <p:sp>
            <p:nvSpPr>
              <p:cNvPr id="2381" name=""/>
              <p:cNvSpPr/>
              <p:nvPr/>
            </p:nvSpPr>
            <p:spPr>
              <a:xfrm>
                <a:off x="7216560" y="47480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 flipH="1">
                <a:off x="7203600" y="474804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3" name=""/>
            <p:cNvGrpSpPr/>
            <p:nvPr/>
          </p:nvGrpSpPr>
          <p:grpSpPr>
            <a:xfrm>
              <a:off x="7203600" y="5116320"/>
              <a:ext cx="114120" cy="88920"/>
              <a:chOff x="7203600" y="5116320"/>
              <a:chExt cx="114120" cy="88920"/>
            </a:xfrm>
          </p:grpSpPr>
          <p:sp>
            <p:nvSpPr>
              <p:cNvPr id="2384" name=""/>
              <p:cNvSpPr/>
              <p:nvPr/>
            </p:nvSpPr>
            <p:spPr>
              <a:xfrm>
                <a:off x="7216560" y="51163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 flipH="1">
                <a:off x="7203600" y="51163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6" name=""/>
            <p:cNvGrpSpPr/>
            <p:nvPr/>
          </p:nvGrpSpPr>
          <p:grpSpPr>
            <a:xfrm>
              <a:off x="7203600" y="4379760"/>
              <a:ext cx="114120" cy="88920"/>
              <a:chOff x="7203600" y="4379760"/>
              <a:chExt cx="114120" cy="88920"/>
            </a:xfrm>
          </p:grpSpPr>
          <p:sp>
            <p:nvSpPr>
              <p:cNvPr id="2387" name=""/>
              <p:cNvSpPr/>
              <p:nvPr/>
            </p:nvSpPr>
            <p:spPr>
              <a:xfrm>
                <a:off x="7216560" y="43797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 flipH="1">
                <a:off x="7203600" y="43797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9" name=""/>
            <p:cNvGrpSpPr/>
            <p:nvPr/>
          </p:nvGrpSpPr>
          <p:grpSpPr>
            <a:xfrm>
              <a:off x="7203600" y="3643200"/>
              <a:ext cx="114120" cy="88920"/>
              <a:chOff x="7203600" y="3643200"/>
              <a:chExt cx="114120" cy="88920"/>
            </a:xfrm>
          </p:grpSpPr>
          <p:sp>
            <p:nvSpPr>
              <p:cNvPr id="2390" name=""/>
              <p:cNvSpPr/>
              <p:nvPr/>
            </p:nvSpPr>
            <p:spPr>
              <a:xfrm>
                <a:off x="7216560" y="36432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 flipH="1">
                <a:off x="7203600" y="36432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2" name=""/>
            <p:cNvGrpSpPr/>
            <p:nvPr/>
          </p:nvGrpSpPr>
          <p:grpSpPr>
            <a:xfrm>
              <a:off x="7203600" y="4011480"/>
              <a:ext cx="114120" cy="88920"/>
              <a:chOff x="7203600" y="4011480"/>
              <a:chExt cx="114120" cy="88920"/>
            </a:xfrm>
          </p:grpSpPr>
          <p:sp>
            <p:nvSpPr>
              <p:cNvPr id="2393" name=""/>
              <p:cNvSpPr/>
              <p:nvPr/>
            </p:nvSpPr>
            <p:spPr>
              <a:xfrm>
                <a:off x="7216560" y="401148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 flipH="1">
                <a:off x="7203600" y="401148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5" name=""/>
            <p:cNvGrpSpPr/>
            <p:nvPr/>
          </p:nvGrpSpPr>
          <p:grpSpPr>
            <a:xfrm>
              <a:off x="7203600" y="3274920"/>
              <a:ext cx="114120" cy="88920"/>
              <a:chOff x="7203600" y="3274920"/>
              <a:chExt cx="114120" cy="88920"/>
            </a:xfrm>
          </p:grpSpPr>
          <p:sp>
            <p:nvSpPr>
              <p:cNvPr id="2396" name=""/>
              <p:cNvSpPr/>
              <p:nvPr/>
            </p:nvSpPr>
            <p:spPr>
              <a:xfrm>
                <a:off x="7216560" y="32749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 flipH="1">
                <a:off x="7203600" y="32749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8" name=""/>
            <p:cNvGrpSpPr/>
            <p:nvPr/>
          </p:nvGrpSpPr>
          <p:grpSpPr>
            <a:xfrm>
              <a:off x="6492600" y="3274920"/>
              <a:ext cx="114480" cy="88920"/>
              <a:chOff x="6492600" y="3274920"/>
              <a:chExt cx="114480" cy="88920"/>
            </a:xfrm>
          </p:grpSpPr>
          <p:sp>
            <p:nvSpPr>
              <p:cNvPr id="2399" name=""/>
              <p:cNvSpPr/>
              <p:nvPr/>
            </p:nvSpPr>
            <p:spPr>
              <a:xfrm>
                <a:off x="6505200" y="32749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 flipH="1">
                <a:off x="6492600" y="327492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1" name=""/>
            <p:cNvGrpSpPr/>
            <p:nvPr/>
          </p:nvGrpSpPr>
          <p:grpSpPr>
            <a:xfrm>
              <a:off x="7203600" y="2906640"/>
              <a:ext cx="114120" cy="88920"/>
              <a:chOff x="7203600" y="2906640"/>
              <a:chExt cx="114120" cy="88920"/>
            </a:xfrm>
          </p:grpSpPr>
          <p:sp>
            <p:nvSpPr>
              <p:cNvPr id="2402" name=""/>
              <p:cNvSpPr/>
              <p:nvPr/>
            </p:nvSpPr>
            <p:spPr>
              <a:xfrm>
                <a:off x="7216560" y="29066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 flipH="1">
                <a:off x="7203600" y="290664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4" name=""/>
            <p:cNvGrpSpPr/>
            <p:nvPr/>
          </p:nvGrpSpPr>
          <p:grpSpPr>
            <a:xfrm>
              <a:off x="7571880" y="3643200"/>
              <a:ext cx="114120" cy="88920"/>
              <a:chOff x="7571880" y="3643200"/>
              <a:chExt cx="114120" cy="88920"/>
            </a:xfrm>
          </p:grpSpPr>
          <p:sp>
            <p:nvSpPr>
              <p:cNvPr id="2405" name=""/>
              <p:cNvSpPr/>
              <p:nvPr/>
            </p:nvSpPr>
            <p:spPr>
              <a:xfrm>
                <a:off x="7584840" y="36432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 flipH="1">
                <a:off x="7571880" y="36432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7" name=""/>
            <p:cNvGrpSpPr/>
            <p:nvPr/>
          </p:nvGrpSpPr>
          <p:grpSpPr>
            <a:xfrm>
              <a:off x="7571880" y="4379760"/>
              <a:ext cx="114120" cy="88920"/>
              <a:chOff x="7571880" y="4379760"/>
              <a:chExt cx="114120" cy="88920"/>
            </a:xfrm>
          </p:grpSpPr>
          <p:sp>
            <p:nvSpPr>
              <p:cNvPr id="2408" name=""/>
              <p:cNvSpPr/>
              <p:nvPr/>
            </p:nvSpPr>
            <p:spPr>
              <a:xfrm>
                <a:off x="7584840" y="43797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 flipH="1">
                <a:off x="7571880" y="43797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0" name=""/>
            <p:cNvGrpSpPr/>
            <p:nvPr/>
          </p:nvGrpSpPr>
          <p:grpSpPr>
            <a:xfrm>
              <a:off x="7571880" y="5484600"/>
              <a:ext cx="114120" cy="88920"/>
              <a:chOff x="7571880" y="5484600"/>
              <a:chExt cx="114120" cy="88920"/>
            </a:xfrm>
          </p:grpSpPr>
          <p:sp>
            <p:nvSpPr>
              <p:cNvPr id="2411" name=""/>
              <p:cNvSpPr/>
              <p:nvPr/>
            </p:nvSpPr>
            <p:spPr>
              <a:xfrm>
                <a:off x="7584840" y="54846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 flipH="1">
                <a:off x="7571880" y="54846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13" name=""/>
            <p:cNvSpPr/>
            <p:nvPr/>
          </p:nvSpPr>
          <p:spPr>
            <a:xfrm>
              <a:off x="6041880" y="6278400"/>
              <a:ext cx="635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6372000" y="6278400"/>
              <a:ext cx="635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6740280" y="6278400"/>
              <a:ext cx="635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7095960" y="6278400"/>
              <a:ext cx="635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7464240" y="6278400"/>
              <a:ext cx="635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7464240" y="6443640"/>
              <a:ext cx="635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9" name=""/>
          <p:cNvSpPr/>
          <p:nvPr/>
        </p:nvSpPr>
        <p:spPr>
          <a:xfrm>
            <a:off x="4410000" y="2563920"/>
            <a:ext cx="1587600" cy="317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 flipV="1">
            <a:off x="5705640" y="2042640"/>
            <a:ext cx="596880" cy="520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5753160" y="1749600"/>
            <a:ext cx="30988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ull decoder as for memory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 flipV="1">
            <a:off x="6784920" y="2385720"/>
            <a:ext cx="190440" cy="368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>
            <a:off x="6689880" y="2125800"/>
            <a:ext cx="21333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its stored in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rogrammable logic array exampl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2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ltiple functions of A, B, 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1 = A B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2 = A + B +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3 = A' B' C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4 = A' + B' + C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5 = A xor B xor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6 = A xnor B xnor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F190-8DB4-4F96-AD06-3C0507E1D0D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"/>
          <p:cNvSpPr/>
          <p:nvPr/>
        </p:nvSpPr>
        <p:spPr>
          <a:xfrm>
            <a:off x="2013120" y="5025960"/>
            <a:ext cx="331452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given column of the OR arra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as access to only a subset of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possible product te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7" name=""/>
          <p:cNvGrpSpPr/>
          <p:nvPr/>
        </p:nvGrpSpPr>
        <p:grpSpPr>
          <a:xfrm>
            <a:off x="5607000" y="2844720"/>
            <a:ext cx="3314880" cy="3784680"/>
            <a:chOff x="5607000" y="2844720"/>
            <a:chExt cx="3314880" cy="3784680"/>
          </a:xfrm>
        </p:grpSpPr>
        <p:sp>
          <p:nvSpPr>
            <p:cNvPr id="2428" name=""/>
            <p:cNvSpPr/>
            <p:nvPr/>
          </p:nvSpPr>
          <p:spPr>
            <a:xfrm>
              <a:off x="6953400" y="311796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6953400" y="342252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 flipV="1">
              <a:off x="6946920" y="311148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7112520" y="313200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7106040" y="312588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7112160" y="311796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7105680" y="311148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5607000" y="327024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7398000" y="327024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6953400" y="348624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6953400" y="379080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 flipV="1">
              <a:off x="6946920" y="347976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7112520" y="350028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7106040" y="349416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7112160" y="348624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7105680" y="347976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5607000" y="363852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7398000" y="363852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6953400" y="385452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6953400" y="415908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 flipV="1">
              <a:off x="6946920" y="38480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7112520" y="386856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7106040" y="386244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7112160" y="385452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7105680" y="384804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5607000" y="400680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7398000" y="400680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6953400" y="422280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6953400" y="452736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 flipV="1">
              <a:off x="6946920" y="421632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7112520" y="423684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7106040" y="423072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7112160" y="422280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7105680" y="421632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5607000" y="437508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7398000" y="437508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 flipH="1">
              <a:off x="6648480" y="297180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6534360" y="2971800"/>
              <a:ext cx="11412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 flipH="1">
              <a:off x="6521040" y="296532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6654960" y="284472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6718320" y="3111480"/>
              <a:ext cx="0" cy="299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6591240" y="3073320"/>
              <a:ext cx="0" cy="303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 flipH="1">
              <a:off x="6356520" y="297180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6242040" y="2971800"/>
              <a:ext cx="1144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 flipH="1">
              <a:off x="6229080" y="296532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6362640" y="284472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6426360" y="3111480"/>
              <a:ext cx="0" cy="299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6299280" y="3060720"/>
              <a:ext cx="0" cy="304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 flipH="1">
              <a:off x="6064200" y="297180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5950080" y="2971800"/>
              <a:ext cx="11412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 flipH="1">
              <a:off x="5937480" y="2965320"/>
              <a:ext cx="26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6070680" y="284472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6134040" y="3111480"/>
              <a:ext cx="0" cy="299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6007320" y="3073320"/>
              <a:ext cx="0" cy="303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7525080" y="596880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7499160" y="556236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7513560" y="5613480"/>
              <a:ext cx="2919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7513560" y="596880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7645320" y="3073320"/>
              <a:ext cx="0" cy="300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7645320" y="651492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7893360" y="596880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7868160" y="5562360"/>
              <a:ext cx="29124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7881840" y="5613480"/>
              <a:ext cx="2919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7881840" y="596880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8013960" y="3073320"/>
              <a:ext cx="0" cy="300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8013960" y="651492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8249040" y="596880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8223120" y="556236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8237520" y="5613480"/>
              <a:ext cx="2919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8237520" y="596880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8369280" y="3073320"/>
              <a:ext cx="0" cy="300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8369280" y="651492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8604360" y="5968800"/>
              <a:ext cx="2664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8578800" y="556236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8593200" y="5613480"/>
              <a:ext cx="2919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8593200" y="596880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8724960" y="3073320"/>
              <a:ext cx="0" cy="300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8724960" y="651492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6953400" y="459108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6953400" y="489564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 flipV="1">
              <a:off x="6946920" y="458460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7112520" y="460512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7106040" y="459900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7112160" y="459108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7105680" y="458460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5607000" y="474336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7398000" y="474336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6953400" y="495936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6953400" y="526428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 flipV="1">
              <a:off x="6946920" y="495288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7112520" y="497376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7106040" y="496728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7112160" y="4959000"/>
              <a:ext cx="27900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7105680" y="495288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5607000" y="511164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7398000" y="511164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6953400" y="532764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6953400" y="563256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6" name=""/>
            <p:cNvSpPr/>
            <p:nvPr/>
          </p:nvSpPr>
          <p:spPr>
            <a:xfrm flipV="1">
              <a:off x="6946920" y="532116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7112520" y="534204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7106040" y="533556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7112160" y="5327280"/>
              <a:ext cx="27900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7105680" y="532116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5607000" y="547992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7398000" y="547992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6953400" y="569592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6953400" y="600084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 flipV="1">
              <a:off x="6946920" y="56894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7112520" y="571032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7106040" y="570384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7112160" y="5695560"/>
              <a:ext cx="27900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7105680" y="568944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5607000" y="584820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7398000" y="584820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6699240" y="308592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6407280" y="308592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6114960" y="3085920"/>
              <a:ext cx="5112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 flipH="1">
              <a:off x="5784840" y="297180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5670720" y="2971800"/>
              <a:ext cx="11412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7" name=""/>
            <p:cNvSpPr/>
            <p:nvPr/>
          </p:nvSpPr>
          <p:spPr>
            <a:xfrm flipH="1">
              <a:off x="5657400" y="296532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5791320" y="284472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5854680" y="3111480"/>
              <a:ext cx="0" cy="299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5727960" y="3073320"/>
              <a:ext cx="0" cy="303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5835600" y="308592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52" name=""/>
            <p:cNvGrpSpPr/>
            <p:nvPr/>
          </p:nvGrpSpPr>
          <p:grpSpPr>
            <a:xfrm>
              <a:off x="5670360" y="3225600"/>
              <a:ext cx="1105200" cy="88920"/>
              <a:chOff x="5670360" y="3225600"/>
              <a:chExt cx="1105200" cy="88920"/>
            </a:xfrm>
          </p:grpSpPr>
          <p:grpSp>
            <p:nvGrpSpPr>
              <p:cNvPr id="2553" name=""/>
              <p:cNvGrpSpPr/>
              <p:nvPr/>
            </p:nvGrpSpPr>
            <p:grpSpPr>
              <a:xfrm>
                <a:off x="6369120" y="3225600"/>
                <a:ext cx="114480" cy="88920"/>
                <a:chOff x="6369120" y="3225600"/>
                <a:chExt cx="114480" cy="88920"/>
              </a:xfrm>
            </p:grpSpPr>
            <p:sp>
              <p:nvSpPr>
                <p:cNvPr id="2554" name=""/>
                <p:cNvSpPr/>
                <p:nvPr/>
              </p:nvSpPr>
              <p:spPr>
                <a:xfrm>
                  <a:off x="6381720" y="32256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5" name=""/>
                <p:cNvSpPr/>
                <p:nvPr/>
              </p:nvSpPr>
              <p:spPr>
                <a:xfrm flipH="1">
                  <a:off x="6369120" y="322560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6" name=""/>
              <p:cNvGrpSpPr/>
              <p:nvPr/>
            </p:nvGrpSpPr>
            <p:grpSpPr>
              <a:xfrm>
                <a:off x="6076800" y="3225600"/>
                <a:ext cx="114120" cy="88920"/>
                <a:chOff x="6076800" y="3225600"/>
                <a:chExt cx="114120" cy="88920"/>
              </a:xfrm>
            </p:grpSpPr>
            <p:sp>
              <p:nvSpPr>
                <p:cNvPr id="2557" name=""/>
                <p:cNvSpPr/>
                <p:nvPr/>
              </p:nvSpPr>
              <p:spPr>
                <a:xfrm>
                  <a:off x="6089760" y="32256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8" name=""/>
                <p:cNvSpPr/>
                <p:nvPr/>
              </p:nvSpPr>
              <p:spPr>
                <a:xfrm flipH="1">
                  <a:off x="6076800" y="32256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9" name=""/>
              <p:cNvGrpSpPr/>
              <p:nvPr/>
            </p:nvGrpSpPr>
            <p:grpSpPr>
              <a:xfrm>
                <a:off x="6661080" y="3225600"/>
                <a:ext cx="114480" cy="88920"/>
                <a:chOff x="6661080" y="3225600"/>
                <a:chExt cx="114480" cy="88920"/>
              </a:xfrm>
            </p:grpSpPr>
            <p:sp>
              <p:nvSpPr>
                <p:cNvPr id="2560" name=""/>
                <p:cNvSpPr/>
                <p:nvPr/>
              </p:nvSpPr>
              <p:spPr>
                <a:xfrm>
                  <a:off x="6674040" y="32256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1" name=""/>
                <p:cNvSpPr/>
                <p:nvPr/>
              </p:nvSpPr>
              <p:spPr>
                <a:xfrm flipH="1">
                  <a:off x="6661080" y="322560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2" name=""/>
              <p:cNvGrpSpPr/>
              <p:nvPr/>
            </p:nvGrpSpPr>
            <p:grpSpPr>
              <a:xfrm>
                <a:off x="6242040" y="3225600"/>
                <a:ext cx="114480" cy="88920"/>
                <a:chOff x="6242040" y="3225600"/>
                <a:chExt cx="114480" cy="88920"/>
              </a:xfrm>
            </p:grpSpPr>
            <p:sp>
              <p:nvSpPr>
                <p:cNvPr id="2563" name=""/>
                <p:cNvSpPr/>
                <p:nvPr/>
              </p:nvSpPr>
              <p:spPr>
                <a:xfrm>
                  <a:off x="6255000" y="3225600"/>
                  <a:ext cx="885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4" name=""/>
                <p:cNvSpPr/>
                <p:nvPr/>
              </p:nvSpPr>
              <p:spPr>
                <a:xfrm flipH="1">
                  <a:off x="6242040" y="322560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5" name=""/>
              <p:cNvGrpSpPr/>
              <p:nvPr/>
            </p:nvGrpSpPr>
            <p:grpSpPr>
              <a:xfrm>
                <a:off x="5949720" y="3225600"/>
                <a:ext cx="114120" cy="88920"/>
                <a:chOff x="5949720" y="3225600"/>
                <a:chExt cx="114120" cy="88920"/>
              </a:xfrm>
            </p:grpSpPr>
            <p:sp>
              <p:nvSpPr>
                <p:cNvPr id="2566" name=""/>
                <p:cNvSpPr/>
                <p:nvPr/>
              </p:nvSpPr>
              <p:spPr>
                <a:xfrm>
                  <a:off x="5962680" y="32256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7" name=""/>
                <p:cNvSpPr/>
                <p:nvPr/>
              </p:nvSpPr>
              <p:spPr>
                <a:xfrm flipH="1">
                  <a:off x="5949720" y="32256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8" name=""/>
              <p:cNvGrpSpPr/>
              <p:nvPr/>
            </p:nvGrpSpPr>
            <p:grpSpPr>
              <a:xfrm>
                <a:off x="6534000" y="3225600"/>
                <a:ext cx="114120" cy="88920"/>
                <a:chOff x="6534000" y="3225600"/>
                <a:chExt cx="114120" cy="88920"/>
              </a:xfrm>
            </p:grpSpPr>
            <p:sp>
              <p:nvSpPr>
                <p:cNvPr id="2569" name=""/>
                <p:cNvSpPr/>
                <p:nvPr/>
              </p:nvSpPr>
              <p:spPr>
                <a:xfrm>
                  <a:off x="6546960" y="32256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0" name=""/>
                <p:cNvSpPr/>
                <p:nvPr/>
              </p:nvSpPr>
              <p:spPr>
                <a:xfrm flipH="1">
                  <a:off x="6534000" y="32256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1" name=""/>
              <p:cNvGrpSpPr/>
              <p:nvPr/>
            </p:nvGrpSpPr>
            <p:grpSpPr>
              <a:xfrm>
                <a:off x="5797440" y="3225600"/>
                <a:ext cx="114120" cy="88920"/>
                <a:chOff x="5797440" y="3225600"/>
                <a:chExt cx="114120" cy="88920"/>
              </a:xfrm>
            </p:grpSpPr>
            <p:sp>
              <p:nvSpPr>
                <p:cNvPr id="2572" name=""/>
                <p:cNvSpPr/>
                <p:nvPr/>
              </p:nvSpPr>
              <p:spPr>
                <a:xfrm>
                  <a:off x="5810400" y="32256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3" name=""/>
                <p:cNvSpPr/>
                <p:nvPr/>
              </p:nvSpPr>
              <p:spPr>
                <a:xfrm flipH="1">
                  <a:off x="5797440" y="32256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4" name=""/>
              <p:cNvGrpSpPr/>
              <p:nvPr/>
            </p:nvGrpSpPr>
            <p:grpSpPr>
              <a:xfrm>
                <a:off x="5670360" y="3225600"/>
                <a:ext cx="114120" cy="88920"/>
                <a:chOff x="5670360" y="3225600"/>
                <a:chExt cx="114120" cy="88920"/>
              </a:xfrm>
            </p:grpSpPr>
            <p:sp>
              <p:nvSpPr>
                <p:cNvPr id="2575" name=""/>
                <p:cNvSpPr/>
                <p:nvPr/>
              </p:nvSpPr>
              <p:spPr>
                <a:xfrm>
                  <a:off x="5683320" y="32256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6" name=""/>
                <p:cNvSpPr/>
                <p:nvPr/>
              </p:nvSpPr>
              <p:spPr>
                <a:xfrm flipH="1">
                  <a:off x="5670360" y="32256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77" name=""/>
            <p:cNvGrpSpPr/>
            <p:nvPr/>
          </p:nvGrpSpPr>
          <p:grpSpPr>
            <a:xfrm>
              <a:off x="5670360" y="3593880"/>
              <a:ext cx="1105200" cy="88920"/>
              <a:chOff x="5670360" y="3593880"/>
              <a:chExt cx="1105200" cy="88920"/>
            </a:xfrm>
          </p:grpSpPr>
          <p:grpSp>
            <p:nvGrpSpPr>
              <p:cNvPr id="2578" name=""/>
              <p:cNvGrpSpPr/>
              <p:nvPr/>
            </p:nvGrpSpPr>
            <p:grpSpPr>
              <a:xfrm>
                <a:off x="6369120" y="3593880"/>
                <a:ext cx="114480" cy="88920"/>
                <a:chOff x="6369120" y="3593880"/>
                <a:chExt cx="114480" cy="88920"/>
              </a:xfrm>
            </p:grpSpPr>
            <p:sp>
              <p:nvSpPr>
                <p:cNvPr id="2579" name=""/>
                <p:cNvSpPr/>
                <p:nvPr/>
              </p:nvSpPr>
              <p:spPr>
                <a:xfrm>
                  <a:off x="6381720" y="35938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0" name=""/>
                <p:cNvSpPr/>
                <p:nvPr/>
              </p:nvSpPr>
              <p:spPr>
                <a:xfrm flipH="1">
                  <a:off x="6369120" y="359388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1" name=""/>
              <p:cNvGrpSpPr/>
              <p:nvPr/>
            </p:nvGrpSpPr>
            <p:grpSpPr>
              <a:xfrm>
                <a:off x="6076800" y="3593880"/>
                <a:ext cx="114120" cy="88920"/>
                <a:chOff x="6076800" y="3593880"/>
                <a:chExt cx="114120" cy="88920"/>
              </a:xfrm>
            </p:grpSpPr>
            <p:sp>
              <p:nvSpPr>
                <p:cNvPr id="2582" name=""/>
                <p:cNvSpPr/>
                <p:nvPr/>
              </p:nvSpPr>
              <p:spPr>
                <a:xfrm>
                  <a:off x="6089760" y="35938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3" name=""/>
                <p:cNvSpPr/>
                <p:nvPr/>
              </p:nvSpPr>
              <p:spPr>
                <a:xfrm flipH="1">
                  <a:off x="6076800" y="35938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4" name=""/>
              <p:cNvGrpSpPr/>
              <p:nvPr/>
            </p:nvGrpSpPr>
            <p:grpSpPr>
              <a:xfrm>
                <a:off x="6661080" y="3593880"/>
                <a:ext cx="114480" cy="88920"/>
                <a:chOff x="6661080" y="3593880"/>
                <a:chExt cx="114480" cy="88920"/>
              </a:xfrm>
            </p:grpSpPr>
            <p:sp>
              <p:nvSpPr>
                <p:cNvPr id="2585" name=""/>
                <p:cNvSpPr/>
                <p:nvPr/>
              </p:nvSpPr>
              <p:spPr>
                <a:xfrm>
                  <a:off x="6674040" y="35938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6" name=""/>
                <p:cNvSpPr/>
                <p:nvPr/>
              </p:nvSpPr>
              <p:spPr>
                <a:xfrm flipH="1">
                  <a:off x="6661080" y="359388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7" name=""/>
              <p:cNvGrpSpPr/>
              <p:nvPr/>
            </p:nvGrpSpPr>
            <p:grpSpPr>
              <a:xfrm>
                <a:off x="6242040" y="3593880"/>
                <a:ext cx="114480" cy="88920"/>
                <a:chOff x="6242040" y="3593880"/>
                <a:chExt cx="114480" cy="88920"/>
              </a:xfrm>
            </p:grpSpPr>
            <p:sp>
              <p:nvSpPr>
                <p:cNvPr id="2588" name=""/>
                <p:cNvSpPr/>
                <p:nvPr/>
              </p:nvSpPr>
              <p:spPr>
                <a:xfrm>
                  <a:off x="6255000" y="3593880"/>
                  <a:ext cx="885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9" name=""/>
                <p:cNvSpPr/>
                <p:nvPr/>
              </p:nvSpPr>
              <p:spPr>
                <a:xfrm flipH="1">
                  <a:off x="6242040" y="359388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0" name=""/>
              <p:cNvGrpSpPr/>
              <p:nvPr/>
            </p:nvGrpSpPr>
            <p:grpSpPr>
              <a:xfrm>
                <a:off x="5949720" y="3593880"/>
                <a:ext cx="114120" cy="88920"/>
                <a:chOff x="5949720" y="3593880"/>
                <a:chExt cx="114120" cy="88920"/>
              </a:xfrm>
            </p:grpSpPr>
            <p:sp>
              <p:nvSpPr>
                <p:cNvPr id="2591" name=""/>
                <p:cNvSpPr/>
                <p:nvPr/>
              </p:nvSpPr>
              <p:spPr>
                <a:xfrm>
                  <a:off x="5962680" y="35938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2" name=""/>
                <p:cNvSpPr/>
                <p:nvPr/>
              </p:nvSpPr>
              <p:spPr>
                <a:xfrm flipH="1">
                  <a:off x="5949720" y="35938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3" name=""/>
              <p:cNvGrpSpPr/>
              <p:nvPr/>
            </p:nvGrpSpPr>
            <p:grpSpPr>
              <a:xfrm>
                <a:off x="6534000" y="3593880"/>
                <a:ext cx="114120" cy="88920"/>
                <a:chOff x="6534000" y="3593880"/>
                <a:chExt cx="114120" cy="88920"/>
              </a:xfrm>
            </p:grpSpPr>
            <p:sp>
              <p:nvSpPr>
                <p:cNvPr id="2594" name=""/>
                <p:cNvSpPr/>
                <p:nvPr/>
              </p:nvSpPr>
              <p:spPr>
                <a:xfrm>
                  <a:off x="6546960" y="35938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5" name=""/>
                <p:cNvSpPr/>
                <p:nvPr/>
              </p:nvSpPr>
              <p:spPr>
                <a:xfrm flipH="1">
                  <a:off x="6534000" y="35938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6" name=""/>
              <p:cNvGrpSpPr/>
              <p:nvPr/>
            </p:nvGrpSpPr>
            <p:grpSpPr>
              <a:xfrm>
                <a:off x="5797440" y="3593880"/>
                <a:ext cx="114120" cy="88920"/>
                <a:chOff x="5797440" y="3593880"/>
                <a:chExt cx="114120" cy="88920"/>
              </a:xfrm>
            </p:grpSpPr>
            <p:sp>
              <p:nvSpPr>
                <p:cNvPr id="2597" name=""/>
                <p:cNvSpPr/>
                <p:nvPr/>
              </p:nvSpPr>
              <p:spPr>
                <a:xfrm>
                  <a:off x="5810400" y="35938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8" name=""/>
                <p:cNvSpPr/>
                <p:nvPr/>
              </p:nvSpPr>
              <p:spPr>
                <a:xfrm flipH="1">
                  <a:off x="5797440" y="35938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9" name=""/>
              <p:cNvGrpSpPr/>
              <p:nvPr/>
            </p:nvGrpSpPr>
            <p:grpSpPr>
              <a:xfrm>
                <a:off x="5670360" y="3593880"/>
                <a:ext cx="114120" cy="88920"/>
                <a:chOff x="5670360" y="3593880"/>
                <a:chExt cx="114120" cy="88920"/>
              </a:xfrm>
            </p:grpSpPr>
            <p:sp>
              <p:nvSpPr>
                <p:cNvPr id="2600" name=""/>
                <p:cNvSpPr/>
                <p:nvPr/>
              </p:nvSpPr>
              <p:spPr>
                <a:xfrm>
                  <a:off x="5683320" y="35938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1" name=""/>
                <p:cNvSpPr/>
                <p:nvPr/>
              </p:nvSpPr>
              <p:spPr>
                <a:xfrm flipH="1">
                  <a:off x="5670360" y="35938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2" name=""/>
            <p:cNvGrpSpPr/>
            <p:nvPr/>
          </p:nvGrpSpPr>
          <p:grpSpPr>
            <a:xfrm>
              <a:off x="5670360" y="3962520"/>
              <a:ext cx="1105200" cy="88560"/>
              <a:chOff x="5670360" y="3962520"/>
              <a:chExt cx="1105200" cy="88560"/>
            </a:xfrm>
          </p:grpSpPr>
          <p:grpSp>
            <p:nvGrpSpPr>
              <p:cNvPr id="2603" name=""/>
              <p:cNvGrpSpPr/>
              <p:nvPr/>
            </p:nvGrpSpPr>
            <p:grpSpPr>
              <a:xfrm>
                <a:off x="6369120" y="3962520"/>
                <a:ext cx="114480" cy="88560"/>
                <a:chOff x="6369120" y="3962520"/>
                <a:chExt cx="114480" cy="88560"/>
              </a:xfrm>
            </p:grpSpPr>
            <p:sp>
              <p:nvSpPr>
                <p:cNvPr id="2604" name=""/>
                <p:cNvSpPr/>
                <p:nvPr/>
              </p:nvSpPr>
              <p:spPr>
                <a:xfrm>
                  <a:off x="6381720" y="3962520"/>
                  <a:ext cx="8892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5" name=""/>
                <p:cNvSpPr/>
                <p:nvPr/>
              </p:nvSpPr>
              <p:spPr>
                <a:xfrm flipH="1">
                  <a:off x="6369120" y="3962520"/>
                  <a:ext cx="11448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6" name=""/>
              <p:cNvGrpSpPr/>
              <p:nvPr/>
            </p:nvGrpSpPr>
            <p:grpSpPr>
              <a:xfrm>
                <a:off x="6076800" y="3962520"/>
                <a:ext cx="114120" cy="88560"/>
                <a:chOff x="6076800" y="3962520"/>
                <a:chExt cx="114120" cy="88560"/>
              </a:xfrm>
            </p:grpSpPr>
            <p:sp>
              <p:nvSpPr>
                <p:cNvPr id="2607" name=""/>
                <p:cNvSpPr/>
                <p:nvPr/>
              </p:nvSpPr>
              <p:spPr>
                <a:xfrm>
                  <a:off x="6089760" y="3962520"/>
                  <a:ext cx="8892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8" name=""/>
                <p:cNvSpPr/>
                <p:nvPr/>
              </p:nvSpPr>
              <p:spPr>
                <a:xfrm flipH="1">
                  <a:off x="6076800" y="3962520"/>
                  <a:ext cx="11412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9" name=""/>
              <p:cNvGrpSpPr/>
              <p:nvPr/>
            </p:nvGrpSpPr>
            <p:grpSpPr>
              <a:xfrm>
                <a:off x="6661080" y="3962520"/>
                <a:ext cx="114480" cy="88560"/>
                <a:chOff x="6661080" y="3962520"/>
                <a:chExt cx="114480" cy="88560"/>
              </a:xfrm>
            </p:grpSpPr>
            <p:sp>
              <p:nvSpPr>
                <p:cNvPr id="2610" name=""/>
                <p:cNvSpPr/>
                <p:nvPr/>
              </p:nvSpPr>
              <p:spPr>
                <a:xfrm>
                  <a:off x="6674040" y="3962520"/>
                  <a:ext cx="8892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1" name=""/>
                <p:cNvSpPr/>
                <p:nvPr/>
              </p:nvSpPr>
              <p:spPr>
                <a:xfrm flipH="1">
                  <a:off x="6661080" y="3962520"/>
                  <a:ext cx="11448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2" name=""/>
              <p:cNvGrpSpPr/>
              <p:nvPr/>
            </p:nvGrpSpPr>
            <p:grpSpPr>
              <a:xfrm>
                <a:off x="6242040" y="3962520"/>
                <a:ext cx="114480" cy="88560"/>
                <a:chOff x="6242040" y="3962520"/>
                <a:chExt cx="114480" cy="88560"/>
              </a:xfrm>
            </p:grpSpPr>
            <p:sp>
              <p:nvSpPr>
                <p:cNvPr id="2613" name=""/>
                <p:cNvSpPr/>
                <p:nvPr/>
              </p:nvSpPr>
              <p:spPr>
                <a:xfrm>
                  <a:off x="6255000" y="3962520"/>
                  <a:ext cx="8856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4" name=""/>
                <p:cNvSpPr/>
                <p:nvPr/>
              </p:nvSpPr>
              <p:spPr>
                <a:xfrm flipH="1">
                  <a:off x="6242040" y="3962520"/>
                  <a:ext cx="11448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5" name=""/>
              <p:cNvGrpSpPr/>
              <p:nvPr/>
            </p:nvGrpSpPr>
            <p:grpSpPr>
              <a:xfrm>
                <a:off x="5949720" y="3962520"/>
                <a:ext cx="114120" cy="88560"/>
                <a:chOff x="5949720" y="3962520"/>
                <a:chExt cx="114120" cy="88560"/>
              </a:xfrm>
            </p:grpSpPr>
            <p:sp>
              <p:nvSpPr>
                <p:cNvPr id="2616" name=""/>
                <p:cNvSpPr/>
                <p:nvPr/>
              </p:nvSpPr>
              <p:spPr>
                <a:xfrm>
                  <a:off x="5962680" y="3962520"/>
                  <a:ext cx="8892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7" name=""/>
                <p:cNvSpPr/>
                <p:nvPr/>
              </p:nvSpPr>
              <p:spPr>
                <a:xfrm flipH="1">
                  <a:off x="5949720" y="3962520"/>
                  <a:ext cx="11412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8" name=""/>
              <p:cNvGrpSpPr/>
              <p:nvPr/>
            </p:nvGrpSpPr>
            <p:grpSpPr>
              <a:xfrm>
                <a:off x="6534000" y="3962520"/>
                <a:ext cx="114120" cy="88560"/>
                <a:chOff x="6534000" y="3962520"/>
                <a:chExt cx="114120" cy="88560"/>
              </a:xfrm>
            </p:grpSpPr>
            <p:sp>
              <p:nvSpPr>
                <p:cNvPr id="2619" name=""/>
                <p:cNvSpPr/>
                <p:nvPr/>
              </p:nvSpPr>
              <p:spPr>
                <a:xfrm>
                  <a:off x="6546960" y="3962520"/>
                  <a:ext cx="8892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0" name=""/>
                <p:cNvSpPr/>
                <p:nvPr/>
              </p:nvSpPr>
              <p:spPr>
                <a:xfrm flipH="1">
                  <a:off x="6534000" y="3962520"/>
                  <a:ext cx="11412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21" name=""/>
              <p:cNvGrpSpPr/>
              <p:nvPr/>
            </p:nvGrpSpPr>
            <p:grpSpPr>
              <a:xfrm>
                <a:off x="5797440" y="3962520"/>
                <a:ext cx="114120" cy="88560"/>
                <a:chOff x="5797440" y="3962520"/>
                <a:chExt cx="114120" cy="88560"/>
              </a:xfrm>
            </p:grpSpPr>
            <p:sp>
              <p:nvSpPr>
                <p:cNvPr id="2622" name=""/>
                <p:cNvSpPr/>
                <p:nvPr/>
              </p:nvSpPr>
              <p:spPr>
                <a:xfrm>
                  <a:off x="5810400" y="3962520"/>
                  <a:ext cx="8892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3" name=""/>
                <p:cNvSpPr/>
                <p:nvPr/>
              </p:nvSpPr>
              <p:spPr>
                <a:xfrm flipH="1">
                  <a:off x="5797440" y="3962520"/>
                  <a:ext cx="11412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24" name=""/>
              <p:cNvGrpSpPr/>
              <p:nvPr/>
            </p:nvGrpSpPr>
            <p:grpSpPr>
              <a:xfrm>
                <a:off x="5670360" y="3962520"/>
                <a:ext cx="114120" cy="88560"/>
                <a:chOff x="5670360" y="3962520"/>
                <a:chExt cx="114120" cy="88560"/>
              </a:xfrm>
            </p:grpSpPr>
            <p:sp>
              <p:nvSpPr>
                <p:cNvPr id="2625" name=""/>
                <p:cNvSpPr/>
                <p:nvPr/>
              </p:nvSpPr>
              <p:spPr>
                <a:xfrm>
                  <a:off x="5683320" y="3962520"/>
                  <a:ext cx="8892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6" name=""/>
                <p:cNvSpPr/>
                <p:nvPr/>
              </p:nvSpPr>
              <p:spPr>
                <a:xfrm flipH="1">
                  <a:off x="5670360" y="3962520"/>
                  <a:ext cx="11412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27" name=""/>
            <p:cNvGrpSpPr/>
            <p:nvPr/>
          </p:nvGrpSpPr>
          <p:grpSpPr>
            <a:xfrm>
              <a:off x="5670360" y="4330800"/>
              <a:ext cx="1105200" cy="88920"/>
              <a:chOff x="5670360" y="4330800"/>
              <a:chExt cx="1105200" cy="88920"/>
            </a:xfrm>
          </p:grpSpPr>
          <p:grpSp>
            <p:nvGrpSpPr>
              <p:cNvPr id="2628" name=""/>
              <p:cNvGrpSpPr/>
              <p:nvPr/>
            </p:nvGrpSpPr>
            <p:grpSpPr>
              <a:xfrm>
                <a:off x="6369120" y="4330800"/>
                <a:ext cx="114480" cy="88920"/>
                <a:chOff x="6369120" y="4330800"/>
                <a:chExt cx="114480" cy="88920"/>
              </a:xfrm>
            </p:grpSpPr>
            <p:sp>
              <p:nvSpPr>
                <p:cNvPr id="2629" name=""/>
                <p:cNvSpPr/>
                <p:nvPr/>
              </p:nvSpPr>
              <p:spPr>
                <a:xfrm>
                  <a:off x="6381720" y="4330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0" name=""/>
                <p:cNvSpPr/>
                <p:nvPr/>
              </p:nvSpPr>
              <p:spPr>
                <a:xfrm flipH="1">
                  <a:off x="6369120" y="433080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1" name=""/>
              <p:cNvGrpSpPr/>
              <p:nvPr/>
            </p:nvGrpSpPr>
            <p:grpSpPr>
              <a:xfrm>
                <a:off x="6076800" y="4330800"/>
                <a:ext cx="114120" cy="88920"/>
                <a:chOff x="6076800" y="4330800"/>
                <a:chExt cx="114120" cy="88920"/>
              </a:xfrm>
            </p:grpSpPr>
            <p:sp>
              <p:nvSpPr>
                <p:cNvPr id="2632" name=""/>
                <p:cNvSpPr/>
                <p:nvPr/>
              </p:nvSpPr>
              <p:spPr>
                <a:xfrm>
                  <a:off x="6089760" y="4330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3" name=""/>
                <p:cNvSpPr/>
                <p:nvPr/>
              </p:nvSpPr>
              <p:spPr>
                <a:xfrm flipH="1">
                  <a:off x="6076800" y="43308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4" name=""/>
              <p:cNvGrpSpPr/>
              <p:nvPr/>
            </p:nvGrpSpPr>
            <p:grpSpPr>
              <a:xfrm>
                <a:off x="6661080" y="4330800"/>
                <a:ext cx="114480" cy="88920"/>
                <a:chOff x="6661080" y="4330800"/>
                <a:chExt cx="114480" cy="88920"/>
              </a:xfrm>
            </p:grpSpPr>
            <p:sp>
              <p:nvSpPr>
                <p:cNvPr id="2635" name=""/>
                <p:cNvSpPr/>
                <p:nvPr/>
              </p:nvSpPr>
              <p:spPr>
                <a:xfrm>
                  <a:off x="6674040" y="4330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6" name=""/>
                <p:cNvSpPr/>
                <p:nvPr/>
              </p:nvSpPr>
              <p:spPr>
                <a:xfrm flipH="1">
                  <a:off x="6661080" y="433080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7" name=""/>
              <p:cNvGrpSpPr/>
              <p:nvPr/>
            </p:nvGrpSpPr>
            <p:grpSpPr>
              <a:xfrm>
                <a:off x="6242040" y="4330800"/>
                <a:ext cx="114480" cy="88920"/>
                <a:chOff x="6242040" y="4330800"/>
                <a:chExt cx="114480" cy="88920"/>
              </a:xfrm>
            </p:grpSpPr>
            <p:sp>
              <p:nvSpPr>
                <p:cNvPr id="2638" name=""/>
                <p:cNvSpPr/>
                <p:nvPr/>
              </p:nvSpPr>
              <p:spPr>
                <a:xfrm>
                  <a:off x="6255000" y="4330800"/>
                  <a:ext cx="885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9" name=""/>
                <p:cNvSpPr/>
                <p:nvPr/>
              </p:nvSpPr>
              <p:spPr>
                <a:xfrm flipH="1">
                  <a:off x="6242040" y="433080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0" name=""/>
              <p:cNvGrpSpPr/>
              <p:nvPr/>
            </p:nvGrpSpPr>
            <p:grpSpPr>
              <a:xfrm>
                <a:off x="5949720" y="4330800"/>
                <a:ext cx="114120" cy="88920"/>
                <a:chOff x="5949720" y="4330800"/>
                <a:chExt cx="114120" cy="88920"/>
              </a:xfrm>
            </p:grpSpPr>
            <p:sp>
              <p:nvSpPr>
                <p:cNvPr id="2641" name=""/>
                <p:cNvSpPr/>
                <p:nvPr/>
              </p:nvSpPr>
              <p:spPr>
                <a:xfrm>
                  <a:off x="5962680" y="4330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2" name=""/>
                <p:cNvSpPr/>
                <p:nvPr/>
              </p:nvSpPr>
              <p:spPr>
                <a:xfrm flipH="1">
                  <a:off x="5949720" y="43308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3" name=""/>
              <p:cNvGrpSpPr/>
              <p:nvPr/>
            </p:nvGrpSpPr>
            <p:grpSpPr>
              <a:xfrm>
                <a:off x="6534000" y="4330800"/>
                <a:ext cx="114120" cy="88920"/>
                <a:chOff x="6534000" y="4330800"/>
                <a:chExt cx="114120" cy="88920"/>
              </a:xfrm>
            </p:grpSpPr>
            <p:sp>
              <p:nvSpPr>
                <p:cNvPr id="2644" name=""/>
                <p:cNvSpPr/>
                <p:nvPr/>
              </p:nvSpPr>
              <p:spPr>
                <a:xfrm>
                  <a:off x="6546960" y="4330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5" name=""/>
                <p:cNvSpPr/>
                <p:nvPr/>
              </p:nvSpPr>
              <p:spPr>
                <a:xfrm flipH="1">
                  <a:off x="6534000" y="43308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6" name=""/>
              <p:cNvGrpSpPr/>
              <p:nvPr/>
            </p:nvGrpSpPr>
            <p:grpSpPr>
              <a:xfrm>
                <a:off x="5797440" y="4330800"/>
                <a:ext cx="114120" cy="88920"/>
                <a:chOff x="5797440" y="4330800"/>
                <a:chExt cx="114120" cy="88920"/>
              </a:xfrm>
            </p:grpSpPr>
            <p:sp>
              <p:nvSpPr>
                <p:cNvPr id="2647" name=""/>
                <p:cNvSpPr/>
                <p:nvPr/>
              </p:nvSpPr>
              <p:spPr>
                <a:xfrm>
                  <a:off x="5810400" y="4330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8" name=""/>
                <p:cNvSpPr/>
                <p:nvPr/>
              </p:nvSpPr>
              <p:spPr>
                <a:xfrm flipH="1">
                  <a:off x="5797440" y="43308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9" name=""/>
              <p:cNvGrpSpPr/>
              <p:nvPr/>
            </p:nvGrpSpPr>
            <p:grpSpPr>
              <a:xfrm>
                <a:off x="5670360" y="4330800"/>
                <a:ext cx="114120" cy="88920"/>
                <a:chOff x="5670360" y="4330800"/>
                <a:chExt cx="114120" cy="88920"/>
              </a:xfrm>
            </p:grpSpPr>
            <p:sp>
              <p:nvSpPr>
                <p:cNvPr id="2650" name=""/>
                <p:cNvSpPr/>
                <p:nvPr/>
              </p:nvSpPr>
              <p:spPr>
                <a:xfrm>
                  <a:off x="5683320" y="4330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1" name=""/>
                <p:cNvSpPr/>
                <p:nvPr/>
              </p:nvSpPr>
              <p:spPr>
                <a:xfrm flipH="1">
                  <a:off x="5670360" y="43308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52" name=""/>
            <p:cNvGrpSpPr/>
            <p:nvPr/>
          </p:nvGrpSpPr>
          <p:grpSpPr>
            <a:xfrm>
              <a:off x="5670360" y="4699080"/>
              <a:ext cx="1105200" cy="88920"/>
              <a:chOff x="5670360" y="4699080"/>
              <a:chExt cx="1105200" cy="88920"/>
            </a:xfrm>
          </p:grpSpPr>
          <p:grpSp>
            <p:nvGrpSpPr>
              <p:cNvPr id="2653" name=""/>
              <p:cNvGrpSpPr/>
              <p:nvPr/>
            </p:nvGrpSpPr>
            <p:grpSpPr>
              <a:xfrm>
                <a:off x="6369120" y="4699080"/>
                <a:ext cx="114480" cy="88920"/>
                <a:chOff x="6369120" y="4699080"/>
                <a:chExt cx="114480" cy="88920"/>
              </a:xfrm>
            </p:grpSpPr>
            <p:sp>
              <p:nvSpPr>
                <p:cNvPr id="2654" name=""/>
                <p:cNvSpPr/>
                <p:nvPr/>
              </p:nvSpPr>
              <p:spPr>
                <a:xfrm>
                  <a:off x="6381720" y="46990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5" name=""/>
                <p:cNvSpPr/>
                <p:nvPr/>
              </p:nvSpPr>
              <p:spPr>
                <a:xfrm flipH="1">
                  <a:off x="6369120" y="469908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56" name=""/>
              <p:cNvGrpSpPr/>
              <p:nvPr/>
            </p:nvGrpSpPr>
            <p:grpSpPr>
              <a:xfrm>
                <a:off x="6076800" y="4699080"/>
                <a:ext cx="114120" cy="88920"/>
                <a:chOff x="6076800" y="4699080"/>
                <a:chExt cx="114120" cy="88920"/>
              </a:xfrm>
            </p:grpSpPr>
            <p:sp>
              <p:nvSpPr>
                <p:cNvPr id="2657" name=""/>
                <p:cNvSpPr/>
                <p:nvPr/>
              </p:nvSpPr>
              <p:spPr>
                <a:xfrm>
                  <a:off x="6089760" y="46990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8" name=""/>
                <p:cNvSpPr/>
                <p:nvPr/>
              </p:nvSpPr>
              <p:spPr>
                <a:xfrm flipH="1">
                  <a:off x="6076800" y="46990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59" name=""/>
              <p:cNvGrpSpPr/>
              <p:nvPr/>
            </p:nvGrpSpPr>
            <p:grpSpPr>
              <a:xfrm>
                <a:off x="6661080" y="4699080"/>
                <a:ext cx="114480" cy="88920"/>
                <a:chOff x="6661080" y="4699080"/>
                <a:chExt cx="114480" cy="88920"/>
              </a:xfrm>
            </p:grpSpPr>
            <p:sp>
              <p:nvSpPr>
                <p:cNvPr id="2660" name=""/>
                <p:cNvSpPr/>
                <p:nvPr/>
              </p:nvSpPr>
              <p:spPr>
                <a:xfrm>
                  <a:off x="6674040" y="46990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1" name=""/>
                <p:cNvSpPr/>
                <p:nvPr/>
              </p:nvSpPr>
              <p:spPr>
                <a:xfrm flipH="1">
                  <a:off x="6661080" y="469908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2" name=""/>
              <p:cNvGrpSpPr/>
              <p:nvPr/>
            </p:nvGrpSpPr>
            <p:grpSpPr>
              <a:xfrm>
                <a:off x="6242040" y="4699080"/>
                <a:ext cx="114480" cy="88920"/>
                <a:chOff x="6242040" y="4699080"/>
                <a:chExt cx="114480" cy="88920"/>
              </a:xfrm>
            </p:grpSpPr>
            <p:sp>
              <p:nvSpPr>
                <p:cNvPr id="2663" name=""/>
                <p:cNvSpPr/>
                <p:nvPr/>
              </p:nvSpPr>
              <p:spPr>
                <a:xfrm>
                  <a:off x="6255000" y="4699080"/>
                  <a:ext cx="885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4" name=""/>
                <p:cNvSpPr/>
                <p:nvPr/>
              </p:nvSpPr>
              <p:spPr>
                <a:xfrm flipH="1">
                  <a:off x="6242040" y="469908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5" name=""/>
              <p:cNvGrpSpPr/>
              <p:nvPr/>
            </p:nvGrpSpPr>
            <p:grpSpPr>
              <a:xfrm>
                <a:off x="5949720" y="4699080"/>
                <a:ext cx="114120" cy="88920"/>
                <a:chOff x="5949720" y="4699080"/>
                <a:chExt cx="114120" cy="88920"/>
              </a:xfrm>
            </p:grpSpPr>
            <p:sp>
              <p:nvSpPr>
                <p:cNvPr id="2666" name=""/>
                <p:cNvSpPr/>
                <p:nvPr/>
              </p:nvSpPr>
              <p:spPr>
                <a:xfrm>
                  <a:off x="5962680" y="46990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7" name=""/>
                <p:cNvSpPr/>
                <p:nvPr/>
              </p:nvSpPr>
              <p:spPr>
                <a:xfrm flipH="1">
                  <a:off x="5949720" y="46990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8" name=""/>
              <p:cNvGrpSpPr/>
              <p:nvPr/>
            </p:nvGrpSpPr>
            <p:grpSpPr>
              <a:xfrm>
                <a:off x="6534000" y="4699080"/>
                <a:ext cx="114120" cy="88920"/>
                <a:chOff x="6534000" y="4699080"/>
                <a:chExt cx="114120" cy="88920"/>
              </a:xfrm>
            </p:grpSpPr>
            <p:sp>
              <p:nvSpPr>
                <p:cNvPr id="2669" name=""/>
                <p:cNvSpPr/>
                <p:nvPr/>
              </p:nvSpPr>
              <p:spPr>
                <a:xfrm>
                  <a:off x="6546960" y="46990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0" name=""/>
                <p:cNvSpPr/>
                <p:nvPr/>
              </p:nvSpPr>
              <p:spPr>
                <a:xfrm flipH="1">
                  <a:off x="6534000" y="46990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1" name=""/>
              <p:cNvGrpSpPr/>
              <p:nvPr/>
            </p:nvGrpSpPr>
            <p:grpSpPr>
              <a:xfrm>
                <a:off x="5797440" y="4699080"/>
                <a:ext cx="114120" cy="88920"/>
                <a:chOff x="5797440" y="4699080"/>
                <a:chExt cx="114120" cy="88920"/>
              </a:xfrm>
            </p:grpSpPr>
            <p:sp>
              <p:nvSpPr>
                <p:cNvPr id="2672" name=""/>
                <p:cNvSpPr/>
                <p:nvPr/>
              </p:nvSpPr>
              <p:spPr>
                <a:xfrm>
                  <a:off x="5810400" y="46990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3" name=""/>
                <p:cNvSpPr/>
                <p:nvPr/>
              </p:nvSpPr>
              <p:spPr>
                <a:xfrm flipH="1">
                  <a:off x="5797440" y="46990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4" name=""/>
              <p:cNvGrpSpPr/>
              <p:nvPr/>
            </p:nvGrpSpPr>
            <p:grpSpPr>
              <a:xfrm>
                <a:off x="5670360" y="4699080"/>
                <a:ext cx="114120" cy="88920"/>
                <a:chOff x="5670360" y="4699080"/>
                <a:chExt cx="114120" cy="88920"/>
              </a:xfrm>
            </p:grpSpPr>
            <p:sp>
              <p:nvSpPr>
                <p:cNvPr id="2675" name=""/>
                <p:cNvSpPr/>
                <p:nvPr/>
              </p:nvSpPr>
              <p:spPr>
                <a:xfrm>
                  <a:off x="5683320" y="46990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6" name=""/>
                <p:cNvSpPr/>
                <p:nvPr/>
              </p:nvSpPr>
              <p:spPr>
                <a:xfrm flipH="1">
                  <a:off x="5670360" y="46990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77" name=""/>
            <p:cNvGrpSpPr/>
            <p:nvPr/>
          </p:nvGrpSpPr>
          <p:grpSpPr>
            <a:xfrm>
              <a:off x="5670360" y="5067360"/>
              <a:ext cx="1105200" cy="88920"/>
              <a:chOff x="5670360" y="5067360"/>
              <a:chExt cx="1105200" cy="88920"/>
            </a:xfrm>
          </p:grpSpPr>
          <p:grpSp>
            <p:nvGrpSpPr>
              <p:cNvPr id="2678" name=""/>
              <p:cNvGrpSpPr/>
              <p:nvPr/>
            </p:nvGrpSpPr>
            <p:grpSpPr>
              <a:xfrm>
                <a:off x="6369120" y="5067360"/>
                <a:ext cx="114480" cy="88920"/>
                <a:chOff x="6369120" y="5067360"/>
                <a:chExt cx="114480" cy="88920"/>
              </a:xfrm>
            </p:grpSpPr>
            <p:sp>
              <p:nvSpPr>
                <p:cNvPr id="2679" name=""/>
                <p:cNvSpPr/>
                <p:nvPr/>
              </p:nvSpPr>
              <p:spPr>
                <a:xfrm>
                  <a:off x="6381720" y="50673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0" name=""/>
                <p:cNvSpPr/>
                <p:nvPr/>
              </p:nvSpPr>
              <p:spPr>
                <a:xfrm flipH="1">
                  <a:off x="6369120" y="506736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81" name=""/>
              <p:cNvGrpSpPr/>
              <p:nvPr/>
            </p:nvGrpSpPr>
            <p:grpSpPr>
              <a:xfrm>
                <a:off x="6076800" y="5067360"/>
                <a:ext cx="114120" cy="88920"/>
                <a:chOff x="6076800" y="5067360"/>
                <a:chExt cx="114120" cy="88920"/>
              </a:xfrm>
            </p:grpSpPr>
            <p:sp>
              <p:nvSpPr>
                <p:cNvPr id="2682" name=""/>
                <p:cNvSpPr/>
                <p:nvPr/>
              </p:nvSpPr>
              <p:spPr>
                <a:xfrm>
                  <a:off x="6089760" y="50673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3" name=""/>
                <p:cNvSpPr/>
                <p:nvPr/>
              </p:nvSpPr>
              <p:spPr>
                <a:xfrm flipH="1">
                  <a:off x="6076800" y="50673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84" name=""/>
              <p:cNvGrpSpPr/>
              <p:nvPr/>
            </p:nvGrpSpPr>
            <p:grpSpPr>
              <a:xfrm>
                <a:off x="6661080" y="5067360"/>
                <a:ext cx="114480" cy="88920"/>
                <a:chOff x="6661080" y="5067360"/>
                <a:chExt cx="114480" cy="88920"/>
              </a:xfrm>
            </p:grpSpPr>
            <p:sp>
              <p:nvSpPr>
                <p:cNvPr id="2685" name=""/>
                <p:cNvSpPr/>
                <p:nvPr/>
              </p:nvSpPr>
              <p:spPr>
                <a:xfrm>
                  <a:off x="6674040" y="50673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6" name=""/>
                <p:cNvSpPr/>
                <p:nvPr/>
              </p:nvSpPr>
              <p:spPr>
                <a:xfrm flipH="1">
                  <a:off x="6661080" y="506736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87" name=""/>
              <p:cNvGrpSpPr/>
              <p:nvPr/>
            </p:nvGrpSpPr>
            <p:grpSpPr>
              <a:xfrm>
                <a:off x="6242040" y="5067360"/>
                <a:ext cx="114480" cy="88920"/>
                <a:chOff x="6242040" y="5067360"/>
                <a:chExt cx="114480" cy="88920"/>
              </a:xfrm>
            </p:grpSpPr>
            <p:sp>
              <p:nvSpPr>
                <p:cNvPr id="2688" name=""/>
                <p:cNvSpPr/>
                <p:nvPr/>
              </p:nvSpPr>
              <p:spPr>
                <a:xfrm>
                  <a:off x="6255000" y="5067360"/>
                  <a:ext cx="885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9" name=""/>
                <p:cNvSpPr/>
                <p:nvPr/>
              </p:nvSpPr>
              <p:spPr>
                <a:xfrm flipH="1">
                  <a:off x="6242040" y="506736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0" name=""/>
              <p:cNvGrpSpPr/>
              <p:nvPr/>
            </p:nvGrpSpPr>
            <p:grpSpPr>
              <a:xfrm>
                <a:off x="5949720" y="5067360"/>
                <a:ext cx="114120" cy="88920"/>
                <a:chOff x="5949720" y="5067360"/>
                <a:chExt cx="114120" cy="88920"/>
              </a:xfrm>
            </p:grpSpPr>
            <p:sp>
              <p:nvSpPr>
                <p:cNvPr id="2691" name=""/>
                <p:cNvSpPr/>
                <p:nvPr/>
              </p:nvSpPr>
              <p:spPr>
                <a:xfrm>
                  <a:off x="5962680" y="50673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2" name=""/>
                <p:cNvSpPr/>
                <p:nvPr/>
              </p:nvSpPr>
              <p:spPr>
                <a:xfrm flipH="1">
                  <a:off x="5949720" y="50673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3" name=""/>
              <p:cNvGrpSpPr/>
              <p:nvPr/>
            </p:nvGrpSpPr>
            <p:grpSpPr>
              <a:xfrm>
                <a:off x="6534000" y="5067360"/>
                <a:ext cx="114120" cy="88920"/>
                <a:chOff x="6534000" y="5067360"/>
                <a:chExt cx="114120" cy="88920"/>
              </a:xfrm>
            </p:grpSpPr>
            <p:sp>
              <p:nvSpPr>
                <p:cNvPr id="2694" name=""/>
                <p:cNvSpPr/>
                <p:nvPr/>
              </p:nvSpPr>
              <p:spPr>
                <a:xfrm>
                  <a:off x="6546960" y="50673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5" name=""/>
                <p:cNvSpPr/>
                <p:nvPr/>
              </p:nvSpPr>
              <p:spPr>
                <a:xfrm flipH="1">
                  <a:off x="6534000" y="50673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6" name=""/>
              <p:cNvGrpSpPr/>
              <p:nvPr/>
            </p:nvGrpSpPr>
            <p:grpSpPr>
              <a:xfrm>
                <a:off x="5797440" y="5067360"/>
                <a:ext cx="114120" cy="88920"/>
                <a:chOff x="5797440" y="5067360"/>
                <a:chExt cx="114120" cy="88920"/>
              </a:xfrm>
            </p:grpSpPr>
            <p:sp>
              <p:nvSpPr>
                <p:cNvPr id="2697" name=""/>
                <p:cNvSpPr/>
                <p:nvPr/>
              </p:nvSpPr>
              <p:spPr>
                <a:xfrm>
                  <a:off x="5810400" y="50673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8" name=""/>
                <p:cNvSpPr/>
                <p:nvPr/>
              </p:nvSpPr>
              <p:spPr>
                <a:xfrm flipH="1">
                  <a:off x="5797440" y="50673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9" name=""/>
              <p:cNvGrpSpPr/>
              <p:nvPr/>
            </p:nvGrpSpPr>
            <p:grpSpPr>
              <a:xfrm>
                <a:off x="5670360" y="5067360"/>
                <a:ext cx="114120" cy="88920"/>
                <a:chOff x="5670360" y="5067360"/>
                <a:chExt cx="114120" cy="88920"/>
              </a:xfrm>
            </p:grpSpPr>
            <p:sp>
              <p:nvSpPr>
                <p:cNvPr id="2700" name=""/>
                <p:cNvSpPr/>
                <p:nvPr/>
              </p:nvSpPr>
              <p:spPr>
                <a:xfrm>
                  <a:off x="5683320" y="50673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1" name=""/>
                <p:cNvSpPr/>
                <p:nvPr/>
              </p:nvSpPr>
              <p:spPr>
                <a:xfrm flipH="1">
                  <a:off x="5670360" y="50673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02" name=""/>
            <p:cNvGrpSpPr/>
            <p:nvPr/>
          </p:nvGrpSpPr>
          <p:grpSpPr>
            <a:xfrm>
              <a:off x="5670360" y="5435640"/>
              <a:ext cx="1105200" cy="88920"/>
              <a:chOff x="5670360" y="5435640"/>
              <a:chExt cx="1105200" cy="88920"/>
            </a:xfrm>
          </p:grpSpPr>
          <p:grpSp>
            <p:nvGrpSpPr>
              <p:cNvPr id="2703" name=""/>
              <p:cNvGrpSpPr/>
              <p:nvPr/>
            </p:nvGrpSpPr>
            <p:grpSpPr>
              <a:xfrm>
                <a:off x="6369120" y="5435640"/>
                <a:ext cx="114480" cy="88920"/>
                <a:chOff x="6369120" y="5435640"/>
                <a:chExt cx="114480" cy="88920"/>
              </a:xfrm>
            </p:grpSpPr>
            <p:sp>
              <p:nvSpPr>
                <p:cNvPr id="2704" name=""/>
                <p:cNvSpPr/>
                <p:nvPr/>
              </p:nvSpPr>
              <p:spPr>
                <a:xfrm>
                  <a:off x="6381720" y="543564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5" name=""/>
                <p:cNvSpPr/>
                <p:nvPr/>
              </p:nvSpPr>
              <p:spPr>
                <a:xfrm flipH="1">
                  <a:off x="6369120" y="543564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6" name=""/>
              <p:cNvGrpSpPr/>
              <p:nvPr/>
            </p:nvGrpSpPr>
            <p:grpSpPr>
              <a:xfrm>
                <a:off x="6076800" y="5435640"/>
                <a:ext cx="114120" cy="88920"/>
                <a:chOff x="6076800" y="5435640"/>
                <a:chExt cx="114120" cy="88920"/>
              </a:xfrm>
            </p:grpSpPr>
            <p:sp>
              <p:nvSpPr>
                <p:cNvPr id="2707" name=""/>
                <p:cNvSpPr/>
                <p:nvPr/>
              </p:nvSpPr>
              <p:spPr>
                <a:xfrm>
                  <a:off x="6089760" y="543564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8" name=""/>
                <p:cNvSpPr/>
                <p:nvPr/>
              </p:nvSpPr>
              <p:spPr>
                <a:xfrm flipH="1">
                  <a:off x="6076800" y="543564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9" name=""/>
              <p:cNvGrpSpPr/>
              <p:nvPr/>
            </p:nvGrpSpPr>
            <p:grpSpPr>
              <a:xfrm>
                <a:off x="6661080" y="5435640"/>
                <a:ext cx="114480" cy="88920"/>
                <a:chOff x="6661080" y="5435640"/>
                <a:chExt cx="114480" cy="88920"/>
              </a:xfrm>
            </p:grpSpPr>
            <p:sp>
              <p:nvSpPr>
                <p:cNvPr id="2710" name=""/>
                <p:cNvSpPr/>
                <p:nvPr/>
              </p:nvSpPr>
              <p:spPr>
                <a:xfrm>
                  <a:off x="6674040" y="543564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1" name=""/>
                <p:cNvSpPr/>
                <p:nvPr/>
              </p:nvSpPr>
              <p:spPr>
                <a:xfrm flipH="1">
                  <a:off x="6661080" y="543564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12" name=""/>
              <p:cNvGrpSpPr/>
              <p:nvPr/>
            </p:nvGrpSpPr>
            <p:grpSpPr>
              <a:xfrm>
                <a:off x="6242040" y="5435640"/>
                <a:ext cx="114480" cy="88920"/>
                <a:chOff x="6242040" y="5435640"/>
                <a:chExt cx="114480" cy="88920"/>
              </a:xfrm>
            </p:grpSpPr>
            <p:sp>
              <p:nvSpPr>
                <p:cNvPr id="2713" name=""/>
                <p:cNvSpPr/>
                <p:nvPr/>
              </p:nvSpPr>
              <p:spPr>
                <a:xfrm>
                  <a:off x="6255000" y="5435640"/>
                  <a:ext cx="885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4" name=""/>
                <p:cNvSpPr/>
                <p:nvPr/>
              </p:nvSpPr>
              <p:spPr>
                <a:xfrm flipH="1">
                  <a:off x="6242040" y="543564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15" name=""/>
              <p:cNvGrpSpPr/>
              <p:nvPr/>
            </p:nvGrpSpPr>
            <p:grpSpPr>
              <a:xfrm>
                <a:off x="5949720" y="5435640"/>
                <a:ext cx="114120" cy="88920"/>
                <a:chOff x="5949720" y="5435640"/>
                <a:chExt cx="114120" cy="88920"/>
              </a:xfrm>
            </p:grpSpPr>
            <p:sp>
              <p:nvSpPr>
                <p:cNvPr id="2716" name=""/>
                <p:cNvSpPr/>
                <p:nvPr/>
              </p:nvSpPr>
              <p:spPr>
                <a:xfrm>
                  <a:off x="5962680" y="543564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7" name=""/>
                <p:cNvSpPr/>
                <p:nvPr/>
              </p:nvSpPr>
              <p:spPr>
                <a:xfrm flipH="1">
                  <a:off x="5949720" y="543564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18" name=""/>
              <p:cNvGrpSpPr/>
              <p:nvPr/>
            </p:nvGrpSpPr>
            <p:grpSpPr>
              <a:xfrm>
                <a:off x="6534000" y="5435640"/>
                <a:ext cx="114120" cy="88920"/>
                <a:chOff x="6534000" y="5435640"/>
                <a:chExt cx="114120" cy="88920"/>
              </a:xfrm>
            </p:grpSpPr>
            <p:sp>
              <p:nvSpPr>
                <p:cNvPr id="2719" name=""/>
                <p:cNvSpPr/>
                <p:nvPr/>
              </p:nvSpPr>
              <p:spPr>
                <a:xfrm>
                  <a:off x="6546960" y="543564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0" name=""/>
                <p:cNvSpPr/>
                <p:nvPr/>
              </p:nvSpPr>
              <p:spPr>
                <a:xfrm flipH="1">
                  <a:off x="6534000" y="543564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1" name=""/>
              <p:cNvGrpSpPr/>
              <p:nvPr/>
            </p:nvGrpSpPr>
            <p:grpSpPr>
              <a:xfrm>
                <a:off x="5797440" y="5435640"/>
                <a:ext cx="114120" cy="88920"/>
                <a:chOff x="5797440" y="5435640"/>
                <a:chExt cx="114120" cy="88920"/>
              </a:xfrm>
            </p:grpSpPr>
            <p:sp>
              <p:nvSpPr>
                <p:cNvPr id="2722" name=""/>
                <p:cNvSpPr/>
                <p:nvPr/>
              </p:nvSpPr>
              <p:spPr>
                <a:xfrm>
                  <a:off x="5810400" y="543564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3" name=""/>
                <p:cNvSpPr/>
                <p:nvPr/>
              </p:nvSpPr>
              <p:spPr>
                <a:xfrm flipH="1">
                  <a:off x="5797440" y="543564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4" name=""/>
              <p:cNvGrpSpPr/>
              <p:nvPr/>
            </p:nvGrpSpPr>
            <p:grpSpPr>
              <a:xfrm>
                <a:off x="5670360" y="5435640"/>
                <a:ext cx="114120" cy="88920"/>
                <a:chOff x="5670360" y="5435640"/>
                <a:chExt cx="114120" cy="88920"/>
              </a:xfrm>
            </p:grpSpPr>
            <p:sp>
              <p:nvSpPr>
                <p:cNvPr id="2725" name=""/>
                <p:cNvSpPr/>
                <p:nvPr/>
              </p:nvSpPr>
              <p:spPr>
                <a:xfrm>
                  <a:off x="5683320" y="543564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6" name=""/>
                <p:cNvSpPr/>
                <p:nvPr/>
              </p:nvSpPr>
              <p:spPr>
                <a:xfrm flipH="1">
                  <a:off x="5670360" y="543564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27" name=""/>
            <p:cNvGrpSpPr/>
            <p:nvPr/>
          </p:nvGrpSpPr>
          <p:grpSpPr>
            <a:xfrm>
              <a:off x="5670360" y="5803920"/>
              <a:ext cx="1105200" cy="88920"/>
              <a:chOff x="5670360" y="5803920"/>
              <a:chExt cx="1105200" cy="88920"/>
            </a:xfrm>
          </p:grpSpPr>
          <p:grpSp>
            <p:nvGrpSpPr>
              <p:cNvPr id="2728" name=""/>
              <p:cNvGrpSpPr/>
              <p:nvPr/>
            </p:nvGrpSpPr>
            <p:grpSpPr>
              <a:xfrm>
                <a:off x="6369120" y="5803920"/>
                <a:ext cx="114480" cy="88920"/>
                <a:chOff x="6369120" y="5803920"/>
                <a:chExt cx="114480" cy="88920"/>
              </a:xfrm>
            </p:grpSpPr>
            <p:sp>
              <p:nvSpPr>
                <p:cNvPr id="2729" name=""/>
                <p:cNvSpPr/>
                <p:nvPr/>
              </p:nvSpPr>
              <p:spPr>
                <a:xfrm>
                  <a:off x="6381720" y="58039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0" name=""/>
                <p:cNvSpPr/>
                <p:nvPr/>
              </p:nvSpPr>
              <p:spPr>
                <a:xfrm flipH="1">
                  <a:off x="6369120" y="580392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1" name=""/>
              <p:cNvGrpSpPr/>
              <p:nvPr/>
            </p:nvGrpSpPr>
            <p:grpSpPr>
              <a:xfrm>
                <a:off x="6076800" y="5803920"/>
                <a:ext cx="114120" cy="88920"/>
                <a:chOff x="6076800" y="5803920"/>
                <a:chExt cx="114120" cy="88920"/>
              </a:xfrm>
            </p:grpSpPr>
            <p:sp>
              <p:nvSpPr>
                <p:cNvPr id="2732" name=""/>
                <p:cNvSpPr/>
                <p:nvPr/>
              </p:nvSpPr>
              <p:spPr>
                <a:xfrm>
                  <a:off x="6089760" y="58039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3" name=""/>
                <p:cNvSpPr/>
                <p:nvPr/>
              </p:nvSpPr>
              <p:spPr>
                <a:xfrm flipH="1">
                  <a:off x="6076800" y="58039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4" name=""/>
              <p:cNvGrpSpPr/>
              <p:nvPr/>
            </p:nvGrpSpPr>
            <p:grpSpPr>
              <a:xfrm>
                <a:off x="6661080" y="5803920"/>
                <a:ext cx="114480" cy="88920"/>
                <a:chOff x="6661080" y="5803920"/>
                <a:chExt cx="114480" cy="88920"/>
              </a:xfrm>
            </p:grpSpPr>
            <p:sp>
              <p:nvSpPr>
                <p:cNvPr id="2735" name=""/>
                <p:cNvSpPr/>
                <p:nvPr/>
              </p:nvSpPr>
              <p:spPr>
                <a:xfrm>
                  <a:off x="6674040" y="58039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6" name=""/>
                <p:cNvSpPr/>
                <p:nvPr/>
              </p:nvSpPr>
              <p:spPr>
                <a:xfrm flipH="1">
                  <a:off x="6661080" y="580392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7" name=""/>
              <p:cNvGrpSpPr/>
              <p:nvPr/>
            </p:nvGrpSpPr>
            <p:grpSpPr>
              <a:xfrm>
                <a:off x="6242040" y="5803920"/>
                <a:ext cx="114480" cy="88920"/>
                <a:chOff x="6242040" y="5803920"/>
                <a:chExt cx="114480" cy="88920"/>
              </a:xfrm>
            </p:grpSpPr>
            <p:sp>
              <p:nvSpPr>
                <p:cNvPr id="2738" name=""/>
                <p:cNvSpPr/>
                <p:nvPr/>
              </p:nvSpPr>
              <p:spPr>
                <a:xfrm>
                  <a:off x="6255000" y="5803920"/>
                  <a:ext cx="885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9" name=""/>
                <p:cNvSpPr/>
                <p:nvPr/>
              </p:nvSpPr>
              <p:spPr>
                <a:xfrm flipH="1">
                  <a:off x="6242040" y="580392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0" name=""/>
              <p:cNvGrpSpPr/>
              <p:nvPr/>
            </p:nvGrpSpPr>
            <p:grpSpPr>
              <a:xfrm>
                <a:off x="5949720" y="5803920"/>
                <a:ext cx="114120" cy="88920"/>
                <a:chOff x="5949720" y="5803920"/>
                <a:chExt cx="114120" cy="88920"/>
              </a:xfrm>
            </p:grpSpPr>
            <p:sp>
              <p:nvSpPr>
                <p:cNvPr id="2741" name=""/>
                <p:cNvSpPr/>
                <p:nvPr/>
              </p:nvSpPr>
              <p:spPr>
                <a:xfrm>
                  <a:off x="5962680" y="58039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2" name=""/>
                <p:cNvSpPr/>
                <p:nvPr/>
              </p:nvSpPr>
              <p:spPr>
                <a:xfrm flipH="1">
                  <a:off x="5949720" y="58039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3" name=""/>
              <p:cNvGrpSpPr/>
              <p:nvPr/>
            </p:nvGrpSpPr>
            <p:grpSpPr>
              <a:xfrm>
                <a:off x="6534000" y="5803920"/>
                <a:ext cx="114120" cy="88920"/>
                <a:chOff x="6534000" y="5803920"/>
                <a:chExt cx="114120" cy="88920"/>
              </a:xfrm>
            </p:grpSpPr>
            <p:sp>
              <p:nvSpPr>
                <p:cNvPr id="2744" name=""/>
                <p:cNvSpPr/>
                <p:nvPr/>
              </p:nvSpPr>
              <p:spPr>
                <a:xfrm>
                  <a:off x="6546960" y="58039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5" name=""/>
                <p:cNvSpPr/>
                <p:nvPr/>
              </p:nvSpPr>
              <p:spPr>
                <a:xfrm flipH="1">
                  <a:off x="6534000" y="58039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6" name=""/>
              <p:cNvGrpSpPr/>
              <p:nvPr/>
            </p:nvGrpSpPr>
            <p:grpSpPr>
              <a:xfrm>
                <a:off x="5797440" y="5803920"/>
                <a:ext cx="114120" cy="88920"/>
                <a:chOff x="5797440" y="5803920"/>
                <a:chExt cx="114120" cy="88920"/>
              </a:xfrm>
            </p:grpSpPr>
            <p:sp>
              <p:nvSpPr>
                <p:cNvPr id="2747" name=""/>
                <p:cNvSpPr/>
                <p:nvPr/>
              </p:nvSpPr>
              <p:spPr>
                <a:xfrm>
                  <a:off x="5810400" y="58039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8" name=""/>
                <p:cNvSpPr/>
                <p:nvPr/>
              </p:nvSpPr>
              <p:spPr>
                <a:xfrm flipH="1">
                  <a:off x="5797440" y="58039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9" name=""/>
              <p:cNvGrpSpPr/>
              <p:nvPr/>
            </p:nvGrpSpPr>
            <p:grpSpPr>
              <a:xfrm>
                <a:off x="5670360" y="5803920"/>
                <a:ext cx="114120" cy="88920"/>
                <a:chOff x="5670360" y="5803920"/>
                <a:chExt cx="114120" cy="88920"/>
              </a:xfrm>
            </p:grpSpPr>
            <p:sp>
              <p:nvSpPr>
                <p:cNvPr id="2750" name=""/>
                <p:cNvSpPr/>
                <p:nvPr/>
              </p:nvSpPr>
              <p:spPr>
                <a:xfrm>
                  <a:off x="5683320" y="58039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1" name=""/>
                <p:cNvSpPr/>
                <p:nvPr/>
              </p:nvSpPr>
              <p:spPr>
                <a:xfrm flipH="1">
                  <a:off x="5670360" y="58039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752" name=""/>
            <p:cNvSpPr/>
            <p:nvPr/>
          </p:nvSpPr>
          <p:spPr>
            <a:xfrm>
              <a:off x="7588440" y="3213000"/>
              <a:ext cx="114120" cy="114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7588440" y="3581280"/>
              <a:ext cx="114120" cy="114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7956720" y="3949560"/>
              <a:ext cx="114120" cy="114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7956720" y="4317840"/>
              <a:ext cx="114120" cy="114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8312400" y="4686120"/>
              <a:ext cx="114120" cy="114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8312400" y="5054400"/>
              <a:ext cx="114120" cy="114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8680680" y="5422680"/>
              <a:ext cx="114120" cy="114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8680680" y="5791320"/>
              <a:ext cx="114120" cy="114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ALs and PLA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6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mable logic array (PL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we've seen so f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constrained fully-general AND and OR arr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mable array logic (PA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ained topology of the OR arr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novation by Monolithic Mem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ter and smaller OR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92E5-A205-498F-AE89-13A3B1A27DD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2" name=""/>
          <p:cNvSpPr/>
          <p:nvPr/>
        </p:nvSpPr>
        <p:spPr>
          <a:xfrm>
            <a:off x="5086440" y="3073320"/>
            <a:ext cx="311148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inimized func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 = A + BD + B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 = BC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 = B +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 = A'B'C'D + BCD + AD' + B'CD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3" name=""/>
          <p:cNvGrpSpPr/>
          <p:nvPr/>
        </p:nvGrpSpPr>
        <p:grpSpPr>
          <a:xfrm>
            <a:off x="679320" y="2158920"/>
            <a:ext cx="3714840" cy="3187800"/>
            <a:chOff x="679320" y="2158920"/>
            <a:chExt cx="3714840" cy="3187800"/>
          </a:xfrm>
        </p:grpSpPr>
        <p:sp>
          <p:nvSpPr>
            <p:cNvPr id="2764" name=""/>
            <p:cNvSpPr/>
            <p:nvPr/>
          </p:nvSpPr>
          <p:spPr>
            <a:xfrm>
              <a:off x="736560" y="2158920"/>
              <a:ext cx="3657600" cy="31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2463840" y="2190600"/>
              <a:ext cx="0" cy="288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679320" y="2413080"/>
              <a:ext cx="3505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ALs and PLAs: design exampl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6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CD to Gray code conver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D853-2EF2-4C2D-ABEF-D94364312F8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9" name=""/>
          <p:cNvSpPr/>
          <p:nvPr/>
        </p:nvSpPr>
        <p:spPr>
          <a:xfrm>
            <a:off x="5289480" y="3498840"/>
            <a:ext cx="3264120" cy="28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t a particularly go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ndidate for PAL/P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mplementation since no term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re shared among outpu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wever, much more compac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nd regular implementation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n compared with discret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ND and OR g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0" name=""/>
          <p:cNvGrpSpPr/>
          <p:nvPr/>
        </p:nvGrpSpPr>
        <p:grpSpPr>
          <a:xfrm>
            <a:off x="771480" y="1944720"/>
            <a:ext cx="3297240" cy="4454280"/>
            <a:chOff x="771480" y="1944720"/>
            <a:chExt cx="3297240" cy="4454280"/>
          </a:xfrm>
        </p:grpSpPr>
        <p:sp>
          <p:nvSpPr>
            <p:cNvPr id="2771" name=""/>
            <p:cNvSpPr/>
            <p:nvPr/>
          </p:nvSpPr>
          <p:spPr>
            <a:xfrm>
              <a:off x="1855800" y="2521080"/>
              <a:ext cx="0" cy="338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1735200" y="2448000"/>
              <a:ext cx="0" cy="345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1455840" y="2448000"/>
              <a:ext cx="0" cy="345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1298520" y="2521080"/>
              <a:ext cx="0" cy="338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898560" y="2448000"/>
              <a:ext cx="0" cy="345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1020600" y="2521080"/>
              <a:ext cx="0" cy="338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2117880" y="3544920"/>
              <a:ext cx="27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2117880" y="3835440"/>
              <a:ext cx="29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 flipV="1">
              <a:off x="2111400" y="3538080"/>
              <a:ext cx="0" cy="30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2262600" y="3552840"/>
              <a:ext cx="27864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2262240" y="3540240"/>
              <a:ext cx="27900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771480" y="369108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2541600" y="3691080"/>
              <a:ext cx="152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 flipH="1">
              <a:off x="1789200" y="2351160"/>
              <a:ext cx="133200" cy="16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1681200" y="2351160"/>
              <a:ext cx="108000" cy="16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 flipH="1">
              <a:off x="1668240" y="234468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1838160" y="2460600"/>
              <a:ext cx="47880" cy="47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1795320" y="2228760"/>
              <a:ext cx="0" cy="10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2117880" y="2490840"/>
              <a:ext cx="27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2117880" y="2781360"/>
              <a:ext cx="29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 flipV="1">
              <a:off x="2111400" y="2484360"/>
              <a:ext cx="0" cy="30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2262600" y="249696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2262240" y="248292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771480" y="263520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2541600" y="2635200"/>
              <a:ext cx="147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2117880" y="2841480"/>
              <a:ext cx="27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2117880" y="3132000"/>
              <a:ext cx="29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 flipV="1">
              <a:off x="2111400" y="2835360"/>
              <a:ext cx="0" cy="30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2262600" y="2849400"/>
              <a:ext cx="27864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2262240" y="2836800"/>
              <a:ext cx="27900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771480" y="298764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2541600" y="2987640"/>
              <a:ext cx="150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2117880" y="3193920"/>
              <a:ext cx="27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2117880" y="3484440"/>
              <a:ext cx="29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 flipV="1">
              <a:off x="2111400" y="3187800"/>
              <a:ext cx="0" cy="30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2262600" y="320040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2262240" y="318636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771480" y="333864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2541600" y="3338640"/>
              <a:ext cx="150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 flipH="1">
              <a:off x="1511280" y="2351160"/>
              <a:ext cx="133200" cy="16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1401840" y="2351160"/>
              <a:ext cx="109440" cy="16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 flipH="1">
              <a:off x="1388880" y="2344680"/>
              <a:ext cx="25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1558800" y="2460600"/>
              <a:ext cx="49320" cy="47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1517760" y="2228760"/>
              <a:ext cx="0" cy="10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1577880" y="2521080"/>
              <a:ext cx="0" cy="339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6" name=""/>
            <p:cNvSpPr/>
            <p:nvPr/>
          </p:nvSpPr>
          <p:spPr>
            <a:xfrm flipH="1">
              <a:off x="1231920" y="2351160"/>
              <a:ext cx="133200" cy="16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1122480" y="2351160"/>
              <a:ext cx="109440" cy="16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8" name=""/>
            <p:cNvSpPr/>
            <p:nvPr/>
          </p:nvSpPr>
          <p:spPr>
            <a:xfrm flipH="1">
              <a:off x="1110960" y="234468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1281240" y="2460600"/>
              <a:ext cx="47520" cy="47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1238400" y="2228760"/>
              <a:ext cx="0" cy="10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1177920" y="2448000"/>
              <a:ext cx="0" cy="345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2" name=""/>
            <p:cNvSpPr/>
            <p:nvPr/>
          </p:nvSpPr>
          <p:spPr>
            <a:xfrm flipH="1">
              <a:off x="953640" y="2351160"/>
              <a:ext cx="133560" cy="16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844560" y="2351160"/>
              <a:ext cx="109440" cy="16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4" name=""/>
            <p:cNvSpPr/>
            <p:nvPr/>
          </p:nvSpPr>
          <p:spPr>
            <a:xfrm flipH="1">
              <a:off x="831960" y="2344680"/>
              <a:ext cx="25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1001880" y="2460600"/>
              <a:ext cx="48960" cy="47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958680" y="2228760"/>
              <a:ext cx="0" cy="10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2117880" y="3884760"/>
              <a:ext cx="27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2117880" y="4175280"/>
              <a:ext cx="29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9" name=""/>
            <p:cNvSpPr/>
            <p:nvPr/>
          </p:nvSpPr>
          <p:spPr>
            <a:xfrm flipV="1">
              <a:off x="2111400" y="3878280"/>
              <a:ext cx="0" cy="30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2262600" y="3892680"/>
              <a:ext cx="27864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2262240" y="387684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771480" y="402912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2541600" y="4029120"/>
              <a:ext cx="152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2117880" y="4224240"/>
              <a:ext cx="27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2117880" y="4514760"/>
              <a:ext cx="29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6" name=""/>
            <p:cNvSpPr/>
            <p:nvPr/>
          </p:nvSpPr>
          <p:spPr>
            <a:xfrm flipV="1">
              <a:off x="2111400" y="4218120"/>
              <a:ext cx="0" cy="30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2262600" y="423072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2262240" y="421668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771480" y="436896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2541600" y="4368960"/>
              <a:ext cx="152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2117880" y="4562640"/>
              <a:ext cx="27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2117880" y="4854600"/>
              <a:ext cx="29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3" name=""/>
            <p:cNvSpPr/>
            <p:nvPr/>
          </p:nvSpPr>
          <p:spPr>
            <a:xfrm flipV="1">
              <a:off x="2111400" y="4557600"/>
              <a:ext cx="0" cy="30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2262600" y="457056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2262240" y="4557600"/>
              <a:ext cx="27900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771480" y="470844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2541600" y="4708440"/>
              <a:ext cx="152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2117880" y="4902120"/>
              <a:ext cx="27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2117880" y="5192640"/>
              <a:ext cx="29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0" name=""/>
            <p:cNvSpPr/>
            <p:nvPr/>
          </p:nvSpPr>
          <p:spPr>
            <a:xfrm flipV="1">
              <a:off x="2111400" y="4896000"/>
              <a:ext cx="0" cy="30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2262600" y="4910040"/>
              <a:ext cx="27864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2262240" y="4897440"/>
              <a:ext cx="27900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771480" y="504828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2541600" y="5048280"/>
              <a:ext cx="152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2117880" y="5241960"/>
              <a:ext cx="27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2117880" y="5532480"/>
              <a:ext cx="29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7" name=""/>
            <p:cNvSpPr/>
            <p:nvPr/>
          </p:nvSpPr>
          <p:spPr>
            <a:xfrm flipV="1">
              <a:off x="2111400" y="5235120"/>
              <a:ext cx="0" cy="30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2262600" y="5249880"/>
              <a:ext cx="27864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2262240" y="5237280"/>
              <a:ext cx="27900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771480" y="538812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2541600" y="5388120"/>
              <a:ext cx="152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2117880" y="5581800"/>
              <a:ext cx="27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2117880" y="5872320"/>
              <a:ext cx="29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4" name=""/>
            <p:cNvSpPr/>
            <p:nvPr/>
          </p:nvSpPr>
          <p:spPr>
            <a:xfrm flipV="1">
              <a:off x="2111400" y="5575320"/>
              <a:ext cx="0" cy="30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2262600" y="5589720"/>
              <a:ext cx="27864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2262240" y="557388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771480" y="572616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2541600" y="5726160"/>
              <a:ext cx="152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2778120" y="2448000"/>
              <a:ext cx="0" cy="344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70" name=""/>
            <p:cNvGrpSpPr/>
            <p:nvPr/>
          </p:nvGrpSpPr>
          <p:grpSpPr>
            <a:xfrm>
              <a:off x="2638080" y="5381280"/>
              <a:ext cx="291240" cy="1017720"/>
              <a:chOff x="2638080" y="5381280"/>
              <a:chExt cx="291240" cy="1017720"/>
            </a:xfrm>
          </p:grpSpPr>
          <p:sp>
            <p:nvSpPr>
              <p:cNvPr id="2871" name=""/>
              <p:cNvSpPr/>
              <p:nvPr/>
            </p:nvSpPr>
            <p:spPr>
              <a:xfrm>
                <a:off x="2661840" y="5769000"/>
                <a:ext cx="253800" cy="13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>
                <a:off x="2638080" y="5381280"/>
                <a:ext cx="277560" cy="90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>
                <a:off x="2651040" y="5429880"/>
                <a:ext cx="278280" cy="85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>
                <a:off x="2651040" y="5769000"/>
                <a:ext cx="278280" cy="13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>
                <a:off x="2777040" y="6289920"/>
                <a:ext cx="0" cy="10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76" name=""/>
            <p:cNvSpPr/>
            <p:nvPr/>
          </p:nvSpPr>
          <p:spPr>
            <a:xfrm>
              <a:off x="3116160" y="2448000"/>
              <a:ext cx="0" cy="344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77" name=""/>
            <p:cNvGrpSpPr/>
            <p:nvPr/>
          </p:nvGrpSpPr>
          <p:grpSpPr>
            <a:xfrm>
              <a:off x="2976840" y="5381280"/>
              <a:ext cx="292320" cy="1017720"/>
              <a:chOff x="2976840" y="5381280"/>
              <a:chExt cx="292320" cy="1017720"/>
            </a:xfrm>
          </p:grpSpPr>
          <p:sp>
            <p:nvSpPr>
              <p:cNvPr id="2878" name=""/>
              <p:cNvSpPr/>
              <p:nvPr/>
            </p:nvSpPr>
            <p:spPr>
              <a:xfrm>
                <a:off x="3002400" y="5769000"/>
                <a:ext cx="252720" cy="13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>
                <a:off x="2976840" y="5381280"/>
                <a:ext cx="278280" cy="90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>
                <a:off x="2990880" y="5429880"/>
                <a:ext cx="278280" cy="85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>
                <a:off x="2990880" y="5769000"/>
                <a:ext cx="278280" cy="13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>
                <a:off x="3116160" y="6289920"/>
                <a:ext cx="0" cy="10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83" name=""/>
            <p:cNvSpPr/>
            <p:nvPr/>
          </p:nvSpPr>
          <p:spPr>
            <a:xfrm>
              <a:off x="3456000" y="2448000"/>
              <a:ext cx="0" cy="344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84" name=""/>
            <p:cNvGrpSpPr/>
            <p:nvPr/>
          </p:nvGrpSpPr>
          <p:grpSpPr>
            <a:xfrm>
              <a:off x="3316680" y="5381280"/>
              <a:ext cx="292320" cy="1017720"/>
              <a:chOff x="3316680" y="5381280"/>
              <a:chExt cx="292320" cy="1017720"/>
            </a:xfrm>
          </p:grpSpPr>
          <p:sp>
            <p:nvSpPr>
              <p:cNvPr id="2885" name=""/>
              <p:cNvSpPr/>
              <p:nvPr/>
            </p:nvSpPr>
            <p:spPr>
              <a:xfrm>
                <a:off x="3341160" y="5769000"/>
                <a:ext cx="253800" cy="13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>
                <a:off x="3316680" y="5381280"/>
                <a:ext cx="278280" cy="90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>
                <a:off x="3330720" y="5429880"/>
                <a:ext cx="278280" cy="85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>
                <a:off x="3330720" y="5769000"/>
                <a:ext cx="278280" cy="13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>
                <a:off x="3456000" y="6289920"/>
                <a:ext cx="0" cy="10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90" name=""/>
            <p:cNvSpPr/>
            <p:nvPr/>
          </p:nvSpPr>
          <p:spPr>
            <a:xfrm>
              <a:off x="3808440" y="2448000"/>
              <a:ext cx="0" cy="344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91" name=""/>
            <p:cNvGrpSpPr/>
            <p:nvPr/>
          </p:nvGrpSpPr>
          <p:grpSpPr>
            <a:xfrm>
              <a:off x="3667680" y="5381280"/>
              <a:ext cx="293400" cy="1017720"/>
              <a:chOff x="3667680" y="5381280"/>
              <a:chExt cx="293400" cy="1017720"/>
            </a:xfrm>
          </p:grpSpPr>
          <p:sp>
            <p:nvSpPr>
              <p:cNvPr id="2892" name=""/>
              <p:cNvSpPr/>
              <p:nvPr/>
            </p:nvSpPr>
            <p:spPr>
              <a:xfrm>
                <a:off x="3691440" y="5769000"/>
                <a:ext cx="255960" cy="13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>
                <a:off x="3667680" y="5381280"/>
                <a:ext cx="279720" cy="90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>
                <a:off x="3681360" y="5429880"/>
                <a:ext cx="279720" cy="85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>
                <a:off x="3681360" y="5769000"/>
                <a:ext cx="279720" cy="13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>
                <a:off x="3807720" y="6289920"/>
                <a:ext cx="0" cy="10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97" name=""/>
            <p:cNvSpPr/>
            <p:nvPr/>
          </p:nvSpPr>
          <p:spPr>
            <a:xfrm>
              <a:off x="874800" y="1944720"/>
              <a:ext cx="13446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279360"/>
                  <a:tab algn="l" pos="571680"/>
                  <a:tab algn="l" pos="8510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8" name=""/>
          <p:cNvSpPr/>
          <p:nvPr/>
        </p:nvSpPr>
        <p:spPr>
          <a:xfrm>
            <a:off x="5416560" y="1695600"/>
            <a:ext cx="311148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inimized func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 = A + BD + B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 = B C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 = B +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 = A'B'C'D + BCD + AD' + B'CD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ALs and PLAs: design example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0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de converter: programmed P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1" name=""/>
          <p:cNvGrpSpPr/>
          <p:nvPr/>
        </p:nvGrpSpPr>
        <p:grpSpPr>
          <a:xfrm>
            <a:off x="837720" y="2428920"/>
            <a:ext cx="4024800" cy="3516120"/>
            <a:chOff x="837720" y="2428920"/>
            <a:chExt cx="4024800" cy="3516120"/>
          </a:xfrm>
        </p:grpSpPr>
        <p:sp>
          <p:nvSpPr>
            <p:cNvPr id="2902" name=""/>
            <p:cNvSpPr/>
            <p:nvPr/>
          </p:nvSpPr>
          <p:spPr>
            <a:xfrm>
              <a:off x="4098960" y="2428920"/>
              <a:ext cx="763560" cy="35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7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7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7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7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C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7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7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7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'B'C'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7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C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7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D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7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CD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03" name=""/>
            <p:cNvGrpSpPr/>
            <p:nvPr/>
          </p:nvGrpSpPr>
          <p:grpSpPr>
            <a:xfrm>
              <a:off x="837720" y="2590920"/>
              <a:ext cx="1066680" cy="3200400"/>
              <a:chOff x="837720" y="2590920"/>
              <a:chExt cx="1066680" cy="3200400"/>
            </a:xfrm>
          </p:grpSpPr>
          <p:grpSp>
            <p:nvGrpSpPr>
              <p:cNvPr id="2904" name=""/>
              <p:cNvGrpSpPr/>
              <p:nvPr/>
            </p:nvGrpSpPr>
            <p:grpSpPr>
              <a:xfrm>
                <a:off x="837720" y="2590920"/>
                <a:ext cx="114120" cy="88920"/>
                <a:chOff x="837720" y="2590920"/>
                <a:chExt cx="114120" cy="88920"/>
              </a:xfrm>
            </p:grpSpPr>
            <p:sp>
              <p:nvSpPr>
                <p:cNvPr id="2905" name=""/>
                <p:cNvSpPr/>
                <p:nvPr/>
              </p:nvSpPr>
              <p:spPr>
                <a:xfrm>
                  <a:off x="850680" y="25909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6" name=""/>
                <p:cNvSpPr/>
                <p:nvPr/>
              </p:nvSpPr>
              <p:spPr>
                <a:xfrm flipH="1">
                  <a:off x="837720" y="25909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7" name=""/>
              <p:cNvGrpSpPr/>
              <p:nvPr/>
            </p:nvGrpSpPr>
            <p:grpSpPr>
              <a:xfrm>
                <a:off x="1104480" y="2959200"/>
                <a:ext cx="114120" cy="88920"/>
                <a:chOff x="1104480" y="2959200"/>
                <a:chExt cx="114120" cy="88920"/>
              </a:xfrm>
            </p:grpSpPr>
            <p:sp>
              <p:nvSpPr>
                <p:cNvPr id="2908" name=""/>
                <p:cNvSpPr/>
                <p:nvPr/>
              </p:nvSpPr>
              <p:spPr>
                <a:xfrm>
                  <a:off x="1117440" y="29592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9" name=""/>
                <p:cNvSpPr/>
                <p:nvPr/>
              </p:nvSpPr>
              <p:spPr>
                <a:xfrm flipH="1">
                  <a:off x="1104480" y="29592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0" name=""/>
              <p:cNvGrpSpPr/>
              <p:nvPr/>
            </p:nvGrpSpPr>
            <p:grpSpPr>
              <a:xfrm>
                <a:off x="1676160" y="2971800"/>
                <a:ext cx="114120" cy="88920"/>
                <a:chOff x="1676160" y="2971800"/>
                <a:chExt cx="114120" cy="88920"/>
              </a:xfrm>
            </p:grpSpPr>
            <p:sp>
              <p:nvSpPr>
                <p:cNvPr id="2911" name=""/>
                <p:cNvSpPr/>
                <p:nvPr/>
              </p:nvSpPr>
              <p:spPr>
                <a:xfrm>
                  <a:off x="1689120" y="2971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2" name=""/>
                <p:cNvSpPr/>
                <p:nvPr/>
              </p:nvSpPr>
              <p:spPr>
                <a:xfrm flipH="1">
                  <a:off x="1676160" y="29718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3" name=""/>
              <p:cNvGrpSpPr/>
              <p:nvPr/>
            </p:nvGrpSpPr>
            <p:grpSpPr>
              <a:xfrm>
                <a:off x="1104480" y="3276720"/>
                <a:ext cx="114120" cy="88920"/>
                <a:chOff x="1104480" y="3276720"/>
                <a:chExt cx="114120" cy="88920"/>
              </a:xfrm>
            </p:grpSpPr>
            <p:sp>
              <p:nvSpPr>
                <p:cNvPr id="2914" name=""/>
                <p:cNvSpPr/>
                <p:nvPr/>
              </p:nvSpPr>
              <p:spPr>
                <a:xfrm>
                  <a:off x="1117440" y="32767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5" name=""/>
                <p:cNvSpPr/>
                <p:nvPr/>
              </p:nvSpPr>
              <p:spPr>
                <a:xfrm flipH="1">
                  <a:off x="1104480" y="32767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6" name=""/>
              <p:cNvGrpSpPr/>
              <p:nvPr/>
            </p:nvGrpSpPr>
            <p:grpSpPr>
              <a:xfrm>
                <a:off x="1371240" y="3276720"/>
                <a:ext cx="114120" cy="88920"/>
                <a:chOff x="1371240" y="3276720"/>
                <a:chExt cx="114120" cy="88920"/>
              </a:xfrm>
            </p:grpSpPr>
            <p:sp>
              <p:nvSpPr>
                <p:cNvPr id="2917" name=""/>
                <p:cNvSpPr/>
                <p:nvPr/>
              </p:nvSpPr>
              <p:spPr>
                <a:xfrm>
                  <a:off x="1384200" y="32767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8" name=""/>
                <p:cNvSpPr/>
                <p:nvPr/>
              </p:nvSpPr>
              <p:spPr>
                <a:xfrm flipH="1">
                  <a:off x="1371240" y="32767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9" name=""/>
              <p:cNvGrpSpPr/>
              <p:nvPr/>
            </p:nvGrpSpPr>
            <p:grpSpPr>
              <a:xfrm>
                <a:off x="1104480" y="3657600"/>
                <a:ext cx="114120" cy="88920"/>
                <a:chOff x="1104480" y="3657600"/>
                <a:chExt cx="114120" cy="88920"/>
              </a:xfrm>
            </p:grpSpPr>
            <p:sp>
              <p:nvSpPr>
                <p:cNvPr id="2920" name=""/>
                <p:cNvSpPr/>
                <p:nvPr/>
              </p:nvSpPr>
              <p:spPr>
                <a:xfrm>
                  <a:off x="1117440" y="36576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1" name=""/>
                <p:cNvSpPr/>
                <p:nvPr/>
              </p:nvSpPr>
              <p:spPr>
                <a:xfrm flipH="1">
                  <a:off x="1104480" y="36576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2" name=""/>
              <p:cNvGrpSpPr/>
              <p:nvPr/>
            </p:nvGrpSpPr>
            <p:grpSpPr>
              <a:xfrm>
                <a:off x="1523520" y="3657600"/>
                <a:ext cx="114120" cy="88920"/>
                <a:chOff x="1523520" y="3657600"/>
                <a:chExt cx="114120" cy="88920"/>
              </a:xfrm>
            </p:grpSpPr>
            <p:sp>
              <p:nvSpPr>
                <p:cNvPr id="2923" name=""/>
                <p:cNvSpPr/>
                <p:nvPr/>
              </p:nvSpPr>
              <p:spPr>
                <a:xfrm>
                  <a:off x="1536480" y="36576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4" name=""/>
                <p:cNvSpPr/>
                <p:nvPr/>
              </p:nvSpPr>
              <p:spPr>
                <a:xfrm flipH="1">
                  <a:off x="1523520" y="36576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5" name=""/>
              <p:cNvGrpSpPr/>
              <p:nvPr/>
            </p:nvGrpSpPr>
            <p:grpSpPr>
              <a:xfrm>
                <a:off x="1104480" y="3962520"/>
                <a:ext cx="114120" cy="88920"/>
                <a:chOff x="1104480" y="3962520"/>
                <a:chExt cx="114120" cy="88920"/>
              </a:xfrm>
            </p:grpSpPr>
            <p:sp>
              <p:nvSpPr>
                <p:cNvPr id="2926" name=""/>
                <p:cNvSpPr/>
                <p:nvPr/>
              </p:nvSpPr>
              <p:spPr>
                <a:xfrm>
                  <a:off x="1117440" y="39625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7" name=""/>
                <p:cNvSpPr/>
                <p:nvPr/>
              </p:nvSpPr>
              <p:spPr>
                <a:xfrm flipH="1">
                  <a:off x="1104480" y="39625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8" name=""/>
              <p:cNvGrpSpPr/>
              <p:nvPr/>
            </p:nvGrpSpPr>
            <p:grpSpPr>
              <a:xfrm>
                <a:off x="1409400" y="4330800"/>
                <a:ext cx="114120" cy="88920"/>
                <a:chOff x="1409400" y="4330800"/>
                <a:chExt cx="114120" cy="88920"/>
              </a:xfrm>
            </p:grpSpPr>
            <p:sp>
              <p:nvSpPr>
                <p:cNvPr id="2929" name=""/>
                <p:cNvSpPr/>
                <p:nvPr/>
              </p:nvSpPr>
              <p:spPr>
                <a:xfrm>
                  <a:off x="1422360" y="4330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0" name=""/>
                <p:cNvSpPr/>
                <p:nvPr/>
              </p:nvSpPr>
              <p:spPr>
                <a:xfrm flipH="1">
                  <a:off x="1409400" y="43308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1" name=""/>
              <p:cNvGrpSpPr/>
              <p:nvPr/>
            </p:nvGrpSpPr>
            <p:grpSpPr>
              <a:xfrm>
                <a:off x="952200" y="4648320"/>
                <a:ext cx="114120" cy="88920"/>
                <a:chOff x="952200" y="4648320"/>
                <a:chExt cx="114120" cy="88920"/>
              </a:xfrm>
            </p:grpSpPr>
            <p:sp>
              <p:nvSpPr>
                <p:cNvPr id="2932" name=""/>
                <p:cNvSpPr/>
                <p:nvPr/>
              </p:nvSpPr>
              <p:spPr>
                <a:xfrm>
                  <a:off x="965160" y="46483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3" name=""/>
                <p:cNvSpPr/>
                <p:nvPr/>
              </p:nvSpPr>
              <p:spPr>
                <a:xfrm flipH="1">
                  <a:off x="952200" y="46483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4" name=""/>
              <p:cNvGrpSpPr/>
              <p:nvPr/>
            </p:nvGrpSpPr>
            <p:grpSpPr>
              <a:xfrm>
                <a:off x="1218960" y="4648320"/>
                <a:ext cx="114120" cy="88920"/>
                <a:chOff x="1218960" y="4648320"/>
                <a:chExt cx="114120" cy="88920"/>
              </a:xfrm>
            </p:grpSpPr>
            <p:sp>
              <p:nvSpPr>
                <p:cNvPr id="2935" name=""/>
                <p:cNvSpPr/>
                <p:nvPr/>
              </p:nvSpPr>
              <p:spPr>
                <a:xfrm>
                  <a:off x="1231920" y="46483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6" name=""/>
                <p:cNvSpPr/>
                <p:nvPr/>
              </p:nvSpPr>
              <p:spPr>
                <a:xfrm flipH="1">
                  <a:off x="1218960" y="46483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7" name=""/>
              <p:cNvGrpSpPr/>
              <p:nvPr/>
            </p:nvGrpSpPr>
            <p:grpSpPr>
              <a:xfrm>
                <a:off x="1523520" y="4648320"/>
                <a:ext cx="114120" cy="88920"/>
                <a:chOff x="1523520" y="4648320"/>
                <a:chExt cx="114120" cy="88920"/>
              </a:xfrm>
            </p:grpSpPr>
            <p:sp>
              <p:nvSpPr>
                <p:cNvPr id="2938" name=""/>
                <p:cNvSpPr/>
                <p:nvPr/>
              </p:nvSpPr>
              <p:spPr>
                <a:xfrm>
                  <a:off x="1536480" y="46483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9" name=""/>
                <p:cNvSpPr/>
                <p:nvPr/>
              </p:nvSpPr>
              <p:spPr>
                <a:xfrm flipH="1">
                  <a:off x="1523520" y="46483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0" name=""/>
              <p:cNvGrpSpPr/>
              <p:nvPr/>
            </p:nvGrpSpPr>
            <p:grpSpPr>
              <a:xfrm>
                <a:off x="1676160" y="4648320"/>
                <a:ext cx="114120" cy="88920"/>
                <a:chOff x="1676160" y="4648320"/>
                <a:chExt cx="114120" cy="88920"/>
              </a:xfrm>
            </p:grpSpPr>
            <p:sp>
              <p:nvSpPr>
                <p:cNvPr id="2941" name=""/>
                <p:cNvSpPr/>
                <p:nvPr/>
              </p:nvSpPr>
              <p:spPr>
                <a:xfrm>
                  <a:off x="1689120" y="46483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2" name=""/>
                <p:cNvSpPr/>
                <p:nvPr/>
              </p:nvSpPr>
              <p:spPr>
                <a:xfrm flipH="1">
                  <a:off x="1676160" y="46483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3" name=""/>
              <p:cNvGrpSpPr/>
              <p:nvPr/>
            </p:nvGrpSpPr>
            <p:grpSpPr>
              <a:xfrm>
                <a:off x="1104480" y="5016600"/>
                <a:ext cx="114120" cy="88920"/>
                <a:chOff x="1104480" y="5016600"/>
                <a:chExt cx="114120" cy="88920"/>
              </a:xfrm>
            </p:grpSpPr>
            <p:sp>
              <p:nvSpPr>
                <p:cNvPr id="2944" name=""/>
                <p:cNvSpPr/>
                <p:nvPr/>
              </p:nvSpPr>
              <p:spPr>
                <a:xfrm>
                  <a:off x="1117440" y="50166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5" name=""/>
                <p:cNvSpPr/>
                <p:nvPr/>
              </p:nvSpPr>
              <p:spPr>
                <a:xfrm flipH="1">
                  <a:off x="1104480" y="50166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6" name=""/>
              <p:cNvGrpSpPr/>
              <p:nvPr/>
            </p:nvGrpSpPr>
            <p:grpSpPr>
              <a:xfrm>
                <a:off x="1371240" y="5029200"/>
                <a:ext cx="114120" cy="88920"/>
                <a:chOff x="1371240" y="5029200"/>
                <a:chExt cx="114120" cy="88920"/>
              </a:xfrm>
            </p:grpSpPr>
            <p:sp>
              <p:nvSpPr>
                <p:cNvPr id="2947" name=""/>
                <p:cNvSpPr/>
                <p:nvPr/>
              </p:nvSpPr>
              <p:spPr>
                <a:xfrm>
                  <a:off x="1384200" y="50292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8" name=""/>
                <p:cNvSpPr/>
                <p:nvPr/>
              </p:nvSpPr>
              <p:spPr>
                <a:xfrm flipH="1">
                  <a:off x="1371240" y="50292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9" name=""/>
              <p:cNvGrpSpPr/>
              <p:nvPr/>
            </p:nvGrpSpPr>
            <p:grpSpPr>
              <a:xfrm>
                <a:off x="1676160" y="5016600"/>
                <a:ext cx="114120" cy="88920"/>
                <a:chOff x="1676160" y="5016600"/>
                <a:chExt cx="114120" cy="88920"/>
              </a:xfrm>
            </p:grpSpPr>
            <p:sp>
              <p:nvSpPr>
                <p:cNvPr id="2950" name=""/>
                <p:cNvSpPr/>
                <p:nvPr/>
              </p:nvSpPr>
              <p:spPr>
                <a:xfrm>
                  <a:off x="1689120" y="50166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1" name=""/>
                <p:cNvSpPr/>
                <p:nvPr/>
              </p:nvSpPr>
              <p:spPr>
                <a:xfrm flipH="1">
                  <a:off x="1676160" y="50166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2" name=""/>
              <p:cNvGrpSpPr/>
              <p:nvPr/>
            </p:nvGrpSpPr>
            <p:grpSpPr>
              <a:xfrm>
                <a:off x="837720" y="5334120"/>
                <a:ext cx="114120" cy="88920"/>
                <a:chOff x="837720" y="5334120"/>
                <a:chExt cx="114120" cy="88920"/>
              </a:xfrm>
            </p:grpSpPr>
            <p:sp>
              <p:nvSpPr>
                <p:cNvPr id="2953" name=""/>
                <p:cNvSpPr/>
                <p:nvPr/>
              </p:nvSpPr>
              <p:spPr>
                <a:xfrm>
                  <a:off x="850680" y="53341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4" name=""/>
                <p:cNvSpPr/>
                <p:nvPr/>
              </p:nvSpPr>
              <p:spPr>
                <a:xfrm flipH="1">
                  <a:off x="837720" y="53341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5" name=""/>
              <p:cNvGrpSpPr/>
              <p:nvPr/>
            </p:nvGrpSpPr>
            <p:grpSpPr>
              <a:xfrm>
                <a:off x="1790280" y="5334120"/>
                <a:ext cx="114120" cy="88920"/>
                <a:chOff x="1790280" y="5334120"/>
                <a:chExt cx="114120" cy="88920"/>
              </a:xfrm>
            </p:grpSpPr>
            <p:sp>
              <p:nvSpPr>
                <p:cNvPr id="2956" name=""/>
                <p:cNvSpPr/>
                <p:nvPr/>
              </p:nvSpPr>
              <p:spPr>
                <a:xfrm>
                  <a:off x="1803240" y="53341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7" name=""/>
                <p:cNvSpPr/>
                <p:nvPr/>
              </p:nvSpPr>
              <p:spPr>
                <a:xfrm flipH="1">
                  <a:off x="1790280" y="53341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8" name=""/>
              <p:cNvGrpSpPr/>
              <p:nvPr/>
            </p:nvGrpSpPr>
            <p:grpSpPr>
              <a:xfrm>
                <a:off x="1104480" y="5702400"/>
                <a:ext cx="114120" cy="88920"/>
                <a:chOff x="1104480" y="5702400"/>
                <a:chExt cx="114120" cy="88920"/>
              </a:xfrm>
            </p:grpSpPr>
            <p:sp>
              <p:nvSpPr>
                <p:cNvPr id="2959" name=""/>
                <p:cNvSpPr/>
                <p:nvPr/>
              </p:nvSpPr>
              <p:spPr>
                <a:xfrm>
                  <a:off x="1117440" y="57024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0" name=""/>
                <p:cNvSpPr/>
                <p:nvPr/>
              </p:nvSpPr>
              <p:spPr>
                <a:xfrm flipH="1">
                  <a:off x="1104480" y="57024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1" name=""/>
              <p:cNvGrpSpPr/>
              <p:nvPr/>
            </p:nvGrpSpPr>
            <p:grpSpPr>
              <a:xfrm>
                <a:off x="1371240" y="5702400"/>
                <a:ext cx="114120" cy="88920"/>
                <a:chOff x="1371240" y="5702400"/>
                <a:chExt cx="114120" cy="88920"/>
              </a:xfrm>
            </p:grpSpPr>
            <p:sp>
              <p:nvSpPr>
                <p:cNvPr id="2962" name=""/>
                <p:cNvSpPr/>
                <p:nvPr/>
              </p:nvSpPr>
              <p:spPr>
                <a:xfrm>
                  <a:off x="1384200" y="57024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3" name=""/>
                <p:cNvSpPr/>
                <p:nvPr/>
              </p:nvSpPr>
              <p:spPr>
                <a:xfrm flipH="1">
                  <a:off x="1371240" y="57024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4" name=""/>
              <p:cNvGrpSpPr/>
              <p:nvPr/>
            </p:nvGrpSpPr>
            <p:grpSpPr>
              <a:xfrm>
                <a:off x="1790280" y="5702400"/>
                <a:ext cx="114120" cy="88920"/>
                <a:chOff x="1790280" y="5702400"/>
                <a:chExt cx="114120" cy="88920"/>
              </a:xfrm>
            </p:grpSpPr>
            <p:sp>
              <p:nvSpPr>
                <p:cNvPr id="2965" name=""/>
                <p:cNvSpPr/>
                <p:nvPr/>
              </p:nvSpPr>
              <p:spPr>
                <a:xfrm>
                  <a:off x="1803240" y="57024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6" name=""/>
                <p:cNvSpPr/>
                <p:nvPr/>
              </p:nvSpPr>
              <p:spPr>
                <a:xfrm flipH="1">
                  <a:off x="1790280" y="57024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967" name=""/>
          <p:cNvGrpSpPr/>
          <p:nvPr/>
        </p:nvGrpSpPr>
        <p:grpSpPr>
          <a:xfrm>
            <a:off x="2704680" y="2590920"/>
            <a:ext cx="1344960" cy="4117680"/>
            <a:chOff x="2704680" y="2590920"/>
            <a:chExt cx="1344960" cy="4117680"/>
          </a:xfrm>
        </p:grpSpPr>
        <p:sp>
          <p:nvSpPr>
            <p:cNvPr id="2968" name=""/>
            <p:cNvSpPr/>
            <p:nvPr/>
          </p:nvSpPr>
          <p:spPr>
            <a:xfrm>
              <a:off x="2705040" y="6321600"/>
              <a:ext cx="1344600" cy="38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69" name=""/>
            <p:cNvGrpSpPr/>
            <p:nvPr/>
          </p:nvGrpSpPr>
          <p:grpSpPr>
            <a:xfrm>
              <a:off x="2704680" y="2590920"/>
              <a:ext cx="1143000" cy="3213000"/>
              <a:chOff x="2704680" y="2590920"/>
              <a:chExt cx="1143000" cy="3213000"/>
            </a:xfrm>
          </p:grpSpPr>
          <p:grpSp>
            <p:nvGrpSpPr>
              <p:cNvPr id="2970" name=""/>
              <p:cNvGrpSpPr/>
              <p:nvPr/>
            </p:nvGrpSpPr>
            <p:grpSpPr>
              <a:xfrm>
                <a:off x="2704680" y="2590920"/>
                <a:ext cx="114120" cy="88920"/>
                <a:chOff x="2704680" y="2590920"/>
                <a:chExt cx="114120" cy="88920"/>
              </a:xfrm>
            </p:grpSpPr>
            <p:sp>
              <p:nvSpPr>
                <p:cNvPr id="2971" name=""/>
                <p:cNvSpPr/>
                <p:nvPr/>
              </p:nvSpPr>
              <p:spPr>
                <a:xfrm>
                  <a:off x="2717640" y="25909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2" name=""/>
                <p:cNvSpPr/>
                <p:nvPr/>
              </p:nvSpPr>
              <p:spPr>
                <a:xfrm flipH="1">
                  <a:off x="2704680" y="25909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3" name=""/>
              <p:cNvGrpSpPr/>
              <p:nvPr/>
            </p:nvGrpSpPr>
            <p:grpSpPr>
              <a:xfrm>
                <a:off x="2704680" y="2959200"/>
                <a:ext cx="114120" cy="88920"/>
                <a:chOff x="2704680" y="2959200"/>
                <a:chExt cx="114120" cy="88920"/>
              </a:xfrm>
            </p:grpSpPr>
            <p:sp>
              <p:nvSpPr>
                <p:cNvPr id="2974" name=""/>
                <p:cNvSpPr/>
                <p:nvPr/>
              </p:nvSpPr>
              <p:spPr>
                <a:xfrm>
                  <a:off x="2717640" y="29592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5" name=""/>
                <p:cNvSpPr/>
                <p:nvPr/>
              </p:nvSpPr>
              <p:spPr>
                <a:xfrm flipH="1">
                  <a:off x="2704680" y="29592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6" name=""/>
              <p:cNvGrpSpPr/>
              <p:nvPr/>
            </p:nvGrpSpPr>
            <p:grpSpPr>
              <a:xfrm>
                <a:off x="2704680" y="3276720"/>
                <a:ext cx="114120" cy="88920"/>
                <a:chOff x="2704680" y="3276720"/>
                <a:chExt cx="114120" cy="88920"/>
              </a:xfrm>
            </p:grpSpPr>
            <p:sp>
              <p:nvSpPr>
                <p:cNvPr id="2977" name=""/>
                <p:cNvSpPr/>
                <p:nvPr/>
              </p:nvSpPr>
              <p:spPr>
                <a:xfrm>
                  <a:off x="2717640" y="32767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8" name=""/>
                <p:cNvSpPr/>
                <p:nvPr/>
              </p:nvSpPr>
              <p:spPr>
                <a:xfrm flipH="1">
                  <a:off x="2704680" y="32767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9" name=""/>
              <p:cNvGrpSpPr/>
              <p:nvPr/>
            </p:nvGrpSpPr>
            <p:grpSpPr>
              <a:xfrm>
                <a:off x="3047760" y="3657600"/>
                <a:ext cx="114120" cy="88920"/>
                <a:chOff x="3047760" y="3657600"/>
                <a:chExt cx="114120" cy="88920"/>
              </a:xfrm>
            </p:grpSpPr>
            <p:sp>
              <p:nvSpPr>
                <p:cNvPr id="2980" name=""/>
                <p:cNvSpPr/>
                <p:nvPr/>
              </p:nvSpPr>
              <p:spPr>
                <a:xfrm>
                  <a:off x="3060720" y="36576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1" name=""/>
                <p:cNvSpPr/>
                <p:nvPr/>
              </p:nvSpPr>
              <p:spPr>
                <a:xfrm flipH="1">
                  <a:off x="3047760" y="36576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2" name=""/>
              <p:cNvGrpSpPr/>
              <p:nvPr/>
            </p:nvGrpSpPr>
            <p:grpSpPr>
              <a:xfrm>
                <a:off x="3390480" y="3962520"/>
                <a:ext cx="114120" cy="88920"/>
                <a:chOff x="3390480" y="3962520"/>
                <a:chExt cx="114120" cy="88920"/>
              </a:xfrm>
            </p:grpSpPr>
            <p:sp>
              <p:nvSpPr>
                <p:cNvPr id="2983" name=""/>
                <p:cNvSpPr/>
                <p:nvPr/>
              </p:nvSpPr>
              <p:spPr>
                <a:xfrm>
                  <a:off x="3403440" y="39625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4" name=""/>
                <p:cNvSpPr/>
                <p:nvPr/>
              </p:nvSpPr>
              <p:spPr>
                <a:xfrm flipH="1">
                  <a:off x="3390480" y="39625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5" name=""/>
              <p:cNvGrpSpPr/>
              <p:nvPr/>
            </p:nvGrpSpPr>
            <p:grpSpPr>
              <a:xfrm>
                <a:off x="3390480" y="4343400"/>
                <a:ext cx="114120" cy="88920"/>
                <a:chOff x="3390480" y="4343400"/>
                <a:chExt cx="114120" cy="88920"/>
              </a:xfrm>
            </p:grpSpPr>
            <p:sp>
              <p:nvSpPr>
                <p:cNvPr id="2986" name=""/>
                <p:cNvSpPr/>
                <p:nvPr/>
              </p:nvSpPr>
              <p:spPr>
                <a:xfrm>
                  <a:off x="3403440" y="43434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7" name=""/>
                <p:cNvSpPr/>
                <p:nvPr/>
              </p:nvSpPr>
              <p:spPr>
                <a:xfrm flipH="1">
                  <a:off x="3390480" y="43434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8" name=""/>
              <p:cNvGrpSpPr/>
              <p:nvPr/>
            </p:nvGrpSpPr>
            <p:grpSpPr>
              <a:xfrm>
                <a:off x="3733560" y="4648320"/>
                <a:ext cx="114120" cy="88920"/>
                <a:chOff x="3733560" y="4648320"/>
                <a:chExt cx="114120" cy="88920"/>
              </a:xfrm>
            </p:grpSpPr>
            <p:sp>
              <p:nvSpPr>
                <p:cNvPr id="2989" name=""/>
                <p:cNvSpPr/>
                <p:nvPr/>
              </p:nvSpPr>
              <p:spPr>
                <a:xfrm>
                  <a:off x="3746520" y="46483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0" name=""/>
                <p:cNvSpPr/>
                <p:nvPr/>
              </p:nvSpPr>
              <p:spPr>
                <a:xfrm flipH="1">
                  <a:off x="3733560" y="46483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1" name=""/>
              <p:cNvGrpSpPr/>
              <p:nvPr/>
            </p:nvGrpSpPr>
            <p:grpSpPr>
              <a:xfrm>
                <a:off x="3733560" y="5029200"/>
                <a:ext cx="114120" cy="88920"/>
                <a:chOff x="3733560" y="5029200"/>
                <a:chExt cx="114120" cy="88920"/>
              </a:xfrm>
            </p:grpSpPr>
            <p:sp>
              <p:nvSpPr>
                <p:cNvPr id="2992" name=""/>
                <p:cNvSpPr/>
                <p:nvPr/>
              </p:nvSpPr>
              <p:spPr>
                <a:xfrm>
                  <a:off x="3746520" y="50292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3" name=""/>
                <p:cNvSpPr/>
                <p:nvPr/>
              </p:nvSpPr>
              <p:spPr>
                <a:xfrm flipH="1">
                  <a:off x="3733560" y="50292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4" name=""/>
              <p:cNvGrpSpPr/>
              <p:nvPr/>
            </p:nvGrpSpPr>
            <p:grpSpPr>
              <a:xfrm>
                <a:off x="3733560" y="5334120"/>
                <a:ext cx="114120" cy="88920"/>
                <a:chOff x="3733560" y="5334120"/>
                <a:chExt cx="114120" cy="88920"/>
              </a:xfrm>
            </p:grpSpPr>
            <p:sp>
              <p:nvSpPr>
                <p:cNvPr id="2995" name=""/>
                <p:cNvSpPr/>
                <p:nvPr/>
              </p:nvSpPr>
              <p:spPr>
                <a:xfrm>
                  <a:off x="3746520" y="53341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6" name=""/>
                <p:cNvSpPr/>
                <p:nvPr/>
              </p:nvSpPr>
              <p:spPr>
                <a:xfrm flipH="1">
                  <a:off x="3733560" y="53341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7" name=""/>
              <p:cNvGrpSpPr/>
              <p:nvPr/>
            </p:nvGrpSpPr>
            <p:grpSpPr>
              <a:xfrm>
                <a:off x="3733560" y="5715000"/>
                <a:ext cx="114120" cy="88920"/>
                <a:chOff x="3733560" y="5715000"/>
                <a:chExt cx="114120" cy="88920"/>
              </a:xfrm>
            </p:grpSpPr>
            <p:sp>
              <p:nvSpPr>
                <p:cNvPr id="2998" name=""/>
                <p:cNvSpPr/>
                <p:nvPr/>
              </p:nvSpPr>
              <p:spPr>
                <a:xfrm>
                  <a:off x="3746520" y="57150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9" name=""/>
                <p:cNvSpPr/>
                <p:nvPr/>
              </p:nvSpPr>
              <p:spPr>
                <a:xfrm flipH="1">
                  <a:off x="3733560" y="57150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CE39-3608-480B-B199-E146D376B96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andom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o hard to figure out exactly what gates to 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p from logic to NAND/NOR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minimum number of pack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ight changes to logic function could decrease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to difficult to realiz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o rewire p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need new p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with spares (few extra inverters and gates on every boa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CBEB-5B55-43C9-BB15-254E6140D0F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0" name=""/>
          <p:cNvSpPr/>
          <p:nvPr/>
        </p:nvSpPr>
        <p:spPr>
          <a:xfrm>
            <a:off x="3225960" y="3575160"/>
            <a:ext cx="203184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4 product term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 each OR g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1" name=""/>
          <p:cNvGrpSpPr/>
          <p:nvPr/>
        </p:nvGrpSpPr>
        <p:grpSpPr>
          <a:xfrm>
            <a:off x="5634000" y="1584360"/>
            <a:ext cx="3560400" cy="5263920"/>
            <a:chOff x="5634000" y="1584360"/>
            <a:chExt cx="3560400" cy="5263920"/>
          </a:xfrm>
        </p:grpSpPr>
        <p:sp>
          <p:nvSpPr>
            <p:cNvPr id="3002" name=""/>
            <p:cNvSpPr/>
            <p:nvPr/>
          </p:nvSpPr>
          <p:spPr>
            <a:xfrm>
              <a:off x="8422560" y="1786320"/>
              <a:ext cx="771840" cy="443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C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'B'C'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C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D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'CD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5634000" y="5101920"/>
              <a:ext cx="3137760" cy="1054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6583680" y="1816920"/>
              <a:ext cx="0" cy="424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6485760" y="1767960"/>
              <a:ext cx="0" cy="432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6252480" y="1743480"/>
              <a:ext cx="0" cy="435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6117840" y="1792800"/>
              <a:ext cx="0" cy="426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5799240" y="1767960"/>
              <a:ext cx="0" cy="432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5897160" y="1792800"/>
              <a:ext cx="0" cy="426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6810840" y="295056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6810840" y="318384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2" name=""/>
            <p:cNvSpPr/>
            <p:nvPr/>
          </p:nvSpPr>
          <p:spPr>
            <a:xfrm flipV="1">
              <a:off x="6804360" y="2944800"/>
              <a:ext cx="0" cy="24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6921720" y="2958120"/>
              <a:ext cx="218880" cy="23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6921360" y="2945160"/>
              <a:ext cx="219240" cy="24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5682960" y="307332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7141320" y="3073320"/>
              <a:ext cx="12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17" name=""/>
            <p:cNvGrpSpPr/>
            <p:nvPr/>
          </p:nvGrpSpPr>
          <p:grpSpPr>
            <a:xfrm>
              <a:off x="6295680" y="3042720"/>
              <a:ext cx="97920" cy="48960"/>
              <a:chOff x="6295680" y="3042720"/>
              <a:chExt cx="97920" cy="48960"/>
            </a:xfrm>
          </p:grpSpPr>
          <p:sp>
            <p:nvSpPr>
              <p:cNvPr id="3018" name=""/>
              <p:cNvSpPr/>
              <p:nvPr/>
            </p:nvSpPr>
            <p:spPr>
              <a:xfrm>
                <a:off x="6307560" y="3042720"/>
                <a:ext cx="7344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 flipH="1">
                <a:off x="6295680" y="3042720"/>
                <a:ext cx="9792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20" name=""/>
            <p:cNvGrpSpPr/>
            <p:nvPr/>
          </p:nvGrpSpPr>
          <p:grpSpPr>
            <a:xfrm>
              <a:off x="5964480" y="3042720"/>
              <a:ext cx="110160" cy="48960"/>
              <a:chOff x="5964480" y="3042720"/>
              <a:chExt cx="110160" cy="48960"/>
            </a:xfrm>
          </p:grpSpPr>
          <p:sp>
            <p:nvSpPr>
              <p:cNvPr id="3021" name=""/>
              <p:cNvSpPr/>
              <p:nvPr/>
            </p:nvSpPr>
            <p:spPr>
              <a:xfrm>
                <a:off x="5976720" y="3042720"/>
                <a:ext cx="8532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 flipH="1">
                <a:off x="5964480" y="3042720"/>
                <a:ext cx="11016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23" name=""/>
            <p:cNvSpPr/>
            <p:nvPr/>
          </p:nvSpPr>
          <p:spPr>
            <a:xfrm flipH="1">
              <a:off x="6528600" y="1682280"/>
              <a:ext cx="97920" cy="12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6430680" y="1682280"/>
              <a:ext cx="97920" cy="12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5" name=""/>
            <p:cNvSpPr/>
            <p:nvPr/>
          </p:nvSpPr>
          <p:spPr>
            <a:xfrm flipH="1">
              <a:off x="6418440" y="1676160"/>
              <a:ext cx="20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6565320" y="1767960"/>
              <a:ext cx="36720" cy="36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6534720" y="1584360"/>
              <a:ext cx="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6810840" y="186012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6810840" y="209268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0" name=""/>
            <p:cNvSpPr/>
            <p:nvPr/>
          </p:nvSpPr>
          <p:spPr>
            <a:xfrm flipV="1">
              <a:off x="6804360" y="1853280"/>
              <a:ext cx="0" cy="24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6921720" y="1867680"/>
              <a:ext cx="218880" cy="23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6921360" y="1866600"/>
              <a:ext cx="219240" cy="219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5682960" y="198216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7141320" y="1982160"/>
              <a:ext cx="122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5" name=""/>
            <p:cNvSpPr/>
            <p:nvPr/>
          </p:nvSpPr>
          <p:spPr>
            <a:xfrm>
              <a:off x="6810840" y="214164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6810840" y="236232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7" name=""/>
            <p:cNvSpPr/>
            <p:nvPr/>
          </p:nvSpPr>
          <p:spPr>
            <a:xfrm flipV="1">
              <a:off x="6804360" y="2135160"/>
              <a:ext cx="0" cy="23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6921720" y="2149560"/>
              <a:ext cx="218880" cy="23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6921360" y="2136240"/>
              <a:ext cx="219240" cy="219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5682960" y="225216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7141320" y="2252160"/>
              <a:ext cx="124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2" name=""/>
            <p:cNvSpPr/>
            <p:nvPr/>
          </p:nvSpPr>
          <p:spPr>
            <a:xfrm>
              <a:off x="6810840" y="241128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6810840" y="263196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4" name=""/>
            <p:cNvSpPr/>
            <p:nvPr/>
          </p:nvSpPr>
          <p:spPr>
            <a:xfrm flipV="1">
              <a:off x="6804360" y="2405520"/>
              <a:ext cx="0" cy="23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5" name=""/>
            <p:cNvSpPr/>
            <p:nvPr/>
          </p:nvSpPr>
          <p:spPr>
            <a:xfrm>
              <a:off x="6921720" y="2419200"/>
              <a:ext cx="218880" cy="23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6921360" y="2405880"/>
              <a:ext cx="219240" cy="24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7" name=""/>
            <p:cNvSpPr/>
            <p:nvPr/>
          </p:nvSpPr>
          <p:spPr>
            <a:xfrm>
              <a:off x="5682960" y="252180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7141320" y="2521800"/>
              <a:ext cx="124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49" name=""/>
            <p:cNvGrpSpPr/>
            <p:nvPr/>
          </p:nvGrpSpPr>
          <p:grpSpPr>
            <a:xfrm>
              <a:off x="6430320" y="2209320"/>
              <a:ext cx="109800" cy="73440"/>
              <a:chOff x="6430320" y="2209320"/>
              <a:chExt cx="109800" cy="73440"/>
            </a:xfrm>
          </p:grpSpPr>
          <p:sp>
            <p:nvSpPr>
              <p:cNvPr id="3050" name=""/>
              <p:cNvSpPr/>
              <p:nvPr/>
            </p:nvSpPr>
            <p:spPr>
              <a:xfrm>
                <a:off x="6442560" y="220932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 flipH="1">
                <a:off x="6430320" y="2209320"/>
                <a:ext cx="10980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52" name=""/>
            <p:cNvSpPr/>
            <p:nvPr/>
          </p:nvSpPr>
          <p:spPr>
            <a:xfrm flipH="1">
              <a:off x="6295320" y="1682280"/>
              <a:ext cx="109800" cy="12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6197760" y="1682280"/>
              <a:ext cx="97920" cy="12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4" name=""/>
            <p:cNvSpPr/>
            <p:nvPr/>
          </p:nvSpPr>
          <p:spPr>
            <a:xfrm flipH="1">
              <a:off x="6185160" y="167616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6344640" y="1767960"/>
              <a:ext cx="24480" cy="36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6302160" y="1584360"/>
              <a:ext cx="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6351120" y="1792800"/>
              <a:ext cx="0" cy="428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58" name=""/>
            <p:cNvGrpSpPr/>
            <p:nvPr/>
          </p:nvGrpSpPr>
          <p:grpSpPr>
            <a:xfrm>
              <a:off x="6185160" y="2478960"/>
              <a:ext cx="110160" cy="73440"/>
              <a:chOff x="6185160" y="2478960"/>
              <a:chExt cx="110160" cy="73440"/>
            </a:xfrm>
          </p:grpSpPr>
          <p:sp>
            <p:nvSpPr>
              <p:cNvPr id="3059" name=""/>
              <p:cNvSpPr/>
              <p:nvPr/>
            </p:nvSpPr>
            <p:spPr>
              <a:xfrm>
                <a:off x="6197400" y="247896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 flipH="1">
                <a:off x="6185160" y="2478960"/>
                <a:ext cx="11016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61" name=""/>
            <p:cNvSpPr/>
            <p:nvPr/>
          </p:nvSpPr>
          <p:spPr>
            <a:xfrm flipH="1">
              <a:off x="6062400" y="1682280"/>
              <a:ext cx="109800" cy="12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5964480" y="1682280"/>
              <a:ext cx="98280" cy="12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3" name=""/>
            <p:cNvSpPr/>
            <p:nvPr/>
          </p:nvSpPr>
          <p:spPr>
            <a:xfrm flipH="1">
              <a:off x="5952600" y="167616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6112080" y="1767960"/>
              <a:ext cx="36720" cy="36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6068880" y="1584360"/>
              <a:ext cx="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6019920" y="1743480"/>
              <a:ext cx="0" cy="435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67" name=""/>
            <p:cNvGrpSpPr/>
            <p:nvPr/>
          </p:nvGrpSpPr>
          <p:grpSpPr>
            <a:xfrm>
              <a:off x="5964480" y="2209320"/>
              <a:ext cx="110160" cy="73440"/>
              <a:chOff x="5964480" y="2209320"/>
              <a:chExt cx="110160" cy="73440"/>
            </a:xfrm>
          </p:grpSpPr>
          <p:sp>
            <p:nvSpPr>
              <p:cNvPr id="3068" name=""/>
              <p:cNvSpPr/>
              <p:nvPr/>
            </p:nvSpPr>
            <p:spPr>
              <a:xfrm>
                <a:off x="5976720" y="220932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 flipH="1">
                <a:off x="5964480" y="2209320"/>
                <a:ext cx="11016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70" name=""/>
            <p:cNvGrpSpPr/>
            <p:nvPr/>
          </p:nvGrpSpPr>
          <p:grpSpPr>
            <a:xfrm>
              <a:off x="5964480" y="2478960"/>
              <a:ext cx="110160" cy="73440"/>
              <a:chOff x="5964480" y="2478960"/>
              <a:chExt cx="110160" cy="73440"/>
            </a:xfrm>
          </p:grpSpPr>
          <p:sp>
            <p:nvSpPr>
              <p:cNvPr id="3071" name=""/>
              <p:cNvSpPr/>
              <p:nvPr/>
            </p:nvSpPr>
            <p:spPr>
              <a:xfrm>
                <a:off x="5976720" y="247896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 flipH="1">
                <a:off x="5964480" y="2478960"/>
                <a:ext cx="11016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73" name=""/>
            <p:cNvSpPr/>
            <p:nvPr/>
          </p:nvSpPr>
          <p:spPr>
            <a:xfrm flipH="1">
              <a:off x="5842440" y="1682280"/>
              <a:ext cx="85680" cy="12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5743800" y="1682280"/>
              <a:ext cx="98280" cy="12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5" name=""/>
            <p:cNvSpPr/>
            <p:nvPr/>
          </p:nvSpPr>
          <p:spPr>
            <a:xfrm flipH="1">
              <a:off x="5731560" y="1676160"/>
              <a:ext cx="196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5866560" y="1767960"/>
              <a:ext cx="36720" cy="36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5848200" y="1584360"/>
              <a:ext cx="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78" name=""/>
            <p:cNvGrpSpPr/>
            <p:nvPr/>
          </p:nvGrpSpPr>
          <p:grpSpPr>
            <a:xfrm>
              <a:off x="5731920" y="1939680"/>
              <a:ext cx="97920" cy="73440"/>
              <a:chOff x="5731920" y="1939680"/>
              <a:chExt cx="97920" cy="73440"/>
            </a:xfrm>
          </p:grpSpPr>
          <p:sp>
            <p:nvSpPr>
              <p:cNvPr id="3079" name=""/>
              <p:cNvSpPr/>
              <p:nvPr/>
            </p:nvSpPr>
            <p:spPr>
              <a:xfrm>
                <a:off x="5743800" y="1939680"/>
                <a:ext cx="734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 flipH="1">
                <a:off x="5731920" y="1939680"/>
                <a:ext cx="979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1" name=""/>
            <p:cNvSpPr/>
            <p:nvPr/>
          </p:nvSpPr>
          <p:spPr>
            <a:xfrm>
              <a:off x="6810840" y="404172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6810840" y="426204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3" name=""/>
            <p:cNvSpPr/>
            <p:nvPr/>
          </p:nvSpPr>
          <p:spPr>
            <a:xfrm flipV="1">
              <a:off x="6804360" y="4034880"/>
              <a:ext cx="0" cy="23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6921720" y="4049280"/>
              <a:ext cx="218880" cy="21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6921360" y="4035600"/>
              <a:ext cx="219240" cy="23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5682960" y="415188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7141320" y="4151880"/>
              <a:ext cx="12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88" name=""/>
            <p:cNvGrpSpPr/>
            <p:nvPr/>
          </p:nvGrpSpPr>
          <p:grpSpPr>
            <a:xfrm>
              <a:off x="5964480" y="4121280"/>
              <a:ext cx="110160" cy="73440"/>
              <a:chOff x="5964480" y="4121280"/>
              <a:chExt cx="110160" cy="73440"/>
            </a:xfrm>
          </p:grpSpPr>
          <p:sp>
            <p:nvSpPr>
              <p:cNvPr id="3089" name=""/>
              <p:cNvSpPr/>
              <p:nvPr/>
            </p:nvSpPr>
            <p:spPr>
              <a:xfrm>
                <a:off x="5976720" y="412128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 flipH="1">
                <a:off x="5964480" y="4121280"/>
                <a:ext cx="11016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91" name=""/>
            <p:cNvSpPr/>
            <p:nvPr/>
          </p:nvSpPr>
          <p:spPr>
            <a:xfrm>
              <a:off x="6810840" y="431100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6810840" y="453168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3" name=""/>
            <p:cNvSpPr/>
            <p:nvPr/>
          </p:nvSpPr>
          <p:spPr>
            <a:xfrm flipV="1">
              <a:off x="6804360" y="4305240"/>
              <a:ext cx="0" cy="23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6921720" y="4318920"/>
              <a:ext cx="218880" cy="23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6921360" y="4305240"/>
              <a:ext cx="219240" cy="21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5682960" y="442152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7141320" y="4421520"/>
              <a:ext cx="12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98" name=""/>
            <p:cNvGrpSpPr/>
            <p:nvPr/>
          </p:nvGrpSpPr>
          <p:grpSpPr>
            <a:xfrm>
              <a:off x="6185160" y="4378680"/>
              <a:ext cx="110160" cy="73440"/>
              <a:chOff x="6185160" y="4378680"/>
              <a:chExt cx="110160" cy="73440"/>
            </a:xfrm>
          </p:grpSpPr>
          <p:sp>
            <p:nvSpPr>
              <p:cNvPr id="3099" name=""/>
              <p:cNvSpPr/>
              <p:nvPr/>
            </p:nvSpPr>
            <p:spPr>
              <a:xfrm>
                <a:off x="6197400" y="437868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 flipH="1">
                <a:off x="6185160" y="4378680"/>
                <a:ext cx="11016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01" name=""/>
            <p:cNvSpPr/>
            <p:nvPr/>
          </p:nvSpPr>
          <p:spPr>
            <a:xfrm>
              <a:off x="6810840" y="510768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6810840" y="535320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3" name=""/>
            <p:cNvSpPr/>
            <p:nvPr/>
          </p:nvSpPr>
          <p:spPr>
            <a:xfrm flipV="1">
              <a:off x="6804360" y="5101920"/>
              <a:ext cx="0" cy="25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4" name=""/>
            <p:cNvSpPr/>
            <p:nvPr/>
          </p:nvSpPr>
          <p:spPr>
            <a:xfrm>
              <a:off x="6921720" y="5115600"/>
              <a:ext cx="218880" cy="24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6921360" y="5114160"/>
              <a:ext cx="219240" cy="23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6" name=""/>
            <p:cNvSpPr/>
            <p:nvPr/>
          </p:nvSpPr>
          <p:spPr>
            <a:xfrm>
              <a:off x="5682960" y="524268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7" name=""/>
            <p:cNvSpPr/>
            <p:nvPr/>
          </p:nvSpPr>
          <p:spPr>
            <a:xfrm>
              <a:off x="7141320" y="5242680"/>
              <a:ext cx="12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08" name=""/>
            <p:cNvGrpSpPr/>
            <p:nvPr/>
          </p:nvGrpSpPr>
          <p:grpSpPr>
            <a:xfrm>
              <a:off x="6430320" y="5199840"/>
              <a:ext cx="109800" cy="60840"/>
              <a:chOff x="6430320" y="5199840"/>
              <a:chExt cx="109800" cy="60840"/>
            </a:xfrm>
          </p:grpSpPr>
          <p:sp>
            <p:nvSpPr>
              <p:cNvPr id="3109" name=""/>
              <p:cNvSpPr/>
              <p:nvPr/>
            </p:nvSpPr>
            <p:spPr>
              <a:xfrm>
                <a:off x="6442560" y="5199840"/>
                <a:ext cx="8532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0" name=""/>
              <p:cNvSpPr/>
              <p:nvPr/>
            </p:nvSpPr>
            <p:spPr>
              <a:xfrm flipH="1">
                <a:off x="6430320" y="5199840"/>
                <a:ext cx="10980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11" name=""/>
            <p:cNvGrpSpPr/>
            <p:nvPr/>
          </p:nvGrpSpPr>
          <p:grpSpPr>
            <a:xfrm>
              <a:off x="6295680" y="5199840"/>
              <a:ext cx="97920" cy="60840"/>
              <a:chOff x="6295680" y="5199840"/>
              <a:chExt cx="97920" cy="60840"/>
            </a:xfrm>
          </p:grpSpPr>
          <p:sp>
            <p:nvSpPr>
              <p:cNvPr id="3112" name=""/>
              <p:cNvSpPr/>
              <p:nvPr/>
            </p:nvSpPr>
            <p:spPr>
              <a:xfrm>
                <a:off x="6307560" y="5199840"/>
                <a:ext cx="7344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 flipH="1">
                <a:off x="6295680" y="5199840"/>
                <a:ext cx="9792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14" name=""/>
            <p:cNvGrpSpPr/>
            <p:nvPr/>
          </p:nvGrpSpPr>
          <p:grpSpPr>
            <a:xfrm>
              <a:off x="6075000" y="5199840"/>
              <a:ext cx="85680" cy="60840"/>
              <a:chOff x="6075000" y="5199840"/>
              <a:chExt cx="85680" cy="60840"/>
            </a:xfrm>
          </p:grpSpPr>
          <p:sp>
            <p:nvSpPr>
              <p:cNvPr id="3115" name=""/>
              <p:cNvSpPr/>
              <p:nvPr/>
            </p:nvSpPr>
            <p:spPr>
              <a:xfrm>
                <a:off x="6086880" y="5199840"/>
                <a:ext cx="6120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 flipH="1">
                <a:off x="6075000" y="5199840"/>
                <a:ext cx="8568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17" name=""/>
            <p:cNvGrpSpPr/>
            <p:nvPr/>
          </p:nvGrpSpPr>
          <p:grpSpPr>
            <a:xfrm>
              <a:off x="5842440" y="5199840"/>
              <a:ext cx="85680" cy="60840"/>
              <a:chOff x="5842440" y="5199840"/>
              <a:chExt cx="85680" cy="60840"/>
            </a:xfrm>
          </p:grpSpPr>
          <p:sp>
            <p:nvSpPr>
              <p:cNvPr id="3118" name=""/>
              <p:cNvSpPr/>
              <p:nvPr/>
            </p:nvSpPr>
            <p:spPr>
              <a:xfrm>
                <a:off x="5854320" y="5199840"/>
                <a:ext cx="6084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 flipH="1">
                <a:off x="5842440" y="5199840"/>
                <a:ext cx="8568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20" name=""/>
            <p:cNvSpPr/>
            <p:nvPr/>
          </p:nvSpPr>
          <p:spPr>
            <a:xfrm>
              <a:off x="6810840" y="537732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6810840" y="561060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2" name=""/>
            <p:cNvSpPr/>
            <p:nvPr/>
          </p:nvSpPr>
          <p:spPr>
            <a:xfrm flipV="1">
              <a:off x="6804360" y="5371560"/>
              <a:ext cx="0" cy="24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6921720" y="5385240"/>
              <a:ext cx="218880" cy="23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6921360" y="5372280"/>
              <a:ext cx="219240" cy="24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5682960" y="548784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7141320" y="5487840"/>
              <a:ext cx="12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27" name=""/>
            <p:cNvGrpSpPr/>
            <p:nvPr/>
          </p:nvGrpSpPr>
          <p:grpSpPr>
            <a:xfrm>
              <a:off x="6430320" y="5469480"/>
              <a:ext cx="109800" cy="48960"/>
              <a:chOff x="6430320" y="5469480"/>
              <a:chExt cx="109800" cy="48960"/>
            </a:xfrm>
          </p:grpSpPr>
          <p:sp>
            <p:nvSpPr>
              <p:cNvPr id="3128" name=""/>
              <p:cNvSpPr/>
              <p:nvPr/>
            </p:nvSpPr>
            <p:spPr>
              <a:xfrm>
                <a:off x="6442560" y="5469480"/>
                <a:ext cx="8532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 flipH="1">
                <a:off x="6430320" y="5469480"/>
                <a:ext cx="10980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30" name=""/>
            <p:cNvGrpSpPr/>
            <p:nvPr/>
          </p:nvGrpSpPr>
          <p:grpSpPr>
            <a:xfrm>
              <a:off x="6185160" y="5469480"/>
              <a:ext cx="110160" cy="48960"/>
              <a:chOff x="6185160" y="5469480"/>
              <a:chExt cx="110160" cy="48960"/>
            </a:xfrm>
          </p:grpSpPr>
          <p:sp>
            <p:nvSpPr>
              <p:cNvPr id="3131" name=""/>
              <p:cNvSpPr/>
              <p:nvPr/>
            </p:nvSpPr>
            <p:spPr>
              <a:xfrm>
                <a:off x="6197400" y="5469480"/>
                <a:ext cx="8532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2" name=""/>
              <p:cNvSpPr/>
              <p:nvPr/>
            </p:nvSpPr>
            <p:spPr>
              <a:xfrm flipH="1">
                <a:off x="6185160" y="5469480"/>
                <a:ext cx="11016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33" name=""/>
            <p:cNvGrpSpPr/>
            <p:nvPr/>
          </p:nvGrpSpPr>
          <p:grpSpPr>
            <a:xfrm>
              <a:off x="5964480" y="5469480"/>
              <a:ext cx="110160" cy="48960"/>
              <a:chOff x="5964480" y="5469480"/>
              <a:chExt cx="110160" cy="48960"/>
            </a:xfrm>
          </p:grpSpPr>
          <p:sp>
            <p:nvSpPr>
              <p:cNvPr id="3134" name=""/>
              <p:cNvSpPr/>
              <p:nvPr/>
            </p:nvSpPr>
            <p:spPr>
              <a:xfrm>
                <a:off x="5976720" y="5469480"/>
                <a:ext cx="8532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5" name=""/>
              <p:cNvSpPr/>
              <p:nvPr/>
            </p:nvSpPr>
            <p:spPr>
              <a:xfrm flipH="1">
                <a:off x="5964480" y="5469480"/>
                <a:ext cx="11016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36" name=""/>
            <p:cNvSpPr/>
            <p:nvPr/>
          </p:nvSpPr>
          <p:spPr>
            <a:xfrm>
              <a:off x="6810840" y="564732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6810840" y="588024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8" name=""/>
            <p:cNvSpPr/>
            <p:nvPr/>
          </p:nvSpPr>
          <p:spPr>
            <a:xfrm flipV="1">
              <a:off x="6804360" y="5641200"/>
              <a:ext cx="0" cy="24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6921720" y="5654880"/>
              <a:ext cx="218880" cy="23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6921360" y="5641200"/>
              <a:ext cx="219240" cy="23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5682960" y="576972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7141320" y="5769720"/>
              <a:ext cx="12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43" name=""/>
            <p:cNvGrpSpPr/>
            <p:nvPr/>
          </p:nvGrpSpPr>
          <p:grpSpPr>
            <a:xfrm>
              <a:off x="6540840" y="5726880"/>
              <a:ext cx="85680" cy="60840"/>
              <a:chOff x="6540840" y="5726880"/>
              <a:chExt cx="85680" cy="60840"/>
            </a:xfrm>
          </p:grpSpPr>
          <p:sp>
            <p:nvSpPr>
              <p:cNvPr id="3144" name=""/>
              <p:cNvSpPr/>
              <p:nvPr/>
            </p:nvSpPr>
            <p:spPr>
              <a:xfrm>
                <a:off x="6553080" y="5726880"/>
                <a:ext cx="6084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5" name=""/>
              <p:cNvSpPr/>
              <p:nvPr/>
            </p:nvSpPr>
            <p:spPr>
              <a:xfrm flipH="1">
                <a:off x="6540840" y="5726880"/>
                <a:ext cx="8568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46" name=""/>
            <p:cNvGrpSpPr/>
            <p:nvPr/>
          </p:nvGrpSpPr>
          <p:grpSpPr>
            <a:xfrm>
              <a:off x="5731920" y="5726880"/>
              <a:ext cx="97920" cy="60840"/>
              <a:chOff x="5731920" y="5726880"/>
              <a:chExt cx="97920" cy="60840"/>
            </a:xfrm>
          </p:grpSpPr>
          <p:sp>
            <p:nvSpPr>
              <p:cNvPr id="3147" name=""/>
              <p:cNvSpPr/>
              <p:nvPr/>
            </p:nvSpPr>
            <p:spPr>
              <a:xfrm>
                <a:off x="5743800" y="5726880"/>
                <a:ext cx="7344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8" name=""/>
              <p:cNvSpPr/>
              <p:nvPr/>
            </p:nvSpPr>
            <p:spPr>
              <a:xfrm flipH="1">
                <a:off x="5731920" y="5726880"/>
                <a:ext cx="9792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49" name=""/>
            <p:cNvSpPr/>
            <p:nvPr/>
          </p:nvSpPr>
          <p:spPr>
            <a:xfrm>
              <a:off x="6810840" y="590436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6810840" y="613764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1" name=""/>
            <p:cNvSpPr/>
            <p:nvPr/>
          </p:nvSpPr>
          <p:spPr>
            <a:xfrm flipV="1">
              <a:off x="6804360" y="5898600"/>
              <a:ext cx="0" cy="24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6921720" y="5912280"/>
              <a:ext cx="218880" cy="24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6921360" y="5910840"/>
              <a:ext cx="219240" cy="23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5682960" y="601488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7141320" y="6014880"/>
              <a:ext cx="12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56" name=""/>
            <p:cNvGrpSpPr/>
            <p:nvPr/>
          </p:nvGrpSpPr>
          <p:grpSpPr>
            <a:xfrm>
              <a:off x="6540840" y="5996520"/>
              <a:ext cx="85680" cy="60840"/>
              <a:chOff x="6540840" y="5996520"/>
              <a:chExt cx="85680" cy="60840"/>
            </a:xfrm>
          </p:grpSpPr>
          <p:sp>
            <p:nvSpPr>
              <p:cNvPr id="3157" name=""/>
              <p:cNvSpPr/>
              <p:nvPr/>
            </p:nvSpPr>
            <p:spPr>
              <a:xfrm>
                <a:off x="6553080" y="5996520"/>
                <a:ext cx="6084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8" name=""/>
              <p:cNvSpPr/>
              <p:nvPr/>
            </p:nvSpPr>
            <p:spPr>
              <a:xfrm flipH="1">
                <a:off x="6540840" y="5996520"/>
                <a:ext cx="8568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59" name=""/>
            <p:cNvGrpSpPr/>
            <p:nvPr/>
          </p:nvGrpSpPr>
          <p:grpSpPr>
            <a:xfrm>
              <a:off x="6185160" y="5996520"/>
              <a:ext cx="110160" cy="60840"/>
              <a:chOff x="6185160" y="5996520"/>
              <a:chExt cx="110160" cy="60840"/>
            </a:xfrm>
          </p:grpSpPr>
          <p:sp>
            <p:nvSpPr>
              <p:cNvPr id="3160" name=""/>
              <p:cNvSpPr/>
              <p:nvPr/>
            </p:nvSpPr>
            <p:spPr>
              <a:xfrm>
                <a:off x="6197400" y="5996520"/>
                <a:ext cx="8532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1" name=""/>
              <p:cNvSpPr/>
              <p:nvPr/>
            </p:nvSpPr>
            <p:spPr>
              <a:xfrm flipH="1">
                <a:off x="6185160" y="5996520"/>
                <a:ext cx="11016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62" name=""/>
            <p:cNvGrpSpPr/>
            <p:nvPr/>
          </p:nvGrpSpPr>
          <p:grpSpPr>
            <a:xfrm>
              <a:off x="6075000" y="5996520"/>
              <a:ext cx="85680" cy="60840"/>
              <a:chOff x="6075000" y="5996520"/>
              <a:chExt cx="85680" cy="60840"/>
            </a:xfrm>
          </p:grpSpPr>
          <p:sp>
            <p:nvSpPr>
              <p:cNvPr id="3163" name=""/>
              <p:cNvSpPr/>
              <p:nvPr/>
            </p:nvSpPr>
            <p:spPr>
              <a:xfrm>
                <a:off x="6086880" y="5996520"/>
                <a:ext cx="6120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4" name=""/>
              <p:cNvSpPr/>
              <p:nvPr/>
            </p:nvSpPr>
            <p:spPr>
              <a:xfrm flipH="1">
                <a:off x="6075000" y="5996520"/>
                <a:ext cx="8568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65" name=""/>
            <p:cNvSpPr/>
            <p:nvPr/>
          </p:nvSpPr>
          <p:spPr>
            <a:xfrm>
              <a:off x="7343640" y="1829160"/>
              <a:ext cx="0" cy="432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66" name=""/>
            <p:cNvGrpSpPr/>
            <p:nvPr/>
          </p:nvGrpSpPr>
          <p:grpSpPr>
            <a:xfrm>
              <a:off x="7239960" y="5751720"/>
              <a:ext cx="232560" cy="783360"/>
              <a:chOff x="7239960" y="5751720"/>
              <a:chExt cx="232560" cy="783360"/>
            </a:xfrm>
          </p:grpSpPr>
          <p:sp>
            <p:nvSpPr>
              <p:cNvPr id="3167" name=""/>
              <p:cNvSpPr/>
              <p:nvPr/>
            </p:nvSpPr>
            <p:spPr>
              <a:xfrm>
                <a:off x="7251480" y="6057720"/>
                <a:ext cx="207720" cy="97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8" name=""/>
              <p:cNvSpPr/>
              <p:nvPr/>
            </p:nvSpPr>
            <p:spPr>
              <a:xfrm>
                <a:off x="7239960" y="5751720"/>
                <a:ext cx="219240" cy="70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9" name=""/>
              <p:cNvSpPr/>
              <p:nvPr/>
            </p:nvSpPr>
            <p:spPr>
              <a:xfrm>
                <a:off x="7253280" y="5788800"/>
                <a:ext cx="219240" cy="672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0" name=""/>
              <p:cNvSpPr/>
              <p:nvPr/>
            </p:nvSpPr>
            <p:spPr>
              <a:xfrm>
                <a:off x="7253280" y="6057720"/>
                <a:ext cx="219240" cy="97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1" name=""/>
              <p:cNvSpPr/>
              <p:nvPr/>
            </p:nvSpPr>
            <p:spPr>
              <a:xfrm>
                <a:off x="7343280" y="6461640"/>
                <a:ext cx="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72" name=""/>
            <p:cNvSpPr/>
            <p:nvPr/>
          </p:nvSpPr>
          <p:spPr>
            <a:xfrm>
              <a:off x="7625880" y="2932200"/>
              <a:ext cx="0" cy="321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73" name=""/>
            <p:cNvGrpSpPr/>
            <p:nvPr/>
          </p:nvGrpSpPr>
          <p:grpSpPr>
            <a:xfrm>
              <a:off x="7521840" y="5751720"/>
              <a:ext cx="232560" cy="783360"/>
              <a:chOff x="7521840" y="5751720"/>
              <a:chExt cx="232560" cy="783360"/>
            </a:xfrm>
          </p:grpSpPr>
          <p:sp>
            <p:nvSpPr>
              <p:cNvPr id="3174" name=""/>
              <p:cNvSpPr/>
              <p:nvPr/>
            </p:nvSpPr>
            <p:spPr>
              <a:xfrm>
                <a:off x="7533360" y="6057720"/>
                <a:ext cx="219960" cy="97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5" name=""/>
              <p:cNvSpPr/>
              <p:nvPr/>
            </p:nvSpPr>
            <p:spPr>
              <a:xfrm>
                <a:off x="7521840" y="5751720"/>
                <a:ext cx="231480" cy="70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6" name=""/>
              <p:cNvSpPr/>
              <p:nvPr/>
            </p:nvSpPr>
            <p:spPr>
              <a:xfrm>
                <a:off x="7522920" y="5788800"/>
                <a:ext cx="231480" cy="672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7" name=""/>
              <p:cNvSpPr/>
              <p:nvPr/>
            </p:nvSpPr>
            <p:spPr>
              <a:xfrm>
                <a:off x="7522920" y="6057720"/>
                <a:ext cx="231480" cy="97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8" name=""/>
              <p:cNvSpPr/>
              <p:nvPr/>
            </p:nvSpPr>
            <p:spPr>
              <a:xfrm>
                <a:off x="7625520" y="6461640"/>
                <a:ext cx="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79" name=""/>
            <p:cNvSpPr/>
            <p:nvPr/>
          </p:nvSpPr>
          <p:spPr>
            <a:xfrm>
              <a:off x="7895520" y="4084560"/>
              <a:ext cx="0" cy="205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80" name=""/>
            <p:cNvGrpSpPr/>
            <p:nvPr/>
          </p:nvGrpSpPr>
          <p:grpSpPr>
            <a:xfrm>
              <a:off x="7791120" y="5751720"/>
              <a:ext cx="246600" cy="783360"/>
              <a:chOff x="7791120" y="5751720"/>
              <a:chExt cx="246600" cy="783360"/>
            </a:xfrm>
          </p:grpSpPr>
          <p:sp>
            <p:nvSpPr>
              <p:cNvPr id="3181" name=""/>
              <p:cNvSpPr/>
              <p:nvPr/>
            </p:nvSpPr>
            <p:spPr>
              <a:xfrm>
                <a:off x="7804080" y="6057720"/>
                <a:ext cx="219240" cy="97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2" name=""/>
              <p:cNvSpPr/>
              <p:nvPr/>
            </p:nvSpPr>
            <p:spPr>
              <a:xfrm>
                <a:off x="7791120" y="5751720"/>
                <a:ext cx="232200" cy="70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3" name=""/>
              <p:cNvSpPr/>
              <p:nvPr/>
            </p:nvSpPr>
            <p:spPr>
              <a:xfrm>
                <a:off x="7804800" y="5788800"/>
                <a:ext cx="232920" cy="672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4" name=""/>
              <p:cNvSpPr/>
              <p:nvPr/>
            </p:nvSpPr>
            <p:spPr>
              <a:xfrm>
                <a:off x="7804800" y="6057720"/>
                <a:ext cx="232920" cy="97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5" name=""/>
              <p:cNvSpPr/>
              <p:nvPr/>
            </p:nvSpPr>
            <p:spPr>
              <a:xfrm>
                <a:off x="7895160" y="6461640"/>
                <a:ext cx="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86" name=""/>
            <p:cNvSpPr/>
            <p:nvPr/>
          </p:nvSpPr>
          <p:spPr>
            <a:xfrm>
              <a:off x="8201880" y="5126400"/>
              <a:ext cx="0" cy="102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87" name=""/>
            <p:cNvGrpSpPr/>
            <p:nvPr/>
          </p:nvGrpSpPr>
          <p:grpSpPr>
            <a:xfrm>
              <a:off x="8085600" y="5751720"/>
              <a:ext cx="233280" cy="783360"/>
              <a:chOff x="8085600" y="5751720"/>
              <a:chExt cx="233280" cy="783360"/>
            </a:xfrm>
          </p:grpSpPr>
          <p:sp>
            <p:nvSpPr>
              <p:cNvPr id="3188" name=""/>
              <p:cNvSpPr/>
              <p:nvPr/>
            </p:nvSpPr>
            <p:spPr>
              <a:xfrm>
                <a:off x="8097840" y="6057720"/>
                <a:ext cx="207000" cy="97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9" name=""/>
              <p:cNvSpPr/>
              <p:nvPr/>
            </p:nvSpPr>
            <p:spPr>
              <a:xfrm>
                <a:off x="8085600" y="5751720"/>
                <a:ext cx="219240" cy="70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0" name=""/>
              <p:cNvSpPr/>
              <p:nvPr/>
            </p:nvSpPr>
            <p:spPr>
              <a:xfrm>
                <a:off x="8098920" y="5788800"/>
                <a:ext cx="219960" cy="672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1" name=""/>
              <p:cNvSpPr/>
              <p:nvPr/>
            </p:nvSpPr>
            <p:spPr>
              <a:xfrm>
                <a:off x="8098920" y="6057720"/>
                <a:ext cx="219960" cy="97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2" name=""/>
              <p:cNvSpPr/>
              <p:nvPr/>
            </p:nvSpPr>
            <p:spPr>
              <a:xfrm>
                <a:off x="8201520" y="6461640"/>
                <a:ext cx="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3" name=""/>
            <p:cNvSpPr/>
            <p:nvPr/>
          </p:nvSpPr>
          <p:spPr>
            <a:xfrm>
              <a:off x="6810840" y="323280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6810840" y="345348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5" name=""/>
            <p:cNvSpPr/>
            <p:nvPr/>
          </p:nvSpPr>
          <p:spPr>
            <a:xfrm flipV="1">
              <a:off x="6804360" y="3226320"/>
              <a:ext cx="0" cy="23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6921720" y="3240360"/>
              <a:ext cx="218880" cy="23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6921360" y="3239280"/>
              <a:ext cx="219240" cy="219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5682960" y="334296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7141320" y="3342960"/>
              <a:ext cx="12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6810840" y="268092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6810840" y="290160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2" name=""/>
            <p:cNvSpPr/>
            <p:nvPr/>
          </p:nvSpPr>
          <p:spPr>
            <a:xfrm flipV="1">
              <a:off x="6804360" y="2675160"/>
              <a:ext cx="0" cy="23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6921720" y="2688840"/>
              <a:ext cx="218880" cy="23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6921360" y="2675520"/>
              <a:ext cx="219240" cy="24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5682960" y="279144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7141320" y="2791440"/>
              <a:ext cx="12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6810840" y="350244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6810840" y="373500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9" name=""/>
            <p:cNvSpPr/>
            <p:nvPr/>
          </p:nvSpPr>
          <p:spPr>
            <a:xfrm flipV="1">
              <a:off x="6804360" y="3495600"/>
              <a:ext cx="0" cy="24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6921720" y="3510000"/>
              <a:ext cx="218880" cy="24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6921360" y="3508560"/>
              <a:ext cx="219240" cy="21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5682960" y="361260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7141320" y="3612600"/>
              <a:ext cx="12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4" name=""/>
            <p:cNvSpPr/>
            <p:nvPr/>
          </p:nvSpPr>
          <p:spPr>
            <a:xfrm>
              <a:off x="6810840" y="377208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6810840" y="400464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6" name=""/>
            <p:cNvSpPr/>
            <p:nvPr/>
          </p:nvSpPr>
          <p:spPr>
            <a:xfrm flipV="1">
              <a:off x="6804360" y="3765240"/>
              <a:ext cx="0" cy="24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6921720" y="3779640"/>
              <a:ext cx="218880" cy="24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6921360" y="3778200"/>
              <a:ext cx="219240" cy="21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5682960" y="389448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7141320" y="3894480"/>
              <a:ext cx="12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6810840" y="456876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2" name=""/>
            <p:cNvSpPr/>
            <p:nvPr/>
          </p:nvSpPr>
          <p:spPr>
            <a:xfrm>
              <a:off x="6810840" y="478908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3" name=""/>
            <p:cNvSpPr/>
            <p:nvPr/>
          </p:nvSpPr>
          <p:spPr>
            <a:xfrm flipV="1">
              <a:off x="6804360" y="4561920"/>
              <a:ext cx="0" cy="23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4" name=""/>
            <p:cNvSpPr/>
            <p:nvPr/>
          </p:nvSpPr>
          <p:spPr>
            <a:xfrm>
              <a:off x="6921720" y="4576320"/>
              <a:ext cx="218880" cy="24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5" name=""/>
            <p:cNvSpPr/>
            <p:nvPr/>
          </p:nvSpPr>
          <p:spPr>
            <a:xfrm>
              <a:off x="6921360" y="4574880"/>
              <a:ext cx="219240" cy="21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6" name=""/>
            <p:cNvSpPr/>
            <p:nvPr/>
          </p:nvSpPr>
          <p:spPr>
            <a:xfrm>
              <a:off x="5682960" y="467928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7" name=""/>
            <p:cNvSpPr/>
            <p:nvPr/>
          </p:nvSpPr>
          <p:spPr>
            <a:xfrm>
              <a:off x="7141320" y="4679280"/>
              <a:ext cx="12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8" name=""/>
            <p:cNvSpPr/>
            <p:nvPr/>
          </p:nvSpPr>
          <p:spPr>
            <a:xfrm>
              <a:off x="6810840" y="483840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9" name=""/>
            <p:cNvSpPr/>
            <p:nvPr/>
          </p:nvSpPr>
          <p:spPr>
            <a:xfrm>
              <a:off x="6810840" y="508356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0" name=""/>
            <p:cNvSpPr/>
            <p:nvPr/>
          </p:nvSpPr>
          <p:spPr>
            <a:xfrm flipV="1">
              <a:off x="6804360" y="4832280"/>
              <a:ext cx="0" cy="25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1" name=""/>
            <p:cNvSpPr/>
            <p:nvPr/>
          </p:nvSpPr>
          <p:spPr>
            <a:xfrm>
              <a:off x="6921720" y="4845960"/>
              <a:ext cx="218880" cy="24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2" name=""/>
            <p:cNvSpPr/>
            <p:nvPr/>
          </p:nvSpPr>
          <p:spPr>
            <a:xfrm>
              <a:off x="6921360" y="4844520"/>
              <a:ext cx="219240" cy="23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5682960" y="494856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7141320" y="4948560"/>
              <a:ext cx="12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5634000" y="1841760"/>
              <a:ext cx="1838520" cy="10904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5634000" y="2932200"/>
              <a:ext cx="2144880" cy="10908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7" name=""/>
            <p:cNvSpPr/>
            <p:nvPr/>
          </p:nvSpPr>
          <p:spPr>
            <a:xfrm>
              <a:off x="5634000" y="4011120"/>
              <a:ext cx="2402280" cy="10908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38" name=""/>
            <p:cNvGrpSpPr/>
            <p:nvPr/>
          </p:nvGrpSpPr>
          <p:grpSpPr>
            <a:xfrm>
              <a:off x="5731920" y="2773080"/>
              <a:ext cx="97920" cy="48960"/>
              <a:chOff x="5731920" y="2773080"/>
              <a:chExt cx="97920" cy="48960"/>
            </a:xfrm>
          </p:grpSpPr>
          <p:sp>
            <p:nvSpPr>
              <p:cNvPr id="3239" name=""/>
              <p:cNvSpPr/>
              <p:nvPr/>
            </p:nvSpPr>
            <p:spPr>
              <a:xfrm>
                <a:off x="5743800" y="2773080"/>
                <a:ext cx="7344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0" name=""/>
              <p:cNvSpPr/>
              <p:nvPr/>
            </p:nvSpPr>
            <p:spPr>
              <a:xfrm flipH="1">
                <a:off x="5731920" y="2773080"/>
                <a:ext cx="9792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1" name=""/>
            <p:cNvGrpSpPr/>
            <p:nvPr/>
          </p:nvGrpSpPr>
          <p:grpSpPr>
            <a:xfrm>
              <a:off x="5842440" y="2773080"/>
              <a:ext cx="85680" cy="48960"/>
              <a:chOff x="5842440" y="2773080"/>
              <a:chExt cx="85680" cy="48960"/>
            </a:xfrm>
          </p:grpSpPr>
          <p:sp>
            <p:nvSpPr>
              <p:cNvPr id="3242" name=""/>
              <p:cNvSpPr/>
              <p:nvPr/>
            </p:nvSpPr>
            <p:spPr>
              <a:xfrm>
                <a:off x="5854320" y="2773080"/>
                <a:ext cx="6084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3" name=""/>
              <p:cNvSpPr/>
              <p:nvPr/>
            </p:nvSpPr>
            <p:spPr>
              <a:xfrm flipH="1">
                <a:off x="5842440" y="2773080"/>
                <a:ext cx="8568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4" name=""/>
            <p:cNvGrpSpPr/>
            <p:nvPr/>
          </p:nvGrpSpPr>
          <p:grpSpPr>
            <a:xfrm>
              <a:off x="5964480" y="2773080"/>
              <a:ext cx="110160" cy="48960"/>
              <a:chOff x="5964480" y="2773080"/>
              <a:chExt cx="110160" cy="48960"/>
            </a:xfrm>
          </p:grpSpPr>
          <p:sp>
            <p:nvSpPr>
              <p:cNvPr id="3245" name=""/>
              <p:cNvSpPr/>
              <p:nvPr/>
            </p:nvSpPr>
            <p:spPr>
              <a:xfrm>
                <a:off x="5976720" y="2773080"/>
                <a:ext cx="8532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6" name=""/>
              <p:cNvSpPr/>
              <p:nvPr/>
            </p:nvSpPr>
            <p:spPr>
              <a:xfrm flipH="1">
                <a:off x="5964480" y="2773080"/>
                <a:ext cx="11016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7" name=""/>
            <p:cNvGrpSpPr/>
            <p:nvPr/>
          </p:nvGrpSpPr>
          <p:grpSpPr>
            <a:xfrm>
              <a:off x="6075000" y="2773080"/>
              <a:ext cx="85680" cy="48960"/>
              <a:chOff x="6075000" y="2773080"/>
              <a:chExt cx="85680" cy="48960"/>
            </a:xfrm>
          </p:grpSpPr>
          <p:sp>
            <p:nvSpPr>
              <p:cNvPr id="3248" name=""/>
              <p:cNvSpPr/>
              <p:nvPr/>
            </p:nvSpPr>
            <p:spPr>
              <a:xfrm>
                <a:off x="6086880" y="2773080"/>
                <a:ext cx="6120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9" name=""/>
              <p:cNvSpPr/>
              <p:nvPr/>
            </p:nvSpPr>
            <p:spPr>
              <a:xfrm flipH="1">
                <a:off x="6075000" y="2773080"/>
                <a:ext cx="8568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0" name=""/>
            <p:cNvGrpSpPr/>
            <p:nvPr/>
          </p:nvGrpSpPr>
          <p:grpSpPr>
            <a:xfrm>
              <a:off x="6185160" y="2773080"/>
              <a:ext cx="110160" cy="48960"/>
              <a:chOff x="6185160" y="2773080"/>
              <a:chExt cx="110160" cy="48960"/>
            </a:xfrm>
          </p:grpSpPr>
          <p:sp>
            <p:nvSpPr>
              <p:cNvPr id="3251" name=""/>
              <p:cNvSpPr/>
              <p:nvPr/>
            </p:nvSpPr>
            <p:spPr>
              <a:xfrm>
                <a:off x="6197400" y="2773080"/>
                <a:ext cx="8532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2" name=""/>
              <p:cNvSpPr/>
              <p:nvPr/>
            </p:nvSpPr>
            <p:spPr>
              <a:xfrm flipH="1">
                <a:off x="6185160" y="2773080"/>
                <a:ext cx="11016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3" name=""/>
            <p:cNvGrpSpPr/>
            <p:nvPr/>
          </p:nvGrpSpPr>
          <p:grpSpPr>
            <a:xfrm>
              <a:off x="6295680" y="2773080"/>
              <a:ext cx="97920" cy="48960"/>
              <a:chOff x="6295680" y="2773080"/>
              <a:chExt cx="97920" cy="48960"/>
            </a:xfrm>
          </p:grpSpPr>
          <p:sp>
            <p:nvSpPr>
              <p:cNvPr id="3254" name=""/>
              <p:cNvSpPr/>
              <p:nvPr/>
            </p:nvSpPr>
            <p:spPr>
              <a:xfrm>
                <a:off x="6307560" y="2773080"/>
                <a:ext cx="7344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5" name=""/>
              <p:cNvSpPr/>
              <p:nvPr/>
            </p:nvSpPr>
            <p:spPr>
              <a:xfrm flipH="1">
                <a:off x="6295680" y="2773080"/>
                <a:ext cx="9792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6" name=""/>
            <p:cNvGrpSpPr/>
            <p:nvPr/>
          </p:nvGrpSpPr>
          <p:grpSpPr>
            <a:xfrm>
              <a:off x="6430320" y="2773080"/>
              <a:ext cx="109800" cy="48960"/>
              <a:chOff x="6430320" y="2773080"/>
              <a:chExt cx="109800" cy="48960"/>
            </a:xfrm>
          </p:grpSpPr>
          <p:sp>
            <p:nvSpPr>
              <p:cNvPr id="3257" name=""/>
              <p:cNvSpPr/>
              <p:nvPr/>
            </p:nvSpPr>
            <p:spPr>
              <a:xfrm>
                <a:off x="6442560" y="2773080"/>
                <a:ext cx="8532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8" name=""/>
              <p:cNvSpPr/>
              <p:nvPr/>
            </p:nvSpPr>
            <p:spPr>
              <a:xfrm flipH="1">
                <a:off x="6430320" y="2773080"/>
                <a:ext cx="10980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9" name=""/>
            <p:cNvGrpSpPr/>
            <p:nvPr/>
          </p:nvGrpSpPr>
          <p:grpSpPr>
            <a:xfrm>
              <a:off x="6540840" y="2773080"/>
              <a:ext cx="85680" cy="48960"/>
              <a:chOff x="6540840" y="2773080"/>
              <a:chExt cx="85680" cy="48960"/>
            </a:xfrm>
          </p:grpSpPr>
          <p:sp>
            <p:nvSpPr>
              <p:cNvPr id="3260" name=""/>
              <p:cNvSpPr/>
              <p:nvPr/>
            </p:nvSpPr>
            <p:spPr>
              <a:xfrm>
                <a:off x="6553080" y="2773080"/>
                <a:ext cx="6084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1" name=""/>
              <p:cNvSpPr/>
              <p:nvPr/>
            </p:nvSpPr>
            <p:spPr>
              <a:xfrm flipH="1">
                <a:off x="6540840" y="2773080"/>
                <a:ext cx="8568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62" name=""/>
            <p:cNvSpPr/>
            <p:nvPr/>
          </p:nvSpPr>
          <p:spPr>
            <a:xfrm>
              <a:off x="7313040" y="1951920"/>
              <a:ext cx="73440" cy="61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7313040" y="2233800"/>
              <a:ext cx="73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7313040" y="2503440"/>
              <a:ext cx="73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7313040" y="2773080"/>
              <a:ext cx="73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7607520" y="3042720"/>
              <a:ext cx="4896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7607520" y="3324600"/>
              <a:ext cx="48960" cy="61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7607520" y="3594240"/>
              <a:ext cx="48960" cy="61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7607520" y="3876120"/>
              <a:ext cx="4896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7877160" y="4121280"/>
              <a:ext cx="73080" cy="73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7877160" y="4403160"/>
              <a:ext cx="7308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7877160" y="4648320"/>
              <a:ext cx="73080" cy="73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7877160" y="4942440"/>
              <a:ext cx="7308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8195760" y="5212080"/>
              <a:ext cx="4896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8195760" y="5469480"/>
              <a:ext cx="4896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8195760" y="5739120"/>
              <a:ext cx="4896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7" name=""/>
            <p:cNvSpPr/>
            <p:nvPr/>
          </p:nvSpPr>
          <p:spPr>
            <a:xfrm>
              <a:off x="8195760" y="5996520"/>
              <a:ext cx="48960" cy="60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78" name=""/>
            <p:cNvGrpSpPr/>
            <p:nvPr/>
          </p:nvGrpSpPr>
          <p:grpSpPr>
            <a:xfrm>
              <a:off x="5731920" y="3312360"/>
              <a:ext cx="97920" cy="73440"/>
              <a:chOff x="5731920" y="3312360"/>
              <a:chExt cx="97920" cy="73440"/>
            </a:xfrm>
          </p:grpSpPr>
          <p:sp>
            <p:nvSpPr>
              <p:cNvPr id="3279" name=""/>
              <p:cNvSpPr/>
              <p:nvPr/>
            </p:nvSpPr>
            <p:spPr>
              <a:xfrm>
                <a:off x="5743800" y="3312360"/>
                <a:ext cx="734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0" name=""/>
              <p:cNvSpPr/>
              <p:nvPr/>
            </p:nvSpPr>
            <p:spPr>
              <a:xfrm flipH="1">
                <a:off x="5731920" y="3312360"/>
                <a:ext cx="979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1" name=""/>
            <p:cNvGrpSpPr/>
            <p:nvPr/>
          </p:nvGrpSpPr>
          <p:grpSpPr>
            <a:xfrm>
              <a:off x="5842440" y="3312360"/>
              <a:ext cx="85680" cy="73440"/>
              <a:chOff x="5842440" y="3312360"/>
              <a:chExt cx="85680" cy="73440"/>
            </a:xfrm>
          </p:grpSpPr>
          <p:sp>
            <p:nvSpPr>
              <p:cNvPr id="3282" name=""/>
              <p:cNvSpPr/>
              <p:nvPr/>
            </p:nvSpPr>
            <p:spPr>
              <a:xfrm>
                <a:off x="5854320" y="3312360"/>
                <a:ext cx="608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3" name=""/>
              <p:cNvSpPr/>
              <p:nvPr/>
            </p:nvSpPr>
            <p:spPr>
              <a:xfrm flipH="1">
                <a:off x="5842440" y="3312360"/>
                <a:ext cx="8568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4" name=""/>
            <p:cNvGrpSpPr/>
            <p:nvPr/>
          </p:nvGrpSpPr>
          <p:grpSpPr>
            <a:xfrm>
              <a:off x="5964480" y="3312360"/>
              <a:ext cx="110160" cy="73440"/>
              <a:chOff x="5964480" y="3312360"/>
              <a:chExt cx="110160" cy="73440"/>
            </a:xfrm>
          </p:grpSpPr>
          <p:sp>
            <p:nvSpPr>
              <p:cNvPr id="3285" name=""/>
              <p:cNvSpPr/>
              <p:nvPr/>
            </p:nvSpPr>
            <p:spPr>
              <a:xfrm>
                <a:off x="5976720" y="331236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6" name=""/>
              <p:cNvSpPr/>
              <p:nvPr/>
            </p:nvSpPr>
            <p:spPr>
              <a:xfrm flipH="1">
                <a:off x="5964480" y="3312360"/>
                <a:ext cx="11016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7" name=""/>
            <p:cNvGrpSpPr/>
            <p:nvPr/>
          </p:nvGrpSpPr>
          <p:grpSpPr>
            <a:xfrm>
              <a:off x="6075000" y="3312360"/>
              <a:ext cx="85680" cy="73440"/>
              <a:chOff x="6075000" y="3312360"/>
              <a:chExt cx="85680" cy="73440"/>
            </a:xfrm>
          </p:grpSpPr>
          <p:sp>
            <p:nvSpPr>
              <p:cNvPr id="3288" name=""/>
              <p:cNvSpPr/>
              <p:nvPr/>
            </p:nvSpPr>
            <p:spPr>
              <a:xfrm>
                <a:off x="6086880" y="3312360"/>
                <a:ext cx="6120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9" name=""/>
              <p:cNvSpPr/>
              <p:nvPr/>
            </p:nvSpPr>
            <p:spPr>
              <a:xfrm flipH="1">
                <a:off x="6075000" y="3312360"/>
                <a:ext cx="8568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0" name=""/>
            <p:cNvGrpSpPr/>
            <p:nvPr/>
          </p:nvGrpSpPr>
          <p:grpSpPr>
            <a:xfrm>
              <a:off x="6185160" y="3312360"/>
              <a:ext cx="110160" cy="73440"/>
              <a:chOff x="6185160" y="3312360"/>
              <a:chExt cx="110160" cy="73440"/>
            </a:xfrm>
          </p:grpSpPr>
          <p:sp>
            <p:nvSpPr>
              <p:cNvPr id="3291" name=""/>
              <p:cNvSpPr/>
              <p:nvPr/>
            </p:nvSpPr>
            <p:spPr>
              <a:xfrm>
                <a:off x="6197400" y="331236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2" name=""/>
              <p:cNvSpPr/>
              <p:nvPr/>
            </p:nvSpPr>
            <p:spPr>
              <a:xfrm flipH="1">
                <a:off x="6185160" y="3312360"/>
                <a:ext cx="11016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3" name=""/>
            <p:cNvGrpSpPr/>
            <p:nvPr/>
          </p:nvGrpSpPr>
          <p:grpSpPr>
            <a:xfrm>
              <a:off x="6295680" y="3312360"/>
              <a:ext cx="97920" cy="73440"/>
              <a:chOff x="6295680" y="3312360"/>
              <a:chExt cx="97920" cy="73440"/>
            </a:xfrm>
          </p:grpSpPr>
          <p:sp>
            <p:nvSpPr>
              <p:cNvPr id="3294" name=""/>
              <p:cNvSpPr/>
              <p:nvPr/>
            </p:nvSpPr>
            <p:spPr>
              <a:xfrm>
                <a:off x="6307560" y="3312360"/>
                <a:ext cx="734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5" name=""/>
              <p:cNvSpPr/>
              <p:nvPr/>
            </p:nvSpPr>
            <p:spPr>
              <a:xfrm flipH="1">
                <a:off x="6295680" y="3312360"/>
                <a:ext cx="979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6" name=""/>
            <p:cNvGrpSpPr/>
            <p:nvPr/>
          </p:nvGrpSpPr>
          <p:grpSpPr>
            <a:xfrm>
              <a:off x="6430320" y="3312360"/>
              <a:ext cx="109800" cy="73440"/>
              <a:chOff x="6430320" y="3312360"/>
              <a:chExt cx="109800" cy="73440"/>
            </a:xfrm>
          </p:grpSpPr>
          <p:sp>
            <p:nvSpPr>
              <p:cNvPr id="3297" name=""/>
              <p:cNvSpPr/>
              <p:nvPr/>
            </p:nvSpPr>
            <p:spPr>
              <a:xfrm>
                <a:off x="6442560" y="331236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8" name=""/>
              <p:cNvSpPr/>
              <p:nvPr/>
            </p:nvSpPr>
            <p:spPr>
              <a:xfrm flipH="1">
                <a:off x="6430320" y="3312360"/>
                <a:ext cx="10980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9" name=""/>
            <p:cNvGrpSpPr/>
            <p:nvPr/>
          </p:nvGrpSpPr>
          <p:grpSpPr>
            <a:xfrm>
              <a:off x="6540840" y="3312360"/>
              <a:ext cx="85680" cy="73440"/>
              <a:chOff x="6540840" y="3312360"/>
              <a:chExt cx="85680" cy="73440"/>
            </a:xfrm>
          </p:grpSpPr>
          <p:sp>
            <p:nvSpPr>
              <p:cNvPr id="3300" name=""/>
              <p:cNvSpPr/>
              <p:nvPr/>
            </p:nvSpPr>
            <p:spPr>
              <a:xfrm>
                <a:off x="6553080" y="3312360"/>
                <a:ext cx="608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1" name=""/>
              <p:cNvSpPr/>
              <p:nvPr/>
            </p:nvSpPr>
            <p:spPr>
              <a:xfrm flipH="1">
                <a:off x="6540840" y="3312360"/>
                <a:ext cx="8568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2" name=""/>
            <p:cNvGrpSpPr/>
            <p:nvPr/>
          </p:nvGrpSpPr>
          <p:grpSpPr>
            <a:xfrm>
              <a:off x="5731920" y="3582000"/>
              <a:ext cx="97920" cy="73440"/>
              <a:chOff x="5731920" y="3582000"/>
              <a:chExt cx="97920" cy="73440"/>
            </a:xfrm>
          </p:grpSpPr>
          <p:sp>
            <p:nvSpPr>
              <p:cNvPr id="3303" name=""/>
              <p:cNvSpPr/>
              <p:nvPr/>
            </p:nvSpPr>
            <p:spPr>
              <a:xfrm>
                <a:off x="5743800" y="3582000"/>
                <a:ext cx="734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4" name=""/>
              <p:cNvSpPr/>
              <p:nvPr/>
            </p:nvSpPr>
            <p:spPr>
              <a:xfrm flipH="1">
                <a:off x="5731920" y="3582000"/>
                <a:ext cx="979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5" name=""/>
            <p:cNvGrpSpPr/>
            <p:nvPr/>
          </p:nvGrpSpPr>
          <p:grpSpPr>
            <a:xfrm>
              <a:off x="5842440" y="3582000"/>
              <a:ext cx="85680" cy="73440"/>
              <a:chOff x="5842440" y="3582000"/>
              <a:chExt cx="85680" cy="73440"/>
            </a:xfrm>
          </p:grpSpPr>
          <p:sp>
            <p:nvSpPr>
              <p:cNvPr id="3306" name=""/>
              <p:cNvSpPr/>
              <p:nvPr/>
            </p:nvSpPr>
            <p:spPr>
              <a:xfrm>
                <a:off x="5854320" y="3582000"/>
                <a:ext cx="608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7" name=""/>
              <p:cNvSpPr/>
              <p:nvPr/>
            </p:nvSpPr>
            <p:spPr>
              <a:xfrm flipH="1">
                <a:off x="5842440" y="3582000"/>
                <a:ext cx="8568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8" name=""/>
            <p:cNvGrpSpPr/>
            <p:nvPr/>
          </p:nvGrpSpPr>
          <p:grpSpPr>
            <a:xfrm>
              <a:off x="5964480" y="3582000"/>
              <a:ext cx="110160" cy="73440"/>
              <a:chOff x="5964480" y="3582000"/>
              <a:chExt cx="110160" cy="73440"/>
            </a:xfrm>
          </p:grpSpPr>
          <p:sp>
            <p:nvSpPr>
              <p:cNvPr id="3309" name=""/>
              <p:cNvSpPr/>
              <p:nvPr/>
            </p:nvSpPr>
            <p:spPr>
              <a:xfrm>
                <a:off x="5976720" y="358200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0" name=""/>
              <p:cNvSpPr/>
              <p:nvPr/>
            </p:nvSpPr>
            <p:spPr>
              <a:xfrm flipH="1">
                <a:off x="5964480" y="3582000"/>
                <a:ext cx="11016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1" name=""/>
            <p:cNvGrpSpPr/>
            <p:nvPr/>
          </p:nvGrpSpPr>
          <p:grpSpPr>
            <a:xfrm>
              <a:off x="6075000" y="3582000"/>
              <a:ext cx="85680" cy="73440"/>
              <a:chOff x="6075000" y="3582000"/>
              <a:chExt cx="85680" cy="73440"/>
            </a:xfrm>
          </p:grpSpPr>
          <p:sp>
            <p:nvSpPr>
              <p:cNvPr id="3312" name=""/>
              <p:cNvSpPr/>
              <p:nvPr/>
            </p:nvSpPr>
            <p:spPr>
              <a:xfrm>
                <a:off x="6086880" y="3582000"/>
                <a:ext cx="6120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3" name=""/>
              <p:cNvSpPr/>
              <p:nvPr/>
            </p:nvSpPr>
            <p:spPr>
              <a:xfrm flipH="1">
                <a:off x="6075000" y="3582000"/>
                <a:ext cx="8568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4" name=""/>
            <p:cNvGrpSpPr/>
            <p:nvPr/>
          </p:nvGrpSpPr>
          <p:grpSpPr>
            <a:xfrm>
              <a:off x="6185160" y="3582000"/>
              <a:ext cx="110160" cy="73440"/>
              <a:chOff x="6185160" y="3582000"/>
              <a:chExt cx="110160" cy="73440"/>
            </a:xfrm>
          </p:grpSpPr>
          <p:sp>
            <p:nvSpPr>
              <p:cNvPr id="3315" name=""/>
              <p:cNvSpPr/>
              <p:nvPr/>
            </p:nvSpPr>
            <p:spPr>
              <a:xfrm>
                <a:off x="6197400" y="358200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6" name=""/>
              <p:cNvSpPr/>
              <p:nvPr/>
            </p:nvSpPr>
            <p:spPr>
              <a:xfrm flipH="1">
                <a:off x="6185160" y="3582000"/>
                <a:ext cx="11016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7" name=""/>
            <p:cNvGrpSpPr/>
            <p:nvPr/>
          </p:nvGrpSpPr>
          <p:grpSpPr>
            <a:xfrm>
              <a:off x="6295680" y="3582000"/>
              <a:ext cx="97920" cy="73440"/>
              <a:chOff x="6295680" y="3582000"/>
              <a:chExt cx="97920" cy="73440"/>
            </a:xfrm>
          </p:grpSpPr>
          <p:sp>
            <p:nvSpPr>
              <p:cNvPr id="3318" name=""/>
              <p:cNvSpPr/>
              <p:nvPr/>
            </p:nvSpPr>
            <p:spPr>
              <a:xfrm>
                <a:off x="6307560" y="3582000"/>
                <a:ext cx="734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9" name=""/>
              <p:cNvSpPr/>
              <p:nvPr/>
            </p:nvSpPr>
            <p:spPr>
              <a:xfrm flipH="1">
                <a:off x="6295680" y="3582000"/>
                <a:ext cx="979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0" name=""/>
            <p:cNvGrpSpPr/>
            <p:nvPr/>
          </p:nvGrpSpPr>
          <p:grpSpPr>
            <a:xfrm>
              <a:off x="6430320" y="3582000"/>
              <a:ext cx="109800" cy="73440"/>
              <a:chOff x="6430320" y="3582000"/>
              <a:chExt cx="109800" cy="73440"/>
            </a:xfrm>
          </p:grpSpPr>
          <p:sp>
            <p:nvSpPr>
              <p:cNvPr id="3321" name=""/>
              <p:cNvSpPr/>
              <p:nvPr/>
            </p:nvSpPr>
            <p:spPr>
              <a:xfrm>
                <a:off x="6442560" y="358200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2" name=""/>
              <p:cNvSpPr/>
              <p:nvPr/>
            </p:nvSpPr>
            <p:spPr>
              <a:xfrm flipH="1">
                <a:off x="6430320" y="3582000"/>
                <a:ext cx="10980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3" name=""/>
            <p:cNvGrpSpPr/>
            <p:nvPr/>
          </p:nvGrpSpPr>
          <p:grpSpPr>
            <a:xfrm>
              <a:off x="6540840" y="3582000"/>
              <a:ext cx="85680" cy="73440"/>
              <a:chOff x="6540840" y="3582000"/>
              <a:chExt cx="85680" cy="73440"/>
            </a:xfrm>
          </p:grpSpPr>
          <p:sp>
            <p:nvSpPr>
              <p:cNvPr id="3324" name=""/>
              <p:cNvSpPr/>
              <p:nvPr/>
            </p:nvSpPr>
            <p:spPr>
              <a:xfrm>
                <a:off x="6553080" y="3582000"/>
                <a:ext cx="608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5" name=""/>
              <p:cNvSpPr/>
              <p:nvPr/>
            </p:nvSpPr>
            <p:spPr>
              <a:xfrm flipH="1">
                <a:off x="6540840" y="3582000"/>
                <a:ext cx="8568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6" name=""/>
            <p:cNvGrpSpPr/>
            <p:nvPr/>
          </p:nvGrpSpPr>
          <p:grpSpPr>
            <a:xfrm>
              <a:off x="5731920" y="3851640"/>
              <a:ext cx="97920" cy="73440"/>
              <a:chOff x="5731920" y="3851640"/>
              <a:chExt cx="97920" cy="73440"/>
            </a:xfrm>
          </p:grpSpPr>
          <p:sp>
            <p:nvSpPr>
              <p:cNvPr id="3327" name=""/>
              <p:cNvSpPr/>
              <p:nvPr/>
            </p:nvSpPr>
            <p:spPr>
              <a:xfrm>
                <a:off x="5743800" y="3851640"/>
                <a:ext cx="734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8" name=""/>
              <p:cNvSpPr/>
              <p:nvPr/>
            </p:nvSpPr>
            <p:spPr>
              <a:xfrm flipH="1">
                <a:off x="5731920" y="3851640"/>
                <a:ext cx="979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9" name=""/>
            <p:cNvGrpSpPr/>
            <p:nvPr/>
          </p:nvGrpSpPr>
          <p:grpSpPr>
            <a:xfrm>
              <a:off x="5842440" y="3851640"/>
              <a:ext cx="85680" cy="73440"/>
              <a:chOff x="5842440" y="3851640"/>
              <a:chExt cx="85680" cy="73440"/>
            </a:xfrm>
          </p:grpSpPr>
          <p:sp>
            <p:nvSpPr>
              <p:cNvPr id="3330" name=""/>
              <p:cNvSpPr/>
              <p:nvPr/>
            </p:nvSpPr>
            <p:spPr>
              <a:xfrm>
                <a:off x="5854320" y="3851640"/>
                <a:ext cx="608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1" name=""/>
              <p:cNvSpPr/>
              <p:nvPr/>
            </p:nvSpPr>
            <p:spPr>
              <a:xfrm flipH="1">
                <a:off x="5842440" y="3851640"/>
                <a:ext cx="8568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2" name=""/>
            <p:cNvGrpSpPr/>
            <p:nvPr/>
          </p:nvGrpSpPr>
          <p:grpSpPr>
            <a:xfrm>
              <a:off x="5964480" y="3851640"/>
              <a:ext cx="110160" cy="73440"/>
              <a:chOff x="5964480" y="3851640"/>
              <a:chExt cx="110160" cy="73440"/>
            </a:xfrm>
          </p:grpSpPr>
          <p:sp>
            <p:nvSpPr>
              <p:cNvPr id="3333" name=""/>
              <p:cNvSpPr/>
              <p:nvPr/>
            </p:nvSpPr>
            <p:spPr>
              <a:xfrm>
                <a:off x="5976720" y="385164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4" name=""/>
              <p:cNvSpPr/>
              <p:nvPr/>
            </p:nvSpPr>
            <p:spPr>
              <a:xfrm flipH="1">
                <a:off x="5964480" y="3851640"/>
                <a:ext cx="11016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5" name=""/>
            <p:cNvGrpSpPr/>
            <p:nvPr/>
          </p:nvGrpSpPr>
          <p:grpSpPr>
            <a:xfrm>
              <a:off x="6075000" y="3851640"/>
              <a:ext cx="85680" cy="73440"/>
              <a:chOff x="6075000" y="3851640"/>
              <a:chExt cx="85680" cy="73440"/>
            </a:xfrm>
          </p:grpSpPr>
          <p:sp>
            <p:nvSpPr>
              <p:cNvPr id="3336" name=""/>
              <p:cNvSpPr/>
              <p:nvPr/>
            </p:nvSpPr>
            <p:spPr>
              <a:xfrm>
                <a:off x="6086880" y="3851640"/>
                <a:ext cx="6120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7" name=""/>
              <p:cNvSpPr/>
              <p:nvPr/>
            </p:nvSpPr>
            <p:spPr>
              <a:xfrm flipH="1">
                <a:off x="6075000" y="3851640"/>
                <a:ext cx="8568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8" name=""/>
            <p:cNvGrpSpPr/>
            <p:nvPr/>
          </p:nvGrpSpPr>
          <p:grpSpPr>
            <a:xfrm>
              <a:off x="6185160" y="3851640"/>
              <a:ext cx="110160" cy="73440"/>
              <a:chOff x="6185160" y="3851640"/>
              <a:chExt cx="110160" cy="73440"/>
            </a:xfrm>
          </p:grpSpPr>
          <p:sp>
            <p:nvSpPr>
              <p:cNvPr id="3339" name=""/>
              <p:cNvSpPr/>
              <p:nvPr/>
            </p:nvSpPr>
            <p:spPr>
              <a:xfrm>
                <a:off x="6197400" y="385164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0" name=""/>
              <p:cNvSpPr/>
              <p:nvPr/>
            </p:nvSpPr>
            <p:spPr>
              <a:xfrm flipH="1">
                <a:off x="6185160" y="3851640"/>
                <a:ext cx="11016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41" name=""/>
            <p:cNvGrpSpPr/>
            <p:nvPr/>
          </p:nvGrpSpPr>
          <p:grpSpPr>
            <a:xfrm>
              <a:off x="6295680" y="3851640"/>
              <a:ext cx="97920" cy="73440"/>
              <a:chOff x="6295680" y="3851640"/>
              <a:chExt cx="97920" cy="73440"/>
            </a:xfrm>
          </p:grpSpPr>
          <p:sp>
            <p:nvSpPr>
              <p:cNvPr id="3342" name=""/>
              <p:cNvSpPr/>
              <p:nvPr/>
            </p:nvSpPr>
            <p:spPr>
              <a:xfrm>
                <a:off x="6307560" y="3851640"/>
                <a:ext cx="734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3" name=""/>
              <p:cNvSpPr/>
              <p:nvPr/>
            </p:nvSpPr>
            <p:spPr>
              <a:xfrm flipH="1">
                <a:off x="6295680" y="3851640"/>
                <a:ext cx="979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44" name=""/>
            <p:cNvGrpSpPr/>
            <p:nvPr/>
          </p:nvGrpSpPr>
          <p:grpSpPr>
            <a:xfrm>
              <a:off x="6430320" y="3851640"/>
              <a:ext cx="109800" cy="73440"/>
              <a:chOff x="6430320" y="3851640"/>
              <a:chExt cx="109800" cy="73440"/>
            </a:xfrm>
          </p:grpSpPr>
          <p:sp>
            <p:nvSpPr>
              <p:cNvPr id="3345" name=""/>
              <p:cNvSpPr/>
              <p:nvPr/>
            </p:nvSpPr>
            <p:spPr>
              <a:xfrm>
                <a:off x="6442560" y="385164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6" name=""/>
              <p:cNvSpPr/>
              <p:nvPr/>
            </p:nvSpPr>
            <p:spPr>
              <a:xfrm flipH="1">
                <a:off x="6430320" y="3851640"/>
                <a:ext cx="10980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47" name=""/>
            <p:cNvGrpSpPr/>
            <p:nvPr/>
          </p:nvGrpSpPr>
          <p:grpSpPr>
            <a:xfrm>
              <a:off x="6540840" y="3851640"/>
              <a:ext cx="85680" cy="73440"/>
              <a:chOff x="6540840" y="3851640"/>
              <a:chExt cx="85680" cy="73440"/>
            </a:xfrm>
          </p:grpSpPr>
          <p:sp>
            <p:nvSpPr>
              <p:cNvPr id="3348" name=""/>
              <p:cNvSpPr/>
              <p:nvPr/>
            </p:nvSpPr>
            <p:spPr>
              <a:xfrm>
                <a:off x="6553080" y="3851640"/>
                <a:ext cx="608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9" name=""/>
              <p:cNvSpPr/>
              <p:nvPr/>
            </p:nvSpPr>
            <p:spPr>
              <a:xfrm flipH="1">
                <a:off x="6540840" y="3851640"/>
                <a:ext cx="8568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0" name=""/>
            <p:cNvGrpSpPr/>
            <p:nvPr/>
          </p:nvGrpSpPr>
          <p:grpSpPr>
            <a:xfrm>
              <a:off x="5731920" y="4648320"/>
              <a:ext cx="97920" cy="73440"/>
              <a:chOff x="5731920" y="4648320"/>
              <a:chExt cx="97920" cy="73440"/>
            </a:xfrm>
          </p:grpSpPr>
          <p:sp>
            <p:nvSpPr>
              <p:cNvPr id="3351" name=""/>
              <p:cNvSpPr/>
              <p:nvPr/>
            </p:nvSpPr>
            <p:spPr>
              <a:xfrm>
                <a:off x="5743800" y="4648320"/>
                <a:ext cx="734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2" name=""/>
              <p:cNvSpPr/>
              <p:nvPr/>
            </p:nvSpPr>
            <p:spPr>
              <a:xfrm flipH="1">
                <a:off x="5731920" y="4648320"/>
                <a:ext cx="979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3" name=""/>
            <p:cNvGrpSpPr/>
            <p:nvPr/>
          </p:nvGrpSpPr>
          <p:grpSpPr>
            <a:xfrm>
              <a:off x="5842440" y="4648320"/>
              <a:ext cx="85680" cy="73440"/>
              <a:chOff x="5842440" y="4648320"/>
              <a:chExt cx="85680" cy="73440"/>
            </a:xfrm>
          </p:grpSpPr>
          <p:sp>
            <p:nvSpPr>
              <p:cNvPr id="3354" name=""/>
              <p:cNvSpPr/>
              <p:nvPr/>
            </p:nvSpPr>
            <p:spPr>
              <a:xfrm>
                <a:off x="5854320" y="4648320"/>
                <a:ext cx="608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5" name=""/>
              <p:cNvSpPr/>
              <p:nvPr/>
            </p:nvSpPr>
            <p:spPr>
              <a:xfrm flipH="1">
                <a:off x="5842440" y="4648320"/>
                <a:ext cx="8568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6" name=""/>
            <p:cNvGrpSpPr/>
            <p:nvPr/>
          </p:nvGrpSpPr>
          <p:grpSpPr>
            <a:xfrm>
              <a:off x="5964480" y="4648320"/>
              <a:ext cx="110160" cy="73440"/>
              <a:chOff x="5964480" y="4648320"/>
              <a:chExt cx="110160" cy="73440"/>
            </a:xfrm>
          </p:grpSpPr>
          <p:sp>
            <p:nvSpPr>
              <p:cNvPr id="3357" name=""/>
              <p:cNvSpPr/>
              <p:nvPr/>
            </p:nvSpPr>
            <p:spPr>
              <a:xfrm>
                <a:off x="5976720" y="464832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8" name=""/>
              <p:cNvSpPr/>
              <p:nvPr/>
            </p:nvSpPr>
            <p:spPr>
              <a:xfrm flipH="1">
                <a:off x="5964480" y="4648320"/>
                <a:ext cx="11016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9" name=""/>
            <p:cNvGrpSpPr/>
            <p:nvPr/>
          </p:nvGrpSpPr>
          <p:grpSpPr>
            <a:xfrm>
              <a:off x="6075000" y="4648320"/>
              <a:ext cx="85680" cy="73440"/>
              <a:chOff x="6075000" y="4648320"/>
              <a:chExt cx="85680" cy="73440"/>
            </a:xfrm>
          </p:grpSpPr>
          <p:sp>
            <p:nvSpPr>
              <p:cNvPr id="3360" name=""/>
              <p:cNvSpPr/>
              <p:nvPr/>
            </p:nvSpPr>
            <p:spPr>
              <a:xfrm>
                <a:off x="6086880" y="4648320"/>
                <a:ext cx="6120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1" name=""/>
              <p:cNvSpPr/>
              <p:nvPr/>
            </p:nvSpPr>
            <p:spPr>
              <a:xfrm flipH="1">
                <a:off x="6075000" y="4648320"/>
                <a:ext cx="8568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2" name=""/>
            <p:cNvGrpSpPr/>
            <p:nvPr/>
          </p:nvGrpSpPr>
          <p:grpSpPr>
            <a:xfrm>
              <a:off x="6185160" y="4648320"/>
              <a:ext cx="110160" cy="73440"/>
              <a:chOff x="6185160" y="4648320"/>
              <a:chExt cx="110160" cy="73440"/>
            </a:xfrm>
          </p:grpSpPr>
          <p:sp>
            <p:nvSpPr>
              <p:cNvPr id="3363" name=""/>
              <p:cNvSpPr/>
              <p:nvPr/>
            </p:nvSpPr>
            <p:spPr>
              <a:xfrm>
                <a:off x="6197400" y="464832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4" name=""/>
              <p:cNvSpPr/>
              <p:nvPr/>
            </p:nvSpPr>
            <p:spPr>
              <a:xfrm flipH="1">
                <a:off x="6185160" y="4648320"/>
                <a:ext cx="11016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5" name=""/>
            <p:cNvGrpSpPr/>
            <p:nvPr/>
          </p:nvGrpSpPr>
          <p:grpSpPr>
            <a:xfrm>
              <a:off x="6295680" y="4648320"/>
              <a:ext cx="97920" cy="73440"/>
              <a:chOff x="6295680" y="4648320"/>
              <a:chExt cx="97920" cy="73440"/>
            </a:xfrm>
          </p:grpSpPr>
          <p:sp>
            <p:nvSpPr>
              <p:cNvPr id="3366" name=""/>
              <p:cNvSpPr/>
              <p:nvPr/>
            </p:nvSpPr>
            <p:spPr>
              <a:xfrm>
                <a:off x="6307560" y="4648320"/>
                <a:ext cx="734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7" name=""/>
              <p:cNvSpPr/>
              <p:nvPr/>
            </p:nvSpPr>
            <p:spPr>
              <a:xfrm flipH="1">
                <a:off x="6295680" y="4648320"/>
                <a:ext cx="979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8" name=""/>
            <p:cNvGrpSpPr/>
            <p:nvPr/>
          </p:nvGrpSpPr>
          <p:grpSpPr>
            <a:xfrm>
              <a:off x="6430320" y="4648320"/>
              <a:ext cx="109800" cy="73440"/>
              <a:chOff x="6430320" y="4648320"/>
              <a:chExt cx="109800" cy="73440"/>
            </a:xfrm>
          </p:grpSpPr>
          <p:sp>
            <p:nvSpPr>
              <p:cNvPr id="3369" name=""/>
              <p:cNvSpPr/>
              <p:nvPr/>
            </p:nvSpPr>
            <p:spPr>
              <a:xfrm>
                <a:off x="6442560" y="464832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0" name=""/>
              <p:cNvSpPr/>
              <p:nvPr/>
            </p:nvSpPr>
            <p:spPr>
              <a:xfrm flipH="1">
                <a:off x="6430320" y="4648320"/>
                <a:ext cx="10980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71" name=""/>
            <p:cNvGrpSpPr/>
            <p:nvPr/>
          </p:nvGrpSpPr>
          <p:grpSpPr>
            <a:xfrm>
              <a:off x="6540840" y="4648320"/>
              <a:ext cx="85680" cy="73440"/>
              <a:chOff x="6540840" y="4648320"/>
              <a:chExt cx="85680" cy="73440"/>
            </a:xfrm>
          </p:grpSpPr>
          <p:sp>
            <p:nvSpPr>
              <p:cNvPr id="3372" name=""/>
              <p:cNvSpPr/>
              <p:nvPr/>
            </p:nvSpPr>
            <p:spPr>
              <a:xfrm>
                <a:off x="6553080" y="4648320"/>
                <a:ext cx="608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3" name=""/>
              <p:cNvSpPr/>
              <p:nvPr/>
            </p:nvSpPr>
            <p:spPr>
              <a:xfrm flipH="1">
                <a:off x="6540840" y="4648320"/>
                <a:ext cx="8568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74" name=""/>
            <p:cNvGrpSpPr/>
            <p:nvPr/>
          </p:nvGrpSpPr>
          <p:grpSpPr>
            <a:xfrm>
              <a:off x="5731920" y="4930200"/>
              <a:ext cx="97920" cy="60840"/>
              <a:chOff x="5731920" y="4930200"/>
              <a:chExt cx="97920" cy="60840"/>
            </a:xfrm>
          </p:grpSpPr>
          <p:sp>
            <p:nvSpPr>
              <p:cNvPr id="3375" name=""/>
              <p:cNvSpPr/>
              <p:nvPr/>
            </p:nvSpPr>
            <p:spPr>
              <a:xfrm>
                <a:off x="5743800" y="4930200"/>
                <a:ext cx="7344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6" name=""/>
              <p:cNvSpPr/>
              <p:nvPr/>
            </p:nvSpPr>
            <p:spPr>
              <a:xfrm flipH="1">
                <a:off x="5731920" y="4930200"/>
                <a:ext cx="9792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77" name=""/>
            <p:cNvGrpSpPr/>
            <p:nvPr/>
          </p:nvGrpSpPr>
          <p:grpSpPr>
            <a:xfrm>
              <a:off x="5842440" y="4930200"/>
              <a:ext cx="85680" cy="60840"/>
              <a:chOff x="5842440" y="4930200"/>
              <a:chExt cx="85680" cy="60840"/>
            </a:xfrm>
          </p:grpSpPr>
          <p:sp>
            <p:nvSpPr>
              <p:cNvPr id="3378" name=""/>
              <p:cNvSpPr/>
              <p:nvPr/>
            </p:nvSpPr>
            <p:spPr>
              <a:xfrm>
                <a:off x="5854320" y="4930200"/>
                <a:ext cx="6084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9" name=""/>
              <p:cNvSpPr/>
              <p:nvPr/>
            </p:nvSpPr>
            <p:spPr>
              <a:xfrm flipH="1">
                <a:off x="5842440" y="4930200"/>
                <a:ext cx="8568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0" name=""/>
            <p:cNvGrpSpPr/>
            <p:nvPr/>
          </p:nvGrpSpPr>
          <p:grpSpPr>
            <a:xfrm>
              <a:off x="5964480" y="4930200"/>
              <a:ext cx="110160" cy="60840"/>
              <a:chOff x="5964480" y="4930200"/>
              <a:chExt cx="110160" cy="60840"/>
            </a:xfrm>
          </p:grpSpPr>
          <p:sp>
            <p:nvSpPr>
              <p:cNvPr id="3381" name=""/>
              <p:cNvSpPr/>
              <p:nvPr/>
            </p:nvSpPr>
            <p:spPr>
              <a:xfrm>
                <a:off x="5976720" y="4930200"/>
                <a:ext cx="8532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2" name=""/>
              <p:cNvSpPr/>
              <p:nvPr/>
            </p:nvSpPr>
            <p:spPr>
              <a:xfrm flipH="1">
                <a:off x="5964480" y="4930200"/>
                <a:ext cx="11016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3" name=""/>
            <p:cNvGrpSpPr/>
            <p:nvPr/>
          </p:nvGrpSpPr>
          <p:grpSpPr>
            <a:xfrm>
              <a:off x="6075000" y="4930200"/>
              <a:ext cx="85680" cy="60840"/>
              <a:chOff x="6075000" y="4930200"/>
              <a:chExt cx="85680" cy="60840"/>
            </a:xfrm>
          </p:grpSpPr>
          <p:sp>
            <p:nvSpPr>
              <p:cNvPr id="3384" name=""/>
              <p:cNvSpPr/>
              <p:nvPr/>
            </p:nvSpPr>
            <p:spPr>
              <a:xfrm>
                <a:off x="6086880" y="4930200"/>
                <a:ext cx="6120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5" name=""/>
              <p:cNvSpPr/>
              <p:nvPr/>
            </p:nvSpPr>
            <p:spPr>
              <a:xfrm flipH="1">
                <a:off x="6075000" y="4930200"/>
                <a:ext cx="8568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6" name=""/>
            <p:cNvGrpSpPr/>
            <p:nvPr/>
          </p:nvGrpSpPr>
          <p:grpSpPr>
            <a:xfrm>
              <a:off x="6185160" y="4930200"/>
              <a:ext cx="110160" cy="60840"/>
              <a:chOff x="6185160" y="4930200"/>
              <a:chExt cx="110160" cy="60840"/>
            </a:xfrm>
          </p:grpSpPr>
          <p:sp>
            <p:nvSpPr>
              <p:cNvPr id="3387" name=""/>
              <p:cNvSpPr/>
              <p:nvPr/>
            </p:nvSpPr>
            <p:spPr>
              <a:xfrm>
                <a:off x="6197400" y="4930200"/>
                <a:ext cx="8532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8" name=""/>
              <p:cNvSpPr/>
              <p:nvPr/>
            </p:nvSpPr>
            <p:spPr>
              <a:xfrm flipH="1">
                <a:off x="6185160" y="4930200"/>
                <a:ext cx="11016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9" name=""/>
            <p:cNvGrpSpPr/>
            <p:nvPr/>
          </p:nvGrpSpPr>
          <p:grpSpPr>
            <a:xfrm>
              <a:off x="6295680" y="4930200"/>
              <a:ext cx="97920" cy="60840"/>
              <a:chOff x="6295680" y="4930200"/>
              <a:chExt cx="97920" cy="60840"/>
            </a:xfrm>
          </p:grpSpPr>
          <p:sp>
            <p:nvSpPr>
              <p:cNvPr id="3390" name=""/>
              <p:cNvSpPr/>
              <p:nvPr/>
            </p:nvSpPr>
            <p:spPr>
              <a:xfrm>
                <a:off x="6307560" y="4930200"/>
                <a:ext cx="7344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1" name=""/>
              <p:cNvSpPr/>
              <p:nvPr/>
            </p:nvSpPr>
            <p:spPr>
              <a:xfrm flipH="1">
                <a:off x="6295680" y="4930200"/>
                <a:ext cx="9792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92" name=""/>
            <p:cNvGrpSpPr/>
            <p:nvPr/>
          </p:nvGrpSpPr>
          <p:grpSpPr>
            <a:xfrm>
              <a:off x="6430320" y="4930200"/>
              <a:ext cx="109800" cy="60840"/>
              <a:chOff x="6430320" y="4930200"/>
              <a:chExt cx="109800" cy="60840"/>
            </a:xfrm>
          </p:grpSpPr>
          <p:sp>
            <p:nvSpPr>
              <p:cNvPr id="3393" name=""/>
              <p:cNvSpPr/>
              <p:nvPr/>
            </p:nvSpPr>
            <p:spPr>
              <a:xfrm>
                <a:off x="6442560" y="4930200"/>
                <a:ext cx="8532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4" name=""/>
              <p:cNvSpPr/>
              <p:nvPr/>
            </p:nvSpPr>
            <p:spPr>
              <a:xfrm flipH="1">
                <a:off x="6430320" y="4930200"/>
                <a:ext cx="10980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95" name=""/>
            <p:cNvGrpSpPr/>
            <p:nvPr/>
          </p:nvGrpSpPr>
          <p:grpSpPr>
            <a:xfrm>
              <a:off x="6540840" y="4930200"/>
              <a:ext cx="85680" cy="60840"/>
              <a:chOff x="6540840" y="4930200"/>
              <a:chExt cx="85680" cy="60840"/>
            </a:xfrm>
          </p:grpSpPr>
          <p:sp>
            <p:nvSpPr>
              <p:cNvPr id="3396" name=""/>
              <p:cNvSpPr/>
              <p:nvPr/>
            </p:nvSpPr>
            <p:spPr>
              <a:xfrm>
                <a:off x="6553080" y="4930200"/>
                <a:ext cx="6084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7" name=""/>
              <p:cNvSpPr/>
              <p:nvPr/>
            </p:nvSpPr>
            <p:spPr>
              <a:xfrm flipH="1">
                <a:off x="6540840" y="4930200"/>
                <a:ext cx="8568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98" name=""/>
            <p:cNvSpPr/>
            <p:nvPr/>
          </p:nvSpPr>
          <p:spPr>
            <a:xfrm>
              <a:off x="7245720" y="6456240"/>
              <a:ext cx="134820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279360"/>
                  <a:tab algn="l" pos="571680"/>
                  <a:tab algn="l" pos="8510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9" name=""/>
          <p:cNvSpPr/>
          <p:nvPr/>
        </p:nvSpPr>
        <p:spPr>
          <a:xfrm>
            <a:off x="5710320" y="1290600"/>
            <a:ext cx="14097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279360"/>
                <a:tab algn="l" pos="571680"/>
                <a:tab algn="l" pos="85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ALs and PLAs: design example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0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de converter: programmed P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C52F-D6AA-46C7-AA56-94BF95B5A6E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2" name=""/>
          <p:cNvSpPr/>
          <p:nvPr/>
        </p:nvSpPr>
        <p:spPr>
          <a:xfrm>
            <a:off x="2724480" y="3468600"/>
            <a:ext cx="134568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3" name=""/>
          <p:cNvSpPr/>
          <p:nvPr/>
        </p:nvSpPr>
        <p:spPr>
          <a:xfrm>
            <a:off x="3295800" y="3494160"/>
            <a:ext cx="21528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4" name=""/>
          <p:cNvSpPr/>
          <p:nvPr/>
        </p:nvSpPr>
        <p:spPr>
          <a:xfrm>
            <a:off x="2724480" y="3441600"/>
            <a:ext cx="1345680" cy="4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5" name=""/>
          <p:cNvSpPr/>
          <p:nvPr/>
        </p:nvSpPr>
        <p:spPr>
          <a:xfrm>
            <a:off x="3295440" y="3454560"/>
            <a:ext cx="21564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6" name=""/>
          <p:cNvSpPr/>
          <p:nvPr/>
        </p:nvSpPr>
        <p:spPr>
          <a:xfrm>
            <a:off x="3409920" y="3619440"/>
            <a:ext cx="76320" cy="88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7" name=""/>
          <p:cNvSpPr/>
          <p:nvPr/>
        </p:nvSpPr>
        <p:spPr>
          <a:xfrm>
            <a:off x="3308400" y="3441600"/>
            <a:ext cx="8892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8" name=""/>
          <p:cNvSpPr/>
          <p:nvPr/>
        </p:nvSpPr>
        <p:spPr>
          <a:xfrm>
            <a:off x="3308400" y="3809880"/>
            <a:ext cx="88920" cy="88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9" name=""/>
          <p:cNvSpPr/>
          <p:nvPr/>
        </p:nvSpPr>
        <p:spPr>
          <a:xfrm>
            <a:off x="1898640" y="2908440"/>
            <a:ext cx="26676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0" name=""/>
          <p:cNvSpPr/>
          <p:nvPr/>
        </p:nvSpPr>
        <p:spPr>
          <a:xfrm flipV="1">
            <a:off x="1898640" y="3086280"/>
            <a:ext cx="266760" cy="20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1" name=""/>
          <p:cNvSpPr/>
          <p:nvPr/>
        </p:nvSpPr>
        <p:spPr>
          <a:xfrm>
            <a:off x="1892160" y="29084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2" name=""/>
          <p:cNvSpPr/>
          <p:nvPr/>
        </p:nvSpPr>
        <p:spPr>
          <a:xfrm>
            <a:off x="2178000" y="3060720"/>
            <a:ext cx="88920" cy="76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3" name=""/>
          <p:cNvSpPr/>
          <p:nvPr/>
        </p:nvSpPr>
        <p:spPr>
          <a:xfrm>
            <a:off x="1898640" y="3435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4" name=""/>
          <p:cNvSpPr/>
          <p:nvPr/>
        </p:nvSpPr>
        <p:spPr>
          <a:xfrm>
            <a:off x="1898640" y="3879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5" name=""/>
          <p:cNvSpPr/>
          <p:nvPr/>
        </p:nvSpPr>
        <p:spPr>
          <a:xfrm>
            <a:off x="1892160" y="344160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6" name=""/>
          <p:cNvSpPr/>
          <p:nvPr/>
        </p:nvSpPr>
        <p:spPr>
          <a:xfrm>
            <a:off x="2140560" y="3443400"/>
            <a:ext cx="443520" cy="46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7" name=""/>
          <p:cNvSpPr/>
          <p:nvPr/>
        </p:nvSpPr>
        <p:spPr>
          <a:xfrm>
            <a:off x="2140200" y="3416400"/>
            <a:ext cx="443880" cy="48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8" name=""/>
          <p:cNvSpPr/>
          <p:nvPr/>
        </p:nvSpPr>
        <p:spPr>
          <a:xfrm>
            <a:off x="2584440" y="3619440"/>
            <a:ext cx="76320" cy="88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9" name=""/>
          <p:cNvSpPr/>
          <p:nvPr/>
        </p:nvSpPr>
        <p:spPr>
          <a:xfrm>
            <a:off x="1898640" y="3994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0" name=""/>
          <p:cNvSpPr/>
          <p:nvPr/>
        </p:nvSpPr>
        <p:spPr>
          <a:xfrm>
            <a:off x="1898640" y="44514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1" name=""/>
          <p:cNvSpPr/>
          <p:nvPr/>
        </p:nvSpPr>
        <p:spPr>
          <a:xfrm>
            <a:off x="1892160" y="4000680"/>
            <a:ext cx="0" cy="44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2" name=""/>
          <p:cNvSpPr/>
          <p:nvPr/>
        </p:nvSpPr>
        <p:spPr>
          <a:xfrm>
            <a:off x="2140560" y="4002120"/>
            <a:ext cx="443520" cy="48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3" name=""/>
          <p:cNvSpPr/>
          <p:nvPr/>
        </p:nvSpPr>
        <p:spPr>
          <a:xfrm>
            <a:off x="2140200" y="3987720"/>
            <a:ext cx="443880" cy="46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4" name=""/>
          <p:cNvSpPr/>
          <p:nvPr/>
        </p:nvSpPr>
        <p:spPr>
          <a:xfrm>
            <a:off x="2584440" y="4191120"/>
            <a:ext cx="76320" cy="75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5" name=""/>
          <p:cNvSpPr/>
          <p:nvPr/>
        </p:nvSpPr>
        <p:spPr>
          <a:xfrm>
            <a:off x="2660760" y="48448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6" name=""/>
          <p:cNvSpPr/>
          <p:nvPr/>
        </p:nvSpPr>
        <p:spPr>
          <a:xfrm>
            <a:off x="2660760" y="5289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7" name=""/>
          <p:cNvSpPr/>
          <p:nvPr/>
        </p:nvSpPr>
        <p:spPr>
          <a:xfrm>
            <a:off x="2654280" y="485136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8" name=""/>
          <p:cNvSpPr/>
          <p:nvPr/>
        </p:nvSpPr>
        <p:spPr>
          <a:xfrm>
            <a:off x="2902680" y="4853160"/>
            <a:ext cx="430560" cy="46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9" name=""/>
          <p:cNvSpPr/>
          <p:nvPr/>
        </p:nvSpPr>
        <p:spPr>
          <a:xfrm>
            <a:off x="2902320" y="4826160"/>
            <a:ext cx="430920" cy="48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0" name=""/>
          <p:cNvSpPr/>
          <p:nvPr/>
        </p:nvSpPr>
        <p:spPr>
          <a:xfrm>
            <a:off x="3333600" y="5041800"/>
            <a:ext cx="7632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1" name=""/>
          <p:cNvSpPr/>
          <p:nvPr/>
        </p:nvSpPr>
        <p:spPr>
          <a:xfrm>
            <a:off x="2000160" y="4978440"/>
            <a:ext cx="26676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2" name=""/>
          <p:cNvSpPr/>
          <p:nvPr/>
        </p:nvSpPr>
        <p:spPr>
          <a:xfrm flipV="1">
            <a:off x="2000160" y="5156280"/>
            <a:ext cx="266760" cy="20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3" name=""/>
          <p:cNvSpPr/>
          <p:nvPr/>
        </p:nvSpPr>
        <p:spPr>
          <a:xfrm>
            <a:off x="1994040" y="49784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4" name=""/>
          <p:cNvSpPr/>
          <p:nvPr/>
        </p:nvSpPr>
        <p:spPr>
          <a:xfrm>
            <a:off x="1898640" y="5130720"/>
            <a:ext cx="88920" cy="88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5" name=""/>
          <p:cNvSpPr/>
          <p:nvPr/>
        </p:nvSpPr>
        <p:spPr>
          <a:xfrm>
            <a:off x="3879720" y="4889520"/>
            <a:ext cx="26676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6" name=""/>
          <p:cNvSpPr/>
          <p:nvPr/>
        </p:nvSpPr>
        <p:spPr>
          <a:xfrm flipV="1">
            <a:off x="3879720" y="5067000"/>
            <a:ext cx="266760" cy="19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7" name=""/>
          <p:cNvSpPr/>
          <p:nvPr/>
        </p:nvSpPr>
        <p:spPr>
          <a:xfrm>
            <a:off x="3873600" y="488952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8" name=""/>
          <p:cNvSpPr/>
          <p:nvPr/>
        </p:nvSpPr>
        <p:spPr>
          <a:xfrm>
            <a:off x="3790800" y="5041800"/>
            <a:ext cx="7632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9" name=""/>
          <p:cNvSpPr/>
          <p:nvPr/>
        </p:nvSpPr>
        <p:spPr>
          <a:xfrm>
            <a:off x="2038320" y="5791320"/>
            <a:ext cx="1294920" cy="44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0" name=""/>
          <p:cNvSpPr/>
          <p:nvPr/>
        </p:nvSpPr>
        <p:spPr>
          <a:xfrm>
            <a:off x="2038680" y="5818320"/>
            <a:ext cx="1294560" cy="43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1" name=""/>
          <p:cNvSpPr/>
          <p:nvPr/>
        </p:nvSpPr>
        <p:spPr>
          <a:xfrm>
            <a:off x="2622600" y="5818320"/>
            <a:ext cx="126720" cy="39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2" name=""/>
          <p:cNvSpPr/>
          <p:nvPr/>
        </p:nvSpPr>
        <p:spPr>
          <a:xfrm>
            <a:off x="2660400" y="5816520"/>
            <a:ext cx="88920" cy="39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3" name=""/>
          <p:cNvSpPr/>
          <p:nvPr/>
        </p:nvSpPr>
        <p:spPr>
          <a:xfrm>
            <a:off x="2660760" y="5880240"/>
            <a:ext cx="75960" cy="88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4" name=""/>
          <p:cNvSpPr/>
          <p:nvPr/>
        </p:nvSpPr>
        <p:spPr>
          <a:xfrm>
            <a:off x="2660760" y="6070680"/>
            <a:ext cx="75960" cy="88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5" name=""/>
          <p:cNvSpPr/>
          <p:nvPr/>
        </p:nvSpPr>
        <p:spPr>
          <a:xfrm>
            <a:off x="2000160" y="5918040"/>
            <a:ext cx="26676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6" name=""/>
          <p:cNvSpPr/>
          <p:nvPr/>
        </p:nvSpPr>
        <p:spPr>
          <a:xfrm flipV="1">
            <a:off x="2000160" y="6095520"/>
            <a:ext cx="266760" cy="20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7" name=""/>
          <p:cNvSpPr/>
          <p:nvPr/>
        </p:nvSpPr>
        <p:spPr>
          <a:xfrm>
            <a:off x="1994040" y="5918040"/>
            <a:ext cx="0" cy="368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8" name=""/>
          <p:cNvSpPr/>
          <p:nvPr/>
        </p:nvSpPr>
        <p:spPr>
          <a:xfrm>
            <a:off x="2279520" y="6070680"/>
            <a:ext cx="76320" cy="88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9" name=""/>
          <p:cNvSpPr/>
          <p:nvPr/>
        </p:nvSpPr>
        <p:spPr>
          <a:xfrm>
            <a:off x="5950080" y="305424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0" name=""/>
          <p:cNvSpPr/>
          <p:nvPr/>
        </p:nvSpPr>
        <p:spPr>
          <a:xfrm>
            <a:off x="5950080" y="349884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1" name=""/>
          <p:cNvSpPr/>
          <p:nvPr/>
        </p:nvSpPr>
        <p:spPr>
          <a:xfrm>
            <a:off x="5943600" y="3060720"/>
            <a:ext cx="0" cy="43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2" name=""/>
          <p:cNvSpPr/>
          <p:nvPr/>
        </p:nvSpPr>
        <p:spPr>
          <a:xfrm>
            <a:off x="6191280" y="3062160"/>
            <a:ext cx="444240" cy="46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3" name=""/>
          <p:cNvSpPr/>
          <p:nvPr/>
        </p:nvSpPr>
        <p:spPr>
          <a:xfrm>
            <a:off x="6190920" y="3035520"/>
            <a:ext cx="444600" cy="48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4" name=""/>
          <p:cNvSpPr/>
          <p:nvPr/>
        </p:nvSpPr>
        <p:spPr>
          <a:xfrm>
            <a:off x="6635880" y="3251160"/>
            <a:ext cx="7596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5" name=""/>
          <p:cNvSpPr/>
          <p:nvPr/>
        </p:nvSpPr>
        <p:spPr>
          <a:xfrm>
            <a:off x="5943600" y="290844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6" name=""/>
          <p:cNvSpPr/>
          <p:nvPr/>
        </p:nvSpPr>
        <p:spPr>
          <a:xfrm flipV="1">
            <a:off x="5943600" y="3492000"/>
            <a:ext cx="0" cy="1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7" name=""/>
          <p:cNvSpPr/>
          <p:nvPr/>
        </p:nvSpPr>
        <p:spPr>
          <a:xfrm>
            <a:off x="7080120" y="4000680"/>
            <a:ext cx="88920" cy="75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8" name=""/>
          <p:cNvSpPr/>
          <p:nvPr/>
        </p:nvSpPr>
        <p:spPr>
          <a:xfrm>
            <a:off x="7080120" y="4572000"/>
            <a:ext cx="8892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9" name=""/>
          <p:cNvSpPr/>
          <p:nvPr/>
        </p:nvSpPr>
        <p:spPr>
          <a:xfrm>
            <a:off x="6496200" y="4116240"/>
            <a:ext cx="1345680" cy="44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0" name=""/>
          <p:cNvSpPr/>
          <p:nvPr/>
        </p:nvSpPr>
        <p:spPr>
          <a:xfrm>
            <a:off x="7143840" y="4129200"/>
            <a:ext cx="12672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1" name=""/>
          <p:cNvSpPr/>
          <p:nvPr/>
        </p:nvSpPr>
        <p:spPr>
          <a:xfrm>
            <a:off x="6496200" y="4089600"/>
            <a:ext cx="1345680" cy="44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2" name=""/>
          <p:cNvSpPr/>
          <p:nvPr/>
        </p:nvSpPr>
        <p:spPr>
          <a:xfrm>
            <a:off x="7067160" y="4127760"/>
            <a:ext cx="20340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3" name=""/>
          <p:cNvSpPr/>
          <p:nvPr/>
        </p:nvSpPr>
        <p:spPr>
          <a:xfrm flipV="1">
            <a:off x="7175520" y="452088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4" name=""/>
          <p:cNvSpPr/>
          <p:nvPr/>
        </p:nvSpPr>
        <p:spPr>
          <a:xfrm>
            <a:off x="7175520" y="394956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5" name=""/>
          <p:cNvSpPr/>
          <p:nvPr/>
        </p:nvSpPr>
        <p:spPr>
          <a:xfrm>
            <a:off x="7182000" y="4191120"/>
            <a:ext cx="75960" cy="75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6" name=""/>
          <p:cNvSpPr/>
          <p:nvPr/>
        </p:nvSpPr>
        <p:spPr>
          <a:xfrm>
            <a:off x="7182000" y="4381560"/>
            <a:ext cx="7596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7" name=""/>
          <p:cNvSpPr/>
          <p:nvPr/>
        </p:nvSpPr>
        <p:spPr>
          <a:xfrm>
            <a:off x="5479920" y="380376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8" name=""/>
          <p:cNvSpPr/>
          <p:nvPr/>
        </p:nvSpPr>
        <p:spPr>
          <a:xfrm>
            <a:off x="5479920" y="426096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9" name=""/>
          <p:cNvSpPr/>
          <p:nvPr/>
        </p:nvSpPr>
        <p:spPr>
          <a:xfrm>
            <a:off x="5473800" y="380988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0" name=""/>
          <p:cNvSpPr/>
          <p:nvPr/>
        </p:nvSpPr>
        <p:spPr>
          <a:xfrm>
            <a:off x="5721840" y="3811680"/>
            <a:ext cx="443520" cy="48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1" name=""/>
          <p:cNvSpPr/>
          <p:nvPr/>
        </p:nvSpPr>
        <p:spPr>
          <a:xfrm>
            <a:off x="5721480" y="3797640"/>
            <a:ext cx="443880" cy="46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2" name=""/>
          <p:cNvSpPr/>
          <p:nvPr/>
        </p:nvSpPr>
        <p:spPr>
          <a:xfrm>
            <a:off x="6153120" y="4000680"/>
            <a:ext cx="88920" cy="75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3" name=""/>
          <p:cNvSpPr/>
          <p:nvPr/>
        </p:nvSpPr>
        <p:spPr>
          <a:xfrm>
            <a:off x="5479920" y="5035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4" name=""/>
          <p:cNvSpPr/>
          <p:nvPr/>
        </p:nvSpPr>
        <p:spPr>
          <a:xfrm>
            <a:off x="5479920" y="5479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5" name=""/>
          <p:cNvSpPr/>
          <p:nvPr/>
        </p:nvSpPr>
        <p:spPr>
          <a:xfrm>
            <a:off x="5473800" y="504180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6" name=""/>
          <p:cNvSpPr/>
          <p:nvPr/>
        </p:nvSpPr>
        <p:spPr>
          <a:xfrm>
            <a:off x="5721840" y="5043600"/>
            <a:ext cx="443520" cy="46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7" name=""/>
          <p:cNvSpPr/>
          <p:nvPr/>
        </p:nvSpPr>
        <p:spPr>
          <a:xfrm>
            <a:off x="5721480" y="5016600"/>
            <a:ext cx="443880" cy="48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8" name=""/>
          <p:cNvSpPr/>
          <p:nvPr/>
        </p:nvSpPr>
        <p:spPr>
          <a:xfrm>
            <a:off x="6153120" y="5232240"/>
            <a:ext cx="8892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9" name=""/>
          <p:cNvSpPr/>
          <p:nvPr/>
        </p:nvSpPr>
        <p:spPr>
          <a:xfrm>
            <a:off x="5479920" y="4375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0" name=""/>
          <p:cNvSpPr/>
          <p:nvPr/>
        </p:nvSpPr>
        <p:spPr>
          <a:xfrm>
            <a:off x="5479920" y="4819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1" name=""/>
          <p:cNvSpPr/>
          <p:nvPr/>
        </p:nvSpPr>
        <p:spPr>
          <a:xfrm>
            <a:off x="5473800" y="4381560"/>
            <a:ext cx="0" cy="43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2" name=""/>
          <p:cNvSpPr/>
          <p:nvPr/>
        </p:nvSpPr>
        <p:spPr>
          <a:xfrm>
            <a:off x="5721840" y="4383000"/>
            <a:ext cx="443520" cy="46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3" name=""/>
          <p:cNvSpPr/>
          <p:nvPr/>
        </p:nvSpPr>
        <p:spPr>
          <a:xfrm>
            <a:off x="5721480" y="4356360"/>
            <a:ext cx="443880" cy="48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4" name=""/>
          <p:cNvSpPr/>
          <p:nvPr/>
        </p:nvSpPr>
        <p:spPr>
          <a:xfrm>
            <a:off x="6153120" y="4572000"/>
            <a:ext cx="8892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5" name=""/>
          <p:cNvSpPr/>
          <p:nvPr/>
        </p:nvSpPr>
        <p:spPr>
          <a:xfrm>
            <a:off x="5289480" y="3378240"/>
            <a:ext cx="26676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6" name=""/>
          <p:cNvSpPr/>
          <p:nvPr/>
        </p:nvSpPr>
        <p:spPr>
          <a:xfrm flipV="1">
            <a:off x="5289480" y="3556080"/>
            <a:ext cx="266760" cy="20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7" name=""/>
          <p:cNvSpPr/>
          <p:nvPr/>
        </p:nvSpPr>
        <p:spPr>
          <a:xfrm>
            <a:off x="5283360" y="33782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8" name=""/>
          <p:cNvSpPr/>
          <p:nvPr/>
        </p:nvSpPr>
        <p:spPr>
          <a:xfrm>
            <a:off x="5568840" y="3530520"/>
            <a:ext cx="88920" cy="76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9" name=""/>
          <p:cNvSpPr/>
          <p:nvPr/>
        </p:nvSpPr>
        <p:spPr>
          <a:xfrm>
            <a:off x="4070520" y="3651120"/>
            <a:ext cx="17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0" name=""/>
          <p:cNvSpPr/>
          <p:nvPr/>
        </p:nvSpPr>
        <p:spPr>
          <a:xfrm>
            <a:off x="4267080" y="3511440"/>
            <a:ext cx="26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1" name=""/>
          <p:cNvSpPr/>
          <p:nvPr/>
        </p:nvSpPr>
        <p:spPr>
          <a:xfrm>
            <a:off x="3130560" y="346068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2" name=""/>
          <p:cNvSpPr/>
          <p:nvPr/>
        </p:nvSpPr>
        <p:spPr>
          <a:xfrm>
            <a:off x="2279520" y="309240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3" name=""/>
          <p:cNvSpPr/>
          <p:nvPr/>
        </p:nvSpPr>
        <p:spPr>
          <a:xfrm>
            <a:off x="2470320" y="3092400"/>
            <a:ext cx="647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4" name=""/>
          <p:cNvSpPr/>
          <p:nvPr/>
        </p:nvSpPr>
        <p:spPr>
          <a:xfrm>
            <a:off x="3124080" y="309888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5" name=""/>
          <p:cNvSpPr/>
          <p:nvPr/>
        </p:nvSpPr>
        <p:spPr>
          <a:xfrm>
            <a:off x="3219480" y="365112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6" name=""/>
          <p:cNvSpPr/>
          <p:nvPr/>
        </p:nvSpPr>
        <p:spPr>
          <a:xfrm>
            <a:off x="2660760" y="3651120"/>
            <a:ext cx="16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7" name=""/>
          <p:cNvSpPr/>
          <p:nvPr/>
        </p:nvSpPr>
        <p:spPr>
          <a:xfrm>
            <a:off x="2838600" y="365112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8" name=""/>
          <p:cNvSpPr/>
          <p:nvPr/>
        </p:nvSpPr>
        <p:spPr>
          <a:xfrm>
            <a:off x="3130560" y="384192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9" name=""/>
          <p:cNvSpPr/>
          <p:nvPr/>
        </p:nvSpPr>
        <p:spPr>
          <a:xfrm>
            <a:off x="2660760" y="4222800"/>
            <a:ext cx="16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0" name=""/>
          <p:cNvSpPr/>
          <p:nvPr/>
        </p:nvSpPr>
        <p:spPr>
          <a:xfrm>
            <a:off x="3124080" y="38480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1" name=""/>
          <p:cNvSpPr/>
          <p:nvPr/>
        </p:nvSpPr>
        <p:spPr>
          <a:xfrm>
            <a:off x="2838600" y="4222800"/>
            <a:ext cx="279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2" name=""/>
          <p:cNvSpPr/>
          <p:nvPr/>
        </p:nvSpPr>
        <p:spPr>
          <a:xfrm>
            <a:off x="3409920" y="507348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3" name=""/>
          <p:cNvSpPr/>
          <p:nvPr/>
        </p:nvSpPr>
        <p:spPr>
          <a:xfrm>
            <a:off x="3600360" y="507348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4" name=""/>
          <p:cNvSpPr/>
          <p:nvPr/>
        </p:nvSpPr>
        <p:spPr>
          <a:xfrm>
            <a:off x="4159080" y="507348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5" name=""/>
          <p:cNvSpPr/>
          <p:nvPr/>
        </p:nvSpPr>
        <p:spPr>
          <a:xfrm>
            <a:off x="4330800" y="4933800"/>
            <a:ext cx="241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6" name=""/>
          <p:cNvSpPr/>
          <p:nvPr/>
        </p:nvSpPr>
        <p:spPr>
          <a:xfrm>
            <a:off x="2470320" y="5162400"/>
            <a:ext cx="17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7" name=""/>
          <p:cNvSpPr/>
          <p:nvPr/>
        </p:nvSpPr>
        <p:spPr>
          <a:xfrm>
            <a:off x="2279520" y="516240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8" name=""/>
          <p:cNvSpPr/>
          <p:nvPr/>
        </p:nvSpPr>
        <p:spPr>
          <a:xfrm>
            <a:off x="2470320" y="5911920"/>
            <a:ext cx="17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9" name=""/>
          <p:cNvSpPr/>
          <p:nvPr/>
        </p:nvSpPr>
        <p:spPr>
          <a:xfrm>
            <a:off x="2368440" y="591192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0" name=""/>
          <p:cNvSpPr/>
          <p:nvPr/>
        </p:nvSpPr>
        <p:spPr>
          <a:xfrm>
            <a:off x="2362320" y="5168880"/>
            <a:ext cx="0" cy="736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1" name=""/>
          <p:cNvSpPr/>
          <p:nvPr/>
        </p:nvSpPr>
        <p:spPr>
          <a:xfrm>
            <a:off x="2355840" y="5156280"/>
            <a:ext cx="38160" cy="38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2" name=""/>
          <p:cNvSpPr/>
          <p:nvPr/>
        </p:nvSpPr>
        <p:spPr>
          <a:xfrm>
            <a:off x="3308400" y="601344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3" name=""/>
          <p:cNvSpPr/>
          <p:nvPr/>
        </p:nvSpPr>
        <p:spPr>
          <a:xfrm>
            <a:off x="3498840" y="601344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4" name=""/>
          <p:cNvSpPr/>
          <p:nvPr/>
        </p:nvSpPr>
        <p:spPr>
          <a:xfrm>
            <a:off x="4343400" y="5886360"/>
            <a:ext cx="241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5" name=""/>
          <p:cNvSpPr/>
          <p:nvPr/>
        </p:nvSpPr>
        <p:spPr>
          <a:xfrm>
            <a:off x="6889680" y="403236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6" name=""/>
          <p:cNvSpPr/>
          <p:nvPr/>
        </p:nvSpPr>
        <p:spPr>
          <a:xfrm>
            <a:off x="6699240" y="328284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7" name=""/>
          <p:cNvSpPr/>
          <p:nvPr/>
        </p:nvSpPr>
        <p:spPr>
          <a:xfrm>
            <a:off x="6883560" y="3289320"/>
            <a:ext cx="0" cy="736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8" name=""/>
          <p:cNvSpPr/>
          <p:nvPr/>
        </p:nvSpPr>
        <p:spPr>
          <a:xfrm>
            <a:off x="7829640" y="431172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9" name=""/>
          <p:cNvSpPr/>
          <p:nvPr/>
        </p:nvSpPr>
        <p:spPr>
          <a:xfrm>
            <a:off x="8026560" y="4184640"/>
            <a:ext cx="22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0" name=""/>
          <p:cNvSpPr/>
          <p:nvPr/>
        </p:nvSpPr>
        <p:spPr>
          <a:xfrm>
            <a:off x="5289480" y="384192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1" name=""/>
          <p:cNvSpPr/>
          <p:nvPr/>
        </p:nvSpPr>
        <p:spPr>
          <a:xfrm>
            <a:off x="5092560" y="3765600"/>
            <a:ext cx="241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2" name=""/>
          <p:cNvSpPr/>
          <p:nvPr/>
        </p:nvSpPr>
        <p:spPr>
          <a:xfrm>
            <a:off x="5759280" y="318132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3" name=""/>
          <p:cNvSpPr/>
          <p:nvPr/>
        </p:nvSpPr>
        <p:spPr>
          <a:xfrm>
            <a:off x="5562720" y="3105000"/>
            <a:ext cx="241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4" name=""/>
          <p:cNvSpPr/>
          <p:nvPr/>
        </p:nvSpPr>
        <p:spPr>
          <a:xfrm>
            <a:off x="1809720" y="610236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5" name=""/>
          <p:cNvSpPr/>
          <p:nvPr/>
        </p:nvSpPr>
        <p:spPr>
          <a:xfrm>
            <a:off x="1708200" y="6102360"/>
            <a:ext cx="88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6" name=""/>
          <p:cNvSpPr/>
          <p:nvPr/>
        </p:nvSpPr>
        <p:spPr>
          <a:xfrm>
            <a:off x="1511280" y="6026040"/>
            <a:ext cx="241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7" name=""/>
          <p:cNvSpPr/>
          <p:nvPr/>
        </p:nvSpPr>
        <p:spPr>
          <a:xfrm>
            <a:off x="2470320" y="4971960"/>
            <a:ext cx="17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8" name=""/>
          <p:cNvSpPr/>
          <p:nvPr/>
        </p:nvSpPr>
        <p:spPr>
          <a:xfrm>
            <a:off x="2368440" y="497196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9" name=""/>
          <p:cNvSpPr/>
          <p:nvPr/>
        </p:nvSpPr>
        <p:spPr>
          <a:xfrm>
            <a:off x="2362320" y="4788000"/>
            <a:ext cx="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0" name=""/>
          <p:cNvSpPr/>
          <p:nvPr/>
        </p:nvSpPr>
        <p:spPr>
          <a:xfrm>
            <a:off x="1708200" y="4781520"/>
            <a:ext cx="647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1" name=""/>
          <p:cNvSpPr/>
          <p:nvPr/>
        </p:nvSpPr>
        <p:spPr>
          <a:xfrm>
            <a:off x="1511280" y="4705200"/>
            <a:ext cx="241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2" name=""/>
          <p:cNvSpPr/>
          <p:nvPr/>
        </p:nvSpPr>
        <p:spPr>
          <a:xfrm>
            <a:off x="1708200" y="412128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3" name=""/>
          <p:cNvSpPr/>
          <p:nvPr/>
        </p:nvSpPr>
        <p:spPr>
          <a:xfrm>
            <a:off x="1511280" y="4044960"/>
            <a:ext cx="241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4" name=""/>
          <p:cNvSpPr/>
          <p:nvPr/>
        </p:nvSpPr>
        <p:spPr>
          <a:xfrm>
            <a:off x="1708200" y="356220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5" name=""/>
          <p:cNvSpPr/>
          <p:nvPr/>
        </p:nvSpPr>
        <p:spPr>
          <a:xfrm>
            <a:off x="1511280" y="3486240"/>
            <a:ext cx="241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6" name=""/>
          <p:cNvSpPr/>
          <p:nvPr/>
        </p:nvSpPr>
        <p:spPr>
          <a:xfrm>
            <a:off x="6991200" y="422280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7" name=""/>
          <p:cNvSpPr/>
          <p:nvPr/>
        </p:nvSpPr>
        <p:spPr>
          <a:xfrm>
            <a:off x="6229440" y="403236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8" name=""/>
          <p:cNvSpPr/>
          <p:nvPr/>
        </p:nvSpPr>
        <p:spPr>
          <a:xfrm>
            <a:off x="6610320" y="422280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9" name=""/>
          <p:cNvSpPr/>
          <p:nvPr/>
        </p:nvSpPr>
        <p:spPr>
          <a:xfrm>
            <a:off x="6603840" y="4038480"/>
            <a:ext cx="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0" name=""/>
          <p:cNvSpPr/>
          <p:nvPr/>
        </p:nvSpPr>
        <p:spPr>
          <a:xfrm>
            <a:off x="6419880" y="403236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1" name=""/>
          <p:cNvSpPr/>
          <p:nvPr/>
        </p:nvSpPr>
        <p:spPr>
          <a:xfrm>
            <a:off x="5289480" y="507348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2" name=""/>
          <p:cNvSpPr/>
          <p:nvPr/>
        </p:nvSpPr>
        <p:spPr>
          <a:xfrm>
            <a:off x="4991040" y="4997520"/>
            <a:ext cx="317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\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3" name=""/>
          <p:cNvSpPr/>
          <p:nvPr/>
        </p:nvSpPr>
        <p:spPr>
          <a:xfrm>
            <a:off x="2470320" y="6102360"/>
            <a:ext cx="17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4" name=""/>
          <p:cNvSpPr/>
          <p:nvPr/>
        </p:nvSpPr>
        <p:spPr>
          <a:xfrm>
            <a:off x="2368440" y="610236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5" name=""/>
          <p:cNvSpPr/>
          <p:nvPr/>
        </p:nvSpPr>
        <p:spPr>
          <a:xfrm>
            <a:off x="5289480" y="525132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6" name=""/>
          <p:cNvSpPr/>
          <p:nvPr/>
        </p:nvSpPr>
        <p:spPr>
          <a:xfrm>
            <a:off x="5092560" y="5175360"/>
            <a:ext cx="241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7" name=""/>
          <p:cNvSpPr/>
          <p:nvPr/>
        </p:nvSpPr>
        <p:spPr>
          <a:xfrm>
            <a:off x="5289480" y="403236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8" name=""/>
          <p:cNvSpPr/>
          <p:nvPr/>
        </p:nvSpPr>
        <p:spPr>
          <a:xfrm>
            <a:off x="5092560" y="3956040"/>
            <a:ext cx="241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9" name=""/>
          <p:cNvSpPr/>
          <p:nvPr/>
        </p:nvSpPr>
        <p:spPr>
          <a:xfrm>
            <a:off x="5759280" y="337176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0" name=""/>
          <p:cNvSpPr/>
          <p:nvPr/>
        </p:nvSpPr>
        <p:spPr>
          <a:xfrm>
            <a:off x="5562720" y="3295800"/>
            <a:ext cx="241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1" name=""/>
          <p:cNvSpPr/>
          <p:nvPr/>
        </p:nvSpPr>
        <p:spPr>
          <a:xfrm>
            <a:off x="1708200" y="516240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2" name=""/>
          <p:cNvSpPr/>
          <p:nvPr/>
        </p:nvSpPr>
        <p:spPr>
          <a:xfrm>
            <a:off x="1511280" y="5086440"/>
            <a:ext cx="241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3" name=""/>
          <p:cNvSpPr/>
          <p:nvPr/>
        </p:nvSpPr>
        <p:spPr>
          <a:xfrm>
            <a:off x="1708200" y="431172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4" name=""/>
          <p:cNvSpPr/>
          <p:nvPr/>
        </p:nvSpPr>
        <p:spPr>
          <a:xfrm>
            <a:off x="1511280" y="4235400"/>
            <a:ext cx="241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5" name=""/>
          <p:cNvSpPr/>
          <p:nvPr/>
        </p:nvSpPr>
        <p:spPr>
          <a:xfrm>
            <a:off x="6889680" y="460368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6" name=""/>
          <p:cNvSpPr/>
          <p:nvPr/>
        </p:nvSpPr>
        <p:spPr>
          <a:xfrm>
            <a:off x="6229440" y="525132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7" name=""/>
          <p:cNvSpPr/>
          <p:nvPr/>
        </p:nvSpPr>
        <p:spPr>
          <a:xfrm>
            <a:off x="6419880" y="5251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8" name=""/>
          <p:cNvSpPr/>
          <p:nvPr/>
        </p:nvSpPr>
        <p:spPr>
          <a:xfrm>
            <a:off x="6883560" y="4610160"/>
            <a:ext cx="0" cy="63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9" name=""/>
          <p:cNvSpPr/>
          <p:nvPr/>
        </p:nvSpPr>
        <p:spPr>
          <a:xfrm>
            <a:off x="5289480" y="450216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0" name=""/>
          <p:cNvSpPr/>
          <p:nvPr/>
        </p:nvSpPr>
        <p:spPr>
          <a:xfrm>
            <a:off x="5092560" y="4425840"/>
            <a:ext cx="254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1" name=""/>
          <p:cNvSpPr/>
          <p:nvPr/>
        </p:nvSpPr>
        <p:spPr>
          <a:xfrm>
            <a:off x="5759280" y="299088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2" name=""/>
          <p:cNvSpPr/>
          <p:nvPr/>
        </p:nvSpPr>
        <p:spPr>
          <a:xfrm>
            <a:off x="5562720" y="2914560"/>
            <a:ext cx="253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3" name=""/>
          <p:cNvSpPr/>
          <p:nvPr/>
        </p:nvSpPr>
        <p:spPr>
          <a:xfrm>
            <a:off x="1708200" y="309240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4" name=""/>
          <p:cNvSpPr/>
          <p:nvPr/>
        </p:nvSpPr>
        <p:spPr>
          <a:xfrm>
            <a:off x="1511280" y="3016080"/>
            <a:ext cx="254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5" name=""/>
          <p:cNvSpPr/>
          <p:nvPr/>
        </p:nvSpPr>
        <p:spPr>
          <a:xfrm>
            <a:off x="6991200" y="441324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6" name=""/>
          <p:cNvSpPr/>
          <p:nvPr/>
        </p:nvSpPr>
        <p:spPr>
          <a:xfrm>
            <a:off x="6229440" y="460368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7" name=""/>
          <p:cNvSpPr/>
          <p:nvPr/>
        </p:nvSpPr>
        <p:spPr>
          <a:xfrm>
            <a:off x="6610320" y="441324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8" name=""/>
          <p:cNvSpPr/>
          <p:nvPr/>
        </p:nvSpPr>
        <p:spPr>
          <a:xfrm>
            <a:off x="6419880" y="460368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9" name=""/>
          <p:cNvSpPr/>
          <p:nvPr/>
        </p:nvSpPr>
        <p:spPr>
          <a:xfrm>
            <a:off x="6603840" y="4419720"/>
            <a:ext cx="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0" name=""/>
          <p:cNvSpPr/>
          <p:nvPr/>
        </p:nvSpPr>
        <p:spPr>
          <a:xfrm>
            <a:off x="5099040" y="356220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1" name=""/>
          <p:cNvSpPr/>
          <p:nvPr/>
        </p:nvSpPr>
        <p:spPr>
          <a:xfrm>
            <a:off x="4902120" y="3486240"/>
            <a:ext cx="241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2" name=""/>
          <p:cNvSpPr/>
          <p:nvPr/>
        </p:nvSpPr>
        <p:spPr>
          <a:xfrm>
            <a:off x="5289480" y="422280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3" name=""/>
          <p:cNvSpPr/>
          <p:nvPr/>
        </p:nvSpPr>
        <p:spPr>
          <a:xfrm>
            <a:off x="5092560" y="4146480"/>
            <a:ext cx="241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4" name=""/>
          <p:cNvSpPr/>
          <p:nvPr/>
        </p:nvSpPr>
        <p:spPr>
          <a:xfrm>
            <a:off x="1708200" y="375300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5" name=""/>
          <p:cNvSpPr/>
          <p:nvPr/>
        </p:nvSpPr>
        <p:spPr>
          <a:xfrm>
            <a:off x="1511280" y="3676680"/>
            <a:ext cx="241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6" name=""/>
          <p:cNvSpPr/>
          <p:nvPr/>
        </p:nvSpPr>
        <p:spPr>
          <a:xfrm>
            <a:off x="5759280" y="356220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7" name=""/>
          <p:cNvSpPr/>
          <p:nvPr/>
        </p:nvSpPr>
        <p:spPr>
          <a:xfrm>
            <a:off x="5670720" y="3562200"/>
            <a:ext cx="17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8" name=""/>
          <p:cNvSpPr/>
          <p:nvPr/>
        </p:nvSpPr>
        <p:spPr>
          <a:xfrm>
            <a:off x="5289480" y="544212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9" name=""/>
          <p:cNvSpPr/>
          <p:nvPr/>
        </p:nvSpPr>
        <p:spPr>
          <a:xfrm>
            <a:off x="4991040" y="5365800"/>
            <a:ext cx="317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\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0" name=""/>
          <p:cNvSpPr/>
          <p:nvPr/>
        </p:nvSpPr>
        <p:spPr>
          <a:xfrm>
            <a:off x="5289480" y="469260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1" name=""/>
          <p:cNvSpPr/>
          <p:nvPr/>
        </p:nvSpPr>
        <p:spPr>
          <a:xfrm>
            <a:off x="4991040" y="4616280"/>
            <a:ext cx="317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\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ALs and PLAs: design example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8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de converter: NAND gate imple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s or regularity, harder to under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er to make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E18C-20FF-442A-A1BF-6940523C1FC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4" name=""/>
          <p:cNvGrpSpPr/>
          <p:nvPr/>
        </p:nvGrpSpPr>
        <p:grpSpPr>
          <a:xfrm>
            <a:off x="5275440" y="1414440"/>
            <a:ext cx="3931560" cy="5370120"/>
            <a:chOff x="5275440" y="1414440"/>
            <a:chExt cx="3931560" cy="5370120"/>
          </a:xfrm>
        </p:grpSpPr>
        <p:sp>
          <p:nvSpPr>
            <p:cNvPr id="3585" name=""/>
            <p:cNvSpPr/>
            <p:nvPr/>
          </p:nvSpPr>
          <p:spPr>
            <a:xfrm>
              <a:off x="6330960" y="1901880"/>
              <a:ext cx="0" cy="386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6" name=""/>
            <p:cNvSpPr/>
            <p:nvPr/>
          </p:nvSpPr>
          <p:spPr>
            <a:xfrm>
              <a:off x="6219720" y="1827720"/>
              <a:ext cx="0" cy="395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7" name=""/>
            <p:cNvSpPr/>
            <p:nvPr/>
          </p:nvSpPr>
          <p:spPr>
            <a:xfrm>
              <a:off x="5948280" y="1827720"/>
              <a:ext cx="0" cy="395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8" name=""/>
            <p:cNvSpPr/>
            <p:nvPr/>
          </p:nvSpPr>
          <p:spPr>
            <a:xfrm>
              <a:off x="5787720" y="1901880"/>
              <a:ext cx="0" cy="386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9" name=""/>
            <p:cNvSpPr/>
            <p:nvPr/>
          </p:nvSpPr>
          <p:spPr>
            <a:xfrm>
              <a:off x="5417280" y="1827720"/>
              <a:ext cx="0" cy="395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0" name=""/>
            <p:cNvSpPr/>
            <p:nvPr/>
          </p:nvSpPr>
          <p:spPr>
            <a:xfrm>
              <a:off x="5515920" y="1889640"/>
              <a:ext cx="0" cy="386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1" name=""/>
            <p:cNvSpPr/>
            <p:nvPr/>
          </p:nvSpPr>
          <p:spPr>
            <a:xfrm>
              <a:off x="6584040" y="290808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2" name=""/>
            <p:cNvSpPr/>
            <p:nvPr/>
          </p:nvSpPr>
          <p:spPr>
            <a:xfrm>
              <a:off x="6584040" y="3192120"/>
              <a:ext cx="29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3" name=""/>
            <p:cNvSpPr/>
            <p:nvPr/>
          </p:nvSpPr>
          <p:spPr>
            <a:xfrm flipV="1">
              <a:off x="6577560" y="2901240"/>
              <a:ext cx="0" cy="296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4" name=""/>
            <p:cNvSpPr/>
            <p:nvPr/>
          </p:nvSpPr>
          <p:spPr>
            <a:xfrm>
              <a:off x="6732360" y="2915640"/>
              <a:ext cx="270720" cy="29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5" name=""/>
            <p:cNvSpPr/>
            <p:nvPr/>
          </p:nvSpPr>
          <p:spPr>
            <a:xfrm>
              <a:off x="6732000" y="2889720"/>
              <a:ext cx="271080" cy="29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6" name=""/>
            <p:cNvSpPr/>
            <p:nvPr/>
          </p:nvSpPr>
          <p:spPr>
            <a:xfrm>
              <a:off x="5275440" y="3043800"/>
              <a:ext cx="129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7" name=""/>
            <p:cNvSpPr/>
            <p:nvPr/>
          </p:nvSpPr>
          <p:spPr>
            <a:xfrm>
              <a:off x="7016040" y="3043800"/>
              <a:ext cx="146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98" name=""/>
            <p:cNvGrpSpPr/>
            <p:nvPr/>
          </p:nvGrpSpPr>
          <p:grpSpPr>
            <a:xfrm>
              <a:off x="6003720" y="2321280"/>
              <a:ext cx="110880" cy="86400"/>
              <a:chOff x="6003720" y="2321280"/>
              <a:chExt cx="110880" cy="86400"/>
            </a:xfrm>
          </p:grpSpPr>
          <p:sp>
            <p:nvSpPr>
              <p:cNvPr id="3599" name=""/>
              <p:cNvSpPr/>
              <p:nvPr/>
            </p:nvSpPr>
            <p:spPr>
              <a:xfrm>
                <a:off x="6015960" y="232128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0" name=""/>
              <p:cNvSpPr/>
              <p:nvPr/>
            </p:nvSpPr>
            <p:spPr>
              <a:xfrm flipH="1">
                <a:off x="6003720" y="232128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1" name=""/>
            <p:cNvGrpSpPr/>
            <p:nvPr/>
          </p:nvGrpSpPr>
          <p:grpSpPr>
            <a:xfrm>
              <a:off x="5632920" y="2321280"/>
              <a:ext cx="111240" cy="86400"/>
              <a:chOff x="5632920" y="2321280"/>
              <a:chExt cx="111240" cy="86400"/>
            </a:xfrm>
          </p:grpSpPr>
          <p:sp>
            <p:nvSpPr>
              <p:cNvPr id="3602" name=""/>
              <p:cNvSpPr/>
              <p:nvPr/>
            </p:nvSpPr>
            <p:spPr>
              <a:xfrm>
                <a:off x="5645520" y="232128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3" name=""/>
              <p:cNvSpPr/>
              <p:nvPr/>
            </p:nvSpPr>
            <p:spPr>
              <a:xfrm flipH="1">
                <a:off x="5632920" y="232128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04" name=""/>
            <p:cNvSpPr/>
            <p:nvPr/>
          </p:nvSpPr>
          <p:spPr>
            <a:xfrm flipH="1">
              <a:off x="6262920" y="1741320"/>
              <a:ext cx="14796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5" name=""/>
            <p:cNvSpPr/>
            <p:nvPr/>
          </p:nvSpPr>
          <p:spPr>
            <a:xfrm>
              <a:off x="6176880" y="1741320"/>
              <a:ext cx="8640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6" name=""/>
            <p:cNvSpPr/>
            <p:nvPr/>
          </p:nvSpPr>
          <p:spPr>
            <a:xfrm flipH="1">
              <a:off x="6164280" y="1735200"/>
              <a:ext cx="246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7" name=""/>
            <p:cNvSpPr/>
            <p:nvPr/>
          </p:nvSpPr>
          <p:spPr>
            <a:xfrm>
              <a:off x="6324840" y="1852560"/>
              <a:ext cx="37080" cy="37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8" name=""/>
            <p:cNvSpPr/>
            <p:nvPr/>
          </p:nvSpPr>
          <p:spPr>
            <a:xfrm>
              <a:off x="6269040" y="1630080"/>
              <a:ext cx="0" cy="9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9" name=""/>
            <p:cNvSpPr/>
            <p:nvPr/>
          </p:nvSpPr>
          <p:spPr>
            <a:xfrm>
              <a:off x="6584040" y="188316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0" name=""/>
            <p:cNvSpPr/>
            <p:nvPr/>
          </p:nvSpPr>
          <p:spPr>
            <a:xfrm>
              <a:off x="6584040" y="2167200"/>
              <a:ext cx="29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1" name=""/>
            <p:cNvSpPr/>
            <p:nvPr/>
          </p:nvSpPr>
          <p:spPr>
            <a:xfrm flipV="1">
              <a:off x="6577560" y="1876680"/>
              <a:ext cx="0" cy="296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2" name=""/>
            <p:cNvSpPr/>
            <p:nvPr/>
          </p:nvSpPr>
          <p:spPr>
            <a:xfrm>
              <a:off x="6732360" y="1891080"/>
              <a:ext cx="270720" cy="28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3" name=""/>
            <p:cNvSpPr/>
            <p:nvPr/>
          </p:nvSpPr>
          <p:spPr>
            <a:xfrm>
              <a:off x="6732000" y="1864440"/>
              <a:ext cx="271080" cy="29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4" name=""/>
            <p:cNvSpPr/>
            <p:nvPr/>
          </p:nvSpPr>
          <p:spPr>
            <a:xfrm>
              <a:off x="5275440" y="2018880"/>
              <a:ext cx="129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5" name=""/>
            <p:cNvSpPr/>
            <p:nvPr/>
          </p:nvSpPr>
          <p:spPr>
            <a:xfrm>
              <a:off x="7016040" y="2018880"/>
              <a:ext cx="143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6" name=""/>
            <p:cNvSpPr/>
            <p:nvPr/>
          </p:nvSpPr>
          <p:spPr>
            <a:xfrm>
              <a:off x="6584040" y="221688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7" name=""/>
            <p:cNvSpPr/>
            <p:nvPr/>
          </p:nvSpPr>
          <p:spPr>
            <a:xfrm>
              <a:off x="6584040" y="2512800"/>
              <a:ext cx="29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8" name=""/>
            <p:cNvSpPr/>
            <p:nvPr/>
          </p:nvSpPr>
          <p:spPr>
            <a:xfrm flipV="1">
              <a:off x="6577560" y="2210040"/>
              <a:ext cx="0" cy="30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9" name=""/>
            <p:cNvSpPr/>
            <p:nvPr/>
          </p:nvSpPr>
          <p:spPr>
            <a:xfrm>
              <a:off x="6732360" y="2224440"/>
              <a:ext cx="270720" cy="29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0" name=""/>
            <p:cNvSpPr/>
            <p:nvPr/>
          </p:nvSpPr>
          <p:spPr>
            <a:xfrm>
              <a:off x="6732000" y="2210040"/>
              <a:ext cx="271080" cy="29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1" name=""/>
            <p:cNvSpPr/>
            <p:nvPr/>
          </p:nvSpPr>
          <p:spPr>
            <a:xfrm>
              <a:off x="5275440" y="2364840"/>
              <a:ext cx="129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2" name=""/>
            <p:cNvSpPr/>
            <p:nvPr/>
          </p:nvSpPr>
          <p:spPr>
            <a:xfrm>
              <a:off x="7016040" y="2364840"/>
              <a:ext cx="1443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3" name=""/>
            <p:cNvSpPr/>
            <p:nvPr/>
          </p:nvSpPr>
          <p:spPr>
            <a:xfrm>
              <a:off x="6584040" y="256212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4" name=""/>
            <p:cNvSpPr/>
            <p:nvPr/>
          </p:nvSpPr>
          <p:spPr>
            <a:xfrm>
              <a:off x="6584040" y="2846520"/>
              <a:ext cx="29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5" name=""/>
            <p:cNvSpPr/>
            <p:nvPr/>
          </p:nvSpPr>
          <p:spPr>
            <a:xfrm flipV="1">
              <a:off x="6577560" y="2556360"/>
              <a:ext cx="0" cy="29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6" name=""/>
            <p:cNvSpPr/>
            <p:nvPr/>
          </p:nvSpPr>
          <p:spPr>
            <a:xfrm>
              <a:off x="6732360" y="2570040"/>
              <a:ext cx="270720" cy="29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7" name=""/>
            <p:cNvSpPr/>
            <p:nvPr/>
          </p:nvSpPr>
          <p:spPr>
            <a:xfrm>
              <a:off x="6732000" y="2556000"/>
              <a:ext cx="271080" cy="28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8" name=""/>
            <p:cNvSpPr/>
            <p:nvPr/>
          </p:nvSpPr>
          <p:spPr>
            <a:xfrm>
              <a:off x="5275440" y="2710440"/>
              <a:ext cx="129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9" name=""/>
            <p:cNvSpPr/>
            <p:nvPr/>
          </p:nvSpPr>
          <p:spPr>
            <a:xfrm>
              <a:off x="7016040" y="2710440"/>
              <a:ext cx="1443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30" name=""/>
            <p:cNvGrpSpPr/>
            <p:nvPr/>
          </p:nvGrpSpPr>
          <p:grpSpPr>
            <a:xfrm>
              <a:off x="6003720" y="1976040"/>
              <a:ext cx="110880" cy="86400"/>
              <a:chOff x="6003720" y="1976040"/>
              <a:chExt cx="110880" cy="86400"/>
            </a:xfrm>
          </p:grpSpPr>
          <p:sp>
            <p:nvSpPr>
              <p:cNvPr id="3631" name=""/>
              <p:cNvSpPr/>
              <p:nvPr/>
            </p:nvSpPr>
            <p:spPr>
              <a:xfrm>
                <a:off x="6015960" y="197604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2" name=""/>
              <p:cNvSpPr/>
              <p:nvPr/>
            </p:nvSpPr>
            <p:spPr>
              <a:xfrm flipH="1">
                <a:off x="6003720" y="197604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33" name=""/>
            <p:cNvSpPr/>
            <p:nvPr/>
          </p:nvSpPr>
          <p:spPr>
            <a:xfrm flipH="1">
              <a:off x="6003360" y="1741320"/>
              <a:ext cx="13572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4" name=""/>
            <p:cNvSpPr/>
            <p:nvPr/>
          </p:nvSpPr>
          <p:spPr>
            <a:xfrm>
              <a:off x="5905080" y="1741320"/>
              <a:ext cx="9864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5" name=""/>
            <p:cNvSpPr/>
            <p:nvPr/>
          </p:nvSpPr>
          <p:spPr>
            <a:xfrm flipH="1">
              <a:off x="5892480" y="1735200"/>
              <a:ext cx="246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6" name=""/>
            <p:cNvSpPr/>
            <p:nvPr/>
          </p:nvSpPr>
          <p:spPr>
            <a:xfrm>
              <a:off x="6053040" y="1852560"/>
              <a:ext cx="37080" cy="37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7" name=""/>
            <p:cNvSpPr/>
            <p:nvPr/>
          </p:nvSpPr>
          <p:spPr>
            <a:xfrm>
              <a:off x="6009840" y="1630080"/>
              <a:ext cx="0" cy="9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8" name=""/>
            <p:cNvSpPr/>
            <p:nvPr/>
          </p:nvSpPr>
          <p:spPr>
            <a:xfrm>
              <a:off x="6059520" y="1901880"/>
              <a:ext cx="0" cy="387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39" name=""/>
            <p:cNvGrpSpPr/>
            <p:nvPr/>
          </p:nvGrpSpPr>
          <p:grpSpPr>
            <a:xfrm>
              <a:off x="6275520" y="1976040"/>
              <a:ext cx="110880" cy="86400"/>
              <a:chOff x="6275520" y="1976040"/>
              <a:chExt cx="110880" cy="86400"/>
            </a:xfrm>
          </p:grpSpPr>
          <p:sp>
            <p:nvSpPr>
              <p:cNvPr id="3640" name=""/>
              <p:cNvSpPr/>
              <p:nvPr/>
            </p:nvSpPr>
            <p:spPr>
              <a:xfrm>
                <a:off x="6287760" y="197604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1" name=""/>
              <p:cNvSpPr/>
              <p:nvPr/>
            </p:nvSpPr>
            <p:spPr>
              <a:xfrm flipH="1">
                <a:off x="6275520" y="197604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42" name=""/>
            <p:cNvSpPr/>
            <p:nvPr/>
          </p:nvSpPr>
          <p:spPr>
            <a:xfrm flipH="1">
              <a:off x="5731920" y="1741320"/>
              <a:ext cx="13572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3" name=""/>
            <p:cNvSpPr/>
            <p:nvPr/>
          </p:nvSpPr>
          <p:spPr>
            <a:xfrm>
              <a:off x="5621040" y="1741320"/>
              <a:ext cx="11124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4" name=""/>
            <p:cNvSpPr/>
            <p:nvPr/>
          </p:nvSpPr>
          <p:spPr>
            <a:xfrm flipH="1">
              <a:off x="5608800" y="1735200"/>
              <a:ext cx="25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5" name=""/>
            <p:cNvSpPr/>
            <p:nvPr/>
          </p:nvSpPr>
          <p:spPr>
            <a:xfrm>
              <a:off x="5781600" y="1852560"/>
              <a:ext cx="37080" cy="37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6" name=""/>
            <p:cNvSpPr/>
            <p:nvPr/>
          </p:nvSpPr>
          <p:spPr>
            <a:xfrm>
              <a:off x="5738400" y="1630080"/>
              <a:ext cx="0" cy="9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7" name=""/>
            <p:cNvSpPr/>
            <p:nvPr/>
          </p:nvSpPr>
          <p:spPr>
            <a:xfrm>
              <a:off x="5688720" y="1827720"/>
              <a:ext cx="0" cy="395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48" name=""/>
            <p:cNvGrpSpPr/>
            <p:nvPr/>
          </p:nvGrpSpPr>
          <p:grpSpPr>
            <a:xfrm>
              <a:off x="5732280" y="1976040"/>
              <a:ext cx="110880" cy="86400"/>
              <a:chOff x="5732280" y="1976040"/>
              <a:chExt cx="110880" cy="86400"/>
            </a:xfrm>
          </p:grpSpPr>
          <p:sp>
            <p:nvSpPr>
              <p:cNvPr id="3649" name=""/>
              <p:cNvSpPr/>
              <p:nvPr/>
            </p:nvSpPr>
            <p:spPr>
              <a:xfrm>
                <a:off x="5744520" y="197604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0" name=""/>
              <p:cNvSpPr/>
              <p:nvPr/>
            </p:nvSpPr>
            <p:spPr>
              <a:xfrm flipH="1">
                <a:off x="5732280" y="197604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51" name=""/>
            <p:cNvGrpSpPr/>
            <p:nvPr/>
          </p:nvGrpSpPr>
          <p:grpSpPr>
            <a:xfrm>
              <a:off x="5460840" y="2321280"/>
              <a:ext cx="110880" cy="86400"/>
              <a:chOff x="5460840" y="2321280"/>
              <a:chExt cx="110880" cy="86400"/>
            </a:xfrm>
          </p:grpSpPr>
          <p:sp>
            <p:nvSpPr>
              <p:cNvPr id="3652" name=""/>
              <p:cNvSpPr/>
              <p:nvPr/>
            </p:nvSpPr>
            <p:spPr>
              <a:xfrm>
                <a:off x="5473080" y="232128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3" name=""/>
              <p:cNvSpPr/>
              <p:nvPr/>
            </p:nvSpPr>
            <p:spPr>
              <a:xfrm flipH="1">
                <a:off x="5460840" y="232128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54" name=""/>
            <p:cNvSpPr/>
            <p:nvPr/>
          </p:nvSpPr>
          <p:spPr>
            <a:xfrm flipH="1">
              <a:off x="5460840" y="1741320"/>
              <a:ext cx="12312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5" name=""/>
            <p:cNvSpPr/>
            <p:nvPr/>
          </p:nvSpPr>
          <p:spPr>
            <a:xfrm>
              <a:off x="5349600" y="1741320"/>
              <a:ext cx="11124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6" name=""/>
            <p:cNvSpPr/>
            <p:nvPr/>
          </p:nvSpPr>
          <p:spPr>
            <a:xfrm flipH="1">
              <a:off x="5337000" y="1735200"/>
              <a:ext cx="24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7" name=""/>
            <p:cNvSpPr/>
            <p:nvPr/>
          </p:nvSpPr>
          <p:spPr>
            <a:xfrm>
              <a:off x="5510160" y="1852560"/>
              <a:ext cx="36720" cy="37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8" name=""/>
            <p:cNvSpPr/>
            <p:nvPr/>
          </p:nvSpPr>
          <p:spPr>
            <a:xfrm>
              <a:off x="5466600" y="1630080"/>
              <a:ext cx="0" cy="9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59" name=""/>
            <p:cNvGrpSpPr/>
            <p:nvPr/>
          </p:nvGrpSpPr>
          <p:grpSpPr>
            <a:xfrm>
              <a:off x="5460840" y="1976040"/>
              <a:ext cx="110880" cy="86400"/>
              <a:chOff x="5460840" y="1976040"/>
              <a:chExt cx="110880" cy="86400"/>
            </a:xfrm>
          </p:grpSpPr>
          <p:sp>
            <p:nvSpPr>
              <p:cNvPr id="3660" name=""/>
              <p:cNvSpPr/>
              <p:nvPr/>
            </p:nvSpPr>
            <p:spPr>
              <a:xfrm>
                <a:off x="5473080" y="197604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1" name=""/>
              <p:cNvSpPr/>
              <p:nvPr/>
            </p:nvSpPr>
            <p:spPr>
              <a:xfrm flipH="1">
                <a:off x="5460840" y="197604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2" name=""/>
            <p:cNvSpPr/>
            <p:nvPr/>
          </p:nvSpPr>
          <p:spPr>
            <a:xfrm>
              <a:off x="6584040" y="322884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3" name=""/>
            <p:cNvSpPr/>
            <p:nvPr/>
          </p:nvSpPr>
          <p:spPr>
            <a:xfrm>
              <a:off x="6584040" y="3513240"/>
              <a:ext cx="29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4" name=""/>
            <p:cNvSpPr/>
            <p:nvPr/>
          </p:nvSpPr>
          <p:spPr>
            <a:xfrm flipV="1">
              <a:off x="6577560" y="3223080"/>
              <a:ext cx="0" cy="29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5" name=""/>
            <p:cNvSpPr/>
            <p:nvPr/>
          </p:nvSpPr>
          <p:spPr>
            <a:xfrm>
              <a:off x="6732360" y="3236760"/>
              <a:ext cx="270720" cy="29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6" name=""/>
            <p:cNvSpPr/>
            <p:nvPr/>
          </p:nvSpPr>
          <p:spPr>
            <a:xfrm>
              <a:off x="6732000" y="3234960"/>
              <a:ext cx="271080" cy="29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7" name=""/>
            <p:cNvSpPr/>
            <p:nvPr/>
          </p:nvSpPr>
          <p:spPr>
            <a:xfrm>
              <a:off x="5275440" y="3377160"/>
              <a:ext cx="129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8" name=""/>
            <p:cNvSpPr/>
            <p:nvPr/>
          </p:nvSpPr>
          <p:spPr>
            <a:xfrm>
              <a:off x="7016040" y="3377160"/>
              <a:ext cx="146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69" name=""/>
            <p:cNvGrpSpPr/>
            <p:nvPr/>
          </p:nvGrpSpPr>
          <p:grpSpPr>
            <a:xfrm>
              <a:off x="6163920" y="2321280"/>
              <a:ext cx="111240" cy="86400"/>
              <a:chOff x="6163920" y="2321280"/>
              <a:chExt cx="111240" cy="86400"/>
            </a:xfrm>
          </p:grpSpPr>
          <p:sp>
            <p:nvSpPr>
              <p:cNvPr id="3670" name=""/>
              <p:cNvSpPr/>
              <p:nvPr/>
            </p:nvSpPr>
            <p:spPr>
              <a:xfrm>
                <a:off x="6176520" y="232128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1" name=""/>
              <p:cNvSpPr/>
              <p:nvPr/>
            </p:nvSpPr>
            <p:spPr>
              <a:xfrm flipH="1">
                <a:off x="6163920" y="232128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72" name=""/>
            <p:cNvSpPr/>
            <p:nvPr/>
          </p:nvSpPr>
          <p:spPr>
            <a:xfrm>
              <a:off x="6584040" y="357480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3" name=""/>
            <p:cNvSpPr/>
            <p:nvPr/>
          </p:nvSpPr>
          <p:spPr>
            <a:xfrm>
              <a:off x="6584040" y="3858840"/>
              <a:ext cx="29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4" name=""/>
            <p:cNvSpPr/>
            <p:nvPr/>
          </p:nvSpPr>
          <p:spPr>
            <a:xfrm flipV="1">
              <a:off x="6577560" y="3567960"/>
              <a:ext cx="0" cy="296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5" name=""/>
            <p:cNvSpPr/>
            <p:nvPr/>
          </p:nvSpPr>
          <p:spPr>
            <a:xfrm>
              <a:off x="6732360" y="3582360"/>
              <a:ext cx="270720" cy="29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6" name=""/>
            <p:cNvSpPr/>
            <p:nvPr/>
          </p:nvSpPr>
          <p:spPr>
            <a:xfrm>
              <a:off x="6732000" y="3556440"/>
              <a:ext cx="271080" cy="29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7" name=""/>
            <p:cNvSpPr/>
            <p:nvPr/>
          </p:nvSpPr>
          <p:spPr>
            <a:xfrm>
              <a:off x="5275440" y="3710520"/>
              <a:ext cx="129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8" name=""/>
            <p:cNvSpPr/>
            <p:nvPr/>
          </p:nvSpPr>
          <p:spPr>
            <a:xfrm>
              <a:off x="7016040" y="3710520"/>
              <a:ext cx="146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79" name=""/>
            <p:cNvGrpSpPr/>
            <p:nvPr/>
          </p:nvGrpSpPr>
          <p:grpSpPr>
            <a:xfrm>
              <a:off x="5361480" y="2667240"/>
              <a:ext cx="111240" cy="86400"/>
              <a:chOff x="5361480" y="2667240"/>
              <a:chExt cx="111240" cy="86400"/>
            </a:xfrm>
          </p:grpSpPr>
          <p:sp>
            <p:nvSpPr>
              <p:cNvPr id="3680" name=""/>
              <p:cNvSpPr/>
              <p:nvPr/>
            </p:nvSpPr>
            <p:spPr>
              <a:xfrm>
                <a:off x="5374080" y="266724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1" name=""/>
              <p:cNvSpPr/>
              <p:nvPr/>
            </p:nvSpPr>
            <p:spPr>
              <a:xfrm flipH="1">
                <a:off x="5361480" y="266724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82" name=""/>
            <p:cNvSpPr/>
            <p:nvPr/>
          </p:nvSpPr>
          <p:spPr>
            <a:xfrm>
              <a:off x="6584040" y="389556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3" name=""/>
            <p:cNvSpPr/>
            <p:nvPr/>
          </p:nvSpPr>
          <p:spPr>
            <a:xfrm>
              <a:off x="6584040" y="4179960"/>
              <a:ext cx="29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4" name=""/>
            <p:cNvSpPr/>
            <p:nvPr/>
          </p:nvSpPr>
          <p:spPr>
            <a:xfrm flipV="1">
              <a:off x="6577560" y="3889800"/>
              <a:ext cx="0" cy="29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5" name=""/>
            <p:cNvSpPr/>
            <p:nvPr/>
          </p:nvSpPr>
          <p:spPr>
            <a:xfrm>
              <a:off x="6732360" y="3903480"/>
              <a:ext cx="270720" cy="29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6" name=""/>
            <p:cNvSpPr/>
            <p:nvPr/>
          </p:nvSpPr>
          <p:spPr>
            <a:xfrm>
              <a:off x="6732000" y="3901680"/>
              <a:ext cx="271080" cy="29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7" name=""/>
            <p:cNvSpPr/>
            <p:nvPr/>
          </p:nvSpPr>
          <p:spPr>
            <a:xfrm>
              <a:off x="5275440" y="4043880"/>
              <a:ext cx="129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8" name=""/>
            <p:cNvSpPr/>
            <p:nvPr/>
          </p:nvSpPr>
          <p:spPr>
            <a:xfrm>
              <a:off x="7016040" y="4043880"/>
              <a:ext cx="146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89" name=""/>
            <p:cNvGrpSpPr/>
            <p:nvPr/>
          </p:nvGrpSpPr>
          <p:grpSpPr>
            <a:xfrm>
              <a:off x="5361480" y="3000600"/>
              <a:ext cx="111240" cy="86400"/>
              <a:chOff x="5361480" y="3000600"/>
              <a:chExt cx="111240" cy="86400"/>
            </a:xfrm>
          </p:grpSpPr>
          <p:sp>
            <p:nvSpPr>
              <p:cNvPr id="3690" name=""/>
              <p:cNvSpPr/>
              <p:nvPr/>
            </p:nvSpPr>
            <p:spPr>
              <a:xfrm>
                <a:off x="5374080" y="300060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1" name=""/>
              <p:cNvSpPr/>
              <p:nvPr/>
            </p:nvSpPr>
            <p:spPr>
              <a:xfrm flipH="1">
                <a:off x="5361480" y="300060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92" name=""/>
            <p:cNvGrpSpPr/>
            <p:nvPr/>
          </p:nvGrpSpPr>
          <p:grpSpPr>
            <a:xfrm>
              <a:off x="6163920" y="2667240"/>
              <a:ext cx="111240" cy="86400"/>
              <a:chOff x="6163920" y="2667240"/>
              <a:chExt cx="111240" cy="86400"/>
            </a:xfrm>
          </p:grpSpPr>
          <p:sp>
            <p:nvSpPr>
              <p:cNvPr id="3693" name=""/>
              <p:cNvSpPr/>
              <p:nvPr/>
            </p:nvSpPr>
            <p:spPr>
              <a:xfrm>
                <a:off x="6176520" y="266724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4" name=""/>
              <p:cNvSpPr/>
              <p:nvPr/>
            </p:nvSpPr>
            <p:spPr>
              <a:xfrm flipH="1">
                <a:off x="6163920" y="266724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95" name=""/>
            <p:cNvGrpSpPr/>
            <p:nvPr/>
          </p:nvGrpSpPr>
          <p:grpSpPr>
            <a:xfrm>
              <a:off x="5892120" y="2667240"/>
              <a:ext cx="111240" cy="86400"/>
              <a:chOff x="5892120" y="2667240"/>
              <a:chExt cx="111240" cy="86400"/>
            </a:xfrm>
          </p:grpSpPr>
          <p:sp>
            <p:nvSpPr>
              <p:cNvPr id="3696" name=""/>
              <p:cNvSpPr/>
              <p:nvPr/>
            </p:nvSpPr>
            <p:spPr>
              <a:xfrm>
                <a:off x="5904720" y="2667240"/>
                <a:ext cx="860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7" name=""/>
              <p:cNvSpPr/>
              <p:nvPr/>
            </p:nvSpPr>
            <p:spPr>
              <a:xfrm flipH="1">
                <a:off x="5892120" y="266724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98" name=""/>
            <p:cNvGrpSpPr/>
            <p:nvPr/>
          </p:nvGrpSpPr>
          <p:grpSpPr>
            <a:xfrm>
              <a:off x="5632920" y="2667240"/>
              <a:ext cx="111240" cy="86400"/>
              <a:chOff x="5632920" y="2667240"/>
              <a:chExt cx="111240" cy="86400"/>
            </a:xfrm>
          </p:grpSpPr>
          <p:sp>
            <p:nvSpPr>
              <p:cNvPr id="3699" name=""/>
              <p:cNvSpPr/>
              <p:nvPr/>
            </p:nvSpPr>
            <p:spPr>
              <a:xfrm>
                <a:off x="5645520" y="266724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0" name=""/>
              <p:cNvSpPr/>
              <p:nvPr/>
            </p:nvSpPr>
            <p:spPr>
              <a:xfrm flipH="1">
                <a:off x="5632920" y="266724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01" name=""/>
            <p:cNvSpPr/>
            <p:nvPr/>
          </p:nvSpPr>
          <p:spPr>
            <a:xfrm>
              <a:off x="6584040" y="424152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2" name=""/>
            <p:cNvSpPr/>
            <p:nvPr/>
          </p:nvSpPr>
          <p:spPr>
            <a:xfrm>
              <a:off x="6584040" y="4512960"/>
              <a:ext cx="29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3" name=""/>
            <p:cNvSpPr/>
            <p:nvPr/>
          </p:nvSpPr>
          <p:spPr>
            <a:xfrm flipV="1">
              <a:off x="6577560" y="4234680"/>
              <a:ext cx="0" cy="28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4" name=""/>
            <p:cNvSpPr/>
            <p:nvPr/>
          </p:nvSpPr>
          <p:spPr>
            <a:xfrm>
              <a:off x="6732360" y="4249080"/>
              <a:ext cx="270720" cy="29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5" name=""/>
            <p:cNvSpPr/>
            <p:nvPr/>
          </p:nvSpPr>
          <p:spPr>
            <a:xfrm>
              <a:off x="6732000" y="4223160"/>
              <a:ext cx="271080" cy="29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6" name=""/>
            <p:cNvSpPr/>
            <p:nvPr/>
          </p:nvSpPr>
          <p:spPr>
            <a:xfrm>
              <a:off x="5275440" y="4365000"/>
              <a:ext cx="129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7" name=""/>
            <p:cNvSpPr/>
            <p:nvPr/>
          </p:nvSpPr>
          <p:spPr>
            <a:xfrm>
              <a:off x="7016040" y="4365000"/>
              <a:ext cx="146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08" name=""/>
            <p:cNvGrpSpPr/>
            <p:nvPr/>
          </p:nvGrpSpPr>
          <p:grpSpPr>
            <a:xfrm>
              <a:off x="6275520" y="3000600"/>
              <a:ext cx="110880" cy="86400"/>
              <a:chOff x="6275520" y="3000600"/>
              <a:chExt cx="110880" cy="86400"/>
            </a:xfrm>
          </p:grpSpPr>
          <p:sp>
            <p:nvSpPr>
              <p:cNvPr id="3709" name=""/>
              <p:cNvSpPr/>
              <p:nvPr/>
            </p:nvSpPr>
            <p:spPr>
              <a:xfrm>
                <a:off x="6287760" y="300060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0" name=""/>
              <p:cNvSpPr/>
              <p:nvPr/>
            </p:nvSpPr>
            <p:spPr>
              <a:xfrm flipH="1">
                <a:off x="6275520" y="300060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11" name=""/>
            <p:cNvGrpSpPr/>
            <p:nvPr/>
          </p:nvGrpSpPr>
          <p:grpSpPr>
            <a:xfrm>
              <a:off x="5892120" y="3000600"/>
              <a:ext cx="111240" cy="86400"/>
              <a:chOff x="5892120" y="3000600"/>
              <a:chExt cx="111240" cy="86400"/>
            </a:xfrm>
          </p:grpSpPr>
          <p:sp>
            <p:nvSpPr>
              <p:cNvPr id="3712" name=""/>
              <p:cNvSpPr/>
              <p:nvPr/>
            </p:nvSpPr>
            <p:spPr>
              <a:xfrm>
                <a:off x="5904720" y="3000600"/>
                <a:ext cx="860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3" name=""/>
              <p:cNvSpPr/>
              <p:nvPr/>
            </p:nvSpPr>
            <p:spPr>
              <a:xfrm flipH="1">
                <a:off x="5892120" y="300060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14" name=""/>
            <p:cNvGrpSpPr/>
            <p:nvPr/>
          </p:nvGrpSpPr>
          <p:grpSpPr>
            <a:xfrm>
              <a:off x="5732280" y="3000600"/>
              <a:ext cx="110880" cy="86400"/>
              <a:chOff x="5732280" y="3000600"/>
              <a:chExt cx="110880" cy="86400"/>
            </a:xfrm>
          </p:grpSpPr>
          <p:sp>
            <p:nvSpPr>
              <p:cNvPr id="3715" name=""/>
              <p:cNvSpPr/>
              <p:nvPr/>
            </p:nvSpPr>
            <p:spPr>
              <a:xfrm>
                <a:off x="5744520" y="300060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6" name=""/>
              <p:cNvSpPr/>
              <p:nvPr/>
            </p:nvSpPr>
            <p:spPr>
              <a:xfrm flipH="1">
                <a:off x="5732280" y="300060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17" name=""/>
            <p:cNvSpPr/>
            <p:nvPr/>
          </p:nvSpPr>
          <p:spPr>
            <a:xfrm>
              <a:off x="6584040" y="456228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8" name=""/>
            <p:cNvSpPr/>
            <p:nvPr/>
          </p:nvSpPr>
          <p:spPr>
            <a:xfrm>
              <a:off x="6584040" y="4846680"/>
              <a:ext cx="29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9" name=""/>
            <p:cNvSpPr/>
            <p:nvPr/>
          </p:nvSpPr>
          <p:spPr>
            <a:xfrm flipV="1">
              <a:off x="6577560" y="4556520"/>
              <a:ext cx="0" cy="29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0" name=""/>
            <p:cNvSpPr/>
            <p:nvPr/>
          </p:nvSpPr>
          <p:spPr>
            <a:xfrm>
              <a:off x="6732360" y="4570200"/>
              <a:ext cx="270720" cy="29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1" name=""/>
            <p:cNvSpPr/>
            <p:nvPr/>
          </p:nvSpPr>
          <p:spPr>
            <a:xfrm>
              <a:off x="6732000" y="4556160"/>
              <a:ext cx="271080" cy="28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2" name=""/>
            <p:cNvSpPr/>
            <p:nvPr/>
          </p:nvSpPr>
          <p:spPr>
            <a:xfrm>
              <a:off x="5275440" y="4710600"/>
              <a:ext cx="129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3" name=""/>
            <p:cNvSpPr/>
            <p:nvPr/>
          </p:nvSpPr>
          <p:spPr>
            <a:xfrm>
              <a:off x="7016040" y="4710600"/>
              <a:ext cx="146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24" name=""/>
            <p:cNvGrpSpPr/>
            <p:nvPr/>
          </p:nvGrpSpPr>
          <p:grpSpPr>
            <a:xfrm>
              <a:off x="5892120" y="3667320"/>
              <a:ext cx="111240" cy="86400"/>
              <a:chOff x="5892120" y="3667320"/>
              <a:chExt cx="111240" cy="86400"/>
            </a:xfrm>
          </p:grpSpPr>
          <p:sp>
            <p:nvSpPr>
              <p:cNvPr id="3725" name=""/>
              <p:cNvSpPr/>
              <p:nvPr/>
            </p:nvSpPr>
            <p:spPr>
              <a:xfrm>
                <a:off x="5904720" y="3667320"/>
                <a:ext cx="860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6" name=""/>
              <p:cNvSpPr/>
              <p:nvPr/>
            </p:nvSpPr>
            <p:spPr>
              <a:xfrm flipH="1">
                <a:off x="5892120" y="366732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27" name=""/>
            <p:cNvGrpSpPr/>
            <p:nvPr/>
          </p:nvGrpSpPr>
          <p:grpSpPr>
            <a:xfrm>
              <a:off x="5361480" y="3333960"/>
              <a:ext cx="111240" cy="86400"/>
              <a:chOff x="5361480" y="3333960"/>
              <a:chExt cx="111240" cy="86400"/>
            </a:xfrm>
          </p:grpSpPr>
          <p:sp>
            <p:nvSpPr>
              <p:cNvPr id="3728" name=""/>
              <p:cNvSpPr/>
              <p:nvPr/>
            </p:nvSpPr>
            <p:spPr>
              <a:xfrm>
                <a:off x="5374080" y="333396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9" name=""/>
              <p:cNvSpPr/>
              <p:nvPr/>
            </p:nvSpPr>
            <p:spPr>
              <a:xfrm flipH="1">
                <a:off x="5361480" y="333396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30" name=""/>
            <p:cNvSpPr/>
            <p:nvPr/>
          </p:nvSpPr>
          <p:spPr>
            <a:xfrm>
              <a:off x="6584040" y="488376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1" name=""/>
            <p:cNvSpPr/>
            <p:nvPr/>
          </p:nvSpPr>
          <p:spPr>
            <a:xfrm>
              <a:off x="6584040" y="5179680"/>
              <a:ext cx="29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2" name=""/>
            <p:cNvSpPr/>
            <p:nvPr/>
          </p:nvSpPr>
          <p:spPr>
            <a:xfrm flipV="1">
              <a:off x="6577560" y="4876920"/>
              <a:ext cx="0" cy="30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3" name=""/>
            <p:cNvSpPr/>
            <p:nvPr/>
          </p:nvSpPr>
          <p:spPr>
            <a:xfrm>
              <a:off x="6732360" y="4891320"/>
              <a:ext cx="270720" cy="29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4" name=""/>
            <p:cNvSpPr/>
            <p:nvPr/>
          </p:nvSpPr>
          <p:spPr>
            <a:xfrm>
              <a:off x="6732000" y="4889880"/>
              <a:ext cx="271080" cy="29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5" name=""/>
            <p:cNvSpPr/>
            <p:nvPr/>
          </p:nvSpPr>
          <p:spPr>
            <a:xfrm>
              <a:off x="5275440" y="5031720"/>
              <a:ext cx="129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6" name=""/>
            <p:cNvSpPr/>
            <p:nvPr/>
          </p:nvSpPr>
          <p:spPr>
            <a:xfrm>
              <a:off x="7016040" y="5031720"/>
              <a:ext cx="146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37" name=""/>
            <p:cNvGrpSpPr/>
            <p:nvPr/>
          </p:nvGrpSpPr>
          <p:grpSpPr>
            <a:xfrm>
              <a:off x="6163920" y="4000680"/>
              <a:ext cx="111240" cy="86400"/>
              <a:chOff x="6163920" y="4000680"/>
              <a:chExt cx="111240" cy="86400"/>
            </a:xfrm>
          </p:grpSpPr>
          <p:sp>
            <p:nvSpPr>
              <p:cNvPr id="3738" name=""/>
              <p:cNvSpPr/>
              <p:nvPr/>
            </p:nvSpPr>
            <p:spPr>
              <a:xfrm>
                <a:off x="6176520" y="400068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9" name=""/>
              <p:cNvSpPr/>
              <p:nvPr/>
            </p:nvSpPr>
            <p:spPr>
              <a:xfrm flipH="1">
                <a:off x="6163920" y="400068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40" name=""/>
            <p:cNvGrpSpPr/>
            <p:nvPr/>
          </p:nvGrpSpPr>
          <p:grpSpPr>
            <a:xfrm>
              <a:off x="5732280" y="4000680"/>
              <a:ext cx="110880" cy="86400"/>
              <a:chOff x="5732280" y="4000680"/>
              <a:chExt cx="110880" cy="86400"/>
            </a:xfrm>
          </p:grpSpPr>
          <p:sp>
            <p:nvSpPr>
              <p:cNvPr id="3741" name=""/>
              <p:cNvSpPr/>
              <p:nvPr/>
            </p:nvSpPr>
            <p:spPr>
              <a:xfrm>
                <a:off x="5744520" y="400068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2" name=""/>
              <p:cNvSpPr/>
              <p:nvPr/>
            </p:nvSpPr>
            <p:spPr>
              <a:xfrm flipH="1">
                <a:off x="5732280" y="400068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43" name=""/>
            <p:cNvGrpSpPr/>
            <p:nvPr/>
          </p:nvGrpSpPr>
          <p:grpSpPr>
            <a:xfrm>
              <a:off x="5460840" y="3667320"/>
              <a:ext cx="110880" cy="86400"/>
              <a:chOff x="5460840" y="3667320"/>
              <a:chExt cx="110880" cy="86400"/>
            </a:xfrm>
          </p:grpSpPr>
          <p:sp>
            <p:nvSpPr>
              <p:cNvPr id="3744" name=""/>
              <p:cNvSpPr/>
              <p:nvPr/>
            </p:nvSpPr>
            <p:spPr>
              <a:xfrm>
                <a:off x="5473080" y="366732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5" name=""/>
              <p:cNvSpPr/>
              <p:nvPr/>
            </p:nvSpPr>
            <p:spPr>
              <a:xfrm flipH="1">
                <a:off x="5460840" y="366732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46" name=""/>
            <p:cNvSpPr/>
            <p:nvPr/>
          </p:nvSpPr>
          <p:spPr>
            <a:xfrm>
              <a:off x="7244280" y="1827720"/>
              <a:ext cx="0" cy="418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47" name=""/>
            <p:cNvGrpSpPr/>
            <p:nvPr/>
          </p:nvGrpSpPr>
          <p:grpSpPr>
            <a:xfrm>
              <a:off x="7188480" y="1976040"/>
              <a:ext cx="111240" cy="86400"/>
              <a:chOff x="7188480" y="1976040"/>
              <a:chExt cx="111240" cy="86400"/>
            </a:xfrm>
          </p:grpSpPr>
          <p:sp>
            <p:nvSpPr>
              <p:cNvPr id="3748" name=""/>
              <p:cNvSpPr/>
              <p:nvPr/>
            </p:nvSpPr>
            <p:spPr>
              <a:xfrm>
                <a:off x="7201080" y="197604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9" name=""/>
              <p:cNvSpPr/>
              <p:nvPr/>
            </p:nvSpPr>
            <p:spPr>
              <a:xfrm flipH="1">
                <a:off x="7188480" y="197604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50" name=""/>
            <p:cNvGrpSpPr/>
            <p:nvPr/>
          </p:nvGrpSpPr>
          <p:grpSpPr>
            <a:xfrm>
              <a:off x="7188480" y="2321280"/>
              <a:ext cx="111240" cy="86400"/>
              <a:chOff x="7188480" y="2321280"/>
              <a:chExt cx="111240" cy="86400"/>
            </a:xfrm>
          </p:grpSpPr>
          <p:sp>
            <p:nvSpPr>
              <p:cNvPr id="3751" name=""/>
              <p:cNvSpPr/>
              <p:nvPr/>
            </p:nvSpPr>
            <p:spPr>
              <a:xfrm>
                <a:off x="7201080" y="232128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2" name=""/>
              <p:cNvSpPr/>
              <p:nvPr/>
            </p:nvSpPr>
            <p:spPr>
              <a:xfrm flipH="1">
                <a:off x="7188480" y="232128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53" name=""/>
            <p:cNvGrpSpPr/>
            <p:nvPr/>
          </p:nvGrpSpPr>
          <p:grpSpPr>
            <a:xfrm>
              <a:off x="7188480" y="2667240"/>
              <a:ext cx="111240" cy="86400"/>
              <a:chOff x="7188480" y="2667240"/>
              <a:chExt cx="111240" cy="86400"/>
            </a:xfrm>
          </p:grpSpPr>
          <p:sp>
            <p:nvSpPr>
              <p:cNvPr id="3754" name=""/>
              <p:cNvSpPr/>
              <p:nvPr/>
            </p:nvSpPr>
            <p:spPr>
              <a:xfrm>
                <a:off x="7201080" y="266724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5" name=""/>
              <p:cNvSpPr/>
              <p:nvPr/>
            </p:nvSpPr>
            <p:spPr>
              <a:xfrm flipH="1">
                <a:off x="7188480" y="266724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56" name=""/>
            <p:cNvGrpSpPr/>
            <p:nvPr/>
          </p:nvGrpSpPr>
          <p:grpSpPr>
            <a:xfrm>
              <a:off x="7102800" y="5507280"/>
              <a:ext cx="271440" cy="999360"/>
              <a:chOff x="7102800" y="5507280"/>
              <a:chExt cx="271440" cy="999360"/>
            </a:xfrm>
          </p:grpSpPr>
          <p:sp>
            <p:nvSpPr>
              <p:cNvPr id="3757" name=""/>
              <p:cNvSpPr/>
              <p:nvPr/>
            </p:nvSpPr>
            <p:spPr>
              <a:xfrm>
                <a:off x="7114320" y="5889960"/>
                <a:ext cx="25884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8" name=""/>
              <p:cNvSpPr/>
              <p:nvPr/>
            </p:nvSpPr>
            <p:spPr>
              <a:xfrm>
                <a:off x="7102800" y="5507280"/>
                <a:ext cx="270360" cy="888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9" name=""/>
              <p:cNvSpPr/>
              <p:nvPr/>
            </p:nvSpPr>
            <p:spPr>
              <a:xfrm>
                <a:off x="7103880" y="5556600"/>
                <a:ext cx="270360" cy="83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0" name=""/>
              <p:cNvSpPr/>
              <p:nvPr/>
            </p:nvSpPr>
            <p:spPr>
              <a:xfrm>
                <a:off x="7103880" y="5889960"/>
                <a:ext cx="27036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1" name=""/>
              <p:cNvSpPr/>
              <p:nvPr/>
            </p:nvSpPr>
            <p:spPr>
              <a:xfrm>
                <a:off x="7243920" y="6408000"/>
                <a:ext cx="0" cy="98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62" name=""/>
            <p:cNvSpPr/>
            <p:nvPr/>
          </p:nvSpPr>
          <p:spPr>
            <a:xfrm>
              <a:off x="7565400" y="1827720"/>
              <a:ext cx="0" cy="418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63" name=""/>
            <p:cNvGrpSpPr/>
            <p:nvPr/>
          </p:nvGrpSpPr>
          <p:grpSpPr>
            <a:xfrm>
              <a:off x="7188480" y="3000600"/>
              <a:ext cx="111240" cy="86400"/>
              <a:chOff x="7188480" y="3000600"/>
              <a:chExt cx="111240" cy="86400"/>
            </a:xfrm>
          </p:grpSpPr>
          <p:sp>
            <p:nvSpPr>
              <p:cNvPr id="3764" name=""/>
              <p:cNvSpPr/>
              <p:nvPr/>
            </p:nvSpPr>
            <p:spPr>
              <a:xfrm>
                <a:off x="7201080" y="300060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5" name=""/>
              <p:cNvSpPr/>
              <p:nvPr/>
            </p:nvSpPr>
            <p:spPr>
              <a:xfrm flipH="1">
                <a:off x="7188480" y="300060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66" name=""/>
            <p:cNvGrpSpPr/>
            <p:nvPr/>
          </p:nvGrpSpPr>
          <p:grpSpPr>
            <a:xfrm>
              <a:off x="7423920" y="5507280"/>
              <a:ext cx="296640" cy="999360"/>
              <a:chOff x="7423920" y="5507280"/>
              <a:chExt cx="296640" cy="999360"/>
            </a:xfrm>
          </p:grpSpPr>
          <p:sp>
            <p:nvSpPr>
              <p:cNvPr id="3767" name=""/>
              <p:cNvSpPr/>
              <p:nvPr/>
            </p:nvSpPr>
            <p:spPr>
              <a:xfrm>
                <a:off x="7460640" y="5889960"/>
                <a:ext cx="23364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8" name=""/>
              <p:cNvSpPr/>
              <p:nvPr/>
            </p:nvSpPr>
            <p:spPr>
              <a:xfrm>
                <a:off x="7423920" y="5507280"/>
                <a:ext cx="270360" cy="888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9" name=""/>
              <p:cNvSpPr/>
              <p:nvPr/>
            </p:nvSpPr>
            <p:spPr>
              <a:xfrm>
                <a:off x="7437240" y="5556600"/>
                <a:ext cx="283320" cy="83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0" name=""/>
              <p:cNvSpPr/>
              <p:nvPr/>
            </p:nvSpPr>
            <p:spPr>
              <a:xfrm>
                <a:off x="7437240" y="5889960"/>
                <a:ext cx="28332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1" name=""/>
              <p:cNvSpPr/>
              <p:nvPr/>
            </p:nvSpPr>
            <p:spPr>
              <a:xfrm>
                <a:off x="7565040" y="6408000"/>
                <a:ext cx="0" cy="98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72" name=""/>
            <p:cNvSpPr/>
            <p:nvPr/>
          </p:nvSpPr>
          <p:spPr>
            <a:xfrm>
              <a:off x="7898760" y="1827720"/>
              <a:ext cx="0" cy="418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73" name=""/>
            <p:cNvGrpSpPr/>
            <p:nvPr/>
          </p:nvGrpSpPr>
          <p:grpSpPr>
            <a:xfrm>
              <a:off x="7769520" y="5507280"/>
              <a:ext cx="271440" cy="999360"/>
              <a:chOff x="7769520" y="5507280"/>
              <a:chExt cx="271440" cy="999360"/>
            </a:xfrm>
          </p:grpSpPr>
          <p:sp>
            <p:nvSpPr>
              <p:cNvPr id="3774" name=""/>
              <p:cNvSpPr/>
              <p:nvPr/>
            </p:nvSpPr>
            <p:spPr>
              <a:xfrm>
                <a:off x="7781040" y="5889960"/>
                <a:ext cx="25884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5" name=""/>
              <p:cNvSpPr/>
              <p:nvPr/>
            </p:nvSpPr>
            <p:spPr>
              <a:xfrm>
                <a:off x="7769520" y="5507280"/>
                <a:ext cx="270360" cy="888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6" name=""/>
              <p:cNvSpPr/>
              <p:nvPr/>
            </p:nvSpPr>
            <p:spPr>
              <a:xfrm>
                <a:off x="7770600" y="5556600"/>
                <a:ext cx="270360" cy="83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7" name=""/>
              <p:cNvSpPr/>
              <p:nvPr/>
            </p:nvSpPr>
            <p:spPr>
              <a:xfrm>
                <a:off x="7770600" y="5889960"/>
                <a:ext cx="27036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8" name=""/>
              <p:cNvSpPr/>
              <p:nvPr/>
            </p:nvSpPr>
            <p:spPr>
              <a:xfrm>
                <a:off x="7898400" y="6408000"/>
                <a:ext cx="0" cy="98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79" name=""/>
            <p:cNvGrpSpPr/>
            <p:nvPr/>
          </p:nvGrpSpPr>
          <p:grpSpPr>
            <a:xfrm>
              <a:off x="7509960" y="3333960"/>
              <a:ext cx="110880" cy="86400"/>
              <a:chOff x="7509960" y="3333960"/>
              <a:chExt cx="110880" cy="86400"/>
            </a:xfrm>
          </p:grpSpPr>
          <p:sp>
            <p:nvSpPr>
              <p:cNvPr id="3780" name=""/>
              <p:cNvSpPr/>
              <p:nvPr/>
            </p:nvSpPr>
            <p:spPr>
              <a:xfrm>
                <a:off x="7522200" y="333396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1" name=""/>
              <p:cNvSpPr/>
              <p:nvPr/>
            </p:nvSpPr>
            <p:spPr>
              <a:xfrm flipH="1">
                <a:off x="7509960" y="333396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82" name=""/>
            <p:cNvGrpSpPr/>
            <p:nvPr/>
          </p:nvGrpSpPr>
          <p:grpSpPr>
            <a:xfrm>
              <a:off x="7509960" y="3667320"/>
              <a:ext cx="110880" cy="86400"/>
              <a:chOff x="7509960" y="3667320"/>
              <a:chExt cx="110880" cy="86400"/>
            </a:xfrm>
          </p:grpSpPr>
          <p:sp>
            <p:nvSpPr>
              <p:cNvPr id="3783" name=""/>
              <p:cNvSpPr/>
              <p:nvPr/>
            </p:nvSpPr>
            <p:spPr>
              <a:xfrm>
                <a:off x="7522200" y="366732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4" name=""/>
              <p:cNvSpPr/>
              <p:nvPr/>
            </p:nvSpPr>
            <p:spPr>
              <a:xfrm flipH="1">
                <a:off x="7509960" y="366732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85" name=""/>
            <p:cNvSpPr/>
            <p:nvPr/>
          </p:nvSpPr>
          <p:spPr>
            <a:xfrm>
              <a:off x="8244360" y="1827720"/>
              <a:ext cx="0" cy="418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86" name=""/>
            <p:cNvGrpSpPr/>
            <p:nvPr/>
          </p:nvGrpSpPr>
          <p:grpSpPr>
            <a:xfrm>
              <a:off x="8102880" y="5507280"/>
              <a:ext cx="271440" cy="999360"/>
              <a:chOff x="8102880" y="5507280"/>
              <a:chExt cx="271440" cy="999360"/>
            </a:xfrm>
          </p:grpSpPr>
          <p:sp>
            <p:nvSpPr>
              <p:cNvPr id="3787" name=""/>
              <p:cNvSpPr/>
              <p:nvPr/>
            </p:nvSpPr>
            <p:spPr>
              <a:xfrm>
                <a:off x="8115480" y="5889960"/>
                <a:ext cx="25776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8" name=""/>
              <p:cNvSpPr/>
              <p:nvPr/>
            </p:nvSpPr>
            <p:spPr>
              <a:xfrm>
                <a:off x="8102880" y="5507280"/>
                <a:ext cx="270360" cy="888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9" name=""/>
              <p:cNvSpPr/>
              <p:nvPr/>
            </p:nvSpPr>
            <p:spPr>
              <a:xfrm>
                <a:off x="8116560" y="5556600"/>
                <a:ext cx="257760" cy="83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0" name=""/>
              <p:cNvSpPr/>
              <p:nvPr/>
            </p:nvSpPr>
            <p:spPr>
              <a:xfrm>
                <a:off x="8116560" y="5889960"/>
                <a:ext cx="25776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1" name=""/>
              <p:cNvSpPr/>
              <p:nvPr/>
            </p:nvSpPr>
            <p:spPr>
              <a:xfrm>
                <a:off x="8244360" y="6408000"/>
                <a:ext cx="0" cy="98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92" name=""/>
            <p:cNvGrpSpPr/>
            <p:nvPr/>
          </p:nvGrpSpPr>
          <p:grpSpPr>
            <a:xfrm>
              <a:off x="7509960" y="4000680"/>
              <a:ext cx="110880" cy="86400"/>
              <a:chOff x="7509960" y="4000680"/>
              <a:chExt cx="110880" cy="86400"/>
            </a:xfrm>
          </p:grpSpPr>
          <p:sp>
            <p:nvSpPr>
              <p:cNvPr id="3793" name=""/>
              <p:cNvSpPr/>
              <p:nvPr/>
            </p:nvSpPr>
            <p:spPr>
              <a:xfrm>
                <a:off x="7522200" y="400068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4" name=""/>
              <p:cNvSpPr/>
              <p:nvPr/>
            </p:nvSpPr>
            <p:spPr>
              <a:xfrm flipH="1">
                <a:off x="7509960" y="400068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95" name=""/>
            <p:cNvGrpSpPr/>
            <p:nvPr/>
          </p:nvGrpSpPr>
          <p:grpSpPr>
            <a:xfrm>
              <a:off x="7509960" y="4321440"/>
              <a:ext cx="110880" cy="86400"/>
              <a:chOff x="7509960" y="4321440"/>
              <a:chExt cx="110880" cy="86400"/>
            </a:xfrm>
          </p:grpSpPr>
          <p:sp>
            <p:nvSpPr>
              <p:cNvPr id="3796" name=""/>
              <p:cNvSpPr/>
              <p:nvPr/>
            </p:nvSpPr>
            <p:spPr>
              <a:xfrm>
                <a:off x="7522200" y="432144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7" name=""/>
              <p:cNvSpPr/>
              <p:nvPr/>
            </p:nvSpPr>
            <p:spPr>
              <a:xfrm flipH="1">
                <a:off x="7509960" y="432144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98" name=""/>
            <p:cNvGrpSpPr/>
            <p:nvPr/>
          </p:nvGrpSpPr>
          <p:grpSpPr>
            <a:xfrm>
              <a:off x="7842600" y="3667320"/>
              <a:ext cx="111240" cy="86400"/>
              <a:chOff x="7842600" y="3667320"/>
              <a:chExt cx="111240" cy="86400"/>
            </a:xfrm>
          </p:grpSpPr>
          <p:sp>
            <p:nvSpPr>
              <p:cNvPr id="3799" name=""/>
              <p:cNvSpPr/>
              <p:nvPr/>
            </p:nvSpPr>
            <p:spPr>
              <a:xfrm>
                <a:off x="7855200" y="366732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0" name=""/>
              <p:cNvSpPr/>
              <p:nvPr/>
            </p:nvSpPr>
            <p:spPr>
              <a:xfrm flipH="1">
                <a:off x="7842600" y="366732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01" name=""/>
            <p:cNvGrpSpPr/>
            <p:nvPr/>
          </p:nvGrpSpPr>
          <p:grpSpPr>
            <a:xfrm>
              <a:off x="7842600" y="4667400"/>
              <a:ext cx="111240" cy="86400"/>
              <a:chOff x="7842600" y="4667400"/>
              <a:chExt cx="111240" cy="86400"/>
            </a:xfrm>
          </p:grpSpPr>
          <p:sp>
            <p:nvSpPr>
              <p:cNvPr id="3802" name=""/>
              <p:cNvSpPr/>
              <p:nvPr/>
            </p:nvSpPr>
            <p:spPr>
              <a:xfrm>
                <a:off x="7855200" y="466740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3" name=""/>
              <p:cNvSpPr/>
              <p:nvPr/>
            </p:nvSpPr>
            <p:spPr>
              <a:xfrm flipH="1">
                <a:off x="7842600" y="466740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04" name=""/>
            <p:cNvSpPr/>
            <p:nvPr/>
          </p:nvSpPr>
          <p:spPr>
            <a:xfrm>
              <a:off x="7059240" y="6488640"/>
              <a:ext cx="139464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97"/>
                </a:lnSpc>
                <a:tabLst>
                  <a:tab algn="l" pos="0"/>
                  <a:tab algn="l" pos="368280"/>
                  <a:tab algn="l" pos="72396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T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G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5" name=""/>
            <p:cNvSpPr/>
            <p:nvPr/>
          </p:nvSpPr>
          <p:spPr>
            <a:xfrm>
              <a:off x="6584040" y="522900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6" name=""/>
            <p:cNvSpPr/>
            <p:nvPr/>
          </p:nvSpPr>
          <p:spPr>
            <a:xfrm>
              <a:off x="6584040" y="5500800"/>
              <a:ext cx="29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7" name=""/>
            <p:cNvSpPr/>
            <p:nvPr/>
          </p:nvSpPr>
          <p:spPr>
            <a:xfrm flipV="1">
              <a:off x="6577560" y="5223240"/>
              <a:ext cx="0" cy="28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8" name=""/>
            <p:cNvSpPr/>
            <p:nvPr/>
          </p:nvSpPr>
          <p:spPr>
            <a:xfrm>
              <a:off x="6732360" y="5236920"/>
              <a:ext cx="270720" cy="29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9" name=""/>
            <p:cNvSpPr/>
            <p:nvPr/>
          </p:nvSpPr>
          <p:spPr>
            <a:xfrm>
              <a:off x="6732000" y="5222880"/>
              <a:ext cx="271080" cy="28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0" name=""/>
            <p:cNvSpPr/>
            <p:nvPr/>
          </p:nvSpPr>
          <p:spPr>
            <a:xfrm>
              <a:off x="5275440" y="5377320"/>
              <a:ext cx="129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1" name=""/>
            <p:cNvSpPr/>
            <p:nvPr/>
          </p:nvSpPr>
          <p:spPr>
            <a:xfrm>
              <a:off x="7016040" y="5377320"/>
              <a:ext cx="146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12" name=""/>
            <p:cNvGrpSpPr/>
            <p:nvPr/>
          </p:nvGrpSpPr>
          <p:grpSpPr>
            <a:xfrm>
              <a:off x="5632920" y="4321440"/>
              <a:ext cx="111240" cy="86400"/>
              <a:chOff x="5632920" y="4321440"/>
              <a:chExt cx="111240" cy="86400"/>
            </a:xfrm>
          </p:grpSpPr>
          <p:sp>
            <p:nvSpPr>
              <p:cNvPr id="3813" name=""/>
              <p:cNvSpPr/>
              <p:nvPr/>
            </p:nvSpPr>
            <p:spPr>
              <a:xfrm>
                <a:off x="5645520" y="432144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4" name=""/>
              <p:cNvSpPr/>
              <p:nvPr/>
            </p:nvSpPr>
            <p:spPr>
              <a:xfrm flipH="1">
                <a:off x="5632920" y="432144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15" name=""/>
            <p:cNvGrpSpPr/>
            <p:nvPr/>
          </p:nvGrpSpPr>
          <p:grpSpPr>
            <a:xfrm>
              <a:off x="6003720" y="3333960"/>
              <a:ext cx="110880" cy="86400"/>
              <a:chOff x="6003720" y="3333960"/>
              <a:chExt cx="110880" cy="86400"/>
            </a:xfrm>
          </p:grpSpPr>
          <p:sp>
            <p:nvSpPr>
              <p:cNvPr id="3816" name=""/>
              <p:cNvSpPr/>
              <p:nvPr/>
            </p:nvSpPr>
            <p:spPr>
              <a:xfrm>
                <a:off x="6015960" y="333396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7" name=""/>
              <p:cNvSpPr/>
              <p:nvPr/>
            </p:nvSpPr>
            <p:spPr>
              <a:xfrm flipH="1">
                <a:off x="6003720" y="333396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18" name=""/>
            <p:cNvSpPr/>
            <p:nvPr/>
          </p:nvSpPr>
          <p:spPr>
            <a:xfrm>
              <a:off x="6584040" y="555048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9" name=""/>
            <p:cNvSpPr/>
            <p:nvPr/>
          </p:nvSpPr>
          <p:spPr>
            <a:xfrm>
              <a:off x="6584040" y="5846400"/>
              <a:ext cx="29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0" name=""/>
            <p:cNvSpPr/>
            <p:nvPr/>
          </p:nvSpPr>
          <p:spPr>
            <a:xfrm flipV="1">
              <a:off x="6577560" y="5543640"/>
              <a:ext cx="0" cy="30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1" name=""/>
            <p:cNvSpPr/>
            <p:nvPr/>
          </p:nvSpPr>
          <p:spPr>
            <a:xfrm>
              <a:off x="6732360" y="5558040"/>
              <a:ext cx="270720" cy="29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2" name=""/>
            <p:cNvSpPr/>
            <p:nvPr/>
          </p:nvSpPr>
          <p:spPr>
            <a:xfrm>
              <a:off x="6732000" y="5543640"/>
              <a:ext cx="271080" cy="29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3" name=""/>
            <p:cNvSpPr/>
            <p:nvPr/>
          </p:nvSpPr>
          <p:spPr>
            <a:xfrm>
              <a:off x="5275440" y="5698440"/>
              <a:ext cx="129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4" name=""/>
            <p:cNvSpPr/>
            <p:nvPr/>
          </p:nvSpPr>
          <p:spPr>
            <a:xfrm>
              <a:off x="7016040" y="5698440"/>
              <a:ext cx="146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25" name=""/>
            <p:cNvGrpSpPr/>
            <p:nvPr/>
          </p:nvGrpSpPr>
          <p:grpSpPr>
            <a:xfrm>
              <a:off x="6163920" y="4321440"/>
              <a:ext cx="111240" cy="86400"/>
              <a:chOff x="6163920" y="4321440"/>
              <a:chExt cx="111240" cy="86400"/>
            </a:xfrm>
          </p:grpSpPr>
          <p:sp>
            <p:nvSpPr>
              <p:cNvPr id="3826" name=""/>
              <p:cNvSpPr/>
              <p:nvPr/>
            </p:nvSpPr>
            <p:spPr>
              <a:xfrm>
                <a:off x="6176520" y="432144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7" name=""/>
              <p:cNvSpPr/>
              <p:nvPr/>
            </p:nvSpPr>
            <p:spPr>
              <a:xfrm flipH="1">
                <a:off x="6163920" y="432144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28" name=""/>
            <p:cNvGrpSpPr/>
            <p:nvPr/>
          </p:nvGrpSpPr>
          <p:grpSpPr>
            <a:xfrm>
              <a:off x="5732280" y="4667400"/>
              <a:ext cx="110880" cy="86400"/>
              <a:chOff x="5732280" y="4667400"/>
              <a:chExt cx="110880" cy="86400"/>
            </a:xfrm>
          </p:grpSpPr>
          <p:sp>
            <p:nvSpPr>
              <p:cNvPr id="3829" name=""/>
              <p:cNvSpPr/>
              <p:nvPr/>
            </p:nvSpPr>
            <p:spPr>
              <a:xfrm>
                <a:off x="5744520" y="466740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0" name=""/>
              <p:cNvSpPr/>
              <p:nvPr/>
            </p:nvSpPr>
            <p:spPr>
              <a:xfrm flipH="1">
                <a:off x="5732280" y="466740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31" name=""/>
            <p:cNvGrpSpPr/>
            <p:nvPr/>
          </p:nvGrpSpPr>
          <p:grpSpPr>
            <a:xfrm>
              <a:off x="5460840" y="4667400"/>
              <a:ext cx="110880" cy="86400"/>
              <a:chOff x="5460840" y="4667400"/>
              <a:chExt cx="110880" cy="86400"/>
            </a:xfrm>
          </p:grpSpPr>
          <p:sp>
            <p:nvSpPr>
              <p:cNvPr id="3832" name=""/>
              <p:cNvSpPr/>
              <p:nvPr/>
            </p:nvSpPr>
            <p:spPr>
              <a:xfrm>
                <a:off x="5473080" y="466740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3" name=""/>
              <p:cNvSpPr/>
              <p:nvPr/>
            </p:nvSpPr>
            <p:spPr>
              <a:xfrm flipH="1">
                <a:off x="5460840" y="466740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34" name=""/>
            <p:cNvGrpSpPr/>
            <p:nvPr/>
          </p:nvGrpSpPr>
          <p:grpSpPr>
            <a:xfrm>
              <a:off x="7842600" y="4988160"/>
              <a:ext cx="111240" cy="86400"/>
              <a:chOff x="7842600" y="4988160"/>
              <a:chExt cx="111240" cy="86400"/>
            </a:xfrm>
          </p:grpSpPr>
          <p:sp>
            <p:nvSpPr>
              <p:cNvPr id="3835" name=""/>
              <p:cNvSpPr/>
              <p:nvPr/>
            </p:nvSpPr>
            <p:spPr>
              <a:xfrm>
                <a:off x="7855200" y="498816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6" name=""/>
              <p:cNvSpPr/>
              <p:nvPr/>
            </p:nvSpPr>
            <p:spPr>
              <a:xfrm flipH="1">
                <a:off x="7842600" y="498816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37" name=""/>
            <p:cNvGrpSpPr/>
            <p:nvPr/>
          </p:nvGrpSpPr>
          <p:grpSpPr>
            <a:xfrm>
              <a:off x="8188920" y="3333960"/>
              <a:ext cx="110880" cy="86400"/>
              <a:chOff x="8188920" y="3333960"/>
              <a:chExt cx="110880" cy="86400"/>
            </a:xfrm>
          </p:grpSpPr>
          <p:sp>
            <p:nvSpPr>
              <p:cNvPr id="3838" name=""/>
              <p:cNvSpPr/>
              <p:nvPr/>
            </p:nvSpPr>
            <p:spPr>
              <a:xfrm>
                <a:off x="8201160" y="333396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9" name=""/>
              <p:cNvSpPr/>
              <p:nvPr/>
            </p:nvSpPr>
            <p:spPr>
              <a:xfrm flipH="1">
                <a:off x="8188920" y="333396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40" name=""/>
            <p:cNvGrpSpPr/>
            <p:nvPr/>
          </p:nvGrpSpPr>
          <p:grpSpPr>
            <a:xfrm>
              <a:off x="6163920" y="4667400"/>
              <a:ext cx="111240" cy="86400"/>
              <a:chOff x="6163920" y="4667400"/>
              <a:chExt cx="111240" cy="86400"/>
            </a:xfrm>
          </p:grpSpPr>
          <p:sp>
            <p:nvSpPr>
              <p:cNvPr id="3841" name=""/>
              <p:cNvSpPr/>
              <p:nvPr/>
            </p:nvSpPr>
            <p:spPr>
              <a:xfrm>
                <a:off x="6176520" y="466740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2" name=""/>
              <p:cNvSpPr/>
              <p:nvPr/>
            </p:nvSpPr>
            <p:spPr>
              <a:xfrm flipH="1">
                <a:off x="6163920" y="466740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43" name=""/>
            <p:cNvGrpSpPr/>
            <p:nvPr/>
          </p:nvGrpSpPr>
          <p:grpSpPr>
            <a:xfrm>
              <a:off x="5892120" y="4988160"/>
              <a:ext cx="111240" cy="86400"/>
              <a:chOff x="5892120" y="4988160"/>
              <a:chExt cx="111240" cy="86400"/>
            </a:xfrm>
          </p:grpSpPr>
          <p:sp>
            <p:nvSpPr>
              <p:cNvPr id="3844" name=""/>
              <p:cNvSpPr/>
              <p:nvPr/>
            </p:nvSpPr>
            <p:spPr>
              <a:xfrm>
                <a:off x="5904720" y="4988160"/>
                <a:ext cx="860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5" name=""/>
              <p:cNvSpPr/>
              <p:nvPr/>
            </p:nvSpPr>
            <p:spPr>
              <a:xfrm flipH="1">
                <a:off x="5892120" y="498816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46" name=""/>
            <p:cNvGrpSpPr/>
            <p:nvPr/>
          </p:nvGrpSpPr>
          <p:grpSpPr>
            <a:xfrm>
              <a:off x="5732280" y="4988160"/>
              <a:ext cx="110880" cy="86400"/>
              <a:chOff x="5732280" y="4988160"/>
              <a:chExt cx="110880" cy="86400"/>
            </a:xfrm>
          </p:grpSpPr>
          <p:sp>
            <p:nvSpPr>
              <p:cNvPr id="3847" name=""/>
              <p:cNvSpPr/>
              <p:nvPr/>
            </p:nvSpPr>
            <p:spPr>
              <a:xfrm>
                <a:off x="5744520" y="498816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8" name=""/>
              <p:cNvSpPr/>
              <p:nvPr/>
            </p:nvSpPr>
            <p:spPr>
              <a:xfrm flipH="1">
                <a:off x="5732280" y="498816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49" name=""/>
            <p:cNvGrpSpPr/>
            <p:nvPr/>
          </p:nvGrpSpPr>
          <p:grpSpPr>
            <a:xfrm>
              <a:off x="6163920" y="4988160"/>
              <a:ext cx="111240" cy="86400"/>
              <a:chOff x="6163920" y="4988160"/>
              <a:chExt cx="111240" cy="86400"/>
            </a:xfrm>
          </p:grpSpPr>
          <p:sp>
            <p:nvSpPr>
              <p:cNvPr id="3850" name=""/>
              <p:cNvSpPr/>
              <p:nvPr/>
            </p:nvSpPr>
            <p:spPr>
              <a:xfrm>
                <a:off x="6176520" y="498816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1" name=""/>
              <p:cNvSpPr/>
              <p:nvPr/>
            </p:nvSpPr>
            <p:spPr>
              <a:xfrm flipH="1">
                <a:off x="6163920" y="498816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2" name=""/>
            <p:cNvGrpSpPr/>
            <p:nvPr/>
          </p:nvGrpSpPr>
          <p:grpSpPr>
            <a:xfrm>
              <a:off x="8188920" y="5654880"/>
              <a:ext cx="110880" cy="86400"/>
              <a:chOff x="8188920" y="5654880"/>
              <a:chExt cx="110880" cy="86400"/>
            </a:xfrm>
          </p:grpSpPr>
          <p:sp>
            <p:nvSpPr>
              <p:cNvPr id="3853" name=""/>
              <p:cNvSpPr/>
              <p:nvPr/>
            </p:nvSpPr>
            <p:spPr>
              <a:xfrm>
                <a:off x="8201160" y="565488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4" name=""/>
              <p:cNvSpPr/>
              <p:nvPr/>
            </p:nvSpPr>
            <p:spPr>
              <a:xfrm flipH="1">
                <a:off x="8188920" y="565488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5" name=""/>
            <p:cNvGrpSpPr/>
            <p:nvPr/>
          </p:nvGrpSpPr>
          <p:grpSpPr>
            <a:xfrm>
              <a:off x="8188920" y="5334120"/>
              <a:ext cx="110880" cy="86400"/>
              <a:chOff x="8188920" y="5334120"/>
              <a:chExt cx="110880" cy="86400"/>
            </a:xfrm>
          </p:grpSpPr>
          <p:sp>
            <p:nvSpPr>
              <p:cNvPr id="3856" name=""/>
              <p:cNvSpPr/>
              <p:nvPr/>
            </p:nvSpPr>
            <p:spPr>
              <a:xfrm>
                <a:off x="8201160" y="533412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7" name=""/>
              <p:cNvSpPr/>
              <p:nvPr/>
            </p:nvSpPr>
            <p:spPr>
              <a:xfrm flipH="1">
                <a:off x="8188920" y="533412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8" name=""/>
            <p:cNvGrpSpPr/>
            <p:nvPr/>
          </p:nvGrpSpPr>
          <p:grpSpPr>
            <a:xfrm>
              <a:off x="5632920" y="5334120"/>
              <a:ext cx="111240" cy="86400"/>
              <a:chOff x="5632920" y="5334120"/>
              <a:chExt cx="111240" cy="86400"/>
            </a:xfrm>
          </p:grpSpPr>
          <p:sp>
            <p:nvSpPr>
              <p:cNvPr id="3859" name=""/>
              <p:cNvSpPr/>
              <p:nvPr/>
            </p:nvSpPr>
            <p:spPr>
              <a:xfrm>
                <a:off x="5645520" y="533412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0" name=""/>
              <p:cNvSpPr/>
              <p:nvPr/>
            </p:nvSpPr>
            <p:spPr>
              <a:xfrm flipH="1">
                <a:off x="5632920" y="533412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61" name=""/>
            <p:cNvGrpSpPr/>
            <p:nvPr/>
          </p:nvGrpSpPr>
          <p:grpSpPr>
            <a:xfrm>
              <a:off x="5361480" y="5334120"/>
              <a:ext cx="111240" cy="86400"/>
              <a:chOff x="5361480" y="5334120"/>
              <a:chExt cx="111240" cy="86400"/>
            </a:xfrm>
          </p:grpSpPr>
          <p:sp>
            <p:nvSpPr>
              <p:cNvPr id="3862" name=""/>
              <p:cNvSpPr/>
              <p:nvPr/>
            </p:nvSpPr>
            <p:spPr>
              <a:xfrm>
                <a:off x="5374080" y="533412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3" name=""/>
              <p:cNvSpPr/>
              <p:nvPr/>
            </p:nvSpPr>
            <p:spPr>
              <a:xfrm flipH="1">
                <a:off x="5361480" y="533412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64" name=""/>
            <p:cNvGrpSpPr/>
            <p:nvPr/>
          </p:nvGrpSpPr>
          <p:grpSpPr>
            <a:xfrm>
              <a:off x="5892120" y="5334120"/>
              <a:ext cx="111240" cy="86400"/>
              <a:chOff x="5892120" y="5334120"/>
              <a:chExt cx="111240" cy="86400"/>
            </a:xfrm>
          </p:grpSpPr>
          <p:sp>
            <p:nvSpPr>
              <p:cNvPr id="3865" name=""/>
              <p:cNvSpPr/>
              <p:nvPr/>
            </p:nvSpPr>
            <p:spPr>
              <a:xfrm>
                <a:off x="5904720" y="5334120"/>
                <a:ext cx="860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6" name=""/>
              <p:cNvSpPr/>
              <p:nvPr/>
            </p:nvSpPr>
            <p:spPr>
              <a:xfrm flipH="1">
                <a:off x="5892120" y="533412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67" name=""/>
            <p:cNvGrpSpPr/>
            <p:nvPr/>
          </p:nvGrpSpPr>
          <p:grpSpPr>
            <a:xfrm>
              <a:off x="6003720" y="5654880"/>
              <a:ext cx="110880" cy="86400"/>
              <a:chOff x="6003720" y="5654880"/>
              <a:chExt cx="110880" cy="86400"/>
            </a:xfrm>
          </p:grpSpPr>
          <p:sp>
            <p:nvSpPr>
              <p:cNvPr id="3868" name=""/>
              <p:cNvSpPr/>
              <p:nvPr/>
            </p:nvSpPr>
            <p:spPr>
              <a:xfrm>
                <a:off x="6015960" y="565488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9" name=""/>
              <p:cNvSpPr/>
              <p:nvPr/>
            </p:nvSpPr>
            <p:spPr>
              <a:xfrm flipH="1">
                <a:off x="6003720" y="565488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70" name=""/>
            <p:cNvGrpSpPr/>
            <p:nvPr/>
          </p:nvGrpSpPr>
          <p:grpSpPr>
            <a:xfrm>
              <a:off x="5632920" y="5654880"/>
              <a:ext cx="111240" cy="86400"/>
              <a:chOff x="5632920" y="5654880"/>
              <a:chExt cx="111240" cy="86400"/>
            </a:xfrm>
          </p:grpSpPr>
          <p:sp>
            <p:nvSpPr>
              <p:cNvPr id="3871" name=""/>
              <p:cNvSpPr/>
              <p:nvPr/>
            </p:nvSpPr>
            <p:spPr>
              <a:xfrm>
                <a:off x="5645520" y="565488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2" name=""/>
              <p:cNvSpPr/>
              <p:nvPr/>
            </p:nvSpPr>
            <p:spPr>
              <a:xfrm flipH="1">
                <a:off x="5632920" y="565488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73" name=""/>
            <p:cNvGrpSpPr/>
            <p:nvPr/>
          </p:nvGrpSpPr>
          <p:grpSpPr>
            <a:xfrm>
              <a:off x="6275520" y="5654880"/>
              <a:ext cx="110880" cy="86400"/>
              <a:chOff x="6275520" y="5654880"/>
              <a:chExt cx="110880" cy="86400"/>
            </a:xfrm>
          </p:grpSpPr>
          <p:sp>
            <p:nvSpPr>
              <p:cNvPr id="3874" name=""/>
              <p:cNvSpPr/>
              <p:nvPr/>
            </p:nvSpPr>
            <p:spPr>
              <a:xfrm>
                <a:off x="6287760" y="565488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5" name=""/>
              <p:cNvSpPr/>
              <p:nvPr/>
            </p:nvSpPr>
            <p:spPr>
              <a:xfrm flipH="1">
                <a:off x="6275520" y="565488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76" name=""/>
            <p:cNvSpPr/>
            <p:nvPr/>
          </p:nvSpPr>
          <p:spPr>
            <a:xfrm>
              <a:off x="8491320" y="1784520"/>
              <a:ext cx="715680" cy="41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6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'B'C'D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6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'BC'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6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BC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6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B'CD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6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C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6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'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6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'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6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D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6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'B'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6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'C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6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B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6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C'D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7" name=""/>
            <p:cNvSpPr/>
            <p:nvPr/>
          </p:nvSpPr>
          <p:spPr>
            <a:xfrm>
              <a:off x="5355720" y="1414440"/>
              <a:ext cx="135756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279360"/>
                  <a:tab algn="l" pos="571680"/>
                  <a:tab algn="l" pos="8510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7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ALs and PLAs: another design exampl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7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gnitude compara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0" name=""/>
          <p:cNvGrpSpPr/>
          <p:nvPr/>
        </p:nvGrpSpPr>
        <p:grpSpPr>
          <a:xfrm>
            <a:off x="692280" y="2025720"/>
            <a:ext cx="3714120" cy="3797280"/>
            <a:chOff x="692280" y="2025720"/>
            <a:chExt cx="3714120" cy="3797280"/>
          </a:xfrm>
        </p:grpSpPr>
        <p:sp>
          <p:nvSpPr>
            <p:cNvPr id="3881" name=""/>
            <p:cNvSpPr/>
            <p:nvPr/>
          </p:nvSpPr>
          <p:spPr>
            <a:xfrm>
              <a:off x="725400" y="2025720"/>
              <a:ext cx="3681000" cy="379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Q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T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GT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2" name=""/>
            <p:cNvSpPr/>
            <p:nvPr/>
          </p:nvSpPr>
          <p:spPr>
            <a:xfrm>
              <a:off x="2476440" y="2057400"/>
              <a:ext cx="0" cy="373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3" name=""/>
            <p:cNvSpPr/>
            <p:nvPr/>
          </p:nvSpPr>
          <p:spPr>
            <a:xfrm>
              <a:off x="692280" y="2279520"/>
              <a:ext cx="368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84" name=""/>
          <p:cNvSpPr/>
          <p:nvPr/>
        </p:nvSpPr>
        <p:spPr>
          <a:xfrm>
            <a:off x="241200" y="5854680"/>
            <a:ext cx="6464520" cy="7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inimized func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Q = A’B’C’D’ + A’BC’D + ABCD + AB’CD’     NE = AC’ + A’C + B’D + BD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T = A’C + A’B’D + B’CD                            GT = AC’ + ABC + BC’D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15FF-2735-4406-84A4-72CEA72C4F7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8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p the following functions to the PLA below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 = AB + A’C’ + BC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= ABC + AB’ + A’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= ABC’ + BC + B’C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7" name=""/>
          <p:cNvSpPr/>
          <p:nvPr/>
        </p:nvSpPr>
        <p:spPr>
          <a:xfrm>
            <a:off x="6108840" y="2666880"/>
            <a:ext cx="29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8" name=""/>
          <p:cNvSpPr/>
          <p:nvPr/>
        </p:nvSpPr>
        <p:spPr>
          <a:xfrm>
            <a:off x="6108840" y="2971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9" name=""/>
          <p:cNvSpPr/>
          <p:nvPr/>
        </p:nvSpPr>
        <p:spPr>
          <a:xfrm flipV="1">
            <a:off x="6102360" y="266076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0" name=""/>
          <p:cNvSpPr/>
          <p:nvPr/>
        </p:nvSpPr>
        <p:spPr>
          <a:xfrm>
            <a:off x="6267960" y="2681280"/>
            <a:ext cx="2786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1" name=""/>
          <p:cNvSpPr/>
          <p:nvPr/>
        </p:nvSpPr>
        <p:spPr>
          <a:xfrm>
            <a:off x="6261840" y="2674800"/>
            <a:ext cx="29088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2" name=""/>
          <p:cNvSpPr/>
          <p:nvPr/>
        </p:nvSpPr>
        <p:spPr>
          <a:xfrm>
            <a:off x="6267600" y="2667240"/>
            <a:ext cx="27900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3" name=""/>
          <p:cNvSpPr/>
          <p:nvPr/>
        </p:nvSpPr>
        <p:spPr>
          <a:xfrm>
            <a:off x="6261480" y="2660760"/>
            <a:ext cx="2912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4" name=""/>
          <p:cNvSpPr/>
          <p:nvPr/>
        </p:nvSpPr>
        <p:spPr>
          <a:xfrm>
            <a:off x="4991040" y="2819520"/>
            <a:ext cx="109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5" name=""/>
          <p:cNvSpPr/>
          <p:nvPr/>
        </p:nvSpPr>
        <p:spPr>
          <a:xfrm>
            <a:off x="6553080" y="2819520"/>
            <a:ext cx="196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6" name=""/>
          <p:cNvSpPr/>
          <p:nvPr/>
        </p:nvSpPr>
        <p:spPr>
          <a:xfrm>
            <a:off x="6108840" y="3035160"/>
            <a:ext cx="29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7" name=""/>
          <p:cNvSpPr/>
          <p:nvPr/>
        </p:nvSpPr>
        <p:spPr>
          <a:xfrm>
            <a:off x="6108840" y="33400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8" name=""/>
          <p:cNvSpPr/>
          <p:nvPr/>
        </p:nvSpPr>
        <p:spPr>
          <a:xfrm flipV="1">
            <a:off x="6102360" y="302904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9" name=""/>
          <p:cNvSpPr/>
          <p:nvPr/>
        </p:nvSpPr>
        <p:spPr>
          <a:xfrm>
            <a:off x="6267960" y="3049560"/>
            <a:ext cx="2786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0" name=""/>
          <p:cNvSpPr/>
          <p:nvPr/>
        </p:nvSpPr>
        <p:spPr>
          <a:xfrm>
            <a:off x="6261840" y="3043080"/>
            <a:ext cx="29088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1" name=""/>
          <p:cNvSpPr/>
          <p:nvPr/>
        </p:nvSpPr>
        <p:spPr>
          <a:xfrm>
            <a:off x="6267600" y="3035520"/>
            <a:ext cx="27900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2" name=""/>
          <p:cNvSpPr/>
          <p:nvPr/>
        </p:nvSpPr>
        <p:spPr>
          <a:xfrm>
            <a:off x="6261480" y="3029040"/>
            <a:ext cx="2912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3" name=""/>
          <p:cNvSpPr/>
          <p:nvPr/>
        </p:nvSpPr>
        <p:spPr>
          <a:xfrm>
            <a:off x="4991040" y="3187800"/>
            <a:ext cx="109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4" name=""/>
          <p:cNvSpPr/>
          <p:nvPr/>
        </p:nvSpPr>
        <p:spPr>
          <a:xfrm>
            <a:off x="6553080" y="3187800"/>
            <a:ext cx="196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5" name=""/>
          <p:cNvSpPr/>
          <p:nvPr/>
        </p:nvSpPr>
        <p:spPr>
          <a:xfrm>
            <a:off x="6108840" y="3403440"/>
            <a:ext cx="29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6" name=""/>
          <p:cNvSpPr/>
          <p:nvPr/>
        </p:nvSpPr>
        <p:spPr>
          <a:xfrm>
            <a:off x="6108840" y="370836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7" name=""/>
          <p:cNvSpPr/>
          <p:nvPr/>
        </p:nvSpPr>
        <p:spPr>
          <a:xfrm flipV="1">
            <a:off x="6102360" y="339732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8" name=""/>
          <p:cNvSpPr/>
          <p:nvPr/>
        </p:nvSpPr>
        <p:spPr>
          <a:xfrm>
            <a:off x="6267960" y="3417840"/>
            <a:ext cx="2786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9" name=""/>
          <p:cNvSpPr/>
          <p:nvPr/>
        </p:nvSpPr>
        <p:spPr>
          <a:xfrm>
            <a:off x="6261840" y="3411360"/>
            <a:ext cx="29088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0" name=""/>
          <p:cNvSpPr/>
          <p:nvPr/>
        </p:nvSpPr>
        <p:spPr>
          <a:xfrm>
            <a:off x="6267600" y="3403800"/>
            <a:ext cx="27900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1" name=""/>
          <p:cNvSpPr/>
          <p:nvPr/>
        </p:nvSpPr>
        <p:spPr>
          <a:xfrm>
            <a:off x="6261480" y="3397320"/>
            <a:ext cx="2912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2" name=""/>
          <p:cNvSpPr/>
          <p:nvPr/>
        </p:nvSpPr>
        <p:spPr>
          <a:xfrm>
            <a:off x="4991040" y="3556080"/>
            <a:ext cx="109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3" name=""/>
          <p:cNvSpPr/>
          <p:nvPr/>
        </p:nvSpPr>
        <p:spPr>
          <a:xfrm>
            <a:off x="6553080" y="3556080"/>
            <a:ext cx="196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4" name=""/>
          <p:cNvSpPr/>
          <p:nvPr/>
        </p:nvSpPr>
        <p:spPr>
          <a:xfrm>
            <a:off x="6108840" y="3772080"/>
            <a:ext cx="29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5" name=""/>
          <p:cNvSpPr/>
          <p:nvPr/>
        </p:nvSpPr>
        <p:spPr>
          <a:xfrm>
            <a:off x="6108840" y="407664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6" name=""/>
          <p:cNvSpPr/>
          <p:nvPr/>
        </p:nvSpPr>
        <p:spPr>
          <a:xfrm flipV="1">
            <a:off x="6102360" y="376560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7" name=""/>
          <p:cNvSpPr/>
          <p:nvPr/>
        </p:nvSpPr>
        <p:spPr>
          <a:xfrm>
            <a:off x="6267960" y="3786120"/>
            <a:ext cx="27864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8" name=""/>
          <p:cNvSpPr/>
          <p:nvPr/>
        </p:nvSpPr>
        <p:spPr>
          <a:xfrm>
            <a:off x="6261840" y="3780000"/>
            <a:ext cx="29088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9" name=""/>
          <p:cNvSpPr/>
          <p:nvPr/>
        </p:nvSpPr>
        <p:spPr>
          <a:xfrm>
            <a:off x="6267600" y="3772080"/>
            <a:ext cx="27900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0" name=""/>
          <p:cNvSpPr/>
          <p:nvPr/>
        </p:nvSpPr>
        <p:spPr>
          <a:xfrm>
            <a:off x="6261480" y="3765600"/>
            <a:ext cx="2912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1" name=""/>
          <p:cNvSpPr/>
          <p:nvPr/>
        </p:nvSpPr>
        <p:spPr>
          <a:xfrm>
            <a:off x="4991040" y="3924360"/>
            <a:ext cx="109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2" name=""/>
          <p:cNvSpPr/>
          <p:nvPr/>
        </p:nvSpPr>
        <p:spPr>
          <a:xfrm>
            <a:off x="6553080" y="3924360"/>
            <a:ext cx="196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3" name=""/>
          <p:cNvSpPr/>
          <p:nvPr/>
        </p:nvSpPr>
        <p:spPr>
          <a:xfrm flipH="1">
            <a:off x="5803920" y="2521080"/>
            <a:ext cx="13968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4" name=""/>
          <p:cNvSpPr/>
          <p:nvPr/>
        </p:nvSpPr>
        <p:spPr>
          <a:xfrm>
            <a:off x="5689440" y="2521080"/>
            <a:ext cx="11448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5" name=""/>
          <p:cNvSpPr/>
          <p:nvPr/>
        </p:nvSpPr>
        <p:spPr>
          <a:xfrm flipH="1">
            <a:off x="5676480" y="251460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6" name=""/>
          <p:cNvSpPr/>
          <p:nvPr/>
        </p:nvSpPr>
        <p:spPr>
          <a:xfrm>
            <a:off x="5810400" y="23940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7" name=""/>
          <p:cNvSpPr/>
          <p:nvPr/>
        </p:nvSpPr>
        <p:spPr>
          <a:xfrm>
            <a:off x="5873760" y="2660760"/>
            <a:ext cx="0" cy="299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8" name=""/>
          <p:cNvSpPr/>
          <p:nvPr/>
        </p:nvSpPr>
        <p:spPr>
          <a:xfrm>
            <a:off x="5746680" y="2622600"/>
            <a:ext cx="0" cy="303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9" name=""/>
          <p:cNvSpPr/>
          <p:nvPr/>
        </p:nvSpPr>
        <p:spPr>
          <a:xfrm flipH="1">
            <a:off x="5511960" y="2521080"/>
            <a:ext cx="13968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0" name=""/>
          <p:cNvSpPr/>
          <p:nvPr/>
        </p:nvSpPr>
        <p:spPr>
          <a:xfrm>
            <a:off x="5397480" y="2521080"/>
            <a:ext cx="11448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1" name=""/>
          <p:cNvSpPr/>
          <p:nvPr/>
        </p:nvSpPr>
        <p:spPr>
          <a:xfrm flipH="1">
            <a:off x="5384520" y="251460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2" name=""/>
          <p:cNvSpPr/>
          <p:nvPr/>
        </p:nvSpPr>
        <p:spPr>
          <a:xfrm>
            <a:off x="5518080" y="23940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3" name=""/>
          <p:cNvSpPr/>
          <p:nvPr/>
        </p:nvSpPr>
        <p:spPr>
          <a:xfrm>
            <a:off x="5581800" y="2660760"/>
            <a:ext cx="0" cy="299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4" name=""/>
          <p:cNvSpPr/>
          <p:nvPr/>
        </p:nvSpPr>
        <p:spPr>
          <a:xfrm>
            <a:off x="5454720" y="2610000"/>
            <a:ext cx="0" cy="304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5" name=""/>
          <p:cNvSpPr/>
          <p:nvPr/>
        </p:nvSpPr>
        <p:spPr>
          <a:xfrm flipH="1">
            <a:off x="5219640" y="2521080"/>
            <a:ext cx="13968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6" name=""/>
          <p:cNvSpPr/>
          <p:nvPr/>
        </p:nvSpPr>
        <p:spPr>
          <a:xfrm>
            <a:off x="5105520" y="2521080"/>
            <a:ext cx="11412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7" name=""/>
          <p:cNvSpPr/>
          <p:nvPr/>
        </p:nvSpPr>
        <p:spPr>
          <a:xfrm flipH="1">
            <a:off x="5092200" y="251460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8" name=""/>
          <p:cNvSpPr/>
          <p:nvPr/>
        </p:nvSpPr>
        <p:spPr>
          <a:xfrm>
            <a:off x="5226120" y="23940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9" name=""/>
          <p:cNvSpPr/>
          <p:nvPr/>
        </p:nvSpPr>
        <p:spPr>
          <a:xfrm>
            <a:off x="5289480" y="2660760"/>
            <a:ext cx="0" cy="299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0" name=""/>
          <p:cNvSpPr/>
          <p:nvPr/>
        </p:nvSpPr>
        <p:spPr>
          <a:xfrm>
            <a:off x="5162400" y="2622600"/>
            <a:ext cx="0" cy="303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1" name=""/>
          <p:cNvSpPr/>
          <p:nvPr/>
        </p:nvSpPr>
        <p:spPr>
          <a:xfrm>
            <a:off x="6680520" y="5518080"/>
            <a:ext cx="266040" cy="13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2" name=""/>
          <p:cNvSpPr/>
          <p:nvPr/>
        </p:nvSpPr>
        <p:spPr>
          <a:xfrm>
            <a:off x="6654600" y="5111640"/>
            <a:ext cx="291960" cy="952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3" name=""/>
          <p:cNvSpPr/>
          <p:nvPr/>
        </p:nvSpPr>
        <p:spPr>
          <a:xfrm>
            <a:off x="6669000" y="5162760"/>
            <a:ext cx="291960" cy="90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4" name=""/>
          <p:cNvSpPr/>
          <p:nvPr/>
        </p:nvSpPr>
        <p:spPr>
          <a:xfrm>
            <a:off x="6669000" y="5518080"/>
            <a:ext cx="291960" cy="13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5" name=""/>
          <p:cNvSpPr/>
          <p:nvPr/>
        </p:nvSpPr>
        <p:spPr>
          <a:xfrm>
            <a:off x="6800760" y="2622600"/>
            <a:ext cx="0" cy="300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6" name=""/>
          <p:cNvSpPr/>
          <p:nvPr/>
        </p:nvSpPr>
        <p:spPr>
          <a:xfrm>
            <a:off x="6800760" y="606420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7" name=""/>
          <p:cNvSpPr/>
          <p:nvPr/>
        </p:nvSpPr>
        <p:spPr>
          <a:xfrm>
            <a:off x="7048800" y="5518080"/>
            <a:ext cx="266040" cy="13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8" name=""/>
          <p:cNvSpPr/>
          <p:nvPr/>
        </p:nvSpPr>
        <p:spPr>
          <a:xfrm>
            <a:off x="7022880" y="5111640"/>
            <a:ext cx="291960" cy="952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9" name=""/>
          <p:cNvSpPr/>
          <p:nvPr/>
        </p:nvSpPr>
        <p:spPr>
          <a:xfrm>
            <a:off x="7037280" y="5162760"/>
            <a:ext cx="291960" cy="90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0" name=""/>
          <p:cNvSpPr/>
          <p:nvPr/>
        </p:nvSpPr>
        <p:spPr>
          <a:xfrm>
            <a:off x="7037280" y="5518080"/>
            <a:ext cx="291960" cy="13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1" name=""/>
          <p:cNvSpPr/>
          <p:nvPr/>
        </p:nvSpPr>
        <p:spPr>
          <a:xfrm>
            <a:off x="7169040" y="2622600"/>
            <a:ext cx="0" cy="300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2" name=""/>
          <p:cNvSpPr/>
          <p:nvPr/>
        </p:nvSpPr>
        <p:spPr>
          <a:xfrm>
            <a:off x="7169040" y="606420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3" name=""/>
          <p:cNvSpPr/>
          <p:nvPr/>
        </p:nvSpPr>
        <p:spPr>
          <a:xfrm>
            <a:off x="7404120" y="5518080"/>
            <a:ext cx="266400" cy="13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4" name=""/>
          <p:cNvSpPr/>
          <p:nvPr/>
        </p:nvSpPr>
        <p:spPr>
          <a:xfrm>
            <a:off x="7378560" y="5111640"/>
            <a:ext cx="291960" cy="952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5" name=""/>
          <p:cNvSpPr/>
          <p:nvPr/>
        </p:nvSpPr>
        <p:spPr>
          <a:xfrm>
            <a:off x="7392960" y="5162760"/>
            <a:ext cx="291960" cy="90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6" name=""/>
          <p:cNvSpPr/>
          <p:nvPr/>
        </p:nvSpPr>
        <p:spPr>
          <a:xfrm>
            <a:off x="7392960" y="5518080"/>
            <a:ext cx="291960" cy="13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7" name=""/>
          <p:cNvSpPr/>
          <p:nvPr/>
        </p:nvSpPr>
        <p:spPr>
          <a:xfrm>
            <a:off x="7524720" y="2622600"/>
            <a:ext cx="0" cy="300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8" name=""/>
          <p:cNvSpPr/>
          <p:nvPr/>
        </p:nvSpPr>
        <p:spPr>
          <a:xfrm>
            <a:off x="7524720" y="606420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9" name=""/>
          <p:cNvSpPr/>
          <p:nvPr/>
        </p:nvSpPr>
        <p:spPr>
          <a:xfrm>
            <a:off x="5111640" y="2146320"/>
            <a:ext cx="5461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0" name=""/>
          <p:cNvSpPr/>
          <p:nvPr/>
        </p:nvSpPr>
        <p:spPr>
          <a:xfrm>
            <a:off x="5416560" y="2146320"/>
            <a:ext cx="5461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1" name=""/>
          <p:cNvSpPr/>
          <p:nvPr/>
        </p:nvSpPr>
        <p:spPr>
          <a:xfrm>
            <a:off x="5683320" y="2146320"/>
            <a:ext cx="5587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2" name=""/>
          <p:cNvSpPr/>
          <p:nvPr/>
        </p:nvSpPr>
        <p:spPr>
          <a:xfrm>
            <a:off x="6108840" y="4140360"/>
            <a:ext cx="29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3" name=""/>
          <p:cNvSpPr/>
          <p:nvPr/>
        </p:nvSpPr>
        <p:spPr>
          <a:xfrm>
            <a:off x="6108840" y="4444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4" name=""/>
          <p:cNvSpPr/>
          <p:nvPr/>
        </p:nvSpPr>
        <p:spPr>
          <a:xfrm flipV="1">
            <a:off x="6102360" y="413388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5" name=""/>
          <p:cNvSpPr/>
          <p:nvPr/>
        </p:nvSpPr>
        <p:spPr>
          <a:xfrm>
            <a:off x="6267960" y="4154400"/>
            <a:ext cx="27864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6" name=""/>
          <p:cNvSpPr/>
          <p:nvPr/>
        </p:nvSpPr>
        <p:spPr>
          <a:xfrm>
            <a:off x="6261840" y="4148280"/>
            <a:ext cx="29088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7" name=""/>
          <p:cNvSpPr/>
          <p:nvPr/>
        </p:nvSpPr>
        <p:spPr>
          <a:xfrm>
            <a:off x="6267600" y="4140360"/>
            <a:ext cx="27900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8" name=""/>
          <p:cNvSpPr/>
          <p:nvPr/>
        </p:nvSpPr>
        <p:spPr>
          <a:xfrm>
            <a:off x="6261480" y="4133880"/>
            <a:ext cx="2912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9" name=""/>
          <p:cNvSpPr/>
          <p:nvPr/>
        </p:nvSpPr>
        <p:spPr>
          <a:xfrm>
            <a:off x="4991040" y="4292640"/>
            <a:ext cx="109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0" name=""/>
          <p:cNvSpPr/>
          <p:nvPr/>
        </p:nvSpPr>
        <p:spPr>
          <a:xfrm>
            <a:off x="6553080" y="4292640"/>
            <a:ext cx="196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1" name=""/>
          <p:cNvSpPr/>
          <p:nvPr/>
        </p:nvSpPr>
        <p:spPr>
          <a:xfrm>
            <a:off x="6108840" y="4508640"/>
            <a:ext cx="29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2" name=""/>
          <p:cNvSpPr/>
          <p:nvPr/>
        </p:nvSpPr>
        <p:spPr>
          <a:xfrm>
            <a:off x="6108840" y="4813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3" name=""/>
          <p:cNvSpPr/>
          <p:nvPr/>
        </p:nvSpPr>
        <p:spPr>
          <a:xfrm flipV="1">
            <a:off x="6102360" y="450216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4" name=""/>
          <p:cNvSpPr/>
          <p:nvPr/>
        </p:nvSpPr>
        <p:spPr>
          <a:xfrm>
            <a:off x="6267960" y="4522680"/>
            <a:ext cx="27864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5" name=""/>
          <p:cNvSpPr/>
          <p:nvPr/>
        </p:nvSpPr>
        <p:spPr>
          <a:xfrm>
            <a:off x="6261840" y="4516560"/>
            <a:ext cx="29088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6" name=""/>
          <p:cNvSpPr/>
          <p:nvPr/>
        </p:nvSpPr>
        <p:spPr>
          <a:xfrm>
            <a:off x="6267600" y="4508640"/>
            <a:ext cx="27900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7" name=""/>
          <p:cNvSpPr/>
          <p:nvPr/>
        </p:nvSpPr>
        <p:spPr>
          <a:xfrm>
            <a:off x="6261480" y="4502160"/>
            <a:ext cx="2912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8" name=""/>
          <p:cNvSpPr/>
          <p:nvPr/>
        </p:nvSpPr>
        <p:spPr>
          <a:xfrm>
            <a:off x="4991040" y="4660920"/>
            <a:ext cx="109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9" name=""/>
          <p:cNvSpPr/>
          <p:nvPr/>
        </p:nvSpPr>
        <p:spPr>
          <a:xfrm>
            <a:off x="6553080" y="4660920"/>
            <a:ext cx="196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0" name=""/>
          <p:cNvSpPr/>
          <p:nvPr/>
        </p:nvSpPr>
        <p:spPr>
          <a:xfrm>
            <a:off x="6108840" y="4876920"/>
            <a:ext cx="29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1" name=""/>
          <p:cNvSpPr/>
          <p:nvPr/>
        </p:nvSpPr>
        <p:spPr>
          <a:xfrm>
            <a:off x="6108840" y="51814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2" name=""/>
          <p:cNvSpPr/>
          <p:nvPr/>
        </p:nvSpPr>
        <p:spPr>
          <a:xfrm flipV="1">
            <a:off x="6102360" y="487044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3" name=""/>
          <p:cNvSpPr/>
          <p:nvPr/>
        </p:nvSpPr>
        <p:spPr>
          <a:xfrm>
            <a:off x="6267960" y="4890960"/>
            <a:ext cx="27864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4" name=""/>
          <p:cNvSpPr/>
          <p:nvPr/>
        </p:nvSpPr>
        <p:spPr>
          <a:xfrm>
            <a:off x="6261840" y="4884840"/>
            <a:ext cx="29088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5" name=""/>
          <p:cNvSpPr/>
          <p:nvPr/>
        </p:nvSpPr>
        <p:spPr>
          <a:xfrm>
            <a:off x="6267600" y="4876920"/>
            <a:ext cx="27900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6" name=""/>
          <p:cNvSpPr/>
          <p:nvPr/>
        </p:nvSpPr>
        <p:spPr>
          <a:xfrm>
            <a:off x="6261480" y="4870440"/>
            <a:ext cx="2912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7" name=""/>
          <p:cNvSpPr/>
          <p:nvPr/>
        </p:nvSpPr>
        <p:spPr>
          <a:xfrm>
            <a:off x="4991040" y="5029200"/>
            <a:ext cx="109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8" name=""/>
          <p:cNvSpPr/>
          <p:nvPr/>
        </p:nvSpPr>
        <p:spPr>
          <a:xfrm>
            <a:off x="6553080" y="5029200"/>
            <a:ext cx="196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9" name=""/>
          <p:cNvSpPr/>
          <p:nvPr/>
        </p:nvSpPr>
        <p:spPr>
          <a:xfrm>
            <a:off x="5854680" y="2635200"/>
            <a:ext cx="50760" cy="50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0" name=""/>
          <p:cNvSpPr/>
          <p:nvPr/>
        </p:nvSpPr>
        <p:spPr>
          <a:xfrm>
            <a:off x="5562720" y="2635200"/>
            <a:ext cx="50760" cy="50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1" name=""/>
          <p:cNvSpPr/>
          <p:nvPr/>
        </p:nvSpPr>
        <p:spPr>
          <a:xfrm>
            <a:off x="5270400" y="2635200"/>
            <a:ext cx="50760" cy="50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2" name=""/>
          <p:cNvSpPr/>
          <p:nvPr/>
        </p:nvSpPr>
        <p:spPr>
          <a:xfrm>
            <a:off x="6705720" y="6222960"/>
            <a:ext cx="6350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3" name=""/>
          <p:cNvSpPr/>
          <p:nvPr/>
        </p:nvSpPr>
        <p:spPr>
          <a:xfrm>
            <a:off x="7112160" y="6222960"/>
            <a:ext cx="6346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4" name=""/>
          <p:cNvSpPr/>
          <p:nvPr/>
        </p:nvSpPr>
        <p:spPr>
          <a:xfrm>
            <a:off x="7480440" y="6222960"/>
            <a:ext cx="6350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8B70-9414-4B7E-9D4E-44DE12C7E85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9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6000"/>
          </a:bodyPr>
          <a:p>
            <a:pPr marL="333720" indent="-33372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 terms won’t fit in a 7 term P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1960" indent="-31680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apply concensus theorem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W to simplify to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 = AB + A’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720" indent="-33372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 terms wont’ fit in a 7 term P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1960" indent="-31680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e that AB = ABC + AB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1960" indent="-31680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rewrite W to reuse terms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 = ABC + ABC’ + A’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720" indent="-33372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w it 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1960" indent="-31680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 = ABC + ABC’ + A’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1960" indent="-31680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= ABC + AB’ + A’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1960" indent="-31680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= ABC’ + BC + B’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720" indent="-33372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called technology ma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1960" indent="-31680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ipulating logic function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that they can use availabl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7" name=""/>
          <p:cNvGrpSpPr/>
          <p:nvPr/>
        </p:nvGrpSpPr>
        <p:grpSpPr>
          <a:xfrm>
            <a:off x="5098680" y="2438280"/>
            <a:ext cx="3524760" cy="3073680"/>
            <a:chOff x="5098680" y="2438280"/>
            <a:chExt cx="3524760" cy="3073680"/>
          </a:xfrm>
        </p:grpSpPr>
        <p:sp>
          <p:nvSpPr>
            <p:cNvPr id="3998" name=""/>
            <p:cNvSpPr/>
            <p:nvPr/>
          </p:nvSpPr>
          <p:spPr>
            <a:xfrm>
              <a:off x="7924680" y="2438280"/>
              <a:ext cx="698760" cy="307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C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’C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’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’C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99" name=""/>
            <p:cNvGrpSpPr/>
            <p:nvPr/>
          </p:nvGrpSpPr>
          <p:grpSpPr>
            <a:xfrm>
              <a:off x="5098680" y="2768760"/>
              <a:ext cx="828360" cy="2306520"/>
              <a:chOff x="5098680" y="2768760"/>
              <a:chExt cx="828360" cy="2306520"/>
            </a:xfrm>
          </p:grpSpPr>
          <p:grpSp>
            <p:nvGrpSpPr>
              <p:cNvPr id="4000" name=""/>
              <p:cNvGrpSpPr/>
              <p:nvPr/>
            </p:nvGrpSpPr>
            <p:grpSpPr>
              <a:xfrm>
                <a:off x="5105160" y="2768760"/>
                <a:ext cx="114120" cy="88920"/>
                <a:chOff x="5105160" y="2768760"/>
                <a:chExt cx="114120" cy="88920"/>
              </a:xfrm>
            </p:grpSpPr>
            <p:sp>
              <p:nvSpPr>
                <p:cNvPr id="4001" name=""/>
                <p:cNvSpPr/>
                <p:nvPr/>
              </p:nvSpPr>
              <p:spPr>
                <a:xfrm>
                  <a:off x="5118120" y="27687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2" name=""/>
                <p:cNvSpPr/>
                <p:nvPr/>
              </p:nvSpPr>
              <p:spPr>
                <a:xfrm flipH="1">
                  <a:off x="5105160" y="27687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03" name=""/>
              <p:cNvGrpSpPr/>
              <p:nvPr/>
            </p:nvGrpSpPr>
            <p:grpSpPr>
              <a:xfrm>
                <a:off x="5405040" y="2774880"/>
                <a:ext cx="114120" cy="88920"/>
                <a:chOff x="5405040" y="2774880"/>
                <a:chExt cx="114120" cy="88920"/>
              </a:xfrm>
            </p:grpSpPr>
            <p:sp>
              <p:nvSpPr>
                <p:cNvPr id="4004" name=""/>
                <p:cNvSpPr/>
                <p:nvPr/>
              </p:nvSpPr>
              <p:spPr>
                <a:xfrm>
                  <a:off x="5418000" y="27748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5" name=""/>
                <p:cNvSpPr/>
                <p:nvPr/>
              </p:nvSpPr>
              <p:spPr>
                <a:xfrm flipH="1">
                  <a:off x="5405040" y="27748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06" name=""/>
              <p:cNvGrpSpPr/>
              <p:nvPr/>
            </p:nvGrpSpPr>
            <p:grpSpPr>
              <a:xfrm>
                <a:off x="5684400" y="2787480"/>
                <a:ext cx="114120" cy="88920"/>
                <a:chOff x="5684400" y="2787480"/>
                <a:chExt cx="114120" cy="88920"/>
              </a:xfrm>
            </p:grpSpPr>
            <p:sp>
              <p:nvSpPr>
                <p:cNvPr id="4007" name=""/>
                <p:cNvSpPr/>
                <p:nvPr/>
              </p:nvSpPr>
              <p:spPr>
                <a:xfrm>
                  <a:off x="5697360" y="27874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8" name=""/>
                <p:cNvSpPr/>
                <p:nvPr/>
              </p:nvSpPr>
              <p:spPr>
                <a:xfrm flipH="1">
                  <a:off x="5684400" y="27874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09" name=""/>
              <p:cNvGrpSpPr/>
              <p:nvPr/>
            </p:nvGrpSpPr>
            <p:grpSpPr>
              <a:xfrm>
                <a:off x="5098680" y="3139920"/>
                <a:ext cx="114120" cy="88920"/>
                <a:chOff x="5098680" y="3139920"/>
                <a:chExt cx="114120" cy="88920"/>
              </a:xfrm>
            </p:grpSpPr>
            <p:sp>
              <p:nvSpPr>
                <p:cNvPr id="4010" name=""/>
                <p:cNvSpPr/>
                <p:nvPr/>
              </p:nvSpPr>
              <p:spPr>
                <a:xfrm>
                  <a:off x="5111640" y="31399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1" name=""/>
                <p:cNvSpPr/>
                <p:nvPr/>
              </p:nvSpPr>
              <p:spPr>
                <a:xfrm flipH="1">
                  <a:off x="5098680" y="31399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12" name=""/>
              <p:cNvGrpSpPr/>
              <p:nvPr/>
            </p:nvGrpSpPr>
            <p:grpSpPr>
              <a:xfrm>
                <a:off x="5379840" y="3139920"/>
                <a:ext cx="114120" cy="88920"/>
                <a:chOff x="5379840" y="3139920"/>
                <a:chExt cx="114120" cy="88920"/>
              </a:xfrm>
            </p:grpSpPr>
            <p:sp>
              <p:nvSpPr>
                <p:cNvPr id="4013" name=""/>
                <p:cNvSpPr/>
                <p:nvPr/>
              </p:nvSpPr>
              <p:spPr>
                <a:xfrm>
                  <a:off x="5392800" y="31399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4" name=""/>
                <p:cNvSpPr/>
                <p:nvPr/>
              </p:nvSpPr>
              <p:spPr>
                <a:xfrm flipH="1">
                  <a:off x="5379840" y="31399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15" name=""/>
              <p:cNvGrpSpPr/>
              <p:nvPr/>
            </p:nvGrpSpPr>
            <p:grpSpPr>
              <a:xfrm>
                <a:off x="5812920" y="3133800"/>
                <a:ext cx="114120" cy="88920"/>
                <a:chOff x="5812920" y="3133800"/>
                <a:chExt cx="114120" cy="88920"/>
              </a:xfrm>
            </p:grpSpPr>
            <p:sp>
              <p:nvSpPr>
                <p:cNvPr id="4016" name=""/>
                <p:cNvSpPr/>
                <p:nvPr/>
              </p:nvSpPr>
              <p:spPr>
                <a:xfrm>
                  <a:off x="5825880" y="3133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7" name=""/>
                <p:cNvSpPr/>
                <p:nvPr/>
              </p:nvSpPr>
              <p:spPr>
                <a:xfrm flipH="1">
                  <a:off x="5812920" y="31338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18" name=""/>
              <p:cNvGrpSpPr/>
              <p:nvPr/>
            </p:nvGrpSpPr>
            <p:grpSpPr>
              <a:xfrm>
                <a:off x="5239800" y="3535200"/>
                <a:ext cx="114120" cy="88920"/>
                <a:chOff x="5239800" y="3535200"/>
                <a:chExt cx="114120" cy="88920"/>
              </a:xfrm>
            </p:grpSpPr>
            <p:sp>
              <p:nvSpPr>
                <p:cNvPr id="4019" name=""/>
                <p:cNvSpPr/>
                <p:nvPr/>
              </p:nvSpPr>
              <p:spPr>
                <a:xfrm>
                  <a:off x="5252760" y="35352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0" name=""/>
                <p:cNvSpPr/>
                <p:nvPr/>
              </p:nvSpPr>
              <p:spPr>
                <a:xfrm flipH="1">
                  <a:off x="5239800" y="35352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21" name=""/>
              <p:cNvGrpSpPr/>
              <p:nvPr/>
            </p:nvGrpSpPr>
            <p:grpSpPr>
              <a:xfrm>
                <a:off x="5811480" y="3511440"/>
                <a:ext cx="114120" cy="88920"/>
                <a:chOff x="5811480" y="3511440"/>
                <a:chExt cx="114120" cy="88920"/>
              </a:xfrm>
            </p:grpSpPr>
            <p:sp>
              <p:nvSpPr>
                <p:cNvPr id="4022" name=""/>
                <p:cNvSpPr/>
                <p:nvPr/>
              </p:nvSpPr>
              <p:spPr>
                <a:xfrm>
                  <a:off x="5824440" y="351144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3" name=""/>
                <p:cNvSpPr/>
                <p:nvPr/>
              </p:nvSpPr>
              <p:spPr>
                <a:xfrm flipH="1">
                  <a:off x="5811480" y="351144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24" name=""/>
              <p:cNvGrpSpPr/>
              <p:nvPr/>
            </p:nvGrpSpPr>
            <p:grpSpPr>
              <a:xfrm>
                <a:off x="5105160" y="3890880"/>
                <a:ext cx="114120" cy="88920"/>
                <a:chOff x="5105160" y="3890880"/>
                <a:chExt cx="114120" cy="88920"/>
              </a:xfrm>
            </p:grpSpPr>
            <p:sp>
              <p:nvSpPr>
                <p:cNvPr id="4025" name=""/>
                <p:cNvSpPr/>
                <p:nvPr/>
              </p:nvSpPr>
              <p:spPr>
                <a:xfrm>
                  <a:off x="5118120" y="38908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6" name=""/>
                <p:cNvSpPr/>
                <p:nvPr/>
              </p:nvSpPr>
              <p:spPr>
                <a:xfrm flipH="1">
                  <a:off x="5105160" y="38908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27" name=""/>
              <p:cNvGrpSpPr/>
              <p:nvPr/>
            </p:nvGrpSpPr>
            <p:grpSpPr>
              <a:xfrm>
                <a:off x="5519520" y="3878280"/>
                <a:ext cx="114120" cy="88920"/>
                <a:chOff x="5519520" y="3878280"/>
                <a:chExt cx="114120" cy="88920"/>
              </a:xfrm>
            </p:grpSpPr>
            <p:sp>
              <p:nvSpPr>
                <p:cNvPr id="4028" name=""/>
                <p:cNvSpPr/>
                <p:nvPr/>
              </p:nvSpPr>
              <p:spPr>
                <a:xfrm>
                  <a:off x="5532480" y="38782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9" name=""/>
                <p:cNvSpPr/>
                <p:nvPr/>
              </p:nvSpPr>
              <p:spPr>
                <a:xfrm flipH="1">
                  <a:off x="5519520" y="38782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30" name=""/>
              <p:cNvGrpSpPr/>
              <p:nvPr/>
            </p:nvGrpSpPr>
            <p:grpSpPr>
              <a:xfrm>
                <a:off x="5225760" y="4230720"/>
                <a:ext cx="114120" cy="88920"/>
                <a:chOff x="5225760" y="4230720"/>
                <a:chExt cx="114120" cy="88920"/>
              </a:xfrm>
            </p:grpSpPr>
            <p:sp>
              <p:nvSpPr>
                <p:cNvPr id="4031" name=""/>
                <p:cNvSpPr/>
                <p:nvPr/>
              </p:nvSpPr>
              <p:spPr>
                <a:xfrm>
                  <a:off x="5238720" y="42307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2" name=""/>
                <p:cNvSpPr/>
                <p:nvPr/>
              </p:nvSpPr>
              <p:spPr>
                <a:xfrm flipH="1">
                  <a:off x="5225760" y="42307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33" name=""/>
              <p:cNvGrpSpPr/>
              <p:nvPr/>
            </p:nvGrpSpPr>
            <p:grpSpPr>
              <a:xfrm>
                <a:off x="5398560" y="4232160"/>
                <a:ext cx="114120" cy="88920"/>
                <a:chOff x="5398560" y="4232160"/>
                <a:chExt cx="114120" cy="88920"/>
              </a:xfrm>
            </p:grpSpPr>
            <p:sp>
              <p:nvSpPr>
                <p:cNvPr id="4034" name=""/>
                <p:cNvSpPr/>
                <p:nvPr/>
              </p:nvSpPr>
              <p:spPr>
                <a:xfrm>
                  <a:off x="5411520" y="42321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5" name=""/>
                <p:cNvSpPr/>
                <p:nvPr/>
              </p:nvSpPr>
              <p:spPr>
                <a:xfrm flipH="1">
                  <a:off x="5398560" y="42321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36" name=""/>
              <p:cNvGrpSpPr/>
              <p:nvPr/>
            </p:nvGrpSpPr>
            <p:grpSpPr>
              <a:xfrm>
                <a:off x="5373360" y="4610160"/>
                <a:ext cx="114120" cy="88920"/>
                <a:chOff x="5373360" y="4610160"/>
                <a:chExt cx="114120" cy="88920"/>
              </a:xfrm>
            </p:grpSpPr>
            <p:sp>
              <p:nvSpPr>
                <p:cNvPr id="4037" name=""/>
                <p:cNvSpPr/>
                <p:nvPr/>
              </p:nvSpPr>
              <p:spPr>
                <a:xfrm>
                  <a:off x="5386320" y="46101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8" name=""/>
                <p:cNvSpPr/>
                <p:nvPr/>
              </p:nvSpPr>
              <p:spPr>
                <a:xfrm flipH="1">
                  <a:off x="5373360" y="46101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39" name=""/>
              <p:cNvGrpSpPr/>
              <p:nvPr/>
            </p:nvGrpSpPr>
            <p:grpSpPr>
              <a:xfrm>
                <a:off x="5702040" y="4610160"/>
                <a:ext cx="114120" cy="88920"/>
                <a:chOff x="5702040" y="4610160"/>
                <a:chExt cx="114120" cy="88920"/>
              </a:xfrm>
            </p:grpSpPr>
            <p:sp>
              <p:nvSpPr>
                <p:cNvPr id="4040" name=""/>
                <p:cNvSpPr/>
                <p:nvPr/>
              </p:nvSpPr>
              <p:spPr>
                <a:xfrm>
                  <a:off x="5715000" y="46101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1" name=""/>
                <p:cNvSpPr/>
                <p:nvPr/>
              </p:nvSpPr>
              <p:spPr>
                <a:xfrm flipH="1">
                  <a:off x="5702040" y="46101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42" name=""/>
              <p:cNvGrpSpPr/>
              <p:nvPr/>
            </p:nvGrpSpPr>
            <p:grpSpPr>
              <a:xfrm>
                <a:off x="5530320" y="4986360"/>
                <a:ext cx="114120" cy="88920"/>
                <a:chOff x="5530320" y="4986360"/>
                <a:chExt cx="114120" cy="88920"/>
              </a:xfrm>
            </p:grpSpPr>
            <p:sp>
              <p:nvSpPr>
                <p:cNvPr id="4043" name=""/>
                <p:cNvSpPr/>
                <p:nvPr/>
              </p:nvSpPr>
              <p:spPr>
                <a:xfrm>
                  <a:off x="5543280" y="49863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4" name=""/>
                <p:cNvSpPr/>
                <p:nvPr/>
              </p:nvSpPr>
              <p:spPr>
                <a:xfrm flipH="1">
                  <a:off x="5530320" y="49863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45" name=""/>
              <p:cNvGrpSpPr/>
              <p:nvPr/>
            </p:nvGrpSpPr>
            <p:grpSpPr>
              <a:xfrm>
                <a:off x="5812920" y="4986360"/>
                <a:ext cx="114120" cy="88920"/>
                <a:chOff x="5812920" y="4986360"/>
                <a:chExt cx="114120" cy="88920"/>
              </a:xfrm>
            </p:grpSpPr>
            <p:sp>
              <p:nvSpPr>
                <p:cNvPr id="4046" name=""/>
                <p:cNvSpPr/>
                <p:nvPr/>
              </p:nvSpPr>
              <p:spPr>
                <a:xfrm>
                  <a:off x="5825880" y="49863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7" name=""/>
                <p:cNvSpPr/>
                <p:nvPr/>
              </p:nvSpPr>
              <p:spPr>
                <a:xfrm flipH="1">
                  <a:off x="5812920" y="49863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048" name=""/>
          <p:cNvGrpSpPr/>
          <p:nvPr/>
        </p:nvGrpSpPr>
        <p:grpSpPr>
          <a:xfrm>
            <a:off x="4991040" y="2146320"/>
            <a:ext cx="3530520" cy="4406760"/>
            <a:chOff x="4991040" y="2146320"/>
            <a:chExt cx="3530520" cy="4406760"/>
          </a:xfrm>
        </p:grpSpPr>
        <p:sp>
          <p:nvSpPr>
            <p:cNvPr id="4049" name=""/>
            <p:cNvSpPr/>
            <p:nvPr/>
          </p:nvSpPr>
          <p:spPr>
            <a:xfrm>
              <a:off x="6108840" y="266688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0" name=""/>
            <p:cNvSpPr/>
            <p:nvPr/>
          </p:nvSpPr>
          <p:spPr>
            <a:xfrm>
              <a:off x="6108840" y="297180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1" name=""/>
            <p:cNvSpPr/>
            <p:nvPr/>
          </p:nvSpPr>
          <p:spPr>
            <a:xfrm flipV="1">
              <a:off x="6102360" y="266076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2" name=""/>
            <p:cNvSpPr/>
            <p:nvPr/>
          </p:nvSpPr>
          <p:spPr>
            <a:xfrm>
              <a:off x="6267960" y="268128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3" name=""/>
            <p:cNvSpPr/>
            <p:nvPr/>
          </p:nvSpPr>
          <p:spPr>
            <a:xfrm>
              <a:off x="6261840" y="2674800"/>
              <a:ext cx="29088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4" name=""/>
            <p:cNvSpPr/>
            <p:nvPr/>
          </p:nvSpPr>
          <p:spPr>
            <a:xfrm>
              <a:off x="6267600" y="266724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5" name=""/>
            <p:cNvSpPr/>
            <p:nvPr/>
          </p:nvSpPr>
          <p:spPr>
            <a:xfrm>
              <a:off x="6261480" y="2660760"/>
              <a:ext cx="29124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6" name=""/>
            <p:cNvSpPr/>
            <p:nvPr/>
          </p:nvSpPr>
          <p:spPr>
            <a:xfrm>
              <a:off x="4991040" y="281952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7" name=""/>
            <p:cNvSpPr/>
            <p:nvPr/>
          </p:nvSpPr>
          <p:spPr>
            <a:xfrm>
              <a:off x="6553080" y="281952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8" name=""/>
            <p:cNvSpPr/>
            <p:nvPr/>
          </p:nvSpPr>
          <p:spPr>
            <a:xfrm>
              <a:off x="6108840" y="303516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9" name=""/>
            <p:cNvSpPr/>
            <p:nvPr/>
          </p:nvSpPr>
          <p:spPr>
            <a:xfrm>
              <a:off x="6108840" y="334008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0" name=""/>
            <p:cNvSpPr/>
            <p:nvPr/>
          </p:nvSpPr>
          <p:spPr>
            <a:xfrm flipV="1">
              <a:off x="6102360" y="30290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1" name=""/>
            <p:cNvSpPr/>
            <p:nvPr/>
          </p:nvSpPr>
          <p:spPr>
            <a:xfrm>
              <a:off x="6267960" y="304956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2" name=""/>
            <p:cNvSpPr/>
            <p:nvPr/>
          </p:nvSpPr>
          <p:spPr>
            <a:xfrm>
              <a:off x="6261840" y="3043080"/>
              <a:ext cx="29088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3" name=""/>
            <p:cNvSpPr/>
            <p:nvPr/>
          </p:nvSpPr>
          <p:spPr>
            <a:xfrm>
              <a:off x="6267600" y="303552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4" name=""/>
            <p:cNvSpPr/>
            <p:nvPr/>
          </p:nvSpPr>
          <p:spPr>
            <a:xfrm>
              <a:off x="6261480" y="3029040"/>
              <a:ext cx="29124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5" name=""/>
            <p:cNvSpPr/>
            <p:nvPr/>
          </p:nvSpPr>
          <p:spPr>
            <a:xfrm>
              <a:off x="4991040" y="318780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6" name=""/>
            <p:cNvSpPr/>
            <p:nvPr/>
          </p:nvSpPr>
          <p:spPr>
            <a:xfrm>
              <a:off x="6553080" y="318780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7" name=""/>
            <p:cNvSpPr/>
            <p:nvPr/>
          </p:nvSpPr>
          <p:spPr>
            <a:xfrm>
              <a:off x="6108840" y="340344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8" name=""/>
            <p:cNvSpPr/>
            <p:nvPr/>
          </p:nvSpPr>
          <p:spPr>
            <a:xfrm>
              <a:off x="6108840" y="370836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9" name=""/>
            <p:cNvSpPr/>
            <p:nvPr/>
          </p:nvSpPr>
          <p:spPr>
            <a:xfrm flipV="1">
              <a:off x="6102360" y="339732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0" name=""/>
            <p:cNvSpPr/>
            <p:nvPr/>
          </p:nvSpPr>
          <p:spPr>
            <a:xfrm>
              <a:off x="6267960" y="341784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1" name=""/>
            <p:cNvSpPr/>
            <p:nvPr/>
          </p:nvSpPr>
          <p:spPr>
            <a:xfrm>
              <a:off x="6261840" y="3411360"/>
              <a:ext cx="29088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2" name=""/>
            <p:cNvSpPr/>
            <p:nvPr/>
          </p:nvSpPr>
          <p:spPr>
            <a:xfrm>
              <a:off x="6267600" y="340380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3" name=""/>
            <p:cNvSpPr/>
            <p:nvPr/>
          </p:nvSpPr>
          <p:spPr>
            <a:xfrm>
              <a:off x="6261480" y="3397320"/>
              <a:ext cx="29124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4" name=""/>
            <p:cNvSpPr/>
            <p:nvPr/>
          </p:nvSpPr>
          <p:spPr>
            <a:xfrm>
              <a:off x="4991040" y="355608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5" name=""/>
            <p:cNvSpPr/>
            <p:nvPr/>
          </p:nvSpPr>
          <p:spPr>
            <a:xfrm>
              <a:off x="6553080" y="355608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6" name=""/>
            <p:cNvSpPr/>
            <p:nvPr/>
          </p:nvSpPr>
          <p:spPr>
            <a:xfrm>
              <a:off x="6108840" y="377208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7" name=""/>
            <p:cNvSpPr/>
            <p:nvPr/>
          </p:nvSpPr>
          <p:spPr>
            <a:xfrm>
              <a:off x="6108840" y="407664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8" name=""/>
            <p:cNvSpPr/>
            <p:nvPr/>
          </p:nvSpPr>
          <p:spPr>
            <a:xfrm flipV="1">
              <a:off x="6102360" y="376560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9" name=""/>
            <p:cNvSpPr/>
            <p:nvPr/>
          </p:nvSpPr>
          <p:spPr>
            <a:xfrm>
              <a:off x="6267960" y="378612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0" name=""/>
            <p:cNvSpPr/>
            <p:nvPr/>
          </p:nvSpPr>
          <p:spPr>
            <a:xfrm>
              <a:off x="6261840" y="3780000"/>
              <a:ext cx="29088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1" name=""/>
            <p:cNvSpPr/>
            <p:nvPr/>
          </p:nvSpPr>
          <p:spPr>
            <a:xfrm>
              <a:off x="6267600" y="377208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2" name=""/>
            <p:cNvSpPr/>
            <p:nvPr/>
          </p:nvSpPr>
          <p:spPr>
            <a:xfrm>
              <a:off x="6261480" y="3765600"/>
              <a:ext cx="29124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3" name=""/>
            <p:cNvSpPr/>
            <p:nvPr/>
          </p:nvSpPr>
          <p:spPr>
            <a:xfrm>
              <a:off x="4991040" y="392436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4" name=""/>
            <p:cNvSpPr/>
            <p:nvPr/>
          </p:nvSpPr>
          <p:spPr>
            <a:xfrm>
              <a:off x="6553080" y="392436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5" name=""/>
            <p:cNvSpPr/>
            <p:nvPr/>
          </p:nvSpPr>
          <p:spPr>
            <a:xfrm flipH="1">
              <a:off x="5803920" y="252108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6" name=""/>
            <p:cNvSpPr/>
            <p:nvPr/>
          </p:nvSpPr>
          <p:spPr>
            <a:xfrm>
              <a:off x="5689440" y="2521080"/>
              <a:ext cx="1144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7" name=""/>
            <p:cNvSpPr/>
            <p:nvPr/>
          </p:nvSpPr>
          <p:spPr>
            <a:xfrm flipH="1">
              <a:off x="5676480" y="251460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8" name=""/>
            <p:cNvSpPr/>
            <p:nvPr/>
          </p:nvSpPr>
          <p:spPr>
            <a:xfrm>
              <a:off x="5810400" y="239400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9" name=""/>
            <p:cNvSpPr/>
            <p:nvPr/>
          </p:nvSpPr>
          <p:spPr>
            <a:xfrm>
              <a:off x="5873760" y="2660760"/>
              <a:ext cx="0" cy="299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0" name=""/>
            <p:cNvSpPr/>
            <p:nvPr/>
          </p:nvSpPr>
          <p:spPr>
            <a:xfrm>
              <a:off x="5746680" y="2622600"/>
              <a:ext cx="0" cy="303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1" name=""/>
            <p:cNvSpPr/>
            <p:nvPr/>
          </p:nvSpPr>
          <p:spPr>
            <a:xfrm flipH="1">
              <a:off x="5511960" y="252108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2" name=""/>
            <p:cNvSpPr/>
            <p:nvPr/>
          </p:nvSpPr>
          <p:spPr>
            <a:xfrm>
              <a:off x="5397480" y="2521080"/>
              <a:ext cx="1144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3" name=""/>
            <p:cNvSpPr/>
            <p:nvPr/>
          </p:nvSpPr>
          <p:spPr>
            <a:xfrm flipH="1">
              <a:off x="5384520" y="251460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4" name=""/>
            <p:cNvSpPr/>
            <p:nvPr/>
          </p:nvSpPr>
          <p:spPr>
            <a:xfrm>
              <a:off x="5518080" y="239400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5" name=""/>
            <p:cNvSpPr/>
            <p:nvPr/>
          </p:nvSpPr>
          <p:spPr>
            <a:xfrm>
              <a:off x="5581800" y="2660760"/>
              <a:ext cx="0" cy="299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6" name=""/>
            <p:cNvSpPr/>
            <p:nvPr/>
          </p:nvSpPr>
          <p:spPr>
            <a:xfrm>
              <a:off x="5454720" y="2610000"/>
              <a:ext cx="0" cy="304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7" name=""/>
            <p:cNvSpPr/>
            <p:nvPr/>
          </p:nvSpPr>
          <p:spPr>
            <a:xfrm flipH="1">
              <a:off x="5219640" y="252108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8" name=""/>
            <p:cNvSpPr/>
            <p:nvPr/>
          </p:nvSpPr>
          <p:spPr>
            <a:xfrm>
              <a:off x="5105520" y="2521080"/>
              <a:ext cx="11412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9" name=""/>
            <p:cNvSpPr/>
            <p:nvPr/>
          </p:nvSpPr>
          <p:spPr>
            <a:xfrm flipH="1">
              <a:off x="5092200" y="251460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0" name=""/>
            <p:cNvSpPr/>
            <p:nvPr/>
          </p:nvSpPr>
          <p:spPr>
            <a:xfrm>
              <a:off x="5226120" y="239400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1" name=""/>
            <p:cNvSpPr/>
            <p:nvPr/>
          </p:nvSpPr>
          <p:spPr>
            <a:xfrm>
              <a:off x="5289480" y="2660760"/>
              <a:ext cx="0" cy="299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2" name=""/>
            <p:cNvSpPr/>
            <p:nvPr/>
          </p:nvSpPr>
          <p:spPr>
            <a:xfrm>
              <a:off x="5162400" y="2622600"/>
              <a:ext cx="0" cy="303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3" name=""/>
            <p:cNvSpPr/>
            <p:nvPr/>
          </p:nvSpPr>
          <p:spPr>
            <a:xfrm>
              <a:off x="6680520" y="551808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4" name=""/>
            <p:cNvSpPr/>
            <p:nvPr/>
          </p:nvSpPr>
          <p:spPr>
            <a:xfrm>
              <a:off x="6654600" y="511164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5" name=""/>
            <p:cNvSpPr/>
            <p:nvPr/>
          </p:nvSpPr>
          <p:spPr>
            <a:xfrm>
              <a:off x="6669000" y="5162760"/>
              <a:ext cx="2919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6" name=""/>
            <p:cNvSpPr/>
            <p:nvPr/>
          </p:nvSpPr>
          <p:spPr>
            <a:xfrm>
              <a:off x="6669000" y="551808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7" name=""/>
            <p:cNvSpPr/>
            <p:nvPr/>
          </p:nvSpPr>
          <p:spPr>
            <a:xfrm>
              <a:off x="6800760" y="2622600"/>
              <a:ext cx="0" cy="300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8" name=""/>
            <p:cNvSpPr/>
            <p:nvPr/>
          </p:nvSpPr>
          <p:spPr>
            <a:xfrm>
              <a:off x="6800760" y="60642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9" name=""/>
            <p:cNvSpPr/>
            <p:nvPr/>
          </p:nvSpPr>
          <p:spPr>
            <a:xfrm>
              <a:off x="7048800" y="551808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0" name=""/>
            <p:cNvSpPr/>
            <p:nvPr/>
          </p:nvSpPr>
          <p:spPr>
            <a:xfrm>
              <a:off x="7022880" y="511164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1" name=""/>
            <p:cNvSpPr/>
            <p:nvPr/>
          </p:nvSpPr>
          <p:spPr>
            <a:xfrm>
              <a:off x="7037280" y="5162760"/>
              <a:ext cx="2919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2" name=""/>
            <p:cNvSpPr/>
            <p:nvPr/>
          </p:nvSpPr>
          <p:spPr>
            <a:xfrm>
              <a:off x="7037280" y="551808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3" name=""/>
            <p:cNvSpPr/>
            <p:nvPr/>
          </p:nvSpPr>
          <p:spPr>
            <a:xfrm>
              <a:off x="7169040" y="2622600"/>
              <a:ext cx="0" cy="300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4" name=""/>
            <p:cNvSpPr/>
            <p:nvPr/>
          </p:nvSpPr>
          <p:spPr>
            <a:xfrm>
              <a:off x="7169040" y="60642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5" name=""/>
            <p:cNvSpPr/>
            <p:nvPr/>
          </p:nvSpPr>
          <p:spPr>
            <a:xfrm>
              <a:off x="7404120" y="5518080"/>
              <a:ext cx="2664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6" name=""/>
            <p:cNvSpPr/>
            <p:nvPr/>
          </p:nvSpPr>
          <p:spPr>
            <a:xfrm>
              <a:off x="7378560" y="511164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7" name=""/>
            <p:cNvSpPr/>
            <p:nvPr/>
          </p:nvSpPr>
          <p:spPr>
            <a:xfrm>
              <a:off x="7392960" y="5162760"/>
              <a:ext cx="2919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8" name=""/>
            <p:cNvSpPr/>
            <p:nvPr/>
          </p:nvSpPr>
          <p:spPr>
            <a:xfrm>
              <a:off x="7392960" y="551808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9" name=""/>
            <p:cNvSpPr/>
            <p:nvPr/>
          </p:nvSpPr>
          <p:spPr>
            <a:xfrm>
              <a:off x="7524720" y="2622600"/>
              <a:ext cx="0" cy="300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0" name=""/>
            <p:cNvSpPr/>
            <p:nvPr/>
          </p:nvSpPr>
          <p:spPr>
            <a:xfrm>
              <a:off x="7524720" y="60642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1" name=""/>
            <p:cNvSpPr/>
            <p:nvPr/>
          </p:nvSpPr>
          <p:spPr>
            <a:xfrm>
              <a:off x="5111640" y="2146320"/>
              <a:ext cx="5461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2" name=""/>
            <p:cNvSpPr/>
            <p:nvPr/>
          </p:nvSpPr>
          <p:spPr>
            <a:xfrm>
              <a:off x="5416560" y="2146320"/>
              <a:ext cx="5461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3" name=""/>
            <p:cNvSpPr/>
            <p:nvPr/>
          </p:nvSpPr>
          <p:spPr>
            <a:xfrm>
              <a:off x="5683320" y="2146320"/>
              <a:ext cx="5587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4" name=""/>
            <p:cNvSpPr/>
            <p:nvPr/>
          </p:nvSpPr>
          <p:spPr>
            <a:xfrm>
              <a:off x="6108840" y="414036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5" name=""/>
            <p:cNvSpPr/>
            <p:nvPr/>
          </p:nvSpPr>
          <p:spPr>
            <a:xfrm>
              <a:off x="6108840" y="444492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6" name=""/>
            <p:cNvSpPr/>
            <p:nvPr/>
          </p:nvSpPr>
          <p:spPr>
            <a:xfrm flipV="1">
              <a:off x="6102360" y="413388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7" name=""/>
            <p:cNvSpPr/>
            <p:nvPr/>
          </p:nvSpPr>
          <p:spPr>
            <a:xfrm>
              <a:off x="6267960" y="415440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8" name=""/>
            <p:cNvSpPr/>
            <p:nvPr/>
          </p:nvSpPr>
          <p:spPr>
            <a:xfrm>
              <a:off x="6261840" y="4148280"/>
              <a:ext cx="29088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9" name=""/>
            <p:cNvSpPr/>
            <p:nvPr/>
          </p:nvSpPr>
          <p:spPr>
            <a:xfrm>
              <a:off x="6267600" y="414036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0" name=""/>
            <p:cNvSpPr/>
            <p:nvPr/>
          </p:nvSpPr>
          <p:spPr>
            <a:xfrm>
              <a:off x="6261480" y="4133880"/>
              <a:ext cx="29124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1" name=""/>
            <p:cNvSpPr/>
            <p:nvPr/>
          </p:nvSpPr>
          <p:spPr>
            <a:xfrm>
              <a:off x="4991040" y="429264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2" name=""/>
            <p:cNvSpPr/>
            <p:nvPr/>
          </p:nvSpPr>
          <p:spPr>
            <a:xfrm>
              <a:off x="6553080" y="429264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3" name=""/>
            <p:cNvSpPr/>
            <p:nvPr/>
          </p:nvSpPr>
          <p:spPr>
            <a:xfrm>
              <a:off x="6108840" y="450864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4" name=""/>
            <p:cNvSpPr/>
            <p:nvPr/>
          </p:nvSpPr>
          <p:spPr>
            <a:xfrm>
              <a:off x="6108840" y="481320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5" name=""/>
            <p:cNvSpPr/>
            <p:nvPr/>
          </p:nvSpPr>
          <p:spPr>
            <a:xfrm flipV="1">
              <a:off x="6102360" y="450216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6" name=""/>
            <p:cNvSpPr/>
            <p:nvPr/>
          </p:nvSpPr>
          <p:spPr>
            <a:xfrm>
              <a:off x="6267960" y="452268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7" name=""/>
            <p:cNvSpPr/>
            <p:nvPr/>
          </p:nvSpPr>
          <p:spPr>
            <a:xfrm>
              <a:off x="6261840" y="4516560"/>
              <a:ext cx="29088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8" name=""/>
            <p:cNvSpPr/>
            <p:nvPr/>
          </p:nvSpPr>
          <p:spPr>
            <a:xfrm>
              <a:off x="6267600" y="450864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9" name=""/>
            <p:cNvSpPr/>
            <p:nvPr/>
          </p:nvSpPr>
          <p:spPr>
            <a:xfrm>
              <a:off x="6261480" y="4502160"/>
              <a:ext cx="29124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0" name=""/>
            <p:cNvSpPr/>
            <p:nvPr/>
          </p:nvSpPr>
          <p:spPr>
            <a:xfrm>
              <a:off x="4991040" y="466092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1" name=""/>
            <p:cNvSpPr/>
            <p:nvPr/>
          </p:nvSpPr>
          <p:spPr>
            <a:xfrm>
              <a:off x="6553080" y="466092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2" name=""/>
            <p:cNvSpPr/>
            <p:nvPr/>
          </p:nvSpPr>
          <p:spPr>
            <a:xfrm>
              <a:off x="6108840" y="487692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3" name=""/>
            <p:cNvSpPr/>
            <p:nvPr/>
          </p:nvSpPr>
          <p:spPr>
            <a:xfrm>
              <a:off x="6108840" y="518148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4" name=""/>
            <p:cNvSpPr/>
            <p:nvPr/>
          </p:nvSpPr>
          <p:spPr>
            <a:xfrm flipV="1">
              <a:off x="6102360" y="48704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5" name=""/>
            <p:cNvSpPr/>
            <p:nvPr/>
          </p:nvSpPr>
          <p:spPr>
            <a:xfrm>
              <a:off x="6267960" y="489096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6" name=""/>
            <p:cNvSpPr/>
            <p:nvPr/>
          </p:nvSpPr>
          <p:spPr>
            <a:xfrm>
              <a:off x="6261840" y="4884840"/>
              <a:ext cx="29088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7" name=""/>
            <p:cNvSpPr/>
            <p:nvPr/>
          </p:nvSpPr>
          <p:spPr>
            <a:xfrm>
              <a:off x="6267600" y="487692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8" name=""/>
            <p:cNvSpPr/>
            <p:nvPr/>
          </p:nvSpPr>
          <p:spPr>
            <a:xfrm>
              <a:off x="6261480" y="4870440"/>
              <a:ext cx="29124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9" name=""/>
            <p:cNvSpPr/>
            <p:nvPr/>
          </p:nvSpPr>
          <p:spPr>
            <a:xfrm>
              <a:off x="4991040" y="502920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0" name=""/>
            <p:cNvSpPr/>
            <p:nvPr/>
          </p:nvSpPr>
          <p:spPr>
            <a:xfrm>
              <a:off x="6553080" y="502920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1" name=""/>
            <p:cNvSpPr/>
            <p:nvPr/>
          </p:nvSpPr>
          <p:spPr>
            <a:xfrm>
              <a:off x="5854680" y="263520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2" name=""/>
            <p:cNvSpPr/>
            <p:nvPr/>
          </p:nvSpPr>
          <p:spPr>
            <a:xfrm>
              <a:off x="5562720" y="263520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3" name=""/>
            <p:cNvSpPr/>
            <p:nvPr/>
          </p:nvSpPr>
          <p:spPr>
            <a:xfrm>
              <a:off x="5270400" y="263520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4" name=""/>
            <p:cNvSpPr/>
            <p:nvPr/>
          </p:nvSpPr>
          <p:spPr>
            <a:xfrm>
              <a:off x="6705720" y="6222960"/>
              <a:ext cx="635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5" name=""/>
            <p:cNvSpPr/>
            <p:nvPr/>
          </p:nvSpPr>
          <p:spPr>
            <a:xfrm>
              <a:off x="7112160" y="6222960"/>
              <a:ext cx="6346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6" name=""/>
            <p:cNvSpPr/>
            <p:nvPr/>
          </p:nvSpPr>
          <p:spPr>
            <a:xfrm>
              <a:off x="7480440" y="6222960"/>
              <a:ext cx="635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57" name=""/>
          <p:cNvGrpSpPr/>
          <p:nvPr/>
        </p:nvGrpSpPr>
        <p:grpSpPr>
          <a:xfrm>
            <a:off x="6725880" y="2768760"/>
            <a:ext cx="858600" cy="2306520"/>
            <a:chOff x="6725880" y="2768760"/>
            <a:chExt cx="858600" cy="2306520"/>
          </a:xfrm>
        </p:grpSpPr>
        <p:grpSp>
          <p:nvGrpSpPr>
            <p:cNvPr id="4158" name=""/>
            <p:cNvGrpSpPr/>
            <p:nvPr/>
          </p:nvGrpSpPr>
          <p:grpSpPr>
            <a:xfrm>
              <a:off x="6738480" y="2779560"/>
              <a:ext cx="114120" cy="88920"/>
              <a:chOff x="6738480" y="2779560"/>
              <a:chExt cx="114120" cy="88920"/>
            </a:xfrm>
          </p:grpSpPr>
          <p:sp>
            <p:nvSpPr>
              <p:cNvPr id="4159" name=""/>
              <p:cNvSpPr/>
              <p:nvPr/>
            </p:nvSpPr>
            <p:spPr>
              <a:xfrm>
                <a:off x="6751440" y="27795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0" name=""/>
              <p:cNvSpPr/>
              <p:nvPr/>
            </p:nvSpPr>
            <p:spPr>
              <a:xfrm flipH="1">
                <a:off x="6738480" y="27795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61" name=""/>
            <p:cNvGrpSpPr/>
            <p:nvPr/>
          </p:nvGrpSpPr>
          <p:grpSpPr>
            <a:xfrm>
              <a:off x="6725880" y="3144960"/>
              <a:ext cx="114120" cy="88920"/>
              <a:chOff x="6725880" y="3144960"/>
              <a:chExt cx="114120" cy="88920"/>
            </a:xfrm>
          </p:grpSpPr>
          <p:sp>
            <p:nvSpPr>
              <p:cNvPr id="4162" name=""/>
              <p:cNvSpPr/>
              <p:nvPr/>
            </p:nvSpPr>
            <p:spPr>
              <a:xfrm>
                <a:off x="6738840" y="31449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3" name=""/>
              <p:cNvSpPr/>
              <p:nvPr/>
            </p:nvSpPr>
            <p:spPr>
              <a:xfrm flipH="1">
                <a:off x="6725880" y="31449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64" name=""/>
            <p:cNvGrpSpPr/>
            <p:nvPr/>
          </p:nvGrpSpPr>
          <p:grpSpPr>
            <a:xfrm>
              <a:off x="6751440" y="3524400"/>
              <a:ext cx="114120" cy="88920"/>
              <a:chOff x="6751440" y="3524400"/>
              <a:chExt cx="114120" cy="88920"/>
            </a:xfrm>
          </p:grpSpPr>
          <p:sp>
            <p:nvSpPr>
              <p:cNvPr id="4165" name=""/>
              <p:cNvSpPr/>
              <p:nvPr/>
            </p:nvSpPr>
            <p:spPr>
              <a:xfrm>
                <a:off x="6764400" y="35244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6" name=""/>
              <p:cNvSpPr/>
              <p:nvPr/>
            </p:nvSpPr>
            <p:spPr>
              <a:xfrm flipH="1">
                <a:off x="6751440" y="35244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67" name=""/>
            <p:cNvGrpSpPr/>
            <p:nvPr/>
          </p:nvGrpSpPr>
          <p:grpSpPr>
            <a:xfrm>
              <a:off x="7105320" y="2768760"/>
              <a:ext cx="114120" cy="88920"/>
              <a:chOff x="7105320" y="2768760"/>
              <a:chExt cx="114120" cy="88920"/>
            </a:xfrm>
          </p:grpSpPr>
          <p:sp>
            <p:nvSpPr>
              <p:cNvPr id="4168" name=""/>
              <p:cNvSpPr/>
              <p:nvPr/>
            </p:nvSpPr>
            <p:spPr>
              <a:xfrm>
                <a:off x="7118280" y="27687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9" name=""/>
              <p:cNvSpPr/>
              <p:nvPr/>
            </p:nvSpPr>
            <p:spPr>
              <a:xfrm flipH="1">
                <a:off x="7105320" y="27687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70" name=""/>
            <p:cNvGrpSpPr/>
            <p:nvPr/>
          </p:nvGrpSpPr>
          <p:grpSpPr>
            <a:xfrm>
              <a:off x="7105320" y="3890880"/>
              <a:ext cx="114120" cy="88920"/>
              <a:chOff x="7105320" y="3890880"/>
              <a:chExt cx="114120" cy="88920"/>
            </a:xfrm>
          </p:grpSpPr>
          <p:sp>
            <p:nvSpPr>
              <p:cNvPr id="4171" name=""/>
              <p:cNvSpPr/>
              <p:nvPr/>
            </p:nvSpPr>
            <p:spPr>
              <a:xfrm>
                <a:off x="7118280" y="389088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2" name=""/>
              <p:cNvSpPr/>
              <p:nvPr/>
            </p:nvSpPr>
            <p:spPr>
              <a:xfrm flipH="1">
                <a:off x="7105320" y="389088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73" name=""/>
            <p:cNvGrpSpPr/>
            <p:nvPr/>
          </p:nvGrpSpPr>
          <p:grpSpPr>
            <a:xfrm>
              <a:off x="7103880" y="4243320"/>
              <a:ext cx="114120" cy="88920"/>
              <a:chOff x="7103880" y="4243320"/>
              <a:chExt cx="114120" cy="88920"/>
            </a:xfrm>
          </p:grpSpPr>
          <p:sp>
            <p:nvSpPr>
              <p:cNvPr id="4174" name=""/>
              <p:cNvSpPr/>
              <p:nvPr/>
            </p:nvSpPr>
            <p:spPr>
              <a:xfrm>
                <a:off x="7116840" y="42433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5" name=""/>
              <p:cNvSpPr/>
              <p:nvPr/>
            </p:nvSpPr>
            <p:spPr>
              <a:xfrm flipH="1">
                <a:off x="7103880" y="42433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76" name=""/>
            <p:cNvGrpSpPr/>
            <p:nvPr/>
          </p:nvGrpSpPr>
          <p:grpSpPr>
            <a:xfrm>
              <a:off x="7468920" y="3144960"/>
              <a:ext cx="114120" cy="88920"/>
              <a:chOff x="7468920" y="3144960"/>
              <a:chExt cx="114120" cy="88920"/>
            </a:xfrm>
          </p:grpSpPr>
          <p:sp>
            <p:nvSpPr>
              <p:cNvPr id="4177" name=""/>
              <p:cNvSpPr/>
              <p:nvPr/>
            </p:nvSpPr>
            <p:spPr>
              <a:xfrm>
                <a:off x="7481880" y="31449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8" name=""/>
              <p:cNvSpPr/>
              <p:nvPr/>
            </p:nvSpPr>
            <p:spPr>
              <a:xfrm flipH="1">
                <a:off x="7468920" y="31449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79" name=""/>
            <p:cNvGrpSpPr/>
            <p:nvPr/>
          </p:nvGrpSpPr>
          <p:grpSpPr>
            <a:xfrm>
              <a:off x="7470360" y="4633920"/>
              <a:ext cx="114120" cy="88920"/>
              <a:chOff x="7470360" y="4633920"/>
              <a:chExt cx="114120" cy="88920"/>
            </a:xfrm>
          </p:grpSpPr>
          <p:sp>
            <p:nvSpPr>
              <p:cNvPr id="4180" name=""/>
              <p:cNvSpPr/>
              <p:nvPr/>
            </p:nvSpPr>
            <p:spPr>
              <a:xfrm>
                <a:off x="7483320" y="46339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1" name=""/>
              <p:cNvSpPr/>
              <p:nvPr/>
            </p:nvSpPr>
            <p:spPr>
              <a:xfrm flipH="1">
                <a:off x="7470360" y="46339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82" name=""/>
            <p:cNvGrpSpPr/>
            <p:nvPr/>
          </p:nvGrpSpPr>
          <p:grpSpPr>
            <a:xfrm>
              <a:off x="7470360" y="4986360"/>
              <a:ext cx="114120" cy="88920"/>
              <a:chOff x="7470360" y="4986360"/>
              <a:chExt cx="114120" cy="88920"/>
            </a:xfrm>
          </p:grpSpPr>
          <p:sp>
            <p:nvSpPr>
              <p:cNvPr id="4183" name=""/>
              <p:cNvSpPr/>
              <p:nvPr/>
            </p:nvSpPr>
            <p:spPr>
              <a:xfrm>
                <a:off x="7483320" y="49863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4" name=""/>
              <p:cNvSpPr/>
              <p:nvPr/>
            </p:nvSpPr>
            <p:spPr>
              <a:xfrm flipH="1">
                <a:off x="7470360" y="49863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85" name=""/>
          <p:cNvSpPr/>
          <p:nvPr/>
        </p:nvSpPr>
        <p:spPr>
          <a:xfrm>
            <a:off x="331920" y="1509840"/>
            <a:ext cx="8692920" cy="509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A7F7-8CB5-4161-8D80-C52CDD434B9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6" name=""/>
          <p:cNvSpPr/>
          <p:nvPr/>
        </p:nvSpPr>
        <p:spPr>
          <a:xfrm>
            <a:off x="4040280" y="3241800"/>
            <a:ext cx="1092240" cy="186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7" name=""/>
          <p:cNvSpPr/>
          <p:nvPr/>
        </p:nvSpPr>
        <p:spPr>
          <a:xfrm>
            <a:off x="4084560" y="4035600"/>
            <a:ext cx="8384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8" name=""/>
          <p:cNvSpPr/>
          <p:nvPr/>
        </p:nvSpPr>
        <p:spPr>
          <a:xfrm>
            <a:off x="4186080" y="510840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9" name=""/>
          <p:cNvSpPr/>
          <p:nvPr/>
        </p:nvSpPr>
        <p:spPr>
          <a:xfrm>
            <a:off x="4338720" y="510840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0" name=""/>
          <p:cNvSpPr/>
          <p:nvPr/>
        </p:nvSpPr>
        <p:spPr>
          <a:xfrm>
            <a:off x="4503600" y="510840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1" name=""/>
          <p:cNvSpPr/>
          <p:nvPr/>
        </p:nvSpPr>
        <p:spPr>
          <a:xfrm>
            <a:off x="4656240" y="510840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2" name=""/>
          <p:cNvSpPr/>
          <p:nvPr/>
        </p:nvSpPr>
        <p:spPr>
          <a:xfrm>
            <a:off x="4808520" y="510840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3" name=""/>
          <p:cNvSpPr/>
          <p:nvPr/>
        </p:nvSpPr>
        <p:spPr>
          <a:xfrm>
            <a:off x="4973760" y="510840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4" name=""/>
          <p:cNvSpPr/>
          <p:nvPr/>
        </p:nvSpPr>
        <p:spPr>
          <a:xfrm>
            <a:off x="3995640" y="5254560"/>
            <a:ext cx="15750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99"/>
              </a:lnSpc>
              <a:tabLst>
                <a:tab algn="l" pos="0"/>
                <a:tab algn="l" pos="939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2299"/>
              </a:lnSpc>
              <a:tabLst>
                <a:tab algn="l" pos="0"/>
                <a:tab algn="l" pos="939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5" name=""/>
          <p:cNvSpPr/>
          <p:nvPr/>
        </p:nvSpPr>
        <p:spPr>
          <a:xfrm>
            <a:off x="4643280" y="3349800"/>
            <a:ext cx="5968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   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6" name=""/>
          <p:cNvSpPr/>
          <p:nvPr/>
        </p:nvSpPr>
        <p:spPr>
          <a:xfrm>
            <a:off x="4757760" y="3235320"/>
            <a:ext cx="22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7" name=""/>
          <p:cNvSpPr/>
          <p:nvPr/>
        </p:nvSpPr>
        <p:spPr>
          <a:xfrm>
            <a:off x="4897440" y="4746600"/>
            <a:ext cx="22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8" name=""/>
          <p:cNvSpPr/>
          <p:nvPr/>
        </p:nvSpPr>
        <p:spPr>
          <a:xfrm>
            <a:off x="5132520" y="3463920"/>
            <a:ext cx="200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9" name=""/>
          <p:cNvSpPr/>
          <p:nvPr/>
        </p:nvSpPr>
        <p:spPr>
          <a:xfrm>
            <a:off x="5132520" y="4873680"/>
            <a:ext cx="2019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0" name=""/>
          <p:cNvSpPr/>
          <p:nvPr/>
        </p:nvSpPr>
        <p:spPr>
          <a:xfrm>
            <a:off x="5132520" y="3933720"/>
            <a:ext cx="200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1" name=""/>
          <p:cNvSpPr/>
          <p:nvPr/>
        </p:nvSpPr>
        <p:spPr>
          <a:xfrm>
            <a:off x="5595840" y="338148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2" name=""/>
          <p:cNvSpPr/>
          <p:nvPr/>
        </p:nvSpPr>
        <p:spPr>
          <a:xfrm>
            <a:off x="6002280" y="339408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3" name=""/>
          <p:cNvSpPr/>
          <p:nvPr/>
        </p:nvSpPr>
        <p:spPr>
          <a:xfrm>
            <a:off x="6396120" y="3394080"/>
            <a:ext cx="0" cy="173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4" name=""/>
          <p:cNvSpPr/>
          <p:nvPr/>
        </p:nvSpPr>
        <p:spPr>
          <a:xfrm>
            <a:off x="6802560" y="339408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5" name=""/>
          <p:cNvSpPr/>
          <p:nvPr/>
        </p:nvSpPr>
        <p:spPr>
          <a:xfrm>
            <a:off x="5132520" y="4352760"/>
            <a:ext cx="200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6" name=""/>
          <p:cNvGrpSpPr/>
          <p:nvPr/>
        </p:nvGrpSpPr>
        <p:grpSpPr>
          <a:xfrm>
            <a:off x="5310000" y="3914640"/>
            <a:ext cx="292320" cy="374760"/>
            <a:chOff x="5310000" y="3914640"/>
            <a:chExt cx="292320" cy="374760"/>
          </a:xfrm>
        </p:grpSpPr>
        <p:sp>
          <p:nvSpPr>
            <p:cNvPr id="4207" name=""/>
            <p:cNvSpPr/>
            <p:nvPr/>
          </p:nvSpPr>
          <p:spPr>
            <a:xfrm flipH="1">
              <a:off x="5488200" y="3997440"/>
              <a:ext cx="10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8" name=""/>
            <p:cNvSpPr/>
            <p:nvPr/>
          </p:nvSpPr>
          <p:spPr>
            <a:xfrm>
              <a:off x="5481720" y="400356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9" name=""/>
            <p:cNvSpPr/>
            <p:nvPr/>
          </p:nvSpPr>
          <p:spPr>
            <a:xfrm flipH="1">
              <a:off x="5398920" y="408600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0" name=""/>
            <p:cNvSpPr/>
            <p:nvPr/>
          </p:nvSpPr>
          <p:spPr>
            <a:xfrm flipH="1">
              <a:off x="5411880" y="417492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1" name=""/>
            <p:cNvSpPr/>
            <p:nvPr/>
          </p:nvSpPr>
          <p:spPr>
            <a:xfrm>
              <a:off x="5405400" y="409248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12" name=""/>
            <p:cNvGrpSpPr/>
            <p:nvPr/>
          </p:nvGrpSpPr>
          <p:grpSpPr>
            <a:xfrm>
              <a:off x="5399280" y="4181400"/>
              <a:ext cx="152280" cy="108000"/>
              <a:chOff x="5399280" y="4181400"/>
              <a:chExt cx="152280" cy="108000"/>
            </a:xfrm>
          </p:grpSpPr>
          <p:sp>
            <p:nvSpPr>
              <p:cNvPr id="4213" name=""/>
              <p:cNvSpPr/>
              <p:nvPr/>
            </p:nvSpPr>
            <p:spPr>
              <a:xfrm>
                <a:off x="5399280" y="4226040"/>
                <a:ext cx="152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4" name=""/>
              <p:cNvSpPr/>
              <p:nvPr/>
            </p:nvSpPr>
            <p:spPr>
              <a:xfrm>
                <a:off x="5424480" y="4251240"/>
                <a:ext cx="101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5" name=""/>
              <p:cNvSpPr/>
              <p:nvPr/>
            </p:nvSpPr>
            <p:spPr>
              <a:xfrm>
                <a:off x="5462640" y="4289400"/>
                <a:ext cx="25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6" name=""/>
              <p:cNvSpPr/>
              <p:nvPr/>
            </p:nvSpPr>
            <p:spPr>
              <a:xfrm>
                <a:off x="5481720" y="42004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7" name=""/>
              <p:cNvSpPr/>
              <p:nvPr/>
            </p:nvSpPr>
            <p:spPr>
              <a:xfrm>
                <a:off x="5481720" y="4181400"/>
                <a:ext cx="0" cy="3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18" name=""/>
            <p:cNvSpPr/>
            <p:nvPr/>
          </p:nvSpPr>
          <p:spPr>
            <a:xfrm>
              <a:off x="5367600" y="409248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9" name=""/>
            <p:cNvSpPr/>
            <p:nvPr/>
          </p:nvSpPr>
          <p:spPr>
            <a:xfrm flipH="1">
              <a:off x="5310000" y="411156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0" name=""/>
            <p:cNvSpPr/>
            <p:nvPr/>
          </p:nvSpPr>
          <p:spPr>
            <a:xfrm flipV="1">
              <a:off x="5316840" y="3927240"/>
              <a:ext cx="0" cy="19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1" name=""/>
            <p:cNvSpPr/>
            <p:nvPr/>
          </p:nvSpPr>
          <p:spPr>
            <a:xfrm>
              <a:off x="5310360" y="3914640"/>
              <a:ext cx="38160" cy="255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2" name=""/>
            <p:cNvSpPr/>
            <p:nvPr/>
          </p:nvSpPr>
          <p:spPr>
            <a:xfrm>
              <a:off x="5589720" y="3990960"/>
              <a:ext cx="12600" cy="38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23" name=""/>
          <p:cNvGrpSpPr/>
          <p:nvPr/>
        </p:nvGrpSpPr>
        <p:grpSpPr>
          <a:xfrm>
            <a:off x="5703840" y="3914640"/>
            <a:ext cx="304920" cy="374760"/>
            <a:chOff x="5703840" y="3914640"/>
            <a:chExt cx="304920" cy="374760"/>
          </a:xfrm>
        </p:grpSpPr>
        <p:sp>
          <p:nvSpPr>
            <p:cNvPr id="4224" name=""/>
            <p:cNvSpPr/>
            <p:nvPr/>
          </p:nvSpPr>
          <p:spPr>
            <a:xfrm flipH="1">
              <a:off x="5881320" y="3997440"/>
              <a:ext cx="1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5" name=""/>
            <p:cNvSpPr/>
            <p:nvPr/>
          </p:nvSpPr>
          <p:spPr>
            <a:xfrm>
              <a:off x="5875560" y="400356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6" name=""/>
            <p:cNvSpPr/>
            <p:nvPr/>
          </p:nvSpPr>
          <p:spPr>
            <a:xfrm flipH="1">
              <a:off x="5805360" y="408600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7" name=""/>
            <p:cNvSpPr/>
            <p:nvPr/>
          </p:nvSpPr>
          <p:spPr>
            <a:xfrm flipH="1">
              <a:off x="5818320" y="417492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8" name=""/>
            <p:cNvSpPr/>
            <p:nvPr/>
          </p:nvSpPr>
          <p:spPr>
            <a:xfrm>
              <a:off x="5811840" y="409248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29" name=""/>
            <p:cNvGrpSpPr/>
            <p:nvPr/>
          </p:nvGrpSpPr>
          <p:grpSpPr>
            <a:xfrm>
              <a:off x="5792760" y="4181400"/>
              <a:ext cx="165240" cy="108000"/>
              <a:chOff x="5792760" y="4181400"/>
              <a:chExt cx="165240" cy="108000"/>
            </a:xfrm>
          </p:grpSpPr>
          <p:sp>
            <p:nvSpPr>
              <p:cNvPr id="4230" name=""/>
              <p:cNvSpPr/>
              <p:nvPr/>
            </p:nvSpPr>
            <p:spPr>
              <a:xfrm>
                <a:off x="5792760" y="4226040"/>
                <a:ext cx="165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1" name=""/>
              <p:cNvSpPr/>
              <p:nvPr/>
            </p:nvSpPr>
            <p:spPr>
              <a:xfrm>
                <a:off x="5830920" y="4251240"/>
                <a:ext cx="88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2" name=""/>
              <p:cNvSpPr/>
              <p:nvPr/>
            </p:nvSpPr>
            <p:spPr>
              <a:xfrm>
                <a:off x="5869080" y="4289400"/>
                <a:ext cx="12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3" name=""/>
              <p:cNvSpPr/>
              <p:nvPr/>
            </p:nvSpPr>
            <p:spPr>
              <a:xfrm>
                <a:off x="5875560" y="42004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4" name=""/>
              <p:cNvSpPr/>
              <p:nvPr/>
            </p:nvSpPr>
            <p:spPr>
              <a:xfrm>
                <a:off x="5875560" y="4181400"/>
                <a:ext cx="0" cy="3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35" name=""/>
            <p:cNvSpPr/>
            <p:nvPr/>
          </p:nvSpPr>
          <p:spPr>
            <a:xfrm>
              <a:off x="5774040" y="409248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6" name=""/>
            <p:cNvSpPr/>
            <p:nvPr/>
          </p:nvSpPr>
          <p:spPr>
            <a:xfrm flipH="1">
              <a:off x="5716800" y="41115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7" name=""/>
            <p:cNvSpPr/>
            <p:nvPr/>
          </p:nvSpPr>
          <p:spPr>
            <a:xfrm flipV="1">
              <a:off x="5722920" y="3927240"/>
              <a:ext cx="0" cy="19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8" name=""/>
            <p:cNvSpPr/>
            <p:nvPr/>
          </p:nvSpPr>
          <p:spPr>
            <a:xfrm>
              <a:off x="5703840" y="3914640"/>
              <a:ext cx="38160" cy="255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9" name=""/>
            <p:cNvSpPr/>
            <p:nvPr/>
          </p:nvSpPr>
          <p:spPr>
            <a:xfrm>
              <a:off x="5983560" y="3990960"/>
              <a:ext cx="25200" cy="38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40" name=""/>
          <p:cNvGrpSpPr/>
          <p:nvPr/>
        </p:nvGrpSpPr>
        <p:grpSpPr>
          <a:xfrm>
            <a:off x="5703840" y="4346640"/>
            <a:ext cx="304920" cy="374400"/>
            <a:chOff x="5703840" y="4346640"/>
            <a:chExt cx="304920" cy="374400"/>
          </a:xfrm>
        </p:grpSpPr>
        <p:sp>
          <p:nvSpPr>
            <p:cNvPr id="4241" name=""/>
            <p:cNvSpPr/>
            <p:nvPr/>
          </p:nvSpPr>
          <p:spPr>
            <a:xfrm flipH="1">
              <a:off x="5881320" y="4429080"/>
              <a:ext cx="1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2" name=""/>
            <p:cNvSpPr/>
            <p:nvPr/>
          </p:nvSpPr>
          <p:spPr>
            <a:xfrm>
              <a:off x="5875560" y="4435560"/>
              <a:ext cx="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3" name=""/>
            <p:cNvSpPr/>
            <p:nvPr/>
          </p:nvSpPr>
          <p:spPr>
            <a:xfrm flipH="1">
              <a:off x="5805360" y="453060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4" name=""/>
            <p:cNvSpPr/>
            <p:nvPr/>
          </p:nvSpPr>
          <p:spPr>
            <a:xfrm flipH="1">
              <a:off x="5818320" y="459432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5" name=""/>
            <p:cNvSpPr/>
            <p:nvPr/>
          </p:nvSpPr>
          <p:spPr>
            <a:xfrm>
              <a:off x="5811840" y="453708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46" name=""/>
            <p:cNvGrpSpPr/>
            <p:nvPr/>
          </p:nvGrpSpPr>
          <p:grpSpPr>
            <a:xfrm>
              <a:off x="5792760" y="4600440"/>
              <a:ext cx="165240" cy="120600"/>
              <a:chOff x="5792760" y="4600440"/>
              <a:chExt cx="165240" cy="120600"/>
            </a:xfrm>
          </p:grpSpPr>
          <p:sp>
            <p:nvSpPr>
              <p:cNvPr id="4247" name=""/>
              <p:cNvSpPr/>
              <p:nvPr/>
            </p:nvSpPr>
            <p:spPr>
              <a:xfrm>
                <a:off x="5792760" y="4657680"/>
                <a:ext cx="165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8" name=""/>
              <p:cNvSpPr/>
              <p:nvPr/>
            </p:nvSpPr>
            <p:spPr>
              <a:xfrm>
                <a:off x="5830920" y="4683240"/>
                <a:ext cx="88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9" name=""/>
              <p:cNvSpPr/>
              <p:nvPr/>
            </p:nvSpPr>
            <p:spPr>
              <a:xfrm>
                <a:off x="5869080" y="4721040"/>
                <a:ext cx="12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0" name=""/>
              <p:cNvSpPr/>
              <p:nvPr/>
            </p:nvSpPr>
            <p:spPr>
              <a:xfrm>
                <a:off x="5875560" y="463212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1" name=""/>
              <p:cNvSpPr/>
              <p:nvPr/>
            </p:nvSpPr>
            <p:spPr>
              <a:xfrm>
                <a:off x="5875560" y="4600440"/>
                <a:ext cx="0" cy="5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52" name=""/>
            <p:cNvSpPr/>
            <p:nvPr/>
          </p:nvSpPr>
          <p:spPr>
            <a:xfrm>
              <a:off x="5774040" y="4524480"/>
              <a:ext cx="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3" name=""/>
            <p:cNvSpPr/>
            <p:nvPr/>
          </p:nvSpPr>
          <p:spPr>
            <a:xfrm flipH="1">
              <a:off x="5716800" y="45432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4" name=""/>
            <p:cNvSpPr/>
            <p:nvPr/>
          </p:nvSpPr>
          <p:spPr>
            <a:xfrm flipV="1">
              <a:off x="5722920" y="4346640"/>
              <a:ext cx="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5" name=""/>
            <p:cNvSpPr/>
            <p:nvPr/>
          </p:nvSpPr>
          <p:spPr>
            <a:xfrm>
              <a:off x="5703840" y="4346640"/>
              <a:ext cx="38160" cy="37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6" name=""/>
            <p:cNvSpPr/>
            <p:nvPr/>
          </p:nvSpPr>
          <p:spPr>
            <a:xfrm>
              <a:off x="5983560" y="4422600"/>
              <a:ext cx="25200" cy="38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57" name=""/>
          <p:cNvGrpSpPr/>
          <p:nvPr/>
        </p:nvGrpSpPr>
        <p:grpSpPr>
          <a:xfrm>
            <a:off x="6504120" y="4346640"/>
            <a:ext cx="304200" cy="374400"/>
            <a:chOff x="6504120" y="4346640"/>
            <a:chExt cx="304200" cy="374400"/>
          </a:xfrm>
        </p:grpSpPr>
        <p:sp>
          <p:nvSpPr>
            <p:cNvPr id="4258" name=""/>
            <p:cNvSpPr/>
            <p:nvPr/>
          </p:nvSpPr>
          <p:spPr>
            <a:xfrm flipH="1">
              <a:off x="6681240" y="4429080"/>
              <a:ext cx="10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9" name=""/>
            <p:cNvSpPr/>
            <p:nvPr/>
          </p:nvSpPr>
          <p:spPr>
            <a:xfrm>
              <a:off x="6675120" y="4435560"/>
              <a:ext cx="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0" name=""/>
            <p:cNvSpPr/>
            <p:nvPr/>
          </p:nvSpPr>
          <p:spPr>
            <a:xfrm flipH="1">
              <a:off x="6604920" y="453060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1" name=""/>
            <p:cNvSpPr/>
            <p:nvPr/>
          </p:nvSpPr>
          <p:spPr>
            <a:xfrm flipH="1">
              <a:off x="6617880" y="459432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2" name=""/>
            <p:cNvSpPr/>
            <p:nvPr/>
          </p:nvSpPr>
          <p:spPr>
            <a:xfrm>
              <a:off x="6611760" y="453708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63" name=""/>
            <p:cNvGrpSpPr/>
            <p:nvPr/>
          </p:nvGrpSpPr>
          <p:grpSpPr>
            <a:xfrm>
              <a:off x="6592680" y="4600440"/>
              <a:ext cx="164880" cy="120600"/>
              <a:chOff x="6592680" y="4600440"/>
              <a:chExt cx="164880" cy="120600"/>
            </a:xfrm>
          </p:grpSpPr>
          <p:sp>
            <p:nvSpPr>
              <p:cNvPr id="4264" name=""/>
              <p:cNvSpPr/>
              <p:nvPr/>
            </p:nvSpPr>
            <p:spPr>
              <a:xfrm>
                <a:off x="6592680" y="4657680"/>
                <a:ext cx="164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5" name=""/>
              <p:cNvSpPr/>
              <p:nvPr/>
            </p:nvSpPr>
            <p:spPr>
              <a:xfrm>
                <a:off x="6630480" y="4683240"/>
                <a:ext cx="88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6" name=""/>
              <p:cNvSpPr/>
              <p:nvPr/>
            </p:nvSpPr>
            <p:spPr>
              <a:xfrm>
                <a:off x="6668640" y="4721040"/>
                <a:ext cx="12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7" name=""/>
              <p:cNvSpPr/>
              <p:nvPr/>
            </p:nvSpPr>
            <p:spPr>
              <a:xfrm>
                <a:off x="6674760" y="463212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8" name=""/>
              <p:cNvSpPr/>
              <p:nvPr/>
            </p:nvSpPr>
            <p:spPr>
              <a:xfrm>
                <a:off x="6674760" y="4600440"/>
                <a:ext cx="0" cy="5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69" name=""/>
            <p:cNvSpPr/>
            <p:nvPr/>
          </p:nvSpPr>
          <p:spPr>
            <a:xfrm>
              <a:off x="6573600" y="4524480"/>
              <a:ext cx="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0" name=""/>
            <p:cNvSpPr/>
            <p:nvPr/>
          </p:nvSpPr>
          <p:spPr>
            <a:xfrm flipH="1">
              <a:off x="6516000" y="4543200"/>
              <a:ext cx="3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1" name=""/>
            <p:cNvSpPr/>
            <p:nvPr/>
          </p:nvSpPr>
          <p:spPr>
            <a:xfrm flipV="1">
              <a:off x="6522840" y="4346640"/>
              <a:ext cx="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2" name=""/>
            <p:cNvSpPr/>
            <p:nvPr/>
          </p:nvSpPr>
          <p:spPr>
            <a:xfrm>
              <a:off x="6504120" y="4346640"/>
              <a:ext cx="37800" cy="37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3" name=""/>
            <p:cNvSpPr/>
            <p:nvPr/>
          </p:nvSpPr>
          <p:spPr>
            <a:xfrm>
              <a:off x="6783120" y="4422600"/>
              <a:ext cx="25200" cy="38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4" name=""/>
          <p:cNvGrpSpPr/>
          <p:nvPr/>
        </p:nvGrpSpPr>
        <p:grpSpPr>
          <a:xfrm>
            <a:off x="5392800" y="2625840"/>
            <a:ext cx="368280" cy="806040"/>
            <a:chOff x="5392800" y="2625840"/>
            <a:chExt cx="368280" cy="806040"/>
          </a:xfrm>
        </p:grpSpPr>
        <p:sp>
          <p:nvSpPr>
            <p:cNvPr id="4275" name=""/>
            <p:cNvSpPr/>
            <p:nvPr/>
          </p:nvSpPr>
          <p:spPr>
            <a:xfrm>
              <a:off x="5392800" y="2625840"/>
              <a:ext cx="36828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6" name=""/>
            <p:cNvSpPr/>
            <p:nvPr/>
          </p:nvSpPr>
          <p:spPr>
            <a:xfrm>
              <a:off x="5596200" y="2911320"/>
              <a:ext cx="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77" name=""/>
            <p:cNvGrpSpPr/>
            <p:nvPr/>
          </p:nvGrpSpPr>
          <p:grpSpPr>
            <a:xfrm>
              <a:off x="5513400" y="2797200"/>
              <a:ext cx="165240" cy="101520"/>
              <a:chOff x="5513400" y="2797200"/>
              <a:chExt cx="165240" cy="101520"/>
            </a:xfrm>
          </p:grpSpPr>
          <p:sp>
            <p:nvSpPr>
              <p:cNvPr id="4278" name=""/>
              <p:cNvSpPr/>
              <p:nvPr/>
            </p:nvSpPr>
            <p:spPr>
              <a:xfrm>
                <a:off x="5513400" y="2892240"/>
                <a:ext cx="165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9" name=""/>
              <p:cNvSpPr/>
              <p:nvPr/>
            </p:nvSpPr>
            <p:spPr>
              <a:xfrm flipV="1">
                <a:off x="5513400" y="2797200"/>
                <a:ext cx="76320" cy="101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0" name=""/>
              <p:cNvSpPr/>
              <p:nvPr/>
            </p:nvSpPr>
            <p:spPr>
              <a:xfrm>
                <a:off x="5602320" y="2809800"/>
                <a:ext cx="76320" cy="76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81" name=""/>
            <p:cNvSpPr/>
            <p:nvPr/>
          </p:nvSpPr>
          <p:spPr>
            <a:xfrm flipV="1">
              <a:off x="5596200" y="3330000"/>
              <a:ext cx="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2" name=""/>
            <p:cNvSpPr/>
            <p:nvPr/>
          </p:nvSpPr>
          <p:spPr>
            <a:xfrm flipV="1">
              <a:off x="5602320" y="3317400"/>
              <a:ext cx="3816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3" name=""/>
            <p:cNvSpPr/>
            <p:nvPr/>
          </p:nvSpPr>
          <p:spPr>
            <a:xfrm flipH="1" flipV="1">
              <a:off x="5538600" y="3267000"/>
              <a:ext cx="1141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4" name=""/>
            <p:cNvSpPr/>
            <p:nvPr/>
          </p:nvSpPr>
          <p:spPr>
            <a:xfrm flipV="1">
              <a:off x="5551560" y="3216240"/>
              <a:ext cx="889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5" name=""/>
            <p:cNvSpPr/>
            <p:nvPr/>
          </p:nvSpPr>
          <p:spPr>
            <a:xfrm flipH="1" flipV="1">
              <a:off x="5538600" y="3165480"/>
              <a:ext cx="1141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6" name=""/>
            <p:cNvSpPr/>
            <p:nvPr/>
          </p:nvSpPr>
          <p:spPr>
            <a:xfrm flipV="1">
              <a:off x="5551560" y="3114720"/>
              <a:ext cx="889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7" name=""/>
            <p:cNvSpPr/>
            <p:nvPr/>
          </p:nvSpPr>
          <p:spPr>
            <a:xfrm flipH="1" flipV="1">
              <a:off x="5538600" y="3063960"/>
              <a:ext cx="1141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8" name=""/>
            <p:cNvSpPr/>
            <p:nvPr/>
          </p:nvSpPr>
          <p:spPr>
            <a:xfrm flipV="1">
              <a:off x="5551560" y="3025440"/>
              <a:ext cx="3816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9" name=""/>
            <p:cNvSpPr/>
            <p:nvPr/>
          </p:nvSpPr>
          <p:spPr>
            <a:xfrm flipV="1">
              <a:off x="5596200" y="298728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0" name=""/>
          <p:cNvGrpSpPr/>
          <p:nvPr/>
        </p:nvGrpSpPr>
        <p:grpSpPr>
          <a:xfrm>
            <a:off x="5799240" y="2625840"/>
            <a:ext cx="368280" cy="806040"/>
            <a:chOff x="5799240" y="2625840"/>
            <a:chExt cx="368280" cy="806040"/>
          </a:xfrm>
        </p:grpSpPr>
        <p:sp>
          <p:nvSpPr>
            <p:cNvPr id="4291" name=""/>
            <p:cNvSpPr/>
            <p:nvPr/>
          </p:nvSpPr>
          <p:spPr>
            <a:xfrm>
              <a:off x="5799240" y="2625840"/>
              <a:ext cx="36828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2" name=""/>
            <p:cNvSpPr/>
            <p:nvPr/>
          </p:nvSpPr>
          <p:spPr>
            <a:xfrm>
              <a:off x="6002640" y="2911320"/>
              <a:ext cx="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93" name=""/>
            <p:cNvGrpSpPr/>
            <p:nvPr/>
          </p:nvGrpSpPr>
          <p:grpSpPr>
            <a:xfrm>
              <a:off x="5919840" y="2797200"/>
              <a:ext cx="152640" cy="101520"/>
              <a:chOff x="5919840" y="2797200"/>
              <a:chExt cx="152640" cy="101520"/>
            </a:xfrm>
          </p:grpSpPr>
          <p:sp>
            <p:nvSpPr>
              <p:cNvPr id="4294" name=""/>
              <p:cNvSpPr/>
              <p:nvPr/>
            </p:nvSpPr>
            <p:spPr>
              <a:xfrm>
                <a:off x="5919840" y="2892240"/>
                <a:ext cx="152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5" name=""/>
              <p:cNvSpPr/>
              <p:nvPr/>
            </p:nvSpPr>
            <p:spPr>
              <a:xfrm flipV="1">
                <a:off x="5919840" y="2797200"/>
                <a:ext cx="76320" cy="101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6" name=""/>
              <p:cNvSpPr/>
              <p:nvPr/>
            </p:nvSpPr>
            <p:spPr>
              <a:xfrm>
                <a:off x="6008760" y="2809800"/>
                <a:ext cx="63720" cy="76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97" name=""/>
            <p:cNvSpPr/>
            <p:nvPr/>
          </p:nvSpPr>
          <p:spPr>
            <a:xfrm flipV="1">
              <a:off x="6002640" y="3330000"/>
              <a:ext cx="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8" name=""/>
            <p:cNvSpPr/>
            <p:nvPr/>
          </p:nvSpPr>
          <p:spPr>
            <a:xfrm flipV="1">
              <a:off x="6008760" y="3317400"/>
              <a:ext cx="3816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9" name=""/>
            <p:cNvSpPr/>
            <p:nvPr/>
          </p:nvSpPr>
          <p:spPr>
            <a:xfrm flipH="1" flipV="1">
              <a:off x="5945040" y="3267000"/>
              <a:ext cx="1141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0" name=""/>
            <p:cNvSpPr/>
            <p:nvPr/>
          </p:nvSpPr>
          <p:spPr>
            <a:xfrm flipV="1">
              <a:off x="5958000" y="3216240"/>
              <a:ext cx="889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1" name=""/>
            <p:cNvSpPr/>
            <p:nvPr/>
          </p:nvSpPr>
          <p:spPr>
            <a:xfrm flipH="1" flipV="1">
              <a:off x="5945040" y="3165480"/>
              <a:ext cx="1141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2" name=""/>
            <p:cNvSpPr/>
            <p:nvPr/>
          </p:nvSpPr>
          <p:spPr>
            <a:xfrm flipV="1">
              <a:off x="5958000" y="3114720"/>
              <a:ext cx="889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3" name=""/>
            <p:cNvSpPr/>
            <p:nvPr/>
          </p:nvSpPr>
          <p:spPr>
            <a:xfrm flipH="1" flipV="1">
              <a:off x="5945040" y="3063960"/>
              <a:ext cx="1141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4" name=""/>
            <p:cNvSpPr/>
            <p:nvPr/>
          </p:nvSpPr>
          <p:spPr>
            <a:xfrm flipV="1">
              <a:off x="5958000" y="3025440"/>
              <a:ext cx="3816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5" name=""/>
            <p:cNvSpPr/>
            <p:nvPr/>
          </p:nvSpPr>
          <p:spPr>
            <a:xfrm flipV="1">
              <a:off x="6002640" y="298728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6" name=""/>
          <p:cNvGrpSpPr/>
          <p:nvPr/>
        </p:nvGrpSpPr>
        <p:grpSpPr>
          <a:xfrm>
            <a:off x="6192720" y="2625840"/>
            <a:ext cx="368280" cy="806040"/>
            <a:chOff x="6192720" y="2625840"/>
            <a:chExt cx="368280" cy="806040"/>
          </a:xfrm>
        </p:grpSpPr>
        <p:sp>
          <p:nvSpPr>
            <p:cNvPr id="4307" name=""/>
            <p:cNvSpPr/>
            <p:nvPr/>
          </p:nvSpPr>
          <p:spPr>
            <a:xfrm>
              <a:off x="6192720" y="2625840"/>
              <a:ext cx="36828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8" name=""/>
            <p:cNvSpPr/>
            <p:nvPr/>
          </p:nvSpPr>
          <p:spPr>
            <a:xfrm>
              <a:off x="6395760" y="2911320"/>
              <a:ext cx="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09" name=""/>
            <p:cNvGrpSpPr/>
            <p:nvPr/>
          </p:nvGrpSpPr>
          <p:grpSpPr>
            <a:xfrm>
              <a:off x="6313320" y="2797200"/>
              <a:ext cx="164880" cy="101520"/>
              <a:chOff x="6313320" y="2797200"/>
              <a:chExt cx="164880" cy="101520"/>
            </a:xfrm>
          </p:grpSpPr>
          <p:sp>
            <p:nvSpPr>
              <p:cNvPr id="4310" name=""/>
              <p:cNvSpPr/>
              <p:nvPr/>
            </p:nvSpPr>
            <p:spPr>
              <a:xfrm>
                <a:off x="6313320" y="2892240"/>
                <a:ext cx="164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1" name=""/>
              <p:cNvSpPr/>
              <p:nvPr/>
            </p:nvSpPr>
            <p:spPr>
              <a:xfrm flipV="1">
                <a:off x="6313320" y="2797200"/>
                <a:ext cx="75960" cy="101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2" name=""/>
              <p:cNvSpPr/>
              <p:nvPr/>
            </p:nvSpPr>
            <p:spPr>
              <a:xfrm>
                <a:off x="6402240" y="2809800"/>
                <a:ext cx="75960" cy="76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13" name=""/>
            <p:cNvSpPr/>
            <p:nvPr/>
          </p:nvSpPr>
          <p:spPr>
            <a:xfrm flipV="1">
              <a:off x="6395760" y="3330000"/>
              <a:ext cx="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4" name=""/>
            <p:cNvSpPr/>
            <p:nvPr/>
          </p:nvSpPr>
          <p:spPr>
            <a:xfrm flipV="1">
              <a:off x="6402240" y="3317400"/>
              <a:ext cx="3816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5" name=""/>
            <p:cNvSpPr/>
            <p:nvPr/>
          </p:nvSpPr>
          <p:spPr>
            <a:xfrm flipH="1" flipV="1">
              <a:off x="6338520" y="3267000"/>
              <a:ext cx="11448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6" name=""/>
            <p:cNvSpPr/>
            <p:nvPr/>
          </p:nvSpPr>
          <p:spPr>
            <a:xfrm flipV="1">
              <a:off x="6351480" y="3216240"/>
              <a:ext cx="889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7" name=""/>
            <p:cNvSpPr/>
            <p:nvPr/>
          </p:nvSpPr>
          <p:spPr>
            <a:xfrm flipH="1" flipV="1">
              <a:off x="6338520" y="3165480"/>
              <a:ext cx="11448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8" name=""/>
            <p:cNvSpPr/>
            <p:nvPr/>
          </p:nvSpPr>
          <p:spPr>
            <a:xfrm flipV="1">
              <a:off x="6351480" y="3114720"/>
              <a:ext cx="889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9" name=""/>
            <p:cNvSpPr/>
            <p:nvPr/>
          </p:nvSpPr>
          <p:spPr>
            <a:xfrm flipH="1" flipV="1">
              <a:off x="6338520" y="3063960"/>
              <a:ext cx="11448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0" name=""/>
            <p:cNvSpPr/>
            <p:nvPr/>
          </p:nvSpPr>
          <p:spPr>
            <a:xfrm flipV="1">
              <a:off x="6351480" y="3025440"/>
              <a:ext cx="3780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1" name=""/>
            <p:cNvSpPr/>
            <p:nvPr/>
          </p:nvSpPr>
          <p:spPr>
            <a:xfrm flipV="1">
              <a:off x="6395760" y="298728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22" name=""/>
          <p:cNvGrpSpPr/>
          <p:nvPr/>
        </p:nvGrpSpPr>
        <p:grpSpPr>
          <a:xfrm>
            <a:off x="6599160" y="2625840"/>
            <a:ext cx="368280" cy="806040"/>
            <a:chOff x="6599160" y="2625840"/>
            <a:chExt cx="368280" cy="806040"/>
          </a:xfrm>
        </p:grpSpPr>
        <p:sp>
          <p:nvSpPr>
            <p:cNvPr id="4323" name=""/>
            <p:cNvSpPr/>
            <p:nvPr/>
          </p:nvSpPr>
          <p:spPr>
            <a:xfrm>
              <a:off x="6599160" y="2625840"/>
              <a:ext cx="36828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4" name=""/>
            <p:cNvSpPr/>
            <p:nvPr/>
          </p:nvSpPr>
          <p:spPr>
            <a:xfrm>
              <a:off x="6802200" y="2911320"/>
              <a:ext cx="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25" name=""/>
            <p:cNvGrpSpPr/>
            <p:nvPr/>
          </p:nvGrpSpPr>
          <p:grpSpPr>
            <a:xfrm>
              <a:off x="6719760" y="2797200"/>
              <a:ext cx="164880" cy="101520"/>
              <a:chOff x="6719760" y="2797200"/>
              <a:chExt cx="164880" cy="101520"/>
            </a:xfrm>
          </p:grpSpPr>
          <p:sp>
            <p:nvSpPr>
              <p:cNvPr id="4326" name=""/>
              <p:cNvSpPr/>
              <p:nvPr/>
            </p:nvSpPr>
            <p:spPr>
              <a:xfrm>
                <a:off x="6719760" y="2892240"/>
                <a:ext cx="164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7" name=""/>
              <p:cNvSpPr/>
              <p:nvPr/>
            </p:nvSpPr>
            <p:spPr>
              <a:xfrm flipV="1">
                <a:off x="6719760" y="2797200"/>
                <a:ext cx="75960" cy="101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8" name=""/>
              <p:cNvSpPr/>
              <p:nvPr/>
            </p:nvSpPr>
            <p:spPr>
              <a:xfrm>
                <a:off x="6808680" y="2809800"/>
                <a:ext cx="75960" cy="76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29" name=""/>
            <p:cNvSpPr/>
            <p:nvPr/>
          </p:nvSpPr>
          <p:spPr>
            <a:xfrm flipV="1">
              <a:off x="6802200" y="3330000"/>
              <a:ext cx="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0" name=""/>
            <p:cNvSpPr/>
            <p:nvPr/>
          </p:nvSpPr>
          <p:spPr>
            <a:xfrm flipV="1">
              <a:off x="6808680" y="3317400"/>
              <a:ext cx="3780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1" name=""/>
            <p:cNvSpPr/>
            <p:nvPr/>
          </p:nvSpPr>
          <p:spPr>
            <a:xfrm flipH="1" flipV="1">
              <a:off x="6744960" y="3267000"/>
              <a:ext cx="11448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2" name=""/>
            <p:cNvSpPr/>
            <p:nvPr/>
          </p:nvSpPr>
          <p:spPr>
            <a:xfrm flipV="1">
              <a:off x="6757920" y="3216240"/>
              <a:ext cx="8856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3" name=""/>
            <p:cNvSpPr/>
            <p:nvPr/>
          </p:nvSpPr>
          <p:spPr>
            <a:xfrm flipH="1" flipV="1">
              <a:off x="6744960" y="3165480"/>
              <a:ext cx="11448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4" name=""/>
            <p:cNvSpPr/>
            <p:nvPr/>
          </p:nvSpPr>
          <p:spPr>
            <a:xfrm flipV="1">
              <a:off x="6757920" y="3114720"/>
              <a:ext cx="8856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5" name=""/>
            <p:cNvSpPr/>
            <p:nvPr/>
          </p:nvSpPr>
          <p:spPr>
            <a:xfrm flipH="1" flipV="1">
              <a:off x="6744960" y="3063960"/>
              <a:ext cx="11448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6" name=""/>
            <p:cNvSpPr/>
            <p:nvPr/>
          </p:nvSpPr>
          <p:spPr>
            <a:xfrm flipV="1">
              <a:off x="6757920" y="3025440"/>
              <a:ext cx="3780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7" name=""/>
            <p:cNvSpPr/>
            <p:nvPr/>
          </p:nvSpPr>
          <p:spPr>
            <a:xfrm flipV="1">
              <a:off x="6802200" y="298728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38" name=""/>
          <p:cNvSpPr/>
          <p:nvPr/>
        </p:nvSpPr>
        <p:spPr>
          <a:xfrm>
            <a:off x="7500960" y="3794040"/>
            <a:ext cx="162540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ord[i] = 0011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ord[j] = 1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9" name=""/>
          <p:cNvSpPr/>
          <p:nvPr/>
        </p:nvSpPr>
        <p:spPr>
          <a:xfrm>
            <a:off x="5786280" y="5775480"/>
            <a:ext cx="341640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it lines (normally pulled to 1 through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sistor – selectively connected to 0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y word line controlled switch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0" name=""/>
          <p:cNvSpPr/>
          <p:nvPr/>
        </p:nvSpPr>
        <p:spPr>
          <a:xfrm>
            <a:off x="4897440" y="4213080"/>
            <a:ext cx="19044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1" name=""/>
          <p:cNvSpPr/>
          <p:nvPr/>
        </p:nvSpPr>
        <p:spPr>
          <a:xfrm>
            <a:off x="4910040" y="3794040"/>
            <a:ext cx="1904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2" name=""/>
          <p:cNvSpPr/>
          <p:nvPr/>
        </p:nvSpPr>
        <p:spPr>
          <a:xfrm>
            <a:off x="1957320" y="4749840"/>
            <a:ext cx="2324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ernal organ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3" name=""/>
          <p:cNvSpPr/>
          <p:nvPr/>
        </p:nvSpPr>
        <p:spPr>
          <a:xfrm>
            <a:off x="5614920" y="5184720"/>
            <a:ext cx="1625760" cy="5587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4" name=""/>
          <p:cNvSpPr/>
          <p:nvPr/>
        </p:nvSpPr>
        <p:spPr>
          <a:xfrm>
            <a:off x="6059520" y="5197320"/>
            <a:ext cx="1193760" cy="5590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5" name=""/>
          <p:cNvSpPr/>
          <p:nvPr/>
        </p:nvSpPr>
        <p:spPr>
          <a:xfrm>
            <a:off x="6440400" y="5197320"/>
            <a:ext cx="825480" cy="5590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6" name=""/>
          <p:cNvSpPr/>
          <p:nvPr/>
        </p:nvSpPr>
        <p:spPr>
          <a:xfrm>
            <a:off x="6846840" y="5210280"/>
            <a:ext cx="406440" cy="546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7" name=""/>
          <p:cNvSpPr/>
          <p:nvPr/>
        </p:nvSpPr>
        <p:spPr>
          <a:xfrm flipV="1">
            <a:off x="7202520" y="2327400"/>
            <a:ext cx="546120" cy="1117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8" name=""/>
          <p:cNvSpPr/>
          <p:nvPr/>
        </p:nvSpPr>
        <p:spPr>
          <a:xfrm flipV="1">
            <a:off x="7202520" y="2327400"/>
            <a:ext cx="546120" cy="1612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9" name=""/>
          <p:cNvSpPr/>
          <p:nvPr/>
        </p:nvSpPr>
        <p:spPr>
          <a:xfrm flipV="1">
            <a:off x="7215120" y="2352600"/>
            <a:ext cx="520920" cy="1981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0" name=""/>
          <p:cNvSpPr/>
          <p:nvPr/>
        </p:nvSpPr>
        <p:spPr>
          <a:xfrm flipV="1">
            <a:off x="7215120" y="2327400"/>
            <a:ext cx="533520" cy="2527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1" name=""/>
          <p:cNvSpPr/>
          <p:nvPr/>
        </p:nvSpPr>
        <p:spPr>
          <a:xfrm>
            <a:off x="7107120" y="1660680"/>
            <a:ext cx="201924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ord lines (only on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s active – decoder is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just right for thi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ead-only memori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wo dimensional array of 1s and 0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(row) is called a "word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dth of row = word-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x is called an "address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ress is in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ed word is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7C05-2CBE-4E3B-BC65-8261C27691B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4" name=""/>
          <p:cNvSpPr/>
          <p:nvPr/>
        </p:nvSpPr>
        <p:spPr>
          <a:xfrm>
            <a:off x="2781360" y="2462040"/>
            <a:ext cx="3708360" cy="16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0 = A' B' C  +  A B' C'  +  A B'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1 = A' B' C  +  A' B C'  +  A B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2 = A' B' C'  +  A' B' C  +  A B' C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3 = A' B C  +  A B' C'  + A B C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55" name=""/>
          <p:cNvGrpSpPr/>
          <p:nvPr/>
        </p:nvGrpSpPr>
        <p:grpSpPr>
          <a:xfrm>
            <a:off x="1504800" y="4278240"/>
            <a:ext cx="2279880" cy="2361960"/>
            <a:chOff x="1504800" y="4278240"/>
            <a:chExt cx="2279880" cy="2361960"/>
          </a:xfrm>
        </p:grpSpPr>
        <p:sp>
          <p:nvSpPr>
            <p:cNvPr id="4356" name=""/>
            <p:cNvSpPr/>
            <p:nvPr/>
          </p:nvSpPr>
          <p:spPr>
            <a:xfrm>
              <a:off x="1828800" y="6246720"/>
              <a:ext cx="13971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ruth 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7" name=""/>
            <p:cNvSpPr/>
            <p:nvPr/>
          </p:nvSpPr>
          <p:spPr>
            <a:xfrm>
              <a:off x="1562040" y="4278240"/>
              <a:ext cx="2222640" cy="19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1028880"/>
                  <a:tab algn="l" pos="1371600"/>
                  <a:tab algn="l" pos="1714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1028880"/>
                  <a:tab algn="l" pos="1371600"/>
                  <a:tab algn="l" pos="1714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1028880"/>
                  <a:tab algn="l" pos="1371600"/>
                  <a:tab algn="l" pos="1714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1028880"/>
                  <a:tab algn="l" pos="1371600"/>
                  <a:tab algn="l" pos="1714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1028880"/>
                  <a:tab algn="l" pos="1371600"/>
                  <a:tab algn="l" pos="1714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1028880"/>
                  <a:tab algn="l" pos="1371600"/>
                  <a:tab algn="l" pos="1714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8" name=""/>
            <p:cNvSpPr/>
            <p:nvPr/>
          </p:nvSpPr>
          <p:spPr>
            <a:xfrm>
              <a:off x="1504800" y="4506840"/>
              <a:ext cx="215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9" name=""/>
            <p:cNvSpPr/>
            <p:nvPr/>
          </p:nvSpPr>
          <p:spPr>
            <a:xfrm>
              <a:off x="2222640" y="4297320"/>
              <a:ext cx="0" cy="186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0" name=""/>
          <p:cNvGrpSpPr/>
          <p:nvPr/>
        </p:nvGrpSpPr>
        <p:grpSpPr>
          <a:xfrm>
            <a:off x="5460840" y="4348080"/>
            <a:ext cx="2121120" cy="2292120"/>
            <a:chOff x="5460840" y="4348080"/>
            <a:chExt cx="2121120" cy="2292120"/>
          </a:xfrm>
        </p:grpSpPr>
        <p:sp>
          <p:nvSpPr>
            <p:cNvPr id="4361" name=""/>
            <p:cNvSpPr/>
            <p:nvPr/>
          </p:nvSpPr>
          <p:spPr>
            <a:xfrm>
              <a:off x="5689440" y="6246720"/>
              <a:ext cx="176544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lock diag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2" name=""/>
            <p:cNvSpPr/>
            <p:nvPr/>
          </p:nvSpPr>
          <p:spPr>
            <a:xfrm>
              <a:off x="5492880" y="4348080"/>
              <a:ext cx="2057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3" name=""/>
            <p:cNvSpPr/>
            <p:nvPr/>
          </p:nvSpPr>
          <p:spPr>
            <a:xfrm flipV="1">
              <a:off x="5715000" y="5249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4" name=""/>
            <p:cNvSpPr/>
            <p:nvPr/>
          </p:nvSpPr>
          <p:spPr>
            <a:xfrm flipV="1">
              <a:off x="5943600" y="5249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5" name=""/>
            <p:cNvSpPr/>
            <p:nvPr/>
          </p:nvSpPr>
          <p:spPr>
            <a:xfrm flipV="1">
              <a:off x="6172200" y="5249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6" name=""/>
            <p:cNvSpPr/>
            <p:nvPr/>
          </p:nvSpPr>
          <p:spPr>
            <a:xfrm>
              <a:off x="6629400" y="52624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7" name=""/>
            <p:cNvSpPr/>
            <p:nvPr/>
          </p:nvSpPr>
          <p:spPr>
            <a:xfrm>
              <a:off x="6858000" y="52624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8" name=""/>
            <p:cNvSpPr/>
            <p:nvPr/>
          </p:nvSpPr>
          <p:spPr>
            <a:xfrm>
              <a:off x="7086600" y="52624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9" name=""/>
            <p:cNvSpPr/>
            <p:nvPr/>
          </p:nvSpPr>
          <p:spPr>
            <a:xfrm>
              <a:off x="7315200" y="52624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0" name=""/>
            <p:cNvSpPr/>
            <p:nvPr/>
          </p:nvSpPr>
          <p:spPr>
            <a:xfrm>
              <a:off x="5575320" y="4481280"/>
              <a:ext cx="18669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M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8 words x 4 bits/wor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1" name=""/>
            <p:cNvSpPr/>
            <p:nvPr/>
          </p:nvSpPr>
          <p:spPr>
            <a:xfrm>
              <a:off x="5460840" y="5929200"/>
              <a:ext cx="10796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ddr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2" name=""/>
            <p:cNvSpPr/>
            <p:nvPr/>
          </p:nvSpPr>
          <p:spPr>
            <a:xfrm>
              <a:off x="6477120" y="5929200"/>
              <a:ext cx="1015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3" name=""/>
            <p:cNvSpPr/>
            <p:nvPr/>
          </p:nvSpPr>
          <p:spPr>
            <a:xfrm>
              <a:off x="5575320" y="5687640"/>
              <a:ext cx="200664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228600"/>
                  <a:tab algn="l" pos="457200"/>
                  <a:tab algn="l" pos="914400"/>
                  <a:tab algn="l" pos="1143000"/>
                  <a:tab algn="l" pos="1371600"/>
                  <a:tab algn="l" pos="1600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OMs and combinationa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7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binational logic implementation (two-level canonical form) using a R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A6B4-BE6B-4A64-9B37-A6723AB1B11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OM structur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7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ilar to a PLA structure but with a fully decoded AND arr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tely flexible OR array (unlike P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8" name=""/>
          <p:cNvSpPr/>
          <p:nvPr/>
        </p:nvSpPr>
        <p:spPr>
          <a:xfrm>
            <a:off x="1982880" y="3370320"/>
            <a:ext cx="5727600" cy="2311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9" name=""/>
          <p:cNvGrpSpPr/>
          <p:nvPr/>
        </p:nvGrpSpPr>
        <p:grpSpPr>
          <a:xfrm>
            <a:off x="2236680" y="2700360"/>
            <a:ext cx="2019240" cy="2587680"/>
            <a:chOff x="2236680" y="2700360"/>
            <a:chExt cx="2019240" cy="2587680"/>
          </a:xfrm>
        </p:grpSpPr>
        <p:sp>
          <p:nvSpPr>
            <p:cNvPr id="4380" name=""/>
            <p:cNvSpPr/>
            <p:nvPr/>
          </p:nvSpPr>
          <p:spPr>
            <a:xfrm>
              <a:off x="2236680" y="2700360"/>
              <a:ext cx="201924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 address lin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81" name=""/>
            <p:cNvGrpSpPr/>
            <p:nvPr/>
          </p:nvGrpSpPr>
          <p:grpSpPr>
            <a:xfrm>
              <a:off x="2395440" y="3033720"/>
              <a:ext cx="1600200" cy="2254320"/>
              <a:chOff x="2395440" y="3033720"/>
              <a:chExt cx="1600200" cy="2254320"/>
            </a:xfrm>
          </p:grpSpPr>
          <p:sp>
            <p:nvSpPr>
              <p:cNvPr id="4382" name=""/>
              <p:cNvSpPr/>
              <p:nvPr/>
            </p:nvSpPr>
            <p:spPr>
              <a:xfrm>
                <a:off x="2395440" y="3840120"/>
                <a:ext cx="1600200" cy="1447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3" name=""/>
              <p:cNvSpPr/>
              <p:nvPr/>
            </p:nvSpPr>
            <p:spPr>
              <a:xfrm>
                <a:off x="2890800" y="3033720"/>
                <a:ext cx="87624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•   •   •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4" name=""/>
              <p:cNvSpPr/>
              <p:nvPr/>
            </p:nvSpPr>
            <p:spPr>
              <a:xfrm>
                <a:off x="2840040" y="3363840"/>
                <a:ext cx="927000" cy="66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200"/>
                  </a:lnSpc>
                  <a:spcAft>
                    <a:spcPts val="2001"/>
                  </a:spcAft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input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5" name=""/>
              <p:cNvSpPr/>
              <p:nvPr/>
            </p:nvSpPr>
            <p:spPr>
              <a:xfrm>
                <a:off x="2674800" y="4351320"/>
                <a:ext cx="1092240" cy="56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200"/>
                  </a:lnSpc>
                  <a:spcAft>
                    <a:spcPts val="2001"/>
                  </a:spcAft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decod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6" name=""/>
              <p:cNvSpPr/>
              <p:nvPr/>
            </p:nvSpPr>
            <p:spPr>
              <a:xfrm>
                <a:off x="3843360" y="3078000"/>
                <a:ext cx="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7" name=""/>
              <p:cNvSpPr/>
              <p:nvPr/>
            </p:nvSpPr>
            <p:spPr>
              <a:xfrm>
                <a:off x="2852640" y="3078000"/>
                <a:ext cx="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8" name=""/>
              <p:cNvSpPr/>
              <p:nvPr/>
            </p:nvSpPr>
            <p:spPr>
              <a:xfrm>
                <a:off x="2548080" y="3078000"/>
                <a:ext cx="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89" name=""/>
          <p:cNvGrpSpPr/>
          <p:nvPr/>
        </p:nvGrpSpPr>
        <p:grpSpPr>
          <a:xfrm>
            <a:off x="3995640" y="4068720"/>
            <a:ext cx="1676160" cy="1263600"/>
            <a:chOff x="3995640" y="4068720"/>
            <a:chExt cx="1676160" cy="1263600"/>
          </a:xfrm>
        </p:grpSpPr>
        <p:sp>
          <p:nvSpPr>
            <p:cNvPr id="4390" name=""/>
            <p:cNvSpPr/>
            <p:nvPr/>
          </p:nvSpPr>
          <p:spPr>
            <a:xfrm>
              <a:off x="4008240" y="4392720"/>
              <a:ext cx="1460520" cy="93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Tahoma"/>
                </a:rPr>
                <a:t>n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wor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in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1" name=""/>
            <p:cNvSpPr/>
            <p:nvPr/>
          </p:nvSpPr>
          <p:spPr>
            <a:xfrm>
              <a:off x="3995640" y="406872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2" name=""/>
            <p:cNvSpPr/>
            <p:nvPr/>
          </p:nvSpPr>
          <p:spPr>
            <a:xfrm>
              <a:off x="3995640" y="429732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3" name=""/>
            <p:cNvSpPr/>
            <p:nvPr/>
          </p:nvSpPr>
          <p:spPr>
            <a:xfrm>
              <a:off x="3995640" y="513540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4" name=""/>
          <p:cNvGrpSpPr/>
          <p:nvPr/>
        </p:nvGrpSpPr>
        <p:grpSpPr>
          <a:xfrm>
            <a:off x="5472000" y="3840120"/>
            <a:ext cx="2019240" cy="2884680"/>
            <a:chOff x="5472000" y="3840120"/>
            <a:chExt cx="2019240" cy="2884680"/>
          </a:xfrm>
        </p:grpSpPr>
        <p:grpSp>
          <p:nvGrpSpPr>
            <p:cNvPr id="4395" name=""/>
            <p:cNvGrpSpPr/>
            <p:nvPr/>
          </p:nvGrpSpPr>
          <p:grpSpPr>
            <a:xfrm>
              <a:off x="5532480" y="3840120"/>
              <a:ext cx="1854000" cy="2286000"/>
              <a:chOff x="5532480" y="3840120"/>
              <a:chExt cx="1854000" cy="2286000"/>
            </a:xfrm>
          </p:grpSpPr>
          <p:sp>
            <p:nvSpPr>
              <p:cNvPr id="4396" name=""/>
              <p:cNvSpPr/>
              <p:nvPr/>
            </p:nvSpPr>
            <p:spPr>
              <a:xfrm>
                <a:off x="5672160" y="3840120"/>
                <a:ext cx="1600200" cy="1447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7" name=""/>
              <p:cNvSpPr/>
              <p:nvPr/>
            </p:nvSpPr>
            <p:spPr>
              <a:xfrm>
                <a:off x="6116760" y="5662440"/>
                <a:ext cx="109224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•   •   •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8" name=""/>
              <p:cNvSpPr/>
              <p:nvPr/>
            </p:nvSpPr>
            <p:spPr>
              <a:xfrm>
                <a:off x="5964120" y="5307120"/>
                <a:ext cx="1181160" cy="66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200"/>
                  </a:lnSpc>
                  <a:spcAft>
                    <a:spcPts val="2001"/>
                  </a:spcAft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output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9" name=""/>
              <p:cNvSpPr/>
              <p:nvPr/>
            </p:nvSpPr>
            <p:spPr>
              <a:xfrm>
                <a:off x="5532480" y="4005360"/>
                <a:ext cx="1854000" cy="93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200"/>
                  </a:lnSpc>
                  <a:spcAft>
                    <a:spcPts val="2001"/>
                  </a:spcAft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emory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rray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(2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Arial"/>
                  </a:rPr>
                  <a:t>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words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y m bits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0" name=""/>
              <p:cNvSpPr/>
              <p:nvPr/>
            </p:nvSpPr>
            <p:spPr>
              <a:xfrm>
                <a:off x="7120080" y="5288040"/>
                <a:ext cx="0" cy="838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1" name=""/>
              <p:cNvSpPr/>
              <p:nvPr/>
            </p:nvSpPr>
            <p:spPr>
              <a:xfrm>
                <a:off x="6129360" y="5288040"/>
                <a:ext cx="0" cy="838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2" name=""/>
              <p:cNvSpPr/>
              <p:nvPr/>
            </p:nvSpPr>
            <p:spPr>
              <a:xfrm>
                <a:off x="5824440" y="5288040"/>
                <a:ext cx="0" cy="838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03" name=""/>
            <p:cNvSpPr/>
            <p:nvPr/>
          </p:nvSpPr>
          <p:spPr>
            <a:xfrm>
              <a:off x="5472000" y="6064200"/>
              <a:ext cx="2019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 data lin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ED7B-433A-4DD3-A67F-5F437571493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OM vs. PLA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0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M approach advantageous wh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time is short (no need to minimize output func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input combinations are needed (e.g., code convert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tle sharing of product terms among output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M probl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ze doubles for each additional in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't exploit don't c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 approach advantageous wh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tools are available for multi-output minim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relatively few unique minterm combin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minterms are shared among the output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L probl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ained fan-ins on OR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D12B-582E-4C74-B292-A4BFFC4DAC2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egular logic structures for two-leve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0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M – full AND plane, general OR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ap (high-volume compon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implement any function of n i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um sp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L – programmable AND plane, fixed OR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mediate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implement functions limited by number of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speed (only one programmable plane that is much smaller than ROM's deco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 – programmable AND and OR pla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expensive (most complex in design, need more sophisticated too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implement any function up to a product term li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ow (two programmable plan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7C39-4325-4671-9014-2C118B5BFE8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egular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ed to make design fas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ed to make engineering changes easier to mak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pler for designers to understand and map to function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er to think in terms of specific g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ter to think in terms of a large multi-purpose b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0591-AAA5-4DA6-9517-7D6E0021AE9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egular logic structures for multi-leve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0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fficult to devise a regular structure for arbitrary connections between a large set of different types of g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cy/speed concerns for such a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467 you'll learn about field programmable gate arrays (FPGAs) that are just such programmable multi-level stru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mable multiplexers for wi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up tables for logic functions (programming fills in the tab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-purpose cells (utilization is the big iss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multiple levels of PALs/PLAs/RO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intermediate res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it an input to be used in further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7542-399B-44E6-BDD1-A3EF49B5A8F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binational logic technology summar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1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dom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gates or in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rsion to NAND-NAND and NOR-NOR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ition from simple gates to more complex gate building b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d gate count, fan-ins, potentially f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levels, harder to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 response in combinational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te delays and timing wave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ards/glitches (what they are and why they happ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ular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xers/deco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s/P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antages/disadvantages of 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6AAF-3F8D-4616-83A2-1C60E20CF79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609480" y="4152960"/>
            <a:ext cx="1828800" cy="1257120"/>
            <a:chOff x="609480" y="4152960"/>
            <a:chExt cx="1828800" cy="1257120"/>
          </a:xfrm>
        </p:grpSpPr>
        <p:sp>
          <p:nvSpPr>
            <p:cNvPr id="93" name=""/>
            <p:cNvSpPr/>
            <p:nvPr/>
          </p:nvSpPr>
          <p:spPr>
            <a:xfrm>
              <a:off x="1079280" y="4152960"/>
              <a:ext cx="914400" cy="1257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609480" y="426708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609480" y="461016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609480" y="529596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609480" y="494028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006280" y="478800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91880" y="4280040"/>
              <a:ext cx="60984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091880" y="4622760"/>
              <a:ext cx="58428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1091880" y="4826160"/>
              <a:ext cx="58428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1091880" y="4939920"/>
              <a:ext cx="59688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091880" y="4280040"/>
              <a:ext cx="901800" cy="49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091880" y="4622760"/>
              <a:ext cx="90180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1091880" y="4775040"/>
              <a:ext cx="90180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1091880" y="4775040"/>
              <a:ext cx="90180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2857680" y="4140360"/>
            <a:ext cx="1828800" cy="1257120"/>
            <a:chOff x="2857680" y="4140360"/>
            <a:chExt cx="1828800" cy="1257120"/>
          </a:xfrm>
        </p:grpSpPr>
        <p:sp>
          <p:nvSpPr>
            <p:cNvPr id="108" name=""/>
            <p:cNvSpPr/>
            <p:nvPr/>
          </p:nvSpPr>
          <p:spPr>
            <a:xfrm>
              <a:off x="3327480" y="4140360"/>
              <a:ext cx="914400" cy="1257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254480" y="425448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254480" y="459756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254480" y="528336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254480" y="492768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857680" y="477504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3301920" y="4267080"/>
              <a:ext cx="95220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3301920" y="4610160"/>
              <a:ext cx="95220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 flipV="1">
              <a:off x="3301920" y="4762440"/>
              <a:ext cx="95220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 flipV="1">
              <a:off x="3301920" y="4762440"/>
              <a:ext cx="95220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3340080" y="4508640"/>
              <a:ext cx="406440" cy="27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3340080" y="4673520"/>
              <a:ext cx="40644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340080" y="4788000"/>
              <a:ext cx="39384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340080" y="4788000"/>
              <a:ext cx="36828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800280" y="5524560"/>
            <a:ext cx="15620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plex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933640" y="5524560"/>
            <a:ext cx="18162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multiplex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384520" y="4140360"/>
            <a:ext cx="1829160" cy="1257120"/>
            <a:chOff x="5384520" y="4140360"/>
            <a:chExt cx="1829160" cy="1257120"/>
          </a:xfrm>
        </p:grpSpPr>
        <p:sp>
          <p:nvSpPr>
            <p:cNvPr id="125" name=""/>
            <p:cNvSpPr/>
            <p:nvPr/>
          </p:nvSpPr>
          <p:spPr>
            <a:xfrm>
              <a:off x="5854680" y="4140360"/>
              <a:ext cx="914400" cy="1257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5384520" y="425448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5384520" y="459756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5384520" y="528336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5384520" y="492768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782040" y="4775040"/>
              <a:ext cx="43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867640" y="4267080"/>
              <a:ext cx="609480" cy="33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867640" y="4610160"/>
              <a:ext cx="58392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5867640" y="4812840"/>
              <a:ext cx="58392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5867640" y="4927320"/>
              <a:ext cx="59688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867640" y="4267080"/>
              <a:ext cx="90144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867640" y="4610160"/>
              <a:ext cx="90144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5867640" y="4762440"/>
              <a:ext cx="90144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5867640" y="4762440"/>
              <a:ext cx="90144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6781680" y="4140360"/>
            <a:ext cx="1828800" cy="1257120"/>
            <a:chOff x="6781680" y="4140360"/>
            <a:chExt cx="1828800" cy="1257120"/>
          </a:xfrm>
        </p:grpSpPr>
        <p:sp>
          <p:nvSpPr>
            <p:cNvPr id="140" name=""/>
            <p:cNvSpPr/>
            <p:nvPr/>
          </p:nvSpPr>
          <p:spPr>
            <a:xfrm>
              <a:off x="7251480" y="4140360"/>
              <a:ext cx="914400" cy="1257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178480" y="425448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178480" y="459756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178480" y="528336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178480" y="492768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6781680" y="477504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7225920" y="4267080"/>
              <a:ext cx="95256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7225920" y="4610160"/>
              <a:ext cx="9525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 flipV="1">
              <a:off x="7225920" y="4762440"/>
              <a:ext cx="95256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 flipV="1">
              <a:off x="7225920" y="4762440"/>
              <a:ext cx="95256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7264080" y="4508640"/>
              <a:ext cx="406440" cy="27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7264080" y="4673520"/>
              <a:ext cx="40644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264080" y="4788000"/>
              <a:ext cx="39384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264080" y="4788000"/>
              <a:ext cx="36828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6248520" y="5524560"/>
            <a:ext cx="15364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4x4 swi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27280" y="3581280"/>
            <a:ext cx="0" cy="559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511280" y="3581280"/>
            <a:ext cx="0" cy="559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759120" y="359424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43480" y="359424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527880" y="359424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311880" y="359424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746840" y="3581280"/>
            <a:ext cx="0" cy="559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531200" y="3581280"/>
            <a:ext cx="0" cy="559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12800" y="3505320"/>
            <a:ext cx="11559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645000" y="3517920"/>
            <a:ext cx="1155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aking connect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oint-to-point connections between g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es we've seen so f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ute one of many inputs to a single output --- multiplex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ute a single input to one of many outputs --- demultiplex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6C10-6363-4BDC-87B1-4D217CE5F3A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ux and demux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witch implementation of multiplexers and demultiplex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composed to make arbitrary size switching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to implement multiple-source/multiple-destination interconn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4648320" y="4876920"/>
            <a:ext cx="3632040" cy="1371600"/>
            <a:chOff x="4648320" y="4876920"/>
            <a:chExt cx="3632040" cy="1371600"/>
          </a:xfrm>
        </p:grpSpPr>
        <p:sp>
          <p:nvSpPr>
            <p:cNvPr id="170" name=""/>
            <p:cNvSpPr/>
            <p:nvPr/>
          </p:nvSpPr>
          <p:spPr>
            <a:xfrm>
              <a:off x="6692760" y="5639040"/>
              <a:ext cx="1067040" cy="609480"/>
            </a:xfrm>
            <a:prstGeom prst="rect">
              <a:avLst/>
            </a:prstGeom>
            <a:solidFill>
              <a:srgbClr val="ff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168880" y="5639040"/>
              <a:ext cx="1066680" cy="609480"/>
            </a:xfrm>
            <a:prstGeom prst="rect">
              <a:avLst/>
            </a:prstGeom>
            <a:solidFill>
              <a:srgbClr val="ff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168880" y="4876920"/>
              <a:ext cx="1066680" cy="609840"/>
            </a:xfrm>
            <a:prstGeom prst="rect">
              <a:avLst/>
            </a:prstGeom>
            <a:solidFill>
              <a:srgbClr val="ff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692760" y="4876920"/>
              <a:ext cx="1067040" cy="609840"/>
            </a:xfrm>
            <a:prstGeom prst="rect">
              <a:avLst/>
            </a:prstGeom>
            <a:solidFill>
              <a:srgbClr val="ff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648320" y="5016600"/>
              <a:ext cx="291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648320" y="5791320"/>
              <a:ext cx="291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988400" y="5016600"/>
              <a:ext cx="291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988400" y="5778720"/>
              <a:ext cx="266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5245200" y="5715360"/>
              <a:ext cx="914400" cy="457200"/>
              <a:chOff x="5245200" y="5715360"/>
              <a:chExt cx="914400" cy="457200"/>
            </a:xfrm>
          </p:grpSpPr>
          <p:sp>
            <p:nvSpPr>
              <p:cNvPr id="179" name=""/>
              <p:cNvSpPr/>
              <p:nvPr/>
            </p:nvSpPr>
            <p:spPr>
              <a:xfrm>
                <a:off x="6006960" y="5715360"/>
                <a:ext cx="152640" cy="1526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006960" y="6020280"/>
                <a:ext cx="15264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245200" y="586800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V="1">
                <a:off x="5397480" y="5791320"/>
                <a:ext cx="6094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5245200" y="4953240"/>
              <a:ext cx="914400" cy="457200"/>
              <a:chOff x="5245200" y="4953240"/>
              <a:chExt cx="914400" cy="457200"/>
            </a:xfrm>
          </p:grpSpPr>
          <p:sp>
            <p:nvSpPr>
              <p:cNvPr id="184" name=""/>
              <p:cNvSpPr/>
              <p:nvPr/>
            </p:nvSpPr>
            <p:spPr>
              <a:xfrm>
                <a:off x="6006960" y="4953240"/>
                <a:ext cx="15264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006960" y="5257800"/>
                <a:ext cx="152640" cy="1526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245200" y="510552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397480" y="5181840"/>
                <a:ext cx="6094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6769080" y="5715360"/>
              <a:ext cx="914400" cy="457200"/>
              <a:chOff x="6769080" y="5715360"/>
              <a:chExt cx="914400" cy="457200"/>
            </a:xfrm>
          </p:grpSpPr>
          <p:sp>
            <p:nvSpPr>
              <p:cNvPr id="189" name=""/>
              <p:cNvSpPr/>
              <p:nvPr/>
            </p:nvSpPr>
            <p:spPr>
              <a:xfrm flipH="1">
                <a:off x="6769080" y="5715360"/>
                <a:ext cx="152640" cy="1526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>
                <a:off x="6769080" y="6020280"/>
                <a:ext cx="15264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H="1">
                <a:off x="7530840" y="586800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H="1" flipV="1">
                <a:off x="6921720" y="5791320"/>
                <a:ext cx="6094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6769080" y="4953240"/>
              <a:ext cx="914400" cy="457200"/>
              <a:chOff x="6769080" y="4953240"/>
              <a:chExt cx="914400" cy="457200"/>
            </a:xfrm>
          </p:grpSpPr>
          <p:sp>
            <p:nvSpPr>
              <p:cNvPr id="194" name=""/>
              <p:cNvSpPr/>
              <p:nvPr/>
            </p:nvSpPr>
            <p:spPr>
              <a:xfrm flipH="1">
                <a:off x="6769080" y="4953240"/>
                <a:ext cx="15264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>
                <a:off x="6769080" y="5257800"/>
                <a:ext cx="152640" cy="1526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>
                <a:off x="7530840" y="510552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>
                <a:off x="6921720" y="5181840"/>
                <a:ext cx="6094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98" name=""/>
            <p:cNvCxnSpPr>
              <a:stCxn id="184" idx="6"/>
              <a:endCxn id="194" idx="6"/>
            </p:cNvCxnSpPr>
            <p:nvPr/>
          </p:nvCxnSpPr>
          <p:spPr>
            <a:xfrm flipV="1">
              <a:off x="6159240" y="5027040"/>
              <a:ext cx="610200" cy="25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99" name=""/>
            <p:cNvCxnSpPr>
              <a:stCxn id="185" idx="5"/>
              <a:endCxn id="189" idx="7"/>
            </p:cNvCxnSpPr>
            <p:nvPr/>
          </p:nvCxnSpPr>
          <p:spPr>
            <a:xfrm>
              <a:off x="6136920" y="5388120"/>
              <a:ext cx="654840" cy="349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200" name=""/>
            <p:cNvCxnSpPr>
              <a:stCxn id="179" idx="7"/>
              <a:endCxn id="195" idx="5"/>
            </p:cNvCxnSpPr>
            <p:nvPr/>
          </p:nvCxnSpPr>
          <p:spPr>
            <a:xfrm flipV="1">
              <a:off x="6136920" y="5386320"/>
              <a:ext cx="654840" cy="3513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201" name=""/>
            <p:cNvCxnSpPr>
              <a:stCxn id="180" idx="6"/>
              <a:endCxn id="190" idx="6"/>
            </p:cNvCxnSpPr>
            <p:nvPr/>
          </p:nvCxnSpPr>
          <p:spPr>
            <a:xfrm flipV="1">
              <a:off x="6159240" y="6094440"/>
              <a:ext cx="610200" cy="2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202" name=""/>
            <p:cNvSpPr/>
            <p:nvPr/>
          </p:nvSpPr>
          <p:spPr>
            <a:xfrm>
              <a:off x="7683480" y="51818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683480" y="59439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940280" y="51818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940280" y="59439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990720" y="3200400"/>
            <a:ext cx="3631680" cy="1371600"/>
            <a:chOff x="990720" y="3200400"/>
            <a:chExt cx="3631680" cy="1371600"/>
          </a:xfrm>
        </p:grpSpPr>
        <p:sp>
          <p:nvSpPr>
            <p:cNvPr id="207" name=""/>
            <p:cNvSpPr/>
            <p:nvPr/>
          </p:nvSpPr>
          <p:spPr>
            <a:xfrm>
              <a:off x="3035160" y="3962160"/>
              <a:ext cx="1066320" cy="609840"/>
            </a:xfrm>
            <a:prstGeom prst="rect">
              <a:avLst/>
            </a:prstGeom>
            <a:solidFill>
              <a:srgbClr val="ff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511280" y="3962160"/>
              <a:ext cx="1066320" cy="609840"/>
            </a:xfrm>
            <a:prstGeom prst="rect">
              <a:avLst/>
            </a:prstGeom>
            <a:solidFill>
              <a:srgbClr val="ff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11280" y="3200400"/>
              <a:ext cx="1066320" cy="609480"/>
            </a:xfrm>
            <a:prstGeom prst="rect">
              <a:avLst/>
            </a:prstGeom>
            <a:solidFill>
              <a:srgbClr val="ff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035160" y="3200400"/>
              <a:ext cx="1066320" cy="609480"/>
            </a:xfrm>
            <a:prstGeom prst="rect">
              <a:avLst/>
            </a:prstGeom>
            <a:solidFill>
              <a:srgbClr val="ff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990720" y="3340080"/>
              <a:ext cx="2919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990720" y="4114800"/>
              <a:ext cx="2919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330440" y="3340080"/>
              <a:ext cx="2919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30440" y="4101840"/>
              <a:ext cx="2664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5" name=""/>
            <p:cNvGrpSpPr/>
            <p:nvPr/>
          </p:nvGrpSpPr>
          <p:grpSpPr>
            <a:xfrm>
              <a:off x="1587240" y="4038480"/>
              <a:ext cx="913680" cy="457200"/>
              <a:chOff x="1587240" y="4038480"/>
              <a:chExt cx="913680" cy="457200"/>
            </a:xfrm>
          </p:grpSpPr>
          <p:sp>
            <p:nvSpPr>
              <p:cNvPr id="216" name=""/>
              <p:cNvSpPr/>
              <p:nvPr/>
            </p:nvSpPr>
            <p:spPr>
              <a:xfrm>
                <a:off x="2349000" y="4038480"/>
                <a:ext cx="15192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349000" y="4343400"/>
                <a:ext cx="15192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587240" y="4190760"/>
                <a:ext cx="152280" cy="1526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739520" y="4267080"/>
                <a:ext cx="60912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1587240" y="3276360"/>
              <a:ext cx="913680" cy="457200"/>
              <a:chOff x="1587240" y="3276360"/>
              <a:chExt cx="913680" cy="457200"/>
            </a:xfrm>
          </p:grpSpPr>
          <p:sp>
            <p:nvSpPr>
              <p:cNvPr id="221" name=""/>
              <p:cNvSpPr/>
              <p:nvPr/>
            </p:nvSpPr>
            <p:spPr>
              <a:xfrm>
                <a:off x="2349000" y="3276360"/>
                <a:ext cx="151920" cy="1526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349000" y="3581280"/>
                <a:ext cx="15192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587240" y="342900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V="1">
                <a:off x="1739520" y="3352320"/>
                <a:ext cx="60912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3111480" y="4038480"/>
              <a:ext cx="913320" cy="457200"/>
              <a:chOff x="3111480" y="4038480"/>
              <a:chExt cx="913320" cy="457200"/>
            </a:xfrm>
          </p:grpSpPr>
          <p:sp>
            <p:nvSpPr>
              <p:cNvPr id="226" name=""/>
              <p:cNvSpPr/>
              <p:nvPr/>
            </p:nvSpPr>
            <p:spPr>
              <a:xfrm flipH="1">
                <a:off x="3111480" y="4038480"/>
                <a:ext cx="15192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>
                <a:off x="3111480" y="4343400"/>
                <a:ext cx="15192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3872160" y="4190760"/>
                <a:ext cx="152280" cy="1526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H="1">
                <a:off x="3263400" y="4267080"/>
                <a:ext cx="60912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3111480" y="3276360"/>
              <a:ext cx="913320" cy="457200"/>
              <a:chOff x="3111480" y="3276360"/>
              <a:chExt cx="913320" cy="457200"/>
            </a:xfrm>
          </p:grpSpPr>
          <p:sp>
            <p:nvSpPr>
              <p:cNvPr id="231" name=""/>
              <p:cNvSpPr/>
              <p:nvPr/>
            </p:nvSpPr>
            <p:spPr>
              <a:xfrm flipH="1">
                <a:off x="3111480" y="3276360"/>
                <a:ext cx="151920" cy="1526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>
                <a:off x="3111480" y="3581280"/>
                <a:ext cx="15192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3872160" y="342900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 flipV="1">
                <a:off x="3263400" y="3352320"/>
                <a:ext cx="60912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35" name=""/>
            <p:cNvCxnSpPr>
              <a:stCxn id="221" idx="6"/>
              <a:endCxn id="231" idx="6"/>
            </p:cNvCxnSpPr>
            <p:nvPr/>
          </p:nvCxnSpPr>
          <p:spPr>
            <a:xfrm flipV="1">
              <a:off x="2501280" y="3350880"/>
              <a:ext cx="610200" cy="2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236" name=""/>
            <p:cNvCxnSpPr>
              <a:stCxn id="222" idx="5"/>
              <a:endCxn id="226" idx="7"/>
            </p:cNvCxnSpPr>
            <p:nvPr/>
          </p:nvCxnSpPr>
          <p:spPr>
            <a:xfrm>
              <a:off x="2479320" y="3711600"/>
              <a:ext cx="654120" cy="349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237" name=""/>
            <p:cNvCxnSpPr>
              <a:stCxn id="216" idx="7"/>
              <a:endCxn id="232" idx="5"/>
            </p:cNvCxnSpPr>
            <p:nvPr/>
          </p:nvCxnSpPr>
          <p:spPr>
            <a:xfrm flipV="1">
              <a:off x="2479320" y="3709440"/>
              <a:ext cx="654120" cy="3513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238" name=""/>
            <p:cNvCxnSpPr>
              <a:stCxn id="217" idx="6"/>
              <a:endCxn id="227" idx="6"/>
            </p:cNvCxnSpPr>
            <p:nvPr/>
          </p:nvCxnSpPr>
          <p:spPr>
            <a:xfrm flipV="1">
              <a:off x="2501280" y="4417560"/>
              <a:ext cx="610200" cy="2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239" name=""/>
            <p:cNvSpPr/>
            <p:nvPr/>
          </p:nvSpPr>
          <p:spPr>
            <a:xfrm>
              <a:off x="4025880" y="3504960"/>
              <a:ext cx="30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025880" y="4267080"/>
              <a:ext cx="30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282680" y="3504960"/>
              <a:ext cx="30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282680" y="4267080"/>
              <a:ext cx="30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D725-571A-45C8-8078-C3BF2DB2AB6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5295960" y="3009960"/>
            <a:ext cx="26035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ple input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283360" y="5321160"/>
            <a:ext cx="3225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ple output destin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447920" y="2971800"/>
            <a:ext cx="106668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124080" y="2971800"/>
            <a:ext cx="106704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1142640" y="3124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191120" y="31240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1980720" y="5486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574640" y="3035160"/>
            <a:ext cx="85104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172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905120" y="3860640"/>
            <a:ext cx="26676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581280" y="3886200"/>
            <a:ext cx="2667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666880" y="4572000"/>
            <a:ext cx="6732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80880" y="2971800"/>
            <a:ext cx="6732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1599"/>
              </a:lnSpc>
              <a:tabLst>
                <a:tab algn="l" pos="0"/>
                <a:tab algn="l" pos="3835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498680" y="5334120"/>
            <a:ext cx="4064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648320" y="2971800"/>
            <a:ext cx="3808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286000" y="2666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676520" y="2666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00400" y="2413080"/>
            <a:ext cx="3049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698400"/>
                <a:tab algn="l" pos="1752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962520" y="2666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352680" y="2666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25960" y="3035160"/>
            <a:ext cx="8506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172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657600" y="33526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981080" y="33526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124080" y="57150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514600" y="57150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362320" y="5384880"/>
            <a:ext cx="8506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172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447920" y="3809880"/>
            <a:ext cx="2743200" cy="1067040"/>
          </a:xfrm>
          <a:custGeom>
            <a:avLst/>
            <a:gdLst/>
            <a:ahLst/>
            <a:rect l="l" t="t" r="r" b="b"/>
            <a:pathLst>
              <a:path w="1729" h="649">
                <a:moveTo>
                  <a:pt x="0" y="0"/>
                </a:moveTo>
                <a:lnTo>
                  <a:pt x="504" y="0"/>
                </a:lnTo>
                <a:lnTo>
                  <a:pt x="648" y="0"/>
                </a:lnTo>
                <a:lnTo>
                  <a:pt x="864" y="288"/>
                </a:lnTo>
                <a:lnTo>
                  <a:pt x="1080" y="0"/>
                </a:lnTo>
                <a:lnTo>
                  <a:pt x="1728" y="0"/>
                </a:lnTo>
                <a:lnTo>
                  <a:pt x="1368" y="648"/>
                </a:lnTo>
                <a:lnTo>
                  <a:pt x="360" y="64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819520" y="4876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286000" y="5334120"/>
            <a:ext cx="106668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ux and demux (cont'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s of multiplexers/demultiplexers in multi-point conne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809880" y="2413080"/>
            <a:ext cx="3049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698400"/>
                <a:tab algn="l" pos="1752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523880" y="2413080"/>
            <a:ext cx="3049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698400"/>
                <a:tab algn="l" pos="1752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133720" y="2413080"/>
            <a:ext cx="3045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698400"/>
                <a:tab algn="l" pos="1752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438280" y="6095880"/>
            <a:ext cx="30492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698400"/>
                <a:tab algn="l" pos="1752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48120" y="6095880"/>
            <a:ext cx="30456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698400"/>
                <a:tab algn="l" pos="1752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5150-B13A-43E3-BE8D-70C16AF2ADC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352680" y="5473800"/>
            <a:ext cx="2946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wo alternative 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r a 2:1 Mux truth 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362320" y="4686480"/>
            <a:ext cx="18795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unctional 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al 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4343400" y="419076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4343400" y="4419720"/>
            <a:ext cx="198108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4349880" y="3282840"/>
            <a:ext cx="920520" cy="870120"/>
            <a:chOff x="4349880" y="3282840"/>
            <a:chExt cx="920520" cy="870120"/>
          </a:xfrm>
        </p:grpSpPr>
        <p:sp>
          <p:nvSpPr>
            <p:cNvPr id="283" name=""/>
            <p:cNvSpPr/>
            <p:nvPr/>
          </p:nvSpPr>
          <p:spPr>
            <a:xfrm>
              <a:off x="4406760" y="3289320"/>
              <a:ext cx="86364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49840" y="3282840"/>
              <a:ext cx="0" cy="85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349880" y="355608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6476760" y="3125880"/>
            <a:ext cx="1822680" cy="2604600"/>
            <a:chOff x="6476760" y="3125880"/>
            <a:chExt cx="1822680" cy="2604600"/>
          </a:xfrm>
        </p:grpSpPr>
        <p:sp>
          <p:nvSpPr>
            <p:cNvPr id="287" name=""/>
            <p:cNvSpPr/>
            <p:nvPr/>
          </p:nvSpPr>
          <p:spPr>
            <a:xfrm>
              <a:off x="6546960" y="3125880"/>
              <a:ext cx="1752480" cy="260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9144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804080" y="3220920"/>
              <a:ext cx="0" cy="242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6476760" y="3519360"/>
              <a:ext cx="1765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9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1054080" y="3645000"/>
            <a:ext cx="180360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 = A' 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+ A 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ultiplexers/selector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ltiplexers/selectors: general concep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ata inputs, n control inputs (called "selects"), 1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to connect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ints to a single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 signal pattern forms binary index of input connected to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F54A-0674-4723-977C-735726292D9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3056040" y="3421080"/>
            <a:ext cx="685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   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6553080" y="3352680"/>
            <a:ext cx="2362320" cy="2755800"/>
            <a:chOff x="6553080" y="3352680"/>
            <a:chExt cx="2362320" cy="2755800"/>
          </a:xfrm>
        </p:grpSpPr>
        <p:sp>
          <p:nvSpPr>
            <p:cNvPr id="295" name=""/>
            <p:cNvSpPr/>
            <p:nvPr/>
          </p:nvSpPr>
          <p:spPr>
            <a:xfrm>
              <a:off x="6553080" y="3352680"/>
              <a:ext cx="304920" cy="22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2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3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4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5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6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788160" y="375912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788160" y="398772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788160" y="467352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788160" y="513072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788160" y="421632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788160" y="490212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88160" y="444492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788160" y="535932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130880" y="3651120"/>
              <a:ext cx="914400" cy="1828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7353360" y="546696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7581960" y="546696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7810560" y="546696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289640" y="5499000"/>
              <a:ext cx="9907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  B  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340400" y="4089240"/>
              <a:ext cx="5335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 algn="ctr"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8: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356320" y="4178160"/>
              <a:ext cx="5590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045280" y="45590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3848040" y="4508640"/>
            <a:ext cx="2361960" cy="1841400"/>
            <a:chOff x="3848040" y="4508640"/>
            <a:chExt cx="2361960" cy="1841400"/>
          </a:xfrm>
        </p:grpSpPr>
        <p:sp>
          <p:nvSpPr>
            <p:cNvPr id="313" name=""/>
            <p:cNvSpPr/>
            <p:nvPr/>
          </p:nvSpPr>
          <p:spPr>
            <a:xfrm>
              <a:off x="3848040" y="4508640"/>
              <a:ext cx="30456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2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082760" y="49150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082760" y="53722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082760" y="51436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082760" y="56008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425840" y="480708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4762440" y="570852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4991040" y="570852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698720" y="574056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 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609800" y="4775040"/>
              <a:ext cx="53352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 algn="ctr"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: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651280" y="4876920"/>
              <a:ext cx="5587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340240" y="525780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990720" y="4952880"/>
            <a:ext cx="2361960" cy="1384200"/>
            <a:chOff x="990720" y="4952880"/>
            <a:chExt cx="2361960" cy="1384200"/>
          </a:xfrm>
        </p:grpSpPr>
        <p:sp>
          <p:nvSpPr>
            <p:cNvPr id="326" name=""/>
            <p:cNvSpPr/>
            <p:nvPr/>
          </p:nvSpPr>
          <p:spPr>
            <a:xfrm>
              <a:off x="990720" y="4952880"/>
              <a:ext cx="30456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225440" y="535932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225440" y="558792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568520" y="5251320"/>
              <a:ext cx="9144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2019240" y="569556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955880" y="5727600"/>
              <a:ext cx="546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778040" y="4965480"/>
              <a:ext cx="53316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 algn="ctr"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: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793960" y="5092560"/>
              <a:ext cx="5587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482920" y="54734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3002040" y="369108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k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111840" y="3324240"/>
            <a:ext cx="30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ultiplexers/selectors (cont'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:1 mux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 = A'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A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:1 mux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 = A'B'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A'B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AB'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AB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8:1 mux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 = A'B'C'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A'B'C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A'BC'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A'BC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AB'C'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AB'C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ABC'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ABC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general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 =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(m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minterm shorthand form for 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1 M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00CE-E0F5-407C-A6B7-718CA2E2B07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1T11:35:57Z</dcterms:created>
  <dc:creator>Gaetano Borriello</dc:creator>
  <dc:description/>
  <dc:language>en-US</dc:language>
  <cp:lastModifiedBy>Gaetano Borriello</cp:lastModifiedBy>
  <cp:lastPrinted>1999-04-12T19:46:03Z</cp:lastPrinted>
  <dcterms:modified xsi:type="dcterms:W3CDTF">2005-01-24T06:59:49Z</dcterms:modified>
  <cp:revision>34</cp:revision>
  <dc:subject/>
  <dc:title>Combinational Implem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s.washington.edu/education/courses/cse370/99sp/</vt:lpwstr>
  </property>
  <property fmtid="{D5CDD505-2E9C-101B-9397-08002B2CF9AE}" pid="9" name="LinkColor">
    <vt:r8>16711782</vt:r8>
  </property>
  <property fmtid="{D5CDD505-2E9C-101B-9397-08002B2CF9AE}" pid="10" name="MailAddress">
    <vt:lpwstr>cse370-webmaster@cs.washington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gaetano\Edu\cse370_s99\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