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FDD-0A2A-40E5-A5DF-ADD67FB5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767-E9DD-4BD7-9884-933E757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8FC-D055-47CA-907D-6E551DD0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7C5-3FF1-49D2-A8C2-23DC7CA0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49A-14EA-4F7E-A652-D1146269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586-0156-4CE6-B8E6-5127E7AB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C39-229F-4991-ACE2-35A1BCB9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9A4-3940-4805-BB20-4B0E5DA9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00B-7DEF-43AB-8A5D-E5BB83A2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26F-09A0-4840-B151-0689750D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7EB-54EE-4246-8B95-DC38C06A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71C-4953-4C4C-8F20-6F1CA498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8080-A580-46D2-AE2A-CAF9DC264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6"/>
          <p:cNvSpPr/>
          <p:nvPr/>
        </p:nvSpPr>
        <p:spPr>
          <a:xfrm flipH="1">
            <a:off x="138240" y="639756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18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Freeform 19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23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34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Freeform 38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7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8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Freeform 19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23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26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Freeform 33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Freeform 37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38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45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Oval 45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8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23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26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33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4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36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Freeform 37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38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40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41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42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43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46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47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3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7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2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8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9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Freeform 20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32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33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34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37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Freeform 38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39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0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41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2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46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8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15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17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18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Freeform 19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AutoShape 23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6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33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34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35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Freeform 37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38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39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40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41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AutoShape 42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43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44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45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3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5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Oval 6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10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16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Line 17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8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Freeform 19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26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31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32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33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Freeform 37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38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39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40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41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AutoShape 42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43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44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45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46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Line 5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Line 6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3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Oval 2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Oval 3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Oval 5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Oval 6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Oval 7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Oval 8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10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12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13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14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15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16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17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18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Freeform 19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45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Oval 46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Oval 47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Oval 48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50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Line 51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52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Freeform 53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54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55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Freeform 56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59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60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61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6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42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Oval 43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Oval 44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Oval 45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46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47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48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49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Freeform 50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 Box 51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52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Freeform 53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54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55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56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 Box 57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 Box 59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 Box 60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42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Oval 44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Oval 45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Line 46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Line 48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55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59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42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Oval 43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Oval 44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45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Line 46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47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Oval 48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Line 49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 Box 50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51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42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Oval 43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Oval 44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Line 45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Line 46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 Box 47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Oval 48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49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50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51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5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5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43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Oval 44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Oval 45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Line 46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47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48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43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Oval 44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Oval 45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Line 46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Line 47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48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Freeform 49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50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Line 5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6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4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15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 Box 51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Text Box 52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Text Box 53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Oval 46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Oval 47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Oval 48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Line 49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Oval 50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Oval 51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52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Oval 43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Oval 44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Oval 45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Line 46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Oval 47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Oval 48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Line 50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Line 51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Text Box 52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Text Box 53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Oval 43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Oval 44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Oval 45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Line 46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Oval 47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Oval 48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Text Box 49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Line 50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Line 51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Text Box 52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Text Box 53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Oval 43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Oval 44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Oval 45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Line 46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Oval 47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Oval 48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Text Box 49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Line 50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Line 51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Text Box 52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Text Box 53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Freeform 56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Text Box 57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Oval 43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Oval 44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Oval 45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Line 46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Oval 47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Text Box 49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Line 50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Line 51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 Box 52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 Box 53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Freeform 56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 Box 57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Line 58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Text Box 60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Oval 48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Oval 43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Oval 44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Oval 45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46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Oval 47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49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50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51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52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Freeform 55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56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Oval 60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Freeform 61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62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Oval 43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Oval 44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Oval 45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Line 46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Oval 47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Line 48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49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Text Box 50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Text Box 51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Freeform 54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Text Box 55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Oval 56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Freeform 57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Text Box 58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Oval 43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Oval 44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Oval 45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46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Oval 47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Line 48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Text Box 51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Freeform 54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55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Freeform 57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Text Box 58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Oval 43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Line 46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Oval 47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Line 48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Text Box 49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Freeform 54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Text Box 55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Text Box 2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Oval 3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Oval 4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Oval 5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Oval 6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Oval 7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Oval 8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Oval 9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Line 18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19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Freeform 20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Text Box 21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22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Text Box 23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Line 24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Text Box 25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Text Box 26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Text Box 27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Text Box 28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Text Box 29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Text Box 30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Freeform 31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Text Box 32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Text Box 33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Text Box 34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Freeform 35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Line 36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Text Box 37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Text Box 38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Text Box 39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AutoShape 40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Text Box 41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Text Box 42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Text Box 43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Oval 44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Oval 45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46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Line 47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Text Box 48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Freeform 49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Text Box 50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6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4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5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2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3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5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Matteo Zavatteri</cp:lastModifiedBy>
  <dcterms:modified xsi:type="dcterms:W3CDTF">2020-10-10T12:36:51Z</dcterms:modified>
  <cp:revision>14</cp:revision>
  <dc:subject/>
  <dc:title>  </dc:title>
</cp:coreProperties>
</file>