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63F-5453-4672-97A9-7F8F8B25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51C-C8C3-43F9-8E9E-CD85F07E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C8F-CB0A-4B26-B6E1-6E5F3C84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CDB-058E-477B-9F3C-E012252F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BD3-5CA2-47A1-B7CA-883A9EA8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F65-F9F8-426F-B4E5-FBDF4C95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0A1-3BE4-45CA-81DC-C2347E23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CC2-2794-413D-AA79-3105FEE4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BC6-B8F7-47D0-9860-FC5B8ECB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023-A414-440F-975E-6620AAD2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44A-4927-49B7-9DA7-DD50F26B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F88-3813-48CE-AF59-89E61B7C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67D5-0527-4B27-98BC-C6ED62520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January 26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9072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zedSound : 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puter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creteTime,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uantizedSound (x) =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nc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ampledSound (x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, maxint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322596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38862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124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I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048120" y="3962160"/>
            <a:ext cx="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20040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352680" y="3733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505320" y="4038480"/>
            <a:ext cx="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657600" y="40381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809880" y="40381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962520" y="4038480"/>
            <a:ext cx="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114800" y="40384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67080" y="40381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19720" y="40381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2428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572000" y="38858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876920" y="38858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4724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200400" y="3657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5268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505320" y="3962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657600" y="4267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4419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3657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4267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ComputerInts = {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s | -maxi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xint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144792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Real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,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{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s |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3429000"/>
            <a:ext cx="8229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nc :  In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puterIn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Computer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puterI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      if  -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nc (x,y)  =        y       if  x &gt;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y      if  x &lt; -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4419720"/>
            <a:ext cx="53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ymbol"/>
                <a:ea typeface="Symbol"/>
              </a:rPr>
              <a:t>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14479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 max x  =  y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,  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342900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s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puterI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-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runc (x,y) = x 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x &gt; y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runc (x,y) = y 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x &lt; -y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runc (x,y) = -y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8080" y="2362320"/>
            <a:ext cx="8001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nd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alog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zedSound :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nts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gital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838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deo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1905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ie : 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3297240"/>
            <a:ext cx="7315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alo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mes = [ DiscreteVertical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Horizontal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Intensit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git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mes = [ DiscreteVertical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DiscreteHorizontal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DiscreteIntensit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2438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typical frequency = 30 Hz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9144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et of paper :  VerticalSpace     = [ 0, 1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izontalSpace = [ 0, 8.5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23623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V :  DiscreteVerticalSpace = { 1, 2, … , 525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4876920"/>
            <a:ext cx="66294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Intensity = Computer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rIntensity       = Intensity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335268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CD :  DiscreteVerticalSpace     = { 1, 2, … , 1024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HorizontalSpace = { 1, 2, … , 128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838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657600"/>
            <a:ext cx="7924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mes 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Vertical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rizontal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ensity ] 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Vertical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Horizontal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ensity ]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190512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ll sets A, B, 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 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B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C ]   =   [ 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[ B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 ] ]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838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3657600"/>
            <a:ext cx="8534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i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V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H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ensity ]]]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ensit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190512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ll sets A, B, 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 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B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C ]   =   [ 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[ B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 ] ]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81080" y="609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Sig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144792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ition : 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1968480"/>
            <a:ext cx="4800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=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=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c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ce       =  In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t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ce    =  Real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981080" y="609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Sig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1447920"/>
            <a:ext cx="769608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ition : 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locity : 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rivative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42670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rivativeSpace   =  Spac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1968480"/>
            <a:ext cx="4800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=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=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c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ce       =  In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t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ce    =  Real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43200" y="762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77240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x,  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 f,   {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main (f) | x = f(x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 well-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,   n = 2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 n, n+1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1, 2, 3 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Na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],   f(x) = x </a:t>
            </a:r>
            <a:r>
              <a:rPr b="0" lang="en-US" sz="2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re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981080" y="609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Sig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1447920"/>
            <a:ext cx="7696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ition : 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locity : 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rivative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itionVelocity: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pa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rivative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5486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ime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positionVelocity (x)  =  ( position (x) , velocity (x)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42670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rivativeSpace   =  Spac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1968480"/>
            <a:ext cx="4800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=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=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c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ce       =  In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t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ce    =  Real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6880" y="251460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Syste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Signa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838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dio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905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nd :  Continuous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ir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459756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971800" y="284436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3276720"/>
            <a:ext cx="2819520" cy="736560"/>
          </a:xfrm>
          <a:custGeom>
            <a:avLst/>
            <a:gdLst/>
            <a:ahLst/>
            <a:rect l="l" t="t" r="r" b="b"/>
            <a:pathLst>
              <a:path w="1776" h="464">
                <a:moveTo>
                  <a:pt x="0" y="208"/>
                </a:moveTo>
                <a:cubicBezTo>
                  <a:pt x="16" y="184"/>
                  <a:pt x="32" y="160"/>
                  <a:pt x="48" y="160"/>
                </a:cubicBezTo>
                <a:cubicBezTo>
                  <a:pt x="64" y="160"/>
                  <a:pt x="80" y="216"/>
                  <a:pt x="96" y="208"/>
                </a:cubicBezTo>
                <a:cubicBezTo>
                  <a:pt x="112" y="200"/>
                  <a:pt x="128" y="96"/>
                  <a:pt x="144" y="112"/>
                </a:cubicBezTo>
                <a:cubicBezTo>
                  <a:pt x="160" y="128"/>
                  <a:pt x="176" y="320"/>
                  <a:pt x="192" y="304"/>
                </a:cubicBezTo>
                <a:cubicBezTo>
                  <a:pt x="208" y="288"/>
                  <a:pt x="224" y="8"/>
                  <a:pt x="240" y="16"/>
                </a:cubicBezTo>
                <a:cubicBezTo>
                  <a:pt x="256" y="24"/>
                  <a:pt x="272" y="336"/>
                  <a:pt x="288" y="352"/>
                </a:cubicBezTo>
                <a:cubicBezTo>
                  <a:pt x="304" y="368"/>
                  <a:pt x="320" y="128"/>
                  <a:pt x="336" y="112"/>
                </a:cubicBezTo>
                <a:cubicBezTo>
                  <a:pt x="352" y="96"/>
                  <a:pt x="368" y="248"/>
                  <a:pt x="384" y="256"/>
                </a:cubicBezTo>
                <a:cubicBezTo>
                  <a:pt x="400" y="264"/>
                  <a:pt x="416" y="160"/>
                  <a:pt x="432" y="160"/>
                </a:cubicBezTo>
                <a:cubicBezTo>
                  <a:pt x="448" y="160"/>
                  <a:pt x="464" y="248"/>
                  <a:pt x="480" y="256"/>
                </a:cubicBezTo>
                <a:cubicBezTo>
                  <a:pt x="496" y="264"/>
                  <a:pt x="512" y="208"/>
                  <a:pt x="528" y="208"/>
                </a:cubicBezTo>
                <a:cubicBezTo>
                  <a:pt x="544" y="208"/>
                  <a:pt x="560" y="256"/>
                  <a:pt x="576" y="256"/>
                </a:cubicBezTo>
                <a:cubicBezTo>
                  <a:pt x="592" y="256"/>
                  <a:pt x="608" y="200"/>
                  <a:pt x="624" y="208"/>
                </a:cubicBezTo>
                <a:cubicBezTo>
                  <a:pt x="640" y="216"/>
                  <a:pt x="656" y="312"/>
                  <a:pt x="672" y="304"/>
                </a:cubicBezTo>
                <a:cubicBezTo>
                  <a:pt x="688" y="296"/>
                  <a:pt x="704" y="152"/>
                  <a:pt x="720" y="160"/>
                </a:cubicBezTo>
                <a:cubicBezTo>
                  <a:pt x="736" y="168"/>
                  <a:pt x="752" y="360"/>
                  <a:pt x="768" y="352"/>
                </a:cubicBezTo>
                <a:cubicBezTo>
                  <a:pt x="784" y="344"/>
                  <a:pt x="800" y="112"/>
                  <a:pt x="816" y="112"/>
                </a:cubicBezTo>
                <a:cubicBezTo>
                  <a:pt x="832" y="112"/>
                  <a:pt x="848" y="368"/>
                  <a:pt x="864" y="352"/>
                </a:cubicBezTo>
                <a:cubicBezTo>
                  <a:pt x="880" y="336"/>
                  <a:pt x="896" y="0"/>
                  <a:pt x="912" y="16"/>
                </a:cubicBezTo>
                <a:cubicBezTo>
                  <a:pt x="928" y="32"/>
                  <a:pt x="944" y="432"/>
                  <a:pt x="960" y="448"/>
                </a:cubicBezTo>
                <a:cubicBezTo>
                  <a:pt x="976" y="464"/>
                  <a:pt x="984" y="144"/>
                  <a:pt x="1008" y="112"/>
                </a:cubicBezTo>
                <a:cubicBezTo>
                  <a:pt x="1032" y="80"/>
                  <a:pt x="1080" y="224"/>
                  <a:pt x="1104" y="256"/>
                </a:cubicBezTo>
                <a:cubicBezTo>
                  <a:pt x="1128" y="288"/>
                  <a:pt x="1128" y="312"/>
                  <a:pt x="1152" y="304"/>
                </a:cubicBezTo>
                <a:cubicBezTo>
                  <a:pt x="1176" y="296"/>
                  <a:pt x="1208" y="216"/>
                  <a:pt x="1248" y="208"/>
                </a:cubicBezTo>
                <a:cubicBezTo>
                  <a:pt x="1288" y="200"/>
                  <a:pt x="1304" y="248"/>
                  <a:pt x="1392" y="256"/>
                </a:cubicBezTo>
                <a:cubicBezTo>
                  <a:pt x="1480" y="264"/>
                  <a:pt x="1712" y="256"/>
                  <a:pt x="1776" y="25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444492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2971800"/>
            <a:ext cx="137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257800"/>
            <a:ext cx="8001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ContinuousTime =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 {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Reals | 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0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AirPressure =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90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izedSound :  Continuous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rmalized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971800" y="322596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3657600"/>
            <a:ext cx="2819520" cy="736560"/>
          </a:xfrm>
          <a:custGeom>
            <a:avLst/>
            <a:gdLst/>
            <a:ahLst/>
            <a:rect l="l" t="t" r="r" b="b"/>
            <a:pathLst>
              <a:path w="1776" h="464">
                <a:moveTo>
                  <a:pt x="0" y="208"/>
                </a:moveTo>
                <a:cubicBezTo>
                  <a:pt x="16" y="184"/>
                  <a:pt x="32" y="160"/>
                  <a:pt x="48" y="160"/>
                </a:cubicBezTo>
                <a:cubicBezTo>
                  <a:pt x="64" y="160"/>
                  <a:pt x="80" y="216"/>
                  <a:pt x="96" y="208"/>
                </a:cubicBezTo>
                <a:cubicBezTo>
                  <a:pt x="112" y="200"/>
                  <a:pt x="128" y="96"/>
                  <a:pt x="144" y="112"/>
                </a:cubicBezTo>
                <a:cubicBezTo>
                  <a:pt x="160" y="128"/>
                  <a:pt x="176" y="320"/>
                  <a:pt x="192" y="304"/>
                </a:cubicBezTo>
                <a:cubicBezTo>
                  <a:pt x="208" y="288"/>
                  <a:pt x="224" y="8"/>
                  <a:pt x="240" y="16"/>
                </a:cubicBezTo>
                <a:cubicBezTo>
                  <a:pt x="256" y="24"/>
                  <a:pt x="272" y="336"/>
                  <a:pt x="288" y="352"/>
                </a:cubicBezTo>
                <a:cubicBezTo>
                  <a:pt x="304" y="368"/>
                  <a:pt x="320" y="128"/>
                  <a:pt x="336" y="112"/>
                </a:cubicBezTo>
                <a:cubicBezTo>
                  <a:pt x="352" y="96"/>
                  <a:pt x="368" y="248"/>
                  <a:pt x="384" y="256"/>
                </a:cubicBezTo>
                <a:cubicBezTo>
                  <a:pt x="400" y="264"/>
                  <a:pt x="416" y="160"/>
                  <a:pt x="432" y="160"/>
                </a:cubicBezTo>
                <a:cubicBezTo>
                  <a:pt x="448" y="160"/>
                  <a:pt x="464" y="248"/>
                  <a:pt x="480" y="256"/>
                </a:cubicBezTo>
                <a:cubicBezTo>
                  <a:pt x="496" y="264"/>
                  <a:pt x="512" y="208"/>
                  <a:pt x="528" y="208"/>
                </a:cubicBezTo>
                <a:cubicBezTo>
                  <a:pt x="544" y="208"/>
                  <a:pt x="560" y="256"/>
                  <a:pt x="576" y="256"/>
                </a:cubicBezTo>
                <a:cubicBezTo>
                  <a:pt x="592" y="256"/>
                  <a:pt x="608" y="200"/>
                  <a:pt x="624" y="208"/>
                </a:cubicBezTo>
                <a:cubicBezTo>
                  <a:pt x="640" y="216"/>
                  <a:pt x="656" y="312"/>
                  <a:pt x="672" y="304"/>
                </a:cubicBezTo>
                <a:cubicBezTo>
                  <a:pt x="688" y="296"/>
                  <a:pt x="704" y="152"/>
                  <a:pt x="720" y="160"/>
                </a:cubicBezTo>
                <a:cubicBezTo>
                  <a:pt x="736" y="168"/>
                  <a:pt x="752" y="360"/>
                  <a:pt x="768" y="352"/>
                </a:cubicBezTo>
                <a:cubicBezTo>
                  <a:pt x="784" y="344"/>
                  <a:pt x="800" y="112"/>
                  <a:pt x="816" y="112"/>
                </a:cubicBezTo>
                <a:cubicBezTo>
                  <a:pt x="832" y="112"/>
                  <a:pt x="848" y="368"/>
                  <a:pt x="864" y="352"/>
                </a:cubicBezTo>
                <a:cubicBezTo>
                  <a:pt x="880" y="336"/>
                  <a:pt x="896" y="0"/>
                  <a:pt x="912" y="16"/>
                </a:cubicBezTo>
                <a:cubicBezTo>
                  <a:pt x="928" y="32"/>
                  <a:pt x="944" y="432"/>
                  <a:pt x="960" y="448"/>
                </a:cubicBezTo>
                <a:cubicBezTo>
                  <a:pt x="976" y="464"/>
                  <a:pt x="984" y="144"/>
                  <a:pt x="1008" y="112"/>
                </a:cubicBezTo>
                <a:cubicBezTo>
                  <a:pt x="1032" y="80"/>
                  <a:pt x="1080" y="224"/>
                  <a:pt x="1104" y="256"/>
                </a:cubicBezTo>
                <a:cubicBezTo>
                  <a:pt x="1128" y="288"/>
                  <a:pt x="1128" y="312"/>
                  <a:pt x="1152" y="304"/>
                </a:cubicBezTo>
                <a:cubicBezTo>
                  <a:pt x="1176" y="296"/>
                  <a:pt x="1208" y="216"/>
                  <a:pt x="1248" y="208"/>
                </a:cubicBezTo>
                <a:cubicBezTo>
                  <a:pt x="1288" y="200"/>
                  <a:pt x="1304" y="248"/>
                  <a:pt x="1392" y="256"/>
                </a:cubicBezTo>
                <a:cubicBezTo>
                  <a:pt x="1480" y="264"/>
                  <a:pt x="1712" y="256"/>
                  <a:pt x="1776" y="25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38862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56386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NormalizedPressure = Real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99072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izedSound :  Continuous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rmalized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ntinuousTime,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rmalizedSound (x)  =  sound (x) – ambientAirPressur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971800" y="322596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3657600"/>
            <a:ext cx="2819520" cy="736560"/>
          </a:xfrm>
          <a:custGeom>
            <a:avLst/>
            <a:gdLst/>
            <a:ahLst/>
            <a:rect l="l" t="t" r="r" b="b"/>
            <a:pathLst>
              <a:path w="1776" h="464">
                <a:moveTo>
                  <a:pt x="0" y="208"/>
                </a:moveTo>
                <a:cubicBezTo>
                  <a:pt x="16" y="184"/>
                  <a:pt x="32" y="160"/>
                  <a:pt x="48" y="160"/>
                </a:cubicBezTo>
                <a:cubicBezTo>
                  <a:pt x="64" y="160"/>
                  <a:pt x="80" y="216"/>
                  <a:pt x="96" y="208"/>
                </a:cubicBezTo>
                <a:cubicBezTo>
                  <a:pt x="112" y="200"/>
                  <a:pt x="128" y="96"/>
                  <a:pt x="144" y="112"/>
                </a:cubicBezTo>
                <a:cubicBezTo>
                  <a:pt x="160" y="128"/>
                  <a:pt x="176" y="320"/>
                  <a:pt x="192" y="304"/>
                </a:cubicBezTo>
                <a:cubicBezTo>
                  <a:pt x="208" y="288"/>
                  <a:pt x="224" y="8"/>
                  <a:pt x="240" y="16"/>
                </a:cubicBezTo>
                <a:cubicBezTo>
                  <a:pt x="256" y="24"/>
                  <a:pt x="272" y="336"/>
                  <a:pt x="288" y="352"/>
                </a:cubicBezTo>
                <a:cubicBezTo>
                  <a:pt x="304" y="368"/>
                  <a:pt x="320" y="128"/>
                  <a:pt x="336" y="112"/>
                </a:cubicBezTo>
                <a:cubicBezTo>
                  <a:pt x="352" y="96"/>
                  <a:pt x="368" y="248"/>
                  <a:pt x="384" y="256"/>
                </a:cubicBezTo>
                <a:cubicBezTo>
                  <a:pt x="400" y="264"/>
                  <a:pt x="416" y="160"/>
                  <a:pt x="432" y="160"/>
                </a:cubicBezTo>
                <a:cubicBezTo>
                  <a:pt x="448" y="160"/>
                  <a:pt x="464" y="248"/>
                  <a:pt x="480" y="256"/>
                </a:cubicBezTo>
                <a:cubicBezTo>
                  <a:pt x="496" y="264"/>
                  <a:pt x="512" y="208"/>
                  <a:pt x="528" y="208"/>
                </a:cubicBezTo>
                <a:cubicBezTo>
                  <a:pt x="544" y="208"/>
                  <a:pt x="560" y="256"/>
                  <a:pt x="576" y="256"/>
                </a:cubicBezTo>
                <a:cubicBezTo>
                  <a:pt x="592" y="256"/>
                  <a:pt x="608" y="200"/>
                  <a:pt x="624" y="208"/>
                </a:cubicBezTo>
                <a:cubicBezTo>
                  <a:pt x="640" y="216"/>
                  <a:pt x="656" y="312"/>
                  <a:pt x="672" y="304"/>
                </a:cubicBezTo>
                <a:cubicBezTo>
                  <a:pt x="688" y="296"/>
                  <a:pt x="704" y="152"/>
                  <a:pt x="720" y="160"/>
                </a:cubicBezTo>
                <a:cubicBezTo>
                  <a:pt x="736" y="168"/>
                  <a:pt x="752" y="360"/>
                  <a:pt x="768" y="352"/>
                </a:cubicBezTo>
                <a:cubicBezTo>
                  <a:pt x="784" y="344"/>
                  <a:pt x="800" y="112"/>
                  <a:pt x="816" y="112"/>
                </a:cubicBezTo>
                <a:cubicBezTo>
                  <a:pt x="832" y="112"/>
                  <a:pt x="848" y="368"/>
                  <a:pt x="864" y="352"/>
                </a:cubicBezTo>
                <a:cubicBezTo>
                  <a:pt x="880" y="336"/>
                  <a:pt x="896" y="0"/>
                  <a:pt x="912" y="16"/>
                </a:cubicBezTo>
                <a:cubicBezTo>
                  <a:pt x="928" y="32"/>
                  <a:pt x="944" y="432"/>
                  <a:pt x="960" y="448"/>
                </a:cubicBezTo>
                <a:cubicBezTo>
                  <a:pt x="976" y="464"/>
                  <a:pt x="984" y="144"/>
                  <a:pt x="1008" y="112"/>
                </a:cubicBezTo>
                <a:cubicBezTo>
                  <a:pt x="1032" y="80"/>
                  <a:pt x="1080" y="224"/>
                  <a:pt x="1104" y="256"/>
                </a:cubicBezTo>
                <a:cubicBezTo>
                  <a:pt x="1128" y="288"/>
                  <a:pt x="1128" y="312"/>
                  <a:pt x="1152" y="304"/>
                </a:cubicBezTo>
                <a:cubicBezTo>
                  <a:pt x="1176" y="296"/>
                  <a:pt x="1208" y="216"/>
                  <a:pt x="1248" y="208"/>
                </a:cubicBezTo>
                <a:cubicBezTo>
                  <a:pt x="1288" y="200"/>
                  <a:pt x="1304" y="248"/>
                  <a:pt x="1392" y="256"/>
                </a:cubicBezTo>
                <a:cubicBezTo>
                  <a:pt x="1480" y="264"/>
                  <a:pt x="1712" y="256"/>
                  <a:pt x="1776" y="25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38862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56386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NormalizedPressure = Real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990720"/>
            <a:ext cx="9144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pledSound : 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rmalized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mplingPeriod (sec)  =  1 / samplingFrequency (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971800" y="322596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38862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33412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DiscreteTime =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048120" y="3962160"/>
            <a:ext cx="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20040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352680" y="3733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505320" y="4038480"/>
            <a:ext cx="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657600" y="40381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809880" y="40381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962520" y="4038480"/>
            <a:ext cx="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14800" y="40384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267080" y="40381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19720" y="40381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72428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572000" y="38858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876920" y="38858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971800" y="322596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38862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533412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DiscreteTime =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48120" y="3962160"/>
            <a:ext cx="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0040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352680" y="3733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505320" y="4038480"/>
            <a:ext cx="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657600" y="40381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809880" y="40381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962520" y="4038480"/>
            <a:ext cx="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114800" y="40384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67080" y="40381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419720" y="40381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2428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572000" y="38858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876920" y="38858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99072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pledSound : 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rmalized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creteTime,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mpledSound (x)  =  normalizedSound ( samplingPeriod · x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146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990720"/>
            <a:ext cx="91440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zedSound : 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puter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xint  =  2</a:t>
            </a:r>
            <a:r>
              <a:rPr b="0" lang="en-US" sz="2400" spc="-1" strike="noStrike" baseline="50000">
                <a:solidFill>
                  <a:srgbClr val="ff0000"/>
                </a:solidFill>
                <a:latin typeface="Comic Sans MS"/>
              </a:rPr>
              <a:t> wordsize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4038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971800" y="322596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8862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3124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I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ComputerInts = {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s | -maxi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xint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048120" y="3962160"/>
            <a:ext cx="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20040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352680" y="3733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05320" y="4038480"/>
            <a:ext cx="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657600" y="40381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809880" y="40381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962520" y="4038480"/>
            <a:ext cx="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114800" y="40384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267080" y="40381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419720" y="40381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72428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572000" y="38858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876920" y="38858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4724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0400" y="3657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35268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505320" y="3962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57600" y="4267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4419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657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4267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5:18:01Z</dcterms:created>
  <dc:creator>tah</dc:creator>
  <dc:description/>
  <dc:language>en-US</dc:language>
  <cp:lastModifiedBy>Tom Henzinger</cp:lastModifiedBy>
  <dcterms:modified xsi:type="dcterms:W3CDTF">2001-02-07T00:28:26Z</dcterms:modified>
  <cp:revision>15</cp:revision>
  <dc:subject/>
  <dc:title>PowerPoint Presentation</dc:title>
</cp:coreProperties>
</file>