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6A8-15FA-4114-82F9-0EE4161E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184-DABC-4284-9B76-DCD5DCF0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526-F8C6-4180-9128-A0FBEFAC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A75-820F-4914-ADD9-03D69A4E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43A-BF5D-42C0-8B53-20FEB866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386-88F5-4F83-BDBB-67421F0B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2EF-C37B-4835-AF4A-A4DA66BB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830-6699-4B6A-9F16-1C7F33F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E61-1D3F-451F-84D0-FABF6CD3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885-A3CE-45DA-954D-E6FB93F5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B3F-D75B-4698-8D8A-68DF6965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C59-A455-4E73-9A60-C458442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D01E-A64C-4082-8950-66B48B6F1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7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4"/>
          <p:cNvSpPr/>
          <p:nvPr/>
        </p:nvSpPr>
        <p:spPr>
          <a:xfrm flipH="1">
            <a:off x="138240" y="639756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20968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crete-Time Reactiv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4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5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7200" y="56386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666880" y="1905120"/>
            <a:ext cx="38862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002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 Implemen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5"/>
          <p:cNvSpPr/>
          <p:nvPr/>
        </p:nvSpPr>
        <p:spPr>
          <a:xfrm>
            <a:off x="655308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29718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553080" y="297180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886200" y="251460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886200" y="411480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266688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Line 11"/>
          <p:cNvSpPr/>
          <p:nvPr/>
        </p:nvSpPr>
        <p:spPr>
          <a:xfrm flipV="1">
            <a:off x="312408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3124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3429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3429000" y="3276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533412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60199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53341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5715000" y="3276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53341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86200" y="4191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4038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5029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38862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5029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556272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441972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1295280" y="556272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32"/>
          <p:cNvSpPr/>
          <p:nvPr/>
        </p:nvSpPr>
        <p:spPr>
          <a:xfrm flipH="1">
            <a:off x="5334120" y="2133720"/>
            <a:ext cx="17524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7086600" y="1828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7162920" y="4191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stores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35"/>
          <p:cNvSpPr/>
          <p:nvPr/>
        </p:nvSpPr>
        <p:spPr>
          <a:xfrm flipH="1" flipV="1">
            <a:off x="5334120" y="4267080"/>
            <a:ext cx="182880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29528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 State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3623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( set of possible input values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( set of possible output values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( set of states 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981080" y="1981080"/>
            <a:ext cx="5639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block diagram of N state machines with the state space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1, States2, … States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a single state machine with the state spa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called a “product machine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67652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 of 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1600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 System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0720" y="4343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Sys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5812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57200" y="1219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Reactiv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ne or 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2120" y="3505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detSy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85800" y="4191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,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, 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ndetS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581280" y="2819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nary rel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6212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Every pair  (x,y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NondetSys  is called a behavi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47920" y="251460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 S1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 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181480" y="304920"/>
            <a:ext cx="3048120" cy="14724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1 is a more detailed description of S2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2 is an abstraction or property of S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Line 4"/>
          <p:cNvSpPr/>
          <p:nvPr/>
        </p:nvSpPr>
        <p:spPr>
          <a:xfrm flipH="1">
            <a:off x="4800240" y="1828800"/>
            <a:ext cx="6858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447920" y="152388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 S1  and  S2 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quival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=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7652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205740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InitialStat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Updat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P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) \ 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962520" y="56386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ptiveness (i.e., machine must be prepared to accept every inpu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7696080" y="510516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066680" y="1066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981080" y="2362320"/>
            <a:ext cx="5334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7242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7242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2193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05320" y="1371600"/>
            <a:ext cx="175248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4"/>
          <p:cNvSpPr/>
          <p:nvPr/>
        </p:nvSpPr>
        <p:spPr>
          <a:xfrm>
            <a:off x="2971800" y="1905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Line 5"/>
          <p:cNvSpPr/>
          <p:nvPr/>
        </p:nvSpPr>
        <p:spPr>
          <a:xfrm>
            <a:off x="5257800" y="1905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6212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7200" y="16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16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52480" y="26668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System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6668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505320" y="4343400"/>
            <a:ext cx="175248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2971800" y="4876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257800" y="4876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762120" y="4724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45720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56386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System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47920" y="609480"/>
            <a:ext cx="5486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re is only one successor st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371600" y="380988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machin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initial state,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state and ever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-output pa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only one successor st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33520" y="83808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f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equivalent to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09480" y="2362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f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09480" y="39625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M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mplie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105520" y="5562720"/>
            <a:ext cx="3429000" cy="825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dition on infinitely many behavi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6705720" y="4952880"/>
            <a:ext cx="0" cy="6098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838080" y="5562720"/>
            <a:ext cx="3048120" cy="825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lation between finitely many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10"/>
          <p:cNvSpPr/>
          <p:nvPr/>
        </p:nvSpPr>
        <p:spPr>
          <a:xfrm flipV="1">
            <a:off x="2286000" y="4952880"/>
            <a:ext cx="0" cy="6098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28600" y="304920"/>
            <a:ext cx="868680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M1 by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 ,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905120" y="1219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check if M1 refines M2,            check if M1 is simulated by det(M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752480" y="2514600"/>
            <a:ext cx="579132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refines  det(M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 is simulated by   det(M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5334120" y="4572000"/>
            <a:ext cx="15238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5"/>
          <p:cNvSpPr/>
          <p:nvPr/>
        </p:nvSpPr>
        <p:spPr>
          <a:xfrm flipH="1" flipV="1">
            <a:off x="6400440" y="541008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4864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533520" y="914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2 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, then a simulation S of M1 by M2 can be found as follow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143000" y="236232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If 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eInitialStates [M1]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InitialStates [M2]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 { q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(p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f  (p,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’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eUpdates [M1] (p,x)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Updates [M2] (q,x)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 { (q’,y)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(p’,q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905120" y="1295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38080" y="236232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(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that is equivalent to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86000" y="43434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[det(M)]   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[M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s [det(M)]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 [M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057400" y="838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set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2057400"/>
            <a:ext cx="967752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itialState [ det(M) 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ossibleInitialStates [M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 [ det(M) 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initialState [det(M)]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as long as new transitions can be added to det(M)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tates [det(M)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x,y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nputs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Outpu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{ q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States [M] |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,  (q,y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possibleUpdates [M] (p,x) 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es [det(M)] = States [det(M)]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{Q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pdate [det(M)] (P,x) = (Q,y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219320" y="1219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143000" y="251460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:      nondeterministic state machine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:   minimize (M), the state machine with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the fewest states that i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isimila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 result is unique up to renaming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sta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28600" y="304920"/>
            <a:ext cx="883908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M1 and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 ,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04920" y="152388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1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2] ,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InitialStates [M1],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2.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In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Outputs 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q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tates [M2] 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q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2] ( q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1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y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[M1] ( p, x ) 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p’, q’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65760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57200" y="2819520"/>
            <a:ext cx="82296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 ti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=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{ 0, 1, 2, …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 ti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=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|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066680" y="380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s M1 and M2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676520" y="9907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is equivalent to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simulates M2  and  M2 simulates 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and M2 are bisimil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26708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85800" y="4191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s M1 and M2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057400" y="4876920"/>
            <a:ext cx="5334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is equivalent to 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 and M2 are bisimil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2670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57200" y="2057400"/>
            <a:ext cx="8534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Let  Q  be set of all reachable states of 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aintain a set P of state se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 let  P = { Q }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until no longer possibl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When done, every state set in P represents a sing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the smallest state machine bisimilar to 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14300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iza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lit 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5800" y="1371600"/>
            <a:ext cx="8305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 ex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 sets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 and 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s  r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 and  r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nput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pu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output 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’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( r’, y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ossibleUpdates ( r1, x )  and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’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,  ( r’, y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ossibleUpdates ( r2, x )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1 = {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,  ( r’, y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sibleUpdates ( r, x )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2  =  R \ R1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P  =  ( P \ { R }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 R1, R2 }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62320" y="16002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04920" y="1219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1523880" y="21337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6705720" y="2133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36232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83808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83808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362320" y="21337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0492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2438280" y="41911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1600200" y="47242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9"/>
          <p:cNvSpPr/>
          <p:nvPr/>
        </p:nvSpPr>
        <p:spPr>
          <a:xfrm>
            <a:off x="6781680" y="47242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2438280" y="41911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838080" y="5486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7620120" y="3809880"/>
            <a:ext cx="0" cy="9144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362320" y="16002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04920" y="1219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523880" y="21337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705720" y="2133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36232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83808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83808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2362320" y="21337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30492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2438280" y="41911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1600200" y="47242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6781680" y="47242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2438280" y="41911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838080" y="5486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is guaranteed to enter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17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8"/>
          <p:cNvSpPr/>
          <p:nvPr/>
        </p:nvSpPr>
        <p:spPr>
          <a:xfrm flipV="1">
            <a:off x="7620120" y="3809880"/>
            <a:ext cx="0" cy="9144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8580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85800" y="243828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580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90720" y="2438280"/>
            <a:ext cx="7391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676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Exam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80880" y="1371600"/>
            <a:ext cx="830592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 Convert between the following system representa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.  Mathematical input-output defini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.  Transition diagram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.  Block dia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following algorithms on state machin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.  Product constru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. Subset constru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. Check for existence of a simula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4.  Minimiza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5.  Compute controllable st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omic Sans M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 the following concep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. Memory-free vs. finite-state vs. infinite-state          2. Equivalence/refinement vs. simulation vs. bisimulation 3. Safety vs. progress contr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447920" y="1143000"/>
            <a:ext cx="6476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transducive system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F (x) ) (y)  =  f ( x (y) 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90720" y="11430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s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,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      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  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x (t) = y (t) 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n   ( F (x) ) (z)  =  ( F (y) ) (z)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447920" y="11430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ela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90720" y="2438280"/>
            <a:ext cx="73152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495680" y="373392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if  y &lt;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(y-1)     if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956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447920" y="23623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delay over finite set of value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-time delay, or infinite set of val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057400" y="5335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lock 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43000" y="1371600"/>
            <a:ext cx="6019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components are transduciv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no cyc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90920" y="2590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.g., combination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981080" y="3733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lock 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66680" y="44956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components are memory-free or delay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very cycle contains at least one de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74320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.g., sequenti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828800" y="21337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reactive systems wi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 mem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naturally implemented 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state mach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3:05:13Z</dcterms:created>
  <dc:creator>Tom Henzinger</dc:creator>
  <dc:description/>
  <dc:language>en-US</dc:language>
  <cp:lastModifiedBy>Matteo Zavatteri</cp:lastModifiedBy>
  <dcterms:modified xsi:type="dcterms:W3CDTF">2020-10-10T12:08:01Z</dcterms:modified>
  <cp:revision>6</cp:revision>
  <dc:subject/>
  <dc:title>  </dc:title>
</cp:coreProperties>
</file>