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024-F478-4284-BCEB-9B5B637F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203-1CBA-4A52-9BC9-F7F8D6CF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689-90B9-4297-AC8D-2BBB8E5A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1B7-57B8-4BEA-A488-230BF8B8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52D-85DC-46F1-A22B-6C8783DB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1AA-F867-43E8-9329-2D82F5D0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2613-11CB-410E-99FA-1A78D988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BEA-F592-432E-8CEB-55A9A48D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996-0AF4-479E-86A8-7CBB8347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322C-61C5-4FFE-B1FF-CCA5D035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5B2-BAE4-462F-A279-D266403F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523-8119-4130-9548-7D87A649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7BE7-9D65-457D-BD64-AA0F3E2A2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1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14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in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0" y="2286000"/>
            <a:ext cx="1600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743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048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3048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2286000"/>
            <a:ext cx="1600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3048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251460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5146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3124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362320"/>
            <a:ext cx="655308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between time t-1 and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 &gt; 0 and output at time t-1 w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 &gt; 0 and output at time t-1 w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276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3429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25680" y="36576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392" y="0"/>
                </a:moveTo>
                <a:cubicBezTo>
                  <a:pt x="196" y="108"/>
                  <a:pt x="0" y="216"/>
                  <a:pt x="8" y="288"/>
                </a:cubicBezTo>
                <a:cubicBezTo>
                  <a:pt x="16" y="360"/>
                  <a:pt x="360" y="472"/>
                  <a:pt x="440" y="432"/>
                </a:cubicBezTo>
                <a:cubicBezTo>
                  <a:pt x="520" y="392"/>
                  <a:pt x="504" y="220"/>
                  <a:pt x="48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942880" y="36576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392" y="0"/>
                </a:moveTo>
                <a:cubicBezTo>
                  <a:pt x="196" y="108"/>
                  <a:pt x="0" y="216"/>
                  <a:pt x="8" y="288"/>
                </a:cubicBezTo>
                <a:cubicBezTo>
                  <a:pt x="16" y="360"/>
                  <a:pt x="360" y="472"/>
                  <a:pt x="440" y="432"/>
                </a:cubicBezTo>
                <a:cubicBezTo>
                  <a:pt x="520" y="392"/>
                  <a:pt x="504" y="220"/>
                  <a:pt x="48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3276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3429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25680" y="36576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392" y="0"/>
                </a:moveTo>
                <a:cubicBezTo>
                  <a:pt x="196" y="108"/>
                  <a:pt x="0" y="216"/>
                  <a:pt x="8" y="288"/>
                </a:cubicBezTo>
                <a:cubicBezTo>
                  <a:pt x="16" y="360"/>
                  <a:pt x="360" y="472"/>
                  <a:pt x="440" y="432"/>
                </a:cubicBezTo>
                <a:cubicBezTo>
                  <a:pt x="520" y="392"/>
                  <a:pt x="504" y="220"/>
                  <a:pt x="48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942880" y="36576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392" y="0"/>
                </a:moveTo>
                <a:cubicBezTo>
                  <a:pt x="196" y="108"/>
                  <a:pt x="0" y="216"/>
                  <a:pt x="8" y="288"/>
                </a:cubicBezTo>
                <a:cubicBezTo>
                  <a:pt x="16" y="360"/>
                  <a:pt x="360" y="472"/>
                  <a:pt x="440" y="432"/>
                </a:cubicBezTo>
                <a:cubicBezTo>
                  <a:pt x="520" y="392"/>
                  <a:pt x="504" y="220"/>
                  <a:pt x="48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251460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2362320"/>
            <a:ext cx="792468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between time t-1 and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 &gt; 0 and output at time t-1 was 0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r  t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 &gt; 0 and output at time t-1 w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0" y="1295280"/>
            <a:ext cx="160020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1752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057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1295280"/>
            <a:ext cx="160020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1752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20574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4191120"/>
            <a:ext cx="1600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4952880"/>
            <a:ext cx="12952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4952880"/>
            <a:ext cx="1295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33526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hould be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5943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state (memory-f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8006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47242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4952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8006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47242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4952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25909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48006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47242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4952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25909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17720" y="314964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48006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0080" y="47242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4952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25909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388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17720" y="314964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365760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066680"/>
            <a:ext cx="8001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quival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tween state machines M1 and M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every input sign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M1 and M2 produce the same output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tween M1 and M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itial states of M1 and M2 are related, and for all related states p of M1 and q of M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every input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p and q produce the same output value, and the next states are again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48006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47242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4952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25909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98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17720" y="314964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65760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35053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48006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47242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952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25909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6708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17720" y="314964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365760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35053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324480" y="487692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15200" y="4876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47242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62720" y="4952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5909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17720" y="314964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1932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365760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35053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324480" y="487692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15200" y="4876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57913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move unreachable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286000" y="1295280"/>
            <a:ext cx="160020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38280" y="1752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90720" y="2057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2057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81480" y="1295280"/>
            <a:ext cx="160020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4120" y="1752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81680" y="20574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4191120"/>
            <a:ext cx="1600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14600" y="4952880"/>
            <a:ext cx="12952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4952880"/>
            <a:ext cx="1295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3526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hould be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915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812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0040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2438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2057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2438280"/>
            <a:ext cx="1054080" cy="48276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952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2520" y="28195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62520" y="25146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172200" y="236232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62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41911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4572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105520" y="4343400"/>
            <a:ext cx="1054080" cy="48276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5880" y="4114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54864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5791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86400" y="5791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5638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956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590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43200" y="1219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28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76920" y="106668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292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14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00800" y="1371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5780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438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95480" y="2057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2438280"/>
            <a:ext cx="1054080" cy="48276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28195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62520" y="25146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172200" y="2362320"/>
            <a:ext cx="1054080" cy="48240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62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91120" y="41911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57600" y="4572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105520" y="4343400"/>
            <a:ext cx="1054080" cy="482760"/>
          </a:xfrm>
          <a:custGeom>
            <a:avLst/>
            <a:gdLst/>
            <a:ahLst/>
            <a:rect l="l" t="t" r="r" b="b"/>
            <a:pathLst>
              <a:path w="664" h="304">
                <a:moveTo>
                  <a:pt x="664" y="128"/>
                </a:moveTo>
                <a:cubicBezTo>
                  <a:pt x="660" y="112"/>
                  <a:pt x="656" y="96"/>
                  <a:pt x="568" y="80"/>
                </a:cubicBezTo>
                <a:cubicBezTo>
                  <a:pt x="480" y="64"/>
                  <a:pt x="216" y="0"/>
                  <a:pt x="136" y="32"/>
                </a:cubicBezTo>
                <a:cubicBezTo>
                  <a:pt x="56" y="64"/>
                  <a:pt x="0" y="240"/>
                  <a:pt x="88" y="272"/>
                </a:cubicBezTo>
                <a:cubicBezTo>
                  <a:pt x="176" y="304"/>
                  <a:pt x="420" y="264"/>
                  <a:pt x="66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5880" y="4114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5486400"/>
            <a:ext cx="1523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00400" y="5791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86400" y="5791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95680" y="5638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956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68760" y="1920960"/>
            <a:ext cx="3684600" cy="3395520"/>
          </a:xfrm>
          <a:custGeom>
            <a:avLst/>
            <a:gdLst/>
            <a:ahLst/>
            <a:rect l="l" t="t" r="r" b="b"/>
            <a:pathLst>
              <a:path w="2321" h="2139">
                <a:moveTo>
                  <a:pt x="319" y="68"/>
                </a:moveTo>
                <a:cubicBezTo>
                  <a:pt x="296" y="75"/>
                  <a:pt x="272" y="78"/>
                  <a:pt x="251" y="89"/>
                </a:cubicBezTo>
                <a:cubicBezTo>
                  <a:pt x="227" y="101"/>
                  <a:pt x="221" y="110"/>
                  <a:pt x="193" y="115"/>
                </a:cubicBezTo>
                <a:cubicBezTo>
                  <a:pt x="169" y="131"/>
                  <a:pt x="138" y="149"/>
                  <a:pt x="120" y="172"/>
                </a:cubicBezTo>
                <a:cubicBezTo>
                  <a:pt x="88" y="212"/>
                  <a:pt x="130" y="168"/>
                  <a:pt x="99" y="199"/>
                </a:cubicBezTo>
                <a:cubicBezTo>
                  <a:pt x="94" y="220"/>
                  <a:pt x="96" y="221"/>
                  <a:pt x="83" y="240"/>
                </a:cubicBezTo>
                <a:cubicBezTo>
                  <a:pt x="73" y="254"/>
                  <a:pt x="52" y="282"/>
                  <a:pt x="52" y="282"/>
                </a:cubicBezTo>
                <a:cubicBezTo>
                  <a:pt x="46" y="302"/>
                  <a:pt x="21" y="335"/>
                  <a:pt x="21" y="335"/>
                </a:cubicBezTo>
                <a:cubicBezTo>
                  <a:pt x="13" y="368"/>
                  <a:pt x="6" y="401"/>
                  <a:pt x="0" y="434"/>
                </a:cubicBezTo>
                <a:cubicBezTo>
                  <a:pt x="2" y="497"/>
                  <a:pt x="0" y="560"/>
                  <a:pt x="5" y="623"/>
                </a:cubicBezTo>
                <a:cubicBezTo>
                  <a:pt x="8" y="661"/>
                  <a:pt x="18" y="673"/>
                  <a:pt x="31" y="701"/>
                </a:cubicBezTo>
                <a:cubicBezTo>
                  <a:pt x="40" y="722"/>
                  <a:pt x="46" y="749"/>
                  <a:pt x="57" y="769"/>
                </a:cubicBezTo>
                <a:cubicBezTo>
                  <a:pt x="91" y="831"/>
                  <a:pt x="144" y="883"/>
                  <a:pt x="188" y="937"/>
                </a:cubicBezTo>
                <a:cubicBezTo>
                  <a:pt x="225" y="983"/>
                  <a:pt x="258" y="1067"/>
                  <a:pt x="303" y="1099"/>
                </a:cubicBezTo>
                <a:cubicBezTo>
                  <a:pt x="311" y="1128"/>
                  <a:pt x="338" y="1147"/>
                  <a:pt x="356" y="1173"/>
                </a:cubicBezTo>
                <a:cubicBezTo>
                  <a:pt x="388" y="1219"/>
                  <a:pt x="411" y="1269"/>
                  <a:pt x="455" y="1303"/>
                </a:cubicBezTo>
                <a:cubicBezTo>
                  <a:pt x="472" y="1349"/>
                  <a:pt x="493" y="1374"/>
                  <a:pt x="529" y="1403"/>
                </a:cubicBezTo>
                <a:cubicBezTo>
                  <a:pt x="554" y="1465"/>
                  <a:pt x="534" y="1430"/>
                  <a:pt x="602" y="1497"/>
                </a:cubicBezTo>
                <a:cubicBezTo>
                  <a:pt x="609" y="1504"/>
                  <a:pt x="623" y="1518"/>
                  <a:pt x="623" y="1518"/>
                </a:cubicBezTo>
                <a:cubicBezTo>
                  <a:pt x="635" y="1570"/>
                  <a:pt x="662" y="1585"/>
                  <a:pt x="691" y="1623"/>
                </a:cubicBezTo>
                <a:cubicBezTo>
                  <a:pt x="702" y="1658"/>
                  <a:pt x="687" y="1618"/>
                  <a:pt x="717" y="1665"/>
                </a:cubicBezTo>
                <a:cubicBezTo>
                  <a:pt x="743" y="1706"/>
                  <a:pt x="770" y="1764"/>
                  <a:pt x="785" y="1811"/>
                </a:cubicBezTo>
                <a:cubicBezTo>
                  <a:pt x="796" y="1845"/>
                  <a:pt x="791" y="1885"/>
                  <a:pt x="822" y="1906"/>
                </a:cubicBezTo>
                <a:cubicBezTo>
                  <a:pt x="825" y="1923"/>
                  <a:pt x="852" y="1968"/>
                  <a:pt x="864" y="1979"/>
                </a:cubicBezTo>
                <a:cubicBezTo>
                  <a:pt x="876" y="1991"/>
                  <a:pt x="894" y="1994"/>
                  <a:pt x="906" y="2005"/>
                </a:cubicBezTo>
                <a:cubicBezTo>
                  <a:pt x="957" y="2049"/>
                  <a:pt x="978" y="2101"/>
                  <a:pt x="1047" y="2110"/>
                </a:cubicBezTo>
                <a:cubicBezTo>
                  <a:pt x="1136" y="2139"/>
                  <a:pt x="1065" y="2132"/>
                  <a:pt x="1230" y="2126"/>
                </a:cubicBezTo>
                <a:cubicBezTo>
                  <a:pt x="1251" y="2121"/>
                  <a:pt x="1274" y="2120"/>
                  <a:pt x="1293" y="2110"/>
                </a:cubicBezTo>
                <a:cubicBezTo>
                  <a:pt x="1322" y="2096"/>
                  <a:pt x="1350" y="2076"/>
                  <a:pt x="1382" y="2068"/>
                </a:cubicBezTo>
                <a:cubicBezTo>
                  <a:pt x="1401" y="2055"/>
                  <a:pt x="1421" y="2044"/>
                  <a:pt x="1440" y="2031"/>
                </a:cubicBezTo>
                <a:cubicBezTo>
                  <a:pt x="1455" y="2009"/>
                  <a:pt x="1471" y="2005"/>
                  <a:pt x="1492" y="1989"/>
                </a:cubicBezTo>
                <a:cubicBezTo>
                  <a:pt x="1520" y="1969"/>
                  <a:pt x="1541" y="1941"/>
                  <a:pt x="1565" y="1916"/>
                </a:cubicBezTo>
                <a:cubicBezTo>
                  <a:pt x="1583" y="1898"/>
                  <a:pt x="1611" y="1893"/>
                  <a:pt x="1633" y="1879"/>
                </a:cubicBezTo>
                <a:cubicBezTo>
                  <a:pt x="1638" y="1872"/>
                  <a:pt x="1642" y="1864"/>
                  <a:pt x="1649" y="1859"/>
                </a:cubicBezTo>
                <a:cubicBezTo>
                  <a:pt x="1653" y="1855"/>
                  <a:pt x="1661" y="1857"/>
                  <a:pt x="1665" y="1853"/>
                </a:cubicBezTo>
                <a:cubicBezTo>
                  <a:pt x="1675" y="1843"/>
                  <a:pt x="1678" y="1828"/>
                  <a:pt x="1686" y="1817"/>
                </a:cubicBezTo>
                <a:cubicBezTo>
                  <a:pt x="1693" y="1794"/>
                  <a:pt x="1712" y="1749"/>
                  <a:pt x="1712" y="1749"/>
                </a:cubicBezTo>
                <a:cubicBezTo>
                  <a:pt x="1721" y="1700"/>
                  <a:pt x="1745" y="1658"/>
                  <a:pt x="1764" y="1612"/>
                </a:cubicBezTo>
                <a:cubicBezTo>
                  <a:pt x="1769" y="1600"/>
                  <a:pt x="1770" y="1587"/>
                  <a:pt x="1775" y="1576"/>
                </a:cubicBezTo>
                <a:cubicBezTo>
                  <a:pt x="1782" y="1561"/>
                  <a:pt x="1801" y="1534"/>
                  <a:pt x="1801" y="1534"/>
                </a:cubicBezTo>
                <a:cubicBezTo>
                  <a:pt x="1807" y="1493"/>
                  <a:pt x="1822" y="1452"/>
                  <a:pt x="1838" y="1413"/>
                </a:cubicBezTo>
                <a:cubicBezTo>
                  <a:pt x="1850" y="1350"/>
                  <a:pt x="1831" y="1427"/>
                  <a:pt x="1864" y="1361"/>
                </a:cubicBezTo>
                <a:cubicBezTo>
                  <a:pt x="1898" y="1292"/>
                  <a:pt x="1920" y="1206"/>
                  <a:pt x="1984" y="1157"/>
                </a:cubicBezTo>
                <a:cubicBezTo>
                  <a:pt x="1996" y="1086"/>
                  <a:pt x="1977" y="1152"/>
                  <a:pt x="2021" y="1089"/>
                </a:cubicBezTo>
                <a:cubicBezTo>
                  <a:pt x="2029" y="1078"/>
                  <a:pt x="2029" y="1063"/>
                  <a:pt x="2037" y="1052"/>
                </a:cubicBezTo>
                <a:cubicBezTo>
                  <a:pt x="2045" y="1041"/>
                  <a:pt x="2059" y="1036"/>
                  <a:pt x="2068" y="1026"/>
                </a:cubicBezTo>
                <a:cubicBezTo>
                  <a:pt x="2092" y="1000"/>
                  <a:pt x="2100" y="961"/>
                  <a:pt x="2120" y="932"/>
                </a:cubicBezTo>
                <a:cubicBezTo>
                  <a:pt x="2138" y="905"/>
                  <a:pt x="2159" y="880"/>
                  <a:pt x="2178" y="853"/>
                </a:cubicBezTo>
                <a:cubicBezTo>
                  <a:pt x="2195" y="829"/>
                  <a:pt x="2202" y="803"/>
                  <a:pt x="2220" y="780"/>
                </a:cubicBezTo>
                <a:cubicBezTo>
                  <a:pt x="2229" y="750"/>
                  <a:pt x="2249" y="724"/>
                  <a:pt x="2262" y="696"/>
                </a:cubicBezTo>
                <a:cubicBezTo>
                  <a:pt x="2271" y="677"/>
                  <a:pt x="2275" y="657"/>
                  <a:pt x="2283" y="638"/>
                </a:cubicBezTo>
                <a:cubicBezTo>
                  <a:pt x="2288" y="598"/>
                  <a:pt x="2296" y="561"/>
                  <a:pt x="2309" y="523"/>
                </a:cubicBezTo>
                <a:cubicBezTo>
                  <a:pt x="2315" y="426"/>
                  <a:pt x="2321" y="380"/>
                  <a:pt x="2309" y="267"/>
                </a:cubicBezTo>
                <a:cubicBezTo>
                  <a:pt x="2306" y="240"/>
                  <a:pt x="2272" y="208"/>
                  <a:pt x="2257" y="188"/>
                </a:cubicBezTo>
                <a:cubicBezTo>
                  <a:pt x="2223" y="145"/>
                  <a:pt x="2154" y="86"/>
                  <a:pt x="2099" y="73"/>
                </a:cubicBezTo>
                <a:cubicBezTo>
                  <a:pt x="2010" y="8"/>
                  <a:pt x="1888" y="9"/>
                  <a:pt x="1780" y="0"/>
                </a:cubicBezTo>
                <a:cubicBezTo>
                  <a:pt x="1558" y="7"/>
                  <a:pt x="1341" y="52"/>
                  <a:pt x="1120" y="62"/>
                </a:cubicBezTo>
                <a:cubicBezTo>
                  <a:pt x="899" y="72"/>
                  <a:pt x="489" y="68"/>
                  <a:pt x="319" y="68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280" y="4343400"/>
            <a:ext cx="3429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 = { ( (0,a), q ), ( (1,b), q 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905120" y="1219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43000" y="251460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:      state machine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:   minimize (M)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machine with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the fewest states that is bisimilar to 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he result is unique up to renaming o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533520" y="1828800"/>
            <a:ext cx="8610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minimize (M) = N 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M and N are bisimilar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.e., there is a bisimulation between M and N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For every state machine N’ that is bisimilar to 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a.  N’ has at least as many states as 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b.  If N’ has the same number of states as N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then N’ and N differ only in the names of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66680" y="2133720"/>
            <a:ext cx="701064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16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2133720"/>
            <a:ext cx="701064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09680" y="48006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3200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6232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38862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276720" y="396216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6857640" y="29718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6705360" y="3962520"/>
            <a:ext cx="5331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800600" y="518148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257800" y="25909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2819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2743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88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2880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920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3432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3432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7400" y="1600200"/>
            <a:ext cx="51814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wo state machines M1 and M2 are equivalen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re is a bisimulation between M1 and M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733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we find a bisimul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2133720"/>
            <a:ext cx="701064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09680" y="48006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3200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6232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5880" y="38862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276720" y="396216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6857640" y="29718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6705360" y="3962520"/>
            <a:ext cx="5331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4800600" y="518148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257800" y="25909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2819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4120" y="2743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526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288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50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114440" y="2133720"/>
            <a:ext cx="609480" cy="3504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2133720"/>
            <a:ext cx="3124440" cy="3504960"/>
          </a:xfrm>
          <a:custGeom>
            <a:avLst/>
            <a:gdLst>
              <a:gd name="textAreaLeft" fmla="*/ 152280 w 3124440"/>
              <a:gd name="textAreaRight" fmla="*/ 2972160 w 3124440"/>
              <a:gd name="textAreaTop" fmla="*/ 152280 h 3504960"/>
              <a:gd name="textAreaBottom" fmla="*/ 3352680 h 3504960"/>
            </a:gdLst>
            <a:ahLst/>
            <a:rect l="textAreaLeft" t="textAreaTop" r="textAreaRight" b="textAreaBottom"/>
            <a:pathLst>
              <a:path w="21600" h="24230">
                <a:moveTo>
                  <a:pt x="3600" y="0"/>
                </a:moveTo>
                <a:arcTo wR="3600" hR="3600" stAng="16200000" swAng="-5400000"/>
                <a:lnTo>
                  <a:pt x="0" y="20630"/>
                </a:lnTo>
                <a:arcTo wR="3600" hR="3600" stAng="10800000" swAng="-5400000"/>
                <a:lnTo>
                  <a:pt x="18000" y="242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66680" y="2133720"/>
            <a:ext cx="3124440" cy="3504960"/>
          </a:xfrm>
          <a:custGeom>
            <a:avLst/>
            <a:gdLst>
              <a:gd name="textAreaLeft" fmla="*/ 152280 w 3124440"/>
              <a:gd name="textAreaRight" fmla="*/ 2972160 w 3124440"/>
              <a:gd name="textAreaTop" fmla="*/ 152280 h 3504960"/>
              <a:gd name="textAreaBottom" fmla="*/ 3352680 h 3504960"/>
            </a:gdLst>
            <a:ahLst/>
            <a:rect l="textAreaLeft" t="textAreaTop" r="textAreaRight" b="textAreaBottom"/>
            <a:pathLst>
              <a:path w="21600" h="24230">
                <a:moveTo>
                  <a:pt x="3600" y="0"/>
                </a:moveTo>
                <a:arcTo wR="3600" hR="3600" stAng="16200000" swAng="-5400000"/>
                <a:lnTo>
                  <a:pt x="0" y="20630"/>
                </a:lnTo>
                <a:arcTo wR="3600" hR="3600" stAng="10800000" swAng="-5400000"/>
                <a:lnTo>
                  <a:pt x="18000" y="242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81280" y="3200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828800" y="3581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13372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047760" y="43434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81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523880" y="4343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24080" y="4343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66680" y="2133720"/>
            <a:ext cx="3124440" cy="3504960"/>
          </a:xfrm>
          <a:custGeom>
            <a:avLst/>
            <a:gdLst>
              <a:gd name="textAreaLeft" fmla="*/ 152280 w 3124440"/>
              <a:gd name="textAreaRight" fmla="*/ 2972160 w 3124440"/>
              <a:gd name="textAreaTop" fmla="*/ 152280 h 3504960"/>
              <a:gd name="textAreaBottom" fmla="*/ 3352680 h 3504960"/>
            </a:gdLst>
            <a:ahLst/>
            <a:rect l="textAreaLeft" t="textAreaTop" r="textAreaRight" b="textAreaBottom"/>
            <a:pathLst>
              <a:path w="21600" h="24230">
                <a:moveTo>
                  <a:pt x="3600" y="0"/>
                </a:moveTo>
                <a:arcTo wR="3600" hR="3600" stAng="16200000" swAng="-5400000"/>
                <a:lnTo>
                  <a:pt x="0" y="20630"/>
                </a:lnTo>
                <a:arcTo wR="3600" hR="3600" stAng="10800000" swAng="-5400000"/>
                <a:lnTo>
                  <a:pt x="18000" y="242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81280" y="3200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828800" y="3581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13372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3047760" y="43434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880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4343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4343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590920" y="2133720"/>
            <a:ext cx="380880" cy="14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71800" y="3581280"/>
            <a:ext cx="12193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2133720"/>
            <a:ext cx="1295640" cy="160020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600200"/>
              <a:gd name="textAreaBottom" fmla="*/ 1537200 h 16002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066680" y="23623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193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95280" y="56386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4191120" y="40384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95480" y="3886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887640" y="518076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28" y="540"/>
                </a:moveTo>
                <a:arcTo wR="10800" hR="10800" stAng="-6491750" swAng="6491750"/>
                <a:lnTo>
                  <a:pt x="10800" y="10800"/>
                </a:lnTo>
                <a:close/>
              </a:path>
              <a:path fill="none" w="21600" h="21600">
                <a:moveTo>
                  <a:pt x="7428" y="540"/>
                </a:moveTo>
                <a:arcTo wR="10800" hR="10800" stAng="-6491750" swAng="649175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1067760" y="5180760"/>
            <a:ext cx="303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10" y="546"/>
                </a:moveTo>
                <a:arcTo wR="10800" hR="10800" stAng="-6497597" swAng="7637684"/>
                <a:lnTo>
                  <a:pt x="10800" y="10800"/>
                </a:lnTo>
                <a:close/>
              </a:path>
              <a:path fill="none" w="21600" h="21600">
                <a:moveTo>
                  <a:pt x="7410" y="546"/>
                </a:moveTo>
                <a:arcTo wR="10800" hR="10800" stAng="-6497597" swAng="7637684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2742120" y="34282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93760" y="38862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462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0656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95480" y="2133720"/>
            <a:ext cx="1295640" cy="160020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600200"/>
              <a:gd name="textAreaBottom" fmla="*/ 1537200 h 16002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66680" y="23623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193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95280" y="56386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191120" y="40384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95480" y="3886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887640" y="518076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28" y="540"/>
                </a:moveTo>
                <a:arcTo wR="10800" hR="10800" stAng="-6491750" swAng="6491750"/>
                <a:lnTo>
                  <a:pt x="10800" y="10800"/>
                </a:lnTo>
                <a:close/>
              </a:path>
              <a:path fill="none" w="21600" h="21600">
                <a:moveTo>
                  <a:pt x="7428" y="540"/>
                </a:moveTo>
                <a:arcTo wR="10800" hR="10800" stAng="-6491750" swAng="649175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1067760" y="5180760"/>
            <a:ext cx="303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10" y="546"/>
                </a:moveTo>
                <a:arcTo wR="10800" hR="10800" stAng="-6497597" swAng="7637684"/>
                <a:lnTo>
                  <a:pt x="10800" y="10800"/>
                </a:lnTo>
                <a:close/>
              </a:path>
              <a:path fill="none" w="21600" h="21600">
                <a:moveTo>
                  <a:pt x="7410" y="546"/>
                </a:moveTo>
                <a:arcTo wR="10800" hR="10800" stAng="-6497597" swAng="7637684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2742120" y="34282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93760" y="38862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4462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10656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09680" y="4800600"/>
            <a:ext cx="3812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438280" y="3352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6720" y="42670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3372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8288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29000" y="42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95480" y="2133720"/>
            <a:ext cx="1295640" cy="160020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600200"/>
              <a:gd name="textAreaBottom" fmla="*/ 1537200 h 16002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66680" y="23623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193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95280" y="56386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4191120" y="40384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3886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887640" y="518076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28" y="540"/>
                </a:moveTo>
                <a:arcTo wR="10800" hR="10800" stAng="-6491750" swAng="6491750"/>
                <a:lnTo>
                  <a:pt x="10800" y="10800"/>
                </a:lnTo>
                <a:close/>
              </a:path>
              <a:path fill="none" w="21600" h="21600">
                <a:moveTo>
                  <a:pt x="7428" y="540"/>
                </a:moveTo>
                <a:arcTo wR="10800" hR="10800" stAng="-6491750" swAng="649175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1067760" y="5180760"/>
            <a:ext cx="303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10" y="546"/>
                </a:moveTo>
                <a:arcTo wR="10800" hR="10800" stAng="-6497597" swAng="7637684"/>
                <a:lnTo>
                  <a:pt x="10800" y="10800"/>
                </a:lnTo>
                <a:close/>
              </a:path>
              <a:path fill="none" w="21600" h="21600">
                <a:moveTo>
                  <a:pt x="7410" y="546"/>
                </a:moveTo>
                <a:arcTo wR="10800" hR="10800" stAng="-6497597" swAng="7637684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2742120" y="34282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93760" y="38862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4462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10656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09680" y="4800600"/>
            <a:ext cx="3812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438280" y="3352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42670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13372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8288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429000" y="42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1066680" y="3809520"/>
            <a:ext cx="175284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95480" y="2133720"/>
            <a:ext cx="1295640" cy="160020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600200"/>
              <a:gd name="textAreaBottom" fmla="*/ 1537200 h 16002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66680" y="23623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193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95280" y="56386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191120" y="40384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95480" y="3886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887640" y="518076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28" y="540"/>
                </a:moveTo>
                <a:arcTo wR="10800" hR="10800" stAng="-6491750" swAng="6491750"/>
                <a:lnTo>
                  <a:pt x="10800" y="10800"/>
                </a:lnTo>
                <a:close/>
              </a:path>
              <a:path fill="none" w="21600" h="21600">
                <a:moveTo>
                  <a:pt x="7428" y="540"/>
                </a:moveTo>
                <a:arcTo wR="10800" hR="10800" stAng="-6491750" swAng="649175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1067760" y="5180760"/>
            <a:ext cx="303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10" y="546"/>
                </a:moveTo>
                <a:arcTo wR="10800" hR="10800" stAng="-6497597" swAng="7637684"/>
                <a:lnTo>
                  <a:pt x="10800" y="10800"/>
                </a:lnTo>
                <a:close/>
              </a:path>
              <a:path fill="none" w="21600" h="21600">
                <a:moveTo>
                  <a:pt x="7410" y="546"/>
                </a:moveTo>
                <a:arcTo wR="10800" hR="10800" stAng="-6497597" swAng="7637684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2742120" y="34282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93760" y="38862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4462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1065600" y="213372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1" y="13"/>
                </a:moveTo>
                <a:arcTo wR="10800" hR="10800" stAng="-5568449" swAng="5136039"/>
                <a:lnTo>
                  <a:pt x="10800" y="10800"/>
                </a:lnTo>
                <a:close/>
              </a:path>
              <a:path fill="none" w="21600" h="21600">
                <a:moveTo>
                  <a:pt x="10271" y="13"/>
                </a:moveTo>
                <a:arcTo wR="10800" hR="10800" stAng="-5568449" swAng="51360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09680" y="4800600"/>
            <a:ext cx="3812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2438280" y="3352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76720" y="42670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13372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288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42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066680" y="3809520"/>
            <a:ext cx="175284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19520" y="3809880"/>
            <a:ext cx="15228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2057400" y="838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24080" y="419112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57400" y="4648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105520" y="2895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19720" y="2133720"/>
            <a:ext cx="3657600" cy="3504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2133720"/>
            <a:ext cx="1295640" cy="160020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600200"/>
              <a:gd name="textAreaBottom" fmla="*/ 1537200 h 16002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90720" y="2133720"/>
            <a:ext cx="1676160" cy="1676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990720" y="4038480"/>
            <a:ext cx="1447560" cy="16002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600200"/>
              <a:gd name="textAreaBottom" fmla="*/ 1529640 h 1600200"/>
            </a:gdLst>
            <a:ahLst/>
            <a:rect l="textAreaLeft" t="textAreaTop" r="textAreaRight" b="textAreaBottom"/>
            <a:pathLst>
              <a:path w="21600" h="23877">
                <a:moveTo>
                  <a:pt x="3600" y="0"/>
                </a:moveTo>
                <a:arcTo wR="3600" hR="3600" stAng="16200000" swAng="-5400000"/>
                <a:lnTo>
                  <a:pt x="0" y="20277"/>
                </a:lnTo>
                <a:arcTo wR="3600" hR="3600" stAng="10800000" swAng="-5400000"/>
                <a:lnTo>
                  <a:pt x="18000" y="23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66880" y="4038480"/>
            <a:ext cx="1524240" cy="160020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600200"/>
              <a:gd name="textAreaBottom" fmla="*/ 1526040 h 1600200"/>
            </a:gdLst>
            <a:ahLst/>
            <a:rect l="textAreaLeft" t="textAreaTop" r="textAreaRight" b="textAreaBottom"/>
            <a:pathLst>
              <a:path w="21600" h="22676">
                <a:moveTo>
                  <a:pt x="3600" y="0"/>
                </a:moveTo>
                <a:arcTo wR="3600" hR="3600" stAng="16200000" swAng="-5400000"/>
                <a:lnTo>
                  <a:pt x="0" y="19076"/>
                </a:lnTo>
                <a:arcTo wR="3600" hR="3600" stAng="10800000" swAng="-5400000"/>
                <a:lnTo>
                  <a:pt x="18000" y="22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1981080" y="8380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imiz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8600" y="1981080"/>
            <a:ext cx="89154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Let  Q  be set of all reachable states of 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Maintain a set P of state s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ly let  P = { Q 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a.   Repeat until no longer possible: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 split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b.   Repeat until no longer possible: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xt-state split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When done, every state set in P represents a singl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of the smallest state machine bisimilar to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 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2286000"/>
            <a:ext cx="7086600" cy="24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 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s ]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ncode (x)) (y) 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581280"/>
            <a:ext cx="45720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(y)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 y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 y &gt; 0  and  x (y) = x (y-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 y &gt; 0  and  x 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(y-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3733920"/>
            <a:ext cx="76320" cy="121896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828800" y="762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 split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1828800"/>
            <a:ext cx="647712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ere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tate set 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tates  r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 and  r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input 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utput ( r1, x 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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output ( r2, x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R1 = {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| output (r,x) = output (r1,x) }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R2  =  R \ R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P  =  ( P \ { R }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{ R1, R2 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1523880" y="1905120"/>
            <a:ext cx="5410440" cy="3124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28800" y="762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 spl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52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4038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4876560" y="2819520"/>
            <a:ext cx="2286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514600" y="2895120"/>
            <a:ext cx="10666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9092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51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769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1828800" y="762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 spl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52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362320" y="3124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029200" y="4038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4876560" y="2819520"/>
            <a:ext cx="2286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2514600" y="2895120"/>
            <a:ext cx="10666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920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59092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9051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769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23880" y="1905120"/>
            <a:ext cx="2362320" cy="312408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124080"/>
              <a:gd name="textAreaBottom" fmla="*/ 3008880 h 3124080"/>
            </a:gdLst>
            <a:ahLst/>
            <a:rect l="textAreaLeft" t="textAreaTop" r="textAreaRight" b="textAreaBottom"/>
            <a:pathLst>
              <a:path w="21600" h="28564">
                <a:moveTo>
                  <a:pt x="3600" y="0"/>
                </a:moveTo>
                <a:arcTo wR="3600" hR="3600" stAng="16200000" swAng="-5400000"/>
                <a:lnTo>
                  <a:pt x="0" y="24964"/>
                </a:lnTo>
                <a:arcTo wR="3600" hR="3600" stAng="10800000" swAng="-5400000"/>
                <a:lnTo>
                  <a:pt x="18000" y="28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1905120"/>
            <a:ext cx="2819520" cy="31240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124080"/>
              <a:gd name="textAreaBottom" fmla="*/ 2986560 h 3124080"/>
            </a:gdLst>
            <a:ahLst/>
            <a:rect l="textAreaLeft" t="textAreaTop" r="textAreaRight" b="textAreaBottom"/>
            <a:pathLst>
              <a:path w="21600" h="23933">
                <a:moveTo>
                  <a:pt x="3600" y="0"/>
                </a:moveTo>
                <a:arcTo wR="3600" hR="3600" stAng="16200000" swAng="-5400000"/>
                <a:lnTo>
                  <a:pt x="0" y="20333"/>
                </a:lnTo>
                <a:arcTo wR="3600" hR="3600" stAng="10800000" swAng="-5400000"/>
                <a:lnTo>
                  <a:pt x="18000" y="239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58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828800" y="762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xt-state split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71600" y="1828800"/>
            <a:ext cx="716292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ere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tate sets 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  and  R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tates  r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 and  r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input 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extState ( r1, x 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’  and  nextState ( r2, x 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’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R1 = {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| nextState (r,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}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R2  =  R \ R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 P  =  ( P \ { R }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{ R1, R2 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523880" y="1905120"/>
            <a:ext cx="1981440" cy="3124080"/>
          </a:xfrm>
          <a:custGeom>
            <a:avLst/>
            <a:gdLst>
              <a:gd name="textAreaLeft" fmla="*/ 96480 w 1981440"/>
              <a:gd name="textAreaRight" fmla="*/ 1884960 w 1981440"/>
              <a:gd name="textAreaTop" fmla="*/ 96480 h 3124080"/>
              <a:gd name="textAreaBottom" fmla="*/ 3027600 h 3124080"/>
            </a:gdLst>
            <a:ahLst/>
            <a:rect l="textAreaLeft" t="textAreaTop" r="textAreaRight" b="textAreaBottom"/>
            <a:pathLst>
              <a:path w="21600" h="34054">
                <a:moveTo>
                  <a:pt x="3600" y="0"/>
                </a:moveTo>
                <a:arcTo wR="3600" hR="3600" stAng="16200000" swAng="-5400000"/>
                <a:lnTo>
                  <a:pt x="0" y="30454"/>
                </a:lnTo>
                <a:arcTo wR="3600" hR="3600" stAng="10800000" swAng="-5400000"/>
                <a:lnTo>
                  <a:pt x="18000" y="340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28800" y="609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xt-state spl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1828800"/>
            <a:ext cx="1981080" cy="1523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48320" y="3809880"/>
            <a:ext cx="1981080" cy="15242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006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752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62320" y="30481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62320" y="4038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514600" y="2819520"/>
            <a:ext cx="23623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14600" y="4114800"/>
            <a:ext cx="2819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576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9051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05120" y="4114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828800" y="609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xt-state spl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72000" y="1828800"/>
            <a:ext cx="1981080" cy="1523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648320" y="3809880"/>
            <a:ext cx="1981080" cy="15242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006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752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62320" y="30481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40384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514600" y="2819520"/>
            <a:ext cx="23623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514600" y="4114800"/>
            <a:ext cx="2819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576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051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05120" y="4114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3880" y="1905120"/>
            <a:ext cx="1981440" cy="1828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523880" y="3886200"/>
            <a:ext cx="198144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74320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97180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64832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7180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4832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86200" y="2286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733920" y="2590920"/>
            <a:ext cx="10666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380988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86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32448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2448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62720" y="22860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410080" y="2590920"/>
            <a:ext cx="106704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48640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562720" y="4191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23880" y="27432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362320" y="25146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362320" y="34290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6668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81280" y="838080"/>
            <a:ext cx="3200400" cy="99072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3505320" y="4647600"/>
            <a:ext cx="3200400" cy="99036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828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6294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6294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9528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528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2767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76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62520" y="1905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29000" y="3352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096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862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562720" y="19051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105520" y="3352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724280" y="457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10552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5627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724280" y="152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48320" y="5943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483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8600" y="304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 = { a, b, c, d, e, f, g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297180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64832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7180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64832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886200" y="2286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733920" y="2590920"/>
            <a:ext cx="10666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80988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86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2448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32448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562720" y="22860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410080" y="2590920"/>
            <a:ext cx="106704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548640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4191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23880" y="27432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362320" y="25146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362320" y="34290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06668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81280" y="838080"/>
            <a:ext cx="3200400" cy="99072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505320" y="4647600"/>
            <a:ext cx="3200400" cy="99036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28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294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28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2767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276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62520" y="1905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429000" y="3352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096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42900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62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562720" y="19051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05520" y="3352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724280" y="457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10552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627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724280" y="152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648320" y="5943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6483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" y="304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 = { { a, b, c, d, e, f, g 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219320" y="1143000"/>
            <a:ext cx="6400800" cy="4038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297180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64832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97180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64832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86200" y="2286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733920" y="2590920"/>
            <a:ext cx="10666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80988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86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32448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32448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62720" y="22860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410080" y="2590920"/>
            <a:ext cx="106704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48640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562720" y="4191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523880" y="27432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362320" y="25146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362320" y="34290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06668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581280" y="838080"/>
            <a:ext cx="3200400" cy="99072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3505320" y="4647600"/>
            <a:ext cx="3200400" cy="99036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828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6294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6294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9528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9528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767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276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2860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429000" y="3352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2096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9051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105520" y="3352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724280" y="457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10552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5627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24280" y="152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648320" y="5943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6483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19320" y="1219320"/>
            <a:ext cx="2895480" cy="40384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4038480"/>
              <a:gd name="textAreaBottom" fmla="*/ 3897360 h 4038480"/>
            </a:gdLst>
            <a:ahLst/>
            <a:rect l="textAreaLeft" t="textAreaTop" r="textAreaRight" b="textAreaBottom"/>
            <a:pathLst>
              <a:path w="21600" h="30126">
                <a:moveTo>
                  <a:pt x="3600" y="0"/>
                </a:moveTo>
                <a:arcTo wR="3600" hR="3600" stAng="16200000" swAng="-5400000"/>
                <a:lnTo>
                  <a:pt x="0" y="26526"/>
                </a:lnTo>
                <a:arcTo wR="3600" hR="3600" stAng="10800000" swAng="-5400000"/>
                <a:lnTo>
                  <a:pt x="18000" y="30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343400" y="1143000"/>
            <a:ext cx="3276720" cy="4038480"/>
          </a:xfrm>
          <a:custGeom>
            <a:avLst/>
            <a:gdLst>
              <a:gd name="textAreaLeft" fmla="*/ 159840 w 3276720"/>
              <a:gd name="textAreaRight" fmla="*/ 3116880 w 3276720"/>
              <a:gd name="textAreaTop" fmla="*/ 159840 h 4038480"/>
              <a:gd name="textAreaBottom" fmla="*/ 3878640 h 4038480"/>
            </a:gdLst>
            <a:ahLst/>
            <a:rect l="textAreaLeft" t="textAreaTop" r="textAreaRight" b="textAreaBottom"/>
            <a:pathLst>
              <a:path w="21600" h="26621">
                <a:moveTo>
                  <a:pt x="3600" y="0"/>
                </a:moveTo>
                <a:arcTo wR="3600" hR="3600" stAng="16200000" swAng="-5400000"/>
                <a:lnTo>
                  <a:pt x="0" y="23021"/>
                </a:lnTo>
                <a:arcTo wR="3600" hR="3600" stAng="10800000" swAng="-5400000"/>
                <a:lnTo>
                  <a:pt x="18000" y="26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85800" y="5867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28600" y="304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 = { { a, b, c }, { d, e, f, g 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97180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4832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97180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4832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86200" y="2286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733920" y="2590920"/>
            <a:ext cx="10666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80988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86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32448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32448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562720" y="22860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410080" y="2590920"/>
            <a:ext cx="106704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48640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62720" y="4191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523880" y="27432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362320" y="25146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62320" y="34290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06668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81280" y="838080"/>
            <a:ext cx="3200400" cy="99072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3505320" y="4647600"/>
            <a:ext cx="3200400" cy="99036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828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6294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6294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9528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9528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767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276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2860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962520" y="1905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29000" y="3352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096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42900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8862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562720" y="19051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105520" y="3352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24280" y="457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10552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5627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724280" y="152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648320" y="5943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483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19320" y="1219320"/>
            <a:ext cx="1371600" cy="40384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038480"/>
              <a:gd name="textAreaBottom" fmla="*/ 3971520 h 4038480"/>
            </a:gdLst>
            <a:ahLst/>
            <a:rect l="textAreaLeft" t="textAreaTop" r="textAreaRight" b="textAreaBottom"/>
            <a:pathLst>
              <a:path w="21600" h="63587">
                <a:moveTo>
                  <a:pt x="3600" y="0"/>
                </a:moveTo>
                <a:arcTo wR="3600" hR="3600" stAng="16200000" swAng="-5400000"/>
                <a:lnTo>
                  <a:pt x="0" y="59987"/>
                </a:lnTo>
                <a:arcTo wR="3600" hR="3600" stAng="10800000" swAng="-5400000"/>
                <a:lnTo>
                  <a:pt x="18000" y="63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343400" y="1143000"/>
            <a:ext cx="3276720" cy="4038480"/>
          </a:xfrm>
          <a:custGeom>
            <a:avLst/>
            <a:gdLst>
              <a:gd name="textAreaLeft" fmla="*/ 159840 w 3276720"/>
              <a:gd name="textAreaRight" fmla="*/ 3116880 w 3276720"/>
              <a:gd name="textAreaTop" fmla="*/ 159840 h 4038480"/>
              <a:gd name="textAreaBottom" fmla="*/ 3878640 h 4038480"/>
            </a:gdLst>
            <a:ahLst/>
            <a:rect l="textAreaLeft" t="textAreaTop" r="textAreaRight" b="textAreaBottom"/>
            <a:pathLst>
              <a:path w="21600" h="26621">
                <a:moveTo>
                  <a:pt x="3600" y="0"/>
                </a:moveTo>
                <a:arcTo wR="3600" hR="3600" stAng="16200000" swAng="-5400000"/>
                <a:lnTo>
                  <a:pt x="0" y="23021"/>
                </a:lnTo>
                <a:arcTo wR="3600" hR="3600" stAng="10800000" swAng="-5400000"/>
                <a:lnTo>
                  <a:pt x="18000" y="26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85800" y="5867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xt-stat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743200" y="1219320"/>
            <a:ext cx="1371600" cy="40384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038480"/>
              <a:gd name="textAreaBottom" fmla="*/ 3971520 h 4038480"/>
            </a:gdLst>
            <a:ahLst/>
            <a:rect l="textAreaLeft" t="textAreaTop" r="textAreaRight" b="textAreaBottom"/>
            <a:pathLst>
              <a:path w="21600" h="63587">
                <a:moveTo>
                  <a:pt x="3600" y="0"/>
                </a:moveTo>
                <a:arcTo wR="3600" hR="3600" stAng="16200000" swAng="-5400000"/>
                <a:lnTo>
                  <a:pt x="0" y="59987"/>
                </a:lnTo>
                <a:arcTo wR="3600" hR="3600" stAng="10800000" swAng="-5400000"/>
                <a:lnTo>
                  <a:pt x="18000" y="63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8600" y="3049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 = { { a }, { b, c }, { d, e, f, g 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1280" y="2438280"/>
            <a:ext cx="213372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28954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3200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3200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59092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25909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1 0 0 0 1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3429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1 0 1 0 0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297180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64832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97180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64832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886200" y="2286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733920" y="2590920"/>
            <a:ext cx="10666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380988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886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324480" y="18288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324480" y="37339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562720" y="22860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2590920"/>
            <a:ext cx="106704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5486400" y="266652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562720" y="4191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523880" y="27432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2362320" y="25146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362320" y="34290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06668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581280" y="838080"/>
            <a:ext cx="3200400" cy="99072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3505320" y="4647600"/>
            <a:ext cx="3200400" cy="99036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828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294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6294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9528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9528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2767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276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2860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962520" y="1905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429000" y="3352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096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42900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62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562720" y="19051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05520" y="3352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724280" y="457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10552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5627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724280" y="152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648320" y="5943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6483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219320" y="1219320"/>
            <a:ext cx="1371600" cy="40384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038480"/>
              <a:gd name="textAreaBottom" fmla="*/ 3971520 h 4038480"/>
            </a:gdLst>
            <a:ahLst/>
            <a:rect l="textAreaLeft" t="textAreaTop" r="textAreaRight" b="textAreaBottom"/>
            <a:pathLst>
              <a:path w="21600" h="63587">
                <a:moveTo>
                  <a:pt x="3600" y="0"/>
                </a:moveTo>
                <a:arcTo wR="3600" hR="3600" stAng="16200000" swAng="-5400000"/>
                <a:lnTo>
                  <a:pt x="0" y="59987"/>
                </a:lnTo>
                <a:arcTo wR="3600" hR="3600" stAng="10800000" swAng="-5400000"/>
                <a:lnTo>
                  <a:pt x="18000" y="63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43400" y="1143000"/>
            <a:ext cx="1447920" cy="403848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4038480"/>
              <a:gd name="textAreaBottom" fmla="*/ 3967920 h 4038480"/>
            </a:gdLst>
            <a:ahLst/>
            <a:rect l="textAreaLeft" t="textAreaTop" r="textAreaRight" b="textAreaBottom"/>
            <a:pathLst>
              <a:path w="21600" h="60236">
                <a:moveTo>
                  <a:pt x="3600" y="0"/>
                </a:moveTo>
                <a:arcTo wR="3600" hR="3600" stAng="16200000" swAng="-5400000"/>
                <a:lnTo>
                  <a:pt x="0" y="56636"/>
                </a:lnTo>
                <a:arcTo wR="3600" hR="3600" stAng="10800000" swAng="-5400000"/>
                <a:lnTo>
                  <a:pt x="18000" y="60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" y="5867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xt-stat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743200" y="1219320"/>
            <a:ext cx="1371600" cy="40384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038480"/>
              <a:gd name="textAreaBottom" fmla="*/ 3971520 h 4038480"/>
            </a:gdLst>
            <a:ahLst/>
            <a:rect l="textAreaLeft" t="textAreaTop" r="textAreaRight" b="textAreaBottom"/>
            <a:pathLst>
              <a:path w="21600" h="63587">
                <a:moveTo>
                  <a:pt x="3600" y="0"/>
                </a:moveTo>
                <a:arcTo wR="3600" hR="3600" stAng="16200000" swAng="-5400000"/>
                <a:lnTo>
                  <a:pt x="0" y="59987"/>
                </a:lnTo>
                <a:arcTo wR="3600" hR="3600" stAng="10800000" swAng="-5400000"/>
                <a:lnTo>
                  <a:pt x="18000" y="63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943600" y="1143000"/>
            <a:ext cx="1523880" cy="40384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4038480"/>
              <a:gd name="textAreaBottom" fmla="*/ 3964320 h 4038480"/>
            </a:gdLst>
            <a:ahLst/>
            <a:rect l="textAreaLeft" t="textAreaTop" r="textAreaRight" b="textAreaBottom"/>
            <a:pathLst>
              <a:path w="21600" h="57234">
                <a:moveTo>
                  <a:pt x="3600" y="0"/>
                </a:moveTo>
                <a:arcTo wR="3600" hR="3600" stAng="16200000" swAng="-5400000"/>
                <a:lnTo>
                  <a:pt x="0" y="53634"/>
                </a:lnTo>
                <a:arcTo wR="3600" hR="3600" stAng="10800000" swAng="-5400000"/>
                <a:lnTo>
                  <a:pt x="18000" y="57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28600" y="3049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 = { { a }, { b, c }, { d, e }, { f, g 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886200" y="2286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886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562720" y="22860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562720" y="4191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2362320" y="25146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362320" y="34290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6668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581280" y="838080"/>
            <a:ext cx="3200400" cy="990720"/>
          </a:xfrm>
          <a:custGeom>
            <a:avLst/>
            <a:gdLst/>
            <a:ahLst/>
            <a:rect l="l" t="t" r="r" b="b"/>
            <a:pathLst>
              <a:path w="2016" h="624">
                <a:moveTo>
                  <a:pt x="2016" y="624"/>
                </a:moveTo>
                <a:cubicBezTo>
                  <a:pt x="1632" y="312"/>
                  <a:pt x="1248" y="0"/>
                  <a:pt x="912" y="0"/>
                </a:cubicBezTo>
                <a:cubicBezTo>
                  <a:pt x="576" y="0"/>
                  <a:pt x="288" y="312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2860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1905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096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862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562720" y="19051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724280" y="457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5627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724280" y="152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219320" y="1219320"/>
            <a:ext cx="1371600" cy="40384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038480"/>
              <a:gd name="textAreaBottom" fmla="*/ 3971520 h 4038480"/>
            </a:gdLst>
            <a:ahLst/>
            <a:rect l="textAreaLeft" t="textAreaTop" r="textAreaRight" b="textAreaBottom"/>
            <a:pathLst>
              <a:path w="21600" h="63587">
                <a:moveTo>
                  <a:pt x="3600" y="0"/>
                </a:moveTo>
                <a:arcTo wR="3600" hR="3600" stAng="16200000" swAng="-5400000"/>
                <a:lnTo>
                  <a:pt x="0" y="59987"/>
                </a:lnTo>
                <a:arcTo wR="3600" hR="3600" stAng="10800000" swAng="-5400000"/>
                <a:lnTo>
                  <a:pt x="18000" y="63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343400" y="1143000"/>
            <a:ext cx="1447920" cy="403848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4038480"/>
              <a:gd name="textAreaBottom" fmla="*/ 3967920 h 4038480"/>
            </a:gdLst>
            <a:ahLst/>
            <a:rect l="textAreaLeft" t="textAreaTop" r="textAreaRight" b="textAreaBottom"/>
            <a:pathLst>
              <a:path w="21600" h="60236">
                <a:moveTo>
                  <a:pt x="3600" y="0"/>
                </a:moveTo>
                <a:arcTo wR="3600" hR="3600" stAng="16200000" swAng="-5400000"/>
                <a:lnTo>
                  <a:pt x="0" y="56636"/>
                </a:lnTo>
                <a:arcTo wR="3600" hR="3600" stAng="10800000" swAng="-5400000"/>
                <a:lnTo>
                  <a:pt x="18000" y="60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286000" y="57913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inimal bisimilar state mach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743200" y="1219320"/>
            <a:ext cx="1371600" cy="40384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038480"/>
              <a:gd name="textAreaBottom" fmla="*/ 3971520 h 4038480"/>
            </a:gdLst>
            <a:ahLst/>
            <a:rect l="textAreaLeft" t="textAreaTop" r="textAreaRight" b="textAreaBottom"/>
            <a:pathLst>
              <a:path w="21600" h="63587">
                <a:moveTo>
                  <a:pt x="3600" y="0"/>
                </a:moveTo>
                <a:arcTo wR="3600" hR="3600" stAng="16200000" swAng="-5400000"/>
                <a:lnTo>
                  <a:pt x="0" y="59987"/>
                </a:lnTo>
                <a:arcTo wR="3600" hR="3600" stAng="10800000" swAng="-5400000"/>
                <a:lnTo>
                  <a:pt x="18000" y="63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943600" y="1143000"/>
            <a:ext cx="1523880" cy="40384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4038480"/>
              <a:gd name="textAreaBottom" fmla="*/ 3964320 h 4038480"/>
            </a:gdLst>
            <a:ahLst/>
            <a:rect l="textAreaLeft" t="textAreaTop" r="textAreaRight" b="textAreaBottom"/>
            <a:pathLst>
              <a:path w="21600" h="57234">
                <a:moveTo>
                  <a:pt x="3600" y="0"/>
                </a:moveTo>
                <a:arcTo wR="3600" hR="3600" stAng="16200000" swAng="-5400000"/>
                <a:lnTo>
                  <a:pt x="0" y="53634"/>
                </a:lnTo>
                <a:arcTo wR="3600" hR="3600" stAng="10800000" swAng="-5400000"/>
                <a:lnTo>
                  <a:pt x="18000" y="57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a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19520" y="2971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b, c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49568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d, e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588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f, g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76212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438280" y="32004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434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438280" y="35053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43400" y="3505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17220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81480" y="1143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248520" y="3505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257800" y="838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14600" y="4800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instead of 7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4479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a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12408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b, c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0292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d, e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934320" y="2971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 f, g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124080" y="2590920"/>
            <a:ext cx="1143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219320" y="2590920"/>
            <a:ext cx="1143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934320" y="2666880"/>
            <a:ext cx="1143000" cy="1219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029200" y="2590920"/>
            <a:ext cx="1143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362320" y="32004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670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17220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962520" y="1523880"/>
            <a:ext cx="3504960" cy="1143000"/>
          </a:xfrm>
          <a:custGeom>
            <a:avLst/>
            <a:gdLst/>
            <a:ahLst/>
            <a:rect l="l" t="t" r="r" b="b"/>
            <a:pathLst>
              <a:path w="2208" h="720">
                <a:moveTo>
                  <a:pt x="2208" y="720"/>
                </a:moveTo>
                <a:cubicBezTo>
                  <a:pt x="1768" y="360"/>
                  <a:pt x="1328" y="0"/>
                  <a:pt x="960" y="0"/>
                </a:cubicBezTo>
                <a:cubicBezTo>
                  <a:pt x="592" y="0"/>
                  <a:pt x="296" y="360"/>
                  <a:pt x="0" y="7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762120" y="1066680"/>
            <a:ext cx="7848360" cy="37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simul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tween two state machine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omorphis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twee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inimize (M1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inimize (M2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.e., a bisimulation that is a one-to-one and onto func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05320" y="3505320"/>
            <a:ext cx="228600" cy="182880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5740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 renaming of the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1295280" y="11430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check if M1 and M2 are equivale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600200" y="2286000"/>
            <a:ext cx="662940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mize M1 and call the result 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mize M2 and call the result 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 if the states of N1 can be renamed so that N1 and N2 are iden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 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362320"/>
            <a:ext cx="655308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between time t-1 and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 &gt; 0 and input at time t-1 w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 &gt; 0 and input at time t-1 w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276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429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 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25680" y="36576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392" y="0"/>
                </a:moveTo>
                <a:cubicBezTo>
                  <a:pt x="196" y="108"/>
                  <a:pt x="0" y="216"/>
                  <a:pt x="8" y="288"/>
                </a:cubicBezTo>
                <a:cubicBezTo>
                  <a:pt x="16" y="360"/>
                  <a:pt x="360" y="472"/>
                  <a:pt x="440" y="432"/>
                </a:cubicBezTo>
                <a:cubicBezTo>
                  <a:pt x="520" y="392"/>
                  <a:pt x="504" y="220"/>
                  <a:pt x="48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2880" y="36576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392" y="0"/>
                </a:moveTo>
                <a:cubicBezTo>
                  <a:pt x="196" y="108"/>
                  <a:pt x="0" y="216"/>
                  <a:pt x="8" y="288"/>
                </a:cubicBezTo>
                <a:cubicBezTo>
                  <a:pt x="16" y="360"/>
                  <a:pt x="360" y="472"/>
                  <a:pt x="440" y="432"/>
                </a:cubicBezTo>
                <a:cubicBezTo>
                  <a:pt x="520" y="392"/>
                  <a:pt x="504" y="220"/>
                  <a:pt x="48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971800" y="28954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28195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3276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3429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 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25680" y="36576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392" y="0"/>
                </a:moveTo>
                <a:cubicBezTo>
                  <a:pt x="196" y="108"/>
                  <a:pt x="0" y="216"/>
                  <a:pt x="8" y="288"/>
                </a:cubicBezTo>
                <a:cubicBezTo>
                  <a:pt x="16" y="360"/>
                  <a:pt x="360" y="472"/>
                  <a:pt x="440" y="432"/>
                </a:cubicBezTo>
                <a:cubicBezTo>
                  <a:pt x="520" y="392"/>
                  <a:pt x="504" y="220"/>
                  <a:pt x="48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942880" y="36576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392" y="0"/>
                </a:moveTo>
                <a:cubicBezTo>
                  <a:pt x="196" y="108"/>
                  <a:pt x="0" y="216"/>
                  <a:pt x="8" y="288"/>
                </a:cubicBezTo>
                <a:cubicBezTo>
                  <a:pt x="16" y="360"/>
                  <a:pt x="360" y="472"/>
                  <a:pt x="440" y="432"/>
                </a:cubicBezTo>
                <a:cubicBezTo>
                  <a:pt x="520" y="392"/>
                  <a:pt x="504" y="220"/>
                  <a:pt x="48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2514600"/>
            <a:ext cx="3045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 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2362320"/>
            <a:ext cx="746748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between time t-1 and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 &gt; 0 and input at time t-1 was 0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r  t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 &gt; 0 and input at time t-1 w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Tom Henzinger</cp:lastModifiedBy>
  <dcterms:modified xsi:type="dcterms:W3CDTF">2001-02-16T16:45:18Z</dcterms:modified>
  <cp:revision>53</cp:revision>
  <dc:subject/>
  <dc:title>PowerPoint Presentation</dc:title>
</cp:coreProperties>
</file>