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5C3-A408-41A2-BFC9-14E79065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B46-BFCB-4353-8539-0E8D6F0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E8A-015B-404B-AF68-60491692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01F-CFDA-4EBE-AA00-17D67A59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C7D-0452-4107-86DB-595A339D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D50-1C5E-46D4-BA7A-6BCBB6FD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A30-9509-4A0E-B671-B5DE62A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1D4-3229-4912-840F-20F6936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F46-719E-4DD9-A670-845B43BA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0A6-7F19-4EE8-B3BE-1CAA344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506-1FE3-4EB6-A469-3DADDBA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58D-DB0D-458C-938F-92C14B1D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D5A3-AFE2-49DE-8860-F9FCE2A7E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438280" y="251460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17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280" y="15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6668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2666880" y="685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2666880" y="1117440"/>
            <a:ext cx="2819520" cy="73692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05320" y="3962520"/>
            <a:ext cx="1676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733920" y="43434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z := x+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 := 2· 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04812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518148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666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7150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2096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nd: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i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28600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gram: Inputs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0958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6765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71500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2952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0492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572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781680" y="990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858000" y="47242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 pr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144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5627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ic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1440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light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907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71500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E CALC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627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ic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1440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6386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light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71500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E CALC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200400" y="274320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276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13"/>
          <p:cNvSpPr/>
          <p:nvPr/>
        </p:nvSpPr>
        <p:spPr>
          <a:xfrm flipH="1">
            <a:off x="3200040" y="31240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81280" y="3200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ild Pred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133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hard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627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14400" y="3276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6386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438280" y="4876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rong questions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1440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1440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former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676520" y="26668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audio       - video       - t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676520" y="44197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for communication        - for computation       - for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91440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former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76520" y="26668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audio       - video       - t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676520" y="44197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for communication        - for computation       - for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990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gna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99072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ste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5715000" y="38098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inear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715000" y="1981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ece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1440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former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914400" y="762120"/>
            <a:ext cx="16765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638680" y="762120"/>
            <a:ext cx="13716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676520" y="26668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audio       - video       - t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676520" y="44197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- for communication        - for computation       - for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990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gna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99072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ste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715000" y="38098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inear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715000" y="1981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3581280" y="3733920"/>
            <a:ext cx="1981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6576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3581280" y="5029200"/>
            <a:ext cx="1981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886200" y="5105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lement Pred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Freeform 18"/>
          <p:cNvSpPr/>
          <p:nvPr/>
        </p:nvSpPr>
        <p:spPr>
          <a:xfrm>
            <a:off x="6299280" y="5029200"/>
            <a:ext cx="1041480" cy="609480"/>
          </a:xfrm>
          <a:custGeom>
            <a:avLst/>
            <a:gdLst/>
            <a:ahLst/>
            <a:rect l="l" t="t" r="r" b="b"/>
            <a:pathLst>
              <a:path w="656" h="384">
                <a:moveTo>
                  <a:pt x="208" y="0"/>
                </a:moveTo>
                <a:cubicBezTo>
                  <a:pt x="104" y="64"/>
                  <a:pt x="0" y="128"/>
                  <a:pt x="16" y="192"/>
                </a:cubicBezTo>
                <a:cubicBezTo>
                  <a:pt x="32" y="256"/>
                  <a:pt x="200" y="384"/>
                  <a:pt x="304" y="384"/>
                </a:cubicBezTo>
                <a:cubicBezTo>
                  <a:pt x="408" y="384"/>
                  <a:pt x="624" y="256"/>
                  <a:pt x="640" y="192"/>
                </a:cubicBezTo>
                <a:cubicBezTo>
                  <a:pt x="656" y="128"/>
                  <a:pt x="440" y="32"/>
                  <a:pt x="40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09588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e Calc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>
            <a:off x="26668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2666880" y="685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Freeform 6"/>
          <p:cNvSpPr/>
          <p:nvPr/>
        </p:nvSpPr>
        <p:spPr>
          <a:xfrm>
            <a:off x="2666880" y="1117440"/>
            <a:ext cx="2819520" cy="73692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2096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nd: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i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248520" y="228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12952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30492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26668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3"/>
          <p:cNvSpPr/>
          <p:nvPr/>
        </p:nvSpPr>
        <p:spPr>
          <a:xfrm flipV="1">
            <a:off x="2666880" y="685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2666880" y="1117440"/>
            <a:ext cx="2819520" cy="73692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505320" y="3962520"/>
            <a:ext cx="1676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33920" y="43434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z := x+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 := 2· 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04812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518148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6668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7150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096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nd: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i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28600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gram: Inputs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248520" y="228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12952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0492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6765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571500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572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03:28:50Z</dcterms:created>
  <dc:creator>Tom Henzinger</dc:creator>
  <dc:description/>
  <dc:language>en-US</dc:language>
  <cp:lastModifiedBy>Matteo Zavatteri</cp:lastModifiedBy>
  <dcterms:modified xsi:type="dcterms:W3CDTF">2020-10-10T13:10:27Z</dcterms:modified>
  <cp:revision>4</cp:revision>
  <dc:subject/>
  <dc:title>PowerPoint Presentation</dc:title>
</cp:coreProperties>
</file>