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D09A-6F37-47A7-A333-F1208511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E3B5-7912-4F47-8329-2674A579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0064-FEE5-4053-AA1C-C0265647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2A2-5E29-4332-847D-48A4155D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682B-CDD7-4A69-8906-1D8D8D40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4BC-883E-4293-917A-01551A9F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3B9C-9D72-4363-A771-6D3069B0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049D-8E2F-42B5-A5B2-1BF7CC69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389B-A652-4D28-B45B-95E05A0D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72E9-3D4E-443B-B740-BD9F3A17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AC4E-5981-4BA4-8DB3-98DABC20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4C2E-C1AB-4661-8854-E27E759E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5C26-B4F6-4BC8-9BA0-D6E245349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2514600"/>
            <a:ext cx="4419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January 19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thematical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1066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ave no 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2209680"/>
            <a:ext cx="2286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rators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n numb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2209680"/>
            <a:ext cx="6858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Result: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!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mber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truth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mber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truth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rators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n c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2209680"/>
            <a:ext cx="7086600" cy="157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rge (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it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           Result: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pulation-of (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it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s-a-university (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it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rators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n truth val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2209680"/>
            <a:ext cx="8229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Result: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ruth valu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truth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¬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truth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ruth valu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truth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ruth valu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truth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ression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n constants have mea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2209680"/>
            <a:ext cx="7620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+ 20                                Result: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3! + 2) ·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population-of ( Berkeley )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· 20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4 + 2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 4 + 20 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t well-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7400" y="1219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2514600"/>
            <a:ext cx="5867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rue                     Result: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alse    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l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rue    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l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als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ression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n variables have no mea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209680"/>
            <a:ext cx="2514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+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3! + y) ·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2209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ree variable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x,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0666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tifier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move free variables from expres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2209680"/>
            <a:ext cx="2895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,  x 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,  x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,  x + 1 =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,  x + 1 =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, 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,  x +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2209680"/>
            <a:ext cx="47242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: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fre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 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re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t well-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43000" y="1981080"/>
            <a:ext cx="7467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mathematical express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 i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t well-form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“type mismatch”)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contain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ree variab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 is a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 ha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ean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e.g., 20, Berkeley, fal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819520" y="2514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hematical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362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Evens = { x | 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, 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= 2· y ) }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1066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2209680"/>
            <a:ext cx="6553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1, 2, 3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Atlanta, Berkeley, Chicago, Detroit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1, 2, 3, 4, …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2209680"/>
            <a:ext cx="7162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nyth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t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Result: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{ 1, 2, 3 }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{ Atlanta, Berkeley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a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2209680"/>
            <a:ext cx="73915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,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Result: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,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x |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066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tifier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move free variables from expres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2209680"/>
            <a:ext cx="3276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x |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x | x =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= 2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x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,  x = 2· y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x | x + 7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220968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: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fre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 1, 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 2, 4, 6, 8, …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t well-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oun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a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2209680"/>
            <a:ext cx="76197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Result: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x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|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th 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1066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ean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consta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an be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09680"/>
            <a:ext cx="8229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 1, 2, 3, 4, …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oo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 true, false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iti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 Atlanta, Chicago, Berkeley, Detroit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828800"/>
            <a:ext cx="6934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Evens = {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,  x = 2· y }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Evens be the set of all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= 2· y for some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9907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hematical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362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ve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{ x | 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, 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=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· y ) }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3429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9907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hematical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362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Evens = { x | 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,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2·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 }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3429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3886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9907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hematical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362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Evens = { x | 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,  y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) }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3429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3886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9907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hematical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362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Evens =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 x |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y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= 2· y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3429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886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4800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uant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9907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hematical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362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Even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{ x | 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, 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= 2· y ) }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3429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95480" y="3886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4800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t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5257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9907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hematical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2362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ve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{ x | 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, 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·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 }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3429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3886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4800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t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5257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352680" y="2666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1066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ants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ave 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2209680"/>
            <a:ext cx="6553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   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certain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rkeley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certain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lse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certain truth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9T05:07:45Z</dcterms:created>
  <dc:creator>tah</dc:creator>
  <dc:description/>
  <dc:language>en-US</dc:language>
  <cp:lastModifiedBy>Tom Henzinger</cp:lastModifiedBy>
  <dcterms:modified xsi:type="dcterms:W3CDTF">2001-02-07T00:07:27Z</dcterms:modified>
  <cp:revision>8</cp:revision>
  <dc:subject/>
  <dc:title>PowerPoint Presentation</dc:title>
</cp:coreProperties>
</file>