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307-6F30-428C-97DE-47D7DFF8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B9F-BE9C-49A8-A01E-2E6670B5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D2A-4D89-4092-8542-F0BFEE84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93E-CC67-412D-ACDA-4EA33A8E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46E-A8B7-4066-A1E8-FB6E88E1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28F-AD55-485F-875D-C13C08DA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899-13CE-4ED5-971E-4A7DE5E5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CBB-30A7-45F4-92D5-ED391E7A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1E9-ED2B-4096-A6A3-CCC35C5E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C30-A10C-4B83-AB97-E420B16F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C8C-9F3B-4FBB-B3AB-ADC284C1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A79-AF09-42EA-A33F-4BB0692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5570-50C7-41F2-AB65-70D69C239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31, 200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228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ctiv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232200" y="6475320"/>
            <a:ext cx="47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vised by Matteo Zavatteri and Tiziano Villa, Fall 20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1337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3"/>
          <p:cNvSpPr/>
          <p:nvPr/>
        </p:nvSpPr>
        <p:spPr>
          <a:xfrm>
            <a:off x="609480" y="3429000"/>
            <a:ext cx="1524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38862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-60948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86000" y="3124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029200" y="259092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6781680" y="41148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5627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-Diagram Composition of Memory-fre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4008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609480" y="464832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60948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6094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72388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26"/>
          <p:cNvSpPr/>
          <p:nvPr/>
        </p:nvSpPr>
        <p:spPr>
          <a:xfrm>
            <a:off x="21337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1027"/>
          <p:cNvSpPr/>
          <p:nvPr/>
        </p:nvSpPr>
        <p:spPr>
          <a:xfrm>
            <a:off x="14479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1028"/>
          <p:cNvSpPr/>
          <p:nvPr/>
        </p:nvSpPr>
        <p:spPr>
          <a:xfrm>
            <a:off x="38862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029"/>
          <p:cNvSpPr/>
          <p:nvPr/>
        </p:nvSpPr>
        <p:spPr>
          <a:xfrm>
            <a:off x="-60948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030"/>
          <p:cNvSpPr/>
          <p:nvPr/>
        </p:nvSpPr>
        <p:spPr>
          <a:xfrm>
            <a:off x="2286000" y="3124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1031"/>
          <p:cNvSpPr/>
          <p:nvPr/>
        </p:nvSpPr>
        <p:spPr>
          <a:xfrm>
            <a:off x="5029200" y="259092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1032"/>
          <p:cNvSpPr/>
          <p:nvPr/>
        </p:nvSpPr>
        <p:spPr>
          <a:xfrm>
            <a:off x="678168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033"/>
          <p:cNvSpPr/>
          <p:nvPr/>
        </p:nvSpPr>
        <p:spPr>
          <a:xfrm>
            <a:off x="55627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034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-Diagram Composition of Memory-fre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035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036"/>
          <p:cNvSpPr/>
          <p:nvPr/>
        </p:nvSpPr>
        <p:spPr>
          <a:xfrm>
            <a:off x="64008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1037"/>
          <p:cNvSpPr/>
          <p:nvPr/>
        </p:nvSpPr>
        <p:spPr>
          <a:xfrm>
            <a:off x="1447920" y="46483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1038"/>
          <p:cNvSpPr/>
          <p:nvPr/>
        </p:nvSpPr>
        <p:spPr>
          <a:xfrm>
            <a:off x="1447920" y="1905120"/>
            <a:ext cx="609588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1039"/>
          <p:cNvSpPr/>
          <p:nvPr/>
        </p:nvSpPr>
        <p:spPr>
          <a:xfrm>
            <a:off x="685800" y="3429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1040"/>
          <p:cNvSpPr/>
          <p:nvPr/>
        </p:nvSpPr>
        <p:spPr>
          <a:xfrm>
            <a:off x="762120" y="46483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1041"/>
          <p:cNvSpPr/>
          <p:nvPr/>
        </p:nvSpPr>
        <p:spPr>
          <a:xfrm>
            <a:off x="75438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1042"/>
          <p:cNvSpPr/>
          <p:nvPr/>
        </p:nvSpPr>
        <p:spPr>
          <a:xfrm>
            <a:off x="281952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gain memory-f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1043"/>
          <p:cNvSpPr/>
          <p:nvPr/>
        </p:nvSpPr>
        <p:spPr>
          <a:xfrm>
            <a:off x="14479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1044"/>
          <p:cNvSpPr/>
          <p:nvPr/>
        </p:nvSpPr>
        <p:spPr>
          <a:xfrm>
            <a:off x="14479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75248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Dela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90720" y="243828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elay (x) ) (y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495680" y="373392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if  y &lt;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(y-1)     if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4956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027"/>
          <p:cNvSpPr/>
          <p:nvPr/>
        </p:nvSpPr>
        <p:spPr>
          <a:xfrm>
            <a:off x="175248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Dela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990720" y="2438280"/>
            <a:ext cx="731520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elay (x) ) (y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1029"/>
          <p:cNvSpPr/>
          <p:nvPr/>
        </p:nvSpPr>
        <p:spPr>
          <a:xfrm>
            <a:off x="4495680" y="373392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if  y &lt;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(y-1)     if 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030"/>
          <p:cNvSpPr/>
          <p:nvPr/>
        </p:nvSpPr>
        <p:spPr>
          <a:xfrm>
            <a:off x="44956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066680" y="2278080"/>
            <a:ext cx="8077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in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0,1) ,   Delay (sin) (y)  =  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1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,   Delay (sin) (y)  =  sin (y-1) 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4572000"/>
            <a:ext cx="746784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id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0,1) ,   Delay (id) (y)  =  11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1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,   Delay (id) (y)  =  y - 1 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2133720" y="1066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inuous-Time D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2057400"/>
            <a:ext cx="8001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id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Delay (id) (0) = 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,   Delay (id) (y)  =  y - 1 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57200" y="419112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lt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Delay (alt) 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(0, true), (1, false), (2, true), (3, false) , … } 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438280" y="8380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rete-Time D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47920" y="236232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delay over finite set of value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ous-time delay, or infinite set of valu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e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6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7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9907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9907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74674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7467480" y="2895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3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2"/>
          <p:cNvSpPr/>
          <p:nvPr/>
        </p:nvSpPr>
        <p:spPr>
          <a:xfrm>
            <a:off x="2286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t, f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2286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39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8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13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21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32"/>
          <p:cNvSpPr/>
          <p:nvPr/>
        </p:nvSpPr>
        <p:spPr>
          <a:xfrm>
            <a:off x="2286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t, f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2286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45720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36"/>
          <p:cNvSpPr/>
          <p:nvPr/>
        </p:nvSpPr>
        <p:spPr>
          <a:xfrm>
            <a:off x="75438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37"/>
          <p:cNvSpPr/>
          <p:nvPr/>
        </p:nvSpPr>
        <p:spPr>
          <a:xfrm>
            <a:off x="75438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42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43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ducive or Combinational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Line 4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572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523880" y="5257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duciveSystem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12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13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15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18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22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25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32"/>
          <p:cNvSpPr/>
          <p:nvPr/>
        </p:nvSpPr>
        <p:spPr>
          <a:xfrm>
            <a:off x="2286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f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33"/>
          <p:cNvSpPr/>
          <p:nvPr/>
        </p:nvSpPr>
        <p:spPr>
          <a:xfrm>
            <a:off x="2286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35"/>
          <p:cNvSpPr/>
          <p:nvPr/>
        </p:nvSpPr>
        <p:spPr>
          <a:xfrm>
            <a:off x="75438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754380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37"/>
          <p:cNvSpPr/>
          <p:nvPr/>
        </p:nvSpPr>
        <p:spPr>
          <a:xfrm>
            <a:off x="58672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38"/>
          <p:cNvSpPr/>
          <p:nvPr/>
        </p:nvSpPr>
        <p:spPr>
          <a:xfrm>
            <a:off x="388620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3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14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16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24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2286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f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33"/>
          <p:cNvSpPr/>
          <p:nvPr/>
        </p:nvSpPr>
        <p:spPr>
          <a:xfrm>
            <a:off x="2286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34"/>
          <p:cNvSpPr/>
          <p:nvPr/>
        </p:nvSpPr>
        <p:spPr>
          <a:xfrm>
            <a:off x="75438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35"/>
          <p:cNvSpPr/>
          <p:nvPr/>
        </p:nvSpPr>
        <p:spPr>
          <a:xfrm>
            <a:off x="754380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45720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7"/>
          <p:cNvSpPr/>
          <p:nvPr/>
        </p:nvSpPr>
        <p:spPr>
          <a:xfrm>
            <a:off x="58672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38"/>
          <p:cNvSpPr/>
          <p:nvPr/>
        </p:nvSpPr>
        <p:spPr>
          <a:xfrm>
            <a:off x="388620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43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4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7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8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10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12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13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15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16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32"/>
          <p:cNvSpPr/>
          <p:nvPr/>
        </p:nvSpPr>
        <p:spPr>
          <a:xfrm>
            <a:off x="152280" y="27432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f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33"/>
          <p:cNvSpPr/>
          <p:nvPr/>
        </p:nvSpPr>
        <p:spPr>
          <a:xfrm>
            <a:off x="2286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34"/>
          <p:cNvSpPr/>
          <p:nvPr/>
        </p:nvSpPr>
        <p:spPr>
          <a:xfrm>
            <a:off x="75438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35"/>
          <p:cNvSpPr/>
          <p:nvPr/>
        </p:nvSpPr>
        <p:spPr>
          <a:xfrm>
            <a:off x="754380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37"/>
          <p:cNvSpPr/>
          <p:nvPr/>
        </p:nvSpPr>
        <p:spPr>
          <a:xfrm>
            <a:off x="58672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38"/>
          <p:cNvSpPr/>
          <p:nvPr/>
        </p:nvSpPr>
        <p:spPr>
          <a:xfrm>
            <a:off x="388620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43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44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4479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Dela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50532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486400" y="27432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3505320" y="41911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486400" y="411480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4191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4724280" y="3124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4191120" y="4648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11"/>
          <p:cNvSpPr/>
          <p:nvPr/>
        </p:nvSpPr>
        <p:spPr>
          <a:xfrm>
            <a:off x="1981080" y="2971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1981080" y="4572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Line 13"/>
          <p:cNvSpPr/>
          <p:nvPr/>
        </p:nvSpPr>
        <p:spPr>
          <a:xfrm flipV="1">
            <a:off x="289548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Line 14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16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5638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657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2438280" y="2438280"/>
            <a:ext cx="4419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655308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65530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24382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2438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 Box 32"/>
          <p:cNvSpPr/>
          <p:nvPr/>
        </p:nvSpPr>
        <p:spPr>
          <a:xfrm>
            <a:off x="2286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f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33"/>
          <p:cNvSpPr/>
          <p:nvPr/>
        </p:nvSpPr>
        <p:spPr>
          <a:xfrm>
            <a:off x="2286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74674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f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35"/>
          <p:cNvSpPr/>
          <p:nvPr/>
        </p:nvSpPr>
        <p:spPr>
          <a:xfrm>
            <a:off x="7467480" y="2895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t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42"/>
          <p:cNvSpPr/>
          <p:nvPr/>
        </p:nvSpPr>
        <p:spPr>
          <a:xfrm>
            <a:off x="35812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43"/>
          <p:cNvSpPr/>
          <p:nvPr/>
        </p:nvSpPr>
        <p:spPr>
          <a:xfrm>
            <a:off x="5562720" y="2895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981080" y="1066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Cy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5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0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Line 11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2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502920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22860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7696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1981080" y="1066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Cy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6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8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10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502920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1981080" y="1066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Cy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5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6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8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9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10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11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42670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7620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502920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981080" y="1066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Cy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5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Line 9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Line 10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13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54100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762012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502920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1981080" y="1066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with Cy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4876920" y="3276720"/>
            <a:ext cx="83808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3124080" y="3276720"/>
            <a:ext cx="8384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3962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Line 6"/>
          <p:cNvSpPr/>
          <p:nvPr/>
        </p:nvSpPr>
        <p:spPr>
          <a:xfrm>
            <a:off x="5715000" y="3733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7"/>
          <p:cNvSpPr/>
          <p:nvPr/>
        </p:nvSpPr>
        <p:spPr>
          <a:xfrm>
            <a:off x="1295280" y="3581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8"/>
          <p:cNvSpPr/>
          <p:nvPr/>
        </p:nvSpPr>
        <p:spPr>
          <a:xfrm>
            <a:off x="6172200" y="3733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9"/>
          <p:cNvSpPr/>
          <p:nvPr/>
        </p:nvSpPr>
        <p:spPr>
          <a:xfrm flipH="1">
            <a:off x="2590920" y="472428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Line 10"/>
          <p:cNvSpPr/>
          <p:nvPr/>
        </p:nvSpPr>
        <p:spPr>
          <a:xfrm flipV="1">
            <a:off x="2590920" y="3962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Line 11"/>
          <p:cNvSpPr/>
          <p:nvPr/>
        </p:nvSpPr>
        <p:spPr>
          <a:xfrm>
            <a:off x="25909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2057400" y="2819520"/>
            <a:ext cx="46483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33526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18"/>
          <p:cNvSpPr/>
          <p:nvPr/>
        </p:nvSpPr>
        <p:spPr>
          <a:xfrm>
            <a:off x="76201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t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502920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2057400" y="1523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duc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lock Dia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1981080" y="2971800"/>
            <a:ext cx="6019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l components are transduciv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no cyc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514600" y="4800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.g., combinational circu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or Sequential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Line 4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5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28600" y="52578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System :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2057400" y="1523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a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lock Dia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066680" y="29718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all components are memory-free or delay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very cycle contains at least one dela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2666880" y="4800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.g., sequential circu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13716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rete-Time Moving-Ave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80880" y="24382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MovAvg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iscMovAvg (x) ) (y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3048120" y="3733920"/>
            <a:ext cx="60958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 &lt;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3 · ( x (y) + x (y-1) + x (y-2) )      if 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38098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13716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rete-Time Moving-Ave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04920" y="2438280"/>
            <a:ext cx="8839080" cy="23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MovAv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iscMovAvg (x) ) (y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3048120" y="3733920"/>
            <a:ext cx="60958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 &lt;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3 · ( x (y) + x (y-1) + x (y-2) )      if 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38098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13716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inuous-Time Moving-Ave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380880" y="2514600"/>
            <a:ext cx="8534520" cy="23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MovAv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[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ContMovAvg (x) ) (y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3048120" y="3962520"/>
            <a:ext cx="60958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 &lt;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3 ·               x (t) dt        if 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3886200" y="41148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17"/>
          <p:cNvSpPr/>
          <p:nvPr/>
        </p:nvSpPr>
        <p:spPr>
          <a:xfrm flipH="1">
            <a:off x="5410080" y="4572000"/>
            <a:ext cx="7632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Line 18"/>
          <p:cNvSpPr/>
          <p:nvPr/>
        </p:nvSpPr>
        <p:spPr>
          <a:xfrm>
            <a:off x="5486400" y="45720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Line 19"/>
          <p:cNvSpPr/>
          <p:nvPr/>
        </p:nvSpPr>
        <p:spPr>
          <a:xfrm>
            <a:off x="5334120" y="4952880"/>
            <a:ext cx="7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 Box 20"/>
          <p:cNvSpPr/>
          <p:nvPr/>
        </p:nvSpPr>
        <p:spPr>
          <a:xfrm>
            <a:off x="5562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 Box 21"/>
          <p:cNvSpPr/>
          <p:nvPr/>
        </p:nvSpPr>
        <p:spPr>
          <a:xfrm>
            <a:off x="4800600" y="4800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13716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inuous-Time Moving-Ave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80880" y="2514600"/>
            <a:ext cx="8382240" cy="23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MovAv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 [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ContMovAvg (x) ) (y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3048120" y="3809880"/>
            <a:ext cx="60958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 &lt;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3 ·               x (t)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if 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3886200" y="396252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12"/>
          <p:cNvSpPr/>
          <p:nvPr/>
        </p:nvSpPr>
        <p:spPr>
          <a:xfrm flipH="1">
            <a:off x="5410080" y="4419720"/>
            <a:ext cx="7632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13"/>
          <p:cNvSpPr/>
          <p:nvPr/>
        </p:nvSpPr>
        <p:spPr>
          <a:xfrm>
            <a:off x="5486400" y="441972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14"/>
          <p:cNvSpPr/>
          <p:nvPr/>
        </p:nvSpPr>
        <p:spPr>
          <a:xfrm>
            <a:off x="5334120" y="4800600"/>
            <a:ext cx="759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15"/>
          <p:cNvSpPr/>
          <p:nvPr/>
        </p:nvSpPr>
        <p:spPr>
          <a:xfrm>
            <a:off x="556272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16"/>
          <p:cNvSpPr/>
          <p:nvPr/>
        </p:nvSpPr>
        <p:spPr>
          <a:xfrm>
            <a:off x="4800600" y="4648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Text Box 17"/>
          <p:cNvSpPr/>
          <p:nvPr/>
        </p:nvSpPr>
        <p:spPr>
          <a:xfrm>
            <a:off x="4495680" y="5334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gral is a quantifier that binds the variable 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13716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rete-Time Moving-Ave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80880" y="2514600"/>
            <a:ext cx="838224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MovAvg : 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DiscMovAvg (x) ) (y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048120" y="3809880"/>
            <a:ext cx="60958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 &lt;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3 ·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x (t)         if 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3886200" y="396252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525780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5257800" y="4572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 = y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17"/>
          <p:cNvSpPr/>
          <p:nvPr/>
        </p:nvSpPr>
        <p:spPr>
          <a:xfrm>
            <a:off x="4495680" y="5334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m is a quantifier that binds the variable 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438280" y="1371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175248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Noncausal Reactiv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990720" y="243828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t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in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Predict (x) ) (y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809880" y="373392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    if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,  x (z)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     if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x (z) =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3809880" y="38862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990720" y="11430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active syst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usa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or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mplementabl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,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Values ] ,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(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  t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z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x (t) = y (t) )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n   ( F (x) ) (z)  =  ( F (y) ) (z)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828800" y="1295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362320" y="2666880"/>
            <a:ext cx="4647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-fre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us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memory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-memory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447920" y="1143000"/>
            <a:ext cx="6476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active syst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 transducive system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Values ] ,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 F (x) ) (y)  =  f ( x (y) )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600200" y="838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-free Reactiv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85800" y="1752480"/>
            <a:ext cx="845820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n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identity system  I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very constant system  Cons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very composition of memory-free system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very block-diagram composition of memory-fre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combinational circu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90720" y="17524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 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 ,  Id (x) = x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14400" y="419112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constant con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 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Const (x) ) (y) = const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33520" y="914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Identit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09480" y="3429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onstant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1337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3"/>
          <p:cNvSpPr/>
          <p:nvPr/>
        </p:nvSpPr>
        <p:spPr>
          <a:xfrm>
            <a:off x="609480" y="3429000"/>
            <a:ext cx="1524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4"/>
          <p:cNvSpPr/>
          <p:nvPr/>
        </p:nvSpPr>
        <p:spPr>
          <a:xfrm>
            <a:off x="38862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-60948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6668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502920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6781680" y="34290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54864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sition of Memory-fre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64008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905120" y="5029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F  and  G  are memory-fre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1337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"/>
          <p:cNvSpPr/>
          <p:nvPr/>
        </p:nvSpPr>
        <p:spPr>
          <a:xfrm>
            <a:off x="1219320" y="3429000"/>
            <a:ext cx="9144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4"/>
          <p:cNvSpPr/>
          <p:nvPr/>
        </p:nvSpPr>
        <p:spPr>
          <a:xfrm>
            <a:off x="38862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-60948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6668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02920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78168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4864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sition of Memory-fre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4008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905120" y="5029200"/>
            <a:ext cx="6476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F  and  G  are memory-fre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n  G ∘ F  is memory-fre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219320" y="2133720"/>
            <a:ext cx="6476760" cy="243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457200" y="3429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696080" y="3429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4038480" y="2209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 ∘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858000" y="4114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 ∘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Matteo Zavatteri</cp:lastModifiedBy>
  <dcterms:modified xsi:type="dcterms:W3CDTF">2020-10-10T12:16:12Z</dcterms:modified>
  <cp:revision>17</cp:revision>
  <dc:subject/>
  <dc:title>PowerPoint Presentation</dc:title>
</cp:coreProperties>
</file>