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1C7-4B38-4C7E-88B0-445071C6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A8E-6F36-488D-BA40-FE665CA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18A-8B4A-4882-BE81-562ED7F1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14A-A1F3-4A5F-9AA3-A2D2F6E7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753-E972-43C8-9E44-1D48D170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E74-5CDB-4448-B2DE-41735546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448-0211-44B0-B357-58453EDB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58F-A2ED-455D-AF68-C577F8D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6A7-CE85-40CA-8DCC-B2C1E4DC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707-836C-4928-8155-0968EE9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401-70C1-4C77-9ACB-386856C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B34-5FDE-4981-AC7B-222BA89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8A2-D7F9-40BE-8DA8-0B48D52F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January 29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duc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[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essure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ar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: [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har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Continuous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ssure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2004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2004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337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0948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5053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42900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666880"/>
            <a:ext cx="4647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s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inite-memor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8006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F (x) ) (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8006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x,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inuous-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800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F (x) ) (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2320" y="990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rmalize :  Rea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rmalize : 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480060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Normalize (x) ) (y)  =  normalize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x (y) -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normalize (x)  = x - 5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991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sin) (y)  =  sin (y)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895480"/>
            <a:ext cx="8839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id) (y)  =  y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00600"/>
            <a:ext cx="8839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53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53) (y)  =  3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1430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-Tim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057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733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-Tim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4800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dSound  mov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914400"/>
            <a:ext cx="8991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sin) (y)  =  sin (y)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895480"/>
            <a:ext cx="8839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Normalize (id) (y)  =  y - 50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800600"/>
            <a:ext cx="8839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ize (53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rmalize (53)  = 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62320" y="990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nc :  Rea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nc : 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Rea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800600"/>
            <a:ext cx="7772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Trunc (x) ) (y)  =  trunc ( x (y)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trunc (x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1143000"/>
            <a:ext cx="29718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6    if  x &gt;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       if  -25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256   if  x &lt; -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219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914400"/>
            <a:ext cx="8610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sin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Trunc (sin) (y)  =  sin (y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95480"/>
            <a:ext cx="8610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id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Trunc (id) (y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800600"/>
            <a:ext cx="8610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nc (500) :  Real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Trunc (500)  =  256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200400"/>
            <a:ext cx="25146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      if  y &lt;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6   if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276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transducive system is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rete-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057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96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 : 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800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 ]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F (x) ) (y)  =  f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765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ze :  Rea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ize : 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Rea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omputerInt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480060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Quantize (x) ) (y)  =  quantize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trunc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,   quantize (x)  =  trunc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914400"/>
            <a:ext cx="8763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 (squareroot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Quantize (squareroot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0), (1,1), (2,1), (3,1), (4,2), (5,2), … , (1000000,256), … }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12408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 (id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Quantize (id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0), (1,1), (2,2), (3,3), … , (256,256), (257,256), … }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5257800"/>
            <a:ext cx="8610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e (pi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Computer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Quantize (pi)  =  3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gate :  Bool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96252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gate : 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Bool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ool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800600"/>
            <a:ext cx="7772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 ]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Negate (x) ) (y)  =  negate ( x (y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ols,   negate (x)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12408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 (alt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Negate (alt)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(0,true),  (1, false), (2, true), (3, false) , (4, true), … }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5257800"/>
            <a:ext cx="8610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e (true) : 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Negate (true)  =  fals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990720"/>
            <a:ext cx="5638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lt : 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B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that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 alt (y) 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295280"/>
            <a:ext cx="28958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ue      if  y  o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alse     if  y  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13716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1143000"/>
            <a:ext cx="6476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acti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mory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exists a transducive system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 :  Values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Values ] ,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 F (x) ) (y)  =  f ( x (y)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66688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inuousTimeSignal :   Continuous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creteTimeSignal :      DiscreteTime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3434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TimeSignal  =  evolution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TimeSignal      =  stream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8380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ousTime  = 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|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eTime     =  { 0, 1, 2, 3, 4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838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iscrete-Tim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05740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 :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:  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Machine :   Discret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26708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ars   =  { a, b, c,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Bins      =  { 0,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Events  =  { dropQuarter, requestCoke, deliverCoke, …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525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duciveSystem :  Values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Bool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B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ducive or Combin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525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Frame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257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tiveSystem : 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Values ]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Valu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914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ive or Sequent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590920"/>
            <a:ext cx="17524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276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57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: 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rame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07T00:39:01Z</dcterms:modified>
  <cp:revision>10</cp:revision>
  <dc:subject/>
  <dc:title>PowerPoint Presentation</dc:title>
</cp:coreProperties>
</file>