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764-A9DD-461F-9F42-A3D70B98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AB0-4069-4DD3-B029-8960D57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161-FB48-4DA3-821C-D34A92A9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E51-F173-4BD0-B439-15B3C868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0A4-7CEA-4C9E-8D6C-2633E327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E3F-2897-4687-B2D7-3BC7C76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91B-9541-4312-B023-E19894DA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5BF-5616-49C4-B5A8-880DFED6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635-F087-4320-AB57-7246FCB5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E4B-98E3-4F8F-BEA4-6F40D2A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3C9-0DDF-41B6-91DE-FAF1D03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275-E7F2-44D9-BC50-A9C5E59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434-A711-43D0-94CE-2873E311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004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38320" y="3733920"/>
            <a:ext cx="38124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 = “state”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28800" y="21337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mac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inite transition 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010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276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880" y="914400"/>
            <a:ext cx="609624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:  Boo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(x,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1337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+1       if  x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1       if   x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2860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62520"/>
            <a:ext cx="609624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 :   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 (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1055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 if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 if   x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52578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33360" y="4724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1337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5790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32004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029200" y="3733920"/>
            <a:ext cx="38088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3505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7920" y="213372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untable ( integer )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finite transition system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133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Systems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un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real )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as continuous-time de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ot naturally viewed naturally as transition systems.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7400" y="990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828800"/>
            <a:ext cx="8991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:                  remember last 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Moving Average:  remember last 2 inpu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:                                         remember if number of past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“true”  is 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343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:              remember if number of past inputs  “tru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is greater than number of past inputs  “false”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Base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4114800"/>
            <a:ext cx="6858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29000" y="44197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952520" y="44197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41148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4419720"/>
            <a:ext cx="152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54100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48640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pdate: 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mory =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4114800"/>
            <a:ext cx="6858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42900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952520" y="4419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419720"/>
            <a:ext cx="152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 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“initial state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9528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(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9528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Implementation of 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676520"/>
            <a:ext cx="77724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=  I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± (x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(q,x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pos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62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752480" y="1066680"/>
            <a:ext cx="563904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is a finite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2670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can be implemented by a two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 cannot be implemented by finite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182880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1219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51460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can be implemented by a one-stat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can be implemented by a state machine ( take as state the entire history of inputs ), and every system that can be implemented by a state machine is caus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lock Diagram of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Table of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tate Machi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266688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state     Input          Next state    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false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true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true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false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352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25146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57600" y="2286000"/>
            <a:ext cx="15238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f, f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f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94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Diagram of a State Machine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arity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ev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 is o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4864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tru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tru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57600" y="2286000"/>
            <a:ext cx="15238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f, f, f, t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t, t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u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438280"/>
            <a:ext cx="8839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unt (x) ) (y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7339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falseValues (x,y) |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      if  | trueValues (x,y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 &lt; | falseValues (x,y)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486400"/>
            <a:ext cx="883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ere  falseValues (x,y) = {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| z &lt;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x (z) = false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06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lementation of the Pa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0:50:29Z</dcterms:modified>
  <cp:revision>22</cp:revision>
  <dc:subject/>
  <dc:title>PowerPoint Presentation</dc:title>
</cp:coreProperties>
</file>