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A6D-1F99-42E2-A337-76E1DFEA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827-BEE3-45C0-93F5-1E5A539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C3F-6A72-44E3-9810-D0CB97E5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BF9-9EE3-4846-821C-0B7D424F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FFE-9EA3-4A3D-91C8-50CB2CF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A52-8C69-415A-8FC9-5B23DBD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9E6-E457-447D-A06A-0C64623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BC4-A7D4-4EB6-BB26-6FE87A2B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8A3-1C4D-4521-86D6-D93C193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BE4-F6D5-415A-8009-9AB4A4CD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F2E-6D8F-4C82-9616-810C54A2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BD5-C3F0-4E91-9421-6FE192B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B6A-CF05-4DCB-BC5F-2B032E7B6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2, 2001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76320" y="152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s, Tuples, Func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93360" y="6535800"/>
            <a:ext cx="4688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20968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2-tuple (or “pair”)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, 1 )                            3-tuple (or “triple”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, e, r, k, e, l, e, y )           8-tup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371600" y="44956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     { 2, 7 }  = { 7, 2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2, 7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7, 2 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43000" y="2209680"/>
            <a:ext cx="6934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yt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yt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Result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ip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uple 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19320" y="4800600"/>
            <a:ext cx="5943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   ( 2, 7 , 1 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7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ir x,  x =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uple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2057400"/>
            <a:ext cx="830592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i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air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ip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ple                                       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ir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ir y,     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ple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iple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= y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26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Text Box 1028"/>
          <p:cNvSpPr/>
          <p:nvPr/>
        </p:nvSpPr>
        <p:spPr>
          <a:xfrm>
            <a:off x="533520" y="2057400"/>
            <a:ext cx="8610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set of pai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set of tripl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   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 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u |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,  u = (v,w)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{ (v,w) | v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z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(u,v,w) |    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w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447920" y="220968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2209680"/>
            <a:ext cx="8153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three things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a set 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( a set 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for every domain element,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 range element 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447920" y="220968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8098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, co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14400" y="33526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Doma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Reals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Ran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[-1,1]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 {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eals | -1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for each real x, the real sin 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-1,1]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85800" y="373392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ly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 function can be thought of a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of pai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(x,y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 Real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-1,1] ) |  y = sin ( x )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 { … , (0,0) , … , (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/2, 1) , … , (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,0), … , (3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/2,-1), … 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362320" y="198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2362320" y="685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36232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2362320" y="106668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2362320" y="289548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380988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525780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6705720" y="106668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2362320" y="1066680"/>
            <a:ext cx="5638680" cy="1828800"/>
          </a:xfrm>
          <a:custGeom>
            <a:avLst/>
            <a:gdLst/>
            <a:ahLst/>
            <a:rect l="l" t="t" r="r" b="b"/>
            <a:pathLst>
              <a:path w="3552" h="1152">
                <a:moveTo>
                  <a:pt x="0" y="576"/>
                </a:moveTo>
                <a:cubicBezTo>
                  <a:pt x="304" y="288"/>
                  <a:pt x="608" y="0"/>
                  <a:pt x="912" y="0"/>
                </a:cubicBezTo>
                <a:cubicBezTo>
                  <a:pt x="1216" y="0"/>
                  <a:pt x="1520" y="384"/>
                  <a:pt x="1824" y="576"/>
                </a:cubicBezTo>
                <a:cubicBezTo>
                  <a:pt x="2128" y="768"/>
                  <a:pt x="2448" y="1152"/>
                  <a:pt x="2736" y="1152"/>
                </a:cubicBezTo>
                <a:cubicBezTo>
                  <a:pt x="3024" y="1152"/>
                  <a:pt x="3416" y="672"/>
                  <a:pt x="3552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5775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2133720" y="83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057400" y="914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19810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205740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43000" y="34290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Nat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Nats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x 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 | y = x!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{ (1,1), (2,2), (3,6), (4, 24), …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3276720"/>
            <a:ext cx="84582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 Nats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Nats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(x,y) , z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  | z = x + y }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= { ( (1,1), 2 ), ( (1,2), 3 ), … , ( (7,5), 12), …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2438280" y="3048120"/>
            <a:ext cx="4724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unordered collection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ordered collection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Text Box 1027"/>
          <p:cNvSpPr/>
          <p:nvPr/>
        </p:nvSpPr>
        <p:spPr>
          <a:xfrm>
            <a:off x="1523880" y="1295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Mathematical Objec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3276720"/>
            <a:ext cx="876312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:       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:          Bools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:          { ( (true,   true),  true 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true,  false), false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false, true),  false)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( (false, false), false) }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907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all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90720" y="1143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domain and range of a function are finite, then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given by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362320" y="35053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     true       tr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     false      fal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   true       fal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   false      fal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623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    y         f(x,y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286000" y="3352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495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026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Text Box 1027"/>
          <p:cNvSpPr/>
          <p:nvPr/>
        </p:nvSpPr>
        <p:spPr>
          <a:xfrm>
            <a:off x="1219320" y="762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func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Text Box 1028"/>
          <p:cNvSpPr/>
          <p:nvPr/>
        </p:nvSpPr>
        <p:spPr>
          <a:xfrm>
            <a:off x="762120" y="19051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Result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set of pai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omain el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range elem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Text Box 1029"/>
          <p:cNvSpPr/>
          <p:nvPr/>
        </p:nvSpPr>
        <p:spPr>
          <a:xfrm>
            <a:off x="1447920" y="4572000"/>
            <a:ext cx="594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   domain ( sin )  = Rea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 sin )    = [-1,1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= 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905120" y="1143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09680" y="2895480"/>
            <a:ext cx="51818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f : Doma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ange such that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,  f ( x )  =  …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905120" y="16002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ouble :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 such that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double ( x )  =  2· x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19320" y="34290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( double )  =  Na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   ( double )  =  Na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( double )  =  { (1,2), (2,4), (3,6), (4,8), …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905120" y="1523880"/>
            <a:ext cx="58672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xp :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 such that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exp ( x , y )  =  x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19320" y="3352680"/>
            <a:ext cx="73152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( exp )  =  Nat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ge   ( exp )  =  Na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aph   ( exp )  =  { ( (1,1) , 1 ), … , ( (2,3) , 8 ), …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21932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func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09480" y="26668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set of func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-to-o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t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  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21932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0880" y="2514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5800" y="22096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 l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f | domain ( f ) =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ange ( f ) =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85800" y="38862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y, z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] ,  l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: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uch th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,   ( g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f ) ( u )  =  g ( f ( u 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0880" y="2514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5800" y="20574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 ,  l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e-to-on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domain(f),  if 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 then  f(x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f(y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5800" y="419112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 ,  l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to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ange(f)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domain(f),   x = f(y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14400" y="106668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x = 2· y }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be the set of all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such that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· y for some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6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914400" y="106668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set of all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some 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Text Box 1028"/>
          <p:cNvSpPr/>
          <p:nvPr/>
        </p:nvSpPr>
        <p:spPr>
          <a:xfrm>
            <a:off x="3124080" y="3962520"/>
            <a:ext cx="2057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Defini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23623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Text Box 1027"/>
          <p:cNvSpPr/>
          <p:nvPr/>
        </p:nvSpPr>
        <p:spPr>
          <a:xfrm>
            <a:off x="762120" y="251460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e.g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1, 2, 3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x | … }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:     e.g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26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n se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Text Box 1035"/>
          <p:cNvSpPr/>
          <p:nvPr/>
        </p:nvSpPr>
        <p:spPr>
          <a:xfrm>
            <a:off x="1371600" y="2438280"/>
            <a:ext cx="6477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s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                                    s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\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   s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                                    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                                  truth val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        se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733920" y="26668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14400" y="1066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pera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09480" y="2209680"/>
            <a:ext cx="8534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|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y,   let   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               let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y |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PL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5:07:45Z</dcterms:created>
  <dc:creator>tah</dc:creator>
  <dc:description/>
  <dc:language>en-US</dc:language>
  <cp:lastModifiedBy>Matteo Zavatteri</cp:lastModifiedBy>
  <dcterms:modified xsi:type="dcterms:W3CDTF">2020-10-10T13:10:18Z</dcterms:modified>
  <cp:revision>10</cp:revision>
  <dc:subject/>
  <dc:title>PowerPoint Presentation</dc:title>
</cp:coreProperties>
</file>