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677-43CA-4D2C-88FA-A0E4BF18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FD44-D85E-4109-8502-5DBF961E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D33-17D3-4C3A-BA8A-A0AC2123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388-BA18-46F0-8202-18D0ABCE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11E1-2270-4F7E-86F5-064542B2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1252-40B4-42AC-8270-0629923F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58A4-D3B1-4263-BCC0-67469C05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126B-35FB-4CE6-B22B-D32272CA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F48C-8894-4C62-AD66-3A723B47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2000-A95C-4FE8-8620-E518AC66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DF2A-0223-44D9-BA50-E50B0ECD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8E6E-EF7E-4C3F-B300-341D7D37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D308-96FC-4C51-A5A3-A4B5F3A0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ABBB-9788-4BE7-8AD1-E011497D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A769-02DA-4B2B-BDA0-0D2C0631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1852-7A47-4BA1-9D5D-07C0C6B8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22A0-7906-4AA1-A24E-9AD9E7C5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B4B-C710-4286-A213-49C707D4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52C-ED81-44D7-AA40-AE5363BF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B96-F570-47DD-A948-286ADA2F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428-E509-47B9-AE47-FB050A1D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DFF-3B48-46B8-91DA-69FB8299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5D5-161B-44A8-8F8A-57A165EE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780-AC84-492F-BD60-5CC186C4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E2AB208-2CC0-426F-B886-76247B201FA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244E194-684B-4170-953C-5B52A54F72D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19520" y="1841400"/>
            <a:ext cx="464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design approach: a 4-step design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 and finite state mach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examples and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ring pattern recog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light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307-B0E1-4E0D-8F47-25E49426F7D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diagram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ate for each output comb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ppropriate arcs for the mo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8600" y="3505320"/>
            <a:ext cx="8140680" cy="1396800"/>
            <a:chOff x="228600" y="3505320"/>
            <a:chExt cx="8140680" cy="1396800"/>
          </a:xfrm>
        </p:grpSpPr>
        <p:sp>
          <p:nvSpPr>
            <p:cNvPr id="242" name=""/>
            <p:cNvSpPr/>
            <p:nvPr/>
          </p:nvSpPr>
          <p:spPr>
            <a:xfrm>
              <a:off x="1447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2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6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055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19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34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48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28600" y="3505320"/>
              <a:ext cx="8076960" cy="1371600"/>
              <a:chOff x="228600" y="3505320"/>
              <a:chExt cx="8076960" cy="1371600"/>
            </a:xfrm>
          </p:grpSpPr>
          <p:sp>
            <p:nvSpPr>
              <p:cNvPr id="251" name=""/>
              <p:cNvSpPr/>
              <p:nvPr/>
            </p:nvSpPr>
            <p:spPr>
              <a:xfrm>
                <a:off x="228600" y="4343400"/>
                <a:ext cx="97776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s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47960" y="3505320"/>
                <a:ext cx="5590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1051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19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933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48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47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61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907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1" name=""/>
              <p:cNvCxnSpPr>
                <a:stCxn id="257" idx="6"/>
                <a:endCxn id="258" idx="2"/>
              </p:cNvCxnSpPr>
              <p:nvPr/>
            </p:nvCxnSpPr>
            <p:spPr>
              <a:xfrm>
                <a:off x="1904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2" name=""/>
              <p:cNvCxnSpPr>
                <a:stCxn id="258" idx="6"/>
                <a:endCxn id="259" idx="2"/>
              </p:cNvCxnSpPr>
              <p:nvPr/>
            </p:nvCxnSpPr>
            <p:spPr>
              <a:xfrm>
                <a:off x="2819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3" name=""/>
              <p:cNvCxnSpPr>
                <a:stCxn id="259" idx="6"/>
                <a:endCxn id="260" idx="2"/>
              </p:cNvCxnSpPr>
              <p:nvPr/>
            </p:nvCxnSpPr>
            <p:spPr>
              <a:xfrm>
                <a:off x="37335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4" name=""/>
              <p:cNvCxnSpPr>
                <a:stCxn id="260" idx="6"/>
                <a:endCxn id="253" idx="2"/>
              </p:cNvCxnSpPr>
              <p:nvPr/>
            </p:nvCxnSpPr>
            <p:spPr>
              <a:xfrm>
                <a:off x="46479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5" name=""/>
              <p:cNvCxnSpPr>
                <a:stCxn id="253" idx="6"/>
                <a:endCxn id="254" idx="2"/>
              </p:cNvCxnSpPr>
              <p:nvPr/>
            </p:nvCxnSpPr>
            <p:spPr>
              <a:xfrm>
                <a:off x="5562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6" name=""/>
              <p:cNvCxnSpPr>
                <a:stCxn id="254" idx="6"/>
                <a:endCxn id="255" idx="2"/>
              </p:cNvCxnSpPr>
              <p:nvPr/>
            </p:nvCxnSpPr>
            <p:spPr>
              <a:xfrm>
                <a:off x="6476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7" name=""/>
              <p:cNvCxnSpPr>
                <a:stCxn id="255" idx="6"/>
                <a:endCxn id="256" idx="2"/>
              </p:cNvCxnSpPr>
              <p:nvPr/>
            </p:nvCxnSpPr>
            <p:spPr>
              <a:xfrm>
                <a:off x="7391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8" name=""/>
              <p:cNvCxnSpPr/>
              <p:nvPr/>
            </p:nvCxnSpPr>
            <p:spPr>
              <a:xfrm>
                <a:off x="990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9" name=""/>
              <p:cNvCxnSpPr>
                <a:stCxn id="256" idx="0"/>
                <a:endCxn id="257" idx="0"/>
              </p:cNvCxnSpPr>
              <p:nvPr/>
            </p:nvCxnSpPr>
            <p:spPr>
              <a:xfrm rot="5400000">
                <a:off x="4875120" y="1220040"/>
                <a:ext cx="2160" cy="6401520"/>
              </a:xfrm>
              <a:prstGeom prst="curvedConnector5">
                <a:avLst>
                  <a:gd name="adj1" fmla="val -38400000"/>
                  <a:gd name="adj2" fmla="val 49997"/>
                  <a:gd name="adj3" fmla="val -38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70" name=""/>
              <p:cNvSpPr/>
              <p:nvPr/>
            </p:nvSpPr>
            <p:spPr>
              <a:xfrm>
                <a:off x="45720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864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752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896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6320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7432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288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1675800" y="4648320"/>
            <a:ext cx="6401520" cy="1015920"/>
            <a:chOff x="1675800" y="4648320"/>
            <a:chExt cx="6401520" cy="1015920"/>
          </a:xfrm>
        </p:grpSpPr>
        <p:sp>
          <p:nvSpPr>
            <p:cNvPr id="278" name=""/>
            <p:cNvSpPr/>
            <p:nvPr/>
          </p:nvSpPr>
          <p:spPr>
            <a:xfrm>
              <a:off x="3733920" y="46483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6292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675800" y="4809240"/>
              <a:ext cx="6401520" cy="523080"/>
              <a:chOff x="1675800" y="4809240"/>
              <a:chExt cx="6401520" cy="523080"/>
            </a:xfrm>
          </p:grpSpPr>
          <p:cxnSp>
            <p:nvCxnSpPr>
              <p:cNvPr id="281" name=""/>
              <p:cNvCxnSpPr>
                <a:stCxn id="257" idx="5"/>
                <a:endCxn id="258" idx="3"/>
              </p:cNvCxnSpPr>
              <p:nvPr/>
            </p:nvCxnSpPr>
            <p:spPr>
              <a:xfrm flipH="1" rot="16200000">
                <a:off x="2131920" y="451512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2" name=""/>
              <p:cNvCxnSpPr>
                <a:stCxn id="258" idx="5"/>
                <a:endCxn id="260" idx="4"/>
              </p:cNvCxnSpPr>
              <p:nvPr/>
            </p:nvCxnSpPr>
            <p:spPr>
              <a:xfrm flipH="1" rot="16200000">
                <a:off x="3552840" y="4009320"/>
                <a:ext cx="67320" cy="1667520"/>
              </a:xfrm>
              <a:prstGeom prst="curvedConnector5">
                <a:avLst>
                  <a:gd name="adj1" fmla="val 580645"/>
                  <a:gd name="adj2" fmla="val 49989"/>
                  <a:gd name="adj3" fmla="val 5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3" name=""/>
              <p:cNvCxnSpPr>
                <a:stCxn id="260" idx="3"/>
                <a:endCxn id="259" idx="5"/>
              </p:cNvCxnSpPr>
              <p:nvPr/>
            </p:nvCxnSpPr>
            <p:spPr>
              <a:xfrm rot="5400000">
                <a:off x="3961080" y="451548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4" name=""/>
              <p:cNvCxnSpPr>
                <a:stCxn id="253" idx="3"/>
                <a:endCxn id="257" idx="4"/>
              </p:cNvCxnSpPr>
              <p:nvPr/>
            </p:nvCxnSpPr>
            <p:spPr>
              <a:xfrm rot="5400000">
                <a:off x="3390480" y="3094920"/>
                <a:ext cx="67320" cy="3496680"/>
              </a:xfrm>
              <a:prstGeom prst="curvedConnector5">
                <a:avLst>
                  <a:gd name="adj1" fmla="val 780645"/>
                  <a:gd name="adj2" fmla="val 50000"/>
                  <a:gd name="adj3" fmla="val 7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5" name=""/>
              <p:cNvCxnSpPr>
                <a:stCxn id="259" idx="4"/>
                <a:endCxn id="255" idx="3"/>
              </p:cNvCxnSpPr>
              <p:nvPr/>
            </p:nvCxnSpPr>
            <p:spPr>
              <a:xfrm flipH="1" flipV="1" rot="5400000">
                <a:off x="5218920" y="3094560"/>
                <a:ext cx="67320" cy="3496680"/>
              </a:xfrm>
              <a:prstGeom prst="curvedConnector5">
                <a:avLst>
                  <a:gd name="adj1" fmla="val -625806"/>
                  <a:gd name="adj2" fmla="val 50000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6" name=""/>
              <p:cNvCxnSpPr>
                <a:stCxn id="255" idx="5"/>
                <a:endCxn id="256" idx="3"/>
              </p:cNvCxnSpPr>
              <p:nvPr/>
            </p:nvCxnSpPr>
            <p:spPr>
              <a:xfrm flipH="1" rot="16200000">
                <a:off x="7618320" y="4515120"/>
                <a:ext cx="2160" cy="591120"/>
              </a:xfrm>
              <a:prstGeom prst="curvedConnector5">
                <a:avLst>
                  <a:gd name="adj1" fmla="val 7680000"/>
                  <a:gd name="adj2" fmla="val 49969"/>
                  <a:gd name="adj3" fmla="val 76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7" name=""/>
              <p:cNvCxnSpPr>
                <a:stCxn id="256" idx="4"/>
                <a:endCxn id="254" idx="5"/>
              </p:cNvCxnSpPr>
              <p:nvPr/>
            </p:nvCxnSpPr>
            <p:spPr>
              <a:xfrm flipV="1" rot="16200000">
                <a:off x="7210080" y="4008960"/>
                <a:ext cx="67320" cy="1667520"/>
              </a:xfrm>
              <a:prstGeom prst="curvedConnector5">
                <a:avLst>
                  <a:gd name="adj1" fmla="val -625806"/>
                  <a:gd name="adj2" fmla="val 49989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8" name=""/>
              <p:cNvCxnSpPr>
                <a:stCxn id="254" idx="3"/>
                <a:endCxn id="253" idx="5"/>
              </p:cNvCxnSpPr>
              <p:nvPr/>
            </p:nvCxnSpPr>
            <p:spPr>
              <a:xfrm rot="5400000">
                <a:off x="5789880" y="4515480"/>
                <a:ext cx="2160" cy="591120"/>
              </a:xfrm>
              <a:prstGeom prst="curvedConnector5">
                <a:avLst>
                  <a:gd name="adj1" fmla="val 12480000"/>
                  <a:gd name="adj2" fmla="val 49969"/>
                  <a:gd name="adj3" fmla="val 124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89" name=""/>
            <p:cNvSpPr/>
            <p:nvPr/>
          </p:nvSpPr>
          <p:spPr>
            <a:xfrm>
              <a:off x="6756480" y="52322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4120" y="49276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292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718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95480" y="480060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0816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CA7-4CCD-4517-A369-BA4FFDE713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encod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log description including state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43828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M, rst, Z0, Z1, Z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Z0, Z1, Z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7 = [1,1,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2438280"/>
            <a:ext cx="426708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rst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M) state = S3 else state = S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M) state = S6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M) state = S2 else state = S4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M) state = S0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M) state = S4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6: if (M) state = S7 else state = S7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7: if (M) state = S5 else state = S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95680" y="236232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6B8-B268-4595-BF5B-8EC96A6465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4419720" y="1752480"/>
            <a:ext cx="2044440" cy="1562040"/>
            <a:chOff x="4419720" y="1752480"/>
            <a:chExt cx="2044440" cy="1562040"/>
          </a:xfrm>
        </p:grpSpPr>
        <p:grpSp>
          <p:nvGrpSpPr>
            <p:cNvPr id="301" name=""/>
            <p:cNvGrpSpPr/>
            <p:nvPr/>
          </p:nvGrpSpPr>
          <p:grpSpPr>
            <a:xfrm>
              <a:off x="4476600" y="2197080"/>
              <a:ext cx="609840" cy="685800"/>
              <a:chOff x="4476600" y="2197080"/>
              <a:chExt cx="609840" cy="685800"/>
            </a:xfrm>
          </p:grpSpPr>
          <p:sp>
            <p:nvSpPr>
              <p:cNvPr id="302" name=""/>
              <p:cNvSpPr/>
              <p:nvPr/>
            </p:nvSpPr>
            <p:spPr>
              <a:xfrm>
                <a:off x="4476600" y="219708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4920840" y="271764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V="1">
              <a:off x="5315040" y="17524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73800" y="2724120"/>
              <a:ext cx="990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5314680" y="2692440"/>
              <a:ext cx="6094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46760" y="2311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16600" y="23940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19720" y="1847880"/>
              <a:ext cx="761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591240" y="1727280"/>
            <a:ext cx="2438280" cy="2387520"/>
            <a:chOff x="6591240" y="1727280"/>
            <a:chExt cx="2438280" cy="2387520"/>
          </a:xfrm>
        </p:grpSpPr>
        <p:sp>
          <p:nvSpPr>
            <p:cNvPr id="311" name=""/>
            <p:cNvSpPr/>
            <p:nvPr/>
          </p:nvSpPr>
          <p:spPr>
            <a:xfrm>
              <a:off x="8115120" y="366372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6990840" y="264168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22920" y="2260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91240" y="234324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7562520" y="323856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94600" y="2857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13680" y="2940120"/>
              <a:ext cx="444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8133840" y="383544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65920" y="3454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34240" y="353700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7016760" y="17272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s two communicating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separate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and S3 have simple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and S2 would require many more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could change in any of seven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factoring out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ly reduce number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 only requires seven or eigh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total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BA9-8B20-4A16-B062-C1914466DA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33520" y="2209680"/>
            <a:ext cx="83311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FSM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e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6:1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959200"/>
            <a:ext cx="447048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highwaygreen   = 6'b001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ighwayyellow  = 6'b010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green  = 6'b1000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yellow = 6'b100010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sign HR = state[6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Y = state[5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G = state[4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R = state[3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Y = state[2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G = state[1]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33680" y="5518080"/>
            <a:ext cx="971640" cy="48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504960" y="3416400"/>
            <a:ext cx="1447560" cy="25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504960" y="501660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6006960"/>
            <a:ext cx="26416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cify state bits and cod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state as well 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ions to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ation of inputs, outputs, and state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AB3-2C78-45A0-A804-29816F7682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1600200"/>
            <a:ext cx="81788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tial begin state = highwaygreen; ST = 0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if (rese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S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&amp; C) begin state = highway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farmroad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| !C) begin state = farmroad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" name=""/>
          <p:cNvSpPr/>
          <p:nvPr/>
        </p:nvSpPr>
        <p:spPr>
          <a:xfrm>
            <a:off x="6583680" y="2071800"/>
            <a:ext cx="16344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e stat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ggerred b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200040" y="2209320"/>
            <a:ext cx="34290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123720" y="2514600"/>
            <a:ext cx="350532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354-8936-49A8-9C48-97215DC96D1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752480" y="2209680"/>
            <a:ext cx="6032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Timer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teger   val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S = (value &gt;=  4); //  5 cycles after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L = (value &gt;= 14); // 15 cycles after res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ST) value = 0; // async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 value = value +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r for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F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474B-5098-44E5-A8CF-347A3AE0AB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43000" y="2668680"/>
            <a:ext cx="694692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main(HR, HY, HG, FR, FY, FG, reset, C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output HR, HY, HG, FR, FY, FG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nput  reset, C, Clk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imer part1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FSM   part2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ing it all together (FSM + ti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Verilog (same as a schematic draw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180-2FFC-405E-B01F-0B48C75475F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997520" y="5346720"/>
            <a:ext cx="374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s advance in lock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 inputs/outputs: X = 0, Y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11640" y="2668680"/>
            <a:ext cx="3200400" cy="2208240"/>
            <a:chOff x="5111640" y="2668680"/>
            <a:chExt cx="3200400" cy="2208240"/>
          </a:xfrm>
        </p:grpSpPr>
        <p:sp>
          <p:nvSpPr>
            <p:cNvPr id="382" name=""/>
            <p:cNvSpPr/>
            <p:nvPr/>
          </p:nvSpPr>
          <p:spPr>
            <a:xfrm>
              <a:off x="6311520" y="30621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3054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0260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321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95800" y="3062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889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60996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1644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67480" y="3062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4610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1816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77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38800" y="3062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8032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7659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72040" y="27954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879520" y="3062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26040" y="266868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0996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816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6592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120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11640" y="2769840"/>
              <a:ext cx="66024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1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2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32160" y="39121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737040" y="3601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43520" y="3607920"/>
              <a:ext cx="11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05600" y="3614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11720" y="39121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32160" y="4737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333920" y="446400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0400" y="4470840"/>
              <a:ext cx="96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6260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33920" y="3201840"/>
              <a:ext cx="279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8004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62600" y="4089960"/>
              <a:ext cx="304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21320" y="4089960"/>
              <a:ext cx="291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92640" y="4089960"/>
              <a:ext cx="304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066680" y="2438280"/>
            <a:ext cx="3035160" cy="1251000"/>
            <a:chOff x="1066680" y="2438280"/>
            <a:chExt cx="3035160" cy="1251000"/>
          </a:xfrm>
        </p:grpSpPr>
        <p:sp>
          <p:nvSpPr>
            <p:cNvPr id="420" name=""/>
            <p:cNvSpPr/>
            <p:nvPr/>
          </p:nvSpPr>
          <p:spPr>
            <a:xfrm>
              <a:off x="1066680" y="2495520"/>
              <a:ext cx="990360" cy="119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25440" y="2946240"/>
              <a:ext cx="672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98520" y="2495520"/>
              <a:ext cx="1003320" cy="118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57280" y="2946240"/>
              <a:ext cx="749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9200" y="24382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19200" y="318744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57040" y="2692440"/>
              <a:ext cx="102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044440" y="34416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39640" y="4114800"/>
            <a:ext cx="1981080" cy="2215800"/>
            <a:chOff x="539640" y="4114800"/>
            <a:chExt cx="1981080" cy="2215800"/>
          </a:xfrm>
        </p:grpSpPr>
        <p:grpSp>
          <p:nvGrpSpPr>
            <p:cNvPr id="429" name=""/>
            <p:cNvGrpSpPr/>
            <p:nvPr/>
          </p:nvGrpSpPr>
          <p:grpSpPr>
            <a:xfrm>
              <a:off x="647280" y="4425840"/>
              <a:ext cx="609840" cy="685800"/>
              <a:chOff x="647280" y="4425840"/>
              <a:chExt cx="609840" cy="685800"/>
            </a:xfrm>
          </p:grpSpPr>
          <p:sp>
            <p:nvSpPr>
              <p:cNvPr id="430" name=""/>
              <p:cNvSpPr/>
              <p:nvPr/>
            </p:nvSpPr>
            <p:spPr>
              <a:xfrm>
                <a:off x="647280" y="442584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1091520" y="494640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 flipV="1">
              <a:off x="1485720" y="4171320"/>
              <a:ext cx="38088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65120" y="5054400"/>
              <a:ext cx="990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339560" y="498420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17440" y="4540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74320" y="447048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9640" y="41148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1472760" y="5924160"/>
              <a:ext cx="39384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04480" y="55180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74320" y="546084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58600" y="4241880"/>
              <a:ext cx="762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660760" y="4102200"/>
            <a:ext cx="1993320" cy="2260080"/>
            <a:chOff x="2660760" y="4102200"/>
            <a:chExt cx="1993320" cy="2260080"/>
          </a:xfrm>
        </p:grpSpPr>
        <p:grpSp>
          <p:nvGrpSpPr>
            <p:cNvPr id="443" name=""/>
            <p:cNvGrpSpPr/>
            <p:nvPr/>
          </p:nvGrpSpPr>
          <p:grpSpPr>
            <a:xfrm>
              <a:off x="2857320" y="4413240"/>
              <a:ext cx="609120" cy="685440"/>
              <a:chOff x="2857320" y="4413240"/>
              <a:chExt cx="609120" cy="685440"/>
            </a:xfrm>
          </p:grpSpPr>
          <p:sp>
            <p:nvSpPr>
              <p:cNvPr id="444" name=""/>
              <p:cNvSpPr/>
              <p:nvPr/>
            </p:nvSpPr>
            <p:spPr>
              <a:xfrm>
                <a:off x="2857320" y="441324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3301200" y="4933440"/>
                <a:ext cx="1267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V="1">
              <a:off x="3695400" y="4159080"/>
              <a:ext cx="38052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74800" y="504180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549240" y="4971960"/>
              <a:ext cx="0" cy="54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27120" y="45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84360" y="445752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9320" y="41022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3682800" y="5911560"/>
              <a:ext cx="39312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92320" y="427968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2857320" y="5391000"/>
              <a:ext cx="609120" cy="685440"/>
              <a:chOff x="2857320" y="5391000"/>
              <a:chExt cx="609120" cy="685440"/>
            </a:xfrm>
          </p:grpSpPr>
          <p:sp>
            <p:nvSpPr>
              <p:cNvPr id="455" name=""/>
              <p:cNvSpPr/>
              <p:nvPr/>
            </p:nvSpPr>
            <p:spPr>
              <a:xfrm>
                <a:off x="2857320" y="539100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301200" y="5911560"/>
                <a:ext cx="12672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3327120" y="550548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84360" y="543564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60760" y="601956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92320" y="5803920"/>
              <a:ext cx="761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municating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achine's output is another machine's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444-BDB6-4A93-8C74-CC1FBA0E89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298600" y="3429000"/>
            <a:ext cx="191772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92480" y="3422520"/>
            <a:ext cx="19303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24160" y="5372280"/>
            <a:ext cx="19051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05080" y="5365800"/>
            <a:ext cx="1942920" cy="10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19440" y="441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00080" y="47242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5791320"/>
            <a:ext cx="1155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581280"/>
            <a:ext cx="364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eer who pulls the string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3772080"/>
            <a:ext cx="1015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55800" y="5715000"/>
            <a:ext cx="101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36840" y="4483080"/>
            <a:ext cx="1015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u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51440" y="4483080"/>
            <a:ext cx="1231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57680" y="4711680"/>
            <a:ext cx="838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540160" y="44002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06560" y="44002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02200" y="441324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hardware systems = data-path +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: registers, counters, combinational functional units (e.g., ALU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(e.g., bu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: FSM generating sequences of control signals that instru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 what to d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733920" y="3733920"/>
            <a:ext cx="12952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886200" y="5867280"/>
            <a:ext cx="1447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49F-5AC2-4964-A44F-C5D34541711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al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: must remember combination or always have it avail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questions: how do you set the internal combin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d in registers (how loaded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ired via switches set by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25A7-35E7-4683-970B-12536DD7390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) Determine input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) Determine possible states of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3) Encode states and outputs into a binary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 or 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input encoding (if under our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4) Realize logic to implement functions for state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implementation and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s in steps 2 and 3 can have large effect on resulting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4BF-5E36-4E3D-A9CF-39879FF61C9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" y="1523880"/>
            <a:ext cx="81788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71C-E32C-4347-A21F-8EAE3E7A9A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2577960" y="3772080"/>
            <a:ext cx="3721320" cy="2476080"/>
            <a:chOff x="2577960" y="3772080"/>
            <a:chExt cx="3721320" cy="2476080"/>
          </a:xfrm>
        </p:grpSpPr>
        <p:sp>
          <p:nvSpPr>
            <p:cNvPr id="488" name=""/>
            <p:cNvSpPr/>
            <p:nvPr/>
          </p:nvSpPr>
          <p:spPr>
            <a:xfrm>
              <a:off x="3956040" y="4540320"/>
              <a:ext cx="18288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212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497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784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498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070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35640" y="3772080"/>
              <a:ext cx="8636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54480" y="3772080"/>
              <a:ext cx="12319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76640" y="5842080"/>
              <a:ext cx="1676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89520" y="54547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781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09880" y="377208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56040" y="5111640"/>
              <a:ext cx="1015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943080" y="5226120"/>
              <a:ext cx="1270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485880" y="52196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77960" y="504180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termining details of the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states and state transition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1F0-266C-4C8E-AA13-0EBEE1433F6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stat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3720" y="5302080"/>
            <a:ext cx="565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94200" y="5302080"/>
            <a:ext cx="5637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37000" y="5302080"/>
            <a:ext cx="56484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6244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4176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21440" y="5491080"/>
            <a:ext cx="15015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63880" y="4475160"/>
            <a:ext cx="15051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0880" y="458784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72160" y="4587840"/>
            <a:ext cx="15019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6860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17880" y="54403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4648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246480" y="4080960"/>
            <a:ext cx="404496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822920" y="4080960"/>
            <a:ext cx="246852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402240" y="4080960"/>
            <a:ext cx="88920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61280" y="3949560"/>
            <a:ext cx="56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5291280"/>
            <a:ext cx="714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18240" y="6080040"/>
            <a:ext cx="803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41800" y="6080040"/>
            <a:ext cx="799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62120" y="6080040"/>
            <a:ext cx="803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14560" y="4978440"/>
            <a:ext cx="649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100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70680" y="4978440"/>
            <a:ext cx="650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6124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84920" y="362268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4828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82292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2436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02240" y="544032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30404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23200" y="5302080"/>
            <a:ext cx="4636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304040" y="3754440"/>
            <a:ext cx="674640" cy="67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74864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752148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27960" y="343548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17" idx="3"/>
            <a:endCxn id="517" idx="5"/>
          </p:cNvCxnSpPr>
          <p:nvPr/>
        </p:nvCxnSpPr>
        <p:spPr>
          <a:xfrm flipH="1" rot="16200000">
            <a:off x="2905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3" idx="3"/>
            <a:endCxn id="533" idx="5"/>
          </p:cNvCxnSpPr>
          <p:nvPr/>
        </p:nvCxnSpPr>
        <p:spPr>
          <a:xfrm flipH="1" rot="16200000">
            <a:off x="448380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5" idx="3"/>
            <a:endCxn id="535" idx="5"/>
          </p:cNvCxnSpPr>
          <p:nvPr/>
        </p:nvCxnSpPr>
        <p:spPr>
          <a:xfrm flipH="1" rot="16200000">
            <a:off x="6062760" y="5447880"/>
            <a:ext cx="2160" cy="47880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7" idx="3"/>
            <a:endCxn id="537" idx="5"/>
          </p:cNvCxnSpPr>
          <p:nvPr/>
        </p:nvCxnSpPr>
        <p:spPr>
          <a:xfrm flipH="1" rot="16200000">
            <a:off x="7639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E6D-BA83-428D-A57B-EC9F82442BB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1511280" y="4305240"/>
            <a:ext cx="7632720" cy="2476440"/>
            <a:chOff x="1511280" y="4305240"/>
            <a:chExt cx="7632720" cy="2476440"/>
          </a:xfrm>
        </p:grpSpPr>
        <p:sp>
          <p:nvSpPr>
            <p:cNvPr id="548" name=""/>
            <p:cNvSpPr/>
            <p:nvPr/>
          </p:nvSpPr>
          <p:spPr>
            <a:xfrm>
              <a:off x="6013440" y="5073480"/>
              <a:ext cx="1828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071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13680" y="43178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21440" y="6375240"/>
              <a:ext cx="1549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21360" y="5987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355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54680" y="430524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145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003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861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30560" y="573408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14560" y="509904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46240" y="4381560"/>
              <a:ext cx="419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545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403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370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228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086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22840" y="53276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27480" y="571500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11280" y="56386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86480" y="5791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52680" y="507996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89720" y="535932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91040" y="4724280"/>
              <a:ext cx="863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4730760" y="520704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714800" y="5746320"/>
              <a:ext cx="1270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728120" y="5632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42240" y="575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292960" y="55753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14760" y="584208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95520" y="584208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30798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37782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640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2698920" y="5771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03520" y="5842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93960" y="46735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05320" y="4673520"/>
              <a:ext cx="355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65560" y="468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778200" y="537804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79760" y="53211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822320" y="3206880"/>
            <a:ext cx="6553440" cy="3314520"/>
            <a:chOff x="1822320" y="3206880"/>
            <a:chExt cx="6553440" cy="3314520"/>
          </a:xfrm>
        </p:grpSpPr>
        <p:sp>
          <p:nvSpPr>
            <p:cNvPr id="591" name=""/>
            <p:cNvSpPr/>
            <p:nvPr/>
          </p:nvSpPr>
          <p:spPr>
            <a:xfrm>
              <a:off x="1822320" y="3206880"/>
              <a:ext cx="421668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42120" y="4083120"/>
              <a:ext cx="2933640" cy="243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063880" y="1835280"/>
            <a:ext cx="3238200" cy="4660920"/>
            <a:chOff x="2063880" y="1835280"/>
            <a:chExt cx="3238200" cy="4660920"/>
          </a:xfrm>
        </p:grpSpPr>
        <p:sp>
          <p:nvSpPr>
            <p:cNvPr id="594" name=""/>
            <p:cNvSpPr/>
            <p:nvPr/>
          </p:nvSpPr>
          <p:spPr>
            <a:xfrm>
              <a:off x="2063880" y="1835280"/>
              <a:ext cx="1066680" cy="23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68440" y="4057560"/>
              <a:ext cx="2933640" cy="2438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registers for combinatio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 (which value to comp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C81-0031-4441-8B3F-8E623699126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table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take internal structure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able ready for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752480" y="3276720"/>
            <a:ext cx="5854680" cy="2255400"/>
            <a:chOff x="1752480" y="3276720"/>
            <a:chExt cx="5854680" cy="2255400"/>
          </a:xfrm>
        </p:grpSpPr>
        <p:sp>
          <p:nvSpPr>
            <p:cNvPr id="601" name=""/>
            <p:cNvSpPr/>
            <p:nvPr/>
          </p:nvSpPr>
          <p:spPr>
            <a:xfrm>
              <a:off x="1896840" y="34527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52480" y="39290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63720" y="3708360"/>
              <a:ext cx="0" cy="156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47960" y="32767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5CCF-65BF-4EE8-BF17-3B1F44E7138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399960" y="4387680"/>
            <a:ext cx="5937120" cy="2273400"/>
            <a:chOff x="399960" y="4387680"/>
            <a:chExt cx="5937120" cy="2273400"/>
          </a:xfrm>
        </p:grpSpPr>
        <p:sp>
          <p:nvSpPr>
            <p:cNvPr id="606" name=""/>
            <p:cNvSpPr/>
            <p:nvPr/>
          </p:nvSpPr>
          <p:spPr>
            <a:xfrm>
              <a:off x="545760" y="4552920"/>
              <a:ext cx="5791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9960" y="5035680"/>
              <a:ext cx="558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50800" y="4813200"/>
              <a:ext cx="0" cy="15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01920" y="4387680"/>
              <a:ext cx="7999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5257800" y="5276880"/>
            <a:ext cx="3695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x is identical to last 3 bits of st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/closed is identical to first bit of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refore, we do not even need to implem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s to hold state, just us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784840" y="3124080"/>
            <a:ext cx="3181320" cy="1841400"/>
            <a:chOff x="5784840" y="3124080"/>
            <a:chExt cx="3181320" cy="1841400"/>
          </a:xfrm>
        </p:grpSpPr>
        <p:sp>
          <p:nvSpPr>
            <p:cNvPr id="612" name=""/>
            <p:cNvSpPr/>
            <p:nvPr/>
          </p:nvSpPr>
          <p:spPr>
            <a:xfrm>
              <a:off x="6712200" y="3676320"/>
              <a:ext cx="1320840" cy="66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86132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69360" y="3136680"/>
              <a:ext cx="635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82040" y="4622760"/>
              <a:ext cx="1117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65960" y="4336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7096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04200" y="3124080"/>
              <a:ext cx="596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05800" y="41655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34320" y="383508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69160" y="3390840"/>
              <a:ext cx="698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5784840" y="3771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943760" y="4171320"/>
              <a:ext cx="88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956720" y="4082400"/>
              <a:ext cx="633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33040" y="4178160"/>
              <a:ext cx="31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356680" y="4038480"/>
              <a:ext cx="6094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10400" y="42289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s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3680-D959-425C-9DAB-ECA043C0A4E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228600" y="3759120"/>
            <a:ext cx="4502160" cy="1866960"/>
            <a:chOff x="228600" y="3759120"/>
            <a:chExt cx="4502160" cy="1866960"/>
          </a:xfrm>
        </p:grpSpPr>
        <p:sp>
          <p:nvSpPr>
            <p:cNvPr id="631" name=""/>
            <p:cNvSpPr/>
            <p:nvPr/>
          </p:nvSpPr>
          <p:spPr>
            <a:xfrm>
              <a:off x="16318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176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034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47880" y="511164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31880" y="447660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63560" y="375912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715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8573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540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398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256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39800" y="47052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44800" y="509256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03440" y="51688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70000" y="445752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08360" y="41022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448080" y="458460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32080" y="521964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12840" y="521964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7971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24955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31813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1415880" y="514944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20840" y="52196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11280" y="405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22640" y="40514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82880" y="40640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495520" y="47556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97080" y="4699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8600" y="50166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473800" y="2635200"/>
            <a:ext cx="3657600" cy="4051440"/>
            <a:chOff x="5473800" y="2635200"/>
            <a:chExt cx="3657600" cy="4051440"/>
          </a:xfrm>
        </p:grpSpPr>
        <p:sp>
          <p:nvSpPr>
            <p:cNvPr id="662" name=""/>
            <p:cNvSpPr/>
            <p:nvPr/>
          </p:nvSpPr>
          <p:spPr>
            <a:xfrm>
              <a:off x="6388200" y="2635200"/>
              <a:ext cx="470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7096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1860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267760" y="30798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73800" y="26352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88280" y="62802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0724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50268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0880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0268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962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1672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106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4228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3772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384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3772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312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5176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456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7732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7276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888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77276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662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8680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806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50320" y="3753000"/>
              <a:ext cx="279000" cy="93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43840" y="374652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64720" y="3803400"/>
              <a:ext cx="27900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58240" y="3796920"/>
              <a:ext cx="291960" cy="90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64720" y="415980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58240" y="415296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90000" y="4267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75520" y="415980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69400" y="415296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35920" y="5790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31000" y="5790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37480" y="5784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22640" y="578484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3136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2488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4540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3892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0100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9488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8696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08084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12160" y="4959000"/>
              <a:ext cx="2538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06040" y="49528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1000" y="4959000"/>
              <a:ext cx="2790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94880" y="495288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07560" y="5486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12160" y="489636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06040" y="488952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01000" y="489636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094880" y="488952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90000" y="49654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62920" y="4965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18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18320" y="318744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05720" y="31687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08880" y="31813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4800" y="3181320"/>
              <a:ext cx="15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916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9160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5336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53360" y="33145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40760" y="3295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08880" y="3308400"/>
              <a:ext cx="163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59840" y="330840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2664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2664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884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75800" y="342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08880" y="3435120"/>
              <a:ext cx="227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94880" y="3435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861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86132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2504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1708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2320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9000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9000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5496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6292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6144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26640" y="55371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7408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80200" y="565776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700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1992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9284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83640" y="62355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90000" y="4711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9000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6292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56560" y="293364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62680" y="4832280"/>
              <a:ext cx="11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as combinational logic when few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an easily get too big for most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E706-E8BF-4BD2-8CFC-9F1BEA397C5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"/>
          <p:cNvGrpSpPr/>
          <p:nvPr/>
        </p:nvGrpSpPr>
        <p:grpSpPr>
          <a:xfrm>
            <a:off x="380880" y="4343400"/>
            <a:ext cx="4502160" cy="1866960"/>
            <a:chOff x="380880" y="4343400"/>
            <a:chExt cx="4502160" cy="1866960"/>
          </a:xfrm>
        </p:grpSpPr>
        <p:sp>
          <p:nvSpPr>
            <p:cNvPr id="764" name=""/>
            <p:cNvSpPr/>
            <p:nvPr/>
          </p:nvSpPr>
          <p:spPr>
            <a:xfrm>
              <a:off x="17841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699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557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00160" y="569592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84160" y="506088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15840" y="434340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238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096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0062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920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778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92080" y="528948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97080" y="567684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55720" y="575316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22280" y="504180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60640" y="468648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600360" y="516888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384360" y="580392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65120" y="580392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494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6478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33336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1568160" y="573372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473120" y="58039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63560" y="463572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74920" y="463572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35160" y="46483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2647800" y="5339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49360" y="52833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80880" y="56008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6273720" y="2730600"/>
            <a:ext cx="470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1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75648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2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0412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3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191440" y="3149640"/>
            <a:ext cx="863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359320" y="273060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511960" y="5334120"/>
            <a:ext cx="977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848200" y="480060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670360" y="480060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842080" y="4965840"/>
            <a:ext cx="3042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856120" y="4965840"/>
            <a:ext cx="304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3262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3198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118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3054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337080" y="4101840"/>
            <a:ext cx="2538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330960" y="409572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326280" y="4101840"/>
            <a:ext cx="2790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19800" y="409572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32480" y="46292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37080" y="4039200"/>
            <a:ext cx="2538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30960" y="403236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26280" y="4039200"/>
            <a:ext cx="2790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9800" y="403236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515280" y="41083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388200" y="41083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50880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638172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39432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714384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01676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02936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772812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60104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613640" y="36702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587920" y="4178160"/>
            <a:ext cx="241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676840" y="43624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83320" y="442584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5632200" y="443880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45160" y="447660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5632200" y="4514760"/>
            <a:ext cx="8892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645160" y="455292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632200" y="459108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45160" y="4629240"/>
            <a:ext cx="2556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76840" y="4654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3424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73424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45156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848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5808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310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994360" y="48070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1528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0232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4996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13736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73424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51528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521400" y="397512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156440" y="3975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38820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73760" y="39751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67280" y="302904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621480" y="3720960"/>
            <a:ext cx="14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619600" y="3276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756480" y="32637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775560" y="3276720"/>
            <a:ext cx="146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69080" y="328284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51528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51528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254720" y="3720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619600" y="3403440"/>
            <a:ext cx="17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91520" y="33908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410600" y="34034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404120" y="34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14996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4996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835760" y="37209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619600" y="3530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975440" y="3517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994520" y="353052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88400" y="3537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7684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98176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04512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17220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1804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245360" y="3841920"/>
            <a:ext cx="52056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140520" y="4883040"/>
            <a:ext cx="412560" cy="106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121440" y="4178160"/>
            <a:ext cx="673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97560" y="5867280"/>
            <a:ext cx="4495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-collector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zero whenever one connection is zero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therwise – wired A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19840" y="4991040"/>
            <a:ext cx="2095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-state 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an disconn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utp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a third output state: “no connection” or “flo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outputs together as long as only one is “enabl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collector gates c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utput 0, n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to i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ND with only w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569-E985-47AB-AE0F-6050CC6D815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6400800" y="3505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089080" y="5124600"/>
            <a:ext cx="1606320" cy="1523880"/>
            <a:chOff x="2089080" y="5124600"/>
            <a:chExt cx="1606320" cy="1523880"/>
          </a:xfrm>
        </p:grpSpPr>
        <p:sp>
          <p:nvSpPr>
            <p:cNvPr id="889" name=""/>
            <p:cNvSpPr/>
            <p:nvPr/>
          </p:nvSpPr>
          <p:spPr>
            <a:xfrm>
              <a:off x="2089080" y="544176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36680" y="5181480"/>
              <a:ext cx="0" cy="11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58920" y="5124600"/>
              <a:ext cx="15364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02888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368280" y="5378400"/>
            <a:ext cx="1486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n-inve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-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rcRect l="3168" t="0" r="0" b="0"/>
          <a:stretch/>
        </p:blipFill>
        <p:spPr>
          <a:xfrm>
            <a:off x="4241880" y="5022720"/>
            <a:ext cx="4660920" cy="14353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8305920" y="5010120"/>
            <a:ext cx="723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013280" y="5442120"/>
            <a:ext cx="62208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267760" y="4921200"/>
            <a:ext cx="812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229280" y="5378400"/>
            <a:ext cx="5205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values: “0”, “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care: “X” (must be 0 or 1 in real circui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value or state: “Z” — high impedance, infinite R, no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-state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input – output enable (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values are 0, 1, and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high, the gate functions norm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low, the gate is disconnected from wire at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more than one gate to be connected to the same output w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long as only one has its output enabled at any one time (otherwise, sparks could f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rot="5400000">
            <a:off x="7200720" y="3162240"/>
            <a:ext cx="6094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46748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17760" y="3352680"/>
            <a:ext cx="377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466840" y="3352680"/>
            <a:ext cx="540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475760" y="2895480"/>
            <a:ext cx="455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560-94EF-4312-A546-941C0020370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5295960" y="4343400"/>
            <a:ext cx="326376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hig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1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lo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0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is essentially a 2:1 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901800" y="3701880"/>
            <a:ext cx="4254480" cy="3194280"/>
            <a:chOff x="901800" y="3701880"/>
            <a:chExt cx="4254480" cy="3194280"/>
          </a:xfrm>
        </p:grpSpPr>
        <p:sp>
          <p:nvSpPr>
            <p:cNvPr id="907" name=""/>
            <p:cNvSpPr/>
            <p:nvPr/>
          </p:nvSpPr>
          <p:spPr>
            <a:xfrm>
              <a:off x="3079800" y="370188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079800" y="3891960"/>
              <a:ext cx="291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73320" y="370188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70320" y="473076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2470320" y="4921200"/>
              <a:ext cx="2919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63840" y="47307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76400" y="3898800"/>
              <a:ext cx="1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63880" y="38988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26692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6388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774880" y="4927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09920" y="38988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57600" y="38862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89280" y="3898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079800" y="492768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683160" y="390528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92680" y="389880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238560" y="4006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2641680" y="5022360"/>
              <a:ext cx="0" cy="12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641680" y="62546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39840" y="64260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29080" y="64008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55800" y="4102200"/>
              <a:ext cx="533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58920" y="5118120"/>
              <a:ext cx="507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3054240" y="5873760"/>
              <a:ext cx="406440" cy="393480"/>
              <a:chOff x="3054240" y="5873760"/>
              <a:chExt cx="406440" cy="393480"/>
            </a:xfrm>
          </p:grpSpPr>
          <p:sp>
            <p:nvSpPr>
              <p:cNvPr id="932" name=""/>
              <p:cNvSpPr/>
              <p:nvPr/>
            </p:nvSpPr>
            <p:spPr>
              <a:xfrm flipV="1">
                <a:off x="3054240" y="5949720"/>
                <a:ext cx="19044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>
                <a:off x="3244680" y="5949720"/>
                <a:ext cx="21600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054240" y="6261120"/>
                <a:ext cx="39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219480" y="5873760"/>
                <a:ext cx="76320" cy="7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 flipV="1">
              <a:off x="3251160" y="62798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97560" y="3708360"/>
              <a:ext cx="558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01800" y="3733920"/>
              <a:ext cx="1104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52560" y="477504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65160" y="623556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and multiplex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make sure never more than one "driver" for a wire at any one ti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lling high and low at the same time can severely damage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make sure to only use value on wire when its being driven (using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ing value may cause fail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ri-state gates to implement an economical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1EF-08E3-4A0A-8933-C9BB7547A84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1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8000"/>
          </a:bodyPr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ring pattern recogniz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put (X) and one output 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asserted whenever the input sequence …010… has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, as long as the sequence …100… has never been s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1: understanding the problem sta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input/output behavior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0 0 1 0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1 0 1 0 1 0 0 0 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1 1 0 1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0 0 0 0 1 0 0 0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C39-F0C1-4500-9885-F164A41583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43440" y="54547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943440" y="5759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3936960" y="54482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115160" y="54687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08680" y="546264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114800" y="547992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108320" y="547344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06760" y="559440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00640" y="558792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4394160" y="5472000"/>
            <a:ext cx="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4635360" y="54100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4641840" y="5397120"/>
            <a:ext cx="255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 flipV="1">
            <a:off x="4590720" y="535896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603680" y="5321160"/>
            <a:ext cx="637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4590720" y="528300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4603680" y="5244840"/>
            <a:ext cx="637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 flipV="1">
            <a:off x="4590720" y="520668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4603680" y="5181480"/>
            <a:ext cx="2556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4635360" y="515628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4521240" y="469260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 flipV="1">
            <a:off x="4635360" y="491508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576680" y="4838400"/>
            <a:ext cx="115560" cy="75960"/>
            <a:chOff x="4576680" y="4838400"/>
            <a:chExt cx="115560" cy="75960"/>
          </a:xfrm>
        </p:grpSpPr>
        <p:sp>
          <p:nvSpPr>
            <p:cNvPr id="965" name=""/>
            <p:cNvSpPr/>
            <p:nvPr/>
          </p:nvSpPr>
          <p:spPr>
            <a:xfrm>
              <a:off x="4576680" y="4908600"/>
              <a:ext cx="11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4576680" y="4838400"/>
              <a:ext cx="511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41120" y="4851360"/>
              <a:ext cx="511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4635360" y="496584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43440" y="60260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43440" y="63309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3936960" y="60199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5160" y="60404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08680" y="603396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605160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08320" y="604512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06760" y="616572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00640" y="615960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4394160" y="60447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816360" y="5543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435480" y="55436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3454560" y="540396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3816360" y="5670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435480" y="5670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3"/>
          <a:stretch/>
        </p:blipFill>
        <p:spPr>
          <a:xfrm>
            <a:off x="3454560" y="565776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4635360" y="5041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635360" y="497844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16360" y="6114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435480" y="61149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3454560" y="597528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3816360" y="6242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35480" y="62420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5"/>
          <a:stretch/>
        </p:blipFill>
        <p:spPr>
          <a:xfrm>
            <a:off x="3454560" y="622944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4451400" y="6178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451400" y="5607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635360" y="5486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576680" y="560700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41840" y="56070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35360" y="56134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576680" y="617868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6"/>
          <a:stretch/>
        </p:blipFill>
        <p:spPr>
          <a:xfrm>
            <a:off x="4724280" y="5719680"/>
            <a:ext cx="482760" cy="15408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1181160" y="5581800"/>
            <a:ext cx="193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-collect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245200" y="5429160"/>
            <a:ext cx="29080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ouputs wired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"wired-AN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form (AB)'(CD)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pen-collector gates and wired-AN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collector: another way to connect gate outputs to the same 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 only has the ability to pull its output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cannot actively drive the wire high (default – pulled high through resis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-AND can be implemented with open collector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and B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 and D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one gate output is low and the other high, then low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both gate outputs are "1", the wire value "floats", pulled high by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to high transition usually slower than it would have been with a gate pulling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nce, the two NAND functions are AND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A4E-8822-46C8-A03C-C258AF89F2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"/>
          <p:cNvGrpSpPr/>
          <p:nvPr/>
        </p:nvGrpSpPr>
        <p:grpSpPr>
          <a:xfrm>
            <a:off x="3232080" y="3733920"/>
            <a:ext cx="5149800" cy="2869560"/>
            <a:chOff x="3232080" y="3733920"/>
            <a:chExt cx="5149800" cy="2869560"/>
          </a:xfrm>
        </p:grpSpPr>
        <p:sp>
          <p:nvSpPr>
            <p:cNvPr id="1008" name=""/>
            <p:cNvSpPr/>
            <p:nvPr/>
          </p:nvSpPr>
          <p:spPr>
            <a:xfrm>
              <a:off x="52830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688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6546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99000" y="6089400"/>
              <a:ext cx="13716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83000" y="5454360"/>
              <a:ext cx="18288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14680" y="4736880"/>
              <a:ext cx="4194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8230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5088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5054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1912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8770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91280" y="568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95920" y="6070320"/>
              <a:ext cx="10285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32080" y="5994000"/>
              <a:ext cx="9777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54920" y="614664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721120" y="5435280"/>
              <a:ext cx="990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59480" y="50796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7099200" y="556236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83200" y="619740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67080" y="6197400"/>
              <a:ext cx="12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4482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61466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8324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4521240" y="6127200"/>
              <a:ext cx="1015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25840" y="619740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62400" y="50288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73760" y="50288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34000" y="504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6146640" y="573372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848200" y="567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4921200" y="4438440"/>
              <a:ext cx="0" cy="176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927320" y="4444560"/>
              <a:ext cx="194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054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912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8770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7909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767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51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64706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57848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0990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689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547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12756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(new data-path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number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3 code digits a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de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m loadable from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3 load signal inputs (net gain in input (4*3)–3=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be done with 2 signals and deco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d1, ld2, ld3, load n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7C8-34A7-4E9A-BC26-ABEA0A7131C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c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sta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/O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umerate states for the "goa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with erro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0F3-6FED-455A-9471-5BD573A7094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 draw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strings that must be recognized, i.e., 010 and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956200" y="3219480"/>
            <a:ext cx="905040" cy="3098880"/>
            <a:chOff x="5956200" y="3219480"/>
            <a:chExt cx="905040" cy="3098880"/>
          </a:xfrm>
        </p:grpSpPr>
        <p:sp>
          <p:nvSpPr>
            <p:cNvPr id="94" name=""/>
            <p:cNvSpPr/>
            <p:nvPr/>
          </p:nvSpPr>
          <p:spPr>
            <a:xfrm>
              <a:off x="61848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84800" y="466740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611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848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562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084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4" idx="3"/>
              <a:endCxn id="100" idx="7"/>
            </p:cNvCxnSpPr>
            <p:nvPr/>
          </p:nvCxnSpPr>
          <p:spPr>
            <a:xfrm flipH="1">
              <a:off x="64990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101" idx="4"/>
              <a:endCxn id="102" idx="0"/>
            </p:cNvCxnSpPr>
            <p:nvPr/>
          </p:nvCxnSpPr>
          <p:spPr>
            <a:xfrm>
              <a:off x="63367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0" idx="4"/>
              <a:endCxn id="101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7" name=""/>
          <p:cNvGrpSpPr/>
          <p:nvPr/>
        </p:nvGrpSpPr>
        <p:grpSpPr>
          <a:xfrm>
            <a:off x="7175520" y="3219480"/>
            <a:ext cx="1955520" cy="3225240"/>
            <a:chOff x="7175520" y="3219480"/>
            <a:chExt cx="1955520" cy="3225240"/>
          </a:xfrm>
        </p:grpSpPr>
        <p:sp>
          <p:nvSpPr>
            <p:cNvPr id="108" name=""/>
            <p:cNvSpPr/>
            <p:nvPr/>
          </p:nvSpPr>
          <p:spPr>
            <a:xfrm>
              <a:off x="75564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755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94480" y="575964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56400" y="4692600"/>
              <a:ext cx="3430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27800" y="4159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564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800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04" idx="5"/>
              <a:endCxn id="115" idx="1"/>
            </p:cNvCxnSpPr>
            <p:nvPr/>
          </p:nvCxnSpPr>
          <p:spPr>
            <a:xfrm>
              <a:off x="71848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115" idx="4"/>
              <a:endCxn id="116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6" idx="4"/>
              <a:endCxn id="117" idx="0"/>
            </p:cNvCxnSpPr>
            <p:nvPr/>
          </p:nvCxnSpPr>
          <p:spPr>
            <a:xfrm>
              <a:off x="77083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117" idx="5"/>
              <a:endCxn id="117" idx="7"/>
            </p:cNvCxnSpPr>
            <p:nvPr/>
          </p:nvCxnSpPr>
          <p:spPr>
            <a:xfrm flipH="1" flipV="1" rot="5400000">
              <a:off x="7708680" y="5986440"/>
              <a:ext cx="324360" cy="2520"/>
            </a:xfrm>
            <a:prstGeom prst="curvedConnector5">
              <a:avLst>
                <a:gd name="adj1" fmla="val -91111"/>
                <a:gd name="adj2" fmla="val 17083333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5423040" y="2787480"/>
            <a:ext cx="1828800" cy="609480"/>
            <a:chOff x="5423040" y="2787480"/>
            <a:chExt cx="1828800" cy="609480"/>
          </a:xfrm>
        </p:grpSpPr>
        <p:sp>
          <p:nvSpPr>
            <p:cNvPr id="123" name=""/>
            <p:cNvSpPr/>
            <p:nvPr/>
          </p:nvSpPr>
          <p:spPr>
            <a:xfrm>
              <a:off x="6870960" y="28382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23040" y="27874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94640" y="28634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80240" y="3092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6062-CFDD-4DED-A7D1-8130238780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tate S3: have recognized …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0 then have …0100 = ...100 (state S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1 then have …0101 = …01 (state 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1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0 (no 1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1 if input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4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1 (no 0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4 if input 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21160" y="2787480"/>
            <a:ext cx="3809880" cy="3657240"/>
            <a:chOff x="5321160" y="2787480"/>
            <a:chExt cx="3809880" cy="3657240"/>
          </a:xfrm>
        </p:grpSpPr>
        <p:sp>
          <p:nvSpPr>
            <p:cNvPr id="129" name=""/>
            <p:cNvSpPr/>
            <p:nvPr/>
          </p:nvSpPr>
          <p:spPr>
            <a:xfrm>
              <a:off x="632448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21160" y="492120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211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927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64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848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70600" y="28382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84800" y="46670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751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07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2680" y="27874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4480" y="575928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848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096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56400" y="469260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27800" y="41590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64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00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084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94280" y="28638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4" idx="3"/>
              <a:endCxn id="151" idx="7"/>
            </p:cNvCxnSpPr>
            <p:nvPr/>
          </p:nvCxnSpPr>
          <p:spPr>
            <a:xfrm flipH="1">
              <a:off x="649836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4" idx="5"/>
              <a:endCxn id="148" idx="1"/>
            </p:cNvCxnSpPr>
            <p:nvPr/>
          </p:nvCxnSpPr>
          <p:spPr>
            <a:xfrm>
              <a:off x="718452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48" idx="4"/>
              <a:endCxn id="149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49" idx="4"/>
              <a:endCxn id="150" idx="0"/>
            </p:cNvCxnSpPr>
            <p:nvPr/>
          </p:nvCxnSpPr>
          <p:spPr>
            <a:xfrm>
              <a:off x="7708320" y="514944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2" idx="3"/>
              <a:endCxn id="153" idx="1"/>
            </p:cNvCxnSpPr>
            <p:nvPr/>
          </p:nvCxnSpPr>
          <p:spPr>
            <a:xfrm>
              <a:off x="6174720" y="508320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4"/>
              <a:endCxn id="152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0" idx="5"/>
              <a:endCxn id="150" idx="7"/>
            </p:cNvCxnSpPr>
            <p:nvPr/>
          </p:nvCxnSpPr>
          <p:spPr>
            <a:xfrm flipH="1" flipV="1" rot="5400000">
              <a:off x="7709400" y="598680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5879880" y="3092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53" idx="6"/>
              <a:endCxn id="150" idx="2"/>
            </p:cNvCxnSpPr>
            <p:nvPr/>
          </p:nvCxnSpPr>
          <p:spPr>
            <a:xfrm>
              <a:off x="6565680" y="598752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3" idx="7"/>
              <a:endCxn id="152" idx="5"/>
            </p:cNvCxnSpPr>
            <p:nvPr/>
          </p:nvCxnSpPr>
          <p:spPr>
            <a:xfrm flipV="1">
              <a:off x="6498720" y="508284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5" name=""/>
          <p:cNvGrpSpPr/>
          <p:nvPr/>
        </p:nvGrpSpPr>
        <p:grpSpPr>
          <a:xfrm>
            <a:off x="4788000" y="3396600"/>
            <a:ext cx="4419000" cy="924840"/>
            <a:chOff x="4788000" y="3396600"/>
            <a:chExt cx="4419000" cy="924840"/>
          </a:xfrm>
        </p:grpSpPr>
        <p:sp>
          <p:nvSpPr>
            <p:cNvPr id="166" name=""/>
            <p:cNvSpPr/>
            <p:nvPr/>
          </p:nvSpPr>
          <p:spPr>
            <a:xfrm>
              <a:off x="67687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01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708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/>
            <p:nvPr/>
          </p:nvCxnSpPr>
          <p:spPr>
            <a:xfrm flipH="1" flipV="1" rot="5400000">
              <a:off x="7708320" y="385308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/>
            <p:nvPr/>
          </p:nvCxnSpPr>
          <p:spPr>
            <a:xfrm flipH="1" flipV="1" rot="5400000">
              <a:off x="5996520" y="386280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47880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CB9-8E1D-42CC-9596-860777DB94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 and S5 still have incomplete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= …01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01)1(0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5 = …10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10)1(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as much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same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minimization lead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number of bit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ll states have a comple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transitions we have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321160" y="2863800"/>
            <a:ext cx="3809880" cy="3657240"/>
            <a:chOff x="5321160" y="2863800"/>
            <a:chExt cx="3809880" cy="3657240"/>
          </a:xfrm>
        </p:grpSpPr>
        <p:sp>
          <p:nvSpPr>
            <p:cNvPr id="175" name=""/>
            <p:cNvSpPr/>
            <p:nvPr/>
          </p:nvSpPr>
          <p:spPr>
            <a:xfrm>
              <a:off x="632448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21160" y="49975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927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64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848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70600" y="29145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84800" y="47433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755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11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6200" y="42102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22680" y="28638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94480" y="58356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848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0960" y="530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6400" y="4768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27800" y="42354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2780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564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800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800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800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084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084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084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94280" y="2940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" name=""/>
            <p:cNvCxnSpPr>
              <a:stCxn id="200" idx="3"/>
              <a:endCxn id="197" idx="7"/>
            </p:cNvCxnSpPr>
            <p:nvPr/>
          </p:nvCxnSpPr>
          <p:spPr>
            <a:xfrm flipH="1">
              <a:off x="649836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2" name=""/>
            <p:cNvCxnSpPr>
              <a:stCxn id="200" idx="5"/>
              <a:endCxn id="194" idx="1"/>
            </p:cNvCxnSpPr>
            <p:nvPr/>
          </p:nvCxnSpPr>
          <p:spPr>
            <a:xfrm>
              <a:off x="718452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"/>
            <p:cNvCxnSpPr>
              <a:stCxn id="194" idx="4"/>
              <a:endCxn id="195" idx="0"/>
            </p:cNvCxnSpPr>
            <p:nvPr/>
          </p:nvCxnSpPr>
          <p:spPr>
            <a:xfrm>
              <a:off x="77083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>
              <a:stCxn id="195" idx="4"/>
              <a:endCxn id="196" idx="0"/>
            </p:cNvCxnSpPr>
            <p:nvPr/>
          </p:nvCxnSpPr>
          <p:spPr>
            <a:xfrm>
              <a:off x="7708320" y="5225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>
              <a:stCxn id="198" idx="3"/>
              <a:endCxn id="199" idx="1"/>
            </p:cNvCxnSpPr>
            <p:nvPr/>
          </p:nvCxnSpPr>
          <p:spPr>
            <a:xfrm>
              <a:off x="6174720" y="515952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>
              <a:stCxn id="197" idx="4"/>
              <a:endCxn id="198" idx="0"/>
            </p:cNvCxnSpPr>
            <p:nvPr/>
          </p:nvCxnSpPr>
          <p:spPr>
            <a:xfrm>
              <a:off x="63367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196" idx="5"/>
              <a:endCxn id="196" idx="7"/>
            </p:cNvCxnSpPr>
            <p:nvPr/>
          </p:nvCxnSpPr>
          <p:spPr>
            <a:xfrm flipH="1" flipV="1" rot="5400000">
              <a:off x="7709400" y="606312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5879880" y="3168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199" idx="6"/>
              <a:endCxn id="196" idx="2"/>
            </p:cNvCxnSpPr>
            <p:nvPr/>
          </p:nvCxnSpPr>
          <p:spPr>
            <a:xfrm>
              <a:off x="6565680" y="606384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199" idx="7"/>
              <a:endCxn id="198" idx="5"/>
            </p:cNvCxnSpPr>
            <p:nvPr/>
          </p:nvCxnSpPr>
          <p:spPr>
            <a:xfrm flipV="1">
              <a:off x="6498720" y="515916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4788000" y="3472560"/>
            <a:ext cx="4419000" cy="924840"/>
            <a:chOff x="4788000" y="3472560"/>
            <a:chExt cx="4419000" cy="924840"/>
          </a:xfrm>
        </p:grpSpPr>
        <p:sp>
          <p:nvSpPr>
            <p:cNvPr id="212" name=""/>
            <p:cNvSpPr/>
            <p:nvPr/>
          </p:nvSpPr>
          <p:spPr>
            <a:xfrm>
              <a:off x="67687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401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708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/>
            <p:nvPr/>
          </p:nvCxnSpPr>
          <p:spPr>
            <a:xfrm flipH="1" flipV="1" rot="5400000">
              <a:off x="7708320" y="392904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/>
            <p:nvPr/>
          </p:nvCxnSpPr>
          <p:spPr>
            <a:xfrm flipH="1" flipV="1" rot="5400000">
              <a:off x="5996520" y="393876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47880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477120" y="4092120"/>
            <a:ext cx="2221920" cy="1311840"/>
            <a:chOff x="6477120" y="4092120"/>
            <a:chExt cx="2221920" cy="1311840"/>
          </a:xfrm>
        </p:grpSpPr>
        <p:sp>
          <p:nvSpPr>
            <p:cNvPr id="219" name=""/>
            <p:cNvSpPr/>
            <p:nvPr/>
          </p:nvSpPr>
          <p:spPr>
            <a:xfrm>
              <a:off x="7848360" y="499752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77120" y="43117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0" y="4692600"/>
              <a:ext cx="558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198" idx="7"/>
              <a:endCxn id="194" idx="3"/>
            </p:cNvCxnSpPr>
            <p:nvPr/>
          </p:nvCxnSpPr>
          <p:spPr>
            <a:xfrm flipV="1">
              <a:off x="6498720" y="4092120"/>
              <a:ext cx="104796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195" idx="2"/>
              <a:endCxn id="198" idx="6"/>
            </p:cNvCxnSpPr>
            <p:nvPr/>
          </p:nvCxnSpPr>
          <p:spPr>
            <a:xfrm flipH="1">
              <a:off x="6564960" y="4997160"/>
              <a:ext cx="914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2A2-0A00-422A-968C-16F4FA944F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251460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X, rst, Q0, Q1, Q2, Z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Q0, Q1, Q2,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//reset st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//strings ending in   ..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//strings ending in  ...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//strings ending in ...0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//strings ending in   ...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//strings ending in  ...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//strings ending in ..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 = (state == S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41800" y="2514600"/>
            <a:ext cx="4546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rst)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if (X) state = S4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X) state = S2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X) state = S4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X) state = S2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X) state = S4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X) state = S2 else state = S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: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default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display (“invalid state reached”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= 3’bxx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3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description including state assignment (or state enco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16600" y="24382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088-7F11-43ED-A8FA-30534B0FD1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43720" cy="4394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ample inputs and outputs to understand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a state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equences of states and transitions for sequences to be recogn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number of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missing transitions;  reuse states as much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assignment or enco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de states with unique patt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re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 I/O behavior of your state diagram to ensure it matche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811-3588-495E-B453-675C26CDA20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676160" y="4343400"/>
            <a:ext cx="5949720" cy="1955880"/>
            <a:chOff x="1676160" y="4343400"/>
            <a:chExt cx="5949720" cy="1955880"/>
          </a:xfrm>
        </p:grpSpPr>
        <p:sp>
          <p:nvSpPr>
            <p:cNvPr id="232" name=""/>
            <p:cNvSpPr/>
            <p:nvPr/>
          </p:nvSpPr>
          <p:spPr>
            <a:xfrm>
              <a:off x="1733400" y="4343400"/>
              <a:ext cx="16250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de Input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63720" y="4343400"/>
              <a:ext cx="15998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13160" y="4343400"/>
              <a:ext cx="241272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676160" y="4572000"/>
              <a:ext cx="534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29160" y="4362480"/>
              <a:ext cx="0" cy="180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nchronous 3-bit counter has a mode control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0, the counter counts up in the binary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1, the counter advances through the Gray code sequenc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:   000, 001, 010, 011, 100, 101, 110, 11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y:     000, 001, 011, 010, 110, 111, 101,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I/O behavior (part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F10-3CBD-4935-B462-0B5A24D5E4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25:01Z</dcterms:created>
  <dc:creator>Gaetano Borriello</dc:creator>
  <dc:description/>
  <dc:language>en-US</dc:language>
  <cp:lastModifiedBy>Gaetano Borriello</cp:lastModifiedBy>
  <cp:lastPrinted>2000-05-11T19:02:48Z</cp:lastPrinted>
  <dcterms:modified xsi:type="dcterms:W3CDTF">2005-01-24T07:02:21Z</dcterms:modified>
  <cp:revision>30</cp:revision>
  <dc:subject/>
  <dc:title>Sequenti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