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CEF9-DADF-4795-A057-CAA7955AF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9E67-54E7-4A07-AE40-5A6A51BFD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DF79-4EBE-48ED-8202-13A578AC6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9C50-7963-4A49-951E-22C0208C4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06F7-6B07-4F6E-9234-82D6B0E96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64978-C7E3-41FC-A93C-49E24332E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22540-3D06-4AC0-AA6E-46CF0C833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B5599-44BD-419F-8915-88BBA2BBE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5B140-AB45-439E-932A-1A766193F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226F-1191-4929-B128-F8CC5AE9D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AA2B6-4CD5-4EE2-B008-37C28DFB12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38E0F-80CF-40DA-8940-51D0094CB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AFBFC-6C53-4F45-8EAA-4F2ABEFC1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20601-4BF2-4F07-A870-439C24E7D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D2AA-C389-46FB-8539-A079A336C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405AD-ACAA-4696-8618-5E9564EAB5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D675F-3521-49E1-9DBA-1105D03F8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A1C7-A0BD-40B5-9CD1-6E35CE4A0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Jack Donovan</cp:lastModifiedBy>
  <dcterms:modified xsi:type="dcterms:W3CDTF">2009-05-04T21:26:45Z</dcterms:modified>
  <cp:revision>87</cp:revision>
  <dc:subject/>
  <dc:title>AT Basic System Example</dc:title>
</cp:coreProperties>
</file>