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CF48-52FE-44F5-9208-815BB3C0B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F112-23BF-42BC-A2D6-2B4FBE2CC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0C68-F920-4F75-B711-9200BB696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D44F-1468-493C-9B74-AEBB904E8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4C52-5E97-414A-96BB-A3AAF8E82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DF72-8861-4C3C-A0D5-E1FF6CA7A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085F-A6F0-4E15-B72F-93AEDDD2D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EE6F-62C4-4EBF-8A0B-01FBAE480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5AE4-F03D-40A6-89CD-3904FF421E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0BF05-9FC6-4EA6-A14C-67B39555B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A82EB-6F90-4DEF-A8B5-A2ABD9D96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4CBF-C18A-464C-AE25-19AFB5FF84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2333-6848-479A-9BF5-D0A677BEF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E0DA-2E98-44CC-A868-E33DDF53A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0A8B-62B9-48DB-A362-C14A6FEE2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CE15E-21CA-435A-A449-BB94FAE6E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437D-ECB3-42A7-93B4-4865C6D9A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BFBA-C8DB-4F4E-80D8-9E04F5653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Jack Donovan</cp:lastModifiedBy>
  <dcterms:modified xsi:type="dcterms:W3CDTF">2009-06-25T22:11:39Z</dcterms:modified>
  <cp:revision>84</cp:revision>
  <dc:subject/>
  <dc:title>AT Basic System Example</dc:title>
</cp:coreProperties>
</file>