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454-2C63-43CC-9DD1-B5FF03E8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6CE2-6F19-4FD1-9D47-88D43BC0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CA24-B381-418C-9115-BEF18DC0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4948-CB62-4FF3-B7DC-48B2EF70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7902-12A2-497B-9F97-8778E9B3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4C74-6E33-4218-8DF3-354FD0DB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3F4E-8178-48D2-ADED-C3A9A35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3D0F-B502-4C6B-BC64-9AA4282B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68D0-7CE2-48B5-B072-000C16C7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1B5B-663B-48C8-9773-6DA5D368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AFE5-0FB6-441A-9C89-4922270C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C66-CB38-4080-A136-C634C7DF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7046-741C-49EA-BBF8-C2F09F07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520B-26A9-4697-8DB6-3CD4795C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E4A8-B3CC-48E4-8203-E554918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77A1-48A1-4FF0-A312-449A4974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9F73-652C-46DB-9138-C7490824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F6A9-9DEE-4DAE-B5F1-F049AE6A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BCF-34D8-42F8-822B-D25F595B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2A8C-74D3-4763-A51F-1CF202FA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8FE-795A-4542-A13D-8952BD99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A385-82D1-4049-AD6D-A07EDC9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FB9-C08E-45D3-A2C1-A361942A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205E-7B67-46E7-91EA-02B0882E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54280" y="6483240"/>
            <a:ext cx="396072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47856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3C6F05A-B6DC-4BBB-9B4F-42DAE927F1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3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EFCF271-F7CF-4E12-9F2E-17A1FB4BB12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493640"/>
            <a:ext cx="880740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iting don’t c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 for simp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ic re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-level logic and canonical forms realized with NANDs and 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level logic, converting between ANDs and 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5D34-2E55-4AC3-BE26-E6F4BD8B604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747360" y="1839960"/>
            <a:ext cx="2335680" cy="1711440"/>
            <a:chOff x="747360" y="1839960"/>
            <a:chExt cx="2335680" cy="1711440"/>
          </a:xfrm>
        </p:grpSpPr>
        <p:grpSp>
          <p:nvGrpSpPr>
            <p:cNvPr id="810" name=""/>
            <p:cNvGrpSpPr/>
            <p:nvPr/>
          </p:nvGrpSpPr>
          <p:grpSpPr>
            <a:xfrm>
              <a:off x="747360" y="2705040"/>
              <a:ext cx="662040" cy="451080"/>
              <a:chOff x="747360" y="2705040"/>
              <a:chExt cx="662040" cy="45108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844200" y="273708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47360" y="270504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"/>
            <p:cNvGrpSpPr/>
            <p:nvPr/>
          </p:nvGrpSpPr>
          <p:grpSpPr>
            <a:xfrm>
              <a:off x="2421000" y="2711520"/>
              <a:ext cx="662040" cy="450720"/>
              <a:chOff x="2421000" y="2711520"/>
              <a:chExt cx="662040" cy="450720"/>
            </a:xfrm>
          </p:grpSpPr>
          <p:sp>
            <p:nvSpPr>
              <p:cNvPr id="814" name=""/>
              <p:cNvSpPr/>
              <p:nvPr/>
            </p:nvSpPr>
            <p:spPr>
              <a:xfrm>
                <a:off x="2421000" y="274320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873520" y="271152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1065240" y="1839960"/>
              <a:ext cx="1711440" cy="1711440"/>
              <a:chOff x="1065240" y="1839960"/>
              <a:chExt cx="1711440" cy="1711440"/>
            </a:xfrm>
          </p:grpSpPr>
          <p:sp>
            <p:nvSpPr>
              <p:cNvPr id="817" name=""/>
              <p:cNvSpPr/>
              <p:nvPr/>
            </p:nvSpPr>
            <p:spPr>
              <a:xfrm>
                <a:off x="1986120" y="2744640"/>
                <a:ext cx="790560" cy="806760"/>
              </a:xfrm>
              <a:custGeom>
                <a:avLst/>
                <a:gdLst>
                  <a:gd name="textAreaLeft" fmla="*/ 38520 w 790560"/>
                  <a:gd name="textAreaRight" fmla="*/ 752040 w 790560"/>
                  <a:gd name="textAreaTop" fmla="*/ 38520 h 806760"/>
                  <a:gd name="textAreaBottom" fmla="*/ 768240 h 806760"/>
                </a:gdLst>
                <a:ahLst/>
                <a:rect l="textAreaLeft" t="textAreaTop" r="textAreaRight" b="textAreaBottom"/>
                <a:pathLst>
                  <a:path w="21600" h="22042">
                    <a:moveTo>
                      <a:pt x="3600" y="0"/>
                    </a:moveTo>
                    <a:arcTo wR="3600" hR="3600" stAng="16200000" swAng="-5400000"/>
                    <a:lnTo>
                      <a:pt x="0" y="18442"/>
                    </a:lnTo>
                    <a:arcTo wR="3600" hR="3600" stAng="10800000" swAng="-5400000"/>
                    <a:lnTo>
                      <a:pt x="18000" y="2204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986120" y="1839960"/>
                <a:ext cx="322200" cy="1695240"/>
              </a:xfrm>
              <a:custGeom>
                <a:avLst/>
                <a:gdLst>
                  <a:gd name="textAreaLeft" fmla="*/ 15480 w 322200"/>
                  <a:gd name="textAreaRight" fmla="*/ 306720 w 322200"/>
                  <a:gd name="textAreaTop" fmla="*/ 15480 h 1695240"/>
                  <a:gd name="textAreaBottom" fmla="*/ 1679760 h 1695240"/>
                </a:gdLst>
                <a:ahLst/>
                <a:rect l="textAreaLeft" t="textAreaTop" r="textAreaRight" b="textAreaBottom"/>
                <a:pathLst>
                  <a:path w="21600" h="113545">
                    <a:moveTo>
                      <a:pt x="3600" y="0"/>
                    </a:moveTo>
                    <a:arcTo wR="3600" hR="3600" stAng="16200000" swAng="-5400000"/>
                    <a:lnTo>
                      <a:pt x="0" y="109945"/>
                    </a:lnTo>
                    <a:arcTo wR="3600" hR="3600" stAng="10800000" swAng="-5400000"/>
                    <a:lnTo>
                      <a:pt x="18000" y="113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065240" y="2292480"/>
                <a:ext cx="774720" cy="3222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517760" y="1859040"/>
                <a:ext cx="758880" cy="7412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1114560" y="2340000"/>
                <a:ext cx="257040" cy="758880"/>
              </a:xfrm>
              <a:custGeom>
                <a:avLst/>
                <a:gdLst>
                  <a:gd name="textAreaLeft" fmla="*/ 12240 w 257040"/>
                  <a:gd name="textAreaRight" fmla="*/ 244800 w 257040"/>
                  <a:gd name="textAreaTop" fmla="*/ 12240 h 758880"/>
                  <a:gd name="textAreaBottom" fmla="*/ 746640 h 758880"/>
                </a:gdLst>
                <a:ahLst/>
                <a:rect l="textAreaLeft" t="textAreaTop" r="textAreaRight" b="textAreaBottom"/>
                <a:pathLst>
                  <a:path w="21600" h="63712">
                    <a:moveTo>
                      <a:pt x="3600" y="0"/>
                    </a:moveTo>
                    <a:arcTo wR="3600" hR="3600" stAng="16200000" swAng="-5400000"/>
                    <a:lnTo>
                      <a:pt x="0" y="60112"/>
                    </a:lnTo>
                    <a:arcTo wR="3600" hR="3600" stAng="10800000" swAng="-5400000"/>
                    <a:lnTo>
                      <a:pt x="18000" y="6371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2" name=""/>
          <p:cNvGrpSpPr/>
          <p:nvPr/>
        </p:nvGrpSpPr>
        <p:grpSpPr>
          <a:xfrm>
            <a:off x="713160" y="1557360"/>
            <a:ext cx="2775960" cy="2365200"/>
            <a:chOff x="713160" y="1557360"/>
            <a:chExt cx="2775960" cy="2365200"/>
          </a:xfrm>
        </p:grpSpPr>
        <p:sp>
          <p:nvSpPr>
            <p:cNvPr id="823" name=""/>
            <p:cNvSpPr/>
            <p:nvPr/>
          </p:nvSpPr>
          <p:spPr>
            <a:xfrm>
              <a:off x="1182240" y="187812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1960" y="1876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9220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98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19126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922040" y="1785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839680" y="222264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904840" y="2511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28480" y="155736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007640" y="1785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455480" y="1789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998280" y="2236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174320" y="2816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084040" y="2814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220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3698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19126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455480" y="36180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007640" y="269244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1920" y="35924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007640" y="2703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455480" y="2706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998280" y="3154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3160" y="299556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1012680" y="4368960"/>
            <a:ext cx="4908600" cy="696600"/>
            <a:chOff x="1012680" y="4368960"/>
            <a:chExt cx="4908600" cy="696600"/>
          </a:xfrm>
        </p:grpSpPr>
        <p:sp>
          <p:nvSpPr>
            <p:cNvPr id="848" name=""/>
            <p:cNvSpPr/>
            <p:nvPr/>
          </p:nvSpPr>
          <p:spPr>
            <a:xfrm>
              <a:off x="1012680" y="4368960"/>
              <a:ext cx="4470480" cy="69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D, A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D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803840" y="4908600"/>
              <a:ext cx="11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to illustrate te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6003000" y="4130640"/>
            <a:ext cx="2775960" cy="2365200"/>
            <a:chOff x="6003000" y="4130640"/>
            <a:chExt cx="2775960" cy="2365200"/>
          </a:xfrm>
        </p:grpSpPr>
        <p:sp>
          <p:nvSpPr>
            <p:cNvPr id="852" name=""/>
            <p:cNvSpPr/>
            <p:nvPr/>
          </p:nvSpPr>
          <p:spPr>
            <a:xfrm>
              <a:off x="6472080" y="445140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81800" y="44496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2118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597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025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211880" y="4359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29520" y="47959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94680" y="5084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618320" y="41306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297480" y="4359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45320" y="4362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6288120" y="4809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464160" y="53895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373880" y="53877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6597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2025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45320" y="61912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297480" y="526572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51760" y="6165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297480" y="527688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745320" y="52801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288120" y="57276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003000" y="55688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3223800" y="1717560"/>
            <a:ext cx="5447160" cy="841320"/>
            <a:chOff x="3223800" y="1717560"/>
            <a:chExt cx="5447160" cy="841320"/>
          </a:xfrm>
        </p:grpSpPr>
        <p:sp>
          <p:nvSpPr>
            <p:cNvPr id="877" name=""/>
            <p:cNvSpPr/>
            <p:nvPr/>
          </p:nvSpPr>
          <p:spPr>
            <a:xfrm>
              <a:off x="4200480" y="1717560"/>
              <a:ext cx="447048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599"/>
                </a:lnSpc>
                <a:spcBef>
                  <a:spcPts val="11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 prime implicants: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B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, AC, 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, AB, B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'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D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23800" y="2257560"/>
              <a:ext cx="1312920" cy="3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>
            <a:off x="4202280" y="3222720"/>
            <a:ext cx="36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AC + B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+ 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'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6073560" y="2371320"/>
            <a:ext cx="1532160" cy="605160"/>
            <a:chOff x="6073560" y="2371320"/>
            <a:chExt cx="1532160" cy="605160"/>
          </a:xfrm>
        </p:grpSpPr>
        <p:sp>
          <p:nvSpPr>
            <p:cNvPr id="881" name=""/>
            <p:cNvSpPr/>
            <p:nvPr/>
          </p:nvSpPr>
          <p:spPr>
            <a:xfrm flipH="1" flipV="1">
              <a:off x="6073560" y="2371320"/>
              <a:ext cx="43020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75680" y="260820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6343560" y="4406760"/>
            <a:ext cx="1727280" cy="1727280"/>
            <a:chOff x="6343560" y="4406760"/>
            <a:chExt cx="1727280" cy="1727280"/>
          </a:xfrm>
        </p:grpSpPr>
        <p:sp>
          <p:nvSpPr>
            <p:cNvPr id="884" name=""/>
            <p:cNvSpPr/>
            <p:nvPr/>
          </p:nvSpPr>
          <p:spPr>
            <a:xfrm>
              <a:off x="7280280" y="4406760"/>
              <a:ext cx="338040" cy="808200"/>
            </a:xfrm>
            <a:custGeom>
              <a:avLst/>
              <a:gdLst>
                <a:gd name="textAreaLeft" fmla="*/ 16200 w 338040"/>
                <a:gd name="textAreaRight" fmla="*/ 321840 w 338040"/>
                <a:gd name="textAreaTop" fmla="*/ 16200 h 808200"/>
                <a:gd name="textAreaBottom" fmla="*/ 792000 h 808200"/>
              </a:gdLst>
              <a:ahLst/>
              <a:rect l="textAreaLeft" t="textAreaTop" r="textAreaRight" b="textAreaBottom"/>
              <a:pathLst>
                <a:path w="21600" h="51610">
                  <a:moveTo>
                    <a:pt x="3600" y="0"/>
                  </a:moveTo>
                  <a:arcTo wR="3600" hR="3600" stAng="16200000" swAng="-5400000"/>
                  <a:lnTo>
                    <a:pt x="0" y="48010"/>
                  </a:lnTo>
                  <a:arcTo wR="3600" hR="3600" stAng="10800000" swAng="-5400000"/>
                  <a:lnTo>
                    <a:pt x="18000" y="5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343560" y="4859280"/>
              <a:ext cx="82404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796080" y="5327640"/>
              <a:ext cx="355680" cy="80640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806400"/>
                <a:gd name="textAreaBottom" fmla="*/ 789120 h 806400"/>
              </a:gdLst>
              <a:ahLst/>
              <a:rect l="textAreaLeft" t="textAreaTop" r="textAreaRight" b="textAreaBottom"/>
              <a:pathLst>
                <a:path w="21600" h="48944">
                  <a:moveTo>
                    <a:pt x="3600" y="0"/>
                  </a:moveTo>
                  <a:arcTo wR="3600" hR="3600" stAng="16200000" swAng="-5400000"/>
                  <a:lnTo>
                    <a:pt x="0" y="45344"/>
                  </a:lnTo>
                  <a:arcTo wR="3600" hR="3600" stAng="10800000" swAng="-5400000"/>
                  <a:lnTo>
                    <a:pt x="18000" y="489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280280" y="5343480"/>
              <a:ext cx="79056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811920" y="4924440"/>
              <a:ext cx="758880" cy="7254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781200" y="590076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nimum cover: 4 essential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917640" y="5035680"/>
            <a:ext cx="3168360" cy="682560"/>
            <a:chOff x="917640" y="5035680"/>
            <a:chExt cx="3168360" cy="682560"/>
          </a:xfrm>
        </p:grpSpPr>
        <p:grpSp>
          <p:nvGrpSpPr>
            <p:cNvPr id="891" name=""/>
            <p:cNvGrpSpPr/>
            <p:nvPr/>
          </p:nvGrpSpPr>
          <p:grpSpPr>
            <a:xfrm>
              <a:off x="2085840" y="5035680"/>
              <a:ext cx="2000160" cy="419040"/>
              <a:chOff x="2085840" y="5035680"/>
              <a:chExt cx="2000160" cy="419040"/>
            </a:xfrm>
          </p:grpSpPr>
          <p:sp>
            <p:nvSpPr>
              <p:cNvPr id="892" name=""/>
              <p:cNvSpPr/>
              <p:nvPr/>
            </p:nvSpPr>
            <p:spPr>
              <a:xfrm flipV="1">
                <a:off x="2085840" y="5047920"/>
                <a:ext cx="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2091960" y="5047920"/>
                <a:ext cx="62244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2091960" y="5047920"/>
                <a:ext cx="1282680" cy="40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2104920" y="5035680"/>
                <a:ext cx="1981080" cy="41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917640" y="5349960"/>
              <a:ext cx="113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ssent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851-DBEE-49CD-B9C8-BEBA613A21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5183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gorithm: minimum sum-of-products expression from a Karnaugh ma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choose an element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find "maximal" groupings of 1s and Xs adjacent to that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op/bottom row, left/right column, and corner adjac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forms prime implicants  (number of elements always a power of 2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eat Steps 1 and 2 to find all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revisit the 1s in the K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overed by single prime implicant, it is essential, and participates in final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s covered by essential prime implicant do not need to be revisi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 if there remain 1s not covered by essential prime implic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6920" indent="-231840">
              <a:lnSpc>
                <a:spcPct val="95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 the smallest number of prime implicants that cover the remaining 1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7DC-2573-4252-BD87-DDDD722F85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"/>
          <p:cNvGrpSpPr/>
          <p:nvPr/>
        </p:nvGrpSpPr>
        <p:grpSpPr>
          <a:xfrm>
            <a:off x="474840" y="3968640"/>
            <a:ext cx="2795400" cy="2598840"/>
            <a:chOff x="474840" y="3968640"/>
            <a:chExt cx="2795400" cy="2598840"/>
          </a:xfrm>
        </p:grpSpPr>
        <p:sp>
          <p:nvSpPr>
            <p:cNvPr id="900" name=""/>
            <p:cNvSpPr/>
            <p:nvPr/>
          </p:nvSpPr>
          <p:spPr>
            <a:xfrm>
              <a:off x="2146320" y="4202280"/>
              <a:ext cx="474480" cy="450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273320" y="4272120"/>
              <a:ext cx="355320" cy="1726920"/>
            </a:xfrm>
            <a:custGeom>
              <a:avLst/>
              <a:gdLst>
                <a:gd name="textAreaLeft" fmla="*/ 17280 w 355320"/>
                <a:gd name="textAreaRight" fmla="*/ 338040 w 355320"/>
                <a:gd name="textAreaTop" fmla="*/ 17280 h 1726920"/>
                <a:gd name="textAreaBottom" fmla="*/ 1709640 h 1726920"/>
              </a:gdLst>
              <a:ahLst/>
              <a:rect l="textAreaLeft" t="textAreaTop" r="textAreaRight" b="textAreaBottom"/>
              <a:pathLst>
                <a:path w="21600" h="104896">
                  <a:moveTo>
                    <a:pt x="3600" y="0"/>
                  </a:moveTo>
                  <a:arcTo wR="3600" hR="3600" stAng="16200000" swAng="-5400000"/>
                  <a:lnTo>
                    <a:pt x="0" y="101296"/>
                  </a:lnTo>
                  <a:arcTo wR="3600" hR="3600" stAng="10800000" swAng="-5400000"/>
                  <a:lnTo>
                    <a:pt x="18000" y="1048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2480" y="430380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312920" y="471312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81280" y="474516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494280" y="3968640"/>
              <a:ext cx="2775960" cy="2365200"/>
              <a:chOff x="494280" y="3968640"/>
              <a:chExt cx="2775960" cy="2365200"/>
            </a:xfrm>
          </p:grpSpPr>
          <p:sp>
            <p:nvSpPr>
              <p:cNvPr id="906" name=""/>
              <p:cNvSpPr/>
              <p:nvPr/>
            </p:nvSpPr>
            <p:spPr>
              <a:xfrm>
                <a:off x="963360" y="428940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873080" y="42876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7031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10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16938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703160" y="41972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620800" y="463392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685960" y="4922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09600" y="396864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8760" y="41972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236600" y="42004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779400" y="46479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955440" y="52275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65160" y="52257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7031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1510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938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236600" y="60292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88760" y="510372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643040" y="600372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88760" y="51148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236600" y="51181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>
                <a:off x="779400" y="55656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94280" y="540684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474840" y="6237360"/>
              <a:ext cx="234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   </a:t>
              </a:r>
              <a:r>
                <a:rPr b="1" lang="en-US" sz="1400" spc="-1" strike="noStrike">
                  <a:solidFill>
                    <a:srgbClr val="009900"/>
                  </a:solidFill>
                  <a:latin typeface="Tahoma"/>
                </a:rPr>
                <a:t>3 primes around AB'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12560" y="231480"/>
            <a:ext cx="826740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lgorithm for two-level simplification (example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13360" y="1440000"/>
            <a:ext cx="2775960" cy="2365200"/>
            <a:chOff x="513360" y="1440000"/>
            <a:chExt cx="2775960" cy="2365200"/>
          </a:xfrm>
        </p:grpSpPr>
        <p:sp>
          <p:nvSpPr>
            <p:cNvPr id="933" name=""/>
            <p:cNvSpPr/>
            <p:nvPr/>
          </p:nvSpPr>
          <p:spPr>
            <a:xfrm>
              <a:off x="982440" y="176076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92160" y="17589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7222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700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17128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722240" y="1668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39880" y="210528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705040" y="2394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128680" y="1440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807840" y="16686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255680" y="16718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798480" y="21193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974520" y="2698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884240" y="26971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7222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1700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>
              <a:off x="17128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255680" y="3500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7840" y="257508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62120" y="347508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7840" y="25862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255680" y="258948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8480" y="30369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360" y="28782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3209760" y="1438200"/>
            <a:ext cx="2955960" cy="2579760"/>
            <a:chOff x="3209760" y="1438200"/>
            <a:chExt cx="2955960" cy="2579760"/>
          </a:xfrm>
        </p:grpSpPr>
        <p:sp>
          <p:nvSpPr>
            <p:cNvPr id="958" name=""/>
            <p:cNvSpPr/>
            <p:nvPr/>
          </p:nvSpPr>
          <p:spPr>
            <a:xfrm>
              <a:off x="3209760" y="3687840"/>
              <a:ext cx="2895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ahoma"/>
                </a:rPr>
                <a:t>2 primes around A'BC'D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127400" y="1673280"/>
              <a:ext cx="468360" cy="436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3389760" y="1438200"/>
              <a:ext cx="2775960" cy="2365200"/>
              <a:chOff x="3389760" y="1438200"/>
              <a:chExt cx="2775960" cy="2365200"/>
            </a:xfrm>
          </p:grpSpPr>
          <p:sp>
            <p:nvSpPr>
              <p:cNvPr id="961" name=""/>
              <p:cNvSpPr/>
              <p:nvPr/>
            </p:nvSpPr>
            <p:spPr>
              <a:xfrm>
                <a:off x="385884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76856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5986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0464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5892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9864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628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8144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00508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68424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08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367488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092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76064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5986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0464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45892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13208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8424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3852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68424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3208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367488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38976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"/>
          <p:cNvGrpSpPr/>
          <p:nvPr/>
        </p:nvGrpSpPr>
        <p:grpSpPr>
          <a:xfrm>
            <a:off x="3755880" y="1724040"/>
            <a:ext cx="776520" cy="1727280"/>
            <a:chOff x="3755880" y="1724040"/>
            <a:chExt cx="776520" cy="1727280"/>
          </a:xfrm>
        </p:grpSpPr>
        <p:sp>
          <p:nvSpPr>
            <p:cNvPr id="986" name=""/>
            <p:cNvSpPr/>
            <p:nvPr/>
          </p:nvSpPr>
          <p:spPr>
            <a:xfrm>
              <a:off x="4176720" y="172404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755880" y="1755720"/>
              <a:ext cx="71136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266520" y="1438200"/>
            <a:ext cx="2775960" cy="2579760"/>
            <a:chOff x="6266520" y="1438200"/>
            <a:chExt cx="2775960" cy="2579760"/>
          </a:xfrm>
        </p:grpSpPr>
        <p:sp>
          <p:nvSpPr>
            <p:cNvPr id="989" name=""/>
            <p:cNvSpPr/>
            <p:nvPr/>
          </p:nvSpPr>
          <p:spPr>
            <a:xfrm>
              <a:off x="6380280" y="3687840"/>
              <a:ext cx="22604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ahoma"/>
                </a:rPr>
                <a:t>2 primes around ABC'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80440" y="2116080"/>
              <a:ext cx="446040" cy="469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6266520" y="1438200"/>
              <a:ext cx="2775960" cy="2365200"/>
              <a:chOff x="6266520" y="1438200"/>
              <a:chExt cx="2775960" cy="2365200"/>
            </a:xfrm>
          </p:grpSpPr>
          <p:sp>
            <p:nvSpPr>
              <p:cNvPr id="992" name=""/>
              <p:cNvSpPr/>
              <p:nvPr/>
            </p:nvSpPr>
            <p:spPr>
              <a:xfrm>
                <a:off x="6735600" y="17589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45320" y="17571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54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9232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74660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475400" y="16668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8393040" y="21034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8458200" y="2392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881840" y="14382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561000" y="16668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008840" y="16700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551640" y="21175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6727680" y="26971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637400" y="2695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4754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9232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H="1">
                <a:off x="74660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008840" y="34988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61000" y="25732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415280" y="34732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561000" y="25844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008840" y="25876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6551640" y="30351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266520" y="28764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6" name=""/>
            <p:cNvSpPr/>
            <p:nvPr/>
          </p:nvSpPr>
          <p:spPr>
            <a:xfrm>
              <a:off x="7045200" y="174132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24720" y="1773360"/>
              <a:ext cx="711000" cy="3063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5160" y="2182680"/>
            <a:ext cx="1226880" cy="808200"/>
            <a:chOff x="7085160" y="2182680"/>
            <a:chExt cx="1226880" cy="808200"/>
          </a:xfrm>
        </p:grpSpPr>
        <p:sp>
          <p:nvSpPr>
            <p:cNvPr id="1019" name=""/>
            <p:cNvSpPr/>
            <p:nvPr/>
          </p:nvSpPr>
          <p:spPr>
            <a:xfrm>
              <a:off x="7085160" y="2182680"/>
              <a:ext cx="774720" cy="808200"/>
            </a:xfrm>
            <a:custGeom>
              <a:avLst/>
              <a:gdLst>
                <a:gd name="textAreaLeft" fmla="*/ 37800 w 774720"/>
                <a:gd name="textAreaRight" fmla="*/ 736920 w 774720"/>
                <a:gd name="textAreaTop" fmla="*/ 37800 h 808200"/>
                <a:gd name="textAreaBottom" fmla="*/ 770400 h 808200"/>
              </a:gdLst>
              <a:ahLst/>
              <a:rect l="textAreaLeft" t="textAreaTop" r="textAreaRight" b="textAreaBottom"/>
              <a:pathLst>
                <a:path w="21600" h="22533">
                  <a:moveTo>
                    <a:pt x="3600" y="0"/>
                  </a:moveTo>
                  <a:arcTo wR="3600" hR="3600" stAng="16200000" swAng="-5400000"/>
                  <a:lnTo>
                    <a:pt x="0" y="18933"/>
                  </a:lnTo>
                  <a:arcTo wR="3600" hR="3600" stAng="10800000" swAng="-5400000"/>
                  <a:lnTo>
                    <a:pt x="18000" y="225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553160" y="2214720"/>
              <a:ext cx="758880" cy="339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6231600" y="3957120"/>
            <a:ext cx="2775960" cy="2610360"/>
            <a:chOff x="6231600" y="3957120"/>
            <a:chExt cx="2775960" cy="2610360"/>
          </a:xfrm>
        </p:grpSpPr>
        <p:sp>
          <p:nvSpPr>
            <p:cNvPr id="1022" name=""/>
            <p:cNvSpPr/>
            <p:nvPr/>
          </p:nvSpPr>
          <p:spPr>
            <a:xfrm>
              <a:off x="6365880" y="6237360"/>
              <a:ext cx="22096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mum cover (3 prim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20000" y="4275000"/>
              <a:ext cx="355680" cy="1727280"/>
            </a:xfrm>
            <a:custGeom>
              <a:avLst/>
              <a:gdLst>
                <a:gd name="textAreaLeft" fmla="*/ 17280 w 355680"/>
                <a:gd name="textAreaRight" fmla="*/ 338400 w 355680"/>
                <a:gd name="textAreaTop" fmla="*/ 17280 h 1727280"/>
                <a:gd name="textAreaBottom" fmla="*/ 1710000 h 1727280"/>
              </a:gdLst>
              <a:ahLst/>
              <a:rect l="textAreaLeft" t="textAreaTop" r="textAreaRight" b="textAreaBottom"/>
              <a:pathLst>
                <a:path w="21600" h="104811">
                  <a:moveTo>
                    <a:pt x="3600" y="0"/>
                  </a:moveTo>
                  <a:arcTo wR="3600" hR="3600" stAng="16200000" swAng="-5400000"/>
                  <a:lnTo>
                    <a:pt x="0" y="101211"/>
                  </a:lnTo>
                  <a:arcTo wR="3600" hR="3600" stAng="10800000" swAng="-5400000"/>
                  <a:lnTo>
                    <a:pt x="18000" y="1048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rot="16200000">
              <a:off x="7842240" y="415116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rot="16200000">
              <a:off x="7835760" y="5727600"/>
              <a:ext cx="565200" cy="3715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 rot="16200000">
              <a:off x="8020440" y="5962320"/>
              <a:ext cx="209520" cy="45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rot="16200000">
              <a:off x="8027640" y="3836520"/>
              <a:ext cx="209880" cy="4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6231600" y="3965400"/>
              <a:ext cx="2775960" cy="2365200"/>
              <a:chOff x="6231600" y="3965400"/>
              <a:chExt cx="2775960" cy="2365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6700680" y="428616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610400" y="428436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404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883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H="1">
                <a:off x="74311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40480" y="41940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358120" y="463068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23280" y="4919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846920" y="396540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526080" y="419400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973920" y="419724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6516720" y="464472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692760" y="52243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602480" y="522252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404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8883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74311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973920" y="60260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6080" y="510048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80360" y="60004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526080" y="511164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973920" y="511488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6516720" y="556236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231600" y="540360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3" name=""/>
          <p:cNvSpPr/>
          <p:nvPr/>
        </p:nvSpPr>
        <p:spPr>
          <a:xfrm>
            <a:off x="7499520" y="4735440"/>
            <a:ext cx="758520" cy="3398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362760" y="3957120"/>
            <a:ext cx="2775960" cy="2610360"/>
            <a:chOff x="3362760" y="3957120"/>
            <a:chExt cx="2775960" cy="2610360"/>
          </a:xfrm>
        </p:grpSpPr>
        <p:grpSp>
          <p:nvGrpSpPr>
            <p:cNvPr id="1055" name=""/>
            <p:cNvGrpSpPr/>
            <p:nvPr/>
          </p:nvGrpSpPr>
          <p:grpSpPr>
            <a:xfrm>
              <a:off x="3362760" y="3957120"/>
              <a:ext cx="2775960" cy="2373840"/>
              <a:chOff x="3362760" y="3957120"/>
              <a:chExt cx="2775960" cy="2373840"/>
            </a:xfrm>
          </p:grpSpPr>
          <p:sp>
            <p:nvSpPr>
              <p:cNvPr id="1056" name=""/>
              <p:cNvSpPr/>
              <p:nvPr/>
            </p:nvSpPr>
            <p:spPr>
              <a:xfrm>
                <a:off x="4151160" y="4275000"/>
                <a:ext cx="355680" cy="1727280"/>
              </a:xfrm>
              <a:custGeom>
                <a:avLst/>
                <a:gdLst>
                  <a:gd name="textAreaLeft" fmla="*/ 17280 w 355680"/>
                  <a:gd name="textAreaRight" fmla="*/ 338400 w 355680"/>
                  <a:gd name="textAreaTop" fmla="*/ 17280 h 1727280"/>
                  <a:gd name="textAreaBottom" fmla="*/ 1710000 h 1727280"/>
                </a:gdLst>
                <a:ahLst/>
                <a:rect l="textAreaLeft" t="textAreaTop" r="textAreaRight" b="textAreaBottom"/>
                <a:pathLst>
                  <a:path w="21600" h="104811">
                    <a:moveTo>
                      <a:pt x="3600" y="0"/>
                    </a:moveTo>
                    <a:arcTo wR="3600" hR="3600" stAng="16200000" swAng="-5400000"/>
                    <a:lnTo>
                      <a:pt x="0" y="101211"/>
                    </a:lnTo>
                    <a:arcTo wR="3600" hR="3600" stAng="10800000" swAng="-5400000"/>
                    <a:lnTo>
                      <a:pt x="18000" y="1048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rot="16200000">
                <a:off x="4973760" y="41511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H="1" rot="16200000">
                <a:off x="4967280" y="57276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 rot="16200000">
                <a:off x="5153040" y="596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159160" y="3836520"/>
                <a:ext cx="20988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1" name=""/>
              <p:cNvGrpSpPr/>
              <p:nvPr/>
            </p:nvGrpSpPr>
            <p:grpSpPr>
              <a:xfrm>
                <a:off x="3362760" y="3965760"/>
                <a:ext cx="2775960" cy="2365200"/>
                <a:chOff x="3362760" y="3965760"/>
                <a:chExt cx="2775960" cy="23652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3831840" y="4286520"/>
                  <a:ext cx="825840" cy="81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741560" y="428472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5716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50194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 flipH="1">
                  <a:off x="45622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571640" y="419436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489280" y="4631040"/>
                  <a:ext cx="0" cy="907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554440" y="4919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978080" y="396576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3657240" y="419436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05080" y="419760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>
                  <a:off x="3647880" y="464508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3823920" y="52246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733640" y="5222880"/>
                  <a:ext cx="825480" cy="81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8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ts val="1800"/>
                    </a:lnSpc>
                    <a:spcBef>
                      <a:spcPts val="18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	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ahoma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5716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50194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>
                  <a:off x="45622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05080" y="602640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657240" y="5100840"/>
                  <a:ext cx="0" cy="925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511520" y="6000840"/>
                  <a:ext cx="584280" cy="33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99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3657240" y="5112000"/>
                  <a:ext cx="914400" cy="9144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105080" y="5115240"/>
                  <a:ext cx="0" cy="914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>
                  <a:off x="3647880" y="5562720"/>
                  <a:ext cx="9144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362760" y="54039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86" name=""/>
            <p:cNvSpPr/>
            <p:nvPr/>
          </p:nvSpPr>
          <p:spPr>
            <a:xfrm>
              <a:off x="3687840" y="6237360"/>
              <a:ext cx="18162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2 essential pr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94280" y="3954600"/>
            <a:ext cx="2775960" cy="2382480"/>
            <a:chOff x="494280" y="3954600"/>
            <a:chExt cx="2775960" cy="2382480"/>
          </a:xfrm>
        </p:grpSpPr>
        <p:grpSp>
          <p:nvGrpSpPr>
            <p:cNvPr id="1088" name=""/>
            <p:cNvGrpSpPr/>
            <p:nvPr/>
          </p:nvGrpSpPr>
          <p:grpSpPr>
            <a:xfrm>
              <a:off x="531720" y="3954600"/>
              <a:ext cx="2335320" cy="2334960"/>
              <a:chOff x="531720" y="3954600"/>
              <a:chExt cx="2335320" cy="2334960"/>
            </a:xfrm>
          </p:grpSpPr>
          <p:sp>
            <p:nvSpPr>
              <p:cNvPr id="1089" name=""/>
              <p:cNvSpPr/>
              <p:nvPr/>
            </p:nvSpPr>
            <p:spPr>
              <a:xfrm>
                <a:off x="2241720" y="4267080"/>
                <a:ext cx="247320" cy="781200"/>
              </a:xfrm>
              <a:custGeom>
                <a:avLst/>
                <a:gdLst>
                  <a:gd name="textAreaLeft" fmla="*/ 11880 w 247320"/>
                  <a:gd name="textAreaRight" fmla="*/ 235440 w 247320"/>
                  <a:gd name="textAreaTop" fmla="*/ 11880 h 781200"/>
                  <a:gd name="textAreaBottom" fmla="*/ 769320 h 781200"/>
                </a:gdLst>
                <a:ahLst/>
                <a:rect l="textAreaLeft" t="textAreaTop" r="textAreaRight" b="textAreaBottom"/>
                <a:pathLst>
                  <a:path w="21600" h="68159">
                    <a:moveTo>
                      <a:pt x="3600" y="0"/>
                    </a:moveTo>
                    <a:arcTo wR="3600" hR="3600" stAng="16200000" swAng="-5400000"/>
                    <a:lnTo>
                      <a:pt x="0" y="64559"/>
                    </a:lnTo>
                    <a:arcTo wR="3600" hR="3600" stAng="10800000" swAng="-5400000"/>
                    <a:lnTo>
                      <a:pt x="18000" y="6815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628560" y="424188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531720" y="42102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24800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657520" y="421632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rot="16200000">
                <a:off x="2095560" y="4147560"/>
                <a:ext cx="56484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rot="16200000">
                <a:off x="2089080" y="5724360"/>
                <a:ext cx="565200" cy="371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rot="16200000">
                <a:off x="2281320" y="383400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rot="16200000">
                <a:off x="2274840" y="595944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"/>
            <p:cNvGrpSpPr/>
            <p:nvPr/>
          </p:nvGrpSpPr>
          <p:grpSpPr>
            <a:xfrm>
              <a:off x="494280" y="3971880"/>
              <a:ext cx="2775960" cy="2365200"/>
              <a:chOff x="494280" y="3971880"/>
              <a:chExt cx="2775960" cy="2365200"/>
            </a:xfrm>
          </p:grpSpPr>
          <p:sp>
            <p:nvSpPr>
              <p:cNvPr id="1099" name=""/>
              <p:cNvSpPr/>
              <p:nvPr/>
            </p:nvSpPr>
            <p:spPr>
              <a:xfrm>
                <a:off x="963360" y="4292640"/>
                <a:ext cx="825840" cy="81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873080" y="429084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7031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1510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16938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703160" y="42004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620800" y="4637160"/>
                <a:ext cx="0" cy="907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85960" y="4925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09600" y="397188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88760" y="420048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236600" y="420372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9400" y="465120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955440" y="52308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65160" y="5229000"/>
                <a:ext cx="82548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ts val="1800"/>
                  </a:lnSpc>
                  <a:spcBef>
                    <a:spcPts val="18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7031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1510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16938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36600" y="603252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88760" y="5106960"/>
                <a:ext cx="0" cy="92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643040" y="6006960"/>
                <a:ext cx="58428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88760" y="5118120"/>
                <a:ext cx="9144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236600" y="5121360"/>
                <a:ext cx="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H="1">
                <a:off x="779400" y="5568840"/>
                <a:ext cx="9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4280" y="5410080"/>
                <a:ext cx="30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D2AC-F3A2-4DEB-A10C-21864A036A7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ctivit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397520" y="2133720"/>
            <a:ext cx="2775960" cy="2365200"/>
            <a:chOff x="1397520" y="2133720"/>
            <a:chExt cx="2775960" cy="2365200"/>
          </a:xfrm>
        </p:grpSpPr>
        <p:sp>
          <p:nvSpPr>
            <p:cNvPr id="1125" name=""/>
            <p:cNvSpPr/>
            <p:nvPr/>
          </p:nvSpPr>
          <p:spPr>
            <a:xfrm>
              <a:off x="1866600" y="24544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776320" y="24526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6064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0542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25970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606400" y="2362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524040" y="27990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589200" y="3087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012840" y="21337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692000" y="23623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139840" y="23655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682640" y="28130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58680" y="3392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6840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6064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0542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25970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39840" y="41943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92000" y="32688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546280" y="41688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000" y="32799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39840" y="32832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1682640" y="3730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397520" y="3571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2165400" y="3100320"/>
            <a:ext cx="3400200" cy="1011240"/>
            <a:chOff x="2165400" y="3100320"/>
            <a:chExt cx="3400200" cy="1011240"/>
          </a:xfrm>
        </p:grpSpPr>
        <p:sp>
          <p:nvSpPr>
            <p:cNvPr id="1150" name=""/>
            <p:cNvSpPr/>
            <p:nvPr/>
          </p:nvSpPr>
          <p:spPr>
            <a:xfrm>
              <a:off x="2165400" y="334476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84640" y="310032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ahoma"/>
                </a:rPr>
                <a:t>B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2189160" y="2911320"/>
            <a:ext cx="4258080" cy="766800"/>
            <a:chOff x="2189160" y="2911320"/>
            <a:chExt cx="4258080" cy="766800"/>
          </a:xfrm>
        </p:grpSpPr>
        <p:sp>
          <p:nvSpPr>
            <p:cNvPr id="1153" name=""/>
            <p:cNvSpPr/>
            <p:nvPr/>
          </p:nvSpPr>
          <p:spPr>
            <a:xfrm>
              <a:off x="2189160" y="2911320"/>
              <a:ext cx="797040" cy="7668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883840" y="3100320"/>
              <a:ext cx="56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Tahoma"/>
                </a:rPr>
                <a:t>B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2692440" y="2454120"/>
            <a:ext cx="4557600" cy="1652760"/>
            <a:chOff x="2692440" y="2454120"/>
            <a:chExt cx="4557600" cy="1652760"/>
          </a:xfrm>
        </p:grpSpPr>
        <p:sp>
          <p:nvSpPr>
            <p:cNvPr id="1156" name=""/>
            <p:cNvSpPr/>
            <p:nvPr/>
          </p:nvSpPr>
          <p:spPr>
            <a:xfrm>
              <a:off x="2692440" y="2454120"/>
              <a:ext cx="295200" cy="1652760"/>
            </a:xfrm>
            <a:custGeom>
              <a:avLst/>
              <a:gdLst>
                <a:gd name="textAreaLeft" fmla="*/ 14400 w 295200"/>
                <a:gd name="textAreaRight" fmla="*/ 280800 w 295200"/>
                <a:gd name="textAreaTop" fmla="*/ 14400 h 1652760"/>
                <a:gd name="textAreaBottom" fmla="*/ 1638360 h 1652760"/>
              </a:gdLst>
              <a:ahLst/>
              <a:rect l="textAreaLeft" t="textAreaTop" r="textAreaRight" b="textAreaBottom"/>
              <a:pathLst>
                <a:path w="21600" h="120813">
                  <a:moveTo>
                    <a:pt x="3600" y="0"/>
                  </a:moveTo>
                  <a:arcTo wR="3600" hR="3600" stAng="16200000" swAng="-5400000"/>
                  <a:lnTo>
                    <a:pt x="0" y="117213"/>
                  </a:lnTo>
                  <a:arcTo wR="3600" hR="3600" stAng="10800000" swAng="-5400000"/>
                  <a:lnTo>
                    <a:pt x="18000" y="1208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697440" y="310032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ff"/>
                  </a:solidFill>
                  <a:latin typeface="Tahoma"/>
                </a:rPr>
                <a:t>AB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8" name=""/>
          <p:cNvGrpSpPr/>
          <p:nvPr/>
        </p:nvGrpSpPr>
        <p:grpSpPr>
          <a:xfrm>
            <a:off x="2651040" y="2871720"/>
            <a:ext cx="5559480" cy="596880"/>
            <a:chOff x="2651040" y="2871720"/>
            <a:chExt cx="5559480" cy="596880"/>
          </a:xfrm>
        </p:grpSpPr>
        <p:sp>
          <p:nvSpPr>
            <p:cNvPr id="1159" name=""/>
            <p:cNvSpPr/>
            <p:nvPr/>
          </p:nvSpPr>
          <p:spPr>
            <a:xfrm>
              <a:off x="7505640" y="310032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AC’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51040" y="2871720"/>
              <a:ext cx="79704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746360" y="3100320"/>
            <a:ext cx="3017160" cy="1019160"/>
            <a:chOff x="1746360" y="3100320"/>
            <a:chExt cx="3017160" cy="1019160"/>
          </a:xfrm>
        </p:grpSpPr>
        <p:sp>
          <p:nvSpPr>
            <p:cNvPr id="1162" name=""/>
            <p:cNvSpPr/>
            <p:nvPr/>
          </p:nvSpPr>
          <p:spPr>
            <a:xfrm>
              <a:off x="4217040" y="310032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6600"/>
                  </a:solidFill>
                  <a:latin typeface="Tahoma"/>
                </a:rPr>
                <a:t>C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746360" y="3781440"/>
              <a:ext cx="1711080" cy="33804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99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6747480" y="50356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15440" y="503568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7592760" y="50356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742800" y="567360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ahoma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810760" y="567360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00"/>
                </a:solidFill>
                <a:latin typeface="Tahoma"/>
              </a:rPr>
              <a:t>C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588080" y="56736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AC’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424160" y="2092320"/>
            <a:ext cx="7297560" cy="395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all prime implicants for the following K-map: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are essential prime implicants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is the minimum cove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396080" y="2131920"/>
            <a:ext cx="2775960" cy="2365200"/>
            <a:chOff x="1396080" y="2131920"/>
            <a:chExt cx="2775960" cy="2365200"/>
          </a:xfrm>
        </p:grpSpPr>
        <p:sp>
          <p:nvSpPr>
            <p:cNvPr id="1173" name=""/>
            <p:cNvSpPr/>
            <p:nvPr/>
          </p:nvSpPr>
          <p:spPr>
            <a:xfrm>
              <a:off x="1865160" y="2452680"/>
              <a:ext cx="82584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74880" y="2450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6049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0528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25956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0496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22600" y="279720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587760" y="3085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011400" y="2131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690560" y="2360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138400" y="23637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1681200" y="2811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857240" y="33908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766960" y="3389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6049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0528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H="1">
              <a:off x="25956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138400" y="4192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690560" y="3267000"/>
              <a:ext cx="0" cy="92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544840" y="4167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690560" y="327816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138400" y="3281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1681200" y="3728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396080" y="35701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D0E-4911-4515-BFAA-A0909F9B96C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"/>
          <p:cNvGrpSpPr/>
          <p:nvPr/>
        </p:nvGrpSpPr>
        <p:grpSpPr>
          <a:xfrm>
            <a:off x="6519960" y="1600200"/>
            <a:ext cx="2469600" cy="2273040"/>
            <a:chOff x="6519960" y="1600200"/>
            <a:chExt cx="2469600" cy="2273040"/>
          </a:xfrm>
        </p:grpSpPr>
        <p:sp>
          <p:nvSpPr>
            <p:cNvPr id="1198" name=""/>
            <p:cNvSpPr/>
            <p:nvPr/>
          </p:nvSpPr>
          <p:spPr>
            <a:xfrm>
              <a:off x="7186320" y="18349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186320" y="226692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180200" y="18414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409880" y="184932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403040" y="184284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409520" y="183492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402680" y="181584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084800" y="2197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084800" y="2019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86320" y="329544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186320" y="372744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180200" y="33019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409880" y="330984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403040" y="330336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409520" y="329544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02680" y="327636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447320" y="2598480"/>
              <a:ext cx="13449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440840" y="2592360"/>
              <a:ext cx="1357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523280" y="2584080"/>
              <a:ext cx="12690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503840" y="256536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31240" y="2584080"/>
              <a:ext cx="1767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024760" y="256536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177040" y="2774880"/>
              <a:ext cx="12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031600" y="2598480"/>
              <a:ext cx="17640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8025120" y="259236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186320" y="300348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86320" y="25588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7180200" y="2552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409520" y="2558880"/>
              <a:ext cx="3920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02680" y="2552400"/>
              <a:ext cx="4179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409880" y="2585880"/>
              <a:ext cx="391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403040" y="2566800"/>
              <a:ext cx="417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4800" y="26542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82136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9920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995880" y="20509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995880" y="28764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995880" y="342252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23000" y="34290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723000" y="2882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723000" y="205740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723000" y="1600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729120" y="20509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697440" y="20253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29120" y="287640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697440" y="285120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729120" y="3422520"/>
              <a:ext cx="253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697440" y="3396960"/>
              <a:ext cx="5040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99588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95880" y="360036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900840" y="36068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900840" y="223524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900840" y="16002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906960" y="22287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887880" y="22161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906960" y="36003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887880" y="3587760"/>
              <a:ext cx="504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821360" y="20509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999200" y="25970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993080" y="20574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821360" y="35114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999200" y="296532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993080" y="2971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8824680" y="277488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5880" y="187308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95880" y="268596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532560" y="269244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532560" y="187956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32560" y="16002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38680" y="187308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19960" y="184788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538680" y="268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519960" y="2673360"/>
              <a:ext cx="5040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450120" y="4343400"/>
            <a:ext cx="2539800" cy="2273040"/>
            <a:chOff x="6450120" y="4343400"/>
            <a:chExt cx="2539800" cy="2273040"/>
          </a:xfrm>
        </p:grpSpPr>
        <p:sp>
          <p:nvSpPr>
            <p:cNvPr id="1272" name=""/>
            <p:cNvSpPr/>
            <p:nvPr/>
          </p:nvSpPr>
          <p:spPr>
            <a:xfrm>
              <a:off x="7021440" y="452088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475320" y="4482720"/>
              <a:ext cx="13330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513840" y="451008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021800" y="451008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173720" y="47941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173720" y="4616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21800" y="523368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475680" y="5233680"/>
              <a:ext cx="133272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13480" y="521964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1440" y="521964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73720" y="5340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35560" y="54864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7071840" y="55180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468840" y="5962320"/>
              <a:ext cx="13078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450120" y="5943600"/>
              <a:ext cx="1345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07360" y="5976720"/>
              <a:ext cx="12693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513480" y="59706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15320" y="5976720"/>
              <a:ext cx="1771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009200" y="59706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014960" y="6000480"/>
              <a:ext cx="17748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008840" y="598176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135560" y="61340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7071840" y="616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 flipH="1">
              <a:off x="7084440" y="6343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77040" y="564516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8177040" y="52131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8170560" y="520704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411760" y="52131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392680" y="5207040"/>
              <a:ext cx="4316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8412120" y="52275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393040" y="52210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999200" y="5251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808760" y="4705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993080" y="47116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99920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7808760" y="5429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983280" y="5518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83280" y="63435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87880" y="635004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887880" y="552420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87880" y="4343400"/>
              <a:ext cx="0" cy="116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894360" y="5518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875280" y="55054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894360" y="6343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875280" y="633096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983280" y="4794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983280" y="534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983280" y="616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10040" y="61722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10040" y="534672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710040" y="48006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710040" y="43434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716520" y="47941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684840" y="47685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716520" y="5340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684840" y="532764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16520" y="616572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684840" y="614016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83280" y="4616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983280" y="5975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519600" y="598140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519600" y="462276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519600" y="434340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526080" y="4616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507000" y="45910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6526080" y="597528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507000" y="5962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808760" y="616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999200" y="5619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993080" y="56260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824680" y="5429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072200" y="595620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s of two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m-of-prod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 terms (min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 to form sum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-of-s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gates to form sum terms (maxter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gates to form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596-8A5A-47CE-B292-EF0A22A7A01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6" name=""/>
          <p:cNvGrpSpPr/>
          <p:nvPr/>
        </p:nvGrpSpPr>
        <p:grpSpPr>
          <a:xfrm>
            <a:off x="1536840" y="2717640"/>
            <a:ext cx="2965320" cy="2717640"/>
            <a:chOff x="1536840" y="2717640"/>
            <a:chExt cx="2965320" cy="2717640"/>
          </a:xfrm>
        </p:grpSpPr>
        <p:sp>
          <p:nvSpPr>
            <p:cNvPr id="1347" name=""/>
            <p:cNvSpPr/>
            <p:nvPr/>
          </p:nvSpPr>
          <p:spPr>
            <a:xfrm>
              <a:off x="2330280" y="299052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33028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32416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04240" y="301752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597400" y="299844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03880" y="299016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7040" y="2984400"/>
              <a:ext cx="4950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21616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1616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30280" y="474300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3028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324160" y="47494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604240" y="4770000"/>
              <a:ext cx="46872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597400" y="475092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03880" y="4743360"/>
              <a:ext cx="4690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597040" y="4724280"/>
              <a:ext cx="49500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654640" y="3919320"/>
              <a:ext cx="16120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635920" y="3900240"/>
              <a:ext cx="16372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743560" y="3891960"/>
              <a:ext cx="15231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724120" y="387288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353040" y="3891960"/>
              <a:ext cx="202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333960" y="38728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537000" y="413352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353400" y="391932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334320" y="39002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30280" y="4400280"/>
              <a:ext cx="508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33028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32416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603880" y="3866400"/>
              <a:ext cx="4690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97040" y="3860640"/>
              <a:ext cx="4950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04240" y="3893760"/>
              <a:ext cx="4687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597400" y="3874680"/>
              <a:ext cx="49464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21616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09240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308400" y="4133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1464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11464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1464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7804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804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7804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7804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8416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5248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8416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5248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8416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75248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11464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11464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99404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99404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99404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00016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96848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00016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96848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092400" y="325728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308400" y="3917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3019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092400" y="500976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308400" y="43495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3019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1464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1464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4944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4944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4944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5556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3684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5556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684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98760" y="4133520"/>
              <a:ext cx="203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483160" y="2717640"/>
            <a:ext cx="3079440" cy="2717640"/>
            <a:chOff x="5483160" y="2717640"/>
            <a:chExt cx="3079440" cy="2717640"/>
          </a:xfrm>
        </p:grpSpPr>
        <p:sp>
          <p:nvSpPr>
            <p:cNvPr id="1421" name=""/>
            <p:cNvSpPr/>
            <p:nvPr/>
          </p:nvSpPr>
          <p:spPr>
            <a:xfrm>
              <a:off x="6276600" y="2990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76600" y="35240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6270480" y="29970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575400" y="301752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556320" y="299844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75040" y="299016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555960" y="2984400"/>
              <a:ext cx="50796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083360" y="32317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70642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6162480" y="34412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62480" y="322560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276600" y="44002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276600" y="3866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6270480" y="3860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575040" y="38664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555960" y="38606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575400" y="38937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556320" y="38746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083360" y="41083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064280" y="41018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62480" y="39873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276600" y="5276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76600" y="47430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V="1">
              <a:off x="6270480" y="47365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575040" y="474336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5960" y="4724280"/>
              <a:ext cx="507960" cy="55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575400" y="4770000"/>
              <a:ext cx="4694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6556320" y="475092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83360" y="49845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064280" y="49654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702120" y="3891960"/>
              <a:ext cx="16254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696000" y="3872880"/>
              <a:ext cx="16376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6791040" y="3919320"/>
              <a:ext cx="153648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784920" y="3900240"/>
              <a:ext cx="15487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840" y="3919320"/>
              <a:ext cx="2023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394760" y="3900240"/>
              <a:ext cx="240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7413480" y="393012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394400" y="392400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483320" y="387324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546680" y="41018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7470360" y="4133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7495560" y="43495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68840" y="4133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15320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060960" y="4895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060960" y="42480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060960" y="3257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724360" y="490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724360" y="42541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724360" y="326376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724360" y="2717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730480" y="32572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98800" y="323172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730480" y="42480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98800" y="4222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730480" y="489564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698800" y="48830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060960" y="511164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060960" y="34732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940360" y="51177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940360" y="3479400"/>
              <a:ext cx="0" cy="162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940360" y="271764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946480" y="34732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14800" y="3460320"/>
              <a:ext cx="633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946480" y="511164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914800" y="50986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368840" y="3917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53200" y="3257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362720" y="32637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153200" y="50097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362720" y="43556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060960" y="40194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060960" y="30412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495760" y="4025520"/>
              <a:ext cx="0" cy="14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495760" y="304776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495760" y="27176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501880" y="304128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83160" y="30160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501880" y="40194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483160" y="40064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359560" y="41335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483320" y="430488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368840" y="43495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 flipV="1">
            <a:off x="6948360" y="1828800"/>
            <a:ext cx="1449360" cy="1138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6708600" y="1828800"/>
            <a:ext cx="1665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28496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8059680" y="2209320"/>
            <a:ext cx="368280" cy="1660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interm AND gates with N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276-65BB-4F1D-99AF-A2990511A9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1" name=""/>
          <p:cNvGrpSpPr/>
          <p:nvPr/>
        </p:nvGrpSpPr>
        <p:grpSpPr>
          <a:xfrm>
            <a:off x="682560" y="3892680"/>
            <a:ext cx="2470320" cy="2273040"/>
            <a:chOff x="682560" y="3892680"/>
            <a:chExt cx="2470320" cy="2273040"/>
          </a:xfrm>
        </p:grpSpPr>
        <p:sp>
          <p:nvSpPr>
            <p:cNvPr id="1512" name=""/>
            <p:cNvSpPr/>
            <p:nvPr/>
          </p:nvSpPr>
          <p:spPr>
            <a:xfrm>
              <a:off x="1349280" y="41148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3492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3431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572480" y="4141800"/>
              <a:ext cx="392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565640" y="41227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572120" y="411444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565280" y="41212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2477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2477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349280" y="558792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3492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343160" y="559440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572480" y="561492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56564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572120" y="5588280"/>
              <a:ext cx="39276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565280" y="5568840"/>
              <a:ext cx="4186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09920" y="4903920"/>
              <a:ext cx="134568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1603440" y="488484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85880" y="487656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9400" y="485748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193840" y="4876560"/>
              <a:ext cx="1774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187360" y="4857480"/>
              <a:ext cx="1904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52600" y="507996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194200" y="4903920"/>
              <a:ext cx="17712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187720" y="488484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349280" y="52959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3492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V="1">
              <a:off x="13431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72120" y="4851000"/>
              <a:ext cx="39276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5652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72480" y="4878360"/>
              <a:ext cx="3924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5656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2477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98432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162160" y="5079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714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714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714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8859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859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859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859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8920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8604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920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8604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8920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8604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714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714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063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63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63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699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382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99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382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98432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162160" y="490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15604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98432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16216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15604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1714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1714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95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5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95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16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825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16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825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9876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425760" y="3892680"/>
            <a:ext cx="2571840" cy="2273040"/>
            <a:chOff x="3425760" y="3892680"/>
            <a:chExt cx="2571840" cy="2273040"/>
          </a:xfrm>
        </p:grpSpPr>
        <p:sp>
          <p:nvSpPr>
            <p:cNvPr id="1586" name=""/>
            <p:cNvSpPr/>
            <p:nvPr/>
          </p:nvSpPr>
          <p:spPr>
            <a:xfrm>
              <a:off x="4092480" y="4114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92480" y="45720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086360" y="41212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340520" y="4141800"/>
              <a:ext cx="3931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321440" y="412272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340160" y="411444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321080" y="41212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759200" y="4317840"/>
              <a:ext cx="511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753080" y="43243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990960" y="45021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90960" y="432432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0924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0924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0863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340160" y="485100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21080" y="4844880"/>
              <a:ext cx="4316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34052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321440" y="485928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759200" y="5054760"/>
              <a:ext cx="5112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7530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990960" y="49593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092480" y="60325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0924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086360" y="55818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340160" y="5588280"/>
              <a:ext cx="3934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321080" y="556884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340520" y="561492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321440" y="5595840"/>
              <a:ext cx="4312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759200" y="5791320"/>
              <a:ext cx="5112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530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442040" y="4876560"/>
              <a:ext cx="13582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435560" y="4857480"/>
              <a:ext cx="137124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18720" y="4903920"/>
              <a:ext cx="12816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512240" y="4884840"/>
              <a:ext cx="12945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5039640" y="4903920"/>
              <a:ext cx="1764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020200" y="488484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39280" y="4902480"/>
              <a:ext cx="1767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019840" y="4908600"/>
              <a:ext cx="2026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095800" y="485784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146560" y="504828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082840" y="50799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5108400" y="525780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006880" y="50799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2904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146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9146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914640" y="434340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91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6291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291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291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6352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03600" y="43178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352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603600" y="515628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6352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603600" y="57024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9146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914640" y="45212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070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8070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8070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813120" y="4521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81440" y="45086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3120" y="58928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781440" y="5892840"/>
              <a:ext cx="633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006880" y="49021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8290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00760" y="43498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829040" y="58165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00760" y="526428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914640" y="497844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9146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4387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87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4387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444840" y="4165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257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444840" y="497844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57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832360" y="5079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095800" y="522612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006880" y="5257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6168960" y="3892680"/>
            <a:ext cx="2673360" cy="2273040"/>
            <a:chOff x="6168960" y="3892680"/>
            <a:chExt cx="2673360" cy="2273040"/>
          </a:xfrm>
        </p:grpSpPr>
        <p:sp>
          <p:nvSpPr>
            <p:cNvPr id="1671" name=""/>
            <p:cNvSpPr/>
            <p:nvPr/>
          </p:nvSpPr>
          <p:spPr>
            <a:xfrm>
              <a:off x="6835680" y="4127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835680" y="455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829560" y="41338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084080" y="414180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077600" y="41353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083720" y="412740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077240" y="41083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515360" y="431784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496280" y="4311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46760" y="44895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46760" y="4311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835680" y="52959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835680" y="48513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V="1">
              <a:off x="6829560" y="4844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083720" y="485136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07724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084080" y="487836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760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515360" y="505476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9628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4676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835680" y="601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35680" y="5587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V="1">
              <a:off x="6829560" y="558180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083720" y="5587920"/>
              <a:ext cx="405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77240" y="556884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84080" y="5602320"/>
              <a:ext cx="4053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077600" y="559584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515360" y="577836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496280" y="577224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940880" y="48513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40880" y="5295960"/>
              <a:ext cx="44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34400" y="485784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188560" y="487836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8169840" y="485928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8188200" y="485136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169480" y="484488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07600" y="50547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588520" y="504828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7500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72240" y="5067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57840" y="57150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657840" y="51688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657840" y="43434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372360" y="57214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372360" y="517536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372360" y="434988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72360" y="389268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78480" y="43434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9400" y="43178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78480" y="51688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59400" y="5143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78480" y="57150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59400" y="568944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57840" y="5892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657840" y="45212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62800" y="58993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62800" y="45277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562800" y="389268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569280" y="45212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537240" y="45086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569280" y="589284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537240" y="588024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750080" y="4889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572240" y="4343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7743960" y="43498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7750080" y="525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572240" y="5803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743960" y="52642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657840" y="497844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657840" y="41655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194520" y="4984920"/>
              <a:ext cx="0" cy="11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194520" y="417204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194520" y="389268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200640" y="416556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168960" y="4140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200640" y="497844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168960" y="4965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664480" y="5067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6499080" y="1828800"/>
            <a:ext cx="22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H="1">
            <a:off x="8272440" y="1824120"/>
            <a:ext cx="450720" cy="29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gate with inverted inputs is a N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+ B’ = (A •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AND-NAND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885-606B-438D-9442-2A4A69862BA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4" name=""/>
          <p:cNvGrpSpPr/>
          <p:nvPr/>
        </p:nvGrpSpPr>
        <p:grpSpPr>
          <a:xfrm>
            <a:off x="4946760" y="2692440"/>
            <a:ext cx="3187440" cy="2717640"/>
            <a:chOff x="4946760" y="2692440"/>
            <a:chExt cx="3187440" cy="2717640"/>
          </a:xfrm>
        </p:grpSpPr>
        <p:sp>
          <p:nvSpPr>
            <p:cNvPr id="1755" name=""/>
            <p:cNvSpPr/>
            <p:nvPr/>
          </p:nvSpPr>
          <p:spPr>
            <a:xfrm>
              <a:off x="5079960" y="299052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060880" y="2971440"/>
              <a:ext cx="152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080320" y="301788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061240" y="2998800"/>
              <a:ext cx="15235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766120" y="3017880"/>
              <a:ext cx="1137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747040" y="299880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803920" y="3016080"/>
              <a:ext cx="75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784840" y="299700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810400" y="3117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810400" y="33462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6591240" y="3206520"/>
              <a:ext cx="6372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585120" y="320040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632920" y="3875040"/>
              <a:ext cx="240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46760" y="3875040"/>
              <a:ext cx="16380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22720" y="3847680"/>
              <a:ext cx="15620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632560" y="384768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810400" y="3994200"/>
              <a:ext cx="2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772240" y="41781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5683320" y="42228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97720" y="407664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105160" y="4743720"/>
              <a:ext cx="1485720" cy="469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086440" y="4724640"/>
              <a:ext cx="151092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05520" y="4770360"/>
              <a:ext cx="14857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086800" y="4751280"/>
              <a:ext cx="15109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779080" y="4770360"/>
              <a:ext cx="126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72240" y="4751280"/>
              <a:ext cx="1519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829120" y="4768920"/>
              <a:ext cx="75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10040" y="4749840"/>
              <a:ext cx="114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35600" y="49845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16800" y="495936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597720" y="494028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5810400" y="47689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810400" y="52005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0880" y="38415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130880" y="4375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24760" y="38480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429680" y="3868560"/>
              <a:ext cx="469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7410600" y="3849480"/>
              <a:ext cx="50760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9320" y="3841200"/>
              <a:ext cx="46980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10240" y="3835440"/>
              <a:ext cx="507960" cy="54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937640" y="408312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016760" y="42926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016760" y="407664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016760" y="384804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902280" y="4108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68664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02280" y="3892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86640" y="323208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896160" y="323856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432432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68664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96160" y="4330440"/>
              <a:ext cx="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594400" y="5200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594400" y="4222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473800" y="5207040"/>
              <a:ext cx="0" cy="20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473800" y="4228920"/>
              <a:ext cx="0" cy="9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473800" y="269244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479920" y="422280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448240" y="4197240"/>
              <a:ext cx="637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479920" y="52005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448240" y="5175000"/>
              <a:ext cx="6372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594400" y="498456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59440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594400" y="3346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257800" y="49910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257800" y="400032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257800" y="3352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57800" y="2692440"/>
              <a:ext cx="0" cy="64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264280" y="3346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5232240" y="332100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264280" y="3994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232240" y="398124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64280" y="49845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2240" y="4959360"/>
              <a:ext cx="5112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5594400" y="47689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94400" y="31176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029200" y="477504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029200" y="3124080"/>
              <a:ext cx="0" cy="163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5029200" y="269244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035680" y="311760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016600" y="3105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035680" y="4768920"/>
              <a:ext cx="54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016600" y="47433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931160" y="410832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797440" y="47368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848200" y="4940280"/>
              <a:ext cx="763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314720" y="2692440"/>
            <a:ext cx="3022200" cy="2717640"/>
            <a:chOff x="1314720" y="2692440"/>
            <a:chExt cx="3022200" cy="2717640"/>
          </a:xfrm>
        </p:grpSpPr>
        <p:sp>
          <p:nvSpPr>
            <p:cNvPr id="1842" name=""/>
            <p:cNvSpPr/>
            <p:nvPr/>
          </p:nvSpPr>
          <p:spPr>
            <a:xfrm>
              <a:off x="1987560" y="2908080"/>
              <a:ext cx="2408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39920" y="2856960"/>
              <a:ext cx="15872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378440" y="2896920"/>
              <a:ext cx="154872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87920" y="2896920"/>
              <a:ext cx="2404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65400" y="3232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65400" y="301608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987920" y="3760560"/>
              <a:ext cx="2404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40280" y="3760560"/>
              <a:ext cx="158688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78080" y="3733560"/>
              <a:ext cx="15490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987560" y="3733560"/>
              <a:ext cx="2408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65400" y="38797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127240" y="4051080"/>
              <a:ext cx="8892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050560" y="4095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33440" y="4628880"/>
              <a:ext cx="15490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14720" y="4597560"/>
              <a:ext cx="15994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71960" y="4643280"/>
              <a:ext cx="15109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78440" y="4637160"/>
              <a:ext cx="153576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81800" y="4643280"/>
              <a:ext cx="202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75320" y="4637160"/>
              <a:ext cx="240480" cy="493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981440" y="466704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974960" y="4647960"/>
              <a:ext cx="240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127240" y="482580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2050560" y="487044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2063880" y="5086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359160" y="4248000"/>
              <a:ext cx="52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9160" y="3727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3352680" y="37209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644640" y="3727440"/>
              <a:ext cx="469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3625560" y="3720960"/>
              <a:ext cx="50796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3645000" y="3754440"/>
              <a:ext cx="46944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625920" y="3735360"/>
              <a:ext cx="507600" cy="5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3156120" y="3778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927520" y="31305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149640" y="313668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156120" y="3994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927520" y="399420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3680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936800" y="5086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28800" y="50925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828800" y="4101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828800" y="2692440"/>
              <a:ext cx="0" cy="139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835280" y="409572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1620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35280" y="50864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816200" y="50608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936800" y="3232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936800" y="38797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936800" y="4870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612800" y="48765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612800" y="3886200"/>
              <a:ext cx="0" cy="9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612800" y="3238560"/>
              <a:ext cx="0" cy="63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612800" y="26924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9280" y="32320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587600" y="320652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619280" y="38797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587600" y="3867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19280" y="48704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587600" y="4832280"/>
              <a:ext cx="50760" cy="63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936800" y="30160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936800" y="46418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84200" y="464796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384200" y="3022560"/>
              <a:ext cx="0" cy="161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384200" y="269244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390680" y="30160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71600" y="299088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390680" y="46418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371600" y="4629240"/>
              <a:ext cx="633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27520" y="4870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56120" y="42228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149640" y="4228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133880" y="3994200"/>
              <a:ext cx="20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050920" y="4622760"/>
              <a:ext cx="8892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4" name=""/>
          <p:cNvSpPr/>
          <p:nvPr/>
        </p:nvSpPr>
        <p:spPr>
          <a:xfrm flipV="1">
            <a:off x="6502320" y="1828800"/>
            <a:ext cx="1770120" cy="116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 flipH="1">
            <a:off x="6456240" y="1828800"/>
            <a:ext cx="182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43760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H="1">
            <a:off x="7742160" y="2209680"/>
            <a:ext cx="533520" cy="157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lace maxterm OR gates with NOR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ce compensating inversion at inputs of AND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428-3691-4FB5-8DB9-77B7FD22D95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0" name=""/>
          <p:cNvGrpSpPr/>
          <p:nvPr/>
        </p:nvGrpSpPr>
        <p:grpSpPr>
          <a:xfrm>
            <a:off x="647640" y="3746520"/>
            <a:ext cx="2489400" cy="2260440"/>
            <a:chOff x="647640" y="3746520"/>
            <a:chExt cx="2489400" cy="2260440"/>
          </a:xfrm>
        </p:grpSpPr>
        <p:sp>
          <p:nvSpPr>
            <p:cNvPr id="1921" name=""/>
            <p:cNvSpPr/>
            <p:nvPr/>
          </p:nvSpPr>
          <p:spPr>
            <a:xfrm>
              <a:off x="1193760" y="3924000"/>
              <a:ext cx="20268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73200" y="3885840"/>
              <a:ext cx="1294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85800" y="3913200"/>
              <a:ext cx="128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194120" y="391320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333440" y="4197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33440" y="40194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94120" y="4636800"/>
              <a:ext cx="2023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73560" y="4636800"/>
              <a:ext cx="12945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5440" y="4609800"/>
              <a:ext cx="128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93760" y="4609800"/>
              <a:ext cx="2026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333440" y="47307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308240" y="4876560"/>
              <a:ext cx="75960" cy="8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1244520" y="4908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66720" y="5352840"/>
              <a:ext cx="126972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47640" y="5333400"/>
              <a:ext cx="130788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80040" y="5367240"/>
              <a:ext cx="12564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86160" y="536076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000" y="5367240"/>
              <a:ext cx="16416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81520" y="5360760"/>
              <a:ext cx="2023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87640" y="5391000"/>
              <a:ext cx="164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81160" y="5371560"/>
              <a:ext cx="20268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308240" y="5524560"/>
              <a:ext cx="759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H="1">
              <a:off x="1244520" y="5556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H="1">
              <a:off x="1257120" y="5734080"/>
              <a:ext cx="51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336760" y="5035320"/>
              <a:ext cx="419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336760" y="4603680"/>
              <a:ext cx="431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2330280" y="459684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571480" y="4603320"/>
              <a:ext cx="39348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552760" y="4597560"/>
              <a:ext cx="418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71840" y="4630680"/>
              <a:ext cx="393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553120" y="461160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58920" y="46544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68480" y="41083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152800" y="411480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15892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68480" y="4832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155600" y="49086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5600" y="57340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60560" y="5740200"/>
              <a:ext cx="0" cy="26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60560" y="491472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60560" y="3746520"/>
              <a:ext cx="0" cy="115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66680" y="4908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47600" y="49086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66680" y="57340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7600" y="5721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155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155600" y="4730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155600" y="55562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82720" y="556236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82720" y="4736880"/>
              <a:ext cx="0" cy="81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82720" y="420372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882720" y="37465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888840" y="4197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57160" y="4171680"/>
              <a:ext cx="5076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888840" y="4730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7160" y="471780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88840" y="555624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857160" y="5530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155600" y="4019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155600" y="5365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92280" y="5371920"/>
              <a:ext cx="0" cy="63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92280" y="4025880"/>
              <a:ext cx="0" cy="13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92280" y="3746520"/>
              <a:ext cx="0" cy="26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98400" y="40194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79320" y="3994200"/>
              <a:ext cx="50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98400" y="5365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9320" y="535284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968480" y="5556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58920" y="5022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152800" y="50292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971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244520" y="53593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3" name=""/>
          <p:cNvSpPr/>
          <p:nvPr/>
        </p:nvSpPr>
        <p:spPr>
          <a:xfrm flipV="1">
            <a:off x="8377200" y="1817280"/>
            <a:ext cx="366840" cy="2868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H="1">
            <a:off x="6508800" y="1835280"/>
            <a:ext cx="223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5" name=""/>
          <p:cNvGrpSpPr/>
          <p:nvPr/>
        </p:nvGrpSpPr>
        <p:grpSpPr>
          <a:xfrm>
            <a:off x="6121440" y="3746520"/>
            <a:ext cx="2717640" cy="2273040"/>
            <a:chOff x="6121440" y="3746520"/>
            <a:chExt cx="2717640" cy="2273040"/>
          </a:xfrm>
        </p:grpSpPr>
        <p:sp>
          <p:nvSpPr>
            <p:cNvPr id="1996" name=""/>
            <p:cNvSpPr/>
            <p:nvPr/>
          </p:nvSpPr>
          <p:spPr>
            <a:xfrm>
              <a:off x="6229800" y="399384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1036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2980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10720" y="40021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788880" y="4021200"/>
              <a:ext cx="113040" cy="35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782400" y="400212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826680" y="4019400"/>
              <a:ext cx="7524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820200" y="399996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832440" y="410832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32440" y="42861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486560" y="417168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480440" y="41655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693480" y="4738680"/>
              <a:ext cx="2023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121440" y="4738680"/>
              <a:ext cx="1358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172200" y="4711680"/>
              <a:ext cx="13078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93120" y="4711680"/>
              <a:ext cx="2026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324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94640" y="499104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 flipH="1">
              <a:off x="67305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493040" y="4902120"/>
              <a:ext cx="759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242400" y="5454360"/>
              <a:ext cx="12438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236280" y="54482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242760" y="5468760"/>
              <a:ext cx="124344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236280" y="5462640"/>
              <a:ext cx="12564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814080" y="5468760"/>
              <a:ext cx="10080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7950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51160" y="5466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832800" y="5460840"/>
              <a:ext cx="882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858000" y="56577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512120" y="5632200"/>
              <a:ext cx="381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493040" y="562608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2440" y="54673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832440" y="583560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347240" y="47304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27440" y="4711680"/>
              <a:ext cx="125748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47240" y="474480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27800" y="4738680"/>
              <a:ext cx="12571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905600" y="4744800"/>
              <a:ext cx="1015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899840" y="473868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7943400" y="4743360"/>
              <a:ext cx="637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937640" y="4736520"/>
              <a:ext cx="8820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950240" y="492120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604360" y="49086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585280" y="4902120"/>
              <a:ext cx="759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937640" y="474336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937640" y="5111640"/>
              <a:ext cx="3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7468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569000" y="49212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46840" y="474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5690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40720" y="420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746840" y="5111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5690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774072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66546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6546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559560" y="5841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5595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559560" y="3746520"/>
              <a:ext cx="0" cy="1269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566040" y="502272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534000" y="49975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566040" y="5835600"/>
              <a:ext cx="7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534000" y="582300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54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546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654600" y="42861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369120" y="566424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3691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369120" y="429264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369120" y="37465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375240" y="42861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56160" y="427356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375240" y="48322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356160" y="4819680"/>
              <a:ext cx="5112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75240" y="56577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6160" y="5632200"/>
              <a:ext cx="51120" cy="5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654600" y="5467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6546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191280" y="547344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191280" y="4114800"/>
              <a:ext cx="0" cy="13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191280" y="3746520"/>
              <a:ext cx="0" cy="35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1974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165720" y="40831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97400" y="5467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65720" y="545472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6124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8072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8580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4" name=""/>
          <p:cNvGrpSpPr/>
          <p:nvPr/>
        </p:nvGrpSpPr>
        <p:grpSpPr>
          <a:xfrm>
            <a:off x="3378960" y="3759120"/>
            <a:ext cx="2615400" cy="2247840"/>
            <a:chOff x="3378960" y="3759120"/>
            <a:chExt cx="2615400" cy="2247840"/>
          </a:xfrm>
        </p:grpSpPr>
        <p:sp>
          <p:nvSpPr>
            <p:cNvPr id="2085" name=""/>
            <p:cNvSpPr/>
            <p:nvPr/>
          </p:nvSpPr>
          <p:spPr>
            <a:xfrm>
              <a:off x="3473640" y="400716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454200" y="3987720"/>
              <a:ext cx="126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473640" y="4021200"/>
              <a:ext cx="1231200" cy="39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54560" y="4014720"/>
              <a:ext cx="12693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044960" y="4021200"/>
              <a:ext cx="885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025880" y="4014720"/>
              <a:ext cx="1267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70880" y="4019760"/>
              <a:ext cx="6264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063680" y="4013280"/>
              <a:ext cx="8892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076640" y="41083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076640" y="4298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718160" y="4184640"/>
              <a:ext cx="633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724280" y="417816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937680" y="4738680"/>
              <a:ext cx="1893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378960" y="4738680"/>
              <a:ext cx="13449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429000" y="4711680"/>
              <a:ext cx="12949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937320" y="4711680"/>
              <a:ext cx="18972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076640" y="483228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051440" y="4991040"/>
              <a:ext cx="6336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H="1">
              <a:off x="3974760" y="502272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724280" y="4902120"/>
              <a:ext cx="763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499200" y="5454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480120" y="5448240"/>
              <a:ext cx="12438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499200" y="5481360"/>
              <a:ext cx="123120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480480" y="5462640"/>
              <a:ext cx="1243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096080" y="5479560"/>
              <a:ext cx="6264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076640" y="5460840"/>
              <a:ext cx="1011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743360" y="56322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724280" y="5626080"/>
              <a:ext cx="763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076640" y="5835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168880" y="47052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168880" y="514980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5162400" y="4711680"/>
              <a:ext cx="0" cy="43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5416920" y="4732200"/>
              <a:ext cx="3931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5397840" y="4713120"/>
              <a:ext cx="4183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5416560" y="4705200"/>
              <a:ext cx="39348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397480" y="4698720"/>
              <a:ext cx="418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835600" y="4908600"/>
              <a:ext cx="381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5079960" y="507996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079960" y="490212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079960" y="471168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978440" y="493380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0060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78440" y="475596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800600" y="41972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971960" y="42037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978440" y="511164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8006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971960" y="5118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898800" y="58356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89880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803760" y="5841720"/>
              <a:ext cx="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803760" y="5029200"/>
              <a:ext cx="0" cy="79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803760" y="3759120"/>
              <a:ext cx="0" cy="12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809880" y="5022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778200" y="5010120"/>
              <a:ext cx="50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809880" y="58356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778200" y="581004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898800" y="5657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98800" y="4832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898800" y="42987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625920" y="56642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625920" y="483876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625920" y="430524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625920" y="37591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32040" y="4298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600360" y="427356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632040" y="483228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600360" y="4819680"/>
              <a:ext cx="507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632040" y="5657760"/>
              <a:ext cx="254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600360" y="5632200"/>
              <a:ext cx="50760" cy="6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898800" y="5479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898800" y="41083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35480" y="548640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35480" y="411480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35480" y="3759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41600" y="41083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2520" y="4095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41600" y="5479920"/>
              <a:ext cx="44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2520" y="5454720"/>
              <a:ext cx="38160" cy="50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829120" y="4933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057920" y="5481360"/>
              <a:ext cx="100800" cy="3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51800" y="5462640"/>
              <a:ext cx="12600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102200" y="5657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076640" y="54799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064040" y="544824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4114800" y="56260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OR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gate with inverted inputs is a NOR g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B’ = (A + B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-level NOR-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ted inputs are not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typical circuit, inversion is done once and signal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3774-AE23-4AE1-9CD3-83E2AB2370E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wo-level logic using NAND and NOR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D-NAND and NOR-NOR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organ’s law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+ B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 A’ • B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’  =   A’ +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ten differentl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+ 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 (A’ • B’)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 • B)   =  (A’ + B’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ther words –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is the same as N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s the same as N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is the same as OR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 is the same as AND with complemented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"/>
          <p:cNvGrpSpPr/>
          <p:nvPr/>
        </p:nvGrpSpPr>
        <p:grpSpPr>
          <a:xfrm>
            <a:off x="3170160" y="5139000"/>
            <a:ext cx="955800" cy="441000"/>
            <a:chOff x="3170160" y="5139000"/>
            <a:chExt cx="955800" cy="441000"/>
          </a:xfrm>
        </p:grpSpPr>
        <p:sp>
          <p:nvSpPr>
            <p:cNvPr id="2180" name=""/>
            <p:cNvSpPr/>
            <p:nvPr/>
          </p:nvSpPr>
          <p:spPr>
            <a:xfrm>
              <a:off x="3343320" y="51562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343320" y="556308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343320" y="515628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760560" y="51728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560760" y="515628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760560" y="53596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560760" y="513900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170160" y="52747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170160" y="544464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951720" y="53596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0" name=""/>
          <p:cNvGrpSpPr/>
          <p:nvPr/>
        </p:nvGrpSpPr>
        <p:grpSpPr>
          <a:xfrm>
            <a:off x="659520" y="5141520"/>
            <a:ext cx="1585080" cy="435240"/>
            <a:chOff x="659520" y="5141520"/>
            <a:chExt cx="1585080" cy="435240"/>
          </a:xfrm>
        </p:grpSpPr>
        <p:sp>
          <p:nvSpPr>
            <p:cNvPr id="2191" name=""/>
            <p:cNvSpPr/>
            <p:nvPr/>
          </p:nvSpPr>
          <p:spPr>
            <a:xfrm>
              <a:off x="1260000" y="515952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59520" y="515952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693720" y="514152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260000" y="514152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00400" y="525888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00400" y="54410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212840" y="525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212840" y="54410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057040" y="535032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3960720" y="53150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252960" y="5229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249720" y="54021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3" name=""/>
          <p:cNvGrpSpPr/>
          <p:nvPr/>
        </p:nvGrpSpPr>
        <p:grpSpPr>
          <a:xfrm>
            <a:off x="1236600" y="5813640"/>
            <a:ext cx="955800" cy="441000"/>
            <a:chOff x="1236600" y="5813640"/>
            <a:chExt cx="955800" cy="441000"/>
          </a:xfrm>
        </p:grpSpPr>
        <p:sp>
          <p:nvSpPr>
            <p:cNvPr id="2204" name=""/>
            <p:cNvSpPr/>
            <p:nvPr/>
          </p:nvSpPr>
          <p:spPr>
            <a:xfrm>
              <a:off x="1409760" y="583092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409760" y="623772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9760" y="583092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27000" y="584748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627200" y="583092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27000" y="603432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627200" y="58136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236600" y="594936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36600" y="611928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018160" y="603432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2027160" y="598968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5" name=""/>
          <p:cNvGrpSpPr/>
          <p:nvPr/>
        </p:nvGrpSpPr>
        <p:grpSpPr>
          <a:xfrm>
            <a:off x="2577240" y="5839920"/>
            <a:ext cx="1585080" cy="437400"/>
            <a:chOff x="2577240" y="5839920"/>
            <a:chExt cx="1585080" cy="437400"/>
          </a:xfrm>
        </p:grpSpPr>
        <p:sp>
          <p:nvSpPr>
            <p:cNvPr id="2216" name=""/>
            <p:cNvSpPr/>
            <p:nvPr/>
          </p:nvSpPr>
          <p:spPr>
            <a:xfrm>
              <a:off x="3177720" y="585792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577240" y="585792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1440" y="583992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177720" y="583992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318120" y="59576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318120" y="614088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130560" y="59576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130560" y="614088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974760" y="60498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5" name=""/>
          <p:cNvSpPr/>
          <p:nvPr/>
        </p:nvSpPr>
        <p:spPr>
          <a:xfrm>
            <a:off x="3265560" y="591336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271680" y="6094440"/>
            <a:ext cx="87480" cy="871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419200" y="533700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428920" y="60325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9" name=""/>
          <p:cNvGrpSpPr/>
          <p:nvPr/>
        </p:nvGrpSpPr>
        <p:grpSpPr>
          <a:xfrm>
            <a:off x="7454880" y="5767560"/>
            <a:ext cx="955800" cy="441000"/>
            <a:chOff x="7454880" y="5767560"/>
            <a:chExt cx="955800" cy="441000"/>
          </a:xfrm>
        </p:grpSpPr>
        <p:sp>
          <p:nvSpPr>
            <p:cNvPr id="2230" name=""/>
            <p:cNvSpPr/>
            <p:nvPr/>
          </p:nvSpPr>
          <p:spPr>
            <a:xfrm>
              <a:off x="7628040" y="578484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28040" y="6191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628040" y="5784840"/>
              <a:ext cx="1080" cy="406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045280" y="580140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845480" y="578484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045280" y="59882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845480" y="5767560"/>
              <a:ext cx="399240" cy="42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454880" y="590328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454880" y="6073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236440" y="598824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0" name=""/>
          <p:cNvGrpSpPr/>
          <p:nvPr/>
        </p:nvGrpSpPr>
        <p:grpSpPr>
          <a:xfrm>
            <a:off x="4944240" y="5770080"/>
            <a:ext cx="1585080" cy="435240"/>
            <a:chOff x="4944240" y="5770080"/>
            <a:chExt cx="1585080" cy="435240"/>
          </a:xfrm>
        </p:grpSpPr>
        <p:sp>
          <p:nvSpPr>
            <p:cNvPr id="2241" name=""/>
            <p:cNvSpPr/>
            <p:nvPr/>
          </p:nvSpPr>
          <p:spPr>
            <a:xfrm>
              <a:off x="5544720" y="5788080"/>
              <a:ext cx="2066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4944240" y="5788080"/>
              <a:ext cx="14061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4978440" y="5770080"/>
              <a:ext cx="137196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44720" y="5770080"/>
              <a:ext cx="206640" cy="41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685120" y="588744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685120" y="606960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97560" y="588744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97560" y="606960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41760" y="597888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6345360" y="594360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7537320" y="585792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7534440" y="60310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5521320" y="5055840"/>
            <a:ext cx="955800" cy="442080"/>
            <a:chOff x="5521320" y="5055840"/>
            <a:chExt cx="955800" cy="442080"/>
          </a:xfrm>
        </p:grpSpPr>
        <p:sp>
          <p:nvSpPr>
            <p:cNvPr id="2254" name=""/>
            <p:cNvSpPr/>
            <p:nvPr/>
          </p:nvSpPr>
          <p:spPr>
            <a:xfrm>
              <a:off x="5694480" y="5073480"/>
              <a:ext cx="417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694480" y="5480640"/>
              <a:ext cx="43488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694480" y="5073480"/>
              <a:ext cx="1080" cy="4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111720" y="5090040"/>
              <a:ext cx="190800" cy="20340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11" y="12"/>
                  </a:moveTo>
                  <a:cubicBezTo>
                    <a:pt x="11" y="5"/>
                    <a:pt x="6" y="0"/>
                    <a:pt x="0" y="0"/>
                  </a:cubicBezTo>
                  <a:lnTo>
                    <a:pt x="0" y="12"/>
                  </a:lnTo>
                  <a:lnTo>
                    <a:pt x="11" y="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911920" y="507348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799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7994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111720" y="5276880"/>
              <a:ext cx="190800" cy="203760"/>
            </a:xfrm>
            <a:custGeom>
              <a:avLst/>
              <a:gdLst/>
              <a:ahLst/>
              <a:rect l="l" t="t" r="r" b="b"/>
              <a:pathLst>
                <a:path w="11" h="12">
                  <a:moveTo>
                    <a:pt x="0" y="11"/>
                  </a:moveTo>
                  <a:cubicBezTo>
                    <a:pt x="6" y="12"/>
                    <a:pt x="11" y="6"/>
                    <a:pt x="11" y="0"/>
                  </a:cubicBezTo>
                  <a:lnTo>
                    <a:pt x="0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911920" y="5055840"/>
              <a:ext cx="399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521320" y="5191920"/>
              <a:ext cx="1731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521320" y="5362200"/>
              <a:ext cx="173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302880" y="5276880"/>
              <a:ext cx="1742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6861960" y="5082480"/>
            <a:ext cx="1585080" cy="437400"/>
            <a:chOff x="6861960" y="5082480"/>
            <a:chExt cx="1585080" cy="437400"/>
          </a:xfrm>
        </p:grpSpPr>
        <p:sp>
          <p:nvSpPr>
            <p:cNvPr id="2265" name=""/>
            <p:cNvSpPr/>
            <p:nvPr/>
          </p:nvSpPr>
          <p:spPr>
            <a:xfrm>
              <a:off x="7462440" y="5100480"/>
              <a:ext cx="206640" cy="38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742" swAng="54027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742" swAng="5402742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861960" y="5100480"/>
              <a:ext cx="14061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896160" y="5082480"/>
              <a:ext cx="137196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462440" y="5082480"/>
              <a:ext cx="206640" cy="41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031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602840" y="5200200"/>
              <a:ext cx="3744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602840" y="5383440"/>
              <a:ext cx="3744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15280" y="520020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15280" y="5383440"/>
              <a:ext cx="187560" cy="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8259480" y="5292360"/>
              <a:ext cx="187560" cy="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4" name=""/>
          <p:cNvSpPr/>
          <p:nvPr/>
        </p:nvSpPr>
        <p:spPr>
          <a:xfrm>
            <a:off x="7550280" y="5156280"/>
            <a:ext cx="8712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7556400" y="5337000"/>
            <a:ext cx="87480" cy="874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6703920" y="5965920"/>
            <a:ext cx="5954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6713640" y="5275440"/>
            <a:ext cx="595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8269200" y="5246640"/>
            <a:ext cx="87480" cy="85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032-0796-43CF-B974-CB66D8BD99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5638680"/>
            <a:ext cx="41911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e'll need a 4-variable Karnaugh map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3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816200" y="3485880"/>
            <a:ext cx="1765080" cy="1187640"/>
            <a:chOff x="1816200" y="3485880"/>
            <a:chExt cx="1765080" cy="1187640"/>
          </a:xfrm>
        </p:grpSpPr>
        <p:sp>
          <p:nvSpPr>
            <p:cNvPr id="89" name=""/>
            <p:cNvSpPr/>
            <p:nvPr/>
          </p:nvSpPr>
          <p:spPr>
            <a:xfrm>
              <a:off x="1816200" y="4305240"/>
              <a:ext cx="17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lock dia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2368080" y="3485880"/>
              <a:ext cx="298440" cy="78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99400" y="2286000"/>
            <a:ext cx="3832920" cy="1099440"/>
            <a:chOff x="599400" y="2286000"/>
            <a:chExt cx="3832920" cy="1099440"/>
          </a:xfrm>
        </p:grpSpPr>
        <p:sp>
          <p:nvSpPr>
            <p:cNvPr id="92" name=""/>
            <p:cNvSpPr/>
            <p:nvPr/>
          </p:nvSpPr>
          <p:spPr>
            <a:xfrm>
              <a:off x="2057400" y="2362320"/>
              <a:ext cx="3556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1800" y="2362320"/>
              <a:ext cx="14605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lt;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= C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 B &gt; C 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990720" y="2298600"/>
              <a:ext cx="1904760" cy="1066680"/>
              <a:chOff x="990720" y="2298600"/>
              <a:chExt cx="1904760" cy="1066680"/>
            </a:xfrm>
          </p:grpSpPr>
          <p:sp>
            <p:nvSpPr>
              <p:cNvPr id="95" name=""/>
              <p:cNvSpPr/>
              <p:nvPr/>
            </p:nvSpPr>
            <p:spPr>
              <a:xfrm>
                <a:off x="1523880" y="2298600"/>
                <a:ext cx="838440" cy="10666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990720" y="24508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990720" y="26794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90720" y="29844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990720" y="32130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362320" y="252720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362320" y="283176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362320" y="313668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522080" y="22860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19920" y="251460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0" y="28195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21000" y="304812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9400" y="23623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9400" y="29401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124600" y="1625760"/>
            <a:ext cx="3105000" cy="3784320"/>
            <a:chOff x="5124600" y="1625760"/>
            <a:chExt cx="3105000" cy="3784320"/>
          </a:xfrm>
        </p:grpSpPr>
        <p:sp>
          <p:nvSpPr>
            <p:cNvPr id="110" name=""/>
            <p:cNvSpPr/>
            <p:nvPr/>
          </p:nvSpPr>
          <p:spPr>
            <a:xfrm>
              <a:off x="5124600" y="184140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15280" y="16315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24600" y="2666880"/>
              <a:ext cx="279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49800" y="3479400"/>
              <a:ext cx="2718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7200" y="4292280"/>
              <a:ext cx="273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30720" y="1625760"/>
              <a:ext cx="3098880" cy="37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T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599"/>
                </a:lnSpc>
                <a:tabLst>
                  <a:tab algn="l" pos="0"/>
                  <a:tab algn="l" pos="343080"/>
                  <a:tab algn="l" pos="685800"/>
                  <a:tab algn="l" pos="1028880"/>
                  <a:tab algn="l" pos="1486080"/>
                  <a:tab algn="l" pos="1943280"/>
                  <a:tab algn="l" pos="24004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03240" y="3777840"/>
            <a:ext cx="2990880" cy="1327680"/>
            <a:chOff x="1803240" y="3777840"/>
            <a:chExt cx="2990880" cy="1327680"/>
          </a:xfrm>
        </p:grpSpPr>
        <p:sp>
          <p:nvSpPr>
            <p:cNvPr id="117" name=""/>
            <p:cNvSpPr/>
            <p:nvPr/>
          </p:nvSpPr>
          <p:spPr>
            <a:xfrm flipV="1">
              <a:off x="3200400" y="3777840"/>
              <a:ext cx="1593720" cy="11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03240" y="4521240"/>
              <a:ext cx="1765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uth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65F-CA23-463E-B6F6-1FF0007645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"/>
          <p:cNvGrpSpPr/>
          <p:nvPr/>
        </p:nvGrpSpPr>
        <p:grpSpPr>
          <a:xfrm>
            <a:off x="838080" y="4881600"/>
            <a:ext cx="3340080" cy="1625400"/>
            <a:chOff x="838080" y="4881600"/>
            <a:chExt cx="3340080" cy="1625400"/>
          </a:xfrm>
        </p:grpSpPr>
        <p:sp>
          <p:nvSpPr>
            <p:cNvPr id="2280" name=""/>
            <p:cNvSpPr/>
            <p:nvPr/>
          </p:nvSpPr>
          <p:spPr>
            <a:xfrm>
              <a:off x="1562040" y="50212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56204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1549440" y="50083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80396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803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80360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803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562040" y="587196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56204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1549440" y="58593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0396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03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0360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03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807280" y="5467320"/>
              <a:ext cx="2275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59280" y="54673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247840" y="5439960"/>
              <a:ext cx="14349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806920" y="5439960"/>
              <a:ext cx="2278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984400" y="5592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2984400" y="580860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8136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2734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476440" y="52750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76876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78136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2734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476440" y="61261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76876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5900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05408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5900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05408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5900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05408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35900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05408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69576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89880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83808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6364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86364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86364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317840" y="4881600"/>
            <a:ext cx="4292640" cy="1625400"/>
            <a:chOff x="4317840" y="4881600"/>
            <a:chExt cx="4292640" cy="1625400"/>
          </a:xfrm>
        </p:grpSpPr>
        <p:sp>
          <p:nvSpPr>
            <p:cNvPr id="2323" name=""/>
            <p:cNvSpPr/>
            <p:nvPr/>
          </p:nvSpPr>
          <p:spPr>
            <a:xfrm>
              <a:off x="5626080" y="5021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626080" y="55292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13480" y="50338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880600" y="5022720"/>
              <a:ext cx="44352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880600" y="50227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880240" y="5008320"/>
              <a:ext cx="44388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880240" y="4995360"/>
              <a:ext cx="45684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350040" y="523728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337440" y="522432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626080" y="587196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626080" y="63802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613480" y="58849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80600" y="5873760"/>
              <a:ext cx="44352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880600" y="58737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880240" y="5859720"/>
              <a:ext cx="44388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880240" y="58467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50040" y="608796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337440" y="60753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375240" y="54529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362280" y="5439960"/>
              <a:ext cx="139716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75600" y="54673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362640" y="5467320"/>
              <a:ext cx="139680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997680" y="5467320"/>
              <a:ext cx="1267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997680" y="5467320"/>
              <a:ext cx="1267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7035480" y="5465520"/>
              <a:ext cx="88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7035480" y="5465880"/>
              <a:ext cx="8892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7035840" y="5554800"/>
              <a:ext cx="6336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7035840" y="5541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7035840" y="5770440"/>
              <a:ext cx="6336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035840" y="57578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423040" y="5160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118120" y="5160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423040" y="5376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118120" y="53769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423040" y="6012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118120" y="60120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423040" y="6227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118120" y="6227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643896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6845400" y="5592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6642000" y="5275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6832440" y="52880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643896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6845400" y="58086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6642000" y="612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32440" y="58212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759800" y="5694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962840" y="5694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317840" y="55292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876920" y="48816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902120" y="5313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02120" y="57578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02120" y="61516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8356680" y="55292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651640" y="5122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651640" y="598644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12160" y="5554800"/>
              <a:ext cx="812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vert from networks of ANDs and ORs to networks of NANDs and N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appropriate inversions ("bubbl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introduced "bubble" must be matched by a corresponding "bubble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rvation of in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lter logic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AND/OR to NAND/N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2" name=""/>
          <p:cNvGrpSpPr/>
          <p:nvPr/>
        </p:nvGrpSpPr>
        <p:grpSpPr>
          <a:xfrm>
            <a:off x="6324480" y="3903840"/>
            <a:ext cx="2210040" cy="1612080"/>
            <a:chOff x="6324480" y="3903840"/>
            <a:chExt cx="2210040" cy="1612080"/>
          </a:xfrm>
        </p:grpSpPr>
        <p:sp>
          <p:nvSpPr>
            <p:cNvPr id="2383" name=""/>
            <p:cNvSpPr/>
            <p:nvPr/>
          </p:nvSpPr>
          <p:spPr>
            <a:xfrm>
              <a:off x="70801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70801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0675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72440" y="4176720"/>
              <a:ext cx="759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94520" y="4011480"/>
              <a:ext cx="279360" cy="19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7994520" y="4201920"/>
              <a:ext cx="27936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81920" y="4011480"/>
              <a:ext cx="0" cy="40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880400" y="4176720"/>
              <a:ext cx="6336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880400" y="41767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87708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4865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8996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299440" y="4214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43880" y="3903840"/>
              <a:ext cx="1790640" cy="622080"/>
            </a:xfrm>
            <a:prstGeom prst="roundRect">
              <a:avLst>
                <a:gd name="adj" fmla="val 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6324480" y="4525920"/>
              <a:ext cx="457200" cy="68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7086600" y="4525560"/>
              <a:ext cx="1447920" cy="99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0E0F-E3E3-41F7-94D9-4077D088143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086280" y="4470480"/>
            <a:ext cx="332712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[ (A  •  B)’  • (C   • D)’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  •  (C’ + D’)  ]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[ (A’ + B’)’ + (C’ + D’)’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(A  •  B)   + (C  • D)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2" name=""/>
          <p:cNvGrpSpPr/>
          <p:nvPr/>
        </p:nvGrpSpPr>
        <p:grpSpPr>
          <a:xfrm>
            <a:off x="762120" y="2394000"/>
            <a:ext cx="3733560" cy="1625400"/>
            <a:chOff x="762120" y="2394000"/>
            <a:chExt cx="3733560" cy="1625400"/>
          </a:xfrm>
        </p:grpSpPr>
        <p:sp>
          <p:nvSpPr>
            <p:cNvPr id="2403" name=""/>
            <p:cNvSpPr/>
            <p:nvPr/>
          </p:nvSpPr>
          <p:spPr>
            <a:xfrm>
              <a:off x="1486080" y="25336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1486080" y="30416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1473120" y="2520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72728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72764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72692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72728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486080" y="33847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86080" y="38926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1473120" y="33717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72728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72764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72692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72728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0600" y="29797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082960" y="29797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171880" y="29523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0240" y="29523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908440" y="3105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908440" y="33210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0504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19708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400480" y="27874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9244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0504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19708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400480" y="36385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9244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28268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977760" y="2673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28268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977760" y="28893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28268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977760" y="35244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28268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977760" y="37400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1944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82284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6212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87320" y="2825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87320" y="32702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87320" y="36640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241880" y="30416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4800600" y="2394000"/>
            <a:ext cx="3733920" cy="1625400"/>
            <a:chOff x="4800600" y="2394000"/>
            <a:chExt cx="3733920" cy="1625400"/>
          </a:xfrm>
        </p:grpSpPr>
        <p:sp>
          <p:nvSpPr>
            <p:cNvPr id="2447" name=""/>
            <p:cNvSpPr/>
            <p:nvPr/>
          </p:nvSpPr>
          <p:spPr>
            <a:xfrm>
              <a:off x="5549760" y="2533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5549760" y="304164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5537160" y="2546280"/>
              <a:ext cx="0" cy="48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803920" y="25351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804280" y="25351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5803560" y="25207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5803920" y="25084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6273720" y="274968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6261120" y="273672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5549760" y="338472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5549760" y="38926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537160" y="339732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803920" y="33861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804280" y="33861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803560" y="33721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803920" y="33591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273720" y="360036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261120" y="358776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299280" y="2965320"/>
              <a:ext cx="13712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6286680" y="2952360"/>
              <a:ext cx="139644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6299640" y="2979720"/>
              <a:ext cx="13708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287040" y="2979720"/>
              <a:ext cx="13960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6922080" y="2979720"/>
              <a:ext cx="1260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6922080" y="2979720"/>
              <a:ext cx="1260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6959880" y="2977920"/>
              <a:ext cx="88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959880" y="2978280"/>
              <a:ext cx="882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959520" y="3067200"/>
              <a:ext cx="63720" cy="63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6959520" y="3054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6959520" y="3282840"/>
              <a:ext cx="63720" cy="63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6959520" y="32702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346720" y="2673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041800" y="2673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346720" y="28893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041800" y="28893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3467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41800" y="352440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346720" y="37400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041800" y="37400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63626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6769080" y="3105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6566040" y="2787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756480" y="28004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3626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6769080" y="33210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6566040" y="36385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6756480" y="33336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7683480" y="3206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7886880" y="3206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00600" y="23940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4826160" y="28256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4826160" y="3270240"/>
              <a:ext cx="2664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4826160" y="3664080"/>
              <a:ext cx="26640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8280360" y="3041640"/>
              <a:ext cx="2541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575320" y="2635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575320" y="349884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035840" y="3067200"/>
              <a:ext cx="8128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83BE-C6E0-4F7E-9A33-FDA59DBD53E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"/>
          <p:cNvSpPr/>
          <p:nvPr/>
        </p:nvSpPr>
        <p:spPr>
          <a:xfrm>
            <a:off x="566424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58196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35800" y="4832280"/>
            <a:ext cx="520920" cy="1155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1917720" y="5778360"/>
            <a:ext cx="851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Ste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1352520" y="5556240"/>
            <a:ext cx="53352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355680" y="6045120"/>
            <a:ext cx="13334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"bubbles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952880" y="3683160"/>
            <a:ext cx="3606840" cy="2082600"/>
            <a:chOff x="4952880" y="3683160"/>
            <a:chExt cx="3606840" cy="2082600"/>
          </a:xfrm>
        </p:grpSpPr>
        <p:sp>
          <p:nvSpPr>
            <p:cNvPr id="2510" name=""/>
            <p:cNvSpPr/>
            <p:nvPr/>
          </p:nvSpPr>
          <p:spPr>
            <a:xfrm>
              <a:off x="5657760" y="379728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657760" y="422928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651640" y="380376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867640" y="381168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848560" y="38052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867280" y="379728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848200" y="37782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575320" y="389880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68840" y="389268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575320" y="407664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568840" y="407052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734080" y="51436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734080" y="557532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727600" y="51498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944320" y="517032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937840" y="515160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943960" y="514332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937480" y="513720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664240" y="52578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657760" y="523872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664240" y="543564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657760" y="541656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095880" y="453384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6089400" y="452772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6096240" y="454824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6089760" y="454176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6604560" y="454824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6598440" y="454176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6641640" y="454644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635520" y="454032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648480" y="46353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6648480" y="482616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3888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32760" y="470520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728120" y="455292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7728120" y="47304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7721640" y="455292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645320" y="47116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7639200" y="470520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238720" y="39243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238720" y="410220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492880" y="52704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238720" y="52704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492880" y="5448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238720" y="54482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229440" y="40132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483240" y="46353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6394320" y="401328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6477120" y="401940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6318360" y="5359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6483240" y="48261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6477120" y="483228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30872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747396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969320" y="47372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8134200" y="47372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676840" y="389880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753160" y="52196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6680160" y="459756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4965840" y="368316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4952880" y="408924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4978440" y="504180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4952880" y="543564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8305920" y="461016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4" name=""/>
          <p:cNvGrpSpPr/>
          <p:nvPr/>
        </p:nvGrpSpPr>
        <p:grpSpPr>
          <a:xfrm>
            <a:off x="762120" y="3727440"/>
            <a:ext cx="3733560" cy="1911240"/>
            <a:chOff x="762120" y="3727440"/>
            <a:chExt cx="3733560" cy="1911240"/>
          </a:xfrm>
        </p:grpSpPr>
        <p:sp>
          <p:nvSpPr>
            <p:cNvPr id="2575" name=""/>
            <p:cNvSpPr/>
            <p:nvPr/>
          </p:nvSpPr>
          <p:spPr>
            <a:xfrm>
              <a:off x="2266920" y="37720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266920" y="420372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260440" y="37782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76800" y="3786120"/>
              <a:ext cx="3549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57720" y="378000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476440" y="377172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57360" y="375300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184480" y="387360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17800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184480" y="4051440"/>
              <a:ext cx="50760" cy="6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178000" y="4044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343240" y="511812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343240" y="554976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336760" y="512460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552760" y="5145120"/>
              <a:ext cx="3679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546280" y="5126040"/>
              <a:ext cx="3808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552400" y="5118480"/>
              <a:ext cx="36828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545920" y="5111640"/>
              <a:ext cx="3812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273400" y="5232240"/>
              <a:ext cx="50760" cy="51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266920" y="5213520"/>
              <a:ext cx="6336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73400" y="541008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266920" y="5391000"/>
              <a:ext cx="633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352520" y="372744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52520" y="38923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1346040" y="372744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593720" y="386712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352520" y="426096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352520" y="442548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1346040" y="426096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1593720" y="440064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1352520" y="4807080"/>
              <a:ext cx="22860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1352520" y="49716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1346040" y="48070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1593720" y="494676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1352520" y="5251320"/>
              <a:ext cx="228600" cy="1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1352520" y="541620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346040" y="525132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1593720" y="5391000"/>
              <a:ext cx="763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3117960" y="4516560"/>
              <a:ext cx="1900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597400" y="4516560"/>
              <a:ext cx="1244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60400" y="4502160"/>
              <a:ext cx="118116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117600" y="4502160"/>
              <a:ext cx="1904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257640" y="46101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57640" y="48006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168264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01312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847880" y="40766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841400" y="408312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092400" y="46101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838600" y="39877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003480" y="39877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86280" y="399420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168264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101680" y="52452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1841400" y="4984920"/>
              <a:ext cx="0" cy="25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1847880" y="524520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092400" y="48006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27520" y="53341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086280" y="4807080"/>
              <a:ext cx="0" cy="52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01312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68264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84788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21016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68264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1847880" y="542304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1187280" y="389880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1022400" y="3898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1187280" y="443232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1022400" y="4432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1187280" y="49784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1022400" y="49784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187280" y="542304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022400" y="54230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3841920" y="471168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4006800" y="47116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2374920" y="5194440"/>
              <a:ext cx="7365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2311560" y="384804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62120" y="3784680"/>
              <a:ext cx="2793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74720" y="433080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7320" y="487692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774720" y="5308560"/>
              <a:ext cx="2667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241880" y="45720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map AND/OR network to NOR/NOR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9" name=""/>
          <p:cNvGrpSpPr/>
          <p:nvPr/>
        </p:nvGrpSpPr>
        <p:grpSpPr>
          <a:xfrm>
            <a:off x="3124080" y="2057400"/>
            <a:ext cx="3733560" cy="1625400"/>
            <a:chOff x="3124080" y="2057400"/>
            <a:chExt cx="3733560" cy="1625400"/>
          </a:xfrm>
        </p:grpSpPr>
        <p:sp>
          <p:nvSpPr>
            <p:cNvPr id="2660" name=""/>
            <p:cNvSpPr/>
            <p:nvPr/>
          </p:nvSpPr>
          <p:spPr>
            <a:xfrm>
              <a:off x="3848040" y="21970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848040" y="27050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flipV="1">
              <a:off x="3835080" y="21841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4089240" y="219852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089600" y="219852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4088880" y="218412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4089240" y="217188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3848040" y="304812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3848040" y="355608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835080" y="303516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089240" y="304956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4089600" y="304956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088880" y="303552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089240" y="302256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092560" y="264312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4444920" y="264312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533840" y="261576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92200" y="261576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270400" y="2768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270400" y="298440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067000" y="2768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559040" y="24508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4762440" y="24508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5054400" y="246384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5067000" y="298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559040" y="33019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762440" y="330192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54400" y="299700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3644640" y="2336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3339720" y="2336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644640" y="2552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3339720" y="25527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3644640" y="3187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3339720" y="3187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3644640" y="34034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339720" y="340344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81400" y="2870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84800" y="2870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124080" y="205740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149280" y="24890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3149280" y="293364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3149280" y="332748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603840" y="270504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8E0-AA35-4C34-B65E-4486E87A23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"/>
          <p:cNvSpPr/>
          <p:nvPr/>
        </p:nvSpPr>
        <p:spPr>
          <a:xfrm>
            <a:off x="2870280" y="4356000"/>
            <a:ext cx="37335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 = {  [ (A’ + B’)’ + (C’ + D’)’  ]’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{     (A’ + B’)  •  (C’ + D’)      }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’ + B’)’ + (C’ + D’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      (A  •  B)  +  (C  •  D)   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verify equivalence of two 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"/>
          <p:cNvGrpSpPr/>
          <p:nvPr/>
        </p:nvGrpSpPr>
        <p:grpSpPr>
          <a:xfrm>
            <a:off x="609480" y="2336760"/>
            <a:ext cx="3733560" cy="1625400"/>
            <a:chOff x="609480" y="2336760"/>
            <a:chExt cx="3733560" cy="1625400"/>
          </a:xfrm>
        </p:grpSpPr>
        <p:sp>
          <p:nvSpPr>
            <p:cNvPr id="2707" name=""/>
            <p:cNvSpPr/>
            <p:nvPr/>
          </p:nvSpPr>
          <p:spPr>
            <a:xfrm>
              <a:off x="1333440" y="247644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1333440" y="298440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V="1">
              <a:off x="1320480" y="246348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1574640" y="2477880"/>
              <a:ext cx="44424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1575000" y="2477880"/>
              <a:ext cx="456480" cy="52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1574280" y="2463480"/>
              <a:ext cx="4446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1574640" y="2451240"/>
              <a:ext cx="4568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1333440" y="3327480"/>
              <a:ext cx="46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1333440" y="3835440"/>
              <a:ext cx="48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1320480" y="3314520"/>
              <a:ext cx="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1574640" y="3328920"/>
              <a:ext cx="4442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1575000" y="3328920"/>
              <a:ext cx="4564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1574280" y="3314880"/>
              <a:ext cx="444600" cy="50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1574640" y="3301920"/>
              <a:ext cx="456840" cy="53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2577960" y="2922480"/>
              <a:ext cx="22824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1930320" y="2922480"/>
              <a:ext cx="15235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2019240" y="2895120"/>
              <a:ext cx="1434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577600" y="2895120"/>
              <a:ext cx="22860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2755800" y="3047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2755800" y="326376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2552400" y="3047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2044440" y="2730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2247840" y="27302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2539800" y="2743200"/>
              <a:ext cx="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2552400" y="32637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044440" y="3581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2247840" y="358128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2539800" y="3276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1130040" y="2616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825120" y="2616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130040" y="28321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825120" y="283212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130040" y="34671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25120" y="346716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30040" y="3682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825120" y="3682800"/>
              <a:ext cx="27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3466800" y="3149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3670200" y="314964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09480" y="2336760"/>
              <a:ext cx="279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34680" y="27684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34680" y="3213000"/>
              <a:ext cx="266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34680" y="3606840"/>
              <a:ext cx="2667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089240" y="298440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5105520" y="2209680"/>
            <a:ext cx="3606840" cy="2082600"/>
            <a:chOff x="5105520" y="2209680"/>
            <a:chExt cx="3606840" cy="2082600"/>
          </a:xfrm>
        </p:grpSpPr>
        <p:sp>
          <p:nvSpPr>
            <p:cNvPr id="2751" name=""/>
            <p:cNvSpPr/>
            <p:nvPr/>
          </p:nvSpPr>
          <p:spPr>
            <a:xfrm>
              <a:off x="5810400" y="2323800"/>
              <a:ext cx="381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810400" y="2755800"/>
              <a:ext cx="39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804280" y="233028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020280" y="2338200"/>
              <a:ext cx="354960" cy="43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001200" y="2331720"/>
              <a:ext cx="393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019920" y="2323800"/>
              <a:ext cx="35532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00840" y="2304720"/>
              <a:ext cx="39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727960" y="242532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721480" y="241920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727960" y="2603160"/>
              <a:ext cx="50760" cy="63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721480" y="2597040"/>
              <a:ext cx="76320" cy="75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5886720" y="367020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5886720" y="4101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5880240" y="3676320"/>
              <a:ext cx="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096960" y="3696840"/>
              <a:ext cx="36720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090480" y="3678120"/>
              <a:ext cx="3801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096600" y="3669840"/>
              <a:ext cx="367560" cy="43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6090120" y="3663720"/>
              <a:ext cx="3805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816880" y="378432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5810400" y="3765240"/>
              <a:ext cx="637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5816880" y="396216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5810400" y="3943080"/>
              <a:ext cx="637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248520" y="3060360"/>
              <a:ext cx="1130040" cy="39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242040" y="3054240"/>
              <a:ext cx="114300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248880" y="3074760"/>
              <a:ext cx="1129680" cy="40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6242400" y="3068280"/>
              <a:ext cx="1142640" cy="4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6757200" y="3074760"/>
              <a:ext cx="10080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6751080" y="3068280"/>
              <a:ext cx="11304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6794280" y="3072960"/>
              <a:ext cx="6372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788160" y="3066840"/>
              <a:ext cx="7596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6801120" y="31618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6801120" y="33526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39152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385400" y="3231720"/>
              <a:ext cx="633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880760" y="3079440"/>
              <a:ext cx="2286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7880760" y="3256920"/>
              <a:ext cx="22860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874280" y="3079440"/>
              <a:ext cx="0" cy="355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797960" y="3238200"/>
              <a:ext cx="507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791840" y="3231720"/>
              <a:ext cx="7596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5391360" y="245088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5391360" y="262872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5645520" y="37969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5391360" y="379692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5645520" y="3974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391360" y="3974760"/>
              <a:ext cx="2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6382080" y="253980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35880" y="31618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6546960" y="253980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9760" y="254592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471000" y="388584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35880" y="335268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629760" y="335880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46136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62660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8121960" y="326376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8286840" y="3263760"/>
              <a:ext cx="152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829480" y="2425320"/>
              <a:ext cx="66060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5905800" y="3746160"/>
              <a:ext cx="6602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32800" y="3124080"/>
              <a:ext cx="660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118480" y="2209680"/>
              <a:ext cx="368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105520" y="2615760"/>
              <a:ext cx="39384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131080" y="3568320"/>
              <a:ext cx="35568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5105520" y="3962160"/>
              <a:ext cx="39384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8458560" y="3136680"/>
              <a:ext cx="25380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E0A-8F16-4F64-A9F2-FBAE79E994D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"/>
          <p:cNvSpPr/>
          <p:nvPr/>
        </p:nvSpPr>
        <p:spPr>
          <a:xfrm>
            <a:off x="1803600" y="5145120"/>
            <a:ext cx="13708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790640" y="5145120"/>
            <a:ext cx="139680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79560" y="5130720"/>
            <a:ext cx="129492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66960" y="5117760"/>
            <a:ext cx="13204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00120" y="5130720"/>
            <a:ext cx="177480" cy="43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2387160" y="5117760"/>
            <a:ext cx="20340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2565360" y="535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2400480" y="5145120"/>
            <a:ext cx="177120" cy="393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387520" y="5145120"/>
            <a:ext cx="20304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413080" y="5729400"/>
            <a:ext cx="190080" cy="405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1816200" y="5729400"/>
            <a:ext cx="13838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1892160" y="5702400"/>
            <a:ext cx="13078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412720" y="5702400"/>
            <a:ext cx="19044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565360" y="584208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565360" y="604512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343400" y="5321160"/>
            <a:ext cx="41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4343400" y="579132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4330800" y="533412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559400" y="5322960"/>
            <a:ext cx="40608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4546800" y="5322960"/>
            <a:ext cx="43128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4559040" y="5308920"/>
            <a:ext cx="40644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4546440" y="5295960"/>
            <a:ext cx="431640" cy="48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5664600" y="5437080"/>
            <a:ext cx="202320" cy="40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067720" y="5437080"/>
            <a:ext cx="1396080" cy="44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43680" y="5410440"/>
            <a:ext cx="132012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5664240" y="5410440"/>
            <a:ext cx="202680" cy="44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5829480" y="55497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5829480" y="5753160"/>
            <a:ext cx="12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152960" y="535932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3225960" y="5359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03440" y="535932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225960" y="5943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4152960" y="55497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3403440" y="594360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581280" y="55627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594240" y="554976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5651640" y="55497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99104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5181480" y="554976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6489720" y="5651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6578640" y="56516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2387520" y="5156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2197080" y="51562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387520" y="5359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197080" y="53593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387520" y="554976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97080" y="554976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387520" y="5842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197080" y="58420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387520" y="60451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2197080" y="604512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4152960" y="5753160"/>
            <a:ext cx="164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2197080" y="633744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2387520" y="633744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140360" y="5765760"/>
            <a:ext cx="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651640" y="575316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2197080" y="6527880"/>
            <a:ext cx="16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387520" y="6527880"/>
            <a:ext cx="323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5638680" y="5765760"/>
            <a:ext cx="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930320" y="5041800"/>
            <a:ext cx="3301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7240" y="5511960"/>
            <a:ext cx="5842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A D F  +  A E F  +  B D F  +  B E F  +  C D F  +  C E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sum-of-products form – already simpl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x 3-input AND gates + 1 x 7-input OR gate (that may not even exist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 wires (19 literals plus 6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 = (A + B + C) (D + E) F  +  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ed form – not written as two-level S-o-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x 3-input OR gate, 2 x 2-input OR gates, 1 x 3-input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wires (7 literals plus 3 internal wi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1B7-7F95-41AC-9DA1-F622E860F93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8" name=""/>
          <p:cNvGrpSpPr/>
          <p:nvPr/>
        </p:nvGrpSpPr>
        <p:grpSpPr>
          <a:xfrm>
            <a:off x="4876920" y="1371600"/>
            <a:ext cx="3809880" cy="5270400"/>
            <a:chOff x="4876920" y="1371600"/>
            <a:chExt cx="3809880" cy="5270400"/>
          </a:xfrm>
        </p:grpSpPr>
        <p:sp>
          <p:nvSpPr>
            <p:cNvPr id="2879" name=""/>
            <p:cNvSpPr/>
            <p:nvPr/>
          </p:nvSpPr>
          <p:spPr>
            <a:xfrm>
              <a:off x="777240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8168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5791320" y="143496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876920" y="144792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5054760" y="137160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666880" y="1600200"/>
            <a:ext cx="6400440" cy="1447560"/>
            <a:chOff x="2666880" y="1600200"/>
            <a:chExt cx="6400440" cy="1447560"/>
          </a:xfrm>
        </p:grpSpPr>
        <p:sp>
          <p:nvSpPr>
            <p:cNvPr id="2885" name=""/>
            <p:cNvSpPr/>
            <p:nvPr/>
          </p:nvSpPr>
          <p:spPr>
            <a:xfrm>
              <a:off x="2666880" y="1905120"/>
              <a:ext cx="17020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6" name=""/>
            <p:cNvGrpSpPr/>
            <p:nvPr/>
          </p:nvGrpSpPr>
          <p:grpSpPr>
            <a:xfrm>
              <a:off x="4419720" y="1600200"/>
              <a:ext cx="4647600" cy="1447560"/>
              <a:chOff x="4419720" y="1600200"/>
              <a:chExt cx="4647600" cy="1447560"/>
            </a:xfrm>
          </p:grpSpPr>
          <p:sp>
            <p:nvSpPr>
              <p:cNvPr id="2887" name=""/>
              <p:cNvSpPr/>
              <p:nvPr/>
            </p:nvSpPr>
            <p:spPr>
              <a:xfrm>
                <a:off x="5088240" y="16272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088240" y="199620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081760" y="1634040"/>
                <a:ext cx="0" cy="354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284800" y="164268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77600" y="163548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4440" y="1627560"/>
                <a:ext cx="33732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277600" y="1633680"/>
                <a:ext cx="36432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088240" y="2556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088240" y="2938680"/>
                <a:ext cx="37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081760" y="256320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284800" y="2585160"/>
                <a:ext cx="336960" cy="36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277600" y="256464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284440" y="255636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277600" y="2549520"/>
                <a:ext cx="36432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128720" y="1777320"/>
                <a:ext cx="351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128720" y="2160000"/>
                <a:ext cx="36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121880" y="1784520"/>
                <a:ext cx="0" cy="36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325280" y="1806480"/>
                <a:ext cx="33696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305120" y="1785960"/>
                <a:ext cx="36360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324920" y="1777680"/>
                <a:ext cx="337320" cy="38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304760" y="1770840"/>
                <a:ext cx="363960" cy="39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981040" y="1731240"/>
                <a:ext cx="17424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481000" y="1731240"/>
                <a:ext cx="117432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547960" y="171612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980680" y="1716120"/>
                <a:ext cx="1746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6101640" y="181836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6101640" y="1968840"/>
                <a:ext cx="2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8020800" y="1881720"/>
                <a:ext cx="161280" cy="327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507080" y="1881720"/>
                <a:ext cx="1175040" cy="369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575120" y="1866240"/>
                <a:ext cx="110700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8020440" y="1866240"/>
                <a:ext cx="161640" cy="354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8142120" y="196884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8142120" y="21330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4939560" y="17366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4777560" y="17366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493956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47775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953320" y="181836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642640" y="181836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790960" y="181836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4939560" y="26658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4777560" y="26658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4939560" y="282960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4777560" y="28296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980120" y="213300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42640" y="274752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898760" y="213300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90960" y="274752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891920" y="2139480"/>
                <a:ext cx="0" cy="60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6966720" y="20509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6885360" y="20509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777560" y="2433240"/>
                <a:ext cx="20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6878520" y="2057760"/>
                <a:ext cx="0" cy="36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953320" y="196884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871960" y="1968840"/>
                <a:ext cx="67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4777560" y="2201040"/>
                <a:ext cx="108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865480" y="1975680"/>
                <a:ext cx="0" cy="218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96672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6655680" y="1887120"/>
                <a:ext cx="13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6804360" y="188712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66908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980120" y="1968840"/>
                <a:ext cx="148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831440" y="1968840"/>
                <a:ext cx="134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8682480" y="2050920"/>
                <a:ext cx="121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4514040" y="229680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4500720" y="16002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4500720" y="17503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4514040" y="2050920"/>
                <a:ext cx="28368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4514040" y="252900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419720" y="2692800"/>
                <a:ext cx="405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8797320" y="1914120"/>
                <a:ext cx="27000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8" name=""/>
          <p:cNvGrpSpPr/>
          <p:nvPr/>
        </p:nvGrpSpPr>
        <p:grpSpPr>
          <a:xfrm>
            <a:off x="2031840" y="3165480"/>
            <a:ext cx="7035480" cy="1429920"/>
            <a:chOff x="2031840" y="3165480"/>
            <a:chExt cx="7035480" cy="1429920"/>
          </a:xfrm>
        </p:grpSpPr>
        <p:sp>
          <p:nvSpPr>
            <p:cNvPr id="2959" name=""/>
            <p:cNvSpPr/>
            <p:nvPr/>
          </p:nvSpPr>
          <p:spPr>
            <a:xfrm>
              <a:off x="2031840" y="3441600"/>
              <a:ext cx="233712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419720" y="3165480"/>
              <a:ext cx="4647600" cy="1429920"/>
              <a:chOff x="4419720" y="3165480"/>
              <a:chExt cx="4647600" cy="1429920"/>
            </a:xfrm>
          </p:grpSpPr>
          <p:sp>
            <p:nvSpPr>
              <p:cNvPr id="2961" name=""/>
              <p:cNvSpPr/>
              <p:nvPr/>
            </p:nvSpPr>
            <p:spPr>
              <a:xfrm>
                <a:off x="5111280" y="320580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111280" y="357012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104440" y="3212640"/>
                <a:ext cx="0" cy="350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319720" y="32212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313240" y="321408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319360" y="3205800"/>
                <a:ext cx="335160" cy="36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312880" y="3213000"/>
                <a:ext cx="361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82240" y="338148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75400" y="3360960"/>
                <a:ext cx="5364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997960" y="3308760"/>
                <a:ext cx="17424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501520" y="3308760"/>
                <a:ext cx="11541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568120" y="3293640"/>
                <a:ext cx="108756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997600" y="3293640"/>
                <a:ext cx="17460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118920" y="339480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6105240" y="337464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6024600" y="3543120"/>
                <a:ext cx="8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272560" y="3630600"/>
                <a:ext cx="214560" cy="13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5272560" y="3765240"/>
                <a:ext cx="214560" cy="175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265720" y="363060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501160" y="3752280"/>
                <a:ext cx="6696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26200" y="3354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26200" y="3732120"/>
                <a:ext cx="37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9720" y="336096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335360" y="3382920"/>
                <a:ext cx="34776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328520" y="336276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335000" y="3354480"/>
                <a:ext cx="34812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328160" y="3347640"/>
                <a:ext cx="36180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697520" y="3529800"/>
                <a:ext cx="40320" cy="4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690680" y="352296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111280" y="412344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111280" y="4501080"/>
                <a:ext cx="375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5104440" y="4130280"/>
                <a:ext cx="0" cy="36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5319720" y="4151880"/>
                <a:ext cx="33480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5313240" y="4131720"/>
                <a:ext cx="361440" cy="390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5319360" y="4123440"/>
                <a:ext cx="335160" cy="376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5312880" y="4116960"/>
                <a:ext cx="36180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5682240" y="4298760"/>
                <a:ext cx="4032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5675400" y="4291920"/>
                <a:ext cx="53640" cy="53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8013600" y="3457080"/>
                <a:ext cx="173520" cy="32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516440" y="3457080"/>
                <a:ext cx="1167840" cy="36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583040" y="3441960"/>
                <a:ext cx="110124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8013240" y="3441960"/>
                <a:ext cx="173880" cy="35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8133840" y="3543120"/>
                <a:ext cx="1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8107200" y="3684600"/>
                <a:ext cx="53640" cy="540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H="1">
                <a:off x="803952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4963680" y="331380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4802400" y="331380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4963680" y="346212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4802400" y="3462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5970960" y="3394800"/>
                <a:ext cx="1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5729040" y="339480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5890680" y="339480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4963680" y="4231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4802400" y="4231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4963680" y="439308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4802400" y="439308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985880" y="370476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5729040" y="431208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5890680" y="4312080"/>
                <a:ext cx="20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905240" y="370476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898760" y="3711960"/>
                <a:ext cx="0" cy="59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6978600" y="3624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6897960" y="3624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4802400" y="4002120"/>
                <a:ext cx="2081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6891120" y="3630600"/>
                <a:ext cx="0" cy="36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5581440" y="377244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5970960" y="3543120"/>
                <a:ext cx="54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5890680" y="3543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5729040" y="3772440"/>
                <a:ext cx="14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5883840" y="35499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6978600" y="3462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6669720" y="3462120"/>
                <a:ext cx="214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6897960" y="346212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985880" y="3543120"/>
                <a:ext cx="13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744320" y="354312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905240" y="3543120"/>
                <a:ext cx="67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5111280" y="3772440"/>
                <a:ext cx="14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802400" y="3772440"/>
                <a:ext cx="29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8697960" y="3624120"/>
                <a:ext cx="10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10524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8107200" y="3522960"/>
                <a:ext cx="53640" cy="536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4513680" y="3853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4500360" y="316548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4500360" y="3313800"/>
                <a:ext cx="26820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4513680" y="3610440"/>
                <a:ext cx="28188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4513680" y="4082760"/>
                <a:ext cx="26820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4419720" y="4244760"/>
                <a:ext cx="40284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8798760" y="3475800"/>
                <a:ext cx="268560" cy="35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9" name=""/>
          <p:cNvGrpSpPr/>
          <p:nvPr/>
        </p:nvGrpSpPr>
        <p:grpSpPr>
          <a:xfrm>
            <a:off x="2286000" y="4952880"/>
            <a:ext cx="6743520" cy="1415880"/>
            <a:chOff x="2286000" y="4952880"/>
            <a:chExt cx="6743520" cy="1415880"/>
          </a:xfrm>
        </p:grpSpPr>
        <p:sp>
          <p:nvSpPr>
            <p:cNvPr id="3050" name=""/>
            <p:cNvSpPr/>
            <p:nvPr/>
          </p:nvSpPr>
          <p:spPr>
            <a:xfrm>
              <a:off x="2286000" y="5079960"/>
              <a:ext cx="20829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AND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1" name=""/>
            <p:cNvGrpSpPr/>
            <p:nvPr/>
          </p:nvGrpSpPr>
          <p:grpSpPr>
            <a:xfrm>
              <a:off x="4419720" y="4952880"/>
              <a:ext cx="4609800" cy="1415880"/>
              <a:chOff x="4419720" y="4952880"/>
              <a:chExt cx="4609800" cy="1415880"/>
            </a:xfrm>
          </p:grpSpPr>
          <p:sp>
            <p:nvSpPr>
              <p:cNvPr id="3052" name=""/>
              <p:cNvSpPr/>
              <p:nvPr/>
            </p:nvSpPr>
            <p:spPr>
              <a:xfrm>
                <a:off x="5094360" y="4979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5094360" y="53402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5087880" y="498600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5301720" y="499428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5295600" y="498744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5301720" y="4979160"/>
                <a:ext cx="3333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5295240" y="4986360"/>
                <a:ext cx="35964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5662080" y="515304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5655600" y="513288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7098840" y="51260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7098840" y="5500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7092000" y="513288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7306560" y="5154480"/>
                <a:ext cx="34632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7300080" y="51346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7306200" y="5126400"/>
                <a:ext cx="34668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7299720" y="511956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7666560" y="529992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7659720" y="52930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094360" y="58878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094360" y="626220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087880" y="589464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301720" y="591624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295600" y="589608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301720" y="5888160"/>
                <a:ext cx="333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95240" y="5881320"/>
                <a:ext cx="3596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662080" y="6061680"/>
                <a:ext cx="39960" cy="39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655600" y="605484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8101080" y="52063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8101080" y="5580720"/>
                <a:ext cx="373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8094240" y="521316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8308800" y="5221800"/>
                <a:ext cx="34632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8302320" y="5214960"/>
                <a:ext cx="3592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8308440" y="5206680"/>
                <a:ext cx="34668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8301960" y="5200200"/>
                <a:ext cx="359640" cy="38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8669160" y="538020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8662320" y="5373360"/>
                <a:ext cx="5328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096600" y="505944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096600" y="5420160"/>
                <a:ext cx="37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6089760" y="5066280"/>
                <a:ext cx="0" cy="34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6303960" y="507456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6297120" y="5067720"/>
                <a:ext cx="36000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6303960" y="5059800"/>
                <a:ext cx="333360" cy="359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6296760" y="5052960"/>
                <a:ext cx="360360" cy="373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6664320" y="5219640"/>
                <a:ext cx="3996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6657840" y="5213160"/>
                <a:ext cx="5328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4947120" y="50860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4786920" y="50860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494712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478692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949720" y="5166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708880" y="516636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869080" y="51663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4947120" y="599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786920" y="59947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4947120" y="61552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786920" y="61552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7954200" y="547380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5708880" y="60750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5869080" y="6075000"/>
                <a:ext cx="199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7873920" y="547380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7867080" y="5480280"/>
                <a:ext cx="0" cy="587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6951960" y="53935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6871680" y="53935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786920" y="5767920"/>
                <a:ext cx="2071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6864840" y="5400000"/>
                <a:ext cx="0" cy="36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5949720" y="53132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5869080" y="53132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862960" y="5320080"/>
                <a:ext cx="0" cy="21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86920" y="5540400"/>
                <a:ext cx="106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6711480" y="523332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6951960" y="52333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6871680" y="523332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7954200" y="531324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7713720" y="531324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7873920" y="53132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8715600" y="5393520"/>
                <a:ext cx="53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2960" y="5634000"/>
                <a:ext cx="2800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499640" y="495288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9640" y="5099760"/>
                <a:ext cx="26712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2680" y="5393520"/>
                <a:ext cx="3603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512960" y="586152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9720" y="6021720"/>
                <a:ext cx="40068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8762760" y="5259960"/>
                <a:ext cx="266760" cy="34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AND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D59-873D-43D1-805A-F8B3B3C2DC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7" name=""/>
          <p:cNvGrpSpPr/>
          <p:nvPr/>
        </p:nvGrpSpPr>
        <p:grpSpPr>
          <a:xfrm>
            <a:off x="4267080" y="1498680"/>
            <a:ext cx="3936960" cy="5219640"/>
            <a:chOff x="4267080" y="1498680"/>
            <a:chExt cx="3936960" cy="5219640"/>
          </a:xfrm>
        </p:grpSpPr>
        <p:sp>
          <p:nvSpPr>
            <p:cNvPr id="3138" name=""/>
            <p:cNvSpPr/>
            <p:nvPr/>
          </p:nvSpPr>
          <p:spPr>
            <a:xfrm>
              <a:off x="723888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248520" y="1523880"/>
              <a:ext cx="0" cy="5194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525780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267080" y="1498680"/>
              <a:ext cx="0" cy="519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572000" y="1523880"/>
              <a:ext cx="36320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65160"/>
                  <a:tab algn="l" pos="1917720"/>
                  <a:tab algn="l" pos="28576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2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3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vel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3" name=""/>
          <p:cNvGrpSpPr/>
          <p:nvPr/>
        </p:nvGrpSpPr>
        <p:grpSpPr>
          <a:xfrm>
            <a:off x="2006640" y="1828800"/>
            <a:ext cx="6565680" cy="1479240"/>
            <a:chOff x="2006640" y="1828800"/>
            <a:chExt cx="6565680" cy="1479240"/>
          </a:xfrm>
        </p:grpSpPr>
        <p:grpSp>
          <p:nvGrpSpPr>
            <p:cNvPr id="3144" name=""/>
            <p:cNvGrpSpPr/>
            <p:nvPr/>
          </p:nvGrpSpPr>
          <p:grpSpPr>
            <a:xfrm>
              <a:off x="3772080" y="1828800"/>
              <a:ext cx="4800240" cy="1479240"/>
              <a:chOff x="3772080" y="1828800"/>
              <a:chExt cx="4800240" cy="1479240"/>
            </a:xfrm>
          </p:grpSpPr>
          <p:sp>
            <p:nvSpPr>
              <p:cNvPr id="3145" name=""/>
              <p:cNvSpPr/>
              <p:nvPr/>
            </p:nvSpPr>
            <p:spPr>
              <a:xfrm>
                <a:off x="4462920" y="185688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462920" y="223344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455720" y="1863360"/>
                <a:ext cx="0" cy="36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4665600" y="1872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4658760" y="186552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4665240" y="1856880"/>
                <a:ext cx="34812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4658400" y="1863720"/>
                <a:ext cx="37620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4462920" y="28058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4462920" y="3196800"/>
                <a:ext cx="390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4455720" y="281232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4665600" y="28353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4658760" y="281448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4665240" y="28062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4658400" y="2799360"/>
                <a:ext cx="37620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569640" y="2010240"/>
                <a:ext cx="3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569640" y="2401200"/>
                <a:ext cx="37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563160" y="2017440"/>
                <a:ext cx="0" cy="376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772680" y="2039760"/>
                <a:ext cx="34776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751440" y="2018880"/>
                <a:ext cx="37656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772320" y="2010600"/>
                <a:ext cx="348120" cy="38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751080" y="2003760"/>
                <a:ext cx="376920" cy="40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5384520" y="1963080"/>
                <a:ext cx="180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4867920" y="1963080"/>
                <a:ext cx="12132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4937040" y="1947960"/>
                <a:ext cx="11437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5384160" y="1947960"/>
                <a:ext cx="18036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5509080" y="205200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509080" y="2205720"/>
                <a:ext cx="2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7491240" y="2116800"/>
                <a:ext cx="16632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961320" y="2116800"/>
                <a:ext cx="1212480" cy="376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7030800" y="2101320"/>
                <a:ext cx="114300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7491240" y="2101320"/>
                <a:ext cx="166320" cy="361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7616520" y="22057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7616520" y="2373120"/>
                <a:ext cx="14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4309200" y="19681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4141800" y="1968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430920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41418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535572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5034960" y="20520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5188320" y="205200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4309200" y="29174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4141800" y="29174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4309200" y="3084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4141800" y="3084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7449120" y="23731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034960" y="3001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7365240" y="237312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188320" y="300132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7358400" y="2379960"/>
                <a:ext cx="0" cy="613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402240" y="22892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318720" y="2289240"/>
                <a:ext cx="69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141800" y="2679840"/>
                <a:ext cx="2162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311880" y="2296080"/>
                <a:ext cx="0" cy="37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35572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272200" y="2205720"/>
                <a:ext cx="69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4141800" y="2442960"/>
                <a:ext cx="111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265000" y="2212200"/>
                <a:ext cx="0" cy="22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40224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081480" y="212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235200" y="212184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712836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7449120" y="2205720"/>
                <a:ext cx="153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7295760" y="22057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8174520" y="2289240"/>
                <a:ext cx="125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3869640" y="254016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3855600" y="182880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3855600" y="1982160"/>
                <a:ext cx="27900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3869640" y="2289240"/>
                <a:ext cx="293040" cy="36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3869640" y="277776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3772080" y="2945520"/>
                <a:ext cx="41868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8293320" y="2149920"/>
                <a:ext cx="279000" cy="36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6" name=""/>
            <p:cNvSpPr/>
            <p:nvPr/>
          </p:nvSpPr>
          <p:spPr>
            <a:xfrm>
              <a:off x="2006640" y="2082960"/>
              <a:ext cx="170172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ri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ND-OR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7" name=""/>
          <p:cNvGrpSpPr/>
          <p:nvPr/>
        </p:nvGrpSpPr>
        <p:grpSpPr>
          <a:xfrm>
            <a:off x="711360" y="3201840"/>
            <a:ext cx="8355960" cy="1733400"/>
            <a:chOff x="711360" y="3201840"/>
            <a:chExt cx="8355960" cy="1733400"/>
          </a:xfrm>
        </p:grpSpPr>
        <p:sp>
          <p:nvSpPr>
            <p:cNvPr id="3218" name=""/>
            <p:cNvSpPr/>
            <p:nvPr/>
          </p:nvSpPr>
          <p:spPr>
            <a:xfrm>
              <a:off x="711360" y="3530520"/>
              <a:ext cx="233676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troduction 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servation of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bubb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9" name=""/>
            <p:cNvGrpSpPr/>
            <p:nvPr/>
          </p:nvGrpSpPr>
          <p:grpSpPr>
            <a:xfrm>
              <a:off x="3213000" y="3201840"/>
              <a:ext cx="5854320" cy="1733400"/>
              <a:chOff x="3213000" y="3201840"/>
              <a:chExt cx="5854320" cy="1733400"/>
            </a:xfrm>
          </p:grpSpPr>
          <p:sp>
            <p:nvSpPr>
              <p:cNvPr id="3220" name=""/>
              <p:cNvSpPr/>
              <p:nvPr/>
            </p:nvSpPr>
            <p:spPr>
              <a:xfrm>
                <a:off x="3306600" y="3998160"/>
                <a:ext cx="28116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3293280" y="322164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3293280" y="3516120"/>
                <a:ext cx="26748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3293280" y="3744000"/>
                <a:ext cx="2811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3319920" y="4279320"/>
                <a:ext cx="26784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3213000" y="4587480"/>
                <a:ext cx="401760" cy="34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8799480" y="3610080"/>
                <a:ext cx="267840" cy="34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568560" y="3476520"/>
                <a:ext cx="361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568560" y="3837600"/>
                <a:ext cx="375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562080" y="3483000"/>
                <a:ext cx="0" cy="347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763320" y="3491280"/>
                <a:ext cx="3477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756480" y="3484800"/>
                <a:ext cx="36144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762960" y="3476520"/>
                <a:ext cx="34812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756120" y="3469680"/>
                <a:ext cx="36180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48864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48864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4519080" y="331560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4519080" y="369036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4512240" y="3322440"/>
                <a:ext cx="0" cy="36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4726800" y="333072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4707000" y="3323880"/>
                <a:ext cx="36072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4726440" y="3315600"/>
                <a:ext cx="33444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4706640" y="3308760"/>
                <a:ext cx="361080" cy="387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4438800" y="34027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4438800" y="356328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4519080" y="4399920"/>
                <a:ext cx="37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4519080" y="4775040"/>
                <a:ext cx="38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4512240" y="4406400"/>
                <a:ext cx="0" cy="36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4726800" y="4414680"/>
                <a:ext cx="334080" cy="374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4707000" y="4408200"/>
                <a:ext cx="36072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726440" y="4400280"/>
                <a:ext cx="33444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4706640" y="4393800"/>
                <a:ext cx="361080" cy="387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4438800" y="448704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4438800" y="463428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021640" y="3409920"/>
                <a:ext cx="105768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015160" y="3403080"/>
                <a:ext cx="108396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021640" y="3424320"/>
                <a:ext cx="105768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015520" y="3417480"/>
                <a:ext cx="1083600" cy="36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504040" y="3424320"/>
                <a:ext cx="92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497560" y="3417480"/>
                <a:ext cx="10584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44000" y="3422880"/>
                <a:ext cx="529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523840" y="3416760"/>
                <a:ext cx="7956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550480" y="350280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550480" y="3663360"/>
                <a:ext cx="3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6106680" y="3570120"/>
                <a:ext cx="39960" cy="39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6099840" y="3563280"/>
                <a:ext cx="5364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7057800" y="3570480"/>
                <a:ext cx="107100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7050960" y="3563640"/>
                <a:ext cx="1084680" cy="347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7058160" y="3584880"/>
                <a:ext cx="1070640" cy="333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7051320" y="3578400"/>
                <a:ext cx="1084320" cy="346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7554240" y="3584880"/>
                <a:ext cx="9252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7547400" y="3578400"/>
                <a:ext cx="105840" cy="319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7580520" y="3583440"/>
                <a:ext cx="65880" cy="30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7573680" y="3576600"/>
                <a:ext cx="79560" cy="320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7587000" y="36633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7587000" y="381096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8142840" y="3717360"/>
                <a:ext cx="53280" cy="53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8136360" y="371052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889440" y="32018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3889440" y="3348720"/>
                <a:ext cx="227160" cy="160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3882600" y="32018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4130640" y="332244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89440" y="3509640"/>
                <a:ext cx="227160" cy="146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3889440" y="3656520"/>
                <a:ext cx="227160" cy="16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3882600" y="350964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4130640" y="363024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89440" y="397800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V="1">
                <a:off x="3889440" y="411156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882600" y="397800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4130640" y="4098600"/>
                <a:ext cx="66600" cy="53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89440" y="42861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3889440" y="4420080"/>
                <a:ext cx="22716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82600" y="42861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4130640" y="4406400"/>
                <a:ext cx="66600" cy="66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889440" y="4593960"/>
                <a:ext cx="2271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 flipV="1">
                <a:off x="3889440" y="4727520"/>
                <a:ext cx="22716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82600" y="4593960"/>
                <a:ext cx="0" cy="29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4130640" y="4714560"/>
                <a:ext cx="6660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8377560" y="3589920"/>
                <a:ext cx="21384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 flipV="1">
                <a:off x="8377560" y="3723480"/>
                <a:ext cx="213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8370720" y="3589920"/>
                <a:ext cx="0" cy="294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8605080" y="3710520"/>
                <a:ext cx="66960" cy="66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21092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4371840" y="342252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4365000" y="336240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4210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4371840" y="35834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4365000" y="3589920"/>
                <a:ext cx="0" cy="66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38992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06844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229000" y="350280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421092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371840" y="450684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365000" y="4433400"/>
                <a:ext cx="0" cy="6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1092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371840" y="4667400"/>
                <a:ext cx="5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365000" y="4674240"/>
                <a:ext cx="0" cy="53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7426080" y="38109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5068440" y="45874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7345800" y="381096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5229000" y="4587480"/>
                <a:ext cx="210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7339320" y="3817440"/>
                <a:ext cx="0" cy="76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21092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6408000" y="373068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6327720" y="373068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4371840" y="4118760"/>
                <a:ext cx="1942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6321240" y="3737160"/>
                <a:ext cx="0" cy="37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8992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309280" y="366336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5302440" y="3670200"/>
                <a:ext cx="0" cy="21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3581280" y="3891240"/>
                <a:ext cx="1714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6166800" y="358344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6408000" y="3583440"/>
                <a:ext cx="6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6327720" y="3583440"/>
                <a:ext cx="66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74260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7118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7278840" y="3663360"/>
                <a:ext cx="133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821628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3742200" y="3355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3581280" y="3355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3742200" y="36633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>
                <a:off x="3581280" y="36633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>
                <a:off x="3742200" y="41187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3581280" y="41187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3742200" y="442656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3581280" y="442656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742200" y="473472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3581280" y="473472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8685360" y="3730680"/>
                <a:ext cx="147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50" name=""/>
          <p:cNvGrpSpPr/>
          <p:nvPr/>
        </p:nvGrpSpPr>
        <p:grpSpPr>
          <a:xfrm>
            <a:off x="1523880" y="4997520"/>
            <a:ext cx="7746840" cy="1550520"/>
            <a:chOff x="1523880" y="4997520"/>
            <a:chExt cx="7746840" cy="1550520"/>
          </a:xfrm>
        </p:grpSpPr>
        <p:sp>
          <p:nvSpPr>
            <p:cNvPr id="3351" name=""/>
            <p:cNvSpPr/>
            <p:nvPr/>
          </p:nvSpPr>
          <p:spPr>
            <a:xfrm>
              <a:off x="1523880" y="5283360"/>
              <a:ext cx="208296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rawn in ter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f convent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OR g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2" name=""/>
            <p:cNvGrpSpPr/>
            <p:nvPr/>
          </p:nvGrpSpPr>
          <p:grpSpPr>
            <a:xfrm>
              <a:off x="3733920" y="4997520"/>
              <a:ext cx="5536800" cy="1550520"/>
              <a:chOff x="3733920" y="4997520"/>
              <a:chExt cx="5536800" cy="1550520"/>
            </a:xfrm>
          </p:grpSpPr>
          <p:sp>
            <p:nvSpPr>
              <p:cNvPr id="3353" name=""/>
              <p:cNvSpPr/>
              <p:nvPr/>
            </p:nvSpPr>
            <p:spPr>
              <a:xfrm>
                <a:off x="3785760" y="5675040"/>
                <a:ext cx="3517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3799080" y="4997520"/>
                <a:ext cx="36432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3799080" y="5153760"/>
                <a:ext cx="37764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3799080" y="5440320"/>
                <a:ext cx="35136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3733920" y="6052680"/>
                <a:ext cx="4168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\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3772800" y="6208920"/>
                <a:ext cx="390600" cy="33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9010440" y="5297040"/>
                <a:ext cx="260280" cy="33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4880160" y="5114880"/>
                <a:ext cx="10292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874040" y="5107680"/>
                <a:ext cx="104148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80520" y="512928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874400" y="5122440"/>
                <a:ext cx="10411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5349600" y="5129280"/>
                <a:ext cx="907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5343480" y="512244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5375520" y="5127480"/>
                <a:ext cx="648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5369040" y="512100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5382000" y="520560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5382000" y="53488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5922720" y="525780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5915880" y="5250960"/>
                <a:ext cx="6516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684756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6841800" y="525204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684792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6842160" y="526608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731700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7310880" y="526608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735588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7349400" y="5265000"/>
                <a:ext cx="6444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736236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736236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7903080" y="54140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7896240" y="5407920"/>
                <a:ext cx="522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3890880" y="50367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884400" y="5043600"/>
                <a:ext cx="10537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3890880" y="5050800"/>
                <a:ext cx="1028160" cy="33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3884760" y="5044320"/>
                <a:ext cx="1053360" cy="351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373280" y="5050800"/>
                <a:ext cx="763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353480" y="5044320"/>
                <a:ext cx="10296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398840" y="5049360"/>
                <a:ext cx="5076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4392000" y="5042520"/>
                <a:ext cx="64440" cy="3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4404960" y="5127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404960" y="52840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945320" y="519264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4938840" y="5173200"/>
                <a:ext cx="5184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3890880" y="609264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3884400" y="6086160"/>
                <a:ext cx="105372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890880" y="6106680"/>
                <a:ext cx="102816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884760" y="6100200"/>
                <a:ext cx="105336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4373280" y="6106680"/>
                <a:ext cx="7632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4353480" y="6100200"/>
                <a:ext cx="1029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4398840" y="6105240"/>
                <a:ext cx="507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4392000" y="6099120"/>
                <a:ext cx="64440" cy="324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4404960" y="61833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4404960" y="633960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4945320" y="6248160"/>
                <a:ext cx="3888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4938840" y="6242040"/>
                <a:ext cx="51840" cy="51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5793120" y="519336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5786280" y="5173560"/>
                <a:ext cx="104148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5793120" y="5207040"/>
                <a:ext cx="102816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5786640" y="5200920"/>
                <a:ext cx="104112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262200" y="5207040"/>
                <a:ext cx="9000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55720" y="5200920"/>
                <a:ext cx="10296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87760" y="5206320"/>
                <a:ext cx="64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281280" y="5199480"/>
                <a:ext cx="77400" cy="31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293880" y="528408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293880" y="5427360"/>
                <a:ext cx="51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834600" y="5336280"/>
                <a:ext cx="51840" cy="51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6828120" y="5329440"/>
                <a:ext cx="6480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7759440" y="5258520"/>
                <a:ext cx="1029240" cy="337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7752960" y="5252040"/>
                <a:ext cx="104220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7759800" y="5285520"/>
                <a:ext cx="10288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7753320" y="5266080"/>
                <a:ext cx="1041840" cy="350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8228880" y="5285520"/>
                <a:ext cx="9072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8222400" y="5266080"/>
                <a:ext cx="10368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8267760" y="5283720"/>
                <a:ext cx="51480" cy="2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8248680" y="5265000"/>
                <a:ext cx="77400" cy="324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8274240" y="53488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8274240" y="550548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8815320" y="5414040"/>
                <a:ext cx="38520" cy="38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8795520" y="5407920"/>
                <a:ext cx="64800" cy="64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004360" y="5205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238720" y="5205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5160240" y="520560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5004360" y="6261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720612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7127640" y="55054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5160240" y="6261480"/>
                <a:ext cx="1954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7121160" y="5511960"/>
                <a:ext cx="0" cy="742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5238720" y="53488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5160240" y="5348880"/>
                <a:ext cx="6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5153760" y="5355720"/>
                <a:ext cx="0" cy="22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4118040" y="5583600"/>
                <a:ext cx="1029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15060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599436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690624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720612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7062840" y="5348880"/>
                <a:ext cx="129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4248720" y="52840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4118040" y="52840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6150600" y="5427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144120" y="5433480"/>
                <a:ext cx="0" cy="36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131000" y="5805360"/>
                <a:ext cx="200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4248720" y="6183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4118040" y="618336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4248720" y="633960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4118040" y="633960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4248720" y="5127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4118040" y="5127480"/>
                <a:ext cx="13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96176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8118000" y="55054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8118000" y="534888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8111520" y="5433480"/>
                <a:ext cx="0" cy="6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8098200" y="5414040"/>
                <a:ext cx="38880" cy="38880"/>
              </a:xfrm>
              <a:prstGeom prst="rect">
                <a:avLst/>
              </a:prstGeom>
              <a:solidFill>
                <a:srgbClr val="d500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8111520" y="5355720"/>
                <a:ext cx="0" cy="64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8873640" y="5427360"/>
                <a:ext cx="143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of multi-level logic to NOR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 = A (B + C D) + B C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7568-932A-4D67-86A1-41A5DBC0B6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between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1" name=""/>
          <p:cNvGrpSpPr/>
          <p:nvPr/>
        </p:nvGrpSpPr>
        <p:grpSpPr>
          <a:xfrm>
            <a:off x="1731960" y="2360520"/>
            <a:ext cx="6532560" cy="3427560"/>
            <a:chOff x="1731960" y="2360520"/>
            <a:chExt cx="6532560" cy="3427560"/>
          </a:xfrm>
        </p:grpSpPr>
        <p:sp>
          <p:nvSpPr>
            <p:cNvPr id="3472" name=""/>
            <p:cNvSpPr/>
            <p:nvPr/>
          </p:nvSpPr>
          <p:spPr>
            <a:xfrm>
              <a:off x="2925720" y="2378160"/>
              <a:ext cx="3445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925720" y="2735280"/>
              <a:ext cx="3664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V="1">
              <a:off x="291924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5" name=""/>
            <p:cNvGrpSpPr/>
            <p:nvPr/>
          </p:nvGrpSpPr>
          <p:grpSpPr>
            <a:xfrm>
              <a:off x="3274920" y="2384640"/>
              <a:ext cx="173160" cy="190440"/>
              <a:chOff x="3274920" y="2384640"/>
              <a:chExt cx="173160" cy="190440"/>
            </a:xfrm>
          </p:grpSpPr>
          <p:sp>
            <p:nvSpPr>
              <p:cNvPr id="3476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3274920" y="238464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8" name=""/>
            <p:cNvGrpSpPr/>
            <p:nvPr/>
          </p:nvGrpSpPr>
          <p:grpSpPr>
            <a:xfrm>
              <a:off x="3274920" y="2557440"/>
              <a:ext cx="173160" cy="195480"/>
              <a:chOff x="3274920" y="2557440"/>
              <a:chExt cx="173160" cy="195480"/>
            </a:xfrm>
          </p:grpSpPr>
          <p:sp>
            <p:nvSpPr>
              <p:cNvPr id="3479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3274920" y="2557440"/>
                <a:ext cx="1731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4"/>
                    </a:lnTo>
                    <a:lnTo>
                      <a:pt x="199" y="96"/>
                    </a:lnTo>
                    <a:lnTo>
                      <a:pt x="190" y="117"/>
                    </a:lnTo>
                    <a:lnTo>
                      <a:pt x="180" y="138"/>
                    </a:lnTo>
                    <a:lnTo>
                      <a:pt x="154" y="175"/>
                    </a:lnTo>
                    <a:lnTo>
                      <a:pt x="138" y="191"/>
                    </a:lnTo>
                    <a:lnTo>
                      <a:pt x="120" y="205"/>
                    </a:lnTo>
                    <a:lnTo>
                      <a:pt x="103" y="217"/>
                    </a:lnTo>
                    <a:lnTo>
                      <a:pt x="84" y="228"/>
                    </a:lnTo>
                    <a:lnTo>
                      <a:pt x="64" y="236"/>
                    </a:lnTo>
                    <a:lnTo>
                      <a:pt x="43" y="242"/>
                    </a:lnTo>
                    <a:lnTo>
                      <a:pt x="22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1" name=""/>
            <p:cNvSpPr/>
            <p:nvPr/>
          </p:nvSpPr>
          <p:spPr>
            <a:xfrm>
              <a:off x="211428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14280" y="30463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109600" y="2671920"/>
              <a:ext cx="180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2463840" y="2684520"/>
              <a:ext cx="172800" cy="190440"/>
              <a:chOff x="2463840" y="2684520"/>
              <a:chExt cx="172800" cy="190440"/>
            </a:xfrm>
          </p:grpSpPr>
          <p:sp>
            <p:nvSpPr>
              <p:cNvPr id="3485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2463840" y="268452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7" name=""/>
            <p:cNvGrpSpPr/>
            <p:nvPr/>
          </p:nvGrpSpPr>
          <p:grpSpPr>
            <a:xfrm>
              <a:off x="2463840" y="2862360"/>
              <a:ext cx="172800" cy="190440"/>
              <a:chOff x="2463840" y="2862360"/>
              <a:chExt cx="172800" cy="190440"/>
            </a:xfrm>
          </p:grpSpPr>
          <p:sp>
            <p:nvSpPr>
              <p:cNvPr id="3488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2463840" y="2862360"/>
                <a:ext cx="17280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2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1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1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5" y="229"/>
                    </a:lnTo>
                    <a:lnTo>
                      <a:pt x="44" y="235"/>
                    </a:lnTo>
                    <a:lnTo>
                      <a:pt x="23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0" name=""/>
            <p:cNvGrpSpPr/>
            <p:nvPr/>
          </p:nvGrpSpPr>
          <p:grpSpPr>
            <a:xfrm>
              <a:off x="3692520" y="2697120"/>
              <a:ext cx="555480" cy="177840"/>
              <a:chOff x="3692520" y="2697120"/>
              <a:chExt cx="555480" cy="177840"/>
            </a:xfrm>
          </p:grpSpPr>
          <p:sp>
            <p:nvSpPr>
              <p:cNvPr id="3491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3692520" y="2697120"/>
                <a:ext cx="555480" cy="177840"/>
              </a:xfrm>
              <a:custGeom>
                <a:avLst/>
                <a:gdLst/>
                <a:ahLst/>
                <a:rect l="l" t="t" r="r" b="b"/>
                <a:pathLst>
                  <a:path w="700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09" y="10"/>
                    </a:lnTo>
                    <a:lnTo>
                      <a:pt x="273" y="17"/>
                    </a:lnTo>
                    <a:lnTo>
                      <a:pt x="335" y="26"/>
                    </a:lnTo>
                    <a:lnTo>
                      <a:pt x="392" y="38"/>
                    </a:lnTo>
                    <a:lnTo>
                      <a:pt x="447" y="51"/>
                    </a:lnTo>
                    <a:lnTo>
                      <a:pt x="496" y="65"/>
                    </a:lnTo>
                    <a:lnTo>
                      <a:pt x="541" y="80"/>
                    </a:lnTo>
                    <a:lnTo>
                      <a:pt x="581" y="98"/>
                    </a:lnTo>
                    <a:lnTo>
                      <a:pt x="616" y="117"/>
                    </a:lnTo>
                    <a:lnTo>
                      <a:pt x="646" y="136"/>
                    </a:lnTo>
                    <a:lnTo>
                      <a:pt x="669" y="157"/>
                    </a:lnTo>
                    <a:lnTo>
                      <a:pt x="686" y="178"/>
                    </a:lnTo>
                    <a:lnTo>
                      <a:pt x="697" y="201"/>
                    </a:lnTo>
                    <a:lnTo>
                      <a:pt x="700" y="212"/>
                    </a:lnTo>
                    <a:lnTo>
                      <a:pt x="70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3" name=""/>
            <p:cNvGrpSpPr/>
            <p:nvPr/>
          </p:nvGrpSpPr>
          <p:grpSpPr>
            <a:xfrm>
              <a:off x="3719520" y="2862360"/>
              <a:ext cx="528480" cy="179280"/>
              <a:chOff x="3719520" y="2862360"/>
              <a:chExt cx="528480" cy="179280"/>
            </a:xfrm>
          </p:grpSpPr>
          <p:sp>
            <p:nvSpPr>
              <p:cNvPr id="3494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3719520" y="2862360"/>
                <a:ext cx="52848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2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3" y="88"/>
                    </a:lnTo>
                    <a:lnTo>
                      <a:pt x="585" y="107"/>
                    </a:lnTo>
                    <a:lnTo>
                      <a:pt x="552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9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697200" y="2862360"/>
              <a:ext cx="84240" cy="179280"/>
              <a:chOff x="3697200" y="2862360"/>
              <a:chExt cx="84240" cy="179280"/>
            </a:xfrm>
          </p:grpSpPr>
          <p:sp>
            <p:nvSpPr>
              <p:cNvPr id="3497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3697200" y="2862360"/>
                <a:ext cx="8424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4" y="46"/>
                    </a:lnTo>
                    <a:lnTo>
                      <a:pt x="97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1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9" name=""/>
            <p:cNvSpPr/>
            <p:nvPr/>
          </p:nvSpPr>
          <p:spPr>
            <a:xfrm>
              <a:off x="374796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0" name=""/>
            <p:cNvGrpSpPr/>
            <p:nvPr/>
          </p:nvGrpSpPr>
          <p:grpSpPr>
            <a:xfrm>
              <a:off x="3697200" y="2697120"/>
              <a:ext cx="84240" cy="160560"/>
              <a:chOff x="3697200" y="2697120"/>
              <a:chExt cx="84240" cy="160560"/>
            </a:xfrm>
          </p:grpSpPr>
          <p:sp>
            <p:nvSpPr>
              <p:cNvPr id="3501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>
                <a:off x="3697200" y="2697120"/>
                <a:ext cx="8424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7" y="124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3" name=""/>
            <p:cNvSpPr/>
            <p:nvPr/>
          </p:nvSpPr>
          <p:spPr>
            <a:xfrm>
              <a:off x="3592440" y="271296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3448080" y="255132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358596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425916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781360" y="248148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6992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1798560" y="240192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181152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592440" y="286236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63664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7020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781360" y="2631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781360" y="2862360"/>
              <a:ext cx="7999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74880" y="2637000"/>
              <a:ext cx="144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8596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27025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969920" y="2781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798560" y="27129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8097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969920" y="29322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798560" y="286236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81224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3592440" y="301320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596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1969920" y="3162240"/>
              <a:ext cx="1611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798560" y="30924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18100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419360" y="2757600"/>
              <a:ext cx="24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43664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1898640" y="3278160"/>
              <a:ext cx="160020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1872000" y="3338640"/>
              <a:ext cx="102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original circu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6113520" y="388296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6113520" y="2378160"/>
              <a:ext cx="344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6113520" y="2735280"/>
              <a:ext cx="3553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6108480" y="2371680"/>
              <a:ext cx="1800" cy="370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8" name=""/>
            <p:cNvGrpSpPr/>
            <p:nvPr/>
          </p:nvGrpSpPr>
          <p:grpSpPr>
            <a:xfrm>
              <a:off x="6464160" y="2384640"/>
              <a:ext cx="171360" cy="190440"/>
              <a:chOff x="6464160" y="2384640"/>
              <a:chExt cx="171360" cy="190440"/>
            </a:xfrm>
          </p:grpSpPr>
          <p:sp>
            <p:nvSpPr>
              <p:cNvPr id="3539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6464160" y="238464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3" y="2"/>
                    </a:lnTo>
                    <a:lnTo>
                      <a:pt x="44" y="5"/>
                    </a:lnTo>
                    <a:lnTo>
                      <a:pt x="65" y="11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1"/>
                    </a:lnTo>
                    <a:lnTo>
                      <a:pt x="216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1" name=""/>
            <p:cNvGrpSpPr/>
            <p:nvPr/>
          </p:nvGrpSpPr>
          <p:grpSpPr>
            <a:xfrm>
              <a:off x="6464160" y="2557440"/>
              <a:ext cx="171360" cy="195480"/>
              <a:chOff x="6464160" y="2557440"/>
              <a:chExt cx="171360" cy="195480"/>
            </a:xfrm>
          </p:grpSpPr>
          <p:sp>
            <p:nvSpPr>
              <p:cNvPr id="3542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6464160" y="2557440"/>
                <a:ext cx="171360" cy="195480"/>
              </a:xfrm>
              <a:custGeom>
                <a:avLst/>
                <a:gdLst/>
                <a:ahLst/>
                <a:rect l="l" t="t" r="r" b="b"/>
                <a:pathLst>
                  <a:path w="217" h="247">
                    <a:moveTo>
                      <a:pt x="217" y="0"/>
                    </a:moveTo>
                    <a:lnTo>
                      <a:pt x="216" y="25"/>
                    </a:lnTo>
                    <a:lnTo>
                      <a:pt x="212" y="49"/>
                    </a:lnTo>
                    <a:lnTo>
                      <a:pt x="207" y="74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1"/>
                    </a:lnTo>
                    <a:lnTo>
                      <a:pt x="121" y="205"/>
                    </a:lnTo>
                    <a:lnTo>
                      <a:pt x="104" y="217"/>
                    </a:lnTo>
                    <a:lnTo>
                      <a:pt x="84" y="228"/>
                    </a:lnTo>
                    <a:lnTo>
                      <a:pt x="65" y="236"/>
                    </a:lnTo>
                    <a:lnTo>
                      <a:pt x="44" y="242"/>
                    </a:lnTo>
                    <a:lnTo>
                      <a:pt x="23" y="245"/>
                    </a:lnTo>
                    <a:lnTo>
                      <a:pt x="0" y="24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5290920" y="2678040"/>
              <a:ext cx="344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290920" y="3046320"/>
              <a:ext cx="3668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V="1">
              <a:off x="5286240" y="2671920"/>
              <a:ext cx="1440" cy="3808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7" name=""/>
            <p:cNvGrpSpPr/>
            <p:nvPr/>
          </p:nvGrpSpPr>
          <p:grpSpPr>
            <a:xfrm>
              <a:off x="5641920" y="2684520"/>
              <a:ext cx="171360" cy="190440"/>
              <a:chOff x="5641920" y="2684520"/>
              <a:chExt cx="171360" cy="190440"/>
            </a:xfrm>
          </p:grpSpPr>
          <p:sp>
            <p:nvSpPr>
              <p:cNvPr id="3548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5641920" y="268452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0" name=""/>
            <p:cNvGrpSpPr/>
            <p:nvPr/>
          </p:nvGrpSpPr>
          <p:grpSpPr>
            <a:xfrm>
              <a:off x="5641920" y="2862360"/>
              <a:ext cx="171360" cy="190440"/>
              <a:chOff x="5641920" y="2862360"/>
              <a:chExt cx="171360" cy="190440"/>
            </a:xfrm>
          </p:grpSpPr>
          <p:sp>
            <p:nvSpPr>
              <p:cNvPr id="3551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641920" y="286236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3" name=""/>
            <p:cNvGrpSpPr/>
            <p:nvPr/>
          </p:nvGrpSpPr>
          <p:grpSpPr>
            <a:xfrm>
              <a:off x="6875280" y="2697120"/>
              <a:ext cx="560520" cy="177840"/>
              <a:chOff x="6875280" y="2697120"/>
              <a:chExt cx="560520" cy="177840"/>
            </a:xfrm>
          </p:grpSpPr>
          <p:sp>
            <p:nvSpPr>
              <p:cNvPr id="3554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  <a:lnTo>
                      <a:pt x="0" y="2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875280" y="2697120"/>
                <a:ext cx="560520" cy="177840"/>
              </a:xfrm>
              <a:custGeom>
                <a:avLst/>
                <a:gdLst/>
                <a:ahLst/>
                <a:rect l="l" t="t" r="r" b="b"/>
                <a:pathLst>
                  <a:path w="707" h="224">
                    <a:moveTo>
                      <a:pt x="0" y="0"/>
                    </a:moveTo>
                    <a:lnTo>
                      <a:pt x="72" y="2"/>
                    </a:lnTo>
                    <a:lnTo>
                      <a:pt x="142" y="5"/>
                    </a:lnTo>
                    <a:lnTo>
                      <a:pt x="210" y="10"/>
                    </a:lnTo>
                    <a:lnTo>
                      <a:pt x="275" y="17"/>
                    </a:lnTo>
                    <a:lnTo>
                      <a:pt x="338" y="26"/>
                    </a:lnTo>
                    <a:lnTo>
                      <a:pt x="396" y="38"/>
                    </a:lnTo>
                    <a:lnTo>
                      <a:pt x="450" y="51"/>
                    </a:lnTo>
                    <a:lnTo>
                      <a:pt x="500" y="65"/>
                    </a:lnTo>
                    <a:lnTo>
                      <a:pt x="546" y="80"/>
                    </a:lnTo>
                    <a:lnTo>
                      <a:pt x="586" y="98"/>
                    </a:lnTo>
                    <a:lnTo>
                      <a:pt x="621" y="117"/>
                    </a:lnTo>
                    <a:lnTo>
                      <a:pt x="651" y="136"/>
                    </a:lnTo>
                    <a:lnTo>
                      <a:pt x="675" y="157"/>
                    </a:lnTo>
                    <a:lnTo>
                      <a:pt x="693" y="178"/>
                    </a:lnTo>
                    <a:lnTo>
                      <a:pt x="698" y="189"/>
                    </a:lnTo>
                    <a:lnTo>
                      <a:pt x="703" y="201"/>
                    </a:lnTo>
                    <a:lnTo>
                      <a:pt x="707" y="212"/>
                    </a:lnTo>
                    <a:lnTo>
                      <a:pt x="707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6" name=""/>
            <p:cNvGrpSpPr/>
            <p:nvPr/>
          </p:nvGrpSpPr>
          <p:grpSpPr>
            <a:xfrm>
              <a:off x="6908760" y="2862360"/>
              <a:ext cx="527040" cy="179280"/>
              <a:chOff x="6908760" y="2862360"/>
              <a:chExt cx="527040" cy="179280"/>
            </a:xfrm>
          </p:grpSpPr>
          <p:sp>
            <p:nvSpPr>
              <p:cNvPr id="3557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908760" y="2862360"/>
                <a:ext cx="527040" cy="179280"/>
              </a:xfrm>
              <a:custGeom>
                <a:avLst/>
                <a:gdLst/>
                <a:ahLst/>
                <a:rect l="l" t="t" r="r" b="b"/>
                <a:pathLst>
                  <a:path w="665" h="226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7"/>
                    </a:lnTo>
                    <a:lnTo>
                      <a:pt x="317" y="198"/>
                    </a:lnTo>
                    <a:lnTo>
                      <a:pt x="259" y="208"/>
                    </a:lnTo>
                    <a:lnTo>
                      <a:pt x="198" y="215"/>
                    </a:lnTo>
                    <a:lnTo>
                      <a:pt x="135" y="221"/>
                    </a:lnTo>
                    <a:lnTo>
                      <a:pt x="68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9" name=""/>
            <p:cNvGrpSpPr/>
            <p:nvPr/>
          </p:nvGrpSpPr>
          <p:grpSpPr>
            <a:xfrm>
              <a:off x="6875280" y="2862360"/>
              <a:ext cx="82800" cy="179280"/>
              <a:chOff x="6875280" y="2862360"/>
              <a:chExt cx="82800" cy="179280"/>
            </a:xfrm>
          </p:grpSpPr>
          <p:sp>
            <p:nvSpPr>
              <p:cNvPr id="3560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875280" y="2862360"/>
                <a:ext cx="82800" cy="179280"/>
              </a:xfrm>
              <a:custGeom>
                <a:avLst/>
                <a:gdLst/>
                <a:ahLst/>
                <a:rect l="l" t="t" r="r" b="b"/>
                <a:pathLst>
                  <a:path w="105" h="226">
                    <a:moveTo>
                      <a:pt x="105" y="0"/>
                    </a:moveTo>
                    <a:lnTo>
                      <a:pt x="103" y="46"/>
                    </a:lnTo>
                    <a:lnTo>
                      <a:pt x="96" y="88"/>
                    </a:lnTo>
                    <a:lnTo>
                      <a:pt x="88" y="126"/>
                    </a:lnTo>
                    <a:lnTo>
                      <a:pt x="74" y="159"/>
                    </a:lnTo>
                    <a:lnTo>
                      <a:pt x="60" y="187"/>
                    </a:lnTo>
                    <a:lnTo>
                      <a:pt x="51" y="198"/>
                    </a:lnTo>
                    <a:lnTo>
                      <a:pt x="40" y="208"/>
                    </a:lnTo>
                    <a:lnTo>
                      <a:pt x="32" y="215"/>
                    </a:lnTo>
                    <a:lnTo>
                      <a:pt x="21" y="221"/>
                    </a:lnTo>
                    <a:lnTo>
                      <a:pt x="11" y="224"/>
                    </a:lnTo>
                    <a:lnTo>
                      <a:pt x="0" y="22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2" name=""/>
            <p:cNvSpPr/>
            <p:nvPr/>
          </p:nvSpPr>
          <p:spPr>
            <a:xfrm>
              <a:off x="6924600" y="2862360"/>
              <a:ext cx="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3" name=""/>
            <p:cNvGrpSpPr/>
            <p:nvPr/>
          </p:nvGrpSpPr>
          <p:grpSpPr>
            <a:xfrm>
              <a:off x="6875280" y="2697120"/>
              <a:ext cx="82800" cy="160560"/>
              <a:chOff x="6875280" y="2697120"/>
              <a:chExt cx="82800" cy="160560"/>
            </a:xfrm>
          </p:grpSpPr>
          <p:sp>
            <p:nvSpPr>
              <p:cNvPr id="3564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875280" y="2697120"/>
                <a:ext cx="82800" cy="16056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6" name=""/>
            <p:cNvSpPr/>
            <p:nvPr/>
          </p:nvSpPr>
          <p:spPr>
            <a:xfrm>
              <a:off x="5957640" y="248148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5146560" y="2481480"/>
              <a:ext cx="800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986360" y="24019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4998960" y="2360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78024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5813280" y="286236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5946840" y="28447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957640" y="26319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957640" y="2862360"/>
              <a:ext cx="8114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5952960" y="2637000"/>
              <a:ext cx="1800" cy="220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5875200" y="29322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890320" y="289080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6780240" y="27129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624360" y="2551320"/>
              <a:ext cx="14472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75200" y="2557440"/>
              <a:ext cx="1800" cy="1494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146560" y="2781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986360" y="2712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997520" y="267192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5146560" y="2932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986360" y="28623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999680" y="282276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6780240" y="301320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6775200" y="3017880"/>
              <a:ext cx="1800" cy="139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5146560" y="3162240"/>
              <a:ext cx="16225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986360" y="309240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4997880" y="30528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7446960" y="28623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835680" y="26830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6879960" y="2833560"/>
              <a:ext cx="68400" cy="7020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6835680" y="29829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6757920" y="268308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6757920" y="2982960"/>
              <a:ext cx="680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7629480" y="275760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7646760" y="271800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52960" y="3243240"/>
              <a:ext cx="29890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020920" y="3303720"/>
              <a:ext cx="1907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all inputs of 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2" name=""/>
            <p:cNvGrpSpPr/>
            <p:nvPr/>
          </p:nvGrpSpPr>
          <p:grpSpPr>
            <a:xfrm>
              <a:off x="3963960" y="4375080"/>
              <a:ext cx="528480" cy="162000"/>
              <a:chOff x="3963960" y="4375080"/>
              <a:chExt cx="528480" cy="162000"/>
            </a:xfrm>
          </p:grpSpPr>
          <p:sp>
            <p:nvSpPr>
              <p:cNvPr id="3603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963960" y="4375080"/>
                <a:ext cx="52848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9" y="2"/>
                    </a:lnTo>
                    <a:lnTo>
                      <a:pt x="135" y="4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5"/>
                    </a:lnTo>
                    <a:lnTo>
                      <a:pt x="373" y="35"/>
                    </a:lnTo>
                    <a:lnTo>
                      <a:pt x="424" y="48"/>
                    </a:lnTo>
                    <a:lnTo>
                      <a:pt x="471" y="60"/>
                    </a:lnTo>
                    <a:lnTo>
                      <a:pt x="513" y="74"/>
                    </a:lnTo>
                    <a:lnTo>
                      <a:pt x="551" y="90"/>
                    </a:lnTo>
                    <a:lnTo>
                      <a:pt x="585" y="107"/>
                    </a:lnTo>
                    <a:lnTo>
                      <a:pt x="613" y="125"/>
                    </a:lnTo>
                    <a:lnTo>
                      <a:pt x="635" y="144"/>
                    </a:lnTo>
                    <a:lnTo>
                      <a:pt x="651" y="163"/>
                    </a:lnTo>
                    <a:lnTo>
                      <a:pt x="662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5" name=""/>
            <p:cNvGrpSpPr/>
            <p:nvPr/>
          </p:nvGrpSpPr>
          <p:grpSpPr>
            <a:xfrm>
              <a:off x="3963960" y="4386240"/>
              <a:ext cx="83880" cy="162000"/>
              <a:chOff x="3963960" y="4386240"/>
              <a:chExt cx="83880" cy="162000"/>
            </a:xfrm>
          </p:grpSpPr>
          <p:sp>
            <p:nvSpPr>
              <p:cNvPr id="3606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963960" y="4386240"/>
                <a:ext cx="83880" cy="1620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0" y="0"/>
                    </a:moveTo>
                    <a:lnTo>
                      <a:pt x="11" y="2"/>
                    </a:lnTo>
                    <a:lnTo>
                      <a:pt x="21" y="4"/>
                    </a:lnTo>
                    <a:lnTo>
                      <a:pt x="32" y="9"/>
                    </a:lnTo>
                    <a:lnTo>
                      <a:pt x="41" y="16"/>
                    </a:lnTo>
                    <a:lnTo>
                      <a:pt x="60" y="35"/>
                    </a:lnTo>
                    <a:lnTo>
                      <a:pt x="74" y="60"/>
                    </a:lnTo>
                    <a:lnTo>
                      <a:pt x="88" y="90"/>
                    </a:lnTo>
                    <a:lnTo>
                      <a:pt x="97" y="125"/>
                    </a:lnTo>
                    <a:lnTo>
                      <a:pt x="104" y="163"/>
                    </a:lnTo>
                    <a:lnTo>
                      <a:pt x="10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8" name=""/>
            <p:cNvGrpSpPr/>
            <p:nvPr/>
          </p:nvGrpSpPr>
          <p:grpSpPr>
            <a:xfrm>
              <a:off x="3963960" y="4518000"/>
              <a:ext cx="528480" cy="177840"/>
              <a:chOff x="3963960" y="4518000"/>
              <a:chExt cx="528480" cy="177840"/>
            </a:xfrm>
          </p:grpSpPr>
          <p:sp>
            <p:nvSpPr>
              <p:cNvPr id="3609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3963960" y="4518000"/>
                <a:ext cx="52848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2" y="22"/>
                    </a:lnTo>
                    <a:lnTo>
                      <a:pt x="651" y="45"/>
                    </a:lnTo>
                    <a:lnTo>
                      <a:pt x="635" y="66"/>
                    </a:lnTo>
                    <a:lnTo>
                      <a:pt x="613" y="87"/>
                    </a:lnTo>
                    <a:lnTo>
                      <a:pt x="585" y="106"/>
                    </a:lnTo>
                    <a:lnTo>
                      <a:pt x="551" y="126"/>
                    </a:lnTo>
                    <a:lnTo>
                      <a:pt x="513" y="143"/>
                    </a:lnTo>
                    <a:lnTo>
                      <a:pt x="471" y="159"/>
                    </a:lnTo>
                    <a:lnTo>
                      <a:pt x="424" y="173"/>
                    </a:lnTo>
                    <a:lnTo>
                      <a:pt x="373" y="185"/>
                    </a:lnTo>
                    <a:lnTo>
                      <a:pt x="317" y="197"/>
                    </a:lnTo>
                    <a:lnTo>
                      <a:pt x="259" y="206"/>
                    </a:lnTo>
                    <a:lnTo>
                      <a:pt x="198" y="213"/>
                    </a:lnTo>
                    <a:lnTo>
                      <a:pt x="135" y="218"/>
                    </a:lnTo>
                    <a:lnTo>
                      <a:pt x="69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1" name=""/>
            <p:cNvGrpSpPr/>
            <p:nvPr/>
          </p:nvGrpSpPr>
          <p:grpSpPr>
            <a:xfrm>
              <a:off x="3963960" y="4524480"/>
              <a:ext cx="83880" cy="160200"/>
              <a:chOff x="3963960" y="4524480"/>
              <a:chExt cx="83880" cy="160200"/>
            </a:xfrm>
          </p:grpSpPr>
          <p:sp>
            <p:nvSpPr>
              <p:cNvPr id="3612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963960" y="4524480"/>
                <a:ext cx="83880" cy="1602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4" y="40"/>
                    </a:lnTo>
                    <a:lnTo>
                      <a:pt x="97" y="78"/>
                    </a:lnTo>
                    <a:lnTo>
                      <a:pt x="88" y="113"/>
                    </a:lnTo>
                    <a:lnTo>
                      <a:pt x="74" y="143"/>
                    </a:lnTo>
                    <a:lnTo>
                      <a:pt x="60" y="168"/>
                    </a:lnTo>
                    <a:lnTo>
                      <a:pt x="41" y="187"/>
                    </a:lnTo>
                    <a:lnTo>
                      <a:pt x="32" y="194"/>
                    </a:lnTo>
                    <a:lnTo>
                      <a:pt x="21" y="199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4" name=""/>
            <p:cNvSpPr/>
            <p:nvPr/>
          </p:nvSpPr>
          <p:spPr>
            <a:xfrm>
              <a:off x="3970080" y="4489560"/>
              <a:ext cx="5724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92320" y="433872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3892320" y="4649760"/>
              <a:ext cx="6840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3003480" y="403380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003480" y="439092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997000" y="4038480"/>
              <a:ext cx="1800" cy="346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0" name=""/>
            <p:cNvGrpSpPr/>
            <p:nvPr/>
          </p:nvGrpSpPr>
          <p:grpSpPr>
            <a:xfrm>
              <a:off x="3363840" y="4040280"/>
              <a:ext cx="173160" cy="190440"/>
              <a:chOff x="3363840" y="4040280"/>
              <a:chExt cx="173160" cy="190440"/>
            </a:xfrm>
          </p:grpSpPr>
          <p:sp>
            <p:nvSpPr>
              <p:cNvPr id="3621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363840" y="404028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2" y="1"/>
                    </a:lnTo>
                    <a:lnTo>
                      <a:pt x="43" y="5"/>
                    </a:lnTo>
                    <a:lnTo>
                      <a:pt x="64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3" name=""/>
            <p:cNvGrpSpPr/>
            <p:nvPr/>
          </p:nvGrpSpPr>
          <p:grpSpPr>
            <a:xfrm>
              <a:off x="3363840" y="4218120"/>
              <a:ext cx="173160" cy="190440"/>
              <a:chOff x="3363840" y="4218120"/>
              <a:chExt cx="173160" cy="190440"/>
            </a:xfrm>
          </p:grpSpPr>
          <p:sp>
            <p:nvSpPr>
              <p:cNvPr id="3624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3363840" y="421812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1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0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0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4" y="229"/>
                    </a:lnTo>
                    <a:lnTo>
                      <a:pt x="43" y="234"/>
                    </a:lnTo>
                    <a:lnTo>
                      <a:pt x="22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6" name=""/>
            <p:cNvSpPr/>
            <p:nvPr/>
          </p:nvSpPr>
          <p:spPr>
            <a:xfrm>
              <a:off x="3537000" y="4189320"/>
              <a:ext cx="680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114280" y="433404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14280" y="4703760"/>
              <a:ext cx="3556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109600" y="4338720"/>
              <a:ext cx="180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2474640" y="4340160"/>
              <a:ext cx="173160" cy="190440"/>
              <a:chOff x="2474640" y="4340160"/>
              <a:chExt cx="173160" cy="190440"/>
            </a:xfrm>
          </p:grpSpPr>
          <p:sp>
            <p:nvSpPr>
              <p:cNvPr id="3631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2474640" y="434016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1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1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474640" y="4518000"/>
              <a:ext cx="173160" cy="190440"/>
              <a:chOff x="2474640" y="4518000"/>
              <a:chExt cx="173160" cy="190440"/>
            </a:xfrm>
          </p:grpSpPr>
          <p:sp>
            <p:nvSpPr>
              <p:cNvPr id="3634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2474640" y="4518000"/>
                <a:ext cx="1731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6" y="71"/>
                    </a:lnTo>
                    <a:lnTo>
                      <a:pt x="199" y="94"/>
                    </a:lnTo>
                    <a:lnTo>
                      <a:pt x="191" y="113"/>
                    </a:lnTo>
                    <a:lnTo>
                      <a:pt x="180" y="134"/>
                    </a:lnTo>
                    <a:lnTo>
                      <a:pt x="154" y="169"/>
                    </a:lnTo>
                    <a:lnTo>
                      <a:pt x="138" y="185"/>
                    </a:lnTo>
                    <a:lnTo>
                      <a:pt x="121" y="199"/>
                    </a:lnTo>
                    <a:lnTo>
                      <a:pt x="103" y="211"/>
                    </a:lnTo>
                    <a:lnTo>
                      <a:pt x="84" y="220"/>
                    </a:lnTo>
                    <a:lnTo>
                      <a:pt x="65" y="229"/>
                    </a:lnTo>
                    <a:lnTo>
                      <a:pt x="44" y="234"/>
                    </a:lnTo>
                    <a:lnTo>
                      <a:pt x="23" y="238"/>
                    </a:lnTo>
                    <a:lnTo>
                      <a:pt x="0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6" name=""/>
            <p:cNvSpPr/>
            <p:nvPr/>
          </p:nvSpPr>
          <p:spPr>
            <a:xfrm>
              <a:off x="2647800" y="448956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448128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747960" y="4368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592440" y="421812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741480" y="422424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747960" y="466884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741480" y="4673520"/>
              <a:ext cx="1800" cy="138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969920" y="4818240"/>
              <a:ext cx="17668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731960" y="4749840"/>
              <a:ext cx="277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744560" y="47084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2859120" y="4138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969920" y="413856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798560" y="4057560"/>
              <a:ext cx="222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811520" y="40165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859120" y="42879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381456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2703240" y="451800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2836800" y="4513320"/>
              <a:ext cx="34920" cy="349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2852640" y="4294080"/>
              <a:ext cx="1440" cy="219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2859120" y="4518000"/>
              <a:ext cx="9442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2763720" y="459900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69920" y="44388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1798560" y="4368960"/>
              <a:ext cx="2109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1809720" y="432756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1969920" y="4599000"/>
              <a:ext cx="1335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1798560" y="4518000"/>
              <a:ext cx="2109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1812240" y="447840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4619520" y="4403880"/>
              <a:ext cx="2458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4636800" y="436248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1865160" y="5210280"/>
              <a:ext cx="193356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6" name=""/>
            <p:cNvGrpSpPr/>
            <p:nvPr/>
          </p:nvGrpSpPr>
          <p:grpSpPr>
            <a:xfrm>
              <a:off x="7064280" y="4600440"/>
              <a:ext cx="527040" cy="162000"/>
              <a:chOff x="7064280" y="4600440"/>
              <a:chExt cx="527040" cy="162000"/>
            </a:xfrm>
          </p:grpSpPr>
          <p:sp>
            <p:nvSpPr>
              <p:cNvPr id="3667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  <a:lnTo>
                      <a:pt x="0" y="20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7064280" y="4600440"/>
                <a:ext cx="527040" cy="162000"/>
              </a:xfrm>
              <a:custGeom>
                <a:avLst/>
                <a:gdLst/>
                <a:ahLst/>
                <a:rect l="l" t="t" r="r" b="b"/>
                <a:pathLst>
                  <a:path w="665" h="203">
                    <a:moveTo>
                      <a:pt x="0" y="0"/>
                    </a:moveTo>
                    <a:lnTo>
                      <a:pt x="68" y="2"/>
                    </a:lnTo>
                    <a:lnTo>
                      <a:pt x="135" y="3"/>
                    </a:lnTo>
                    <a:lnTo>
                      <a:pt x="198" y="9"/>
                    </a:lnTo>
                    <a:lnTo>
                      <a:pt x="259" y="16"/>
                    </a:lnTo>
                    <a:lnTo>
                      <a:pt x="317" y="24"/>
                    </a:lnTo>
                    <a:lnTo>
                      <a:pt x="373" y="35"/>
                    </a:lnTo>
                    <a:lnTo>
                      <a:pt x="423" y="47"/>
                    </a:lnTo>
                    <a:lnTo>
                      <a:pt x="471" y="59"/>
                    </a:lnTo>
                    <a:lnTo>
                      <a:pt x="513" y="73"/>
                    </a:lnTo>
                    <a:lnTo>
                      <a:pt x="551" y="89"/>
                    </a:lnTo>
                    <a:lnTo>
                      <a:pt x="584" y="107"/>
                    </a:lnTo>
                    <a:lnTo>
                      <a:pt x="612" y="124"/>
                    </a:lnTo>
                    <a:lnTo>
                      <a:pt x="635" y="143"/>
                    </a:lnTo>
                    <a:lnTo>
                      <a:pt x="651" y="163"/>
                    </a:lnTo>
                    <a:lnTo>
                      <a:pt x="661" y="182"/>
                    </a:lnTo>
                    <a:lnTo>
                      <a:pt x="665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064280" y="4611600"/>
              <a:ext cx="82440" cy="163440"/>
              <a:chOff x="7064280" y="4611600"/>
              <a:chExt cx="82440" cy="1634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  <a:lnTo>
                      <a:pt x="0" y="20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064280" y="4611600"/>
                <a:ext cx="82440" cy="163440"/>
              </a:xfrm>
              <a:custGeom>
                <a:avLst/>
                <a:gdLst/>
                <a:ahLst/>
                <a:rect l="l" t="t" r="r" b="b"/>
                <a:pathLst>
                  <a:path w="105" h="205">
                    <a:moveTo>
                      <a:pt x="0" y="0"/>
                    </a:moveTo>
                    <a:lnTo>
                      <a:pt x="11" y="2"/>
                    </a:lnTo>
                    <a:lnTo>
                      <a:pt x="21" y="3"/>
                    </a:lnTo>
                    <a:lnTo>
                      <a:pt x="32" y="9"/>
                    </a:lnTo>
                    <a:lnTo>
                      <a:pt x="40" y="16"/>
                    </a:lnTo>
                    <a:lnTo>
                      <a:pt x="60" y="35"/>
                    </a:lnTo>
                    <a:lnTo>
                      <a:pt x="74" y="59"/>
                    </a:lnTo>
                    <a:lnTo>
                      <a:pt x="88" y="89"/>
                    </a:lnTo>
                    <a:lnTo>
                      <a:pt x="96" y="124"/>
                    </a:lnTo>
                    <a:lnTo>
                      <a:pt x="103" y="163"/>
                    </a:lnTo>
                    <a:lnTo>
                      <a:pt x="105" y="205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2" name=""/>
            <p:cNvGrpSpPr/>
            <p:nvPr/>
          </p:nvGrpSpPr>
          <p:grpSpPr>
            <a:xfrm>
              <a:off x="7064280" y="4745160"/>
              <a:ext cx="527040" cy="177840"/>
              <a:chOff x="7064280" y="4745160"/>
              <a:chExt cx="527040" cy="177840"/>
            </a:xfrm>
          </p:grpSpPr>
          <p:sp>
            <p:nvSpPr>
              <p:cNvPr id="3673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6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7064280" y="4745160"/>
                <a:ext cx="527040" cy="177840"/>
              </a:xfrm>
              <a:custGeom>
                <a:avLst/>
                <a:gdLst/>
                <a:ahLst/>
                <a:rect l="l" t="t" r="r" b="b"/>
                <a:pathLst>
                  <a:path w="665" h="224">
                    <a:moveTo>
                      <a:pt x="665" y="0"/>
                    </a:moveTo>
                    <a:lnTo>
                      <a:pt x="661" y="23"/>
                    </a:lnTo>
                    <a:lnTo>
                      <a:pt x="651" y="46"/>
                    </a:lnTo>
                    <a:lnTo>
                      <a:pt x="635" y="67"/>
                    </a:lnTo>
                    <a:lnTo>
                      <a:pt x="612" y="88"/>
                    </a:lnTo>
                    <a:lnTo>
                      <a:pt x="584" y="107"/>
                    </a:lnTo>
                    <a:lnTo>
                      <a:pt x="551" y="126"/>
                    </a:lnTo>
                    <a:lnTo>
                      <a:pt x="513" y="144"/>
                    </a:lnTo>
                    <a:lnTo>
                      <a:pt x="471" y="159"/>
                    </a:lnTo>
                    <a:lnTo>
                      <a:pt x="423" y="173"/>
                    </a:lnTo>
                    <a:lnTo>
                      <a:pt x="373" y="186"/>
                    </a:lnTo>
                    <a:lnTo>
                      <a:pt x="317" y="198"/>
                    </a:lnTo>
                    <a:lnTo>
                      <a:pt x="259" y="207"/>
                    </a:lnTo>
                    <a:lnTo>
                      <a:pt x="198" y="214"/>
                    </a:lnTo>
                    <a:lnTo>
                      <a:pt x="135" y="219"/>
                    </a:lnTo>
                    <a:lnTo>
                      <a:pt x="68" y="222"/>
                    </a:lnTo>
                    <a:lnTo>
                      <a:pt x="0" y="224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5" name=""/>
            <p:cNvGrpSpPr/>
            <p:nvPr/>
          </p:nvGrpSpPr>
          <p:grpSpPr>
            <a:xfrm>
              <a:off x="7064280" y="4738680"/>
              <a:ext cx="82440" cy="185400"/>
              <a:chOff x="7064280" y="4738680"/>
              <a:chExt cx="82440" cy="185400"/>
            </a:xfrm>
          </p:grpSpPr>
          <p:sp>
            <p:nvSpPr>
              <p:cNvPr id="3676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  <a:lnTo>
                      <a:pt x="0" y="0"/>
                    </a:lnTo>
                    <a:lnTo>
                      <a:pt x="10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7064280" y="4738680"/>
                <a:ext cx="82440" cy="185400"/>
              </a:xfrm>
              <a:custGeom>
                <a:avLst/>
                <a:gdLst/>
                <a:ahLst/>
                <a:rect l="l" t="t" r="r" b="b"/>
                <a:pathLst>
                  <a:path w="105" h="203">
                    <a:moveTo>
                      <a:pt x="105" y="0"/>
                    </a:moveTo>
                    <a:lnTo>
                      <a:pt x="103" y="40"/>
                    </a:lnTo>
                    <a:lnTo>
                      <a:pt x="96" y="79"/>
                    </a:lnTo>
                    <a:lnTo>
                      <a:pt x="88" y="114"/>
                    </a:lnTo>
                    <a:lnTo>
                      <a:pt x="74" y="144"/>
                    </a:lnTo>
                    <a:lnTo>
                      <a:pt x="60" y="168"/>
                    </a:lnTo>
                    <a:lnTo>
                      <a:pt x="40" y="187"/>
                    </a:lnTo>
                    <a:lnTo>
                      <a:pt x="32" y="194"/>
                    </a:lnTo>
                    <a:lnTo>
                      <a:pt x="21" y="200"/>
                    </a:lnTo>
                    <a:lnTo>
                      <a:pt x="11" y="201"/>
                    </a:lnTo>
                    <a:lnTo>
                      <a:pt x="0" y="203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8" name=""/>
            <p:cNvSpPr/>
            <p:nvPr/>
          </p:nvSpPr>
          <p:spPr>
            <a:xfrm>
              <a:off x="7068960" y="4719600"/>
              <a:ext cx="6840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040520" y="4622760"/>
              <a:ext cx="666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45200" y="4827600"/>
              <a:ext cx="7128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6113520" y="4240080"/>
              <a:ext cx="3553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6108480" y="3889440"/>
              <a:ext cx="1800" cy="345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3" name=""/>
            <p:cNvGrpSpPr/>
            <p:nvPr/>
          </p:nvGrpSpPr>
          <p:grpSpPr>
            <a:xfrm>
              <a:off x="6475320" y="3886200"/>
              <a:ext cx="171360" cy="190440"/>
              <a:chOff x="6475320" y="3886200"/>
              <a:chExt cx="171360" cy="190440"/>
            </a:xfrm>
          </p:grpSpPr>
          <p:sp>
            <p:nvSpPr>
              <p:cNvPr id="3684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  <a:lnTo>
                      <a:pt x="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475320" y="3886200"/>
                <a:ext cx="171360" cy="190440"/>
              </a:xfrm>
              <a:custGeom>
                <a:avLst/>
                <a:gdLst/>
                <a:ahLst/>
                <a:rect l="l" t="t" r="r" b="b"/>
                <a:pathLst>
                  <a:path w="217" h="239">
                    <a:moveTo>
                      <a:pt x="0" y="0"/>
                    </a:moveTo>
                    <a:lnTo>
                      <a:pt x="23" y="1"/>
                    </a:lnTo>
                    <a:lnTo>
                      <a:pt x="44" y="5"/>
                    </a:lnTo>
                    <a:lnTo>
                      <a:pt x="65" y="10"/>
                    </a:lnTo>
                    <a:lnTo>
                      <a:pt x="84" y="19"/>
                    </a:lnTo>
                    <a:lnTo>
                      <a:pt x="104" y="28"/>
                    </a:lnTo>
                    <a:lnTo>
                      <a:pt x="121" y="40"/>
                    </a:lnTo>
                    <a:lnTo>
                      <a:pt x="139" y="54"/>
                    </a:lnTo>
                    <a:lnTo>
                      <a:pt x="154" y="70"/>
                    </a:lnTo>
                    <a:lnTo>
                      <a:pt x="181" y="105"/>
                    </a:lnTo>
                    <a:lnTo>
                      <a:pt x="191" y="126"/>
                    </a:lnTo>
                    <a:lnTo>
                      <a:pt x="200" y="147"/>
                    </a:lnTo>
                    <a:lnTo>
                      <a:pt x="207" y="168"/>
                    </a:lnTo>
                    <a:lnTo>
                      <a:pt x="212" y="190"/>
                    </a:lnTo>
                    <a:lnTo>
                      <a:pt x="215" y="215"/>
                    </a:lnTo>
                    <a:lnTo>
                      <a:pt x="217" y="239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6" name=""/>
            <p:cNvGrpSpPr/>
            <p:nvPr/>
          </p:nvGrpSpPr>
          <p:grpSpPr>
            <a:xfrm>
              <a:off x="6475320" y="4048200"/>
              <a:ext cx="171360" cy="196920"/>
              <a:chOff x="6475320" y="4048200"/>
              <a:chExt cx="171360" cy="196920"/>
            </a:xfrm>
          </p:grpSpPr>
          <p:sp>
            <p:nvSpPr>
              <p:cNvPr id="3687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475320" y="4048200"/>
                <a:ext cx="171360" cy="196920"/>
              </a:xfrm>
              <a:custGeom>
                <a:avLst/>
                <a:gdLst/>
                <a:ahLst/>
                <a:rect l="l" t="t" r="r" b="b"/>
                <a:pathLst>
                  <a:path w="217" h="246">
                    <a:moveTo>
                      <a:pt x="217" y="0"/>
                    </a:moveTo>
                    <a:lnTo>
                      <a:pt x="215" y="24"/>
                    </a:lnTo>
                    <a:lnTo>
                      <a:pt x="212" y="49"/>
                    </a:lnTo>
                    <a:lnTo>
                      <a:pt x="207" y="73"/>
                    </a:lnTo>
                    <a:lnTo>
                      <a:pt x="200" y="96"/>
                    </a:lnTo>
                    <a:lnTo>
                      <a:pt x="191" y="117"/>
                    </a:lnTo>
                    <a:lnTo>
                      <a:pt x="181" y="138"/>
                    </a:lnTo>
                    <a:lnTo>
                      <a:pt x="154" y="175"/>
                    </a:lnTo>
                    <a:lnTo>
                      <a:pt x="139" y="190"/>
                    </a:lnTo>
                    <a:lnTo>
                      <a:pt x="121" y="204"/>
                    </a:lnTo>
                    <a:lnTo>
                      <a:pt x="104" y="217"/>
                    </a:lnTo>
                    <a:lnTo>
                      <a:pt x="84" y="227"/>
                    </a:lnTo>
                    <a:lnTo>
                      <a:pt x="65" y="236"/>
                    </a:lnTo>
                    <a:lnTo>
                      <a:pt x="44" y="241"/>
                    </a:lnTo>
                    <a:lnTo>
                      <a:pt x="23" y="245"/>
                    </a:lnTo>
                    <a:lnTo>
                      <a:pt x="0" y="246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9" name=""/>
            <p:cNvSpPr/>
            <p:nvPr/>
          </p:nvSpPr>
          <p:spPr>
            <a:xfrm>
              <a:off x="6646680" y="4038480"/>
              <a:ext cx="57240" cy="604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224320" y="456408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224320" y="4934160"/>
              <a:ext cx="3556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219640" y="4570560"/>
              <a:ext cx="1440" cy="35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3" name=""/>
            <p:cNvGrpSpPr/>
            <p:nvPr/>
          </p:nvGrpSpPr>
          <p:grpSpPr>
            <a:xfrm>
              <a:off x="5586480" y="4567320"/>
              <a:ext cx="171360" cy="189000"/>
              <a:chOff x="5586480" y="4567320"/>
              <a:chExt cx="171360" cy="189000"/>
            </a:xfrm>
          </p:grpSpPr>
          <p:sp>
            <p:nvSpPr>
              <p:cNvPr id="3694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  <a:lnTo>
                      <a:pt x="0" y="2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5586480" y="4567320"/>
                <a:ext cx="171360" cy="18900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0" y="0"/>
                    </a:moveTo>
                    <a:lnTo>
                      <a:pt x="22" y="2"/>
                    </a:lnTo>
                    <a:lnTo>
                      <a:pt x="43" y="5"/>
                    </a:lnTo>
                    <a:lnTo>
                      <a:pt x="64" y="11"/>
                    </a:lnTo>
                    <a:lnTo>
                      <a:pt x="84" y="19"/>
                    </a:lnTo>
                    <a:lnTo>
                      <a:pt x="103" y="28"/>
                    </a:lnTo>
                    <a:lnTo>
                      <a:pt x="120" y="40"/>
                    </a:lnTo>
                    <a:lnTo>
                      <a:pt x="138" y="54"/>
                    </a:lnTo>
                    <a:lnTo>
                      <a:pt x="154" y="70"/>
                    </a:lnTo>
                    <a:lnTo>
                      <a:pt x="180" y="105"/>
                    </a:lnTo>
                    <a:lnTo>
                      <a:pt x="190" y="126"/>
                    </a:lnTo>
                    <a:lnTo>
                      <a:pt x="199" y="147"/>
                    </a:lnTo>
                    <a:lnTo>
                      <a:pt x="206" y="168"/>
                    </a:lnTo>
                    <a:lnTo>
                      <a:pt x="211" y="191"/>
                    </a:lnTo>
                    <a:lnTo>
                      <a:pt x="215" y="215"/>
                    </a:lnTo>
                    <a:lnTo>
                      <a:pt x="217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6" name=""/>
            <p:cNvGrpSpPr/>
            <p:nvPr/>
          </p:nvGrpSpPr>
          <p:grpSpPr>
            <a:xfrm>
              <a:off x="5586480" y="4745160"/>
              <a:ext cx="171360" cy="188640"/>
              <a:chOff x="5586480" y="4745160"/>
              <a:chExt cx="171360" cy="1886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  <a:lnTo>
                      <a:pt x="0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6480" y="4745160"/>
                <a:ext cx="171360" cy="188640"/>
              </a:xfrm>
              <a:custGeom>
                <a:avLst/>
                <a:gdLst/>
                <a:ahLst/>
                <a:rect l="l" t="t" r="r" b="b"/>
                <a:pathLst>
                  <a:path w="217" h="240">
                    <a:moveTo>
                      <a:pt x="217" y="0"/>
                    </a:moveTo>
                    <a:lnTo>
                      <a:pt x="215" y="25"/>
                    </a:lnTo>
                    <a:lnTo>
                      <a:pt x="211" y="49"/>
                    </a:lnTo>
                    <a:lnTo>
                      <a:pt x="206" y="72"/>
                    </a:lnTo>
                    <a:lnTo>
                      <a:pt x="199" y="95"/>
                    </a:lnTo>
                    <a:lnTo>
                      <a:pt x="190" y="114"/>
                    </a:lnTo>
                    <a:lnTo>
                      <a:pt x="180" y="135"/>
                    </a:lnTo>
                    <a:lnTo>
                      <a:pt x="154" y="170"/>
                    </a:lnTo>
                    <a:lnTo>
                      <a:pt x="138" y="186"/>
                    </a:lnTo>
                    <a:lnTo>
                      <a:pt x="120" y="200"/>
                    </a:lnTo>
                    <a:lnTo>
                      <a:pt x="103" y="212"/>
                    </a:lnTo>
                    <a:lnTo>
                      <a:pt x="84" y="221"/>
                    </a:lnTo>
                    <a:lnTo>
                      <a:pt x="64" y="229"/>
                    </a:lnTo>
                    <a:lnTo>
                      <a:pt x="43" y="235"/>
                    </a:lnTo>
                    <a:lnTo>
                      <a:pt x="22" y="238"/>
                    </a:lnTo>
                    <a:lnTo>
                      <a:pt x="0" y="240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9" name=""/>
            <p:cNvSpPr/>
            <p:nvPr/>
          </p:nvSpPr>
          <p:spPr>
            <a:xfrm>
              <a:off x="5757840" y="4719600"/>
              <a:ext cx="57240" cy="716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5957640" y="413856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5952960" y="4143240"/>
              <a:ext cx="1800" cy="295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6846840" y="4861080"/>
              <a:ext cx="2016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837120" y="4862520"/>
              <a:ext cx="1800" cy="189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068800" y="5049720"/>
              <a:ext cx="176688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4841640" y="4979880"/>
              <a:ext cx="2793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4854240" y="4938840"/>
              <a:ext cx="168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7591320" y="474516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6846840" y="4660920"/>
              <a:ext cx="187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6702480" y="4057560"/>
              <a:ext cx="13320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6838560" y="4062600"/>
              <a:ext cx="3240" cy="5983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5957640" y="3987720"/>
              <a:ext cx="14472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5068800" y="3987720"/>
              <a:ext cx="87804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908600" y="3906720"/>
              <a:ext cx="2235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921200" y="3867120"/>
              <a:ext cx="98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6924600" y="4749840"/>
              <a:ext cx="133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57840" y="4448160"/>
              <a:ext cx="1440" cy="295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6642000" y="4730760"/>
              <a:ext cx="34920" cy="36720"/>
            </a:xfrm>
            <a:prstGeom prst="rect">
              <a:avLst/>
            </a:prstGeom>
            <a:solidFill>
              <a:srgbClr val="00000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5813280" y="4749840"/>
              <a:ext cx="3762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V="1">
              <a:off x="6475320" y="4750920"/>
              <a:ext cx="438120" cy="3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5730840" y="4125960"/>
              <a:ext cx="2127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772960" y="416736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068800" y="4668840"/>
              <a:ext cx="144360" cy="18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4908600" y="459900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919760" y="4559400"/>
              <a:ext cx="99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5068800" y="4818240"/>
              <a:ext cx="1443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4908600" y="4749840"/>
              <a:ext cx="212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4921920" y="4708440"/>
              <a:ext cx="9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7729560" y="4629240"/>
              <a:ext cx="2458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7746840" y="4589640"/>
              <a:ext cx="79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5841720" y="4783320"/>
              <a:ext cx="324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5858280" y="4743360"/>
              <a:ext cx="14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\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4886280" y="5280120"/>
              <a:ext cx="337824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842360" y="5340240"/>
              <a:ext cx="201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sert inverters to eliminat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double bubbles on a w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3717720" y="2828880"/>
              <a:ext cx="68400" cy="6984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728800" y="4484880"/>
              <a:ext cx="68400" cy="71280"/>
            </a:xfrm>
            <a:prstGeom prst="ellipse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812960" y="5248440"/>
              <a:ext cx="1849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add double bubbles to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invert output of 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931120" y="4540320"/>
              <a:ext cx="9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8" name=""/>
            <p:cNvGrpSpPr/>
            <p:nvPr/>
          </p:nvGrpSpPr>
          <p:grpSpPr>
            <a:xfrm>
              <a:off x="6183720" y="4618080"/>
              <a:ext cx="302760" cy="299520"/>
              <a:chOff x="6183720" y="4618080"/>
              <a:chExt cx="302760" cy="299520"/>
            </a:xfrm>
          </p:grpSpPr>
          <p:sp>
            <p:nvSpPr>
              <p:cNvPr id="3739" name=""/>
              <p:cNvSpPr/>
              <p:nvPr/>
            </p:nvSpPr>
            <p:spPr>
              <a:xfrm>
                <a:off x="6183720" y="4618080"/>
                <a:ext cx="242640" cy="133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6183720" y="4751280"/>
                <a:ext cx="242640" cy="1663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H="1">
                <a:off x="6188760" y="4618080"/>
                <a:ext cx="1080" cy="2887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5400000">
                <a:off x="6428520" y="4724640"/>
                <a:ext cx="56880" cy="58680"/>
              </a:xfrm>
              <a:prstGeom prst="ellipse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3" name=""/>
            <p:cNvSpPr/>
            <p:nvPr/>
          </p:nvSpPr>
          <p:spPr>
            <a:xfrm>
              <a:off x="5952960" y="4443480"/>
              <a:ext cx="701640" cy="6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6CF4-A2E5-4555-8389-5FCC31D148C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4" name=""/>
          <p:cNvGrpSpPr/>
          <p:nvPr/>
        </p:nvGrpSpPr>
        <p:grpSpPr>
          <a:xfrm>
            <a:off x="685800" y="5181480"/>
            <a:ext cx="3384720" cy="1143000"/>
            <a:chOff x="685800" y="5181480"/>
            <a:chExt cx="3384720" cy="1143000"/>
          </a:xfrm>
        </p:grpSpPr>
        <p:grpSp>
          <p:nvGrpSpPr>
            <p:cNvPr id="3745" name=""/>
            <p:cNvGrpSpPr/>
            <p:nvPr/>
          </p:nvGrpSpPr>
          <p:grpSpPr>
            <a:xfrm>
              <a:off x="3117960" y="5181480"/>
              <a:ext cx="825480" cy="1143000"/>
              <a:chOff x="3117960" y="5181480"/>
              <a:chExt cx="825480" cy="1143000"/>
            </a:xfrm>
          </p:grpSpPr>
          <p:sp>
            <p:nvSpPr>
              <p:cNvPr id="3746" name=""/>
              <p:cNvSpPr/>
              <p:nvPr/>
            </p:nvSpPr>
            <p:spPr>
              <a:xfrm>
                <a:off x="3130560" y="51814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3130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3130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3187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3175200" y="5886360"/>
                <a:ext cx="266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3117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3117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3117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3930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3117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3543480" y="55944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386712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8" name=""/>
            <p:cNvSpPr/>
            <p:nvPr/>
          </p:nvSpPr>
          <p:spPr>
            <a:xfrm>
              <a:off x="3003480" y="5302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003480" y="561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3003480" y="58737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3003480" y="6191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3956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68580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4" name=""/>
          <p:cNvGrpSpPr/>
          <p:nvPr/>
        </p:nvGrpSpPr>
        <p:grpSpPr>
          <a:xfrm>
            <a:off x="4927680" y="5181480"/>
            <a:ext cx="3498840" cy="1143000"/>
            <a:chOff x="4927680" y="5181480"/>
            <a:chExt cx="3498840" cy="1143000"/>
          </a:xfrm>
        </p:grpSpPr>
        <p:grpSp>
          <p:nvGrpSpPr>
            <p:cNvPr id="3765" name=""/>
            <p:cNvGrpSpPr/>
            <p:nvPr/>
          </p:nvGrpSpPr>
          <p:grpSpPr>
            <a:xfrm>
              <a:off x="7473960" y="5181480"/>
              <a:ext cx="825480" cy="1143000"/>
              <a:chOff x="7473960" y="5181480"/>
              <a:chExt cx="825480" cy="1143000"/>
            </a:xfrm>
          </p:grpSpPr>
          <p:sp>
            <p:nvSpPr>
              <p:cNvPr id="3766" name=""/>
              <p:cNvSpPr/>
              <p:nvPr/>
            </p:nvSpPr>
            <p:spPr>
              <a:xfrm>
                <a:off x="7486560" y="5181480"/>
                <a:ext cx="73692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7486560" y="51814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7486560" y="57531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7543800" y="53150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7531200" y="58863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7473960" y="56260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7473960" y="58802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7473960" y="6197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8286840" y="57531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7473960" y="53085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7899480" y="5594400"/>
                <a:ext cx="254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8223480" y="5727600"/>
                <a:ext cx="50760" cy="50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8" name=""/>
            <p:cNvSpPr/>
            <p:nvPr/>
          </p:nvSpPr>
          <p:spPr>
            <a:xfrm>
              <a:off x="7359840" y="53024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7359840" y="5619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7359840" y="5873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7359840" y="61912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831204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7333920" y="5467320"/>
              <a:ext cx="152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H="1">
              <a:off x="7321680" y="603900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4927680" y="5442120"/>
              <a:ext cx="22226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x2 AOI 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8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mb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6" name=""/>
          <p:cNvGrpSpPr/>
          <p:nvPr/>
        </p:nvGrpSpPr>
        <p:grpSpPr>
          <a:xfrm>
            <a:off x="4876920" y="2685960"/>
            <a:ext cx="3301920" cy="2095560"/>
            <a:chOff x="4876920" y="2685960"/>
            <a:chExt cx="3301920" cy="2095560"/>
          </a:xfrm>
        </p:grpSpPr>
        <p:sp>
          <p:nvSpPr>
            <p:cNvPr id="3787" name=""/>
            <p:cNvSpPr/>
            <p:nvPr/>
          </p:nvSpPr>
          <p:spPr>
            <a:xfrm>
              <a:off x="5181840" y="4388040"/>
              <a:ext cx="19047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213680" y="436248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5143680" y="2685960"/>
              <a:ext cx="28321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ossible implem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238720" y="32068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23872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232600" y="3213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467680" y="3214800"/>
              <a:ext cx="4312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67320" y="318780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886360" y="3403800"/>
              <a:ext cx="763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238720" y="37782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23872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232600" y="3784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467680" y="3786120"/>
              <a:ext cx="43128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467320" y="3759480"/>
              <a:ext cx="43164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86360" y="3975120"/>
              <a:ext cx="763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10760" y="3492720"/>
              <a:ext cx="125640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10760" y="3519360"/>
              <a:ext cx="125640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382440" y="3519360"/>
              <a:ext cx="12600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6407280" y="3517560"/>
              <a:ext cx="10116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6407280" y="3594240"/>
              <a:ext cx="88920" cy="75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6407280" y="3784680"/>
              <a:ext cx="88920" cy="76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732168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V="1">
              <a:off x="732168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731520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588440" y="3683160"/>
              <a:ext cx="7596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060880" y="33339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487692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060880" y="35244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487692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060880" y="39052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487692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060880" y="40957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487692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62680" y="343548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22944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3404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14052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962680" y="400680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22944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052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3404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7080480" y="371484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677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95024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1" name=""/>
          <p:cNvGrpSpPr/>
          <p:nvPr/>
        </p:nvGrpSpPr>
        <p:grpSpPr>
          <a:xfrm>
            <a:off x="723960" y="2724120"/>
            <a:ext cx="3213000" cy="2070000"/>
            <a:chOff x="723960" y="2724120"/>
            <a:chExt cx="3213000" cy="2070000"/>
          </a:xfrm>
        </p:grpSpPr>
        <p:sp>
          <p:nvSpPr>
            <p:cNvPr id="3832" name=""/>
            <p:cNvSpPr/>
            <p:nvPr/>
          </p:nvSpPr>
          <p:spPr>
            <a:xfrm>
              <a:off x="1015920" y="4388040"/>
              <a:ext cx="6480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095560" y="4400640"/>
              <a:ext cx="156204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78732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R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v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1447920" y="2724120"/>
              <a:ext cx="1828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ogical concep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1085760" y="320688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1085760" y="366408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V="1">
              <a:off x="1079640" y="320004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1302120" y="3214800"/>
              <a:ext cx="41832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1301760" y="318780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1085760" y="377820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1085760" y="423540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flipV="1">
              <a:off x="1079640" y="377172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302120" y="3786120"/>
              <a:ext cx="41832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1301760" y="3759480"/>
              <a:ext cx="418680" cy="48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2026080" y="3519360"/>
              <a:ext cx="202320" cy="40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1442160" y="3519360"/>
              <a:ext cx="1357920" cy="44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517400" y="3492720"/>
              <a:ext cx="128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025720" y="3492720"/>
              <a:ext cx="202680" cy="44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165400" y="36259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2165400" y="381636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3067200" y="3530520"/>
              <a:ext cx="25380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V="1">
              <a:off x="3067200" y="3708000"/>
              <a:ext cx="253800" cy="20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3060720" y="35305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3333960" y="3683160"/>
              <a:ext cx="88920" cy="88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1708200" y="34354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1987560" y="362592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1898640" y="362592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1892520" y="34416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1708200" y="40068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1987560" y="381636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1898640" y="38163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1892520" y="3822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2800440" y="3714840"/>
              <a:ext cx="165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288936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>
              <a:off x="895320" y="333396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23960" y="321948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895320" y="35244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23960" y="3409920"/>
              <a:ext cx="2412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895320" y="39052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23960" y="379116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895320" y="409572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23960" y="3981600"/>
              <a:ext cx="2412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3435480" y="371484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708360" y="3600360"/>
              <a:ext cx="22860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AND-OR-invert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I function:  three stages of logic —  AND, OR, Inv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gates "packaged" as a single circuit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10F6-5E68-4E65-AFF4-5401A7AE46F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7" name=""/>
          <p:cNvGrpSpPr/>
          <p:nvPr/>
        </p:nvGrpSpPr>
        <p:grpSpPr>
          <a:xfrm>
            <a:off x="4648320" y="4102200"/>
            <a:ext cx="2514600" cy="1307880"/>
            <a:chOff x="4648320" y="4102200"/>
            <a:chExt cx="2514600" cy="1307880"/>
          </a:xfrm>
        </p:grpSpPr>
        <p:grpSp>
          <p:nvGrpSpPr>
            <p:cNvPr id="3878" name=""/>
            <p:cNvGrpSpPr/>
            <p:nvPr/>
          </p:nvGrpSpPr>
          <p:grpSpPr>
            <a:xfrm>
              <a:off x="5505480" y="4159080"/>
              <a:ext cx="825480" cy="1143000"/>
              <a:chOff x="5505480" y="4159080"/>
              <a:chExt cx="825480" cy="1143000"/>
            </a:xfrm>
          </p:grpSpPr>
          <p:sp>
            <p:nvSpPr>
              <p:cNvPr id="3879" name=""/>
              <p:cNvSpPr/>
              <p:nvPr/>
            </p:nvSpPr>
            <p:spPr>
              <a:xfrm>
                <a:off x="5518080" y="4159080"/>
                <a:ext cx="736560" cy="114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18080" y="4159080"/>
                <a:ext cx="355680" cy="57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18080" y="4730760"/>
                <a:ext cx="355680" cy="57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575320" y="429264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562720" y="4863960"/>
                <a:ext cx="2667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&amp;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505480" y="460368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505480" y="485784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505480" y="51753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6318360" y="4730760"/>
                <a:ext cx="12600" cy="12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505480" y="4286160"/>
                <a:ext cx="12600" cy="12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931000" y="4572000"/>
                <a:ext cx="253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6254640" y="4705200"/>
                <a:ext cx="50760" cy="511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1" name=""/>
            <p:cNvSpPr/>
            <p:nvPr/>
          </p:nvSpPr>
          <p:spPr>
            <a:xfrm>
              <a:off x="5391000" y="4280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5391000" y="45975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5391000" y="48513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5391000" y="51688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343560" y="4724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4648320" y="410220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648320" y="4419720"/>
              <a:ext cx="6220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4660920" y="4686480"/>
              <a:ext cx="5842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660920" y="5003640"/>
              <a:ext cx="5842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591240" y="4559400"/>
              <a:ext cx="5716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2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nversion to AOI form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procedure to place in AOI 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the complement of the function in sum-of-products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grouping the 0s in the Karnaugh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XOR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xor B = A’ B  +  A 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OI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= (A’ B’  +  A B)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74F2-88D1-47DE-BB00-32C6D516045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457200" y="2514600"/>
            <a:ext cx="6908760" cy="2895480"/>
            <a:chOff x="457200" y="2514600"/>
            <a:chExt cx="6908760" cy="2895480"/>
          </a:xfrm>
        </p:grpSpPr>
        <p:grpSp>
          <p:nvGrpSpPr>
            <p:cNvPr id="120" name=""/>
            <p:cNvGrpSpPr/>
            <p:nvPr/>
          </p:nvGrpSpPr>
          <p:grpSpPr>
            <a:xfrm>
              <a:off x="2387520" y="2895480"/>
              <a:ext cx="918720" cy="419400"/>
              <a:chOff x="2387520" y="2895480"/>
              <a:chExt cx="918720" cy="419400"/>
            </a:xfrm>
          </p:grpSpPr>
          <p:sp>
            <p:nvSpPr>
              <p:cNvPr id="121" name=""/>
              <p:cNvSpPr/>
              <p:nvPr/>
            </p:nvSpPr>
            <p:spPr>
              <a:xfrm>
                <a:off x="2387520" y="292896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39680" y="289548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457200" y="2903400"/>
              <a:ext cx="918720" cy="419400"/>
              <a:chOff x="457200" y="2903400"/>
              <a:chExt cx="918720" cy="419400"/>
            </a:xfrm>
          </p:grpSpPr>
          <p:sp>
            <p:nvSpPr>
              <p:cNvPr id="124" name=""/>
              <p:cNvSpPr/>
              <p:nvPr/>
            </p:nvSpPr>
            <p:spPr>
              <a:xfrm flipH="1">
                <a:off x="617040" y="2936880"/>
                <a:ext cx="758520" cy="3556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57200" y="2903400"/>
                <a:ext cx="466560" cy="41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1473120" y="4876920"/>
              <a:ext cx="58928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D  +  A' C  +  B' C 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29718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66680" y="251460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473120" y="1494000"/>
            <a:ext cx="6908760" cy="4678200"/>
            <a:chOff x="1473120" y="1494000"/>
            <a:chExt cx="6908760" cy="4678200"/>
          </a:xfrm>
        </p:grpSpPr>
        <p:grpSp>
          <p:nvGrpSpPr>
            <p:cNvPr id="130" name=""/>
            <p:cNvGrpSpPr/>
            <p:nvPr/>
          </p:nvGrpSpPr>
          <p:grpSpPr>
            <a:xfrm>
              <a:off x="7543800" y="1494000"/>
              <a:ext cx="426960" cy="2849040"/>
              <a:chOff x="7543800" y="1494000"/>
              <a:chExt cx="426960" cy="2849040"/>
            </a:xfrm>
          </p:grpSpPr>
          <p:grpSp>
            <p:nvGrpSpPr>
              <p:cNvPr id="131" name=""/>
              <p:cNvGrpSpPr/>
              <p:nvPr/>
            </p:nvGrpSpPr>
            <p:grpSpPr>
              <a:xfrm>
                <a:off x="7543800" y="1494000"/>
                <a:ext cx="419040" cy="918720"/>
                <a:chOff x="7543800" y="1494000"/>
                <a:chExt cx="419040" cy="918720"/>
              </a:xfrm>
            </p:grpSpPr>
            <p:sp>
              <p:nvSpPr>
                <p:cNvPr id="132" name=""/>
                <p:cNvSpPr/>
                <p:nvPr/>
              </p:nvSpPr>
              <p:spPr>
                <a:xfrm rot="16200000">
                  <a:off x="7375320" y="185580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6200000">
                  <a:off x="7520040" y="151776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551720" y="3424320"/>
                <a:ext cx="419040" cy="918720"/>
                <a:chOff x="7551720" y="3424320"/>
                <a:chExt cx="419040" cy="918720"/>
              </a:xfrm>
            </p:grpSpPr>
            <p:sp>
              <p:nvSpPr>
                <p:cNvPr id="135" name=""/>
                <p:cNvSpPr/>
                <p:nvPr/>
              </p:nvSpPr>
              <p:spPr>
                <a:xfrm flipH="1" rot="16200000">
                  <a:off x="7382880" y="3625920"/>
                  <a:ext cx="758520" cy="3553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rot="16200000">
                  <a:off x="7527960" y="3900240"/>
                  <a:ext cx="466560" cy="4190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7" name=""/>
            <p:cNvSpPr/>
            <p:nvPr/>
          </p:nvSpPr>
          <p:spPr>
            <a:xfrm>
              <a:off x="1473120" y="5638680"/>
              <a:ext cx="58928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 C' D'  +  A C'  +  A B D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0120" y="2057400"/>
              <a:ext cx="761760" cy="762120"/>
            </a:xfrm>
            <a:custGeom>
              <a:avLst/>
              <a:gdLst>
                <a:gd name="textAreaLeft" fmla="*/ 37080 w 761760"/>
                <a:gd name="textAreaRight" fmla="*/ 724680 w 761760"/>
                <a:gd name="textAreaTop" fmla="*/ 37080 h 762120"/>
                <a:gd name="textAreaBottom" fmla="*/ 725040 h 762120"/>
              </a:gdLst>
              <a:ahLst/>
              <a:rect l="textAreaLeft" t="textAreaTop" r="textAreaRight" b="textAreaBottom"/>
              <a:pathLst>
                <a:path w="21600" h="21610">
                  <a:moveTo>
                    <a:pt x="3600" y="0"/>
                  </a:moveTo>
                  <a:arcTo wR="3600" hR="3600" stAng="16200000" swAng="-5400000"/>
                  <a:lnTo>
                    <a:pt x="0" y="18010"/>
                  </a:lnTo>
                  <a:arcTo wR="3600" hR="3600" stAng="10800000" swAng="-5400000"/>
                  <a:lnTo>
                    <a:pt x="18000" y="216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7315200" y="1828440"/>
              <a:ext cx="304920" cy="76212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762120"/>
                <a:gd name="textAreaBottom" fmla="*/ 747360 h 762120"/>
              </a:gdLst>
              <a:ahLst/>
              <a:rect l="textAreaLeft" t="textAreaTop" r="textAreaRight" b="textAreaBottom"/>
              <a:pathLst>
                <a:path w="21600" h="53949">
                  <a:moveTo>
                    <a:pt x="3600" y="0"/>
                  </a:moveTo>
                  <a:arcTo wR="3600" hR="3600" stAng="16200000" swAng="-5400000"/>
                  <a:lnTo>
                    <a:pt x="0" y="50349"/>
                  </a:lnTo>
                  <a:arcTo wR="3600" hR="3600" stAng="10800000" swAng="-5400000"/>
                  <a:lnTo>
                    <a:pt x="18000" y="539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533520" y="4863960"/>
            <a:ext cx="8888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4152960"/>
            <a:ext cx="1778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4152960"/>
            <a:ext cx="18288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-map for G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4720" y="1749600"/>
            <a:ext cx="2760120" cy="2364840"/>
            <a:chOff x="684720" y="1749600"/>
            <a:chExt cx="2760120" cy="2364840"/>
          </a:xfrm>
        </p:grpSpPr>
        <p:sp>
          <p:nvSpPr>
            <p:cNvPr id="146" name=""/>
            <p:cNvSpPr/>
            <p:nvPr/>
          </p:nvSpPr>
          <p:spPr>
            <a:xfrm>
              <a:off x="113832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804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81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3259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18687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7812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9576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6092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456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372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156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95436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040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4012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781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3259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8687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156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372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764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6372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1156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5436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472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504240" y="1749600"/>
            <a:ext cx="2760120" cy="2364840"/>
            <a:chOff x="3504240" y="1749600"/>
            <a:chExt cx="2760120" cy="2364840"/>
          </a:xfrm>
        </p:grpSpPr>
        <p:sp>
          <p:nvSpPr>
            <p:cNvPr id="171" name=""/>
            <p:cNvSpPr/>
            <p:nvPr/>
          </p:nvSpPr>
          <p:spPr>
            <a:xfrm>
              <a:off x="3957840" y="207000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67560" y="20685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976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54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882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97640" y="19778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15280" y="2414520"/>
              <a:ext cx="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80440" y="2703600"/>
              <a:ext cx="58392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04080" y="1749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3240" y="197784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31080" y="198108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3773880" y="24289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949920" y="30081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59640" y="300672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976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454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46882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31080" y="3809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3240" y="28843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37160" y="3784680"/>
              <a:ext cx="58428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83240" y="2895480"/>
              <a:ext cx="914400" cy="91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1080" y="2898720"/>
              <a:ext cx="0" cy="91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73880" y="33465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04240" y="318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777000" y="207000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86720" y="20685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68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646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5074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16800" y="19782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434440" y="2414520"/>
            <a:ext cx="0" cy="908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499600" y="2703600"/>
            <a:ext cx="5839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923240" y="174960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02400" y="197820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50240" y="19810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593040" y="2428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69080" y="300816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678800" y="3006720"/>
            <a:ext cx="8254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168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9646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5074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50240" y="38098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02400" y="2884320"/>
            <a:ext cx="0" cy="925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56320" y="3784680"/>
            <a:ext cx="5842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02400" y="2895480"/>
            <a:ext cx="9144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50240" y="2898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593040" y="33465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3400" y="31878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5257800"/>
            <a:ext cx="264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(A xnor C) • (B xnor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52480" y="6095880"/>
            <a:ext cx="589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T and GT are similar (flip A/C and B/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473120" y="2057400"/>
            <a:ext cx="4927680" cy="3657600"/>
            <a:chOff x="1473120" y="2057400"/>
            <a:chExt cx="4927680" cy="3657600"/>
          </a:xfrm>
        </p:grpSpPr>
        <p:sp>
          <p:nvSpPr>
            <p:cNvPr id="222" name=""/>
            <p:cNvSpPr/>
            <p:nvPr/>
          </p:nvSpPr>
          <p:spPr>
            <a:xfrm>
              <a:off x="1473120" y="5257800"/>
              <a:ext cx="4927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' B' C' D'  +  A' B C' D  +  A B C D  +  A B' C D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20574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67080" y="25146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24280" y="29718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181480" y="3429000"/>
              <a:ext cx="304920" cy="3049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2792-C647-44AF-96CC-8FF882C8DC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3" name=""/>
          <p:cNvSpPr/>
          <p:nvPr/>
        </p:nvSpPr>
        <p:spPr>
          <a:xfrm>
            <a:off x="2971800" y="6184800"/>
            <a:ext cx="4622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mplemented in a single 2x2 AOI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 flipH="1" flipV="1">
            <a:off x="2508120" y="5521320"/>
            <a:ext cx="1301760" cy="65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 flipV="1">
            <a:off x="3809880" y="5555880"/>
            <a:ext cx="46224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 flipV="1">
            <a:off x="3809880" y="5545080"/>
            <a:ext cx="2214720" cy="62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 flipV="1">
            <a:off x="3809880" y="5568840"/>
            <a:ext cx="395460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09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45172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A B + A C’ + B 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’ B’ + A’ C + B’ C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AO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 + B) (A + C’) (B + C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[(A’ + B’) (A’ + C) (B’ + C)]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by 2-input 3-stack OAI gat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 = (A0 B0 + A0’ B0’)(A1 B1 + A1’ B1’)(A2 B2 + A2’ B2’)(A3 B3 + A3’ B3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1C0-17A1-42F4-88EA-562039613C2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0" name=""/>
          <p:cNvSpPr/>
          <p:nvPr/>
        </p:nvSpPr>
        <p:spPr>
          <a:xfrm>
            <a:off x="5283360" y="2203560"/>
            <a:ext cx="1841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 if A0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B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  if A0 = 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5270400" y="4705200"/>
            <a:ext cx="34927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f all inputs ar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 Ai = Bi, i=0,...,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Z is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4648320" y="3498840"/>
            <a:ext cx="2832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servation of bub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 flipH="1" flipV="1">
            <a:off x="2889360" y="2869920"/>
            <a:ext cx="1676160" cy="787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 flipH="1">
            <a:off x="3282480" y="3657600"/>
            <a:ext cx="129564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2813040" y="2400480"/>
            <a:ext cx="2425680" cy="8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 flipV="1">
            <a:off x="3765600" y="4546440"/>
            <a:ext cx="1511280" cy="330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7" name=""/>
          <p:cNvGrpSpPr/>
          <p:nvPr/>
        </p:nvGrpSpPr>
        <p:grpSpPr>
          <a:xfrm>
            <a:off x="774720" y="2355840"/>
            <a:ext cx="3695760" cy="4121280"/>
            <a:chOff x="774720" y="2355840"/>
            <a:chExt cx="3695760" cy="4121280"/>
          </a:xfrm>
        </p:grpSpPr>
        <p:sp>
          <p:nvSpPr>
            <p:cNvPr id="3918" name=""/>
            <p:cNvSpPr/>
            <p:nvPr/>
          </p:nvSpPr>
          <p:spPr>
            <a:xfrm>
              <a:off x="774720" y="235584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774720" y="342252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774720" y="4502160"/>
              <a:ext cx="5713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774720" y="5581800"/>
              <a:ext cx="5713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244680" y="42354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3244680" y="459108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3238560" y="424188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454560" y="4249800"/>
              <a:ext cx="32976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3435480" y="4243320"/>
              <a:ext cx="354960" cy="36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3454200" y="4235400"/>
              <a:ext cx="330120" cy="35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3435120" y="4215960"/>
              <a:ext cx="3553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3797280" y="4400640"/>
              <a:ext cx="507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3238560" y="41148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3238560" y="459756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31687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3168720" y="44575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3168720" y="43178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3168720" y="41655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1873080" y="55627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330280" y="55627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1873080" y="60199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1968480" y="56707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968480" y="6127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425680" y="58993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1797120" y="56768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797120" y="58291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800440" y="59817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1873080" y="44956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330280" y="449568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1873080" y="495288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1968480" y="46036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1968480" y="506088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425680" y="483228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797120" y="461016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1797120" y="476244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800440" y="4914720"/>
              <a:ext cx="6336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1873080" y="34290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330280" y="342900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1873080" y="388620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1968480" y="35496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1968480" y="400680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425680" y="377820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1797120" y="35560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1797120" y="37083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800440" y="38606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1873080" y="23623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330280" y="2362320"/>
              <a:ext cx="457200" cy="914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1873080" y="2819520"/>
              <a:ext cx="457200" cy="457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1968480" y="24829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968480" y="2940120"/>
              <a:ext cx="3301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&amp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425680" y="2711520"/>
              <a:ext cx="2919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8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1797120" y="2489040"/>
              <a:ext cx="633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1797120" y="264168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800440" y="2793960"/>
              <a:ext cx="633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1720800" y="2508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1720800" y="2965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1339920" y="2508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714320" y="2514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1701720" y="2495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1720800" y="2660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172080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1568520" y="26607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1339920" y="26607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1568520" y="3117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1562040" y="26668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549440" y="26478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1720800" y="4032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1339920" y="3575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1714320" y="3581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1720800" y="3575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1720800" y="3727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172080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1568520" y="3727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1339920" y="372744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1568520" y="41846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562040" y="37339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1549440" y="37148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863800" y="38797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92400" y="43369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933640" y="38862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940120" y="43369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1720800" y="5099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1339920" y="464184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714320" y="4648320"/>
              <a:ext cx="0" cy="44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7208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720800" y="47941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72080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568520" y="47941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339920" y="479412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568520" y="52513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562040" y="48006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54944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720800" y="6165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339920" y="57085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714320" y="571500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720800" y="570852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720800" y="58611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72080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68520" y="58611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339920" y="5861160"/>
              <a:ext cx="21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568520" y="6318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562040" y="58672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1549440" y="58482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863800" y="28130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092400" y="41846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3085920" y="28195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940120" y="28130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863800" y="49467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3092400" y="448956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940120" y="44895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933640" y="4495680"/>
              <a:ext cx="0" cy="4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863800" y="60134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3092400" y="4641840"/>
              <a:ext cx="6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3085920" y="4648320"/>
              <a:ext cx="0" cy="1358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940120" y="60134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3803760" y="4413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3276720" y="4286160"/>
              <a:ext cx="66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949560" y="4286160"/>
              <a:ext cx="520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97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s of using AOI gates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 AOI implementation of 4-bit equality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E24-64C9-4CE9-954D-C450EF932E4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ummary for multi-leve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sm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s have smaller fan-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s may be f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ifficult to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 for optimization are not as good as for two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more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C7E6-E82C-47A6-BBDE-FD013610756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ime behavior of combinational network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41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80740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ization of values carried on signal wires ove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explaining sequences of events (changes in val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tools are used to create these wave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to the simulator includes gates and their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stimulus, that is, input signal wav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 delay — time for change at input to cause change at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delay – typical/nominal delay – max 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eful designers design for the worst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 time — time for output to transition from low to high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l time — time for output to transition from high to low vol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se width — time that an output stays high or stays low betwee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130-1D58-4D51-8BBD-4E3E15732E6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2" name="" descr=""/>
          <p:cNvPicPr/>
          <p:nvPr/>
        </p:nvPicPr>
        <p:blipFill>
          <a:blip r:embed="rId1"/>
          <a:stretch/>
        </p:blipFill>
        <p:spPr>
          <a:xfrm>
            <a:off x="3962520" y="3606840"/>
            <a:ext cx="5207040" cy="2006640"/>
          </a:xfrm>
          <a:prstGeom prst="rect">
            <a:avLst/>
          </a:prstGeom>
          <a:ln w="0">
            <a:noFill/>
          </a:ln>
        </p:spPr>
      </p:pic>
      <p:sp>
        <p:nvSpPr>
          <p:cNvPr id="4043" name=""/>
          <p:cNvSpPr/>
          <p:nvPr/>
        </p:nvSpPr>
        <p:spPr>
          <a:xfrm>
            <a:off x="6095880" y="5867280"/>
            <a:ext cx="30355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 is not always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lse 3 gate-delays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5276880" y="4921200"/>
            <a:ext cx="171432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2705040" y="5740560"/>
            <a:ext cx="31370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 remains high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gate delays af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changes from low to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210360" y="5486400"/>
            <a:ext cx="476280" cy="577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 flipH="1">
            <a:off x="4819320" y="5105520"/>
            <a:ext cx="399960" cy="641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8" name=""/>
          <p:cNvGrpSpPr/>
          <p:nvPr/>
        </p:nvGrpSpPr>
        <p:grpSpPr>
          <a:xfrm>
            <a:off x="5121360" y="2695680"/>
            <a:ext cx="4149360" cy="588960"/>
            <a:chOff x="5121360" y="2695680"/>
            <a:chExt cx="4149360" cy="588960"/>
          </a:xfrm>
        </p:grpSpPr>
        <p:sp>
          <p:nvSpPr>
            <p:cNvPr id="4049" name=""/>
            <p:cNvSpPr/>
            <p:nvPr/>
          </p:nvSpPr>
          <p:spPr>
            <a:xfrm>
              <a:off x="8728560" y="2895840"/>
              <a:ext cx="542160" cy="32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12136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6040800" y="2695680"/>
              <a:ext cx="5421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77160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7514640" y="2695680"/>
              <a:ext cx="565560" cy="32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8003880" y="2789640"/>
              <a:ext cx="44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03880" y="3237480"/>
              <a:ext cx="45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997760" y="2795760"/>
              <a:ext cx="0" cy="435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8245800" y="2802960"/>
              <a:ext cx="399600" cy="44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8227800" y="2796840"/>
              <a:ext cx="435600" cy="4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8245440" y="2790360"/>
              <a:ext cx="399960" cy="4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8227440" y="2772720"/>
              <a:ext cx="43596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7249320" y="2736720"/>
              <a:ext cx="27072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flipV="1">
              <a:off x="7249320" y="2913120"/>
              <a:ext cx="27072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724320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7531920" y="2889720"/>
              <a:ext cx="8244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650628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flipV="1">
              <a:off x="650628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650052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8924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751720" y="2736720"/>
              <a:ext cx="271080" cy="17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flipV="1">
              <a:off x="5751720" y="2913120"/>
              <a:ext cx="27108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745960" y="2736720"/>
              <a:ext cx="0" cy="36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034680" y="2889720"/>
              <a:ext cx="70560" cy="70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6266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781488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56344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814880" y="310788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808760" y="3113640"/>
              <a:ext cx="0" cy="16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563440" y="3284640"/>
              <a:ext cx="223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557320" y="2925360"/>
              <a:ext cx="0" cy="35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280120" y="2919240"/>
              <a:ext cx="2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533920" y="2895840"/>
              <a:ext cx="58680" cy="4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8663760" y="301320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688356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7072560" y="2919240"/>
              <a:ext cx="16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6129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6318000" y="2919240"/>
              <a:ext cx="17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mentary changes in outpu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8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ful — pulse shaping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a problem — incorrect circuit operation (glitches/hazard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’ • A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s ma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970-E644-4B46-874C-FA3CECE87F6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647640" y="4444920"/>
            <a:ext cx="8153640" cy="163836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1378080" y="5251320"/>
            <a:ext cx="342720" cy="101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1" name=""/>
          <p:cNvSpPr/>
          <p:nvPr/>
        </p:nvSpPr>
        <p:spPr>
          <a:xfrm>
            <a:off x="1378080" y="5543640"/>
            <a:ext cx="711000" cy="101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2" name=""/>
          <p:cNvSpPr/>
          <p:nvPr/>
        </p:nvSpPr>
        <p:spPr>
          <a:xfrm>
            <a:off x="1378080" y="5835600"/>
            <a:ext cx="1066680" cy="10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3" name=""/>
          <p:cNvSpPr/>
          <p:nvPr/>
        </p:nvSpPr>
        <p:spPr>
          <a:xfrm>
            <a:off x="2019240" y="3822840"/>
            <a:ext cx="1181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l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4" name=""/>
          <p:cNvSpPr/>
          <p:nvPr/>
        </p:nvSpPr>
        <p:spPr>
          <a:xfrm>
            <a:off x="596880" y="3314880"/>
            <a:ext cx="1587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se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5" name=""/>
          <p:cNvSpPr/>
          <p:nvPr/>
        </p:nvSpPr>
        <p:spPr>
          <a:xfrm>
            <a:off x="3708360" y="3924360"/>
            <a:ext cx="1536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 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6" name=""/>
          <p:cNvSpPr/>
          <p:nvPr/>
        </p:nvSpPr>
        <p:spPr>
          <a:xfrm>
            <a:off x="1136520" y="3664080"/>
            <a:ext cx="203400" cy="736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7" name=""/>
          <p:cNvSpPr/>
          <p:nvPr/>
        </p:nvSpPr>
        <p:spPr>
          <a:xfrm flipH="1">
            <a:off x="2216160" y="4387680"/>
            <a:ext cx="101520" cy="1486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8" name=""/>
          <p:cNvSpPr/>
          <p:nvPr/>
        </p:nvSpPr>
        <p:spPr>
          <a:xfrm flipH="1">
            <a:off x="1860480" y="4387680"/>
            <a:ext cx="457200" cy="1168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9" name=""/>
          <p:cNvSpPr/>
          <p:nvPr/>
        </p:nvSpPr>
        <p:spPr>
          <a:xfrm flipH="1">
            <a:off x="1593360" y="4375080"/>
            <a:ext cx="723960" cy="876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0" name=""/>
          <p:cNvSpPr/>
          <p:nvPr/>
        </p:nvSpPr>
        <p:spPr>
          <a:xfrm flipH="1">
            <a:off x="2914560" y="4210200"/>
            <a:ext cx="81288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1" name=""/>
          <p:cNvGrpSpPr/>
          <p:nvPr/>
        </p:nvGrpSpPr>
        <p:grpSpPr>
          <a:xfrm>
            <a:off x="4267080" y="1587600"/>
            <a:ext cx="4343400" cy="1917720"/>
            <a:chOff x="4267080" y="1587600"/>
            <a:chExt cx="4343400" cy="1917720"/>
          </a:xfrm>
        </p:grpSpPr>
        <p:sp>
          <p:nvSpPr>
            <p:cNvPr id="4102" name=""/>
            <p:cNvSpPr/>
            <p:nvPr/>
          </p:nvSpPr>
          <p:spPr>
            <a:xfrm>
              <a:off x="5334120" y="1587600"/>
              <a:ext cx="2286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23040" y="186048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29160" y="1962000"/>
              <a:ext cx="3816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5352480" y="1987560"/>
              <a:ext cx="12708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365800" y="2038320"/>
              <a:ext cx="10152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5352480" y="210204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365800" y="2165400"/>
              <a:ext cx="101520" cy="3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>
              <a:off x="5352480" y="2216160"/>
              <a:ext cx="12708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365800" y="2279520"/>
              <a:ext cx="5076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423040" y="2317680"/>
              <a:ext cx="0" cy="2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flipV="1">
              <a:off x="5130720" y="302868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111640" y="302904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V="1">
              <a:off x="5130720" y="27367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111640" y="2838600"/>
              <a:ext cx="1800" cy="12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35680" y="2851200"/>
              <a:ext cx="88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35680" y="34290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73480" y="346716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111640" y="350532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130720" y="3403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130720" y="314316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130720" y="32320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423040" y="235584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403960" y="2533680"/>
              <a:ext cx="37800" cy="381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130720" y="2546280"/>
              <a:ext cx="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137200" y="2540160"/>
              <a:ext cx="279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4267080" y="2679840"/>
              <a:ext cx="7365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pe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483080" y="2006640"/>
              <a:ext cx="9144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5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626080" y="2286000"/>
              <a:ext cx="5842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8026200" y="2311560"/>
              <a:ext cx="5842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6108840" y="2692440"/>
              <a:ext cx="6094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934320" y="2946600"/>
              <a:ext cx="6094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ctr"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7435800" y="2400480"/>
              <a:ext cx="4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7435800" y="2882880"/>
              <a:ext cx="49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7429320" y="2406600"/>
              <a:ext cx="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7696440" y="2414520"/>
              <a:ext cx="431280" cy="482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7677360" y="2408400"/>
              <a:ext cx="469440" cy="49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7696080" y="2400120"/>
              <a:ext cx="4316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677000" y="2381040"/>
              <a:ext cx="469800" cy="50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622920" y="2736720"/>
              <a:ext cx="29232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V="1">
              <a:off x="6622920" y="2927160"/>
              <a:ext cx="2923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61680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6927840" y="2901960"/>
              <a:ext cx="889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823000" y="2736720"/>
              <a:ext cx="291960" cy="19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V="1">
              <a:off x="5823000" y="2927160"/>
              <a:ext cx="29196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816520" y="273672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6127560" y="290196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0293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7232760" y="254016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232760" y="274320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7226280" y="274968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149800" y="254016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423040" y="29401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248680" y="2629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622944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6432480" y="29336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4291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61960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159760" y="2597040"/>
              <a:ext cx="76320" cy="76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029360" y="2933640"/>
              <a:ext cx="19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429160" y="3327480"/>
              <a:ext cx="290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8356680" y="26352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Oscillatory behavio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other pulse shaping circu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E1B4-4D56-4159-BE51-763CC7F45E8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hardware at varying levels of abst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ual replacement for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erarchical composition of modules from primi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/functional descri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module does, not 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thesis generates circuit for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seman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FA0-D48F-43D5-9266-107CD74B901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D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92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4000"/>
          </a:bodyPr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el (circa 1983) - developed by Data-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ed to programmable logic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much more than state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 (circa 1977) - research project at C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, but no 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log (circa 1985) - developed by Gateway (absorbed by Ca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ascal and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s is only interaction with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rly efficient and easy to 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DL (circa 1987) - DoD sponsored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Ada (emphasis on re-use and maintain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 semantics vi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general but ver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30996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EE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F4F-0B92-4583-8E11-69D82A401B0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s structural and behavioral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icit structure of the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ach logic gate instantiated and connected to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havio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describes input/output behavior of 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structural implementations could have sa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different implementation of one Boolea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’ll mostly be using behavioral Verilog in Aldec ActiveHD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y on schematic when we want structural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8C01-7527-4840-B01C-2D75FCFDF1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1" name=""/>
          <p:cNvSpPr/>
          <p:nvPr/>
        </p:nvSpPr>
        <p:spPr>
          <a:xfrm>
            <a:off x="1143000" y="1981080"/>
            <a:ext cx="72388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wire      abar, bbar, t1, t2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A (abar, a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verter invB (bbar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1 (t1, a, b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nd_gate and2 (t2, b, abar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r_gate  or1 (out, t1, t2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tructu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FE58-331D-4C49-B3BA-B486E5CED9B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562720" y="2514600"/>
            <a:ext cx="2489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wo alterna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lementations of 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d without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72280" y="5130720"/>
            <a:ext cx="30985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NOR is implemented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 least 3 simple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36560" y="1670040"/>
            <a:ext cx="3987720" cy="4578120"/>
            <a:chOff x="736560" y="1670040"/>
            <a:chExt cx="3987720" cy="4578120"/>
          </a:xfrm>
        </p:grpSpPr>
        <p:sp>
          <p:nvSpPr>
            <p:cNvPr id="230" name=""/>
            <p:cNvSpPr/>
            <p:nvPr/>
          </p:nvSpPr>
          <p:spPr>
            <a:xfrm>
              <a:off x="2508120" y="267336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508120" y="297792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502000" y="26668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2000" y="257796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67240" y="268740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60760" y="268128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66880" y="267336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60400" y="266688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83600" y="3652560"/>
              <a:ext cx="8877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7120" y="3646440"/>
              <a:ext cx="9007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289680" y="365256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83560" y="364644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83240" y="3638520"/>
              <a:ext cx="8881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76760" y="3632400"/>
              <a:ext cx="9010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89320" y="3638520"/>
              <a:ext cx="759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83200" y="3632400"/>
              <a:ext cx="882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37144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33600" y="384156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327480" y="391140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27480" y="3530520"/>
              <a:ext cx="0" cy="10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33600" y="5594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333600" y="5898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327480" y="5587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2720" y="5608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86240" y="5602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492360" y="5594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85880" y="5587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8160" y="535284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1680" y="534636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108520" y="536724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02040" y="536076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0236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9588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236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9552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29040" y="547344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439000" y="536724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2520" y="536076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39000" y="535284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2160" y="534636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08120" y="542916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8120" y="555624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178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63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050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65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79712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2640" y="2260440"/>
              <a:ext cx="1144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66968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784160" y="2450880"/>
              <a:ext cx="5112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41588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0176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1289160" y="2253960"/>
              <a:ext cx="26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0328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035000" y="2260440"/>
              <a:ext cx="13968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20880" y="2260440"/>
              <a:ext cx="11412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07560" y="225396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22400" y="24508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08120" y="330840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8120" y="36129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502000" y="330192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2000" y="321300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7240" y="3322440"/>
              <a:ext cx="2786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60760" y="331632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66880" y="33084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60400" y="330192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08120" y="394308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08120" y="424800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502000" y="393696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02000" y="3848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67240" y="395748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0760" y="395100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66880" y="394344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60400" y="393696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08120" y="457812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08120" y="488304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02000" y="457200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02000" y="448308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7240" y="459252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60760" y="458604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457848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60400" y="4572000"/>
              <a:ext cx="2919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108160" y="5860800"/>
              <a:ext cx="91404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01680" y="5854320"/>
              <a:ext cx="9270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08520" y="5875200"/>
              <a:ext cx="91368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102040" y="5868720"/>
              <a:ext cx="9266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0236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9588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0236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552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29040" y="59814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39000" y="5875200"/>
              <a:ext cx="1260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2520" y="5868720"/>
              <a:ext cx="13896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439000" y="5860800"/>
              <a:ext cx="1260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2160" y="58543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508120" y="59371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08120" y="6064200"/>
              <a:ext cx="25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06880" y="3587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800" y="2825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00400" y="2832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52720" y="40957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0688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79800" y="3841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73320" y="3848040"/>
              <a:ext cx="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5272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06880" y="3968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00400" y="397512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79800" y="47307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78200" y="3778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78200" y="57466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41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81040" y="3905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81040" y="4539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040" y="5429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57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8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51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51040" y="2133360"/>
              <a:ext cx="0" cy="176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3892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1040" y="391140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8080" y="452736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1040" y="4546440"/>
              <a:ext cx="0" cy="87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5416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1040" y="5435640"/>
              <a:ext cx="0" cy="81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57160" y="390528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57160" y="45399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57160" y="5429160"/>
              <a:ext cx="151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324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4159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81040" y="4794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81040" y="5556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1928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0020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1280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12800" y="2133360"/>
              <a:ext cx="0" cy="20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0200" y="4146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12800" y="416556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00200" y="4781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12800" y="4800600"/>
              <a:ext cx="0" cy="74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600200" y="5543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2800" y="556236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619280" y="415908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619280" y="479412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19280" y="5556240"/>
              <a:ext cx="749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06880" y="56829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79800" y="5492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0400" y="54990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41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520" y="2622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040" y="2635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81040" y="3270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41480" y="264132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28520" y="3257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41480" y="3276360"/>
              <a:ext cx="0" cy="297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263520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47600" y="3270240"/>
              <a:ext cx="13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0324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81040" y="2889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81040" y="3524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03240" y="2641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0640" y="28764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3240" y="289548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90640" y="3511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03240" y="3530520"/>
              <a:ext cx="0" cy="271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88900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09720" y="3524040"/>
              <a:ext cx="55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0688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52720" y="34606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73320" y="346680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79800" y="3714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2236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81040" y="2762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381040" y="46670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22360" y="26413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27493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22360" y="2768400"/>
              <a:ext cx="0" cy="189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09760" y="465444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22360" y="4673520"/>
              <a:ext cx="0" cy="1574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428840" y="276228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28840" y="466704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84480" y="2514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381040" y="30160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040" y="4921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84480" y="264132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71520" y="30034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84480" y="302256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71520" y="4908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84480" y="4927320"/>
              <a:ext cx="0" cy="13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90600" y="301608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90600" y="492120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2236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040" y="33969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81040" y="40320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81040" y="5937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3804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19320" y="211428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3192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31920" y="2133360"/>
              <a:ext cx="0" cy="12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219320" y="33843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31920" y="3403440"/>
              <a:ext cx="0" cy="6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9320" y="401940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31920" y="4038480"/>
              <a:ext cx="0" cy="18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19320" y="592452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31920" y="594360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040" y="339696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238040" y="403200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040" y="5937120"/>
              <a:ext cx="113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84480" y="213336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81040" y="36511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81040" y="428616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81040" y="606420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0160" y="21272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81080" y="211428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94040" y="194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94040" y="2133360"/>
              <a:ext cx="0" cy="151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1080" y="363852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94040" y="3657600"/>
              <a:ext cx="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1080" y="427356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94040" y="4292640"/>
              <a:ext cx="0" cy="1765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981080" y="6051600"/>
              <a:ext cx="381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94040" y="60703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0160" y="365112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0160" y="428616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0160" y="6064200"/>
              <a:ext cx="368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06880" y="5810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79800" y="60004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00400" y="58165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36560" y="1670040"/>
              <a:ext cx="1739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62520" y="363852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24360" y="5619600"/>
              <a:ext cx="7617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393840"/>
                  <a:tab algn="l" pos="736560"/>
                  <a:tab algn="l" pos="11430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6039000" y="4070160"/>
            <a:ext cx="1765080" cy="826560"/>
            <a:chOff x="6039000" y="4070160"/>
            <a:chExt cx="1765080" cy="826560"/>
          </a:xfrm>
        </p:grpSpPr>
        <p:sp>
          <p:nvSpPr>
            <p:cNvPr id="462" name=""/>
            <p:cNvSpPr/>
            <p:nvPr/>
          </p:nvSpPr>
          <p:spPr>
            <a:xfrm>
              <a:off x="6483240" y="4076640"/>
              <a:ext cx="29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83240" y="438156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6477120" y="4070160"/>
              <a:ext cx="0" cy="31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642360" y="4091040"/>
              <a:ext cx="2786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635880" y="4084560"/>
              <a:ext cx="29160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42000" y="4077000"/>
              <a:ext cx="27900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635520" y="4083120"/>
              <a:ext cx="2919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58080" y="4597560"/>
              <a:ext cx="86292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51600" y="4591440"/>
              <a:ext cx="87588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440" y="4611600"/>
              <a:ext cx="8625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51960" y="4605480"/>
              <a:ext cx="87552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451920" y="4611600"/>
              <a:ext cx="75600" cy="2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445800" y="4605480"/>
              <a:ext cx="878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76760" y="4610880"/>
              <a:ext cx="50760" cy="252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471000" y="4604040"/>
              <a:ext cx="6264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83240" y="46735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83240" y="480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34320" y="4724280"/>
              <a:ext cx="38160" cy="38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27840" y="47181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144200" y="4351320"/>
              <a:ext cx="138960" cy="2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37760" y="4351320"/>
              <a:ext cx="95184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87800" y="4336920"/>
              <a:ext cx="90180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143840" y="4336920"/>
              <a:ext cx="139320" cy="29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45360" y="441972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45360" y="454644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356520" y="416556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37440" y="4152960"/>
              <a:ext cx="378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356520" y="467352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039000" y="416556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50040" y="4172040"/>
              <a:ext cx="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35652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5652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29440" y="42926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39000" y="4800600"/>
              <a:ext cx="17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10360" y="4788000"/>
              <a:ext cx="381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9440" y="480060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22960" y="4299120"/>
              <a:ext cx="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18280" y="45464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991200" y="473724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112160" y="45529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927840" y="422928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18280" y="4419720"/>
              <a:ext cx="1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112160" y="423540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54920" y="4229280"/>
              <a:ext cx="5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89960" y="448308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two-bit comparato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50F2-58F6-44A3-AE6F-D7944F8B148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"/>
          <p:cNvSpPr/>
          <p:nvPr/>
        </p:nvSpPr>
        <p:spPr>
          <a:xfrm>
            <a:off x="762120" y="2590920"/>
            <a:ext cx="773424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reg           ou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7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4648320" y="5052960"/>
            <a:ext cx="3031920" cy="580680"/>
          </a:xfrm>
          <a:prstGeom prst="borderCallout1">
            <a:avLst>
              <a:gd name="adj1" fmla="val 18750"/>
              <a:gd name="adj2" fmla="val -8333"/>
              <a:gd name="adj3" fmla="val -96157"/>
              <a:gd name="adj4" fmla="val -7245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lay from input chan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 outpu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6248520" y="3276720"/>
            <a:ext cx="2438280" cy="916920"/>
          </a:xfrm>
          <a:prstGeom prst="borderCallout1">
            <a:avLst>
              <a:gd name="adj1" fmla="val 18750"/>
              <a:gd name="adj2" fmla="val -8333"/>
              <a:gd name="adj3" fmla="val 49134"/>
              <a:gd name="adj4" fmla="val -89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ulation register - keeps track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of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CC6-2134-43C7-B76A-03978AD24B0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8" name=""/>
          <p:cNvSpPr/>
          <p:nvPr/>
        </p:nvSpPr>
        <p:spPr>
          <a:xfrm>
            <a:off x="685800" y="2209680"/>
            <a:ext cx="8585280" cy="39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xor_gate (out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out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          ou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lways @(a or b) begi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#6 out = a ^ b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imple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ways blo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"/>
          <p:cNvSpPr/>
          <p:nvPr/>
        </p:nvSpPr>
        <p:spPr>
          <a:xfrm>
            <a:off x="4638600" y="5105520"/>
            <a:ext cx="4105440" cy="642600"/>
          </a:xfrm>
          <a:prstGeom prst="borderCallout1">
            <a:avLst>
              <a:gd name="adj1" fmla="val 18750"/>
              <a:gd name="adj2" fmla="val -8333"/>
              <a:gd name="adj3" fmla="val -157222"/>
              <a:gd name="adj4" fmla="val -2629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ies when block is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e. triggered by which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0AD5-9B4C-4C1A-90B7-A21A0A8D71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2" name=""/>
          <p:cNvSpPr/>
          <p:nvPr/>
        </p:nvSpPr>
        <p:spPr>
          <a:xfrm>
            <a:off x="609480" y="1523880"/>
            <a:ext cx="54993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testbench (x, y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    x, y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reg [1:0]     cnt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itial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cnt = 0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repeat (4) begin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#10 cnt = cnt + 1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$display ("@ time=%d, x=%b, y=%b, cnt=%b",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$time, x, y, cnt); end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#10 $finish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x = cnt[1]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y = cnt[0]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3" name=""/>
          <p:cNvSpPr/>
          <p:nvPr/>
        </p:nvSpPr>
        <p:spPr>
          <a:xfrm>
            <a:off x="5689440" y="2451240"/>
            <a:ext cx="2184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riving a simulation through a “testbench”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85" name=""/>
          <p:cNvSpPr/>
          <p:nvPr/>
        </p:nvSpPr>
        <p:spPr>
          <a:xfrm>
            <a:off x="5486400" y="1779480"/>
            <a:ext cx="1544760" cy="411480"/>
          </a:xfrm>
          <a:prstGeom prst="borderCallout1">
            <a:avLst>
              <a:gd name="adj1" fmla="val 18750"/>
              <a:gd name="adj2" fmla="val -8333"/>
              <a:gd name="adj3" fmla="val 132689"/>
              <a:gd name="adj4" fmla="val -10141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-bit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6" name=""/>
          <p:cNvSpPr/>
          <p:nvPr/>
        </p:nvSpPr>
        <p:spPr>
          <a:xfrm>
            <a:off x="5486400" y="2666880"/>
            <a:ext cx="2895480" cy="916920"/>
          </a:xfrm>
          <a:prstGeom prst="borderCallout1">
            <a:avLst>
              <a:gd name="adj1" fmla="val 18750"/>
              <a:gd name="adj2" fmla="val -8333"/>
              <a:gd name="adj3" fmla="val 33277"/>
              <a:gd name="adj4" fmla="val -8135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 block execute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nly once at sta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7" name=""/>
          <p:cNvSpPr/>
          <p:nvPr/>
        </p:nvSpPr>
        <p:spPr>
          <a:xfrm>
            <a:off x="5562720" y="5715000"/>
            <a:ext cx="2187360" cy="642600"/>
          </a:xfrm>
          <a:prstGeom prst="borderCallout1">
            <a:avLst>
              <a:gd name="adj1" fmla="val 18750"/>
              <a:gd name="adj2" fmla="val -8333"/>
              <a:gd name="adj3" fmla="val -131185"/>
              <a:gd name="adj4" fmla="val -10318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rective to stop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8" name=""/>
          <p:cNvSpPr/>
          <p:nvPr/>
        </p:nvSpPr>
        <p:spPr>
          <a:xfrm>
            <a:off x="6248520" y="4829040"/>
            <a:ext cx="2187360" cy="368280"/>
          </a:xfrm>
          <a:prstGeom prst="borderCallout1">
            <a:avLst>
              <a:gd name="adj1" fmla="val 18750"/>
              <a:gd name="adj2" fmla="val -8333"/>
              <a:gd name="adj3" fmla="val -29976"/>
              <a:gd name="adj4" fmla="val -7575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 to a cons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BC6E-B071-48CF-8D97-8F75B149869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lete simulation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tantiate stimulus component and device to test in a sche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1" name="" descr=""/>
          <p:cNvPicPr/>
          <p:nvPr/>
        </p:nvPicPr>
        <p:blipFill>
          <a:blip r:embed="rId1"/>
          <a:stretch/>
        </p:blipFill>
        <p:spPr>
          <a:xfrm>
            <a:off x="1822320" y="2963880"/>
            <a:ext cx="5410440" cy="1407960"/>
          </a:xfrm>
          <a:prstGeom prst="rect">
            <a:avLst/>
          </a:prstGeom>
          <a:ln w="0">
            <a:noFill/>
          </a:ln>
        </p:spPr>
      </p:pic>
      <p:sp>
        <p:nvSpPr>
          <p:cNvPr id="4192" name=""/>
          <p:cNvSpPr/>
          <p:nvPr/>
        </p:nvSpPr>
        <p:spPr>
          <a:xfrm>
            <a:off x="4944600" y="3116160"/>
            <a:ext cx="308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4946760" y="3841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4" name=""/>
          <p:cNvSpPr/>
          <p:nvPr/>
        </p:nvSpPr>
        <p:spPr>
          <a:xfrm>
            <a:off x="4946760" y="3554280"/>
            <a:ext cx="30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6743880" y="3193920"/>
            <a:ext cx="311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2192400" y="3489480"/>
            <a:ext cx="2328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-be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7" name=""/>
          <p:cNvSpPr/>
          <p:nvPr/>
        </p:nvSpPr>
        <p:spPr>
          <a:xfrm>
            <a:off x="4266720" y="3282840"/>
            <a:ext cx="300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4267080" y="3573360"/>
            <a:ext cx="29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F49C-D4FD-45F5-9C50-01F83CE789A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9" name=""/>
          <p:cNvSpPr/>
          <p:nvPr/>
        </p:nvSpPr>
        <p:spPr>
          <a:xfrm>
            <a:off x="533520" y="2057400"/>
            <a:ext cx="80769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module Compare1 (Equal, Alarger, Blarger, A, 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input     A, B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output    Equal, Alarger, Blarger;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assign #5 Equal = (A &amp; B) | (~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Alarger = (A &amp; ~B);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assign #3 Blarger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= (~A &amp; B)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omparator example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66B-9C7F-4CE3-B456-7ED368022B1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57200" y="1663560"/>
            <a:ext cx="84582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life (n0, n1, n2, n3, n4, n5, n6, n7, self, out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input     n0, n1, n2, n3, n4, n5, n6, n7, self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output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      ou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7:0] neighbor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g [3:0] count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reg [3:0] i;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assign neighbors = {n7, n6, n5, n4, n3, n2, n1, n0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lways @(neighbors or self) beg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count = 0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for (i = 0; i &lt; 8; i = i+1) count = count + neighbors[i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(count == 3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out = out | ((self == 1) &amp; (count == 2)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en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ore complex behavioral mode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A8A-4C79-4C19-A8C9-A23B346B59B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vs. programming language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antiation of multiple components of the s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nterconnections between modules via sche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y of modules (only leaves can be HDL in Aldec ActiveHD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assignment (logic always comp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agation delay (computation takes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of signals is important (when does computation have its effe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ze explicitly spelled out - no dynamic struc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is naturally parallel (must support multiple threa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ments can occur in parallel (not just sequential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C05-1359-44A2-A42D-96C674F27DB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Hardware description languages and combinational logic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ules - specification of inputs, outputs, bidirectional, and internal sig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ous assignment - a gate’s output is a function of its inputs at all times (doesn’t need to wait to be "called"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agation delay- concept of time and delay in input affecting gate 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osition - connecting modules together with wi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erarchy - modules encapsulate functional blo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392-32C2-41DD-A07F-89A377D39A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Working with combinational logic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08" name="PlaceHolder 2"/>
          <p:cNvSpPr>
            <a:spLocks noGrp="1"/>
          </p:cNvSpPr>
          <p:nvPr>
            <p:ph/>
          </p:nvPr>
        </p:nvSpPr>
        <p:spPr>
          <a:xfrm>
            <a:off x="463680" y="1493640"/>
            <a:ext cx="8292960" cy="4514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bl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ing in truth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ly specified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ifying two-leve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ing two-leve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ND and N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s of Boolean functions and their tim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5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al logic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lnSpc>
                <a:spcPct val="95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design cas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C4A-52B4-4A52-8153-D20D43C1E4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1701720" y="459756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587920"/>
            <a:ext cx="22352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each of th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94120" y="199404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7760" y="1784520"/>
            <a:ext cx="0" cy="353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4120" y="2819520"/>
            <a:ext cx="321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44880" y="363204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44880" y="445788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00600" y="1778040"/>
            <a:ext cx="3276720" cy="37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tabLst>
                <a:tab algn="l" pos="0"/>
                <a:tab algn="l" pos="343080"/>
                <a:tab algn="l" pos="685800"/>
                <a:tab algn="l" pos="1028880"/>
                <a:tab algn="l" pos="1486080"/>
                <a:tab algn="l" pos="1943280"/>
                <a:tab algn="l" pos="240048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43000" y="2654280"/>
            <a:ext cx="2590920" cy="1359000"/>
            <a:chOff x="1143000" y="2654280"/>
            <a:chExt cx="2590920" cy="1359000"/>
          </a:xfrm>
        </p:grpSpPr>
        <p:sp>
          <p:nvSpPr>
            <p:cNvPr id="518" name=""/>
            <p:cNvSpPr/>
            <p:nvPr/>
          </p:nvSpPr>
          <p:spPr>
            <a:xfrm>
              <a:off x="3429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81440" y="265428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8195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8195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195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95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143000" y="271764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47920" y="2882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447920" y="31878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447920" y="34923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447920" y="37846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6A7D-8C2A-463D-9B9A-FEDCA2CB497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616120" y="16257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49840" y="160020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641680" y="4140360"/>
            <a:ext cx="1701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749840" y="4140360"/>
            <a:ext cx="1727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-map for P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2x2-bit multiplier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6026040" y="1447920"/>
            <a:ext cx="2828880" cy="2365200"/>
            <a:chOff x="6026040" y="1447920"/>
            <a:chExt cx="2828880" cy="2365200"/>
          </a:xfrm>
        </p:grpSpPr>
        <p:sp>
          <p:nvSpPr>
            <p:cNvPr id="535" name=""/>
            <p:cNvSpPr/>
            <p:nvPr/>
          </p:nvSpPr>
          <p:spPr>
            <a:xfrm>
              <a:off x="65484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581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82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7360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72788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882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82058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2710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946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373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21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364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404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502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882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7360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2788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216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738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2277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73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21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64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2604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0200" y="3962520"/>
            <a:ext cx="2828880" cy="2365200"/>
            <a:chOff x="6010200" y="3962520"/>
            <a:chExt cx="2828880" cy="2365200"/>
          </a:xfrm>
        </p:grpSpPr>
        <p:sp>
          <p:nvSpPr>
            <p:cNvPr id="560" name=""/>
            <p:cNvSpPr/>
            <p:nvPr/>
          </p:nvSpPr>
          <p:spPr>
            <a:xfrm>
              <a:off x="653256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4228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723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7198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2626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7236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19000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25516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67880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5796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054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3482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52464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43436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2723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7198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72626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054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35796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1188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5796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8054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3482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0102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23800" y="3962520"/>
            <a:ext cx="2844720" cy="2365200"/>
            <a:chOff x="523800" y="3962520"/>
            <a:chExt cx="2844720" cy="2365200"/>
          </a:xfrm>
        </p:grpSpPr>
        <p:sp>
          <p:nvSpPr>
            <p:cNvPr id="585" name=""/>
            <p:cNvSpPr/>
            <p:nvPr/>
          </p:nvSpPr>
          <p:spPr>
            <a:xfrm>
              <a:off x="1062000" y="42829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71720" y="42814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018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2496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17924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1800" y="4191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9440" y="46274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84600" y="49165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08240" y="39625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87400" y="41911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35240" y="41940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878040" y="46418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054080" y="52214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63800" y="52196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8018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496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17924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335240" y="60228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7400" y="50976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41320" y="59976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87400" y="51084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35240" y="51116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878040" y="55594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3800" y="54007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23800" y="1447920"/>
            <a:ext cx="2844720" cy="2365200"/>
            <a:chOff x="523800" y="1447920"/>
            <a:chExt cx="2844720" cy="2365200"/>
          </a:xfrm>
        </p:grpSpPr>
        <p:sp>
          <p:nvSpPr>
            <p:cNvPr id="610" name=""/>
            <p:cNvSpPr/>
            <p:nvPr/>
          </p:nvSpPr>
          <p:spPr>
            <a:xfrm>
              <a:off x="1062000" y="17683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71720" y="17668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018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2496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7924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01800" y="1676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719440" y="21128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784600" y="24019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08240" y="14479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87400" y="16765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335240" y="16794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878040" y="21272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054080" y="27068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63800" y="27050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8018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496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17924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335240" y="35082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87400" y="25830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1320" y="34830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87400" y="25938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335240" y="25970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78040" y="30448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3800" y="2886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2771640" y="2898720"/>
            <a:ext cx="1905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8 = A2A1B2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873080" y="2682720"/>
            <a:ext cx="3049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93960" y="4708440"/>
            <a:ext cx="728640" cy="289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403280" y="5638680"/>
            <a:ext cx="762120" cy="304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17680" y="4724280"/>
            <a:ext cx="316080" cy="762120"/>
          </a:xfrm>
          <a:custGeom>
            <a:avLst/>
            <a:gdLst>
              <a:gd name="textAreaLeft" fmla="*/ 15120 w 316080"/>
              <a:gd name="textAreaRight" fmla="*/ 300960 w 316080"/>
              <a:gd name="textAreaTop" fmla="*/ 15120 h 762120"/>
              <a:gd name="textAreaBottom" fmla="*/ 747000 h 762120"/>
            </a:gdLst>
            <a:ahLst/>
            <a:rect l="textAreaLeft" t="textAreaTop" r="textAreaRight" b="textAreaBottom"/>
            <a:pathLst>
              <a:path w="21600" h="52046">
                <a:moveTo>
                  <a:pt x="3600" y="0"/>
                </a:moveTo>
                <a:arcTo wR="3600" hR="3600" stAng="16200000" swAng="-5400000"/>
                <a:lnTo>
                  <a:pt x="0" y="48446"/>
                </a:lnTo>
                <a:arcTo wR="3600" hR="3600" stAng="10800000" swAng="-5400000"/>
                <a:lnTo>
                  <a:pt x="18000" y="52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15880" y="5181480"/>
            <a:ext cx="304920" cy="76212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762120"/>
              <a:gd name="textAreaBottom" fmla="*/ 747360 h 762120"/>
            </a:gdLst>
            <a:ahLst/>
            <a:rect l="textAreaLeft" t="textAreaTop" r="textAreaRight" b="textAreaBottom"/>
            <a:pathLst>
              <a:path w="21600" h="53949">
                <a:moveTo>
                  <a:pt x="3600" y="0"/>
                </a:moveTo>
                <a:arcTo wR="3600" hR="3600" stAng="16200000" swAng="-5400000"/>
                <a:lnTo>
                  <a:pt x="0" y="50349"/>
                </a:lnTo>
                <a:arcTo wR="3600" hR="3600" stAng="10800000" swAng="-5400000"/>
                <a:lnTo>
                  <a:pt x="18000" y="539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869160" y="4708440"/>
            <a:ext cx="789120" cy="789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7350120" y="2685960"/>
            <a:ext cx="761760" cy="761760"/>
            <a:chOff x="7350120" y="2685960"/>
            <a:chExt cx="761760" cy="761760"/>
          </a:xfrm>
        </p:grpSpPr>
        <p:sp>
          <p:nvSpPr>
            <p:cNvPr id="642" name=""/>
            <p:cNvSpPr/>
            <p:nvPr/>
          </p:nvSpPr>
          <p:spPr>
            <a:xfrm rot="16200000">
              <a:off x="7578720" y="2914560"/>
              <a:ext cx="761760" cy="3045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16200000">
              <a:off x="7578720" y="2901960"/>
              <a:ext cx="304560" cy="76176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761760"/>
                <a:gd name="textAreaBottom" fmla="*/ 747000 h 761760"/>
              </a:gdLst>
              <a:ahLst/>
              <a:rect l="textAreaLeft" t="textAreaTop" r="textAreaRight" b="textAreaBottom"/>
              <a:pathLst>
                <a:path w="21600" h="53987">
                  <a:moveTo>
                    <a:pt x="3600" y="0"/>
                  </a:moveTo>
                  <a:arcTo wR="3600" hR="3600" stAng="16200000" swAng="-5400000"/>
                  <a:lnTo>
                    <a:pt x="0" y="50387"/>
                  </a:lnTo>
                  <a:arcTo wR="3600" hR="3600" stAng="10800000" swAng="-5400000"/>
                  <a:lnTo>
                    <a:pt x="18000" y="5398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4543560" y="2063880"/>
            <a:ext cx="173988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17640" y="5369040"/>
            <a:ext cx="1702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2'A1B2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1B2B1'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B2'B1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 A2A1'B1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48320" y="4546440"/>
            <a:ext cx="16509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r"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1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= A1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 flipV="1">
            <a:off x="1726920" y="5472000"/>
            <a:ext cx="1662120" cy="162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163240" y="5811840"/>
            <a:ext cx="1047960" cy="158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163240" y="5003640"/>
            <a:ext cx="1047960" cy="1114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H="1" flipV="1">
            <a:off x="2501640" y="5487840"/>
            <a:ext cx="709560" cy="889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78400" y="2260440"/>
            <a:ext cx="1067040" cy="984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278400" y="2517840"/>
            <a:ext cx="1533600" cy="436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871-AF7D-4E9E-AF48-0C1F8E8050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4626000" y="2114640"/>
            <a:ext cx="363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435720" y="1905120"/>
            <a:ext cx="0" cy="330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708440" y="1898640"/>
            <a:ext cx="3772080" cy="33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8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4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241280" y="4807080"/>
            <a:ext cx="17654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uth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873680" y="5556240"/>
            <a:ext cx="32256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-variable K-map for each of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4 output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965160" y="2808360"/>
            <a:ext cx="2590920" cy="1359000"/>
            <a:chOff x="965160" y="2808360"/>
            <a:chExt cx="2590920" cy="1359000"/>
          </a:xfrm>
        </p:grpSpPr>
        <p:sp>
          <p:nvSpPr>
            <p:cNvPr id="659" name=""/>
            <p:cNvSpPr/>
            <p:nvPr/>
          </p:nvSpPr>
          <p:spPr>
            <a:xfrm>
              <a:off x="3251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03600" y="2808360"/>
              <a:ext cx="838080" cy="135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16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6416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416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16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965160" y="2871720"/>
              <a:ext cx="30492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270080" y="30369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70080" y="3341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270080" y="364644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270080" y="393876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702-6A04-4382-9716-3EA05812771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693720" y="1580040"/>
            <a:ext cx="8070840" cy="4828680"/>
            <a:chOff x="693720" y="1580040"/>
            <a:chExt cx="8070840" cy="4828680"/>
          </a:xfrm>
        </p:grpSpPr>
        <p:grpSp>
          <p:nvGrpSpPr>
            <p:cNvPr id="672" name=""/>
            <p:cNvGrpSpPr/>
            <p:nvPr/>
          </p:nvGrpSpPr>
          <p:grpSpPr>
            <a:xfrm>
              <a:off x="6428880" y="2722680"/>
              <a:ext cx="662040" cy="450720"/>
              <a:chOff x="6428880" y="2722680"/>
              <a:chExt cx="662040" cy="4507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6525720" y="2754360"/>
                <a:ext cx="565200" cy="37080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6428880" y="2722680"/>
                <a:ext cx="209520" cy="45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555920" y="1580040"/>
              <a:ext cx="917640" cy="2334960"/>
              <a:chOff x="1555920" y="1580040"/>
              <a:chExt cx="917640" cy="233496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1568880" y="1580040"/>
                <a:ext cx="904680" cy="661320"/>
                <a:chOff x="1568880" y="1580040"/>
                <a:chExt cx="904680" cy="661320"/>
              </a:xfrm>
            </p:grpSpPr>
            <p:sp>
              <p:nvSpPr>
                <p:cNvPr id="677" name=""/>
                <p:cNvSpPr/>
                <p:nvPr/>
              </p:nvSpPr>
              <p:spPr>
                <a:xfrm rot="16200000">
                  <a:off x="1722600" y="1586520"/>
                  <a:ext cx="564840" cy="744480"/>
                </a:xfrm>
                <a:custGeom>
                  <a:avLst/>
                  <a:gdLst>
                    <a:gd name="textAreaLeft" fmla="*/ 27360 w 564840"/>
                    <a:gd name="textAreaRight" fmla="*/ 537480 w 56484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65">
                      <a:moveTo>
                        <a:pt x="3600" y="0"/>
                      </a:moveTo>
                      <a:arcTo wR="3600" hR="3600" stAng="16200000" swAng="-5400000"/>
                      <a:lnTo>
                        <a:pt x="0" y="24865"/>
                      </a:lnTo>
                      <a:arcTo wR="3600" hR="3600" stAng="10800000" swAng="-5400000"/>
                      <a:lnTo>
                        <a:pt x="18000" y="2846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rot="16200000">
                  <a:off x="1916640" y="1232280"/>
                  <a:ext cx="20916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1555920" y="3252960"/>
                <a:ext cx="904680" cy="662040"/>
                <a:chOff x="1555920" y="3252960"/>
                <a:chExt cx="904680" cy="662040"/>
              </a:xfrm>
            </p:grpSpPr>
            <p:sp>
              <p:nvSpPr>
                <p:cNvPr id="680" name=""/>
                <p:cNvSpPr/>
                <p:nvPr/>
              </p:nvSpPr>
              <p:spPr>
                <a:xfrm flipH="1" rot="16200000">
                  <a:off x="1709640" y="3163320"/>
                  <a:ext cx="565200" cy="744480"/>
                </a:xfrm>
                <a:custGeom>
                  <a:avLst/>
                  <a:gdLst>
                    <a:gd name="textAreaLeft" fmla="*/ 27360 w 565200"/>
                    <a:gd name="textAreaRight" fmla="*/ 537840 w 565200"/>
                    <a:gd name="textAreaTop" fmla="*/ 27360 h 744480"/>
                    <a:gd name="textAreaBottom" fmla="*/ 717120 h 744480"/>
                  </a:gdLst>
                  <a:ahLst/>
                  <a:rect l="textAreaLeft" t="textAreaTop" r="textAreaRight" b="textAreaBottom"/>
                  <a:pathLst>
                    <a:path w="21600" h="28447">
                      <a:moveTo>
                        <a:pt x="3600" y="0"/>
                      </a:moveTo>
                      <a:arcTo wR="3600" hR="3600" stAng="16200000" swAng="-5400000"/>
                      <a:lnTo>
                        <a:pt x="0" y="24847"/>
                      </a:lnTo>
                      <a:arcTo wR="3600" hR="3600" stAng="10800000" swAng="-5400000"/>
                      <a:lnTo>
                        <a:pt x="18000" y="2844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H="1" rot="16200000">
                  <a:off x="1902960" y="3357720"/>
                  <a:ext cx="209520" cy="904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2" name=""/>
            <p:cNvGrpSpPr/>
            <p:nvPr/>
          </p:nvGrpSpPr>
          <p:grpSpPr>
            <a:xfrm>
              <a:off x="8102520" y="2728800"/>
              <a:ext cx="662040" cy="451080"/>
              <a:chOff x="8102520" y="2728800"/>
              <a:chExt cx="662040" cy="451080"/>
            </a:xfrm>
          </p:grpSpPr>
          <p:sp>
            <p:nvSpPr>
              <p:cNvPr id="683" name=""/>
              <p:cNvSpPr/>
              <p:nvPr/>
            </p:nvSpPr>
            <p:spPr>
              <a:xfrm>
                <a:off x="8102520" y="2760840"/>
                <a:ext cx="565200" cy="3711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555040" y="2728800"/>
                <a:ext cx="209520" cy="451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7151760" y="3228840"/>
              <a:ext cx="887400" cy="646200"/>
              <a:chOff x="7151760" y="3228840"/>
              <a:chExt cx="887400" cy="646200"/>
            </a:xfrm>
          </p:grpSpPr>
          <p:sp>
            <p:nvSpPr>
              <p:cNvPr id="686" name=""/>
              <p:cNvSpPr/>
              <p:nvPr/>
            </p:nvSpPr>
            <p:spPr>
              <a:xfrm>
                <a:off x="7183440" y="3228840"/>
                <a:ext cx="822240" cy="5810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151760" y="3697200"/>
                <a:ext cx="88740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6708600" y="3994200"/>
              <a:ext cx="1808280" cy="693360"/>
              <a:chOff x="6708600" y="3994200"/>
              <a:chExt cx="1808280" cy="693360"/>
            </a:xfrm>
          </p:grpSpPr>
          <p:sp>
            <p:nvSpPr>
              <p:cNvPr id="689" name=""/>
              <p:cNvSpPr/>
              <p:nvPr/>
            </p:nvSpPr>
            <p:spPr>
              <a:xfrm flipV="1">
                <a:off x="6740640" y="4155480"/>
                <a:ext cx="172692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V="1">
                <a:off x="6708600" y="399420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6715080" y="5699160"/>
              <a:ext cx="1808280" cy="709560"/>
              <a:chOff x="6715080" y="5699160"/>
              <a:chExt cx="1808280" cy="709560"/>
            </a:xfrm>
          </p:grpSpPr>
          <p:sp>
            <p:nvSpPr>
              <p:cNvPr id="692" name=""/>
              <p:cNvSpPr/>
              <p:nvPr/>
            </p:nvSpPr>
            <p:spPr>
              <a:xfrm>
                <a:off x="6746760" y="5699160"/>
                <a:ext cx="1727280" cy="531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15080" y="6167520"/>
                <a:ext cx="1808280" cy="241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3117960" y="2646360"/>
              <a:ext cx="3243240" cy="16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8 = I4 I2 I1 + I8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4 = I4 I2' + I4 I1' + I4’ I2 I1</a:t>
              </a:r>
              <a:br>
                <a:rPr sz="1800"/>
              </a:b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2 = I8’ I2’ I1 + I2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O1 = I1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2776680"/>
              <a:ext cx="758880" cy="35532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3720" y="4778280"/>
              <a:ext cx="824040" cy="355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720" y="5699160"/>
              <a:ext cx="1711440" cy="3538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99280" y="1873080"/>
              <a:ext cx="790560" cy="806760"/>
            </a:xfrm>
            <a:custGeom>
              <a:avLst/>
              <a:gdLst>
                <a:gd name="textAreaLeft" fmla="*/ 38520 w 790560"/>
                <a:gd name="textAreaRight" fmla="*/ 752040 w 790560"/>
                <a:gd name="textAreaTop" fmla="*/ 38520 h 806760"/>
                <a:gd name="textAreaBottom" fmla="*/ 768240 h 806760"/>
              </a:gdLst>
              <a:ahLst/>
              <a:rect l="textAreaLeft" t="textAreaTop" r="textAreaRight" b="textAreaBottom"/>
              <a:pathLst>
                <a:path w="21600" h="22042">
                  <a:moveTo>
                    <a:pt x="3600" y="0"/>
                  </a:moveTo>
                  <a:arcTo wR="3600" hR="3600" stAng="16200000" swAng="-5400000"/>
                  <a:lnTo>
                    <a:pt x="0" y="18442"/>
                  </a:lnTo>
                  <a:arcTo wR="3600" hR="3600" stAng="10800000" swAng="-5400000"/>
                  <a:lnTo>
                    <a:pt x="18000" y="2204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7145280" y="1587960"/>
              <a:ext cx="887400" cy="645480"/>
              <a:chOff x="7145280" y="1587960"/>
              <a:chExt cx="887400" cy="645480"/>
            </a:xfrm>
          </p:grpSpPr>
          <p:sp>
            <p:nvSpPr>
              <p:cNvPr id="700" name=""/>
              <p:cNvSpPr/>
              <p:nvPr/>
            </p:nvSpPr>
            <p:spPr>
              <a:xfrm flipV="1">
                <a:off x="7176960" y="1652400"/>
                <a:ext cx="822240" cy="5806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7145280" y="1587600"/>
                <a:ext cx="887400" cy="177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2" name=""/>
          <p:cNvSpPr/>
          <p:nvPr/>
        </p:nvSpPr>
        <p:spPr>
          <a:xfrm>
            <a:off x="2571840" y="1739880"/>
            <a:ext cx="6350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05400" y="174960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81200" y="4184640"/>
            <a:ext cx="5842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305400" y="4197240"/>
            <a:ext cx="5590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spcAft>
                <a:spcPts val="2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O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sign example: BCD increment by 1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90520" y="1589040"/>
            <a:ext cx="2835000" cy="2365200"/>
            <a:chOff x="290520" y="1589040"/>
            <a:chExt cx="2835000" cy="2365200"/>
          </a:xfrm>
        </p:grpSpPr>
        <p:sp>
          <p:nvSpPr>
            <p:cNvPr id="708" name=""/>
            <p:cNvSpPr/>
            <p:nvPr/>
          </p:nvSpPr>
          <p:spPr>
            <a:xfrm>
              <a:off x="81900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2872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5588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066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15494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5880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7644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4160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96524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4440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9224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63504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1108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2080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5588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0066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15494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9224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40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49832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440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9224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63504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9052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290520" y="4054320"/>
            <a:ext cx="2835000" cy="2365200"/>
            <a:chOff x="290520" y="4054320"/>
            <a:chExt cx="2835000" cy="2365200"/>
          </a:xfrm>
        </p:grpSpPr>
        <p:sp>
          <p:nvSpPr>
            <p:cNvPr id="733" name=""/>
            <p:cNvSpPr/>
            <p:nvPr/>
          </p:nvSpPr>
          <p:spPr>
            <a:xfrm>
              <a:off x="81900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2872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588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0066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15494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5880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47644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4160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96524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4440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9224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3504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1108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2080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5588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0066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15494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224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4440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49832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4440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9224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63504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052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6338880" y="1589040"/>
            <a:ext cx="2835000" cy="2365200"/>
            <a:chOff x="6338880" y="1589040"/>
            <a:chExt cx="2835000" cy="2365200"/>
          </a:xfrm>
        </p:grpSpPr>
        <p:sp>
          <p:nvSpPr>
            <p:cNvPr id="758" name=""/>
            <p:cNvSpPr/>
            <p:nvPr/>
          </p:nvSpPr>
          <p:spPr>
            <a:xfrm>
              <a:off x="6867360" y="1909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777080" y="190800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6071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0550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5978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07160" y="18176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524800" y="225396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589960" y="254304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013600" y="158904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692760" y="181764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40600" y="182052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683400" y="2268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859440" y="284796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769160" y="284616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6071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80550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5978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40600" y="364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692760" y="272412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546680" y="36241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692760" y="2734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140600" y="273816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683400" y="318600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338880" y="302724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40680" y="4054320"/>
            <a:ext cx="2835000" cy="2365200"/>
            <a:chOff x="6340680" y="4054320"/>
            <a:chExt cx="2835000" cy="2365200"/>
          </a:xfrm>
        </p:grpSpPr>
        <p:sp>
          <p:nvSpPr>
            <p:cNvPr id="783" name=""/>
            <p:cNvSpPr/>
            <p:nvPr/>
          </p:nvSpPr>
          <p:spPr>
            <a:xfrm>
              <a:off x="6869160" y="437472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78880" y="437328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6089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0568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75996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608960" y="42829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26600" y="4719240"/>
              <a:ext cx="0" cy="90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8591760" y="5008320"/>
              <a:ext cx="5839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8015400" y="405432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4560" y="428292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42400" y="428580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685200" y="47336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61240" y="5313240"/>
              <a:ext cx="825480" cy="81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770960" y="5311440"/>
              <a:ext cx="825480" cy="8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089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568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5996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42400" y="611460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694560" y="5189400"/>
              <a:ext cx="0" cy="92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48480" y="6089400"/>
              <a:ext cx="5842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599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94560" y="5200200"/>
              <a:ext cx="9144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42400" y="5203440"/>
              <a:ext cx="0" cy="91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6685200" y="56512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340680" y="5492520"/>
              <a:ext cx="36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DEBD-ED3B-4FB9-A7C4-9A576D3B559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Definition of terms for two-level simplific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3320" y="1620720"/>
            <a:ext cx="8535960" cy="451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element of ON-set or DC-set or any group of these elements that can be combined to form a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icant that can't be combined with another to form a larger sub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 prime implic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e implicant is essential if it alone covers an element of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participate in ALL possible covers of the ON-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-set used to form prime implicants but not to make implicant ess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 implicant into prime implic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literals per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the ON-set with as few prime implicants a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inimize number of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806D-F75A-4FA9-8AD3-EE50D6F40D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II - Working with Combinational Logic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1:31:29Z</dcterms:created>
  <dc:creator>Gaetano Borriello</dc:creator>
  <dc:description/>
  <dc:language>en-US</dc:language>
  <cp:lastModifiedBy>Gaetano Borriello</cp:lastModifiedBy>
  <cp:lastPrinted>2000-09-30T01:10:40Z</cp:lastPrinted>
  <dcterms:modified xsi:type="dcterms:W3CDTF">2005-01-24T06:58:56Z</dcterms:modified>
  <cp:revision>42</cp:revision>
  <dc:subject/>
  <dc:title>Combinational Log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.washington.edu/education/courses/cse370/99sp/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gaetano\Edu\cse370_s99\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