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269413" cy="6948488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6B8-D596-41F8-83A8-711E5085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CE6-8E79-413B-9686-A1DD0D02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C1F-01D6-43B0-BE81-DDAE3CA1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0C49-4D07-4FF6-A9BE-2BE30030F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196F-3F29-4DB2-8AA0-36ADE953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86E0-94B3-4009-A4C1-BE9121F8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E7C4-3518-4B6C-9406-B8D9464A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071DF-CEB0-458E-9072-48CFCC7B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6CA5-C22F-4F00-BB87-30C26A3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F734-0807-4BA4-B425-7B732CE2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BDCF-3DB7-4703-8ADB-8F1A35CB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49C4-ABFE-429C-A39D-E0B6D6A1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3EEE-6C87-4EC3-9340-DCFF21FA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57C6-7587-4197-8A39-FA89534D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FE58-21D6-442F-9CC2-5E32013D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4BA7-4C32-4385-8235-B1D8ACE4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203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4017960"/>
            <a:ext cx="26863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0B57-8909-4D2F-99FA-D9FCCEBC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AE0-9A4F-44E4-9CBA-D0B2A5F7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CF3-3DA3-4A97-A201-1455983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1A7B-6F91-4CAE-A1D2-D71674F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3320" y="281160"/>
            <a:ext cx="83437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5F7-D902-4233-B38B-BF4C8AA9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4EF-1E55-4594-94A7-400FB858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9040" y="40179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39EA-645C-40F9-8AFE-10AC9C1F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9040" y="1620360"/>
            <a:ext cx="407160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20" y="4017960"/>
            <a:ext cx="8343720" cy="2189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A50-8EB3-4CCD-AA3E-1BC72B3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57200" indent="-318960">
              <a:spcBef>
                <a:spcPts val="55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44520">
              <a:spcBef>
                <a:spcPts val="55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703520" indent="-344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9360" y="6329160"/>
            <a:ext cx="3862440" cy="463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A942DD9-6A72-47B0-97EA-2EDD91F732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5920" y="231840"/>
            <a:ext cx="8343720" cy="617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26640" y="1542600"/>
            <a:ext cx="7729560" cy="1776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6368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66920" y="6324480"/>
            <a:ext cx="29368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43800" y="6324480"/>
            <a:ext cx="216360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A98EE08-2D75-4794-92F5-18070B526BF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7400" y="1235160"/>
            <a:ext cx="8035920" cy="9255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08080" y="4013280"/>
            <a:ext cx="6602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gates and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able logic devices (PAL with FF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 assig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DA38-CC4D-472A-AF83-051430B0BD3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 Macro Cel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 element + output/input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1"/>
          <a:srcRect l="13893" t="9226" r="0" b="0"/>
          <a:stretch/>
        </p:blipFill>
        <p:spPr>
          <a:xfrm>
            <a:off x="2043000" y="2344680"/>
            <a:ext cx="550728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EDBF-AFB0-410B-AEFF-51B6926039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3320" y="163944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g of War g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LEDs, 2 push buttons (L,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"/>
          <p:cNvGrpSpPr/>
          <p:nvPr/>
        </p:nvGrpSpPr>
        <p:grpSpPr>
          <a:xfrm>
            <a:off x="1063080" y="3710160"/>
            <a:ext cx="7124400" cy="1563120"/>
            <a:chOff x="1063080" y="3710160"/>
            <a:chExt cx="7124400" cy="1563120"/>
          </a:xfrm>
        </p:grpSpPr>
        <p:sp>
          <p:nvSpPr>
            <p:cNvPr id="1467" name=""/>
            <p:cNvSpPr/>
            <p:nvPr/>
          </p:nvSpPr>
          <p:spPr>
            <a:xfrm>
              <a:off x="4371840" y="4498560"/>
              <a:ext cx="5432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03880" y="4498560"/>
              <a:ext cx="54144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9" name=""/>
            <p:cNvCxnSpPr>
              <a:stCxn id="1467" idx="7"/>
              <a:endCxn id="1468" idx="1"/>
            </p:cNvCxnSpPr>
            <p:nvPr/>
          </p:nvCxnSpPr>
          <p:spPr>
            <a:xfrm>
              <a:off x="483660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0" name=""/>
            <p:cNvCxnSpPr>
              <a:stCxn id="1468" idx="3"/>
              <a:endCxn id="1467" idx="5"/>
            </p:cNvCxnSpPr>
            <p:nvPr/>
          </p:nvCxnSpPr>
          <p:spPr>
            <a:xfrm flipH="1">
              <a:off x="48366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1" name=""/>
            <p:cNvCxnSpPr>
              <a:endCxn id="1467" idx="0"/>
            </p:cNvCxnSpPr>
            <p:nvPr/>
          </p:nvCxnSpPr>
          <p:spPr>
            <a:xfrm flipH="1">
              <a:off x="4642920" y="4033080"/>
              <a:ext cx="37440" cy="46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2" name=""/>
            <p:cNvSpPr/>
            <p:nvPr/>
          </p:nvSpPr>
          <p:spPr>
            <a:xfrm>
              <a:off x="6234120" y="44985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3" name=""/>
            <p:cNvCxnSpPr>
              <a:endCxn id="1472" idx="1"/>
            </p:cNvCxnSpPr>
            <p:nvPr/>
          </p:nvCxnSpPr>
          <p:spPr>
            <a:xfrm>
              <a:off x="576756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74" name=""/>
            <p:cNvCxnSpPr>
              <a:stCxn id="1472" idx="3"/>
            </p:cNvCxnSpPr>
            <p:nvPr/>
          </p:nvCxnSpPr>
          <p:spPr>
            <a:xfrm flipH="1">
              <a:off x="5767200" y="496044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5" name=""/>
            <p:cNvSpPr/>
            <p:nvPr/>
          </p:nvSpPr>
          <p:spPr>
            <a:xfrm>
              <a:off x="7162920" y="4498560"/>
              <a:ext cx="54432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6" name=""/>
            <p:cNvCxnSpPr>
              <a:endCxn id="1475" idx="1"/>
            </p:cNvCxnSpPr>
            <p:nvPr/>
          </p:nvCxnSpPr>
          <p:spPr>
            <a:xfrm>
              <a:off x="669564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7" name=""/>
            <p:cNvSpPr/>
            <p:nvPr/>
          </p:nvSpPr>
          <p:spPr>
            <a:xfrm>
              <a:off x="1581120" y="4500360"/>
              <a:ext cx="5446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51136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79" name=""/>
            <p:cNvCxnSpPr>
              <a:stCxn id="1478" idx="3"/>
              <a:endCxn id="1477" idx="5"/>
            </p:cNvCxnSpPr>
            <p:nvPr/>
          </p:nvCxnSpPr>
          <p:spPr>
            <a:xfrm flipH="1">
              <a:off x="204588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0" name=""/>
            <p:cNvSpPr/>
            <p:nvPr/>
          </p:nvSpPr>
          <p:spPr>
            <a:xfrm>
              <a:off x="3444840" y="4500360"/>
              <a:ext cx="542880" cy="541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81" name=""/>
            <p:cNvCxnSpPr>
              <a:endCxn id="1480" idx="1"/>
            </p:cNvCxnSpPr>
            <p:nvPr/>
          </p:nvCxnSpPr>
          <p:spPr>
            <a:xfrm>
              <a:off x="2977920" y="457920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2" name=""/>
            <p:cNvCxnSpPr>
              <a:stCxn id="1480" idx="3"/>
            </p:cNvCxnSpPr>
            <p:nvPr/>
          </p:nvCxnSpPr>
          <p:spPr>
            <a:xfrm flipH="1">
              <a:off x="2977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3" name=""/>
            <p:cNvCxnSpPr/>
            <p:nvPr/>
          </p:nvCxnSpPr>
          <p:spPr>
            <a:xfrm>
              <a:off x="3904920" y="457776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4" name=""/>
            <p:cNvCxnSpPr/>
            <p:nvPr/>
          </p:nvCxnSpPr>
          <p:spPr>
            <a:xfrm flipH="1">
              <a:off x="3904920" y="4961880"/>
              <a:ext cx="546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5" name=""/>
            <p:cNvCxnSpPr>
              <a:stCxn id="1477" idx="3"/>
              <a:endCxn id="1477" idx="1"/>
            </p:cNvCxnSpPr>
            <p:nvPr/>
          </p:nvCxnSpPr>
          <p:spPr>
            <a:xfrm flipH="1" flipV="1" rot="5400000">
              <a:off x="1469160" y="4768920"/>
              <a:ext cx="384480" cy="2160"/>
            </a:xfrm>
            <a:prstGeom prst="curvedConnector5">
              <a:avLst>
                <a:gd name="adj1" fmla="val -81068"/>
                <a:gd name="adj2" fmla="val -16600000"/>
                <a:gd name="adj3" fmla="val -8106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86" name=""/>
            <p:cNvCxnSpPr>
              <a:stCxn id="1475" idx="5"/>
              <a:endCxn id="1475" idx="7"/>
            </p:cNvCxnSpPr>
            <p:nvPr/>
          </p:nvCxnSpPr>
          <p:spPr>
            <a:xfrm flipH="1" flipV="1" rot="5400000">
              <a:off x="7437240" y="4768200"/>
              <a:ext cx="383040" cy="2160"/>
            </a:xfrm>
            <a:prstGeom prst="curvedConnector5">
              <a:avLst>
                <a:gd name="adj1" fmla="val -81091"/>
                <a:gd name="adj2" fmla="val 15540000"/>
                <a:gd name="adj3" fmla="val -8109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87" name=""/>
            <p:cNvSpPr/>
            <p:nvPr/>
          </p:nvSpPr>
          <p:spPr>
            <a:xfrm>
              <a:off x="4532760" y="37101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0068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76900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2748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83876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958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9067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1655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977920" y="4289040"/>
              <a:ext cx="29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23676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304000" y="493056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151-2F59-4879-B6AC-B1DD20AF06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ight Game FSM Verilog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39680" y="979200"/>
            <a:ext cx="8344080" cy="2889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odule Light_Game (LEDS, LPB, RPB, CLK, RES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L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PB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CLK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put RES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[6:0] LED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[6:0] positi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lef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g righ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144360" y="3919680"/>
            <a:ext cx="89632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ways @(posedge CL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egin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ft &lt;=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ight &lt;=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(RESET) position &lt;= 7'b0001000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(position == 7'b0000001) || (position == 7'b1000000)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L) position &lt;= position &lt;&lt; 1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se if (R) position &lt;= position &gt;&gt; 1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522600" y="2070000"/>
            <a:ext cx="3218040" cy="11350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noAutofit/>
          </a:bodyPr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ire L, 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 = ~left &amp;&amp; L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R = ~right &amp;&amp; RP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ssign LEDS = posi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498600" y="3952800"/>
            <a:ext cx="8507160" cy="2116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060800" y="1700280"/>
            <a:ext cx="21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combination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193640" y="3589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quential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D901-0D05-4462-8899-94EBEC77D51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63680" y="1620720"/>
            <a:ext cx="8486640" cy="47037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usy highway is intersected by a little used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s C sense the presence of cars waiting on the farmr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no car on farmroad, light remain green in highway di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vehicle on farmroad, highway lights go from Green to Yellow to Red, allowing the farmroad lights to become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tay green only as long as a farmroad car is detected but never longer than a set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these are met, farm lights transition from Green to Yellow to Red, allowing highway to return to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if farmroad vehicles are waiting, highway gets at least a set interval as gr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you have an interval timer that gene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time pulse (TS)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ng time pulse (TL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response to a set (ST) sig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 is to be used for timing yellow lights and TL for green 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06B1-13C2-4A4E-92A2-4DB7C52F712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"/>
          <p:cNvSpPr/>
          <p:nvPr/>
        </p:nvSpPr>
        <p:spPr>
          <a:xfrm>
            <a:off x="3733920" y="2921040"/>
            <a:ext cx="0" cy="888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308240" y="3809880"/>
            <a:ext cx="24508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305240" y="2921040"/>
            <a:ext cx="0" cy="863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267080" y="3809880"/>
            <a:ext cx="2527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H="1">
            <a:off x="4280040" y="4724280"/>
            <a:ext cx="2565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30524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733920" y="4749840"/>
            <a:ext cx="0" cy="977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H="1">
            <a:off x="1295280" y="4724280"/>
            <a:ext cx="24638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11720" y="4267080"/>
            <a:ext cx="250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>
            <a:off x="1327320" y="4267080"/>
            <a:ext cx="241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968640" y="4159080"/>
            <a:ext cx="114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740040" y="35812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083120" y="495288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13680" y="4127400"/>
            <a:ext cx="1346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igh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33920" y="2362320"/>
            <a:ext cx="14731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rm 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3943440" y="3232080"/>
            <a:ext cx="1270080" cy="29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283360" y="3086280"/>
            <a:ext cx="17143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 sen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4184640" y="3231720"/>
            <a:ext cx="1041480" cy="1638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way/farm road inters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DD33-1CF8-4E16-818C-A97BE16940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80740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inputs and output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ce FSM in initial 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, HY, H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ct vehicle on the farm roa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, FY, F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sert green/yellow/red highway ligh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ort time interval exp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tart timing a short or long interv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time interval exp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27080"/>
                <a:tab algn="l" pos="3718080"/>
                <a:tab algn="l" pos="4743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ulation of unique states – some light configurations imply others</a:t>
            </a:r>
            <a:br>
              <a:rPr sz="1800"/>
            </a:b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green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way yellow (farm road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green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rm road yellow (highway r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50EB-3DA7-42E2-9349-2F9071259F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1" name=""/>
          <p:cNvGrpSpPr/>
          <p:nvPr/>
        </p:nvGrpSpPr>
        <p:grpSpPr>
          <a:xfrm>
            <a:off x="2576520" y="2076480"/>
            <a:ext cx="4508640" cy="4051440"/>
            <a:chOff x="2576520" y="2076480"/>
            <a:chExt cx="4508640" cy="4051440"/>
          </a:xfrm>
        </p:grpSpPr>
        <p:sp>
          <p:nvSpPr>
            <p:cNvPr id="1532" name=""/>
            <p:cNvSpPr/>
            <p:nvPr/>
          </p:nvSpPr>
          <p:spPr>
            <a:xfrm>
              <a:off x="5472000" y="2076480"/>
              <a:ext cx="1054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31044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167440" y="3219480"/>
              <a:ext cx="12063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5840" y="2152800"/>
              <a:ext cx="115560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•C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86000" y="3219480"/>
              <a:ext cx="1435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•C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76520" y="3828960"/>
              <a:ext cx="7747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90920" y="4667400"/>
              <a:ext cx="120636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S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253040" y="5734080"/>
              <a:ext cx="1003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TL+C')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167440" y="4667400"/>
              <a:ext cx="1485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2098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L+C' / 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405320" y="2685960"/>
              <a:ext cx="609480" cy="609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405320" y="481968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72000" y="3753000"/>
              <a:ext cx="60984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8640" y="3753000"/>
              <a:ext cx="609480" cy="609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5" name=""/>
            <p:cNvCxnSpPr>
              <a:stCxn id="1541" idx="3"/>
              <a:endCxn id="1544" idx="7"/>
            </p:cNvCxnSpPr>
            <p:nvPr/>
          </p:nvCxnSpPr>
          <p:spPr>
            <a:xfrm flipH="1">
              <a:off x="3858840" y="320688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6" name=""/>
            <p:cNvCxnSpPr>
              <a:stCxn id="1544" idx="5"/>
              <a:endCxn id="1542" idx="1"/>
            </p:cNvCxnSpPr>
            <p:nvPr/>
          </p:nvCxnSpPr>
          <p:spPr>
            <a:xfrm>
              <a:off x="3859200" y="427356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7" name=""/>
            <p:cNvCxnSpPr>
              <a:stCxn id="1542" idx="7"/>
              <a:endCxn id="1543" idx="3"/>
            </p:cNvCxnSpPr>
            <p:nvPr/>
          </p:nvCxnSpPr>
          <p:spPr>
            <a:xfrm flipV="1">
              <a:off x="4925880" y="427320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8" name=""/>
            <p:cNvCxnSpPr>
              <a:stCxn id="1543" idx="1"/>
              <a:endCxn id="1541" idx="5"/>
            </p:cNvCxnSpPr>
            <p:nvPr/>
          </p:nvCxnSpPr>
          <p:spPr>
            <a:xfrm flipH="1" flipV="1">
              <a:off x="4925520" y="3206520"/>
              <a:ext cx="635760" cy="635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9" name=""/>
            <p:cNvCxnSpPr>
              <a:stCxn id="1541" idx="6"/>
              <a:endCxn id="1541" idx="2"/>
            </p:cNvCxnSpPr>
            <p:nvPr/>
          </p:nvCxnSpPr>
          <p:spPr>
            <a:xfrm flipH="1">
              <a:off x="4404600" y="2990880"/>
              <a:ext cx="610200" cy="2160"/>
            </a:xfrm>
            <a:prstGeom prst="curvedConnector5">
              <a:avLst>
                <a:gd name="adj1" fmla="val -37485"/>
                <a:gd name="adj2" fmla="val -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0" name=""/>
            <p:cNvCxnSpPr>
              <a:stCxn id="1544" idx="0"/>
              <a:endCxn id="1544" idx="4"/>
            </p:cNvCxnSpPr>
            <p:nvPr/>
          </p:nvCxnSpPr>
          <p:spPr>
            <a:xfrm flipH="1" rot="16200000">
              <a:off x="3339000" y="4055760"/>
              <a:ext cx="610200" cy="2520"/>
            </a:xfrm>
            <a:prstGeom prst="curvedConnector5">
              <a:avLst>
                <a:gd name="adj1" fmla="val -37485"/>
                <a:gd name="adj2" fmla="val -205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1" name=""/>
            <p:cNvCxnSpPr>
              <a:stCxn id="1543" idx="4"/>
              <a:endCxn id="1543" idx="0"/>
            </p:cNvCxnSpPr>
            <p:nvPr/>
          </p:nvCxnSpPr>
          <p:spPr>
            <a:xfrm flipH="1" flipV="1" rot="5400000">
              <a:off x="5472720" y="4056480"/>
              <a:ext cx="610200" cy="2160"/>
            </a:xfrm>
            <a:prstGeom prst="curvedConnector5">
              <a:avLst>
                <a:gd name="adj1" fmla="val -37485"/>
                <a:gd name="adj2" fmla="val 1680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2" name=""/>
            <p:cNvCxnSpPr/>
            <p:nvPr/>
          </p:nvCxnSpPr>
          <p:spPr>
            <a:xfrm flipH="1" flipV="1" rot="10800000">
              <a:off x="4404240" y="5124240"/>
              <a:ext cx="610200" cy="2160"/>
            </a:xfrm>
            <a:prstGeom prst="curvedConnector5">
              <a:avLst>
                <a:gd name="adj1" fmla="val -37485"/>
                <a:gd name="adj2" fmla="val 19540000"/>
                <a:gd name="adj3" fmla="val -37485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53" name=""/>
            <p:cNvSpPr/>
            <p:nvPr/>
          </p:nvSpPr>
          <p:spPr>
            <a:xfrm flipH="1">
              <a:off x="4938480" y="2228760"/>
              <a:ext cx="53316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212-FABA-4BC1-BEFD-A637C4B0C79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4" name=""/>
          <p:cNvGrpSpPr/>
          <p:nvPr/>
        </p:nvGrpSpPr>
        <p:grpSpPr>
          <a:xfrm>
            <a:off x="285840" y="2622600"/>
            <a:ext cx="8489880" cy="2978280"/>
            <a:chOff x="285840" y="2622600"/>
            <a:chExt cx="8489880" cy="2978280"/>
          </a:xfrm>
        </p:grpSpPr>
        <p:sp>
          <p:nvSpPr>
            <p:cNvPr id="1555" name=""/>
            <p:cNvSpPr/>
            <p:nvPr/>
          </p:nvSpPr>
          <p:spPr>
            <a:xfrm>
              <a:off x="380880" y="2666880"/>
              <a:ext cx="8394840" cy="29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286000"/>
                  <a:tab algn="l" pos="2743200"/>
                  <a:tab algn="l" pos="3200400"/>
                  <a:tab algn="l" pos="3656160"/>
                  <a:tab algn="l" pos="4113360"/>
                  <a:tab algn="l" pos="4570560"/>
                  <a:tab algn="l" pos="5029200"/>
                  <a:tab algn="l" pos="5942160"/>
                  <a:tab algn="l" pos="6399360"/>
                  <a:tab algn="l" pos="7313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pu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resen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ext State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utput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L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T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Green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–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Y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HG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d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Yellow</a:t>
              </a: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85840" y="312408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33920" y="2635200"/>
              <a:ext cx="0" cy="274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29480" y="2635200"/>
              <a:ext cx="0" cy="278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892160" y="2622600"/>
              <a:ext cx="0" cy="275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0" name=""/>
          <p:cNvSpPr/>
          <p:nvPr/>
        </p:nvSpPr>
        <p:spPr>
          <a:xfrm>
            <a:off x="762120" y="5562720"/>
            <a:ext cx="82422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914400"/>
                <a:tab algn="l" pos="2286000"/>
                <a:tab algn="l" pos="3656160"/>
                <a:tab algn="l" pos="502920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1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1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2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3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G = 0001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Y = 001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G = 01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Y = 1000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one-ho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950080" y="1952640"/>
            <a:ext cx="32004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1599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utput encoding – similar problem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 state assignm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Green = 00, Yellow = 01, Red =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Example: traffic light controller (cont’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te state table with symbolic st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state assign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61DC-4A44-4922-A5EC-2D8F9D6283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Logic for different state assignment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'•PS1•PS0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•TL•PS1'•PS0' + C•TL'•PS1•PS0 + PS1'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•PS0' + TS•PS1'•PS0 + TS•PS1•PS0' + C'•PS1•PS0 + TL•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‘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1' + TS'•PS1 + C'•PS1'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TS•PS1•PS0' + PS1'•PS0 + TS'•PS1•PS0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1' + C'•PS1'•PS0 + TS•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•PS0'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0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1•PS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4160" indent="-34416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3 = C'•PS2 + TL•PS2 + TS'•PS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2 = TS•PS1 + C•TL'•PS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1 = C•TL•PS0 + TS'•PS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S0 = C'•PS0 + TL'•PS0 + TS•PS3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 = C•TL•PS0 + TS•PS1 + C'•PS2 + TL•PS2 + TS•PS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1 = PS3 + PS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0 = PS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 = PS1 + PS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0 = P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858F-1F1E-4BC4-909A-F3E7259F66D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Sequential logic implementation summary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ls for representing sequential circu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state machines and their state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ly, Moore, and synchronous Mealy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ite state machine design proced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ing state transi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codes to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ing next state and outpu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ing combina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lementation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ogic + 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33012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L with FFs (programmable logic devices – P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B0F3-3B8B-4C9D-91FB-ED163D59D3F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ove single 0s between two 1s (output = NS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328760" y="2214720"/>
            <a:ext cx="2666880" cy="3810960"/>
            <a:chOff x="1328760" y="2214720"/>
            <a:chExt cx="2666880" cy="3810960"/>
          </a:xfrm>
        </p:grpSpPr>
        <p:sp>
          <p:nvSpPr>
            <p:cNvPr id="89" name=""/>
            <p:cNvSpPr/>
            <p:nvPr/>
          </p:nvSpPr>
          <p:spPr>
            <a:xfrm>
              <a:off x="2395440" y="27478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0" name=""/>
            <p:cNvCxnSpPr>
              <a:stCxn id="89" idx="7"/>
              <a:endCxn id="89" idx="1"/>
            </p:cNvCxnSpPr>
            <p:nvPr/>
          </p:nvCxnSpPr>
          <p:spPr>
            <a:xfrm rot="5400000">
              <a:off x="2660760" y="2636640"/>
              <a:ext cx="2520" cy="378720"/>
            </a:xfrm>
            <a:prstGeom prst="curvedConnector5">
              <a:avLst>
                <a:gd name="adj1" fmla="val -19300000"/>
                <a:gd name="adj2" fmla="val 49952"/>
                <a:gd name="adj3" fmla="val -193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" name=""/>
            <p:cNvSpPr/>
            <p:nvPr/>
          </p:nvSpPr>
          <p:spPr>
            <a:xfrm>
              <a:off x="33854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623320" y="320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1040" y="2214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9" idx="4"/>
              <a:endCxn id="95" idx="0"/>
            </p:cNvCxnSpPr>
            <p:nvPr/>
          </p:nvCxnSpPr>
          <p:spPr>
            <a:xfrm flipV="1" rot="10800000">
              <a:off x="2661480" y="3281040"/>
              <a:ext cx="1080" cy="3056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2395440" y="35863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62280" y="442440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8960" y="442440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9544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62480" y="5262480"/>
              <a:ext cx="53316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328760" y="5262480"/>
              <a:ext cx="533520" cy="533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5" idx="2"/>
              <a:endCxn id="96" idx="0"/>
            </p:cNvCxnSpPr>
            <p:nvPr/>
          </p:nvCxnSpPr>
          <p:spPr>
            <a:xfrm flipV="1" rot="10800000">
              <a:off x="2127960" y="385236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" name=""/>
            <p:cNvCxnSpPr>
              <a:stCxn id="95" idx="6"/>
              <a:endCxn id="97" idx="0"/>
            </p:cNvCxnSpPr>
            <p:nvPr/>
          </p:nvCxnSpPr>
          <p:spPr>
            <a:xfrm>
              <a:off x="2928600" y="3852720"/>
              <a:ext cx="267120" cy="57240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" name=""/>
            <p:cNvCxnSpPr>
              <a:stCxn id="96" idx="2"/>
              <a:endCxn id="100" idx="0"/>
            </p:cNvCxnSpPr>
            <p:nvPr/>
          </p:nvCxnSpPr>
          <p:spPr>
            <a:xfrm flipV="1" rot="10800000">
              <a:off x="159480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4" name=""/>
            <p:cNvCxnSpPr>
              <a:stCxn id="96" idx="6"/>
              <a:endCxn id="98" idx="0"/>
            </p:cNvCxnSpPr>
            <p:nvPr/>
          </p:nvCxnSpPr>
          <p:spPr>
            <a:xfrm>
              <a:off x="23950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5" name=""/>
            <p:cNvCxnSpPr>
              <a:stCxn id="97" idx="2"/>
              <a:endCxn id="98" idx="0"/>
            </p:cNvCxnSpPr>
            <p:nvPr/>
          </p:nvCxnSpPr>
          <p:spPr>
            <a:xfrm flipV="1" rot="10800000">
              <a:off x="2661480" y="469008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7" idx="6"/>
              <a:endCxn id="99" idx="0"/>
            </p:cNvCxnSpPr>
            <p:nvPr/>
          </p:nvCxnSpPr>
          <p:spPr>
            <a:xfrm>
              <a:off x="3462480" y="4690800"/>
              <a:ext cx="267120" cy="57204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0" idx="1"/>
              <a:endCxn id="95" idx="2"/>
            </p:cNvCxnSpPr>
            <p:nvPr/>
          </p:nvCxnSpPr>
          <p:spPr>
            <a:xfrm flipH="1" flipV="1" rot="5400000">
              <a:off x="1156320" y="4101840"/>
              <a:ext cx="148824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8" name=""/>
            <p:cNvCxnSpPr>
              <a:stCxn id="100" idx="1"/>
              <a:endCxn id="89" idx="2"/>
            </p:cNvCxnSpPr>
            <p:nvPr/>
          </p:nvCxnSpPr>
          <p:spPr>
            <a:xfrm flipH="1" flipV="1" rot="5400000">
              <a:off x="737280" y="3682800"/>
              <a:ext cx="2326320" cy="989280"/>
            </a:xfrm>
            <a:prstGeom prst="curved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98" idx="7"/>
              <a:endCxn id="99" idx="1"/>
            </p:cNvCxnSpPr>
            <p:nvPr/>
          </p:nvCxnSpPr>
          <p:spPr>
            <a:xfrm flipH="1" rot="16200000">
              <a:off x="3194640" y="4995360"/>
              <a:ext cx="2520" cy="689760"/>
            </a:xfrm>
            <a:prstGeom prst="curvedConnector5">
              <a:avLst>
                <a:gd name="adj1" fmla="val -7200000"/>
                <a:gd name="adj2" fmla="val 49973"/>
                <a:gd name="adj3" fmla="val -720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0" name=""/>
            <p:cNvCxnSpPr>
              <a:stCxn id="99" idx="3"/>
              <a:endCxn id="98" idx="5"/>
            </p:cNvCxnSpPr>
            <p:nvPr/>
          </p:nvCxnSpPr>
          <p:spPr>
            <a:xfrm rot="5400000">
              <a:off x="3194280" y="5374440"/>
              <a:ext cx="2160" cy="689760"/>
            </a:xfrm>
            <a:prstGeom prst="curvedConnector5">
              <a:avLst>
                <a:gd name="adj1" fmla="val 7080000"/>
                <a:gd name="adj2" fmla="val 49973"/>
                <a:gd name="adj3" fmla="val 7080000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98" idx="1"/>
              <a:endCxn id="98" idx="3"/>
            </p:cNvCxnSpPr>
            <p:nvPr/>
          </p:nvCxnSpPr>
          <p:spPr>
            <a:xfrm flipH="1" rot="16200000">
              <a:off x="2284920" y="5528160"/>
              <a:ext cx="378720" cy="2520"/>
            </a:xfrm>
            <a:prstGeom prst="curvedConnector5">
              <a:avLst>
                <a:gd name="adj1" fmla="val -14652"/>
                <a:gd name="adj2" fmla="val -9500000"/>
                <a:gd name="adj3" fmla="val -14652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99" idx="3"/>
              <a:endCxn id="100" idx="4"/>
            </p:cNvCxnSpPr>
            <p:nvPr/>
          </p:nvCxnSpPr>
          <p:spPr>
            <a:xfrm rot="5400000">
              <a:off x="2528280" y="4784760"/>
              <a:ext cx="78480" cy="1945440"/>
            </a:xfrm>
            <a:prstGeom prst="curvedConnector5">
              <a:avLst>
                <a:gd name="adj1" fmla="val 393548"/>
                <a:gd name="adj2" fmla="val 49990"/>
                <a:gd name="adj3" fmla="val 393548"/>
              </a:avLst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3" name=""/>
            <p:cNvSpPr/>
            <p:nvPr/>
          </p:nvSpPr>
          <p:spPr>
            <a:xfrm>
              <a:off x="285192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964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80520" y="55357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7520" y="533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2960" y="419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187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75840" y="38908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2960" y="47293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80520" y="518652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1560" y="56880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61560" y="3281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endCxn id="89" idx="6"/>
            </p:cNvCxnSpPr>
            <p:nvPr/>
          </p:nvCxnSpPr>
          <p:spPr>
            <a:xfrm flipH="1">
              <a:off x="2928600" y="2976480"/>
              <a:ext cx="381600" cy="38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3220920" y="2747880"/>
              <a:ext cx="7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092560" y="1935000"/>
            <a:ext cx="3232080" cy="4051440"/>
            <a:chOff x="5092560" y="1935000"/>
            <a:chExt cx="3232080" cy="4051440"/>
          </a:xfrm>
        </p:grpSpPr>
        <p:sp>
          <p:nvSpPr>
            <p:cNvPr id="127" name=""/>
            <p:cNvSpPr/>
            <p:nvPr/>
          </p:nvSpPr>
          <p:spPr>
            <a:xfrm>
              <a:off x="5099040" y="193500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2560" y="245556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57920" y="223992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6320" y="246204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B24-B3CF-482C-B451-9FCEDAA9E1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lized using the standard procedure and individual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Fs and g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7640" y="2414520"/>
            <a:ext cx="3232080" cy="4051440"/>
            <a:chOff x="917640" y="2414520"/>
            <a:chExt cx="3232080" cy="4051440"/>
          </a:xfrm>
        </p:grpSpPr>
        <p:sp>
          <p:nvSpPr>
            <p:cNvPr id="134" name=""/>
            <p:cNvSpPr/>
            <p:nvPr/>
          </p:nvSpPr>
          <p:spPr>
            <a:xfrm>
              <a:off x="924120" y="2414520"/>
              <a:ext cx="3225600" cy="405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320040" bIns="27000" anchor="t">
              <a:noAutofit/>
            </a:bodyPr>
            <a:p>
              <a:pPr>
                <a:lnSpc>
                  <a:spcPts val="1698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    PS1  PS2  PS3  NS1 NS2  NS3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7640" y="2935080"/>
              <a:ext cx="31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320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83000" y="2719440"/>
              <a:ext cx="0" cy="3632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11400" y="2941560"/>
              <a:ext cx="0" cy="340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015160" y="3602160"/>
            <a:ext cx="312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Reset’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Reset’ ( PS1 + PS2 I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Reset’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F51-00AD-4F3F-9F04-D1E64D1C08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t it looks like a shift register if you look at it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13400" y="29052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7"/>
            <a:endCxn id="141" idx="1"/>
          </p:cNvCxnSpPr>
          <p:nvPr/>
        </p:nvCxnSpPr>
        <p:spPr>
          <a:xfrm rot="5400000">
            <a:off x="6678720" y="2794680"/>
            <a:ext cx="2160" cy="378720"/>
          </a:xfrm>
          <a:prstGeom prst="curvedConnector5">
            <a:avLst>
              <a:gd name="adj1" fmla="val -19300000"/>
              <a:gd name="adj2" fmla="val 49952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4034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41280" y="33624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000" y="2371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4"/>
            <a:endCxn id="147" idx="0"/>
          </p:cNvCxnSpPr>
          <p:nvPr/>
        </p:nvCxnSpPr>
        <p:spPr>
          <a:xfrm flipV="1" rot="10800000">
            <a:off x="6679440" y="343800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413400" y="37432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80240" y="458136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46920" y="458136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1340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480440" y="541980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541980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47" idx="2"/>
            <a:endCxn id="148" idx="0"/>
          </p:cNvCxnSpPr>
          <p:nvPr/>
        </p:nvCxnSpPr>
        <p:spPr>
          <a:xfrm flipV="1" rot="10800000">
            <a:off x="6145920" y="400896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7" idx="6"/>
            <a:endCxn id="149" idx="0"/>
          </p:cNvCxnSpPr>
          <p:nvPr/>
        </p:nvCxnSpPr>
        <p:spPr>
          <a:xfrm>
            <a:off x="6946560" y="40096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8" idx="2"/>
            <a:endCxn id="152" idx="0"/>
          </p:cNvCxnSpPr>
          <p:nvPr/>
        </p:nvCxnSpPr>
        <p:spPr>
          <a:xfrm flipV="1" rot="10800000">
            <a:off x="561276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8" idx="6"/>
            <a:endCxn id="157" idx="1"/>
          </p:cNvCxnSpPr>
          <p:nvPr/>
        </p:nvCxnSpPr>
        <p:spPr>
          <a:xfrm flipV="1">
            <a:off x="6413400" y="3831840"/>
            <a:ext cx="1364400" cy="1016640"/>
          </a:xfrm>
          <a:prstGeom prst="curvedConnector5">
            <a:avLst>
              <a:gd name="adj1" fmla="val 47136"/>
              <a:gd name="adj2" fmla="val 65072"/>
              <a:gd name="adj3" fmla="val 47136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2"/>
            <a:endCxn id="150" idx="0"/>
          </p:cNvCxnSpPr>
          <p:nvPr/>
        </p:nvCxnSpPr>
        <p:spPr>
          <a:xfrm flipV="1" rot="10800000">
            <a:off x="6679440" y="484776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9" idx="6"/>
            <a:endCxn id="151" idx="0"/>
          </p:cNvCxnSpPr>
          <p:nvPr/>
        </p:nvCxnSpPr>
        <p:spPr>
          <a:xfrm>
            <a:off x="7480440" y="484812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2" idx="1"/>
            <a:endCxn id="147" idx="2"/>
          </p:cNvCxnSpPr>
          <p:nvPr/>
        </p:nvCxnSpPr>
        <p:spPr>
          <a:xfrm flipH="1" flipV="1" rot="5400000">
            <a:off x="5174280" y="4259160"/>
            <a:ext cx="148824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2" idx="1"/>
            <a:endCxn id="141" idx="2"/>
          </p:cNvCxnSpPr>
          <p:nvPr/>
        </p:nvCxnSpPr>
        <p:spPr>
          <a:xfrm flipH="1" flipV="1" rot="5400000">
            <a:off x="4755240" y="3840120"/>
            <a:ext cx="2326320" cy="98928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0" idx="7"/>
            <a:endCxn id="151" idx="1"/>
          </p:cNvCxnSpPr>
          <p:nvPr/>
        </p:nvCxnSpPr>
        <p:spPr>
          <a:xfrm flipH="1" rot="16200000">
            <a:off x="7212960" y="515340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1" idx="6"/>
            <a:endCxn id="157" idx="4"/>
          </p:cNvCxnSpPr>
          <p:nvPr/>
        </p:nvCxnSpPr>
        <p:spPr>
          <a:xfrm flipH="1" flipV="1">
            <a:off x="7965720" y="4287240"/>
            <a:ext cx="48240" cy="1399320"/>
          </a:xfrm>
          <a:prstGeom prst="curvedConnector5">
            <a:avLst>
              <a:gd name="adj1" fmla="val -479699"/>
              <a:gd name="adj2" fmla="val 29773"/>
              <a:gd name="adj3" fmla="val -4796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0" idx="1"/>
            <a:endCxn id="150" idx="3"/>
          </p:cNvCxnSpPr>
          <p:nvPr/>
        </p:nvCxnSpPr>
        <p:spPr>
          <a:xfrm flipH="1" rot="16200000">
            <a:off x="6302880" y="5684400"/>
            <a:ext cx="378360" cy="252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1" idx="3"/>
            <a:endCxn id="152" idx="4"/>
          </p:cNvCxnSpPr>
          <p:nvPr/>
        </p:nvCxnSpPr>
        <p:spPr>
          <a:xfrm rot="5400000">
            <a:off x="6546240" y="494172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7111440" y="4159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1760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32040" y="54435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55480" y="5495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50920" y="43527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28880" y="45529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193800" y="40482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50920" y="4886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098480" y="5343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79520" y="584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79520" y="343836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endCxn id="141" idx="6"/>
          </p:cNvCxnSpPr>
          <p:nvPr/>
        </p:nvCxnSpPr>
        <p:spPr>
          <a:xfrm flipH="1">
            <a:off x="6946560" y="3133800"/>
            <a:ext cx="381600" cy="38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7238880" y="290520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48080" y="29005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7"/>
            <a:endCxn id="179" idx="1"/>
          </p:cNvCxnSpPr>
          <p:nvPr/>
        </p:nvCxnSpPr>
        <p:spPr>
          <a:xfrm rot="5400000">
            <a:off x="2813040" y="2790000"/>
            <a:ext cx="2160" cy="378360"/>
          </a:xfrm>
          <a:prstGeom prst="curvedConnector5">
            <a:avLst>
              <a:gd name="adj1" fmla="val -19300000"/>
              <a:gd name="adj2" fmla="val 50000"/>
              <a:gd name="adj3" fmla="val -193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35377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75960" y="3357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23320" y="2367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79" idx="4"/>
            <a:endCxn id="185" idx="0"/>
          </p:cNvCxnSpPr>
          <p:nvPr/>
        </p:nvCxnSpPr>
        <p:spPr>
          <a:xfrm flipV="1" rot="10800000">
            <a:off x="2813760" y="3433320"/>
            <a:ext cx="1080" cy="3056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548080" y="373860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1456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240" y="4576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48080" y="5415120"/>
            <a:ext cx="5331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1476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81040" y="5415120"/>
            <a:ext cx="53352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5" idx="2"/>
            <a:endCxn id="186" idx="0"/>
          </p:cNvCxnSpPr>
          <p:nvPr/>
        </p:nvCxnSpPr>
        <p:spPr>
          <a:xfrm flipV="1" rot="10800000">
            <a:off x="2280600" y="400428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5" idx="6"/>
            <a:endCxn id="187" idx="0"/>
          </p:cNvCxnSpPr>
          <p:nvPr/>
        </p:nvCxnSpPr>
        <p:spPr>
          <a:xfrm>
            <a:off x="3080880" y="4005000"/>
            <a:ext cx="267120" cy="57204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6" idx="2"/>
            <a:endCxn id="190" idx="0"/>
          </p:cNvCxnSpPr>
          <p:nvPr/>
        </p:nvCxnSpPr>
        <p:spPr>
          <a:xfrm flipV="1" rot="10800000">
            <a:off x="174708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6" idx="6"/>
            <a:endCxn id="188" idx="0"/>
          </p:cNvCxnSpPr>
          <p:nvPr/>
        </p:nvCxnSpPr>
        <p:spPr>
          <a:xfrm>
            <a:off x="2548080" y="4843440"/>
            <a:ext cx="267120" cy="572400"/>
          </a:xfrm>
          <a:prstGeom prst="curvedConnector2">
            <a:avLst/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7" idx="2"/>
            <a:endCxn id="188" idx="0"/>
          </p:cNvCxnSpPr>
          <p:nvPr/>
        </p:nvCxnSpPr>
        <p:spPr>
          <a:xfrm flipV="1" rot="10800000">
            <a:off x="2813760" y="484308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7" idx="6"/>
            <a:endCxn id="189" idx="0"/>
          </p:cNvCxnSpPr>
          <p:nvPr/>
        </p:nvCxnSpPr>
        <p:spPr>
          <a:xfrm>
            <a:off x="3614400" y="4843440"/>
            <a:ext cx="267120" cy="5724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0" idx="1"/>
            <a:endCxn id="185" idx="2"/>
          </p:cNvCxnSpPr>
          <p:nvPr/>
        </p:nvCxnSpPr>
        <p:spPr>
          <a:xfrm flipH="1" flipV="1" rot="5400000">
            <a:off x="1309320" y="4254120"/>
            <a:ext cx="148824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0" idx="1"/>
            <a:endCxn id="179" idx="2"/>
          </p:cNvCxnSpPr>
          <p:nvPr/>
        </p:nvCxnSpPr>
        <p:spPr>
          <a:xfrm flipH="1" flipV="1" rot="5400000">
            <a:off x="890280" y="3834720"/>
            <a:ext cx="2326680" cy="990000"/>
          </a:xfrm>
          <a:prstGeom prst="curved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8" idx="7"/>
            <a:endCxn id="189" idx="1"/>
          </p:cNvCxnSpPr>
          <p:nvPr/>
        </p:nvCxnSpPr>
        <p:spPr>
          <a:xfrm flipH="1" rot="16200000">
            <a:off x="3347280" y="5148720"/>
            <a:ext cx="2160" cy="689760"/>
          </a:xfrm>
          <a:prstGeom prst="curvedConnector5">
            <a:avLst>
              <a:gd name="adj1" fmla="val -7200000"/>
              <a:gd name="adj2" fmla="val 49973"/>
              <a:gd name="adj3" fmla="val -720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89" idx="3"/>
            <a:endCxn id="188" idx="5"/>
          </p:cNvCxnSpPr>
          <p:nvPr/>
        </p:nvCxnSpPr>
        <p:spPr>
          <a:xfrm rot="5400000">
            <a:off x="3346560" y="5526720"/>
            <a:ext cx="2520" cy="689760"/>
          </a:xfrm>
          <a:prstGeom prst="curvedConnector5">
            <a:avLst>
              <a:gd name="adj1" fmla="val 7083333"/>
              <a:gd name="adj2" fmla="val 49973"/>
              <a:gd name="adj3" fmla="val 7083333"/>
            </a:avLst>
          </a:prstGeom>
          <a:ln w="1260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88" idx="1"/>
            <a:endCxn id="188" idx="3"/>
          </p:cNvCxnSpPr>
          <p:nvPr/>
        </p:nvCxnSpPr>
        <p:spPr>
          <a:xfrm flipH="1" rot="16200000">
            <a:off x="2437560" y="5679720"/>
            <a:ext cx="378360" cy="2160"/>
          </a:xfrm>
          <a:prstGeom prst="curvedConnector5">
            <a:avLst>
              <a:gd name="adj1" fmla="val -14666"/>
              <a:gd name="adj2" fmla="val -9500000"/>
              <a:gd name="adj3" fmla="val -1466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9" idx="3"/>
            <a:endCxn id="190" idx="4"/>
          </p:cNvCxnSpPr>
          <p:nvPr/>
        </p:nvCxnSpPr>
        <p:spPr>
          <a:xfrm rot="5400000">
            <a:off x="2680560" y="4937040"/>
            <a:ext cx="78480" cy="1945440"/>
          </a:xfrm>
          <a:prstGeom prst="curvedConnector5">
            <a:avLst>
              <a:gd name="adj1" fmla="val 393548"/>
              <a:gd name="adj2" fmla="val 49990"/>
              <a:gd name="adj3" fmla="val 3935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300456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5192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33160" y="56880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90160" y="5491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85240" y="43480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710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28120" y="4043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5240" y="4881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33160" y="533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13840" y="5840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13840" y="34336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endCxn id="179" idx="6"/>
          </p:cNvCxnSpPr>
          <p:nvPr/>
        </p:nvCxnSpPr>
        <p:spPr>
          <a:xfrm flipH="1">
            <a:off x="3080520" y="3128760"/>
            <a:ext cx="381960" cy="38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3373560" y="2900520"/>
            <a:ext cx="7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9320" y="3754440"/>
            <a:ext cx="533520" cy="533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157" idx="2"/>
            <a:endCxn id="148" idx="7"/>
          </p:cNvCxnSpPr>
          <p:nvPr/>
        </p:nvCxnSpPr>
        <p:spPr>
          <a:xfrm flipV="1" rot="10800000">
            <a:off x="6334920" y="4020120"/>
            <a:ext cx="1364400" cy="639000"/>
          </a:xfrm>
          <a:prstGeom prst="curvedConnector2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157" idx="3"/>
            <a:endCxn id="149" idx="7"/>
          </p:cNvCxnSpPr>
          <p:nvPr/>
        </p:nvCxnSpPr>
        <p:spPr>
          <a:xfrm rot="5400000">
            <a:off x="7364520" y="4247640"/>
            <a:ext cx="450000" cy="375120"/>
          </a:xfrm>
          <a:prstGeom prst="curvedConnector5">
            <a:avLst>
              <a:gd name="adj1" fmla="val 49799"/>
              <a:gd name="adj2" fmla="val 49951"/>
              <a:gd name="adj3" fmla="val 49799"/>
            </a:avLst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7536960" y="4384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51200" y="37465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25920" y="2097000"/>
            <a:ext cx="1200240" cy="1154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5BE8-97A0-488B-8495-CF682CE4D4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Median filter FSM (cont’d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lternate implementation with S/R FFs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t input (S) does the median filter function by making the next state 111 whenever the input is 1 and PS2 is 1 (1 input to state x1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242120" y="2666880"/>
            <a:ext cx="131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Re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= PS2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1 =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2 = P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3 = P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= P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960480" y="2347560"/>
            <a:ext cx="6210360" cy="2576880"/>
            <a:chOff x="960480" y="2347560"/>
            <a:chExt cx="6210360" cy="2576880"/>
          </a:xfrm>
        </p:grpSpPr>
        <p:sp>
          <p:nvSpPr>
            <p:cNvPr id="225" name=""/>
            <p:cNvSpPr/>
            <p:nvPr/>
          </p:nvSpPr>
          <p:spPr>
            <a:xfrm>
              <a:off x="2633760" y="2595600"/>
              <a:ext cx="33606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46880" y="4048200"/>
              <a:ext cx="723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60480" y="4581360"/>
              <a:ext cx="50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2520720" y="26780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3880" y="2513160"/>
              <a:ext cx="317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63880" y="2830680"/>
              <a:ext cx="33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70000" y="251928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2215080" y="2546280"/>
              <a:ext cx="31716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562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5624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2208600" y="2540160"/>
              <a:ext cx="32940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669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6694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2215080" y="2532240"/>
              <a:ext cx="316800" cy="27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2208240" y="2516400"/>
              <a:ext cx="329760" cy="29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940040" y="258588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1940040" y="2757600"/>
              <a:ext cx="123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098440" y="3057480"/>
              <a:ext cx="995760" cy="1675800"/>
              <a:chOff x="2098440" y="3057480"/>
              <a:chExt cx="995760" cy="167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23320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5228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flipV="1">
                <a:off x="25988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3558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6654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3497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6733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0984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2103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561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656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0942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9365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1031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652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25941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841640" y="3057480"/>
              <a:ext cx="995760" cy="1675800"/>
              <a:chOff x="4841640" y="3057480"/>
              <a:chExt cx="995760" cy="1675800"/>
            </a:xfrm>
          </p:grpSpPr>
          <p:sp>
            <p:nvSpPr>
              <p:cNvPr id="256" name=""/>
              <p:cNvSpPr/>
              <p:nvPr/>
            </p:nvSpPr>
            <p:spPr>
              <a:xfrm>
                <a:off x="507528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26608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flipV="1">
                <a:off x="534204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09904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40864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09292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1656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84164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48466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99932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60880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83740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5679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8463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560844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533736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474720" y="3057480"/>
              <a:ext cx="995760" cy="1675800"/>
              <a:chOff x="3474720" y="3057480"/>
              <a:chExt cx="995760" cy="1675800"/>
            </a:xfrm>
          </p:grpSpPr>
          <p:sp>
            <p:nvSpPr>
              <p:cNvPr id="273" name=""/>
              <p:cNvSpPr/>
              <p:nvPr/>
            </p:nvSpPr>
            <p:spPr>
              <a:xfrm>
                <a:off x="3708360" y="3666960"/>
                <a:ext cx="53352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899160" y="4276080"/>
                <a:ext cx="7596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 flipV="1">
                <a:off x="3975120" y="427608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732120" y="4047840"/>
                <a:ext cx="2541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41720" y="404784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26000" y="3744720"/>
                <a:ext cx="2538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9640" y="3744720"/>
                <a:ext cx="24156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698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347472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47976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32400" y="3819240"/>
                <a:ext cx="7596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241880" y="3819240"/>
                <a:ext cx="76320" cy="76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470480" y="305748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4312800" y="3857400"/>
                <a:ext cx="157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347940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4241520" y="4200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3970440" y="45046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1927080" y="3052800"/>
              <a:ext cx="29196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493640" y="42004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494000" y="4728960"/>
              <a:ext cx="38336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37000" y="267660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374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048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9420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12800" y="2938320"/>
              <a:ext cx="20340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617840" y="3052440"/>
              <a:ext cx="1983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19280" y="2938320"/>
              <a:ext cx="0" cy="2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807560" y="30304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98320" y="3054240"/>
              <a:ext cx="11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870200" y="3054240"/>
              <a:ext cx="12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36800" y="2752560"/>
              <a:ext cx="468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094200" y="4195800"/>
              <a:ext cx="4330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7000" y="42004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4655880" y="2347560"/>
              <a:ext cx="4680" cy="18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951200" y="2357280"/>
              <a:ext cx="270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46160" y="2347920"/>
              <a:ext cx="5040" cy="2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1772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37160" y="4176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4672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70080" y="265284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7972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56000" y="3033720"/>
              <a:ext cx="42840" cy="42840"/>
            </a:xfrm>
            <a:prstGeom prst="rect">
              <a:avLst/>
            </a:prstGeom>
            <a:solidFill>
              <a:srgbClr val="00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37400" y="42004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960480" y="4048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60480" y="2905200"/>
              <a:ext cx="5079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 algn="r"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521800" y="2649600"/>
              <a:ext cx="50760" cy="50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E94-FE75-48F1-AB72-787FC5F38B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898560" y="2971800"/>
            <a:ext cx="7277040" cy="3581280"/>
            <a:chOff x="898560" y="2971800"/>
            <a:chExt cx="7277040" cy="3581280"/>
          </a:xfrm>
        </p:grpSpPr>
        <p:sp>
          <p:nvSpPr>
            <p:cNvPr id="319" name=""/>
            <p:cNvSpPr/>
            <p:nvPr/>
          </p:nvSpPr>
          <p:spPr>
            <a:xfrm>
              <a:off x="166068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5560" y="35622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78200" y="3562200"/>
              <a:ext cx="152280" cy="2463840"/>
              <a:chOff x="1978200" y="3562200"/>
              <a:chExt cx="152280" cy="2463840"/>
            </a:xfrm>
          </p:grpSpPr>
          <p:sp>
            <p:nvSpPr>
              <p:cNvPr id="322" name=""/>
              <p:cNvSpPr/>
              <p:nvPr/>
            </p:nvSpPr>
            <p:spPr>
              <a:xfrm>
                <a:off x="19782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130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422440" y="3562200"/>
              <a:ext cx="152640" cy="2463840"/>
              <a:chOff x="2422440" y="3562200"/>
              <a:chExt cx="152640" cy="2463840"/>
            </a:xfrm>
          </p:grpSpPr>
          <p:sp>
            <p:nvSpPr>
              <p:cNvPr id="325" name=""/>
              <p:cNvSpPr/>
              <p:nvPr/>
            </p:nvSpPr>
            <p:spPr>
              <a:xfrm>
                <a:off x="24224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5750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879640" y="3562200"/>
              <a:ext cx="152640" cy="2463840"/>
              <a:chOff x="2879640" y="3562200"/>
              <a:chExt cx="152640" cy="2463840"/>
            </a:xfrm>
          </p:grpSpPr>
          <p:sp>
            <p:nvSpPr>
              <p:cNvPr id="328" name=""/>
              <p:cNvSpPr/>
              <p:nvPr/>
            </p:nvSpPr>
            <p:spPr>
              <a:xfrm>
                <a:off x="28796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322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336840" y="3562200"/>
              <a:ext cx="152640" cy="2463840"/>
              <a:chOff x="3336840" y="3562200"/>
              <a:chExt cx="152640" cy="2463840"/>
            </a:xfrm>
          </p:grpSpPr>
          <p:sp>
            <p:nvSpPr>
              <p:cNvPr id="331" name=""/>
              <p:cNvSpPr/>
              <p:nvPr/>
            </p:nvSpPr>
            <p:spPr>
              <a:xfrm>
                <a:off x="333684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8948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3807000" y="3562200"/>
              <a:ext cx="1828800" cy="2463840"/>
              <a:chOff x="3807000" y="3562200"/>
              <a:chExt cx="1828800" cy="2463840"/>
            </a:xfrm>
          </p:grpSpPr>
          <p:sp>
            <p:nvSpPr>
              <p:cNvPr id="334" name=""/>
              <p:cNvSpPr/>
              <p:nvPr/>
            </p:nvSpPr>
            <p:spPr>
              <a:xfrm>
                <a:off x="563580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470560" y="3562200"/>
                <a:ext cx="0" cy="246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165640" y="3562200"/>
                <a:ext cx="152640" cy="2463840"/>
                <a:chOff x="5165640" y="3562200"/>
                <a:chExt cx="152640" cy="2463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318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1656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4708440" y="3562200"/>
                <a:ext cx="152640" cy="2463840"/>
                <a:chOff x="4708440" y="3562200"/>
                <a:chExt cx="152640" cy="24638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48610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7084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251240" y="3562200"/>
                <a:ext cx="152640" cy="2463840"/>
                <a:chOff x="4251240" y="3562200"/>
                <a:chExt cx="152640" cy="24638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038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124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807000" y="3562200"/>
                <a:ext cx="152280" cy="2463840"/>
                <a:chOff x="3807000" y="3562200"/>
                <a:chExt cx="152280" cy="24638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95928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807000" y="3562200"/>
                  <a:ext cx="0" cy="2463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8" name=""/>
            <p:cNvSpPr/>
            <p:nvPr/>
          </p:nvSpPr>
          <p:spPr>
            <a:xfrm>
              <a:off x="1514520" y="4038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14520" y="420372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1514520" y="4368600"/>
              <a:ext cx="4267080" cy="165240"/>
              <a:chOff x="1514520" y="4368600"/>
              <a:chExt cx="4267080" cy="165240"/>
            </a:xfrm>
          </p:grpSpPr>
          <p:sp>
            <p:nvSpPr>
              <p:cNvPr id="351" name=""/>
              <p:cNvSpPr/>
              <p:nvPr/>
            </p:nvSpPr>
            <p:spPr>
              <a:xfrm>
                <a:off x="1514520" y="43686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514520" y="453384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514520" y="4686120"/>
              <a:ext cx="4267080" cy="165240"/>
              <a:chOff x="1514520" y="4686120"/>
              <a:chExt cx="4267080" cy="165240"/>
            </a:xfrm>
          </p:grpSpPr>
          <p:sp>
            <p:nvSpPr>
              <p:cNvPr id="354" name=""/>
              <p:cNvSpPr/>
              <p:nvPr/>
            </p:nvSpPr>
            <p:spPr>
              <a:xfrm>
                <a:off x="1514520" y="468612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514520" y="48513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788080" y="3968280"/>
              <a:ext cx="171000" cy="166320"/>
              <a:chOff x="5788080" y="3968280"/>
              <a:chExt cx="171000" cy="166320"/>
            </a:xfrm>
          </p:grpSpPr>
          <p:sp>
            <p:nvSpPr>
              <p:cNvPr id="357" name=""/>
              <p:cNvSpPr/>
              <p:nvPr/>
            </p:nvSpPr>
            <p:spPr>
              <a:xfrm>
                <a:off x="5794560" y="39751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94560" y="41148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788080" y="39682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33080" y="39830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33080" y="39690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788080" y="4133880"/>
              <a:ext cx="171000" cy="166320"/>
              <a:chOff x="5788080" y="4133880"/>
              <a:chExt cx="171000" cy="166320"/>
            </a:xfrm>
          </p:grpSpPr>
          <p:sp>
            <p:nvSpPr>
              <p:cNvPr id="363" name=""/>
              <p:cNvSpPr/>
              <p:nvPr/>
            </p:nvSpPr>
            <p:spPr>
              <a:xfrm>
                <a:off x="5794560" y="41400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794560" y="42670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788080" y="413388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33080" y="414792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33080" y="413388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788080" y="4298760"/>
              <a:ext cx="171000" cy="153720"/>
              <a:chOff x="5788080" y="4298760"/>
              <a:chExt cx="171000" cy="15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5794560" y="43052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94560" y="44323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5788080" y="429876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33080" y="43131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33080" y="42987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5788080" y="4451040"/>
              <a:ext cx="171000" cy="166680"/>
              <a:chOff x="5788080" y="4451040"/>
              <a:chExt cx="171000" cy="166680"/>
            </a:xfrm>
          </p:grpSpPr>
          <p:sp>
            <p:nvSpPr>
              <p:cNvPr id="375" name=""/>
              <p:cNvSpPr/>
              <p:nvPr/>
            </p:nvSpPr>
            <p:spPr>
              <a:xfrm>
                <a:off x="5794560" y="44575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794560" y="459720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88080" y="44510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33080" y="44654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33080" y="445104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88080" y="4615920"/>
              <a:ext cx="171000" cy="166320"/>
              <a:chOff x="5788080" y="4615920"/>
              <a:chExt cx="171000" cy="1663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4560" y="46227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794560" y="47624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788080" y="461592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33080" y="463068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33080" y="461664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5788080" y="4781520"/>
              <a:ext cx="171000" cy="153360"/>
              <a:chOff x="5788080" y="4781520"/>
              <a:chExt cx="171000" cy="153360"/>
            </a:xfrm>
          </p:grpSpPr>
          <p:sp>
            <p:nvSpPr>
              <p:cNvPr id="387" name=""/>
              <p:cNvSpPr/>
              <p:nvPr/>
            </p:nvSpPr>
            <p:spPr>
              <a:xfrm>
                <a:off x="5794560" y="47876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794560" y="491472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5788080" y="4781520"/>
                <a:ext cx="0" cy="139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33080" y="479556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33080" y="4781520"/>
                <a:ext cx="126000" cy="13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1362240" y="53467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76360" y="55116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3520" y="5327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25800" y="549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60720" y="5302080"/>
              <a:ext cx="20304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260720" y="5454360"/>
              <a:ext cx="20304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2868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25600" y="5505480"/>
              <a:ext cx="6372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82880" y="54608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342960" y="5346720"/>
              <a:ext cx="2616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3520800" y="55116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30720" y="53402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83000" y="5492520"/>
              <a:ext cx="381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5819400" y="5302080"/>
              <a:ext cx="2415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5819400" y="5454360"/>
              <a:ext cx="24156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67440" y="5302080"/>
              <a:ext cx="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2720" y="5505480"/>
              <a:ext cx="63360" cy="63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061320" y="546084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14520" y="501624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14520" y="518148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5788080" y="4933440"/>
              <a:ext cx="171000" cy="166320"/>
              <a:chOff x="5788080" y="4933440"/>
              <a:chExt cx="171000" cy="166320"/>
            </a:xfrm>
          </p:grpSpPr>
          <p:sp>
            <p:nvSpPr>
              <p:cNvPr id="413" name=""/>
              <p:cNvSpPr/>
              <p:nvPr/>
            </p:nvSpPr>
            <p:spPr>
              <a:xfrm>
                <a:off x="5794560" y="494028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94560" y="50799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5788080" y="493344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3080" y="494820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33080" y="4934160"/>
                <a:ext cx="1260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5788080" y="5098680"/>
              <a:ext cx="171000" cy="166680"/>
              <a:chOff x="5788080" y="5098680"/>
              <a:chExt cx="171000" cy="166680"/>
            </a:xfrm>
          </p:grpSpPr>
          <p:sp>
            <p:nvSpPr>
              <p:cNvPr id="419" name=""/>
              <p:cNvSpPr/>
              <p:nvPr/>
            </p:nvSpPr>
            <p:spPr>
              <a:xfrm>
                <a:off x="5794560" y="510516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94560" y="5244840"/>
                <a:ext cx="101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5788080" y="5098680"/>
                <a:ext cx="0" cy="152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33080" y="51130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33080" y="5098680"/>
                <a:ext cx="1260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5553000" y="4438080"/>
              <a:ext cx="110484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553360" y="4452840"/>
              <a:ext cx="1104480" cy="380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3520" y="4452840"/>
              <a:ext cx="164160" cy="34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23160" y="4438080"/>
              <a:ext cx="164520" cy="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05600" y="4044960"/>
              <a:ext cx="0" cy="39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105600" y="4793760"/>
              <a:ext cx="0" cy="36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959440" y="46861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959440" y="4038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959440" y="43686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59440" y="4533840"/>
              <a:ext cx="17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959440" y="501624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59440" y="518148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959440" y="420372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959440" y="48513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58200" y="462276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051680" y="4552920"/>
              <a:ext cx="292320" cy="39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31040" y="4844880"/>
              <a:ext cx="76320" cy="63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899400" y="486396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31040" y="4622760"/>
              <a:ext cx="43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419960" y="4863960"/>
              <a:ext cx="63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51680" y="4781520"/>
              <a:ext cx="8892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051680" y="4857480"/>
              <a:ext cx="889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92920" y="3574800"/>
              <a:ext cx="0" cy="24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886800" y="4844880"/>
              <a:ext cx="3780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89800" y="4870440"/>
              <a:ext cx="0" cy="583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020000" y="4470120"/>
              <a:ext cx="48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59680" y="4686120"/>
              <a:ext cx="30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386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17600" y="308592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24" y="224"/>
                  </a:moveTo>
                  <a:lnTo>
                    <a:pt x="24" y="216"/>
                  </a:lnTo>
                  <a:lnTo>
                    <a:pt x="264" y="400"/>
                  </a:lnTo>
                  <a:lnTo>
                    <a:pt x="872" y="280"/>
                  </a:lnTo>
                  <a:lnTo>
                    <a:pt x="1424" y="376"/>
                  </a:lnTo>
                  <a:lnTo>
                    <a:pt x="1768" y="264"/>
                  </a:lnTo>
                  <a:lnTo>
                    <a:pt x="2016" y="384"/>
                  </a:lnTo>
                  <a:lnTo>
                    <a:pt x="2592" y="296"/>
                  </a:lnTo>
                  <a:lnTo>
                    <a:pt x="2792" y="360"/>
                  </a:lnTo>
                  <a:lnTo>
                    <a:pt x="3200" y="224"/>
                  </a:lnTo>
                  <a:lnTo>
                    <a:pt x="3688" y="400"/>
                  </a:lnTo>
                  <a:lnTo>
                    <a:pt x="3920" y="320"/>
                  </a:lnTo>
                  <a:lnTo>
                    <a:pt x="4032" y="184"/>
                  </a:lnTo>
                  <a:lnTo>
                    <a:pt x="4032" y="88"/>
                  </a:lnTo>
                  <a:lnTo>
                    <a:pt x="0" y="88"/>
                  </a:lnTo>
                  <a:lnTo>
                    <a:pt x="16" y="216"/>
                  </a:lnTo>
                  <a:lnTo>
                    <a:pt x="0" y="200"/>
                  </a:lnTo>
                  <a:lnTo>
                    <a:pt x="20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98560" y="297180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7600" y="5765760"/>
              <a:ext cx="6402600" cy="636480"/>
            </a:xfrm>
            <a:custGeom>
              <a:avLst/>
              <a:gdLst/>
              <a:ahLst/>
              <a:rect l="l" t="t" r="r" b="b"/>
              <a:pathLst>
                <a:path w="4033" h="401">
                  <a:moveTo>
                    <a:pt x="4008" y="176"/>
                  </a:moveTo>
                  <a:lnTo>
                    <a:pt x="4008" y="184"/>
                  </a:lnTo>
                  <a:lnTo>
                    <a:pt x="3768" y="0"/>
                  </a:lnTo>
                  <a:lnTo>
                    <a:pt x="3160" y="120"/>
                  </a:lnTo>
                  <a:lnTo>
                    <a:pt x="2608" y="24"/>
                  </a:lnTo>
                  <a:lnTo>
                    <a:pt x="2264" y="136"/>
                  </a:lnTo>
                  <a:lnTo>
                    <a:pt x="2016" y="16"/>
                  </a:lnTo>
                  <a:lnTo>
                    <a:pt x="1440" y="104"/>
                  </a:lnTo>
                  <a:lnTo>
                    <a:pt x="1240" y="40"/>
                  </a:lnTo>
                  <a:lnTo>
                    <a:pt x="832" y="176"/>
                  </a:lnTo>
                  <a:lnTo>
                    <a:pt x="344" y="0"/>
                  </a:lnTo>
                  <a:lnTo>
                    <a:pt x="112" y="80"/>
                  </a:lnTo>
                  <a:lnTo>
                    <a:pt x="0" y="216"/>
                  </a:lnTo>
                  <a:lnTo>
                    <a:pt x="0" y="312"/>
                  </a:lnTo>
                  <a:lnTo>
                    <a:pt x="4032" y="312"/>
                  </a:lnTo>
                  <a:lnTo>
                    <a:pt x="4016" y="184"/>
                  </a:lnTo>
                  <a:lnTo>
                    <a:pt x="4032" y="200"/>
                  </a:lnTo>
                  <a:lnTo>
                    <a:pt x="3824" y="40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11160" y="6095880"/>
              <a:ext cx="72644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Implementation using PALs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building block for sequential log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908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-cell: FF +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-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36800" indent="-3556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logic capability like PAL (e.g., 8 product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A611-5883-4160-BFFE-FB5454811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12840" y="1386000"/>
            <a:ext cx="515592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0'N + Q0N' + Q1N + Q1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 + D + Q0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Q1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56584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example (Moore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913760" y="1800360"/>
            <a:ext cx="7070040" cy="4657320"/>
            <a:chOff x="1913760" y="1800360"/>
            <a:chExt cx="7070040" cy="4657320"/>
          </a:xfrm>
        </p:grpSpPr>
        <p:grpSp>
          <p:nvGrpSpPr>
            <p:cNvPr id="460" name=""/>
            <p:cNvGrpSpPr/>
            <p:nvPr/>
          </p:nvGrpSpPr>
          <p:grpSpPr>
            <a:xfrm>
              <a:off x="2546640" y="2004480"/>
              <a:ext cx="5778360" cy="1553760"/>
              <a:chOff x="2546640" y="2004480"/>
              <a:chExt cx="5778360" cy="155376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3443400" y="2004480"/>
                <a:ext cx="119160" cy="1553760"/>
                <a:chOff x="3443400" y="2004480"/>
                <a:chExt cx="119160" cy="15537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3443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3562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3030120" y="21837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030120" y="23130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6" name=""/>
              <p:cNvGrpSpPr/>
              <p:nvPr/>
            </p:nvGrpSpPr>
            <p:grpSpPr>
              <a:xfrm>
                <a:off x="3030120" y="2442600"/>
                <a:ext cx="3346920" cy="129240"/>
                <a:chOff x="3030120" y="2442600"/>
                <a:chExt cx="3346920" cy="12924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3030120" y="244260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030120" y="25718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3030120" y="2691720"/>
                <a:ext cx="3346920" cy="129240"/>
                <a:chOff x="3030120" y="2691720"/>
                <a:chExt cx="3346920" cy="12924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3030120" y="26917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030120" y="282096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3030120" y="29505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030120" y="3080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742200" y="2004480"/>
                <a:ext cx="119160" cy="1553760"/>
                <a:chOff x="3742200" y="2004480"/>
                <a:chExt cx="119160" cy="15537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7422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861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144240" y="2004480"/>
                <a:ext cx="119520" cy="1553760"/>
                <a:chOff x="3144240" y="2004480"/>
                <a:chExt cx="119520" cy="15537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14424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637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4041000" y="2004480"/>
                <a:ext cx="119520" cy="1553760"/>
                <a:chOff x="4041000" y="2004480"/>
                <a:chExt cx="119520" cy="1553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40410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4160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340160" y="2004480"/>
                <a:ext cx="119160" cy="1553760"/>
                <a:chOff x="4340160" y="2004480"/>
                <a:chExt cx="119160" cy="15537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340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4593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937400" y="2004480"/>
                <a:ext cx="119520" cy="1553760"/>
                <a:chOff x="4937400" y="2004480"/>
                <a:chExt cx="119520" cy="1553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493740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50569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5236560" y="2004480"/>
                <a:ext cx="119160" cy="1553760"/>
                <a:chOff x="5236560" y="2004480"/>
                <a:chExt cx="119160" cy="15537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52365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53557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4638960" y="2004480"/>
                <a:ext cx="119160" cy="1553760"/>
                <a:chOff x="4638960" y="2004480"/>
                <a:chExt cx="119160" cy="155376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46389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7581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5535360" y="2004480"/>
                <a:ext cx="119160" cy="1553760"/>
                <a:chOff x="5535360" y="2004480"/>
                <a:chExt cx="119160" cy="155376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55353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5452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"/>
              <p:cNvGrpSpPr/>
              <p:nvPr/>
            </p:nvGrpSpPr>
            <p:grpSpPr>
              <a:xfrm>
                <a:off x="5834160" y="2004480"/>
                <a:ext cx="119520" cy="1553760"/>
                <a:chOff x="5834160" y="2004480"/>
                <a:chExt cx="119520" cy="1553760"/>
              </a:xfrm>
            </p:grpSpPr>
            <p:sp>
              <p:nvSpPr>
                <p:cNvPr id="499" name=""/>
                <p:cNvSpPr/>
                <p:nvPr/>
              </p:nvSpPr>
              <p:spPr>
                <a:xfrm>
                  <a:off x="583416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953680" y="200448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 flipH="1">
                <a:off x="2972160" y="331884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46960" y="3318840"/>
                <a:ext cx="260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4135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533040" y="32889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12320" y="316944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31840" y="32889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05560" y="328896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6382440" y="2128320"/>
                <a:ext cx="133560" cy="129960"/>
                <a:chOff x="6382440" y="2128320"/>
                <a:chExt cx="133560" cy="12996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6387480" y="2133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387480" y="2242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V="1">
                  <a:off x="6382440" y="21283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418080" y="21398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417720" y="21290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6382440" y="2258280"/>
                <a:ext cx="133560" cy="129960"/>
                <a:chOff x="6382440" y="2258280"/>
                <a:chExt cx="133560" cy="12996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6387480" y="2262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387480" y="236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>
                  <a:off x="6382440" y="22582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418080" y="22690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417720" y="22582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6382440" y="2387880"/>
                <a:ext cx="133560" cy="120240"/>
                <a:chOff x="6382440" y="2387880"/>
                <a:chExt cx="133560" cy="120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6387480" y="2392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387480" y="2492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6382440" y="238788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418080" y="2399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417720" y="238788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382440" y="2506680"/>
                <a:ext cx="133560" cy="130320"/>
                <a:chOff x="6382440" y="2506680"/>
                <a:chExt cx="133560" cy="1303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87480" y="2511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387480" y="2621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V="1">
                  <a:off x="6382440" y="25066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418080" y="2517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417720" y="250668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6382440" y="2636280"/>
                <a:ext cx="133560" cy="129960"/>
                <a:chOff x="6382440" y="2636280"/>
                <a:chExt cx="133560" cy="12996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6387480" y="2641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387480" y="2750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 flipV="1">
                  <a:off x="6382440" y="26362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418080" y="26478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417720" y="26370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6382440" y="2766240"/>
                <a:ext cx="133560" cy="119880"/>
                <a:chOff x="6382440" y="2766240"/>
                <a:chExt cx="133560" cy="11988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6387480" y="2770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387480" y="287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V="1">
                  <a:off x="6382440" y="27662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418080" y="277704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417720" y="27662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4" name=""/>
              <p:cNvSpPr/>
              <p:nvPr/>
            </p:nvSpPr>
            <p:spPr>
              <a:xfrm flipH="1">
                <a:off x="6611400" y="325944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6382440" y="2885400"/>
                <a:ext cx="133560" cy="129960"/>
                <a:chOff x="6382440" y="2885400"/>
                <a:chExt cx="133560" cy="12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6387480" y="2890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6387480" y="2999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V="1">
                  <a:off x="6382440" y="2885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418080" y="2896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417720" y="2886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6382440" y="3014640"/>
                <a:ext cx="133560" cy="130320"/>
                <a:chOff x="6382440" y="3014640"/>
                <a:chExt cx="133560" cy="1303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6387480" y="3019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387480" y="3129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 flipV="1">
                  <a:off x="6382440" y="301500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418080" y="3025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6417720" y="301464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"/>
              <p:cNvSpPr/>
              <p:nvPr/>
            </p:nvSpPr>
            <p:spPr>
              <a:xfrm>
                <a:off x="6198120" y="249804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98480" y="250848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67120" y="250848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566760" y="249804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31200" y="218844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6631200" y="277632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516720" y="269172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516720" y="2183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516720" y="24426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16720" y="257184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516720" y="29505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516720" y="30801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516720" y="231300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516720" y="28209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89480" y="266148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8760" y="284076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687080" y="2661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268760" y="200448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866720" y="266148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6" name=""/>
              <p:cNvGrpSpPr/>
              <p:nvPr/>
            </p:nvGrpSpPr>
            <p:grpSpPr>
              <a:xfrm>
                <a:off x="7388280" y="2542320"/>
                <a:ext cx="292680" cy="358560"/>
                <a:chOff x="7388280" y="2542320"/>
                <a:chExt cx="292680" cy="358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09520" y="257832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513920" y="257832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7388640" y="254232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7388640" y="279288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flipH="1">
                  <a:off x="7388280" y="282924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H="1">
                <a:off x="2860200" y="319968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735000" y="3199680"/>
                <a:ext cx="277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785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2785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785680" y="313956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2546640" y="325944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6439680" y="313956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439680" y="325944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611400" y="314712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6454440" y="328896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239240" y="28108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164360" y="263160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194240" y="233280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194240" y="233280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16200000">
                <a:off x="7732080" y="243720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8320" y="248976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8008560" y="272160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3560" y="292320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2546640" y="3454200"/>
              <a:ext cx="5778360" cy="1553760"/>
              <a:chOff x="2546640" y="3454200"/>
              <a:chExt cx="5778360" cy="1553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3443400" y="3454200"/>
                <a:ext cx="119160" cy="1553760"/>
                <a:chOff x="3443400" y="3454200"/>
                <a:chExt cx="119160" cy="15537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3443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562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4" name=""/>
              <p:cNvSpPr/>
              <p:nvPr/>
            </p:nvSpPr>
            <p:spPr>
              <a:xfrm>
                <a:off x="3030120" y="36334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30120" y="376272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6" name=""/>
              <p:cNvGrpSpPr/>
              <p:nvPr/>
            </p:nvGrpSpPr>
            <p:grpSpPr>
              <a:xfrm>
                <a:off x="3030120" y="3892320"/>
                <a:ext cx="3346920" cy="129600"/>
                <a:chOff x="3030120" y="3892320"/>
                <a:chExt cx="3346920" cy="12960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3030120" y="38923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3030120" y="402192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3030120" y="4141440"/>
                <a:ext cx="3346920" cy="129240"/>
                <a:chOff x="3030120" y="4141440"/>
                <a:chExt cx="3346920" cy="129240"/>
              </a:xfrm>
            </p:grpSpPr>
            <p:sp>
              <p:nvSpPr>
                <p:cNvPr id="610" name=""/>
                <p:cNvSpPr/>
                <p:nvPr/>
              </p:nvSpPr>
              <p:spPr>
                <a:xfrm>
                  <a:off x="3030120" y="414144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3030120" y="4270680"/>
                  <a:ext cx="3346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3030120" y="4400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0120" y="45298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3742200" y="3454200"/>
                <a:ext cx="119160" cy="1553760"/>
                <a:chOff x="3742200" y="3454200"/>
                <a:chExt cx="119160" cy="15537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7422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861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144240" y="3454200"/>
                <a:ext cx="119520" cy="1553760"/>
                <a:chOff x="3144240" y="3454200"/>
                <a:chExt cx="119520" cy="15537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14424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2637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4041000" y="3454200"/>
                <a:ext cx="119520" cy="1553760"/>
                <a:chOff x="4041000" y="3454200"/>
                <a:chExt cx="119520" cy="15537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40410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4160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340160" y="3454200"/>
                <a:ext cx="119160" cy="1553760"/>
                <a:chOff x="4340160" y="3454200"/>
                <a:chExt cx="119160" cy="15537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340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4593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4937400" y="3454200"/>
                <a:ext cx="119520" cy="1553760"/>
                <a:chOff x="4937400" y="3454200"/>
                <a:chExt cx="119520" cy="15537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493740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569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236560" y="3454200"/>
                <a:ext cx="119160" cy="1553760"/>
                <a:chOff x="5236560" y="3454200"/>
                <a:chExt cx="119160" cy="15537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2365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3557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4638960" y="3454200"/>
                <a:ext cx="119160" cy="1553760"/>
                <a:chOff x="4638960" y="3454200"/>
                <a:chExt cx="119160" cy="15537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46389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47581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5535360" y="3454200"/>
                <a:ext cx="119160" cy="1553760"/>
                <a:chOff x="5535360" y="3454200"/>
                <a:chExt cx="119160" cy="15537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55353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565452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5834160" y="3454200"/>
                <a:ext cx="119520" cy="1553760"/>
                <a:chOff x="5834160" y="3454200"/>
                <a:chExt cx="119520" cy="15537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583416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953680" y="3454200"/>
                  <a:ext cx="0" cy="1553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" name=""/>
              <p:cNvSpPr/>
              <p:nvPr/>
            </p:nvSpPr>
            <p:spPr>
              <a:xfrm flipH="1">
                <a:off x="2972520" y="476856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59320" y="476856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11480" y="46191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1306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309920" y="46191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429440" y="473904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905560" y="473904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"/>
              <p:cNvGrpSpPr/>
              <p:nvPr/>
            </p:nvGrpSpPr>
            <p:grpSpPr>
              <a:xfrm>
                <a:off x="6382440" y="3578040"/>
                <a:ext cx="133560" cy="129960"/>
                <a:chOff x="6382440" y="3578040"/>
                <a:chExt cx="133560" cy="1299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6387480" y="3583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6387480" y="3692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V="1">
                  <a:off x="6382440" y="35780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418080" y="35895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417720" y="35787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6382440" y="3708000"/>
                <a:ext cx="133560" cy="129960"/>
                <a:chOff x="6382440" y="3708000"/>
                <a:chExt cx="133560" cy="1299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6387480" y="3712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387480" y="3812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V="1">
                  <a:off x="6382440" y="3708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418080" y="37188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417720" y="3708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6382440" y="3837600"/>
                <a:ext cx="133560" cy="120240"/>
                <a:chOff x="6382440" y="3837600"/>
                <a:chExt cx="133560" cy="1202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6387480" y="3842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6387480" y="3942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V="1">
                  <a:off x="6382440" y="38376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418080" y="3848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417720" y="38376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6382440" y="3956400"/>
                <a:ext cx="133560" cy="130320"/>
                <a:chOff x="6382440" y="3956400"/>
                <a:chExt cx="133560" cy="1303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6387480" y="3961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387480" y="4071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 flipV="1">
                  <a:off x="6382440" y="395676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6418080" y="39675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417720" y="39564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6382440" y="4086000"/>
                <a:ext cx="133560" cy="129960"/>
                <a:chOff x="6382440" y="4086000"/>
                <a:chExt cx="133560" cy="129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87480" y="4091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6387480" y="4200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V="1">
                  <a:off x="6382440" y="4086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6418080" y="40975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6417720" y="40867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6382440" y="4215960"/>
                <a:ext cx="133560" cy="119880"/>
                <a:chOff x="6382440" y="4215960"/>
                <a:chExt cx="133560" cy="1198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6387480" y="42206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387480" y="4320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 flipV="1">
                  <a:off x="6382440" y="42159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6418080" y="42267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417720" y="42159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" name=""/>
              <p:cNvSpPr/>
              <p:nvPr/>
            </p:nvSpPr>
            <p:spPr>
              <a:xfrm flipH="1">
                <a:off x="6611400" y="4709160"/>
                <a:ext cx="1254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" name=""/>
              <p:cNvGrpSpPr/>
              <p:nvPr/>
            </p:nvGrpSpPr>
            <p:grpSpPr>
              <a:xfrm>
                <a:off x="6382440" y="4335120"/>
                <a:ext cx="133560" cy="129960"/>
                <a:chOff x="6382440" y="4335120"/>
                <a:chExt cx="133560" cy="1299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6387480" y="43405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6387480" y="4449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6382440" y="43351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418080" y="43466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417720" y="43358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6382440" y="4464360"/>
                <a:ext cx="133560" cy="130320"/>
                <a:chOff x="6382440" y="4464360"/>
                <a:chExt cx="133560" cy="130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6387480" y="4469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387480" y="4579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 flipV="1">
                  <a:off x="6382440" y="44647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418080" y="44755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417720" y="44643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6198120" y="3947760"/>
                <a:ext cx="86580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98480" y="3958200"/>
                <a:ext cx="86544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567120" y="39582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566760" y="3947760"/>
                <a:ext cx="128520" cy="297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631200" y="36381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6631200" y="42260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516720" y="41414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516720" y="3633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516720" y="3892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516720" y="40219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516720" y="4400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16720" y="4529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516720" y="3762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16720" y="4270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089480" y="41112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268760" y="42904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687080" y="411120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68760" y="3454200"/>
                <a:ext cx="0" cy="1553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866720" y="41112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7388280" y="3992040"/>
                <a:ext cx="292680" cy="358560"/>
                <a:chOff x="7388280" y="3992040"/>
                <a:chExt cx="292680" cy="35856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409520" y="40280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513920" y="40280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388640" y="39920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388640" y="42426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H="1">
                  <a:off x="7388280" y="42789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 flipH="1">
                <a:off x="2860560" y="4649400"/>
                <a:ext cx="118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340160" y="4649400"/>
                <a:ext cx="2166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78568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278568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2785680" y="45892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2546640" y="47091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39320" y="45892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439320" y="47091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6611400" y="45968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6454440" y="473904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239240" y="42606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64360" y="40813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7194240" y="3782520"/>
                <a:ext cx="0" cy="32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94240" y="37825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16200000">
                <a:off x="7732080" y="38869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8068320" y="39394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8008560" y="41709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963560" y="43729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3443760" y="4903560"/>
              <a:ext cx="119160" cy="1554120"/>
              <a:chOff x="3443760" y="4903560"/>
              <a:chExt cx="119160" cy="1554120"/>
            </a:xfrm>
          </p:grpSpPr>
          <p:sp>
            <p:nvSpPr>
              <p:cNvPr id="741" name=""/>
              <p:cNvSpPr/>
              <p:nvPr/>
            </p:nvSpPr>
            <p:spPr>
              <a:xfrm>
                <a:off x="3443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562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3030120" y="50828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30120" y="521244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5" name=""/>
            <p:cNvGrpSpPr/>
            <p:nvPr/>
          </p:nvGrpSpPr>
          <p:grpSpPr>
            <a:xfrm>
              <a:off x="3030120" y="5342040"/>
              <a:ext cx="3346920" cy="129240"/>
              <a:chOff x="3030120" y="5342040"/>
              <a:chExt cx="3346920" cy="129240"/>
            </a:xfrm>
          </p:grpSpPr>
          <p:sp>
            <p:nvSpPr>
              <p:cNvPr id="746" name=""/>
              <p:cNvSpPr/>
              <p:nvPr/>
            </p:nvSpPr>
            <p:spPr>
              <a:xfrm>
                <a:off x="3030120" y="534204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030120" y="547128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3030120" y="5591160"/>
              <a:ext cx="3346920" cy="129240"/>
              <a:chOff x="3030120" y="5591160"/>
              <a:chExt cx="3346920" cy="129240"/>
            </a:xfrm>
          </p:grpSpPr>
          <p:sp>
            <p:nvSpPr>
              <p:cNvPr id="749" name=""/>
              <p:cNvSpPr/>
              <p:nvPr/>
            </p:nvSpPr>
            <p:spPr>
              <a:xfrm>
                <a:off x="3030120" y="559116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030120" y="5720400"/>
                <a:ext cx="3346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3030120" y="585036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030120" y="5979600"/>
              <a:ext cx="334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3742560" y="4903560"/>
              <a:ext cx="119160" cy="1554120"/>
              <a:chOff x="3742560" y="4903560"/>
              <a:chExt cx="119160" cy="1554120"/>
            </a:xfrm>
          </p:grpSpPr>
          <p:sp>
            <p:nvSpPr>
              <p:cNvPr id="754" name=""/>
              <p:cNvSpPr/>
              <p:nvPr/>
            </p:nvSpPr>
            <p:spPr>
              <a:xfrm>
                <a:off x="37425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1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3144600" y="4903560"/>
              <a:ext cx="119520" cy="1554120"/>
              <a:chOff x="3144600" y="4903560"/>
              <a:chExt cx="119520" cy="1554120"/>
            </a:xfrm>
          </p:grpSpPr>
          <p:sp>
            <p:nvSpPr>
              <p:cNvPr id="757" name=""/>
              <p:cNvSpPr/>
              <p:nvPr/>
            </p:nvSpPr>
            <p:spPr>
              <a:xfrm>
                <a:off x="314460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64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"/>
            <p:cNvGrpSpPr/>
            <p:nvPr/>
          </p:nvGrpSpPr>
          <p:grpSpPr>
            <a:xfrm>
              <a:off x="4041360" y="4903560"/>
              <a:ext cx="119520" cy="1554120"/>
              <a:chOff x="4041360" y="4903560"/>
              <a:chExt cx="119520" cy="1554120"/>
            </a:xfrm>
          </p:grpSpPr>
          <p:sp>
            <p:nvSpPr>
              <p:cNvPr id="760" name=""/>
              <p:cNvSpPr/>
              <p:nvPr/>
            </p:nvSpPr>
            <p:spPr>
              <a:xfrm>
                <a:off x="40413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160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4340160" y="4903560"/>
              <a:ext cx="119160" cy="1554120"/>
              <a:chOff x="4340160" y="4903560"/>
              <a:chExt cx="119160" cy="1554120"/>
            </a:xfrm>
          </p:grpSpPr>
          <p:sp>
            <p:nvSpPr>
              <p:cNvPr id="763" name=""/>
              <p:cNvSpPr/>
              <p:nvPr/>
            </p:nvSpPr>
            <p:spPr>
              <a:xfrm>
                <a:off x="43401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4593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4937760" y="4903560"/>
              <a:ext cx="119520" cy="1554120"/>
              <a:chOff x="4937760" y="4903560"/>
              <a:chExt cx="119520" cy="1554120"/>
            </a:xfrm>
          </p:grpSpPr>
          <p:sp>
            <p:nvSpPr>
              <p:cNvPr id="766" name=""/>
              <p:cNvSpPr/>
              <p:nvPr/>
            </p:nvSpPr>
            <p:spPr>
              <a:xfrm>
                <a:off x="49377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0572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5236920" y="4903560"/>
              <a:ext cx="119160" cy="1554120"/>
              <a:chOff x="5236920" y="4903560"/>
              <a:chExt cx="119160" cy="1554120"/>
            </a:xfrm>
          </p:grpSpPr>
          <p:sp>
            <p:nvSpPr>
              <p:cNvPr id="769" name=""/>
              <p:cNvSpPr/>
              <p:nvPr/>
            </p:nvSpPr>
            <p:spPr>
              <a:xfrm>
                <a:off x="52369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560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4638960" y="4903560"/>
              <a:ext cx="119160" cy="1554120"/>
              <a:chOff x="4638960" y="4903560"/>
              <a:chExt cx="119160" cy="1554120"/>
            </a:xfrm>
          </p:grpSpPr>
          <p:sp>
            <p:nvSpPr>
              <p:cNvPr id="772" name=""/>
              <p:cNvSpPr/>
              <p:nvPr/>
            </p:nvSpPr>
            <p:spPr>
              <a:xfrm>
                <a:off x="463896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7581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5535720" y="4903560"/>
              <a:ext cx="119160" cy="1554120"/>
              <a:chOff x="5535720" y="4903560"/>
              <a:chExt cx="119160" cy="1554120"/>
            </a:xfrm>
          </p:grpSpPr>
          <p:sp>
            <p:nvSpPr>
              <p:cNvPr id="775" name=""/>
              <p:cNvSpPr/>
              <p:nvPr/>
            </p:nvSpPr>
            <p:spPr>
              <a:xfrm>
                <a:off x="55357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565488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834520" y="4903560"/>
              <a:ext cx="119520" cy="1554120"/>
              <a:chOff x="5834520" y="4903560"/>
              <a:chExt cx="119520" cy="1554120"/>
            </a:xfrm>
          </p:grpSpPr>
          <p:sp>
            <p:nvSpPr>
              <p:cNvPr id="778" name=""/>
              <p:cNvSpPr/>
              <p:nvPr/>
            </p:nvSpPr>
            <p:spPr>
              <a:xfrm>
                <a:off x="583452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954040" y="49035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 flipH="1">
              <a:off x="2972520" y="621864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072400" y="6218640"/>
              <a:ext cx="138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09080" y="6071760"/>
              <a:ext cx="5976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8960" y="61912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08240" y="6071760"/>
              <a:ext cx="59400" cy="5940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027760" y="619128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905560" y="6188760"/>
              <a:ext cx="5940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"/>
            <p:cNvGrpSpPr/>
            <p:nvPr/>
          </p:nvGrpSpPr>
          <p:grpSpPr>
            <a:xfrm>
              <a:off x="6382440" y="5028120"/>
              <a:ext cx="133560" cy="129600"/>
              <a:chOff x="6382440" y="5028120"/>
              <a:chExt cx="133560" cy="129600"/>
            </a:xfrm>
          </p:grpSpPr>
          <p:sp>
            <p:nvSpPr>
              <p:cNvPr id="788" name=""/>
              <p:cNvSpPr/>
              <p:nvPr/>
            </p:nvSpPr>
            <p:spPr>
              <a:xfrm>
                <a:off x="6387480" y="50331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387480" y="5142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382440" y="5028120"/>
                <a:ext cx="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418080" y="503928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417720" y="502848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6382440" y="5157720"/>
              <a:ext cx="133560" cy="129960"/>
              <a:chOff x="6382440" y="5157720"/>
              <a:chExt cx="133560" cy="129960"/>
            </a:xfrm>
          </p:grpSpPr>
          <p:sp>
            <p:nvSpPr>
              <p:cNvPr id="794" name=""/>
              <p:cNvSpPr/>
              <p:nvPr/>
            </p:nvSpPr>
            <p:spPr>
              <a:xfrm>
                <a:off x="6387480" y="51624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387480" y="52621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382440" y="51577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418080" y="51685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417720" y="51577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6382440" y="5287320"/>
              <a:ext cx="133560" cy="120240"/>
              <a:chOff x="6382440" y="5287320"/>
              <a:chExt cx="133560" cy="120240"/>
            </a:xfrm>
          </p:grpSpPr>
          <p:sp>
            <p:nvSpPr>
              <p:cNvPr id="800" name=""/>
              <p:cNvSpPr/>
              <p:nvPr/>
            </p:nvSpPr>
            <p:spPr>
              <a:xfrm>
                <a:off x="6387480" y="5292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87480" y="53917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382440" y="52873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18080" y="5298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417720" y="52873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6382440" y="5406480"/>
              <a:ext cx="133560" cy="130320"/>
              <a:chOff x="6382440" y="5406480"/>
              <a:chExt cx="133560" cy="130320"/>
            </a:xfrm>
          </p:grpSpPr>
          <p:sp>
            <p:nvSpPr>
              <p:cNvPr id="806" name=""/>
              <p:cNvSpPr/>
              <p:nvPr/>
            </p:nvSpPr>
            <p:spPr>
              <a:xfrm>
                <a:off x="6387480" y="54115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387480" y="55209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6382440" y="54064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418080" y="54176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17720" y="54064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6382440" y="5536080"/>
              <a:ext cx="133560" cy="129960"/>
              <a:chOff x="6382440" y="5536080"/>
              <a:chExt cx="133560" cy="129960"/>
            </a:xfrm>
          </p:grpSpPr>
          <p:sp>
            <p:nvSpPr>
              <p:cNvPr id="812" name=""/>
              <p:cNvSpPr/>
              <p:nvPr/>
            </p:nvSpPr>
            <p:spPr>
              <a:xfrm>
                <a:off x="6387480" y="5541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87480" y="56505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382440" y="55360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418080" y="554760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417720" y="553680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6382440" y="5665680"/>
              <a:ext cx="133560" cy="119880"/>
              <a:chOff x="6382440" y="5665680"/>
              <a:chExt cx="133560" cy="119880"/>
            </a:xfrm>
          </p:grpSpPr>
          <p:sp>
            <p:nvSpPr>
              <p:cNvPr id="818" name=""/>
              <p:cNvSpPr/>
              <p:nvPr/>
            </p:nvSpPr>
            <p:spPr>
              <a:xfrm>
                <a:off x="6387480" y="567036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387480" y="57700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382440" y="56656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418080" y="56764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17720" y="56656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 flipH="1">
              <a:off x="6611400" y="6158880"/>
              <a:ext cx="125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382440" y="5785200"/>
              <a:ext cx="133560" cy="129960"/>
              <a:chOff x="6382440" y="5785200"/>
              <a:chExt cx="133560" cy="129960"/>
            </a:xfrm>
          </p:grpSpPr>
          <p:sp>
            <p:nvSpPr>
              <p:cNvPr id="825" name=""/>
              <p:cNvSpPr/>
              <p:nvPr/>
            </p:nvSpPr>
            <p:spPr>
              <a:xfrm>
                <a:off x="6387480" y="579060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387480" y="58996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382440" y="578520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18080" y="5796720"/>
                <a:ext cx="9792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7720" y="5785920"/>
                <a:ext cx="98280" cy="11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6382440" y="5914440"/>
              <a:ext cx="133560" cy="130320"/>
              <a:chOff x="6382440" y="5914440"/>
              <a:chExt cx="133560" cy="130320"/>
            </a:xfrm>
          </p:grpSpPr>
          <p:sp>
            <p:nvSpPr>
              <p:cNvPr id="831" name=""/>
              <p:cNvSpPr/>
              <p:nvPr/>
            </p:nvSpPr>
            <p:spPr>
              <a:xfrm>
                <a:off x="6387480" y="591948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87480" y="6028920"/>
                <a:ext cx="79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6382440" y="59144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418080" y="59256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17720" y="59144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6198480" y="5397480"/>
              <a:ext cx="86580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198840" y="5407920"/>
              <a:ext cx="86544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567480" y="5407920"/>
              <a:ext cx="128160" cy="26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67120" y="5397480"/>
              <a:ext cx="128520" cy="29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631560" y="5087880"/>
              <a:ext cx="0" cy="30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V="1">
              <a:off x="6631560" y="56754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17080" y="5591160"/>
              <a:ext cx="16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17080" y="50828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517080" y="5342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517080" y="5471640"/>
              <a:ext cx="1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517080" y="5850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17080" y="5979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517080" y="52124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517080" y="57204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89840" y="5561280"/>
              <a:ext cx="29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69120" y="5740560"/>
              <a:ext cx="10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687440" y="556128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269120" y="49035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866720" y="5561280"/>
              <a:ext cx="0" cy="59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5" name=""/>
            <p:cNvGrpSpPr/>
            <p:nvPr/>
          </p:nvGrpSpPr>
          <p:grpSpPr>
            <a:xfrm>
              <a:off x="7388280" y="5441400"/>
              <a:ext cx="292680" cy="358560"/>
              <a:chOff x="7388280" y="5441400"/>
              <a:chExt cx="292680" cy="358560"/>
            </a:xfrm>
          </p:grpSpPr>
          <p:sp>
            <p:nvSpPr>
              <p:cNvPr id="856" name=""/>
              <p:cNvSpPr/>
              <p:nvPr/>
            </p:nvSpPr>
            <p:spPr>
              <a:xfrm>
                <a:off x="7409520" y="5477400"/>
                <a:ext cx="14544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513920" y="5477400"/>
                <a:ext cx="15300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388640" y="5441400"/>
                <a:ext cx="292320" cy="358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388640" y="5691960"/>
                <a:ext cx="83160" cy="3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7388280" y="5728320"/>
                <a:ext cx="8316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 flipV="1">
              <a:off x="2860920" y="6098760"/>
              <a:ext cx="17856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786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86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2786040" y="6039360"/>
              <a:ext cx="0" cy="23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2546640" y="6158880"/>
              <a:ext cx="23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6440040" y="603936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440040" y="6158880"/>
              <a:ext cx="179280" cy="11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6611400" y="6046560"/>
              <a:ext cx="0" cy="23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6454440" y="6188760"/>
              <a:ext cx="59760" cy="5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239240" y="5710680"/>
              <a:ext cx="5940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64360" y="5531400"/>
              <a:ext cx="59760" cy="5976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194600" y="523224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94600" y="5232600"/>
              <a:ext cx="74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6200000">
              <a:off x="7732080" y="5337000"/>
              <a:ext cx="545040" cy="119160"/>
            </a:xfrm>
            <a:custGeom>
              <a:avLst/>
              <a:gdLst>
                <a:gd name="textAreaLeft" fmla="*/ 91080 w 545040"/>
                <a:gd name="textAreaRight" fmla="*/ 453960 w 54504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068320" y="5389200"/>
              <a:ext cx="25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8008920" y="5620680"/>
              <a:ext cx="0" cy="20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963920" y="5822640"/>
              <a:ext cx="89640" cy="892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945320" y="6102000"/>
              <a:ext cx="1561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361360" y="23716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353440" y="382752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1560" y="527256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948800" y="5911200"/>
              <a:ext cx="570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954200" y="44578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971840" y="30157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086960" y="180036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235600" y="31478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37760" y="45925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913760" y="605808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275360" y="501552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4268880" y="501444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77760" y="501552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3671640" y="501444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9368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68720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9368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68720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69368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468720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6936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46872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93680" y="22460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4687200" y="22449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69368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468720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69368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8720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75360" y="35661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4268880" y="35650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76560" y="369576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>
              <a:off x="3970080" y="369468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677760" y="3825360"/>
              <a:ext cx="12924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>
              <a:off x="3671640" y="3823920"/>
              <a:ext cx="13536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78600" y="3825360"/>
              <a:ext cx="12960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372120" y="382392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797280" y="21164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3790800" y="211536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78600" y="212148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3372120" y="21204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67776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367164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498480" y="2246040"/>
              <a:ext cx="12924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>
              <a:off x="3492360" y="2244960"/>
              <a:ext cx="13536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27536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426888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378600" y="23756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3372120" y="2374200"/>
              <a:ext cx="13572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2753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42688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76560" y="2505240"/>
              <a:ext cx="12960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3970080" y="2503800"/>
              <a:ext cx="13572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88AA-A126-44BE-B947-47F3F608C0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7927920" y="5783400"/>
            <a:ext cx="601560" cy="415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0" y="4994280"/>
            <a:ext cx="1573200" cy="72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07880" y="1506600"/>
            <a:ext cx="63248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800280"/>
                <a:tab algn="l" pos="1370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PE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reset'(Q1Q0N' + Q1N + Q1D + Q0'ND + Q0N'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12920" y="231480"/>
            <a:ext cx="8858160" cy="849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Vending machine (synch. Mealy PLD mapping)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1743120" y="1814400"/>
            <a:ext cx="7271280" cy="4657680"/>
            <a:chOff x="1743120" y="1814400"/>
            <a:chExt cx="7271280" cy="4657680"/>
          </a:xfrm>
        </p:grpSpPr>
        <p:sp>
          <p:nvSpPr>
            <p:cNvPr id="936" name=""/>
            <p:cNvSpPr/>
            <p:nvPr/>
          </p:nvSpPr>
          <p:spPr>
            <a:xfrm>
              <a:off x="1743120" y="5306760"/>
              <a:ext cx="85068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9080" rIns="19080" tIns="27000" bIns="27000" anchor="t">
              <a:noAutofit/>
            </a:bodyPr>
            <a:p>
              <a:pPr>
                <a:lnSpc>
                  <a:spcPts val="1199"/>
                </a:lnSpc>
                <a:tabLst>
                  <a:tab algn="l" pos="0"/>
                  <a:tab algn="l" pos="457200"/>
                  <a:tab algn="l" pos="914400"/>
                  <a:tab algn="l" pos="137016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2576160" y="2019240"/>
              <a:ext cx="5778720" cy="1554120"/>
              <a:chOff x="2576160" y="2019240"/>
              <a:chExt cx="5778720" cy="155412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3472920" y="2019240"/>
                <a:ext cx="119160" cy="1554120"/>
                <a:chOff x="3472920" y="2019240"/>
                <a:chExt cx="119160" cy="155412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34729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35920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1" name=""/>
              <p:cNvSpPr/>
              <p:nvPr/>
            </p:nvSpPr>
            <p:spPr>
              <a:xfrm>
                <a:off x="3059640" y="21985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059640" y="232776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3" name=""/>
              <p:cNvGrpSpPr/>
              <p:nvPr/>
            </p:nvGrpSpPr>
            <p:grpSpPr>
              <a:xfrm>
                <a:off x="3059640" y="2457360"/>
                <a:ext cx="3347280" cy="129240"/>
                <a:chOff x="3059640" y="2457360"/>
                <a:chExt cx="3347280" cy="1292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059640" y="245736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059640" y="258660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3059640" y="2706480"/>
                <a:ext cx="3347280" cy="129240"/>
                <a:chOff x="3059640" y="2706480"/>
                <a:chExt cx="3347280" cy="12924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3059640" y="27064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059640" y="2835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9" name=""/>
              <p:cNvSpPr/>
              <p:nvPr/>
            </p:nvSpPr>
            <p:spPr>
              <a:xfrm>
                <a:off x="3059640" y="29653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059640" y="30952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3771720" y="2019240"/>
                <a:ext cx="119160" cy="1554120"/>
                <a:chOff x="3771720" y="2019240"/>
                <a:chExt cx="119160" cy="15541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37717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38908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3173760" y="2019240"/>
                <a:ext cx="119520" cy="1554120"/>
                <a:chOff x="3173760" y="2019240"/>
                <a:chExt cx="119520" cy="15541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31737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293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070520" y="2019240"/>
                <a:ext cx="119520" cy="1554120"/>
                <a:chOff x="4070520" y="2019240"/>
                <a:chExt cx="119520" cy="155412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407052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190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4369680" y="2019240"/>
                <a:ext cx="119160" cy="1554120"/>
                <a:chOff x="4369680" y="2019240"/>
                <a:chExt cx="119160" cy="155412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43696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44888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4967280" y="2019240"/>
                <a:ext cx="119520" cy="1554120"/>
                <a:chOff x="4967280" y="2019240"/>
                <a:chExt cx="119520" cy="15541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49672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0868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266440" y="2019240"/>
                <a:ext cx="119160" cy="1554120"/>
                <a:chOff x="5266440" y="2019240"/>
                <a:chExt cx="119160" cy="155412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2664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856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4668480" y="2019240"/>
                <a:ext cx="119160" cy="1554120"/>
                <a:chOff x="4668480" y="2019240"/>
                <a:chExt cx="119160" cy="155412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466848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47876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5565240" y="2019240"/>
                <a:ext cx="119160" cy="1554120"/>
                <a:chOff x="5565240" y="2019240"/>
                <a:chExt cx="119160" cy="15541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5652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68440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864040" y="2019240"/>
                <a:ext cx="119520" cy="1554120"/>
                <a:chOff x="5864040" y="2019240"/>
                <a:chExt cx="119520" cy="155412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86404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983560" y="201924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8" name=""/>
              <p:cNvSpPr/>
              <p:nvPr/>
            </p:nvSpPr>
            <p:spPr>
              <a:xfrm flipH="1">
                <a:off x="3001680" y="3333960"/>
                <a:ext cx="582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876480" y="3333960"/>
                <a:ext cx="2607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4430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562560" y="3304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741840" y="318456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861720" y="330408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2935080" y="3304080"/>
                <a:ext cx="5940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5" name=""/>
              <p:cNvGrpSpPr/>
              <p:nvPr/>
            </p:nvGrpSpPr>
            <p:grpSpPr>
              <a:xfrm>
                <a:off x="6411960" y="2143080"/>
                <a:ext cx="133560" cy="129960"/>
                <a:chOff x="6411960" y="2143080"/>
                <a:chExt cx="133560" cy="12996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417000" y="21484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17000" y="22575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6411960" y="21430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447600" y="21546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447240" y="21438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411960" y="2273040"/>
                <a:ext cx="133560" cy="129960"/>
                <a:chOff x="6411960" y="2273040"/>
                <a:chExt cx="133560" cy="12996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417000" y="22777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417000" y="23774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V="1">
                  <a:off x="6411960" y="22730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447600" y="228384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447240" y="22730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411960" y="2402640"/>
                <a:ext cx="133560" cy="120240"/>
                <a:chOff x="6411960" y="2402640"/>
                <a:chExt cx="133560" cy="12024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417000" y="2407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417000" y="250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V="1">
                  <a:off x="6411960" y="240264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447600" y="2413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447240" y="240264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6411960" y="2521800"/>
                <a:ext cx="133560" cy="130320"/>
                <a:chOff x="6411960" y="2521800"/>
                <a:chExt cx="133560" cy="1303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6417000" y="2526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417000" y="2636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6411960" y="25218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447600" y="253296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447240" y="252180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6411960" y="2651400"/>
                <a:ext cx="133560" cy="129960"/>
                <a:chOff x="6411960" y="2651400"/>
                <a:chExt cx="133560" cy="12996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6417000" y="265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417000" y="27658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V="1">
                  <a:off x="6411960" y="26514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447600" y="266292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447240" y="265212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6411960" y="2781000"/>
                <a:ext cx="133560" cy="119880"/>
                <a:chOff x="6411960" y="2781000"/>
                <a:chExt cx="133560" cy="11988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6417000" y="27856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417000" y="2885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V="1">
                  <a:off x="6411960" y="2781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447600" y="279180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447240" y="2781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 flipH="1">
                <a:off x="6640560" y="327456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2" name=""/>
              <p:cNvGrpSpPr/>
              <p:nvPr/>
            </p:nvGrpSpPr>
            <p:grpSpPr>
              <a:xfrm>
                <a:off x="6411960" y="2900520"/>
                <a:ext cx="133560" cy="129960"/>
                <a:chOff x="6411960" y="2900520"/>
                <a:chExt cx="133560" cy="129960"/>
              </a:xfrm>
            </p:grpSpPr>
            <p:sp>
              <p:nvSpPr>
                <p:cNvPr id="1023" name=""/>
                <p:cNvSpPr/>
                <p:nvPr/>
              </p:nvSpPr>
              <p:spPr>
                <a:xfrm>
                  <a:off x="6417000" y="2905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417000" y="3015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 flipV="1">
                  <a:off x="6411960" y="29005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447600" y="291204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447240" y="290124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8" name=""/>
              <p:cNvGrpSpPr/>
              <p:nvPr/>
            </p:nvGrpSpPr>
            <p:grpSpPr>
              <a:xfrm>
                <a:off x="6411960" y="3029760"/>
                <a:ext cx="133560" cy="130320"/>
                <a:chOff x="6411960" y="3029760"/>
                <a:chExt cx="133560" cy="1303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6417000" y="3034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417000" y="31446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 flipV="1">
                  <a:off x="6411960" y="30301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447600" y="30409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447240" y="30297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6228000" y="251208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228360" y="252360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597000" y="252360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596640" y="251208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61080" y="220320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6661080" y="279108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546600" y="270648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546600" y="21985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6600" y="24573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546600" y="258660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546600" y="29653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546600" y="30952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546600" y="232776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46600" y="2835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119360" y="267660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298640" y="2855880"/>
                <a:ext cx="10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716960" y="267660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298640" y="201924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96600" y="267660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3" name=""/>
              <p:cNvGrpSpPr/>
              <p:nvPr/>
            </p:nvGrpSpPr>
            <p:grpSpPr>
              <a:xfrm>
                <a:off x="7417800" y="2557080"/>
                <a:ext cx="292680" cy="358560"/>
                <a:chOff x="7417800" y="2557080"/>
                <a:chExt cx="292680" cy="35856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39040" y="259308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543440" y="259308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18160" y="255708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418160" y="280764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>
                  <a:off x="7417800" y="284400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9" name=""/>
              <p:cNvSpPr/>
              <p:nvPr/>
            </p:nvSpPr>
            <p:spPr>
              <a:xfrm flipH="1">
                <a:off x="2889720" y="3214440"/>
                <a:ext cx="567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764520" y="3214440"/>
                <a:ext cx="277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81520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H="1">
                <a:off x="281520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2815200" y="315468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576160" y="327456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6469560" y="315468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69560" y="327456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V="1">
                <a:off x="6640920" y="316188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>
                <a:off x="6483960" y="3304080"/>
                <a:ext cx="59760" cy="5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268760" y="282600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194240" y="26467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7224120" y="234756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224120" y="234792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rot="16200000">
                <a:off x="7761960" y="245196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8098200" y="250452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V="1">
                <a:off x="8038440" y="2736360"/>
                <a:ext cx="0" cy="20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993440" y="2937960"/>
                <a:ext cx="89640" cy="89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7" name=""/>
            <p:cNvGrpSpPr/>
            <p:nvPr/>
          </p:nvGrpSpPr>
          <p:grpSpPr>
            <a:xfrm>
              <a:off x="2576160" y="3468600"/>
              <a:ext cx="5778720" cy="1554120"/>
              <a:chOff x="2576160" y="3468600"/>
              <a:chExt cx="5778720" cy="155412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472920" y="3468600"/>
                <a:ext cx="119160" cy="1554120"/>
                <a:chOff x="3472920" y="3468600"/>
                <a:chExt cx="119160" cy="1554120"/>
              </a:xfrm>
            </p:grpSpPr>
            <p:sp>
              <p:nvSpPr>
                <p:cNvPr id="1079" name=""/>
                <p:cNvSpPr/>
                <p:nvPr/>
              </p:nvSpPr>
              <p:spPr>
                <a:xfrm>
                  <a:off x="34729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35920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1" name=""/>
              <p:cNvSpPr/>
              <p:nvPr/>
            </p:nvSpPr>
            <p:spPr>
              <a:xfrm>
                <a:off x="3059640" y="36478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59640" y="377712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3059640" y="3906720"/>
                <a:ext cx="3347280" cy="129600"/>
                <a:chOff x="3059640" y="3906720"/>
                <a:chExt cx="3347280" cy="129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3059640" y="39067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3059640" y="403632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3059640" y="4155840"/>
                <a:ext cx="3347280" cy="129240"/>
                <a:chOff x="3059640" y="4155840"/>
                <a:chExt cx="3347280" cy="12924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3059640" y="415584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3059640" y="4285080"/>
                  <a:ext cx="3347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9" name=""/>
              <p:cNvSpPr/>
              <p:nvPr/>
            </p:nvSpPr>
            <p:spPr>
              <a:xfrm>
                <a:off x="3059640" y="441468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059640" y="4544640"/>
                <a:ext cx="334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3771720" y="3468600"/>
                <a:ext cx="119160" cy="1554120"/>
                <a:chOff x="3771720" y="3468600"/>
                <a:chExt cx="119160" cy="15541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7717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8908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173760" y="3468600"/>
                <a:ext cx="119520" cy="1554120"/>
                <a:chOff x="3173760" y="3468600"/>
                <a:chExt cx="119520" cy="155412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1737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293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4070520" y="3468600"/>
                <a:ext cx="119520" cy="1554120"/>
                <a:chOff x="4070520" y="3468600"/>
                <a:chExt cx="119520" cy="15541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407052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190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4369680" y="3468600"/>
                <a:ext cx="119160" cy="1554120"/>
                <a:chOff x="4369680" y="3468600"/>
                <a:chExt cx="119160" cy="155412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43696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888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4967280" y="3468600"/>
                <a:ext cx="119520" cy="1554120"/>
                <a:chOff x="4967280" y="3468600"/>
                <a:chExt cx="119520" cy="155412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49672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0868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266440" y="3468600"/>
                <a:ext cx="119160" cy="1554120"/>
                <a:chOff x="5266440" y="3468600"/>
                <a:chExt cx="119160" cy="155412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2664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3856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4668480" y="3468600"/>
                <a:ext cx="119160" cy="1554120"/>
                <a:chOff x="4668480" y="3468600"/>
                <a:chExt cx="119160" cy="1554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466848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7876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5565240" y="3468600"/>
                <a:ext cx="119160" cy="1554120"/>
                <a:chOff x="5565240" y="3468600"/>
                <a:chExt cx="119160" cy="15541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55652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68440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864040" y="3468600"/>
                <a:ext cx="119520" cy="1554120"/>
                <a:chOff x="5864040" y="3468600"/>
                <a:chExt cx="119520" cy="15541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86404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983560" y="3468600"/>
                  <a:ext cx="0" cy="155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8" name=""/>
              <p:cNvSpPr/>
              <p:nvPr/>
            </p:nvSpPr>
            <p:spPr>
              <a:xfrm flipH="1">
                <a:off x="3002040" y="4783320"/>
                <a:ext cx="1188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489200" y="4783320"/>
                <a:ext cx="1994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41000" y="463392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1605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339800" y="463392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459320" y="4753800"/>
                <a:ext cx="59760" cy="5940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935080" y="4753800"/>
                <a:ext cx="5940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411960" y="3592440"/>
                <a:ext cx="133560" cy="129960"/>
                <a:chOff x="6411960" y="3592440"/>
                <a:chExt cx="133560" cy="12996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6417000" y="35978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417000" y="370692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6411960" y="359244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6447600" y="360396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6447240" y="359316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6411960" y="3722400"/>
                <a:ext cx="133560" cy="129960"/>
                <a:chOff x="6411960" y="3722400"/>
                <a:chExt cx="133560" cy="12996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6417000" y="37270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6417000" y="38268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6411960" y="37224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6447600" y="373320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6447240" y="37224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6411960" y="3852000"/>
                <a:ext cx="133560" cy="120240"/>
                <a:chOff x="6411960" y="3852000"/>
                <a:chExt cx="133560" cy="12024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6417000" y="3857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6417000" y="39564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 flipV="1">
                  <a:off x="6411960" y="385200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6447600" y="3863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447240" y="385200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6411960" y="3971160"/>
                <a:ext cx="133560" cy="130320"/>
                <a:chOff x="6411960" y="3971160"/>
                <a:chExt cx="133560" cy="13032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6417000" y="39762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6417000" y="408600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 flipV="1">
                  <a:off x="6411960" y="397152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6447600" y="398232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6447240" y="397116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6411960" y="4100760"/>
                <a:ext cx="133560" cy="129960"/>
                <a:chOff x="6411960" y="4100760"/>
                <a:chExt cx="133560" cy="12996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6417000" y="4106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6417000" y="42152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V="1">
                  <a:off x="6411960" y="41007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6447600" y="411228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447240" y="410148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6411960" y="4230360"/>
                <a:ext cx="133560" cy="119880"/>
                <a:chOff x="6411960" y="4230360"/>
                <a:chExt cx="133560" cy="11988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6417000" y="423504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6417000" y="43347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 flipV="1">
                  <a:off x="6411960" y="4230360"/>
                  <a:ext cx="0" cy="109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447600" y="4241160"/>
                  <a:ext cx="9792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447240" y="4230360"/>
                  <a:ext cx="98280" cy="109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1" name=""/>
              <p:cNvSpPr/>
              <p:nvPr/>
            </p:nvSpPr>
            <p:spPr>
              <a:xfrm flipH="1">
                <a:off x="6640560" y="4723920"/>
                <a:ext cx="125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6411960" y="4349880"/>
                <a:ext cx="133560" cy="129960"/>
                <a:chOff x="6411960" y="4349880"/>
                <a:chExt cx="133560" cy="12996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6417000" y="435528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6417000" y="44643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V="1">
                  <a:off x="6411960" y="434988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6447600" y="4361400"/>
                  <a:ext cx="9792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6447240" y="4350600"/>
                  <a:ext cx="98280" cy="118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8" name=""/>
              <p:cNvGrpSpPr/>
              <p:nvPr/>
            </p:nvGrpSpPr>
            <p:grpSpPr>
              <a:xfrm>
                <a:off x="6411960" y="4479120"/>
                <a:ext cx="133560" cy="130320"/>
                <a:chOff x="6411960" y="4479120"/>
                <a:chExt cx="133560" cy="1303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6417000" y="44841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6417000" y="4593960"/>
                  <a:ext cx="79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6411960" y="4479480"/>
                  <a:ext cx="0" cy="119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6447600" y="4490280"/>
                  <a:ext cx="9792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6447240" y="4479120"/>
                  <a:ext cx="98280" cy="119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4" name=""/>
              <p:cNvSpPr/>
              <p:nvPr/>
            </p:nvSpPr>
            <p:spPr>
              <a:xfrm>
                <a:off x="6228000" y="3961440"/>
                <a:ext cx="86580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228360" y="3972960"/>
                <a:ext cx="86544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597000" y="3972960"/>
                <a:ext cx="128160" cy="268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596640" y="3961440"/>
                <a:ext cx="128520" cy="29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080" y="3652560"/>
                <a:ext cx="0" cy="30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661080" y="4240440"/>
                <a:ext cx="0" cy="28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546600" y="4155840"/>
                <a:ext cx="169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546600" y="36478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6600" y="39067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546600" y="4036320"/>
                <a:ext cx="139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546600" y="44146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546600" y="45446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546600" y="377712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6600" y="428508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19360" y="4125960"/>
                <a:ext cx="298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298640" y="4305240"/>
                <a:ext cx="10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716960" y="4125960"/>
                <a:ext cx="256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298640" y="346860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896600" y="4125960"/>
                <a:ext cx="0" cy="59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7417800" y="4006440"/>
                <a:ext cx="292680" cy="358560"/>
                <a:chOff x="7417800" y="4006440"/>
                <a:chExt cx="292680" cy="35856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7439040" y="4042440"/>
                  <a:ext cx="14544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7543440" y="4042440"/>
                  <a:ext cx="153000" cy="1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9080" rIns="19080" tIns="27000" bIns="27000" anchor="t">
                  <a:noAutofit/>
                </a:bodyPr>
                <a:p>
                  <a:pPr algn="r">
                    <a:lnSpc>
                      <a:spcPts val="1500"/>
                    </a:lnSpc>
                    <a:tabLst>
                      <a:tab algn="l" pos="0"/>
                      <a:tab algn="l" pos="457200"/>
                      <a:tab algn="l" pos="914400"/>
                      <a:tab algn="l" pos="137016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ahoma"/>
                    </a:rPr>
                    <a:t>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418160" y="4006440"/>
                  <a:ext cx="292320" cy="358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418160" y="4257000"/>
                  <a:ext cx="831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 flipH="1">
                  <a:off x="7417800" y="4293360"/>
                  <a:ext cx="83160" cy="34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9" name=""/>
              <p:cNvSpPr/>
              <p:nvPr/>
            </p:nvSpPr>
            <p:spPr>
              <a:xfrm flipH="1">
                <a:off x="2889720" y="4663800"/>
                <a:ext cx="1180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369680" y="4663800"/>
                <a:ext cx="2166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2815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H="1">
                <a:off x="2815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V="1">
                <a:off x="2815200" y="4604040"/>
                <a:ext cx="0" cy="23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576160" y="4723920"/>
                <a:ext cx="23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>
                <a:off x="6469200" y="4604040"/>
                <a:ext cx="179280" cy="11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469200" y="4723920"/>
                <a:ext cx="17928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6640920" y="4611240"/>
                <a:ext cx="0" cy="23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>
                <a:off x="6483960" y="4753800"/>
                <a:ext cx="59760" cy="594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68760" y="4275360"/>
                <a:ext cx="5940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94240" y="4096080"/>
                <a:ext cx="59760" cy="59760"/>
              </a:xfrm>
              <a:prstGeom prst="ellipse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V="1">
                <a:off x="7224120" y="3796920"/>
                <a:ext cx="0" cy="328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224120" y="3797280"/>
                <a:ext cx="74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rot="16200000">
                <a:off x="7761960" y="3901320"/>
                <a:ext cx="545400" cy="119160"/>
              </a:xfrm>
              <a:custGeom>
                <a:avLst/>
                <a:gdLst>
                  <a:gd name="textAreaLeft" fmla="*/ 91080 w 545400"/>
                  <a:gd name="textAreaRight" fmla="*/ 454320 w 545400"/>
                  <a:gd name="textAreaTop" fmla="*/ 19800 h 119160"/>
                  <a:gd name="textAreaBottom" fmla="*/ 99360 h 119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8247" y="21600"/>
                    </a:lnTo>
                    <a:lnTo>
                      <a:pt x="3353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8098200" y="3953880"/>
                <a:ext cx="256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V="1">
                <a:off x="8038440" y="4185360"/>
                <a:ext cx="0" cy="20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993440" y="4387320"/>
                <a:ext cx="89280" cy="89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7" name=""/>
            <p:cNvGrpSpPr/>
            <p:nvPr/>
          </p:nvGrpSpPr>
          <p:grpSpPr>
            <a:xfrm>
              <a:off x="3473280" y="4917960"/>
              <a:ext cx="119160" cy="1554120"/>
              <a:chOff x="3473280" y="4917960"/>
              <a:chExt cx="119160" cy="1554120"/>
            </a:xfrm>
          </p:grpSpPr>
          <p:sp>
            <p:nvSpPr>
              <p:cNvPr id="1218" name=""/>
              <p:cNvSpPr/>
              <p:nvPr/>
            </p:nvSpPr>
            <p:spPr>
              <a:xfrm>
                <a:off x="3473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3592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>
              <a:off x="3060720" y="50972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60720" y="52275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060720" y="5356080"/>
              <a:ext cx="3346560" cy="130320"/>
              <a:chOff x="3060720" y="5356080"/>
              <a:chExt cx="3346560" cy="130320"/>
            </a:xfrm>
          </p:grpSpPr>
          <p:sp>
            <p:nvSpPr>
              <p:cNvPr id="1223" name=""/>
              <p:cNvSpPr/>
              <p:nvPr/>
            </p:nvSpPr>
            <p:spPr>
              <a:xfrm>
                <a:off x="3060720" y="535608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060720" y="54864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5" name=""/>
            <p:cNvGrpSpPr/>
            <p:nvPr/>
          </p:nvGrpSpPr>
          <p:grpSpPr>
            <a:xfrm>
              <a:off x="3060720" y="5605200"/>
              <a:ext cx="3346560" cy="130320"/>
              <a:chOff x="3060720" y="5605200"/>
              <a:chExt cx="3346560" cy="130320"/>
            </a:xfrm>
          </p:grpSpPr>
          <p:sp>
            <p:nvSpPr>
              <p:cNvPr id="1226" name=""/>
              <p:cNvSpPr/>
              <p:nvPr/>
            </p:nvSpPr>
            <p:spPr>
              <a:xfrm>
                <a:off x="3060720" y="560520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060720" y="5735520"/>
                <a:ext cx="334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060720" y="586404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060720" y="5994360"/>
              <a:ext cx="3346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0" name=""/>
            <p:cNvGrpSpPr/>
            <p:nvPr/>
          </p:nvGrpSpPr>
          <p:grpSpPr>
            <a:xfrm>
              <a:off x="3771720" y="4917960"/>
              <a:ext cx="120960" cy="1554120"/>
              <a:chOff x="3771720" y="4917960"/>
              <a:chExt cx="120960" cy="1554120"/>
            </a:xfrm>
          </p:grpSpPr>
          <p:sp>
            <p:nvSpPr>
              <p:cNvPr id="1231" name=""/>
              <p:cNvSpPr/>
              <p:nvPr/>
            </p:nvSpPr>
            <p:spPr>
              <a:xfrm>
                <a:off x="37717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8926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3174840" y="4917960"/>
              <a:ext cx="119160" cy="1554120"/>
              <a:chOff x="3174840" y="4917960"/>
              <a:chExt cx="119160" cy="1554120"/>
            </a:xfrm>
          </p:grpSpPr>
          <p:sp>
            <p:nvSpPr>
              <p:cNvPr id="1234" name=""/>
              <p:cNvSpPr/>
              <p:nvPr/>
            </p:nvSpPr>
            <p:spPr>
              <a:xfrm>
                <a:off x="3174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294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4071960" y="4917960"/>
              <a:ext cx="119160" cy="1554120"/>
              <a:chOff x="4071960" y="4917960"/>
              <a:chExt cx="119160" cy="1554120"/>
            </a:xfrm>
          </p:grpSpPr>
          <p:sp>
            <p:nvSpPr>
              <p:cNvPr id="1237" name=""/>
              <p:cNvSpPr/>
              <p:nvPr/>
            </p:nvSpPr>
            <p:spPr>
              <a:xfrm>
                <a:off x="40719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911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4370400" y="4917960"/>
              <a:ext cx="119160" cy="1554120"/>
              <a:chOff x="4370400" y="4917960"/>
              <a:chExt cx="119160" cy="1554120"/>
            </a:xfrm>
          </p:grpSpPr>
          <p:sp>
            <p:nvSpPr>
              <p:cNvPr id="1240" name=""/>
              <p:cNvSpPr/>
              <p:nvPr/>
            </p:nvSpPr>
            <p:spPr>
              <a:xfrm>
                <a:off x="43704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4895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4967280" y="4917960"/>
              <a:ext cx="120600" cy="1554120"/>
              <a:chOff x="4967280" y="4917960"/>
              <a:chExt cx="120600" cy="1554120"/>
            </a:xfrm>
          </p:grpSpPr>
          <p:sp>
            <p:nvSpPr>
              <p:cNvPr id="1243" name=""/>
              <p:cNvSpPr/>
              <p:nvPr/>
            </p:nvSpPr>
            <p:spPr>
              <a:xfrm>
                <a:off x="49672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08788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5267160" y="4917960"/>
              <a:ext cx="119160" cy="1554120"/>
              <a:chOff x="5267160" y="4917960"/>
              <a:chExt cx="119160" cy="1554120"/>
            </a:xfrm>
          </p:grpSpPr>
          <p:sp>
            <p:nvSpPr>
              <p:cNvPr id="1246" name=""/>
              <p:cNvSpPr/>
              <p:nvPr/>
            </p:nvSpPr>
            <p:spPr>
              <a:xfrm>
                <a:off x="52671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38632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4668840" y="4917960"/>
              <a:ext cx="120600" cy="1554120"/>
              <a:chOff x="4668840" y="4917960"/>
              <a:chExt cx="120600" cy="1554120"/>
            </a:xfrm>
          </p:grpSpPr>
          <p:sp>
            <p:nvSpPr>
              <p:cNvPr id="1249" name=""/>
              <p:cNvSpPr/>
              <p:nvPr/>
            </p:nvSpPr>
            <p:spPr>
              <a:xfrm>
                <a:off x="46688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7894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5565600" y="4917960"/>
              <a:ext cx="119160" cy="1554120"/>
              <a:chOff x="5565600" y="4917960"/>
              <a:chExt cx="119160" cy="1554120"/>
            </a:xfrm>
          </p:grpSpPr>
          <p:sp>
            <p:nvSpPr>
              <p:cNvPr id="1252" name=""/>
              <p:cNvSpPr/>
              <p:nvPr/>
            </p:nvSpPr>
            <p:spPr>
              <a:xfrm>
                <a:off x="55656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68476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5864040" y="4917960"/>
              <a:ext cx="120960" cy="1554120"/>
              <a:chOff x="5864040" y="4917960"/>
              <a:chExt cx="120960" cy="1554120"/>
            </a:xfrm>
          </p:grpSpPr>
          <p:sp>
            <p:nvSpPr>
              <p:cNvPr id="1255" name=""/>
              <p:cNvSpPr/>
              <p:nvPr/>
            </p:nvSpPr>
            <p:spPr>
              <a:xfrm>
                <a:off x="586404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85000" y="4917960"/>
                <a:ext cx="0" cy="155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 flipH="1">
              <a:off x="3003120" y="6232320"/>
              <a:ext cx="17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102280" y="6232320"/>
              <a:ext cx="138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38600" y="6086520"/>
              <a:ext cx="604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759200" y="6205320"/>
              <a:ext cx="586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938840" y="6086520"/>
              <a:ext cx="58680" cy="586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057640" y="620532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93544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4" name=""/>
            <p:cNvGrpSpPr/>
            <p:nvPr/>
          </p:nvGrpSpPr>
          <p:grpSpPr>
            <a:xfrm>
              <a:off x="6413400" y="5041440"/>
              <a:ext cx="132840" cy="131400"/>
              <a:chOff x="6413400" y="5041440"/>
              <a:chExt cx="132840" cy="131400"/>
            </a:xfrm>
          </p:grpSpPr>
          <p:sp>
            <p:nvSpPr>
              <p:cNvPr id="1265" name=""/>
              <p:cNvSpPr/>
              <p:nvPr/>
            </p:nvSpPr>
            <p:spPr>
              <a:xfrm>
                <a:off x="6418440" y="504684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8440" y="5157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 flipV="1">
                <a:off x="6413400" y="504144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448320" y="505296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6447960" y="504216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0" name=""/>
            <p:cNvGrpSpPr/>
            <p:nvPr/>
          </p:nvGrpSpPr>
          <p:grpSpPr>
            <a:xfrm>
              <a:off x="6413400" y="5172120"/>
              <a:ext cx="132840" cy="129960"/>
              <a:chOff x="6413400" y="5172120"/>
              <a:chExt cx="132840" cy="129960"/>
            </a:xfrm>
          </p:grpSpPr>
          <p:sp>
            <p:nvSpPr>
              <p:cNvPr id="1271" name=""/>
              <p:cNvSpPr/>
              <p:nvPr/>
            </p:nvSpPr>
            <p:spPr>
              <a:xfrm>
                <a:off x="6418440" y="5176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418440" y="52765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6413400" y="517212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48320" y="518292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447960" y="517212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6413400" y="5302080"/>
              <a:ext cx="132840" cy="120240"/>
              <a:chOff x="6413400" y="5302080"/>
              <a:chExt cx="132840" cy="120240"/>
            </a:xfrm>
          </p:grpSpPr>
          <p:sp>
            <p:nvSpPr>
              <p:cNvPr id="1277" name=""/>
              <p:cNvSpPr/>
              <p:nvPr/>
            </p:nvSpPr>
            <p:spPr>
              <a:xfrm>
                <a:off x="6418440" y="53071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18440" y="5406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6413400" y="5302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48320" y="531324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47960" y="5302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2" name=""/>
            <p:cNvGrpSpPr/>
            <p:nvPr/>
          </p:nvGrpSpPr>
          <p:grpSpPr>
            <a:xfrm>
              <a:off x="6413400" y="5420880"/>
              <a:ext cx="132840" cy="130320"/>
              <a:chOff x="6413400" y="5420880"/>
              <a:chExt cx="132840" cy="130320"/>
            </a:xfrm>
          </p:grpSpPr>
          <p:sp>
            <p:nvSpPr>
              <p:cNvPr id="1283" name=""/>
              <p:cNvSpPr/>
              <p:nvPr/>
            </p:nvSpPr>
            <p:spPr>
              <a:xfrm>
                <a:off x="6418440" y="5425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18440" y="55353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6413400" y="542088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6448320" y="543204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447960" y="542088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6413400" y="5549400"/>
              <a:ext cx="132840" cy="131400"/>
              <a:chOff x="6413400" y="5549400"/>
              <a:chExt cx="132840" cy="131400"/>
            </a:xfrm>
          </p:grpSpPr>
          <p:sp>
            <p:nvSpPr>
              <p:cNvPr id="1289" name=""/>
              <p:cNvSpPr/>
              <p:nvPr/>
            </p:nvSpPr>
            <p:spPr>
              <a:xfrm>
                <a:off x="6418440" y="555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418440" y="5665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413400" y="5549400"/>
                <a:ext cx="0" cy="12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48320" y="556092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47960" y="555012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4" name=""/>
            <p:cNvGrpSpPr/>
            <p:nvPr/>
          </p:nvGrpSpPr>
          <p:grpSpPr>
            <a:xfrm>
              <a:off x="6413400" y="5680080"/>
              <a:ext cx="132840" cy="119880"/>
              <a:chOff x="6413400" y="5680080"/>
              <a:chExt cx="132840" cy="119880"/>
            </a:xfrm>
          </p:grpSpPr>
          <p:sp>
            <p:nvSpPr>
              <p:cNvPr id="1295" name=""/>
              <p:cNvSpPr/>
              <p:nvPr/>
            </p:nvSpPr>
            <p:spPr>
              <a:xfrm>
                <a:off x="6418440" y="568476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418440" y="57844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V="1">
                <a:off x="6413400" y="5680080"/>
                <a:ext cx="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48320" y="5690880"/>
                <a:ext cx="9792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47960" y="5680080"/>
                <a:ext cx="98280" cy="109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 flipH="1">
              <a:off x="6642000" y="6173640"/>
              <a:ext cx="1255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6413400" y="5798880"/>
              <a:ext cx="132840" cy="131040"/>
              <a:chOff x="6413400" y="5798880"/>
              <a:chExt cx="132840" cy="131040"/>
            </a:xfrm>
          </p:grpSpPr>
          <p:sp>
            <p:nvSpPr>
              <p:cNvPr id="1302" name=""/>
              <p:cNvSpPr/>
              <p:nvPr/>
            </p:nvSpPr>
            <p:spPr>
              <a:xfrm>
                <a:off x="6418440" y="58039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18440" y="591480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6413400" y="5798880"/>
                <a:ext cx="0" cy="120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448320" y="5810040"/>
                <a:ext cx="979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447960" y="5799240"/>
                <a:ext cx="9828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7" name=""/>
            <p:cNvGrpSpPr/>
            <p:nvPr/>
          </p:nvGrpSpPr>
          <p:grpSpPr>
            <a:xfrm>
              <a:off x="6413400" y="5928840"/>
              <a:ext cx="132840" cy="130320"/>
              <a:chOff x="6413400" y="5928840"/>
              <a:chExt cx="132840" cy="130320"/>
            </a:xfrm>
          </p:grpSpPr>
          <p:sp>
            <p:nvSpPr>
              <p:cNvPr id="1308" name=""/>
              <p:cNvSpPr/>
              <p:nvPr/>
            </p:nvSpPr>
            <p:spPr>
              <a:xfrm>
                <a:off x="6418440" y="593388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18440" y="6043320"/>
                <a:ext cx="78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6413400" y="592884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48320" y="5940000"/>
                <a:ext cx="9792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447960" y="5928840"/>
                <a:ext cx="98280" cy="11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3" name=""/>
            <p:cNvSpPr/>
            <p:nvPr/>
          </p:nvSpPr>
          <p:spPr>
            <a:xfrm>
              <a:off x="6227640" y="5411520"/>
              <a:ext cx="86652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228000" y="5422680"/>
              <a:ext cx="8661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596280" y="5422680"/>
              <a:ext cx="129600" cy="266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595920" y="5411520"/>
              <a:ext cx="129960" cy="29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61080" y="5102280"/>
              <a:ext cx="0" cy="30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6661080" y="568908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546960" y="5605200"/>
              <a:ext cx="16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546960" y="50972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546960" y="535608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46960" y="5486400"/>
              <a:ext cx="13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546960" y="586404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546960" y="59943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546960" y="522756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546960" y="573552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20080" y="557532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299360" y="5754600"/>
              <a:ext cx="10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718400" y="557532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99360" y="4917960"/>
              <a:ext cx="0" cy="15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897680" y="55753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2" name=""/>
            <p:cNvGrpSpPr/>
            <p:nvPr/>
          </p:nvGrpSpPr>
          <p:grpSpPr>
            <a:xfrm>
              <a:off x="7418520" y="5456160"/>
              <a:ext cx="293400" cy="358920"/>
              <a:chOff x="7418520" y="5456160"/>
              <a:chExt cx="293400" cy="358920"/>
            </a:xfrm>
          </p:grpSpPr>
          <p:sp>
            <p:nvSpPr>
              <p:cNvPr id="1333" name=""/>
              <p:cNvSpPr/>
              <p:nvPr/>
            </p:nvSpPr>
            <p:spPr>
              <a:xfrm>
                <a:off x="7439760" y="5492520"/>
                <a:ext cx="14616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44520" y="5492520"/>
                <a:ext cx="153720" cy="1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9080" rIns="19080" tIns="27000" bIns="27000" anchor="t">
                <a:noAutofit/>
              </a:bodyPr>
              <a:p>
                <a:pPr algn="r">
                  <a:lnSpc>
                    <a:spcPts val="1500"/>
                  </a:lnSpc>
                  <a:tabLst>
                    <a:tab algn="l" pos="0"/>
                    <a:tab algn="l" pos="457200"/>
                    <a:tab algn="l" pos="914400"/>
                    <a:tab algn="l" pos="137016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ahoma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18520" y="5456160"/>
                <a:ext cx="293400" cy="3589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418520" y="5707080"/>
                <a:ext cx="83520" cy="36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7418520" y="5743440"/>
                <a:ext cx="83520" cy="3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 flipH="1" flipV="1">
              <a:off x="2890440" y="6113520"/>
              <a:ext cx="178596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1628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281628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2816280" y="605304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H="1">
              <a:off x="2576520" y="61736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6470640" y="6053040"/>
              <a:ext cx="17928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70640" y="6173640"/>
              <a:ext cx="17928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6642000" y="6060960"/>
              <a:ext cx="0" cy="23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6484320" y="6203880"/>
              <a:ext cx="60120" cy="5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269120" y="5724360"/>
              <a:ext cx="60480" cy="6048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4600" y="5545080"/>
              <a:ext cx="60120" cy="60120"/>
            </a:xfrm>
            <a:prstGeom prst="ellipse">
              <a:avLst/>
            </a:prstGeom>
            <a:solidFill>
              <a:srgbClr val="cc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224840" y="5246280"/>
              <a:ext cx="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224840" y="5246640"/>
              <a:ext cx="74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16200000">
              <a:off x="7762680" y="5351040"/>
              <a:ext cx="544680" cy="119160"/>
            </a:xfrm>
            <a:custGeom>
              <a:avLst/>
              <a:gdLst>
                <a:gd name="textAreaLeft" fmla="*/ 91080 w 544680"/>
                <a:gd name="textAreaRight" fmla="*/ 453600 w 544680"/>
                <a:gd name="textAreaTop" fmla="*/ 19800 h 119160"/>
                <a:gd name="textAreaBottom" fmla="*/ 99360 h 11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247" y="21600"/>
                  </a:lnTo>
                  <a:lnTo>
                    <a:pt x="3353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099280" y="54036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8039160" y="563544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94520" y="5837040"/>
              <a:ext cx="88920" cy="88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975200" y="6116400"/>
              <a:ext cx="15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91960" y="238608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384040" y="3841560"/>
              <a:ext cx="4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Q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8372160" y="5286240"/>
              <a:ext cx="642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p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88040" y="592596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84800" y="447192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8002080" y="3030480"/>
              <a:ext cx="491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117560" y="1814400"/>
              <a:ext cx="49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265480" y="3162240"/>
              <a:ext cx="319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267640" y="4606920"/>
              <a:ext cx="313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943640" y="6072120"/>
              <a:ext cx="645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s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724280" y="357984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718160" y="3579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2428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718160" y="37083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428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718160" y="383832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72428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18160" y="2128680"/>
              <a:ext cx="13464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242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4718160" y="225900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724280" y="238896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4718160" y="238896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72428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718160" y="2517840"/>
              <a:ext cx="1346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05240" y="357984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4298760" y="3579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06800" y="370980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999960" y="370836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708360" y="384012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701520" y="383832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408480" y="384012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383832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827520" y="21304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820680" y="2128680"/>
              <a:ext cx="13500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408480" y="2135160"/>
              <a:ext cx="12996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401640" y="21351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0836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70152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529080" y="2260440"/>
              <a:ext cx="1285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522240" y="225900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305240" y="2388960"/>
              <a:ext cx="13032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4298760" y="238896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08480" y="2388960"/>
              <a:ext cx="129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401640" y="2388960"/>
              <a:ext cx="13644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05240" y="2519280"/>
              <a:ext cx="1303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4298760" y="2517840"/>
              <a:ext cx="1368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006800" y="2519280"/>
              <a:ext cx="128520" cy="13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999960" y="2517840"/>
              <a:ext cx="135000" cy="13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4" name=""/>
            <p:cNvGrpSpPr/>
            <p:nvPr/>
          </p:nvGrpSpPr>
          <p:grpSpPr>
            <a:xfrm>
              <a:off x="4717800" y="5029200"/>
              <a:ext cx="136440" cy="133200"/>
              <a:chOff x="4717800" y="5029200"/>
              <a:chExt cx="136440" cy="133200"/>
            </a:xfrm>
          </p:grpSpPr>
          <p:sp>
            <p:nvSpPr>
              <p:cNvPr id="1405" name=""/>
              <p:cNvSpPr/>
              <p:nvPr/>
            </p:nvSpPr>
            <p:spPr>
              <a:xfrm>
                <a:off x="472428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H="1">
                <a:off x="471780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4717800" y="5162400"/>
              <a:ext cx="136440" cy="133200"/>
              <a:chOff x="4717800" y="5162400"/>
              <a:chExt cx="136440" cy="133200"/>
            </a:xfrm>
          </p:grpSpPr>
          <p:sp>
            <p:nvSpPr>
              <p:cNvPr id="1408" name=""/>
              <p:cNvSpPr/>
              <p:nvPr/>
            </p:nvSpPr>
            <p:spPr>
              <a:xfrm>
                <a:off x="4724280" y="51638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 flipH="1">
                <a:off x="4717800" y="51624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4717800" y="5295960"/>
              <a:ext cx="136440" cy="133200"/>
              <a:chOff x="4717800" y="5295960"/>
              <a:chExt cx="136440" cy="133200"/>
            </a:xfrm>
          </p:grpSpPr>
          <p:sp>
            <p:nvSpPr>
              <p:cNvPr id="1411" name=""/>
              <p:cNvSpPr/>
              <p:nvPr/>
            </p:nvSpPr>
            <p:spPr>
              <a:xfrm>
                <a:off x="4724280" y="52974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>
                <a:off x="4717800" y="52959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4717800" y="5416560"/>
              <a:ext cx="136440" cy="133200"/>
              <a:chOff x="4717800" y="5416560"/>
              <a:chExt cx="136440" cy="133200"/>
            </a:xfrm>
          </p:grpSpPr>
          <p:sp>
            <p:nvSpPr>
              <p:cNvPr id="1414" name=""/>
              <p:cNvSpPr/>
              <p:nvPr/>
            </p:nvSpPr>
            <p:spPr>
              <a:xfrm>
                <a:off x="472428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 flipH="1">
                <a:off x="471780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4717800" y="5537160"/>
              <a:ext cx="136440" cy="133200"/>
              <a:chOff x="4717800" y="5537160"/>
              <a:chExt cx="136440" cy="133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472428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 flipH="1">
                <a:off x="471780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9" name=""/>
            <p:cNvGrpSpPr/>
            <p:nvPr/>
          </p:nvGrpSpPr>
          <p:grpSpPr>
            <a:xfrm>
              <a:off x="4298760" y="5029200"/>
              <a:ext cx="136800" cy="133200"/>
              <a:chOff x="4298760" y="5029200"/>
              <a:chExt cx="136800" cy="133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430524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429876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3701880" y="5029200"/>
              <a:ext cx="136800" cy="133200"/>
              <a:chOff x="3701880" y="5029200"/>
              <a:chExt cx="136800" cy="133200"/>
            </a:xfrm>
          </p:grpSpPr>
          <p:sp>
            <p:nvSpPr>
              <p:cNvPr id="1423" name=""/>
              <p:cNvSpPr/>
              <p:nvPr/>
            </p:nvSpPr>
            <p:spPr>
              <a:xfrm>
                <a:off x="3708360" y="50306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H="1">
                <a:off x="3701880" y="50292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5" name=""/>
            <p:cNvGrpSpPr/>
            <p:nvPr/>
          </p:nvGrpSpPr>
          <p:grpSpPr>
            <a:xfrm>
              <a:off x="3517560" y="5029200"/>
              <a:ext cx="136440" cy="133200"/>
              <a:chOff x="3517560" y="5029200"/>
              <a:chExt cx="136440" cy="133200"/>
            </a:xfrm>
          </p:grpSpPr>
          <p:sp>
            <p:nvSpPr>
              <p:cNvPr id="1426" name=""/>
              <p:cNvSpPr/>
              <p:nvPr/>
            </p:nvSpPr>
            <p:spPr>
              <a:xfrm>
                <a:off x="3524040" y="503064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 flipH="1">
                <a:off x="3517560" y="502920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8" name=""/>
            <p:cNvGrpSpPr/>
            <p:nvPr/>
          </p:nvGrpSpPr>
          <p:grpSpPr>
            <a:xfrm>
              <a:off x="4298760" y="5162400"/>
              <a:ext cx="136800" cy="133200"/>
              <a:chOff x="4298760" y="5162400"/>
              <a:chExt cx="136800" cy="133200"/>
            </a:xfrm>
          </p:grpSpPr>
          <p:sp>
            <p:nvSpPr>
              <p:cNvPr id="1429" name=""/>
              <p:cNvSpPr/>
              <p:nvPr/>
            </p:nvSpPr>
            <p:spPr>
              <a:xfrm>
                <a:off x="430524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29876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403440" y="5162400"/>
              <a:ext cx="136800" cy="133200"/>
              <a:chOff x="3403440" y="5162400"/>
              <a:chExt cx="136800" cy="133200"/>
            </a:xfrm>
          </p:grpSpPr>
          <p:sp>
            <p:nvSpPr>
              <p:cNvPr id="1432" name=""/>
              <p:cNvSpPr/>
              <p:nvPr/>
            </p:nvSpPr>
            <p:spPr>
              <a:xfrm>
                <a:off x="3409920" y="516384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 flipH="1">
                <a:off x="3403440" y="516240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4" name=""/>
            <p:cNvGrpSpPr/>
            <p:nvPr/>
          </p:nvGrpSpPr>
          <p:grpSpPr>
            <a:xfrm>
              <a:off x="4012920" y="5302080"/>
              <a:ext cx="136440" cy="133200"/>
              <a:chOff x="4012920" y="5302080"/>
              <a:chExt cx="136440" cy="133200"/>
            </a:xfrm>
          </p:grpSpPr>
          <p:sp>
            <p:nvSpPr>
              <p:cNvPr id="1435" name=""/>
              <p:cNvSpPr/>
              <p:nvPr/>
            </p:nvSpPr>
            <p:spPr>
              <a:xfrm>
                <a:off x="4019400" y="530352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 flipH="1">
                <a:off x="4012920" y="530208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4298760" y="5295960"/>
              <a:ext cx="136800" cy="133200"/>
              <a:chOff x="4298760" y="5295960"/>
              <a:chExt cx="136800" cy="133200"/>
            </a:xfrm>
          </p:grpSpPr>
          <p:sp>
            <p:nvSpPr>
              <p:cNvPr id="1438" name=""/>
              <p:cNvSpPr/>
              <p:nvPr/>
            </p:nvSpPr>
            <p:spPr>
              <a:xfrm>
                <a:off x="4305240" y="52974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H="1">
                <a:off x="4298760" y="52959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0" name=""/>
            <p:cNvGrpSpPr/>
            <p:nvPr/>
          </p:nvGrpSpPr>
          <p:grpSpPr>
            <a:xfrm>
              <a:off x="3822480" y="5416560"/>
              <a:ext cx="136440" cy="133200"/>
              <a:chOff x="3822480" y="5416560"/>
              <a:chExt cx="136440" cy="133200"/>
            </a:xfrm>
          </p:grpSpPr>
          <p:sp>
            <p:nvSpPr>
              <p:cNvPr id="1441" name=""/>
              <p:cNvSpPr/>
              <p:nvPr/>
            </p:nvSpPr>
            <p:spPr>
              <a:xfrm>
                <a:off x="3828960" y="54180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 flipH="1">
                <a:off x="3822480" y="54165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3" name=""/>
            <p:cNvGrpSpPr/>
            <p:nvPr/>
          </p:nvGrpSpPr>
          <p:grpSpPr>
            <a:xfrm>
              <a:off x="3403440" y="5416560"/>
              <a:ext cx="136800" cy="133200"/>
              <a:chOff x="3403440" y="5416560"/>
              <a:chExt cx="136800" cy="133200"/>
            </a:xfrm>
          </p:grpSpPr>
          <p:sp>
            <p:nvSpPr>
              <p:cNvPr id="1444" name=""/>
              <p:cNvSpPr/>
              <p:nvPr/>
            </p:nvSpPr>
            <p:spPr>
              <a:xfrm>
                <a:off x="3409920" y="54180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H="1">
                <a:off x="3403440" y="54165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4000320" y="5422680"/>
              <a:ext cx="136800" cy="133200"/>
              <a:chOff x="4000320" y="5422680"/>
              <a:chExt cx="136800" cy="133200"/>
            </a:xfrm>
          </p:grpSpPr>
          <p:sp>
            <p:nvSpPr>
              <p:cNvPr id="1447" name=""/>
              <p:cNvSpPr/>
              <p:nvPr/>
            </p:nvSpPr>
            <p:spPr>
              <a:xfrm>
                <a:off x="4006800" y="54241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H="1">
                <a:off x="4000320" y="54226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3701880" y="5543280"/>
              <a:ext cx="136800" cy="133200"/>
              <a:chOff x="3701880" y="5543280"/>
              <a:chExt cx="136800" cy="133200"/>
            </a:xfrm>
          </p:grpSpPr>
          <p:sp>
            <p:nvSpPr>
              <p:cNvPr id="1450" name=""/>
              <p:cNvSpPr/>
              <p:nvPr/>
            </p:nvSpPr>
            <p:spPr>
              <a:xfrm>
                <a:off x="3708360" y="554472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>
                <a:off x="3701880" y="554328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2" name=""/>
            <p:cNvGrpSpPr/>
            <p:nvPr/>
          </p:nvGrpSpPr>
          <p:grpSpPr>
            <a:xfrm>
              <a:off x="3517560" y="5537160"/>
              <a:ext cx="136440" cy="133200"/>
              <a:chOff x="3517560" y="5537160"/>
              <a:chExt cx="136440" cy="133200"/>
            </a:xfrm>
          </p:grpSpPr>
          <p:sp>
            <p:nvSpPr>
              <p:cNvPr id="1453" name=""/>
              <p:cNvSpPr/>
              <p:nvPr/>
            </p:nvSpPr>
            <p:spPr>
              <a:xfrm>
                <a:off x="3524040" y="5538600"/>
                <a:ext cx="12996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H="1">
                <a:off x="3517560" y="5537160"/>
                <a:ext cx="13644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4000320" y="5537160"/>
              <a:ext cx="136800" cy="133200"/>
              <a:chOff x="4000320" y="5537160"/>
              <a:chExt cx="136800" cy="133200"/>
            </a:xfrm>
          </p:grpSpPr>
          <p:sp>
            <p:nvSpPr>
              <p:cNvPr id="1456" name=""/>
              <p:cNvSpPr/>
              <p:nvPr/>
            </p:nvSpPr>
            <p:spPr>
              <a:xfrm>
                <a:off x="4006800" y="5538600"/>
                <a:ext cx="13032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4000320" y="5537160"/>
                <a:ext cx="136800" cy="13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7D2-70E1-45C4-AFE7-95799D596E8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63320" y="281160"/>
            <a:ext cx="8343720" cy="1155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22V10 P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63320" y="1620360"/>
            <a:ext cx="8343720" cy="4589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So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ements (D-FF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out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10 F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 to 22 inpu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spcBef>
                <a:spcPts val="550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" descr=""/>
          <p:cNvPicPr/>
          <p:nvPr/>
        </p:nvPicPr>
        <p:blipFill>
          <a:blip r:embed="rId1"/>
          <a:stretch/>
        </p:blipFill>
        <p:spPr>
          <a:xfrm>
            <a:off x="3706920" y="385920"/>
            <a:ext cx="5257800" cy="628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Copyright 2004, Gaetano Borriello and Randy H. Katz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722-50A5-42DA-8D30-AA7C891421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X - Sequential Logic Technology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1T12:03:47Z</dcterms:created>
  <dc:creator>Gaetano Borriello</dc:creator>
  <dc:description/>
  <dc:language>en-US</dc:language>
  <cp:lastModifiedBy>Gaetano Borriello</cp:lastModifiedBy>
  <cp:lastPrinted>2000-05-11T19:00:15Z</cp:lastPrinted>
  <dcterms:modified xsi:type="dcterms:W3CDTF">2005-01-24T07:01:51Z</dcterms:modified>
  <cp:revision>36</cp:revision>
  <dc:subject/>
  <dc:title>Sequential logic imple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cs.washington.edu/education/courses/370/00sp</vt:lpwstr>
  </property>
  <property fmtid="{D5CDD505-2E9C-101B-9397-08002B2CF9AE}" pid="9" name="LinkColor">
    <vt:r8>16711782</vt:r8>
  </property>
  <property fmtid="{D5CDD505-2E9C-101B-9397-08002B2CF9AE}" pid="10" name="MailAddress">
    <vt:lpwstr>cse370-webmaster@cs.washington.edu</vt:lpwstr>
  </property>
  <property fmtid="{D5CDD505-2E9C-101B-9397-08002B2CF9AE}" pid="11" name="NavBtnPos">
    <vt:r8>4</vt:r8>
  </property>
  <property fmtid="{D5CDD505-2E9C-101B-9397-08002B2CF9AE}" pid="12" name="Other">
    <vt:lpwstr/>
  </property>
  <property fmtid="{D5CDD505-2E9C-101B-9397-08002B2CF9AE}" pid="13" name="OutputDir">
    <vt:lpwstr>C:\WINNT\Profiles\gaetano\Desktop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