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3E6-C2CB-4E71-B678-EC0817CD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AEC-A5F0-4A26-BAAD-A9F54D06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6096-DB84-495D-9CDC-014640FA5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B22-F814-44CF-8100-7A45B0232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1B2-D327-46D6-9B45-12C9AA9E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1AD8-8344-43FC-9760-78C3E6A4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2475-BA2B-4707-A7B2-83F0335E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47C2-3998-430A-A12A-FF41BEF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FF19-FFA5-482C-9C29-04FA7AA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D00E-35CF-4823-A66D-4FEB1809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2E61-DB61-434A-9D14-2664720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826-6D7E-4107-B4DD-EC3E3852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49AC-E5A2-4636-AE7C-14F44311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963-3256-4ADF-9002-F414394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9F53-E00B-41B6-9536-5A161639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864E-47E9-4D04-9954-460724530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CE1F-6DBB-4220-AE0A-E1A49410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9C8-B3ED-426A-BEA3-80CFC940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EC9-A752-4D2E-943E-DEDECEBE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BC56-B25E-496A-8484-F70C68F6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E89-FD26-4099-81EC-3C8650CF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FC31-D454-49F5-B939-700841A4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570-4C9B-4DB9-9B0D-560BE56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39D4-C0A0-4B04-8490-6C2EA4E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4440" y="6400800"/>
            <a:ext cx="398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961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FEB2-6C57-4004-B15A-B1BA149E13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4B1A-38EB-49B6-8A35-DCC9BBB273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y study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vious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urse is part of the CS/CompE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the implementation basis for all modern computing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large things from small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 model of how a computer 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important rea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herent parallelism in hardware is often our first exposure to parallel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offers an interesting counterpoint to software design and is theref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in furthering our understanding of computation, 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08E-E41E-4AF7-B67A-113C8E15749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92600" y="2873520"/>
            <a:ext cx="407052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 switch (if A is “1” or 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n light bulb (Z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924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2600" y="248616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5336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92600" y="4554360"/>
            <a:ext cx="4070520" cy="10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switch (if A is “0” or unasser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 turn off light bulb (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: basic element of physical implementa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ing a simple circuit (arrow shows action if wire changes to “1”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11400" y="5734080"/>
            <a:ext cx="8773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314316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8620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895480" y="360036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219320" y="36003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219320" y="3143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1431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23720" y="2592360"/>
            <a:ext cx="762480" cy="550800"/>
            <a:chOff x="3123720" y="2592360"/>
            <a:chExt cx="762480" cy="550800"/>
          </a:xfrm>
        </p:grpSpPr>
        <p:sp>
          <p:nvSpPr>
            <p:cNvPr id="127" name=""/>
            <p:cNvSpPr/>
            <p:nvPr/>
          </p:nvSpPr>
          <p:spPr>
            <a:xfrm>
              <a:off x="3408120" y="27115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360" y="259236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57360" y="273672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83000" y="272412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33760" y="271152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70320" y="282420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546360" y="281160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429000" y="305748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52840" y="304308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8120" y="269856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8128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123720" y="31431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752480" y="2914200"/>
            <a:ext cx="609840" cy="305280"/>
            <a:chOff x="1752480" y="2914200"/>
            <a:chExt cx="609840" cy="305280"/>
          </a:xfrm>
        </p:grpSpPr>
        <p:sp>
          <p:nvSpPr>
            <p:cNvPr id="140" name=""/>
            <p:cNvSpPr/>
            <p:nvPr/>
          </p:nvSpPr>
          <p:spPr>
            <a:xfrm flipH="1" flipV="1">
              <a:off x="1905120" y="29142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52480" y="30668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14600" y="3371760"/>
            <a:ext cx="380880" cy="457200"/>
            <a:chOff x="2514600" y="3371760"/>
            <a:chExt cx="380880" cy="457200"/>
          </a:xfrm>
        </p:grpSpPr>
        <p:sp>
          <p:nvSpPr>
            <p:cNvPr id="144" name=""/>
            <p:cNvSpPr/>
            <p:nvPr/>
          </p:nvSpPr>
          <p:spPr>
            <a:xfrm>
              <a:off x="289548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4320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6688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33717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14600" y="34480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192400" y="429264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434016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481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8620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895480" y="5276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219320" y="52768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219320" y="481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4819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123720" y="4268880"/>
            <a:ext cx="762480" cy="550800"/>
            <a:chOff x="3123720" y="4268880"/>
            <a:chExt cx="762480" cy="550800"/>
          </a:xfrm>
        </p:grpSpPr>
        <p:sp>
          <p:nvSpPr>
            <p:cNvPr id="159" name=""/>
            <p:cNvSpPr/>
            <p:nvPr/>
          </p:nvSpPr>
          <p:spPr>
            <a:xfrm>
              <a:off x="3408120" y="43880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4268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7360" y="4413240"/>
              <a:ext cx="1126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3000" y="4400640"/>
              <a:ext cx="11412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33760" y="4388040"/>
              <a:ext cx="11088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370320" y="4500720"/>
              <a:ext cx="7596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546360" y="4488120"/>
              <a:ext cx="8568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429000" y="4734000"/>
              <a:ext cx="23760" cy="8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52840" y="4719600"/>
              <a:ext cx="28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8120" y="4375080"/>
              <a:ext cx="112680" cy="113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8128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123720" y="48196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752480" y="4743360"/>
            <a:ext cx="609840" cy="152280"/>
            <a:chOff x="1752480" y="4743360"/>
            <a:chExt cx="609840" cy="152280"/>
          </a:xfrm>
        </p:grpSpPr>
        <p:sp>
          <p:nvSpPr>
            <p:cNvPr id="172" name=""/>
            <p:cNvSpPr/>
            <p:nvPr/>
          </p:nvSpPr>
          <p:spPr>
            <a:xfrm flipH="1">
              <a:off x="1828800" y="481968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096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52480" y="474336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2514600" y="5048280"/>
            <a:ext cx="380880" cy="457200"/>
            <a:chOff x="2514600" y="5048280"/>
            <a:chExt cx="380880" cy="457200"/>
          </a:xfrm>
        </p:grpSpPr>
        <p:sp>
          <p:nvSpPr>
            <p:cNvPr id="176" name=""/>
            <p:cNvSpPr/>
            <p:nvPr/>
          </p:nvSpPr>
          <p:spPr>
            <a:xfrm>
              <a:off x="289548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1952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4320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90920" y="5048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514600" y="5124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3809880" y="4133880"/>
            <a:ext cx="5511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3A5-709F-41D9-8498-0526C79DD50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0" y="2521080"/>
            <a:ext cx="90180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36760" y="4376880"/>
            <a:ext cx="750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005280" y="2816280"/>
            <a:ext cx="2017080" cy="218880"/>
            <a:chOff x="3005280" y="2816280"/>
            <a:chExt cx="2017080" cy="218880"/>
          </a:xfrm>
        </p:grpSpPr>
        <p:sp>
          <p:nvSpPr>
            <p:cNvPr id="186" name=""/>
            <p:cNvSpPr/>
            <p:nvPr/>
          </p:nvSpPr>
          <p:spPr>
            <a:xfrm>
              <a:off x="30052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56360" y="2816280"/>
              <a:ext cx="32544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9440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5480" y="2816280"/>
              <a:ext cx="325800" cy="21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83880" y="303516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30560" y="4878360"/>
            <a:ext cx="55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89280" y="46594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95760" y="5105520"/>
            <a:ext cx="21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19680" y="5110200"/>
            <a:ext cx="32544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7720" y="510552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478400" y="4646520"/>
            <a:ext cx="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244760" y="4653000"/>
            <a:ext cx="23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906360" y="4421160"/>
            <a:ext cx="351000" cy="2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682800" y="4653000"/>
            <a:ext cx="23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84520" y="4878360"/>
            <a:ext cx="438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0036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89480" y="255276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64040" y="417024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64040" y="52992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06680" y="2990880"/>
            <a:ext cx="1126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068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94000" y="2990880"/>
            <a:ext cx="11448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21240" y="2990880"/>
            <a:ext cx="114120" cy="114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0360" y="4610160"/>
            <a:ext cx="1126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70360" y="5060880"/>
            <a:ext cx="1126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4000" y="5048280"/>
            <a:ext cx="114480" cy="112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94000" y="4610160"/>
            <a:ext cx="114480" cy="111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80080" y="2647800"/>
            <a:ext cx="15778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03840" y="4552920"/>
            <a:ext cx="14540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638520" y="2359080"/>
            <a:ext cx="549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27640" y="2333520"/>
            <a:ext cx="5508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14800" y="3925800"/>
            <a:ext cx="5493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87920" y="5492880"/>
            <a:ext cx="550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e switches into more complex ones (Boolean func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AAE7-9E64-4B96-B58B-5732D4C2383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witching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sett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whether or not a conducting path exists to ligh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ght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uild larger compu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light bulb (output of the network) to set other switches (inputs to another networ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 together switching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struct larger  switching networks, i.e., there is a way to connect outputs of one network to the inputs of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BA5-817B-4816-9830-5BB27F4A054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362320" y="3139920"/>
            <a:ext cx="14666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duct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th compos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witch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38720" y="3228840"/>
            <a:ext cx="163080" cy="763200"/>
            <a:chOff x="5238720" y="3228840"/>
            <a:chExt cx="163080" cy="763200"/>
          </a:xfrm>
        </p:grpSpPr>
        <p:sp>
          <p:nvSpPr>
            <p:cNvPr id="225" name=""/>
            <p:cNvSpPr/>
            <p:nvPr/>
          </p:nvSpPr>
          <p:spPr>
            <a:xfrm>
              <a:off x="5238720" y="32288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88760" y="340380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38720" y="33411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8760" y="327852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8720" y="34664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88760" y="36417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38720" y="357912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88760" y="351648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38720" y="370404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88760" y="3879360"/>
              <a:ext cx="113040" cy="112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38720" y="381708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88760" y="3754440"/>
              <a:ext cx="113040" cy="112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246480" y="4307040"/>
            <a:ext cx="3395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rrent flowing through coi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gnetizes core and causes norm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d (nc) contact to be pulled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30680" y="5092560"/>
            <a:ext cx="42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no current flows, the spring of the contac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turns it to its normal 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lay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151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way to convert between conducting paths and switch settings is to use (electro-mechanical) rel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a relay?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determines the switching speed of a relay net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72000" y="2838600"/>
            <a:ext cx="380880" cy="457200"/>
            <a:chOff x="4572000" y="2838600"/>
            <a:chExt cx="380880" cy="457200"/>
          </a:xfrm>
        </p:grpSpPr>
        <p:sp>
          <p:nvSpPr>
            <p:cNvPr id="242" name=""/>
            <p:cNvSpPr/>
            <p:nvPr/>
          </p:nvSpPr>
          <p:spPr>
            <a:xfrm>
              <a:off x="495288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7692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0060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48320" y="28386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2914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952880" y="3067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038480" y="30672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56272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63868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054240"/>
            <a:ext cx="0" cy="18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3981600"/>
            <a:ext cx="0" cy="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038480" y="4057560"/>
            <a:ext cx="130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3981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299088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86400" y="26859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91456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19920" y="26100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19920" y="2838600"/>
            <a:ext cx="152280" cy="152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6859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321948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5089680" y="2330280"/>
            <a:ext cx="1484280" cy="1587240"/>
            <a:chOff x="5089680" y="2330280"/>
            <a:chExt cx="1484280" cy="1587240"/>
          </a:xfrm>
        </p:grpSpPr>
        <p:grpSp>
          <p:nvGrpSpPr>
            <p:cNvPr id="264" name=""/>
            <p:cNvGrpSpPr/>
            <p:nvPr/>
          </p:nvGrpSpPr>
          <p:grpSpPr>
            <a:xfrm>
              <a:off x="5245200" y="2330280"/>
              <a:ext cx="1328760" cy="914400"/>
              <a:chOff x="5245200" y="2330280"/>
              <a:chExt cx="1328760" cy="914400"/>
            </a:xfrm>
          </p:grpSpPr>
          <p:sp>
            <p:nvSpPr>
              <p:cNvPr id="265" name=""/>
              <p:cNvSpPr/>
              <p:nvPr/>
            </p:nvSpPr>
            <p:spPr>
              <a:xfrm>
                <a:off x="5245200" y="2330280"/>
                <a:ext cx="1328760" cy="91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84960" y="270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018120" y="26236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018120" y="2852280"/>
                <a:ext cx="152640" cy="1526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5468040" y="2802960"/>
                <a:ext cx="643320" cy="254880"/>
                <a:chOff x="5468040" y="2802960"/>
                <a:chExt cx="643320" cy="254880"/>
              </a:xfrm>
            </p:grpSpPr>
            <p:sp>
              <p:nvSpPr>
                <p:cNvPr id="270" name=""/>
                <p:cNvSpPr/>
                <p:nvPr/>
              </p:nvSpPr>
              <p:spPr>
                <a:xfrm flipV="1">
                  <a:off x="5514480" y="2934360"/>
                  <a:ext cx="596880" cy="123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rot="20899200">
                  <a:off x="5489280" y="2815920"/>
                  <a:ext cx="152280" cy="228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2" name=""/>
            <p:cNvSpPr/>
            <p:nvPr/>
          </p:nvSpPr>
          <p:spPr>
            <a:xfrm>
              <a:off x="5089680" y="3296880"/>
              <a:ext cx="0" cy="62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4AB5-EC9F-4F5A-B605-914B41E727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nsistor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s aren't used much anym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raffic light controllers are still electro-mechan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digital systems are designed in CMOS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tands for Metal-Oxide on Semicon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is for complementary because there are both normally-open and normally-closed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act as voltage-controlled 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, though easier to work with than relay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B851-977E-41C3-AE46-1B237943F1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86364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gt; voltage (S)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8520" y="4713120"/>
            <a:ext cx="34718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-cha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sed when voltage at G is lo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s wh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ltage(G) &lt; voltage (S)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transist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 transistors have three terminals: drain, gate, and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as switches in the following wa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voltage on the gate terminal is (some amount) higher/lower than the source terminal then a conducting path will be established between the drain and source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350532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62720" y="4221000"/>
            <a:ext cx="32544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0920" y="4221000"/>
            <a:ext cx="2808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65480" y="3475080"/>
            <a:ext cx="6271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4191120"/>
            <a:ext cx="325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8400" y="4191120"/>
            <a:ext cx="2808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913040" y="3809520"/>
            <a:ext cx="1371600" cy="533880"/>
            <a:chOff x="1913040" y="3809520"/>
            <a:chExt cx="1371600" cy="533880"/>
          </a:xfrm>
        </p:grpSpPr>
        <p:sp>
          <p:nvSpPr>
            <p:cNvPr id="286" name=""/>
            <p:cNvSpPr/>
            <p:nvPr/>
          </p:nvSpPr>
          <p:spPr>
            <a:xfrm flipV="1">
              <a:off x="2370240" y="4114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7024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27440" y="4114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74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70240" y="4038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598840" y="3809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913040" y="4343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875200" y="3839760"/>
            <a:ext cx="1371600" cy="533880"/>
            <a:chOff x="5875200" y="3839760"/>
            <a:chExt cx="1371600" cy="533880"/>
          </a:xfrm>
        </p:grpSpPr>
        <p:sp>
          <p:nvSpPr>
            <p:cNvPr id="294" name=""/>
            <p:cNvSpPr/>
            <p:nvPr/>
          </p:nvSpPr>
          <p:spPr>
            <a:xfrm flipV="1">
              <a:off x="6332400" y="4144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2400" y="41450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89600" y="41450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896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32400" y="4068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61000" y="3839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5875200" y="4373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00880" y="39434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B182-5E29-460B-8912-3FE882FE7F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3124080" y="32004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11120" y="3048120"/>
            <a:ext cx="3654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808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5080" y="213372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65760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251424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11840" y="3745080"/>
            <a:ext cx="888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61080" y="3570120"/>
            <a:ext cx="19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64400" y="3156120"/>
            <a:ext cx="0" cy="159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51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078680" y="313056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24440" y="422100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38120" y="4255920"/>
            <a:ext cx="338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86280" y="2065320"/>
            <a:ext cx="21052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 and 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1752480" y="3885840"/>
            <a:ext cx="1371600" cy="533880"/>
            <a:chOff x="1752480" y="3885840"/>
            <a:chExt cx="1371600" cy="533880"/>
          </a:xfrm>
        </p:grpSpPr>
        <p:sp>
          <p:nvSpPr>
            <p:cNvPr id="318" name=""/>
            <p:cNvSpPr/>
            <p:nvPr/>
          </p:nvSpPr>
          <p:spPr>
            <a:xfrm flipV="1">
              <a:off x="2209680" y="41907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41911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41911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68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438280" y="38858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752480" y="44197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752480" y="2666520"/>
            <a:ext cx="1371600" cy="533880"/>
            <a:chOff x="1752480" y="2666520"/>
            <a:chExt cx="1371600" cy="533880"/>
          </a:xfrm>
        </p:grpSpPr>
        <p:sp>
          <p:nvSpPr>
            <p:cNvPr id="326" name=""/>
            <p:cNvSpPr/>
            <p:nvPr/>
          </p:nvSpPr>
          <p:spPr>
            <a:xfrm flipV="1">
              <a:off x="2209680" y="29714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09680" y="29718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666880" y="29718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668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09680" y="28954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438280" y="266652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1752480" y="3200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78160" y="2770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048120" y="37339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48360" y="422604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73536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0080" y="3657600"/>
            <a:ext cx="89676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CE9E-044E-4DCC-ADB4-A12BBF15EF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834080" y="3686040"/>
            <a:ext cx="384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737400" y="3335400"/>
            <a:ext cx="0" cy="2205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21440" y="324648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48440" y="324648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01000" y="325908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029200" y="3852720"/>
            <a:ext cx="1773360" cy="1730160"/>
            <a:chOff x="5029200" y="3852720"/>
            <a:chExt cx="1773360" cy="1730160"/>
          </a:xfrm>
        </p:grpSpPr>
        <p:sp>
          <p:nvSpPr>
            <p:cNvPr id="344" name=""/>
            <p:cNvSpPr/>
            <p:nvPr/>
          </p:nvSpPr>
          <p:spPr>
            <a:xfrm>
              <a:off x="5900760" y="3852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3360" y="429084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13360" y="4730400"/>
              <a:ext cx="889200" cy="4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13360" y="5168880"/>
              <a:ext cx="8892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29200" y="38653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42955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29200" y="4725720"/>
              <a:ext cx="88884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1800" y="5157720"/>
              <a:ext cx="88920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9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 vo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21360" y="2081160"/>
            <a:ext cx="230508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at  i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tionship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etween x, y and z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 input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"/>
          <p:cNvSpPr/>
          <p:nvPr/>
        </p:nvSpPr>
        <p:spPr>
          <a:xfrm>
            <a:off x="3659040" y="212400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0800" y="1940040"/>
            <a:ext cx="365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59040" y="2962440"/>
            <a:ext cx="457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44760" y="1209600"/>
            <a:ext cx="3618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38600" y="1209600"/>
            <a:ext cx="3632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7796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330984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92160" y="2962440"/>
            <a:ext cx="1371600" cy="533160"/>
            <a:chOff x="992160" y="2962440"/>
            <a:chExt cx="1371600" cy="533160"/>
          </a:xfrm>
        </p:grpSpPr>
        <p:sp>
          <p:nvSpPr>
            <p:cNvPr id="362" name=""/>
            <p:cNvSpPr/>
            <p:nvPr/>
          </p:nvSpPr>
          <p:spPr>
            <a:xfrm flipV="1">
              <a:off x="14493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936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656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065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936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167796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99216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92160" y="1590840"/>
            <a:ext cx="1371600" cy="533160"/>
            <a:chOff x="992160" y="1590840"/>
            <a:chExt cx="1371600" cy="533160"/>
          </a:xfrm>
        </p:grpSpPr>
        <p:sp>
          <p:nvSpPr>
            <p:cNvPr id="370" name=""/>
            <p:cNvSpPr/>
            <p:nvPr/>
          </p:nvSpPr>
          <p:spPr>
            <a:xfrm flipV="1">
              <a:off x="14493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9360" y="1895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906560" y="1895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65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49360" y="1819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677960" y="1590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992160" y="2124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7840" y="1693800"/>
              <a:ext cx="114120" cy="113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2287440" y="2962440"/>
            <a:ext cx="1371600" cy="533160"/>
            <a:chOff x="2287440" y="2962440"/>
            <a:chExt cx="1371600" cy="533160"/>
          </a:xfrm>
        </p:grpSpPr>
        <p:sp>
          <p:nvSpPr>
            <p:cNvPr id="379" name=""/>
            <p:cNvSpPr/>
            <p:nvPr/>
          </p:nvSpPr>
          <p:spPr>
            <a:xfrm flipV="1">
              <a:off x="27446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4640" y="3267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201840" y="32670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018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4640" y="31906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2973240" y="29624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2287440" y="34956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flipH="1">
            <a:off x="1144080" y="27338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287440" y="21240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973240" y="159048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44440" y="2124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92560" y="2809800"/>
            <a:ext cx="363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2287440" y="2199960"/>
            <a:ext cx="1371600" cy="533880"/>
            <a:chOff x="2287440" y="2199960"/>
            <a:chExt cx="1371600" cy="533880"/>
          </a:xfrm>
        </p:grpSpPr>
        <p:sp>
          <p:nvSpPr>
            <p:cNvPr id="392" name=""/>
            <p:cNvSpPr/>
            <p:nvPr/>
          </p:nvSpPr>
          <p:spPr>
            <a:xfrm flipV="1">
              <a:off x="2744640" y="2504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4640" y="2505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01840" y="2505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18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44640" y="2428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2973240" y="2199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7440" y="2733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13120" y="2303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068480" y="2048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583080" y="2657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83080" y="28861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59040" y="4791240"/>
            <a:ext cx="0" cy="137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50800" y="4606920"/>
            <a:ext cx="365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9040" y="5324400"/>
            <a:ext cx="4572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44760" y="3876840"/>
            <a:ext cx="3618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38600" y="3876840"/>
            <a:ext cx="363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677960" y="4257360"/>
            <a:ext cx="0" cy="145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5977080"/>
            <a:ext cx="3380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5628960"/>
            <a:ext cx="1371600" cy="533880"/>
            <a:chOff x="992160" y="5628960"/>
            <a:chExt cx="1371600" cy="533880"/>
          </a:xfrm>
        </p:grpSpPr>
        <p:sp>
          <p:nvSpPr>
            <p:cNvPr id="411" name=""/>
            <p:cNvSpPr/>
            <p:nvPr/>
          </p:nvSpPr>
          <p:spPr>
            <a:xfrm flipV="1">
              <a:off x="1449360" y="59338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49360" y="5934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06560" y="59342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9065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49360" y="58579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1677960" y="56289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992160" y="61628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992160" y="4257360"/>
            <a:ext cx="1371600" cy="533880"/>
            <a:chOff x="992160" y="4257360"/>
            <a:chExt cx="1371600" cy="533880"/>
          </a:xfrm>
        </p:grpSpPr>
        <p:sp>
          <p:nvSpPr>
            <p:cNvPr id="419" name=""/>
            <p:cNvSpPr/>
            <p:nvPr/>
          </p:nvSpPr>
          <p:spPr>
            <a:xfrm flipV="1">
              <a:off x="144936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4936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0656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065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4936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167796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99216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1784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287440" y="5019840"/>
            <a:ext cx="1371600" cy="533160"/>
            <a:chOff x="2287440" y="5019840"/>
            <a:chExt cx="1371600" cy="533160"/>
          </a:xfrm>
        </p:grpSpPr>
        <p:sp>
          <p:nvSpPr>
            <p:cNvPr id="428" name=""/>
            <p:cNvSpPr/>
            <p:nvPr/>
          </p:nvSpPr>
          <p:spPr>
            <a:xfrm flipV="1">
              <a:off x="27446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4640" y="53244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201840" y="532440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2018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44640" y="52480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2973240" y="501984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287440" y="555300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H="1">
            <a:off x="1144080" y="555300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287440" y="616284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2973240" y="425772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44440" y="555300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92560" y="5172120"/>
            <a:ext cx="363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287440" y="4257360"/>
            <a:ext cx="1371600" cy="533880"/>
            <a:chOff x="2287440" y="4257360"/>
            <a:chExt cx="1371600" cy="533880"/>
          </a:xfrm>
        </p:grpSpPr>
        <p:sp>
          <p:nvSpPr>
            <p:cNvPr id="441" name=""/>
            <p:cNvSpPr/>
            <p:nvPr/>
          </p:nvSpPr>
          <p:spPr>
            <a:xfrm flipV="1">
              <a:off x="2744640" y="45622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44640" y="4562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01840" y="456264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18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44640" y="448632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73240" y="425736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2287440" y="47912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913120" y="43610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1068480" y="608652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3080" y="54770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3080" y="5248440"/>
            <a:ext cx="152280" cy="152280"/>
          </a:xfrm>
          <a:prstGeom prst="ellipse">
            <a:avLst/>
          </a:prstGeom>
          <a:solidFill>
            <a:srgbClr val="00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75640" y="38257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89680" y="42670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885000" y="47102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880320" y="51530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05880" y="384012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819920" y="42814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815240" y="4724280"/>
            <a:ext cx="889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810560" y="516744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 vo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875640" y="55674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805880" y="5581800"/>
            <a:ext cx="88884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778800" y="3781440"/>
            <a:ext cx="1846080" cy="22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D7B1-EEFF-40E7-BFA6-355E6B4B98C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peed of MOS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nfluences the speed of CMOS network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ing and discharging of voltages on wires and gates of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pacitors hold 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 is at gates of transistors and wire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istors slow movement of electr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 mostly due to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4F5-8D9D-4B72-8DF5-700D444511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2071800" y="2071800"/>
            <a:ext cx="4214880" cy="15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4150800" y="3657600"/>
            <a:ext cx="2148120" cy="10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30960" y="3425760"/>
            <a:ext cx="225432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pe of CSE 3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Representation of digital desig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Physical devices (transistors,  rel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gister-transfer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69696"/>
                </a:solidFill>
                <a:latin typeface="Arial"/>
              </a:rPr>
              <a:t>Concurrent abstract specif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273-D571-4DF6-9847-A6EF9C3773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will we learn in this class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anguage of logic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 algebra, logic minimization, state, timing,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ncept of state in digit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ous to variables and program counters in softwar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specify/simulate/compile/realize our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to simulate the working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compilers to synthesize the hardware blocks of our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onto programmabl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ast with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and parallel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3186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algorithm as well as computing/storage resources it wil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F4A0-61BD-465D-A746-F3989372D7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vs. ana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ient to think of digital systems as having on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te, digital, input/output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real electronic components exhibi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, analog,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 we make the digital abstraction anywa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operate this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think about a small number of discrete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 does it work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propagate small errors in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resets to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E02F-B876-4566-A3C5-66F428C9B5D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27040" y="1752480"/>
            <a:ext cx="811548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hnolog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State 0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Stat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ay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Ope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rcuit Clos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OS log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1.0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3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istor transistor logic (TTL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.0-0.8 volt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0-5.0 vol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ber Opt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ff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ght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ynamic RA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charged capacit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rged capac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nvolatile memory (erasable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pped electr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trapped electr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RO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blow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se int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memor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magnetic bubbl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bble pre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gnetic dis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flux revers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ux rever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3543480"/>
                <a:tab algn="l" pos="5829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ct dis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p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95360" y="2128680"/>
            <a:ext cx="805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from physical world to binary worl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240-5748-4651-AC24-363B4AFECCC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3651120" y="2655720"/>
            <a:ext cx="1301760" cy="95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2874960" y="2774880"/>
            <a:ext cx="776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874600" y="3102120"/>
            <a:ext cx="763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87560" y="351648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74840" y="317016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74840" y="3408480"/>
            <a:ext cx="5112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74840" y="3295800"/>
            <a:ext cx="5112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941720" y="277488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41720" y="3102120"/>
            <a:ext cx="765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952520" y="3516480"/>
            <a:ext cx="754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43400" y="317016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243400" y="3408480"/>
            <a:ext cx="47880" cy="507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243400" y="3295800"/>
            <a:ext cx="47880" cy="48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916280" y="2951280"/>
            <a:ext cx="8143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937120" y="2951280"/>
            <a:ext cx="101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94120" y="2963880"/>
            <a:ext cx="101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vs. sequential digital circui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4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model of a digital system is a unit with inputs and outputs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means "memory-less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gital circuit is combinational if its output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depend on it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F58-CAD1-407F-B7E3-69A8D4197E1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1803240" y="4511520"/>
            <a:ext cx="690840" cy="3016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803240" y="5829480"/>
            <a:ext cx="690840" cy="27612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3156120" y="4511520"/>
            <a:ext cx="750600" cy="3016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3156120" y="5829480"/>
            <a:ext cx="750600" cy="276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1803240" y="3260880"/>
            <a:ext cx="438480" cy="249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3156120" y="3260880"/>
            <a:ext cx="501480" cy="2491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935520" y="3502080"/>
            <a:ext cx="2241360" cy="1454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46400" y="4743360"/>
            <a:ext cx="2130480" cy="212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4203720" y="4956120"/>
            <a:ext cx="1973160" cy="7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59680" y="4397400"/>
            <a:ext cx="26031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y to impl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CMOS transis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switches we ha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vailable and use mo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ymbo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combinational logic systems have standard symbols called logic gat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ffer, NO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, NAND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1320" indent="-146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86360" y="32194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6800" y="439416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5360" y="460692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547000" y="448776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508840" y="57974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75640" y="32180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3560" y="5705640"/>
            <a:ext cx="29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82120" y="5918040"/>
            <a:ext cx="29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895E-BCAA-4B10-AA17-3037B6D32FD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550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 behaviors (output values) that depend not on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current input values, but also on previous input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reality, all real circuits are sequ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the outputs do not change instantaneously after an inpu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not, and why is it then sequenti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undamental abstraction of digital design is to reason (mostly) about steady-state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at the outputs only after sufficient time has elapsed for the system to make its required changes and settle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CE8-5610-4D31-A3AC-315894F773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ynchronous sequential digital syste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04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of a combinational circuit depend only on current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ufficient time has elap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circuits hav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after waiting for the transient activity to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abstraction is so useful that most designers use a form of  it when constructing sequential circui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ory of a system is represented as its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system state are only allowed to occur at specific times controlled by an external periodic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ck period is the time that elapses between state changes it must be sufficiently long so that the system reaches a steady-state before the next state change at the end of th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B3D3-4387-49C9-9C45-F905893F0F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207120" y="2797200"/>
            <a:ext cx="9018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754600" y="301608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754600" y="346716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108920" y="324180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337356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86400" y="2908440"/>
            <a:ext cx="55260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642080" y="3124080"/>
            <a:ext cx="551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651720" y="3686040"/>
            <a:ext cx="0" cy="46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65840" y="3983040"/>
            <a:ext cx="6652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204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 of combinational and sequenti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will stay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A,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another clock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C again: may b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1C82-C345-40FF-8D1E-40915CC9019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we've seen alrea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interpretation of analog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s logic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 clock to realize a synchronous sequential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others we will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s and Boolean algebra to represent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ing of signals with more than two logical values in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 to represent sequenti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scription languages to represent digit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 to represent temporal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85A6-F821-4CAB-9CB4-4238653DFB0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lendar subsystem: number of days in a month (to control watch displa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controlling the display of a wrist-watch LCD scr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month, leap year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number of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D0C-C183-4352-985A-4A35CFFC51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ger number_of_days ( month, leap_year_flag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(month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2: if (leap_year_flag == 1) then return (29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else return (2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3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12: return (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ault: return (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FD0-F3D7-4E1C-803F-E2DDBE7D9B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ications of logic desig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ntional computer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s, busses, periph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ing and commun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nes, modems,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bedded 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rs, toys, appliances, entertainmen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ientific 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, sensing,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world of computing is much much bigger than just PC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741F-123D-47A3-A497-0BF0C8C439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862360" y="4711680"/>
            <a:ext cx="14634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08124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95720" y="4280040"/>
            <a:ext cx="0" cy="41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3232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30660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57680" y="4259160"/>
            <a:ext cx="0" cy="43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39552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800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5116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983040" y="3965400"/>
            <a:ext cx="8510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94040" y="3952800"/>
            <a:ext cx="105084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676600" y="5997600"/>
            <a:ext cx="674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60720" y="5997600"/>
            <a:ext cx="6760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40160" y="5997600"/>
            <a:ext cx="677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813120" y="5997600"/>
            <a:ext cx="676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25800" y="561348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48160" y="2104920"/>
            <a:ext cx="3262320" cy="39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432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9144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n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a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29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3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–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126040" y="2581200"/>
            <a:ext cx="3595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27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75560" y="2362320"/>
            <a:ext cx="6120" cy="38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for each input/outp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number fo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wires for 28, 29, 30, and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th tab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AF3-CA25-4777-8BAB-EB5B106932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4056120" y="3738600"/>
            <a:ext cx="181080" cy="993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2838600" y="3716280"/>
            <a:ext cx="560160" cy="113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160960" y="2525760"/>
            <a:ext cx="1274760" cy="954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390760" y="4884840"/>
            <a:ext cx="8254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797280" y="4782960"/>
            <a:ext cx="8762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472080" y="2057400"/>
            <a:ext cx="77472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b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-table to logic to switches to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1 when month=0010 and leap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28 = m8'•m4'•m2•m1'•leap'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1 when month=0001 or month=0011 or ... month=1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(m8'•m4'•m2'•m1) + (m8'•m4'•m2•m1) + ... (m8•m4•m2'•m1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31 = can we simplify mo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4800600" y="3753000"/>
            <a:ext cx="4017960" cy="2728800"/>
            <a:chOff x="4800600" y="3753000"/>
            <a:chExt cx="4017960" cy="2728800"/>
          </a:xfrm>
        </p:grpSpPr>
        <p:sp>
          <p:nvSpPr>
            <p:cNvPr id="564" name=""/>
            <p:cNvSpPr/>
            <p:nvPr/>
          </p:nvSpPr>
          <p:spPr>
            <a:xfrm>
              <a:off x="5022720" y="3753000"/>
              <a:ext cx="379584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600200"/>
                  <a:tab algn="l" pos="2057400"/>
                  <a:tab algn="l" pos="2514600"/>
                  <a:tab algn="l" pos="29718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nth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eap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8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29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3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800600" y="4229280"/>
              <a:ext cx="359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50120" y="4010040"/>
              <a:ext cx="0" cy="247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8229-CA20-4B09-AC9B-FC164DCB010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= (m8'•m4•m1') + (m8•m4'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rcRect l="19584" t="70710" r="0" b="1012"/>
          <a:stretch/>
        </p:blipFill>
        <p:spPr>
          <a:xfrm>
            <a:off x="1430280" y="4927680"/>
            <a:ext cx="5996160" cy="15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ADF-2696-4729-A6D9-A94004708A9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much can we simplify d31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f we started the months with 0 instead of 1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i.e., January is 0000 and December is 1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223200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7 or less and odd (1, 3, 5, 7), 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nth is 8 or more and even (8, 10, 12, and includes 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60560" y="2997360"/>
            <a:ext cx="72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is true i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8 is 0 and m1 is 1, or m8 is 1 and m1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 + m8m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68480" y="4772160"/>
            <a:ext cx="7234200" cy="10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re complex expression (0, 2, 4, 6, 7, 9, 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4’m2’m1’ + m8’m4’m2m1’ + m8’m4m2’m1’ + m8’m4m2m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8’m4m2m1 + m8m4’m2’m1 + m8m4’m2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72360" y="574200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m8’m1’ + m8’m4m2 + m8m1  (includes 13 and 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68120" y="6072120"/>
            <a:ext cx="27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31 = (d28 + d29 + d30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684360" y="2165400"/>
            <a:ext cx="8113680" cy="4257360"/>
            <a:chOff x="684360" y="2165400"/>
            <a:chExt cx="8113680" cy="4257360"/>
          </a:xfrm>
        </p:grpSpPr>
        <p:sp>
          <p:nvSpPr>
            <p:cNvPr id="578" name=""/>
            <p:cNvSpPr/>
            <p:nvPr/>
          </p:nvSpPr>
          <p:spPr>
            <a:xfrm>
              <a:off x="685800" y="2165400"/>
              <a:ext cx="811224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4360" y="4792680"/>
              <a:ext cx="8111880" cy="163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045-0E72-4BD9-BB3B-AEC6D83B40B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example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8 = m8'•m4'•m2•m1'•leap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29 = m8'•m4'•m2•m1'•le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0 = (m8'•m4•m2'•m1') + (m8'•m4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1) + (m8•m4'•m2•m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31 = (m8'•m4'•m2'•m1) + (m8'•m4'•m2•m1) +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'•m4•m2'•m1) + (m8'•m4•m2•m1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'•m2'•m4') + (m8•m4'•m2•m1') +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(m8•m4•m2'•m1'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828800" y="4651200"/>
            <a:ext cx="5289120" cy="1622160"/>
            <a:chOff x="1828800" y="4651200"/>
            <a:chExt cx="5289120" cy="1622160"/>
          </a:xfrm>
        </p:grpSpPr>
        <p:grpSp>
          <p:nvGrpSpPr>
            <p:cNvPr id="583" name=""/>
            <p:cNvGrpSpPr/>
            <p:nvPr/>
          </p:nvGrpSpPr>
          <p:grpSpPr>
            <a:xfrm>
              <a:off x="1828800" y="4651200"/>
              <a:ext cx="1491120" cy="1622160"/>
              <a:chOff x="1828800" y="4651200"/>
              <a:chExt cx="1491120" cy="1622160"/>
            </a:xfrm>
          </p:grpSpPr>
          <p:pic>
            <p:nvPicPr>
              <p:cNvPr id="584" name="" descr=""/>
              <p:cNvPicPr/>
              <p:nvPr/>
            </p:nvPicPr>
            <p:blipFill>
              <a:blip r:embed="rId1"/>
              <a:srcRect l="35650" t="78708" r="46228" b="1568"/>
              <a:stretch/>
            </p:blipFill>
            <p:spPr>
              <a:xfrm>
                <a:off x="1828800" y="4651200"/>
                <a:ext cx="1491120" cy="162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>
                <a:off x="1869120" y="6048720"/>
                <a:ext cx="589680" cy="172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86" name="" descr=""/>
            <p:cNvPicPr/>
            <p:nvPr/>
          </p:nvPicPr>
          <p:blipFill>
            <a:blip r:embed="rId2"/>
            <a:srcRect l="68283" t="51621" r="0" b="3414"/>
            <a:stretch/>
          </p:blipFill>
          <p:spPr>
            <a:xfrm>
              <a:off x="4557960" y="4701960"/>
              <a:ext cx="2559960" cy="143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228-2F16-4ECC-85B1-5A84D9706E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: must remember combin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lways have it available as an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1514-D09F-4061-93F1-E98EED828F3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DA6-C13A-4D7C-B370-F6FCEAC6BC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051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as a sequential digital syst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represent the state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ck wire tells us when it’s 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ok at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they have settled after 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sequence of valu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en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: remember if an error oc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312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ate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5457960" y="3557520"/>
            <a:ext cx="3669840" cy="2442960"/>
            <a:chOff x="5457960" y="3557520"/>
            <a:chExt cx="3669840" cy="2442960"/>
          </a:xfrm>
        </p:grpSpPr>
        <p:sp>
          <p:nvSpPr>
            <p:cNvPr id="594" name=""/>
            <p:cNvSpPr/>
            <p:nvPr/>
          </p:nvSpPr>
          <p:spPr>
            <a:xfrm>
              <a:off x="6818040" y="4314600"/>
              <a:ext cx="1803240" cy="903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37532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98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82640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9924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04996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277120" y="3568680"/>
              <a:ext cx="85068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113600" y="3557520"/>
              <a:ext cx="1213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937200" y="5600520"/>
              <a:ext cx="1652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43600" y="5202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37280" y="3862440"/>
              <a:ext cx="0" cy="439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86560" y="3568680"/>
              <a:ext cx="83916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6354720" y="4986360"/>
              <a:ext cx="46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57960" y="4809960"/>
              <a:ext cx="8395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829200" y="4897440"/>
              <a:ext cx="15228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828840" y="497340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7524720" y="4629240"/>
            <a:ext cx="7621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54C-D5B6-4DD7-99AF-BE1C169F01A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5052960" y="4204800"/>
            <a:ext cx="2468520" cy="1365480"/>
            <a:chOff x="5052960" y="4204800"/>
            <a:chExt cx="2468520" cy="1365480"/>
          </a:xfrm>
        </p:grpSpPr>
        <p:sp>
          <p:nvSpPr>
            <p:cNvPr id="612" name=""/>
            <p:cNvSpPr/>
            <p:nvPr/>
          </p:nvSpPr>
          <p:spPr>
            <a:xfrm>
              <a:off x="5560920" y="4711680"/>
              <a:ext cx="15033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5052960" y="4204800"/>
              <a:ext cx="246852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6632640" y="4204800"/>
            <a:ext cx="1671120" cy="1365480"/>
            <a:chOff x="6632640" y="4204800"/>
            <a:chExt cx="1671120" cy="1365480"/>
          </a:xfrm>
        </p:grpSpPr>
        <p:sp>
          <p:nvSpPr>
            <p:cNvPr id="615" name=""/>
            <p:cNvSpPr/>
            <p:nvPr/>
          </p:nvSpPr>
          <p:spPr>
            <a:xfrm>
              <a:off x="6802200" y="4711680"/>
              <a:ext cx="150156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632640" y="4204800"/>
              <a:ext cx="88884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1677960" y="5415120"/>
            <a:ext cx="1108080" cy="338040"/>
            <a:chOff x="1677960" y="5415120"/>
            <a:chExt cx="1108080" cy="338040"/>
          </a:xfrm>
        </p:grpSpPr>
        <p:sp>
          <p:nvSpPr>
            <p:cNvPr id="618" name=""/>
            <p:cNvSpPr/>
            <p:nvPr/>
          </p:nvSpPr>
          <p:spPr>
            <a:xfrm>
              <a:off x="2347920" y="556416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77960" y="5415120"/>
              <a:ext cx="714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7745400" y="5910120"/>
            <a:ext cx="239760" cy="331920"/>
            <a:chOff x="7745400" y="5910120"/>
            <a:chExt cx="239760" cy="331920"/>
          </a:xfrm>
        </p:grpSpPr>
        <p:sp>
          <p:nvSpPr>
            <p:cNvPr id="621" name=""/>
            <p:cNvSpPr/>
            <p:nvPr/>
          </p:nvSpPr>
          <p:spPr>
            <a:xfrm>
              <a:off x="77518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9790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74540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5948280" y="5910120"/>
            <a:ext cx="803160" cy="633600"/>
            <a:chOff x="5948280" y="5910120"/>
            <a:chExt cx="803160" cy="633600"/>
          </a:xfrm>
        </p:grpSpPr>
        <p:sp>
          <p:nvSpPr>
            <p:cNvPr id="625" name=""/>
            <p:cNvSpPr/>
            <p:nvPr/>
          </p:nvSpPr>
          <p:spPr>
            <a:xfrm>
              <a:off x="61750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9900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16860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4828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71840" y="5910120"/>
            <a:ext cx="799920" cy="633600"/>
            <a:chOff x="4371840" y="5910120"/>
            <a:chExt cx="799920" cy="633600"/>
          </a:xfrm>
        </p:grpSpPr>
        <p:sp>
          <p:nvSpPr>
            <p:cNvPr id="630" name=""/>
            <p:cNvSpPr/>
            <p:nvPr/>
          </p:nvSpPr>
          <p:spPr>
            <a:xfrm>
              <a:off x="45957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2256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589280" y="62420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371840" y="6203880"/>
              <a:ext cx="79992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792520" y="5910120"/>
            <a:ext cx="803160" cy="633600"/>
            <a:chOff x="2792520" y="5910120"/>
            <a:chExt cx="803160" cy="633600"/>
          </a:xfrm>
        </p:grpSpPr>
        <p:sp>
          <p:nvSpPr>
            <p:cNvPr id="635" name=""/>
            <p:cNvSpPr/>
            <p:nvPr/>
          </p:nvSpPr>
          <p:spPr>
            <a:xfrm>
              <a:off x="301968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43240" y="5910120"/>
              <a:ext cx="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012840" y="6242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792520" y="6203880"/>
              <a:ext cx="8031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98640" y="5102280"/>
            <a:ext cx="995400" cy="807840"/>
            <a:chOff x="2798640" y="5102280"/>
            <a:chExt cx="995400" cy="807840"/>
          </a:xfrm>
        </p:grpSpPr>
        <p:sp>
          <p:nvSpPr>
            <p:cNvPr id="640" name=""/>
            <p:cNvSpPr/>
            <p:nvPr/>
          </p:nvSpPr>
          <p:spPr>
            <a:xfrm>
              <a:off x="286668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798640" y="5232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144600" y="51022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192480" y="5102280"/>
            <a:ext cx="2181240" cy="1065240"/>
            <a:chOff x="3192480" y="5102280"/>
            <a:chExt cx="2181240" cy="1065240"/>
          </a:xfrm>
        </p:grpSpPr>
        <p:sp>
          <p:nvSpPr>
            <p:cNvPr id="644" name=""/>
            <p:cNvSpPr/>
            <p:nvPr/>
          </p:nvSpPr>
          <p:spPr>
            <a:xfrm>
              <a:off x="4434120" y="5425920"/>
              <a:ext cx="5652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192480" y="561492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76880" y="5564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72140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378320" y="5232240"/>
              <a:ext cx="67500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772160" y="5102280"/>
            <a:ext cx="2179080" cy="1065240"/>
            <a:chOff x="4772160" y="5102280"/>
            <a:chExt cx="2179080" cy="1065240"/>
          </a:xfrm>
        </p:grpSpPr>
        <p:sp>
          <p:nvSpPr>
            <p:cNvPr id="650" name=""/>
            <p:cNvSpPr/>
            <p:nvPr/>
          </p:nvSpPr>
          <p:spPr>
            <a:xfrm>
              <a:off x="6024240" y="5425920"/>
              <a:ext cx="563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772160" y="5614920"/>
              <a:ext cx="15030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00720" y="5102280"/>
              <a:ext cx="650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052960" y="5564160"/>
              <a:ext cx="88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54400" y="5232240"/>
              <a:ext cx="67752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351480" y="5102280"/>
            <a:ext cx="2292120" cy="1065240"/>
            <a:chOff x="6351480" y="5102280"/>
            <a:chExt cx="2292120" cy="1065240"/>
          </a:xfrm>
        </p:grpSpPr>
        <p:sp>
          <p:nvSpPr>
            <p:cNvPr id="656" name=""/>
            <p:cNvSpPr/>
            <p:nvPr/>
          </p:nvSpPr>
          <p:spPr>
            <a:xfrm>
              <a:off x="6351480" y="56149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991280" y="51022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632280" y="5564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34080" y="5232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53240" y="5425920"/>
              <a:ext cx="4633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476520" y="3746520"/>
            <a:ext cx="5240160" cy="1823760"/>
            <a:chOff x="3476520" y="3746520"/>
            <a:chExt cx="5240160" cy="1823760"/>
          </a:xfrm>
        </p:grpSpPr>
        <p:sp>
          <p:nvSpPr>
            <p:cNvPr id="662" name=""/>
            <p:cNvSpPr/>
            <p:nvPr/>
          </p:nvSpPr>
          <p:spPr>
            <a:xfrm>
              <a:off x="4093920" y="4599000"/>
              <a:ext cx="150480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!=valu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476520" y="4204800"/>
              <a:ext cx="4044960" cy="136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91320" y="4073400"/>
              <a:ext cx="56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14960" y="3746520"/>
              <a:ext cx="80172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34080" y="3878280"/>
              <a:ext cx="6746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7751880" y="3552840"/>
            <a:ext cx="226800" cy="350640"/>
            <a:chOff x="7751880" y="3552840"/>
            <a:chExt cx="226800" cy="350640"/>
          </a:xfrm>
        </p:grpSpPr>
        <p:sp>
          <p:nvSpPr>
            <p:cNvPr id="668" name=""/>
            <p:cNvSpPr/>
            <p:nvPr/>
          </p:nvSpPr>
          <p:spPr>
            <a:xfrm flipV="1">
              <a:off x="79786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751880" y="355284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58000" y="3558960"/>
              <a:ext cx="21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bstract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’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77720" indent="-1004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94480" indent="-1429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B46E-E7C6-4C32-A3D6-13FFD9816E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5729400" y="4791240"/>
            <a:ext cx="1803240" cy="90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0260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189920" y="4044960"/>
            <a:ext cx="8506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37400" y="607536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6247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5008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499000" y="4044960"/>
            <a:ext cx="838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8596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6384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678200"/>
            <a:ext cx="451080" cy="22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784520" y="5467320"/>
            <a:ext cx="135252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685960" y="5016600"/>
            <a:ext cx="1803600" cy="22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28760" y="4678200"/>
            <a:ext cx="0" cy="7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17640" y="4621320"/>
            <a:ext cx="412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219480" y="4621320"/>
            <a:ext cx="72540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94120" y="4621320"/>
            <a:ext cx="7286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0664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259160" y="4902120"/>
            <a:ext cx="0" cy="10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581280" y="524196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2673360" y="53481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679840" y="5354640"/>
            <a:ext cx="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79640" y="5450040"/>
            <a:ext cx="101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55920" y="569268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52480" y="4370400"/>
            <a:ext cx="9651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979640" y="6064200"/>
            <a:ext cx="965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117960" y="4997520"/>
            <a:ext cx="977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624720" y="4340160"/>
            <a:ext cx="0" cy="43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288120" y="4044960"/>
            <a:ext cx="851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199200" y="5073480"/>
            <a:ext cx="85392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710240" y="4835520"/>
            <a:ext cx="850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4476600" y="5122800"/>
            <a:ext cx="125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7408800" y="545472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421400" y="5342040"/>
            <a:ext cx="986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32640" y="5460840"/>
            <a:ext cx="441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977240" y="5286240"/>
            <a:ext cx="8413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vs.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n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for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25880" y="1990800"/>
            <a:ext cx="497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hanges controlled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FB5-2623-4302-AA01-77C3293D8D8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quick history less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28320"/>
            <a:ext cx="868680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50: George Boole invents Boolean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s logical propositions to symb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manipulation of logic statements using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38: Claude Shannon links Boolean algebra to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 Masters’ 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5: John von Neumann develops the first stored program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switching elements are vacuum tubes (a big advance from rel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6: ENIAC . . . The world’s first completely electronic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,000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hundred multiplications per min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7: Shockley, Brittain, and Bardeen invent the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s vacuum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integration of multiple devices into on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-2959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 to modern 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978-FD5A-469B-9358-DE1AD1175D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"/>
          <p:cNvGrpSpPr/>
          <p:nvPr/>
        </p:nvGrpSpPr>
        <p:grpSpPr>
          <a:xfrm>
            <a:off x="1190520" y="2668680"/>
            <a:ext cx="7037280" cy="2988720"/>
            <a:chOff x="1190520" y="2668680"/>
            <a:chExt cx="7037280" cy="2988720"/>
          </a:xfrm>
        </p:grpSpPr>
        <p:sp>
          <p:nvSpPr>
            <p:cNvPr id="713" name=""/>
            <p:cNvSpPr/>
            <p:nvPr/>
          </p:nvSpPr>
          <p:spPr>
            <a:xfrm>
              <a:off x="230976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858680" y="4679640"/>
              <a:ext cx="43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87640" y="467964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2987640" y="3320640"/>
              <a:ext cx="404496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4564080" y="3320640"/>
              <a:ext cx="246852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143400" y="3320640"/>
              <a:ext cx="889200" cy="136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02440" y="3187440"/>
              <a:ext cx="56196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15880" y="4441680"/>
              <a:ext cx="6908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90520" y="4530600"/>
              <a:ext cx="71280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70504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36720" y="367632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81480" y="3752640"/>
              <a:ext cx="1503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325920" y="382896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862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9115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567972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068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0400" y="5357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30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5436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2523600" y="535752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6444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9800" y="5025960"/>
              <a:ext cx="0" cy="32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257600" y="53575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60840" y="531936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88296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303280" y="531936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654280" y="4216320"/>
              <a:ext cx="6523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3600" y="4216320"/>
              <a:ext cx="64944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810040" y="4216320"/>
              <a:ext cx="65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02400" y="4216320"/>
              <a:ext cx="6508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427880" y="2862000"/>
              <a:ext cx="79992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89080" y="4348080"/>
              <a:ext cx="67500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95560" y="4441680"/>
              <a:ext cx="68760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564080" y="4679640"/>
              <a:ext cx="89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82920" y="4616280"/>
              <a:ext cx="150192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65520" y="4348080"/>
              <a:ext cx="67788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472000" y="4441680"/>
              <a:ext cx="69048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3400" y="467964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860800" y="4616280"/>
              <a:ext cx="1503360" cy="55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045200" y="4348080"/>
              <a:ext cx="676440" cy="677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2560" y="4541760"/>
              <a:ext cx="4636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5200" y="29937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7684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251480" y="266868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57960" y="26730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include internal structu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794-2701-470F-B741-67C0CE1613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"/>
          <p:cNvGrpSpPr/>
          <p:nvPr/>
        </p:nvGrpSpPr>
        <p:grpSpPr>
          <a:xfrm>
            <a:off x="542880" y="3102120"/>
            <a:ext cx="5854680" cy="3276000"/>
            <a:chOff x="542880" y="3102120"/>
            <a:chExt cx="5854680" cy="3276000"/>
          </a:xfrm>
        </p:grpSpPr>
        <p:sp>
          <p:nvSpPr>
            <p:cNvPr id="763" name=""/>
            <p:cNvSpPr/>
            <p:nvPr/>
          </p:nvSpPr>
          <p:spPr>
            <a:xfrm>
              <a:off x="687240" y="32781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880" y="37544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362400" y="3406680"/>
              <a:ext cx="0" cy="297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438360" y="31021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-state machin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state table (much like a truth-t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4649760" y="1778040"/>
            <a:ext cx="3998520" cy="1698480"/>
            <a:chOff x="4649760" y="1778040"/>
            <a:chExt cx="3998520" cy="1698480"/>
          </a:xfrm>
        </p:grpSpPr>
        <p:sp>
          <p:nvSpPr>
            <p:cNvPr id="770" name=""/>
            <p:cNvSpPr/>
            <p:nvPr/>
          </p:nvSpPr>
          <p:spPr>
            <a:xfrm>
              <a:off x="528552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029200" y="2920680"/>
              <a:ext cx="24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67072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5670720" y="2148840"/>
              <a:ext cx="229860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6566760" y="2148840"/>
              <a:ext cx="140256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V="1">
              <a:off x="7464240" y="2148840"/>
              <a:ext cx="505080" cy="77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009280" y="2072880"/>
              <a:ext cx="3193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89120" y="2785680"/>
              <a:ext cx="3924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649760" y="2836080"/>
              <a:ext cx="405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1016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39720" y="2350440"/>
              <a:ext cx="8532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17400" y="2394000"/>
              <a:ext cx="8542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567920" y="243720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2043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3324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720036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3068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43572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303240" y="3305880"/>
              <a:ext cx="13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41116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538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5406840" y="330588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810108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8229240" y="3117600"/>
              <a:ext cx="0" cy="18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8097120" y="3305880"/>
              <a:ext cx="13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6160" y="3284280"/>
              <a:ext cx="45468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976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81920" y="3284280"/>
              <a:ext cx="45540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481360" y="2657520"/>
              <a:ext cx="3704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378840" y="2657520"/>
              <a:ext cx="3690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74520" y="2657520"/>
              <a:ext cx="37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236440" y="2657520"/>
              <a:ext cx="36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8193960" y="1887840"/>
              <a:ext cx="45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183000" y="2732400"/>
              <a:ext cx="3834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86600" y="2785680"/>
              <a:ext cx="39060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566760" y="2920680"/>
              <a:ext cx="50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406920" y="2884680"/>
              <a:ext cx="8532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79040" y="2732400"/>
              <a:ext cx="38520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082640" y="2785680"/>
              <a:ext cx="392040" cy="28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4240" y="2920680"/>
              <a:ext cx="50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03680" y="2884680"/>
              <a:ext cx="85428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976520" y="2732400"/>
              <a:ext cx="384120" cy="384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8043120" y="2842200"/>
              <a:ext cx="2631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976520" y="1962720"/>
              <a:ext cx="384120" cy="384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822204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8093880" y="1778040"/>
              <a:ext cx="0" cy="19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097480" y="1780560"/>
              <a:ext cx="12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D83A-EAE7-4446-88BD-A90DF8DAEB4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4FB-4EC6-475F-A5D7-C6D5064DE6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570720" y="4325760"/>
            <a:ext cx="2351160" cy="21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ood choice of encoding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x is identical 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st 3 bits of stat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/closed i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cal to first b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4857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s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1525680" y="3220920"/>
            <a:ext cx="5854680" cy="3276720"/>
            <a:chOff x="1525680" y="3220920"/>
            <a:chExt cx="5854680" cy="3276720"/>
          </a:xfrm>
        </p:grpSpPr>
        <p:sp>
          <p:nvSpPr>
            <p:cNvPr id="823" name=""/>
            <p:cNvSpPr/>
            <p:nvPr/>
          </p:nvSpPr>
          <p:spPr>
            <a:xfrm>
              <a:off x="1670040" y="3397320"/>
              <a:ext cx="5710320" cy="20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25680" y="387360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345200" y="352584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21160" y="3220920"/>
              <a:ext cx="789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539F-AD30-4EC4-AFA5-D9C1F2244CB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lock always wait for 3 key presses exactly before making a d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"/>
          <p:cNvGrpSpPr/>
          <p:nvPr/>
        </p:nvGrpSpPr>
        <p:grpSpPr>
          <a:xfrm>
            <a:off x="3294000" y="3606840"/>
            <a:ext cx="1503360" cy="1387440"/>
            <a:chOff x="3294000" y="3606840"/>
            <a:chExt cx="1503360" cy="1387440"/>
          </a:xfrm>
        </p:grpSpPr>
        <p:sp>
          <p:nvSpPr>
            <p:cNvPr id="830" name=""/>
            <p:cNvSpPr/>
            <p:nvPr/>
          </p:nvSpPr>
          <p:spPr>
            <a:xfrm flipV="1">
              <a:off x="3871800" y="3606840"/>
              <a:ext cx="8701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294000" y="3911760"/>
              <a:ext cx="1503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4818240" y="3629160"/>
            <a:ext cx="1521720" cy="1365120"/>
            <a:chOff x="4818240" y="3629160"/>
            <a:chExt cx="1521720" cy="1365120"/>
          </a:xfrm>
        </p:grpSpPr>
        <p:sp>
          <p:nvSpPr>
            <p:cNvPr id="833" name=""/>
            <p:cNvSpPr/>
            <p:nvPr/>
          </p:nvSpPr>
          <p:spPr>
            <a:xfrm flipV="1">
              <a:off x="5451480" y="3629160"/>
              <a:ext cx="888480" cy="136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18240" y="398772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1611360" y="4524480"/>
            <a:ext cx="5850000" cy="1441440"/>
            <a:chOff x="1611360" y="4524480"/>
            <a:chExt cx="5850000" cy="1441440"/>
          </a:xfrm>
        </p:grpSpPr>
        <p:sp>
          <p:nvSpPr>
            <p:cNvPr id="836" name=""/>
            <p:cNvSpPr/>
            <p:nvPr/>
          </p:nvSpPr>
          <p:spPr>
            <a:xfrm>
              <a:off x="161748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95360" y="4988160"/>
              <a:ext cx="88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62396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1276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942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1964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987800" y="566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41460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6417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408120" y="5666040"/>
              <a:ext cx="23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3816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062080" y="5334120"/>
              <a:ext cx="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1831680" y="5666040"/>
              <a:ext cx="236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768920" y="5627880"/>
              <a:ext cx="7999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19068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11360" y="5627880"/>
              <a:ext cx="8017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62000" y="4524480"/>
              <a:ext cx="6526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541680" y="4524480"/>
              <a:ext cx="6494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118120" y="4524480"/>
              <a:ext cx="6523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10480" y="4524480"/>
              <a:ext cx="6508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7160" y="4656240"/>
              <a:ext cx="67464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03640" y="4749840"/>
              <a:ext cx="68724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1800" y="4988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1000" y="4924440"/>
              <a:ext cx="15015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3600" y="4656240"/>
              <a:ext cx="6778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780080" y="4749840"/>
              <a:ext cx="69048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=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51480" y="4988160"/>
              <a:ext cx="888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168880" y="4924440"/>
              <a:ext cx="1503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353280" y="4656240"/>
              <a:ext cx="676080" cy="677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470640" y="4849920"/>
              <a:ext cx="4636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639800" y="3083040"/>
            <a:ext cx="2683080" cy="1911240"/>
            <a:chOff x="1639800" y="3083040"/>
            <a:chExt cx="2683080" cy="1911240"/>
          </a:xfrm>
        </p:grpSpPr>
        <p:sp>
          <p:nvSpPr>
            <p:cNvPr id="867" name=""/>
            <p:cNvSpPr/>
            <p:nvPr/>
          </p:nvSpPr>
          <p:spPr>
            <a:xfrm flipV="1">
              <a:off x="2295360" y="3606840"/>
              <a:ext cx="922320" cy="138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39800" y="3911760"/>
              <a:ext cx="1501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equa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&amp;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7492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22600" y="308304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17680" y="3225960"/>
              <a:ext cx="67644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141720" y="2616120"/>
            <a:ext cx="801720" cy="635040"/>
            <a:chOff x="3141720" y="2616120"/>
            <a:chExt cx="801720" cy="635040"/>
          </a:xfrm>
        </p:grpSpPr>
        <p:sp>
          <p:nvSpPr>
            <p:cNvPr id="873" name=""/>
            <p:cNvSpPr/>
            <p:nvPr/>
          </p:nvSpPr>
          <p:spPr>
            <a:xfrm flipV="1">
              <a:off x="364968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342432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3044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14172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4665600" y="2616120"/>
            <a:ext cx="801720" cy="635040"/>
            <a:chOff x="4665600" y="2616120"/>
            <a:chExt cx="801720" cy="635040"/>
          </a:xfrm>
        </p:grpSpPr>
        <p:sp>
          <p:nvSpPr>
            <p:cNvPr id="878" name=""/>
            <p:cNvSpPr/>
            <p:nvPr/>
          </p:nvSpPr>
          <p:spPr>
            <a:xfrm flipV="1">
              <a:off x="517356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4948200" y="2900520"/>
              <a:ext cx="0" cy="35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54680" y="29052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665600" y="2616120"/>
              <a:ext cx="8017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t 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643200" y="3094200"/>
            <a:ext cx="2214720" cy="807840"/>
            <a:chOff x="3643200" y="3094200"/>
            <a:chExt cx="2214720" cy="807840"/>
          </a:xfrm>
        </p:grpSpPr>
        <p:sp>
          <p:nvSpPr>
            <p:cNvPr id="883" name=""/>
            <p:cNvSpPr/>
            <p:nvPr/>
          </p:nvSpPr>
          <p:spPr>
            <a:xfrm>
              <a:off x="4799160" y="341964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57640" y="3094200"/>
              <a:ext cx="800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3225960"/>
              <a:ext cx="676080" cy="676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79720" y="3575160"/>
              <a:ext cx="890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43200" y="330048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5211720" y="3103560"/>
            <a:ext cx="2313000" cy="808200"/>
            <a:chOff x="5211720" y="3103560"/>
            <a:chExt cx="2313000" cy="808200"/>
          </a:xfrm>
        </p:grpSpPr>
        <p:sp>
          <p:nvSpPr>
            <p:cNvPr id="889" name=""/>
            <p:cNvSpPr/>
            <p:nvPr/>
          </p:nvSpPr>
          <p:spPr>
            <a:xfrm>
              <a:off x="6399360" y="3429000"/>
              <a:ext cx="561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24800" y="3103560"/>
              <a:ext cx="7999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342120" y="3235320"/>
              <a:ext cx="676080" cy="676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27720" y="3575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211720" y="3294000"/>
              <a:ext cx="15019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257480" y="3547800"/>
            <a:ext cx="6526080" cy="2540160"/>
            <a:chOff x="1257480" y="3547800"/>
            <a:chExt cx="6526080" cy="2540160"/>
          </a:xfrm>
        </p:grpSpPr>
        <p:sp>
          <p:nvSpPr>
            <p:cNvPr id="895" name=""/>
            <p:cNvSpPr/>
            <p:nvPr/>
          </p:nvSpPr>
          <p:spPr>
            <a:xfrm>
              <a:off x="1257480" y="5014800"/>
              <a:ext cx="36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257480" y="5014800"/>
              <a:ext cx="0" cy="10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257480" y="6087960"/>
              <a:ext cx="652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7783560" y="3547800"/>
              <a:ext cx="0" cy="253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016400" y="3548160"/>
              <a:ext cx="76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027920" y="4992480"/>
              <a:ext cx="75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465120" y="2363760"/>
            <a:ext cx="7840800" cy="390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A01-9E6D-4761-A04B-2A3B245E31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1658880" y="3009960"/>
            <a:ext cx="180360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3208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19400" y="2263680"/>
            <a:ext cx="8510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765440" y="429408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54200" y="3911760"/>
            <a:ext cx="0" cy="439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87956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28840" y="2263680"/>
            <a:ext cx="8380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554200" y="2558880"/>
            <a:ext cx="0" cy="438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16160" y="2263680"/>
            <a:ext cx="85248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128680" y="3292560"/>
            <a:ext cx="851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39720" y="3054240"/>
            <a:ext cx="8510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406080" y="3341520"/>
            <a:ext cx="1252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3338640" y="3673440"/>
            <a:ext cx="123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3351240" y="3560400"/>
            <a:ext cx="9828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462480" y="36799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06720" y="3505320"/>
            <a:ext cx="8413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79920" y="4727520"/>
            <a:ext cx="1803600" cy="90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077240" y="4275000"/>
            <a:ext cx="0" cy="578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6484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97600" y="5999040"/>
            <a:ext cx="15285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/clo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862600" y="513072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24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307120" y="3981600"/>
            <a:ext cx="8380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399360" y="4275000"/>
            <a:ext cx="0" cy="58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75280" y="3981600"/>
            <a:ext cx="85248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59320" y="4675320"/>
            <a:ext cx="8510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x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27120" y="4997520"/>
            <a:ext cx="139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6975360" y="5435280"/>
            <a:ext cx="11448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6978600" y="5319360"/>
            <a:ext cx="11268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089840" y="5435640"/>
            <a:ext cx="538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634160" y="5230800"/>
            <a:ext cx="563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413400" y="5316480"/>
            <a:ext cx="676440" cy="23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18160" y="4863960"/>
            <a:ext cx="1565280" cy="265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6211800" y="513036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205680" y="5435640"/>
            <a:ext cx="20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756480" y="5138640"/>
            <a:ext cx="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816520" y="4861080"/>
            <a:ext cx="15652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.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435720" y="5302080"/>
            <a:ext cx="9144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6958080" y="4267080"/>
            <a:ext cx="1347840" cy="111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7696080" y="3276360"/>
            <a:ext cx="60984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237280" y="2125800"/>
            <a:ext cx="30556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al circuit elem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register,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embering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hen told to by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181480" y="2133720"/>
            <a:ext cx="2514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example (cont’d):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troller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of the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AA5-83D4-40E5-B5AB-93EBDA750F6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4468680" y="1519200"/>
            <a:ext cx="10270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263680" y="2473200"/>
            <a:ext cx="1214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5972040" y="2460600"/>
            <a:ext cx="10130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805280" y="3476520"/>
            <a:ext cx="15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208560" y="3489480"/>
            <a:ext cx="216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binatio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838160" y="3551400"/>
            <a:ext cx="1365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3640" y="3564000"/>
            <a:ext cx="1390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60320" y="3413160"/>
            <a:ext cx="92736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503520" y="4867200"/>
            <a:ext cx="1065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118120" y="4867200"/>
            <a:ext cx="8413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849920" y="1801800"/>
            <a:ext cx="1428480" cy="703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2784240" y="1790640"/>
            <a:ext cx="2052360" cy="689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2406240" y="2792520"/>
            <a:ext cx="252360" cy="77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58960" y="2766960"/>
            <a:ext cx="1100160" cy="841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1317600" y="2755800"/>
            <a:ext cx="1354320" cy="70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192320" y="3933720"/>
            <a:ext cx="265572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886200" y="3971880"/>
            <a:ext cx="1603440" cy="890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552640" y="2743200"/>
            <a:ext cx="776520" cy="776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6353280" y="2743200"/>
            <a:ext cx="86508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759120" y="3857760"/>
            <a:ext cx="1604880" cy="1028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406600" y="3857760"/>
            <a:ext cx="2932200" cy="104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5415120" y="3971880"/>
            <a:ext cx="179064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40040" y="5619600"/>
            <a:ext cx="1854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wit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800240" y="5175360"/>
            <a:ext cx="563400" cy="425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886200" y="5162400"/>
            <a:ext cx="638280" cy="463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hierarch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0B77-D309-4171-80D9-8A6A731C63C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was what the entire course is ab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ng solutions to problems into combinational and sequential networks effectively organizing the design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ing so with a modern set of design tools that lets us handle large designs effectiv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ing advantage of optimization opportun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 lets do it ag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ime we'll take nine weeks instead of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8C0-F9F7-4450-B6B3-993DEFD36A1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logic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147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specification of a problem, come up with a way of solving it choosing appropriately from a collection of availabl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meeting some criteria for size, cost, power, beauty, eleganc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logic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the collection of digital logic components to perform a specified control and/or data manipulation and/or communication function and the interconnections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logic components to choose? – there are many implementation technologies (e.g., off-the-shelf fixed-function components, programmable devices, transistors on a chip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320" indent="-29916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sign may need to be optimized and/or transformed to meet design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F9B-8531-43FD-B3B2-A2975DA51B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472000" y="5138640"/>
            <a:ext cx="3864240" cy="1741320"/>
            <a:chOff x="5472000" y="5138640"/>
            <a:chExt cx="3864240" cy="1741320"/>
          </a:xfrm>
        </p:grpSpPr>
        <p:sp>
          <p:nvSpPr>
            <p:cNvPr id="95" name=""/>
            <p:cNvSpPr/>
            <p:nvPr/>
          </p:nvSpPr>
          <p:spPr>
            <a:xfrm>
              <a:off x="6943680" y="5651280"/>
              <a:ext cx="617760" cy="61776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43640" y="52797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454800" y="6194160"/>
              <a:ext cx="60948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61440" y="5965560"/>
              <a:ext cx="87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89640" y="6516720"/>
              <a:ext cx="914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72000" y="5138640"/>
              <a:ext cx="914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510760" y="5833800"/>
              <a:ext cx="825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r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86520" y="5837040"/>
              <a:ext cx="525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digital hardware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150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evices that sense and/or control wires that carry a digital value (i.e., a physical quantity that can be interpret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“0” or “1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digital logic where voltage &lt; 0.8v is a “0” and &gt; 2.0v is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pair of transmission wires where a “0” or “1” is distinguished by which wire has a higher voltage (differenti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orientation of magnetization signifies a “0” or a “1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itive digital hardwar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omputation devices (sense and d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two wires both “1” - make another be “1” (A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t least one of two wires “1” - make another be “1” (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wire “1” - then make another be “0” (N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devices (st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a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1456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all a previously stored val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7A7-5685-4351-8522-C47D865899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at is happening now in digital design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809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rends in how industry does hardware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and larger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and shorter time to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aper and cheaper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vasive use of computer-aided design tools over hand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levels of design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s on abstract design re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able rather than fixed function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synthesi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ound 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s of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simulation to debug 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2640" indent="-2926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verify before you 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4ADF-90FC-458D-B4E8-BC2D968A95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23800" y="4981680"/>
            <a:ext cx="80773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New abilit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o accomplish the logic design task with the aid of computer-aid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tools and map a problem description into an implementation wit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mable logic devices after validation via simulation and understand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 the advantages/disadvantages as compared to a software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SE 370: concepts/skills/abilit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77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the basics of logic design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standing sound design methodologie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specification methods (concep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miliarity with a full set of CAD tools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 digital designs in an implementation technology (skil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eciation for the differences and similarities (abilities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hardware and software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8B9-D5EB-4EAD-BD07-C83D10D290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utation: abstract vs.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76200"/>
            <a:ext cx="838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now, computation has been a mental exercise (paper, progra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class is about physically implementing computation using physical devices that use voltages to represent logical val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units of computation ar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, "1" on a wir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wires (e.g., for binary 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= 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opera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y –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6160" indent="-289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tate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B;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x == 1   then   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( i = 1 ; i == 10, i++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; proc(...); 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36692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will study how each of these are implemented in hardware and composed into computational struc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D7E-32E4-433F-9C85-FC8FB9D10AE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 - Introductio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12:26Z</dcterms:created>
  <dc:creator>Gaetano Borriello</dc:creator>
  <dc:description/>
  <dc:language>en-US</dc:language>
  <cp:lastModifiedBy>Gaetano Borriello</cp:lastModifiedBy>
  <cp:lastPrinted>2000-09-25T15:09:03Z</cp:lastPrinted>
  <dcterms:modified xsi:type="dcterms:W3CDTF">2005-01-24T06:56:53Z</dcterms:modified>
  <cp:revision>46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