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CF2B-2426-4669-9D98-8E3AA8E5A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5DA3-4544-41AB-B872-E6E15EC1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65A9-6926-434D-BA4F-D4630360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8FC4-6248-478C-9B8F-D11980EC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272A-D81E-47AC-909E-6910DC3F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77DD-23AC-4DE4-B9BA-AE0A820B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D5C4-23F6-4EF2-B993-755A3A1D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93F0-7F00-41C5-BCD9-20DDC0DC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FED6-276A-456B-B654-B09F0638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294A-DE30-4F89-92EB-140C201E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118A-C773-4C70-B9DD-D4C2FF5C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8DAE-FF53-46E7-B577-EDC87F2D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7FFF-29EC-4AD6-8AA0-55B7B7C7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888EA-64C2-40DC-86F5-D6AC31E3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1FE5-461D-4CA8-B735-D3BB5849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13E0C-3896-45E1-B9D1-D5B8974B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A45A-D158-4266-81B1-6CC35ED5F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2072-2CEC-4DAB-9031-3893EA2D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B9AE-3CEC-4C94-BDA5-0A4FCF81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1E0A-0C8A-4263-B208-670E8010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813B-2959-4F1D-A2E5-75AA4C8C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6C08-385E-4BDA-894E-39E7D5EC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8089-3581-48E8-8A20-2E9A5A93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57E3-1339-44FB-8F51-ECD9B437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701047E-3F37-4D9D-85FE-8A7D2F48295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BA0D51F-A829-419C-9FDE-AB5A32E6044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inite state machine optimiz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min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states require fewer state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bits require fewer logic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ings: state, inputs,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encoding with fewer bits has fewer equations to im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each may be mor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encoding with more bits (e.g., one-hot) has simpler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ity directly related to complexity of state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/output encoding may or may not be under designer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0D3A-DB25-4DED-AE65-9BE9232FC82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other implementation of edge detect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"Ad hoc" solution - not minimal but cheap and f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990720" y="2286000"/>
            <a:ext cx="2971800" cy="3611880"/>
            <a:chOff x="990720" y="2286000"/>
            <a:chExt cx="2971800" cy="3611880"/>
          </a:xfrm>
        </p:grpSpPr>
        <p:sp>
          <p:nvSpPr>
            <p:cNvPr id="370" name=""/>
            <p:cNvSpPr/>
            <p:nvPr/>
          </p:nvSpPr>
          <p:spPr>
            <a:xfrm>
              <a:off x="2209680" y="28195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90720" y="38098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29000" y="38098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73" name=""/>
            <p:cNvCxnSpPr>
              <a:stCxn id="372" idx="3"/>
              <a:endCxn id="371" idx="5"/>
            </p:cNvCxnSpPr>
            <p:nvPr/>
          </p:nvCxnSpPr>
          <p:spPr>
            <a:xfrm rot="5400000">
              <a:off x="2475000" y="3236040"/>
              <a:ext cx="2160" cy="2061360"/>
            </a:xfrm>
            <a:prstGeom prst="curvedConnector5">
              <a:avLst>
                <a:gd name="adj1" fmla="val 19300000"/>
                <a:gd name="adj2" fmla="val 49991"/>
                <a:gd name="adj3" fmla="val 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4" name=""/>
            <p:cNvCxnSpPr>
              <a:stCxn id="371" idx="0"/>
              <a:endCxn id="370" idx="2"/>
            </p:cNvCxnSpPr>
            <p:nvPr/>
          </p:nvCxnSpPr>
          <p:spPr>
            <a:xfrm flipH="1" flipV="1" rot="5400000">
              <a:off x="1371240" y="2971440"/>
              <a:ext cx="724320" cy="9529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5" name=""/>
            <p:cNvCxnSpPr>
              <a:stCxn id="370" idx="6"/>
              <a:endCxn id="372" idx="0"/>
            </p:cNvCxnSpPr>
            <p:nvPr/>
          </p:nvCxnSpPr>
          <p:spPr>
            <a:xfrm>
              <a:off x="2743200" y="3086280"/>
              <a:ext cx="953280" cy="72432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6" name=""/>
            <p:cNvCxnSpPr>
              <a:stCxn id="370" idx="7"/>
              <a:endCxn id="370" idx="1"/>
            </p:cNvCxnSpPr>
            <p:nvPr/>
          </p:nvCxnSpPr>
          <p:spPr>
            <a:xfrm rot="5400000">
              <a:off x="2475000" y="2709000"/>
              <a:ext cx="2160" cy="378720"/>
            </a:xfrm>
            <a:prstGeom prst="curvedConnector5">
              <a:avLst>
                <a:gd name="adj1" fmla="val -19300000"/>
                <a:gd name="adj2" fmla="val 49952"/>
                <a:gd name="adj3" fmla="val -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7" name=""/>
            <p:cNvSpPr/>
            <p:nvPr/>
          </p:nvSpPr>
          <p:spPr>
            <a:xfrm>
              <a:off x="1222560" y="304812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352320" y="304812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289240" y="228600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61960" y="358128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61960" y="556272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320" y="480060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3" name=""/>
            <p:cNvCxnSpPr>
              <a:stCxn id="371" idx="7"/>
              <a:endCxn id="372" idx="1"/>
            </p:cNvCxnSpPr>
            <p:nvPr/>
          </p:nvCxnSpPr>
          <p:spPr>
            <a:xfrm flipH="1" rot="16200000">
              <a:off x="2475360" y="2856960"/>
              <a:ext cx="2520" cy="2061360"/>
            </a:xfrm>
            <a:prstGeom prst="curvedConnector5">
              <a:avLst>
                <a:gd name="adj1" fmla="val -19300000"/>
                <a:gd name="adj2" fmla="val 49991"/>
                <a:gd name="adj3" fmla="val -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4" name=""/>
            <p:cNvSpPr/>
            <p:nvPr/>
          </p:nvSpPr>
          <p:spPr>
            <a:xfrm>
              <a:off x="2209680" y="480060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" name=""/>
            <p:cNvCxnSpPr>
              <a:stCxn id="384" idx="2"/>
              <a:endCxn id="371" idx="4"/>
            </p:cNvCxnSpPr>
            <p:nvPr/>
          </p:nvCxnSpPr>
          <p:spPr>
            <a:xfrm rot="10800000">
              <a:off x="1256760" y="4342680"/>
              <a:ext cx="952920" cy="7246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6" name=""/>
            <p:cNvCxnSpPr>
              <a:stCxn id="372" idx="4"/>
              <a:endCxn id="384" idx="6"/>
            </p:cNvCxnSpPr>
            <p:nvPr/>
          </p:nvCxnSpPr>
          <p:spPr>
            <a:xfrm rot="5400000">
              <a:off x="2856960" y="4228920"/>
              <a:ext cx="724680" cy="9532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7" name=""/>
            <p:cNvCxnSpPr>
              <a:stCxn id="384" idx="3"/>
              <a:endCxn id="384" idx="5"/>
            </p:cNvCxnSpPr>
            <p:nvPr/>
          </p:nvCxnSpPr>
          <p:spPr>
            <a:xfrm flipH="1" rot="16200000">
              <a:off x="2475720" y="5067720"/>
              <a:ext cx="2160" cy="378720"/>
            </a:xfrm>
            <a:prstGeom prst="curvedConnector5">
              <a:avLst>
                <a:gd name="adj1" fmla="val 19300000"/>
                <a:gd name="adj2" fmla="val 49952"/>
                <a:gd name="adj3" fmla="val 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8" name=""/>
            <p:cNvSpPr/>
            <p:nvPr/>
          </p:nvSpPr>
          <p:spPr>
            <a:xfrm>
              <a:off x="2365560" y="426708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98520" y="480060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343400" y="3200400"/>
            <a:ext cx="4410000" cy="154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8F14-E133-4D62-8F62-FE8BEBE4FA7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ose bit vectors to assign to each “symbolic”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n state bits for m states there ar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 / (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m)!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log n &lt;=  m &lt;= 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des possible for 1st state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1 for 2nd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2 for 3rd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ge number even for small values of n and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actable for state machines of any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uristics are necessary for practical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e some metric for the combinational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ze (amount of logic and number of FF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ed (depth of logic and fanou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endencies (decomposi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E951-7C84-41CD-AF45-57A5E00F604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assignment strategi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tial – just number states as they appear in the stat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– pick random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hot – use as many state bits as there are states (bit=1 –&gt; st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– use outputs to help encode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 – rules of thumb that seem to work in most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guarantee of optimality – another intractable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2641-4FD6-4FED-85DE-63A285922E1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ne-hot state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en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deb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logi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tate function requires only predecessor state bits as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for programmable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ts of flip-flops readily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functions with small support (signals its dependent up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actical for larg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 many states require too many flip-fl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mpose FSMs into smaller pieces that can be one-hot enco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slight variations to one-h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hot + all-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24DA-BE12-4CF3-8727-67C1ADD6EF9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1879560" y="2286000"/>
            <a:ext cx="2565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666880" y="22860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752480" y="25909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847880" y="3886200"/>
            <a:ext cx="2565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666880" y="38862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828800" y="4191120"/>
            <a:ext cx="172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879560" y="5384880"/>
            <a:ext cx="2565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66880" y="542304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752480" y="5727600"/>
            <a:ext cx="172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19720" y="2438280"/>
            <a:ext cx="1536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 = i * 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i *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19720" y="3962520"/>
            <a:ext cx="153648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 = i  *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 = k *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19720" y="5486400"/>
            <a:ext cx="1536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 = i  * a +  i  * 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 = i * 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 = i *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6858000" y="1998720"/>
            <a:ext cx="2031480" cy="1155240"/>
            <a:chOff x="6858000" y="1998720"/>
            <a:chExt cx="2031480" cy="1155240"/>
          </a:xfrm>
        </p:grpSpPr>
        <p:sp>
          <p:nvSpPr>
            <p:cNvPr id="410" name=""/>
            <p:cNvSpPr/>
            <p:nvPr/>
          </p:nvSpPr>
          <p:spPr>
            <a:xfrm>
              <a:off x="7080120" y="2017440"/>
              <a:ext cx="34236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994520" y="2017440"/>
              <a:ext cx="34236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537320" y="2703240"/>
              <a:ext cx="34236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7867080" y="2360520"/>
              <a:ext cx="24084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08720" y="2360520"/>
              <a:ext cx="215280" cy="44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58000" y="2392200"/>
              <a:ext cx="7491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076960" y="2442960"/>
              <a:ext cx="8125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137000" y="1998720"/>
              <a:ext cx="558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038800" y="2023920"/>
              <a:ext cx="5583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594200" y="2697120"/>
              <a:ext cx="558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6889680" y="3581280"/>
            <a:ext cx="1966680" cy="1143000"/>
            <a:chOff x="6889680" y="3581280"/>
            <a:chExt cx="1966680" cy="1143000"/>
          </a:xfrm>
        </p:grpSpPr>
        <p:sp>
          <p:nvSpPr>
            <p:cNvPr id="421" name=""/>
            <p:cNvSpPr/>
            <p:nvPr/>
          </p:nvSpPr>
          <p:spPr>
            <a:xfrm>
              <a:off x="7073280" y="427356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986960" y="427356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530120" y="358776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288920" y="3816360"/>
              <a:ext cx="24084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73200" y="3816360"/>
              <a:ext cx="21564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574760" y="3581280"/>
              <a:ext cx="558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117920" y="4267080"/>
              <a:ext cx="558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031600" y="4267080"/>
              <a:ext cx="558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89680" y="3809880"/>
              <a:ext cx="748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044200" y="3860640"/>
              <a:ext cx="8121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k / 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6648480" y="5207040"/>
            <a:ext cx="2622600" cy="1168200"/>
            <a:chOff x="6648480" y="5207040"/>
            <a:chExt cx="2622600" cy="1168200"/>
          </a:xfrm>
        </p:grpSpPr>
        <p:sp>
          <p:nvSpPr>
            <p:cNvPr id="432" name=""/>
            <p:cNvSpPr/>
            <p:nvPr/>
          </p:nvSpPr>
          <p:spPr>
            <a:xfrm>
              <a:off x="7162920" y="591804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496360" y="591804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105680" y="596268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8480" y="527688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991200" y="5505480"/>
              <a:ext cx="21600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77280" y="596268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20080" y="5276880"/>
              <a:ext cx="342720" cy="342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362800" y="5505480"/>
              <a:ext cx="21600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112160" y="5537160"/>
              <a:ext cx="7491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718320" y="520704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77320" y="5232240"/>
              <a:ext cx="558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521560" y="5499000"/>
              <a:ext cx="749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/ 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euristics for state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445600" cy="48625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acent codes to states that share a common next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1's in next state map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acent codes to states that share a common ancestor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1's in next state map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acent codes to states that have a common output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1's in output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0764-6D9C-4FAA-82F6-51D22C735D4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024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General approach to heuristic state assignmen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667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urrent methods are variants of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determine which states “attract” each other (weighted pai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generate constraints on codes (which should be in same cu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place codes on Boolean cube so as to maximize constraints satisf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eighted s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weights make sense depending on whether we are optimizing for two-level or multi-level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't consider all possible embeddings of state clusters in Boolean c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s for ordering embe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une search for best embed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d cube (more state bits) to satisfy more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DD48-B41C-4FEF-8C62-7765949DAA4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utput-based encodin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63320" y="1487520"/>
            <a:ext cx="8343720" cy="4589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e outputs as state bits - use outputs to help distinguish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create new functions for state bits when output can serve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ts in nicely with synchronous Mealy 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1000" y="5529240"/>
            <a:ext cx="41274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 = ST’ H1’ H0’ F1 F0’ + ST H1 H0’ F1’ F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ST H1’ H0’ F1 F0’ + ST’ H1’ H0 F1 F0’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 = ST H1’ H0 F1 F0’ + ST’ H1 H0’ F1’ F0’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ST H1 H0’ F1’ F0’ + ST’ H1 H0’ F1’ F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637160" y="5521320"/>
            <a:ext cx="435132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 patterns are unique to states, we do no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ed ANY state bits – implement 5 func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one for each output) instead of 7 (outputs plu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 state bi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460440" y="2665440"/>
            <a:ext cx="8489880" cy="2978280"/>
            <a:chOff x="460440" y="2665440"/>
            <a:chExt cx="8489880" cy="2978280"/>
          </a:xfrm>
        </p:grpSpPr>
        <p:sp>
          <p:nvSpPr>
            <p:cNvPr id="453" name=""/>
            <p:cNvSpPr/>
            <p:nvPr/>
          </p:nvSpPr>
          <p:spPr>
            <a:xfrm>
              <a:off x="555480" y="2709720"/>
              <a:ext cx="8394840" cy="29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4113360"/>
                  <a:tab algn="l" pos="4570560"/>
                  <a:tab algn="l" pos="5029200"/>
                  <a:tab algn="l" pos="5942160"/>
                  <a:tab algn="l" pos="6399360"/>
                  <a:tab algn="l" pos="73137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60440" y="3166920"/>
              <a:ext cx="826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908520" y="2678040"/>
              <a:ext cx="0" cy="27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04080" y="2678040"/>
              <a:ext cx="0" cy="278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066760" y="2665440"/>
              <a:ext cx="0" cy="27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96E5-7DBA-4020-9967-4B284FA231A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urrent state assignment approach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ight encodings using close to the minimum number of state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of 10 random seems to be adequate (averages as well as heuristi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 approaches are not even close to optim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custom chip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hot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for small state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s small equations with easy to estimate 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in FPGAs and other programmable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-based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 hoc - no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common approach taken by human desig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ields very small circuits for most F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AF13-763C-46D2-9D3C-EA0BFEF9E93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optimization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min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ightforward in fully-specified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ationally intractable, in general (with don’t ca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heu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-of-10-random just as good or better for most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encoding can be attractive (especially for PAL implement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821A-7C56-4A4A-9933-BB7049CD896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lgorithmic approach to state minimiz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 – identify and combine states that have equivalent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t sta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ll input combinations, states transition to same or equivalent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 ske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place all states in on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initially partition set based on output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successively partition resulting subsets based on next state tran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repeat (3) until no further partitioning i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s left in the same set are equival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nomial time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2F81-9646-4B0B-88F5-E6667A3F3CB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479680" y="2303640"/>
            <a:ext cx="6343200" cy="2158920"/>
            <a:chOff x="2479680" y="2303640"/>
            <a:chExt cx="6343200" cy="2158920"/>
          </a:xfrm>
        </p:grpSpPr>
        <p:sp>
          <p:nvSpPr>
            <p:cNvPr id="89" name=""/>
            <p:cNvSpPr/>
            <p:nvPr/>
          </p:nvSpPr>
          <p:spPr>
            <a:xfrm>
              <a:off x="2600280" y="2303640"/>
              <a:ext cx="6222600" cy="21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qu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92280" y="2836800"/>
              <a:ext cx="6210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56280" y="2322720"/>
              <a:ext cx="0" cy="209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92720" y="2309760"/>
              <a:ext cx="0" cy="209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794040" y="2322720"/>
              <a:ext cx="0" cy="20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79680" y="2322720"/>
              <a:ext cx="6235560" cy="2108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ate minimization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ce detector for 010 or 11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50880" y="4284720"/>
            <a:ext cx="2925360" cy="2265120"/>
            <a:chOff x="650880" y="4284720"/>
            <a:chExt cx="2925360" cy="2265120"/>
          </a:xfrm>
        </p:grpSpPr>
        <p:sp>
          <p:nvSpPr>
            <p:cNvPr id="98" name=""/>
            <p:cNvSpPr/>
            <p:nvPr/>
          </p:nvSpPr>
          <p:spPr>
            <a:xfrm>
              <a:off x="1946160" y="4492440"/>
              <a:ext cx="380520" cy="381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31760" y="571176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55640" y="510228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36320" y="510228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50720" y="571176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60560" y="571176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641240" y="571176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" name=""/>
            <p:cNvCxnSpPr>
              <a:stCxn id="98" idx="3"/>
              <a:endCxn id="101" idx="7"/>
            </p:cNvCxnSpPr>
            <p:nvPr/>
          </p:nvCxnSpPr>
          <p:spPr>
            <a:xfrm flipH="1">
              <a:off x="1661040" y="4817880"/>
              <a:ext cx="340200" cy="34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>
              <a:stCxn id="101" idx="3"/>
              <a:endCxn id="99" idx="0"/>
            </p:cNvCxnSpPr>
            <p:nvPr/>
          </p:nvCxnSpPr>
          <p:spPr>
            <a:xfrm flipH="1">
              <a:off x="1221480" y="5427360"/>
              <a:ext cx="17028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7" name=""/>
            <p:cNvCxnSpPr>
              <a:stCxn id="101" idx="5"/>
              <a:endCxn id="104" idx="0"/>
            </p:cNvCxnSpPr>
            <p:nvPr/>
          </p:nvCxnSpPr>
          <p:spPr>
            <a:xfrm>
              <a:off x="1661400" y="5427360"/>
              <a:ext cx="17028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" name=""/>
            <p:cNvCxnSpPr>
              <a:stCxn id="100" idx="3"/>
              <a:endCxn id="102" idx="0"/>
            </p:cNvCxnSpPr>
            <p:nvPr/>
          </p:nvCxnSpPr>
          <p:spPr>
            <a:xfrm flipH="1">
              <a:off x="2441160" y="5427360"/>
              <a:ext cx="16992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" name=""/>
            <p:cNvCxnSpPr>
              <a:stCxn id="100" idx="5"/>
              <a:endCxn id="103" idx="0"/>
            </p:cNvCxnSpPr>
            <p:nvPr/>
          </p:nvCxnSpPr>
          <p:spPr>
            <a:xfrm>
              <a:off x="2880720" y="5427360"/>
              <a:ext cx="17028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" name=""/>
            <p:cNvCxnSpPr>
              <a:stCxn id="98" idx="5"/>
              <a:endCxn id="100" idx="1"/>
            </p:cNvCxnSpPr>
            <p:nvPr/>
          </p:nvCxnSpPr>
          <p:spPr>
            <a:xfrm>
              <a:off x="2271600" y="4817880"/>
              <a:ext cx="339840" cy="340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endCxn id="98" idx="1"/>
            </p:cNvCxnSpPr>
            <p:nvPr/>
          </p:nvCxnSpPr>
          <p:spPr>
            <a:xfrm>
              <a:off x="1737720" y="4284720"/>
              <a:ext cx="263880" cy="26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endCxn id="98" idx="2"/>
            </p:cNvCxnSpPr>
            <p:nvPr/>
          </p:nvCxnSpPr>
          <p:spPr>
            <a:xfrm flipH="1" flipV="1" rot="5400000">
              <a:off x="383760" y="4949640"/>
              <a:ext cx="1829520" cy="129600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3" name=""/>
            <p:cNvSpPr/>
            <p:nvPr/>
          </p:nvSpPr>
          <p:spPr>
            <a:xfrm flipH="1">
              <a:off x="650880" y="654984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00480" y="469404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09760" y="469404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57680" y="530388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6280" y="59133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81360" y="61419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95544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336320" y="601668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564560" y="601668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4616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17476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5564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784240" y="6016680"/>
              <a:ext cx="1519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65120" y="601668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71880" y="530388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38360" y="530388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76240" y="530388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76440" y="59133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71880" y="61419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66960" y="59133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62040" y="61419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57480" y="59133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52560" y="6141960"/>
              <a:ext cx="48996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FB13-7A81-4597-B5C5-4610EE8524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71560" y="4140360"/>
            <a:ext cx="560088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113360"/>
                <a:tab algn="l" pos="4570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 S0 S1 S2 S3 S4 S5 S6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113360"/>
                <a:tab algn="l" pos="4570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 S0 S1 S2 S3 S5 )   ( S4 S6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113360"/>
                <a:tab algn="l" pos="4570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 S0 S3 S5 )   ( S1 S2 )   ( S4 S6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286000"/>
                <a:tab algn="l" pos="2743200"/>
                <a:tab algn="l" pos="3200400"/>
                <a:tab algn="l" pos="3656160"/>
                <a:tab algn="l" pos="4113360"/>
                <a:tab algn="l" pos="4570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 S0 )   ( S3 S5 )   ( S1 S2 )   ( S4 S6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600200" y="1676520"/>
            <a:ext cx="6343560" cy="2158920"/>
            <a:chOff x="1600200" y="1676520"/>
            <a:chExt cx="6343560" cy="2158920"/>
          </a:xfrm>
        </p:grpSpPr>
        <p:sp>
          <p:nvSpPr>
            <p:cNvPr id="138" name=""/>
            <p:cNvSpPr/>
            <p:nvPr/>
          </p:nvSpPr>
          <p:spPr>
            <a:xfrm>
              <a:off x="1720800" y="1676520"/>
              <a:ext cx="6222960" cy="21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Nex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quenc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6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12800" y="2209680"/>
              <a:ext cx="6210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7160" y="1695240"/>
              <a:ext cx="0" cy="20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3240" y="1682640"/>
              <a:ext cx="0" cy="209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14560" y="1695240"/>
              <a:ext cx="0" cy="20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00200" y="1695240"/>
              <a:ext cx="6235920" cy="2107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5791320" y="4419720"/>
            <a:ext cx="243828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1 is equivalent to 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3 is equivalent to S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4 is equivalent to S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thod of successive parti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56EF-F32F-4FAB-A486-32B98764A80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2590920" y="2133720"/>
            <a:ext cx="6178320" cy="1568160"/>
            <a:chOff x="2590920" y="2133720"/>
            <a:chExt cx="6178320" cy="1568160"/>
          </a:xfrm>
        </p:grpSpPr>
        <p:sp>
          <p:nvSpPr>
            <p:cNvPr id="147" name=""/>
            <p:cNvSpPr/>
            <p:nvPr/>
          </p:nvSpPr>
          <p:spPr>
            <a:xfrm>
              <a:off x="2622600" y="2152440"/>
              <a:ext cx="614664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put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    Next State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      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quence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=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=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+ 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4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1370160"/>
                  <a:tab algn="l" pos="2743200"/>
                  <a:tab algn="l" pos="3656160"/>
                  <a:tab algn="l" pos="45705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4'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920" y="2647800"/>
              <a:ext cx="596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940440" y="2133720"/>
              <a:ext cx="0" cy="148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76880" y="2133720"/>
              <a:ext cx="0" cy="149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90800" y="2146320"/>
              <a:ext cx="0" cy="148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90920" y="2133720"/>
              <a:ext cx="5994360" cy="1511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ized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minimized sequence detector for 010 or 11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00280" y="3773520"/>
            <a:ext cx="3000960" cy="2493720"/>
            <a:chOff x="800280" y="3773520"/>
            <a:chExt cx="3000960" cy="2493720"/>
          </a:xfrm>
        </p:grpSpPr>
        <p:sp>
          <p:nvSpPr>
            <p:cNvPr id="156" name=""/>
            <p:cNvSpPr/>
            <p:nvPr/>
          </p:nvSpPr>
          <p:spPr>
            <a:xfrm>
              <a:off x="2400120" y="3981240"/>
              <a:ext cx="380880" cy="381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00120" y="4819680"/>
              <a:ext cx="38088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1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90640" y="542916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3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09960" y="5408640"/>
              <a:ext cx="380520" cy="380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4’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0" name=""/>
            <p:cNvCxnSpPr>
              <a:stCxn id="157" idx="3"/>
              <a:endCxn id="158" idx="0"/>
            </p:cNvCxnSpPr>
            <p:nvPr/>
          </p:nvCxnSpPr>
          <p:spPr>
            <a:xfrm flipH="1">
              <a:off x="1980720" y="5144760"/>
              <a:ext cx="475200" cy="284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7" idx="5"/>
              <a:endCxn id="159" idx="0"/>
            </p:cNvCxnSpPr>
            <p:nvPr/>
          </p:nvCxnSpPr>
          <p:spPr>
            <a:xfrm>
              <a:off x="2725560" y="5145120"/>
              <a:ext cx="475200" cy="26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6" idx="4"/>
              <a:endCxn id="157" idx="0"/>
            </p:cNvCxnSpPr>
            <p:nvPr/>
          </p:nvCxnSpPr>
          <p:spPr>
            <a:xfrm>
              <a:off x="2590560" y="4362480"/>
              <a:ext cx="1080" cy="457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>
              <a:endCxn id="156" idx="1"/>
            </p:cNvCxnSpPr>
            <p:nvPr/>
          </p:nvCxnSpPr>
          <p:spPr>
            <a:xfrm>
              <a:off x="2192040" y="3773520"/>
              <a:ext cx="263880" cy="2642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65" idx="0"/>
              <a:endCxn id="156" idx="2"/>
            </p:cNvCxnSpPr>
            <p:nvPr/>
          </p:nvCxnSpPr>
          <p:spPr>
            <a:xfrm flipH="1" flipV="1" rot="5400000">
              <a:off x="562680" y="4408920"/>
              <a:ext cx="2075400" cy="1600560"/>
            </a:xfrm>
            <a:prstGeom prst="bentConnector4">
              <a:avLst>
                <a:gd name="adj1" fmla="val 99913"/>
                <a:gd name="adj2" fmla="val 8569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" name=""/>
            <p:cNvSpPr/>
            <p:nvPr/>
          </p:nvSpPr>
          <p:spPr>
            <a:xfrm flipH="1">
              <a:off x="800280" y="6246720"/>
              <a:ext cx="2666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74720" y="4417920"/>
              <a:ext cx="477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83240" y="5048280"/>
              <a:ext cx="460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40440" y="5810040"/>
              <a:ext cx="460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78320" y="5810040"/>
              <a:ext cx="460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81080" y="581004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933640" y="5713200"/>
              <a:ext cx="151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14520" y="5713200"/>
              <a:ext cx="1522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92520" y="5048280"/>
              <a:ext cx="460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64880" y="5790960"/>
              <a:ext cx="477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/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A6F9-CFF8-4534-9001-B09694103C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60920" y="5283360"/>
            <a:ext cx="30225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mbolic stat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ition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533840" y="3213000"/>
            <a:ext cx="4254480" cy="2108160"/>
            <a:chOff x="4533840" y="3213000"/>
            <a:chExt cx="4254480" cy="2108160"/>
          </a:xfrm>
        </p:grpSpPr>
        <p:sp>
          <p:nvSpPr>
            <p:cNvPr id="178" name=""/>
            <p:cNvSpPr/>
            <p:nvPr/>
          </p:nvSpPr>
          <p:spPr>
            <a:xfrm>
              <a:off x="4572000" y="3213000"/>
              <a:ext cx="421632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1143000"/>
                  <a:tab algn="l" pos="1598760"/>
                  <a:tab algn="l" pos="2057400"/>
                  <a:tab algn="l" pos="25146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resen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 next state            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3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33840" y="369576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67480" y="3276720"/>
              <a:ext cx="0" cy="170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76840" y="3276720"/>
              <a:ext cx="0" cy="170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4610160" y="2133720"/>
            <a:ext cx="29970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puts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complex state minimiz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 input 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082160" y="2588040"/>
            <a:ext cx="2540160" cy="3347640"/>
            <a:chOff x="1082160" y="2588040"/>
            <a:chExt cx="2540160" cy="3347640"/>
          </a:xfrm>
        </p:grpSpPr>
        <p:sp>
          <p:nvSpPr>
            <p:cNvPr id="186" name=""/>
            <p:cNvSpPr/>
            <p:nvPr/>
          </p:nvSpPr>
          <p:spPr>
            <a:xfrm>
              <a:off x="1548000" y="34228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84760" y="32133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10240" y="35816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883160" y="27306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51480" y="39052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11680" y="42800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32400" y="45770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06440" y="45324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87520" y="49723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18240" y="47149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68920" y="52279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11400" y="52945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078000" y="27306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91560" y="29322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46400" y="346572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42840" y="37148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63520" y="456084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00920" y="44751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69760" y="38736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88320" y="49276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14720" y="568800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07400" y="55072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327480" y="526428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03360" y="2924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03360" y="4067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03360" y="5210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23760" y="2924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23760" y="4067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23760" y="5210280"/>
              <a:ext cx="457560" cy="457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52360" y="4524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08640" y="4524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655640" y="45241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60920" y="536256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960920" y="551520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2876040" y="33811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28320" y="3381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0920" y="429588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1884600" y="3304800"/>
              <a:ext cx="9151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884600" y="4448160"/>
              <a:ext cx="91512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1837080" y="3353040"/>
              <a:ext cx="1000800" cy="18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960920" y="322920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1960920" y="3076560"/>
              <a:ext cx="76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32320" y="3381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1789560" y="3381480"/>
              <a:ext cx="101016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37080" y="3343320"/>
              <a:ext cx="905400" cy="84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1913040" y="3285720"/>
              <a:ext cx="885960" cy="80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2" name=""/>
            <p:cNvCxnSpPr>
              <a:stCxn id="214" idx="5"/>
              <a:endCxn id="214" idx="3"/>
            </p:cNvCxnSpPr>
            <p:nvPr/>
          </p:nvCxnSpPr>
          <p:spPr>
            <a:xfrm rot="5400000">
              <a:off x="2950560" y="5439600"/>
              <a:ext cx="2160" cy="324360"/>
            </a:xfrm>
            <a:prstGeom prst="curvedConnector5">
              <a:avLst>
                <a:gd name="adj1" fmla="val 18600000"/>
                <a:gd name="adj2" fmla="val 50000"/>
                <a:gd name="adj3" fmla="val 18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3" name=""/>
            <p:cNvCxnSpPr>
              <a:stCxn id="212" idx="7"/>
              <a:endCxn id="212" idx="1"/>
            </p:cNvCxnSpPr>
            <p:nvPr/>
          </p:nvCxnSpPr>
          <p:spPr>
            <a:xfrm rot="5400000">
              <a:off x="2950560" y="2828880"/>
              <a:ext cx="2520" cy="324360"/>
            </a:xfrm>
            <a:prstGeom prst="curvedConnector5">
              <a:avLst>
                <a:gd name="adj1" fmla="val -18600000"/>
                <a:gd name="adj2" fmla="val 50000"/>
                <a:gd name="adj3" fmla="val -18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4" name=""/>
            <p:cNvCxnSpPr>
              <a:stCxn id="209" idx="7"/>
              <a:endCxn id="209" idx="1"/>
            </p:cNvCxnSpPr>
            <p:nvPr/>
          </p:nvCxnSpPr>
          <p:spPr>
            <a:xfrm rot="5400000">
              <a:off x="1730520" y="2828880"/>
              <a:ext cx="2520" cy="324720"/>
            </a:xfrm>
            <a:prstGeom prst="curvedConnector5">
              <a:avLst>
                <a:gd name="adj1" fmla="val -18600000"/>
                <a:gd name="adj2" fmla="val 49944"/>
                <a:gd name="adj3" fmla="val -186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5" name=""/>
            <p:cNvCxnSpPr>
              <a:stCxn id="211" idx="2"/>
              <a:endCxn id="209" idx="2"/>
            </p:cNvCxnSpPr>
            <p:nvPr/>
          </p:nvCxnSpPr>
          <p:spPr>
            <a:xfrm flipH="1" rot="10800000">
              <a:off x="1503000" y="3152160"/>
              <a:ext cx="2160" cy="2286720"/>
            </a:xfrm>
            <a:prstGeom prst="curvedConnector5">
              <a:avLst>
                <a:gd name="adj1" fmla="val -23400000"/>
                <a:gd name="adj2" fmla="val 49992"/>
                <a:gd name="adj3" fmla="val -234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6" name=""/>
            <p:cNvCxnSpPr>
              <a:stCxn id="210" idx="3"/>
              <a:endCxn id="210" idx="1"/>
            </p:cNvCxnSpPr>
            <p:nvPr/>
          </p:nvCxnSpPr>
          <p:spPr>
            <a:xfrm flipH="1" flipV="1" rot="5400000">
              <a:off x="1407600" y="4294440"/>
              <a:ext cx="324720" cy="2520"/>
            </a:xfrm>
            <a:prstGeom prst="curvedConnector5">
              <a:avLst>
                <a:gd name="adj1" fmla="val -29411"/>
                <a:gd name="adj2" fmla="val -7800000"/>
                <a:gd name="adj3" fmla="val -29411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7" name=""/>
            <p:cNvCxnSpPr>
              <a:stCxn id="212" idx="6"/>
              <a:endCxn id="214" idx="6"/>
            </p:cNvCxnSpPr>
            <p:nvPr/>
          </p:nvCxnSpPr>
          <p:spPr>
            <a:xfrm>
              <a:off x="3181320" y="3152880"/>
              <a:ext cx="2160" cy="2286720"/>
            </a:xfrm>
            <a:prstGeom prst="curvedConnector5">
              <a:avLst>
                <a:gd name="adj1" fmla="val 12000000"/>
                <a:gd name="adj2" fmla="val 49992"/>
                <a:gd name="adj3" fmla="val 120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8" name=""/>
            <p:cNvCxnSpPr>
              <a:stCxn id="214" idx="6"/>
              <a:endCxn id="212" idx="6"/>
            </p:cNvCxnSpPr>
            <p:nvPr/>
          </p:nvCxnSpPr>
          <p:spPr>
            <a:xfrm flipV="1">
              <a:off x="3181320" y="3152520"/>
              <a:ext cx="2160" cy="2286720"/>
            </a:xfrm>
            <a:prstGeom prst="curvedConnector5">
              <a:avLst>
                <a:gd name="adj1" fmla="val 24500000"/>
                <a:gd name="adj2" fmla="val 49992"/>
                <a:gd name="adj3" fmla="val 245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9" name=""/>
            <p:cNvSpPr/>
            <p:nvPr/>
          </p:nvSpPr>
          <p:spPr>
            <a:xfrm>
              <a:off x="3041640" y="3683160"/>
              <a:ext cx="17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5334120" y="2438280"/>
            <a:ext cx="49536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27EA-EE02-46CF-9850-C25A65ACAA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1222920" y="3405240"/>
            <a:ext cx="516240" cy="732600"/>
            <a:chOff x="1222920" y="3405240"/>
            <a:chExt cx="516240" cy="732600"/>
          </a:xfrm>
        </p:grpSpPr>
        <p:sp>
          <p:nvSpPr>
            <p:cNvPr id="242" name=""/>
            <p:cNvSpPr/>
            <p:nvPr/>
          </p:nvSpPr>
          <p:spPr>
            <a:xfrm>
              <a:off x="1235520" y="340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235520" y="35830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3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22920" y="37479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-S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222920" y="39243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222920" y="4775040"/>
            <a:ext cx="503640" cy="733680"/>
            <a:chOff x="1222920" y="4775040"/>
            <a:chExt cx="503640" cy="733680"/>
          </a:xfrm>
        </p:grpSpPr>
        <p:sp>
          <p:nvSpPr>
            <p:cNvPr id="247" name=""/>
            <p:cNvSpPr/>
            <p:nvPr/>
          </p:nvSpPr>
          <p:spPr>
            <a:xfrm>
              <a:off x="1222920" y="47750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22920" y="4953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22920" y="51184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-S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22920" y="529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908720" y="4103640"/>
            <a:ext cx="503640" cy="720000"/>
            <a:chOff x="1908720" y="4103640"/>
            <a:chExt cx="503640" cy="720000"/>
          </a:xfrm>
        </p:grpSpPr>
        <p:sp>
          <p:nvSpPr>
            <p:cNvPr id="252" name=""/>
            <p:cNvSpPr/>
            <p:nvPr/>
          </p:nvSpPr>
          <p:spPr>
            <a:xfrm>
              <a:off x="1908720" y="41036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08720" y="42800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908720" y="443232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08720" y="46101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908720" y="5475240"/>
            <a:ext cx="503640" cy="720000"/>
            <a:chOff x="1908720" y="5475240"/>
            <a:chExt cx="503640" cy="720000"/>
          </a:xfrm>
        </p:grpSpPr>
        <p:sp>
          <p:nvSpPr>
            <p:cNvPr id="257" name=""/>
            <p:cNvSpPr/>
            <p:nvPr/>
          </p:nvSpPr>
          <p:spPr>
            <a:xfrm>
              <a:off x="1908720" y="547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08720" y="56530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908720" y="58294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08720" y="59817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594520" y="4775040"/>
            <a:ext cx="516240" cy="733680"/>
            <a:chOff x="2594520" y="4775040"/>
            <a:chExt cx="516240" cy="733680"/>
          </a:xfrm>
        </p:grpSpPr>
        <p:sp>
          <p:nvSpPr>
            <p:cNvPr id="262" name=""/>
            <p:cNvSpPr/>
            <p:nvPr/>
          </p:nvSpPr>
          <p:spPr>
            <a:xfrm>
              <a:off x="2607120" y="47750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07120" y="4953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02440" y="5118480"/>
              <a:ext cx="45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-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94520" y="529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275640" y="5475240"/>
            <a:ext cx="508320" cy="720000"/>
            <a:chOff x="3275640" y="5475240"/>
            <a:chExt cx="508320" cy="720000"/>
          </a:xfrm>
        </p:grpSpPr>
        <p:sp>
          <p:nvSpPr>
            <p:cNvPr id="267" name=""/>
            <p:cNvSpPr/>
            <p:nvPr/>
          </p:nvSpPr>
          <p:spPr>
            <a:xfrm>
              <a:off x="3275640" y="5829480"/>
              <a:ext cx="45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-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80320" y="598176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-S5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80320" y="547524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-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80320" y="5653080"/>
              <a:ext cx="503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-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633920" y="3346560"/>
            <a:ext cx="4254480" cy="2006640"/>
            <a:chOff x="4633920" y="3346560"/>
            <a:chExt cx="4254480" cy="2006640"/>
          </a:xfrm>
        </p:grpSpPr>
        <p:sp>
          <p:nvSpPr>
            <p:cNvPr id="272" name=""/>
            <p:cNvSpPr/>
            <p:nvPr/>
          </p:nvSpPr>
          <p:spPr>
            <a:xfrm>
              <a:off x="5446800" y="4997520"/>
              <a:ext cx="27432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nimized state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S0==S4) (S3==S5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72080" y="3346560"/>
              <a:ext cx="421632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Aft>
                  <a:spcPts val="2001"/>
                </a:spcAft>
                <a:tabLst>
                  <a:tab algn="l" pos="0"/>
                  <a:tab algn="l" pos="1143000"/>
                  <a:tab algn="l" pos="1598760"/>
                  <a:tab algn="l" pos="2057400"/>
                  <a:tab algn="l" pos="2514600"/>
                  <a:tab algn="l" pos="32004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esent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next state            outpu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stat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S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0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3'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633920" y="378648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580160" y="3410280"/>
              <a:ext cx="0" cy="132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76920" y="3410280"/>
              <a:ext cx="0" cy="132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ized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ication chart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 out incompatible states based on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ross out more cells if indexed chart entries are already crossed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827640" y="2743200"/>
            <a:ext cx="3744360" cy="3718800"/>
            <a:chOff x="827640" y="2743200"/>
            <a:chExt cx="3744360" cy="3718800"/>
          </a:xfrm>
        </p:grpSpPr>
        <p:sp>
          <p:nvSpPr>
            <p:cNvPr id="280" name=""/>
            <p:cNvSpPr/>
            <p:nvPr/>
          </p:nvSpPr>
          <p:spPr>
            <a:xfrm>
              <a:off x="840240" y="295596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40240" y="363852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7640" y="433548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40240" y="5018040"/>
              <a:ext cx="246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35560" y="571500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4676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05488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9000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5996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05800" y="6248520"/>
              <a:ext cx="200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1143000" y="2743200"/>
              <a:ext cx="3429000" cy="3429000"/>
              <a:chOff x="1143000" y="2743200"/>
              <a:chExt cx="3429000" cy="3429000"/>
            </a:xfrm>
          </p:grpSpPr>
          <p:sp>
            <p:nvSpPr>
              <p:cNvPr id="291" name=""/>
              <p:cNvSpPr/>
              <p:nvPr/>
            </p:nvSpPr>
            <p:spPr>
              <a:xfrm>
                <a:off x="1143000" y="5486400"/>
                <a:ext cx="34290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143000" y="4800600"/>
                <a:ext cx="27432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143000" y="4114800"/>
                <a:ext cx="20574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143000" y="3429000"/>
                <a:ext cx="13716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143000" y="2743200"/>
                <a:ext cx="6858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43000" y="2743200"/>
                <a:ext cx="685800" cy="34290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828800" y="3429000"/>
                <a:ext cx="685800" cy="2743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514600" y="4114800"/>
                <a:ext cx="685800" cy="20574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200400" y="4800600"/>
                <a:ext cx="685800" cy="13716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86200" y="5486400"/>
                <a:ext cx="68580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1828440" y="3429000"/>
            <a:ext cx="686160" cy="685800"/>
            <a:chOff x="1828440" y="3429000"/>
            <a:chExt cx="686160" cy="685800"/>
          </a:xfrm>
        </p:grpSpPr>
        <p:sp>
          <p:nvSpPr>
            <p:cNvPr id="302" name=""/>
            <p:cNvSpPr/>
            <p:nvPr/>
          </p:nvSpPr>
          <p:spPr>
            <a:xfrm>
              <a:off x="1828800" y="3429000"/>
              <a:ext cx="685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1828440" y="3429000"/>
              <a:ext cx="685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142640" y="4114800"/>
            <a:ext cx="3429360" cy="2057400"/>
            <a:chOff x="1142640" y="4114800"/>
            <a:chExt cx="3429360" cy="2057400"/>
          </a:xfrm>
        </p:grpSpPr>
        <p:grpSp>
          <p:nvGrpSpPr>
            <p:cNvPr id="305" name=""/>
            <p:cNvGrpSpPr/>
            <p:nvPr/>
          </p:nvGrpSpPr>
          <p:grpSpPr>
            <a:xfrm>
              <a:off x="1142640" y="5486400"/>
              <a:ext cx="686160" cy="685800"/>
              <a:chOff x="1142640" y="5486400"/>
              <a:chExt cx="686160" cy="685800"/>
            </a:xfrm>
          </p:grpSpPr>
          <p:sp>
            <p:nvSpPr>
              <p:cNvPr id="306" name=""/>
              <p:cNvSpPr/>
              <p:nvPr/>
            </p:nvSpPr>
            <p:spPr>
              <a:xfrm>
                <a:off x="114300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114264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2514240" y="5486400"/>
              <a:ext cx="686160" cy="685800"/>
              <a:chOff x="2514240" y="5486400"/>
              <a:chExt cx="686160" cy="685800"/>
            </a:xfrm>
          </p:grpSpPr>
          <p:sp>
            <p:nvSpPr>
              <p:cNvPr id="309" name=""/>
              <p:cNvSpPr/>
              <p:nvPr/>
            </p:nvSpPr>
            <p:spPr>
              <a:xfrm>
                <a:off x="251460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>
                <a:off x="251424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3200040" y="4800600"/>
              <a:ext cx="686160" cy="685800"/>
              <a:chOff x="3200040" y="4800600"/>
              <a:chExt cx="686160" cy="685800"/>
            </a:xfrm>
          </p:grpSpPr>
          <p:sp>
            <p:nvSpPr>
              <p:cNvPr id="312" name=""/>
              <p:cNvSpPr/>
              <p:nvPr/>
            </p:nvSpPr>
            <p:spPr>
              <a:xfrm>
                <a:off x="3200400" y="48006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3200040" y="48006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3885840" y="5486400"/>
              <a:ext cx="686160" cy="685800"/>
              <a:chOff x="3885840" y="5486400"/>
              <a:chExt cx="686160" cy="685800"/>
            </a:xfrm>
          </p:grpSpPr>
          <p:sp>
            <p:nvSpPr>
              <p:cNvPr id="315" name=""/>
              <p:cNvSpPr/>
              <p:nvPr/>
            </p:nvSpPr>
            <p:spPr>
              <a:xfrm>
                <a:off x="388620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3885840" y="54864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2514240" y="4114800"/>
              <a:ext cx="686160" cy="685800"/>
              <a:chOff x="2514240" y="4114800"/>
              <a:chExt cx="686160" cy="685800"/>
            </a:xfrm>
          </p:grpSpPr>
          <p:sp>
            <p:nvSpPr>
              <p:cNvPr id="318" name=""/>
              <p:cNvSpPr/>
              <p:nvPr/>
            </p:nvSpPr>
            <p:spPr>
              <a:xfrm>
                <a:off x="2514600" y="41148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2514240" y="41148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1142640" y="4114800"/>
              <a:ext cx="686160" cy="685800"/>
              <a:chOff x="1142640" y="4114800"/>
              <a:chExt cx="686160" cy="685800"/>
            </a:xfrm>
          </p:grpSpPr>
          <p:sp>
            <p:nvSpPr>
              <p:cNvPr id="321" name=""/>
              <p:cNvSpPr/>
              <p:nvPr/>
            </p:nvSpPr>
            <p:spPr>
              <a:xfrm>
                <a:off x="1143000" y="41148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1142640" y="41148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1828440" y="4800600"/>
              <a:ext cx="686160" cy="685800"/>
              <a:chOff x="1828440" y="4800600"/>
              <a:chExt cx="686160" cy="685800"/>
            </a:xfrm>
          </p:grpSpPr>
          <p:sp>
            <p:nvSpPr>
              <p:cNvPr id="324" name=""/>
              <p:cNvSpPr/>
              <p:nvPr/>
            </p:nvSpPr>
            <p:spPr>
              <a:xfrm>
                <a:off x="1828800" y="48006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1828440" y="4800600"/>
                <a:ext cx="685800" cy="685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6" name=""/>
          <p:cNvGrpSpPr/>
          <p:nvPr/>
        </p:nvGrpSpPr>
        <p:grpSpPr>
          <a:xfrm>
            <a:off x="1142640" y="2743200"/>
            <a:ext cx="686160" cy="685800"/>
            <a:chOff x="1142640" y="2743200"/>
            <a:chExt cx="686160" cy="685800"/>
          </a:xfrm>
        </p:grpSpPr>
        <p:sp>
          <p:nvSpPr>
            <p:cNvPr id="327" name=""/>
            <p:cNvSpPr/>
            <p:nvPr/>
          </p:nvSpPr>
          <p:spPr>
            <a:xfrm>
              <a:off x="1143000" y="2743200"/>
              <a:ext cx="685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142640" y="2743200"/>
              <a:ext cx="68580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142640" y="3429000"/>
            <a:ext cx="686160" cy="685800"/>
            <a:chOff x="1142640" y="3429000"/>
            <a:chExt cx="686160" cy="685800"/>
          </a:xfrm>
        </p:grpSpPr>
        <p:sp>
          <p:nvSpPr>
            <p:cNvPr id="330" name=""/>
            <p:cNvSpPr/>
            <p:nvPr/>
          </p:nvSpPr>
          <p:spPr>
            <a:xfrm>
              <a:off x="1143000" y="34290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1142640" y="34290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828440" y="4114800"/>
            <a:ext cx="686160" cy="685800"/>
            <a:chOff x="1828440" y="4114800"/>
            <a:chExt cx="686160" cy="685800"/>
          </a:xfrm>
        </p:grpSpPr>
        <p:sp>
          <p:nvSpPr>
            <p:cNvPr id="333" name=""/>
            <p:cNvSpPr/>
            <p:nvPr/>
          </p:nvSpPr>
          <p:spPr>
            <a:xfrm>
              <a:off x="1828800" y="41148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1828440" y="41148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514240" y="4800600"/>
            <a:ext cx="686160" cy="685800"/>
            <a:chOff x="2514240" y="4800600"/>
            <a:chExt cx="686160" cy="685800"/>
          </a:xfrm>
        </p:grpSpPr>
        <p:sp>
          <p:nvSpPr>
            <p:cNvPr id="336" name=""/>
            <p:cNvSpPr/>
            <p:nvPr/>
          </p:nvSpPr>
          <p:spPr>
            <a:xfrm>
              <a:off x="2514600" y="48006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2514240" y="48006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828440" y="5486400"/>
            <a:ext cx="686160" cy="685800"/>
            <a:chOff x="1828440" y="5486400"/>
            <a:chExt cx="686160" cy="685800"/>
          </a:xfrm>
        </p:grpSpPr>
        <p:sp>
          <p:nvSpPr>
            <p:cNvPr id="339" name=""/>
            <p:cNvSpPr/>
            <p:nvPr/>
          </p:nvSpPr>
          <p:spPr>
            <a:xfrm>
              <a:off x="1828800" y="54864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1828440" y="5486400"/>
              <a:ext cx="68580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E33C-BEB3-42D0-A4FB-C0A0817C3A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izing incompletely specified FS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3387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2000"/>
          </a:bodyPr>
          <a:p>
            <a:pPr marL="319680" indent="-3196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ce of states is transitive when machine is fully spec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9680" indent="-319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ts not transitive when don't cares are present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 is compatible with both S0 and S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S0 and S2 are incompati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9680" indent="-3196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olynomial time algorithm exists for determining best grouping of states into equivalent sets that will yield the smallest number of final stat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C383-D8E5-45F1-9CA7-275FEA138C5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5029200" y="2362320"/>
            <a:ext cx="2539800" cy="2286000"/>
            <a:chOff x="5029200" y="2362320"/>
            <a:chExt cx="2539800" cy="2286000"/>
          </a:xfrm>
        </p:grpSpPr>
        <p:sp>
          <p:nvSpPr>
            <p:cNvPr id="344" name=""/>
            <p:cNvSpPr/>
            <p:nvPr/>
          </p:nvSpPr>
          <p:spPr>
            <a:xfrm>
              <a:off x="5092560" y="2362320"/>
              <a:ext cx="228600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48428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+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Tahoma"/>
                </a:rPr>
                <a:t>+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2692440"/>
              <a:ext cx="2539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387840" y="2362320"/>
              <a:ext cx="1800" cy="228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105520" y="4952880"/>
            <a:ext cx="22730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X  (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or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18120" y="5397480"/>
            <a:ext cx="1930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= X 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’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izing states may not yield best circui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edge detector - outputs 1 when last two input changes from 0 t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146240" y="2590920"/>
            <a:ext cx="2282760" cy="2849760"/>
            <a:chOff x="1146240" y="2590920"/>
            <a:chExt cx="2282760" cy="2849760"/>
          </a:xfrm>
        </p:grpSpPr>
        <p:sp>
          <p:nvSpPr>
            <p:cNvPr id="352" name=""/>
            <p:cNvSpPr/>
            <p:nvPr/>
          </p:nvSpPr>
          <p:spPr>
            <a:xfrm>
              <a:off x="1371600" y="30481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371600" y="44956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95480" y="37339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55" name=""/>
            <p:cNvCxnSpPr>
              <a:stCxn id="354" idx="4"/>
              <a:endCxn id="353" idx="6"/>
            </p:cNvCxnSpPr>
            <p:nvPr/>
          </p:nvCxnSpPr>
          <p:spPr>
            <a:xfrm rot="5400000">
              <a:off x="2285280" y="3886200"/>
              <a:ext cx="496080" cy="12578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6" name=""/>
            <p:cNvCxnSpPr>
              <a:stCxn id="353" idx="5"/>
              <a:endCxn id="353" idx="3"/>
            </p:cNvCxnSpPr>
            <p:nvPr/>
          </p:nvCxnSpPr>
          <p:spPr>
            <a:xfrm rot="5400000">
              <a:off x="1636920" y="4763160"/>
              <a:ext cx="2160" cy="378720"/>
            </a:xfrm>
            <a:prstGeom prst="curvedConnector5">
              <a:avLst>
                <a:gd name="adj1" fmla="val 19300000"/>
                <a:gd name="adj2" fmla="val 49952"/>
                <a:gd name="adj3" fmla="val 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7" name=""/>
            <p:cNvCxnSpPr>
              <a:stCxn id="353" idx="1"/>
              <a:endCxn id="352" idx="3"/>
            </p:cNvCxnSpPr>
            <p:nvPr/>
          </p:nvCxnSpPr>
          <p:spPr>
            <a:xfrm flipV="1">
              <a:off x="1449000" y="3503160"/>
              <a:ext cx="1080" cy="10706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8" name=""/>
            <p:cNvCxnSpPr>
              <a:stCxn id="352" idx="4"/>
              <a:endCxn id="354" idx="2"/>
            </p:cNvCxnSpPr>
            <p:nvPr/>
          </p:nvCxnSpPr>
          <p:spPr>
            <a:xfrm flipH="1" rot="16200000">
              <a:off x="2057040" y="3161880"/>
              <a:ext cx="420120" cy="12578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9" name=""/>
            <p:cNvCxnSpPr>
              <a:stCxn id="354" idx="0"/>
              <a:endCxn id="352" idx="6"/>
            </p:cNvCxnSpPr>
            <p:nvPr/>
          </p:nvCxnSpPr>
          <p:spPr>
            <a:xfrm flipV="1" rot="16200000">
              <a:off x="2323800" y="2895120"/>
              <a:ext cx="419760" cy="12578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0" name=""/>
            <p:cNvCxnSpPr>
              <a:stCxn id="352" idx="7"/>
              <a:endCxn id="352" idx="1"/>
            </p:cNvCxnSpPr>
            <p:nvPr/>
          </p:nvCxnSpPr>
          <p:spPr>
            <a:xfrm rot="5400000">
              <a:off x="1636920" y="2937600"/>
              <a:ext cx="2160" cy="378720"/>
            </a:xfrm>
            <a:prstGeom prst="curvedConnector5">
              <a:avLst>
                <a:gd name="adj1" fmla="val -19300000"/>
                <a:gd name="adj2" fmla="val 49952"/>
                <a:gd name="adj3" fmla="val -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1" name=""/>
            <p:cNvSpPr/>
            <p:nvPr/>
          </p:nvSpPr>
          <p:spPr>
            <a:xfrm>
              <a:off x="1146240" y="396252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517840" y="304812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79760" y="2590920"/>
              <a:ext cx="3376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04760" y="388620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76160" y="510552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90560" y="4572000"/>
              <a:ext cx="3024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E8EE-FEF0-4703-8D5F-9B2BB7065E1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III - Working with Sequential Logic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03:47Z</dcterms:created>
  <dc:creator>Gaetano Borriello</dc:creator>
  <dc:description/>
  <dc:language>en-US</dc:language>
  <cp:lastModifiedBy>Gaetano Borriello</cp:lastModifiedBy>
  <cp:lastPrinted>2000-05-11T19:00:15Z</cp:lastPrinted>
  <dcterms:modified xsi:type="dcterms:W3CDTF">2005-01-24T07:01:25Z</dcterms:modified>
  <cp:revision>28</cp:revision>
  <dc:subject/>
  <dc:title>Sequential logic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