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269413" cy="6948488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96F-2E91-4446-ACE4-FA09E87F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331-4E1E-422B-BB56-7410AD65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BF7-91F9-4354-9298-47CB2356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207-BA78-4837-B966-48B678EF2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ECC74-40F6-42D2-95C5-0421EF0D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D351-9760-4E15-A0E6-6A4E1686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DE6A-0D4A-48C4-B0C0-6CABE4D3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EFBA-CACB-4A06-978B-073ED756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581F-FCB9-4481-A160-C72E04AD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A084-2C93-481E-9D3F-A9AEA095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4E8FB-299C-4476-A1CF-A7C043E4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2E9-1CE5-43B4-8F52-645E6E3C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D748-07C9-4D12-8ECF-DCFDEAAE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F173-26E6-47F6-AE7E-7BAA1FF1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ACDD-5870-4FD5-B1B2-A4661615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F8A3-60D6-4806-A420-F99502A2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DDC5-47AA-4BB7-92CD-53E68EAE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9858-77C2-4CAC-9FB5-8EDD2008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DC2-3873-49BB-8AA8-25561C9D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F76F-6DE0-4FC1-85D8-37F88DA0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C1F-4508-4958-AC4D-D40CB80C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A0B-AC1E-4612-A097-0D86EE22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418-BEBE-4C2F-83B2-3CA22C69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900-0F59-44A5-A959-10163E50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09F45CD-6C5E-4110-BA21-623A8CCE2C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81A2D1D-31AD-4659-AEEE-DEA06F18393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224-50DC-4A1F-8CDA-8BD83B17F7E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629080" y="1866960"/>
            <a:ext cx="2158920" cy="812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247840" y="3594240"/>
            <a:ext cx="2540160" cy="27302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5245200" y="1866960"/>
            <a:ext cx="2222280" cy="81288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4"/>
          <a:stretch/>
        </p:blipFill>
        <p:spPr>
          <a:xfrm>
            <a:off x="5245200" y="3594240"/>
            <a:ext cx="2603520" cy="27302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mux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657-913E-4CFE-AB19-90F959C880D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663480" y="5226120"/>
            <a:ext cx="3848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s B and C simultaneously choos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of I0, I1, I2, I3 and one of I4, I5, I6, I7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signal A chooses which of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per or lower mux's output to gate to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3920" y="2711520"/>
            <a:ext cx="1917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terna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3098880"/>
            <a:ext cx="4114800" cy="3556080"/>
            <a:chOff x="5181480" y="3098880"/>
            <a:chExt cx="4114800" cy="3556080"/>
          </a:xfrm>
        </p:grpSpPr>
        <p:sp>
          <p:nvSpPr>
            <p:cNvPr id="348" name=""/>
            <p:cNvSpPr/>
            <p:nvPr/>
          </p:nvSpPr>
          <p:spPr>
            <a:xfrm>
              <a:off x="6134040" y="6045120"/>
              <a:ext cx="546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737560" y="4305240"/>
              <a:ext cx="558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6840" y="603252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54720" y="3568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3797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7440" y="346068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3905280"/>
              <a:ext cx="0" cy="2070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711840" y="368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4720" y="42544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54720" y="4483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797440" y="41464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248520" y="45910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118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54720" y="4940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454720" y="5168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97440" y="48322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52768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7118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54720" y="5626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4720" y="5854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97440" y="5518080"/>
              <a:ext cx="914400" cy="457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48520" y="59626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711840" y="5740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9040" y="43689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54920" y="4826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54920" y="4597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169040" y="5054760"/>
              <a:ext cx="33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12120" y="4260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8487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077320" y="516204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721640" y="420372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426520" y="4711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62920" y="3689280"/>
              <a:ext cx="0" cy="67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62920" y="5048280"/>
              <a:ext cx="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048440" y="481968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48440" y="4375080"/>
              <a:ext cx="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0" bIns="-58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81760" y="31878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81760" y="38736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81760" y="45594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81760" y="524520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81480" y="44704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81480" y="37846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81480" y="30988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81480" y="5156280"/>
              <a:ext cx="304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683320" y="3346560"/>
              <a:ext cx="2857320" cy="274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62840" y="31622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rge multiplexers can be made by cascading smaller 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816120" y="2000160"/>
            <a:ext cx="3999960" cy="2984400"/>
            <a:chOff x="816120" y="2000160"/>
            <a:chExt cx="3999960" cy="2984400"/>
          </a:xfrm>
        </p:grpSpPr>
        <p:sp>
          <p:nvSpPr>
            <p:cNvPr id="397" name=""/>
            <p:cNvSpPr/>
            <p:nvPr/>
          </p:nvSpPr>
          <p:spPr>
            <a:xfrm>
              <a:off x="4257720" y="2863800"/>
              <a:ext cx="5583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16120" y="2000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89000" y="2355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9000" y="2813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89000" y="2584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089000" y="3041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31720" y="224784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1768320" y="314892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996920" y="3148920"/>
              <a:ext cx="0" cy="118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46120" y="2698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689200" y="31557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689200" y="338436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31920" y="3047760"/>
              <a:ext cx="9140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483000" y="349236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368520" y="4375080"/>
              <a:ext cx="545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946320" y="32702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6120" y="314316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89000" y="34988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089000" y="39560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089000" y="37274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89000" y="4184640"/>
              <a:ext cx="32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431720" y="3390840"/>
              <a:ext cx="914040" cy="9144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7683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996920" y="429228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66800" y="4362120"/>
              <a:ext cx="7617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46120" y="384156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82720" y="2705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2682720" y="337788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17600" y="2133360"/>
              <a:ext cx="2742840" cy="228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61320" y="3549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1320" y="240660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202920" y="296856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66440" y="2101680"/>
              <a:ext cx="601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EB3-B75E-4D11-96FD-90CA2E425F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ssence, a lookup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811880" y="4156200"/>
            <a:ext cx="327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'B'C'(1) + A'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'BC'(1) + A'B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+ AB'C'(0) + AB'C(0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+ ABC'(1) + ABC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2240" y="5810400"/>
            <a:ext cx="6685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6656040" y="3168720"/>
            <a:ext cx="1986480" cy="2666880"/>
            <a:chOff x="6656040" y="3168720"/>
            <a:chExt cx="1986480" cy="2666880"/>
          </a:xfrm>
        </p:grpSpPr>
        <p:sp>
          <p:nvSpPr>
            <p:cNvPr id="435" name=""/>
            <p:cNvSpPr/>
            <p:nvPr/>
          </p:nvSpPr>
          <p:spPr>
            <a:xfrm>
              <a:off x="7824960" y="55562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37280" y="55436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431120" y="5543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48360" y="31939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2468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1320" y="40831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9296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61240" y="49338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85000" y="31687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28000" y="4159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656040" y="3321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6656040" y="3549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656040" y="3778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656040" y="4006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1360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9448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656040" y="4235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656040" y="4464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656040" y="4692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656040" y="4921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875720" y="522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47040" y="4027320"/>
              <a:ext cx="195480" cy="59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6389640" y="3193920"/>
            <a:ext cx="2244600" cy="2108160"/>
            <a:chOff x="6389640" y="3193920"/>
            <a:chExt cx="2244600" cy="2108160"/>
          </a:xfrm>
        </p:grpSpPr>
        <p:sp>
          <p:nvSpPr>
            <p:cNvPr id="458" name=""/>
            <p:cNvSpPr/>
            <p:nvPr/>
          </p:nvSpPr>
          <p:spPr>
            <a:xfrm>
              <a:off x="6389640" y="31939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39120" y="4041720"/>
              <a:ext cx="195120" cy="59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BCD-B07B-42C7-912B-956867E5330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778200" y="4389480"/>
            <a:ext cx="2076480" cy="2324160"/>
            <a:chOff x="3778200" y="4389480"/>
            <a:chExt cx="2076480" cy="2324160"/>
          </a:xfrm>
        </p:grpSpPr>
        <p:sp>
          <p:nvSpPr>
            <p:cNvPr id="461" name=""/>
            <p:cNvSpPr/>
            <p:nvPr/>
          </p:nvSpPr>
          <p:spPr>
            <a:xfrm>
              <a:off x="3848040" y="4389480"/>
              <a:ext cx="1803240" cy="23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473440" y="4694400"/>
              <a:ext cx="381240" cy="18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90800" y="4656240"/>
              <a:ext cx="195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05160" y="4408560"/>
              <a:ext cx="0" cy="19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47960" y="4662360"/>
              <a:ext cx="0" cy="175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778200" y="5075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3790440" y="55069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90800" y="5951520"/>
              <a:ext cx="199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553080" y="4675320"/>
            <a:ext cx="2324160" cy="1847880"/>
            <a:chOff x="6553080" y="4675320"/>
            <a:chExt cx="2324160" cy="1847880"/>
          </a:xfrm>
        </p:grpSpPr>
        <p:sp>
          <p:nvSpPr>
            <p:cNvPr id="470" name=""/>
            <p:cNvSpPr/>
            <p:nvPr/>
          </p:nvSpPr>
          <p:spPr>
            <a:xfrm>
              <a:off x="7619760" y="592632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600" y="592632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49304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861320" y="54691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43720" y="491004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061040" y="473220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67520" y="467532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61040" y="503712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23120" y="52149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6813360" y="48848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813360" y="51004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6825600" y="53290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6838560" y="55324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53080" y="473220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'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45320" y="574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026200" y="5742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3200400" y="5056200"/>
            <a:ext cx="53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104840" y="4218120"/>
            <a:ext cx="2019240" cy="2666880"/>
            <a:chOff x="1104840" y="4218120"/>
            <a:chExt cx="2019240" cy="2666880"/>
          </a:xfrm>
        </p:grpSpPr>
        <p:sp>
          <p:nvSpPr>
            <p:cNvPr id="488" name=""/>
            <p:cNvSpPr/>
            <p:nvPr/>
          </p:nvSpPr>
          <p:spPr>
            <a:xfrm>
              <a:off x="2514600" y="66056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52480" y="6593040"/>
              <a:ext cx="55908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46320" y="659304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663560" y="424332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04840" y="4243320"/>
              <a:ext cx="1904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3988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76520" y="5132520"/>
              <a:ext cx="1130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8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0816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76440" y="598320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00200" y="421812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52084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1371240" y="4370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1371240" y="4599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1371240" y="4827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1371240" y="50562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880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0968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1371240" y="52848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1371240" y="55134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1371240" y="57420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1371240" y="5970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90920" y="627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1 multiplex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-1 variables used as control inpu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puts tied to the last variable or its co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A,B,C) = m0 + m2 + m6 + m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C' + A'BC' + ABC' + A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= A'B'(C') + A'B(C') + AB'(0) + AB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F839-3FEC-4710-8F67-B14A55AFA2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1255680" y="2076480"/>
            <a:ext cx="160020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52280" indent="-15228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-1 mux 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ts val="1397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mux dat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45320" y="1595520"/>
            <a:ext cx="141768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figuration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ruth t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ws can b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ressed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function of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90920" y="1492200"/>
            <a:ext cx="401328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27000" anchor="t">
            <a:noAutofit/>
          </a:bodyPr>
          <a:p>
            <a:pPr>
              <a:lnSpc>
                <a:spcPts val="2599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. 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ahoma"/>
              </a:rPr>
              <a:t>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784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323040" y="24764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80240" y="2489040"/>
            <a:ext cx="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37440" y="2489040"/>
            <a:ext cx="0" cy="343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07080" y="2882880"/>
            <a:ext cx="1695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1080" y="1562040"/>
            <a:ext cx="177156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68960" y="1562040"/>
            <a:ext cx="228600" cy="28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98960" y="1924200"/>
            <a:ext cx="4317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49840" y="1606680"/>
            <a:ext cx="0" cy="90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2798640" y="1917720"/>
            <a:ext cx="5590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2811600" y="2095560"/>
            <a:ext cx="2489040" cy="81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(A,B,C,D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realiz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n 8:1 M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638280" y="2963880"/>
            <a:ext cx="7559640" cy="3744720"/>
            <a:chOff x="638280" y="2963880"/>
            <a:chExt cx="7559640" cy="3744720"/>
          </a:xfrm>
        </p:grpSpPr>
        <p:sp>
          <p:nvSpPr>
            <p:cNvPr id="529" name=""/>
            <p:cNvSpPr/>
            <p:nvPr/>
          </p:nvSpPr>
          <p:spPr>
            <a:xfrm>
              <a:off x="638280" y="5388120"/>
              <a:ext cx="23112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A,B,C a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variab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"/>
            <p:cNvGrpSpPr/>
            <p:nvPr/>
          </p:nvGrpSpPr>
          <p:grpSpPr>
            <a:xfrm>
              <a:off x="3137040" y="2963880"/>
              <a:ext cx="5060880" cy="3744720"/>
              <a:chOff x="3137040" y="2963880"/>
              <a:chExt cx="5060880" cy="374472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6178680" y="3807000"/>
                <a:ext cx="2019240" cy="2666880"/>
                <a:chOff x="6178680" y="3807000"/>
                <a:chExt cx="2019240" cy="266688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7588440" y="61945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26320" y="6181920"/>
                  <a:ext cx="55908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7220160" y="6181920"/>
                  <a:ext cx="558720" cy="27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737400" y="3832200"/>
                  <a:ext cx="1652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178680" y="3832200"/>
                  <a:ext cx="190440" cy="210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81372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50360" y="4721400"/>
                  <a:ext cx="11300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8:1 MU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18200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7550280" y="5572080"/>
                  <a:ext cx="647640" cy="59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674040" y="3807000"/>
                  <a:ext cx="1143000" cy="2057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817040" y="4797360"/>
                  <a:ext cx="380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6445080" y="3959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6445080" y="4187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 flipH="1">
                  <a:off x="6445080" y="4416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H="1">
                  <a:off x="6445080" y="46450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90264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28352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>
                  <a:off x="6445080" y="48736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445080" y="51022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 flipH="1">
                  <a:off x="6445080" y="53308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6445080" y="5559480"/>
                  <a:ext cx="2286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664760" y="586440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3137040" y="2963880"/>
                <a:ext cx="2464920" cy="3744720"/>
                <a:chOff x="3137040" y="2963880"/>
                <a:chExt cx="2464920" cy="374472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4938480" y="3254400"/>
                  <a:ext cx="241200" cy="37116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162240" y="2963880"/>
                  <a:ext cx="2044440" cy="373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698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221080" y="3281400"/>
                  <a:ext cx="380880" cy="339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00ff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'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00ff00"/>
                      </a:solidFill>
                      <a:latin typeface="Arial"/>
                    </a:rPr>
                    <a:t>D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br>
                    <a:rPr sz="1400"/>
                  </a:br>
                  <a:br>
                    <a:rPr sz="1400"/>
                  </a:br>
                  <a:r>
                    <a:rPr b="0" lang="en-US" sz="1400" spc="-1" strike="noStrike">
                      <a:solidFill>
                        <a:srgbClr val="ff0000"/>
                      </a:solidFill>
                      <a:latin typeface="Arial"/>
                    </a:rPr>
                    <a:t>D’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8000"/>
                    </a:lnSpc>
                    <a:spcAft>
                      <a:spcPts val="2001"/>
                    </a:spcAft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37040" y="32302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870440" y="2982960"/>
                  <a:ext cx="0" cy="3724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406760" y="3236760"/>
                  <a:ext cx="0" cy="347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3137040" y="364968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 flipH="1">
                  <a:off x="3137040" y="40813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137040" y="452592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37040" y="4944960"/>
                  <a:ext cx="1955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137040" y="5364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 flipH="1">
                  <a:off x="3137040" y="579600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137040" y="6240240"/>
                  <a:ext cx="199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4938480" y="36734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37040" y="364968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137040" y="40813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137040" y="452592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137040" y="494496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137040" y="5364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137040" y="579600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137040" y="6240240"/>
                  <a:ext cx="2247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938480" y="413064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938480" y="454968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4938480" y="496872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4938480" y="53877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938480" y="584496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4938480" y="6264000"/>
                  <a:ext cx="241200" cy="371520"/>
                </a:xfrm>
                <a:prstGeom prst="rect">
                  <a:avLst/>
                </a:pr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DF75-9600-4BBA-9CD7-3DBC0F75C0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F = B’CD’ + ABC’ with a 4:1 multiplexer and a minimum of other gat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838080" y="2590920"/>
            <a:ext cx="2247840" cy="3743280"/>
            <a:chOff x="838080" y="2590920"/>
            <a:chExt cx="2247840" cy="3743280"/>
          </a:xfrm>
        </p:grpSpPr>
        <p:sp>
          <p:nvSpPr>
            <p:cNvPr id="585" name=""/>
            <p:cNvSpPr/>
            <p:nvPr/>
          </p:nvSpPr>
          <p:spPr>
            <a:xfrm>
              <a:off x="863280" y="2590920"/>
              <a:ext cx="2044800" cy="37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38080" y="28576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571480" y="2610000"/>
              <a:ext cx="0" cy="37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38080" y="327672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838080" y="37083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8080" y="415296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38080" y="4572000"/>
              <a:ext cx="1955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38080" y="4991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838080" y="542304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38080" y="5867280"/>
              <a:ext cx="1993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838080" y="327672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7083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38080" y="415296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457200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38080" y="4991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542304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38080" y="5867280"/>
              <a:ext cx="22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166760" y="2552760"/>
            <a:ext cx="4191120" cy="3805200"/>
            <a:chOff x="1166760" y="2552760"/>
            <a:chExt cx="4191120" cy="3805200"/>
          </a:xfrm>
        </p:grpSpPr>
        <p:sp>
          <p:nvSpPr>
            <p:cNvPr id="603" name=""/>
            <p:cNvSpPr/>
            <p:nvPr/>
          </p:nvSpPr>
          <p:spPr>
            <a:xfrm>
              <a:off x="1166760" y="2552760"/>
              <a:ext cx="903240" cy="380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2971800" y="2571840"/>
              <a:ext cx="2386080" cy="2200320"/>
              <a:chOff x="2971800" y="2571840"/>
              <a:chExt cx="2386080" cy="2200320"/>
            </a:xfrm>
          </p:grpSpPr>
          <p:sp>
            <p:nvSpPr>
              <p:cNvPr id="605" name=""/>
              <p:cNvSpPr/>
              <p:nvPr/>
            </p:nvSpPr>
            <p:spPr>
              <a:xfrm flipH="1">
                <a:off x="2984760" y="2784600"/>
                <a:ext cx="1133280" cy="28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971800" y="2784600"/>
                <a:ext cx="1146240" cy="198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101120" y="2571840"/>
                <a:ext cx="1256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’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003480" y="3473280"/>
              <a:ext cx="2351880" cy="1742760"/>
              <a:chOff x="3003480" y="3473280"/>
              <a:chExt cx="2351880" cy="1742760"/>
            </a:xfrm>
          </p:grpSpPr>
          <p:sp>
            <p:nvSpPr>
              <p:cNvPr id="609" name=""/>
              <p:cNvSpPr/>
              <p:nvPr/>
            </p:nvSpPr>
            <p:spPr>
              <a:xfrm flipH="1" flipV="1">
                <a:off x="3026880" y="3473280"/>
                <a:ext cx="1036440" cy="171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03480" y="3644640"/>
                <a:ext cx="1072800" cy="157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066560" y="3482640"/>
                <a:ext cx="1288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’ when B’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3041280" y="3940200"/>
              <a:ext cx="2208240" cy="1676520"/>
              <a:chOff x="3041280" y="3940200"/>
              <a:chExt cx="2208240" cy="1676520"/>
            </a:xfrm>
          </p:grpSpPr>
          <p:sp>
            <p:nvSpPr>
              <p:cNvPr id="613" name=""/>
              <p:cNvSpPr/>
              <p:nvPr/>
            </p:nvSpPr>
            <p:spPr>
              <a:xfrm flipH="1" flipV="1">
                <a:off x="3041280" y="3940200"/>
                <a:ext cx="99036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041280" y="4397400"/>
                <a:ext cx="99684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014360" y="4245120"/>
                <a:ext cx="1235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 when BC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3041640" y="4397040"/>
              <a:ext cx="2211120" cy="1676880"/>
              <a:chOff x="3041640" y="4397040"/>
              <a:chExt cx="2211120" cy="1676880"/>
            </a:xfrm>
          </p:grpSpPr>
          <p:sp>
            <p:nvSpPr>
              <p:cNvPr id="617" name=""/>
              <p:cNvSpPr/>
              <p:nvPr/>
            </p:nvSpPr>
            <p:spPr>
              <a:xfrm flipH="1" flipV="1">
                <a:off x="3041640" y="4397040"/>
                <a:ext cx="99072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041640" y="5083200"/>
                <a:ext cx="99072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066200" y="4930920"/>
                <a:ext cx="1186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 when B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0" name=""/>
          <p:cNvSpPr/>
          <p:nvPr/>
        </p:nvSpPr>
        <p:spPr>
          <a:xfrm>
            <a:off x="5401080" y="5715000"/>
            <a:ext cx="339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B’C’(0) + B’C(D’) + BC’(A) + BC(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6248520" y="3581280"/>
            <a:ext cx="2324160" cy="1847880"/>
            <a:chOff x="6248520" y="3581280"/>
            <a:chExt cx="2324160" cy="1847880"/>
          </a:xfrm>
        </p:grpSpPr>
        <p:sp>
          <p:nvSpPr>
            <p:cNvPr id="622" name=""/>
            <p:cNvSpPr/>
            <p:nvPr/>
          </p:nvSpPr>
          <p:spPr>
            <a:xfrm>
              <a:off x="7315200" y="4832280"/>
              <a:ext cx="5590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09040" y="483228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18848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556760" y="437508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39160" y="381600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56480" y="3638160"/>
              <a:ext cx="27936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62960" y="3581280"/>
              <a:ext cx="1130040" cy="1066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56480" y="39430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:1 MU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18560" y="41209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6508800" y="37908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508800" y="40064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6521040" y="423504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6534000" y="44384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48520" y="3638160"/>
              <a:ext cx="343080" cy="12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’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40760" y="4647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21640" y="464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293760" y="2494080"/>
            <a:ext cx="8682120" cy="41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B7DB-D72F-4B47-A02B-9AA2C7C16BA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2117520" y="3805200"/>
            <a:ext cx="138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1:2 Decod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29600" y="4795920"/>
            <a:ext cx="1855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2:4 Decoder: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74200" y="3805200"/>
            <a:ext cx="2340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   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3:8 Decoder: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0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3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5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’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6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7 = G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2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S1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/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oders/demultiplexe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data input, n control input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inputs (called “selects” (S)) represent binary index of output to which the input is conn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put usually called “enable” 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E103-D97F-4234-9BEC-01B7F241FB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2362320" y="16509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197760" y="165096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4600" y="4089240"/>
            <a:ext cx="143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hig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79960" y="4089240"/>
            <a:ext cx="1104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tive-low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2590920" y="2120760"/>
            <a:ext cx="2692440" cy="1079280"/>
            <a:chOff x="2590920" y="2120760"/>
            <a:chExt cx="2692440" cy="1079280"/>
          </a:xfrm>
        </p:grpSpPr>
        <p:sp>
          <p:nvSpPr>
            <p:cNvPr id="649" name=""/>
            <p:cNvSpPr/>
            <p:nvPr/>
          </p:nvSpPr>
          <p:spPr>
            <a:xfrm>
              <a:off x="4673880" y="2209680"/>
              <a:ext cx="596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590920" y="2120760"/>
              <a:ext cx="2793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86480" y="28443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640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640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394992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6628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5980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16592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5944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640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5640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94992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6628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5980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592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944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95800" y="235548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3295800" y="249516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89680" y="23554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37000" y="248256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540320" y="2349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791160" y="227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791160" y="3060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2240" y="3060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9576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8316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7676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2240" y="22730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40320" y="29844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130920" y="2501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91160" y="29080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78468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30920" y="28191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2444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98880" y="265392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12444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76760" y="26668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91160" y="2425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25920" y="25016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8468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172200" y="2120760"/>
            <a:ext cx="2743200" cy="1074240"/>
            <a:chOff x="6172200" y="2120760"/>
            <a:chExt cx="2743200" cy="1074240"/>
          </a:xfrm>
        </p:grpSpPr>
        <p:sp>
          <p:nvSpPr>
            <p:cNvPr id="692" name=""/>
            <p:cNvSpPr/>
            <p:nvPr/>
          </p:nvSpPr>
          <p:spPr>
            <a:xfrm>
              <a:off x="8305560" y="219672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172200" y="2120760"/>
              <a:ext cx="368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2960" y="2501640"/>
              <a:ext cx="5079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18520" y="2831760"/>
              <a:ext cx="596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588080" y="21585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88080" y="253980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7581600" y="215208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97960" y="217296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91840" y="216648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797600" y="215892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91480" y="2165040"/>
              <a:ext cx="3805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88080" y="27936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588080" y="3174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7581600" y="278712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97960" y="2808000"/>
              <a:ext cx="354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91840" y="2801520"/>
              <a:ext cx="380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97600" y="2793960"/>
              <a:ext cx="355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91480" y="2787840"/>
              <a:ext cx="38052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927840" y="2673000"/>
              <a:ext cx="22860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6927840" y="281268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921360" y="2673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69040" y="28000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8172360" y="23493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422840" y="227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422840" y="3060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34280" y="306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327800" y="2279520"/>
              <a:ext cx="0" cy="77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5200" y="22474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08440" y="227304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34280" y="22730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2360" y="2984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6260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422840" y="29080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416720" y="282564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762600" y="25016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756120" y="25081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730920" y="26539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6120" y="267300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508440" y="266688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2840" y="2425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57960" y="2819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416720" y="243180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511760" y="24062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1760" y="224136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11760" y="304128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511760" y="28764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308240" y="3632040"/>
            <a:ext cx="2781000" cy="3073680"/>
            <a:chOff x="1308240" y="3632040"/>
            <a:chExt cx="2781000" cy="3073680"/>
          </a:xfrm>
        </p:grpSpPr>
        <p:sp>
          <p:nvSpPr>
            <p:cNvPr id="739" name=""/>
            <p:cNvSpPr/>
            <p:nvPr/>
          </p:nvSpPr>
          <p:spPr>
            <a:xfrm>
              <a:off x="1892160" y="6362640"/>
              <a:ext cx="648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05320" y="476244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528336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7920" y="37465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08240" y="3632040"/>
              <a:ext cx="253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17920" y="42544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73400" y="6375240"/>
              <a:ext cx="647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62260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50812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249516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1000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22417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212724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211428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22876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5272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5272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11184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0536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11148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10500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95272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95272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4624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11184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0536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1148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0500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272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95272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94624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11184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10536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1148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0500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95272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5272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4624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1184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0536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11148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10500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9732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4784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82564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82564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4784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35240" y="3873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4784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35240" y="4381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47840" y="440064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54320" y="38862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54320" y="439416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39732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290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82564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2564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62908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61612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2908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61612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29080" y="503568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35200" y="4013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635200" y="5029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9732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82564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82564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82564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82564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55920" y="37591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79064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80972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0972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79064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80972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79064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0972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80324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0324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80324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4784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82564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82564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0638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4480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057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44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057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44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57400" y="54165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5740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63880" y="4902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063880" y="5410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6290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2564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2564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4476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568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8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25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38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25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8280" y="5543640"/>
              <a:ext cx="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43828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444760" y="45212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44760" y="5537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39732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638680" y="3638520"/>
            <a:ext cx="2819520" cy="3054240"/>
            <a:chOff x="5638680" y="3638520"/>
            <a:chExt cx="2819520" cy="3054240"/>
          </a:xfrm>
        </p:grpSpPr>
        <p:sp>
          <p:nvSpPr>
            <p:cNvPr id="848" name=""/>
            <p:cNvSpPr/>
            <p:nvPr/>
          </p:nvSpPr>
          <p:spPr>
            <a:xfrm>
              <a:off x="6261120" y="63500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525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873920" y="4749840"/>
              <a:ext cx="571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886880" y="5270400"/>
              <a:ext cx="5713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86880" y="373392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638680" y="3645000"/>
              <a:ext cx="355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886880" y="4241880"/>
              <a:ext cx="571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642000" y="6362640"/>
              <a:ext cx="647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700416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V="1">
              <a:off x="6889680" y="5784840"/>
              <a:ext cx="1144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6876720" y="5981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91200" y="57466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6622920" y="5784840"/>
              <a:ext cx="1396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6508800" y="5784840"/>
              <a:ext cx="11412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496200" y="59817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10320" y="57466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334280" y="3733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334280" y="4038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27800" y="374004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93400" y="3747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6920" y="3741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3040" y="3733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486560" y="3727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34280" y="4241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334280" y="454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327800" y="4248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93400" y="42559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86920" y="42498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93040" y="4241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86560" y="4235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334280" y="4749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334280" y="5054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327800" y="475632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93400" y="4764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86920" y="4757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93040" y="47494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86560" y="4743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334280" y="5257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334280" y="5562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27800" y="52642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93400" y="5272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86920" y="5265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93040" y="525744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86560" y="5251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778880" y="38862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2940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07200" y="3886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07200" y="4394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4508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426360" y="60958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38960" y="363852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426360" y="38736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438960" y="389268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426360" y="43815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38960" y="4400640"/>
              <a:ext cx="0" cy="170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43896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45080" y="388620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45080" y="4394160"/>
              <a:ext cx="74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778880" y="43941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010280" y="59878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07200" y="4013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7200" y="5029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826320" y="6108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07240" y="60958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819840" y="3638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807240" y="40006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819840" y="4019400"/>
              <a:ext cx="0" cy="10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807240" y="50166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819840" y="503568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819840" y="611496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826320" y="40132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826320" y="5029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778880" y="49021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07200" y="3759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207200" y="4267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207200" y="4775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207200" y="5283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37120" y="375912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172200" y="374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91280" y="37591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191280" y="4267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172200" y="4254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191280" y="4775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200" y="4762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191280" y="52833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184800" y="3765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184800" y="42735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184800" y="478152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62940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7200" y="541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7200" y="4902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629400" y="363852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616800" y="4889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29400" y="49086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616800" y="5397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629400" y="54165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635880" y="541008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635880" y="490212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10280" y="5607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07200" y="5537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07200" y="4521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010280" y="363852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997680" y="450864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010280" y="4527720"/>
              <a:ext cx="0" cy="100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997680" y="5524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10280" y="5543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16760" y="553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016760" y="4521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778880" y="541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70920" y="5518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70920" y="5391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70920" y="52642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70920" y="5010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0920" y="4883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0920" y="47563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270920" y="450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0920" y="437508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70920" y="4248000"/>
              <a:ext cx="50760" cy="51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70920" y="3994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270920" y="38671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270920" y="374004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 level implementation of demultiplex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:2 decoder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4 deco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C76-7AF4-4B56-BA31-B5B717F866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"/>
          <p:cNvSpPr/>
          <p:nvPr/>
        </p:nvSpPr>
        <p:spPr>
          <a:xfrm>
            <a:off x="4343400" y="4038480"/>
            <a:ext cx="4038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 generates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 based on control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t "decodes" control signa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n: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coder can implement any function of n vari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e variables used as control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nable inputs tied to 1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ppropriate minterms summed to form the func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914400" y="3581280"/>
            <a:ext cx="2806560" cy="2667240"/>
            <a:chOff x="914400" y="3581280"/>
            <a:chExt cx="2806560" cy="2667240"/>
          </a:xfrm>
        </p:grpSpPr>
        <p:sp>
          <p:nvSpPr>
            <p:cNvPr id="974" name=""/>
            <p:cNvSpPr/>
            <p:nvPr/>
          </p:nvSpPr>
          <p:spPr>
            <a:xfrm>
              <a:off x="3124080" y="3657600"/>
              <a:ext cx="59688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2000" y="596916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71468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108160" y="5956200"/>
              <a:ext cx="5587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14600" y="3606840"/>
              <a:ext cx="16524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170172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523880" y="4495680"/>
              <a:ext cx="113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:8 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70000" y="5346720"/>
              <a:ext cx="647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38280" y="5346720"/>
              <a:ext cx="6480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4400" y="4419720"/>
              <a:ext cx="5335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600200" y="3581280"/>
              <a:ext cx="11430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219320" y="45720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742840" y="3733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2742840" y="3962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2742840" y="4191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2742840" y="441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79064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17188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2742840" y="4648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742840" y="4876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2742840" y="5105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2742840" y="5334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52760" y="56386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7DC-01CD-413A-AD0E-C66E09736F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6254280" y="2680920"/>
            <a:ext cx="2730960" cy="3175200"/>
            <a:chOff x="6254280" y="2680920"/>
            <a:chExt cx="2730960" cy="3175200"/>
          </a:xfrm>
        </p:grpSpPr>
        <p:sp>
          <p:nvSpPr>
            <p:cNvPr id="998" name=""/>
            <p:cNvSpPr/>
            <p:nvPr/>
          </p:nvSpPr>
          <p:spPr>
            <a:xfrm>
              <a:off x="6801120" y="2707920"/>
              <a:ext cx="13075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4640" y="26892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877440" y="2680920"/>
              <a:ext cx="1231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870960" y="2687400"/>
              <a:ext cx="1256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72080" y="2680920"/>
              <a:ext cx="177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365600" y="268740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518240" y="28969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72440" y="2707920"/>
              <a:ext cx="1771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365960" y="26892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565680" y="270648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18320" y="289692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896160" y="30873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140680" y="2896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559560" y="271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254280" y="3093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254640" y="35510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711840" y="289080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98920" y="58561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6864120" y="3080880"/>
              <a:ext cx="1296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350200" y="274464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6254640" y="4071600"/>
            <a:ext cx="2705040" cy="1536840"/>
            <a:chOff x="6254640" y="4071600"/>
            <a:chExt cx="2705040" cy="1536840"/>
          </a:xfrm>
        </p:grpSpPr>
        <p:sp>
          <p:nvSpPr>
            <p:cNvPr id="1019" name=""/>
            <p:cNvSpPr/>
            <p:nvPr/>
          </p:nvSpPr>
          <p:spPr>
            <a:xfrm>
              <a:off x="6801120" y="4092480"/>
              <a:ext cx="130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794640" y="4086000"/>
              <a:ext cx="13327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877440" y="4078440"/>
              <a:ext cx="123120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870960" y="4071600"/>
              <a:ext cx="12564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372080" y="4078440"/>
              <a:ext cx="1774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65600" y="4071600"/>
              <a:ext cx="1904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518240" y="43066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372440" y="409248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365960" y="4086000"/>
              <a:ext cx="1900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53080" y="4090680"/>
              <a:ext cx="95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718320" y="4306680"/>
              <a:ext cx="78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883200" y="4497120"/>
              <a:ext cx="62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8140680" y="43066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711840" y="432576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6286320" y="560844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254640" y="5151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9560" y="408456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70600" y="4484520"/>
              <a:ext cx="38160" cy="38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864120" y="4465440"/>
              <a:ext cx="5076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324640" y="4167000"/>
              <a:ext cx="6350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9" name=""/>
          <p:cNvGrpSpPr/>
          <p:nvPr/>
        </p:nvGrpSpPr>
        <p:grpSpPr>
          <a:xfrm>
            <a:off x="6864480" y="5672160"/>
            <a:ext cx="1853640" cy="622440"/>
            <a:chOff x="6864480" y="5672160"/>
            <a:chExt cx="1853640" cy="622440"/>
          </a:xfrm>
        </p:grpSpPr>
        <p:sp>
          <p:nvSpPr>
            <p:cNvPr id="1040" name=""/>
            <p:cNvSpPr/>
            <p:nvPr/>
          </p:nvSpPr>
          <p:spPr>
            <a:xfrm>
              <a:off x="7518240" y="567216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518240" y="5850000"/>
              <a:ext cx="25380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12120" y="5672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785000" y="58248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896160" y="5856480"/>
              <a:ext cx="60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873920" y="58564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870600" y="5843880"/>
              <a:ext cx="37800" cy="37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864480" y="5837400"/>
              <a:ext cx="50400" cy="63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83440" y="5697720"/>
              <a:ext cx="634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multiplexers as general-purpose logic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1 = A'BC'D + A'B'CD + ABC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2 = ABC'D' + AB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3 = (A' + B' + C' + D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2943360" y="2255760"/>
            <a:ext cx="3276000" cy="4635360"/>
            <a:chOff x="2943360" y="2255760"/>
            <a:chExt cx="3276000" cy="4635360"/>
          </a:xfrm>
        </p:grpSpPr>
        <p:sp>
          <p:nvSpPr>
            <p:cNvPr id="1052" name=""/>
            <p:cNvSpPr/>
            <p:nvPr/>
          </p:nvSpPr>
          <p:spPr>
            <a:xfrm>
              <a:off x="40986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48120" y="2255760"/>
              <a:ext cx="1371240" cy="38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Aft>
                  <a:spcPts val="2001"/>
                </a:spcAft>
                <a:tabLst>
                  <a:tab algn="l" pos="0"/>
                  <a:tab algn="l" pos="6858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908160" y="3938400"/>
              <a:ext cx="1104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E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43360" y="4084560"/>
              <a:ext cx="7869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009680" y="2255760"/>
              <a:ext cx="1142640" cy="373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28800" y="4236840"/>
              <a:ext cx="380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162320" y="598932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909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84812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52680" y="2408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5152680" y="2636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619160" y="5989320"/>
              <a:ext cx="10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568760" y="6294240"/>
              <a:ext cx="55836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84400" y="6294240"/>
              <a:ext cx="5587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152680" y="2865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5152680" y="3093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152680" y="3322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152680" y="3551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52680" y="3779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V="1">
              <a:off x="5152680" y="4008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52680" y="4236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152680" y="4465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152680" y="4694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152680" y="49226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52680" y="51512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5152680" y="53798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52680" y="56084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5152680" y="5837040"/>
              <a:ext cx="380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CAC-D7C2-4B3C-A22E-00C586EAC10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nsistors quickly integrated into logic gates (196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talog of common gates (197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as Instruments Logic Data Book – the yellow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mon packages listed and characterized (delays,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packag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4-pin IC: 6-inverters, 4 NAND gates, 4 XOR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day, very few parts are still in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parts libraries exist for chip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ers reuse already characterized logic gates on c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reasons as 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 is that the parts don’t exist in physical inventory – created a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642-F162-4E87-89CA-3430B412332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483228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1911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511520" y="3691080"/>
            <a:ext cx="455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781520" y="1982880"/>
            <a:ext cx="156384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09716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035600" y="2562120"/>
            <a:ext cx="901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39740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728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4816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7196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77028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211640" y="3541680"/>
            <a:ext cx="0" cy="239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522680" y="3541680"/>
            <a:ext cx="0" cy="23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53160" y="3551400"/>
            <a:ext cx="0" cy="2330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01336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01336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0036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01336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1336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336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0036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01336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471760" y="443700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792520" y="4437000"/>
            <a:ext cx="4554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124080" y="3505320"/>
            <a:ext cx="10875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378160" y="4064040"/>
            <a:ext cx="5284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295360" y="3713040"/>
            <a:ext cx="90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:4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678040" y="4064040"/>
            <a:ext cx="5288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828800" y="3733920"/>
            <a:ext cx="434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352600" y="3459240"/>
            <a:ext cx="920880" cy="8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050920" y="3846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492280" y="4287960"/>
            <a:ext cx="0" cy="258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803680" y="428796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3295800" y="356724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295800" y="37432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284640" y="393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95800" y="4106880"/>
            <a:ext cx="288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7196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1336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1336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036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501336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01336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01336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036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080120" y="370188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43896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59720" y="3691080"/>
            <a:ext cx="455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070760" y="1992240"/>
            <a:ext cx="131436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'BC'D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34536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303960" y="2562120"/>
            <a:ext cx="9000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645240" y="3319560"/>
            <a:ext cx="5288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945480" y="3319560"/>
            <a:ext cx="528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5796000" y="2573280"/>
            <a:ext cx="4348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319800" y="1905120"/>
            <a:ext cx="920880" cy="1625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018120" y="26877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45948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769080" y="3541680"/>
            <a:ext cx="0" cy="222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101000" y="3541680"/>
            <a:ext cx="0" cy="23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61200" y="20970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261200" y="22734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251840" y="24591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261200" y="26352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261200" y="28209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261200" y="29973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251840" y="318456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261200" y="336060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08012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43896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9800" y="4183200"/>
            <a:ext cx="920880" cy="1627200"/>
          </a:xfrm>
          <a:prstGeom prst="rect">
            <a:avLst/>
          </a:prstGeom>
          <a:solidFill>
            <a:srgbClr val="ffff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7597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091280" y="4260960"/>
            <a:ext cx="13669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'D'E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'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79600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01812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765600" y="2692440"/>
            <a:ext cx="0" cy="86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3511080" y="3567240"/>
            <a:ext cx="25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43480" y="410544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765600" y="411156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490920" y="3930480"/>
            <a:ext cx="251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013440" y="3935520"/>
            <a:ext cx="0" cy="10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04080" y="2692440"/>
            <a:ext cx="0" cy="10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3419640" y="3743280"/>
            <a:ext cx="2589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decod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:32 deco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x2:4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x3:8 de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4035600" y="4842000"/>
            <a:ext cx="901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548160" y="4851360"/>
            <a:ext cx="434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770280" y="49658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4781520" y="4260960"/>
            <a:ext cx="127332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spcAft>
                <a:spcPts val="2001"/>
              </a:spcAft>
              <a:tabLst>
                <a:tab algn="l" pos="0"/>
                <a:tab algn="l" pos="6858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C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832280" y="5979960"/>
            <a:ext cx="455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4191120" y="5970600"/>
            <a:ext cx="455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511520" y="5970600"/>
            <a:ext cx="455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409716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39740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469728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21164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226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85316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01336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34536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283440" y="4842000"/>
            <a:ext cx="9000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:8 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645240" y="5597640"/>
            <a:ext cx="528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945480" y="5597640"/>
            <a:ext cx="528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459480" y="5819760"/>
            <a:ext cx="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769080" y="5819760"/>
            <a:ext cx="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7101000" y="5830920"/>
            <a:ext cx="0" cy="24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7261200" y="43750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7261200" y="4551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51840" y="47372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261200" y="49132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261200" y="51004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261200" y="52768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251840" y="546264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7261200" y="5638680"/>
            <a:ext cx="290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5D1-1E0B-49EB-8F98-571F0FDBB9B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/>
          <p:nvPr/>
        </p:nvSpPr>
        <p:spPr>
          <a:xfrm>
            <a:off x="1720800" y="364500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5" name=""/>
          <p:cNvGrpSpPr/>
          <p:nvPr/>
        </p:nvGrpSpPr>
        <p:grpSpPr>
          <a:xfrm>
            <a:off x="2133720" y="3308400"/>
            <a:ext cx="1600200" cy="2254320"/>
            <a:chOff x="2133720" y="3308400"/>
            <a:chExt cx="1600200" cy="2254320"/>
          </a:xfrm>
        </p:grpSpPr>
        <p:sp>
          <p:nvSpPr>
            <p:cNvPr id="1196" name=""/>
            <p:cNvSpPr/>
            <p:nvPr/>
          </p:nvSpPr>
          <p:spPr>
            <a:xfrm>
              <a:off x="213372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629080" y="3308400"/>
              <a:ext cx="8762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77960" y="3638520"/>
              <a:ext cx="9273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13080" y="4546440"/>
              <a:ext cx="10922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8128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9092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86000" y="33526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5270400" y="4114800"/>
            <a:ext cx="1854360" cy="2286000"/>
            <a:chOff x="5270400" y="4114800"/>
            <a:chExt cx="1854360" cy="2286000"/>
          </a:xfrm>
        </p:grpSpPr>
        <p:sp>
          <p:nvSpPr>
            <p:cNvPr id="1204" name=""/>
            <p:cNvSpPr/>
            <p:nvPr/>
          </p:nvSpPr>
          <p:spPr>
            <a:xfrm>
              <a:off x="5410080" y="4114800"/>
              <a:ext cx="1600200" cy="144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854680" y="5937120"/>
              <a:ext cx="1092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•   •   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702400" y="5581800"/>
              <a:ext cx="11811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270400" y="4438800"/>
              <a:ext cx="1854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rr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85800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86728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562720" y="556272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3733920" y="4343400"/>
            <a:ext cx="1676160" cy="1263600"/>
            <a:chOff x="3733920" y="4343400"/>
            <a:chExt cx="1676160" cy="1263600"/>
          </a:xfrm>
        </p:grpSpPr>
        <p:sp>
          <p:nvSpPr>
            <p:cNvPr id="1212" name=""/>
            <p:cNvSpPr/>
            <p:nvPr/>
          </p:nvSpPr>
          <p:spPr>
            <a:xfrm>
              <a:off x="3746520" y="466740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733920" y="4343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733920" y="45720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33920" y="541008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-fabricated building block of many AND/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NOR or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ersonalized" by making/breaking connections among th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array block diagram for sum of 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1F2-F502-4415-B307-E209C75EFA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1117440" y="2540160"/>
            <a:ext cx="12319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2616120" y="2273400"/>
            <a:ext cx="19684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 +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B' C'  +  A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B' C  + 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49440" y="3797280"/>
            <a:ext cx="2184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sonality mat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715000" y="3936960"/>
            <a:ext cx="31878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un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complemented in te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does not particip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727600" y="5194440"/>
            <a:ext cx="33022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 = term connected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 = no connection to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359320" y="3606840"/>
            <a:ext cx="1384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359320" y="49021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si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425520" y="4425840"/>
            <a:ext cx="4514760" cy="2000520"/>
            <a:chOff x="425520" y="4425840"/>
            <a:chExt cx="4514760" cy="2000520"/>
          </a:xfrm>
        </p:grpSpPr>
        <p:sp>
          <p:nvSpPr>
            <p:cNvPr id="1226" name=""/>
            <p:cNvSpPr/>
            <p:nvPr/>
          </p:nvSpPr>
          <p:spPr>
            <a:xfrm>
              <a:off x="533520" y="4432320"/>
              <a:ext cx="440676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oduc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114480"/>
                  <a:tab algn="l" pos="1143000"/>
                  <a:tab algn="l" pos="1600200"/>
                  <a:tab algn="l" pos="2057400"/>
                  <a:tab algn="l" pos="2514600"/>
                  <a:tab algn="l" pos="2971800"/>
                  <a:tab algn="l" pos="3429000"/>
                  <a:tab algn="l" pos="38862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er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5520" y="4978440"/>
              <a:ext cx="44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984400" y="443880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00200" y="44258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4641480" y="5124600"/>
            <a:ext cx="2534040" cy="1428480"/>
            <a:chOff x="4641480" y="5124600"/>
            <a:chExt cx="2534040" cy="1428480"/>
          </a:xfrm>
        </p:grpSpPr>
        <p:sp>
          <p:nvSpPr>
            <p:cNvPr id="1231" name=""/>
            <p:cNvSpPr/>
            <p:nvPr/>
          </p:nvSpPr>
          <p:spPr>
            <a:xfrm>
              <a:off x="5384880" y="5892840"/>
              <a:ext cx="17906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use of te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4667400" y="5124600"/>
              <a:ext cx="698400" cy="93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 flipV="1">
              <a:off x="4641480" y="5924520"/>
              <a:ext cx="7239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4667040" y="6051600"/>
              <a:ext cx="68580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abling concep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d product terms among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CEE-C3B7-4BDE-854F-0763109FF9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7" name=""/>
          <p:cNvGrpSpPr/>
          <p:nvPr/>
        </p:nvGrpSpPr>
        <p:grpSpPr>
          <a:xfrm>
            <a:off x="3580920" y="2438280"/>
            <a:ext cx="4839120" cy="4049640"/>
            <a:chOff x="3580920" y="2438280"/>
            <a:chExt cx="4839120" cy="4049640"/>
          </a:xfrm>
        </p:grpSpPr>
        <p:sp>
          <p:nvSpPr>
            <p:cNvPr id="1238" name=""/>
            <p:cNvSpPr/>
            <p:nvPr/>
          </p:nvSpPr>
          <p:spPr>
            <a:xfrm>
              <a:off x="574308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4884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57416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57358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6576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747040" y="5758200"/>
              <a:ext cx="2826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4308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4884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601776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59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87124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612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4551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447600" y="5387760"/>
              <a:ext cx="2826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44220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483240" y="5764320"/>
              <a:ext cx="2466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46596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46128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4551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6724080" y="5823000"/>
              <a:ext cx="18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27732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65890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5572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14996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2760" y="5387760"/>
              <a:ext cx="29340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36640" y="5382000"/>
              <a:ext cx="30564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784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60400" y="5758200"/>
              <a:ext cx="28188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55720" y="5764320"/>
              <a:ext cx="29340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996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743112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971760" y="582300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28388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86204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856280" y="5382000"/>
              <a:ext cx="29340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849080" y="5387760"/>
              <a:ext cx="28188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843680" y="5382000"/>
              <a:ext cx="292680" cy="90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873200" y="5764320"/>
              <a:ext cx="25776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67080" y="5758200"/>
              <a:ext cx="26964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62040" y="5764320"/>
              <a:ext cx="281880" cy="12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856280" y="5758200"/>
              <a:ext cx="293400" cy="14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8125560" y="582300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666200" y="58230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8320" y="5828760"/>
              <a:ext cx="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71052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59280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58092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699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flipH="1">
              <a:off x="4087440" y="2673720"/>
              <a:ext cx="1411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96972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957480" y="2667600"/>
              <a:ext cx="27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075560" y="2862000"/>
              <a:ext cx="5868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4475520" y="2673720"/>
              <a:ext cx="12924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358160" y="2673720"/>
              <a:ext cx="11772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4345920" y="266760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464000" y="2862000"/>
              <a:ext cx="46800" cy="46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23360" y="3126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23360" y="342108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V="1">
              <a:off x="4917240" y="31208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17240" y="303840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094360" y="315180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089320" y="313416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094000" y="3127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88960" y="3121560"/>
              <a:ext cx="2926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23360" y="435132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23360" y="4633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V="1">
              <a:off x="4917240" y="4344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17240" y="4262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94360" y="4364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9320" y="4358520"/>
              <a:ext cx="29232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94000" y="4351320"/>
              <a:ext cx="270360" cy="28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88960" y="433368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923360" y="4951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23360" y="5257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917240" y="4945320"/>
              <a:ext cx="0" cy="31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917240" y="486324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94360" y="496512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89320" y="4959000"/>
              <a:ext cx="2923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94000" y="4952160"/>
              <a:ext cx="2703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88960" y="4946040"/>
              <a:ext cx="2926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23360" y="556380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923360" y="585792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917240" y="5558040"/>
              <a:ext cx="0" cy="30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917240" y="54756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94360" y="55771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89320" y="557100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94000" y="556416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88960" y="5569920"/>
              <a:ext cx="29268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923360" y="373896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923360" y="402156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4917240" y="3732840"/>
              <a:ext cx="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917240" y="365076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94360" y="375228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89320" y="3746160"/>
              <a:ext cx="29232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94000" y="3739320"/>
              <a:ext cx="27036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8960" y="3733200"/>
              <a:ext cx="292680" cy="305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87124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87124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890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890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28388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8388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370480" y="570528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1419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13008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8364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82452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5427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531200" y="5693040"/>
              <a:ext cx="3528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23716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225640" y="5693040"/>
              <a:ext cx="46800" cy="4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500080" y="5705280"/>
              <a:ext cx="635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4772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842160" y="570528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548840" y="570528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243280" y="57052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70480" y="510480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008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7068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413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107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00080" y="5104800"/>
              <a:ext cx="49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988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006240" y="510480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9528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12920" y="5104800"/>
              <a:ext cx="69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0160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19240" y="510480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096040" y="5092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113680" y="5104800"/>
              <a:ext cx="30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00084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0680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41348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8107920" y="51105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370480" y="449244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8712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5890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283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9783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00080" y="4492440"/>
              <a:ext cx="36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8590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877000" y="449244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577200" y="44809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595200" y="4492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27236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289640" y="4492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66800" y="448092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84440" y="4492440"/>
              <a:ext cx="43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7124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5890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8388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978320" y="4498560"/>
              <a:ext cx="0" cy="120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978320" y="6264360"/>
              <a:ext cx="0" cy="9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978320" y="6370200"/>
              <a:ext cx="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1664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05640" y="310320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05640" y="43041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805640" y="4928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805640" y="55285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05640" y="37040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72240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9304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04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04920" y="2556000"/>
              <a:ext cx="0" cy="54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893040" y="30916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4920" y="31093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893040" y="36918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904920" y="37094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893040" y="42922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04920" y="4309920"/>
              <a:ext cx="0" cy="61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93040" y="491616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04920" y="49341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93040" y="55166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04920" y="553428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3910680" y="310320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910680" y="3704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910680" y="430416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910680" y="492804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10680" y="5528520"/>
              <a:ext cx="88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0932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805640" y="33386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805640" y="45633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805640" y="51634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805640" y="57639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805640" y="39391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098960" y="2549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26996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28148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281480" y="2556000"/>
              <a:ext cx="0" cy="77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69960" y="3327120"/>
              <a:ext cx="46800" cy="3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81480" y="33447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69960" y="39276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281480" y="394524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69960" y="455148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81480" y="456876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69960" y="51519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81480" y="516960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269960" y="575244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281480" y="5770080"/>
              <a:ext cx="0" cy="35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87600" y="333864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287600" y="393912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287600" y="45633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287600" y="516348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287600" y="5763960"/>
              <a:ext cx="50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482000" y="255600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487400" y="2549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58400" y="252648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69920" y="243828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9920" y="2556000"/>
              <a:ext cx="0" cy="356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71664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716640" y="3038400"/>
              <a:ext cx="0" cy="308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62392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63298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02504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7310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704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500080" y="3279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612040" y="326808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62968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1836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33600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12800" y="3268080"/>
              <a:ext cx="4716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030440" y="3279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719480" y="32680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737120" y="3279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62392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32988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02504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731000" y="3285720"/>
              <a:ext cx="0" cy="241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0932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05640" y="32209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805640" y="44337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05640" y="5034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05640" y="5646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805640" y="38332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093200" y="303840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81320" y="3209400"/>
              <a:ext cx="46800" cy="23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093200" y="322704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81320" y="382140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093200" y="38390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081320" y="442188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093200" y="443952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81320" y="5022360"/>
              <a:ext cx="4680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093200" y="5040000"/>
              <a:ext cx="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081320" y="5646240"/>
              <a:ext cx="46800" cy="2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400" bIns="-23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093200" y="5652000"/>
              <a:ext cx="0" cy="4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098960" y="322092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098960" y="383328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098960" y="44337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098960" y="5034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8960" y="564624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482000" y="2921040"/>
              <a:ext cx="0" cy="10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05640" y="34682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05640" y="466884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05640" y="529308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805640" y="589356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05640" y="4068720"/>
              <a:ext cx="105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82000" y="3038400"/>
              <a:ext cx="0" cy="42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469760" y="34567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82000" y="3474360"/>
              <a:ext cx="0" cy="58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469760" y="40568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482000" y="407484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469760" y="465732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482000" y="4674960"/>
              <a:ext cx="0" cy="61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469760" y="528156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482000" y="5299200"/>
              <a:ext cx="0" cy="58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469760" y="5881680"/>
              <a:ext cx="352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82000" y="5899320"/>
              <a:ext cx="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87400" y="34682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487400" y="406872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487400" y="466884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487400" y="529308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487400" y="5893560"/>
              <a:ext cx="30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741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4594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15428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60600" y="5711040"/>
              <a:ext cx="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370480" y="3891960"/>
              <a:ext cx="1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500080" y="3891960"/>
              <a:ext cx="235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74128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747400" y="3891960"/>
              <a:ext cx="70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4479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465600" y="389196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142760" y="3880440"/>
              <a:ext cx="4680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160040" y="3891960"/>
              <a:ext cx="694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848720" y="3880440"/>
              <a:ext cx="35280" cy="3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866720" y="3891960"/>
              <a:ext cx="55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741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4594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15428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860600" y="3898080"/>
              <a:ext cx="0" cy="180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3704760" y="2973600"/>
              <a:ext cx="1212480" cy="88200"/>
              <a:chOff x="3704760" y="2973600"/>
              <a:chExt cx="1212480" cy="88200"/>
            </a:xfrm>
          </p:grpSpPr>
          <p:sp>
            <p:nvSpPr>
              <p:cNvPr id="1530" name=""/>
              <p:cNvSpPr/>
              <p:nvPr/>
            </p:nvSpPr>
            <p:spPr>
              <a:xfrm>
                <a:off x="3722400" y="2985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4917240" y="299124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3704760" y="297360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3704760" y="3574080"/>
              <a:ext cx="1212480" cy="88200"/>
              <a:chOff x="3704760" y="3574080"/>
              <a:chExt cx="1212480" cy="88200"/>
            </a:xfrm>
          </p:grpSpPr>
          <p:sp>
            <p:nvSpPr>
              <p:cNvPr id="1534" name=""/>
              <p:cNvSpPr/>
              <p:nvPr/>
            </p:nvSpPr>
            <p:spPr>
              <a:xfrm>
                <a:off x="3722400" y="358596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4917240" y="359172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3704760" y="357408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7" name=""/>
            <p:cNvGrpSpPr/>
            <p:nvPr/>
          </p:nvGrpSpPr>
          <p:grpSpPr>
            <a:xfrm>
              <a:off x="3704760" y="4197960"/>
              <a:ext cx="1212480" cy="88200"/>
              <a:chOff x="3704760" y="4197960"/>
              <a:chExt cx="1212480" cy="88200"/>
            </a:xfrm>
          </p:grpSpPr>
          <p:sp>
            <p:nvSpPr>
              <p:cNvPr id="1538" name=""/>
              <p:cNvSpPr/>
              <p:nvPr/>
            </p:nvSpPr>
            <p:spPr>
              <a:xfrm>
                <a:off x="3722400" y="420948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4917240" y="421560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3704760" y="4197960"/>
                <a:ext cx="4716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1" name=""/>
            <p:cNvGrpSpPr/>
            <p:nvPr/>
          </p:nvGrpSpPr>
          <p:grpSpPr>
            <a:xfrm>
              <a:off x="3704760" y="4810680"/>
              <a:ext cx="1212480" cy="99360"/>
              <a:chOff x="3704760" y="4810680"/>
              <a:chExt cx="1212480" cy="99360"/>
            </a:xfrm>
          </p:grpSpPr>
          <p:sp>
            <p:nvSpPr>
              <p:cNvPr id="1542" name=""/>
              <p:cNvSpPr/>
              <p:nvPr/>
            </p:nvSpPr>
            <p:spPr>
              <a:xfrm>
                <a:off x="3722400" y="482220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17240" y="4828320"/>
                <a:ext cx="0" cy="8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3704760" y="4810680"/>
                <a:ext cx="4716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5" name=""/>
            <p:cNvGrpSpPr/>
            <p:nvPr/>
          </p:nvGrpSpPr>
          <p:grpSpPr>
            <a:xfrm>
              <a:off x="3704760" y="5410800"/>
              <a:ext cx="1212480" cy="99720"/>
              <a:chOff x="3704760" y="5410800"/>
              <a:chExt cx="1212480" cy="99720"/>
            </a:xfrm>
          </p:grpSpPr>
          <p:sp>
            <p:nvSpPr>
              <p:cNvPr id="1546" name=""/>
              <p:cNvSpPr/>
              <p:nvPr/>
            </p:nvSpPr>
            <p:spPr>
              <a:xfrm>
                <a:off x="3722400" y="5433840"/>
                <a:ext cx="118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917240" y="5439960"/>
                <a:ext cx="0" cy="7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704760" y="5410800"/>
                <a:ext cx="4716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9" name=""/>
            <p:cNvGrpSpPr/>
            <p:nvPr/>
          </p:nvGrpSpPr>
          <p:grpSpPr>
            <a:xfrm>
              <a:off x="4658400" y="5887440"/>
              <a:ext cx="258840" cy="123120"/>
              <a:chOff x="4658400" y="5887440"/>
              <a:chExt cx="258840" cy="123120"/>
            </a:xfrm>
          </p:grpSpPr>
          <p:sp>
            <p:nvSpPr>
              <p:cNvPr id="1550" name=""/>
              <p:cNvSpPr/>
              <p:nvPr/>
            </p:nvSpPr>
            <p:spPr>
              <a:xfrm>
                <a:off x="4699080" y="5987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17240" y="5887440"/>
                <a:ext cx="0" cy="105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658400" y="596376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4658400" y="5286960"/>
              <a:ext cx="258840" cy="99720"/>
              <a:chOff x="4658400" y="5286960"/>
              <a:chExt cx="258840" cy="99720"/>
            </a:xfrm>
          </p:grpSpPr>
          <p:sp>
            <p:nvSpPr>
              <p:cNvPr id="1554" name=""/>
              <p:cNvSpPr/>
              <p:nvPr/>
            </p:nvSpPr>
            <p:spPr>
              <a:xfrm>
                <a:off x="4699080" y="537516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4917240" y="528696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4658400" y="5351400"/>
                <a:ext cx="46800" cy="35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7" name=""/>
            <p:cNvGrpSpPr/>
            <p:nvPr/>
          </p:nvGrpSpPr>
          <p:grpSpPr>
            <a:xfrm>
              <a:off x="4658400" y="4663440"/>
              <a:ext cx="258840" cy="122760"/>
              <a:chOff x="4658400" y="4663440"/>
              <a:chExt cx="258840" cy="122760"/>
            </a:xfrm>
          </p:grpSpPr>
          <p:sp>
            <p:nvSpPr>
              <p:cNvPr id="1558" name=""/>
              <p:cNvSpPr/>
              <p:nvPr/>
            </p:nvSpPr>
            <p:spPr>
              <a:xfrm>
                <a:off x="4699080" y="475128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4917240" y="4663440"/>
                <a:ext cx="0" cy="93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658400" y="473940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658400" y="4062240"/>
              <a:ext cx="258840" cy="123480"/>
              <a:chOff x="4658400" y="4062240"/>
              <a:chExt cx="258840" cy="123480"/>
            </a:xfrm>
          </p:grpSpPr>
          <p:sp>
            <p:nvSpPr>
              <p:cNvPr id="1562" name=""/>
              <p:cNvSpPr/>
              <p:nvPr/>
            </p:nvSpPr>
            <p:spPr>
              <a:xfrm>
                <a:off x="4699080" y="415080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4917240" y="406224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658400" y="4138920"/>
                <a:ext cx="46800" cy="4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5" name=""/>
            <p:cNvGrpSpPr/>
            <p:nvPr/>
          </p:nvGrpSpPr>
          <p:grpSpPr>
            <a:xfrm>
              <a:off x="4658400" y="3461760"/>
              <a:ext cx="258840" cy="111600"/>
              <a:chOff x="4658400" y="3461760"/>
              <a:chExt cx="258840" cy="111600"/>
            </a:xfrm>
          </p:grpSpPr>
          <p:sp>
            <p:nvSpPr>
              <p:cNvPr id="1566" name=""/>
              <p:cNvSpPr/>
              <p:nvPr/>
            </p:nvSpPr>
            <p:spPr>
              <a:xfrm>
                <a:off x="4699080" y="3550320"/>
                <a:ext cx="21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4917240" y="3461760"/>
                <a:ext cx="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658400" y="3538440"/>
                <a:ext cx="46800" cy="34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efore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ossible connections are available before "programming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reality, all AND and OR gates are N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E50-D0CF-420B-9ABB-661B675A1D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1" name=""/>
          <p:cNvGrpSpPr/>
          <p:nvPr/>
        </p:nvGrpSpPr>
        <p:grpSpPr>
          <a:xfrm>
            <a:off x="3162240" y="2666880"/>
            <a:ext cx="4915080" cy="3976560"/>
            <a:chOff x="3162240" y="2666880"/>
            <a:chExt cx="4915080" cy="3976560"/>
          </a:xfrm>
        </p:grpSpPr>
        <p:sp>
          <p:nvSpPr>
            <p:cNvPr id="1572" name=""/>
            <p:cNvSpPr/>
            <p:nvPr/>
          </p:nvSpPr>
          <p:spPr>
            <a:xfrm flipH="1">
              <a:off x="3286080" y="3135600"/>
              <a:ext cx="13572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173760" y="3135600"/>
              <a:ext cx="11268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>
              <a:off x="3162240" y="3129840"/>
              <a:ext cx="25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27528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368172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3568680" y="3135600"/>
              <a:ext cx="11304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557160" y="3129840"/>
              <a:ext cx="25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659400" y="3327840"/>
              <a:ext cx="5616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4066200" y="3135600"/>
              <a:ext cx="1353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941640" y="3135600"/>
              <a:ext cx="124560" cy="18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>
              <a:off x="3930120" y="31298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054680" y="3327840"/>
              <a:ext cx="56520" cy="56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461480" y="3548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461480" y="38530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V="1">
              <a:off x="4456080" y="354240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625640" y="356040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620600" y="3555000"/>
              <a:ext cx="292320" cy="31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625280" y="354816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620240" y="354240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461480" y="4429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461480" y="47343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4456080" y="44236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625640" y="4453200"/>
              <a:ext cx="293040" cy="29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620600" y="4436280"/>
              <a:ext cx="292320" cy="3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625280" y="44287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620240" y="44233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461480" y="4880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461480" y="518616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V="1">
              <a:off x="4456080" y="487548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625640" y="48938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620600" y="48880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25280" y="48816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20240" y="4864680"/>
              <a:ext cx="292680" cy="32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461480" y="532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461480" y="561528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4456080" y="5316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25640" y="533448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620600" y="532872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625280" y="5321520"/>
              <a:ext cx="2934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620240" y="531612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3085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52754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28768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8768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4954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3600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0210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9871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010920" y="5463000"/>
              <a:ext cx="29268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010920" y="5813640"/>
              <a:ext cx="2926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0748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82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732360" y="5813640"/>
              <a:ext cx="27108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9924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22640" y="5463000"/>
              <a:ext cx="2934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722640" y="5813640"/>
              <a:ext cx="2934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91920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79464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44800" y="5813640"/>
              <a:ext cx="27036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10960" y="5418360"/>
              <a:ext cx="304200" cy="94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34720" y="5463000"/>
              <a:ext cx="304200" cy="9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34720" y="5813640"/>
              <a:ext cx="30420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6309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506720" y="5926320"/>
              <a:ext cx="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461480" y="3988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461480" y="4293720"/>
              <a:ext cx="31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4456080" y="398304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4625640" y="4001040"/>
              <a:ext cx="2930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20600" y="3995280"/>
              <a:ext cx="29232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625280" y="3988800"/>
              <a:ext cx="2934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20240" y="3983040"/>
              <a:ext cx="292680" cy="31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2922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92200" y="3508200"/>
              <a:ext cx="0" cy="221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277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4277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82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913280" y="4587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082920" y="4592880"/>
              <a:ext cx="0" cy="11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060240" y="457596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49360" y="4587120"/>
              <a:ext cx="102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088680" y="4587120"/>
              <a:ext cx="19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394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394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9192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0748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913280" y="36946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91920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90768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207480" y="3700440"/>
              <a:ext cx="0" cy="20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95960" y="368352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50493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212880" y="3694680"/>
              <a:ext cx="70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924960" y="3694680"/>
              <a:ext cx="115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7946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49540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913280" y="502812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79464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772320" y="501660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495400" y="5033880"/>
              <a:ext cx="0" cy="75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484240" y="501660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49360" y="50281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501160" y="5028120"/>
              <a:ext cx="128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800400" y="5028120"/>
              <a:ext cx="12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5152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85152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913280" y="546876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309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6004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3092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19400" y="5457600"/>
              <a:ext cx="4536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360040" y="5474160"/>
              <a:ext cx="0" cy="31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348520" y="545760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049360" y="54687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365440" y="5468760"/>
              <a:ext cx="225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636320" y="546876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913280" y="4146480"/>
              <a:ext cx="12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506720" y="580176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06720" y="4152240"/>
              <a:ext cx="0" cy="163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84040" y="412416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049360" y="4146480"/>
              <a:ext cx="245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512120" y="4146480"/>
              <a:ext cx="56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563240" y="6355440"/>
              <a:ext cx="0" cy="12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563240" y="64908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2922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337280" y="362700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337280" y="45309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4337280" y="54118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489840" y="541188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484440" y="538956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489840" y="453096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484440" y="45082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489840" y="3627000"/>
              <a:ext cx="83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484440" y="3615480"/>
              <a:ext cx="3384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8444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484440" y="2994480"/>
              <a:ext cx="3384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484440" y="3011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484440" y="3632760"/>
              <a:ext cx="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84440" y="45363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484440" y="5417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297960" y="3005640"/>
              <a:ext cx="18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68748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4337280" y="376272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885120" y="3762720"/>
              <a:ext cx="44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57040" y="37400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87936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857040" y="2994480"/>
              <a:ext cx="4500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879360" y="3011400"/>
              <a:ext cx="0" cy="7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879360" y="3768120"/>
              <a:ext cx="0" cy="195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693240" y="3005640"/>
              <a:ext cx="18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68748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337280" y="4079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337280" y="4960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687480" y="3508200"/>
              <a:ext cx="0" cy="56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664800" y="406764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3687480" y="40845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664800" y="4948920"/>
              <a:ext cx="4500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87480" y="4965840"/>
              <a:ext cx="0" cy="75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693240" y="496008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3693240" y="4079160"/>
              <a:ext cx="63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071600" y="30114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337280" y="50842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4337280" y="42033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280760" y="508428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52680" y="5073120"/>
              <a:ext cx="33480" cy="4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275000" y="28872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252680" y="2994480"/>
              <a:ext cx="33480" cy="33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275000" y="3011400"/>
              <a:ext cx="0" cy="118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252680" y="4191840"/>
              <a:ext cx="33480" cy="4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275000" y="4208760"/>
              <a:ext cx="0" cy="87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4275000" y="5090040"/>
              <a:ext cx="0" cy="63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4077360" y="3005640"/>
              <a:ext cx="19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4280760" y="4203360"/>
              <a:ext cx="4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71600" y="3384000"/>
              <a:ext cx="0" cy="11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337280" y="465516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077360" y="4655160"/>
              <a:ext cx="2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060440" y="4644000"/>
              <a:ext cx="33840" cy="33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071600" y="3508200"/>
              <a:ext cx="0" cy="11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071600" y="4660560"/>
              <a:ext cx="0" cy="106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337280" y="5536080"/>
              <a:ext cx="1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382560" y="2678040"/>
              <a:ext cx="485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777840" y="266688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61960" y="2666880"/>
              <a:ext cx="497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89104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58008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303320" y="6338520"/>
              <a:ext cx="56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167800" y="6327360"/>
              <a:ext cx="56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930200" y="3480120"/>
              <a:ext cx="5986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907880" y="3931920"/>
              <a:ext cx="6325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919040" y="4372560"/>
              <a:ext cx="6328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907880" y="4813560"/>
              <a:ext cx="66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930200" y="5254200"/>
              <a:ext cx="485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fter programm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wanted connections are "blown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se (normally connected, break unwanted 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fuse (normally disconnected, make wanted conne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C9D-1607-45AA-A743-9A918426A21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5" name=""/>
          <p:cNvGrpSpPr/>
          <p:nvPr/>
        </p:nvGrpSpPr>
        <p:grpSpPr>
          <a:xfrm>
            <a:off x="609480" y="3016080"/>
            <a:ext cx="3454560" cy="2336760"/>
            <a:chOff x="609480" y="3016080"/>
            <a:chExt cx="3454560" cy="2336760"/>
          </a:xfrm>
        </p:grpSpPr>
        <p:sp>
          <p:nvSpPr>
            <p:cNvPr id="1766" name=""/>
            <p:cNvSpPr/>
            <p:nvPr/>
          </p:nvSpPr>
          <p:spPr>
            <a:xfrm flipH="1">
              <a:off x="16765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6204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154908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72728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68264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7463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61928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019240" y="3288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019240" y="35938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2012760" y="32828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178360" y="33033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171880" y="3296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78000" y="32893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171520" y="32828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09480" y="344160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463840" y="34416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19240" y="3657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019240" y="3962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2012760" y="36511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78360" y="36716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2171880" y="3665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2178000" y="36576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171520" y="36511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09480" y="380988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463840" y="38098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019240" y="4025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019240" y="433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V="1">
              <a:off x="2012760" y="40194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2178360" y="40399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171880" y="4033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2178000" y="4025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171520" y="40194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09480" y="417816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63840" y="41781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019240" y="4393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019240" y="4698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2012760" y="43876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178360" y="44082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171880" y="4401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178000" y="43941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171520" y="43876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09480" y="4546440"/>
              <a:ext cx="138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463840" y="45464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9" name=""/>
            <p:cNvGrpSpPr/>
            <p:nvPr/>
          </p:nvGrpSpPr>
          <p:grpSpPr>
            <a:xfrm>
              <a:off x="1688760" y="3396960"/>
              <a:ext cx="114120" cy="88920"/>
              <a:chOff x="1688760" y="3396960"/>
              <a:chExt cx="114120" cy="88920"/>
            </a:xfrm>
          </p:grpSpPr>
          <p:sp>
            <p:nvSpPr>
              <p:cNvPr id="1810" name=""/>
              <p:cNvSpPr/>
              <p:nvPr/>
            </p:nvSpPr>
            <p:spPr>
              <a:xfrm>
                <a:off x="170172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168876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1688760" y="3765240"/>
              <a:ext cx="114120" cy="88920"/>
              <a:chOff x="1688760" y="3765240"/>
              <a:chExt cx="114120" cy="88920"/>
            </a:xfrm>
          </p:grpSpPr>
          <p:sp>
            <p:nvSpPr>
              <p:cNvPr id="1813" name=""/>
              <p:cNvSpPr/>
              <p:nvPr/>
            </p:nvSpPr>
            <p:spPr>
              <a:xfrm>
                <a:off x="170172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168876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5" name=""/>
            <p:cNvGrpSpPr/>
            <p:nvPr/>
          </p:nvGrpSpPr>
          <p:grpSpPr>
            <a:xfrm>
              <a:off x="1688760" y="4133520"/>
              <a:ext cx="114120" cy="88920"/>
              <a:chOff x="1688760" y="4133520"/>
              <a:chExt cx="114120" cy="88920"/>
            </a:xfrm>
          </p:grpSpPr>
          <p:sp>
            <p:nvSpPr>
              <p:cNvPr id="1816" name=""/>
              <p:cNvSpPr/>
              <p:nvPr/>
            </p:nvSpPr>
            <p:spPr>
              <a:xfrm>
                <a:off x="170172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H="1">
                <a:off x="168876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1688760" y="4501800"/>
              <a:ext cx="114120" cy="88920"/>
              <a:chOff x="1688760" y="4501800"/>
              <a:chExt cx="114120" cy="88920"/>
            </a:xfrm>
          </p:grpSpPr>
          <p:sp>
            <p:nvSpPr>
              <p:cNvPr id="1819" name=""/>
              <p:cNvSpPr/>
              <p:nvPr/>
            </p:nvSpPr>
            <p:spPr>
              <a:xfrm>
                <a:off x="170172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168876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1" name=""/>
            <p:cNvGrpSpPr/>
            <p:nvPr/>
          </p:nvGrpSpPr>
          <p:grpSpPr>
            <a:xfrm>
              <a:off x="1562040" y="3396960"/>
              <a:ext cx="114480" cy="88920"/>
              <a:chOff x="1562040" y="3396960"/>
              <a:chExt cx="114480" cy="88920"/>
            </a:xfrm>
          </p:grpSpPr>
          <p:sp>
            <p:nvSpPr>
              <p:cNvPr id="1822" name=""/>
              <p:cNvSpPr/>
              <p:nvPr/>
            </p:nvSpPr>
            <p:spPr>
              <a:xfrm>
                <a:off x="15746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15620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4" name=""/>
            <p:cNvGrpSpPr/>
            <p:nvPr/>
          </p:nvGrpSpPr>
          <p:grpSpPr>
            <a:xfrm>
              <a:off x="1562040" y="3765240"/>
              <a:ext cx="114480" cy="88920"/>
              <a:chOff x="1562040" y="3765240"/>
              <a:chExt cx="114480" cy="88920"/>
            </a:xfrm>
          </p:grpSpPr>
          <p:sp>
            <p:nvSpPr>
              <p:cNvPr id="1825" name=""/>
              <p:cNvSpPr/>
              <p:nvPr/>
            </p:nvSpPr>
            <p:spPr>
              <a:xfrm>
                <a:off x="15746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15620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1562040" y="4133520"/>
              <a:ext cx="114480" cy="88920"/>
              <a:chOff x="1562040" y="4133520"/>
              <a:chExt cx="114480" cy="88920"/>
            </a:xfrm>
          </p:grpSpPr>
          <p:sp>
            <p:nvSpPr>
              <p:cNvPr id="1828" name=""/>
              <p:cNvSpPr/>
              <p:nvPr/>
            </p:nvSpPr>
            <p:spPr>
              <a:xfrm>
                <a:off x="15746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15620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0" name=""/>
            <p:cNvGrpSpPr/>
            <p:nvPr/>
          </p:nvGrpSpPr>
          <p:grpSpPr>
            <a:xfrm>
              <a:off x="1562040" y="4501800"/>
              <a:ext cx="114480" cy="88920"/>
              <a:chOff x="1562040" y="4501800"/>
              <a:chExt cx="114480" cy="88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5746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15620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3" name=""/>
            <p:cNvSpPr/>
            <p:nvPr/>
          </p:nvSpPr>
          <p:spPr>
            <a:xfrm flipH="1">
              <a:off x="138420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27008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125676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3496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9068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5404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2696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0" name=""/>
            <p:cNvGrpSpPr/>
            <p:nvPr/>
          </p:nvGrpSpPr>
          <p:grpSpPr>
            <a:xfrm>
              <a:off x="1396800" y="3396960"/>
              <a:ext cx="114480" cy="88920"/>
              <a:chOff x="1396800" y="3396960"/>
              <a:chExt cx="114480" cy="88920"/>
            </a:xfrm>
          </p:grpSpPr>
          <p:sp>
            <p:nvSpPr>
              <p:cNvPr id="1841" name=""/>
              <p:cNvSpPr/>
              <p:nvPr/>
            </p:nvSpPr>
            <p:spPr>
              <a:xfrm>
                <a:off x="140976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139680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3" name=""/>
            <p:cNvGrpSpPr/>
            <p:nvPr/>
          </p:nvGrpSpPr>
          <p:grpSpPr>
            <a:xfrm>
              <a:off x="1396800" y="3765240"/>
              <a:ext cx="114480" cy="88920"/>
              <a:chOff x="1396800" y="3765240"/>
              <a:chExt cx="114480" cy="88920"/>
            </a:xfrm>
          </p:grpSpPr>
          <p:sp>
            <p:nvSpPr>
              <p:cNvPr id="1844" name=""/>
              <p:cNvSpPr/>
              <p:nvPr/>
            </p:nvSpPr>
            <p:spPr>
              <a:xfrm>
                <a:off x="140976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139680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6" name=""/>
            <p:cNvGrpSpPr/>
            <p:nvPr/>
          </p:nvGrpSpPr>
          <p:grpSpPr>
            <a:xfrm>
              <a:off x="1396800" y="4133520"/>
              <a:ext cx="114480" cy="88920"/>
              <a:chOff x="1396800" y="4133520"/>
              <a:chExt cx="114480" cy="88920"/>
            </a:xfrm>
          </p:grpSpPr>
          <p:sp>
            <p:nvSpPr>
              <p:cNvPr id="1847" name=""/>
              <p:cNvSpPr/>
              <p:nvPr/>
            </p:nvSpPr>
            <p:spPr>
              <a:xfrm>
                <a:off x="140976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139680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9" name=""/>
            <p:cNvGrpSpPr/>
            <p:nvPr/>
          </p:nvGrpSpPr>
          <p:grpSpPr>
            <a:xfrm>
              <a:off x="1396800" y="4501800"/>
              <a:ext cx="114480" cy="88920"/>
              <a:chOff x="1396800" y="4501800"/>
              <a:chExt cx="114480" cy="88920"/>
            </a:xfrm>
          </p:grpSpPr>
          <p:sp>
            <p:nvSpPr>
              <p:cNvPr id="1850" name=""/>
              <p:cNvSpPr/>
              <p:nvPr/>
            </p:nvSpPr>
            <p:spPr>
              <a:xfrm>
                <a:off x="140976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139680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1269720" y="3396960"/>
              <a:ext cx="114120" cy="88920"/>
              <a:chOff x="1269720" y="3396960"/>
              <a:chExt cx="114120" cy="88920"/>
            </a:xfrm>
          </p:grpSpPr>
          <p:sp>
            <p:nvSpPr>
              <p:cNvPr id="1853" name=""/>
              <p:cNvSpPr/>
              <p:nvPr/>
            </p:nvSpPr>
            <p:spPr>
              <a:xfrm>
                <a:off x="12826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12697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1269720" y="3765240"/>
              <a:ext cx="114120" cy="88920"/>
              <a:chOff x="1269720" y="3765240"/>
              <a:chExt cx="114120" cy="88920"/>
            </a:xfrm>
          </p:grpSpPr>
          <p:sp>
            <p:nvSpPr>
              <p:cNvPr id="1856" name=""/>
              <p:cNvSpPr/>
              <p:nvPr/>
            </p:nvSpPr>
            <p:spPr>
              <a:xfrm>
                <a:off x="12826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12697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"/>
            <p:cNvGrpSpPr/>
            <p:nvPr/>
          </p:nvGrpSpPr>
          <p:grpSpPr>
            <a:xfrm>
              <a:off x="1269720" y="4133520"/>
              <a:ext cx="114120" cy="88920"/>
              <a:chOff x="1269720" y="4133520"/>
              <a:chExt cx="114120" cy="88920"/>
            </a:xfrm>
          </p:grpSpPr>
          <p:sp>
            <p:nvSpPr>
              <p:cNvPr id="1859" name=""/>
              <p:cNvSpPr/>
              <p:nvPr/>
            </p:nvSpPr>
            <p:spPr>
              <a:xfrm>
                <a:off x="12826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12697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1" name=""/>
            <p:cNvGrpSpPr/>
            <p:nvPr/>
          </p:nvGrpSpPr>
          <p:grpSpPr>
            <a:xfrm>
              <a:off x="1269720" y="4501800"/>
              <a:ext cx="114120" cy="88920"/>
              <a:chOff x="1269720" y="4501800"/>
              <a:chExt cx="114120" cy="88920"/>
            </a:xfrm>
          </p:grpSpPr>
          <p:sp>
            <p:nvSpPr>
              <p:cNvPr id="1862" name=""/>
              <p:cNvSpPr/>
              <p:nvPr/>
            </p:nvSpPr>
            <p:spPr>
              <a:xfrm>
                <a:off x="12826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12697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"/>
            <p:cNvSpPr/>
            <p:nvPr/>
          </p:nvSpPr>
          <p:spPr>
            <a:xfrm flipH="1">
              <a:off x="109224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77760" y="3143160"/>
              <a:ext cx="1144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964800" y="31366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143000" y="32572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09836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16208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035000" y="32446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1104840" y="3396960"/>
              <a:ext cx="114480" cy="88920"/>
              <a:chOff x="1104840" y="3396960"/>
              <a:chExt cx="114480" cy="88920"/>
            </a:xfrm>
          </p:grpSpPr>
          <p:sp>
            <p:nvSpPr>
              <p:cNvPr id="1872" name=""/>
              <p:cNvSpPr/>
              <p:nvPr/>
            </p:nvSpPr>
            <p:spPr>
              <a:xfrm>
                <a:off x="111744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110484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4" name=""/>
            <p:cNvGrpSpPr/>
            <p:nvPr/>
          </p:nvGrpSpPr>
          <p:grpSpPr>
            <a:xfrm>
              <a:off x="1104840" y="3765240"/>
              <a:ext cx="114480" cy="88920"/>
              <a:chOff x="1104840" y="3765240"/>
              <a:chExt cx="114480" cy="88920"/>
            </a:xfrm>
          </p:grpSpPr>
          <p:sp>
            <p:nvSpPr>
              <p:cNvPr id="1875" name=""/>
              <p:cNvSpPr/>
              <p:nvPr/>
            </p:nvSpPr>
            <p:spPr>
              <a:xfrm>
                <a:off x="111744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110484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7" name=""/>
            <p:cNvGrpSpPr/>
            <p:nvPr/>
          </p:nvGrpSpPr>
          <p:grpSpPr>
            <a:xfrm>
              <a:off x="1104840" y="4133520"/>
              <a:ext cx="114480" cy="88920"/>
              <a:chOff x="1104840" y="4133520"/>
              <a:chExt cx="114480" cy="88920"/>
            </a:xfrm>
          </p:grpSpPr>
          <p:sp>
            <p:nvSpPr>
              <p:cNvPr id="1878" name=""/>
              <p:cNvSpPr/>
              <p:nvPr/>
            </p:nvSpPr>
            <p:spPr>
              <a:xfrm>
                <a:off x="111744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110484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104840" y="4501800"/>
              <a:ext cx="114480" cy="88920"/>
              <a:chOff x="1104840" y="4501800"/>
              <a:chExt cx="114480" cy="88920"/>
            </a:xfrm>
          </p:grpSpPr>
          <p:sp>
            <p:nvSpPr>
              <p:cNvPr id="1881" name=""/>
              <p:cNvSpPr/>
              <p:nvPr/>
            </p:nvSpPr>
            <p:spPr>
              <a:xfrm>
                <a:off x="111744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110484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3" name=""/>
            <p:cNvGrpSpPr/>
            <p:nvPr/>
          </p:nvGrpSpPr>
          <p:grpSpPr>
            <a:xfrm>
              <a:off x="977760" y="3396960"/>
              <a:ext cx="114480" cy="88920"/>
              <a:chOff x="977760" y="3396960"/>
              <a:chExt cx="114480" cy="88920"/>
            </a:xfrm>
          </p:grpSpPr>
          <p:sp>
            <p:nvSpPr>
              <p:cNvPr id="1884" name=""/>
              <p:cNvSpPr/>
              <p:nvPr/>
            </p:nvSpPr>
            <p:spPr>
              <a:xfrm>
                <a:off x="990720" y="33969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977760" y="33969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6" name=""/>
            <p:cNvGrpSpPr/>
            <p:nvPr/>
          </p:nvGrpSpPr>
          <p:grpSpPr>
            <a:xfrm>
              <a:off x="977760" y="3765240"/>
              <a:ext cx="114480" cy="88920"/>
              <a:chOff x="977760" y="3765240"/>
              <a:chExt cx="114480" cy="88920"/>
            </a:xfrm>
          </p:grpSpPr>
          <p:sp>
            <p:nvSpPr>
              <p:cNvPr id="1887" name=""/>
              <p:cNvSpPr/>
              <p:nvPr/>
            </p:nvSpPr>
            <p:spPr>
              <a:xfrm>
                <a:off x="990720" y="37652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977760" y="37652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9" name=""/>
            <p:cNvGrpSpPr/>
            <p:nvPr/>
          </p:nvGrpSpPr>
          <p:grpSpPr>
            <a:xfrm>
              <a:off x="977760" y="4133520"/>
              <a:ext cx="114480" cy="88920"/>
              <a:chOff x="977760" y="4133520"/>
              <a:chExt cx="114480" cy="88920"/>
            </a:xfrm>
          </p:grpSpPr>
          <p:sp>
            <p:nvSpPr>
              <p:cNvPr id="1890" name=""/>
              <p:cNvSpPr/>
              <p:nvPr/>
            </p:nvSpPr>
            <p:spPr>
              <a:xfrm>
                <a:off x="990720" y="413352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977760" y="41335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2" name=""/>
            <p:cNvGrpSpPr/>
            <p:nvPr/>
          </p:nvGrpSpPr>
          <p:grpSpPr>
            <a:xfrm>
              <a:off x="977760" y="4501800"/>
              <a:ext cx="114480" cy="88920"/>
              <a:chOff x="977760" y="4501800"/>
              <a:chExt cx="114480" cy="88920"/>
            </a:xfrm>
          </p:grpSpPr>
          <p:sp>
            <p:nvSpPr>
              <p:cNvPr id="1893" name=""/>
              <p:cNvSpPr/>
              <p:nvPr/>
            </p:nvSpPr>
            <p:spPr>
              <a:xfrm>
                <a:off x="990720" y="45018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977760" y="45018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5" name=""/>
            <p:cNvSpPr/>
            <p:nvPr/>
          </p:nvSpPr>
          <p:spPr>
            <a:xfrm flipH="1">
              <a:off x="799920" y="3143160"/>
              <a:ext cx="13968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85800" y="3143160"/>
              <a:ext cx="114120" cy="17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673200" y="31366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850680" y="32572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806400" y="30160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869760" y="33206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43040" y="32446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2" name=""/>
            <p:cNvGrpSpPr/>
            <p:nvPr/>
          </p:nvGrpSpPr>
          <p:grpSpPr>
            <a:xfrm>
              <a:off x="812520" y="3396960"/>
              <a:ext cx="114120" cy="88920"/>
              <a:chOff x="812520" y="3396960"/>
              <a:chExt cx="114120" cy="88920"/>
            </a:xfrm>
          </p:grpSpPr>
          <p:sp>
            <p:nvSpPr>
              <p:cNvPr id="1903" name=""/>
              <p:cNvSpPr/>
              <p:nvPr/>
            </p:nvSpPr>
            <p:spPr>
              <a:xfrm>
                <a:off x="82548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81252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5" name=""/>
            <p:cNvGrpSpPr/>
            <p:nvPr/>
          </p:nvGrpSpPr>
          <p:grpSpPr>
            <a:xfrm>
              <a:off x="812520" y="3765240"/>
              <a:ext cx="114120" cy="88920"/>
              <a:chOff x="812520" y="3765240"/>
              <a:chExt cx="114120" cy="88920"/>
            </a:xfrm>
          </p:grpSpPr>
          <p:sp>
            <p:nvSpPr>
              <p:cNvPr id="1906" name=""/>
              <p:cNvSpPr/>
              <p:nvPr/>
            </p:nvSpPr>
            <p:spPr>
              <a:xfrm>
                <a:off x="82548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81252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812520" y="4133520"/>
              <a:ext cx="114120" cy="88920"/>
              <a:chOff x="812520" y="4133520"/>
              <a:chExt cx="114120" cy="88920"/>
            </a:xfrm>
          </p:grpSpPr>
          <p:sp>
            <p:nvSpPr>
              <p:cNvPr id="1909" name=""/>
              <p:cNvSpPr/>
              <p:nvPr/>
            </p:nvSpPr>
            <p:spPr>
              <a:xfrm>
                <a:off x="82548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81252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1" name=""/>
            <p:cNvGrpSpPr/>
            <p:nvPr/>
          </p:nvGrpSpPr>
          <p:grpSpPr>
            <a:xfrm>
              <a:off x="812520" y="4501800"/>
              <a:ext cx="114120" cy="88920"/>
              <a:chOff x="812520" y="4501800"/>
              <a:chExt cx="114120" cy="88920"/>
            </a:xfrm>
          </p:grpSpPr>
          <p:sp>
            <p:nvSpPr>
              <p:cNvPr id="1912" name=""/>
              <p:cNvSpPr/>
              <p:nvPr/>
            </p:nvSpPr>
            <p:spPr>
              <a:xfrm>
                <a:off x="82548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81252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4" name=""/>
            <p:cNvGrpSpPr/>
            <p:nvPr/>
          </p:nvGrpSpPr>
          <p:grpSpPr>
            <a:xfrm>
              <a:off x="685440" y="3396960"/>
              <a:ext cx="114120" cy="88920"/>
              <a:chOff x="685440" y="3396960"/>
              <a:chExt cx="114120" cy="88920"/>
            </a:xfrm>
          </p:grpSpPr>
          <p:sp>
            <p:nvSpPr>
              <p:cNvPr id="1915" name=""/>
              <p:cNvSpPr/>
              <p:nvPr/>
            </p:nvSpPr>
            <p:spPr>
              <a:xfrm>
                <a:off x="698400" y="3396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685440" y="3396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7" name=""/>
            <p:cNvGrpSpPr/>
            <p:nvPr/>
          </p:nvGrpSpPr>
          <p:grpSpPr>
            <a:xfrm>
              <a:off x="685440" y="3765240"/>
              <a:ext cx="114120" cy="88920"/>
              <a:chOff x="685440" y="3765240"/>
              <a:chExt cx="114120" cy="88920"/>
            </a:xfrm>
          </p:grpSpPr>
          <p:sp>
            <p:nvSpPr>
              <p:cNvPr id="1918" name=""/>
              <p:cNvSpPr/>
              <p:nvPr/>
            </p:nvSpPr>
            <p:spPr>
              <a:xfrm>
                <a:off x="698400" y="37652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685440" y="37652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0" name=""/>
            <p:cNvGrpSpPr/>
            <p:nvPr/>
          </p:nvGrpSpPr>
          <p:grpSpPr>
            <a:xfrm>
              <a:off x="685440" y="4133520"/>
              <a:ext cx="114120" cy="88920"/>
              <a:chOff x="685440" y="4133520"/>
              <a:chExt cx="114120" cy="88920"/>
            </a:xfrm>
          </p:grpSpPr>
          <p:sp>
            <p:nvSpPr>
              <p:cNvPr id="1921" name=""/>
              <p:cNvSpPr/>
              <p:nvPr/>
            </p:nvSpPr>
            <p:spPr>
              <a:xfrm>
                <a:off x="698400" y="41335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685440" y="41335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3" name=""/>
            <p:cNvGrpSpPr/>
            <p:nvPr/>
          </p:nvGrpSpPr>
          <p:grpSpPr>
            <a:xfrm>
              <a:off x="685440" y="4501800"/>
              <a:ext cx="114120" cy="88920"/>
              <a:chOff x="685440" y="4501800"/>
              <a:chExt cx="114120" cy="88920"/>
            </a:xfrm>
          </p:grpSpPr>
          <p:sp>
            <p:nvSpPr>
              <p:cNvPr id="1924" name=""/>
              <p:cNvSpPr/>
              <p:nvPr/>
            </p:nvSpPr>
            <p:spPr>
              <a:xfrm>
                <a:off x="698400" y="45018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685440" y="45018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2565720" y="3244680"/>
              <a:ext cx="305280" cy="2108160"/>
              <a:chOff x="2565720" y="3244680"/>
              <a:chExt cx="305280" cy="2108160"/>
            </a:xfrm>
          </p:grpSpPr>
          <p:sp>
            <p:nvSpPr>
              <p:cNvPr id="1927" name=""/>
              <p:cNvSpPr/>
              <p:nvPr/>
            </p:nvSpPr>
            <p:spPr>
              <a:xfrm>
                <a:off x="259092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256572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257976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257976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271152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71152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3" name=""/>
              <p:cNvGrpSpPr/>
              <p:nvPr/>
            </p:nvGrpSpPr>
            <p:grpSpPr>
              <a:xfrm>
                <a:off x="2653920" y="3396960"/>
                <a:ext cx="114120" cy="88920"/>
                <a:chOff x="2653920" y="3396960"/>
                <a:chExt cx="114120" cy="88920"/>
              </a:xfrm>
            </p:grpSpPr>
            <p:sp>
              <p:nvSpPr>
                <p:cNvPr id="1934" name=""/>
                <p:cNvSpPr/>
                <p:nvPr/>
              </p:nvSpPr>
              <p:spPr>
                <a:xfrm>
                  <a:off x="266688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>
                  <a:off x="265392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6" name=""/>
              <p:cNvGrpSpPr/>
              <p:nvPr/>
            </p:nvGrpSpPr>
            <p:grpSpPr>
              <a:xfrm>
                <a:off x="2653920" y="3765240"/>
                <a:ext cx="114120" cy="88920"/>
                <a:chOff x="2653920" y="3765240"/>
                <a:chExt cx="114120" cy="88920"/>
              </a:xfrm>
            </p:grpSpPr>
            <p:sp>
              <p:nvSpPr>
                <p:cNvPr id="1937" name=""/>
                <p:cNvSpPr/>
                <p:nvPr/>
              </p:nvSpPr>
              <p:spPr>
                <a:xfrm>
                  <a:off x="266688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>
                  <a:off x="265392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9" name=""/>
              <p:cNvGrpSpPr/>
              <p:nvPr/>
            </p:nvGrpSpPr>
            <p:grpSpPr>
              <a:xfrm>
                <a:off x="2653920" y="4133520"/>
                <a:ext cx="114120" cy="88920"/>
                <a:chOff x="2653920" y="4133520"/>
                <a:chExt cx="114120" cy="88920"/>
              </a:xfrm>
            </p:grpSpPr>
            <p:sp>
              <p:nvSpPr>
                <p:cNvPr id="1940" name=""/>
                <p:cNvSpPr/>
                <p:nvPr/>
              </p:nvSpPr>
              <p:spPr>
                <a:xfrm>
                  <a:off x="266688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flipH="1">
                  <a:off x="265392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2" name=""/>
              <p:cNvGrpSpPr/>
              <p:nvPr/>
            </p:nvGrpSpPr>
            <p:grpSpPr>
              <a:xfrm>
                <a:off x="2653920" y="4501800"/>
                <a:ext cx="114120" cy="88920"/>
                <a:chOff x="2653920" y="4501800"/>
                <a:chExt cx="114120" cy="8892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266688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flipH="1">
                  <a:off x="265392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2934000" y="3244680"/>
              <a:ext cx="305280" cy="2108160"/>
              <a:chOff x="2934000" y="3244680"/>
              <a:chExt cx="305280" cy="2108160"/>
            </a:xfrm>
          </p:grpSpPr>
          <p:sp>
            <p:nvSpPr>
              <p:cNvPr id="1946" name=""/>
              <p:cNvSpPr/>
              <p:nvPr/>
            </p:nvSpPr>
            <p:spPr>
              <a:xfrm>
                <a:off x="295920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293400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2948040" y="4336920"/>
                <a:ext cx="29124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2948040" y="4692240"/>
                <a:ext cx="2912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3079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3079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3022200" y="3396960"/>
                <a:ext cx="114120" cy="88920"/>
                <a:chOff x="3022200" y="3396960"/>
                <a:chExt cx="114120" cy="8892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303516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>
                  <a:off x="302220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5" name=""/>
              <p:cNvGrpSpPr/>
              <p:nvPr/>
            </p:nvGrpSpPr>
            <p:grpSpPr>
              <a:xfrm>
                <a:off x="3022200" y="3765240"/>
                <a:ext cx="114120" cy="88920"/>
                <a:chOff x="3022200" y="3765240"/>
                <a:chExt cx="114120" cy="88920"/>
              </a:xfrm>
            </p:grpSpPr>
            <p:sp>
              <p:nvSpPr>
                <p:cNvPr id="1956" name=""/>
                <p:cNvSpPr/>
                <p:nvPr/>
              </p:nvSpPr>
              <p:spPr>
                <a:xfrm>
                  <a:off x="303516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H="1">
                  <a:off x="302220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8" name=""/>
              <p:cNvGrpSpPr/>
              <p:nvPr/>
            </p:nvGrpSpPr>
            <p:grpSpPr>
              <a:xfrm>
                <a:off x="3022200" y="4133520"/>
                <a:ext cx="114120" cy="88920"/>
                <a:chOff x="3022200" y="4133520"/>
                <a:chExt cx="114120" cy="88920"/>
              </a:xfrm>
            </p:grpSpPr>
            <p:sp>
              <p:nvSpPr>
                <p:cNvPr id="1959" name=""/>
                <p:cNvSpPr/>
                <p:nvPr/>
              </p:nvSpPr>
              <p:spPr>
                <a:xfrm>
                  <a:off x="303516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flipH="1">
                  <a:off x="302220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1" name=""/>
              <p:cNvGrpSpPr/>
              <p:nvPr/>
            </p:nvGrpSpPr>
            <p:grpSpPr>
              <a:xfrm>
                <a:off x="3022200" y="4501800"/>
                <a:ext cx="114120" cy="88920"/>
                <a:chOff x="3022200" y="4501800"/>
                <a:chExt cx="114120" cy="88920"/>
              </a:xfrm>
            </p:grpSpPr>
            <p:sp>
              <p:nvSpPr>
                <p:cNvPr id="1962" name=""/>
                <p:cNvSpPr/>
                <p:nvPr/>
              </p:nvSpPr>
              <p:spPr>
                <a:xfrm>
                  <a:off x="303516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>
                  <a:off x="302220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64" name=""/>
            <p:cNvGrpSpPr/>
            <p:nvPr/>
          </p:nvGrpSpPr>
          <p:grpSpPr>
            <a:xfrm>
              <a:off x="3289680" y="3244680"/>
              <a:ext cx="305640" cy="2108160"/>
              <a:chOff x="3289680" y="3244680"/>
              <a:chExt cx="305640" cy="2108160"/>
            </a:xfrm>
          </p:grpSpPr>
          <p:sp>
            <p:nvSpPr>
              <p:cNvPr id="1965" name=""/>
              <p:cNvSpPr/>
              <p:nvPr/>
            </p:nvSpPr>
            <p:spPr>
              <a:xfrm>
                <a:off x="331488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289680" y="4285800"/>
                <a:ext cx="29124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330336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30336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43548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43548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71" name=""/>
              <p:cNvGrpSpPr/>
              <p:nvPr/>
            </p:nvGrpSpPr>
            <p:grpSpPr>
              <a:xfrm>
                <a:off x="3377880" y="3396960"/>
                <a:ext cx="114120" cy="88920"/>
                <a:chOff x="3377880" y="3396960"/>
                <a:chExt cx="114120" cy="8892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339084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H="1">
                  <a:off x="337788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4" name=""/>
              <p:cNvGrpSpPr/>
              <p:nvPr/>
            </p:nvGrpSpPr>
            <p:grpSpPr>
              <a:xfrm>
                <a:off x="3377880" y="3765240"/>
                <a:ext cx="114120" cy="88920"/>
                <a:chOff x="3377880" y="3765240"/>
                <a:chExt cx="114120" cy="889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39084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flipH="1">
                  <a:off x="337788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7" name=""/>
              <p:cNvGrpSpPr/>
              <p:nvPr/>
            </p:nvGrpSpPr>
            <p:grpSpPr>
              <a:xfrm>
                <a:off x="3377880" y="4133520"/>
                <a:ext cx="114120" cy="88920"/>
                <a:chOff x="3377880" y="4133520"/>
                <a:chExt cx="114120" cy="8892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339084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>
                  <a:off x="337788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0" name=""/>
              <p:cNvGrpSpPr/>
              <p:nvPr/>
            </p:nvGrpSpPr>
            <p:grpSpPr>
              <a:xfrm>
                <a:off x="3377880" y="4501800"/>
                <a:ext cx="114120" cy="88920"/>
                <a:chOff x="3377880" y="4501800"/>
                <a:chExt cx="114120" cy="88920"/>
              </a:xfrm>
            </p:grpSpPr>
            <p:sp>
              <p:nvSpPr>
                <p:cNvPr id="1981" name=""/>
                <p:cNvSpPr/>
                <p:nvPr/>
              </p:nvSpPr>
              <p:spPr>
                <a:xfrm>
                  <a:off x="339084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 flipH="1">
                  <a:off x="337788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3" name=""/>
            <p:cNvGrpSpPr/>
            <p:nvPr/>
          </p:nvGrpSpPr>
          <p:grpSpPr>
            <a:xfrm>
              <a:off x="3644640" y="3244680"/>
              <a:ext cx="306360" cy="2108160"/>
              <a:chOff x="3644640" y="3244680"/>
              <a:chExt cx="306360" cy="2108160"/>
            </a:xfrm>
          </p:grpSpPr>
          <p:sp>
            <p:nvSpPr>
              <p:cNvPr id="1984" name=""/>
              <p:cNvSpPr/>
              <p:nvPr/>
            </p:nvSpPr>
            <p:spPr>
              <a:xfrm>
                <a:off x="3670560" y="4692240"/>
                <a:ext cx="26604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3644640" y="4285800"/>
                <a:ext cx="291960" cy="952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3659040" y="4336920"/>
                <a:ext cx="291960" cy="90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3659040" y="4692240"/>
                <a:ext cx="29196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3790800" y="3244680"/>
                <a:ext cx="0" cy="1562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790800" y="52383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3733560" y="3396960"/>
                <a:ext cx="114120" cy="88920"/>
                <a:chOff x="3733560" y="3396960"/>
                <a:chExt cx="114120" cy="8892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3746520" y="33969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 flipH="1">
                  <a:off x="3733560" y="33969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3" name=""/>
              <p:cNvGrpSpPr/>
              <p:nvPr/>
            </p:nvGrpSpPr>
            <p:grpSpPr>
              <a:xfrm>
                <a:off x="3733560" y="3765240"/>
                <a:ext cx="114120" cy="88920"/>
                <a:chOff x="3733560" y="3765240"/>
                <a:chExt cx="114120" cy="88920"/>
              </a:xfrm>
            </p:grpSpPr>
            <p:sp>
              <p:nvSpPr>
                <p:cNvPr id="1994" name=""/>
                <p:cNvSpPr/>
                <p:nvPr/>
              </p:nvSpPr>
              <p:spPr>
                <a:xfrm>
                  <a:off x="3746520" y="37652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 flipH="1">
                  <a:off x="3733560" y="37652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6" name=""/>
              <p:cNvGrpSpPr/>
              <p:nvPr/>
            </p:nvGrpSpPr>
            <p:grpSpPr>
              <a:xfrm>
                <a:off x="3733560" y="4133520"/>
                <a:ext cx="114120" cy="88920"/>
                <a:chOff x="3733560" y="4133520"/>
                <a:chExt cx="114120" cy="88920"/>
              </a:xfrm>
            </p:grpSpPr>
            <p:sp>
              <p:nvSpPr>
                <p:cNvPr id="1997" name=""/>
                <p:cNvSpPr/>
                <p:nvPr/>
              </p:nvSpPr>
              <p:spPr>
                <a:xfrm>
                  <a:off x="3746520" y="4133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 flipH="1">
                  <a:off x="3733560" y="4133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3733560" y="4501800"/>
                <a:ext cx="114120" cy="88920"/>
                <a:chOff x="3733560" y="4501800"/>
                <a:chExt cx="114120" cy="889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3746520" y="450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 flipH="1">
                  <a:off x="3733560" y="450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02" name=""/>
          <p:cNvSpPr/>
          <p:nvPr/>
        </p:nvSpPr>
        <p:spPr>
          <a:xfrm>
            <a:off x="5365800" y="2679840"/>
            <a:ext cx="299700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ation for implemen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 B  +  A' 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C D'  +  C'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3" name=""/>
          <p:cNvGrpSpPr/>
          <p:nvPr/>
        </p:nvGrpSpPr>
        <p:grpSpPr>
          <a:xfrm>
            <a:off x="1244160" y="2190600"/>
            <a:ext cx="114120" cy="88560"/>
            <a:chOff x="1244160" y="2190600"/>
            <a:chExt cx="114120" cy="88560"/>
          </a:xfrm>
        </p:grpSpPr>
        <p:sp>
          <p:nvSpPr>
            <p:cNvPr id="2004" name=""/>
            <p:cNvSpPr/>
            <p:nvPr/>
          </p:nvSpPr>
          <p:spPr>
            <a:xfrm>
              <a:off x="1257120" y="2190600"/>
              <a:ext cx="889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>
              <a:off x="1244160" y="2190600"/>
              <a:ext cx="114120" cy="8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559560" y="4273560"/>
            <a:ext cx="1092240" cy="2266920"/>
            <a:chOff x="6559560" y="4273560"/>
            <a:chExt cx="1092240" cy="2266920"/>
          </a:xfrm>
        </p:grpSpPr>
        <p:grpSp>
          <p:nvGrpSpPr>
            <p:cNvPr id="2007" name=""/>
            <p:cNvGrpSpPr/>
            <p:nvPr/>
          </p:nvGrpSpPr>
          <p:grpSpPr>
            <a:xfrm>
              <a:off x="6997320" y="4273560"/>
              <a:ext cx="114120" cy="88920"/>
              <a:chOff x="6997320" y="4273560"/>
              <a:chExt cx="114120" cy="88920"/>
            </a:xfrm>
          </p:grpSpPr>
          <p:sp>
            <p:nvSpPr>
              <p:cNvPr id="2008" name=""/>
              <p:cNvSpPr/>
              <p:nvPr/>
            </p:nvSpPr>
            <p:spPr>
              <a:xfrm>
                <a:off x="701028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>
                <a:off x="699732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6997320" y="4641840"/>
              <a:ext cx="114120" cy="88920"/>
              <a:chOff x="6997320" y="4641840"/>
              <a:chExt cx="114120" cy="88920"/>
            </a:xfrm>
          </p:grpSpPr>
          <p:sp>
            <p:nvSpPr>
              <p:cNvPr id="2011" name=""/>
              <p:cNvSpPr/>
              <p:nvPr/>
            </p:nvSpPr>
            <p:spPr>
              <a:xfrm>
                <a:off x="70102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9973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3" name=""/>
            <p:cNvSpPr/>
            <p:nvPr/>
          </p:nvSpPr>
          <p:spPr>
            <a:xfrm>
              <a:off x="6559560" y="6210360"/>
              <a:ext cx="1092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+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6877080" y="5010120"/>
            <a:ext cx="1117440" cy="1720800"/>
            <a:chOff x="6877080" y="5010120"/>
            <a:chExt cx="1117440" cy="1720800"/>
          </a:xfrm>
        </p:grpSpPr>
        <p:grpSp>
          <p:nvGrpSpPr>
            <p:cNvPr id="2015" name=""/>
            <p:cNvGrpSpPr/>
            <p:nvPr/>
          </p:nvGrpSpPr>
          <p:grpSpPr>
            <a:xfrm>
              <a:off x="7365600" y="5010120"/>
              <a:ext cx="114120" cy="88920"/>
              <a:chOff x="7365600" y="5010120"/>
              <a:chExt cx="114120" cy="88920"/>
            </a:xfrm>
          </p:grpSpPr>
          <p:sp>
            <p:nvSpPr>
              <p:cNvPr id="2016" name=""/>
              <p:cNvSpPr/>
              <p:nvPr/>
            </p:nvSpPr>
            <p:spPr>
              <a:xfrm>
                <a:off x="737856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736560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8" name=""/>
            <p:cNvGrpSpPr/>
            <p:nvPr/>
          </p:nvGrpSpPr>
          <p:grpSpPr>
            <a:xfrm>
              <a:off x="7365600" y="5378400"/>
              <a:ext cx="114120" cy="88920"/>
              <a:chOff x="7365600" y="5378400"/>
              <a:chExt cx="114120" cy="88920"/>
            </a:xfrm>
          </p:grpSpPr>
          <p:sp>
            <p:nvSpPr>
              <p:cNvPr id="2019" name=""/>
              <p:cNvSpPr/>
              <p:nvPr/>
            </p:nvSpPr>
            <p:spPr>
              <a:xfrm>
                <a:off x="737856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73656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1" name=""/>
            <p:cNvSpPr/>
            <p:nvPr/>
          </p:nvSpPr>
          <p:spPr>
            <a:xfrm>
              <a:off x="6877080" y="6400800"/>
              <a:ext cx="1117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+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5028840" y="4178160"/>
            <a:ext cx="3994560" cy="330480"/>
            <a:chOff x="5028840" y="4178160"/>
            <a:chExt cx="3994560" cy="330480"/>
          </a:xfrm>
        </p:grpSpPr>
        <p:grpSp>
          <p:nvGrpSpPr>
            <p:cNvPr id="2023" name=""/>
            <p:cNvGrpSpPr/>
            <p:nvPr/>
          </p:nvGrpSpPr>
          <p:grpSpPr>
            <a:xfrm>
              <a:off x="5321160" y="4273560"/>
              <a:ext cx="114480" cy="88920"/>
              <a:chOff x="5321160" y="4273560"/>
              <a:chExt cx="114480" cy="88920"/>
            </a:xfrm>
          </p:grpSpPr>
          <p:sp>
            <p:nvSpPr>
              <p:cNvPr id="2024" name=""/>
              <p:cNvSpPr/>
              <p:nvPr/>
            </p:nvSpPr>
            <p:spPr>
              <a:xfrm>
                <a:off x="5334120" y="427356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H="1">
                <a:off x="5321160" y="42735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5028840" y="4273560"/>
              <a:ext cx="114120" cy="88920"/>
              <a:chOff x="5028840" y="4273560"/>
              <a:chExt cx="114120" cy="88920"/>
            </a:xfrm>
          </p:grpSpPr>
          <p:sp>
            <p:nvSpPr>
              <p:cNvPr id="2027" name=""/>
              <p:cNvSpPr/>
              <p:nvPr/>
            </p:nvSpPr>
            <p:spPr>
              <a:xfrm>
                <a:off x="5041800" y="4273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028840" y="4273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9" name=""/>
            <p:cNvSpPr/>
            <p:nvPr/>
          </p:nvSpPr>
          <p:spPr>
            <a:xfrm>
              <a:off x="8350200" y="4178160"/>
              <a:ext cx="6732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5155920" y="4533840"/>
            <a:ext cx="3943800" cy="330120"/>
            <a:chOff x="5155920" y="4533840"/>
            <a:chExt cx="3943800" cy="330120"/>
          </a:xfrm>
        </p:grpSpPr>
        <p:grpSp>
          <p:nvGrpSpPr>
            <p:cNvPr id="2031" name=""/>
            <p:cNvGrpSpPr/>
            <p:nvPr/>
          </p:nvGrpSpPr>
          <p:grpSpPr>
            <a:xfrm>
              <a:off x="5448240" y="4641840"/>
              <a:ext cx="114480" cy="88920"/>
              <a:chOff x="5448240" y="4641840"/>
              <a:chExt cx="114480" cy="88920"/>
            </a:xfrm>
          </p:grpSpPr>
          <p:sp>
            <p:nvSpPr>
              <p:cNvPr id="2032" name=""/>
              <p:cNvSpPr/>
              <p:nvPr/>
            </p:nvSpPr>
            <p:spPr>
              <a:xfrm>
                <a:off x="546084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>
                <a:off x="5448240" y="46418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155920" y="4641840"/>
              <a:ext cx="114120" cy="88920"/>
              <a:chOff x="5155920" y="4641840"/>
              <a:chExt cx="114120" cy="88920"/>
            </a:xfrm>
          </p:grpSpPr>
          <p:sp>
            <p:nvSpPr>
              <p:cNvPr id="2035" name=""/>
              <p:cNvSpPr/>
              <p:nvPr/>
            </p:nvSpPr>
            <p:spPr>
              <a:xfrm>
                <a:off x="5168880" y="46418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>
                <a:off x="5155920" y="46418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>
              <a:off x="8362800" y="453384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8" name=""/>
          <p:cNvGrpSpPr/>
          <p:nvPr/>
        </p:nvGrpSpPr>
        <p:grpSpPr>
          <a:xfrm>
            <a:off x="5613120" y="4915080"/>
            <a:ext cx="3486600" cy="330120"/>
            <a:chOff x="5613120" y="4915080"/>
            <a:chExt cx="3486600" cy="330120"/>
          </a:xfrm>
        </p:grpSpPr>
        <p:grpSp>
          <p:nvGrpSpPr>
            <p:cNvPr id="2039" name=""/>
            <p:cNvGrpSpPr/>
            <p:nvPr/>
          </p:nvGrpSpPr>
          <p:grpSpPr>
            <a:xfrm>
              <a:off x="6032160" y="5010120"/>
              <a:ext cx="114120" cy="88920"/>
              <a:chOff x="6032160" y="5010120"/>
              <a:chExt cx="114120" cy="88920"/>
            </a:xfrm>
          </p:grpSpPr>
          <p:sp>
            <p:nvSpPr>
              <p:cNvPr id="2040" name=""/>
              <p:cNvSpPr/>
              <p:nvPr/>
            </p:nvSpPr>
            <p:spPr>
              <a:xfrm>
                <a:off x="604512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>
                <a:off x="603216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2" name=""/>
            <p:cNvGrpSpPr/>
            <p:nvPr/>
          </p:nvGrpSpPr>
          <p:grpSpPr>
            <a:xfrm>
              <a:off x="5613120" y="5010120"/>
              <a:ext cx="114120" cy="88920"/>
              <a:chOff x="5613120" y="5010120"/>
              <a:chExt cx="114120" cy="88920"/>
            </a:xfrm>
          </p:grpSpPr>
          <p:sp>
            <p:nvSpPr>
              <p:cNvPr id="2043" name=""/>
              <p:cNvSpPr/>
              <p:nvPr/>
            </p:nvSpPr>
            <p:spPr>
              <a:xfrm>
                <a:off x="5626080" y="50101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>
                <a:off x="5613120" y="50101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5" name=""/>
            <p:cNvSpPr/>
            <p:nvPr/>
          </p:nvSpPr>
          <p:spPr>
            <a:xfrm>
              <a:off x="8362800" y="4915080"/>
              <a:ext cx="736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D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740200" y="5283360"/>
            <a:ext cx="3384720" cy="330120"/>
            <a:chOff x="5740200" y="5283360"/>
            <a:chExt cx="3384720" cy="330120"/>
          </a:xfrm>
        </p:grpSpPr>
        <p:grpSp>
          <p:nvGrpSpPr>
            <p:cNvPr id="2047" name=""/>
            <p:cNvGrpSpPr/>
            <p:nvPr/>
          </p:nvGrpSpPr>
          <p:grpSpPr>
            <a:xfrm>
              <a:off x="5905440" y="5378400"/>
              <a:ext cx="114480" cy="88920"/>
              <a:chOff x="5905440" y="5378400"/>
              <a:chExt cx="114480" cy="88920"/>
            </a:xfrm>
          </p:grpSpPr>
          <p:sp>
            <p:nvSpPr>
              <p:cNvPr id="2048" name=""/>
              <p:cNvSpPr/>
              <p:nvPr/>
            </p:nvSpPr>
            <p:spPr>
              <a:xfrm>
                <a:off x="5918040" y="5378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>
                <a:off x="5905440" y="53784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40200" y="5378400"/>
              <a:ext cx="114120" cy="88920"/>
              <a:chOff x="5740200" y="5378400"/>
              <a:chExt cx="114120" cy="8892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53160" y="537840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>
                <a:off x="5740200" y="5378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3" name=""/>
            <p:cNvSpPr/>
            <p:nvPr/>
          </p:nvSpPr>
          <p:spPr>
            <a:xfrm>
              <a:off x="8388360" y="528336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'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4" name=""/>
          <p:cNvGrpSpPr/>
          <p:nvPr/>
        </p:nvGrpSpPr>
        <p:grpSpPr>
          <a:xfrm>
            <a:off x="4952880" y="3645000"/>
            <a:ext cx="3454560" cy="2584440"/>
            <a:chOff x="4952880" y="3645000"/>
            <a:chExt cx="3454560" cy="2584440"/>
          </a:xfrm>
        </p:grpSpPr>
        <p:sp>
          <p:nvSpPr>
            <p:cNvPr id="2055" name=""/>
            <p:cNvSpPr/>
            <p:nvPr/>
          </p:nvSpPr>
          <p:spPr>
            <a:xfrm flipH="1">
              <a:off x="601992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90544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H="1">
              <a:off x="589248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7068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02604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08976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596268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2640" y="41655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2640" y="4470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flipV="1">
              <a:off x="6356520" y="4159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521760" y="41799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515280" y="41734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21400" y="4165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514920" y="415980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952880" y="431820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807240" y="43182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62640" y="45338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62640" y="48387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356520" y="45277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521760" y="45482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515280" y="45417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521400" y="45342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514920" y="45277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952880" y="468648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07240" y="468648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362640" y="4902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62640" y="5207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6356520" y="4896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521760" y="4916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515280" y="4910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21400" y="4902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4920" y="4896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952880" y="505476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807240" y="5054760"/>
              <a:ext cx="157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362640" y="5270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62640" y="55753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356520" y="5264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521760" y="52848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515280" y="5278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521400" y="52707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514920" y="52642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952880" y="5423040"/>
              <a:ext cx="138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807240" y="5423040"/>
              <a:ext cx="1600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H="1">
              <a:off x="572760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13480" y="40194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H="1">
              <a:off x="5600880" y="401328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5778360" y="4133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73408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79744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567072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543564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532116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flipH="1">
              <a:off x="530820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48640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44212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0548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5378400" y="412128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>
              <a:off x="5143680" y="40194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029200" y="40194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5016240" y="4013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194440" y="4133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149800" y="3892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213520" y="4197240"/>
              <a:ext cx="0" cy="147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086440" y="4121280"/>
              <a:ext cx="0" cy="15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3432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90876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92316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92316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5492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05492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7302600" y="5568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7277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291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291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423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423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65828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633080" y="5162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47120" y="5213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647120" y="5568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7888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7888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013960" y="5568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988040" y="5162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002440" y="5213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002440" y="5568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134200" y="4121280"/>
              <a:ext cx="0" cy="156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134200" y="61149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03568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5340240" y="364500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619600" y="36450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5911920" y="36450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ternate representation for high fan-in struc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-hand notation so we don't have to draw all the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es a connection is present and perpendicular signal is an input to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3E58-CFDB-4811-BACE-7D57D648F18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9" name=""/>
          <p:cNvGrpSpPr/>
          <p:nvPr/>
        </p:nvGrpSpPr>
        <p:grpSpPr>
          <a:xfrm>
            <a:off x="1069920" y="4475160"/>
            <a:ext cx="2508480" cy="2070000"/>
            <a:chOff x="1069920" y="4475160"/>
            <a:chExt cx="2508480" cy="2070000"/>
          </a:xfrm>
        </p:grpSpPr>
        <p:sp>
          <p:nvSpPr>
            <p:cNvPr id="2150" name=""/>
            <p:cNvSpPr/>
            <p:nvPr/>
          </p:nvSpPr>
          <p:spPr>
            <a:xfrm>
              <a:off x="1076400" y="4475160"/>
              <a:ext cx="2502000" cy="20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65160"/>
                  <a:tab algn="l" pos="1257480"/>
                  <a:tab algn="l" pos="1536840"/>
                  <a:tab algn="l" pos="1828800"/>
                  <a:tab algn="l" pos="21081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069920" y="4703760"/>
              <a:ext cx="242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711440" y="4532040"/>
              <a:ext cx="0" cy="193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3" name=""/>
          <p:cNvGrpSpPr/>
          <p:nvPr/>
        </p:nvGrpSpPr>
        <p:grpSpPr>
          <a:xfrm>
            <a:off x="4371840" y="2278080"/>
            <a:ext cx="4248000" cy="4495680"/>
            <a:chOff x="4371840" y="2278080"/>
            <a:chExt cx="4248000" cy="4495680"/>
          </a:xfrm>
        </p:grpSpPr>
        <p:sp>
          <p:nvSpPr>
            <p:cNvPr id="2154" name=""/>
            <p:cNvSpPr/>
            <p:nvPr/>
          </p:nvSpPr>
          <p:spPr>
            <a:xfrm>
              <a:off x="7921440" y="2697120"/>
              <a:ext cx="698400" cy="30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'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'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489280" y="2798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489280" y="3103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5483160" y="279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648400" y="2813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641920" y="2806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648040" y="2798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641560" y="2792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371840" y="295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933880" y="295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489280" y="31669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489280" y="347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5483160" y="316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648400" y="3181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641920" y="3174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648040" y="3166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641560" y="3160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371840" y="331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933880" y="331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489280" y="3535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489280" y="3840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V="1">
              <a:off x="5483160" y="352872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648400" y="35496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641920" y="35431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648040" y="35355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641560" y="3529440"/>
              <a:ext cx="291960" cy="31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71840" y="36878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933880" y="36878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489280" y="39034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489280" y="42084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V="1">
              <a:off x="5483160" y="38973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48400" y="39178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641920" y="39114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648040" y="3903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641560" y="38973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71840" y="40561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933880" y="40561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5184000" y="2652480"/>
              <a:ext cx="140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07024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5728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19084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5456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12748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489240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78280" y="26524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476496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89888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6224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835160" y="2741400"/>
              <a:ext cx="0" cy="304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3" name=""/>
            <p:cNvGrpSpPr/>
            <p:nvPr/>
          </p:nvGrpSpPr>
          <p:grpSpPr>
            <a:xfrm>
              <a:off x="4905000" y="2906640"/>
              <a:ext cx="114480" cy="88920"/>
              <a:chOff x="4905000" y="2906640"/>
              <a:chExt cx="114480" cy="88920"/>
            </a:xfrm>
          </p:grpSpPr>
          <p:sp>
            <p:nvSpPr>
              <p:cNvPr id="2204" name=""/>
              <p:cNvSpPr/>
              <p:nvPr/>
            </p:nvSpPr>
            <p:spPr>
              <a:xfrm>
                <a:off x="49179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>
                <a:off x="4905000" y="29066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6" name=""/>
            <p:cNvSpPr/>
            <p:nvPr/>
          </p:nvSpPr>
          <p:spPr>
            <a:xfrm flipH="1">
              <a:off x="4600440" y="26524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485960" y="26524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4473000" y="26463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606560" y="2525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670280" y="2792160"/>
              <a:ext cx="0" cy="299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4543200" y="275436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4612680" y="2906640"/>
              <a:ext cx="114120" cy="88920"/>
              <a:chOff x="4612680" y="2906640"/>
              <a:chExt cx="114120" cy="88920"/>
            </a:xfrm>
          </p:grpSpPr>
          <p:sp>
            <p:nvSpPr>
              <p:cNvPr id="2213" name=""/>
              <p:cNvSpPr/>
              <p:nvPr/>
            </p:nvSpPr>
            <p:spPr>
              <a:xfrm>
                <a:off x="462564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>
                <a:off x="461268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>
              <a:off x="606096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3576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4980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4980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8156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8156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6124320" y="5484600"/>
              <a:ext cx="114480" cy="88920"/>
              <a:chOff x="6124320" y="5484600"/>
              <a:chExt cx="114480" cy="88920"/>
            </a:xfrm>
          </p:grpSpPr>
          <p:sp>
            <p:nvSpPr>
              <p:cNvPr id="2222" name=""/>
              <p:cNvSpPr/>
              <p:nvPr/>
            </p:nvSpPr>
            <p:spPr>
              <a:xfrm>
                <a:off x="613692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H="1">
                <a:off x="612432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4" name=""/>
            <p:cNvSpPr/>
            <p:nvPr/>
          </p:nvSpPr>
          <p:spPr>
            <a:xfrm>
              <a:off x="6429240" y="564984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03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418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418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549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549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0" name=""/>
            <p:cNvGrpSpPr/>
            <p:nvPr/>
          </p:nvGrpSpPr>
          <p:grpSpPr>
            <a:xfrm>
              <a:off x="6492600" y="5116320"/>
              <a:ext cx="114480" cy="88920"/>
              <a:chOff x="6492600" y="5116320"/>
              <a:chExt cx="114480" cy="88920"/>
            </a:xfrm>
          </p:grpSpPr>
          <p:sp>
            <p:nvSpPr>
              <p:cNvPr id="2231" name=""/>
              <p:cNvSpPr/>
              <p:nvPr/>
            </p:nvSpPr>
            <p:spPr>
              <a:xfrm>
                <a:off x="650520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>
                <a:off x="649260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6492600" y="5484600"/>
              <a:ext cx="114480" cy="88920"/>
              <a:chOff x="6492600" y="5484600"/>
              <a:chExt cx="114480" cy="88920"/>
            </a:xfrm>
          </p:grpSpPr>
          <p:sp>
            <p:nvSpPr>
              <p:cNvPr id="2234" name=""/>
              <p:cNvSpPr/>
              <p:nvPr/>
            </p:nvSpPr>
            <p:spPr>
              <a:xfrm>
                <a:off x="650520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flipH="1">
                <a:off x="649260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6" name=""/>
            <p:cNvSpPr/>
            <p:nvPr/>
          </p:nvSpPr>
          <p:spPr>
            <a:xfrm>
              <a:off x="678492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6759720" y="524340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6773760" y="5294520"/>
              <a:ext cx="2912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773760" y="564984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9055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9055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14060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11468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12908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12908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084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6084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492440" y="227808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97360" y="2278080"/>
              <a:ext cx="545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063760" y="22780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508880" y="564984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482960" y="524340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97360" y="529452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97360" y="564984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629120" y="2754360"/>
              <a:ext cx="0" cy="300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629120" y="6195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89280" y="42717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89280" y="4576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V="1">
              <a:off x="5483160" y="4265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648400" y="42861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641920" y="42796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648040" y="42721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641560" y="42656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371840" y="44244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933880" y="44244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489280" y="46400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489280" y="4944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V="1">
              <a:off x="5483160" y="4633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648400" y="46544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641920" y="46479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48040" y="4640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641560" y="4633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371840" y="47926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933880" y="47926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489280" y="50083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489280" y="53132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5483160" y="5002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648400" y="5022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641920" y="50162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648040" y="5008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641560" y="50022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371840" y="51609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933880" y="51609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489280" y="53766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489280" y="56815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V="1">
              <a:off x="5483160" y="5370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48400" y="53910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41920" y="53845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48040" y="5376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41560" y="5370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371840" y="55292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33880" y="55292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3" name=""/>
            <p:cNvGrpSpPr/>
            <p:nvPr/>
          </p:nvGrpSpPr>
          <p:grpSpPr>
            <a:xfrm>
              <a:off x="5196960" y="2906640"/>
              <a:ext cx="114120" cy="88920"/>
              <a:chOff x="5196960" y="2906640"/>
              <a:chExt cx="114120" cy="88920"/>
            </a:xfrm>
          </p:grpSpPr>
          <p:sp>
            <p:nvSpPr>
              <p:cNvPr id="2294" name=""/>
              <p:cNvSpPr/>
              <p:nvPr/>
            </p:nvSpPr>
            <p:spPr>
              <a:xfrm>
                <a:off x="520992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flipH="1">
                <a:off x="519696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6" name=""/>
            <p:cNvGrpSpPr/>
            <p:nvPr/>
          </p:nvGrpSpPr>
          <p:grpSpPr>
            <a:xfrm>
              <a:off x="7571880" y="3274920"/>
              <a:ext cx="114120" cy="88920"/>
              <a:chOff x="7571880" y="3274920"/>
              <a:chExt cx="114120" cy="88920"/>
            </a:xfrm>
          </p:grpSpPr>
          <p:sp>
            <p:nvSpPr>
              <p:cNvPr id="2297" name=""/>
              <p:cNvSpPr/>
              <p:nvPr/>
            </p:nvSpPr>
            <p:spPr>
              <a:xfrm>
                <a:off x="7584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571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9" name=""/>
            <p:cNvGrpSpPr/>
            <p:nvPr/>
          </p:nvGrpSpPr>
          <p:grpSpPr>
            <a:xfrm>
              <a:off x="6492600" y="4748040"/>
              <a:ext cx="114480" cy="88920"/>
              <a:chOff x="6492600" y="4748040"/>
              <a:chExt cx="114480" cy="88920"/>
            </a:xfrm>
          </p:grpSpPr>
          <p:sp>
            <p:nvSpPr>
              <p:cNvPr id="2300" name=""/>
              <p:cNvSpPr/>
              <p:nvPr/>
            </p:nvSpPr>
            <p:spPr>
              <a:xfrm>
                <a:off x="650520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>
                <a:off x="64926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2" name=""/>
            <p:cNvGrpSpPr/>
            <p:nvPr/>
          </p:nvGrpSpPr>
          <p:grpSpPr>
            <a:xfrm>
              <a:off x="6847920" y="2906640"/>
              <a:ext cx="114120" cy="88920"/>
              <a:chOff x="6847920" y="2906640"/>
              <a:chExt cx="114120" cy="88920"/>
            </a:xfrm>
          </p:grpSpPr>
          <p:sp>
            <p:nvSpPr>
              <p:cNvPr id="2303" name=""/>
              <p:cNvSpPr/>
              <p:nvPr/>
            </p:nvSpPr>
            <p:spPr>
              <a:xfrm>
                <a:off x="686088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>
                <a:off x="684792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>
              <a:off x="523548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4316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651200" y="276696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8" name=""/>
            <p:cNvGrpSpPr/>
            <p:nvPr/>
          </p:nvGrpSpPr>
          <p:grpSpPr>
            <a:xfrm>
              <a:off x="4905000" y="3274920"/>
              <a:ext cx="114480" cy="88920"/>
              <a:chOff x="4905000" y="3274920"/>
              <a:chExt cx="114480" cy="88920"/>
            </a:xfrm>
          </p:grpSpPr>
          <p:sp>
            <p:nvSpPr>
              <p:cNvPr id="2309" name=""/>
              <p:cNvSpPr/>
              <p:nvPr/>
            </p:nvSpPr>
            <p:spPr>
              <a:xfrm>
                <a:off x="49179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>
                <a:off x="49050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4612680" y="3274920"/>
              <a:ext cx="114120" cy="88920"/>
              <a:chOff x="4612680" y="3274920"/>
              <a:chExt cx="114120" cy="88920"/>
            </a:xfrm>
          </p:grpSpPr>
          <p:sp>
            <p:nvSpPr>
              <p:cNvPr id="2312" name=""/>
              <p:cNvSpPr/>
              <p:nvPr/>
            </p:nvSpPr>
            <p:spPr>
              <a:xfrm>
                <a:off x="46256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>
                <a:off x="46126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5069880" y="3274920"/>
              <a:ext cx="114120" cy="88920"/>
              <a:chOff x="5069880" y="3274920"/>
              <a:chExt cx="114120" cy="88920"/>
            </a:xfrm>
          </p:grpSpPr>
          <p:sp>
            <p:nvSpPr>
              <p:cNvPr id="2315" name=""/>
              <p:cNvSpPr/>
              <p:nvPr/>
            </p:nvSpPr>
            <p:spPr>
              <a:xfrm>
                <a:off x="508284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>
                <a:off x="506988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7" name=""/>
            <p:cNvGrpSpPr/>
            <p:nvPr/>
          </p:nvGrpSpPr>
          <p:grpSpPr>
            <a:xfrm>
              <a:off x="4777920" y="3643200"/>
              <a:ext cx="114120" cy="88920"/>
              <a:chOff x="4777920" y="3643200"/>
              <a:chExt cx="114120" cy="88920"/>
            </a:xfrm>
          </p:grpSpPr>
          <p:sp>
            <p:nvSpPr>
              <p:cNvPr id="2318" name=""/>
              <p:cNvSpPr/>
              <p:nvPr/>
            </p:nvSpPr>
            <p:spPr>
              <a:xfrm>
                <a:off x="479088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>
                <a:off x="477792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612680" y="3643200"/>
              <a:ext cx="114120" cy="88920"/>
              <a:chOff x="4612680" y="3643200"/>
              <a:chExt cx="114120" cy="8892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256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flipH="1">
                <a:off x="46126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3" name=""/>
            <p:cNvGrpSpPr/>
            <p:nvPr/>
          </p:nvGrpSpPr>
          <p:grpSpPr>
            <a:xfrm>
              <a:off x="5196960" y="3643200"/>
              <a:ext cx="114120" cy="88920"/>
              <a:chOff x="5196960" y="3643200"/>
              <a:chExt cx="114120" cy="88920"/>
            </a:xfrm>
          </p:grpSpPr>
          <p:sp>
            <p:nvSpPr>
              <p:cNvPr id="2324" name=""/>
              <p:cNvSpPr/>
              <p:nvPr/>
            </p:nvSpPr>
            <p:spPr>
              <a:xfrm>
                <a:off x="520992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H="1">
                <a:off x="519696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6" name=""/>
            <p:cNvGrpSpPr/>
            <p:nvPr/>
          </p:nvGrpSpPr>
          <p:grpSpPr>
            <a:xfrm>
              <a:off x="4777920" y="4011480"/>
              <a:ext cx="114120" cy="88920"/>
              <a:chOff x="4777920" y="4011480"/>
              <a:chExt cx="114120" cy="88920"/>
            </a:xfrm>
          </p:grpSpPr>
          <p:sp>
            <p:nvSpPr>
              <p:cNvPr id="2327" name=""/>
              <p:cNvSpPr/>
              <p:nvPr/>
            </p:nvSpPr>
            <p:spPr>
              <a:xfrm>
                <a:off x="479088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477792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4612680" y="4011480"/>
              <a:ext cx="114120" cy="88920"/>
              <a:chOff x="4612680" y="4011480"/>
              <a:chExt cx="114120" cy="88920"/>
            </a:xfrm>
          </p:grpSpPr>
          <p:sp>
            <p:nvSpPr>
              <p:cNvPr id="2330" name=""/>
              <p:cNvSpPr/>
              <p:nvPr/>
            </p:nvSpPr>
            <p:spPr>
              <a:xfrm>
                <a:off x="46256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46126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2" name=""/>
            <p:cNvGrpSpPr/>
            <p:nvPr/>
          </p:nvGrpSpPr>
          <p:grpSpPr>
            <a:xfrm>
              <a:off x="5069880" y="4011480"/>
              <a:ext cx="114120" cy="88920"/>
              <a:chOff x="5069880" y="4011480"/>
              <a:chExt cx="114120" cy="88920"/>
            </a:xfrm>
          </p:grpSpPr>
          <p:sp>
            <p:nvSpPr>
              <p:cNvPr id="2333" name=""/>
              <p:cNvSpPr/>
              <p:nvPr/>
            </p:nvSpPr>
            <p:spPr>
              <a:xfrm>
                <a:off x="508284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>
                <a:off x="506988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5" name=""/>
            <p:cNvGrpSpPr/>
            <p:nvPr/>
          </p:nvGrpSpPr>
          <p:grpSpPr>
            <a:xfrm>
              <a:off x="4905000" y="4379760"/>
              <a:ext cx="114480" cy="88920"/>
              <a:chOff x="4905000" y="4379760"/>
              <a:chExt cx="114480" cy="88920"/>
            </a:xfrm>
          </p:grpSpPr>
          <p:sp>
            <p:nvSpPr>
              <p:cNvPr id="2336" name=""/>
              <p:cNvSpPr/>
              <p:nvPr/>
            </p:nvSpPr>
            <p:spPr>
              <a:xfrm>
                <a:off x="49179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>
                <a:off x="49050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8" name=""/>
            <p:cNvGrpSpPr/>
            <p:nvPr/>
          </p:nvGrpSpPr>
          <p:grpSpPr>
            <a:xfrm>
              <a:off x="5196960" y="4379760"/>
              <a:ext cx="114120" cy="88920"/>
              <a:chOff x="5196960" y="4379760"/>
              <a:chExt cx="114120" cy="889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20992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>
                <a:off x="519696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4905000" y="4748040"/>
              <a:ext cx="114480" cy="88920"/>
              <a:chOff x="4905000" y="4748040"/>
              <a:chExt cx="114480" cy="88920"/>
            </a:xfrm>
          </p:grpSpPr>
          <p:sp>
            <p:nvSpPr>
              <p:cNvPr id="2342" name=""/>
              <p:cNvSpPr/>
              <p:nvPr/>
            </p:nvSpPr>
            <p:spPr>
              <a:xfrm>
                <a:off x="49179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>
                <a:off x="490500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4" name=""/>
            <p:cNvGrpSpPr/>
            <p:nvPr/>
          </p:nvGrpSpPr>
          <p:grpSpPr>
            <a:xfrm>
              <a:off x="5069880" y="4748040"/>
              <a:ext cx="114120" cy="88920"/>
              <a:chOff x="5069880" y="4748040"/>
              <a:chExt cx="114120" cy="88920"/>
            </a:xfrm>
          </p:grpSpPr>
          <p:sp>
            <p:nvSpPr>
              <p:cNvPr id="2345" name=""/>
              <p:cNvSpPr/>
              <p:nvPr/>
            </p:nvSpPr>
            <p:spPr>
              <a:xfrm>
                <a:off x="508284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506988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7" name=""/>
            <p:cNvGrpSpPr/>
            <p:nvPr/>
          </p:nvGrpSpPr>
          <p:grpSpPr>
            <a:xfrm>
              <a:off x="4777920" y="5116320"/>
              <a:ext cx="114120" cy="88920"/>
              <a:chOff x="4777920" y="5116320"/>
              <a:chExt cx="114120" cy="88920"/>
            </a:xfrm>
          </p:grpSpPr>
          <p:sp>
            <p:nvSpPr>
              <p:cNvPr id="2348" name=""/>
              <p:cNvSpPr/>
              <p:nvPr/>
            </p:nvSpPr>
            <p:spPr>
              <a:xfrm>
                <a:off x="479088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477792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0" name=""/>
            <p:cNvGrpSpPr/>
            <p:nvPr/>
          </p:nvGrpSpPr>
          <p:grpSpPr>
            <a:xfrm>
              <a:off x="5196960" y="5116320"/>
              <a:ext cx="114120" cy="88920"/>
              <a:chOff x="5196960" y="5116320"/>
              <a:chExt cx="114120" cy="88920"/>
            </a:xfrm>
          </p:grpSpPr>
          <p:sp>
            <p:nvSpPr>
              <p:cNvPr id="2351" name=""/>
              <p:cNvSpPr/>
              <p:nvPr/>
            </p:nvSpPr>
            <p:spPr>
              <a:xfrm>
                <a:off x="520992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H="1">
                <a:off x="519696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3" name=""/>
            <p:cNvGrpSpPr/>
            <p:nvPr/>
          </p:nvGrpSpPr>
          <p:grpSpPr>
            <a:xfrm>
              <a:off x="4777920" y="5484600"/>
              <a:ext cx="114120" cy="88920"/>
              <a:chOff x="4777920" y="5484600"/>
              <a:chExt cx="114120" cy="88920"/>
            </a:xfrm>
          </p:grpSpPr>
          <p:sp>
            <p:nvSpPr>
              <p:cNvPr id="2354" name=""/>
              <p:cNvSpPr/>
              <p:nvPr/>
            </p:nvSpPr>
            <p:spPr>
              <a:xfrm>
                <a:off x="479088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flipH="1">
                <a:off x="477792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6" name=""/>
            <p:cNvGrpSpPr/>
            <p:nvPr/>
          </p:nvGrpSpPr>
          <p:grpSpPr>
            <a:xfrm>
              <a:off x="5069880" y="5484600"/>
              <a:ext cx="114120" cy="88920"/>
              <a:chOff x="5069880" y="5484600"/>
              <a:chExt cx="114120" cy="88920"/>
            </a:xfrm>
          </p:grpSpPr>
          <p:sp>
            <p:nvSpPr>
              <p:cNvPr id="2357" name=""/>
              <p:cNvSpPr/>
              <p:nvPr/>
            </p:nvSpPr>
            <p:spPr>
              <a:xfrm>
                <a:off x="5082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flipH="1">
                <a:off x="5069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9" name=""/>
            <p:cNvGrpSpPr/>
            <p:nvPr/>
          </p:nvGrpSpPr>
          <p:grpSpPr>
            <a:xfrm>
              <a:off x="4485960" y="4379760"/>
              <a:ext cx="114480" cy="88920"/>
              <a:chOff x="4485960" y="4379760"/>
              <a:chExt cx="114480" cy="88920"/>
            </a:xfrm>
          </p:grpSpPr>
          <p:sp>
            <p:nvSpPr>
              <p:cNvPr id="2360" name=""/>
              <p:cNvSpPr/>
              <p:nvPr/>
            </p:nvSpPr>
            <p:spPr>
              <a:xfrm>
                <a:off x="4498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H="1">
                <a:off x="448596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2" name=""/>
            <p:cNvGrpSpPr/>
            <p:nvPr/>
          </p:nvGrpSpPr>
          <p:grpSpPr>
            <a:xfrm>
              <a:off x="4485960" y="4748040"/>
              <a:ext cx="114480" cy="88920"/>
              <a:chOff x="4485960" y="4748040"/>
              <a:chExt cx="114480" cy="88920"/>
            </a:xfrm>
          </p:grpSpPr>
          <p:sp>
            <p:nvSpPr>
              <p:cNvPr id="2363" name=""/>
              <p:cNvSpPr/>
              <p:nvPr/>
            </p:nvSpPr>
            <p:spPr>
              <a:xfrm>
                <a:off x="4498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flipH="1">
                <a:off x="4485960" y="474804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5" name=""/>
            <p:cNvGrpSpPr/>
            <p:nvPr/>
          </p:nvGrpSpPr>
          <p:grpSpPr>
            <a:xfrm>
              <a:off x="4485960" y="5116320"/>
              <a:ext cx="114480" cy="88920"/>
              <a:chOff x="4485960" y="5116320"/>
              <a:chExt cx="114480" cy="88920"/>
            </a:xfrm>
          </p:grpSpPr>
          <p:sp>
            <p:nvSpPr>
              <p:cNvPr id="2366" name=""/>
              <p:cNvSpPr/>
              <p:nvPr/>
            </p:nvSpPr>
            <p:spPr>
              <a:xfrm>
                <a:off x="4498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H="1">
                <a:off x="4485960" y="51163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4485960" y="5484600"/>
              <a:ext cx="114480" cy="88920"/>
              <a:chOff x="4485960" y="5484600"/>
              <a:chExt cx="114480" cy="88920"/>
            </a:xfrm>
          </p:grpSpPr>
          <p:sp>
            <p:nvSpPr>
              <p:cNvPr id="2369" name=""/>
              <p:cNvSpPr/>
              <p:nvPr/>
            </p:nvSpPr>
            <p:spPr>
              <a:xfrm>
                <a:off x="449856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flipH="1">
                <a:off x="4485960" y="54846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1" name=""/>
            <p:cNvGrpSpPr/>
            <p:nvPr/>
          </p:nvGrpSpPr>
          <p:grpSpPr>
            <a:xfrm>
              <a:off x="6492600" y="4024080"/>
              <a:ext cx="114480" cy="88560"/>
              <a:chOff x="6492600" y="4024080"/>
              <a:chExt cx="114480" cy="88560"/>
            </a:xfrm>
          </p:grpSpPr>
          <p:sp>
            <p:nvSpPr>
              <p:cNvPr id="2372" name=""/>
              <p:cNvSpPr/>
              <p:nvPr/>
            </p:nvSpPr>
            <p:spPr>
              <a:xfrm>
                <a:off x="6505200" y="4024080"/>
                <a:ext cx="8892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 flipH="1">
                <a:off x="6492600" y="4024080"/>
                <a:ext cx="11448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4" name=""/>
            <p:cNvGrpSpPr/>
            <p:nvPr/>
          </p:nvGrpSpPr>
          <p:grpSpPr>
            <a:xfrm>
              <a:off x="6492600" y="4379760"/>
              <a:ext cx="114480" cy="88920"/>
              <a:chOff x="6492600" y="4379760"/>
              <a:chExt cx="114480" cy="88920"/>
            </a:xfrm>
          </p:grpSpPr>
          <p:sp>
            <p:nvSpPr>
              <p:cNvPr id="2375" name=""/>
              <p:cNvSpPr/>
              <p:nvPr/>
            </p:nvSpPr>
            <p:spPr>
              <a:xfrm>
                <a:off x="650520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flipH="1">
                <a:off x="6492600" y="437976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7" name=""/>
            <p:cNvGrpSpPr/>
            <p:nvPr/>
          </p:nvGrpSpPr>
          <p:grpSpPr>
            <a:xfrm>
              <a:off x="6492600" y="3643200"/>
              <a:ext cx="114480" cy="88920"/>
              <a:chOff x="6492600" y="3643200"/>
              <a:chExt cx="114480" cy="88920"/>
            </a:xfrm>
          </p:grpSpPr>
          <p:sp>
            <p:nvSpPr>
              <p:cNvPr id="2378" name=""/>
              <p:cNvSpPr/>
              <p:nvPr/>
            </p:nvSpPr>
            <p:spPr>
              <a:xfrm>
                <a:off x="650520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flipH="1">
                <a:off x="6492600" y="364320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0" name=""/>
            <p:cNvGrpSpPr/>
            <p:nvPr/>
          </p:nvGrpSpPr>
          <p:grpSpPr>
            <a:xfrm>
              <a:off x="7203600" y="4748040"/>
              <a:ext cx="114120" cy="88920"/>
              <a:chOff x="7203600" y="4748040"/>
              <a:chExt cx="114120" cy="88920"/>
            </a:xfrm>
          </p:grpSpPr>
          <p:sp>
            <p:nvSpPr>
              <p:cNvPr id="2381" name=""/>
              <p:cNvSpPr/>
              <p:nvPr/>
            </p:nvSpPr>
            <p:spPr>
              <a:xfrm>
                <a:off x="7216560" y="47480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flipH="1">
                <a:off x="7203600" y="47480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3" name=""/>
            <p:cNvGrpSpPr/>
            <p:nvPr/>
          </p:nvGrpSpPr>
          <p:grpSpPr>
            <a:xfrm>
              <a:off x="7203600" y="5116320"/>
              <a:ext cx="114120" cy="88920"/>
              <a:chOff x="7203600" y="5116320"/>
              <a:chExt cx="114120" cy="88920"/>
            </a:xfrm>
          </p:grpSpPr>
          <p:sp>
            <p:nvSpPr>
              <p:cNvPr id="2384" name=""/>
              <p:cNvSpPr/>
              <p:nvPr/>
            </p:nvSpPr>
            <p:spPr>
              <a:xfrm>
                <a:off x="7216560" y="5116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flipH="1">
                <a:off x="7203600" y="5116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6" name=""/>
            <p:cNvGrpSpPr/>
            <p:nvPr/>
          </p:nvGrpSpPr>
          <p:grpSpPr>
            <a:xfrm>
              <a:off x="7203600" y="4379760"/>
              <a:ext cx="114120" cy="88920"/>
              <a:chOff x="7203600" y="4379760"/>
              <a:chExt cx="114120" cy="88920"/>
            </a:xfrm>
          </p:grpSpPr>
          <p:sp>
            <p:nvSpPr>
              <p:cNvPr id="2387" name=""/>
              <p:cNvSpPr/>
              <p:nvPr/>
            </p:nvSpPr>
            <p:spPr>
              <a:xfrm>
                <a:off x="721656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flipH="1">
                <a:off x="720360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9" name=""/>
            <p:cNvGrpSpPr/>
            <p:nvPr/>
          </p:nvGrpSpPr>
          <p:grpSpPr>
            <a:xfrm>
              <a:off x="7203600" y="3643200"/>
              <a:ext cx="114120" cy="88920"/>
              <a:chOff x="7203600" y="3643200"/>
              <a:chExt cx="114120" cy="88920"/>
            </a:xfrm>
          </p:grpSpPr>
          <p:sp>
            <p:nvSpPr>
              <p:cNvPr id="2390" name=""/>
              <p:cNvSpPr/>
              <p:nvPr/>
            </p:nvSpPr>
            <p:spPr>
              <a:xfrm>
                <a:off x="721656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flipH="1">
                <a:off x="720360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2" name=""/>
            <p:cNvGrpSpPr/>
            <p:nvPr/>
          </p:nvGrpSpPr>
          <p:grpSpPr>
            <a:xfrm>
              <a:off x="7203600" y="4011480"/>
              <a:ext cx="114120" cy="88920"/>
              <a:chOff x="7203600" y="4011480"/>
              <a:chExt cx="114120" cy="88920"/>
            </a:xfrm>
          </p:grpSpPr>
          <p:sp>
            <p:nvSpPr>
              <p:cNvPr id="2393" name=""/>
              <p:cNvSpPr/>
              <p:nvPr/>
            </p:nvSpPr>
            <p:spPr>
              <a:xfrm>
                <a:off x="7216560" y="40114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flipH="1">
                <a:off x="7203600" y="40114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5" name=""/>
            <p:cNvGrpSpPr/>
            <p:nvPr/>
          </p:nvGrpSpPr>
          <p:grpSpPr>
            <a:xfrm>
              <a:off x="7203600" y="3274920"/>
              <a:ext cx="114120" cy="88920"/>
              <a:chOff x="7203600" y="3274920"/>
              <a:chExt cx="114120" cy="88920"/>
            </a:xfrm>
          </p:grpSpPr>
          <p:sp>
            <p:nvSpPr>
              <p:cNvPr id="2396" name=""/>
              <p:cNvSpPr/>
              <p:nvPr/>
            </p:nvSpPr>
            <p:spPr>
              <a:xfrm>
                <a:off x="721656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H="1">
                <a:off x="7203600" y="3274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8" name=""/>
            <p:cNvGrpSpPr/>
            <p:nvPr/>
          </p:nvGrpSpPr>
          <p:grpSpPr>
            <a:xfrm>
              <a:off x="6492600" y="3274920"/>
              <a:ext cx="114480" cy="88920"/>
              <a:chOff x="6492600" y="3274920"/>
              <a:chExt cx="114480" cy="88920"/>
            </a:xfrm>
          </p:grpSpPr>
          <p:sp>
            <p:nvSpPr>
              <p:cNvPr id="2399" name=""/>
              <p:cNvSpPr/>
              <p:nvPr/>
            </p:nvSpPr>
            <p:spPr>
              <a:xfrm>
                <a:off x="6505200" y="3274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>
                <a:off x="6492600" y="3274920"/>
                <a:ext cx="11448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1" name=""/>
            <p:cNvGrpSpPr/>
            <p:nvPr/>
          </p:nvGrpSpPr>
          <p:grpSpPr>
            <a:xfrm>
              <a:off x="7203600" y="2906640"/>
              <a:ext cx="114120" cy="88920"/>
              <a:chOff x="7203600" y="2906640"/>
              <a:chExt cx="114120" cy="88920"/>
            </a:xfrm>
          </p:grpSpPr>
          <p:sp>
            <p:nvSpPr>
              <p:cNvPr id="2402" name=""/>
              <p:cNvSpPr/>
              <p:nvPr/>
            </p:nvSpPr>
            <p:spPr>
              <a:xfrm>
                <a:off x="7216560" y="290664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>
                <a:off x="7203600" y="290664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4" name=""/>
            <p:cNvGrpSpPr/>
            <p:nvPr/>
          </p:nvGrpSpPr>
          <p:grpSpPr>
            <a:xfrm>
              <a:off x="7571880" y="3643200"/>
              <a:ext cx="114120" cy="88920"/>
              <a:chOff x="7571880" y="3643200"/>
              <a:chExt cx="114120" cy="88920"/>
            </a:xfrm>
          </p:grpSpPr>
          <p:sp>
            <p:nvSpPr>
              <p:cNvPr id="2405" name=""/>
              <p:cNvSpPr/>
              <p:nvPr/>
            </p:nvSpPr>
            <p:spPr>
              <a:xfrm>
                <a:off x="7584840" y="36432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>
                <a:off x="7571880" y="36432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7" name=""/>
            <p:cNvGrpSpPr/>
            <p:nvPr/>
          </p:nvGrpSpPr>
          <p:grpSpPr>
            <a:xfrm>
              <a:off x="7571880" y="4379760"/>
              <a:ext cx="114120" cy="88920"/>
              <a:chOff x="7571880" y="4379760"/>
              <a:chExt cx="114120" cy="88920"/>
            </a:xfrm>
          </p:grpSpPr>
          <p:sp>
            <p:nvSpPr>
              <p:cNvPr id="2408" name=""/>
              <p:cNvSpPr/>
              <p:nvPr/>
            </p:nvSpPr>
            <p:spPr>
              <a:xfrm>
                <a:off x="7584840" y="4379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>
                <a:off x="7571880" y="4379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7571880" y="5484600"/>
              <a:ext cx="114120" cy="88920"/>
              <a:chOff x="7571880" y="5484600"/>
              <a:chExt cx="114120" cy="88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7584840" y="54846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>
                <a:off x="7571880" y="54846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3" name=""/>
            <p:cNvSpPr/>
            <p:nvPr/>
          </p:nvSpPr>
          <p:spPr>
            <a:xfrm>
              <a:off x="60418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637200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674028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09596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464240" y="627840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464240" y="64436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4410000" y="2563920"/>
            <a:ext cx="1587600" cy="317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5705640" y="2042640"/>
            <a:ext cx="59688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753160" y="1749600"/>
            <a:ext cx="3098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ll decoder as for memory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V="1">
            <a:off x="6784920" y="2385720"/>
            <a:ext cx="19044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689880" y="2125800"/>
            <a:ext cx="213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ts stored in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grammable logic array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functions of A, B,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1 = A B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2 = A + B +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3 = A' B'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4 = A' + B' + C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5 = A xor B x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6 = A xnor B xn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B9E1-0B3C-455B-9F4C-435BA23E0E1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"/>
          <p:cNvSpPr/>
          <p:nvPr/>
        </p:nvSpPr>
        <p:spPr>
          <a:xfrm>
            <a:off x="2013120" y="5025960"/>
            <a:ext cx="3314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given column of the OR arra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s access to only a subset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possible product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7" name=""/>
          <p:cNvGrpSpPr/>
          <p:nvPr/>
        </p:nvGrpSpPr>
        <p:grpSpPr>
          <a:xfrm>
            <a:off x="5607000" y="2844720"/>
            <a:ext cx="3314880" cy="3784680"/>
            <a:chOff x="5607000" y="2844720"/>
            <a:chExt cx="3314880" cy="3784680"/>
          </a:xfrm>
        </p:grpSpPr>
        <p:sp>
          <p:nvSpPr>
            <p:cNvPr id="2428" name=""/>
            <p:cNvSpPr/>
            <p:nvPr/>
          </p:nvSpPr>
          <p:spPr>
            <a:xfrm>
              <a:off x="6953400" y="31179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953400" y="34225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V="1">
              <a:off x="6946920" y="31114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112520" y="31320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106040" y="31258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112160" y="31179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105680" y="31114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070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98000" y="32702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953400" y="34862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6953400" y="3790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V="1">
              <a:off x="6946920" y="3479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112520" y="35002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106040" y="34941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112160" y="3486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105680" y="34797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5607000" y="36385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98000" y="36385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953400" y="38545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953400" y="4159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6946920" y="3848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112520" y="38685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106040" y="38624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112160" y="3854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05680" y="38480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607000" y="40068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98000" y="4006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953400" y="422280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953400" y="4527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6946920" y="4216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112520" y="42368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106040" y="42307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112160" y="4222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105680" y="42163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607000" y="4375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398000" y="437508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664848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53436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652104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65496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71832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59124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635652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242040" y="297180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 flipH="1">
              <a:off x="622908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36264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42636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299280" y="306072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606420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95008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5937480" y="296532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07068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3404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00732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752508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749916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51356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751356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764532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64532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89336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7868160" y="5562360"/>
              <a:ext cx="29124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788184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88184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8013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8013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8249040" y="596880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822312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3752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823752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836928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36928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8604360" y="596880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8578800" y="556236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8593200" y="561348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8593200" y="596880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8724960" y="307332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8724960" y="65149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6953400" y="4591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953400" y="4895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6946920" y="4584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7112520" y="4605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7106040" y="4599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7112160" y="4591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7105680" y="45846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607000" y="47433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7398000" y="474336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953400" y="4959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953400" y="5264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V="1">
              <a:off x="6946920" y="4952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112520" y="49737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7106040" y="4967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112160" y="495900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105680" y="4952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607000" y="5111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7398000" y="511164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953400" y="5327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953400" y="5632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6946920" y="5321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112520" y="5342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106040" y="5335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112160" y="532728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105680" y="53211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07000" y="54799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398000" y="5479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953400" y="5695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953400" y="60008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6946920" y="5689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112520" y="57103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106040" y="57038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7112160" y="5695560"/>
              <a:ext cx="27900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105680" y="568944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607000" y="5848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398000" y="58482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669924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640728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6114960" y="3085920"/>
              <a:ext cx="5112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5784840" y="297180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670720" y="297180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5657400" y="296532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791320" y="2844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854680" y="311148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727960" y="307332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835600" y="308592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2" name=""/>
            <p:cNvGrpSpPr/>
            <p:nvPr/>
          </p:nvGrpSpPr>
          <p:grpSpPr>
            <a:xfrm>
              <a:off x="5670360" y="3225600"/>
              <a:ext cx="1105200" cy="88920"/>
              <a:chOff x="5670360" y="3225600"/>
              <a:chExt cx="1105200" cy="88920"/>
            </a:xfrm>
          </p:grpSpPr>
          <p:grpSp>
            <p:nvGrpSpPr>
              <p:cNvPr id="2553" name=""/>
              <p:cNvGrpSpPr/>
              <p:nvPr/>
            </p:nvGrpSpPr>
            <p:grpSpPr>
              <a:xfrm>
                <a:off x="6369120" y="3225600"/>
                <a:ext cx="114480" cy="88920"/>
                <a:chOff x="6369120" y="3225600"/>
                <a:chExt cx="114480" cy="88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817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636912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076800" y="3225600"/>
                <a:ext cx="114120" cy="88920"/>
                <a:chOff x="6076800" y="3225600"/>
                <a:chExt cx="114120" cy="88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0897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60768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6661080" y="3225600"/>
                <a:ext cx="114480" cy="88920"/>
                <a:chOff x="6661080" y="3225600"/>
                <a:chExt cx="114480" cy="88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667404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666108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6242040" y="3225600"/>
                <a:ext cx="114480" cy="88920"/>
                <a:chOff x="6242040" y="3225600"/>
                <a:chExt cx="114480" cy="8892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6255000" y="32256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6242040" y="32256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5949720" y="3225600"/>
                <a:ext cx="114120" cy="88920"/>
                <a:chOff x="5949720" y="3225600"/>
                <a:chExt cx="114120" cy="8892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596268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594972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6534000" y="3225600"/>
                <a:ext cx="114120" cy="88920"/>
                <a:chOff x="6534000" y="3225600"/>
                <a:chExt cx="114120" cy="889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54696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653400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5797440" y="3225600"/>
                <a:ext cx="114120" cy="88920"/>
                <a:chOff x="5797440" y="3225600"/>
                <a:chExt cx="114120" cy="8892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581040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579744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5670360" y="3225600"/>
                <a:ext cx="114120" cy="88920"/>
                <a:chOff x="5670360" y="3225600"/>
                <a:chExt cx="114120" cy="8892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5683320" y="3225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5670360" y="3225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7" name=""/>
            <p:cNvGrpSpPr/>
            <p:nvPr/>
          </p:nvGrpSpPr>
          <p:grpSpPr>
            <a:xfrm>
              <a:off x="5670360" y="3593880"/>
              <a:ext cx="1105200" cy="88920"/>
              <a:chOff x="5670360" y="3593880"/>
              <a:chExt cx="1105200" cy="88920"/>
            </a:xfrm>
          </p:grpSpPr>
          <p:grpSp>
            <p:nvGrpSpPr>
              <p:cNvPr id="2578" name=""/>
              <p:cNvGrpSpPr/>
              <p:nvPr/>
            </p:nvGrpSpPr>
            <p:grpSpPr>
              <a:xfrm>
                <a:off x="6369120" y="3593880"/>
                <a:ext cx="114480" cy="88920"/>
                <a:chOff x="6369120" y="3593880"/>
                <a:chExt cx="114480" cy="8892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3817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636912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"/>
              <p:cNvGrpSpPr/>
              <p:nvPr/>
            </p:nvGrpSpPr>
            <p:grpSpPr>
              <a:xfrm>
                <a:off x="6076800" y="3593880"/>
                <a:ext cx="114120" cy="88920"/>
                <a:chOff x="6076800" y="3593880"/>
                <a:chExt cx="114120" cy="88920"/>
              </a:xfrm>
            </p:grpSpPr>
            <p:sp>
              <p:nvSpPr>
                <p:cNvPr id="2582" name=""/>
                <p:cNvSpPr/>
                <p:nvPr/>
              </p:nvSpPr>
              <p:spPr>
                <a:xfrm>
                  <a:off x="60897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60768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"/>
              <p:cNvGrpSpPr/>
              <p:nvPr/>
            </p:nvGrpSpPr>
            <p:grpSpPr>
              <a:xfrm>
                <a:off x="6661080" y="3593880"/>
                <a:ext cx="114480" cy="88920"/>
                <a:chOff x="6661080" y="3593880"/>
                <a:chExt cx="114480" cy="88920"/>
              </a:xfrm>
            </p:grpSpPr>
            <p:sp>
              <p:nvSpPr>
                <p:cNvPr id="2585" name=""/>
                <p:cNvSpPr/>
                <p:nvPr/>
              </p:nvSpPr>
              <p:spPr>
                <a:xfrm>
                  <a:off x="667404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666108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7" name=""/>
              <p:cNvGrpSpPr/>
              <p:nvPr/>
            </p:nvGrpSpPr>
            <p:grpSpPr>
              <a:xfrm>
                <a:off x="6242040" y="3593880"/>
                <a:ext cx="114480" cy="88920"/>
                <a:chOff x="6242040" y="3593880"/>
                <a:chExt cx="114480" cy="889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6255000" y="35938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6242040" y="35938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0" name=""/>
              <p:cNvGrpSpPr/>
              <p:nvPr/>
            </p:nvGrpSpPr>
            <p:grpSpPr>
              <a:xfrm>
                <a:off x="5949720" y="3593880"/>
                <a:ext cx="114120" cy="88920"/>
                <a:chOff x="5949720" y="3593880"/>
                <a:chExt cx="114120" cy="88920"/>
              </a:xfrm>
            </p:grpSpPr>
            <p:sp>
              <p:nvSpPr>
                <p:cNvPr id="2591" name=""/>
                <p:cNvSpPr/>
                <p:nvPr/>
              </p:nvSpPr>
              <p:spPr>
                <a:xfrm>
                  <a:off x="596268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594972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3" name=""/>
              <p:cNvGrpSpPr/>
              <p:nvPr/>
            </p:nvGrpSpPr>
            <p:grpSpPr>
              <a:xfrm>
                <a:off x="6534000" y="3593880"/>
                <a:ext cx="114120" cy="88920"/>
                <a:chOff x="6534000" y="3593880"/>
                <a:chExt cx="114120" cy="8892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54696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653400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6" name=""/>
              <p:cNvGrpSpPr/>
              <p:nvPr/>
            </p:nvGrpSpPr>
            <p:grpSpPr>
              <a:xfrm>
                <a:off x="5797440" y="3593880"/>
                <a:ext cx="114120" cy="88920"/>
                <a:chOff x="5797440" y="3593880"/>
                <a:chExt cx="114120" cy="88920"/>
              </a:xfrm>
            </p:grpSpPr>
            <p:sp>
              <p:nvSpPr>
                <p:cNvPr id="2597" name=""/>
                <p:cNvSpPr/>
                <p:nvPr/>
              </p:nvSpPr>
              <p:spPr>
                <a:xfrm>
                  <a:off x="581040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579744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5670360" y="3593880"/>
                <a:ext cx="114120" cy="88920"/>
                <a:chOff x="5670360" y="3593880"/>
                <a:chExt cx="114120" cy="88920"/>
              </a:xfrm>
            </p:grpSpPr>
            <p:sp>
              <p:nvSpPr>
                <p:cNvPr id="2600" name=""/>
                <p:cNvSpPr/>
                <p:nvPr/>
              </p:nvSpPr>
              <p:spPr>
                <a:xfrm>
                  <a:off x="5683320" y="3593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5670360" y="3593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2" name=""/>
            <p:cNvGrpSpPr/>
            <p:nvPr/>
          </p:nvGrpSpPr>
          <p:grpSpPr>
            <a:xfrm>
              <a:off x="5670360" y="3962520"/>
              <a:ext cx="1105200" cy="88560"/>
              <a:chOff x="5670360" y="3962520"/>
              <a:chExt cx="1105200" cy="88560"/>
            </a:xfrm>
          </p:grpSpPr>
          <p:grpSp>
            <p:nvGrpSpPr>
              <p:cNvPr id="2603" name=""/>
              <p:cNvGrpSpPr/>
              <p:nvPr/>
            </p:nvGrpSpPr>
            <p:grpSpPr>
              <a:xfrm>
                <a:off x="6369120" y="3962520"/>
                <a:ext cx="114480" cy="88560"/>
                <a:chOff x="6369120" y="3962520"/>
                <a:chExt cx="114480" cy="885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3817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636912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6076800" y="3962520"/>
                <a:ext cx="114120" cy="88560"/>
                <a:chOff x="6076800" y="3962520"/>
                <a:chExt cx="114120" cy="88560"/>
              </a:xfrm>
            </p:grpSpPr>
            <p:sp>
              <p:nvSpPr>
                <p:cNvPr id="2607" name=""/>
                <p:cNvSpPr/>
                <p:nvPr/>
              </p:nvSpPr>
              <p:spPr>
                <a:xfrm>
                  <a:off x="60897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 flipH="1">
                  <a:off x="60768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6661080" y="3962520"/>
                <a:ext cx="114480" cy="88560"/>
                <a:chOff x="6661080" y="3962520"/>
                <a:chExt cx="114480" cy="88560"/>
              </a:xfrm>
            </p:grpSpPr>
            <p:sp>
              <p:nvSpPr>
                <p:cNvPr id="2610" name=""/>
                <p:cNvSpPr/>
                <p:nvPr/>
              </p:nvSpPr>
              <p:spPr>
                <a:xfrm>
                  <a:off x="667404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>
                  <a:off x="666108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6242040" y="3962520"/>
                <a:ext cx="114480" cy="88560"/>
                <a:chOff x="6242040" y="3962520"/>
                <a:chExt cx="114480" cy="885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6255000" y="3962520"/>
                  <a:ext cx="8856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H="1">
                  <a:off x="6242040" y="3962520"/>
                  <a:ext cx="11448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5949720" y="3962520"/>
                <a:ext cx="114120" cy="88560"/>
                <a:chOff x="5949720" y="3962520"/>
                <a:chExt cx="114120" cy="8856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596268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H="1">
                  <a:off x="594972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6534000" y="3962520"/>
                <a:ext cx="114120" cy="88560"/>
                <a:chOff x="6534000" y="3962520"/>
                <a:chExt cx="114120" cy="885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54696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653400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1" name=""/>
              <p:cNvGrpSpPr/>
              <p:nvPr/>
            </p:nvGrpSpPr>
            <p:grpSpPr>
              <a:xfrm>
                <a:off x="5797440" y="3962520"/>
                <a:ext cx="114120" cy="88560"/>
                <a:chOff x="5797440" y="3962520"/>
                <a:chExt cx="114120" cy="88560"/>
              </a:xfrm>
            </p:grpSpPr>
            <p:sp>
              <p:nvSpPr>
                <p:cNvPr id="2622" name=""/>
                <p:cNvSpPr/>
                <p:nvPr/>
              </p:nvSpPr>
              <p:spPr>
                <a:xfrm>
                  <a:off x="581040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 flipH="1">
                  <a:off x="579744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4" name=""/>
              <p:cNvGrpSpPr/>
              <p:nvPr/>
            </p:nvGrpSpPr>
            <p:grpSpPr>
              <a:xfrm>
                <a:off x="5670360" y="3962520"/>
                <a:ext cx="114120" cy="88560"/>
                <a:chOff x="5670360" y="3962520"/>
                <a:chExt cx="114120" cy="88560"/>
              </a:xfrm>
            </p:grpSpPr>
            <p:sp>
              <p:nvSpPr>
                <p:cNvPr id="2625" name=""/>
                <p:cNvSpPr/>
                <p:nvPr/>
              </p:nvSpPr>
              <p:spPr>
                <a:xfrm>
                  <a:off x="5683320" y="3962520"/>
                  <a:ext cx="889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>
                  <a:off x="5670360" y="3962520"/>
                  <a:ext cx="114120" cy="8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7" name=""/>
            <p:cNvGrpSpPr/>
            <p:nvPr/>
          </p:nvGrpSpPr>
          <p:grpSpPr>
            <a:xfrm>
              <a:off x="5670360" y="4330800"/>
              <a:ext cx="1105200" cy="88920"/>
              <a:chOff x="5670360" y="4330800"/>
              <a:chExt cx="1105200" cy="88920"/>
            </a:xfrm>
          </p:grpSpPr>
          <p:grpSp>
            <p:nvGrpSpPr>
              <p:cNvPr id="2628" name=""/>
              <p:cNvGrpSpPr/>
              <p:nvPr/>
            </p:nvGrpSpPr>
            <p:grpSpPr>
              <a:xfrm>
                <a:off x="6369120" y="4330800"/>
                <a:ext cx="114480" cy="88920"/>
                <a:chOff x="6369120" y="4330800"/>
                <a:chExt cx="114480" cy="88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63817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636912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6076800" y="4330800"/>
                <a:ext cx="114120" cy="88920"/>
                <a:chOff x="6076800" y="4330800"/>
                <a:chExt cx="114120" cy="88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60897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 flipH="1">
                  <a:off x="60768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6661080" y="4330800"/>
                <a:ext cx="114480" cy="88920"/>
                <a:chOff x="6661080" y="4330800"/>
                <a:chExt cx="114480" cy="88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667404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 flipH="1">
                  <a:off x="666108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6242040" y="4330800"/>
                <a:ext cx="114480" cy="88920"/>
                <a:chOff x="6242040" y="4330800"/>
                <a:chExt cx="114480" cy="88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6255000" y="433080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 flipH="1">
                  <a:off x="6242040" y="433080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5949720" y="4330800"/>
                <a:ext cx="114120" cy="88920"/>
                <a:chOff x="5949720" y="4330800"/>
                <a:chExt cx="114120" cy="88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596268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 flipH="1">
                  <a:off x="594972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6534000" y="4330800"/>
                <a:ext cx="114120" cy="88920"/>
                <a:chOff x="6534000" y="4330800"/>
                <a:chExt cx="114120" cy="88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65469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 flipH="1">
                  <a:off x="65340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7440" y="4330800"/>
                <a:ext cx="114120" cy="88920"/>
                <a:chOff x="5797440" y="4330800"/>
                <a:chExt cx="114120" cy="88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1040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 flipH="1">
                  <a:off x="579744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5670360" y="4330800"/>
                <a:ext cx="114120" cy="88920"/>
                <a:chOff x="5670360" y="4330800"/>
                <a:chExt cx="114120" cy="88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568332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 flipH="1">
                  <a:off x="567036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52" name=""/>
            <p:cNvGrpSpPr/>
            <p:nvPr/>
          </p:nvGrpSpPr>
          <p:grpSpPr>
            <a:xfrm>
              <a:off x="5670360" y="4699080"/>
              <a:ext cx="1105200" cy="88920"/>
              <a:chOff x="5670360" y="4699080"/>
              <a:chExt cx="1105200" cy="88920"/>
            </a:xfrm>
          </p:grpSpPr>
          <p:grpSp>
            <p:nvGrpSpPr>
              <p:cNvPr id="2653" name=""/>
              <p:cNvGrpSpPr/>
              <p:nvPr/>
            </p:nvGrpSpPr>
            <p:grpSpPr>
              <a:xfrm>
                <a:off x="6369120" y="4699080"/>
                <a:ext cx="114480" cy="88920"/>
                <a:chOff x="6369120" y="4699080"/>
                <a:chExt cx="114480" cy="88920"/>
              </a:xfrm>
            </p:grpSpPr>
            <p:sp>
              <p:nvSpPr>
                <p:cNvPr id="2654" name=""/>
                <p:cNvSpPr/>
                <p:nvPr/>
              </p:nvSpPr>
              <p:spPr>
                <a:xfrm>
                  <a:off x="63817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 flipH="1">
                  <a:off x="636912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6" name=""/>
              <p:cNvGrpSpPr/>
              <p:nvPr/>
            </p:nvGrpSpPr>
            <p:grpSpPr>
              <a:xfrm>
                <a:off x="6076800" y="4699080"/>
                <a:ext cx="114120" cy="88920"/>
                <a:chOff x="6076800" y="4699080"/>
                <a:chExt cx="114120" cy="88920"/>
              </a:xfrm>
            </p:grpSpPr>
            <p:sp>
              <p:nvSpPr>
                <p:cNvPr id="2657" name=""/>
                <p:cNvSpPr/>
                <p:nvPr/>
              </p:nvSpPr>
              <p:spPr>
                <a:xfrm>
                  <a:off x="60897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8" name=""/>
                <p:cNvSpPr/>
                <p:nvPr/>
              </p:nvSpPr>
              <p:spPr>
                <a:xfrm flipH="1">
                  <a:off x="60768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9" name=""/>
              <p:cNvGrpSpPr/>
              <p:nvPr/>
            </p:nvGrpSpPr>
            <p:grpSpPr>
              <a:xfrm>
                <a:off x="6661080" y="4699080"/>
                <a:ext cx="114480" cy="88920"/>
                <a:chOff x="6661080" y="4699080"/>
                <a:chExt cx="114480" cy="88920"/>
              </a:xfrm>
            </p:grpSpPr>
            <p:sp>
              <p:nvSpPr>
                <p:cNvPr id="2660" name=""/>
                <p:cNvSpPr/>
                <p:nvPr/>
              </p:nvSpPr>
              <p:spPr>
                <a:xfrm>
                  <a:off x="667404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 flipH="1">
                  <a:off x="666108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2" name=""/>
              <p:cNvGrpSpPr/>
              <p:nvPr/>
            </p:nvGrpSpPr>
            <p:grpSpPr>
              <a:xfrm>
                <a:off x="6242040" y="4699080"/>
                <a:ext cx="114480" cy="88920"/>
                <a:chOff x="6242040" y="4699080"/>
                <a:chExt cx="114480" cy="88920"/>
              </a:xfrm>
            </p:grpSpPr>
            <p:sp>
              <p:nvSpPr>
                <p:cNvPr id="2663" name=""/>
                <p:cNvSpPr/>
                <p:nvPr/>
              </p:nvSpPr>
              <p:spPr>
                <a:xfrm>
                  <a:off x="6255000" y="469908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4" name=""/>
                <p:cNvSpPr/>
                <p:nvPr/>
              </p:nvSpPr>
              <p:spPr>
                <a:xfrm flipH="1">
                  <a:off x="6242040" y="469908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5" name=""/>
              <p:cNvGrpSpPr/>
              <p:nvPr/>
            </p:nvGrpSpPr>
            <p:grpSpPr>
              <a:xfrm>
                <a:off x="5949720" y="4699080"/>
                <a:ext cx="114120" cy="88920"/>
                <a:chOff x="5949720" y="4699080"/>
                <a:chExt cx="114120" cy="8892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596268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 flipH="1">
                  <a:off x="594972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8" name=""/>
              <p:cNvGrpSpPr/>
              <p:nvPr/>
            </p:nvGrpSpPr>
            <p:grpSpPr>
              <a:xfrm>
                <a:off x="6534000" y="4699080"/>
                <a:ext cx="114120" cy="88920"/>
                <a:chOff x="6534000" y="4699080"/>
                <a:chExt cx="114120" cy="88920"/>
              </a:xfrm>
            </p:grpSpPr>
            <p:sp>
              <p:nvSpPr>
                <p:cNvPr id="2669" name=""/>
                <p:cNvSpPr/>
                <p:nvPr/>
              </p:nvSpPr>
              <p:spPr>
                <a:xfrm>
                  <a:off x="654696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 flipH="1">
                  <a:off x="653400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5797440" y="4699080"/>
                <a:ext cx="114120" cy="88920"/>
                <a:chOff x="5797440" y="4699080"/>
                <a:chExt cx="114120" cy="889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581040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 flipH="1">
                  <a:off x="579744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4" name=""/>
              <p:cNvGrpSpPr/>
              <p:nvPr/>
            </p:nvGrpSpPr>
            <p:grpSpPr>
              <a:xfrm>
                <a:off x="5670360" y="4699080"/>
                <a:ext cx="114120" cy="88920"/>
                <a:chOff x="5670360" y="4699080"/>
                <a:chExt cx="114120" cy="88920"/>
              </a:xfrm>
            </p:grpSpPr>
            <p:sp>
              <p:nvSpPr>
                <p:cNvPr id="2675" name=""/>
                <p:cNvSpPr/>
                <p:nvPr/>
              </p:nvSpPr>
              <p:spPr>
                <a:xfrm>
                  <a:off x="5683320" y="46990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5670360" y="46990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7" name=""/>
            <p:cNvGrpSpPr/>
            <p:nvPr/>
          </p:nvGrpSpPr>
          <p:grpSpPr>
            <a:xfrm>
              <a:off x="5670360" y="5067360"/>
              <a:ext cx="1105200" cy="88920"/>
              <a:chOff x="5670360" y="5067360"/>
              <a:chExt cx="1105200" cy="889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6369120" y="5067360"/>
                <a:ext cx="114480" cy="88920"/>
                <a:chOff x="6369120" y="5067360"/>
                <a:chExt cx="114480" cy="889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63817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 flipH="1">
                  <a:off x="636912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6076800" y="5067360"/>
                <a:ext cx="114120" cy="88920"/>
                <a:chOff x="6076800" y="5067360"/>
                <a:chExt cx="114120" cy="88920"/>
              </a:xfrm>
            </p:grpSpPr>
            <p:sp>
              <p:nvSpPr>
                <p:cNvPr id="2682" name=""/>
                <p:cNvSpPr/>
                <p:nvPr/>
              </p:nvSpPr>
              <p:spPr>
                <a:xfrm>
                  <a:off x="60897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H="1">
                  <a:off x="60768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6661080" y="5067360"/>
                <a:ext cx="114480" cy="88920"/>
                <a:chOff x="6661080" y="5067360"/>
                <a:chExt cx="114480" cy="88920"/>
              </a:xfrm>
            </p:grpSpPr>
            <p:sp>
              <p:nvSpPr>
                <p:cNvPr id="2685" name=""/>
                <p:cNvSpPr/>
                <p:nvPr/>
              </p:nvSpPr>
              <p:spPr>
                <a:xfrm>
                  <a:off x="667404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6" name=""/>
                <p:cNvSpPr/>
                <p:nvPr/>
              </p:nvSpPr>
              <p:spPr>
                <a:xfrm flipH="1">
                  <a:off x="666108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6242040" y="5067360"/>
                <a:ext cx="114480" cy="88920"/>
                <a:chOff x="6242040" y="5067360"/>
                <a:chExt cx="114480" cy="88920"/>
              </a:xfrm>
            </p:grpSpPr>
            <p:sp>
              <p:nvSpPr>
                <p:cNvPr id="2688" name=""/>
                <p:cNvSpPr/>
                <p:nvPr/>
              </p:nvSpPr>
              <p:spPr>
                <a:xfrm>
                  <a:off x="6255000" y="506736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 flipH="1">
                  <a:off x="6242040" y="506736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5949720" y="5067360"/>
                <a:ext cx="114120" cy="88920"/>
                <a:chOff x="5949720" y="5067360"/>
                <a:chExt cx="114120" cy="88920"/>
              </a:xfrm>
            </p:grpSpPr>
            <p:sp>
              <p:nvSpPr>
                <p:cNvPr id="2691" name=""/>
                <p:cNvSpPr/>
                <p:nvPr/>
              </p:nvSpPr>
              <p:spPr>
                <a:xfrm>
                  <a:off x="596268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2" name=""/>
                <p:cNvSpPr/>
                <p:nvPr/>
              </p:nvSpPr>
              <p:spPr>
                <a:xfrm flipH="1">
                  <a:off x="594972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6534000" y="5067360"/>
                <a:ext cx="114120" cy="88920"/>
                <a:chOff x="6534000" y="5067360"/>
                <a:chExt cx="114120" cy="88920"/>
              </a:xfrm>
            </p:grpSpPr>
            <p:sp>
              <p:nvSpPr>
                <p:cNvPr id="2694" name=""/>
                <p:cNvSpPr/>
                <p:nvPr/>
              </p:nvSpPr>
              <p:spPr>
                <a:xfrm>
                  <a:off x="654696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 flipH="1">
                  <a:off x="653400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797440" y="5067360"/>
                <a:ext cx="114120" cy="88920"/>
                <a:chOff x="5797440" y="5067360"/>
                <a:chExt cx="114120" cy="88920"/>
              </a:xfrm>
            </p:grpSpPr>
            <p:sp>
              <p:nvSpPr>
                <p:cNvPr id="2697" name=""/>
                <p:cNvSpPr/>
                <p:nvPr/>
              </p:nvSpPr>
              <p:spPr>
                <a:xfrm>
                  <a:off x="581040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8" name=""/>
                <p:cNvSpPr/>
                <p:nvPr/>
              </p:nvSpPr>
              <p:spPr>
                <a:xfrm flipH="1">
                  <a:off x="579744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5670360" y="5067360"/>
                <a:ext cx="114120" cy="88920"/>
                <a:chOff x="5670360" y="5067360"/>
                <a:chExt cx="114120" cy="88920"/>
              </a:xfrm>
            </p:grpSpPr>
            <p:sp>
              <p:nvSpPr>
                <p:cNvPr id="2700" name=""/>
                <p:cNvSpPr/>
                <p:nvPr/>
              </p:nvSpPr>
              <p:spPr>
                <a:xfrm>
                  <a:off x="5683320" y="5067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5670360" y="5067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2" name=""/>
            <p:cNvGrpSpPr/>
            <p:nvPr/>
          </p:nvGrpSpPr>
          <p:grpSpPr>
            <a:xfrm>
              <a:off x="5670360" y="5435640"/>
              <a:ext cx="1105200" cy="88920"/>
              <a:chOff x="5670360" y="5435640"/>
              <a:chExt cx="1105200" cy="88920"/>
            </a:xfrm>
          </p:grpSpPr>
          <p:grpSp>
            <p:nvGrpSpPr>
              <p:cNvPr id="2703" name=""/>
              <p:cNvGrpSpPr/>
              <p:nvPr/>
            </p:nvGrpSpPr>
            <p:grpSpPr>
              <a:xfrm>
                <a:off x="6369120" y="5435640"/>
                <a:ext cx="114480" cy="88920"/>
                <a:chOff x="6369120" y="5435640"/>
                <a:chExt cx="114480" cy="8892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63817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636912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6076800" y="5435640"/>
                <a:ext cx="114120" cy="88920"/>
                <a:chOff x="6076800" y="5435640"/>
                <a:chExt cx="114120" cy="88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60897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>
                  <a:off x="60768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6661080" y="5435640"/>
                <a:ext cx="114480" cy="88920"/>
                <a:chOff x="6661080" y="5435640"/>
                <a:chExt cx="114480" cy="88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667404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666108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6242040" y="5435640"/>
                <a:ext cx="114480" cy="88920"/>
                <a:chOff x="6242040" y="5435640"/>
                <a:chExt cx="114480" cy="88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6255000" y="543564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H="1">
                  <a:off x="6242040" y="543564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5949720" y="5435640"/>
                <a:ext cx="114120" cy="88920"/>
                <a:chOff x="5949720" y="5435640"/>
                <a:chExt cx="114120" cy="88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596268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H="1">
                  <a:off x="594972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6534000" y="5435640"/>
                <a:ext cx="114120" cy="88920"/>
                <a:chOff x="6534000" y="5435640"/>
                <a:chExt cx="114120" cy="88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654696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 flipH="1">
                  <a:off x="653400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5797440" y="5435640"/>
                <a:ext cx="114120" cy="88920"/>
                <a:chOff x="5797440" y="5435640"/>
                <a:chExt cx="114120" cy="88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581040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>
                  <a:off x="579744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5670360" y="5435640"/>
                <a:ext cx="114120" cy="88920"/>
                <a:chOff x="5670360" y="5435640"/>
                <a:chExt cx="114120" cy="88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5683320" y="54356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5670360" y="54356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7" name=""/>
            <p:cNvGrpSpPr/>
            <p:nvPr/>
          </p:nvGrpSpPr>
          <p:grpSpPr>
            <a:xfrm>
              <a:off x="5670360" y="5803920"/>
              <a:ext cx="1105200" cy="88920"/>
              <a:chOff x="5670360" y="5803920"/>
              <a:chExt cx="1105200" cy="88920"/>
            </a:xfrm>
          </p:grpSpPr>
          <p:grpSp>
            <p:nvGrpSpPr>
              <p:cNvPr id="2728" name=""/>
              <p:cNvGrpSpPr/>
              <p:nvPr/>
            </p:nvGrpSpPr>
            <p:grpSpPr>
              <a:xfrm>
                <a:off x="6369120" y="5803920"/>
                <a:ext cx="114480" cy="88920"/>
                <a:chOff x="6369120" y="5803920"/>
                <a:chExt cx="114480" cy="88920"/>
              </a:xfrm>
            </p:grpSpPr>
            <p:sp>
              <p:nvSpPr>
                <p:cNvPr id="2729" name=""/>
                <p:cNvSpPr/>
                <p:nvPr/>
              </p:nvSpPr>
              <p:spPr>
                <a:xfrm>
                  <a:off x="63817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636912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1" name=""/>
              <p:cNvGrpSpPr/>
              <p:nvPr/>
            </p:nvGrpSpPr>
            <p:grpSpPr>
              <a:xfrm>
                <a:off x="6076800" y="5803920"/>
                <a:ext cx="114120" cy="88920"/>
                <a:chOff x="6076800" y="5803920"/>
                <a:chExt cx="114120" cy="88920"/>
              </a:xfrm>
            </p:grpSpPr>
            <p:sp>
              <p:nvSpPr>
                <p:cNvPr id="2732" name=""/>
                <p:cNvSpPr/>
                <p:nvPr/>
              </p:nvSpPr>
              <p:spPr>
                <a:xfrm>
                  <a:off x="60897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60768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4" name=""/>
              <p:cNvGrpSpPr/>
              <p:nvPr/>
            </p:nvGrpSpPr>
            <p:grpSpPr>
              <a:xfrm>
                <a:off x="6661080" y="5803920"/>
                <a:ext cx="114480" cy="88920"/>
                <a:chOff x="6661080" y="5803920"/>
                <a:chExt cx="114480" cy="88920"/>
              </a:xfrm>
            </p:grpSpPr>
            <p:sp>
              <p:nvSpPr>
                <p:cNvPr id="2735" name=""/>
                <p:cNvSpPr/>
                <p:nvPr/>
              </p:nvSpPr>
              <p:spPr>
                <a:xfrm>
                  <a:off x="667404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H="1">
                  <a:off x="666108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"/>
              <p:cNvGrpSpPr/>
              <p:nvPr/>
            </p:nvGrpSpPr>
            <p:grpSpPr>
              <a:xfrm>
                <a:off x="6242040" y="5803920"/>
                <a:ext cx="114480" cy="88920"/>
                <a:chOff x="6242040" y="5803920"/>
                <a:chExt cx="114480" cy="88920"/>
              </a:xfrm>
            </p:grpSpPr>
            <p:sp>
              <p:nvSpPr>
                <p:cNvPr id="2738" name=""/>
                <p:cNvSpPr/>
                <p:nvPr/>
              </p:nvSpPr>
              <p:spPr>
                <a:xfrm>
                  <a:off x="6255000" y="5803920"/>
                  <a:ext cx="8856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>
                  <a:off x="6242040" y="5803920"/>
                  <a:ext cx="11448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0" name=""/>
              <p:cNvGrpSpPr/>
              <p:nvPr/>
            </p:nvGrpSpPr>
            <p:grpSpPr>
              <a:xfrm>
                <a:off x="5949720" y="5803920"/>
                <a:ext cx="114120" cy="88920"/>
                <a:chOff x="5949720" y="5803920"/>
                <a:chExt cx="114120" cy="8892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96268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H="1">
                  <a:off x="594972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3" name=""/>
              <p:cNvGrpSpPr/>
              <p:nvPr/>
            </p:nvGrpSpPr>
            <p:grpSpPr>
              <a:xfrm>
                <a:off x="6534000" y="5803920"/>
                <a:ext cx="114120" cy="88920"/>
                <a:chOff x="6534000" y="5803920"/>
                <a:chExt cx="114120" cy="88920"/>
              </a:xfrm>
            </p:grpSpPr>
            <p:sp>
              <p:nvSpPr>
                <p:cNvPr id="2744" name=""/>
                <p:cNvSpPr/>
                <p:nvPr/>
              </p:nvSpPr>
              <p:spPr>
                <a:xfrm>
                  <a:off x="654696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>
                  <a:off x="653400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5797440" y="5803920"/>
                <a:ext cx="114120" cy="88920"/>
                <a:chOff x="5797440" y="5803920"/>
                <a:chExt cx="114120" cy="88920"/>
              </a:xfrm>
            </p:grpSpPr>
            <p:sp>
              <p:nvSpPr>
                <p:cNvPr id="2747" name=""/>
                <p:cNvSpPr/>
                <p:nvPr/>
              </p:nvSpPr>
              <p:spPr>
                <a:xfrm>
                  <a:off x="581040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H="1">
                  <a:off x="579744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"/>
              <p:cNvGrpSpPr/>
              <p:nvPr/>
            </p:nvGrpSpPr>
            <p:grpSpPr>
              <a:xfrm>
                <a:off x="5670360" y="5803920"/>
                <a:ext cx="114120" cy="88920"/>
                <a:chOff x="5670360" y="5803920"/>
                <a:chExt cx="114120" cy="88920"/>
              </a:xfrm>
            </p:grpSpPr>
            <p:sp>
              <p:nvSpPr>
                <p:cNvPr id="2750" name=""/>
                <p:cNvSpPr/>
                <p:nvPr/>
              </p:nvSpPr>
              <p:spPr>
                <a:xfrm>
                  <a:off x="5683320" y="5803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>
                  <a:off x="5670360" y="5803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2" name=""/>
            <p:cNvSpPr/>
            <p:nvPr/>
          </p:nvSpPr>
          <p:spPr>
            <a:xfrm>
              <a:off x="7588440" y="32130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7588440" y="35812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7956720" y="394956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7956720" y="43178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312400" y="468612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312400" y="50544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680680" y="5422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680680" y="5791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nstrained fully-general AND and OR 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topology of the OR ar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vation by Monolithic Mem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and smaller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BD5F-691E-4B96-8245-DE43A40E111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"/>
          <p:cNvSpPr/>
          <p:nvPr/>
        </p:nvSpPr>
        <p:spPr>
          <a:xfrm>
            <a:off x="5086440" y="3073320"/>
            <a:ext cx="311148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3" name=""/>
          <p:cNvGrpSpPr/>
          <p:nvPr/>
        </p:nvGrpSpPr>
        <p:grpSpPr>
          <a:xfrm>
            <a:off x="679320" y="2158920"/>
            <a:ext cx="3714840" cy="3187800"/>
            <a:chOff x="679320" y="2158920"/>
            <a:chExt cx="3714840" cy="3187800"/>
          </a:xfrm>
        </p:grpSpPr>
        <p:sp>
          <p:nvSpPr>
            <p:cNvPr id="2764" name=""/>
            <p:cNvSpPr/>
            <p:nvPr/>
          </p:nvSpPr>
          <p:spPr>
            <a:xfrm>
              <a:off x="736560" y="2158920"/>
              <a:ext cx="3657600" cy="31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463840" y="2190600"/>
              <a:ext cx="0" cy="288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79320" y="241308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D to Gray code conver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32C-58E3-48F7-AD75-E70DD490F4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"/>
          <p:cNvSpPr/>
          <p:nvPr/>
        </p:nvSpPr>
        <p:spPr>
          <a:xfrm>
            <a:off x="5289480" y="3498840"/>
            <a:ext cx="32641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 a particularly go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didate for PAL/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mplementation since no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e shared among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wever, much more comp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regular implementa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ompared with discre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and OR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0" name=""/>
          <p:cNvGrpSpPr/>
          <p:nvPr/>
        </p:nvGrpSpPr>
        <p:grpSpPr>
          <a:xfrm>
            <a:off x="771480" y="1944720"/>
            <a:ext cx="3297240" cy="4454280"/>
            <a:chOff x="771480" y="1944720"/>
            <a:chExt cx="3297240" cy="4454280"/>
          </a:xfrm>
        </p:grpSpPr>
        <p:sp>
          <p:nvSpPr>
            <p:cNvPr id="2771" name=""/>
            <p:cNvSpPr/>
            <p:nvPr/>
          </p:nvSpPr>
          <p:spPr>
            <a:xfrm>
              <a:off x="18558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73520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45584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29852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9856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20600" y="2521080"/>
              <a:ext cx="0" cy="33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117880" y="3544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117880" y="3835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2111400" y="35380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262600" y="35528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262240" y="35402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71480" y="36910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541600" y="36910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178920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681200" y="2351160"/>
              <a:ext cx="1080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166824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838160" y="2460600"/>
              <a:ext cx="4788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179532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2117880" y="24908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2117880" y="27813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11400" y="2484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262600" y="2496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2262240" y="2482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7148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41600" y="2635200"/>
              <a:ext cx="147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2117880" y="28414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2117880" y="31320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111400" y="283536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262600" y="284940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2262240" y="28368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71480" y="2987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541600" y="2987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117880" y="31939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2117880" y="34844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2111400" y="31878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2262600" y="320040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262240" y="3186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71480" y="33386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2541600" y="333864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151128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140184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H="1">
              <a:off x="1388880" y="2344680"/>
              <a:ext cx="25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1558800" y="2460600"/>
              <a:ext cx="493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151776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1577880" y="2521080"/>
              <a:ext cx="0" cy="339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1231920" y="2351160"/>
              <a:ext cx="13320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112248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H="1">
              <a:off x="1110960" y="234468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1281240" y="2460600"/>
              <a:ext cx="4752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123840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1177920" y="2448000"/>
              <a:ext cx="0" cy="34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H="1">
              <a:off x="953640" y="2351160"/>
              <a:ext cx="13356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844560" y="2351160"/>
              <a:ext cx="109440" cy="16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831960" y="234468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001880" y="2460600"/>
              <a:ext cx="48960" cy="4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958680" y="2228760"/>
              <a:ext cx="0" cy="1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117880" y="38847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117880" y="41752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2111400" y="387828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2262600" y="38926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262240" y="38768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71480" y="4029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2541600" y="4029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2117880" y="42242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2117880" y="451476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flipV="1">
              <a:off x="2111400" y="42181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2262600" y="42307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262240" y="42166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71480" y="43689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2541600" y="43689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2117880" y="456264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2117880" y="485460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V="1">
              <a:off x="2111400" y="4557600"/>
              <a:ext cx="0" cy="3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2262600" y="4570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2262240" y="455760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71480" y="47084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2541600" y="470844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2117880" y="490212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117880" y="51926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111400" y="489600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2262600" y="491004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262240" y="489744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71480" y="504828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2541600" y="504828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2117880" y="524196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2117880" y="553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V="1">
              <a:off x="2111400" y="523512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62600" y="524988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62240" y="5237280"/>
              <a:ext cx="27900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71480" y="538812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2541600" y="538812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2117880" y="558180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2117880" y="587232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2111400" y="5575320"/>
              <a:ext cx="0" cy="30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262600" y="5589720"/>
              <a:ext cx="278640" cy="301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262240" y="55738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71480" y="572616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2541600" y="5726160"/>
              <a:ext cx="15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277812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0" name=""/>
            <p:cNvGrpSpPr/>
            <p:nvPr/>
          </p:nvGrpSpPr>
          <p:grpSpPr>
            <a:xfrm>
              <a:off x="2638080" y="5381280"/>
              <a:ext cx="291240" cy="1017720"/>
              <a:chOff x="2638080" y="5381280"/>
              <a:chExt cx="291240" cy="1017720"/>
            </a:xfrm>
          </p:grpSpPr>
          <p:sp>
            <p:nvSpPr>
              <p:cNvPr id="2871" name=""/>
              <p:cNvSpPr/>
              <p:nvPr/>
            </p:nvSpPr>
            <p:spPr>
              <a:xfrm>
                <a:off x="266184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638080" y="5381280"/>
                <a:ext cx="27756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65104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65104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77704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6" name=""/>
            <p:cNvSpPr/>
            <p:nvPr/>
          </p:nvSpPr>
          <p:spPr>
            <a:xfrm>
              <a:off x="311616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77" name=""/>
            <p:cNvGrpSpPr/>
            <p:nvPr/>
          </p:nvGrpSpPr>
          <p:grpSpPr>
            <a:xfrm>
              <a:off x="2976840" y="5381280"/>
              <a:ext cx="292320" cy="1017720"/>
              <a:chOff x="2976840" y="5381280"/>
              <a:chExt cx="292320" cy="1017720"/>
            </a:xfrm>
          </p:grpSpPr>
          <p:sp>
            <p:nvSpPr>
              <p:cNvPr id="2878" name=""/>
              <p:cNvSpPr/>
              <p:nvPr/>
            </p:nvSpPr>
            <p:spPr>
              <a:xfrm>
                <a:off x="3002400" y="5769000"/>
                <a:ext cx="252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297684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99088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299088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311616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3" name=""/>
            <p:cNvSpPr/>
            <p:nvPr/>
          </p:nvSpPr>
          <p:spPr>
            <a:xfrm>
              <a:off x="345600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4" name=""/>
            <p:cNvGrpSpPr/>
            <p:nvPr/>
          </p:nvGrpSpPr>
          <p:grpSpPr>
            <a:xfrm>
              <a:off x="3316680" y="5381280"/>
              <a:ext cx="292320" cy="1017720"/>
              <a:chOff x="3316680" y="5381280"/>
              <a:chExt cx="292320" cy="1017720"/>
            </a:xfrm>
          </p:grpSpPr>
          <p:sp>
            <p:nvSpPr>
              <p:cNvPr id="2885" name=""/>
              <p:cNvSpPr/>
              <p:nvPr/>
            </p:nvSpPr>
            <p:spPr>
              <a:xfrm>
                <a:off x="3341160" y="5769000"/>
                <a:ext cx="25380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3316680" y="5381280"/>
                <a:ext cx="27828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3330720" y="5429880"/>
                <a:ext cx="27828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3330720" y="5769000"/>
                <a:ext cx="27828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345600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0" name=""/>
            <p:cNvSpPr/>
            <p:nvPr/>
          </p:nvSpPr>
          <p:spPr>
            <a:xfrm>
              <a:off x="3808440" y="2448000"/>
              <a:ext cx="0" cy="34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91" name=""/>
            <p:cNvGrpSpPr/>
            <p:nvPr/>
          </p:nvGrpSpPr>
          <p:grpSpPr>
            <a:xfrm>
              <a:off x="3667680" y="5381280"/>
              <a:ext cx="293400" cy="1017720"/>
              <a:chOff x="3667680" y="5381280"/>
              <a:chExt cx="293400" cy="1017720"/>
            </a:xfrm>
          </p:grpSpPr>
          <p:sp>
            <p:nvSpPr>
              <p:cNvPr id="2892" name=""/>
              <p:cNvSpPr/>
              <p:nvPr/>
            </p:nvSpPr>
            <p:spPr>
              <a:xfrm>
                <a:off x="3691440" y="5769000"/>
                <a:ext cx="25596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3667680" y="5381280"/>
                <a:ext cx="279720" cy="90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3681360" y="5429880"/>
                <a:ext cx="279720" cy="85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3681360" y="5769000"/>
                <a:ext cx="279720" cy="13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3807720" y="6289920"/>
                <a:ext cx="0" cy="10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7" name=""/>
            <p:cNvSpPr/>
            <p:nvPr/>
          </p:nvSpPr>
          <p:spPr>
            <a:xfrm>
              <a:off x="874800" y="1944720"/>
              <a:ext cx="13446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8" name=""/>
          <p:cNvSpPr/>
          <p:nvPr/>
        </p:nvSpPr>
        <p:spPr>
          <a:xfrm>
            <a:off x="5416560" y="1695600"/>
            <a:ext cx="31114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 = A + BD + 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 = 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B'C'D + BCD + AD' + B'CD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1" name=""/>
          <p:cNvGrpSpPr/>
          <p:nvPr/>
        </p:nvGrpSpPr>
        <p:grpSpPr>
          <a:xfrm>
            <a:off x="837720" y="2428920"/>
            <a:ext cx="4024800" cy="3516120"/>
            <a:chOff x="837720" y="2428920"/>
            <a:chExt cx="4024800" cy="3516120"/>
          </a:xfrm>
        </p:grpSpPr>
        <p:sp>
          <p:nvSpPr>
            <p:cNvPr id="2902" name=""/>
            <p:cNvSpPr/>
            <p:nvPr/>
          </p:nvSpPr>
          <p:spPr>
            <a:xfrm>
              <a:off x="4098960" y="2428920"/>
              <a:ext cx="763560" cy="35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7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3" name=""/>
            <p:cNvGrpSpPr/>
            <p:nvPr/>
          </p:nvGrpSpPr>
          <p:grpSpPr>
            <a:xfrm>
              <a:off x="837720" y="2590920"/>
              <a:ext cx="1066680" cy="3200400"/>
              <a:chOff x="837720" y="2590920"/>
              <a:chExt cx="1066680" cy="3200400"/>
            </a:xfrm>
          </p:grpSpPr>
          <p:grpSp>
            <p:nvGrpSpPr>
              <p:cNvPr id="2904" name=""/>
              <p:cNvGrpSpPr/>
              <p:nvPr/>
            </p:nvGrpSpPr>
            <p:grpSpPr>
              <a:xfrm>
                <a:off x="837720" y="2590920"/>
                <a:ext cx="114120" cy="88920"/>
                <a:chOff x="837720" y="2590920"/>
                <a:chExt cx="114120" cy="88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85068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83772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104480" y="2959200"/>
                <a:ext cx="114120" cy="88920"/>
                <a:chOff x="1104480" y="2959200"/>
                <a:chExt cx="114120" cy="88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1174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11044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1676160" y="2971800"/>
                <a:ext cx="114120" cy="88920"/>
                <a:chOff x="1676160" y="2971800"/>
                <a:chExt cx="114120" cy="88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1689120" y="2971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1676160" y="2971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1104480" y="3276720"/>
                <a:ext cx="114120" cy="88920"/>
                <a:chOff x="1104480" y="3276720"/>
                <a:chExt cx="114120" cy="88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11174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11044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1371240" y="3276720"/>
                <a:ext cx="114120" cy="88920"/>
                <a:chOff x="1371240" y="3276720"/>
                <a:chExt cx="114120" cy="88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38420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137124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1104480" y="3657600"/>
                <a:ext cx="114120" cy="88920"/>
                <a:chOff x="1104480" y="3657600"/>
                <a:chExt cx="114120" cy="88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111744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110448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1523520" y="3657600"/>
                <a:ext cx="114120" cy="88920"/>
                <a:chOff x="1523520" y="3657600"/>
                <a:chExt cx="114120" cy="88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153648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152352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1104480" y="3962520"/>
                <a:ext cx="114120" cy="88920"/>
                <a:chOff x="1104480" y="3962520"/>
                <a:chExt cx="114120" cy="88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1117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1104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1409400" y="4330800"/>
                <a:ext cx="114120" cy="88920"/>
                <a:chOff x="1409400" y="4330800"/>
                <a:chExt cx="114120" cy="88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422360" y="4330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1409400" y="4330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952200" y="4648320"/>
                <a:ext cx="114120" cy="88920"/>
                <a:chOff x="952200" y="4648320"/>
                <a:chExt cx="114120" cy="88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96516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95220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1218960" y="4648320"/>
                <a:ext cx="114120" cy="88920"/>
                <a:chOff x="1218960" y="4648320"/>
                <a:chExt cx="114120" cy="88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12319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12189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1523520" y="4648320"/>
                <a:ext cx="114120" cy="88920"/>
                <a:chOff x="1523520" y="4648320"/>
                <a:chExt cx="114120" cy="88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153648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152352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1676160" y="4648320"/>
                <a:ext cx="114120" cy="88920"/>
                <a:chOff x="1676160" y="4648320"/>
                <a:chExt cx="114120" cy="88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16891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16761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1104480" y="5016600"/>
                <a:ext cx="114120" cy="88920"/>
                <a:chOff x="1104480" y="5016600"/>
                <a:chExt cx="114120" cy="88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111744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110448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1371240" y="5029200"/>
                <a:ext cx="114120" cy="88920"/>
                <a:chOff x="1371240" y="5029200"/>
                <a:chExt cx="114120" cy="8892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138420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137124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1676160" y="5016600"/>
                <a:ext cx="114120" cy="88920"/>
                <a:chOff x="1676160" y="5016600"/>
                <a:chExt cx="114120" cy="889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689120" y="5016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1676160" y="5016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837720" y="5334120"/>
                <a:ext cx="114120" cy="88920"/>
                <a:chOff x="837720" y="5334120"/>
                <a:chExt cx="114120" cy="8892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85068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83772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790280" y="5334120"/>
                <a:ext cx="114120" cy="88920"/>
                <a:chOff x="1790280" y="5334120"/>
                <a:chExt cx="114120" cy="8892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0324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 flipH="1">
                  <a:off x="179028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1104480" y="5702400"/>
                <a:ext cx="114120" cy="88920"/>
                <a:chOff x="1104480" y="5702400"/>
                <a:chExt cx="114120" cy="8892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11174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11044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1371240" y="5702400"/>
                <a:ext cx="114120" cy="88920"/>
                <a:chOff x="1371240" y="5702400"/>
                <a:chExt cx="114120" cy="8892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138420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137124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1790280" y="5702400"/>
                <a:ext cx="114120" cy="88920"/>
                <a:chOff x="1790280" y="5702400"/>
                <a:chExt cx="114120" cy="8892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1803240" y="5702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1790280" y="5702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67" name=""/>
          <p:cNvGrpSpPr/>
          <p:nvPr/>
        </p:nvGrpSpPr>
        <p:grpSpPr>
          <a:xfrm>
            <a:off x="2704680" y="2590920"/>
            <a:ext cx="1344960" cy="4117680"/>
            <a:chOff x="2704680" y="2590920"/>
            <a:chExt cx="1344960" cy="4117680"/>
          </a:xfrm>
        </p:grpSpPr>
        <p:sp>
          <p:nvSpPr>
            <p:cNvPr id="2968" name=""/>
            <p:cNvSpPr/>
            <p:nvPr/>
          </p:nvSpPr>
          <p:spPr>
            <a:xfrm>
              <a:off x="2705040" y="6321600"/>
              <a:ext cx="134460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9" name=""/>
            <p:cNvGrpSpPr/>
            <p:nvPr/>
          </p:nvGrpSpPr>
          <p:grpSpPr>
            <a:xfrm>
              <a:off x="2704680" y="2590920"/>
              <a:ext cx="1143000" cy="3213000"/>
              <a:chOff x="2704680" y="2590920"/>
              <a:chExt cx="1143000" cy="3213000"/>
            </a:xfrm>
          </p:grpSpPr>
          <p:grpSp>
            <p:nvGrpSpPr>
              <p:cNvPr id="2970" name=""/>
              <p:cNvGrpSpPr/>
              <p:nvPr/>
            </p:nvGrpSpPr>
            <p:grpSpPr>
              <a:xfrm>
                <a:off x="2704680" y="2590920"/>
                <a:ext cx="114120" cy="88920"/>
                <a:chOff x="2704680" y="2590920"/>
                <a:chExt cx="114120" cy="889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2717640" y="2590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2704680" y="2590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2704680" y="2959200"/>
                <a:ext cx="114120" cy="88920"/>
                <a:chOff x="2704680" y="2959200"/>
                <a:chExt cx="114120" cy="8892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2717640" y="295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2704680" y="295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2704680" y="3276720"/>
                <a:ext cx="114120" cy="88920"/>
                <a:chOff x="2704680" y="3276720"/>
                <a:chExt cx="114120" cy="8892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2717640" y="3276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2704680" y="3276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3047760" y="3657600"/>
                <a:ext cx="114120" cy="88920"/>
                <a:chOff x="3047760" y="3657600"/>
                <a:chExt cx="114120" cy="8892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3060720" y="36576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3047760" y="36576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390480" y="3962520"/>
                <a:ext cx="114120" cy="88920"/>
                <a:chOff x="3390480" y="3962520"/>
                <a:chExt cx="114120" cy="8892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3403440" y="39625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3390480" y="39625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3390480" y="4343400"/>
                <a:ext cx="114120" cy="88920"/>
                <a:chOff x="3390480" y="4343400"/>
                <a:chExt cx="114120" cy="8892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3403440" y="43434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3390480" y="43434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3733560" y="4648320"/>
                <a:ext cx="114120" cy="88920"/>
                <a:chOff x="3733560" y="4648320"/>
                <a:chExt cx="114120" cy="8892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3746520" y="46483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3733560" y="46483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3733560" y="5029200"/>
                <a:ext cx="114120" cy="88920"/>
                <a:chOff x="3733560" y="5029200"/>
                <a:chExt cx="114120" cy="889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3746520" y="5029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3733560" y="5029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4" name=""/>
              <p:cNvGrpSpPr/>
              <p:nvPr/>
            </p:nvGrpSpPr>
            <p:grpSpPr>
              <a:xfrm>
                <a:off x="3733560" y="5334120"/>
                <a:ext cx="114120" cy="88920"/>
                <a:chOff x="3733560" y="5334120"/>
                <a:chExt cx="114120" cy="88920"/>
              </a:xfrm>
            </p:grpSpPr>
            <p:sp>
              <p:nvSpPr>
                <p:cNvPr id="2995" name=""/>
                <p:cNvSpPr/>
                <p:nvPr/>
              </p:nvSpPr>
              <p:spPr>
                <a:xfrm>
                  <a:off x="3746520" y="53341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3733560" y="53341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7" name=""/>
              <p:cNvGrpSpPr/>
              <p:nvPr/>
            </p:nvGrpSpPr>
            <p:grpSpPr>
              <a:xfrm>
                <a:off x="3733560" y="5715000"/>
                <a:ext cx="114120" cy="88920"/>
                <a:chOff x="3733560" y="5715000"/>
                <a:chExt cx="114120" cy="88920"/>
              </a:xfrm>
            </p:grpSpPr>
            <p:sp>
              <p:nvSpPr>
                <p:cNvPr id="2998" name=""/>
                <p:cNvSpPr/>
                <p:nvPr/>
              </p:nvSpPr>
              <p:spPr>
                <a:xfrm>
                  <a:off x="3746520" y="57150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3733560" y="57150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601-37AF-4767-9213-AB5901A9DA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andom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hard to figure out exactly what gates to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 from logic to NAND/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minimum number of 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 changes to logic function could decreas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to difficult to re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wire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need new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with spares (few extra inverters and gates on every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532-D793-4DCE-A509-D673A35758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3225960" y="3575160"/>
            <a:ext cx="2031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 product term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 each OR 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1" name=""/>
          <p:cNvGrpSpPr/>
          <p:nvPr/>
        </p:nvGrpSpPr>
        <p:grpSpPr>
          <a:xfrm>
            <a:off x="5634000" y="1584360"/>
            <a:ext cx="3560400" cy="5263920"/>
            <a:chOff x="5634000" y="1584360"/>
            <a:chExt cx="3560400" cy="5263920"/>
          </a:xfrm>
        </p:grpSpPr>
        <p:sp>
          <p:nvSpPr>
            <p:cNvPr id="3002" name=""/>
            <p:cNvSpPr/>
            <p:nvPr/>
          </p:nvSpPr>
          <p:spPr>
            <a:xfrm>
              <a:off x="8422560" y="1786320"/>
              <a:ext cx="77184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5634000" y="5101920"/>
              <a:ext cx="3137760" cy="1054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583680" y="1816920"/>
              <a:ext cx="0" cy="42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48576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25248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1784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5799240" y="1767960"/>
              <a:ext cx="0" cy="432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5897160" y="1792800"/>
              <a:ext cx="0" cy="42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810840" y="2950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810840" y="31838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flipV="1">
              <a:off x="6804360" y="29448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6921720" y="295812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921360" y="294516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682960" y="30733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7141320" y="30733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6295680" y="3042720"/>
              <a:ext cx="97920" cy="48960"/>
              <a:chOff x="6295680" y="3042720"/>
              <a:chExt cx="97920" cy="48960"/>
            </a:xfrm>
          </p:grpSpPr>
          <p:sp>
            <p:nvSpPr>
              <p:cNvPr id="3018" name=""/>
              <p:cNvSpPr/>
              <p:nvPr/>
            </p:nvSpPr>
            <p:spPr>
              <a:xfrm>
                <a:off x="6307560" y="304272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6295680" y="304272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0" name=""/>
            <p:cNvGrpSpPr/>
            <p:nvPr/>
          </p:nvGrpSpPr>
          <p:grpSpPr>
            <a:xfrm>
              <a:off x="5964480" y="3042720"/>
              <a:ext cx="110160" cy="48960"/>
              <a:chOff x="5964480" y="3042720"/>
              <a:chExt cx="110160" cy="48960"/>
            </a:xfrm>
          </p:grpSpPr>
          <p:sp>
            <p:nvSpPr>
              <p:cNvPr id="3021" name=""/>
              <p:cNvSpPr/>
              <p:nvPr/>
            </p:nvSpPr>
            <p:spPr>
              <a:xfrm>
                <a:off x="5976720" y="304272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5964480" y="304272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3" name=""/>
            <p:cNvSpPr/>
            <p:nvPr/>
          </p:nvSpPr>
          <p:spPr>
            <a:xfrm flipH="1">
              <a:off x="652860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643068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6418440" y="16761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6532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53472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810840" y="18601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810840" y="2092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6804360" y="185328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921720" y="18676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921360" y="186660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82960" y="198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7141320" y="1982160"/>
              <a:ext cx="122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10840" y="2141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6810840" y="2362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V="1">
              <a:off x="6804360" y="213516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6921720" y="21495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6921360" y="213624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682960" y="22521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7141320" y="225216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810840" y="24112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810840" y="26319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6804360" y="24055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6921720" y="241920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921360" y="240588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682960" y="25218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7141320" y="2521800"/>
              <a:ext cx="124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6430320" y="2209320"/>
              <a:ext cx="109800" cy="73440"/>
              <a:chOff x="6430320" y="2209320"/>
              <a:chExt cx="109800" cy="73440"/>
            </a:xfrm>
          </p:grpSpPr>
          <p:sp>
            <p:nvSpPr>
              <p:cNvPr id="3050" name=""/>
              <p:cNvSpPr/>
              <p:nvPr/>
            </p:nvSpPr>
            <p:spPr>
              <a:xfrm>
                <a:off x="644256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H="1">
                <a:off x="6430320" y="2209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2" name=""/>
            <p:cNvSpPr/>
            <p:nvPr/>
          </p:nvSpPr>
          <p:spPr>
            <a:xfrm flipH="1">
              <a:off x="629532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97760" y="1682280"/>
              <a:ext cx="9792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H="1">
              <a:off x="618516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6344640" y="1767960"/>
              <a:ext cx="2448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30216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6351120" y="1792800"/>
              <a:ext cx="0" cy="428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8" name=""/>
            <p:cNvGrpSpPr/>
            <p:nvPr/>
          </p:nvGrpSpPr>
          <p:grpSpPr>
            <a:xfrm>
              <a:off x="6185160" y="2478960"/>
              <a:ext cx="110160" cy="73440"/>
              <a:chOff x="6185160" y="2478960"/>
              <a:chExt cx="110160" cy="73440"/>
            </a:xfrm>
          </p:grpSpPr>
          <p:sp>
            <p:nvSpPr>
              <p:cNvPr id="3059" name=""/>
              <p:cNvSpPr/>
              <p:nvPr/>
            </p:nvSpPr>
            <p:spPr>
              <a:xfrm>
                <a:off x="619740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618516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1" name=""/>
            <p:cNvSpPr/>
            <p:nvPr/>
          </p:nvSpPr>
          <p:spPr>
            <a:xfrm flipH="1">
              <a:off x="6062400" y="1682280"/>
              <a:ext cx="10980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96448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5952600" y="16761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11208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606888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6019920" y="1743480"/>
              <a:ext cx="0" cy="435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7" name=""/>
            <p:cNvGrpSpPr/>
            <p:nvPr/>
          </p:nvGrpSpPr>
          <p:grpSpPr>
            <a:xfrm>
              <a:off x="5964480" y="2209320"/>
              <a:ext cx="110160" cy="73440"/>
              <a:chOff x="5964480" y="2209320"/>
              <a:chExt cx="110160" cy="73440"/>
            </a:xfrm>
          </p:grpSpPr>
          <p:sp>
            <p:nvSpPr>
              <p:cNvPr id="3068" name=""/>
              <p:cNvSpPr/>
              <p:nvPr/>
            </p:nvSpPr>
            <p:spPr>
              <a:xfrm>
                <a:off x="5976720" y="2209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 flipH="1">
                <a:off x="5964480" y="2209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0" name=""/>
            <p:cNvGrpSpPr/>
            <p:nvPr/>
          </p:nvGrpSpPr>
          <p:grpSpPr>
            <a:xfrm>
              <a:off x="5964480" y="2478960"/>
              <a:ext cx="110160" cy="73440"/>
              <a:chOff x="5964480" y="2478960"/>
              <a:chExt cx="110160" cy="73440"/>
            </a:xfrm>
          </p:grpSpPr>
          <p:sp>
            <p:nvSpPr>
              <p:cNvPr id="3071" name=""/>
              <p:cNvSpPr/>
              <p:nvPr/>
            </p:nvSpPr>
            <p:spPr>
              <a:xfrm>
                <a:off x="5976720" y="24789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>
                <a:off x="5964480" y="24789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5842440" y="1682280"/>
              <a:ext cx="856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5743800" y="1682280"/>
              <a:ext cx="98280" cy="12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H="1">
              <a:off x="5731560" y="1676160"/>
              <a:ext cx="196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5866560" y="1767960"/>
              <a:ext cx="36720" cy="36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848200" y="1584360"/>
              <a:ext cx="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8" name=""/>
            <p:cNvGrpSpPr/>
            <p:nvPr/>
          </p:nvGrpSpPr>
          <p:grpSpPr>
            <a:xfrm>
              <a:off x="5731920" y="1939680"/>
              <a:ext cx="97920" cy="73440"/>
              <a:chOff x="5731920" y="1939680"/>
              <a:chExt cx="97920" cy="73440"/>
            </a:xfrm>
          </p:grpSpPr>
          <p:sp>
            <p:nvSpPr>
              <p:cNvPr id="3079" name=""/>
              <p:cNvSpPr/>
              <p:nvPr/>
            </p:nvSpPr>
            <p:spPr>
              <a:xfrm>
                <a:off x="5743800" y="193968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 flipH="1">
                <a:off x="5731920" y="193968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1" name=""/>
            <p:cNvSpPr/>
            <p:nvPr/>
          </p:nvSpPr>
          <p:spPr>
            <a:xfrm>
              <a:off x="6810840" y="40417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6810840" y="42620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flipV="1">
              <a:off x="6804360" y="403488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6921720" y="4049280"/>
              <a:ext cx="21888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921360" y="40356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682960" y="4151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7141320" y="4151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8" name=""/>
            <p:cNvGrpSpPr/>
            <p:nvPr/>
          </p:nvGrpSpPr>
          <p:grpSpPr>
            <a:xfrm>
              <a:off x="5964480" y="4121280"/>
              <a:ext cx="110160" cy="73440"/>
              <a:chOff x="5964480" y="4121280"/>
              <a:chExt cx="110160" cy="73440"/>
            </a:xfrm>
          </p:grpSpPr>
          <p:sp>
            <p:nvSpPr>
              <p:cNvPr id="3089" name=""/>
              <p:cNvSpPr/>
              <p:nvPr/>
            </p:nvSpPr>
            <p:spPr>
              <a:xfrm>
                <a:off x="5976720" y="41212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964480" y="41212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1" name=""/>
            <p:cNvSpPr/>
            <p:nvPr/>
          </p:nvSpPr>
          <p:spPr>
            <a:xfrm>
              <a:off x="6810840" y="4311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6810840" y="4531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V="1">
              <a:off x="6804360" y="430524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921720" y="431892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921360" y="430524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682960" y="44215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7141320" y="44215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8" name=""/>
            <p:cNvGrpSpPr/>
            <p:nvPr/>
          </p:nvGrpSpPr>
          <p:grpSpPr>
            <a:xfrm>
              <a:off x="6185160" y="4378680"/>
              <a:ext cx="110160" cy="73440"/>
              <a:chOff x="6185160" y="4378680"/>
              <a:chExt cx="110160" cy="73440"/>
            </a:xfrm>
          </p:grpSpPr>
          <p:sp>
            <p:nvSpPr>
              <p:cNvPr id="3099" name=""/>
              <p:cNvSpPr/>
              <p:nvPr/>
            </p:nvSpPr>
            <p:spPr>
              <a:xfrm>
                <a:off x="6197400" y="437868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6185160" y="437868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1" name=""/>
            <p:cNvSpPr/>
            <p:nvPr/>
          </p:nvSpPr>
          <p:spPr>
            <a:xfrm>
              <a:off x="6810840" y="51076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810840" y="53532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6804360" y="510192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6921720" y="51156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921360" y="511416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682960" y="52426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7141320" y="52426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8" name=""/>
            <p:cNvGrpSpPr/>
            <p:nvPr/>
          </p:nvGrpSpPr>
          <p:grpSpPr>
            <a:xfrm>
              <a:off x="6430320" y="5199840"/>
              <a:ext cx="109800" cy="60840"/>
              <a:chOff x="6430320" y="5199840"/>
              <a:chExt cx="109800" cy="60840"/>
            </a:xfrm>
          </p:grpSpPr>
          <p:sp>
            <p:nvSpPr>
              <p:cNvPr id="3109" name=""/>
              <p:cNvSpPr/>
              <p:nvPr/>
            </p:nvSpPr>
            <p:spPr>
              <a:xfrm>
                <a:off x="6442560" y="519984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6430320" y="519984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1" name=""/>
            <p:cNvGrpSpPr/>
            <p:nvPr/>
          </p:nvGrpSpPr>
          <p:grpSpPr>
            <a:xfrm>
              <a:off x="6295680" y="5199840"/>
              <a:ext cx="97920" cy="60840"/>
              <a:chOff x="6295680" y="5199840"/>
              <a:chExt cx="97920" cy="60840"/>
            </a:xfrm>
          </p:grpSpPr>
          <p:sp>
            <p:nvSpPr>
              <p:cNvPr id="3112" name=""/>
              <p:cNvSpPr/>
              <p:nvPr/>
            </p:nvSpPr>
            <p:spPr>
              <a:xfrm>
                <a:off x="6307560" y="519984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6295680" y="519984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4" name=""/>
            <p:cNvGrpSpPr/>
            <p:nvPr/>
          </p:nvGrpSpPr>
          <p:grpSpPr>
            <a:xfrm>
              <a:off x="6075000" y="5199840"/>
              <a:ext cx="85680" cy="60840"/>
              <a:chOff x="6075000" y="5199840"/>
              <a:chExt cx="85680" cy="60840"/>
            </a:xfrm>
          </p:grpSpPr>
          <p:sp>
            <p:nvSpPr>
              <p:cNvPr id="3115" name=""/>
              <p:cNvSpPr/>
              <p:nvPr/>
            </p:nvSpPr>
            <p:spPr>
              <a:xfrm>
                <a:off x="6086880" y="519984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607500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7" name=""/>
            <p:cNvGrpSpPr/>
            <p:nvPr/>
          </p:nvGrpSpPr>
          <p:grpSpPr>
            <a:xfrm>
              <a:off x="5842440" y="5199840"/>
              <a:ext cx="85680" cy="60840"/>
              <a:chOff x="5842440" y="5199840"/>
              <a:chExt cx="85680" cy="60840"/>
            </a:xfrm>
          </p:grpSpPr>
          <p:sp>
            <p:nvSpPr>
              <p:cNvPr id="3118" name=""/>
              <p:cNvSpPr/>
              <p:nvPr/>
            </p:nvSpPr>
            <p:spPr>
              <a:xfrm>
                <a:off x="5854320" y="519984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H="1">
                <a:off x="5842440" y="519984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20" name=""/>
            <p:cNvSpPr/>
            <p:nvPr/>
          </p:nvSpPr>
          <p:spPr>
            <a:xfrm>
              <a:off x="6810840" y="537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810840" y="5610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V="1">
              <a:off x="6804360" y="537156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921720" y="5385240"/>
              <a:ext cx="218880" cy="23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921360" y="5372280"/>
              <a:ext cx="219240" cy="24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682960" y="54878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7141320" y="54878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7" name=""/>
            <p:cNvGrpSpPr/>
            <p:nvPr/>
          </p:nvGrpSpPr>
          <p:grpSpPr>
            <a:xfrm>
              <a:off x="6430320" y="5469480"/>
              <a:ext cx="109800" cy="48960"/>
              <a:chOff x="6430320" y="5469480"/>
              <a:chExt cx="109800" cy="48960"/>
            </a:xfrm>
          </p:grpSpPr>
          <p:sp>
            <p:nvSpPr>
              <p:cNvPr id="3128" name=""/>
              <p:cNvSpPr/>
              <p:nvPr/>
            </p:nvSpPr>
            <p:spPr>
              <a:xfrm>
                <a:off x="644256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H="1">
                <a:off x="6430320" y="54694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0" name=""/>
            <p:cNvGrpSpPr/>
            <p:nvPr/>
          </p:nvGrpSpPr>
          <p:grpSpPr>
            <a:xfrm>
              <a:off x="6185160" y="5469480"/>
              <a:ext cx="110160" cy="48960"/>
              <a:chOff x="6185160" y="5469480"/>
              <a:chExt cx="110160" cy="48960"/>
            </a:xfrm>
          </p:grpSpPr>
          <p:sp>
            <p:nvSpPr>
              <p:cNvPr id="3131" name=""/>
              <p:cNvSpPr/>
              <p:nvPr/>
            </p:nvSpPr>
            <p:spPr>
              <a:xfrm>
                <a:off x="619740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H="1">
                <a:off x="618516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3" name=""/>
            <p:cNvGrpSpPr/>
            <p:nvPr/>
          </p:nvGrpSpPr>
          <p:grpSpPr>
            <a:xfrm>
              <a:off x="5964480" y="5469480"/>
              <a:ext cx="110160" cy="48960"/>
              <a:chOff x="5964480" y="5469480"/>
              <a:chExt cx="110160" cy="48960"/>
            </a:xfrm>
          </p:grpSpPr>
          <p:sp>
            <p:nvSpPr>
              <p:cNvPr id="3134" name=""/>
              <p:cNvSpPr/>
              <p:nvPr/>
            </p:nvSpPr>
            <p:spPr>
              <a:xfrm>
                <a:off x="5976720" y="54694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5964480" y="54694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6" name=""/>
            <p:cNvSpPr/>
            <p:nvPr/>
          </p:nvSpPr>
          <p:spPr>
            <a:xfrm>
              <a:off x="6810840" y="56473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810840" y="58802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6804360" y="56412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921720" y="565488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921360" y="564120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5682960" y="576972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7141320" y="576972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6540840" y="5726880"/>
              <a:ext cx="85680" cy="60840"/>
              <a:chOff x="6540840" y="5726880"/>
              <a:chExt cx="85680" cy="60840"/>
            </a:xfrm>
          </p:grpSpPr>
          <p:sp>
            <p:nvSpPr>
              <p:cNvPr id="3144" name=""/>
              <p:cNvSpPr/>
              <p:nvPr/>
            </p:nvSpPr>
            <p:spPr>
              <a:xfrm>
                <a:off x="6553080" y="572688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H="1">
                <a:off x="6540840" y="572688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6" name=""/>
            <p:cNvGrpSpPr/>
            <p:nvPr/>
          </p:nvGrpSpPr>
          <p:grpSpPr>
            <a:xfrm>
              <a:off x="5731920" y="5726880"/>
              <a:ext cx="97920" cy="60840"/>
              <a:chOff x="5731920" y="5726880"/>
              <a:chExt cx="97920" cy="60840"/>
            </a:xfrm>
          </p:grpSpPr>
          <p:sp>
            <p:nvSpPr>
              <p:cNvPr id="3147" name=""/>
              <p:cNvSpPr/>
              <p:nvPr/>
            </p:nvSpPr>
            <p:spPr>
              <a:xfrm>
                <a:off x="5743800" y="572688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H="1">
                <a:off x="5731920" y="572688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9" name=""/>
            <p:cNvSpPr/>
            <p:nvPr/>
          </p:nvSpPr>
          <p:spPr>
            <a:xfrm>
              <a:off x="6810840" y="59043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10840" y="6137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6804360" y="5898600"/>
              <a:ext cx="0" cy="24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921720" y="591228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921360" y="591084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682960" y="60148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141320" y="60148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6" name=""/>
            <p:cNvGrpSpPr/>
            <p:nvPr/>
          </p:nvGrpSpPr>
          <p:grpSpPr>
            <a:xfrm>
              <a:off x="6540840" y="5996520"/>
              <a:ext cx="85680" cy="60840"/>
              <a:chOff x="6540840" y="5996520"/>
              <a:chExt cx="85680" cy="60840"/>
            </a:xfrm>
          </p:grpSpPr>
          <p:sp>
            <p:nvSpPr>
              <p:cNvPr id="3157" name=""/>
              <p:cNvSpPr/>
              <p:nvPr/>
            </p:nvSpPr>
            <p:spPr>
              <a:xfrm>
                <a:off x="6553080" y="599652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H="1">
                <a:off x="654084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9" name=""/>
            <p:cNvGrpSpPr/>
            <p:nvPr/>
          </p:nvGrpSpPr>
          <p:grpSpPr>
            <a:xfrm>
              <a:off x="6185160" y="5996520"/>
              <a:ext cx="110160" cy="60840"/>
              <a:chOff x="6185160" y="5996520"/>
              <a:chExt cx="110160" cy="60840"/>
            </a:xfrm>
          </p:grpSpPr>
          <p:sp>
            <p:nvSpPr>
              <p:cNvPr id="3160" name=""/>
              <p:cNvSpPr/>
              <p:nvPr/>
            </p:nvSpPr>
            <p:spPr>
              <a:xfrm>
                <a:off x="6197400" y="599652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H="1">
                <a:off x="6185160" y="599652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2" name=""/>
            <p:cNvGrpSpPr/>
            <p:nvPr/>
          </p:nvGrpSpPr>
          <p:grpSpPr>
            <a:xfrm>
              <a:off x="6075000" y="5996520"/>
              <a:ext cx="85680" cy="60840"/>
              <a:chOff x="6075000" y="5996520"/>
              <a:chExt cx="85680" cy="60840"/>
            </a:xfrm>
          </p:grpSpPr>
          <p:sp>
            <p:nvSpPr>
              <p:cNvPr id="3163" name=""/>
              <p:cNvSpPr/>
              <p:nvPr/>
            </p:nvSpPr>
            <p:spPr>
              <a:xfrm>
                <a:off x="6086880" y="599652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H="1">
                <a:off x="6075000" y="599652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5" name=""/>
            <p:cNvSpPr/>
            <p:nvPr/>
          </p:nvSpPr>
          <p:spPr>
            <a:xfrm>
              <a:off x="7343640" y="1829160"/>
              <a:ext cx="0" cy="432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6" name=""/>
            <p:cNvGrpSpPr/>
            <p:nvPr/>
          </p:nvGrpSpPr>
          <p:grpSpPr>
            <a:xfrm>
              <a:off x="7239960" y="5751720"/>
              <a:ext cx="232560" cy="783360"/>
              <a:chOff x="7239960" y="5751720"/>
              <a:chExt cx="232560" cy="783360"/>
            </a:xfrm>
          </p:grpSpPr>
          <p:sp>
            <p:nvSpPr>
              <p:cNvPr id="3167" name=""/>
              <p:cNvSpPr/>
              <p:nvPr/>
            </p:nvSpPr>
            <p:spPr>
              <a:xfrm>
                <a:off x="7251480" y="6057720"/>
                <a:ext cx="2077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723996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7253280" y="5788800"/>
                <a:ext cx="21924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72532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734328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2" name=""/>
            <p:cNvSpPr/>
            <p:nvPr/>
          </p:nvSpPr>
          <p:spPr>
            <a:xfrm>
              <a:off x="7625880" y="2932200"/>
              <a:ext cx="0" cy="32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3" name=""/>
            <p:cNvGrpSpPr/>
            <p:nvPr/>
          </p:nvGrpSpPr>
          <p:grpSpPr>
            <a:xfrm>
              <a:off x="7521840" y="5751720"/>
              <a:ext cx="232560" cy="783360"/>
              <a:chOff x="7521840" y="5751720"/>
              <a:chExt cx="232560" cy="783360"/>
            </a:xfrm>
          </p:grpSpPr>
          <p:sp>
            <p:nvSpPr>
              <p:cNvPr id="3174" name=""/>
              <p:cNvSpPr/>
              <p:nvPr/>
            </p:nvSpPr>
            <p:spPr>
              <a:xfrm>
                <a:off x="753336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521840" y="5751720"/>
                <a:ext cx="23148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522920" y="5788800"/>
                <a:ext cx="23148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522920" y="6057720"/>
                <a:ext cx="23148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7625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9" name=""/>
            <p:cNvSpPr/>
            <p:nvPr/>
          </p:nvSpPr>
          <p:spPr>
            <a:xfrm>
              <a:off x="7895520" y="4084560"/>
              <a:ext cx="0" cy="205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0" name=""/>
            <p:cNvGrpSpPr/>
            <p:nvPr/>
          </p:nvGrpSpPr>
          <p:grpSpPr>
            <a:xfrm>
              <a:off x="7791120" y="5751720"/>
              <a:ext cx="246600" cy="783360"/>
              <a:chOff x="7791120" y="5751720"/>
              <a:chExt cx="246600" cy="783360"/>
            </a:xfrm>
          </p:grpSpPr>
          <p:sp>
            <p:nvSpPr>
              <p:cNvPr id="3181" name=""/>
              <p:cNvSpPr/>
              <p:nvPr/>
            </p:nvSpPr>
            <p:spPr>
              <a:xfrm>
                <a:off x="7804080" y="6057720"/>
                <a:ext cx="21924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7791120" y="5751720"/>
                <a:ext cx="23220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7804800" y="5788800"/>
                <a:ext cx="23292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7804800" y="6057720"/>
                <a:ext cx="23292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789516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6" name=""/>
            <p:cNvSpPr/>
            <p:nvPr/>
          </p:nvSpPr>
          <p:spPr>
            <a:xfrm>
              <a:off x="8201880" y="5126400"/>
              <a:ext cx="0" cy="102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7" name=""/>
            <p:cNvGrpSpPr/>
            <p:nvPr/>
          </p:nvGrpSpPr>
          <p:grpSpPr>
            <a:xfrm>
              <a:off x="8085600" y="5751720"/>
              <a:ext cx="233280" cy="783360"/>
              <a:chOff x="8085600" y="5751720"/>
              <a:chExt cx="233280" cy="783360"/>
            </a:xfrm>
          </p:grpSpPr>
          <p:sp>
            <p:nvSpPr>
              <p:cNvPr id="3188" name=""/>
              <p:cNvSpPr/>
              <p:nvPr/>
            </p:nvSpPr>
            <p:spPr>
              <a:xfrm>
                <a:off x="8097840" y="6057720"/>
                <a:ext cx="20700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8085600" y="5751720"/>
                <a:ext cx="219240" cy="70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8098920" y="5788800"/>
                <a:ext cx="219960" cy="67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8098920" y="6057720"/>
                <a:ext cx="219960" cy="9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8201520" y="6461640"/>
                <a:ext cx="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3" name=""/>
            <p:cNvSpPr/>
            <p:nvPr/>
          </p:nvSpPr>
          <p:spPr>
            <a:xfrm>
              <a:off x="6810840" y="32328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810840" y="34534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V="1">
              <a:off x="6804360" y="322632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921720" y="324036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6921360" y="3239280"/>
              <a:ext cx="219240" cy="21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5682960" y="33429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7141320" y="33429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10840" y="268092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6810840" y="29016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V="1">
              <a:off x="6804360" y="2675160"/>
              <a:ext cx="0" cy="23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921720" y="2688840"/>
              <a:ext cx="21888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921360" y="2675520"/>
              <a:ext cx="21924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682960" y="279144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141320" y="279144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6810840" y="35024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6810840" y="37350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6804360" y="349560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921720" y="351000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921360" y="350856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682960" y="361260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7141320" y="361260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6810840" y="3772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6810840" y="400464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6804360" y="3765240"/>
              <a:ext cx="0" cy="24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6921720" y="377964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921360" y="377820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682960" y="38944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7141320" y="38944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6810840" y="45687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6810840" y="478908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V="1">
              <a:off x="6804360" y="4561920"/>
              <a:ext cx="0" cy="23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921720" y="457632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921360" y="4574880"/>
              <a:ext cx="219240" cy="21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5682960" y="467928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7141320" y="467928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810840" y="483840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810840" y="5083560"/>
              <a:ext cx="22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flipV="1">
              <a:off x="6804360" y="4832280"/>
              <a:ext cx="0" cy="2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921720" y="4845960"/>
              <a:ext cx="218880" cy="244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921360" y="4844520"/>
              <a:ext cx="219240" cy="23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682960" y="4948560"/>
              <a:ext cx="10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7141320" y="4948560"/>
              <a:ext cx="12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634000" y="1841760"/>
              <a:ext cx="1838520" cy="1090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634000" y="2932200"/>
              <a:ext cx="21448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634000" y="4011120"/>
              <a:ext cx="2402280" cy="1090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5731920" y="2773080"/>
              <a:ext cx="97920" cy="48960"/>
              <a:chOff x="5731920" y="2773080"/>
              <a:chExt cx="97920" cy="48960"/>
            </a:xfrm>
          </p:grpSpPr>
          <p:sp>
            <p:nvSpPr>
              <p:cNvPr id="3239" name=""/>
              <p:cNvSpPr/>
              <p:nvPr/>
            </p:nvSpPr>
            <p:spPr>
              <a:xfrm>
                <a:off x="574380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 flipH="1">
                <a:off x="573192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5842440" y="2773080"/>
              <a:ext cx="85680" cy="48960"/>
              <a:chOff x="5842440" y="2773080"/>
              <a:chExt cx="85680" cy="48960"/>
            </a:xfrm>
          </p:grpSpPr>
          <p:sp>
            <p:nvSpPr>
              <p:cNvPr id="3242" name=""/>
              <p:cNvSpPr/>
              <p:nvPr/>
            </p:nvSpPr>
            <p:spPr>
              <a:xfrm>
                <a:off x="585432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58424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4" name=""/>
            <p:cNvGrpSpPr/>
            <p:nvPr/>
          </p:nvGrpSpPr>
          <p:grpSpPr>
            <a:xfrm>
              <a:off x="5964480" y="2773080"/>
              <a:ext cx="110160" cy="48960"/>
              <a:chOff x="5964480" y="2773080"/>
              <a:chExt cx="110160" cy="48960"/>
            </a:xfrm>
          </p:grpSpPr>
          <p:sp>
            <p:nvSpPr>
              <p:cNvPr id="3245" name=""/>
              <p:cNvSpPr/>
              <p:nvPr/>
            </p:nvSpPr>
            <p:spPr>
              <a:xfrm>
                <a:off x="597672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596448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7" name=""/>
            <p:cNvGrpSpPr/>
            <p:nvPr/>
          </p:nvGrpSpPr>
          <p:grpSpPr>
            <a:xfrm>
              <a:off x="6075000" y="2773080"/>
              <a:ext cx="85680" cy="48960"/>
              <a:chOff x="6075000" y="2773080"/>
              <a:chExt cx="85680" cy="48960"/>
            </a:xfrm>
          </p:grpSpPr>
          <p:sp>
            <p:nvSpPr>
              <p:cNvPr id="3248" name=""/>
              <p:cNvSpPr/>
              <p:nvPr/>
            </p:nvSpPr>
            <p:spPr>
              <a:xfrm>
                <a:off x="6086880" y="2773080"/>
                <a:ext cx="612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 flipH="1">
                <a:off x="607500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6185160" y="2773080"/>
              <a:ext cx="110160" cy="48960"/>
              <a:chOff x="6185160" y="2773080"/>
              <a:chExt cx="110160" cy="48960"/>
            </a:xfrm>
          </p:grpSpPr>
          <p:sp>
            <p:nvSpPr>
              <p:cNvPr id="3251" name=""/>
              <p:cNvSpPr/>
              <p:nvPr/>
            </p:nvSpPr>
            <p:spPr>
              <a:xfrm>
                <a:off x="619740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H="1">
                <a:off x="6185160" y="2773080"/>
                <a:ext cx="11016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3" name=""/>
            <p:cNvGrpSpPr/>
            <p:nvPr/>
          </p:nvGrpSpPr>
          <p:grpSpPr>
            <a:xfrm>
              <a:off x="6295680" y="2773080"/>
              <a:ext cx="97920" cy="48960"/>
              <a:chOff x="6295680" y="2773080"/>
              <a:chExt cx="97920" cy="48960"/>
            </a:xfrm>
          </p:grpSpPr>
          <p:sp>
            <p:nvSpPr>
              <p:cNvPr id="3254" name=""/>
              <p:cNvSpPr/>
              <p:nvPr/>
            </p:nvSpPr>
            <p:spPr>
              <a:xfrm>
                <a:off x="6307560" y="2773080"/>
                <a:ext cx="734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>
                <a:off x="6295680" y="2773080"/>
                <a:ext cx="979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6" name=""/>
            <p:cNvGrpSpPr/>
            <p:nvPr/>
          </p:nvGrpSpPr>
          <p:grpSpPr>
            <a:xfrm>
              <a:off x="6430320" y="2773080"/>
              <a:ext cx="109800" cy="48960"/>
              <a:chOff x="6430320" y="2773080"/>
              <a:chExt cx="109800" cy="48960"/>
            </a:xfrm>
          </p:grpSpPr>
          <p:sp>
            <p:nvSpPr>
              <p:cNvPr id="3257" name=""/>
              <p:cNvSpPr/>
              <p:nvPr/>
            </p:nvSpPr>
            <p:spPr>
              <a:xfrm>
                <a:off x="6442560" y="2773080"/>
                <a:ext cx="8532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>
                <a:off x="6430320" y="2773080"/>
                <a:ext cx="10980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9" name=""/>
            <p:cNvGrpSpPr/>
            <p:nvPr/>
          </p:nvGrpSpPr>
          <p:grpSpPr>
            <a:xfrm>
              <a:off x="6540840" y="2773080"/>
              <a:ext cx="85680" cy="48960"/>
              <a:chOff x="6540840" y="2773080"/>
              <a:chExt cx="85680" cy="48960"/>
            </a:xfrm>
          </p:grpSpPr>
          <p:sp>
            <p:nvSpPr>
              <p:cNvPr id="3260" name=""/>
              <p:cNvSpPr/>
              <p:nvPr/>
            </p:nvSpPr>
            <p:spPr>
              <a:xfrm>
                <a:off x="6553080" y="2773080"/>
                <a:ext cx="6084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 flipH="1">
                <a:off x="6540840" y="2773080"/>
                <a:ext cx="85680" cy="4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62" name=""/>
            <p:cNvSpPr/>
            <p:nvPr/>
          </p:nvSpPr>
          <p:spPr>
            <a:xfrm>
              <a:off x="7313040" y="1951920"/>
              <a:ext cx="7344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313040" y="223380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313040" y="250344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313040" y="2773080"/>
              <a:ext cx="73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607520" y="30427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607520" y="332460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607520" y="3594240"/>
              <a:ext cx="48960" cy="61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607520" y="3876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877160" y="412128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877160" y="440316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877160" y="4648320"/>
              <a:ext cx="73080" cy="734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877160" y="4942440"/>
              <a:ext cx="7308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8195760" y="52120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8195760" y="546948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8195760" y="5739120"/>
              <a:ext cx="4896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8195760" y="5996520"/>
              <a:ext cx="48960" cy="60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8" name=""/>
            <p:cNvGrpSpPr/>
            <p:nvPr/>
          </p:nvGrpSpPr>
          <p:grpSpPr>
            <a:xfrm>
              <a:off x="5731920" y="3312360"/>
              <a:ext cx="97920" cy="73440"/>
              <a:chOff x="5731920" y="3312360"/>
              <a:chExt cx="97920" cy="73440"/>
            </a:xfrm>
          </p:grpSpPr>
          <p:sp>
            <p:nvSpPr>
              <p:cNvPr id="3279" name=""/>
              <p:cNvSpPr/>
              <p:nvPr/>
            </p:nvSpPr>
            <p:spPr>
              <a:xfrm>
                <a:off x="574380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573192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1" name=""/>
            <p:cNvGrpSpPr/>
            <p:nvPr/>
          </p:nvGrpSpPr>
          <p:grpSpPr>
            <a:xfrm>
              <a:off x="5842440" y="3312360"/>
              <a:ext cx="85680" cy="73440"/>
              <a:chOff x="5842440" y="3312360"/>
              <a:chExt cx="85680" cy="73440"/>
            </a:xfrm>
          </p:grpSpPr>
          <p:sp>
            <p:nvSpPr>
              <p:cNvPr id="3282" name=""/>
              <p:cNvSpPr/>
              <p:nvPr/>
            </p:nvSpPr>
            <p:spPr>
              <a:xfrm>
                <a:off x="585432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58424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4" name=""/>
            <p:cNvGrpSpPr/>
            <p:nvPr/>
          </p:nvGrpSpPr>
          <p:grpSpPr>
            <a:xfrm>
              <a:off x="5964480" y="3312360"/>
              <a:ext cx="110160" cy="73440"/>
              <a:chOff x="5964480" y="3312360"/>
              <a:chExt cx="110160" cy="73440"/>
            </a:xfrm>
          </p:grpSpPr>
          <p:sp>
            <p:nvSpPr>
              <p:cNvPr id="3285" name=""/>
              <p:cNvSpPr/>
              <p:nvPr/>
            </p:nvSpPr>
            <p:spPr>
              <a:xfrm>
                <a:off x="597672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596448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6075000" y="3312360"/>
              <a:ext cx="85680" cy="73440"/>
              <a:chOff x="6075000" y="3312360"/>
              <a:chExt cx="85680" cy="73440"/>
            </a:xfrm>
          </p:grpSpPr>
          <p:sp>
            <p:nvSpPr>
              <p:cNvPr id="3288" name=""/>
              <p:cNvSpPr/>
              <p:nvPr/>
            </p:nvSpPr>
            <p:spPr>
              <a:xfrm>
                <a:off x="6086880" y="331236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H="1">
                <a:off x="607500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0" name=""/>
            <p:cNvGrpSpPr/>
            <p:nvPr/>
          </p:nvGrpSpPr>
          <p:grpSpPr>
            <a:xfrm>
              <a:off x="6185160" y="3312360"/>
              <a:ext cx="110160" cy="73440"/>
              <a:chOff x="6185160" y="3312360"/>
              <a:chExt cx="110160" cy="73440"/>
            </a:xfrm>
          </p:grpSpPr>
          <p:sp>
            <p:nvSpPr>
              <p:cNvPr id="3291" name=""/>
              <p:cNvSpPr/>
              <p:nvPr/>
            </p:nvSpPr>
            <p:spPr>
              <a:xfrm>
                <a:off x="619740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 flipH="1">
                <a:off x="6185160" y="331236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3" name=""/>
            <p:cNvGrpSpPr/>
            <p:nvPr/>
          </p:nvGrpSpPr>
          <p:grpSpPr>
            <a:xfrm>
              <a:off x="6295680" y="3312360"/>
              <a:ext cx="97920" cy="73440"/>
              <a:chOff x="6295680" y="3312360"/>
              <a:chExt cx="97920" cy="73440"/>
            </a:xfrm>
          </p:grpSpPr>
          <p:sp>
            <p:nvSpPr>
              <p:cNvPr id="3294" name=""/>
              <p:cNvSpPr/>
              <p:nvPr/>
            </p:nvSpPr>
            <p:spPr>
              <a:xfrm>
                <a:off x="6307560" y="331236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H="1">
                <a:off x="6295680" y="331236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6" name=""/>
            <p:cNvGrpSpPr/>
            <p:nvPr/>
          </p:nvGrpSpPr>
          <p:grpSpPr>
            <a:xfrm>
              <a:off x="6430320" y="3312360"/>
              <a:ext cx="109800" cy="73440"/>
              <a:chOff x="6430320" y="3312360"/>
              <a:chExt cx="109800" cy="73440"/>
            </a:xfrm>
          </p:grpSpPr>
          <p:sp>
            <p:nvSpPr>
              <p:cNvPr id="3297" name=""/>
              <p:cNvSpPr/>
              <p:nvPr/>
            </p:nvSpPr>
            <p:spPr>
              <a:xfrm>
                <a:off x="6442560" y="331236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 flipH="1">
                <a:off x="6430320" y="331236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9" name=""/>
            <p:cNvGrpSpPr/>
            <p:nvPr/>
          </p:nvGrpSpPr>
          <p:grpSpPr>
            <a:xfrm>
              <a:off x="6540840" y="3312360"/>
              <a:ext cx="85680" cy="73440"/>
              <a:chOff x="6540840" y="3312360"/>
              <a:chExt cx="85680" cy="73440"/>
            </a:xfrm>
          </p:grpSpPr>
          <p:sp>
            <p:nvSpPr>
              <p:cNvPr id="3300" name=""/>
              <p:cNvSpPr/>
              <p:nvPr/>
            </p:nvSpPr>
            <p:spPr>
              <a:xfrm>
                <a:off x="6553080" y="331236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 flipH="1">
                <a:off x="6540840" y="331236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2" name=""/>
            <p:cNvGrpSpPr/>
            <p:nvPr/>
          </p:nvGrpSpPr>
          <p:grpSpPr>
            <a:xfrm>
              <a:off x="5731920" y="3582000"/>
              <a:ext cx="97920" cy="73440"/>
              <a:chOff x="5731920" y="3582000"/>
              <a:chExt cx="97920" cy="73440"/>
            </a:xfrm>
          </p:grpSpPr>
          <p:sp>
            <p:nvSpPr>
              <p:cNvPr id="3303" name=""/>
              <p:cNvSpPr/>
              <p:nvPr/>
            </p:nvSpPr>
            <p:spPr>
              <a:xfrm>
                <a:off x="574380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 flipH="1">
                <a:off x="573192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5" name=""/>
            <p:cNvGrpSpPr/>
            <p:nvPr/>
          </p:nvGrpSpPr>
          <p:grpSpPr>
            <a:xfrm>
              <a:off x="5842440" y="3582000"/>
              <a:ext cx="85680" cy="73440"/>
              <a:chOff x="5842440" y="3582000"/>
              <a:chExt cx="85680" cy="73440"/>
            </a:xfrm>
          </p:grpSpPr>
          <p:sp>
            <p:nvSpPr>
              <p:cNvPr id="3306" name=""/>
              <p:cNvSpPr/>
              <p:nvPr/>
            </p:nvSpPr>
            <p:spPr>
              <a:xfrm>
                <a:off x="585432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H="1">
                <a:off x="58424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8" name=""/>
            <p:cNvGrpSpPr/>
            <p:nvPr/>
          </p:nvGrpSpPr>
          <p:grpSpPr>
            <a:xfrm>
              <a:off x="5964480" y="3582000"/>
              <a:ext cx="110160" cy="73440"/>
              <a:chOff x="5964480" y="3582000"/>
              <a:chExt cx="110160" cy="73440"/>
            </a:xfrm>
          </p:grpSpPr>
          <p:sp>
            <p:nvSpPr>
              <p:cNvPr id="3309" name=""/>
              <p:cNvSpPr/>
              <p:nvPr/>
            </p:nvSpPr>
            <p:spPr>
              <a:xfrm>
                <a:off x="597672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 flipH="1">
                <a:off x="596448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1" name=""/>
            <p:cNvGrpSpPr/>
            <p:nvPr/>
          </p:nvGrpSpPr>
          <p:grpSpPr>
            <a:xfrm>
              <a:off x="6075000" y="3582000"/>
              <a:ext cx="85680" cy="73440"/>
              <a:chOff x="6075000" y="3582000"/>
              <a:chExt cx="85680" cy="73440"/>
            </a:xfrm>
          </p:grpSpPr>
          <p:sp>
            <p:nvSpPr>
              <p:cNvPr id="3312" name=""/>
              <p:cNvSpPr/>
              <p:nvPr/>
            </p:nvSpPr>
            <p:spPr>
              <a:xfrm>
                <a:off x="6086880" y="358200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 flipH="1">
                <a:off x="607500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4" name=""/>
            <p:cNvGrpSpPr/>
            <p:nvPr/>
          </p:nvGrpSpPr>
          <p:grpSpPr>
            <a:xfrm>
              <a:off x="6185160" y="3582000"/>
              <a:ext cx="110160" cy="73440"/>
              <a:chOff x="6185160" y="3582000"/>
              <a:chExt cx="110160" cy="73440"/>
            </a:xfrm>
          </p:grpSpPr>
          <p:sp>
            <p:nvSpPr>
              <p:cNvPr id="3315" name=""/>
              <p:cNvSpPr/>
              <p:nvPr/>
            </p:nvSpPr>
            <p:spPr>
              <a:xfrm>
                <a:off x="619740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 flipH="1">
                <a:off x="6185160" y="358200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7" name=""/>
            <p:cNvGrpSpPr/>
            <p:nvPr/>
          </p:nvGrpSpPr>
          <p:grpSpPr>
            <a:xfrm>
              <a:off x="6295680" y="3582000"/>
              <a:ext cx="97920" cy="73440"/>
              <a:chOff x="6295680" y="3582000"/>
              <a:chExt cx="97920" cy="73440"/>
            </a:xfrm>
          </p:grpSpPr>
          <p:sp>
            <p:nvSpPr>
              <p:cNvPr id="3318" name=""/>
              <p:cNvSpPr/>
              <p:nvPr/>
            </p:nvSpPr>
            <p:spPr>
              <a:xfrm>
                <a:off x="6307560" y="358200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6295680" y="358200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0" name=""/>
            <p:cNvGrpSpPr/>
            <p:nvPr/>
          </p:nvGrpSpPr>
          <p:grpSpPr>
            <a:xfrm>
              <a:off x="6430320" y="3582000"/>
              <a:ext cx="109800" cy="73440"/>
              <a:chOff x="6430320" y="3582000"/>
              <a:chExt cx="109800" cy="73440"/>
            </a:xfrm>
          </p:grpSpPr>
          <p:sp>
            <p:nvSpPr>
              <p:cNvPr id="3321" name=""/>
              <p:cNvSpPr/>
              <p:nvPr/>
            </p:nvSpPr>
            <p:spPr>
              <a:xfrm>
                <a:off x="6442560" y="358200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6430320" y="358200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3" name=""/>
            <p:cNvGrpSpPr/>
            <p:nvPr/>
          </p:nvGrpSpPr>
          <p:grpSpPr>
            <a:xfrm>
              <a:off x="6540840" y="3582000"/>
              <a:ext cx="85680" cy="73440"/>
              <a:chOff x="6540840" y="3582000"/>
              <a:chExt cx="85680" cy="73440"/>
            </a:xfrm>
          </p:grpSpPr>
          <p:sp>
            <p:nvSpPr>
              <p:cNvPr id="3324" name=""/>
              <p:cNvSpPr/>
              <p:nvPr/>
            </p:nvSpPr>
            <p:spPr>
              <a:xfrm>
                <a:off x="6553080" y="358200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 flipH="1">
                <a:off x="6540840" y="358200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6" name=""/>
            <p:cNvGrpSpPr/>
            <p:nvPr/>
          </p:nvGrpSpPr>
          <p:grpSpPr>
            <a:xfrm>
              <a:off x="5731920" y="3851640"/>
              <a:ext cx="97920" cy="73440"/>
              <a:chOff x="5731920" y="3851640"/>
              <a:chExt cx="97920" cy="73440"/>
            </a:xfrm>
          </p:grpSpPr>
          <p:sp>
            <p:nvSpPr>
              <p:cNvPr id="3327" name=""/>
              <p:cNvSpPr/>
              <p:nvPr/>
            </p:nvSpPr>
            <p:spPr>
              <a:xfrm>
                <a:off x="574380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 flipH="1">
                <a:off x="573192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29" name=""/>
            <p:cNvGrpSpPr/>
            <p:nvPr/>
          </p:nvGrpSpPr>
          <p:grpSpPr>
            <a:xfrm>
              <a:off x="5842440" y="3851640"/>
              <a:ext cx="85680" cy="73440"/>
              <a:chOff x="5842440" y="3851640"/>
              <a:chExt cx="85680" cy="73440"/>
            </a:xfrm>
          </p:grpSpPr>
          <p:sp>
            <p:nvSpPr>
              <p:cNvPr id="3330" name=""/>
              <p:cNvSpPr/>
              <p:nvPr/>
            </p:nvSpPr>
            <p:spPr>
              <a:xfrm>
                <a:off x="585432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8424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2" name=""/>
            <p:cNvGrpSpPr/>
            <p:nvPr/>
          </p:nvGrpSpPr>
          <p:grpSpPr>
            <a:xfrm>
              <a:off x="5964480" y="3851640"/>
              <a:ext cx="110160" cy="73440"/>
              <a:chOff x="5964480" y="3851640"/>
              <a:chExt cx="110160" cy="73440"/>
            </a:xfrm>
          </p:grpSpPr>
          <p:sp>
            <p:nvSpPr>
              <p:cNvPr id="3333" name=""/>
              <p:cNvSpPr/>
              <p:nvPr/>
            </p:nvSpPr>
            <p:spPr>
              <a:xfrm>
                <a:off x="597672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596448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5" name=""/>
            <p:cNvGrpSpPr/>
            <p:nvPr/>
          </p:nvGrpSpPr>
          <p:grpSpPr>
            <a:xfrm>
              <a:off x="6075000" y="3851640"/>
              <a:ext cx="85680" cy="73440"/>
              <a:chOff x="6075000" y="3851640"/>
              <a:chExt cx="85680" cy="73440"/>
            </a:xfrm>
          </p:grpSpPr>
          <p:sp>
            <p:nvSpPr>
              <p:cNvPr id="3336" name=""/>
              <p:cNvSpPr/>
              <p:nvPr/>
            </p:nvSpPr>
            <p:spPr>
              <a:xfrm>
                <a:off x="6086880" y="385164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607500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8" name=""/>
            <p:cNvGrpSpPr/>
            <p:nvPr/>
          </p:nvGrpSpPr>
          <p:grpSpPr>
            <a:xfrm>
              <a:off x="6185160" y="3851640"/>
              <a:ext cx="110160" cy="73440"/>
              <a:chOff x="6185160" y="3851640"/>
              <a:chExt cx="110160" cy="73440"/>
            </a:xfrm>
          </p:grpSpPr>
          <p:sp>
            <p:nvSpPr>
              <p:cNvPr id="3339" name=""/>
              <p:cNvSpPr/>
              <p:nvPr/>
            </p:nvSpPr>
            <p:spPr>
              <a:xfrm>
                <a:off x="619740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6185160" y="385164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1" name=""/>
            <p:cNvGrpSpPr/>
            <p:nvPr/>
          </p:nvGrpSpPr>
          <p:grpSpPr>
            <a:xfrm>
              <a:off x="6295680" y="3851640"/>
              <a:ext cx="97920" cy="73440"/>
              <a:chOff x="6295680" y="3851640"/>
              <a:chExt cx="97920" cy="73440"/>
            </a:xfrm>
          </p:grpSpPr>
          <p:sp>
            <p:nvSpPr>
              <p:cNvPr id="3342" name=""/>
              <p:cNvSpPr/>
              <p:nvPr/>
            </p:nvSpPr>
            <p:spPr>
              <a:xfrm>
                <a:off x="6307560" y="385164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6295680" y="385164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4" name=""/>
            <p:cNvGrpSpPr/>
            <p:nvPr/>
          </p:nvGrpSpPr>
          <p:grpSpPr>
            <a:xfrm>
              <a:off x="6430320" y="3851640"/>
              <a:ext cx="109800" cy="73440"/>
              <a:chOff x="6430320" y="3851640"/>
              <a:chExt cx="109800" cy="73440"/>
            </a:xfrm>
          </p:grpSpPr>
          <p:sp>
            <p:nvSpPr>
              <p:cNvPr id="3345" name=""/>
              <p:cNvSpPr/>
              <p:nvPr/>
            </p:nvSpPr>
            <p:spPr>
              <a:xfrm>
                <a:off x="6442560" y="385164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6430320" y="385164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7" name=""/>
            <p:cNvGrpSpPr/>
            <p:nvPr/>
          </p:nvGrpSpPr>
          <p:grpSpPr>
            <a:xfrm>
              <a:off x="6540840" y="3851640"/>
              <a:ext cx="85680" cy="73440"/>
              <a:chOff x="6540840" y="3851640"/>
              <a:chExt cx="85680" cy="73440"/>
            </a:xfrm>
          </p:grpSpPr>
          <p:sp>
            <p:nvSpPr>
              <p:cNvPr id="3348" name=""/>
              <p:cNvSpPr/>
              <p:nvPr/>
            </p:nvSpPr>
            <p:spPr>
              <a:xfrm>
                <a:off x="6553080" y="385164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6540840" y="385164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0" name=""/>
            <p:cNvGrpSpPr/>
            <p:nvPr/>
          </p:nvGrpSpPr>
          <p:grpSpPr>
            <a:xfrm>
              <a:off x="5731920" y="4648320"/>
              <a:ext cx="97920" cy="73440"/>
              <a:chOff x="5731920" y="4648320"/>
              <a:chExt cx="97920" cy="73440"/>
            </a:xfrm>
          </p:grpSpPr>
          <p:sp>
            <p:nvSpPr>
              <p:cNvPr id="3351" name=""/>
              <p:cNvSpPr/>
              <p:nvPr/>
            </p:nvSpPr>
            <p:spPr>
              <a:xfrm>
                <a:off x="574380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 flipH="1">
                <a:off x="573192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3" name=""/>
            <p:cNvGrpSpPr/>
            <p:nvPr/>
          </p:nvGrpSpPr>
          <p:grpSpPr>
            <a:xfrm>
              <a:off x="5842440" y="4648320"/>
              <a:ext cx="85680" cy="73440"/>
              <a:chOff x="5842440" y="4648320"/>
              <a:chExt cx="85680" cy="73440"/>
            </a:xfrm>
          </p:grpSpPr>
          <p:sp>
            <p:nvSpPr>
              <p:cNvPr id="3354" name=""/>
              <p:cNvSpPr/>
              <p:nvPr/>
            </p:nvSpPr>
            <p:spPr>
              <a:xfrm>
                <a:off x="585432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58424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6" name=""/>
            <p:cNvGrpSpPr/>
            <p:nvPr/>
          </p:nvGrpSpPr>
          <p:grpSpPr>
            <a:xfrm>
              <a:off x="5964480" y="4648320"/>
              <a:ext cx="110160" cy="73440"/>
              <a:chOff x="5964480" y="4648320"/>
              <a:chExt cx="110160" cy="73440"/>
            </a:xfrm>
          </p:grpSpPr>
          <p:sp>
            <p:nvSpPr>
              <p:cNvPr id="3357" name=""/>
              <p:cNvSpPr/>
              <p:nvPr/>
            </p:nvSpPr>
            <p:spPr>
              <a:xfrm>
                <a:off x="597672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596448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9" name=""/>
            <p:cNvGrpSpPr/>
            <p:nvPr/>
          </p:nvGrpSpPr>
          <p:grpSpPr>
            <a:xfrm>
              <a:off x="6075000" y="4648320"/>
              <a:ext cx="85680" cy="73440"/>
              <a:chOff x="6075000" y="4648320"/>
              <a:chExt cx="85680" cy="73440"/>
            </a:xfrm>
          </p:grpSpPr>
          <p:sp>
            <p:nvSpPr>
              <p:cNvPr id="3360" name=""/>
              <p:cNvSpPr/>
              <p:nvPr/>
            </p:nvSpPr>
            <p:spPr>
              <a:xfrm>
                <a:off x="6086880" y="4648320"/>
                <a:ext cx="612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07500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2" name=""/>
            <p:cNvGrpSpPr/>
            <p:nvPr/>
          </p:nvGrpSpPr>
          <p:grpSpPr>
            <a:xfrm>
              <a:off x="6185160" y="4648320"/>
              <a:ext cx="110160" cy="73440"/>
              <a:chOff x="6185160" y="4648320"/>
              <a:chExt cx="110160" cy="73440"/>
            </a:xfrm>
          </p:grpSpPr>
          <p:sp>
            <p:nvSpPr>
              <p:cNvPr id="3363" name=""/>
              <p:cNvSpPr/>
              <p:nvPr/>
            </p:nvSpPr>
            <p:spPr>
              <a:xfrm>
                <a:off x="619740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185160" y="4648320"/>
                <a:ext cx="11016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6295680" y="4648320"/>
              <a:ext cx="97920" cy="73440"/>
              <a:chOff x="6295680" y="4648320"/>
              <a:chExt cx="97920" cy="73440"/>
            </a:xfrm>
          </p:grpSpPr>
          <p:sp>
            <p:nvSpPr>
              <p:cNvPr id="3366" name=""/>
              <p:cNvSpPr/>
              <p:nvPr/>
            </p:nvSpPr>
            <p:spPr>
              <a:xfrm>
                <a:off x="6307560" y="4648320"/>
                <a:ext cx="734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295680" y="4648320"/>
                <a:ext cx="979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8" name=""/>
            <p:cNvGrpSpPr/>
            <p:nvPr/>
          </p:nvGrpSpPr>
          <p:grpSpPr>
            <a:xfrm>
              <a:off x="6430320" y="4648320"/>
              <a:ext cx="109800" cy="73440"/>
              <a:chOff x="6430320" y="4648320"/>
              <a:chExt cx="109800" cy="73440"/>
            </a:xfrm>
          </p:grpSpPr>
          <p:sp>
            <p:nvSpPr>
              <p:cNvPr id="3369" name=""/>
              <p:cNvSpPr/>
              <p:nvPr/>
            </p:nvSpPr>
            <p:spPr>
              <a:xfrm>
                <a:off x="6442560" y="4648320"/>
                <a:ext cx="8532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430320" y="4648320"/>
                <a:ext cx="10980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6540840" y="4648320"/>
              <a:ext cx="85680" cy="73440"/>
              <a:chOff x="6540840" y="4648320"/>
              <a:chExt cx="85680" cy="73440"/>
            </a:xfrm>
          </p:grpSpPr>
          <p:sp>
            <p:nvSpPr>
              <p:cNvPr id="3372" name=""/>
              <p:cNvSpPr/>
              <p:nvPr/>
            </p:nvSpPr>
            <p:spPr>
              <a:xfrm>
                <a:off x="6553080" y="4648320"/>
                <a:ext cx="6084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540840" y="4648320"/>
                <a:ext cx="85680" cy="7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4" name=""/>
            <p:cNvGrpSpPr/>
            <p:nvPr/>
          </p:nvGrpSpPr>
          <p:grpSpPr>
            <a:xfrm>
              <a:off x="5731920" y="4930200"/>
              <a:ext cx="97920" cy="60840"/>
              <a:chOff x="5731920" y="4930200"/>
              <a:chExt cx="97920" cy="60840"/>
            </a:xfrm>
          </p:grpSpPr>
          <p:sp>
            <p:nvSpPr>
              <p:cNvPr id="3375" name=""/>
              <p:cNvSpPr/>
              <p:nvPr/>
            </p:nvSpPr>
            <p:spPr>
              <a:xfrm>
                <a:off x="574380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573192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7" name=""/>
            <p:cNvGrpSpPr/>
            <p:nvPr/>
          </p:nvGrpSpPr>
          <p:grpSpPr>
            <a:xfrm>
              <a:off x="5842440" y="4930200"/>
              <a:ext cx="85680" cy="60840"/>
              <a:chOff x="5842440" y="4930200"/>
              <a:chExt cx="85680" cy="60840"/>
            </a:xfrm>
          </p:grpSpPr>
          <p:sp>
            <p:nvSpPr>
              <p:cNvPr id="3378" name=""/>
              <p:cNvSpPr/>
              <p:nvPr/>
            </p:nvSpPr>
            <p:spPr>
              <a:xfrm>
                <a:off x="585432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58424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0" name=""/>
            <p:cNvGrpSpPr/>
            <p:nvPr/>
          </p:nvGrpSpPr>
          <p:grpSpPr>
            <a:xfrm>
              <a:off x="5964480" y="4930200"/>
              <a:ext cx="110160" cy="60840"/>
              <a:chOff x="5964480" y="4930200"/>
              <a:chExt cx="110160" cy="60840"/>
            </a:xfrm>
          </p:grpSpPr>
          <p:sp>
            <p:nvSpPr>
              <p:cNvPr id="3381" name=""/>
              <p:cNvSpPr/>
              <p:nvPr/>
            </p:nvSpPr>
            <p:spPr>
              <a:xfrm>
                <a:off x="597672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596448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3" name=""/>
            <p:cNvGrpSpPr/>
            <p:nvPr/>
          </p:nvGrpSpPr>
          <p:grpSpPr>
            <a:xfrm>
              <a:off x="6075000" y="4930200"/>
              <a:ext cx="85680" cy="60840"/>
              <a:chOff x="6075000" y="4930200"/>
              <a:chExt cx="85680" cy="60840"/>
            </a:xfrm>
          </p:grpSpPr>
          <p:sp>
            <p:nvSpPr>
              <p:cNvPr id="3384" name=""/>
              <p:cNvSpPr/>
              <p:nvPr/>
            </p:nvSpPr>
            <p:spPr>
              <a:xfrm>
                <a:off x="6086880" y="4930200"/>
                <a:ext cx="612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07500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6" name=""/>
            <p:cNvGrpSpPr/>
            <p:nvPr/>
          </p:nvGrpSpPr>
          <p:grpSpPr>
            <a:xfrm>
              <a:off x="6185160" y="4930200"/>
              <a:ext cx="110160" cy="60840"/>
              <a:chOff x="6185160" y="4930200"/>
              <a:chExt cx="110160" cy="60840"/>
            </a:xfrm>
          </p:grpSpPr>
          <p:sp>
            <p:nvSpPr>
              <p:cNvPr id="3387" name=""/>
              <p:cNvSpPr/>
              <p:nvPr/>
            </p:nvSpPr>
            <p:spPr>
              <a:xfrm>
                <a:off x="619740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6185160" y="4930200"/>
                <a:ext cx="11016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89" name=""/>
            <p:cNvGrpSpPr/>
            <p:nvPr/>
          </p:nvGrpSpPr>
          <p:grpSpPr>
            <a:xfrm>
              <a:off x="6295680" y="4930200"/>
              <a:ext cx="97920" cy="60840"/>
              <a:chOff x="6295680" y="4930200"/>
              <a:chExt cx="97920" cy="60840"/>
            </a:xfrm>
          </p:grpSpPr>
          <p:sp>
            <p:nvSpPr>
              <p:cNvPr id="3390" name=""/>
              <p:cNvSpPr/>
              <p:nvPr/>
            </p:nvSpPr>
            <p:spPr>
              <a:xfrm>
                <a:off x="6307560" y="4930200"/>
                <a:ext cx="734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6295680" y="4930200"/>
                <a:ext cx="979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2" name=""/>
            <p:cNvGrpSpPr/>
            <p:nvPr/>
          </p:nvGrpSpPr>
          <p:grpSpPr>
            <a:xfrm>
              <a:off x="6430320" y="4930200"/>
              <a:ext cx="109800" cy="60840"/>
              <a:chOff x="6430320" y="4930200"/>
              <a:chExt cx="109800" cy="60840"/>
            </a:xfrm>
          </p:grpSpPr>
          <p:sp>
            <p:nvSpPr>
              <p:cNvPr id="3393" name=""/>
              <p:cNvSpPr/>
              <p:nvPr/>
            </p:nvSpPr>
            <p:spPr>
              <a:xfrm>
                <a:off x="6442560" y="4930200"/>
                <a:ext cx="853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430320" y="4930200"/>
                <a:ext cx="10980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5" name=""/>
            <p:cNvGrpSpPr/>
            <p:nvPr/>
          </p:nvGrpSpPr>
          <p:grpSpPr>
            <a:xfrm>
              <a:off x="6540840" y="4930200"/>
              <a:ext cx="85680" cy="60840"/>
              <a:chOff x="6540840" y="4930200"/>
              <a:chExt cx="85680" cy="60840"/>
            </a:xfrm>
          </p:grpSpPr>
          <p:sp>
            <p:nvSpPr>
              <p:cNvPr id="3396" name=""/>
              <p:cNvSpPr/>
              <p:nvPr/>
            </p:nvSpPr>
            <p:spPr>
              <a:xfrm>
                <a:off x="6553080" y="4930200"/>
                <a:ext cx="6084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6540840" y="4930200"/>
                <a:ext cx="856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8" name=""/>
            <p:cNvSpPr/>
            <p:nvPr/>
          </p:nvSpPr>
          <p:spPr>
            <a:xfrm>
              <a:off x="7245720" y="6456240"/>
              <a:ext cx="13482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9" name=""/>
          <p:cNvSpPr/>
          <p:nvPr/>
        </p:nvSpPr>
        <p:spPr>
          <a:xfrm>
            <a:off x="5710320" y="1290600"/>
            <a:ext cx="1409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279360"/>
                <a:tab algn="l" pos="57168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programmed P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93C-D333-470F-9AB0-0EC6496BC83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2" name=""/>
          <p:cNvSpPr/>
          <p:nvPr/>
        </p:nvSpPr>
        <p:spPr>
          <a:xfrm>
            <a:off x="2724480" y="3468600"/>
            <a:ext cx="134568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295800" y="3494160"/>
            <a:ext cx="2152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2724480" y="3441600"/>
            <a:ext cx="13456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295440" y="3454560"/>
            <a:ext cx="2156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40992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3308400" y="34416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3308400" y="380988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1898640" y="290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1898640" y="308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1892160" y="290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2178000" y="30607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1898640" y="343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1898640" y="387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1892160" y="34416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2140560" y="34434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2140200" y="34164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2584440" y="3619440"/>
            <a:ext cx="763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1898640" y="3994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1898640" y="4451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1892160" y="400068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2" name=""/>
          <p:cNvSpPr/>
          <p:nvPr/>
        </p:nvSpPr>
        <p:spPr>
          <a:xfrm>
            <a:off x="2140560" y="400212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3" name=""/>
          <p:cNvSpPr/>
          <p:nvPr/>
        </p:nvSpPr>
        <p:spPr>
          <a:xfrm>
            <a:off x="2140200" y="3987720"/>
            <a:ext cx="44388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4" name=""/>
          <p:cNvSpPr/>
          <p:nvPr/>
        </p:nvSpPr>
        <p:spPr>
          <a:xfrm>
            <a:off x="2584440" y="4191120"/>
            <a:ext cx="763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5" name=""/>
          <p:cNvSpPr/>
          <p:nvPr/>
        </p:nvSpPr>
        <p:spPr>
          <a:xfrm>
            <a:off x="2660760" y="4844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6" name=""/>
          <p:cNvSpPr/>
          <p:nvPr/>
        </p:nvSpPr>
        <p:spPr>
          <a:xfrm>
            <a:off x="2660760" y="5289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7" name=""/>
          <p:cNvSpPr/>
          <p:nvPr/>
        </p:nvSpPr>
        <p:spPr>
          <a:xfrm>
            <a:off x="2654280" y="485136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8" name=""/>
          <p:cNvSpPr/>
          <p:nvPr/>
        </p:nvSpPr>
        <p:spPr>
          <a:xfrm>
            <a:off x="2902680" y="4853160"/>
            <a:ext cx="43056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9" name=""/>
          <p:cNvSpPr/>
          <p:nvPr/>
        </p:nvSpPr>
        <p:spPr>
          <a:xfrm>
            <a:off x="2902320" y="4826160"/>
            <a:ext cx="4309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0" name=""/>
          <p:cNvSpPr/>
          <p:nvPr/>
        </p:nvSpPr>
        <p:spPr>
          <a:xfrm>
            <a:off x="33336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1" name=""/>
          <p:cNvSpPr/>
          <p:nvPr/>
        </p:nvSpPr>
        <p:spPr>
          <a:xfrm>
            <a:off x="2000160" y="49784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2000160" y="51562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3" name=""/>
          <p:cNvSpPr/>
          <p:nvPr/>
        </p:nvSpPr>
        <p:spPr>
          <a:xfrm>
            <a:off x="1994040" y="49784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4" name=""/>
          <p:cNvSpPr/>
          <p:nvPr/>
        </p:nvSpPr>
        <p:spPr>
          <a:xfrm>
            <a:off x="1898640" y="5130720"/>
            <a:ext cx="8892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5" name=""/>
          <p:cNvSpPr/>
          <p:nvPr/>
        </p:nvSpPr>
        <p:spPr>
          <a:xfrm>
            <a:off x="3879720" y="488952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3879720" y="5067000"/>
            <a:ext cx="26676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7" name=""/>
          <p:cNvSpPr/>
          <p:nvPr/>
        </p:nvSpPr>
        <p:spPr>
          <a:xfrm>
            <a:off x="3873600" y="488952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8" name=""/>
          <p:cNvSpPr/>
          <p:nvPr/>
        </p:nvSpPr>
        <p:spPr>
          <a:xfrm>
            <a:off x="3790800" y="504180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9" name=""/>
          <p:cNvSpPr/>
          <p:nvPr/>
        </p:nvSpPr>
        <p:spPr>
          <a:xfrm>
            <a:off x="2038320" y="5791320"/>
            <a:ext cx="12949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0" name=""/>
          <p:cNvSpPr/>
          <p:nvPr/>
        </p:nvSpPr>
        <p:spPr>
          <a:xfrm>
            <a:off x="2038680" y="5818320"/>
            <a:ext cx="129456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1" name=""/>
          <p:cNvSpPr/>
          <p:nvPr/>
        </p:nvSpPr>
        <p:spPr>
          <a:xfrm>
            <a:off x="2622600" y="5818320"/>
            <a:ext cx="12672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2" name=""/>
          <p:cNvSpPr/>
          <p:nvPr/>
        </p:nvSpPr>
        <p:spPr>
          <a:xfrm>
            <a:off x="2660400" y="5816520"/>
            <a:ext cx="889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3" name=""/>
          <p:cNvSpPr/>
          <p:nvPr/>
        </p:nvSpPr>
        <p:spPr>
          <a:xfrm>
            <a:off x="2660760" y="588024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2660760" y="6070680"/>
            <a:ext cx="75960" cy="88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2000160" y="59180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2000160" y="6095520"/>
            <a:ext cx="26676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1994040" y="59180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2279520" y="6070680"/>
            <a:ext cx="76320" cy="88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9" name=""/>
          <p:cNvSpPr/>
          <p:nvPr/>
        </p:nvSpPr>
        <p:spPr>
          <a:xfrm>
            <a:off x="5950080" y="30542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0" name=""/>
          <p:cNvSpPr/>
          <p:nvPr/>
        </p:nvSpPr>
        <p:spPr>
          <a:xfrm>
            <a:off x="5950080" y="34988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1" name=""/>
          <p:cNvSpPr/>
          <p:nvPr/>
        </p:nvSpPr>
        <p:spPr>
          <a:xfrm>
            <a:off x="5943600" y="306072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6191280" y="3062160"/>
            <a:ext cx="44424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6190920" y="3035520"/>
            <a:ext cx="44460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6635880" y="32511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5" name=""/>
          <p:cNvSpPr/>
          <p:nvPr/>
        </p:nvSpPr>
        <p:spPr>
          <a:xfrm>
            <a:off x="5943600" y="290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5943600" y="349200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7080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7080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6496200" y="4116240"/>
            <a:ext cx="13456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7143840" y="4129200"/>
            <a:ext cx="12672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6496200" y="4089600"/>
            <a:ext cx="1345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7067160" y="4127760"/>
            <a:ext cx="20340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7175520" y="45208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7175520" y="39495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7182000" y="4191120"/>
            <a:ext cx="7596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7182000" y="4381560"/>
            <a:ext cx="7596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/>
          <p:cNvSpPr/>
          <p:nvPr/>
        </p:nvSpPr>
        <p:spPr>
          <a:xfrm>
            <a:off x="5479920" y="38037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8" name=""/>
          <p:cNvSpPr/>
          <p:nvPr/>
        </p:nvSpPr>
        <p:spPr>
          <a:xfrm>
            <a:off x="5479920" y="4260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9" name=""/>
          <p:cNvSpPr/>
          <p:nvPr/>
        </p:nvSpPr>
        <p:spPr>
          <a:xfrm>
            <a:off x="5473800" y="380988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0" name=""/>
          <p:cNvSpPr/>
          <p:nvPr/>
        </p:nvSpPr>
        <p:spPr>
          <a:xfrm>
            <a:off x="5721840" y="3811680"/>
            <a:ext cx="44352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1" name=""/>
          <p:cNvSpPr/>
          <p:nvPr/>
        </p:nvSpPr>
        <p:spPr>
          <a:xfrm>
            <a:off x="5721480" y="3797640"/>
            <a:ext cx="4438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2" name=""/>
          <p:cNvSpPr/>
          <p:nvPr/>
        </p:nvSpPr>
        <p:spPr>
          <a:xfrm>
            <a:off x="6153120" y="4000680"/>
            <a:ext cx="88920" cy="75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3" name=""/>
          <p:cNvSpPr/>
          <p:nvPr/>
        </p:nvSpPr>
        <p:spPr>
          <a:xfrm>
            <a:off x="5479920" y="503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4" name=""/>
          <p:cNvSpPr/>
          <p:nvPr/>
        </p:nvSpPr>
        <p:spPr>
          <a:xfrm>
            <a:off x="5479920" y="547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5" name=""/>
          <p:cNvSpPr/>
          <p:nvPr/>
        </p:nvSpPr>
        <p:spPr>
          <a:xfrm>
            <a:off x="5473800" y="50418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6" name=""/>
          <p:cNvSpPr/>
          <p:nvPr/>
        </p:nvSpPr>
        <p:spPr>
          <a:xfrm>
            <a:off x="5721840" y="5043600"/>
            <a:ext cx="44352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7" name=""/>
          <p:cNvSpPr/>
          <p:nvPr/>
        </p:nvSpPr>
        <p:spPr>
          <a:xfrm>
            <a:off x="5721480" y="501660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8" name=""/>
          <p:cNvSpPr/>
          <p:nvPr/>
        </p:nvSpPr>
        <p:spPr>
          <a:xfrm>
            <a:off x="6153120" y="523224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9" name=""/>
          <p:cNvSpPr/>
          <p:nvPr/>
        </p:nvSpPr>
        <p:spPr>
          <a:xfrm>
            <a:off x="5479920" y="4375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0" name=""/>
          <p:cNvSpPr/>
          <p:nvPr/>
        </p:nvSpPr>
        <p:spPr>
          <a:xfrm>
            <a:off x="5479920" y="4819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1" name=""/>
          <p:cNvSpPr/>
          <p:nvPr/>
        </p:nvSpPr>
        <p:spPr>
          <a:xfrm>
            <a:off x="5473800" y="438156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2" name=""/>
          <p:cNvSpPr/>
          <p:nvPr/>
        </p:nvSpPr>
        <p:spPr>
          <a:xfrm>
            <a:off x="5721840" y="4383000"/>
            <a:ext cx="443520" cy="46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3" name=""/>
          <p:cNvSpPr/>
          <p:nvPr/>
        </p:nvSpPr>
        <p:spPr>
          <a:xfrm>
            <a:off x="5721480" y="4356360"/>
            <a:ext cx="4438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4" name=""/>
          <p:cNvSpPr/>
          <p:nvPr/>
        </p:nvSpPr>
        <p:spPr>
          <a:xfrm>
            <a:off x="6153120" y="4572000"/>
            <a:ext cx="889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5" name=""/>
          <p:cNvSpPr/>
          <p:nvPr/>
        </p:nvSpPr>
        <p:spPr>
          <a:xfrm>
            <a:off x="5289480" y="3378240"/>
            <a:ext cx="2667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6" name=""/>
          <p:cNvSpPr/>
          <p:nvPr/>
        </p:nvSpPr>
        <p:spPr>
          <a:xfrm flipV="1">
            <a:off x="5289480" y="3556080"/>
            <a:ext cx="26676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7" name=""/>
          <p:cNvSpPr/>
          <p:nvPr/>
        </p:nvSpPr>
        <p:spPr>
          <a:xfrm>
            <a:off x="5283360" y="3378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5568840" y="3530520"/>
            <a:ext cx="88920" cy="76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4070520" y="36511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4267080" y="3511440"/>
            <a:ext cx="26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3130560" y="34606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227952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2470320" y="309240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3124080" y="309888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3219480" y="3651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2660760" y="36511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2838600" y="36511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3130560" y="38419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2660760" y="422280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3124080" y="38480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2838600" y="4222800"/>
            <a:ext cx="279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340992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360036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41590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4330800" y="49338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2470320" y="51624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227952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2470320" y="591192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2368440" y="591192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2362320" y="516888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2355840" y="5156280"/>
            <a:ext cx="38160" cy="38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3308400" y="60134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>
            <a:off x="3498840" y="6013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4343400" y="58863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>
            <a:off x="68896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6699240" y="32828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>
            <a:off x="6883560" y="328932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782964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8026560" y="4184640"/>
            <a:ext cx="22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5289480" y="38419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5092560" y="376560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5759280" y="318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5562720" y="31050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180972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1708200" y="6102360"/>
            <a:ext cx="8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1511280" y="602604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2470320" y="49719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2368440" y="49719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2362320" y="4788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708200" y="4781520"/>
            <a:ext cx="64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511280" y="47052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08200" y="41212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511280" y="404496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0820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511280" y="34862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699120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622944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6610320" y="422280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6603840" y="403848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64198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5289480" y="50734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4991040" y="499752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2470320" y="610236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2368440" y="610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528948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5092560" y="517536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5289480" y="40323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5092560" y="395604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5759280" y="33717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5562720" y="329580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>
            <a:off x="1708200" y="516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>
            <a:off x="1511280" y="5086440"/>
            <a:ext cx="241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>
            <a:off x="1708200" y="43117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>
            <a:off x="1511280" y="423540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>
            <a:off x="68896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>
            <a:off x="6229440" y="52513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>
            <a:off x="6419880" y="525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>
            <a:off x="6883560" y="461016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>
            <a:off x="5289480" y="450216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>
            <a:off x="5092560" y="442584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>
            <a:off x="5759280" y="29908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>
            <a:off x="5562720" y="2914560"/>
            <a:ext cx="25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>
            <a:off x="1708200" y="30924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>
            <a:off x="1511280" y="3016080"/>
            <a:ext cx="25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>
            <a:off x="6991200" y="441324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>
            <a:off x="622944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>
            <a:off x="6610320" y="44132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419880" y="460368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603840" y="44197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509904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4902120" y="3486240"/>
            <a:ext cx="241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5289480" y="42228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5092560" y="4146480"/>
            <a:ext cx="24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1708200" y="37530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>
            <a:off x="1511280" y="3676680"/>
            <a:ext cx="241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5759280" y="3562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>
            <a:off x="5670720" y="3562200"/>
            <a:ext cx="17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5289480" y="544212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>
            <a:off x="4991040" y="536580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5289480" y="46926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>
            <a:off x="4991040" y="4616280"/>
            <a:ext cx="317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\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design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converter: NAND gate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r regularity, harder to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mak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2D72-3FFB-487D-BE61-5553ED341F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4" name=""/>
          <p:cNvGrpSpPr/>
          <p:nvPr/>
        </p:nvGrpSpPr>
        <p:grpSpPr>
          <a:xfrm>
            <a:off x="5275440" y="1414440"/>
            <a:ext cx="3931560" cy="5370120"/>
            <a:chOff x="5275440" y="1414440"/>
            <a:chExt cx="3931560" cy="5370120"/>
          </a:xfrm>
        </p:grpSpPr>
        <p:sp>
          <p:nvSpPr>
            <p:cNvPr id="3585" name=""/>
            <p:cNvSpPr/>
            <p:nvPr/>
          </p:nvSpPr>
          <p:spPr>
            <a:xfrm>
              <a:off x="633096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6219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5948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5787720" y="190188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41728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515920" y="1889640"/>
              <a:ext cx="0" cy="386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584040" y="29080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584040" y="31921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6577560" y="290124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732360" y="29156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732000" y="288972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275440" y="30438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7016040" y="30438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98" name=""/>
            <p:cNvGrpSpPr/>
            <p:nvPr/>
          </p:nvGrpSpPr>
          <p:grpSpPr>
            <a:xfrm>
              <a:off x="6003720" y="2321280"/>
              <a:ext cx="110880" cy="86400"/>
              <a:chOff x="6003720" y="2321280"/>
              <a:chExt cx="110880" cy="86400"/>
            </a:xfrm>
          </p:grpSpPr>
          <p:sp>
            <p:nvSpPr>
              <p:cNvPr id="3599" name=""/>
              <p:cNvSpPr/>
              <p:nvPr/>
            </p:nvSpPr>
            <p:spPr>
              <a:xfrm>
                <a:off x="601596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 flipH="1">
                <a:off x="600372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1" name=""/>
            <p:cNvGrpSpPr/>
            <p:nvPr/>
          </p:nvGrpSpPr>
          <p:grpSpPr>
            <a:xfrm>
              <a:off x="5632920" y="2321280"/>
              <a:ext cx="111240" cy="86400"/>
              <a:chOff x="5632920" y="2321280"/>
              <a:chExt cx="111240" cy="86400"/>
            </a:xfrm>
          </p:grpSpPr>
          <p:sp>
            <p:nvSpPr>
              <p:cNvPr id="3602" name=""/>
              <p:cNvSpPr/>
              <p:nvPr/>
            </p:nvSpPr>
            <p:spPr>
              <a:xfrm>
                <a:off x="5645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 flipH="1">
                <a:off x="5632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4" name=""/>
            <p:cNvSpPr/>
            <p:nvPr/>
          </p:nvSpPr>
          <p:spPr>
            <a:xfrm flipH="1">
              <a:off x="6262920" y="1741320"/>
              <a:ext cx="14796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176880" y="1741320"/>
              <a:ext cx="8640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1642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3248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62690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584040" y="18831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6584040" y="21672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V="1">
              <a:off x="6577560" y="187668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732360" y="1891080"/>
              <a:ext cx="27072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32000" y="18644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5275440" y="2018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7016040" y="2018880"/>
              <a:ext cx="14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584040" y="22168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584040" y="2512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V="1">
              <a:off x="6577560" y="22100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732360" y="22244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732000" y="22100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5275440" y="23648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7016040" y="23648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584040" y="25621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584040" y="284652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V="1">
              <a:off x="6577560" y="255636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732360" y="257004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6732000" y="255600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5275440" y="2710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016040" y="2710440"/>
              <a:ext cx="144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6003720" y="1976040"/>
              <a:ext cx="110880" cy="86400"/>
              <a:chOff x="6003720" y="1976040"/>
              <a:chExt cx="110880" cy="86400"/>
            </a:xfrm>
          </p:grpSpPr>
          <p:sp>
            <p:nvSpPr>
              <p:cNvPr id="3631" name=""/>
              <p:cNvSpPr/>
              <p:nvPr/>
            </p:nvSpPr>
            <p:spPr>
              <a:xfrm>
                <a:off x="60159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H="1">
                <a:off x="60037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600336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5905080" y="1741320"/>
              <a:ext cx="986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5892480" y="1735200"/>
              <a:ext cx="24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605304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600984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059520" y="1901880"/>
              <a:ext cx="0" cy="38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9" name=""/>
            <p:cNvGrpSpPr/>
            <p:nvPr/>
          </p:nvGrpSpPr>
          <p:grpSpPr>
            <a:xfrm>
              <a:off x="6275520" y="1976040"/>
              <a:ext cx="110880" cy="86400"/>
              <a:chOff x="6275520" y="1976040"/>
              <a:chExt cx="110880" cy="86400"/>
            </a:xfrm>
          </p:grpSpPr>
          <p:sp>
            <p:nvSpPr>
              <p:cNvPr id="3640" name=""/>
              <p:cNvSpPr/>
              <p:nvPr/>
            </p:nvSpPr>
            <p:spPr>
              <a:xfrm>
                <a:off x="628776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 flipH="1">
                <a:off x="627552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2" name=""/>
            <p:cNvSpPr/>
            <p:nvPr/>
          </p:nvSpPr>
          <p:spPr>
            <a:xfrm flipH="1">
              <a:off x="5731920" y="1741320"/>
              <a:ext cx="1357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562104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5608800" y="1735200"/>
              <a:ext cx="2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5781600" y="1852560"/>
              <a:ext cx="3708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57384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5688720" y="1827720"/>
              <a:ext cx="0" cy="39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8" name=""/>
            <p:cNvGrpSpPr/>
            <p:nvPr/>
          </p:nvGrpSpPr>
          <p:grpSpPr>
            <a:xfrm>
              <a:off x="5732280" y="1976040"/>
              <a:ext cx="110880" cy="86400"/>
              <a:chOff x="5732280" y="1976040"/>
              <a:chExt cx="110880" cy="86400"/>
            </a:xfrm>
          </p:grpSpPr>
          <p:sp>
            <p:nvSpPr>
              <p:cNvPr id="3649" name=""/>
              <p:cNvSpPr/>
              <p:nvPr/>
            </p:nvSpPr>
            <p:spPr>
              <a:xfrm>
                <a:off x="574452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H="1">
                <a:off x="573228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1" name=""/>
            <p:cNvGrpSpPr/>
            <p:nvPr/>
          </p:nvGrpSpPr>
          <p:grpSpPr>
            <a:xfrm>
              <a:off x="5460840" y="2321280"/>
              <a:ext cx="110880" cy="86400"/>
              <a:chOff x="5460840" y="2321280"/>
              <a:chExt cx="110880" cy="86400"/>
            </a:xfrm>
          </p:grpSpPr>
          <p:sp>
            <p:nvSpPr>
              <p:cNvPr id="3652" name=""/>
              <p:cNvSpPr/>
              <p:nvPr/>
            </p:nvSpPr>
            <p:spPr>
              <a:xfrm>
                <a:off x="5473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H="1">
                <a:off x="5460840" y="23212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4" name=""/>
            <p:cNvSpPr/>
            <p:nvPr/>
          </p:nvSpPr>
          <p:spPr>
            <a:xfrm flipH="1">
              <a:off x="5460840" y="1741320"/>
              <a:ext cx="12312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5349600" y="1741320"/>
              <a:ext cx="111240" cy="16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5337000" y="1735200"/>
              <a:ext cx="2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5510160" y="1852560"/>
              <a:ext cx="36720" cy="37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5466600" y="1630080"/>
              <a:ext cx="0" cy="9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5460840" y="1976040"/>
              <a:ext cx="110880" cy="86400"/>
              <a:chOff x="5460840" y="1976040"/>
              <a:chExt cx="110880" cy="86400"/>
            </a:xfrm>
          </p:grpSpPr>
          <p:sp>
            <p:nvSpPr>
              <p:cNvPr id="3660" name=""/>
              <p:cNvSpPr/>
              <p:nvPr/>
            </p:nvSpPr>
            <p:spPr>
              <a:xfrm>
                <a:off x="5473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5460840" y="19760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2" name=""/>
            <p:cNvSpPr/>
            <p:nvPr/>
          </p:nvSpPr>
          <p:spPr>
            <a:xfrm>
              <a:off x="6584040" y="322884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584040" y="35132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flipV="1">
              <a:off x="6577560" y="322308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6732360" y="323676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32000" y="323496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5275440" y="337716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7016040" y="337716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9" name=""/>
            <p:cNvGrpSpPr/>
            <p:nvPr/>
          </p:nvGrpSpPr>
          <p:grpSpPr>
            <a:xfrm>
              <a:off x="6163920" y="2321280"/>
              <a:ext cx="111240" cy="86400"/>
              <a:chOff x="6163920" y="2321280"/>
              <a:chExt cx="111240" cy="86400"/>
            </a:xfrm>
          </p:grpSpPr>
          <p:sp>
            <p:nvSpPr>
              <p:cNvPr id="3670" name=""/>
              <p:cNvSpPr/>
              <p:nvPr/>
            </p:nvSpPr>
            <p:spPr>
              <a:xfrm>
                <a:off x="617652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6392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2" name=""/>
            <p:cNvSpPr/>
            <p:nvPr/>
          </p:nvSpPr>
          <p:spPr>
            <a:xfrm>
              <a:off x="6584040" y="35748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6584040" y="385884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 flipV="1">
              <a:off x="6577560" y="3567960"/>
              <a:ext cx="0" cy="29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6732360" y="358236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732000" y="355644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5275440" y="37105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16040" y="37105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9" name=""/>
            <p:cNvGrpSpPr/>
            <p:nvPr/>
          </p:nvGrpSpPr>
          <p:grpSpPr>
            <a:xfrm>
              <a:off x="5361480" y="2667240"/>
              <a:ext cx="111240" cy="86400"/>
              <a:chOff x="5361480" y="2667240"/>
              <a:chExt cx="111240" cy="86400"/>
            </a:xfrm>
          </p:grpSpPr>
          <p:sp>
            <p:nvSpPr>
              <p:cNvPr id="3680" name=""/>
              <p:cNvSpPr/>
              <p:nvPr/>
            </p:nvSpPr>
            <p:spPr>
              <a:xfrm>
                <a:off x="5374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5361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2" name=""/>
            <p:cNvSpPr/>
            <p:nvPr/>
          </p:nvSpPr>
          <p:spPr>
            <a:xfrm>
              <a:off x="6584040" y="38955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6584040" y="4179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V="1">
              <a:off x="6577560" y="388980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6732360" y="390348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6732000" y="390168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5275440" y="404388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7016040" y="404388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9" name=""/>
            <p:cNvGrpSpPr/>
            <p:nvPr/>
          </p:nvGrpSpPr>
          <p:grpSpPr>
            <a:xfrm>
              <a:off x="5361480" y="3000600"/>
              <a:ext cx="111240" cy="86400"/>
              <a:chOff x="5361480" y="3000600"/>
              <a:chExt cx="111240" cy="86400"/>
            </a:xfrm>
          </p:grpSpPr>
          <p:sp>
            <p:nvSpPr>
              <p:cNvPr id="3690" name=""/>
              <p:cNvSpPr/>
              <p:nvPr/>
            </p:nvSpPr>
            <p:spPr>
              <a:xfrm>
                <a:off x="5374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H="1">
                <a:off x="5361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2" name=""/>
            <p:cNvGrpSpPr/>
            <p:nvPr/>
          </p:nvGrpSpPr>
          <p:grpSpPr>
            <a:xfrm>
              <a:off x="6163920" y="2667240"/>
              <a:ext cx="111240" cy="86400"/>
              <a:chOff x="6163920" y="2667240"/>
              <a:chExt cx="111240" cy="86400"/>
            </a:xfrm>
          </p:grpSpPr>
          <p:sp>
            <p:nvSpPr>
              <p:cNvPr id="3693" name=""/>
              <p:cNvSpPr/>
              <p:nvPr/>
            </p:nvSpPr>
            <p:spPr>
              <a:xfrm>
                <a:off x="6176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H="1">
                <a:off x="6163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5892120" y="2667240"/>
              <a:ext cx="111240" cy="86400"/>
              <a:chOff x="5892120" y="2667240"/>
              <a:chExt cx="111240" cy="86400"/>
            </a:xfrm>
          </p:grpSpPr>
          <p:sp>
            <p:nvSpPr>
              <p:cNvPr id="3696" name=""/>
              <p:cNvSpPr/>
              <p:nvPr/>
            </p:nvSpPr>
            <p:spPr>
              <a:xfrm>
                <a:off x="5904720" y="266724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H="1">
                <a:off x="58921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8" name=""/>
            <p:cNvGrpSpPr/>
            <p:nvPr/>
          </p:nvGrpSpPr>
          <p:grpSpPr>
            <a:xfrm>
              <a:off x="5632920" y="2667240"/>
              <a:ext cx="111240" cy="86400"/>
              <a:chOff x="5632920" y="2667240"/>
              <a:chExt cx="111240" cy="86400"/>
            </a:xfrm>
          </p:grpSpPr>
          <p:sp>
            <p:nvSpPr>
              <p:cNvPr id="3699" name=""/>
              <p:cNvSpPr/>
              <p:nvPr/>
            </p:nvSpPr>
            <p:spPr>
              <a:xfrm>
                <a:off x="564552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H="1">
                <a:off x="563292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1" name=""/>
            <p:cNvSpPr/>
            <p:nvPr/>
          </p:nvSpPr>
          <p:spPr>
            <a:xfrm>
              <a:off x="6584040" y="424152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584040" y="451296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flipV="1">
              <a:off x="6577560" y="4234680"/>
              <a:ext cx="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32360" y="424908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6732000" y="422316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275440" y="43650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016040" y="43650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8" name=""/>
            <p:cNvGrpSpPr/>
            <p:nvPr/>
          </p:nvGrpSpPr>
          <p:grpSpPr>
            <a:xfrm>
              <a:off x="6275520" y="3000600"/>
              <a:ext cx="110880" cy="86400"/>
              <a:chOff x="6275520" y="3000600"/>
              <a:chExt cx="110880" cy="86400"/>
            </a:xfrm>
          </p:grpSpPr>
          <p:sp>
            <p:nvSpPr>
              <p:cNvPr id="3709" name=""/>
              <p:cNvSpPr/>
              <p:nvPr/>
            </p:nvSpPr>
            <p:spPr>
              <a:xfrm>
                <a:off x="628776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H="1">
                <a:off x="627552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1" name=""/>
            <p:cNvGrpSpPr/>
            <p:nvPr/>
          </p:nvGrpSpPr>
          <p:grpSpPr>
            <a:xfrm>
              <a:off x="5892120" y="3000600"/>
              <a:ext cx="111240" cy="86400"/>
              <a:chOff x="5892120" y="3000600"/>
              <a:chExt cx="111240" cy="86400"/>
            </a:xfrm>
          </p:grpSpPr>
          <p:sp>
            <p:nvSpPr>
              <p:cNvPr id="3712" name=""/>
              <p:cNvSpPr/>
              <p:nvPr/>
            </p:nvSpPr>
            <p:spPr>
              <a:xfrm>
                <a:off x="5904720" y="300060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 flipH="1">
                <a:off x="589212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4" name=""/>
            <p:cNvGrpSpPr/>
            <p:nvPr/>
          </p:nvGrpSpPr>
          <p:grpSpPr>
            <a:xfrm>
              <a:off x="5732280" y="3000600"/>
              <a:ext cx="110880" cy="86400"/>
              <a:chOff x="5732280" y="3000600"/>
              <a:chExt cx="110880" cy="86400"/>
            </a:xfrm>
          </p:grpSpPr>
          <p:sp>
            <p:nvSpPr>
              <p:cNvPr id="3715" name=""/>
              <p:cNvSpPr/>
              <p:nvPr/>
            </p:nvSpPr>
            <p:spPr>
              <a:xfrm>
                <a:off x="574452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 flipH="1">
                <a:off x="5732280" y="30006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7" name=""/>
            <p:cNvSpPr/>
            <p:nvPr/>
          </p:nvSpPr>
          <p:spPr>
            <a:xfrm>
              <a:off x="6584040" y="45622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584040" y="4846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577560" y="4556520"/>
              <a:ext cx="0" cy="29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32360" y="457020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732000" y="455616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275440" y="471060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7016040" y="471060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4" name=""/>
            <p:cNvGrpSpPr/>
            <p:nvPr/>
          </p:nvGrpSpPr>
          <p:grpSpPr>
            <a:xfrm>
              <a:off x="5892120" y="3667320"/>
              <a:ext cx="111240" cy="86400"/>
              <a:chOff x="5892120" y="3667320"/>
              <a:chExt cx="111240" cy="86400"/>
            </a:xfrm>
          </p:grpSpPr>
          <p:sp>
            <p:nvSpPr>
              <p:cNvPr id="3725" name=""/>
              <p:cNvSpPr/>
              <p:nvPr/>
            </p:nvSpPr>
            <p:spPr>
              <a:xfrm>
                <a:off x="5904720" y="36673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flipH="1">
                <a:off x="589212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7" name=""/>
            <p:cNvGrpSpPr/>
            <p:nvPr/>
          </p:nvGrpSpPr>
          <p:grpSpPr>
            <a:xfrm>
              <a:off x="5361480" y="3333960"/>
              <a:ext cx="111240" cy="86400"/>
              <a:chOff x="5361480" y="3333960"/>
              <a:chExt cx="111240" cy="86400"/>
            </a:xfrm>
          </p:grpSpPr>
          <p:sp>
            <p:nvSpPr>
              <p:cNvPr id="3728" name=""/>
              <p:cNvSpPr/>
              <p:nvPr/>
            </p:nvSpPr>
            <p:spPr>
              <a:xfrm>
                <a:off x="537408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H="1">
                <a:off x="5361480" y="33339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0" name=""/>
            <p:cNvSpPr/>
            <p:nvPr/>
          </p:nvSpPr>
          <p:spPr>
            <a:xfrm>
              <a:off x="6584040" y="488376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6584040" y="517968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flipV="1">
              <a:off x="6577560" y="487692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6732360" y="489132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6732000" y="4889880"/>
              <a:ext cx="27108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5275440" y="50317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016040" y="50317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7" name=""/>
            <p:cNvGrpSpPr/>
            <p:nvPr/>
          </p:nvGrpSpPr>
          <p:grpSpPr>
            <a:xfrm>
              <a:off x="6163920" y="4000680"/>
              <a:ext cx="111240" cy="86400"/>
              <a:chOff x="6163920" y="4000680"/>
              <a:chExt cx="111240" cy="86400"/>
            </a:xfrm>
          </p:grpSpPr>
          <p:sp>
            <p:nvSpPr>
              <p:cNvPr id="3738" name=""/>
              <p:cNvSpPr/>
              <p:nvPr/>
            </p:nvSpPr>
            <p:spPr>
              <a:xfrm>
                <a:off x="6176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6163920" y="40006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0" name=""/>
            <p:cNvGrpSpPr/>
            <p:nvPr/>
          </p:nvGrpSpPr>
          <p:grpSpPr>
            <a:xfrm>
              <a:off x="5732280" y="4000680"/>
              <a:ext cx="110880" cy="86400"/>
              <a:chOff x="5732280" y="4000680"/>
              <a:chExt cx="110880" cy="86400"/>
            </a:xfrm>
          </p:grpSpPr>
          <p:sp>
            <p:nvSpPr>
              <p:cNvPr id="3741" name=""/>
              <p:cNvSpPr/>
              <p:nvPr/>
            </p:nvSpPr>
            <p:spPr>
              <a:xfrm>
                <a:off x="574452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H="1">
                <a:off x="573228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3" name=""/>
            <p:cNvGrpSpPr/>
            <p:nvPr/>
          </p:nvGrpSpPr>
          <p:grpSpPr>
            <a:xfrm>
              <a:off x="5460840" y="3667320"/>
              <a:ext cx="110880" cy="86400"/>
              <a:chOff x="5460840" y="3667320"/>
              <a:chExt cx="110880" cy="86400"/>
            </a:xfrm>
          </p:grpSpPr>
          <p:sp>
            <p:nvSpPr>
              <p:cNvPr id="3744" name=""/>
              <p:cNvSpPr/>
              <p:nvPr/>
            </p:nvSpPr>
            <p:spPr>
              <a:xfrm>
                <a:off x="547308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H="1">
                <a:off x="546084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6" name=""/>
            <p:cNvSpPr/>
            <p:nvPr/>
          </p:nvSpPr>
          <p:spPr>
            <a:xfrm>
              <a:off x="724428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7" name=""/>
            <p:cNvGrpSpPr/>
            <p:nvPr/>
          </p:nvGrpSpPr>
          <p:grpSpPr>
            <a:xfrm>
              <a:off x="7188480" y="1976040"/>
              <a:ext cx="111240" cy="86400"/>
              <a:chOff x="7188480" y="1976040"/>
              <a:chExt cx="111240" cy="86400"/>
            </a:xfrm>
          </p:grpSpPr>
          <p:sp>
            <p:nvSpPr>
              <p:cNvPr id="3748" name=""/>
              <p:cNvSpPr/>
              <p:nvPr/>
            </p:nvSpPr>
            <p:spPr>
              <a:xfrm>
                <a:off x="7201080" y="19760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7188480" y="19760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7188480" y="2321280"/>
              <a:ext cx="111240" cy="86400"/>
              <a:chOff x="7188480" y="2321280"/>
              <a:chExt cx="111240" cy="86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7201080" y="23212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H="1">
                <a:off x="7188480" y="23212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3" name=""/>
            <p:cNvGrpSpPr/>
            <p:nvPr/>
          </p:nvGrpSpPr>
          <p:grpSpPr>
            <a:xfrm>
              <a:off x="7188480" y="2667240"/>
              <a:ext cx="111240" cy="86400"/>
              <a:chOff x="7188480" y="2667240"/>
              <a:chExt cx="111240" cy="86400"/>
            </a:xfrm>
          </p:grpSpPr>
          <p:sp>
            <p:nvSpPr>
              <p:cNvPr id="3754" name=""/>
              <p:cNvSpPr/>
              <p:nvPr/>
            </p:nvSpPr>
            <p:spPr>
              <a:xfrm>
                <a:off x="7201080" y="26672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flipH="1">
                <a:off x="7188480" y="26672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6" name=""/>
            <p:cNvGrpSpPr/>
            <p:nvPr/>
          </p:nvGrpSpPr>
          <p:grpSpPr>
            <a:xfrm>
              <a:off x="7102800" y="5507280"/>
              <a:ext cx="271440" cy="999360"/>
              <a:chOff x="7102800" y="5507280"/>
              <a:chExt cx="271440" cy="999360"/>
            </a:xfrm>
          </p:grpSpPr>
          <p:sp>
            <p:nvSpPr>
              <p:cNvPr id="3757" name=""/>
              <p:cNvSpPr/>
              <p:nvPr/>
            </p:nvSpPr>
            <p:spPr>
              <a:xfrm>
                <a:off x="711432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710280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710388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710388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724392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2" name=""/>
            <p:cNvSpPr/>
            <p:nvPr/>
          </p:nvSpPr>
          <p:spPr>
            <a:xfrm>
              <a:off x="756540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3" name=""/>
            <p:cNvGrpSpPr/>
            <p:nvPr/>
          </p:nvGrpSpPr>
          <p:grpSpPr>
            <a:xfrm>
              <a:off x="7188480" y="3000600"/>
              <a:ext cx="111240" cy="86400"/>
              <a:chOff x="7188480" y="3000600"/>
              <a:chExt cx="111240" cy="86400"/>
            </a:xfrm>
          </p:grpSpPr>
          <p:sp>
            <p:nvSpPr>
              <p:cNvPr id="3764" name=""/>
              <p:cNvSpPr/>
              <p:nvPr/>
            </p:nvSpPr>
            <p:spPr>
              <a:xfrm>
                <a:off x="7201080" y="30006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flipH="1">
                <a:off x="7188480" y="30006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6" name=""/>
            <p:cNvGrpSpPr/>
            <p:nvPr/>
          </p:nvGrpSpPr>
          <p:grpSpPr>
            <a:xfrm>
              <a:off x="7423920" y="5507280"/>
              <a:ext cx="296640" cy="999360"/>
              <a:chOff x="7423920" y="5507280"/>
              <a:chExt cx="296640" cy="999360"/>
            </a:xfrm>
          </p:grpSpPr>
          <p:sp>
            <p:nvSpPr>
              <p:cNvPr id="3767" name=""/>
              <p:cNvSpPr/>
              <p:nvPr/>
            </p:nvSpPr>
            <p:spPr>
              <a:xfrm>
                <a:off x="7460640" y="5889960"/>
                <a:ext cx="2336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239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437240" y="5556600"/>
                <a:ext cx="28332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437240" y="5889960"/>
                <a:ext cx="28332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56504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2" name=""/>
            <p:cNvSpPr/>
            <p:nvPr/>
          </p:nvSpPr>
          <p:spPr>
            <a:xfrm>
              <a:off x="78987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73" name=""/>
            <p:cNvGrpSpPr/>
            <p:nvPr/>
          </p:nvGrpSpPr>
          <p:grpSpPr>
            <a:xfrm>
              <a:off x="7769520" y="5507280"/>
              <a:ext cx="271440" cy="999360"/>
              <a:chOff x="7769520" y="5507280"/>
              <a:chExt cx="271440" cy="999360"/>
            </a:xfrm>
          </p:grpSpPr>
          <p:sp>
            <p:nvSpPr>
              <p:cNvPr id="3774" name=""/>
              <p:cNvSpPr/>
              <p:nvPr/>
            </p:nvSpPr>
            <p:spPr>
              <a:xfrm>
                <a:off x="7781040" y="5889960"/>
                <a:ext cx="25884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76952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770600" y="5556600"/>
                <a:ext cx="2703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7770600" y="5889960"/>
                <a:ext cx="2703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789840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9" name=""/>
            <p:cNvGrpSpPr/>
            <p:nvPr/>
          </p:nvGrpSpPr>
          <p:grpSpPr>
            <a:xfrm>
              <a:off x="7509960" y="3333960"/>
              <a:ext cx="110880" cy="86400"/>
              <a:chOff x="7509960" y="3333960"/>
              <a:chExt cx="110880" cy="86400"/>
            </a:xfrm>
          </p:grpSpPr>
          <p:sp>
            <p:nvSpPr>
              <p:cNvPr id="3780" name=""/>
              <p:cNvSpPr/>
              <p:nvPr/>
            </p:nvSpPr>
            <p:spPr>
              <a:xfrm>
                <a:off x="752220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 flipH="1">
                <a:off x="750996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2" name=""/>
            <p:cNvGrpSpPr/>
            <p:nvPr/>
          </p:nvGrpSpPr>
          <p:grpSpPr>
            <a:xfrm>
              <a:off x="7509960" y="3667320"/>
              <a:ext cx="110880" cy="86400"/>
              <a:chOff x="7509960" y="3667320"/>
              <a:chExt cx="110880" cy="86400"/>
            </a:xfrm>
          </p:grpSpPr>
          <p:sp>
            <p:nvSpPr>
              <p:cNvPr id="3783" name=""/>
              <p:cNvSpPr/>
              <p:nvPr/>
            </p:nvSpPr>
            <p:spPr>
              <a:xfrm>
                <a:off x="7522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 flipH="1">
                <a:off x="7509960" y="36673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5" name=""/>
            <p:cNvSpPr/>
            <p:nvPr/>
          </p:nvSpPr>
          <p:spPr>
            <a:xfrm>
              <a:off x="8244360" y="1827720"/>
              <a:ext cx="0" cy="418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6" name=""/>
            <p:cNvGrpSpPr/>
            <p:nvPr/>
          </p:nvGrpSpPr>
          <p:grpSpPr>
            <a:xfrm>
              <a:off x="8102880" y="5507280"/>
              <a:ext cx="271440" cy="999360"/>
              <a:chOff x="8102880" y="5507280"/>
              <a:chExt cx="271440" cy="999360"/>
            </a:xfrm>
          </p:grpSpPr>
          <p:sp>
            <p:nvSpPr>
              <p:cNvPr id="3787" name=""/>
              <p:cNvSpPr/>
              <p:nvPr/>
            </p:nvSpPr>
            <p:spPr>
              <a:xfrm>
                <a:off x="811548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8102880" y="5507280"/>
                <a:ext cx="270360" cy="888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8116560" y="5556600"/>
                <a:ext cx="257760" cy="83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8116560" y="5889960"/>
                <a:ext cx="257760" cy="12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8244360" y="640800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2" name=""/>
            <p:cNvGrpSpPr/>
            <p:nvPr/>
          </p:nvGrpSpPr>
          <p:grpSpPr>
            <a:xfrm>
              <a:off x="7509960" y="4000680"/>
              <a:ext cx="110880" cy="86400"/>
              <a:chOff x="7509960" y="4000680"/>
              <a:chExt cx="110880" cy="86400"/>
            </a:xfrm>
          </p:grpSpPr>
          <p:sp>
            <p:nvSpPr>
              <p:cNvPr id="3793" name=""/>
              <p:cNvSpPr/>
              <p:nvPr/>
            </p:nvSpPr>
            <p:spPr>
              <a:xfrm>
                <a:off x="7522200" y="40006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 flipH="1">
                <a:off x="7509960" y="40006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5" name=""/>
            <p:cNvGrpSpPr/>
            <p:nvPr/>
          </p:nvGrpSpPr>
          <p:grpSpPr>
            <a:xfrm>
              <a:off x="7509960" y="4321440"/>
              <a:ext cx="110880" cy="86400"/>
              <a:chOff x="7509960" y="4321440"/>
              <a:chExt cx="110880" cy="86400"/>
            </a:xfrm>
          </p:grpSpPr>
          <p:sp>
            <p:nvSpPr>
              <p:cNvPr id="3796" name=""/>
              <p:cNvSpPr/>
              <p:nvPr/>
            </p:nvSpPr>
            <p:spPr>
              <a:xfrm>
                <a:off x="752220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 flipH="1">
                <a:off x="7509960" y="432144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8" name=""/>
            <p:cNvGrpSpPr/>
            <p:nvPr/>
          </p:nvGrpSpPr>
          <p:grpSpPr>
            <a:xfrm>
              <a:off x="7842600" y="3667320"/>
              <a:ext cx="111240" cy="86400"/>
              <a:chOff x="7842600" y="3667320"/>
              <a:chExt cx="111240" cy="86400"/>
            </a:xfrm>
          </p:grpSpPr>
          <p:sp>
            <p:nvSpPr>
              <p:cNvPr id="3799" name=""/>
              <p:cNvSpPr/>
              <p:nvPr/>
            </p:nvSpPr>
            <p:spPr>
              <a:xfrm>
                <a:off x="7855200" y="36673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 flipH="1">
                <a:off x="7842600" y="36673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1" name=""/>
            <p:cNvGrpSpPr/>
            <p:nvPr/>
          </p:nvGrpSpPr>
          <p:grpSpPr>
            <a:xfrm>
              <a:off x="7842600" y="4667400"/>
              <a:ext cx="111240" cy="86400"/>
              <a:chOff x="7842600" y="4667400"/>
              <a:chExt cx="111240" cy="86400"/>
            </a:xfrm>
          </p:grpSpPr>
          <p:sp>
            <p:nvSpPr>
              <p:cNvPr id="3802" name=""/>
              <p:cNvSpPr/>
              <p:nvPr/>
            </p:nvSpPr>
            <p:spPr>
              <a:xfrm>
                <a:off x="785520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 flipH="1">
                <a:off x="784260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4" name=""/>
            <p:cNvSpPr/>
            <p:nvPr/>
          </p:nvSpPr>
          <p:spPr>
            <a:xfrm>
              <a:off x="7059240" y="6488640"/>
              <a:ext cx="139464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97"/>
                </a:lnSpc>
                <a:tabLst>
                  <a:tab algn="l" pos="0"/>
                  <a:tab algn="l" pos="368280"/>
                  <a:tab algn="l" pos="72396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584040" y="522900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584040" y="55008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 flipV="1">
              <a:off x="6577560" y="5223240"/>
              <a:ext cx="0" cy="28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6732360" y="5236920"/>
              <a:ext cx="27072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6732000" y="5222880"/>
              <a:ext cx="271080" cy="283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275440" y="537732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016040" y="537732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2" name=""/>
            <p:cNvGrpSpPr/>
            <p:nvPr/>
          </p:nvGrpSpPr>
          <p:grpSpPr>
            <a:xfrm>
              <a:off x="5632920" y="4321440"/>
              <a:ext cx="111240" cy="86400"/>
              <a:chOff x="5632920" y="4321440"/>
              <a:chExt cx="111240" cy="86400"/>
            </a:xfrm>
          </p:grpSpPr>
          <p:sp>
            <p:nvSpPr>
              <p:cNvPr id="3813" name=""/>
              <p:cNvSpPr/>
              <p:nvPr/>
            </p:nvSpPr>
            <p:spPr>
              <a:xfrm>
                <a:off x="5645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 flipH="1">
                <a:off x="5632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5" name=""/>
            <p:cNvGrpSpPr/>
            <p:nvPr/>
          </p:nvGrpSpPr>
          <p:grpSpPr>
            <a:xfrm>
              <a:off x="6003720" y="3333960"/>
              <a:ext cx="110880" cy="86400"/>
              <a:chOff x="6003720" y="3333960"/>
              <a:chExt cx="110880" cy="86400"/>
            </a:xfrm>
          </p:grpSpPr>
          <p:sp>
            <p:nvSpPr>
              <p:cNvPr id="3816" name=""/>
              <p:cNvSpPr/>
              <p:nvPr/>
            </p:nvSpPr>
            <p:spPr>
              <a:xfrm>
                <a:off x="60159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 flipH="1">
                <a:off x="60037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8" name=""/>
            <p:cNvSpPr/>
            <p:nvPr/>
          </p:nvSpPr>
          <p:spPr>
            <a:xfrm>
              <a:off x="6584040" y="5550480"/>
              <a:ext cx="27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584040" y="5846400"/>
              <a:ext cx="29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6577560" y="5543640"/>
              <a:ext cx="0" cy="30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732360" y="5558040"/>
              <a:ext cx="270720" cy="29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732000" y="5543640"/>
              <a:ext cx="271080" cy="29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275440" y="5698440"/>
              <a:ext cx="129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016040" y="5698440"/>
              <a:ext cx="14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5" name=""/>
            <p:cNvGrpSpPr/>
            <p:nvPr/>
          </p:nvGrpSpPr>
          <p:grpSpPr>
            <a:xfrm>
              <a:off x="6163920" y="4321440"/>
              <a:ext cx="111240" cy="86400"/>
              <a:chOff x="6163920" y="4321440"/>
              <a:chExt cx="111240" cy="86400"/>
            </a:xfrm>
          </p:grpSpPr>
          <p:sp>
            <p:nvSpPr>
              <p:cNvPr id="3826" name=""/>
              <p:cNvSpPr/>
              <p:nvPr/>
            </p:nvSpPr>
            <p:spPr>
              <a:xfrm>
                <a:off x="6176520" y="432144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 flipH="1">
                <a:off x="6163920" y="432144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8" name=""/>
            <p:cNvGrpSpPr/>
            <p:nvPr/>
          </p:nvGrpSpPr>
          <p:grpSpPr>
            <a:xfrm>
              <a:off x="5732280" y="4667400"/>
              <a:ext cx="110880" cy="86400"/>
              <a:chOff x="5732280" y="4667400"/>
              <a:chExt cx="110880" cy="86400"/>
            </a:xfrm>
          </p:grpSpPr>
          <p:sp>
            <p:nvSpPr>
              <p:cNvPr id="3829" name=""/>
              <p:cNvSpPr/>
              <p:nvPr/>
            </p:nvSpPr>
            <p:spPr>
              <a:xfrm>
                <a:off x="5744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 flipH="1">
                <a:off x="573228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1" name=""/>
            <p:cNvGrpSpPr/>
            <p:nvPr/>
          </p:nvGrpSpPr>
          <p:grpSpPr>
            <a:xfrm>
              <a:off x="5460840" y="4667400"/>
              <a:ext cx="110880" cy="86400"/>
              <a:chOff x="5460840" y="4667400"/>
              <a:chExt cx="110880" cy="86400"/>
            </a:xfrm>
          </p:grpSpPr>
          <p:sp>
            <p:nvSpPr>
              <p:cNvPr id="3832" name=""/>
              <p:cNvSpPr/>
              <p:nvPr/>
            </p:nvSpPr>
            <p:spPr>
              <a:xfrm>
                <a:off x="547308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 flipH="1">
                <a:off x="5460840" y="466740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4" name=""/>
            <p:cNvGrpSpPr/>
            <p:nvPr/>
          </p:nvGrpSpPr>
          <p:grpSpPr>
            <a:xfrm>
              <a:off x="7842600" y="4988160"/>
              <a:ext cx="111240" cy="86400"/>
              <a:chOff x="7842600" y="4988160"/>
              <a:chExt cx="111240" cy="86400"/>
            </a:xfrm>
          </p:grpSpPr>
          <p:sp>
            <p:nvSpPr>
              <p:cNvPr id="3835" name=""/>
              <p:cNvSpPr/>
              <p:nvPr/>
            </p:nvSpPr>
            <p:spPr>
              <a:xfrm>
                <a:off x="785520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 flipH="1">
                <a:off x="784260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7" name=""/>
            <p:cNvGrpSpPr/>
            <p:nvPr/>
          </p:nvGrpSpPr>
          <p:grpSpPr>
            <a:xfrm>
              <a:off x="8188920" y="3333960"/>
              <a:ext cx="110880" cy="86400"/>
              <a:chOff x="8188920" y="3333960"/>
              <a:chExt cx="110880" cy="86400"/>
            </a:xfrm>
          </p:grpSpPr>
          <p:sp>
            <p:nvSpPr>
              <p:cNvPr id="3838" name=""/>
              <p:cNvSpPr/>
              <p:nvPr/>
            </p:nvSpPr>
            <p:spPr>
              <a:xfrm>
                <a:off x="8201160" y="33339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 flipH="1">
                <a:off x="8188920" y="33339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0" name=""/>
            <p:cNvGrpSpPr/>
            <p:nvPr/>
          </p:nvGrpSpPr>
          <p:grpSpPr>
            <a:xfrm>
              <a:off x="6163920" y="4667400"/>
              <a:ext cx="111240" cy="86400"/>
              <a:chOff x="6163920" y="4667400"/>
              <a:chExt cx="111240" cy="86400"/>
            </a:xfrm>
          </p:grpSpPr>
          <p:sp>
            <p:nvSpPr>
              <p:cNvPr id="3841" name=""/>
              <p:cNvSpPr/>
              <p:nvPr/>
            </p:nvSpPr>
            <p:spPr>
              <a:xfrm>
                <a:off x="6176520" y="466740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 flipH="1">
                <a:off x="6163920" y="466740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3" name=""/>
            <p:cNvGrpSpPr/>
            <p:nvPr/>
          </p:nvGrpSpPr>
          <p:grpSpPr>
            <a:xfrm>
              <a:off x="5892120" y="4988160"/>
              <a:ext cx="111240" cy="86400"/>
              <a:chOff x="5892120" y="4988160"/>
              <a:chExt cx="111240" cy="86400"/>
            </a:xfrm>
          </p:grpSpPr>
          <p:sp>
            <p:nvSpPr>
              <p:cNvPr id="3844" name=""/>
              <p:cNvSpPr/>
              <p:nvPr/>
            </p:nvSpPr>
            <p:spPr>
              <a:xfrm>
                <a:off x="5904720" y="498816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 flipH="1">
                <a:off x="58921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6" name=""/>
            <p:cNvGrpSpPr/>
            <p:nvPr/>
          </p:nvGrpSpPr>
          <p:grpSpPr>
            <a:xfrm>
              <a:off x="5732280" y="4988160"/>
              <a:ext cx="110880" cy="86400"/>
              <a:chOff x="5732280" y="4988160"/>
              <a:chExt cx="110880" cy="86400"/>
            </a:xfrm>
          </p:grpSpPr>
          <p:sp>
            <p:nvSpPr>
              <p:cNvPr id="3847" name=""/>
              <p:cNvSpPr/>
              <p:nvPr/>
            </p:nvSpPr>
            <p:spPr>
              <a:xfrm>
                <a:off x="5744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5732280" y="498816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9" name=""/>
            <p:cNvGrpSpPr/>
            <p:nvPr/>
          </p:nvGrpSpPr>
          <p:grpSpPr>
            <a:xfrm>
              <a:off x="6163920" y="4988160"/>
              <a:ext cx="111240" cy="86400"/>
              <a:chOff x="6163920" y="4988160"/>
              <a:chExt cx="111240" cy="86400"/>
            </a:xfrm>
          </p:grpSpPr>
          <p:sp>
            <p:nvSpPr>
              <p:cNvPr id="3850" name=""/>
              <p:cNvSpPr/>
              <p:nvPr/>
            </p:nvSpPr>
            <p:spPr>
              <a:xfrm>
                <a:off x="6176520" y="498816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6163920" y="498816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2" name=""/>
            <p:cNvGrpSpPr/>
            <p:nvPr/>
          </p:nvGrpSpPr>
          <p:grpSpPr>
            <a:xfrm>
              <a:off x="8188920" y="5654880"/>
              <a:ext cx="110880" cy="86400"/>
              <a:chOff x="8188920" y="5654880"/>
              <a:chExt cx="110880" cy="86400"/>
            </a:xfrm>
          </p:grpSpPr>
          <p:sp>
            <p:nvSpPr>
              <p:cNvPr id="3853" name=""/>
              <p:cNvSpPr/>
              <p:nvPr/>
            </p:nvSpPr>
            <p:spPr>
              <a:xfrm>
                <a:off x="82011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1889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5" name=""/>
            <p:cNvGrpSpPr/>
            <p:nvPr/>
          </p:nvGrpSpPr>
          <p:grpSpPr>
            <a:xfrm>
              <a:off x="8188920" y="5334120"/>
              <a:ext cx="110880" cy="86400"/>
              <a:chOff x="8188920" y="5334120"/>
              <a:chExt cx="110880" cy="86400"/>
            </a:xfrm>
          </p:grpSpPr>
          <p:sp>
            <p:nvSpPr>
              <p:cNvPr id="3856" name=""/>
              <p:cNvSpPr/>
              <p:nvPr/>
            </p:nvSpPr>
            <p:spPr>
              <a:xfrm>
                <a:off x="820116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H="1">
                <a:off x="8188920" y="533412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8" name=""/>
            <p:cNvGrpSpPr/>
            <p:nvPr/>
          </p:nvGrpSpPr>
          <p:grpSpPr>
            <a:xfrm>
              <a:off x="5632920" y="5334120"/>
              <a:ext cx="111240" cy="86400"/>
              <a:chOff x="5632920" y="5334120"/>
              <a:chExt cx="111240" cy="86400"/>
            </a:xfrm>
          </p:grpSpPr>
          <p:sp>
            <p:nvSpPr>
              <p:cNvPr id="3859" name=""/>
              <p:cNvSpPr/>
              <p:nvPr/>
            </p:nvSpPr>
            <p:spPr>
              <a:xfrm>
                <a:off x="564552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flipH="1">
                <a:off x="56329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1" name=""/>
            <p:cNvGrpSpPr/>
            <p:nvPr/>
          </p:nvGrpSpPr>
          <p:grpSpPr>
            <a:xfrm>
              <a:off x="5361480" y="5334120"/>
              <a:ext cx="111240" cy="86400"/>
              <a:chOff x="5361480" y="5334120"/>
              <a:chExt cx="111240" cy="86400"/>
            </a:xfrm>
          </p:grpSpPr>
          <p:sp>
            <p:nvSpPr>
              <p:cNvPr id="3862" name=""/>
              <p:cNvSpPr/>
              <p:nvPr/>
            </p:nvSpPr>
            <p:spPr>
              <a:xfrm>
                <a:off x="5374080" y="533412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H="1">
                <a:off x="536148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5892120" y="5334120"/>
              <a:ext cx="111240" cy="86400"/>
              <a:chOff x="5892120" y="5334120"/>
              <a:chExt cx="111240" cy="86400"/>
            </a:xfrm>
          </p:grpSpPr>
          <p:sp>
            <p:nvSpPr>
              <p:cNvPr id="3865" name=""/>
              <p:cNvSpPr/>
              <p:nvPr/>
            </p:nvSpPr>
            <p:spPr>
              <a:xfrm>
                <a:off x="5904720" y="5334120"/>
                <a:ext cx="860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H="1">
                <a:off x="5892120" y="533412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7" name=""/>
            <p:cNvGrpSpPr/>
            <p:nvPr/>
          </p:nvGrpSpPr>
          <p:grpSpPr>
            <a:xfrm>
              <a:off x="6003720" y="5654880"/>
              <a:ext cx="110880" cy="86400"/>
              <a:chOff x="6003720" y="5654880"/>
              <a:chExt cx="110880" cy="86400"/>
            </a:xfrm>
          </p:grpSpPr>
          <p:sp>
            <p:nvSpPr>
              <p:cNvPr id="3868" name=""/>
              <p:cNvSpPr/>
              <p:nvPr/>
            </p:nvSpPr>
            <p:spPr>
              <a:xfrm>
                <a:off x="60159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H="1">
                <a:off x="60037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0" name=""/>
            <p:cNvGrpSpPr/>
            <p:nvPr/>
          </p:nvGrpSpPr>
          <p:grpSpPr>
            <a:xfrm>
              <a:off x="5632920" y="5654880"/>
              <a:ext cx="111240" cy="86400"/>
              <a:chOff x="5632920" y="5654880"/>
              <a:chExt cx="111240" cy="86400"/>
            </a:xfrm>
          </p:grpSpPr>
          <p:sp>
            <p:nvSpPr>
              <p:cNvPr id="3871" name=""/>
              <p:cNvSpPr/>
              <p:nvPr/>
            </p:nvSpPr>
            <p:spPr>
              <a:xfrm>
                <a:off x="564552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flipH="1">
                <a:off x="5632920" y="5654880"/>
                <a:ext cx="11124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3" name=""/>
            <p:cNvGrpSpPr/>
            <p:nvPr/>
          </p:nvGrpSpPr>
          <p:grpSpPr>
            <a:xfrm>
              <a:off x="6275520" y="5654880"/>
              <a:ext cx="110880" cy="86400"/>
              <a:chOff x="6275520" y="5654880"/>
              <a:chExt cx="110880" cy="86400"/>
            </a:xfrm>
          </p:grpSpPr>
          <p:sp>
            <p:nvSpPr>
              <p:cNvPr id="3874" name=""/>
              <p:cNvSpPr/>
              <p:nvPr/>
            </p:nvSpPr>
            <p:spPr>
              <a:xfrm>
                <a:off x="6287760" y="5654880"/>
                <a:ext cx="8640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flipH="1">
                <a:off x="6275520" y="5654880"/>
                <a:ext cx="110880" cy="8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6" name=""/>
            <p:cNvSpPr/>
            <p:nvPr/>
          </p:nvSpPr>
          <p:spPr>
            <a:xfrm>
              <a:off x="8491320" y="1784520"/>
              <a:ext cx="715680" cy="41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'C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C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'B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6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355720" y="1414440"/>
              <a:ext cx="135756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279360"/>
                  <a:tab algn="l" pos="571680"/>
                  <a:tab algn="l" pos="8510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Ls and PLAs: another desig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gnitude compar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0" name=""/>
          <p:cNvGrpSpPr/>
          <p:nvPr/>
        </p:nvGrpSpPr>
        <p:grpSpPr>
          <a:xfrm>
            <a:off x="692280" y="2025720"/>
            <a:ext cx="3714120" cy="3797280"/>
            <a:chOff x="692280" y="2025720"/>
            <a:chExt cx="3714120" cy="3797280"/>
          </a:xfrm>
        </p:grpSpPr>
        <p:sp>
          <p:nvSpPr>
            <p:cNvPr id="3881" name=""/>
            <p:cNvSpPr/>
            <p:nvPr/>
          </p:nvSpPr>
          <p:spPr>
            <a:xfrm>
              <a:off x="725400" y="2025720"/>
              <a:ext cx="3681000" cy="37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2476440" y="2057400"/>
              <a:ext cx="0" cy="373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692280" y="2279520"/>
              <a:ext cx="36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4" name=""/>
          <p:cNvSpPr/>
          <p:nvPr/>
        </p:nvSpPr>
        <p:spPr>
          <a:xfrm>
            <a:off x="241200" y="5854680"/>
            <a:ext cx="64645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ized fun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 = A’B’C’D’ + A’BC’D + ABCD + AB’CD’     NE = AC’ + A’C + B’D + B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T = A’C + A’B’D + B’CD                            GT = AC’ + ABC + BC’D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2C42-F701-46C6-9AA2-10095869C9E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the following functions to the PLA below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AB + A’C’ + B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6108840" y="26668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6108840" y="2971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 flipV="1">
            <a:off x="6102360" y="26607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267960" y="268128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261840" y="2674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6267600" y="26672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6261480" y="2660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4991040" y="28195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6553080" y="28195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108840" y="30351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6108840" y="3340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 flipV="1">
            <a:off x="6102360" y="30290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6267960" y="304956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6261840" y="30430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267600" y="30355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6261480" y="30290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4991040" y="31878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6553080" y="31878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108840" y="34034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108840" y="37083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6102360" y="3397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6267960" y="34178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261840" y="34113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6267600" y="340380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261480" y="339732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991040" y="355608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6553080" y="355608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108840" y="377208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108840" y="407664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V="1">
            <a:off x="6102360" y="3765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267960" y="378612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261840" y="37800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6267600" y="377208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6261480" y="376560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991040" y="392436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6553080" y="392436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 flipH="1">
            <a:off x="580392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568944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 flipH="1">
            <a:off x="567648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581040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87376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74668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 flipH="1">
            <a:off x="551196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97480" y="2521080"/>
            <a:ext cx="1144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 flipH="1">
            <a:off x="538452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551808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58180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5454720" y="2610000"/>
            <a:ext cx="0" cy="30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 flipH="1">
            <a:off x="5219640" y="25210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5105520" y="2521080"/>
            <a:ext cx="1141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 flipH="1">
            <a:off x="5092200" y="251460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5226120" y="2394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5289480" y="2660760"/>
            <a:ext cx="0" cy="29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5162400" y="2622600"/>
            <a:ext cx="0" cy="3035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68052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665460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66900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666900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680076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680076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7048800" y="5518080"/>
            <a:ext cx="26604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702288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703728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703728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716904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716904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7404120" y="551808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7378560" y="5111640"/>
            <a:ext cx="291960" cy="952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7392960" y="5162760"/>
            <a:ext cx="291960" cy="90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7392960" y="551808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7524720" y="2622600"/>
            <a:ext cx="0" cy="30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524720" y="60642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511164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5416560" y="21463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5683320" y="214632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108840" y="41403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6108840" y="4444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 flipV="1">
            <a:off x="6102360" y="41338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67960" y="415440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261840" y="414828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6267600" y="414036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6261480" y="413388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4991040" y="429264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553080" y="429264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108840" y="450864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108840" y="4813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 flipV="1">
            <a:off x="6102360" y="4502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267960" y="452268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6261840" y="451656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267600" y="450864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6261480" y="45021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4991040" y="466092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6553080" y="466092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6108840" y="487692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610884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 flipV="1">
            <a:off x="6102360" y="4870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6267960" y="48909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261840" y="488484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267600" y="4876920"/>
            <a:ext cx="279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261480" y="487044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4991040" y="5029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553080" y="5029200"/>
            <a:ext cx="196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585468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556272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5270400" y="2635200"/>
            <a:ext cx="50760" cy="50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70572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7112160" y="6222960"/>
            <a:ext cx="634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7480440" y="6222960"/>
            <a:ext cx="6350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02E-B7B2-4D19-B006-01EA155933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 terms won’t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ly concensus theor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 to simplify to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terms wont’ fit in a 7 term P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 that AB = ABC + AB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rewrite W to reuse term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it 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= ABC + ABC’ + A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ABC + AB’ + A’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= ABC’ + BC + 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echnolog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1960" indent="-3168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ogic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at they can use avail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7" name=""/>
          <p:cNvGrpSpPr/>
          <p:nvPr/>
        </p:nvGrpSpPr>
        <p:grpSpPr>
          <a:xfrm>
            <a:off x="5098680" y="2438280"/>
            <a:ext cx="3524760" cy="3073680"/>
            <a:chOff x="5098680" y="2438280"/>
            <a:chExt cx="3524760" cy="3073680"/>
          </a:xfrm>
        </p:grpSpPr>
        <p:sp>
          <p:nvSpPr>
            <p:cNvPr id="3998" name=""/>
            <p:cNvSpPr/>
            <p:nvPr/>
          </p:nvSpPr>
          <p:spPr>
            <a:xfrm>
              <a:off x="7924680" y="2438280"/>
              <a:ext cx="698760" cy="30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9" name=""/>
            <p:cNvGrpSpPr/>
            <p:nvPr/>
          </p:nvGrpSpPr>
          <p:grpSpPr>
            <a:xfrm>
              <a:off x="5098680" y="2768760"/>
              <a:ext cx="828360" cy="2306520"/>
              <a:chOff x="5098680" y="2768760"/>
              <a:chExt cx="828360" cy="2306520"/>
            </a:xfrm>
          </p:grpSpPr>
          <p:grpSp>
            <p:nvGrpSpPr>
              <p:cNvPr id="4000" name=""/>
              <p:cNvGrpSpPr/>
              <p:nvPr/>
            </p:nvGrpSpPr>
            <p:grpSpPr>
              <a:xfrm>
                <a:off x="5105160" y="2768760"/>
                <a:ext cx="114120" cy="88920"/>
                <a:chOff x="5105160" y="2768760"/>
                <a:chExt cx="114120" cy="88920"/>
              </a:xfrm>
            </p:grpSpPr>
            <p:sp>
              <p:nvSpPr>
                <p:cNvPr id="4001" name=""/>
                <p:cNvSpPr/>
                <p:nvPr/>
              </p:nvSpPr>
              <p:spPr>
                <a:xfrm>
                  <a:off x="5118120" y="27687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5105160" y="27687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3" name=""/>
              <p:cNvGrpSpPr/>
              <p:nvPr/>
            </p:nvGrpSpPr>
            <p:grpSpPr>
              <a:xfrm>
                <a:off x="5405040" y="2774880"/>
                <a:ext cx="114120" cy="88920"/>
                <a:chOff x="5405040" y="2774880"/>
                <a:chExt cx="114120" cy="88920"/>
              </a:xfrm>
            </p:grpSpPr>
            <p:sp>
              <p:nvSpPr>
                <p:cNvPr id="4004" name=""/>
                <p:cNvSpPr/>
                <p:nvPr/>
              </p:nvSpPr>
              <p:spPr>
                <a:xfrm>
                  <a:off x="5418000" y="2774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5405040" y="2774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6" name=""/>
              <p:cNvGrpSpPr/>
              <p:nvPr/>
            </p:nvGrpSpPr>
            <p:grpSpPr>
              <a:xfrm>
                <a:off x="5684400" y="2787480"/>
                <a:ext cx="114120" cy="88920"/>
                <a:chOff x="5684400" y="2787480"/>
                <a:chExt cx="114120" cy="88920"/>
              </a:xfrm>
            </p:grpSpPr>
            <p:sp>
              <p:nvSpPr>
                <p:cNvPr id="4007" name=""/>
                <p:cNvSpPr/>
                <p:nvPr/>
              </p:nvSpPr>
              <p:spPr>
                <a:xfrm>
                  <a:off x="5697360" y="27874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5684400" y="27874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9" name=""/>
              <p:cNvGrpSpPr/>
              <p:nvPr/>
            </p:nvGrpSpPr>
            <p:grpSpPr>
              <a:xfrm>
                <a:off x="5098680" y="3139920"/>
                <a:ext cx="114120" cy="88920"/>
                <a:chOff x="5098680" y="3139920"/>
                <a:chExt cx="114120" cy="88920"/>
              </a:xfrm>
            </p:grpSpPr>
            <p:sp>
              <p:nvSpPr>
                <p:cNvPr id="4010" name=""/>
                <p:cNvSpPr/>
                <p:nvPr/>
              </p:nvSpPr>
              <p:spPr>
                <a:xfrm>
                  <a:off x="511164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509868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2" name=""/>
              <p:cNvGrpSpPr/>
              <p:nvPr/>
            </p:nvGrpSpPr>
            <p:grpSpPr>
              <a:xfrm>
                <a:off x="5379840" y="3139920"/>
                <a:ext cx="114120" cy="88920"/>
                <a:chOff x="5379840" y="3139920"/>
                <a:chExt cx="114120" cy="88920"/>
              </a:xfrm>
            </p:grpSpPr>
            <p:sp>
              <p:nvSpPr>
                <p:cNvPr id="4013" name=""/>
                <p:cNvSpPr/>
                <p:nvPr/>
              </p:nvSpPr>
              <p:spPr>
                <a:xfrm>
                  <a:off x="5392800" y="31399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5379840" y="31399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5" name=""/>
              <p:cNvGrpSpPr/>
              <p:nvPr/>
            </p:nvGrpSpPr>
            <p:grpSpPr>
              <a:xfrm>
                <a:off x="5812920" y="3133800"/>
                <a:ext cx="114120" cy="88920"/>
                <a:chOff x="5812920" y="3133800"/>
                <a:chExt cx="114120" cy="88920"/>
              </a:xfrm>
            </p:grpSpPr>
            <p:sp>
              <p:nvSpPr>
                <p:cNvPr id="4016" name=""/>
                <p:cNvSpPr/>
                <p:nvPr/>
              </p:nvSpPr>
              <p:spPr>
                <a:xfrm>
                  <a:off x="5825880" y="31338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5812920" y="31338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8" name=""/>
              <p:cNvGrpSpPr/>
              <p:nvPr/>
            </p:nvGrpSpPr>
            <p:grpSpPr>
              <a:xfrm>
                <a:off x="5239800" y="3535200"/>
                <a:ext cx="114120" cy="88920"/>
                <a:chOff x="5239800" y="3535200"/>
                <a:chExt cx="114120" cy="88920"/>
              </a:xfrm>
            </p:grpSpPr>
            <p:sp>
              <p:nvSpPr>
                <p:cNvPr id="4019" name=""/>
                <p:cNvSpPr/>
                <p:nvPr/>
              </p:nvSpPr>
              <p:spPr>
                <a:xfrm>
                  <a:off x="5252760" y="353520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5239800" y="353520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1" name=""/>
              <p:cNvGrpSpPr/>
              <p:nvPr/>
            </p:nvGrpSpPr>
            <p:grpSpPr>
              <a:xfrm>
                <a:off x="5811480" y="3511440"/>
                <a:ext cx="114120" cy="88920"/>
                <a:chOff x="5811480" y="3511440"/>
                <a:chExt cx="114120" cy="88920"/>
              </a:xfrm>
            </p:grpSpPr>
            <p:sp>
              <p:nvSpPr>
                <p:cNvPr id="4022" name=""/>
                <p:cNvSpPr/>
                <p:nvPr/>
              </p:nvSpPr>
              <p:spPr>
                <a:xfrm>
                  <a:off x="5824440" y="351144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5811480" y="351144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4" name=""/>
              <p:cNvGrpSpPr/>
              <p:nvPr/>
            </p:nvGrpSpPr>
            <p:grpSpPr>
              <a:xfrm>
                <a:off x="5105160" y="3890880"/>
                <a:ext cx="114120" cy="88920"/>
                <a:chOff x="5105160" y="3890880"/>
                <a:chExt cx="114120" cy="88920"/>
              </a:xfrm>
            </p:grpSpPr>
            <p:sp>
              <p:nvSpPr>
                <p:cNvPr id="4025" name=""/>
                <p:cNvSpPr/>
                <p:nvPr/>
              </p:nvSpPr>
              <p:spPr>
                <a:xfrm>
                  <a:off x="5118120" y="38908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5105160" y="38908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7" name=""/>
              <p:cNvGrpSpPr/>
              <p:nvPr/>
            </p:nvGrpSpPr>
            <p:grpSpPr>
              <a:xfrm>
                <a:off x="5519520" y="3878280"/>
                <a:ext cx="114120" cy="88920"/>
                <a:chOff x="5519520" y="3878280"/>
                <a:chExt cx="114120" cy="88920"/>
              </a:xfrm>
            </p:grpSpPr>
            <p:sp>
              <p:nvSpPr>
                <p:cNvPr id="4028" name=""/>
                <p:cNvSpPr/>
                <p:nvPr/>
              </p:nvSpPr>
              <p:spPr>
                <a:xfrm>
                  <a:off x="5532480" y="387828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5519520" y="387828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5225760" y="4230720"/>
                <a:ext cx="114120" cy="88920"/>
                <a:chOff x="5225760" y="4230720"/>
                <a:chExt cx="114120" cy="8892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5238720" y="423072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5225760" y="423072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3" name=""/>
              <p:cNvGrpSpPr/>
              <p:nvPr/>
            </p:nvGrpSpPr>
            <p:grpSpPr>
              <a:xfrm>
                <a:off x="5398560" y="4232160"/>
                <a:ext cx="114120" cy="88920"/>
                <a:chOff x="5398560" y="4232160"/>
                <a:chExt cx="114120" cy="88920"/>
              </a:xfrm>
            </p:grpSpPr>
            <p:sp>
              <p:nvSpPr>
                <p:cNvPr id="4034" name=""/>
                <p:cNvSpPr/>
                <p:nvPr/>
              </p:nvSpPr>
              <p:spPr>
                <a:xfrm>
                  <a:off x="5411520" y="4232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5398560" y="4232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6" name=""/>
              <p:cNvGrpSpPr/>
              <p:nvPr/>
            </p:nvGrpSpPr>
            <p:grpSpPr>
              <a:xfrm>
                <a:off x="5373360" y="4610160"/>
                <a:ext cx="114120" cy="88920"/>
                <a:chOff x="5373360" y="4610160"/>
                <a:chExt cx="114120" cy="88920"/>
              </a:xfrm>
            </p:grpSpPr>
            <p:sp>
              <p:nvSpPr>
                <p:cNvPr id="4037" name=""/>
                <p:cNvSpPr/>
                <p:nvPr/>
              </p:nvSpPr>
              <p:spPr>
                <a:xfrm>
                  <a:off x="538632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537336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9" name=""/>
              <p:cNvGrpSpPr/>
              <p:nvPr/>
            </p:nvGrpSpPr>
            <p:grpSpPr>
              <a:xfrm>
                <a:off x="5702040" y="4610160"/>
                <a:ext cx="114120" cy="88920"/>
                <a:chOff x="5702040" y="4610160"/>
                <a:chExt cx="114120" cy="88920"/>
              </a:xfrm>
            </p:grpSpPr>
            <p:sp>
              <p:nvSpPr>
                <p:cNvPr id="4040" name=""/>
                <p:cNvSpPr/>
                <p:nvPr/>
              </p:nvSpPr>
              <p:spPr>
                <a:xfrm>
                  <a:off x="5715000" y="46101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5702040" y="46101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2" name=""/>
              <p:cNvGrpSpPr/>
              <p:nvPr/>
            </p:nvGrpSpPr>
            <p:grpSpPr>
              <a:xfrm>
                <a:off x="5530320" y="4986360"/>
                <a:ext cx="114120" cy="88920"/>
                <a:chOff x="5530320" y="4986360"/>
                <a:chExt cx="114120" cy="88920"/>
              </a:xfrm>
            </p:grpSpPr>
            <p:sp>
              <p:nvSpPr>
                <p:cNvPr id="4043" name=""/>
                <p:cNvSpPr/>
                <p:nvPr/>
              </p:nvSpPr>
              <p:spPr>
                <a:xfrm>
                  <a:off x="55432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55303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5" name=""/>
              <p:cNvGrpSpPr/>
              <p:nvPr/>
            </p:nvGrpSpPr>
            <p:grpSpPr>
              <a:xfrm>
                <a:off x="5812920" y="4986360"/>
                <a:ext cx="114120" cy="88920"/>
                <a:chOff x="5812920" y="4986360"/>
                <a:chExt cx="114120" cy="88920"/>
              </a:xfrm>
            </p:grpSpPr>
            <p:sp>
              <p:nvSpPr>
                <p:cNvPr id="4046" name=""/>
                <p:cNvSpPr/>
                <p:nvPr/>
              </p:nvSpPr>
              <p:spPr>
                <a:xfrm>
                  <a:off x="5825880" y="4986360"/>
                  <a:ext cx="889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5812920" y="4986360"/>
                  <a:ext cx="114120" cy="88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048" name=""/>
          <p:cNvGrpSpPr/>
          <p:nvPr/>
        </p:nvGrpSpPr>
        <p:grpSpPr>
          <a:xfrm>
            <a:off x="4991040" y="2146320"/>
            <a:ext cx="3530520" cy="4406760"/>
            <a:chOff x="4991040" y="2146320"/>
            <a:chExt cx="3530520" cy="4406760"/>
          </a:xfrm>
        </p:grpSpPr>
        <p:sp>
          <p:nvSpPr>
            <p:cNvPr id="4049" name=""/>
            <p:cNvSpPr/>
            <p:nvPr/>
          </p:nvSpPr>
          <p:spPr>
            <a:xfrm>
              <a:off x="6108840" y="26668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6108840" y="29718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flipV="1">
              <a:off x="6102360" y="2660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267960" y="26812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261840" y="26748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6267600" y="26672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6261480" y="26607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4991040" y="28195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6553080" y="28195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08840" y="3035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6108840" y="33400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flipV="1">
              <a:off x="6102360" y="30290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267960" y="304956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261840" y="30430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6267600" y="30355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261480" y="30290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4991040" y="31878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553080" y="31878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108840" y="34034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108840" y="37083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V="1">
              <a:off x="6102360" y="33973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267960" y="34178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261840" y="34113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267600" y="34038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6261480" y="339732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991040" y="355608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6553080" y="355608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108840" y="377208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6108840" y="407664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flipV="1">
              <a:off x="6102360" y="37656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267960" y="378612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261840" y="378000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6267600" y="37720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6261480" y="376560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991040" y="392436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6553080" y="392436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580392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68944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567648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81040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87376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74668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551196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97480" y="252108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538452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51808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58180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454720" y="261000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5219640" y="252108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05520" y="252108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5092200" y="25146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226120" y="23940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289480" y="2660760"/>
              <a:ext cx="0" cy="299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62400" y="2622600"/>
              <a:ext cx="0" cy="30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68052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65460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666900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666900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680076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80076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7048800" y="55180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702288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703728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03728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716904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716904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404120" y="551808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378560" y="511164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392960" y="5162760"/>
              <a:ext cx="2919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392960" y="551808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524720" y="2622600"/>
              <a:ext cx="0" cy="30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60642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1164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416560" y="2146320"/>
              <a:ext cx="5461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683320" y="21463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08840" y="41403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108840" y="444492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V="1">
              <a:off x="6102360" y="4133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67960" y="4154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261840" y="414828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6267600" y="4140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261480" y="413388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91040" y="429264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553080" y="429264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6108840" y="45086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108840" y="4813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V="1">
              <a:off x="6102360" y="45021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267960" y="452268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6261840" y="451656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267600" y="45086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6261480" y="450216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91040" y="466092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553080" y="466092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108840" y="487692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108840" y="5181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flipV="1">
              <a:off x="6102360" y="4870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67960" y="489096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261840" y="4884840"/>
              <a:ext cx="2908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267600" y="487692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6261480" y="4870440"/>
              <a:ext cx="2912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991040" y="50292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6553080" y="5029200"/>
              <a:ext cx="196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85468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56272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270400" y="26352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70572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112160" y="622296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7480440" y="622296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7" name=""/>
          <p:cNvGrpSpPr/>
          <p:nvPr/>
        </p:nvGrpSpPr>
        <p:grpSpPr>
          <a:xfrm>
            <a:off x="6725880" y="2768760"/>
            <a:ext cx="858600" cy="2306520"/>
            <a:chOff x="6725880" y="2768760"/>
            <a:chExt cx="858600" cy="2306520"/>
          </a:xfrm>
        </p:grpSpPr>
        <p:grpSp>
          <p:nvGrpSpPr>
            <p:cNvPr id="4158" name=""/>
            <p:cNvGrpSpPr/>
            <p:nvPr/>
          </p:nvGrpSpPr>
          <p:grpSpPr>
            <a:xfrm>
              <a:off x="6738480" y="2779560"/>
              <a:ext cx="114120" cy="88920"/>
              <a:chOff x="6738480" y="2779560"/>
              <a:chExt cx="114120" cy="88920"/>
            </a:xfrm>
          </p:grpSpPr>
          <p:sp>
            <p:nvSpPr>
              <p:cNvPr id="4159" name=""/>
              <p:cNvSpPr/>
              <p:nvPr/>
            </p:nvSpPr>
            <p:spPr>
              <a:xfrm>
                <a:off x="6751440" y="27795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6738480" y="27795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1" name=""/>
            <p:cNvGrpSpPr/>
            <p:nvPr/>
          </p:nvGrpSpPr>
          <p:grpSpPr>
            <a:xfrm>
              <a:off x="6725880" y="3144960"/>
              <a:ext cx="114120" cy="88920"/>
              <a:chOff x="6725880" y="3144960"/>
              <a:chExt cx="114120" cy="88920"/>
            </a:xfrm>
          </p:grpSpPr>
          <p:sp>
            <p:nvSpPr>
              <p:cNvPr id="4162" name=""/>
              <p:cNvSpPr/>
              <p:nvPr/>
            </p:nvSpPr>
            <p:spPr>
              <a:xfrm>
                <a:off x="673884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672588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4" name=""/>
            <p:cNvGrpSpPr/>
            <p:nvPr/>
          </p:nvGrpSpPr>
          <p:grpSpPr>
            <a:xfrm>
              <a:off x="6751440" y="3524400"/>
              <a:ext cx="114120" cy="88920"/>
              <a:chOff x="6751440" y="3524400"/>
              <a:chExt cx="114120" cy="88920"/>
            </a:xfrm>
          </p:grpSpPr>
          <p:sp>
            <p:nvSpPr>
              <p:cNvPr id="4165" name=""/>
              <p:cNvSpPr/>
              <p:nvPr/>
            </p:nvSpPr>
            <p:spPr>
              <a:xfrm>
                <a:off x="6764400" y="352440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6751440" y="352440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7105320" y="2768760"/>
              <a:ext cx="114120" cy="88920"/>
              <a:chOff x="7105320" y="2768760"/>
              <a:chExt cx="114120" cy="88920"/>
            </a:xfrm>
          </p:grpSpPr>
          <p:sp>
            <p:nvSpPr>
              <p:cNvPr id="4168" name=""/>
              <p:cNvSpPr/>
              <p:nvPr/>
            </p:nvSpPr>
            <p:spPr>
              <a:xfrm>
                <a:off x="7118280" y="27687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7105320" y="27687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0" name=""/>
            <p:cNvGrpSpPr/>
            <p:nvPr/>
          </p:nvGrpSpPr>
          <p:grpSpPr>
            <a:xfrm>
              <a:off x="7105320" y="3890880"/>
              <a:ext cx="114120" cy="88920"/>
              <a:chOff x="7105320" y="3890880"/>
              <a:chExt cx="114120" cy="88920"/>
            </a:xfrm>
          </p:grpSpPr>
          <p:sp>
            <p:nvSpPr>
              <p:cNvPr id="4171" name=""/>
              <p:cNvSpPr/>
              <p:nvPr/>
            </p:nvSpPr>
            <p:spPr>
              <a:xfrm>
                <a:off x="7118280" y="389088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7105320" y="389088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3" name=""/>
            <p:cNvGrpSpPr/>
            <p:nvPr/>
          </p:nvGrpSpPr>
          <p:grpSpPr>
            <a:xfrm>
              <a:off x="7103880" y="4243320"/>
              <a:ext cx="114120" cy="88920"/>
              <a:chOff x="7103880" y="4243320"/>
              <a:chExt cx="114120" cy="88920"/>
            </a:xfrm>
          </p:grpSpPr>
          <p:sp>
            <p:nvSpPr>
              <p:cNvPr id="4174" name=""/>
              <p:cNvSpPr/>
              <p:nvPr/>
            </p:nvSpPr>
            <p:spPr>
              <a:xfrm>
                <a:off x="7116840" y="42433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7103880" y="42433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6" name=""/>
            <p:cNvGrpSpPr/>
            <p:nvPr/>
          </p:nvGrpSpPr>
          <p:grpSpPr>
            <a:xfrm>
              <a:off x="7468920" y="3144960"/>
              <a:ext cx="114120" cy="88920"/>
              <a:chOff x="7468920" y="3144960"/>
              <a:chExt cx="114120" cy="88920"/>
            </a:xfrm>
          </p:grpSpPr>
          <p:sp>
            <p:nvSpPr>
              <p:cNvPr id="4177" name=""/>
              <p:cNvSpPr/>
              <p:nvPr/>
            </p:nvSpPr>
            <p:spPr>
              <a:xfrm>
                <a:off x="7481880" y="31449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7468920" y="31449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9" name=""/>
            <p:cNvGrpSpPr/>
            <p:nvPr/>
          </p:nvGrpSpPr>
          <p:grpSpPr>
            <a:xfrm>
              <a:off x="7470360" y="4633920"/>
              <a:ext cx="114120" cy="88920"/>
              <a:chOff x="7470360" y="4633920"/>
              <a:chExt cx="114120" cy="88920"/>
            </a:xfrm>
          </p:grpSpPr>
          <p:sp>
            <p:nvSpPr>
              <p:cNvPr id="4180" name=""/>
              <p:cNvSpPr/>
              <p:nvPr/>
            </p:nvSpPr>
            <p:spPr>
              <a:xfrm>
                <a:off x="7483320" y="463392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7470360" y="463392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2" name=""/>
            <p:cNvGrpSpPr/>
            <p:nvPr/>
          </p:nvGrpSpPr>
          <p:grpSpPr>
            <a:xfrm>
              <a:off x="7470360" y="4986360"/>
              <a:ext cx="114120" cy="88920"/>
              <a:chOff x="7470360" y="4986360"/>
              <a:chExt cx="114120" cy="88920"/>
            </a:xfrm>
          </p:grpSpPr>
          <p:sp>
            <p:nvSpPr>
              <p:cNvPr id="4183" name=""/>
              <p:cNvSpPr/>
              <p:nvPr/>
            </p:nvSpPr>
            <p:spPr>
              <a:xfrm>
                <a:off x="7483320" y="4986360"/>
                <a:ext cx="889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7470360" y="4986360"/>
                <a:ext cx="11412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5" name=""/>
          <p:cNvSpPr/>
          <p:nvPr/>
        </p:nvSpPr>
        <p:spPr>
          <a:xfrm>
            <a:off x="331920" y="1509840"/>
            <a:ext cx="8692920" cy="509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607-0D59-4053-8DBE-D6C53C71AC3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6" name=""/>
          <p:cNvSpPr/>
          <p:nvPr/>
        </p:nvSpPr>
        <p:spPr>
          <a:xfrm>
            <a:off x="4040280" y="3241800"/>
            <a:ext cx="1092240" cy="186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4084560" y="40356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418608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9" name=""/>
          <p:cNvSpPr/>
          <p:nvPr/>
        </p:nvSpPr>
        <p:spPr>
          <a:xfrm>
            <a:off x="43387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0" name=""/>
          <p:cNvSpPr/>
          <p:nvPr/>
        </p:nvSpPr>
        <p:spPr>
          <a:xfrm>
            <a:off x="450360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1" name=""/>
          <p:cNvSpPr/>
          <p:nvPr/>
        </p:nvSpPr>
        <p:spPr>
          <a:xfrm>
            <a:off x="465624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2" name=""/>
          <p:cNvSpPr/>
          <p:nvPr/>
        </p:nvSpPr>
        <p:spPr>
          <a:xfrm>
            <a:off x="480852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73760" y="510840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3995640" y="5254560"/>
            <a:ext cx="1575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2299"/>
              </a:lnSpc>
              <a:tabLst>
                <a:tab algn="l" pos="0"/>
                <a:tab algn="l" pos="939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4643280" y="3349800"/>
            <a:ext cx="596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4757760" y="323532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897440" y="4746600"/>
            <a:ext cx="22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5132520" y="34639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>
            <a:off x="5132520" y="487368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32520" y="393372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5595840" y="33814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600228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6396120" y="3394080"/>
            <a:ext cx="0" cy="173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6802560" y="339408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132520" y="435276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5310000" y="3914640"/>
            <a:ext cx="292320" cy="374760"/>
            <a:chOff x="5310000" y="3914640"/>
            <a:chExt cx="292320" cy="374760"/>
          </a:xfrm>
        </p:grpSpPr>
        <p:sp>
          <p:nvSpPr>
            <p:cNvPr id="4207" name=""/>
            <p:cNvSpPr/>
            <p:nvPr/>
          </p:nvSpPr>
          <p:spPr>
            <a:xfrm flipH="1">
              <a:off x="5488200" y="39974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48172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 flipH="1">
              <a:off x="5398920" y="40860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5411880" y="4174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054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12" name=""/>
            <p:cNvGrpSpPr/>
            <p:nvPr/>
          </p:nvGrpSpPr>
          <p:grpSpPr>
            <a:xfrm>
              <a:off x="5399280" y="4181400"/>
              <a:ext cx="152280" cy="108000"/>
              <a:chOff x="5399280" y="4181400"/>
              <a:chExt cx="152280" cy="108000"/>
            </a:xfrm>
          </p:grpSpPr>
          <p:sp>
            <p:nvSpPr>
              <p:cNvPr id="4213" name=""/>
              <p:cNvSpPr/>
              <p:nvPr/>
            </p:nvSpPr>
            <p:spPr>
              <a:xfrm>
                <a:off x="5399280" y="422604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5424480" y="4251240"/>
                <a:ext cx="10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5462640" y="4289400"/>
                <a:ext cx="25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548172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548172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36760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 flipH="1">
              <a:off x="5310000" y="4111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V="1">
              <a:off x="531684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31036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589720" y="3990960"/>
              <a:ext cx="126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3" name=""/>
          <p:cNvGrpSpPr/>
          <p:nvPr/>
        </p:nvGrpSpPr>
        <p:grpSpPr>
          <a:xfrm>
            <a:off x="5703840" y="3914640"/>
            <a:ext cx="304920" cy="374760"/>
            <a:chOff x="5703840" y="3914640"/>
            <a:chExt cx="304920" cy="374760"/>
          </a:xfrm>
        </p:grpSpPr>
        <p:sp>
          <p:nvSpPr>
            <p:cNvPr id="4224" name=""/>
            <p:cNvSpPr/>
            <p:nvPr/>
          </p:nvSpPr>
          <p:spPr>
            <a:xfrm flipH="1">
              <a:off x="5881320" y="399744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875560" y="400356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5805360" y="40860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 flipH="1">
              <a:off x="5818320" y="4174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8118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9" name=""/>
            <p:cNvGrpSpPr/>
            <p:nvPr/>
          </p:nvGrpSpPr>
          <p:grpSpPr>
            <a:xfrm>
              <a:off x="5792760" y="4181400"/>
              <a:ext cx="165240" cy="108000"/>
              <a:chOff x="5792760" y="4181400"/>
              <a:chExt cx="165240" cy="108000"/>
            </a:xfrm>
          </p:grpSpPr>
          <p:sp>
            <p:nvSpPr>
              <p:cNvPr id="4230" name=""/>
              <p:cNvSpPr/>
              <p:nvPr/>
            </p:nvSpPr>
            <p:spPr>
              <a:xfrm>
                <a:off x="5792760" y="42260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5830920" y="4251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5869080" y="428940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5875560" y="42004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5875560" y="4181400"/>
                <a:ext cx="0" cy="3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5" name=""/>
            <p:cNvSpPr/>
            <p:nvPr/>
          </p:nvSpPr>
          <p:spPr>
            <a:xfrm>
              <a:off x="5774040" y="409248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5716800" y="41115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 flipV="1">
              <a:off x="5722920" y="3927240"/>
              <a:ext cx="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703840" y="3914640"/>
              <a:ext cx="38160" cy="25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983560" y="399096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0" name=""/>
          <p:cNvGrpSpPr/>
          <p:nvPr/>
        </p:nvGrpSpPr>
        <p:grpSpPr>
          <a:xfrm>
            <a:off x="5703840" y="4346640"/>
            <a:ext cx="304920" cy="374400"/>
            <a:chOff x="5703840" y="4346640"/>
            <a:chExt cx="304920" cy="374400"/>
          </a:xfrm>
        </p:grpSpPr>
        <p:sp>
          <p:nvSpPr>
            <p:cNvPr id="4241" name=""/>
            <p:cNvSpPr/>
            <p:nvPr/>
          </p:nvSpPr>
          <p:spPr>
            <a:xfrm flipH="1">
              <a:off x="5881320" y="44290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587556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 flipH="1">
              <a:off x="580536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581832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581184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6" name=""/>
            <p:cNvGrpSpPr/>
            <p:nvPr/>
          </p:nvGrpSpPr>
          <p:grpSpPr>
            <a:xfrm>
              <a:off x="5792760" y="4600440"/>
              <a:ext cx="165240" cy="120600"/>
              <a:chOff x="5792760" y="4600440"/>
              <a:chExt cx="165240" cy="120600"/>
            </a:xfrm>
          </p:grpSpPr>
          <p:sp>
            <p:nvSpPr>
              <p:cNvPr id="4247" name=""/>
              <p:cNvSpPr/>
              <p:nvPr/>
            </p:nvSpPr>
            <p:spPr>
              <a:xfrm>
                <a:off x="5792760" y="465768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5830920" y="4683240"/>
                <a:ext cx="88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5869080" y="4721040"/>
                <a:ext cx="1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58755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58755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2" name=""/>
            <p:cNvSpPr/>
            <p:nvPr/>
          </p:nvSpPr>
          <p:spPr>
            <a:xfrm>
              <a:off x="577404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 flipH="1">
              <a:off x="5716800" y="45432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V="1">
              <a:off x="572292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703840" y="4346640"/>
              <a:ext cx="381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598356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7" name=""/>
          <p:cNvGrpSpPr/>
          <p:nvPr/>
        </p:nvGrpSpPr>
        <p:grpSpPr>
          <a:xfrm>
            <a:off x="6504120" y="4346640"/>
            <a:ext cx="304200" cy="374400"/>
            <a:chOff x="6504120" y="4346640"/>
            <a:chExt cx="304200" cy="374400"/>
          </a:xfrm>
        </p:grpSpPr>
        <p:sp>
          <p:nvSpPr>
            <p:cNvPr id="4258" name=""/>
            <p:cNvSpPr/>
            <p:nvPr/>
          </p:nvSpPr>
          <p:spPr>
            <a:xfrm flipH="1">
              <a:off x="6681240" y="44290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6675120" y="443556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604920" y="4530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617880" y="4594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6611760" y="45370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63" name=""/>
            <p:cNvGrpSpPr/>
            <p:nvPr/>
          </p:nvGrpSpPr>
          <p:grpSpPr>
            <a:xfrm>
              <a:off x="6592680" y="4600440"/>
              <a:ext cx="164880" cy="120600"/>
              <a:chOff x="6592680" y="4600440"/>
              <a:chExt cx="164880" cy="120600"/>
            </a:xfrm>
          </p:grpSpPr>
          <p:sp>
            <p:nvSpPr>
              <p:cNvPr id="4264" name=""/>
              <p:cNvSpPr/>
              <p:nvPr/>
            </p:nvSpPr>
            <p:spPr>
              <a:xfrm>
                <a:off x="6592680" y="465768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6630480" y="4683240"/>
                <a:ext cx="88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6668640" y="4721040"/>
                <a:ext cx="1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6674760" y="46321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6674760" y="4600440"/>
                <a:ext cx="0" cy="5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9" name=""/>
            <p:cNvSpPr/>
            <p:nvPr/>
          </p:nvSpPr>
          <p:spPr>
            <a:xfrm>
              <a:off x="6573600" y="4524480"/>
              <a:ext cx="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flipH="1">
              <a:off x="6516000" y="45432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V="1">
              <a:off x="6522840" y="43466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504120" y="4346640"/>
              <a:ext cx="3780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6783120" y="4422600"/>
              <a:ext cx="2520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4" name=""/>
          <p:cNvGrpSpPr/>
          <p:nvPr/>
        </p:nvGrpSpPr>
        <p:grpSpPr>
          <a:xfrm>
            <a:off x="5392800" y="2625840"/>
            <a:ext cx="368280" cy="806040"/>
            <a:chOff x="5392800" y="2625840"/>
            <a:chExt cx="368280" cy="806040"/>
          </a:xfrm>
        </p:grpSpPr>
        <p:sp>
          <p:nvSpPr>
            <p:cNvPr id="4275" name=""/>
            <p:cNvSpPr/>
            <p:nvPr/>
          </p:nvSpPr>
          <p:spPr>
            <a:xfrm>
              <a:off x="539280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5596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7" name=""/>
            <p:cNvGrpSpPr/>
            <p:nvPr/>
          </p:nvGrpSpPr>
          <p:grpSpPr>
            <a:xfrm>
              <a:off x="5513400" y="2797200"/>
              <a:ext cx="165240" cy="101520"/>
              <a:chOff x="5513400" y="2797200"/>
              <a:chExt cx="165240" cy="101520"/>
            </a:xfrm>
          </p:grpSpPr>
          <p:sp>
            <p:nvSpPr>
              <p:cNvPr id="4278" name=""/>
              <p:cNvSpPr/>
              <p:nvPr/>
            </p:nvSpPr>
            <p:spPr>
              <a:xfrm>
                <a:off x="5513400" y="2892240"/>
                <a:ext cx="16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flipV="1">
                <a:off x="551340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5602320" y="2809800"/>
                <a:ext cx="763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1" name=""/>
            <p:cNvSpPr/>
            <p:nvPr/>
          </p:nvSpPr>
          <p:spPr>
            <a:xfrm flipV="1">
              <a:off x="5596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flipV="1">
              <a:off x="560232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 flipV="1">
              <a:off x="553860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flipV="1">
              <a:off x="555156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 flipV="1">
              <a:off x="553860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V="1">
              <a:off x="555156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 flipV="1">
              <a:off x="553860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V="1">
              <a:off x="555156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V="1">
              <a:off x="5596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0" name=""/>
          <p:cNvGrpSpPr/>
          <p:nvPr/>
        </p:nvGrpSpPr>
        <p:grpSpPr>
          <a:xfrm>
            <a:off x="5799240" y="2625840"/>
            <a:ext cx="368280" cy="806040"/>
            <a:chOff x="5799240" y="2625840"/>
            <a:chExt cx="368280" cy="806040"/>
          </a:xfrm>
        </p:grpSpPr>
        <p:sp>
          <p:nvSpPr>
            <p:cNvPr id="4291" name=""/>
            <p:cNvSpPr/>
            <p:nvPr/>
          </p:nvSpPr>
          <p:spPr>
            <a:xfrm>
              <a:off x="579924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600264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3" name=""/>
            <p:cNvGrpSpPr/>
            <p:nvPr/>
          </p:nvGrpSpPr>
          <p:grpSpPr>
            <a:xfrm>
              <a:off x="5919840" y="2797200"/>
              <a:ext cx="152640" cy="101520"/>
              <a:chOff x="5919840" y="2797200"/>
              <a:chExt cx="152640" cy="101520"/>
            </a:xfrm>
          </p:grpSpPr>
          <p:sp>
            <p:nvSpPr>
              <p:cNvPr id="4294" name=""/>
              <p:cNvSpPr/>
              <p:nvPr/>
            </p:nvSpPr>
            <p:spPr>
              <a:xfrm>
                <a:off x="5919840" y="2892240"/>
                <a:ext cx="152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flipV="1">
                <a:off x="5919840" y="2797200"/>
                <a:ext cx="7632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008760" y="2809800"/>
                <a:ext cx="6372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7" name=""/>
            <p:cNvSpPr/>
            <p:nvPr/>
          </p:nvSpPr>
          <p:spPr>
            <a:xfrm flipV="1">
              <a:off x="600264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flipV="1">
              <a:off x="600876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 flipV="1">
              <a:off x="5945040" y="326700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flipV="1">
              <a:off x="595800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 flipV="1">
              <a:off x="5945040" y="316548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flipV="1">
              <a:off x="595800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 flipV="1">
              <a:off x="5945040" y="3063960"/>
              <a:ext cx="1141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flipV="1">
              <a:off x="5958000" y="3025440"/>
              <a:ext cx="3816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V="1">
              <a:off x="600264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6" name=""/>
          <p:cNvGrpSpPr/>
          <p:nvPr/>
        </p:nvGrpSpPr>
        <p:grpSpPr>
          <a:xfrm>
            <a:off x="6192720" y="2625840"/>
            <a:ext cx="368280" cy="806040"/>
            <a:chOff x="6192720" y="2625840"/>
            <a:chExt cx="368280" cy="806040"/>
          </a:xfrm>
        </p:grpSpPr>
        <p:sp>
          <p:nvSpPr>
            <p:cNvPr id="4307" name=""/>
            <p:cNvSpPr/>
            <p:nvPr/>
          </p:nvSpPr>
          <p:spPr>
            <a:xfrm>
              <a:off x="619272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639576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9" name=""/>
            <p:cNvGrpSpPr/>
            <p:nvPr/>
          </p:nvGrpSpPr>
          <p:grpSpPr>
            <a:xfrm>
              <a:off x="6313320" y="2797200"/>
              <a:ext cx="164880" cy="101520"/>
              <a:chOff x="6313320" y="2797200"/>
              <a:chExt cx="164880" cy="101520"/>
            </a:xfrm>
          </p:grpSpPr>
          <p:sp>
            <p:nvSpPr>
              <p:cNvPr id="4310" name=""/>
              <p:cNvSpPr/>
              <p:nvPr/>
            </p:nvSpPr>
            <p:spPr>
              <a:xfrm>
                <a:off x="631332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flipV="1">
                <a:off x="631332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640224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3" name=""/>
            <p:cNvSpPr/>
            <p:nvPr/>
          </p:nvSpPr>
          <p:spPr>
            <a:xfrm flipV="1">
              <a:off x="639576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402240" y="331740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 flipV="1">
              <a:off x="633852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flipV="1">
              <a:off x="6351480" y="321624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 flipV="1">
              <a:off x="633852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flipV="1">
              <a:off x="6351480" y="31147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 flipV="1">
              <a:off x="633852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flipV="1">
              <a:off x="635148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V="1">
              <a:off x="639576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2" name=""/>
          <p:cNvGrpSpPr/>
          <p:nvPr/>
        </p:nvGrpSpPr>
        <p:grpSpPr>
          <a:xfrm>
            <a:off x="6599160" y="2625840"/>
            <a:ext cx="368280" cy="806040"/>
            <a:chOff x="6599160" y="2625840"/>
            <a:chExt cx="368280" cy="806040"/>
          </a:xfrm>
        </p:grpSpPr>
        <p:sp>
          <p:nvSpPr>
            <p:cNvPr id="4323" name=""/>
            <p:cNvSpPr/>
            <p:nvPr/>
          </p:nvSpPr>
          <p:spPr>
            <a:xfrm>
              <a:off x="6599160" y="2625840"/>
              <a:ext cx="3682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6802200" y="291132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5" name=""/>
            <p:cNvGrpSpPr/>
            <p:nvPr/>
          </p:nvGrpSpPr>
          <p:grpSpPr>
            <a:xfrm>
              <a:off x="6719760" y="2797200"/>
              <a:ext cx="164880" cy="101520"/>
              <a:chOff x="6719760" y="2797200"/>
              <a:chExt cx="164880" cy="101520"/>
            </a:xfrm>
          </p:grpSpPr>
          <p:sp>
            <p:nvSpPr>
              <p:cNvPr id="4326" name=""/>
              <p:cNvSpPr/>
              <p:nvPr/>
            </p:nvSpPr>
            <p:spPr>
              <a:xfrm>
                <a:off x="6719760" y="2892240"/>
                <a:ext cx="164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6719760" y="2797200"/>
                <a:ext cx="75960" cy="101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808680" y="2809800"/>
                <a:ext cx="75960" cy="76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9" name=""/>
            <p:cNvSpPr/>
            <p:nvPr/>
          </p:nvSpPr>
          <p:spPr>
            <a:xfrm flipV="1">
              <a:off x="6802200" y="3330000"/>
              <a:ext cx="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V="1">
              <a:off x="6808680" y="331740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1" name=""/>
            <p:cNvSpPr/>
            <p:nvPr/>
          </p:nvSpPr>
          <p:spPr>
            <a:xfrm flipH="1" flipV="1">
              <a:off x="6744960" y="326700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V="1">
              <a:off x="6757920" y="321624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 flipV="1">
              <a:off x="6744960" y="316548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4" name=""/>
            <p:cNvSpPr/>
            <p:nvPr/>
          </p:nvSpPr>
          <p:spPr>
            <a:xfrm flipV="1">
              <a:off x="6757920" y="3114720"/>
              <a:ext cx="8856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744960" y="3063960"/>
              <a:ext cx="11448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V="1">
              <a:off x="6757920" y="3025440"/>
              <a:ext cx="378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flipV="1">
              <a:off x="6802200" y="298728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8" name=""/>
          <p:cNvSpPr/>
          <p:nvPr/>
        </p:nvSpPr>
        <p:spPr>
          <a:xfrm>
            <a:off x="7500960" y="3794040"/>
            <a:ext cx="1625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i] = 0011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[j] =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>
            <a:off x="5786280" y="5775480"/>
            <a:ext cx="3416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it lines (normally pulled to 1 through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istor – selectively connected to 0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 word line controlled switch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>
            <a:off x="4897440" y="4213080"/>
            <a:ext cx="190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4910040" y="3794040"/>
            <a:ext cx="19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1957320" y="4749840"/>
            <a:ext cx="2324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nal 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5614920" y="5184720"/>
            <a:ext cx="1625760" cy="558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6059520" y="5197320"/>
            <a:ext cx="119376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6440400" y="5197320"/>
            <a:ext cx="825480" cy="559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846840" y="5210280"/>
            <a:ext cx="40644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 flipV="1">
            <a:off x="7202520" y="2327400"/>
            <a:ext cx="54612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 flipV="1">
            <a:off x="7202520" y="2327400"/>
            <a:ext cx="546120" cy="1612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 flipV="1">
            <a:off x="7215120" y="2352600"/>
            <a:ext cx="520920" cy="198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 flipV="1">
            <a:off x="7215120" y="2327400"/>
            <a:ext cx="533520" cy="252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7107120" y="1660680"/>
            <a:ext cx="201924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ord lines (only on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s active – decoder i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just right for th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ad-only memor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dimensional array of 1s and 0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(row) is called a "wor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th of row = word-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x is called an "addres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is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word i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880-05A4-4690-B2AE-2658E299AB1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"/>
          <p:cNvSpPr/>
          <p:nvPr/>
        </p:nvSpPr>
        <p:spPr>
          <a:xfrm>
            <a:off x="2781360" y="2462040"/>
            <a:ext cx="370836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0 = A' B' C  +  A B' C'  +  A B'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1 = A' B' C  +  A' B C'  +  A B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2 = A' B' C'  +  A' B' C  +  A B'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3 = A' B C  +  A B' C'  + A B 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55" name=""/>
          <p:cNvGrpSpPr/>
          <p:nvPr/>
        </p:nvGrpSpPr>
        <p:grpSpPr>
          <a:xfrm>
            <a:off x="1504800" y="4278240"/>
            <a:ext cx="2279880" cy="2361960"/>
            <a:chOff x="1504800" y="4278240"/>
            <a:chExt cx="2279880" cy="2361960"/>
          </a:xfrm>
        </p:grpSpPr>
        <p:sp>
          <p:nvSpPr>
            <p:cNvPr id="4356" name=""/>
            <p:cNvSpPr/>
            <p:nvPr/>
          </p:nvSpPr>
          <p:spPr>
            <a:xfrm>
              <a:off x="1828800" y="6246720"/>
              <a:ext cx="1397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1562040" y="4278240"/>
              <a:ext cx="222264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1028880"/>
                  <a:tab algn="l" pos="1371600"/>
                  <a:tab algn="l" pos="1714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1504800" y="450684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2222640" y="429732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5460840" y="4348080"/>
            <a:ext cx="2121120" cy="2292120"/>
            <a:chOff x="5460840" y="4348080"/>
            <a:chExt cx="2121120" cy="2292120"/>
          </a:xfrm>
        </p:grpSpPr>
        <p:sp>
          <p:nvSpPr>
            <p:cNvPr id="4361" name=""/>
            <p:cNvSpPr/>
            <p:nvPr/>
          </p:nvSpPr>
          <p:spPr>
            <a:xfrm>
              <a:off x="5689440" y="6246720"/>
              <a:ext cx="17654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492880" y="4348080"/>
              <a:ext cx="2057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57150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flipV="1">
              <a:off x="59436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6172200" y="5249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6294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8580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0866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7315200" y="5262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575320" y="4481280"/>
              <a:ext cx="18669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M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 words x 4 bits/wo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460840" y="5929200"/>
              <a:ext cx="10796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477120" y="5929200"/>
              <a:ext cx="1015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5575320" y="5687640"/>
              <a:ext cx="20066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228600"/>
                  <a:tab algn="l" pos="457200"/>
                  <a:tab algn="l" pos="914400"/>
                  <a:tab algn="l" pos="1143000"/>
                  <a:tab algn="l" pos="1371600"/>
                  <a:tab algn="l" pos="16002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 implementation (two-level canonical form) using a 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9A04-074F-439B-826F-6DCCB2B633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PLA structure but with a fully decoded AND arr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ly flexible OR array (unlike P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1982880" y="3370320"/>
            <a:ext cx="5727600" cy="231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9" name=""/>
          <p:cNvGrpSpPr/>
          <p:nvPr/>
        </p:nvGrpSpPr>
        <p:grpSpPr>
          <a:xfrm>
            <a:off x="2236680" y="2700360"/>
            <a:ext cx="2019240" cy="2587680"/>
            <a:chOff x="2236680" y="2700360"/>
            <a:chExt cx="2019240" cy="2587680"/>
          </a:xfrm>
        </p:grpSpPr>
        <p:sp>
          <p:nvSpPr>
            <p:cNvPr id="4380" name=""/>
            <p:cNvSpPr/>
            <p:nvPr/>
          </p:nvSpPr>
          <p:spPr>
            <a:xfrm>
              <a:off x="2236680" y="2700360"/>
              <a:ext cx="20192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 address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81" name=""/>
            <p:cNvGrpSpPr/>
            <p:nvPr/>
          </p:nvGrpSpPr>
          <p:grpSpPr>
            <a:xfrm>
              <a:off x="2395440" y="3033720"/>
              <a:ext cx="1600200" cy="2254320"/>
              <a:chOff x="2395440" y="3033720"/>
              <a:chExt cx="1600200" cy="2254320"/>
            </a:xfrm>
          </p:grpSpPr>
          <p:sp>
            <p:nvSpPr>
              <p:cNvPr id="4382" name=""/>
              <p:cNvSpPr/>
              <p:nvPr/>
            </p:nvSpPr>
            <p:spPr>
              <a:xfrm>
                <a:off x="239544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2890800" y="3033720"/>
                <a:ext cx="876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2840040" y="3363840"/>
                <a:ext cx="927000" cy="66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in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2674800" y="4351320"/>
                <a:ext cx="1092240" cy="56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ecod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384336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>
                <a:off x="285264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>
                <a:off x="2548080" y="3078000"/>
                <a:ext cx="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389" name=""/>
          <p:cNvGrpSpPr/>
          <p:nvPr/>
        </p:nvGrpSpPr>
        <p:grpSpPr>
          <a:xfrm>
            <a:off x="3995640" y="4068720"/>
            <a:ext cx="1676160" cy="1263600"/>
            <a:chOff x="3995640" y="4068720"/>
            <a:chExt cx="1676160" cy="1263600"/>
          </a:xfrm>
        </p:grpSpPr>
        <p:sp>
          <p:nvSpPr>
            <p:cNvPr id="4390" name=""/>
            <p:cNvSpPr/>
            <p:nvPr/>
          </p:nvSpPr>
          <p:spPr>
            <a:xfrm>
              <a:off x="4008240" y="4392720"/>
              <a:ext cx="146052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wor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3995640" y="40687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3995640" y="429732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3995640" y="51354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4" name=""/>
          <p:cNvGrpSpPr/>
          <p:nvPr/>
        </p:nvGrpSpPr>
        <p:grpSpPr>
          <a:xfrm>
            <a:off x="5472000" y="3840120"/>
            <a:ext cx="2019240" cy="2884680"/>
            <a:chOff x="5472000" y="3840120"/>
            <a:chExt cx="2019240" cy="2884680"/>
          </a:xfrm>
        </p:grpSpPr>
        <p:grpSp>
          <p:nvGrpSpPr>
            <p:cNvPr id="4395" name=""/>
            <p:cNvGrpSpPr/>
            <p:nvPr/>
          </p:nvGrpSpPr>
          <p:grpSpPr>
            <a:xfrm>
              <a:off x="5532480" y="3840120"/>
              <a:ext cx="1854000" cy="2286000"/>
              <a:chOff x="5532480" y="3840120"/>
              <a:chExt cx="1854000" cy="2286000"/>
            </a:xfrm>
          </p:grpSpPr>
          <p:sp>
            <p:nvSpPr>
              <p:cNvPr id="4396" name=""/>
              <p:cNvSpPr/>
              <p:nvPr/>
            </p:nvSpPr>
            <p:spPr>
              <a:xfrm>
                <a:off x="5672160" y="3840120"/>
                <a:ext cx="1600200" cy="144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6116760" y="5662440"/>
                <a:ext cx="10922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•   •   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964120" y="5307120"/>
                <a:ext cx="1181160" cy="66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outpu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532480" y="4005360"/>
                <a:ext cx="1854000" cy="93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spcAft>
                    <a:spcPts val="2001"/>
                  </a:spcAft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emor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rray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2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words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y m bits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712008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612936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5824440" y="528804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3" name=""/>
            <p:cNvSpPr/>
            <p:nvPr/>
          </p:nvSpPr>
          <p:spPr>
            <a:xfrm>
              <a:off x="5472000" y="6064200"/>
              <a:ext cx="201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 data li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0B3-2CBC-4C10-AD39-BC668EF75F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OM vs. PL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ime is short (no need to minimize output fun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put combinations are needed (e.g., code conver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tle sharing of product terms among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M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doubles for each additional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exploi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 approach advantageous w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tools are available for multi-output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latively few unique minterm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minterms are shared among the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ained fan-ins on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BA1-A498-47D8-A356-1DF5E6ACA1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 – full AND plane, general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 (high-volume compon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of n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um sp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– programmable AND plane, fixed OR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mediat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functions limited by number of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speed (only one programmable plane that is much smaller than ROM's deco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 – programmable AND and OR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expensive (most complex in design, need more sophisticated too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lement any function up to a product term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 (two programmable pla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2B2-0E28-4B07-9950-D51D5D7DF7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design f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ed to make engineering changes easier to m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r for designers to understand and map to function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think in terms of specif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to think in terms of a large multi-purpose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E82-74BA-41A3-9F18-07A859ACEA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ular logic structures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icult to devise a regular structure for arbitrary connections between a large set of different type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/speed concerns for such a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467 you'll learn about field programmable gate arrays (FPGAs) that are just such programmable multi-level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multiplexers for wi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 tables for logic functions (programming fills in the 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purpose cells (utilization is the big iss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multiple levels of PALs/PLAs/R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ntermediate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it an input to be used in furthe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C753-A275-4E63-8DDB-8849E16B3BF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technology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gates or i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 to NAND-NAND and NOR-NOR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 from simple gates to more complex gate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gate count, fan-ins, potentially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levels, harder to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response in combinational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s and timing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ards/glitches (what they are and why they happ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s/deco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/P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/disadvantages of 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0D91-3B5F-45CB-AA8F-2CC43AED983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609480" y="4152960"/>
            <a:ext cx="1828800" cy="1257120"/>
            <a:chOff x="609480" y="4152960"/>
            <a:chExt cx="1828800" cy="1257120"/>
          </a:xfrm>
        </p:grpSpPr>
        <p:sp>
          <p:nvSpPr>
            <p:cNvPr id="93" name=""/>
            <p:cNvSpPr/>
            <p:nvPr/>
          </p:nvSpPr>
          <p:spPr>
            <a:xfrm>
              <a:off x="1079280" y="41529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609480" y="4267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609480" y="46101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609480" y="529596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09480" y="49402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06280" y="47880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1880" y="4280040"/>
              <a:ext cx="60984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91880" y="4622760"/>
              <a:ext cx="58428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1091880" y="4826160"/>
              <a:ext cx="58428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091880" y="49399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91880" y="4280040"/>
              <a:ext cx="90180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91880" y="4622760"/>
              <a:ext cx="9018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091880" y="4775040"/>
              <a:ext cx="901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091880" y="4775040"/>
              <a:ext cx="9018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857680" y="4140360"/>
            <a:ext cx="1828800" cy="1257120"/>
            <a:chOff x="2857680" y="4140360"/>
            <a:chExt cx="1828800" cy="1257120"/>
          </a:xfrm>
        </p:grpSpPr>
        <p:sp>
          <p:nvSpPr>
            <p:cNvPr id="108" name=""/>
            <p:cNvSpPr/>
            <p:nvPr/>
          </p:nvSpPr>
          <p:spPr>
            <a:xfrm>
              <a:off x="3327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54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54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4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54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57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3301920" y="4267080"/>
              <a:ext cx="95220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3301920" y="4610160"/>
              <a:ext cx="9522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3301920" y="4762440"/>
              <a:ext cx="9522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3301920" y="4762440"/>
              <a:ext cx="9522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340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40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40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0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800280" y="5524560"/>
            <a:ext cx="1562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33640" y="5524560"/>
            <a:ext cx="181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84520" y="4140360"/>
            <a:ext cx="1829160" cy="1257120"/>
            <a:chOff x="5384520" y="4140360"/>
            <a:chExt cx="1829160" cy="1257120"/>
          </a:xfrm>
        </p:grpSpPr>
        <p:sp>
          <p:nvSpPr>
            <p:cNvPr id="125" name=""/>
            <p:cNvSpPr/>
            <p:nvPr/>
          </p:nvSpPr>
          <p:spPr>
            <a:xfrm>
              <a:off x="58546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384520" y="4254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384520" y="45975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5384520" y="52833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384520" y="4927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82040" y="47750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640" y="4267080"/>
              <a:ext cx="609480" cy="33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67640" y="4610160"/>
              <a:ext cx="583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67640" y="4812840"/>
              <a:ext cx="5839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867640" y="4927320"/>
              <a:ext cx="59688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67640" y="4267080"/>
              <a:ext cx="9014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67640" y="4610160"/>
              <a:ext cx="9014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867640" y="4762440"/>
              <a:ext cx="9014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867640" y="4762440"/>
              <a:ext cx="9014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781680" y="4140360"/>
            <a:ext cx="1828800" cy="1257120"/>
            <a:chOff x="6781680" y="4140360"/>
            <a:chExt cx="1828800" cy="1257120"/>
          </a:xfrm>
        </p:grpSpPr>
        <p:sp>
          <p:nvSpPr>
            <p:cNvPr id="140" name=""/>
            <p:cNvSpPr/>
            <p:nvPr/>
          </p:nvSpPr>
          <p:spPr>
            <a:xfrm>
              <a:off x="7251480" y="41403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178480" y="42544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78480" y="45975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78480" y="52833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78480" y="49276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6781680" y="477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225920" y="4267080"/>
              <a:ext cx="95256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225920" y="4610160"/>
              <a:ext cx="952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7225920" y="4762440"/>
              <a:ext cx="952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225920" y="4762440"/>
              <a:ext cx="9525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7264080" y="4508640"/>
              <a:ext cx="40644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64080" y="4673520"/>
              <a:ext cx="40644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64080" y="4788000"/>
              <a:ext cx="39384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264080" y="4788000"/>
              <a:ext cx="36828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48520" y="5524560"/>
            <a:ext cx="1536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x4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27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1128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5912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27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11880" y="359424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4684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31200" y="3581280"/>
            <a:ext cx="0" cy="55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12800" y="3505320"/>
            <a:ext cx="1155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645000" y="3517920"/>
            <a:ext cx="1155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king conne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oint-to-point connections between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 we've seen so f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one of many inputs to a single output --- 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 a single input to one of many outputs --- demultiplex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DB22-0D7F-4323-969D-20B48DA40E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implementation of multiplexers and demultiplex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composed to make arbitrary size switch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implement multiple-source/multiple-destination inter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648320" y="4876920"/>
            <a:ext cx="3632040" cy="1371600"/>
            <a:chOff x="4648320" y="4876920"/>
            <a:chExt cx="3632040" cy="1371600"/>
          </a:xfrm>
        </p:grpSpPr>
        <p:sp>
          <p:nvSpPr>
            <p:cNvPr id="170" name=""/>
            <p:cNvSpPr/>
            <p:nvPr/>
          </p:nvSpPr>
          <p:spPr>
            <a:xfrm>
              <a:off x="6692760" y="5639040"/>
              <a:ext cx="106704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68880" y="5639040"/>
              <a:ext cx="106668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68880" y="4876920"/>
              <a:ext cx="106668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92760" y="4876920"/>
              <a:ext cx="106704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4832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8320" y="579132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988400" y="5016600"/>
              <a:ext cx="291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88400" y="5778720"/>
              <a:ext cx="266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245200" y="5715360"/>
              <a:ext cx="914400" cy="457200"/>
              <a:chOff x="5245200" y="5715360"/>
              <a:chExt cx="914400" cy="457200"/>
            </a:xfrm>
          </p:grpSpPr>
          <p:sp>
            <p:nvSpPr>
              <p:cNvPr id="179" name=""/>
              <p:cNvSpPr/>
              <p:nvPr/>
            </p:nvSpPr>
            <p:spPr>
              <a:xfrm>
                <a:off x="600696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0696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520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539748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245200" y="4953240"/>
              <a:ext cx="914400" cy="457200"/>
              <a:chOff x="5245200" y="4953240"/>
              <a:chExt cx="914400" cy="457200"/>
            </a:xfrm>
          </p:grpSpPr>
          <p:sp>
            <p:nvSpPr>
              <p:cNvPr id="184" name=""/>
              <p:cNvSpPr/>
              <p:nvPr/>
            </p:nvSpPr>
            <p:spPr>
              <a:xfrm>
                <a:off x="600696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00696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24520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39748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769080" y="5715360"/>
              <a:ext cx="914400" cy="457200"/>
              <a:chOff x="6769080" y="5715360"/>
              <a:chExt cx="914400" cy="457200"/>
            </a:xfrm>
          </p:grpSpPr>
          <p:sp>
            <p:nvSpPr>
              <p:cNvPr id="189" name=""/>
              <p:cNvSpPr/>
              <p:nvPr/>
            </p:nvSpPr>
            <p:spPr>
              <a:xfrm flipH="1">
                <a:off x="6769080" y="571536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6769080" y="602028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7530840" y="5868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6921720" y="579132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769080" y="4953240"/>
              <a:ext cx="914400" cy="457200"/>
              <a:chOff x="6769080" y="4953240"/>
              <a:chExt cx="914400" cy="457200"/>
            </a:xfrm>
          </p:grpSpPr>
          <p:sp>
            <p:nvSpPr>
              <p:cNvPr id="194" name=""/>
              <p:cNvSpPr/>
              <p:nvPr/>
            </p:nvSpPr>
            <p:spPr>
              <a:xfrm flipH="1">
                <a:off x="6769080" y="4953240"/>
                <a:ext cx="15264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6769080" y="5257800"/>
                <a:ext cx="15264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7530840" y="51055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6921720" y="5181840"/>
                <a:ext cx="60948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98" name=""/>
            <p:cNvCxnSpPr>
              <a:stCxn id="184" idx="6"/>
              <a:endCxn id="194" idx="6"/>
            </p:cNvCxnSpPr>
            <p:nvPr/>
          </p:nvCxnSpPr>
          <p:spPr>
            <a:xfrm flipV="1">
              <a:off x="6159240" y="5027040"/>
              <a:ext cx="6102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99" name=""/>
            <p:cNvCxnSpPr>
              <a:stCxn id="185" idx="5"/>
              <a:endCxn id="189" idx="7"/>
            </p:cNvCxnSpPr>
            <p:nvPr/>
          </p:nvCxnSpPr>
          <p:spPr>
            <a:xfrm>
              <a:off x="6136920" y="5388120"/>
              <a:ext cx="65484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0" name=""/>
            <p:cNvCxnSpPr>
              <a:stCxn id="179" idx="7"/>
              <a:endCxn id="195" idx="5"/>
            </p:cNvCxnSpPr>
            <p:nvPr/>
          </p:nvCxnSpPr>
          <p:spPr>
            <a:xfrm flipV="1">
              <a:off x="6136920" y="5386320"/>
              <a:ext cx="65484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01" name=""/>
            <p:cNvCxnSpPr>
              <a:stCxn id="180" idx="6"/>
              <a:endCxn id="190" idx="6"/>
            </p:cNvCxnSpPr>
            <p:nvPr/>
          </p:nvCxnSpPr>
          <p:spPr>
            <a:xfrm flipV="1">
              <a:off x="6159240" y="609444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02" name=""/>
            <p:cNvSpPr/>
            <p:nvPr/>
          </p:nvSpPr>
          <p:spPr>
            <a:xfrm>
              <a:off x="76834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834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280" y="51818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40280" y="5943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990720" y="3200400"/>
            <a:ext cx="3631680" cy="1371600"/>
            <a:chOff x="990720" y="3200400"/>
            <a:chExt cx="3631680" cy="1371600"/>
          </a:xfrm>
        </p:grpSpPr>
        <p:sp>
          <p:nvSpPr>
            <p:cNvPr id="207" name=""/>
            <p:cNvSpPr/>
            <p:nvPr/>
          </p:nvSpPr>
          <p:spPr>
            <a:xfrm>
              <a:off x="303516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11280" y="3962160"/>
              <a:ext cx="1066320" cy="60984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1128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35160" y="3200400"/>
              <a:ext cx="1066320" cy="609480"/>
            </a:xfrm>
            <a:prstGeom prst="rect">
              <a:avLst/>
            </a:pr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90720" y="411480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30440" y="3340080"/>
              <a:ext cx="291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30440" y="4101840"/>
              <a:ext cx="266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1587240" y="4038480"/>
              <a:ext cx="913680" cy="457200"/>
              <a:chOff x="1587240" y="4038480"/>
              <a:chExt cx="913680" cy="457200"/>
            </a:xfrm>
          </p:grpSpPr>
          <p:sp>
            <p:nvSpPr>
              <p:cNvPr id="216" name=""/>
              <p:cNvSpPr/>
              <p:nvPr/>
            </p:nvSpPr>
            <p:spPr>
              <a:xfrm>
                <a:off x="234900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4900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58724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3952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87240" y="3276360"/>
              <a:ext cx="913680" cy="457200"/>
              <a:chOff x="1587240" y="3276360"/>
              <a:chExt cx="913680" cy="45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234900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4900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58724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173952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111480" y="4038480"/>
              <a:ext cx="913320" cy="457200"/>
              <a:chOff x="3111480" y="4038480"/>
              <a:chExt cx="913320" cy="457200"/>
            </a:xfrm>
          </p:grpSpPr>
          <p:sp>
            <p:nvSpPr>
              <p:cNvPr id="226" name=""/>
              <p:cNvSpPr/>
              <p:nvPr/>
            </p:nvSpPr>
            <p:spPr>
              <a:xfrm flipH="1">
                <a:off x="3111480" y="40384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111480" y="434340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3872160" y="419076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263400" y="426708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111480" y="3276360"/>
              <a:ext cx="913320" cy="457200"/>
              <a:chOff x="3111480" y="3276360"/>
              <a:chExt cx="913320" cy="45720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3111480" y="3276360"/>
                <a:ext cx="151920" cy="1526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3111480" y="3581280"/>
                <a:ext cx="15192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872160" y="34290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3263400" y="3352320"/>
                <a:ext cx="60912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35" name=""/>
            <p:cNvCxnSpPr>
              <a:stCxn id="221" idx="6"/>
              <a:endCxn id="231" idx="6"/>
            </p:cNvCxnSpPr>
            <p:nvPr/>
          </p:nvCxnSpPr>
          <p:spPr>
            <a:xfrm flipV="1">
              <a:off x="2501280" y="335088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6" name=""/>
            <p:cNvCxnSpPr>
              <a:stCxn id="222" idx="5"/>
              <a:endCxn id="226" idx="7"/>
            </p:cNvCxnSpPr>
            <p:nvPr/>
          </p:nvCxnSpPr>
          <p:spPr>
            <a:xfrm>
              <a:off x="2479320" y="3711600"/>
              <a:ext cx="654120" cy="349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7" name=""/>
            <p:cNvCxnSpPr>
              <a:stCxn id="216" idx="7"/>
              <a:endCxn id="232" idx="5"/>
            </p:cNvCxnSpPr>
            <p:nvPr/>
          </p:nvCxnSpPr>
          <p:spPr>
            <a:xfrm flipV="1">
              <a:off x="2479320" y="3709440"/>
              <a:ext cx="654120" cy="351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38" name=""/>
            <p:cNvCxnSpPr>
              <a:stCxn id="217" idx="6"/>
              <a:endCxn id="227" idx="6"/>
            </p:cNvCxnSpPr>
            <p:nvPr/>
          </p:nvCxnSpPr>
          <p:spPr>
            <a:xfrm flipV="1">
              <a:off x="2501280" y="4417560"/>
              <a:ext cx="61020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239" name=""/>
            <p:cNvSpPr/>
            <p:nvPr/>
          </p:nvSpPr>
          <p:spPr>
            <a:xfrm>
              <a:off x="40258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258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82680" y="350496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82680" y="4267080"/>
              <a:ext cx="30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595-C749-4994-84A8-40EAEE28AA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295960" y="3009960"/>
            <a:ext cx="2603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input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83360" y="5321160"/>
            <a:ext cx="3225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 output dest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2971800"/>
            <a:ext cx="10666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2971800"/>
            <a:ext cx="10670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114264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31240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980720" y="5486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4640" y="3035160"/>
            <a:ext cx="8510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860640"/>
            <a:ext cx="266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581280" y="3886200"/>
            <a:ext cx="2667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66880" y="45720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2971800"/>
            <a:ext cx="673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3835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98680" y="5334120"/>
            <a:ext cx="406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320" y="2971800"/>
            <a:ext cx="380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76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625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25960" y="3035160"/>
            <a:ext cx="85068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14600" y="5715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384880"/>
            <a:ext cx="850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1727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809880"/>
            <a:ext cx="2743200" cy="1067040"/>
          </a:xfrm>
          <a:custGeom>
            <a:avLst/>
            <a:gdLst/>
            <a:ahLst/>
            <a:rect l="l" t="t" r="r" b="b"/>
            <a:pathLst>
              <a:path w="1729" h="649">
                <a:moveTo>
                  <a:pt x="0" y="0"/>
                </a:moveTo>
                <a:lnTo>
                  <a:pt x="504" y="0"/>
                </a:lnTo>
                <a:lnTo>
                  <a:pt x="648" y="0"/>
                </a:lnTo>
                <a:lnTo>
                  <a:pt x="864" y="288"/>
                </a:lnTo>
                <a:lnTo>
                  <a:pt x="1080" y="0"/>
                </a:lnTo>
                <a:lnTo>
                  <a:pt x="1728" y="0"/>
                </a:lnTo>
                <a:lnTo>
                  <a:pt x="1368" y="648"/>
                </a:lnTo>
                <a:lnTo>
                  <a:pt x="360" y="6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1952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5334120"/>
            <a:ext cx="10666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x and demux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s of multiplexers/demultiplexers in multi-point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523880" y="2413080"/>
            <a:ext cx="304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2413080"/>
            <a:ext cx="3045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438280" y="6095880"/>
            <a:ext cx="3049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6095880"/>
            <a:ext cx="3045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698400"/>
                <a:tab algn="l" pos="1752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965-4D64-4CC1-9CFA-6E606FC4FA3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5473800"/>
            <a:ext cx="2946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o alternative 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a 2:1 Mux 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4686480"/>
            <a:ext cx="18795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al 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343400" y="419076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4343400" y="4419720"/>
            <a:ext cx="198108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349880" y="3282840"/>
            <a:ext cx="920520" cy="870120"/>
            <a:chOff x="4349880" y="3282840"/>
            <a:chExt cx="920520" cy="870120"/>
          </a:xfrm>
        </p:grpSpPr>
        <p:sp>
          <p:nvSpPr>
            <p:cNvPr id="283" name=""/>
            <p:cNvSpPr/>
            <p:nvPr/>
          </p:nvSpPr>
          <p:spPr>
            <a:xfrm>
              <a:off x="4406760" y="3289320"/>
              <a:ext cx="863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49840" y="3282840"/>
              <a:ext cx="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49880" y="35560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476760" y="3125880"/>
            <a:ext cx="1822680" cy="2604600"/>
            <a:chOff x="6476760" y="3125880"/>
            <a:chExt cx="1822680" cy="2604600"/>
          </a:xfrm>
        </p:grpSpPr>
        <p:sp>
          <p:nvSpPr>
            <p:cNvPr id="287" name=""/>
            <p:cNvSpPr/>
            <p:nvPr/>
          </p:nvSpPr>
          <p:spPr>
            <a:xfrm>
              <a:off x="6546960" y="3125880"/>
              <a:ext cx="1752480" cy="26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9144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04080" y="3220920"/>
              <a:ext cx="0" cy="242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476760" y="3519360"/>
              <a:ext cx="17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1054080" y="3645000"/>
            <a:ext cx="1803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 = A'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+ A I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xers/selectors: general conce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ta inputs, n control inputs (called "selects"), 1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connect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ints to a single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ignal pattern forms binary index of input connected to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7186-419D-458D-A629-7435AAA17A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3056040" y="3421080"/>
            <a:ext cx="685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  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553080" y="3352680"/>
            <a:ext cx="2362320" cy="2755800"/>
            <a:chOff x="6553080" y="3352680"/>
            <a:chExt cx="2362320" cy="2755800"/>
          </a:xfrm>
        </p:grpSpPr>
        <p:sp>
          <p:nvSpPr>
            <p:cNvPr id="295" name=""/>
            <p:cNvSpPr/>
            <p:nvPr/>
          </p:nvSpPr>
          <p:spPr>
            <a:xfrm>
              <a:off x="6553080" y="3352680"/>
              <a:ext cx="30492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8160" y="3759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8160" y="3987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88160" y="46735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88160" y="51307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8160" y="4216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8160" y="49021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8160" y="4444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816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30880" y="3651120"/>
              <a:ext cx="9144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3533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819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810560" y="54669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289640" y="5499000"/>
              <a:ext cx="990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  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40400" y="4089240"/>
              <a:ext cx="5335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56320" y="4178160"/>
              <a:ext cx="55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45280" y="45590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848040" y="4508640"/>
            <a:ext cx="2361960" cy="1841400"/>
            <a:chOff x="3848040" y="4508640"/>
            <a:chExt cx="2361960" cy="1841400"/>
          </a:xfrm>
        </p:grpSpPr>
        <p:sp>
          <p:nvSpPr>
            <p:cNvPr id="313" name=""/>
            <p:cNvSpPr/>
            <p:nvPr/>
          </p:nvSpPr>
          <p:spPr>
            <a:xfrm>
              <a:off x="3848040" y="4508640"/>
              <a:ext cx="3045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82760" y="49150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82760" y="537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2760" y="5143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2760" y="56008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25840" y="48070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7624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991040" y="57085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8720" y="5740560"/>
              <a:ext cx="762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 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609800" y="4775040"/>
              <a:ext cx="5335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51280" y="487692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40240" y="525780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90720" y="4952880"/>
            <a:ext cx="2361960" cy="1384200"/>
            <a:chOff x="990720" y="4952880"/>
            <a:chExt cx="2361960" cy="1384200"/>
          </a:xfrm>
        </p:grpSpPr>
        <p:sp>
          <p:nvSpPr>
            <p:cNvPr id="326" name=""/>
            <p:cNvSpPr/>
            <p:nvPr/>
          </p:nvSpPr>
          <p:spPr>
            <a:xfrm>
              <a:off x="990720" y="4952880"/>
              <a:ext cx="3045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25440" y="53593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25440" y="558792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8520" y="5251320"/>
              <a:ext cx="9144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9240" y="569556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55880" y="5727600"/>
              <a:ext cx="546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78040" y="4965480"/>
              <a:ext cx="5331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: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93960" y="5092560"/>
              <a:ext cx="558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8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82920" y="547344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3002040" y="369108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11840" y="332424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plexers/selectors (cont'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:1 mux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A'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'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AB'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'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'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ABCI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(m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interm shorthand form for a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EAB-61F6-4C59-99DA-CB73AE66474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V - Combinational Logic Technolog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5:57Z</dcterms:created>
  <dc:creator>Gaetano Borriello</dc:creator>
  <dc:description/>
  <dc:language>en-US</dc:language>
  <cp:lastModifiedBy>Gaetano Borriello</cp:lastModifiedBy>
  <cp:lastPrinted>1999-04-12T19:46:03Z</cp:lastPrinted>
  <dcterms:modified xsi:type="dcterms:W3CDTF">2005-01-24T06:59:49Z</dcterms:modified>
  <cp:revision>34</cp:revision>
  <dc:subject/>
  <dc:title>Combinational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