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24FD-5007-410B-9ADE-E2BA0213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1879-490F-450C-8976-3EEFF449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FAA1-124A-4ADD-A469-1472A1408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7E65-A137-4BA3-8095-43202928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1DA3-404B-4743-9F0E-E9ACC319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01DD-69D5-4BAC-B9A1-17D9C274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1032-9DF3-44A6-9E0F-045F6F21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85C2-B8BD-4AE3-BD8F-001A9645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2692-1B7B-4B85-A248-9C5A6706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3016-22B5-43B0-B101-826E4206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C2A4-5047-4262-85BD-AD8A80FE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FFBE-4A09-4351-A768-F04BF38E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3CA4A-7984-4E40-8588-ABC046B0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4654-474B-48E0-BFD2-D9E281DC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C6B9-3320-4D51-8C42-6383C839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13ED-B01A-461C-BCC9-8971CA10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1CAA-4C1A-4BC2-B4FC-AE1E657F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260A-07F3-45DD-A921-C1E2648C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642B-7A55-40C2-94C0-2F79D13AC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83F0-D211-4D9D-9897-3FE29306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BCEF-FE7A-46D6-A1F0-4A04CBB3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52AB-5036-4A59-94DA-627F090D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B6B1-4CDF-4874-954E-E4947609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A588-0355-4F24-BE0D-4715C4B4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5D4A458-A1A9-4565-8884-65392EC4994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35CA4D2-D5D4-4083-86F2-D235E38F2E4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19520" y="1841400"/>
            <a:ext cx="4647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ic design approach: a 4-step design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 and finite state machi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examples and case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-string pattern recog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ffic light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combination 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8177-D126-4EAC-AACB-53A75C53AE8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x counter (state diagram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riving 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ate for each output comb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ppropriate arcs for the mod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28600" y="3505320"/>
            <a:ext cx="8140680" cy="1396800"/>
            <a:chOff x="228600" y="3505320"/>
            <a:chExt cx="8140680" cy="1396800"/>
          </a:xfrm>
        </p:grpSpPr>
        <p:sp>
          <p:nvSpPr>
            <p:cNvPr id="242" name=""/>
            <p:cNvSpPr/>
            <p:nvPr/>
          </p:nvSpPr>
          <p:spPr>
            <a:xfrm>
              <a:off x="14479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0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623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0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767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01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055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0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199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0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343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1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848720" y="4419720"/>
              <a:ext cx="5205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7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[11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228600" y="3505320"/>
              <a:ext cx="8076960" cy="1371600"/>
              <a:chOff x="228600" y="3505320"/>
              <a:chExt cx="8076960" cy="1371600"/>
            </a:xfrm>
          </p:grpSpPr>
          <p:sp>
            <p:nvSpPr>
              <p:cNvPr id="251" name=""/>
              <p:cNvSpPr/>
              <p:nvPr/>
            </p:nvSpPr>
            <p:spPr>
              <a:xfrm>
                <a:off x="228600" y="4343400"/>
                <a:ext cx="97776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es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647960" y="3505320"/>
                <a:ext cx="5590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1051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0195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9339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8483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4475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3619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763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90760" y="4419720"/>
                <a:ext cx="457200" cy="457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1" name=""/>
              <p:cNvCxnSpPr>
                <a:stCxn id="257" idx="6"/>
                <a:endCxn id="258" idx="2"/>
              </p:cNvCxnSpPr>
              <p:nvPr/>
            </p:nvCxnSpPr>
            <p:spPr>
              <a:xfrm>
                <a:off x="19047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2" name=""/>
              <p:cNvCxnSpPr>
                <a:stCxn id="258" idx="6"/>
                <a:endCxn id="259" idx="2"/>
              </p:cNvCxnSpPr>
              <p:nvPr/>
            </p:nvCxnSpPr>
            <p:spPr>
              <a:xfrm>
                <a:off x="28191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3" name=""/>
              <p:cNvCxnSpPr>
                <a:stCxn id="259" idx="6"/>
                <a:endCxn id="260" idx="2"/>
              </p:cNvCxnSpPr>
              <p:nvPr/>
            </p:nvCxnSpPr>
            <p:spPr>
              <a:xfrm>
                <a:off x="37335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4" name=""/>
              <p:cNvCxnSpPr>
                <a:stCxn id="260" idx="6"/>
                <a:endCxn id="253" idx="2"/>
              </p:cNvCxnSpPr>
              <p:nvPr/>
            </p:nvCxnSpPr>
            <p:spPr>
              <a:xfrm>
                <a:off x="46479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5" name=""/>
              <p:cNvCxnSpPr>
                <a:stCxn id="253" idx="6"/>
                <a:endCxn id="254" idx="2"/>
              </p:cNvCxnSpPr>
              <p:nvPr/>
            </p:nvCxnSpPr>
            <p:spPr>
              <a:xfrm>
                <a:off x="55623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6" name=""/>
              <p:cNvCxnSpPr>
                <a:stCxn id="254" idx="6"/>
                <a:endCxn id="255" idx="2"/>
              </p:cNvCxnSpPr>
              <p:nvPr/>
            </p:nvCxnSpPr>
            <p:spPr>
              <a:xfrm>
                <a:off x="64767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7" name=""/>
              <p:cNvCxnSpPr>
                <a:stCxn id="255" idx="6"/>
                <a:endCxn id="256" idx="2"/>
              </p:cNvCxnSpPr>
              <p:nvPr/>
            </p:nvCxnSpPr>
            <p:spPr>
              <a:xfrm>
                <a:off x="73911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8" name=""/>
              <p:cNvCxnSpPr/>
              <p:nvPr/>
            </p:nvCxnSpPr>
            <p:spPr>
              <a:xfrm>
                <a:off x="990360" y="4647960"/>
                <a:ext cx="457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69" name=""/>
              <p:cNvCxnSpPr>
                <a:stCxn id="256" idx="0"/>
                <a:endCxn id="257" idx="0"/>
              </p:cNvCxnSpPr>
              <p:nvPr/>
            </p:nvCxnSpPr>
            <p:spPr>
              <a:xfrm rot="5400000">
                <a:off x="4875120" y="1220040"/>
                <a:ext cx="2160" cy="6401520"/>
              </a:xfrm>
              <a:prstGeom prst="curvedConnector5">
                <a:avLst>
                  <a:gd name="adj1" fmla="val -38400000"/>
                  <a:gd name="adj2" fmla="val 49997"/>
                  <a:gd name="adj3" fmla="val -3840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70" name=""/>
              <p:cNvSpPr/>
              <p:nvPr/>
            </p:nvSpPr>
            <p:spPr>
              <a:xfrm>
                <a:off x="45720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864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3752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2896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63204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7432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828800" y="4343400"/>
                <a:ext cx="5587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ctr">
                  <a:lnSpc>
                    <a:spcPts val="22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7" name=""/>
          <p:cNvGrpSpPr/>
          <p:nvPr/>
        </p:nvGrpSpPr>
        <p:grpSpPr>
          <a:xfrm>
            <a:off x="1675800" y="4648320"/>
            <a:ext cx="6401520" cy="1015920"/>
            <a:chOff x="1675800" y="4648320"/>
            <a:chExt cx="6401520" cy="1015920"/>
          </a:xfrm>
        </p:grpSpPr>
        <p:sp>
          <p:nvSpPr>
            <p:cNvPr id="278" name=""/>
            <p:cNvSpPr/>
            <p:nvPr/>
          </p:nvSpPr>
          <p:spPr>
            <a:xfrm>
              <a:off x="3733920" y="46483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62920" y="48513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675800" y="4809240"/>
              <a:ext cx="6401520" cy="523080"/>
              <a:chOff x="1675800" y="4809240"/>
              <a:chExt cx="6401520" cy="523080"/>
            </a:xfrm>
          </p:grpSpPr>
          <p:cxnSp>
            <p:nvCxnSpPr>
              <p:cNvPr id="281" name=""/>
              <p:cNvCxnSpPr>
                <a:stCxn id="257" idx="5"/>
                <a:endCxn id="258" idx="3"/>
              </p:cNvCxnSpPr>
              <p:nvPr/>
            </p:nvCxnSpPr>
            <p:spPr>
              <a:xfrm flipH="1" rot="16200000">
                <a:off x="2131920" y="4515120"/>
                <a:ext cx="2160" cy="591120"/>
              </a:xfrm>
              <a:prstGeom prst="curvedConnector5">
                <a:avLst>
                  <a:gd name="adj1" fmla="val 11280000"/>
                  <a:gd name="adj2" fmla="val 49969"/>
                  <a:gd name="adj3" fmla="val 112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2" name=""/>
              <p:cNvCxnSpPr>
                <a:stCxn id="258" idx="5"/>
                <a:endCxn id="260" idx="4"/>
              </p:cNvCxnSpPr>
              <p:nvPr/>
            </p:nvCxnSpPr>
            <p:spPr>
              <a:xfrm flipH="1" rot="16200000">
                <a:off x="3552840" y="4009320"/>
                <a:ext cx="67320" cy="1667520"/>
              </a:xfrm>
              <a:prstGeom prst="curvedConnector5">
                <a:avLst>
                  <a:gd name="adj1" fmla="val 580645"/>
                  <a:gd name="adj2" fmla="val 49989"/>
                  <a:gd name="adj3" fmla="val 580645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3" name=""/>
              <p:cNvCxnSpPr>
                <a:stCxn id="260" idx="3"/>
                <a:endCxn id="259" idx="5"/>
              </p:cNvCxnSpPr>
              <p:nvPr/>
            </p:nvCxnSpPr>
            <p:spPr>
              <a:xfrm rot="5400000">
                <a:off x="3961080" y="4515480"/>
                <a:ext cx="2160" cy="591120"/>
              </a:xfrm>
              <a:prstGeom prst="curvedConnector5">
                <a:avLst>
                  <a:gd name="adj1" fmla="val 11280000"/>
                  <a:gd name="adj2" fmla="val 49969"/>
                  <a:gd name="adj3" fmla="val 112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4" name=""/>
              <p:cNvCxnSpPr>
                <a:stCxn id="253" idx="3"/>
                <a:endCxn id="257" idx="4"/>
              </p:cNvCxnSpPr>
              <p:nvPr/>
            </p:nvCxnSpPr>
            <p:spPr>
              <a:xfrm rot="5400000">
                <a:off x="3390480" y="3094920"/>
                <a:ext cx="67320" cy="3496680"/>
              </a:xfrm>
              <a:prstGeom prst="curvedConnector5">
                <a:avLst>
                  <a:gd name="adj1" fmla="val 780645"/>
                  <a:gd name="adj2" fmla="val 50000"/>
                  <a:gd name="adj3" fmla="val 780645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5" name=""/>
              <p:cNvCxnSpPr>
                <a:stCxn id="259" idx="4"/>
                <a:endCxn id="255" idx="3"/>
              </p:cNvCxnSpPr>
              <p:nvPr/>
            </p:nvCxnSpPr>
            <p:spPr>
              <a:xfrm flipH="1" flipV="1" rot="5400000">
                <a:off x="5218920" y="3094560"/>
                <a:ext cx="67320" cy="3496680"/>
              </a:xfrm>
              <a:prstGeom prst="curvedConnector5">
                <a:avLst>
                  <a:gd name="adj1" fmla="val -625806"/>
                  <a:gd name="adj2" fmla="val 50000"/>
                  <a:gd name="adj3" fmla="val -625806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6" name=""/>
              <p:cNvCxnSpPr>
                <a:stCxn id="255" idx="5"/>
                <a:endCxn id="256" idx="3"/>
              </p:cNvCxnSpPr>
              <p:nvPr/>
            </p:nvCxnSpPr>
            <p:spPr>
              <a:xfrm flipH="1" rot="16200000">
                <a:off x="7618320" y="4515120"/>
                <a:ext cx="2160" cy="591120"/>
              </a:xfrm>
              <a:prstGeom prst="curvedConnector5">
                <a:avLst>
                  <a:gd name="adj1" fmla="val 7680000"/>
                  <a:gd name="adj2" fmla="val 49969"/>
                  <a:gd name="adj3" fmla="val 76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7" name=""/>
              <p:cNvCxnSpPr>
                <a:stCxn id="256" idx="4"/>
                <a:endCxn id="254" idx="5"/>
              </p:cNvCxnSpPr>
              <p:nvPr/>
            </p:nvCxnSpPr>
            <p:spPr>
              <a:xfrm flipV="1" rot="16200000">
                <a:off x="7210080" y="4008960"/>
                <a:ext cx="67320" cy="1667520"/>
              </a:xfrm>
              <a:prstGeom prst="curvedConnector5">
                <a:avLst>
                  <a:gd name="adj1" fmla="val -625806"/>
                  <a:gd name="adj2" fmla="val 49989"/>
                  <a:gd name="adj3" fmla="val -625806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88" name=""/>
              <p:cNvCxnSpPr>
                <a:stCxn id="254" idx="3"/>
                <a:endCxn id="253" idx="5"/>
              </p:cNvCxnSpPr>
              <p:nvPr/>
            </p:nvCxnSpPr>
            <p:spPr>
              <a:xfrm rot="5400000">
                <a:off x="5789880" y="4515480"/>
                <a:ext cx="2160" cy="591120"/>
              </a:xfrm>
              <a:prstGeom prst="curvedConnector5">
                <a:avLst>
                  <a:gd name="adj1" fmla="val 12480000"/>
                  <a:gd name="adj2" fmla="val 49969"/>
                  <a:gd name="adj3" fmla="val 12480000"/>
                </a:avLst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89" name=""/>
            <p:cNvSpPr/>
            <p:nvPr/>
          </p:nvSpPr>
          <p:spPr>
            <a:xfrm>
              <a:off x="6756480" y="52322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334120" y="49276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29200" y="5257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71800" y="5257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95480" y="480060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08160" y="485136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105C-9038-4706-800E-274DA6A8B02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x counter (state encod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ilog description including state enco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0880" y="2438280"/>
            <a:ext cx="4419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string (clk, M, rst, Z0, Z1, Z2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k, X, r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Z0, Z1, Z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 S0 = [0,0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1 = [0,0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2 = [0,1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3 = [0,1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4 = [1,0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5 = [1,0,1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6 = [1,1,0]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7 = [1,1,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state[0: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0 = state[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1 = state[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2 = state[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48320" y="2438280"/>
            <a:ext cx="426708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rst state 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0: state = 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1: if (M) state = S3 else state = S2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2: if (M) state = S6 else state = S3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3: if (M) state = S2 else state = S4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4: if (M) state = S0 else state = S5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5: if (M) state = S4 else state = 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6: if (M) state = S7 else state = S7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7: if (M) state = S5 else state = S0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95680" y="236232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44C-D0BA-43D6-ADAB-AFEFE08CBB9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4419720" y="1752480"/>
            <a:ext cx="2044440" cy="1562040"/>
            <a:chOff x="4419720" y="1752480"/>
            <a:chExt cx="2044440" cy="1562040"/>
          </a:xfrm>
        </p:grpSpPr>
        <p:grpSp>
          <p:nvGrpSpPr>
            <p:cNvPr id="301" name=""/>
            <p:cNvGrpSpPr/>
            <p:nvPr/>
          </p:nvGrpSpPr>
          <p:grpSpPr>
            <a:xfrm>
              <a:off x="4476600" y="2197080"/>
              <a:ext cx="609840" cy="685800"/>
              <a:chOff x="4476600" y="2197080"/>
              <a:chExt cx="609840" cy="685800"/>
            </a:xfrm>
          </p:grpSpPr>
          <p:sp>
            <p:nvSpPr>
              <p:cNvPr id="302" name=""/>
              <p:cNvSpPr/>
              <p:nvPr/>
            </p:nvSpPr>
            <p:spPr>
              <a:xfrm>
                <a:off x="4476600" y="2197080"/>
                <a:ext cx="60984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4920840" y="2717640"/>
                <a:ext cx="12708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 flipV="1">
              <a:off x="5315040" y="1752480"/>
              <a:ext cx="57132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473800" y="2724120"/>
              <a:ext cx="990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/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5314680" y="2692440"/>
              <a:ext cx="60948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46760" y="23112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016600" y="2394000"/>
              <a:ext cx="342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19720" y="1847880"/>
              <a:ext cx="761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591240" y="1727280"/>
            <a:ext cx="2438280" cy="2387520"/>
            <a:chOff x="6591240" y="1727280"/>
            <a:chExt cx="2438280" cy="2387520"/>
          </a:xfrm>
        </p:grpSpPr>
        <p:sp>
          <p:nvSpPr>
            <p:cNvPr id="311" name=""/>
            <p:cNvSpPr/>
            <p:nvPr/>
          </p:nvSpPr>
          <p:spPr>
            <a:xfrm>
              <a:off x="8115120" y="3663720"/>
              <a:ext cx="914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/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flipV="1">
              <a:off x="6990840" y="264168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622920" y="226044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91240" y="2343240"/>
              <a:ext cx="546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7562520" y="323856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194600" y="28573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13680" y="2940120"/>
              <a:ext cx="4442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8133840" y="3835440"/>
              <a:ext cx="26676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765920" y="34542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34240" y="3537000"/>
              <a:ext cx="546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7016760" y="1727280"/>
              <a:ext cx="57132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400800" y="4572000"/>
            <a:ext cx="18288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00800" y="5943600"/>
            <a:ext cx="1828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699240" y="46800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ligh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91200" y="5950080"/>
            <a:ext cx="635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152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85484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7700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829640" y="5607000"/>
            <a:ext cx="635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029360" y="560700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216480" y="551808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242200" y="46674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242200" y="48070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42200" y="4946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242200" y="50864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242200" y="52261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42200" y="5365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43600" y="4933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43600" y="50734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ffic light controller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s two communicating FS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separate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 would require 7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would require 3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 would require 7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3 would require 3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and S3 have simple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 and S2 would require many more ar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could change in any of seven st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factoring out 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ly reduce number of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instead of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 only requires seven or eight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 total instead of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FDF0-370A-4950-B039-4ABCDDEB7A9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533520" y="2209680"/>
            <a:ext cx="83311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FSM(HR, HY, HG, FR, FY, FG, ST, TS, TL, C, rese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R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G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Y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G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L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se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k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 [6:1]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re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00600" y="2959200"/>
            <a:ext cx="447048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arameter highwaygreen   = 6'b00110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ighwayyellow  = 6'b01010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rmroadgreen  = 6'b10000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paramet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armroadyellow = 6'b100010;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ssign HR = state[6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HY = state[5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HG = state[4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R = state[3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Y = state[2]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FG = state[1];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33680" y="5518080"/>
            <a:ext cx="971640" cy="488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3504960" y="3416400"/>
            <a:ext cx="1447560" cy="259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3504960" y="5016600"/>
            <a:ext cx="1447560" cy="990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71600" y="6006960"/>
            <a:ext cx="26416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cify state bits and code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state as well a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nections to 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ffic light controller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fication of inputs, outputs, and state el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2C34-5424-4611-80BF-2ECBC99696C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854360" y="1523880"/>
            <a:ext cx="72896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1600200"/>
            <a:ext cx="8178840" cy="49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itial begin state = highwaygreen; ST = 0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if (reset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begin state = highway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el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ST = 0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case (stat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highwaygreen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L &amp; C) begin state = highwayyellow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highwayyellow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S) begin state = farmroad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farmroadgreen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L | !C) begin state = farmroadyellow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farmroadyellow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if (TS) begin state = highwaygreen; ST = 1;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endcas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affic light controll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3" name=""/>
          <p:cNvSpPr/>
          <p:nvPr/>
        </p:nvSpPr>
        <p:spPr>
          <a:xfrm>
            <a:off x="6583680" y="2071800"/>
            <a:ext cx="16344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se stat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iggerred b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ck 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3200040" y="2209320"/>
            <a:ext cx="34290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123720" y="2514600"/>
            <a:ext cx="350532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F05B-BD16-4C74-B895-9E3C7F5C2B6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752480" y="2209680"/>
            <a:ext cx="60325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Timer(TS, TL, S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S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out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L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ST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pu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Clk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integer   value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TS = (value &gt;=  4); //  5 cycles after res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ssign TL = (value &gt;= 14); // 15 cycles after reset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ST) value = 0; // async res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always @(posedge Clk) value = value + 1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er for traffic light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ther F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9CE1-2900-40EA-83A7-50C8696329C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1143000" y="2668680"/>
            <a:ext cx="6946920" cy="20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dule main(HR, HY, HG, FR, FY, FG, reset, C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output HR, HY, HG, FR, FY, FG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input  reset, C, Clk;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Timer part1(TS, TL, S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FSM   part2(HR, HY, HG, FR, FY, FG, ST, TS, TL, C, reset, Clk);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te traffic light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ing it all together (FSM + ti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Verilog (same as a schematic draw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400800" y="4572000"/>
            <a:ext cx="18288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00800" y="5943600"/>
            <a:ext cx="18288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699240" y="4680000"/>
            <a:ext cx="121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ligh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91200" y="5950080"/>
            <a:ext cx="635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152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85484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677000" y="5499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829640" y="5607000"/>
            <a:ext cx="6350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29360" y="560700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16480" y="5518080"/>
            <a:ext cx="6606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242200" y="46674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242200" y="48070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242200" y="4946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242200" y="50864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42200" y="522612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242200" y="5365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43600" y="4933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43600" y="50734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5141-9BDD-4834-98A9-6E3770AF3F6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997520" y="5346720"/>
            <a:ext cx="3746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chines advance in lock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 inputs/outputs: X = 0, Y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11640" y="2668680"/>
            <a:ext cx="3200400" cy="2208240"/>
            <a:chOff x="5111640" y="2668680"/>
            <a:chExt cx="3200400" cy="2208240"/>
          </a:xfrm>
        </p:grpSpPr>
        <p:sp>
          <p:nvSpPr>
            <p:cNvPr id="382" name=""/>
            <p:cNvSpPr/>
            <p:nvPr/>
          </p:nvSpPr>
          <p:spPr>
            <a:xfrm>
              <a:off x="6311520" y="30621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30540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02604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32160" y="2795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895800" y="30621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88932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60996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616440" y="2795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467480" y="306216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46100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718164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187760" y="2795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38800" y="30621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803232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7765920" y="278856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772040" y="279540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5879520" y="3062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26040" y="2668680"/>
              <a:ext cx="0" cy="220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0996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8164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76592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12040" y="2668680"/>
              <a:ext cx="0" cy="2183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11640" y="2769840"/>
              <a:ext cx="660240" cy="20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1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2</a:t>
              </a:r>
              <a:br>
                <a:rPr sz="1600"/>
              </a:b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32160" y="39121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737040" y="360108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743520" y="3607920"/>
              <a:ext cx="11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905600" y="36140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11720" y="391212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32160" y="4737240"/>
              <a:ext cx="1295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333920" y="4464000"/>
              <a:ext cx="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40400" y="4470840"/>
              <a:ext cx="96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62600" y="3201840"/>
              <a:ext cx="291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33920" y="3201840"/>
              <a:ext cx="2793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880040" y="3201840"/>
              <a:ext cx="2919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762600" y="4089960"/>
              <a:ext cx="3045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21320" y="4089960"/>
              <a:ext cx="291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92640" y="4089960"/>
              <a:ext cx="3049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1066680" y="2438280"/>
            <a:ext cx="3035160" cy="1251000"/>
            <a:chOff x="1066680" y="2438280"/>
            <a:chExt cx="3035160" cy="1251000"/>
          </a:xfrm>
        </p:grpSpPr>
        <p:sp>
          <p:nvSpPr>
            <p:cNvPr id="420" name=""/>
            <p:cNvSpPr/>
            <p:nvPr/>
          </p:nvSpPr>
          <p:spPr>
            <a:xfrm>
              <a:off x="1066680" y="2495520"/>
              <a:ext cx="990360" cy="119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25440" y="2946240"/>
              <a:ext cx="6728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98520" y="2495520"/>
              <a:ext cx="1003320" cy="1181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57280" y="2946240"/>
              <a:ext cx="749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SM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419200" y="243828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19200" y="3187440"/>
              <a:ext cx="2538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057040" y="2692440"/>
              <a:ext cx="102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2044440" y="3441600"/>
              <a:ext cx="105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539640" y="4114800"/>
            <a:ext cx="1981080" cy="2215800"/>
            <a:chOff x="539640" y="4114800"/>
            <a:chExt cx="1981080" cy="2215800"/>
          </a:xfrm>
        </p:grpSpPr>
        <p:grpSp>
          <p:nvGrpSpPr>
            <p:cNvPr id="429" name=""/>
            <p:cNvGrpSpPr/>
            <p:nvPr/>
          </p:nvGrpSpPr>
          <p:grpSpPr>
            <a:xfrm>
              <a:off x="647280" y="4425840"/>
              <a:ext cx="609840" cy="685800"/>
              <a:chOff x="647280" y="4425840"/>
              <a:chExt cx="609840" cy="685800"/>
            </a:xfrm>
          </p:grpSpPr>
          <p:sp>
            <p:nvSpPr>
              <p:cNvPr id="430" name=""/>
              <p:cNvSpPr/>
              <p:nvPr/>
            </p:nvSpPr>
            <p:spPr>
              <a:xfrm>
                <a:off x="647280" y="4425840"/>
                <a:ext cx="609840" cy="685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H="1">
                <a:off x="1091520" y="4946400"/>
                <a:ext cx="127080" cy="11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 flipV="1">
              <a:off x="1485720" y="4171320"/>
              <a:ext cx="38088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65120" y="5054400"/>
              <a:ext cx="9903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1339560" y="498420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17440" y="45403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174320" y="4470480"/>
              <a:ext cx="330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39640" y="411480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1472760" y="5924160"/>
              <a:ext cx="39384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104480" y="55180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74320" y="5460840"/>
              <a:ext cx="3304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58600" y="4241880"/>
              <a:ext cx="7621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660760" y="4102200"/>
            <a:ext cx="1993320" cy="2260080"/>
            <a:chOff x="2660760" y="4102200"/>
            <a:chExt cx="1993320" cy="2260080"/>
          </a:xfrm>
        </p:grpSpPr>
        <p:grpSp>
          <p:nvGrpSpPr>
            <p:cNvPr id="443" name=""/>
            <p:cNvGrpSpPr/>
            <p:nvPr/>
          </p:nvGrpSpPr>
          <p:grpSpPr>
            <a:xfrm>
              <a:off x="2857320" y="4413240"/>
              <a:ext cx="609120" cy="685440"/>
              <a:chOff x="2857320" y="4413240"/>
              <a:chExt cx="609120" cy="685440"/>
            </a:xfrm>
          </p:grpSpPr>
          <p:sp>
            <p:nvSpPr>
              <p:cNvPr id="444" name=""/>
              <p:cNvSpPr/>
              <p:nvPr/>
            </p:nvSpPr>
            <p:spPr>
              <a:xfrm>
                <a:off x="2857320" y="4413240"/>
                <a:ext cx="609120" cy="68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3301200" y="4933440"/>
                <a:ext cx="12672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 flipV="1">
              <a:off x="3695400" y="4159080"/>
              <a:ext cx="38052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74800" y="5041800"/>
              <a:ext cx="977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3549240" y="4971960"/>
              <a:ext cx="0" cy="54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327120" y="452736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84360" y="4457520"/>
              <a:ext cx="3297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9320" y="410220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 flipV="1">
              <a:off x="3682800" y="5911560"/>
              <a:ext cx="393120" cy="40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92320" y="4279680"/>
              <a:ext cx="7617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2857320" y="5391000"/>
              <a:ext cx="609120" cy="685440"/>
              <a:chOff x="2857320" y="5391000"/>
              <a:chExt cx="609120" cy="685440"/>
            </a:xfrm>
          </p:grpSpPr>
          <p:sp>
            <p:nvSpPr>
              <p:cNvPr id="455" name=""/>
              <p:cNvSpPr/>
              <p:nvPr/>
            </p:nvSpPr>
            <p:spPr>
              <a:xfrm>
                <a:off x="2857320" y="5391000"/>
                <a:ext cx="609120" cy="685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301200" y="5911560"/>
                <a:ext cx="126720" cy="11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3327120" y="5505480"/>
              <a:ext cx="456840" cy="45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84360" y="5435640"/>
              <a:ext cx="329760" cy="5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60760" y="6019560"/>
              <a:ext cx="977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92320" y="5803920"/>
              <a:ext cx="76176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=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municating finite state machin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machine's output is another machine's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4273-B2E4-4259-80FD-562A4F750F1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298600" y="3429000"/>
            <a:ext cx="191772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92480" y="3422520"/>
            <a:ext cx="193032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24160" y="5372280"/>
            <a:ext cx="19051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305080" y="5365800"/>
            <a:ext cx="1942920" cy="100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19440" y="4413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800080" y="472428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5791320"/>
            <a:ext cx="11559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puppe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00600" y="3581280"/>
            <a:ext cx="3645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puppeteer who pulls the string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43200" y="3772080"/>
            <a:ext cx="1015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755800" y="5715000"/>
            <a:ext cx="1016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3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-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536840" y="4483080"/>
            <a:ext cx="10159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u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fo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051440" y="4483080"/>
            <a:ext cx="12319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gnal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857680" y="4711680"/>
            <a:ext cx="8380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2540160" y="440028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806560" y="440028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102200" y="4413240"/>
            <a:ext cx="0" cy="939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and contro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hardware systems = data-path +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path: registers, counters, combinational functional units (e.g., ALU)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(e.g., bus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: FSM generating sequences of control signals that instru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path what to do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3733920" y="3733920"/>
            <a:ext cx="12952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886200" y="5867280"/>
            <a:ext cx="14479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4F60-F2E2-43ED-A577-15B4AC51844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combinational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or combination lo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nch in 3 values in sequence and the door opens; if there is an error the lock must be reset; once the door opens the lock must be res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s: sequence of input values, 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s: door open/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: must remember combination or always have it availa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questions: how do you set the internal combina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d in registers (how loaded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ired via switches set by u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7214-2103-4C08-B6A0-BA3A364D361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FSM design proced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1) Determine inputs and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2) Determine possible states of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min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3) Encode states and outputs into a binary 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ssignment or state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input encoding (if under our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4) Realize logic to implement functions for states and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implementation and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s in steps 2 and 3 can have large effect on resulting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FDE5-BB4D-4B5C-BD89-D0725ACDEA7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in softwa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6" name=""/>
          <p:cNvSpPr/>
          <p:nvPr/>
        </p:nvSpPr>
        <p:spPr>
          <a:xfrm>
            <a:off x="457200" y="1523880"/>
            <a:ext cx="817884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combination_lock ( 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v1, v2, v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error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tic integer c[3] = 3, 4,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1 = read_value(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v1 != c[1]) then error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2 = read_value(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v2 != c[2]) then error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hile (!new_value( 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3 = read_value(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v2 != c[3]) then error =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error == 1) then return(0); else return (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C711-D4CC-4867-8163-D0B662FF117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2577960" y="3772080"/>
            <a:ext cx="3721320" cy="2476080"/>
            <a:chOff x="2577960" y="3772080"/>
            <a:chExt cx="3721320" cy="2476080"/>
          </a:xfrm>
        </p:grpSpPr>
        <p:sp>
          <p:nvSpPr>
            <p:cNvPr id="488" name=""/>
            <p:cNvSpPr/>
            <p:nvPr/>
          </p:nvSpPr>
          <p:spPr>
            <a:xfrm>
              <a:off x="3956040" y="4540320"/>
              <a:ext cx="18288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212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54976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784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7498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0704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35640" y="3772080"/>
              <a:ext cx="8636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254480" y="3772080"/>
              <a:ext cx="12319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076640" y="5842080"/>
              <a:ext cx="16765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89520" y="54547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78160" y="4083120"/>
              <a:ext cx="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09880" y="3772080"/>
              <a:ext cx="851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56040" y="5111640"/>
              <a:ext cx="10152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3943080" y="5226120"/>
              <a:ext cx="127080" cy="10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3485880" y="521964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577960" y="5041800"/>
              <a:ext cx="85104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termining details of the spec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bits per input valu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values in sequ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know a new input value is ente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states and state transitions of the sys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83AA-2E30-4DC9-BAA8-8388A10C142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combination lock state diagra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s: 5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point in execution of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has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s: 6 from state to state, 5 self transitions, 1 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of state occur when clock says it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value of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s: reset, new, results of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: open/cl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203720" y="5302080"/>
            <a:ext cx="56520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794200" y="5302080"/>
            <a:ext cx="5637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37000" y="5302080"/>
            <a:ext cx="56484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962440" y="549108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541760" y="549108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21440" y="5491080"/>
            <a:ext cx="15015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=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63880" y="4475160"/>
            <a:ext cx="15051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1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30880" y="4587840"/>
            <a:ext cx="150336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2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572160" y="4587840"/>
            <a:ext cx="15019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3!=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amp;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568600" y="5108400"/>
            <a:ext cx="6778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117880" y="544032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46480" y="544032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3246480" y="4080960"/>
            <a:ext cx="404496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4822920" y="4080960"/>
            <a:ext cx="246852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6402240" y="4080960"/>
            <a:ext cx="889200" cy="136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361280" y="3949560"/>
            <a:ext cx="563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47920" y="5291280"/>
            <a:ext cx="714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18240" y="6080040"/>
            <a:ext cx="803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41800" y="6080040"/>
            <a:ext cx="799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62120" y="6080040"/>
            <a:ext cx="803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914560" y="4978440"/>
            <a:ext cx="649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91000" y="4978440"/>
            <a:ext cx="65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070680" y="4978440"/>
            <a:ext cx="6508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761240" y="4978440"/>
            <a:ext cx="6526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84920" y="3622680"/>
            <a:ext cx="801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48280" y="5108400"/>
            <a:ext cx="67464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822920" y="5440320"/>
            <a:ext cx="88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24360" y="5108400"/>
            <a:ext cx="6778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02240" y="5440320"/>
            <a:ext cx="889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304040" y="5108400"/>
            <a:ext cx="67464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423200" y="5302080"/>
            <a:ext cx="46368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304040" y="3754440"/>
            <a:ext cx="674640" cy="676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7748640" y="3428640"/>
            <a:ext cx="0" cy="351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7521480" y="3428640"/>
            <a:ext cx="0" cy="35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527960" y="3435480"/>
            <a:ext cx="21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17" idx="3"/>
            <a:endCxn id="517" idx="5"/>
          </p:cNvCxnSpPr>
          <p:nvPr/>
        </p:nvCxnSpPr>
        <p:spPr>
          <a:xfrm flipH="1" rot="16200000">
            <a:off x="290592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33" idx="3"/>
            <a:endCxn id="533" idx="5"/>
          </p:cNvCxnSpPr>
          <p:nvPr/>
        </p:nvCxnSpPr>
        <p:spPr>
          <a:xfrm flipH="1" rot="16200000">
            <a:off x="448380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5" idx="3"/>
            <a:endCxn id="535" idx="5"/>
          </p:cNvCxnSpPr>
          <p:nvPr/>
        </p:nvCxnSpPr>
        <p:spPr>
          <a:xfrm flipH="1" rot="16200000">
            <a:off x="6062760" y="5447880"/>
            <a:ext cx="2160" cy="478800"/>
          </a:xfrm>
          <a:prstGeom prst="curvedConnector5">
            <a:avLst>
              <a:gd name="adj1" fmla="val 20700000"/>
              <a:gd name="adj2" fmla="val 49962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7" idx="3"/>
            <a:endCxn id="537" idx="5"/>
          </p:cNvCxnSpPr>
          <p:nvPr/>
        </p:nvCxnSpPr>
        <p:spPr>
          <a:xfrm flipH="1" rot="16200000">
            <a:off x="7639920" y="5448240"/>
            <a:ext cx="2160" cy="478440"/>
          </a:xfrm>
          <a:prstGeom prst="curvedConnector5">
            <a:avLst>
              <a:gd name="adj1" fmla="val 20700000"/>
              <a:gd name="adj2" fmla="val 50000"/>
              <a:gd name="adj3" fmla="val 207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2930-A362-426C-BF61-9F7AEFB86C5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1511280" y="4305240"/>
            <a:ext cx="7632720" cy="2476440"/>
            <a:chOff x="1511280" y="4305240"/>
            <a:chExt cx="7632720" cy="2476440"/>
          </a:xfrm>
        </p:grpSpPr>
        <p:sp>
          <p:nvSpPr>
            <p:cNvPr id="548" name=""/>
            <p:cNvSpPr/>
            <p:nvPr/>
          </p:nvSpPr>
          <p:spPr>
            <a:xfrm>
              <a:off x="6013440" y="5073480"/>
              <a:ext cx="18288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607160" y="4616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213680" y="4317840"/>
              <a:ext cx="86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121440" y="6375240"/>
              <a:ext cx="15494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en/clos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921360" y="59878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35560" y="4616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54680" y="430524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9145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6003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286160" y="443880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30560" y="573408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914560" y="509904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46240" y="4381560"/>
              <a:ext cx="4194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454560" y="438156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40360" y="438156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370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228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08640" y="4667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22840" y="53276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27480" y="571500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511280" y="56386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686480" y="579132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52680" y="507996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489720" y="5359320"/>
              <a:ext cx="8636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991040" y="4724280"/>
              <a:ext cx="8636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4730760" y="520704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7714800" y="5746320"/>
              <a:ext cx="1270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728120" y="5632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842240" y="575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292960" y="557532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514760" y="584208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495520" y="584208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30798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37782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4464000" y="47430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2698920" y="577188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603520" y="584208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793960" y="46735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505320" y="4673520"/>
              <a:ext cx="3553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65560" y="468648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3778200" y="537804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479760" y="532116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1822320" y="3206880"/>
            <a:ext cx="6553440" cy="3314520"/>
            <a:chOff x="1822320" y="3206880"/>
            <a:chExt cx="6553440" cy="3314520"/>
          </a:xfrm>
        </p:grpSpPr>
        <p:sp>
          <p:nvSpPr>
            <p:cNvPr id="591" name=""/>
            <p:cNvSpPr/>
            <p:nvPr/>
          </p:nvSpPr>
          <p:spPr>
            <a:xfrm>
              <a:off x="1822320" y="3206880"/>
              <a:ext cx="4216680" cy="109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442120" y="4083120"/>
              <a:ext cx="2933640" cy="2438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2063880" y="1835280"/>
            <a:ext cx="3238200" cy="4660920"/>
            <a:chOff x="2063880" y="1835280"/>
            <a:chExt cx="3238200" cy="4660920"/>
          </a:xfrm>
        </p:grpSpPr>
        <p:sp>
          <p:nvSpPr>
            <p:cNvPr id="594" name=""/>
            <p:cNvSpPr/>
            <p:nvPr/>
          </p:nvSpPr>
          <p:spPr>
            <a:xfrm>
              <a:off x="2063880" y="1835280"/>
              <a:ext cx="1066680" cy="236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68440" y="4057560"/>
              <a:ext cx="2933640" cy="2438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and control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-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 registers for combinatio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ite-state machin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for data-path (which value to comp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CD02-2C8A-4A50-9CC1-E77E7E9C14E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table for combination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-state 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ine state diagram to take internal structure into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table ready for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752480" y="3276720"/>
            <a:ext cx="5854680" cy="2255400"/>
            <a:chOff x="1752480" y="3276720"/>
            <a:chExt cx="5854680" cy="2255400"/>
          </a:xfrm>
        </p:grpSpPr>
        <p:sp>
          <p:nvSpPr>
            <p:cNvPr id="601" name=""/>
            <p:cNvSpPr/>
            <p:nvPr/>
          </p:nvSpPr>
          <p:spPr>
            <a:xfrm>
              <a:off x="1896840" y="3452760"/>
              <a:ext cx="57103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0160"/>
                  <a:tab algn="l" pos="2057400"/>
                  <a:tab algn="l" pos="2743200"/>
                  <a:tab algn="l" pos="3429000"/>
                  <a:tab algn="l" pos="41133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RR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52480" y="3929040"/>
              <a:ext cx="551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63720" y="3708360"/>
              <a:ext cx="0" cy="156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647960" y="3276720"/>
              <a:ext cx="78912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F5A3-1040-4C2C-AD4B-4196FB829FC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"/>
          <p:cNvGrpSpPr/>
          <p:nvPr/>
        </p:nvGrpSpPr>
        <p:grpSpPr>
          <a:xfrm>
            <a:off x="399960" y="4387680"/>
            <a:ext cx="5937120" cy="2273400"/>
            <a:chOff x="399960" y="4387680"/>
            <a:chExt cx="5937120" cy="2273400"/>
          </a:xfrm>
        </p:grpSpPr>
        <p:sp>
          <p:nvSpPr>
            <p:cNvPr id="606" name=""/>
            <p:cNvSpPr/>
            <p:nvPr/>
          </p:nvSpPr>
          <p:spPr>
            <a:xfrm>
              <a:off x="545760" y="4552920"/>
              <a:ext cx="579132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685800"/>
                  <a:tab algn="l" pos="1370160"/>
                  <a:tab algn="l" pos="2057400"/>
                  <a:tab algn="l" pos="2743200"/>
                  <a:tab algn="l" pos="3429000"/>
                  <a:tab algn="l" pos="41133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99960" y="5035680"/>
              <a:ext cx="558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27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50800" y="4813200"/>
              <a:ext cx="0" cy="158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301920" y="4387680"/>
              <a:ext cx="7999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432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5257800" y="5276880"/>
            <a:ext cx="3695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x is identical to last 3 bits of st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pen/closed is identical to first bit of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refore, we do not even need to implemen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s to hold state, just use out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5784840" y="3124080"/>
            <a:ext cx="3181320" cy="1841400"/>
            <a:chOff x="5784840" y="3124080"/>
            <a:chExt cx="3181320" cy="1841400"/>
          </a:xfrm>
        </p:grpSpPr>
        <p:sp>
          <p:nvSpPr>
            <p:cNvPr id="612" name=""/>
            <p:cNvSpPr/>
            <p:nvPr/>
          </p:nvSpPr>
          <p:spPr>
            <a:xfrm>
              <a:off x="6712200" y="3676320"/>
              <a:ext cx="1320840" cy="660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861320" y="3346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569360" y="3136680"/>
              <a:ext cx="6350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782040" y="4622760"/>
              <a:ext cx="11174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/cl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365960" y="4336920"/>
              <a:ext cx="0" cy="33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70960" y="33462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04200" y="3124080"/>
              <a:ext cx="5968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905800" y="4165560"/>
              <a:ext cx="711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34320" y="3835080"/>
              <a:ext cx="8636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969160" y="3390840"/>
              <a:ext cx="69840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5784840" y="3771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7943760" y="4171320"/>
              <a:ext cx="889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956720" y="4082400"/>
              <a:ext cx="633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033040" y="4178160"/>
              <a:ext cx="31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356680" y="4038480"/>
              <a:ext cx="6094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10400" y="42289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ncodings for combination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e stat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 can be: S1, S2, S3, OPEN, or E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at least 3 bits to encode: 000, 001, 010, 011,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as many as 5: 00001, 00010, 00100, 01000, 1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4 bits: 0001, 0010, 0100, 1000,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mux can be: C1, C2, or 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2 to 3 bits to en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3 bits: 001, 010,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open/closed can be: open or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eds 1 or 2 bits to en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1 bit: 1,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E990-A097-448F-9031-CE0530CE15B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"/>
          <p:cNvGrpSpPr/>
          <p:nvPr/>
        </p:nvGrpSpPr>
        <p:grpSpPr>
          <a:xfrm>
            <a:off x="228600" y="3759120"/>
            <a:ext cx="4502160" cy="1866960"/>
            <a:chOff x="228600" y="3759120"/>
            <a:chExt cx="4502160" cy="1866960"/>
          </a:xfrm>
        </p:grpSpPr>
        <p:sp>
          <p:nvSpPr>
            <p:cNvPr id="631" name=""/>
            <p:cNvSpPr/>
            <p:nvPr/>
          </p:nvSpPr>
          <p:spPr>
            <a:xfrm>
              <a:off x="16318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3176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003480" y="381636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47880" y="511164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31880" y="447660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63560" y="3759120"/>
              <a:ext cx="419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171520" y="375912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857320" y="375912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540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5398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25600" y="40449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39800" y="47052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44800" y="509256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pa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403440" y="516888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070000" y="445752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ltiplex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708360" y="41022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3448080" y="458460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232080" y="521964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212840" y="521964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17971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24955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3181320" y="41212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1415880" y="5149440"/>
              <a:ext cx="1018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20840" y="521964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511280" y="40514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22640" y="405144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882880" y="406404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2495520" y="475560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197080" y="469908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28600" y="501660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473800" y="2635200"/>
            <a:ext cx="3657600" cy="4051440"/>
            <a:chOff x="5473800" y="2635200"/>
            <a:chExt cx="3657600" cy="4051440"/>
          </a:xfrm>
        </p:grpSpPr>
        <p:sp>
          <p:nvSpPr>
            <p:cNvPr id="662" name=""/>
            <p:cNvSpPr/>
            <p:nvPr/>
          </p:nvSpPr>
          <p:spPr>
            <a:xfrm>
              <a:off x="6388200" y="2635200"/>
              <a:ext cx="470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1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70960" y="26352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2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18600" y="26352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3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267760" y="30798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73800" y="263520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588280" y="628020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807240" y="3568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502680" y="3568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508800" y="3562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502680" y="3727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49620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516720" y="3727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51060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442280" y="3568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37720" y="3568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43840" y="3562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37720" y="3727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13124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51760" y="3727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4564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77320" y="356868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772760" y="356868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778880" y="35622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772760" y="3727440"/>
              <a:ext cx="3042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76628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786800" y="3727440"/>
              <a:ext cx="304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780680" y="372096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50320" y="3753000"/>
              <a:ext cx="279000" cy="939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43840" y="3746520"/>
              <a:ext cx="291960" cy="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64720" y="3803400"/>
              <a:ext cx="279000" cy="88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58240" y="3796920"/>
              <a:ext cx="291960" cy="90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64720" y="4159800"/>
              <a:ext cx="2790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58240" y="4152960"/>
              <a:ext cx="29196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90000" y="42670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75520" y="4159800"/>
              <a:ext cx="2538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169400" y="4152960"/>
              <a:ext cx="26640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235920" y="57909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931000" y="5790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937480" y="5784840"/>
              <a:ext cx="291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5822640" y="5784840"/>
              <a:ext cx="52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931360" y="5949360"/>
              <a:ext cx="30420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924880" y="594324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945400" y="5949360"/>
              <a:ext cx="304200" cy="27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938920" y="5943240"/>
              <a:ext cx="31716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01000" y="4565520"/>
              <a:ext cx="2790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094880" y="4559040"/>
              <a:ext cx="291240" cy="92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086960" y="4565520"/>
              <a:ext cx="2790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080840" y="4559040"/>
              <a:ext cx="291240" cy="927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12160" y="4959000"/>
              <a:ext cx="25380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06040" y="495288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1000" y="4959000"/>
              <a:ext cx="279000" cy="127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094880" y="495288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07560" y="5486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12160" y="4896360"/>
              <a:ext cx="2538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06040" y="4889520"/>
              <a:ext cx="2660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01000" y="4896360"/>
              <a:ext cx="279000" cy="126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094880" y="4889520"/>
              <a:ext cx="291240" cy="13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290000" y="496548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62920" y="49654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71832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718320" y="318744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05720" y="316872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708880" y="31813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24800" y="3181320"/>
              <a:ext cx="157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59160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591600" y="2933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35336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53360" y="33145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340760" y="3295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708880" y="3308400"/>
              <a:ext cx="163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359840" y="330840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22664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26640" y="2933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98840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975800" y="3422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708880" y="3435120"/>
              <a:ext cx="227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994880" y="34351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861320" y="34416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861320" y="29336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925040" y="4013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417080" y="414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23200" y="4133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290000" y="4013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90000" y="414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654960" y="40132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62920" y="41400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661440" y="4133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26640" y="55371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7408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280200" y="5657760"/>
              <a:ext cx="939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14700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1992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92840" y="566424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083640" y="62355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290000" y="4711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90000" y="483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162920" y="48387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956560" y="293364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962680" y="4832280"/>
              <a:ext cx="11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implementation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r combination lock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implement as combinational logic when few 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can easily get too big for most P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41E6-BF7D-40B8-815F-C4BBACE866C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"/>
          <p:cNvGrpSpPr/>
          <p:nvPr/>
        </p:nvGrpSpPr>
        <p:grpSpPr>
          <a:xfrm>
            <a:off x="380880" y="4343400"/>
            <a:ext cx="4502160" cy="1866960"/>
            <a:chOff x="380880" y="4343400"/>
            <a:chExt cx="4502160" cy="1866960"/>
          </a:xfrm>
        </p:grpSpPr>
        <p:sp>
          <p:nvSpPr>
            <p:cNvPr id="764" name=""/>
            <p:cNvSpPr/>
            <p:nvPr/>
          </p:nvSpPr>
          <p:spPr>
            <a:xfrm>
              <a:off x="17841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4699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55760" y="4400640"/>
              <a:ext cx="4572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000160" y="5695920"/>
              <a:ext cx="1371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784160" y="5060880"/>
              <a:ext cx="18288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15840" y="4343400"/>
              <a:ext cx="419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323800" y="434340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009600" y="4343400"/>
              <a:ext cx="7369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0062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920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377880" y="46292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692080" y="528948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197080" y="5676840"/>
              <a:ext cx="1028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55720" y="575316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222280" y="5041800"/>
              <a:ext cx="9907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860640" y="468648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3600360" y="516888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384360" y="580392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65120" y="5803920"/>
              <a:ext cx="63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19494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26478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3333600" y="470556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1568160" y="5733720"/>
              <a:ext cx="1018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473120" y="58039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663560" y="463572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74920" y="463572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035160" y="464832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2647800" y="5339880"/>
              <a:ext cx="10152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349360" y="5283360"/>
              <a:ext cx="355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80880" y="56008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6273720" y="2730600"/>
            <a:ext cx="470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1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756480" y="273060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2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404120" y="2730600"/>
            <a:ext cx="736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3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191440" y="3149640"/>
            <a:ext cx="8636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x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359320" y="2730600"/>
            <a:ext cx="9781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511960" y="5334120"/>
            <a:ext cx="9777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848200" y="480060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5670360" y="4800600"/>
            <a:ext cx="78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842080" y="4965840"/>
            <a:ext cx="3042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856120" y="4965840"/>
            <a:ext cx="30492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326280" y="3708360"/>
            <a:ext cx="2790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319800" y="3701880"/>
            <a:ext cx="291960" cy="92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311880" y="3708360"/>
            <a:ext cx="2790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305400" y="3701880"/>
            <a:ext cx="291960" cy="92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337080" y="4101840"/>
            <a:ext cx="253800" cy="1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330960" y="409572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326280" y="4101840"/>
            <a:ext cx="279000" cy="12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319800" y="409572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432480" y="46292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337080" y="4039200"/>
            <a:ext cx="25380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330960" y="4032360"/>
            <a:ext cx="26640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26280" y="4039200"/>
            <a:ext cx="279000" cy="12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9800" y="4032360"/>
            <a:ext cx="291960" cy="13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515280" y="410832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388200" y="4108320"/>
            <a:ext cx="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6508800" y="36766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6381720" y="3664080"/>
            <a:ext cx="1396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394320" y="367020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7143840" y="36766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 flipV="1">
            <a:off x="7016760" y="3664080"/>
            <a:ext cx="1396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029360" y="367020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7728120" y="3676680"/>
            <a:ext cx="13968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>
            <a:off x="7601040" y="3664080"/>
            <a:ext cx="139680" cy="203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613640" y="367020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587920" y="4178160"/>
            <a:ext cx="24156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1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676840" y="436248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683320" y="4425840"/>
            <a:ext cx="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5632200" y="4438800"/>
            <a:ext cx="8892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645160" y="4476600"/>
            <a:ext cx="633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5632200" y="4514760"/>
            <a:ext cx="8892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645160" y="4552920"/>
            <a:ext cx="633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5632200" y="4591080"/>
            <a:ext cx="88920" cy="2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645160" y="4629240"/>
            <a:ext cx="2556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676840" y="4654440"/>
            <a:ext cx="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734240" y="3537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734240" y="30290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45156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18480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05808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93100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994360" y="480708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515280" y="3854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02320" y="39625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149960" y="3854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137360" y="39625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734240" y="3854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515280" y="39816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521400" y="397512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156440" y="397512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388200" y="39816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873760" y="39751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867280" y="3029040"/>
            <a:ext cx="0" cy="9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621480" y="3720960"/>
            <a:ext cx="14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619600" y="32767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756480" y="32637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775560" y="3276720"/>
            <a:ext cx="1460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769080" y="328284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515280" y="3537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515280" y="30290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254720" y="372096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619600" y="3403440"/>
            <a:ext cx="177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391520" y="33908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410600" y="340344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404120" y="3409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149960" y="3537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149960" y="30290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835760" y="372096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619600" y="3530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975440" y="3517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994520" y="353052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988400" y="35370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676840" y="46800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98176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04512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17220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918040" y="47880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245360" y="3841920"/>
            <a:ext cx="520560" cy="1117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140520" y="4883040"/>
            <a:ext cx="412560" cy="106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121440" y="4178160"/>
            <a:ext cx="6732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597560" y="5867280"/>
            <a:ext cx="44956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n-collector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zero whenever one connection is zero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otherwise – wired AN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819840" y="4991040"/>
            <a:ext cx="209556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-state dr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an disconne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outp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ata-path implementation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a third output state: “no connection” or “floa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outputs together as long as only one is “enabl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-collector gates c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utput 0, no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used to impl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al AND with only w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D5E7-9E83-410C-88E0-84DDC2C67CF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6400800" y="35053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2089080" y="5124600"/>
            <a:ext cx="1606320" cy="1523880"/>
            <a:chOff x="2089080" y="5124600"/>
            <a:chExt cx="1606320" cy="1523880"/>
          </a:xfrm>
        </p:grpSpPr>
        <p:sp>
          <p:nvSpPr>
            <p:cNvPr id="889" name=""/>
            <p:cNvSpPr/>
            <p:nvPr/>
          </p:nvSpPr>
          <p:spPr>
            <a:xfrm>
              <a:off x="2089080" y="544176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136680" y="5181480"/>
              <a:ext cx="0" cy="113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158920" y="5124600"/>
              <a:ext cx="15364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102888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368280" y="5378400"/>
            <a:ext cx="1486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n-inve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i-sta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1"/>
          <a:srcRect l="3168" t="0" r="0" b="0"/>
          <a:stretch/>
        </p:blipFill>
        <p:spPr>
          <a:xfrm>
            <a:off x="4241880" y="5022720"/>
            <a:ext cx="4660920" cy="1435320"/>
          </a:xfrm>
          <a:prstGeom prst="rect">
            <a:avLst/>
          </a:prstGeom>
          <a:ln w="0">
            <a:noFill/>
          </a:ln>
        </p:spPr>
      </p:pic>
      <p:sp>
        <p:nvSpPr>
          <p:cNvPr id="894" name=""/>
          <p:cNvSpPr/>
          <p:nvPr/>
        </p:nvSpPr>
        <p:spPr>
          <a:xfrm>
            <a:off x="8305920" y="5010120"/>
            <a:ext cx="7239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013280" y="5442120"/>
            <a:ext cx="622080" cy="97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267760" y="4921200"/>
            <a:ext cx="8128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229280" y="5378400"/>
            <a:ext cx="5205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ts val="26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i-state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ir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 values: “0”, “1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't care: “X” (must be 0 or 1 in real circui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value or state: “Z” — high impedance, infinite R, no 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-state g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input – output enable (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values are 0, 1, and 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OE is high, the gate functions norm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OE is low, the gate is disconnected from wire at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more than one gate to be connected to the same output w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long as only one has its output enabled at any one time (otherwise, sparks could f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rot="5400000">
            <a:off x="7200720" y="3162240"/>
            <a:ext cx="60948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7467480" y="2971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017760" y="3352680"/>
            <a:ext cx="377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466840" y="3352680"/>
            <a:ext cx="540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475760" y="2895480"/>
            <a:ext cx="4550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6155-B5A0-42D3-901F-7CF8482E508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"/>
          <p:cNvSpPr/>
          <p:nvPr/>
        </p:nvSpPr>
        <p:spPr>
          <a:xfrm>
            <a:off x="5295960" y="4343400"/>
            <a:ext cx="326376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Select is high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1 is connected t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n Select is low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0 is connected to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s is essentially a 2:1 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901800" y="3701880"/>
            <a:ext cx="4254480" cy="3194280"/>
            <a:chOff x="901800" y="3701880"/>
            <a:chExt cx="4254480" cy="3194280"/>
          </a:xfrm>
        </p:grpSpPr>
        <p:sp>
          <p:nvSpPr>
            <p:cNvPr id="907" name=""/>
            <p:cNvSpPr/>
            <p:nvPr/>
          </p:nvSpPr>
          <p:spPr>
            <a:xfrm>
              <a:off x="3079800" y="3701880"/>
              <a:ext cx="29196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V="1">
              <a:off x="3079800" y="3891960"/>
              <a:ext cx="2919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073320" y="370188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470320" y="4730760"/>
              <a:ext cx="29196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V="1">
              <a:off x="2470320" y="4921200"/>
              <a:ext cx="29196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463840" y="47307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876400" y="3898800"/>
              <a:ext cx="1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63880" y="389880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266920" y="49276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63880" y="492768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774880" y="49276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409920" y="38988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657600" y="38862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689280" y="38988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079800" y="492768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683160" y="390528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892680" y="3898800"/>
              <a:ext cx="59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V="1">
              <a:off x="3238560" y="4006800"/>
              <a:ext cx="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2641680" y="5022360"/>
              <a:ext cx="0" cy="124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2641680" y="62546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39840" y="6426000"/>
              <a:ext cx="109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629080" y="6400800"/>
              <a:ext cx="378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755800" y="4102200"/>
              <a:ext cx="533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58920" y="5118120"/>
              <a:ext cx="5079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"/>
            <p:cNvGrpSpPr/>
            <p:nvPr/>
          </p:nvGrpSpPr>
          <p:grpSpPr>
            <a:xfrm>
              <a:off x="3054240" y="5873760"/>
              <a:ext cx="406440" cy="393480"/>
              <a:chOff x="3054240" y="5873760"/>
              <a:chExt cx="406440" cy="393480"/>
            </a:xfrm>
          </p:grpSpPr>
          <p:sp>
            <p:nvSpPr>
              <p:cNvPr id="932" name=""/>
              <p:cNvSpPr/>
              <p:nvPr/>
            </p:nvSpPr>
            <p:spPr>
              <a:xfrm flipV="1">
                <a:off x="3054240" y="5949720"/>
                <a:ext cx="19044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 flipV="1">
                <a:off x="3244680" y="5949720"/>
                <a:ext cx="216000" cy="31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054240" y="6261120"/>
                <a:ext cx="39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219480" y="5873760"/>
                <a:ext cx="76320" cy="75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6" name=""/>
            <p:cNvSpPr/>
            <p:nvPr/>
          </p:nvSpPr>
          <p:spPr>
            <a:xfrm flipV="1">
              <a:off x="3251160" y="627984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597560" y="3708360"/>
              <a:ext cx="55872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901800" y="3733920"/>
              <a:ext cx="110484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952560" y="4775040"/>
              <a:ext cx="11048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965160" y="6235560"/>
              <a:ext cx="11048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lec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ri-state and multiplex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using tri-stat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make sure never more than one "driver" for a wire at any one ti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ulling high and low at the same time can severely damage circu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make sure to only use value on wire when its being driven (using 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ing value may cause fail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ri-state gates to implement an economical 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24BF-7EF2-41F9-8449-A593DDCD578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1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8000"/>
          </a:bodyPr>
          <a:p>
            <a:pPr marL="340560" indent="-3405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ring pattern recogniz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-3232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input (X) and one output (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-3232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is asserted whenever the input sequence …010… has be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, as long as the sequence …100… has never been se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0560" indent="-3405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1: understanding the problem stat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640" indent="-3232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input/output behavior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:   0 0 1 0 1 0 1 0 0 1 0 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:   0 0 0 1 0 1 0 1 0 0 0 …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:   1 1 0 1 1 0 1 0 0 1 0 …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:   0 0 0 0 0 0 0 1 0 0 0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32A6-4788-4379-8785-F3D28509777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43440" y="54547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943440" y="5759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3936960" y="54482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115160" y="5468760"/>
            <a:ext cx="2786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108680" y="5462640"/>
            <a:ext cx="2916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114800" y="5479920"/>
            <a:ext cx="279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108320" y="5473440"/>
            <a:ext cx="291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406760" y="559440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400640" y="558792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4394160" y="5472000"/>
            <a:ext cx="0" cy="26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4635360" y="54100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4641840" y="5397120"/>
            <a:ext cx="25560" cy="2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 flipV="1">
            <a:off x="4590720" y="535896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4603680" y="5321160"/>
            <a:ext cx="63720" cy="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 flipV="1">
            <a:off x="4590720" y="528300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4603680" y="5244840"/>
            <a:ext cx="637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 flipV="1">
            <a:off x="4590720" y="5206680"/>
            <a:ext cx="8892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4603680" y="5181480"/>
            <a:ext cx="2556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4635360" y="5156280"/>
            <a:ext cx="0" cy="3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" descr=""/>
          <p:cNvPicPr/>
          <p:nvPr/>
        </p:nvPicPr>
        <p:blipFill>
          <a:blip r:embed="rId1"/>
          <a:stretch/>
        </p:blipFill>
        <p:spPr>
          <a:xfrm>
            <a:off x="4521240" y="469260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 flipV="1">
            <a:off x="4635360" y="491508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4" name=""/>
          <p:cNvGrpSpPr/>
          <p:nvPr/>
        </p:nvGrpSpPr>
        <p:grpSpPr>
          <a:xfrm>
            <a:off x="4576680" y="4838400"/>
            <a:ext cx="115560" cy="75960"/>
            <a:chOff x="4576680" y="4838400"/>
            <a:chExt cx="115560" cy="75960"/>
          </a:xfrm>
        </p:grpSpPr>
        <p:sp>
          <p:nvSpPr>
            <p:cNvPr id="965" name=""/>
            <p:cNvSpPr/>
            <p:nvPr/>
          </p:nvSpPr>
          <p:spPr>
            <a:xfrm>
              <a:off x="4576680" y="4908600"/>
              <a:ext cx="11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4576680" y="4838400"/>
              <a:ext cx="511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641120" y="4851360"/>
              <a:ext cx="511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4635360" y="4965840"/>
            <a:ext cx="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943440" y="60260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43440" y="63309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3936960" y="60199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15160" y="6040440"/>
            <a:ext cx="2786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08680" y="6033960"/>
            <a:ext cx="2916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114800" y="6051600"/>
            <a:ext cx="279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08320" y="6045120"/>
            <a:ext cx="291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406760" y="6165720"/>
            <a:ext cx="38160" cy="38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400640" y="615960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4394160" y="60447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816360" y="5543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435480" y="55436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1" name="" descr=""/>
          <p:cNvPicPr/>
          <p:nvPr/>
        </p:nvPicPr>
        <p:blipFill>
          <a:blip r:embed="rId2"/>
          <a:stretch/>
        </p:blipFill>
        <p:spPr>
          <a:xfrm>
            <a:off x="3454560" y="540396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82" name=""/>
          <p:cNvSpPr/>
          <p:nvPr/>
        </p:nvSpPr>
        <p:spPr>
          <a:xfrm>
            <a:off x="3816360" y="5670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435480" y="567072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4" name="" descr=""/>
          <p:cNvPicPr/>
          <p:nvPr/>
        </p:nvPicPr>
        <p:blipFill>
          <a:blip r:embed="rId3"/>
          <a:stretch/>
        </p:blipFill>
        <p:spPr>
          <a:xfrm>
            <a:off x="3454560" y="5657760"/>
            <a:ext cx="482400" cy="152640"/>
          </a:xfrm>
          <a:prstGeom prst="rect">
            <a:avLst/>
          </a:prstGeom>
          <a:ln w="0">
            <a:noFill/>
          </a:ln>
        </p:spPr>
      </p:pic>
      <p:sp>
        <p:nvSpPr>
          <p:cNvPr id="985" name=""/>
          <p:cNvSpPr/>
          <p:nvPr/>
        </p:nvSpPr>
        <p:spPr>
          <a:xfrm>
            <a:off x="4635360" y="50418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635360" y="497844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816360" y="6114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435480" y="611496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4"/>
          <a:stretch/>
        </p:blipFill>
        <p:spPr>
          <a:xfrm>
            <a:off x="3454560" y="5975280"/>
            <a:ext cx="482400" cy="15264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3816360" y="6242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35480" y="6242040"/>
            <a:ext cx="36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2" name="" descr=""/>
          <p:cNvPicPr/>
          <p:nvPr/>
        </p:nvPicPr>
        <p:blipFill>
          <a:blip r:embed="rId5"/>
          <a:stretch/>
        </p:blipFill>
        <p:spPr>
          <a:xfrm>
            <a:off x="3454560" y="6229440"/>
            <a:ext cx="482400" cy="15228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4451400" y="6178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451400" y="5607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635360" y="54864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622760" y="5594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576680" y="560700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622760" y="5594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641840" y="5607000"/>
            <a:ext cx="24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635360" y="561348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576680" y="6178680"/>
            <a:ext cx="5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6"/>
          <a:stretch/>
        </p:blipFill>
        <p:spPr>
          <a:xfrm>
            <a:off x="4724280" y="5719680"/>
            <a:ext cx="482760" cy="15408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/>
          <p:nvPr/>
        </p:nvSpPr>
        <p:spPr>
          <a:xfrm>
            <a:off x="1181160" y="5581800"/>
            <a:ext cx="19303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-collect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ND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245200" y="5429160"/>
            <a:ext cx="290808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ouputs wired toge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"wired-AND"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form (AB)'(CD)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pen-collector gates and wired-AND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collector: another way to connect gate outputs to the same w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te only has the ability to pull its output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cannot actively drive the wire high (default – pulled high through resis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d-AND can be implemented with open collector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and B are "1", output is actively pulled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 and D are "1", output is actively pulled 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one gate output is low and the other high, then low w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both gate outputs are "1", the wire value "floats", pulled high by 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to high transition usually slower than it would have been with a gate pulling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nce, the two NAND functions are ANDed tog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4D4C-8577-4966-8E79-F1F412523B6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"/>
          <p:cNvGrpSpPr/>
          <p:nvPr/>
        </p:nvGrpSpPr>
        <p:grpSpPr>
          <a:xfrm>
            <a:off x="3232080" y="3733920"/>
            <a:ext cx="5149800" cy="2869560"/>
            <a:chOff x="3232080" y="3733920"/>
            <a:chExt cx="5149800" cy="2869560"/>
          </a:xfrm>
        </p:grpSpPr>
        <p:sp>
          <p:nvSpPr>
            <p:cNvPr id="1008" name=""/>
            <p:cNvSpPr/>
            <p:nvPr/>
          </p:nvSpPr>
          <p:spPr>
            <a:xfrm>
              <a:off x="52830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9688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654600" y="4793760"/>
              <a:ext cx="4572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499000" y="6089400"/>
              <a:ext cx="13716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83000" y="5454360"/>
              <a:ext cx="1828800" cy="228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314680" y="4736880"/>
              <a:ext cx="41940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823000" y="473688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508800" y="473688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5054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1912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877080" y="50223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191280" y="5682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695920" y="6070320"/>
              <a:ext cx="1028520" cy="34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232080" y="5994000"/>
              <a:ext cx="9777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al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054920" y="6146640"/>
              <a:ext cx="97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q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721120" y="5435280"/>
              <a:ext cx="9907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359480" y="5079600"/>
              <a:ext cx="863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x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7099200" y="5562360"/>
              <a:ext cx="1270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883200" y="6197400"/>
              <a:ext cx="14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267080" y="6197400"/>
              <a:ext cx="123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54482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61466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V="1">
              <a:off x="6832440" y="509868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V="1">
              <a:off x="4521240" y="6127200"/>
              <a:ext cx="101520" cy="12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425840" y="619740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162400" y="50288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873760" y="5028840"/>
              <a:ext cx="35532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34000" y="504144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V="1">
              <a:off x="6146640" y="5733720"/>
              <a:ext cx="101520" cy="12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848200" y="5676480"/>
              <a:ext cx="3556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4921200" y="4438440"/>
              <a:ext cx="0" cy="176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927320" y="4444560"/>
              <a:ext cx="194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5054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912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877080" y="4451040"/>
              <a:ext cx="0" cy="34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7909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4767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105160" y="4901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64706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57848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5099040" y="4019400"/>
              <a:ext cx="0" cy="88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76892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45472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127560" y="3733920"/>
              <a:ext cx="7365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d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igital combination lock (new data-path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 number of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3 code digits as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ode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hem loadable from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3 load signal inputs (net gain in input (4*3)–3=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ld be done with 2 signals and decod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d1, ld2, ld3, load no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728B-239B-4050-A77E-D58517F89CD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ction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SM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th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ng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ng sta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 case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I/O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umerate states for the "goa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with error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states whenever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E483-4F9B-4BCF-B6CB-25EC3ACDC9A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2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2: draw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strings that must be recognized, i.e., 010 and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or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956200" y="3219480"/>
            <a:ext cx="905040" cy="3098880"/>
            <a:chOff x="5956200" y="3219480"/>
            <a:chExt cx="905040" cy="3098880"/>
          </a:xfrm>
        </p:grpSpPr>
        <p:sp>
          <p:nvSpPr>
            <p:cNvPr id="94" name=""/>
            <p:cNvSpPr/>
            <p:nvPr/>
          </p:nvSpPr>
          <p:spPr>
            <a:xfrm>
              <a:off x="6184800" y="362592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184800" y="466740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6112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56200" y="41338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84800" y="575964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5620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084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084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08480" y="57596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" name=""/>
            <p:cNvCxnSpPr>
              <a:stCxn id="104" idx="3"/>
              <a:endCxn id="100" idx="7"/>
            </p:cNvCxnSpPr>
            <p:nvPr/>
          </p:nvCxnSpPr>
          <p:spPr>
            <a:xfrm flipH="1">
              <a:off x="649908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>
              <a:stCxn id="101" idx="4"/>
              <a:endCxn id="102" idx="0"/>
            </p:cNvCxnSpPr>
            <p:nvPr/>
          </p:nvCxnSpPr>
          <p:spPr>
            <a:xfrm>
              <a:off x="6336720" y="5149800"/>
              <a:ext cx="1080" cy="610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100" idx="4"/>
              <a:endCxn id="101" idx="0"/>
            </p:cNvCxnSpPr>
            <p:nvPr/>
          </p:nvCxnSpPr>
          <p:spPr>
            <a:xfrm>
              <a:off x="63367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7" name=""/>
          <p:cNvGrpSpPr/>
          <p:nvPr/>
        </p:nvGrpSpPr>
        <p:grpSpPr>
          <a:xfrm>
            <a:off x="7175520" y="3219480"/>
            <a:ext cx="1955520" cy="3225240"/>
            <a:chOff x="7175520" y="3219480"/>
            <a:chExt cx="1955520" cy="3225240"/>
          </a:xfrm>
        </p:grpSpPr>
        <p:sp>
          <p:nvSpPr>
            <p:cNvPr id="108" name=""/>
            <p:cNvSpPr/>
            <p:nvPr/>
          </p:nvSpPr>
          <p:spPr>
            <a:xfrm>
              <a:off x="7556400" y="362592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7552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94480" y="575964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56400" y="4692600"/>
              <a:ext cx="34308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27800" y="4159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2780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556400" y="575964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800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800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80080" y="57596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8" name=""/>
            <p:cNvCxnSpPr>
              <a:stCxn id="104" idx="5"/>
              <a:endCxn id="115" idx="1"/>
            </p:cNvCxnSpPr>
            <p:nvPr/>
          </p:nvCxnSpPr>
          <p:spPr>
            <a:xfrm>
              <a:off x="718488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9" name=""/>
            <p:cNvCxnSpPr>
              <a:stCxn id="115" idx="4"/>
              <a:endCxn id="116" idx="0"/>
            </p:cNvCxnSpPr>
            <p:nvPr/>
          </p:nvCxnSpPr>
          <p:spPr>
            <a:xfrm>
              <a:off x="77083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0" name=""/>
            <p:cNvCxnSpPr>
              <a:stCxn id="116" idx="4"/>
              <a:endCxn id="117" idx="0"/>
            </p:cNvCxnSpPr>
            <p:nvPr/>
          </p:nvCxnSpPr>
          <p:spPr>
            <a:xfrm>
              <a:off x="7708320" y="5149800"/>
              <a:ext cx="1080" cy="610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"/>
            <p:cNvCxnSpPr>
              <a:stCxn id="117" idx="5"/>
              <a:endCxn id="117" idx="7"/>
            </p:cNvCxnSpPr>
            <p:nvPr/>
          </p:nvCxnSpPr>
          <p:spPr>
            <a:xfrm flipH="1" flipV="1" rot="5400000">
              <a:off x="7708680" y="5986440"/>
              <a:ext cx="324360" cy="2520"/>
            </a:xfrm>
            <a:prstGeom prst="curvedConnector5">
              <a:avLst>
                <a:gd name="adj1" fmla="val -91111"/>
                <a:gd name="adj2" fmla="val 17083333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2" name=""/>
          <p:cNvGrpSpPr/>
          <p:nvPr/>
        </p:nvGrpSpPr>
        <p:grpSpPr>
          <a:xfrm>
            <a:off x="5423040" y="2787480"/>
            <a:ext cx="1828800" cy="609480"/>
            <a:chOff x="5423040" y="2787480"/>
            <a:chExt cx="1828800" cy="609480"/>
          </a:xfrm>
        </p:grpSpPr>
        <p:sp>
          <p:nvSpPr>
            <p:cNvPr id="123" name=""/>
            <p:cNvSpPr/>
            <p:nvPr/>
          </p:nvSpPr>
          <p:spPr>
            <a:xfrm>
              <a:off x="6870960" y="2838240"/>
              <a:ext cx="343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23040" y="278748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94640" y="28634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80240" y="3092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435C-1381-4235-A040-1EAFBB56CE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0452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2, 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nditions from state S3: have recognized …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xt input is 0 then have …0100 = ...100 (state S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xt input is 1 then have …0101 = …01 (state S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nditions from S1: recogniz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s of form …0 (no 1 s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 back to S1 if input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conditions from S4: recogniz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s of form …1 (no 0 s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p back to S4 if input i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321160" y="2787480"/>
            <a:ext cx="3809880" cy="3657240"/>
            <a:chOff x="5321160" y="2787480"/>
            <a:chExt cx="3809880" cy="3657240"/>
          </a:xfrm>
        </p:grpSpPr>
        <p:sp>
          <p:nvSpPr>
            <p:cNvPr id="129" name=""/>
            <p:cNvSpPr/>
            <p:nvPr/>
          </p:nvSpPr>
          <p:spPr>
            <a:xfrm>
              <a:off x="632448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21160" y="492120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21160" y="598788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92760" y="598788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56400" y="3625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84800" y="3625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70600" y="283824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84800" y="466704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7516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60760" y="32194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56200" y="41338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22680" y="2787480"/>
              <a:ext cx="977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94480" y="575928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84800" y="575928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9096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56400" y="469260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27800" y="415908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27800" y="52261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56400" y="575928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800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800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80080" y="5759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08480" y="3625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08480" y="4692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08480" y="5759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94280" y="28638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54" idx="3"/>
              <a:endCxn id="151" idx="7"/>
            </p:cNvCxnSpPr>
            <p:nvPr/>
          </p:nvCxnSpPr>
          <p:spPr>
            <a:xfrm flipH="1">
              <a:off x="649836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4" idx="5"/>
              <a:endCxn id="148" idx="1"/>
            </p:cNvCxnSpPr>
            <p:nvPr/>
          </p:nvCxnSpPr>
          <p:spPr>
            <a:xfrm>
              <a:off x="7184520" y="325404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7" name=""/>
            <p:cNvCxnSpPr>
              <a:stCxn id="148" idx="4"/>
              <a:endCxn id="149" idx="0"/>
            </p:cNvCxnSpPr>
            <p:nvPr/>
          </p:nvCxnSpPr>
          <p:spPr>
            <a:xfrm>
              <a:off x="77083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8" name=""/>
            <p:cNvCxnSpPr>
              <a:stCxn id="149" idx="4"/>
              <a:endCxn id="150" idx="0"/>
            </p:cNvCxnSpPr>
            <p:nvPr/>
          </p:nvCxnSpPr>
          <p:spPr>
            <a:xfrm>
              <a:off x="7708320" y="514944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2" idx="3"/>
              <a:endCxn id="153" idx="1"/>
            </p:cNvCxnSpPr>
            <p:nvPr/>
          </p:nvCxnSpPr>
          <p:spPr>
            <a:xfrm>
              <a:off x="6174720" y="508320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4"/>
              <a:endCxn id="152" idx="0"/>
            </p:cNvCxnSpPr>
            <p:nvPr/>
          </p:nvCxnSpPr>
          <p:spPr>
            <a:xfrm>
              <a:off x="6336720" y="4082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0" idx="5"/>
              <a:endCxn id="150" idx="7"/>
            </p:cNvCxnSpPr>
            <p:nvPr/>
          </p:nvCxnSpPr>
          <p:spPr>
            <a:xfrm flipH="1" flipV="1" rot="5400000">
              <a:off x="7709400" y="5986800"/>
              <a:ext cx="324360" cy="2160"/>
            </a:xfrm>
            <a:prstGeom prst="curvedConnector5">
              <a:avLst>
                <a:gd name="adj1" fmla="val -91111"/>
                <a:gd name="adj2" fmla="val 17080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5879880" y="3092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53" idx="6"/>
              <a:endCxn id="150" idx="2"/>
            </p:cNvCxnSpPr>
            <p:nvPr/>
          </p:nvCxnSpPr>
          <p:spPr>
            <a:xfrm>
              <a:off x="6565680" y="5987520"/>
              <a:ext cx="9151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53" idx="7"/>
              <a:endCxn id="152" idx="5"/>
            </p:cNvCxnSpPr>
            <p:nvPr/>
          </p:nvCxnSpPr>
          <p:spPr>
            <a:xfrm flipV="1">
              <a:off x="6498720" y="508284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5" name=""/>
          <p:cNvGrpSpPr/>
          <p:nvPr/>
        </p:nvGrpSpPr>
        <p:grpSpPr>
          <a:xfrm>
            <a:off x="4788000" y="3396600"/>
            <a:ext cx="4419000" cy="924840"/>
            <a:chOff x="4788000" y="3396600"/>
            <a:chExt cx="4419000" cy="924840"/>
          </a:xfrm>
        </p:grpSpPr>
        <p:sp>
          <p:nvSpPr>
            <p:cNvPr id="166" name=""/>
            <p:cNvSpPr/>
            <p:nvPr/>
          </p:nvSpPr>
          <p:spPr>
            <a:xfrm>
              <a:off x="6768720" y="385452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40120" y="385452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70800" y="362592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9" name=""/>
            <p:cNvCxnSpPr/>
            <p:nvPr/>
          </p:nvCxnSpPr>
          <p:spPr>
            <a:xfrm flipH="1" flipV="1" rot="5400000">
              <a:off x="7708320" y="3853080"/>
              <a:ext cx="324360" cy="1800"/>
            </a:xfrm>
            <a:prstGeom prst="curvedConnector5">
              <a:avLst>
                <a:gd name="adj1" fmla="val -91111"/>
                <a:gd name="adj2" fmla="val 17075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/>
            <p:nvPr/>
          </p:nvCxnSpPr>
          <p:spPr>
            <a:xfrm flipH="1" flipV="1" rot="5400000">
              <a:off x="5996520" y="3862800"/>
              <a:ext cx="324720" cy="1800"/>
            </a:xfrm>
            <a:prstGeom prst="curvedConnector5">
              <a:avLst>
                <a:gd name="adj1" fmla="val -91120"/>
                <a:gd name="adj2" fmla="val -17750000"/>
                <a:gd name="adj3" fmla="val -9112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1" name=""/>
            <p:cNvSpPr/>
            <p:nvPr/>
          </p:nvSpPr>
          <p:spPr>
            <a:xfrm>
              <a:off x="4788000" y="362592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B184-890C-4F44-93E0-8417758CD7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1975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2, 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7000"/>
          </a:bodyPr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 and S5 still have incomplete tran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 = …01; If next input is 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tring could be prefix of (01)1(00)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4 handles just thi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5 = …10; If next input is 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string could be prefix of (10)1(0)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 handles just thi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states as much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same m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80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minimization leads 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r number of bits t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7320" indent="-3373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all states have a comple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transitions we have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321160" y="2863800"/>
            <a:ext cx="3809880" cy="3657240"/>
            <a:chOff x="5321160" y="2863800"/>
            <a:chExt cx="3809880" cy="3657240"/>
          </a:xfrm>
        </p:grpSpPr>
        <p:sp>
          <p:nvSpPr>
            <p:cNvPr id="175" name=""/>
            <p:cNvSpPr/>
            <p:nvPr/>
          </p:nvSpPr>
          <p:spPr>
            <a:xfrm>
              <a:off x="6324480" y="5302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21160" y="499752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606420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92760" y="6064200"/>
              <a:ext cx="8510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56400" y="370224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84800" y="370224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70600" y="291456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84800" y="474336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75520" y="3295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61120" y="32958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56200" y="42102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422680" y="2863800"/>
              <a:ext cx="9781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94480" y="5835600"/>
              <a:ext cx="7365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 o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84800" y="583560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90960" y="5302440"/>
              <a:ext cx="559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56400" y="4768920"/>
              <a:ext cx="3427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27800" y="423540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27800" y="530244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56400" y="5835600"/>
              <a:ext cx="34272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80080" y="37022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80080" y="4768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80080" y="5835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08480" y="370224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08480" y="4768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08480" y="5835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94280" y="2940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1" name=""/>
            <p:cNvCxnSpPr>
              <a:stCxn id="200" idx="3"/>
              <a:endCxn id="197" idx="7"/>
            </p:cNvCxnSpPr>
            <p:nvPr/>
          </p:nvCxnSpPr>
          <p:spPr>
            <a:xfrm flipH="1">
              <a:off x="6498360" y="333036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2" name=""/>
            <p:cNvCxnSpPr>
              <a:stCxn id="200" idx="5"/>
              <a:endCxn id="194" idx="1"/>
            </p:cNvCxnSpPr>
            <p:nvPr/>
          </p:nvCxnSpPr>
          <p:spPr>
            <a:xfrm>
              <a:off x="7184520" y="3330360"/>
              <a:ext cx="362520" cy="4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3" name=""/>
            <p:cNvCxnSpPr>
              <a:stCxn id="194" idx="4"/>
              <a:endCxn id="195" idx="0"/>
            </p:cNvCxnSpPr>
            <p:nvPr/>
          </p:nvCxnSpPr>
          <p:spPr>
            <a:xfrm>
              <a:off x="7708320" y="415908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4" name=""/>
            <p:cNvCxnSpPr>
              <a:stCxn id="195" idx="4"/>
              <a:endCxn id="196" idx="0"/>
            </p:cNvCxnSpPr>
            <p:nvPr/>
          </p:nvCxnSpPr>
          <p:spPr>
            <a:xfrm>
              <a:off x="7708320" y="522576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5" name=""/>
            <p:cNvCxnSpPr>
              <a:stCxn id="198" idx="3"/>
              <a:endCxn id="199" idx="1"/>
            </p:cNvCxnSpPr>
            <p:nvPr/>
          </p:nvCxnSpPr>
          <p:spPr>
            <a:xfrm>
              <a:off x="6174720" y="515952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6" name=""/>
            <p:cNvCxnSpPr>
              <a:stCxn id="197" idx="4"/>
              <a:endCxn id="198" idx="0"/>
            </p:cNvCxnSpPr>
            <p:nvPr/>
          </p:nvCxnSpPr>
          <p:spPr>
            <a:xfrm>
              <a:off x="6336720" y="4159080"/>
              <a:ext cx="1080" cy="61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196" idx="5"/>
              <a:endCxn id="196" idx="7"/>
            </p:cNvCxnSpPr>
            <p:nvPr/>
          </p:nvCxnSpPr>
          <p:spPr>
            <a:xfrm flipH="1" flipV="1" rot="5400000">
              <a:off x="7709400" y="6063120"/>
              <a:ext cx="324360" cy="2160"/>
            </a:xfrm>
            <a:prstGeom prst="curvedConnector5">
              <a:avLst>
                <a:gd name="adj1" fmla="val -91111"/>
                <a:gd name="adj2" fmla="val 17080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8" name=""/>
            <p:cNvSpPr/>
            <p:nvPr/>
          </p:nvSpPr>
          <p:spPr>
            <a:xfrm>
              <a:off x="5879880" y="3168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9" name=""/>
            <p:cNvCxnSpPr>
              <a:stCxn id="199" idx="6"/>
              <a:endCxn id="196" idx="2"/>
            </p:cNvCxnSpPr>
            <p:nvPr/>
          </p:nvCxnSpPr>
          <p:spPr>
            <a:xfrm>
              <a:off x="6565680" y="6063840"/>
              <a:ext cx="9151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199" idx="7"/>
              <a:endCxn id="198" idx="5"/>
            </p:cNvCxnSpPr>
            <p:nvPr/>
          </p:nvCxnSpPr>
          <p:spPr>
            <a:xfrm flipV="1">
              <a:off x="6498720" y="5159160"/>
              <a:ext cx="108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1" name=""/>
          <p:cNvGrpSpPr/>
          <p:nvPr/>
        </p:nvGrpSpPr>
        <p:grpSpPr>
          <a:xfrm>
            <a:off x="4788000" y="3472560"/>
            <a:ext cx="4419000" cy="924840"/>
            <a:chOff x="4788000" y="3472560"/>
            <a:chExt cx="4419000" cy="924840"/>
          </a:xfrm>
        </p:grpSpPr>
        <p:sp>
          <p:nvSpPr>
            <p:cNvPr id="212" name=""/>
            <p:cNvSpPr/>
            <p:nvPr/>
          </p:nvSpPr>
          <p:spPr>
            <a:xfrm>
              <a:off x="6768720" y="393048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40120" y="3930480"/>
              <a:ext cx="7491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470800" y="370188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/>
            <p:nvPr/>
          </p:nvCxnSpPr>
          <p:spPr>
            <a:xfrm flipH="1" flipV="1" rot="5400000">
              <a:off x="7708320" y="3929040"/>
              <a:ext cx="324360" cy="1800"/>
            </a:xfrm>
            <a:prstGeom prst="curvedConnector5">
              <a:avLst>
                <a:gd name="adj1" fmla="val -91111"/>
                <a:gd name="adj2" fmla="val 17075000"/>
                <a:gd name="adj3" fmla="val -911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/>
            <p:nvPr/>
          </p:nvCxnSpPr>
          <p:spPr>
            <a:xfrm flipH="1" flipV="1" rot="5400000">
              <a:off x="5996520" y="3938760"/>
              <a:ext cx="324720" cy="1800"/>
            </a:xfrm>
            <a:prstGeom prst="curvedConnector5">
              <a:avLst>
                <a:gd name="adj1" fmla="val -91120"/>
                <a:gd name="adj2" fmla="val -17750000"/>
                <a:gd name="adj3" fmla="val -9112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4788000" y="3701880"/>
              <a:ext cx="73620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477120" y="4092120"/>
            <a:ext cx="2221920" cy="1311840"/>
            <a:chOff x="6477120" y="4092120"/>
            <a:chExt cx="2221920" cy="1311840"/>
          </a:xfrm>
        </p:grpSpPr>
        <p:sp>
          <p:nvSpPr>
            <p:cNvPr id="219" name=""/>
            <p:cNvSpPr/>
            <p:nvPr/>
          </p:nvSpPr>
          <p:spPr>
            <a:xfrm>
              <a:off x="7848360" y="4997520"/>
              <a:ext cx="850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...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77120" y="4311720"/>
              <a:ext cx="55872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58000" y="4692600"/>
              <a:ext cx="5583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2" name=""/>
            <p:cNvCxnSpPr>
              <a:stCxn id="198" idx="7"/>
              <a:endCxn id="194" idx="3"/>
            </p:cNvCxnSpPr>
            <p:nvPr/>
          </p:nvCxnSpPr>
          <p:spPr>
            <a:xfrm flipV="1">
              <a:off x="6498720" y="4092120"/>
              <a:ext cx="1047960" cy="743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23" name=""/>
            <p:cNvCxnSpPr>
              <a:stCxn id="195" idx="2"/>
              <a:endCxn id="198" idx="6"/>
            </p:cNvCxnSpPr>
            <p:nvPr/>
          </p:nvCxnSpPr>
          <p:spPr>
            <a:xfrm flipH="1">
              <a:off x="6564960" y="4997160"/>
              <a:ext cx="914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64AA-50F7-44E3-861A-088F4F419D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28600" y="2514600"/>
            <a:ext cx="4419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dule string (clk, X, rst, Q0, Q1, Q2, Z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put clk, X, rs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utput Q0, Q1, Q2, 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 S0 = [0,0,0]; //reset st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1 = [0,0,1]; //strings ending in   ..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2 = [0,1,0]; //strings ending in  ...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3 = [0,1,1]; //strings ending in ...0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4 = [1,0,0]; //strings ending in   ...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5 = [1,0,1]; //strings ending in  ...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rame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6 = [1,1,0]; //strings ending in ...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g state[0: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0 = state[0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1 = state[1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Q2 = state[2]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sign Z = (state == S3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41800" y="2514600"/>
            <a:ext cx="454680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ways @(posedge clk)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f (rst) state = S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se (st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0: if (X) state = S4 else state = 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1: if (X) state = S2 else state = S1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2: if (X) state = S4 else state = S3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3: if (X) state = S2 else state = 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4: if (X) state = S4 else state = S5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S5: if (X) state = S2 else state = S6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6: state = S6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default: 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$display (“invalid state reached”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e = 3’bxx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 (step 3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description including state assignment (or state enco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16600" y="24382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5AFA-0074-44A1-A5E7-29F96DC4BA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ring pattern recogniz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343720" cy="4394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of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ing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sample inputs and outputs to understand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e a state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down sequences of states and transitions for sequences to be recogn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ze number of st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missing transitions;  reuse states as much as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assignment or enco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ode states with unique patte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real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ify I/O behavior of your state diagram to ensure it matches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3679-0626-44CF-9E91-D9EE3EC5461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1676160" y="4343400"/>
            <a:ext cx="5949720" cy="1955880"/>
            <a:chOff x="1676160" y="4343400"/>
            <a:chExt cx="5949720" cy="1955880"/>
          </a:xfrm>
        </p:grpSpPr>
        <p:sp>
          <p:nvSpPr>
            <p:cNvPr id="232" name=""/>
            <p:cNvSpPr/>
            <p:nvPr/>
          </p:nvSpPr>
          <p:spPr>
            <a:xfrm>
              <a:off x="1733400" y="4343400"/>
              <a:ext cx="162504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ode Input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63720" y="4343400"/>
              <a:ext cx="159984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urren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13160" y="4343400"/>
              <a:ext cx="241272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1676160" y="4572000"/>
              <a:ext cx="5346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29160" y="4362480"/>
              <a:ext cx="0" cy="180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x count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nchronous 3-bit counter has a mode control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 = 0, the counter counts up in the binary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 = 1, the counter advances through the Gray code sequence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:   000, 001, 010, 011, 100, 101, 110, 11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y:     000, 001, 011, 010, 110, 111, 101, 10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 I/O behavior (part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18E9-04B4-4913-8A8A-8BD85F58030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X - Sequential Logic Case Studie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25:01Z</dcterms:created>
  <dc:creator>Gaetano Borriello</dc:creator>
  <dc:description/>
  <dc:language>en-US</dc:language>
  <cp:lastModifiedBy>Gaetano Borriello</cp:lastModifiedBy>
  <cp:lastPrinted>2000-05-11T19:02:48Z</cp:lastPrinted>
  <dcterms:modified xsi:type="dcterms:W3CDTF">2005-01-24T07:02:21Z</dcterms:modified>
  <cp:revision>30</cp:revision>
  <dc:subject/>
  <dc:title>Sequential logic examp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