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.jpeg" ContentType="image/jpeg"/>
  <Override PartName="/ppt/media/image26.png" ContentType="image/png"/>
  <Override PartName="/ppt/media/image3.png" ContentType="image/png"/>
  <Override PartName="/ppt/media/image13.wmf" ContentType="image/x-wmf"/>
  <Override PartName="/ppt/media/image5.png" ContentType="image/png"/>
  <Override PartName="/ppt/media/image28.wmf" ContentType="image/x-wmf"/>
  <Override PartName="/ppt/media/image30.png" ContentType="image/png"/>
  <Override PartName="/ppt/media/image35.wmf" ContentType="image/x-wmf"/>
  <Override PartName="/ppt/media/image39.wmf" ContentType="image/x-wmf"/>
  <Override PartName="/ppt/media/image41.png" ContentType="image/png"/>
  <Override PartName="/ppt/media/image31.wmf" ContentType="image/x-wmf"/>
  <Override PartName="/ppt/media/image46.png" ContentType="image/png"/>
  <Override PartName="/ppt/media/image32.png" ContentType="image/png"/>
  <Override PartName="/ppt/media/image43.wmf" ContentType="image/x-wmf"/>
  <Override PartName="/ppt/media/image36.wmf" ContentType="image/x-wmf"/>
  <Override PartName="/ppt/media/image44.jpeg" ContentType="image/jpeg"/>
  <Override PartName="/ppt/media/image9.png" ContentType="image/png"/>
  <Override PartName="/ppt/media/image34.wmf" ContentType="image/x-wmf"/>
  <Override PartName="/ppt/media/image45.jpeg" ContentType="image/jpeg"/>
  <Override PartName="/ppt/media/image33.wmf" ContentType="image/x-wmf"/>
  <Override PartName="/ppt/media/image11.png" ContentType="image/png"/>
  <Override PartName="/ppt/media/image48.png" ContentType="image/png"/>
  <Override PartName="/ppt/media/image8.wmf" ContentType="image/x-wmf"/>
  <Override PartName="/ppt/media/image40.png" ContentType="image/png"/>
  <Override PartName="/ppt/media/image38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37.wmf" ContentType="image/x-wmf"/>
  <Override PartName="/ppt/media/image7.wmf" ContentType="image/x-wmf"/>
  <Override PartName="/ppt/media/image6.png" ContentType="image/png"/>
  <Override PartName="/ppt/media/image47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1C9E-11D4-45B7-B16F-5BAFC22B5EB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6D9B-AF2A-45F2-B81E-B6845CB28D8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F308-6B2A-4174-8DF8-F7EBD8B088C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Hue (tin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tinta è esattamente il colore pieno: rosso, verde, giallo, blu, e le varie sfumature tra di essi. Nello spazio HSV viene rappresentata come un cerchio, e quindi il singolo colore lo identifico con un numero che va da 0° a 360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aturation (saturazi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Saturazione è un indicatore di quanto il nostro colore è pieno, e quanto invece smorzato. Saturo vuol dire che è 100% della nostra tinta, mentre procedendo verso lo 0% trovo un colore sempre più mischiato al bianco, ovvero più pallido, smorto, più pastello. La saturazione va quindi dallo 0% al 100%: 100% = colore pieno; 0% = bianc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Value (valo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 potrebbe tradurre anche con luminosità. Mi dice quanto è luminoso il colore. 100% vuol dire che il colore è brillante, mentre 0% vuol dire che non c'è luce, cioè è nero. I gradi intermedi sono una fusione tra questi due valori estrem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BC09-8D39-42DC-9243-93DA9536814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6FC0-5F9A-4861-A94D-C52AA0FE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964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303A-751B-4EEF-BB58-F874C2E6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6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668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64D3-28BF-407E-9858-D41CE142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452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452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A3FA-BA95-4CFB-A5B2-5DF97CB0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01A2-7809-47A3-B543-88B18F77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25BC-09A4-4FE7-8289-5D8CB5A0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0D9C-98CF-428C-9F16-B525AD5B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CD90-59B3-4028-B90A-E569955B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838-77B3-4472-8CDB-5E37784E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96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D54C-900D-460A-9710-4F1B481C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668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42B-CD21-4FA4-9C5F-7BEC4FC5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E330-42E6-456D-911B-6B217638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0036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FBD2-677A-4A19-AF60-6317BCDA4401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8"/>
          <p:cNvSpPr/>
          <p:nvPr/>
        </p:nvSpPr>
        <p:spPr>
          <a:xfrm>
            <a:off x="539640" y="6381720"/>
            <a:ext cx="6913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2"/>
          <a:stretch/>
        </p:blipFill>
        <p:spPr>
          <a:xfrm>
            <a:off x="1258920" y="623736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image" Target="../media/image31.wmf"/><Relationship Id="rId5" Type="http://schemas.openxmlformats.org/officeDocument/2006/relationships/image" Target="../media/image32.png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78FF-5FEB-46BF-911C-C61C8CCCC72C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800000"/>
                </a:solidFill>
                <a:latin typeface="Tahoma"/>
              </a:rPr>
              <a:t>Sistemi Avanzati per il Riconoscimento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573228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rof. Marco Cristan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1258920" y="115920"/>
            <a:ext cx="6337440" cy="73332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Università di Verona</a:t>
            </a:r>
            <a:br>
              <a:rPr sz="1400"/>
            </a:b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Dipartimento di Informat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Corso di Laurea Magistrale in Ingegneria e Scienze Informati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52704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otion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0" descr="Roadrunner"/>
          <p:cNvPicPr/>
          <p:nvPr/>
        </p:nvPicPr>
        <p:blipFill>
          <a:blip r:embed="rId1"/>
          <a:stretch/>
        </p:blipFill>
        <p:spPr>
          <a:xfrm>
            <a:off x="2554200" y="1954080"/>
            <a:ext cx="417348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EE77-B331-4597-AC6F-54C02F5A8625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Metodi di bas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3384360" cy="2519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"/>
          <p:cNvPicPr/>
          <p:nvPr/>
        </p:nvPicPr>
        <p:blipFill>
          <a:blip r:embed="rId2"/>
          <a:stretch/>
        </p:blipFill>
        <p:spPr>
          <a:xfrm>
            <a:off x="4643280" y="1135080"/>
            <a:ext cx="3456000" cy="2519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/>
          <a:stretch/>
        </p:blipFill>
        <p:spPr>
          <a:xfrm>
            <a:off x="1258920" y="3646440"/>
            <a:ext cx="3384360" cy="2519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"/>
          <p:cNvPicPr/>
          <p:nvPr/>
        </p:nvPicPr>
        <p:blipFill>
          <a:blip r:embed="rId4"/>
          <a:stretch/>
        </p:blipFill>
        <p:spPr>
          <a:xfrm>
            <a:off x="4643280" y="3654360"/>
            <a:ext cx="3456000" cy="2519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9"/>
          <p:cNvSpPr/>
          <p:nvPr/>
        </p:nvSpPr>
        <p:spPr>
          <a:xfrm>
            <a:off x="3240" y="206064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8147880" y="199548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l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1440" y="4581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: a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8200440" y="458136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4295-1980-48EC-8A06-D4675DC8C9B4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Metodi di base: approccio basato su mediana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background è la media o la mediana (Velastin, 2000; Cucchiara, 2003) degli n frame preceden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uttosto veloce, ma esoso in termini di spazio: i requisiti di memoria sono n * size(fra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lo il background come un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edia mob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(t+1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α*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(t+1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 (1 -α) *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α, il learning rate, è tipicamente basso - 0.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sun requisito di memo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3849-D18D-4E1D-B4D5-D405E667D1E5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etodi di base: considerazioni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modello di background ad ogni locazione di pixel è basato sulla storia recente del pixel stess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olti lavori, tale storia è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plicemente i primi n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 media pesata in cui i valori più recenti hanno peso più picco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questi metodi non viene modellata alcuna correlazione tra pixel adiacenti (approcci per pixe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C690-B7D2-4643-8493-446F3093E994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etodi di base: selettività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 ogni frame, un pixel viene classificato come BG o F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 feedback puo’ essere ricavato da questa operazion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 il pixel viene identificato come foreground, esso non viene incluso nel modello di B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questo modo il modello di BG non viene inquinato da valori che logicamente non appartengono alla sce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 mobile con sele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orgimento usato larg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 BG modellato è monomod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e scegliere la soglia 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80000"/>
              </a:lnSpc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1481040" y="3328920"/>
                <a:ext cx="555156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if 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BG</m:t>
                        </m:r>
                      </m:e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if 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F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9F78-D9AB-4488-854F-D279C2E27F66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etodi di base: selezione della soglia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53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finder (Wren, Azarbayejani, Darrell, Pentland, 1997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ene fittata una distribuzione gaussiana (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  <a:ea typeface="Tahoma"/>
              </a:rPr>
              <a:t>μ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  <a:ea typeface="Tahoma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sull’istogramma generato dalla storia di ogni pixel: questo restituisce la distribuzione (PDF) del backgrou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iornamento dei parametri: media mob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ò risolve il problema della soglia: il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oreground 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isul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5"/>
              <p:cNvSpPr txBox="1"/>
              <p:nvPr/>
            </p:nvSpPr>
            <p:spPr>
              <a:xfrm>
                <a:off x="1828800" y="3357720"/>
                <a:ext cx="517032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6"/>
              <p:cNvSpPr txBox="1"/>
              <p:nvPr/>
            </p:nvSpPr>
            <p:spPr>
              <a:xfrm>
                <a:off x="1835280" y="5099040"/>
                <a:ext cx="566568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FG</m:t>
                        </m:r>
                        <m:r>
                          <m:rPr>
                            <m:lit/>
                            <m:nor/>
                          </m:rPr>
                          <m:t xml:space="preserve">         if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  <m:r>
                          <m:t xml:space="preserve">&gt;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BG</m:t>
                        </m:r>
                        <m:r>
                          <m:rPr>
                            <m:lit/>
                            <m:nor/>
                          </m:rPr>
                          <m:t xml:space="preserve">        altriment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" name="Text Box 7"/>
          <p:cNvSpPr/>
          <p:nvPr/>
        </p:nvSpPr>
        <p:spPr>
          <a:xfrm rot="21430800">
            <a:off x="6227640" y="587664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33"/>
                </a:solidFill>
                <a:latin typeface="Arial"/>
              </a:rPr>
              <a:t>NO MULTIMODAL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6792120" y="52038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= 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3B39-FE85-487E-AD06-D1C40D68E02A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Background bimodale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231" name="WaterBIG.avi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1"/>
          <p:cNvSpPr/>
          <p:nvPr/>
        </p:nvSpPr>
        <p:spPr>
          <a:xfrm>
            <a:off x="2268360" y="4508640"/>
            <a:ext cx="1224000" cy="431640"/>
          </a:xfrm>
          <a:prstGeom prst="rect">
            <a:avLst/>
          </a:prstGeom>
          <a:noFill/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Water.avi" descr=""/>
          <p:cNvPicPr/>
          <p:nvPr/>
        </p:nvPicPr>
        <p:blipFill>
          <a:blip r:embed="rId2"/>
          <a:stretch/>
        </p:blipFill>
        <p:spPr>
          <a:xfrm>
            <a:off x="2987640" y="5734080"/>
            <a:ext cx="1114560" cy="390600"/>
          </a:xfrm>
          <a:prstGeom prst="rect">
            <a:avLst/>
          </a:prstGeom>
          <a:ln w="0">
            <a:noFill/>
          </a:ln>
        </p:spPr>
      </p:pic>
      <p:cxnSp>
        <p:nvCxnSpPr>
          <p:cNvPr id="234" name="AutoShape 13"/>
          <p:cNvCxnSpPr>
            <a:stCxn id="232" idx="2"/>
            <a:endCxn id="233" idx="0"/>
          </p:cNvCxnSpPr>
          <p:nvPr/>
        </p:nvCxnSpPr>
        <p:spPr>
          <a:xfrm>
            <a:off x="2881080" y="4954320"/>
            <a:ext cx="664200" cy="780120"/>
          </a:xfrm>
          <a:prstGeom prst="straightConnector1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</p:cxnSp>
      <p:pic>
        <p:nvPicPr>
          <p:cNvPr id="235" name="Picture 14" descr="Histoplot"/>
          <p:cNvPicPr/>
          <p:nvPr/>
        </p:nvPicPr>
        <p:blipFill>
          <a:blip r:embed="rId3"/>
          <a:stretch/>
        </p:blipFill>
        <p:spPr>
          <a:xfrm>
            <a:off x="5724360" y="3933720"/>
            <a:ext cx="2883240" cy="2168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timeplot"/>
          <p:cNvPicPr/>
          <p:nvPr/>
        </p:nvPicPr>
        <p:blipFill>
          <a:blip r:embed="rId4"/>
          <a:stretch/>
        </p:blipFill>
        <p:spPr>
          <a:xfrm>
            <a:off x="5724360" y="1268280"/>
            <a:ext cx="2808360" cy="2113200"/>
          </a:xfrm>
          <a:prstGeom prst="rect">
            <a:avLst/>
          </a:prstGeom>
          <a:ln w="0">
            <a:noFill/>
          </a:ln>
        </p:spPr>
      </p:pic>
      <p:sp>
        <p:nvSpPr>
          <p:cNvPr id="237" name="Line 16"/>
          <p:cNvSpPr/>
          <p:nvPr/>
        </p:nvSpPr>
        <p:spPr>
          <a:xfrm>
            <a:off x="6012000" y="350028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8318160" y="3355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8"/>
          <p:cNvSpPr/>
          <p:nvPr/>
        </p:nvSpPr>
        <p:spPr>
          <a:xfrm>
            <a:off x="5796000" y="4148280"/>
            <a:ext cx="1800360" cy="1728720"/>
          </a:xfrm>
          <a:custGeom>
            <a:avLst/>
            <a:gdLst/>
            <a:ahLst/>
            <a:rect l="l" t="t" r="r" b="b"/>
            <a:pathLst>
              <a:path w="1723" h="2155">
                <a:moveTo>
                  <a:pt x="1723" y="2109"/>
                </a:moveTo>
                <a:cubicBezTo>
                  <a:pt x="1624" y="2090"/>
                  <a:pt x="1526" y="2071"/>
                  <a:pt x="1451" y="1973"/>
                </a:cubicBezTo>
                <a:cubicBezTo>
                  <a:pt x="1376" y="1875"/>
                  <a:pt x="1315" y="1792"/>
                  <a:pt x="1270" y="1520"/>
                </a:cubicBezTo>
                <a:cubicBezTo>
                  <a:pt x="1225" y="1248"/>
                  <a:pt x="1224" y="589"/>
                  <a:pt x="1179" y="340"/>
                </a:cubicBezTo>
                <a:cubicBezTo>
                  <a:pt x="1134" y="91"/>
                  <a:pt x="1065" y="46"/>
                  <a:pt x="997" y="23"/>
                </a:cubicBezTo>
                <a:cubicBezTo>
                  <a:pt x="929" y="0"/>
                  <a:pt x="824" y="15"/>
                  <a:pt x="771" y="204"/>
                </a:cubicBezTo>
                <a:cubicBezTo>
                  <a:pt x="718" y="393"/>
                  <a:pt x="703" y="915"/>
                  <a:pt x="680" y="1157"/>
                </a:cubicBezTo>
                <a:cubicBezTo>
                  <a:pt x="657" y="1399"/>
                  <a:pt x="665" y="1520"/>
                  <a:pt x="635" y="1656"/>
                </a:cubicBezTo>
                <a:cubicBezTo>
                  <a:pt x="605" y="1792"/>
                  <a:pt x="604" y="1890"/>
                  <a:pt x="498" y="1973"/>
                </a:cubicBezTo>
                <a:cubicBezTo>
                  <a:pt x="392" y="2056"/>
                  <a:pt x="196" y="2105"/>
                  <a:pt x="0" y="215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9"/>
          <p:cNvSpPr/>
          <p:nvPr/>
        </p:nvSpPr>
        <p:spPr>
          <a:xfrm>
            <a:off x="6299280" y="4581360"/>
            <a:ext cx="2520720" cy="1295640"/>
          </a:xfrm>
          <a:custGeom>
            <a:avLst/>
            <a:gdLst/>
            <a:ahLst/>
            <a:rect l="l" t="t" r="r" b="b"/>
            <a:pathLst>
              <a:path w="1723" h="2155">
                <a:moveTo>
                  <a:pt x="1723" y="2109"/>
                </a:moveTo>
                <a:cubicBezTo>
                  <a:pt x="1624" y="2090"/>
                  <a:pt x="1526" y="2071"/>
                  <a:pt x="1451" y="1973"/>
                </a:cubicBezTo>
                <a:cubicBezTo>
                  <a:pt x="1376" y="1875"/>
                  <a:pt x="1315" y="1792"/>
                  <a:pt x="1270" y="1520"/>
                </a:cubicBezTo>
                <a:cubicBezTo>
                  <a:pt x="1225" y="1248"/>
                  <a:pt x="1224" y="589"/>
                  <a:pt x="1179" y="340"/>
                </a:cubicBezTo>
                <a:cubicBezTo>
                  <a:pt x="1134" y="91"/>
                  <a:pt x="1065" y="46"/>
                  <a:pt x="997" y="23"/>
                </a:cubicBezTo>
                <a:cubicBezTo>
                  <a:pt x="929" y="0"/>
                  <a:pt x="824" y="15"/>
                  <a:pt x="771" y="204"/>
                </a:cubicBezTo>
                <a:cubicBezTo>
                  <a:pt x="718" y="393"/>
                  <a:pt x="703" y="915"/>
                  <a:pt x="680" y="1157"/>
                </a:cubicBezTo>
                <a:cubicBezTo>
                  <a:pt x="657" y="1399"/>
                  <a:pt x="665" y="1520"/>
                  <a:pt x="635" y="1656"/>
                </a:cubicBezTo>
                <a:cubicBezTo>
                  <a:pt x="605" y="1792"/>
                  <a:pt x="604" y="1890"/>
                  <a:pt x="498" y="1973"/>
                </a:cubicBezTo>
                <a:cubicBezTo>
                  <a:pt x="392" y="2056"/>
                  <a:pt x="196" y="2105"/>
                  <a:pt x="0" y="215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AutoShape 23"/>
          <p:cNvCxnSpPr>
            <a:stCxn id="233" idx="3"/>
            <a:endCxn id="236" idx="1"/>
          </p:cNvCxnSpPr>
          <p:nvPr/>
        </p:nvCxnSpPr>
        <p:spPr>
          <a:xfrm flipV="1">
            <a:off x="4102200" y="2325240"/>
            <a:ext cx="1622880" cy="3604320"/>
          </a:xfrm>
          <a:prstGeom prst="straightConnector1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</p:cxnSp>
      <p:cxnSp>
        <p:nvCxnSpPr>
          <p:cNvPr id="242" name="AutoShape 24"/>
          <p:cNvCxnSpPr>
            <a:stCxn id="233" idx="3"/>
            <a:endCxn id="235" idx="1"/>
          </p:cNvCxnSpPr>
          <p:nvPr/>
        </p:nvCxnSpPr>
        <p:spPr>
          <a:xfrm flipV="1">
            <a:off x="4102200" y="5017320"/>
            <a:ext cx="1622880" cy="911880"/>
          </a:xfrm>
          <a:prstGeom prst="straightConnector1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</p:cxnSp>
      <p:sp>
        <p:nvSpPr>
          <p:cNvPr id="243" name="Oval 25"/>
          <p:cNvSpPr/>
          <p:nvPr/>
        </p:nvSpPr>
        <p:spPr>
          <a:xfrm>
            <a:off x="5580000" y="1341360"/>
            <a:ext cx="295272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26"/>
          <p:cNvSpPr/>
          <p:nvPr/>
        </p:nvSpPr>
        <p:spPr>
          <a:xfrm>
            <a:off x="5651640" y="2349360"/>
            <a:ext cx="2952720" cy="7192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7"/>
          <p:cNvSpPr/>
          <p:nvPr/>
        </p:nvSpPr>
        <p:spPr>
          <a:xfrm>
            <a:off x="8011800" y="10731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fle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8"/>
          <p:cNvSpPr/>
          <p:nvPr/>
        </p:nvSpPr>
        <p:spPr>
          <a:xfrm>
            <a:off x="8225640" y="28526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2F77-A748-4F38-9126-06952DF4BC7F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TAPPMO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6360" y="981000"/>
            <a:ext cx="6264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69440" indent="-46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lo statistic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enerativ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Time Adaptive Mixture Of Gaussian (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TAPPMOG, Stauffer and Grimson, 1999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probabilità di osservare il valore di pixel 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40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40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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(t)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ik ,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(t)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ik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 identificano le componenti gauss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40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(t)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ik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rado di importanz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; se alto, indica una componente che modella un segnale persistente, quindi di BG; altrimenti abbiamo un valore di FG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930240" y="2997360"/>
                <a:ext cx="41990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Ν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Rectangle 5"/>
          <p:cNvSpPr/>
          <p:nvPr/>
        </p:nvSpPr>
        <p:spPr>
          <a:xfrm>
            <a:off x="6525720" y="429264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ge of the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5780160" y="126216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7"/>
          <p:cNvSpPr/>
          <p:nvPr/>
        </p:nvSpPr>
        <p:spPr>
          <a:xfrm flipV="1">
            <a:off x="6012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SGMovNew.avi" descr=""/>
          <p:cNvPicPr/>
          <p:nvPr/>
        </p:nvPicPr>
        <p:blipFill>
          <a:blip r:embed="rId1"/>
          <a:stretch/>
        </p:blipFill>
        <p:spPr>
          <a:xfrm>
            <a:off x="6149880" y="1190520"/>
            <a:ext cx="2987640" cy="316728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9"/>
          <p:cNvSpPr/>
          <p:nvPr/>
        </p:nvSpPr>
        <p:spPr>
          <a:xfrm rot="19132200">
            <a:off x="5724000" y="2276280"/>
            <a:ext cx="358920" cy="358560"/>
          </a:xfrm>
          <a:prstGeom prst="rightArrow">
            <a:avLst>
              <a:gd name="adj1" fmla="val 50000"/>
              <a:gd name="adj2" fmla="val 2502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0" y="43560"/>
            <a:ext cx="91440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Stauffer, C., Grimson, W., 1999. Adaptive background mixture models for real-time tracking. In: Proc. of the IEEE Int. Conf. on Computer Vision and Pattern Recognition, Ft. Collins, CO, USA. pp. 246-252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7000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7000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DF8C-3355-4599-9078-ED80B68DA262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isture di gaussiane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 ogni nuovo frame, alcune Gaussiane associate al pixel i-esimo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ono “matchare” il valore del pixel corrente, oss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 k indice di compon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o com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tching 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a componente a distanza minor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le gaussiana (e il rispettivo valore di pixel) viene classificata come BG o FG, mediante il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G test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gnoro l’indice i del pixe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indi                                             è il numero di comp che modellano il B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5"/>
              <p:cNvSpPr txBox="1"/>
              <p:nvPr/>
            </p:nvSpPr>
            <p:spPr>
              <a:xfrm>
                <a:off x="1908000" y="5262480"/>
                <a:ext cx="30956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6"/>
              <p:cNvSpPr txBox="1"/>
              <p:nvPr/>
            </p:nvSpPr>
            <p:spPr>
              <a:xfrm>
                <a:off x="3059280" y="4000680"/>
                <a:ext cx="259236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G</m:t>
                        </m:r>
                        <m:r>
                          <m:rPr>
                            <m:lit/>
                            <m:nor/>
                          </m:rPr>
                          <m:t xml:space="preserve">   if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atched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G</m:t>
                        </m:r>
                        <m:r>
                          <m:rPr>
                            <m:lit/>
                            <m:nor/>
                          </m:rPr>
                          <m:t xml:space="preserve">   otherwi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7"/>
              <p:cNvSpPr txBox="1"/>
              <p:nvPr/>
            </p:nvSpPr>
            <p:spPr>
              <a:xfrm>
                <a:off x="3049560" y="1887480"/>
                <a:ext cx="2484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  <m:r>
                      <m:t xml:space="preserve">&l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0F39-D6B9-4D5B-91B2-A9FBFF27192D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isture di gaussiane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a importante: le componenti Gaussiane sono ordinate in maniera decrescente s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nenti con peso maggiore (viste più volte) con varianza minore (più stabili e regolari nel tempo) si trovano nelle prime posizio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6"/>
              <p:cNvSpPr txBox="1"/>
              <p:nvPr/>
            </p:nvSpPr>
            <p:spPr>
              <a:xfrm>
                <a:off x="2700360" y="1471680"/>
                <a:ext cx="12412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6479-1AC3-4EFF-9D97-E08F97007355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isture di gaussiane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53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parametri vengono addestrati on-line – il training avviene interfogliato con la classificazio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pesi di tutte le componenti di tutti i pixel vengono aggiornati come seg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 un dato pixel, l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tching compon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umenta di peso, le altre diminuisco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5"/>
              <p:cNvSpPr txBox="1"/>
              <p:nvPr/>
            </p:nvSpPr>
            <p:spPr>
              <a:xfrm>
                <a:off x="2268360" y="3213000"/>
                <a:ext cx="4613400" cy="15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α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if k è </m:t>
                                  </m:r>
                                  <m:r>
                                    <m:t xml:space="preserve">matching</m:t>
                                  </m:r>
                                  <m:r>
                                    <m:t xml:space="preserve">comp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</m:t>
                                  </m:r>
                                  <m: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</m:t>
                                  </m:r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altrimenti                     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808F-B46E-4F0C-B315-67D52CD43D88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Introduzion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66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on Detection - operazione necessaria per la maggior parte delle applicazioni di sorveglianza, HCI avanzate, etc. che operano mediante movi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ce-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king (face-hand-gesture-bod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tte le applicazioni di cui sopra sono organizzate come architetture seri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è importante non introdurre errori nei primi stage dell’architettura, pena la loro propagazione amplificata nei successiv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po di ricerca attivo dal 1970, tuttora ferv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inonimi di motion detec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ottrazione del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Estrazione del fore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7380360" y="2308320"/>
            <a:ext cx="1584360" cy="433440"/>
          </a:xfrm>
          <a:prstGeom prst="rect">
            <a:avLst/>
          </a:prstGeom>
          <a:solidFill>
            <a:srgbClr val="c0c0c0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OTION 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380360" y="2955960"/>
            <a:ext cx="1584360" cy="433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ATURE 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7380360" y="3675240"/>
            <a:ext cx="1584360" cy="433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7667640" y="1484280"/>
            <a:ext cx="1008000" cy="50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AW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7667640" y="4397400"/>
            <a:ext cx="1008000" cy="50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AutoShape 15"/>
          <p:cNvCxnSpPr>
            <a:stCxn id="62" idx="4"/>
            <a:endCxn id="59" idx="0"/>
          </p:cNvCxnSpPr>
          <p:nvPr/>
        </p:nvCxnSpPr>
        <p:spPr>
          <a:xfrm>
            <a:off x="8172000" y="1987200"/>
            <a:ext cx="10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16"/>
          <p:cNvCxnSpPr>
            <a:stCxn id="59" idx="2"/>
            <a:endCxn id="60" idx="0"/>
          </p:cNvCxnSpPr>
          <p:nvPr/>
        </p:nvCxnSpPr>
        <p:spPr>
          <a:xfrm>
            <a:off x="8172000" y="2755800"/>
            <a:ext cx="108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AutoShape 17"/>
          <p:cNvCxnSpPr>
            <a:stCxn id="60" idx="2"/>
            <a:endCxn id="61" idx="0"/>
          </p:cNvCxnSpPr>
          <p:nvPr/>
        </p:nvCxnSpPr>
        <p:spPr>
          <a:xfrm>
            <a:off x="8172000" y="3389400"/>
            <a:ext cx="10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AutoShape 18"/>
          <p:cNvCxnSpPr>
            <a:stCxn id="61" idx="2"/>
            <a:endCxn id="63" idx="0"/>
          </p:cNvCxnSpPr>
          <p:nvPr/>
        </p:nvCxnSpPr>
        <p:spPr>
          <a:xfrm>
            <a:off x="8172000" y="41079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153A-D94A-4175-B5D0-5CA2A3641EAA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isture di gaussiane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353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parametri della matching component, 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vengono aggiornate mediante media mobile, con le seguenti eq. di rinnovo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per un dato pixel non ho componenti che matchano, inserisco una nuova componente c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4"/>
              <p:cNvSpPr txBox="1"/>
              <p:nvPr/>
            </p:nvSpPr>
            <p:spPr>
              <a:xfrm>
                <a:off x="2195640" y="2421000"/>
                <a:ext cx="6076800" cy="17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ρz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</m:e>
                        </m:d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Τ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α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6"/>
              <p:cNvSpPr txBox="1"/>
              <p:nvPr/>
            </p:nvSpPr>
            <p:spPr>
              <a:xfrm>
                <a:off x="2236680" y="5013360"/>
                <a:ext cx="24037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lore alt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6E2A-9AF6-439F-A089-182CCDA5D064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Considerazioni importanti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3360" y="1308240"/>
            <a:ext cx="8353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 parametr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è detto learning rat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upero veloce degli erro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 oggetto inizialmente mobile, poi statico, viene “assorbito” presto dal modello di B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sa di buchi in un oggetto mobile l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ta sensibilità verso oggetti len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ca adattività (difficoltà con cambi di illuminazion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5"/>
              <p:cNvSpPr txBox="1"/>
              <p:nvPr/>
            </p:nvSpPr>
            <p:spPr>
              <a:xfrm>
                <a:off x="3059280" y="1531800"/>
                <a:ext cx="3603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6"/>
              <p:cNvSpPr txBox="1"/>
              <p:nvPr/>
            </p:nvSpPr>
            <p:spPr>
              <a:xfrm>
                <a:off x="6877080" y="1413000"/>
                <a:ext cx="9316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7"/>
              <p:cNvSpPr txBox="1"/>
              <p:nvPr/>
            </p:nvSpPr>
            <p:spPr>
              <a:xfrm>
                <a:off x="1427040" y="1892160"/>
                <a:ext cx="3603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8"/>
              <p:cNvSpPr txBox="1"/>
              <p:nvPr/>
            </p:nvSpPr>
            <p:spPr>
              <a:xfrm>
                <a:off x="1403280" y="3965400"/>
                <a:ext cx="3603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B952-C710-411E-A347-B66C5D2F0D11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Considerazioni importanti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3534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numero di mode è definito una volta per tutte a priori (di solito da 3 a 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istono metodi di scelta on-line per le componenti [Zivkovic@ICPR04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e inizializzare le Gaussiane 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ik ,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i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539640" y="279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Risultati (diffici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SnowTAPPMOG.avi" descr=""/>
          <p:cNvPicPr/>
          <p:nvPr/>
        </p:nvPicPr>
        <p:blipFill>
          <a:blip r:embed="rId1"/>
          <a:stretch/>
        </p:blipFill>
        <p:spPr>
          <a:xfrm>
            <a:off x="1908000" y="3645000"/>
            <a:ext cx="1656000" cy="1301760"/>
          </a:xfrm>
          <a:prstGeom prst="rect">
            <a:avLst/>
          </a:prstGeom>
          <a:ln w="0">
            <a:noFill/>
          </a:ln>
        </p:spPr>
      </p:pic>
      <p:pic>
        <p:nvPicPr>
          <p:cNvPr id="288" name="Snow2.avi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1656000" cy="1282680"/>
          </a:xfrm>
          <a:prstGeom prst="rect">
            <a:avLst/>
          </a:prstGeom>
          <a:ln w="0">
            <a:noFill/>
          </a:ln>
        </p:spPr>
      </p:pic>
      <p:pic>
        <p:nvPicPr>
          <p:cNvPr id="289" name="SnowS-TAPPMOG.avi" descr=""/>
          <p:cNvPicPr/>
          <p:nvPr/>
        </p:nvPicPr>
        <p:blipFill>
          <a:blip r:embed="rId3"/>
          <a:stretch/>
        </p:blipFill>
        <p:spPr>
          <a:xfrm>
            <a:off x="1908000" y="5013360"/>
            <a:ext cx="1652760" cy="1299960"/>
          </a:xfrm>
          <a:prstGeom prst="rect">
            <a:avLst/>
          </a:prstGeom>
          <a:ln w="0">
            <a:noFill/>
          </a:ln>
        </p:spPr>
      </p:pic>
      <p:pic>
        <p:nvPicPr>
          <p:cNvPr id="290" name="Originale_Esperimento1.avi" descr=""/>
          <p:cNvPicPr/>
          <p:nvPr/>
        </p:nvPicPr>
        <p:blipFill>
          <a:blip r:embed="rId4"/>
          <a:stretch/>
        </p:blipFill>
        <p:spPr>
          <a:xfrm>
            <a:off x="4500720" y="4076640"/>
            <a:ext cx="1942920" cy="1590840"/>
          </a:xfrm>
          <a:prstGeom prst="rect">
            <a:avLst/>
          </a:prstGeom>
          <a:ln w="0">
            <a:noFill/>
          </a:ln>
        </p:spPr>
      </p:pic>
      <p:pic>
        <p:nvPicPr>
          <p:cNvPr id="291" name="SG_Esperimento1.avi" descr=""/>
          <p:cNvPicPr/>
          <p:nvPr/>
        </p:nvPicPr>
        <p:blipFill>
          <a:blip r:embed="rId5"/>
          <a:stretch/>
        </p:blipFill>
        <p:spPr>
          <a:xfrm>
            <a:off x="6516720" y="4076640"/>
            <a:ext cx="1944720" cy="1579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2" name="Object 14"/>
              <p:cNvSpPr txBox="1"/>
              <p:nvPr/>
            </p:nvSpPr>
            <p:spPr>
              <a:xfrm>
                <a:off x="5292720" y="5805360"/>
                <a:ext cx="25527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roppo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bass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Text Box 15"/>
          <p:cNvSpPr/>
          <p:nvPr/>
        </p:nvSpPr>
        <p:spPr>
          <a:xfrm>
            <a:off x="324000" y="530064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umor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9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37F6-ABA3-400A-90FA-32612D266274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Stimatori non parametrici di BG (stimatori kernel, [Elgammal, Harwood, Davis, 99])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9280" y="2997360"/>
            <a:ext cx="5977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distribuzione sui valori di BG per un pixel è data dall’istogramma degli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ori di pixel più recen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gni valore della pd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ene valutato puntualmente (stima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arzen Window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ene filtrato con una funzione particolare 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kerne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in modo che la pdf risultante sia smoo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3070800" y="1825560"/>
            <a:ext cx="2572920" cy="1570680"/>
            <a:chOff x="3070800" y="1825560"/>
            <a:chExt cx="2572920" cy="1570680"/>
          </a:xfrm>
        </p:grpSpPr>
        <p:sp>
          <p:nvSpPr>
            <p:cNvPr id="298" name="AutoShape 5"/>
            <p:cNvSpPr/>
            <p:nvPr/>
          </p:nvSpPr>
          <p:spPr>
            <a:xfrm flipV="1" rot="20758800">
              <a:off x="3158280" y="2100240"/>
              <a:ext cx="2397240" cy="1020240"/>
            </a:xfrm>
            <a:prstGeom prst="parallelogram">
              <a:avLst>
                <a:gd name="adj" fmla="val 5956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6"/>
            <p:cNvSpPr/>
            <p:nvPr/>
          </p:nvSpPr>
          <p:spPr>
            <a:xfrm rot="20934600">
              <a:off x="3654720" y="25020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7"/>
            <p:cNvSpPr/>
            <p:nvPr/>
          </p:nvSpPr>
          <p:spPr>
            <a:xfrm rot="20934600">
              <a:off x="3736080" y="25358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8"/>
            <p:cNvSpPr/>
            <p:nvPr/>
          </p:nvSpPr>
          <p:spPr>
            <a:xfrm rot="20934600">
              <a:off x="3861720" y="25020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9"/>
            <p:cNvSpPr/>
            <p:nvPr/>
          </p:nvSpPr>
          <p:spPr>
            <a:xfrm rot="20934600">
              <a:off x="3699000" y="243396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0"/>
            <p:cNvSpPr/>
            <p:nvPr/>
          </p:nvSpPr>
          <p:spPr>
            <a:xfrm rot="20934600">
              <a:off x="3810240" y="24001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1"/>
            <p:cNvSpPr/>
            <p:nvPr/>
          </p:nvSpPr>
          <p:spPr>
            <a:xfrm rot="20934600">
              <a:off x="3898800" y="24408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2"/>
            <p:cNvSpPr/>
            <p:nvPr/>
          </p:nvSpPr>
          <p:spPr>
            <a:xfrm rot="20934600">
              <a:off x="3780360" y="24678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3"/>
            <p:cNvSpPr/>
            <p:nvPr/>
          </p:nvSpPr>
          <p:spPr>
            <a:xfrm rot="20934600">
              <a:off x="3612960" y="26168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4"/>
            <p:cNvSpPr/>
            <p:nvPr/>
          </p:nvSpPr>
          <p:spPr>
            <a:xfrm rot="20934600">
              <a:off x="3506400" y="25351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5"/>
            <p:cNvSpPr/>
            <p:nvPr/>
          </p:nvSpPr>
          <p:spPr>
            <a:xfrm rot="20934600">
              <a:off x="3513960" y="24271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 rot="20934600">
              <a:off x="3635280" y="23526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7"/>
            <p:cNvSpPr/>
            <p:nvPr/>
          </p:nvSpPr>
          <p:spPr>
            <a:xfrm rot="20934600">
              <a:off x="3317040" y="24271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8"/>
            <p:cNvSpPr/>
            <p:nvPr/>
          </p:nvSpPr>
          <p:spPr>
            <a:xfrm rot="20934600">
              <a:off x="3114720" y="237276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9"/>
            <p:cNvSpPr/>
            <p:nvPr/>
          </p:nvSpPr>
          <p:spPr>
            <a:xfrm rot="20934600">
              <a:off x="3425040" y="23047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0"/>
            <p:cNvSpPr/>
            <p:nvPr/>
          </p:nvSpPr>
          <p:spPr>
            <a:xfrm rot="20934600">
              <a:off x="3768480" y="22302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1"/>
            <p:cNvSpPr/>
            <p:nvPr/>
          </p:nvSpPr>
          <p:spPr>
            <a:xfrm rot="20934600">
              <a:off x="3494520" y="274608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2"/>
            <p:cNvSpPr/>
            <p:nvPr/>
          </p:nvSpPr>
          <p:spPr>
            <a:xfrm rot="20934600">
              <a:off x="3716640" y="29574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3"/>
            <p:cNvSpPr/>
            <p:nvPr/>
          </p:nvSpPr>
          <p:spPr>
            <a:xfrm rot="20934600">
              <a:off x="3716640" y="29502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4"/>
            <p:cNvSpPr/>
            <p:nvPr/>
          </p:nvSpPr>
          <p:spPr>
            <a:xfrm rot="20934600">
              <a:off x="4249440" y="30726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5"/>
            <p:cNvSpPr/>
            <p:nvPr/>
          </p:nvSpPr>
          <p:spPr>
            <a:xfrm rot="20934600">
              <a:off x="4091040" y="28350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6"/>
            <p:cNvSpPr/>
            <p:nvPr/>
          </p:nvSpPr>
          <p:spPr>
            <a:xfrm rot="20934600">
              <a:off x="4271400" y="25088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7"/>
            <p:cNvSpPr/>
            <p:nvPr/>
          </p:nvSpPr>
          <p:spPr>
            <a:xfrm rot="20934600">
              <a:off x="4389840" y="242028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28"/>
            <p:cNvSpPr/>
            <p:nvPr/>
          </p:nvSpPr>
          <p:spPr>
            <a:xfrm rot="20934600">
              <a:off x="4434120" y="25088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9"/>
            <p:cNvSpPr/>
            <p:nvPr/>
          </p:nvSpPr>
          <p:spPr>
            <a:xfrm rot="20934600">
              <a:off x="4365000" y="25902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0"/>
            <p:cNvSpPr/>
            <p:nvPr/>
          </p:nvSpPr>
          <p:spPr>
            <a:xfrm rot="20934600">
              <a:off x="4611960" y="25088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1"/>
            <p:cNvSpPr/>
            <p:nvPr/>
          </p:nvSpPr>
          <p:spPr>
            <a:xfrm rot="20934600">
              <a:off x="4530600" y="260388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2"/>
            <p:cNvSpPr/>
            <p:nvPr/>
          </p:nvSpPr>
          <p:spPr>
            <a:xfrm rot="20934600">
              <a:off x="4567320" y="24271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3"/>
            <p:cNvSpPr/>
            <p:nvPr/>
          </p:nvSpPr>
          <p:spPr>
            <a:xfrm rot="20934600">
              <a:off x="3306960" y="25830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4"/>
            <p:cNvSpPr/>
            <p:nvPr/>
          </p:nvSpPr>
          <p:spPr>
            <a:xfrm rot="20934600">
              <a:off x="4086360" y="24271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5"/>
            <p:cNvSpPr/>
            <p:nvPr/>
          </p:nvSpPr>
          <p:spPr>
            <a:xfrm rot="20934600">
              <a:off x="4071960" y="254268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6"/>
            <p:cNvSpPr/>
            <p:nvPr/>
          </p:nvSpPr>
          <p:spPr>
            <a:xfrm rot="20934600">
              <a:off x="4579560" y="22230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37"/>
            <p:cNvSpPr/>
            <p:nvPr/>
          </p:nvSpPr>
          <p:spPr>
            <a:xfrm rot="20934600">
              <a:off x="3913560" y="23047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38"/>
            <p:cNvSpPr/>
            <p:nvPr/>
          </p:nvSpPr>
          <p:spPr>
            <a:xfrm rot="20934600">
              <a:off x="3869280" y="266436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39"/>
            <p:cNvSpPr/>
            <p:nvPr/>
          </p:nvSpPr>
          <p:spPr>
            <a:xfrm rot="20934600">
              <a:off x="4241880" y="26982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40"/>
            <p:cNvSpPr/>
            <p:nvPr/>
          </p:nvSpPr>
          <p:spPr>
            <a:xfrm rot="20934600">
              <a:off x="4535280" y="27536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41"/>
            <p:cNvSpPr/>
            <p:nvPr/>
          </p:nvSpPr>
          <p:spPr>
            <a:xfrm rot="20934600">
              <a:off x="5004000" y="28278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42"/>
            <p:cNvSpPr/>
            <p:nvPr/>
          </p:nvSpPr>
          <p:spPr>
            <a:xfrm rot="20934600">
              <a:off x="5403600" y="27943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3"/>
            <p:cNvSpPr/>
            <p:nvPr/>
          </p:nvSpPr>
          <p:spPr>
            <a:xfrm rot="20934600">
              <a:off x="5181480" y="25088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44"/>
            <p:cNvSpPr/>
            <p:nvPr/>
          </p:nvSpPr>
          <p:spPr>
            <a:xfrm rot="20934600">
              <a:off x="4890240" y="23454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45"/>
            <p:cNvSpPr/>
            <p:nvPr/>
          </p:nvSpPr>
          <p:spPr>
            <a:xfrm rot="20934600">
              <a:off x="4402080" y="21006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46"/>
            <p:cNvSpPr/>
            <p:nvPr/>
          </p:nvSpPr>
          <p:spPr>
            <a:xfrm rot="20934600">
              <a:off x="4801680" y="26312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47"/>
            <p:cNvSpPr/>
            <p:nvPr/>
          </p:nvSpPr>
          <p:spPr>
            <a:xfrm rot="20934600">
              <a:off x="4224240" y="22640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48"/>
            <p:cNvSpPr/>
            <p:nvPr/>
          </p:nvSpPr>
          <p:spPr>
            <a:xfrm rot="20934600">
              <a:off x="4757040" y="206028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49"/>
            <p:cNvSpPr/>
            <p:nvPr/>
          </p:nvSpPr>
          <p:spPr>
            <a:xfrm rot="20934600">
              <a:off x="4648680" y="29502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3" name="Picture 50" descr="Just-a-PDF"/>
          <p:cNvPicPr/>
          <p:nvPr/>
        </p:nvPicPr>
        <p:blipFill>
          <a:blip r:embed="rId1"/>
          <a:stretch/>
        </p:blipFill>
        <p:spPr>
          <a:xfrm>
            <a:off x="539640" y="1406520"/>
            <a:ext cx="2397240" cy="1776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51"/>
          <p:cNvSpPr/>
          <p:nvPr/>
        </p:nvSpPr>
        <p:spPr>
          <a:xfrm>
            <a:off x="893160" y="3416400"/>
            <a:ext cx="166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nsità soggiac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2"/>
          <p:cNvSpPr/>
          <p:nvPr/>
        </p:nvSpPr>
        <p:spPr>
          <a:xfrm>
            <a:off x="3685320" y="341460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pioni re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53"/>
          <p:cNvSpPr/>
          <p:nvPr/>
        </p:nvSpPr>
        <p:spPr>
          <a:xfrm rot="20861400">
            <a:off x="3630240" y="2385720"/>
            <a:ext cx="399960" cy="21096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4"/>
          <p:cNvSpPr/>
          <p:nvPr/>
        </p:nvSpPr>
        <p:spPr>
          <a:xfrm flipH="1" flipV="1">
            <a:off x="1604520" y="2060640"/>
            <a:ext cx="2086200" cy="366480"/>
          </a:xfrm>
          <a:prstGeom prst="line">
            <a:avLst/>
          </a:prstGeom>
          <a:ln w="284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55"/>
          <p:cNvSpPr/>
          <p:nvPr/>
        </p:nvSpPr>
        <p:spPr>
          <a:xfrm>
            <a:off x="1916280" y="2386080"/>
            <a:ext cx="2396880" cy="368280"/>
          </a:xfrm>
          <a:custGeom>
            <a:avLst/>
            <a:gdLst/>
            <a:ahLst/>
            <a:rect l="l" t="t" r="r" b="b"/>
            <a:pathLst>
              <a:path w="2448" h="384">
                <a:moveTo>
                  <a:pt x="2448" y="240"/>
                </a:moveTo>
                <a:cubicBezTo>
                  <a:pt x="2304" y="276"/>
                  <a:pt x="2160" y="312"/>
                  <a:pt x="1968" y="336"/>
                </a:cubicBezTo>
                <a:cubicBezTo>
                  <a:pt x="1776" y="360"/>
                  <a:pt x="1504" y="384"/>
                  <a:pt x="1296" y="384"/>
                </a:cubicBezTo>
                <a:cubicBezTo>
                  <a:pt x="1088" y="384"/>
                  <a:pt x="872" y="360"/>
                  <a:pt x="720" y="336"/>
                </a:cubicBezTo>
                <a:cubicBezTo>
                  <a:pt x="568" y="312"/>
                  <a:pt x="504" y="296"/>
                  <a:pt x="384" y="240"/>
                </a:cubicBezTo>
                <a:cubicBezTo>
                  <a:pt x="264" y="184"/>
                  <a:pt x="132" y="92"/>
                  <a:pt x="0" y="0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56"/>
          <p:cNvSpPr/>
          <p:nvPr/>
        </p:nvSpPr>
        <p:spPr>
          <a:xfrm rot="20861400">
            <a:off x="3913200" y="2835000"/>
            <a:ext cx="399960" cy="21276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7"/>
          <p:cNvSpPr/>
          <p:nvPr/>
        </p:nvSpPr>
        <p:spPr>
          <a:xfrm flipH="1" flipV="1">
            <a:off x="1560240" y="2835000"/>
            <a:ext cx="2352600" cy="122040"/>
          </a:xfrm>
          <a:prstGeom prst="line">
            <a:avLst/>
          </a:prstGeom>
          <a:ln w="284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8"/>
          <p:cNvSpPr/>
          <p:nvPr/>
        </p:nvSpPr>
        <p:spPr>
          <a:xfrm>
            <a:off x="3035160" y="1446120"/>
            <a:ext cx="1332000" cy="5302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sità di pun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cano alti valor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 densit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59"/>
          <p:cNvSpPr/>
          <p:nvPr/>
        </p:nvSpPr>
        <p:spPr>
          <a:xfrm rot="20861400">
            <a:off x="4268880" y="2426760"/>
            <a:ext cx="399960" cy="21276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60"/>
          <p:cNvSpPr/>
          <p:nvPr/>
        </p:nvSpPr>
        <p:spPr>
          <a:xfrm rot="20175600">
            <a:off x="5360760" y="965160"/>
            <a:ext cx="576000" cy="2735280"/>
          </a:xfrm>
          <a:custGeom>
            <a:avLst/>
            <a:gdLst>
              <a:gd name="textAreaLeft" fmla="*/ 0 w 576000"/>
              <a:gd name="textAreaRight" fmla="*/ 208080 w 576000"/>
              <a:gd name="textAreaTop" fmla="*/ 71280 h 2735280"/>
              <a:gd name="textAreaBottom" fmla="*/ 266400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1"/>
          <p:cNvSpPr/>
          <p:nvPr/>
        </p:nvSpPr>
        <p:spPr>
          <a:xfrm>
            <a:off x="5509800" y="162864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RZ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5" descr="digitale11"/>
          <p:cNvPicPr/>
          <p:nvPr/>
        </p:nvPicPr>
        <p:blipFill>
          <a:blip r:embed="rId2"/>
          <a:stretch/>
        </p:blipFill>
        <p:spPr>
          <a:xfrm>
            <a:off x="6875640" y="4581360"/>
            <a:ext cx="2060280" cy="1546560"/>
          </a:xfrm>
          <a:prstGeom prst="rect">
            <a:avLst/>
          </a:prstGeom>
          <a:ln w="0">
            <a:noFill/>
          </a:ln>
        </p:spPr>
      </p:pic>
      <p:sp>
        <p:nvSpPr>
          <p:cNvPr id="356" name="AutoShape 67"/>
          <p:cNvSpPr/>
          <p:nvPr/>
        </p:nvSpPr>
        <p:spPr>
          <a:xfrm>
            <a:off x="7596360" y="2924280"/>
            <a:ext cx="569880" cy="538200"/>
          </a:xfrm>
          <a:prstGeom prst="cube">
            <a:avLst>
              <a:gd name="adj" fmla="val 96324"/>
            </a:avLst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000" bIns="-27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58"/>
          <p:cNvSpPr/>
          <p:nvPr/>
        </p:nvSpPr>
        <p:spPr>
          <a:xfrm>
            <a:off x="7596360" y="1484280"/>
            <a:ext cx="1223640" cy="1014480"/>
          </a:xfrm>
          <a:prstGeom prst="cube">
            <a:avLst>
              <a:gd name="adj" fmla="val 61027"/>
            </a:avLst>
          </a:prstGeom>
          <a:solidFill>
            <a:srgbClr val="000000"/>
          </a:solidFill>
          <a:ln w="349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22" descr="BiceAV1BG"/>
          <p:cNvPicPr/>
          <p:nvPr/>
        </p:nvPicPr>
        <p:blipFill>
          <a:blip r:embed="rId3"/>
          <a:stretch/>
        </p:blipFill>
        <p:spPr>
          <a:xfrm>
            <a:off x="7596360" y="2104920"/>
            <a:ext cx="588960" cy="385920"/>
          </a:xfrm>
          <a:prstGeom prst="rect">
            <a:avLst/>
          </a:prstGeom>
          <a:ln w="0">
            <a:noFill/>
          </a:ln>
        </p:spPr>
      </p:pic>
      <p:sp>
        <p:nvSpPr>
          <p:cNvPr id="359" name="Line 223"/>
          <p:cNvSpPr/>
          <p:nvPr/>
        </p:nvSpPr>
        <p:spPr>
          <a:xfrm>
            <a:off x="7812000" y="2565360"/>
            <a:ext cx="0" cy="358920"/>
          </a:xfrm>
          <a:prstGeom prst="line">
            <a:avLst/>
          </a:prstGeom>
          <a:ln w="76320">
            <a:solidFill>
              <a:srgbClr val="ffcc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24"/>
          <p:cNvSpPr/>
          <p:nvPr/>
        </p:nvSpPr>
        <p:spPr>
          <a:xfrm>
            <a:off x="7812000" y="2421000"/>
            <a:ext cx="36720" cy="3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5"/>
          <p:cNvSpPr/>
          <p:nvPr/>
        </p:nvSpPr>
        <p:spPr>
          <a:xfrm>
            <a:off x="6929640" y="57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26"/>
          <p:cNvSpPr/>
          <p:nvPr/>
        </p:nvSpPr>
        <p:spPr>
          <a:xfrm>
            <a:off x="8319240" y="5770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27"/>
          <p:cNvSpPr/>
          <p:nvPr/>
        </p:nvSpPr>
        <p:spPr>
          <a:xfrm>
            <a:off x="6444000" y="46530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228"/>
          <p:cNvSpPr/>
          <p:nvPr/>
        </p:nvSpPr>
        <p:spPr>
          <a:xfrm>
            <a:off x="7812000" y="2997360"/>
            <a:ext cx="289080" cy="2087280"/>
          </a:xfrm>
          <a:custGeom>
            <a:avLst/>
            <a:gdLst/>
            <a:ahLst/>
            <a:rect l="l" t="t" r="r" b="b"/>
            <a:pathLst>
              <a:path w="182" h="1270">
                <a:moveTo>
                  <a:pt x="182" y="0"/>
                </a:moveTo>
                <a:cubicBezTo>
                  <a:pt x="182" y="0"/>
                  <a:pt x="91" y="635"/>
                  <a:pt x="0" y="12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229"/>
          <p:cNvSpPr/>
          <p:nvPr/>
        </p:nvSpPr>
        <p:spPr>
          <a:xfrm>
            <a:off x="7812000" y="3141720"/>
            <a:ext cx="144720" cy="1942920"/>
          </a:xfrm>
          <a:custGeom>
            <a:avLst/>
            <a:gdLst/>
            <a:ahLst/>
            <a:rect l="l" t="t" r="r" b="b"/>
            <a:pathLst>
              <a:path w="182" h="1270">
                <a:moveTo>
                  <a:pt x="182" y="0"/>
                </a:moveTo>
                <a:cubicBezTo>
                  <a:pt x="182" y="0"/>
                  <a:pt x="91" y="635"/>
                  <a:pt x="0" y="12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30"/>
          <p:cNvSpPr/>
          <p:nvPr/>
        </p:nvSpPr>
        <p:spPr>
          <a:xfrm flipH="1">
            <a:off x="7740720" y="3284640"/>
            <a:ext cx="71280" cy="1800000"/>
          </a:xfrm>
          <a:custGeom>
            <a:avLst/>
            <a:gdLst/>
            <a:ahLst/>
            <a:rect l="l" t="t" r="r" b="b"/>
            <a:pathLst>
              <a:path w="182" h="1270">
                <a:moveTo>
                  <a:pt x="182" y="0"/>
                </a:moveTo>
                <a:cubicBezTo>
                  <a:pt x="182" y="0"/>
                  <a:pt x="91" y="635"/>
                  <a:pt x="0" y="12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231"/>
          <p:cNvSpPr/>
          <p:nvPr/>
        </p:nvSpPr>
        <p:spPr>
          <a:xfrm>
            <a:off x="7093080" y="5049720"/>
            <a:ext cx="1511280" cy="792360"/>
          </a:xfrm>
          <a:custGeom>
            <a:avLst/>
            <a:gdLst/>
            <a:ahLst/>
            <a:rect l="l" t="t" r="r" b="b"/>
            <a:pathLst>
              <a:path w="952" h="499">
                <a:moveTo>
                  <a:pt x="952" y="476"/>
                </a:moveTo>
                <a:cubicBezTo>
                  <a:pt x="952" y="479"/>
                  <a:pt x="952" y="483"/>
                  <a:pt x="907" y="476"/>
                </a:cubicBezTo>
                <a:cubicBezTo>
                  <a:pt x="862" y="469"/>
                  <a:pt x="748" y="499"/>
                  <a:pt x="680" y="431"/>
                </a:cubicBezTo>
                <a:cubicBezTo>
                  <a:pt x="612" y="363"/>
                  <a:pt x="536" y="136"/>
                  <a:pt x="498" y="68"/>
                </a:cubicBezTo>
                <a:cubicBezTo>
                  <a:pt x="460" y="0"/>
                  <a:pt x="468" y="22"/>
                  <a:pt x="453" y="22"/>
                </a:cubicBezTo>
                <a:cubicBezTo>
                  <a:pt x="438" y="22"/>
                  <a:pt x="461" y="0"/>
                  <a:pt x="408" y="68"/>
                </a:cubicBezTo>
                <a:cubicBezTo>
                  <a:pt x="355" y="136"/>
                  <a:pt x="204" y="363"/>
                  <a:pt x="136" y="431"/>
                </a:cubicBezTo>
                <a:cubicBezTo>
                  <a:pt x="68" y="499"/>
                  <a:pt x="34" y="487"/>
                  <a:pt x="0" y="476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32"/>
          <p:cNvSpPr/>
          <p:nvPr/>
        </p:nvSpPr>
        <p:spPr>
          <a:xfrm>
            <a:off x="8605800" y="2349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33"/>
          <p:cNvSpPr/>
          <p:nvPr/>
        </p:nvSpPr>
        <p:spPr>
          <a:xfrm flipV="1">
            <a:off x="8317080" y="2060280"/>
            <a:ext cx="64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235"/>
          <p:cNvSpPr/>
          <p:nvPr/>
        </p:nvSpPr>
        <p:spPr>
          <a:xfrm>
            <a:off x="7667640" y="5013360"/>
            <a:ext cx="287280" cy="431640"/>
          </a:xfrm>
          <a:custGeom>
            <a:avLst/>
            <a:gdLst>
              <a:gd name="textAreaLeft" fmla="*/ 0 w 287280"/>
              <a:gd name="textAreaRight" fmla="*/ 287640 w 287280"/>
              <a:gd name="textAreaTop" fmla="*/ 0 h 431640"/>
              <a:gd name="textAreaBottom" fmla="*/ 154080 h 431640"/>
            </a:gdLst>
            <a:ahLst/>
            <a:rect l="textAreaLeft" t="textAreaTop" r="textAreaRight" b="textAreaBottom"/>
            <a:pathLst>
              <a:path w="21600" h="21600">
                <a:moveTo>
                  <a:pt x="1012" y="10800"/>
                </a:moveTo>
                <a:cubicBezTo>
                  <a:pt x="1012" y="5394"/>
                  <a:pt x="5394" y="1012"/>
                  <a:pt x="10800" y="1012"/>
                </a:cubicBezTo>
                <a:cubicBezTo>
                  <a:pt x="16205" y="1011"/>
                  <a:pt x="20587" y="5394"/>
                  <a:pt x="20588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012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36"/>
          <p:cNvSpPr/>
          <p:nvPr/>
        </p:nvSpPr>
        <p:spPr>
          <a:xfrm>
            <a:off x="108000" y="44280"/>
            <a:ext cx="907236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. Elgammal, D. Harwood, L. S. Davis,  “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Non-parametric Model for Background Subtraction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” IEEE ICCV99 Frame Rate Workshop. IEEE 7th International Conference on Computer Vision. Kerkyra, Greece, September 1999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0209-0306-4BEB-A3A7-5270984017CE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Stimatori non parametrici di BG (stimatori kernel, [Elgammal, Harwood, Davis, 2000])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 funzione ker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p(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&gt; Th, il pixel z è classificato come B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esto perchè il valore del pixel nel tempo non è cambiato “di molto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stisce multimodalità, e selettiv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a: i requisiti di memoria sono pesanti, ossia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 * size(frame))*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l tempo di calcolo della probabil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5"/>
              <p:cNvSpPr txBox="1"/>
              <p:nvPr/>
            </p:nvSpPr>
            <p:spPr>
              <a:xfrm>
                <a:off x="2360520" y="1700280"/>
                <a:ext cx="391968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A180-476A-41C4-9063-4E56D1C03FF9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Limiti degli approcci per-pixel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nchma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 di sequenze, ognuna delle quali contiene un problema tip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allflower sequen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" name="bootstrapshort.avi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380" name="comouflageshort.avi" descr=""/>
          <p:cNvPicPr/>
          <p:nvPr/>
        </p:nvPicPr>
        <p:blipFill>
          <a:blip r:embed="rId2"/>
          <a:stretch/>
        </p:blipFill>
        <p:spPr>
          <a:xfrm>
            <a:off x="3132000" y="250020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381" name="fgapertureshort.avi" descr=""/>
          <p:cNvPicPr/>
          <p:nvPr/>
        </p:nvPicPr>
        <p:blipFill>
          <a:blip r:embed="rId3"/>
          <a:stretch/>
        </p:blipFill>
        <p:spPr>
          <a:xfrm>
            <a:off x="5148360" y="24922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382" name="lightswitchshort.avi" descr=""/>
          <p:cNvPicPr/>
          <p:nvPr/>
        </p:nvPicPr>
        <p:blipFill>
          <a:blip r:embed="rId4"/>
          <a:stretch/>
        </p:blipFill>
        <p:spPr>
          <a:xfrm>
            <a:off x="7319880" y="24922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383" name="movedshort.avi" descr=""/>
          <p:cNvPicPr/>
          <p:nvPr/>
        </p:nvPicPr>
        <p:blipFill>
          <a:blip r:embed="rId5"/>
          <a:stretch/>
        </p:blipFill>
        <p:spPr>
          <a:xfrm>
            <a:off x="3144960" y="39322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384" name="todshort.avi" descr=""/>
          <p:cNvPicPr/>
          <p:nvPr/>
        </p:nvPicPr>
        <p:blipFill>
          <a:blip r:embed="rId6"/>
          <a:stretch/>
        </p:blipFill>
        <p:spPr>
          <a:xfrm>
            <a:off x="911160" y="39322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385" name="wavingshort.avi" descr=""/>
          <p:cNvPicPr/>
          <p:nvPr/>
        </p:nvPicPr>
        <p:blipFill>
          <a:blip r:embed="rId7"/>
          <a:stretch/>
        </p:blipFill>
        <p:spPr>
          <a:xfrm>
            <a:off x="5160960" y="393228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9"/>
          <p:cNvSpPr/>
          <p:nvPr/>
        </p:nvSpPr>
        <p:spPr>
          <a:xfrm>
            <a:off x="1198440" y="357192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bootstr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0"/>
          <p:cNvSpPr/>
          <p:nvPr/>
        </p:nvSpPr>
        <p:spPr>
          <a:xfrm>
            <a:off x="1198080" y="499572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time of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1"/>
          <p:cNvSpPr/>
          <p:nvPr/>
        </p:nvSpPr>
        <p:spPr>
          <a:xfrm>
            <a:off x="3431160" y="357192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camouf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2"/>
          <p:cNvSpPr/>
          <p:nvPr/>
        </p:nvSpPr>
        <p:spPr>
          <a:xfrm>
            <a:off x="5375160" y="357192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fore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3"/>
          <p:cNvSpPr/>
          <p:nvPr/>
        </p:nvSpPr>
        <p:spPr>
          <a:xfrm>
            <a:off x="7521840" y="357192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light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4"/>
          <p:cNvSpPr/>
          <p:nvPr/>
        </p:nvSpPr>
        <p:spPr>
          <a:xfrm>
            <a:off x="3285360" y="501336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moved o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5"/>
          <p:cNvSpPr/>
          <p:nvPr/>
        </p:nvSpPr>
        <p:spPr>
          <a:xfrm>
            <a:off x="5302440" y="501336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waving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6"/>
          <p:cNvSpPr/>
          <p:nvPr/>
        </p:nvSpPr>
        <p:spPr>
          <a:xfrm>
            <a:off x="0" y="5488920"/>
            <a:ext cx="95299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Kentaro Toyama, John Krumm, Barry Brumitt, Brian Meyers, "Wallflower: Principles and Practice of Background Maintenance", </a:t>
            </a:r>
            <a:r>
              <a:rPr b="1" i="1" lang="it-IT" sz="1000" spc="-1" strike="noStrike">
                <a:solidFill>
                  <a:srgbClr val="000000"/>
                </a:solidFill>
                <a:latin typeface="Arial"/>
              </a:rPr>
              <a:t>Seventh International Conference on Computer Vision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, September 1999, Kerkyra, Greece, pp. 255-261, IEEE Computer Society Press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" dur="1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5" dur="1" fill="hold"/>
                                        <p:tgtEl>
                                          <p:spTgt spid="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" dur="1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5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5" dur="1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E8C8-B8F1-46CD-AE2F-6F93A34D3ABC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6760800" y="468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bootstr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1634400" y="-1260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time of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5415480" y="-468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camouf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7846560" y="731880"/>
            <a:ext cx="10936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foregrou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aper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5"/>
          <p:cNvSpPr/>
          <p:nvPr/>
        </p:nvSpPr>
        <p:spPr>
          <a:xfrm>
            <a:off x="2914920" y="-324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light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307080" y="-1260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moved o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7"/>
          <p:cNvSpPr/>
          <p:nvPr/>
        </p:nvSpPr>
        <p:spPr>
          <a:xfrm>
            <a:off x="4138920" y="-468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waving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9" descr=""/>
          <p:cNvPicPr/>
          <p:nvPr/>
        </p:nvPicPr>
        <p:blipFill>
          <a:blip r:embed="rId1"/>
          <a:stretch/>
        </p:blipFill>
        <p:spPr>
          <a:xfrm>
            <a:off x="324000" y="228600"/>
            <a:ext cx="8748720" cy="880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0" descr=""/>
          <p:cNvPicPr/>
          <p:nvPr/>
        </p:nvPicPr>
        <p:blipFill>
          <a:blip r:embed="rId2"/>
          <a:stretch/>
        </p:blipFill>
        <p:spPr>
          <a:xfrm>
            <a:off x="316080" y="1116000"/>
            <a:ext cx="8748720" cy="8809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21"/>
          <p:cNvSpPr/>
          <p:nvPr/>
        </p:nvSpPr>
        <p:spPr>
          <a:xfrm rot="16200000">
            <a:off x="-73080" y="128556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Arial"/>
              </a:rPr>
              <a:t>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4" descr=""/>
          <p:cNvPicPr/>
          <p:nvPr/>
        </p:nvPicPr>
        <p:blipFill>
          <a:blip r:embed="rId3"/>
          <a:stretch/>
        </p:blipFill>
        <p:spPr>
          <a:xfrm>
            <a:off x="312840" y="1989000"/>
            <a:ext cx="8748720" cy="906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5" descr=""/>
          <p:cNvPicPr/>
          <p:nvPr/>
        </p:nvPicPr>
        <p:blipFill>
          <a:blip r:embed="rId4"/>
          <a:stretch/>
        </p:blipFill>
        <p:spPr>
          <a:xfrm>
            <a:off x="324000" y="3117960"/>
            <a:ext cx="8748720" cy="877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6" descr=""/>
          <p:cNvPicPr/>
          <p:nvPr/>
        </p:nvPicPr>
        <p:blipFill>
          <a:blip r:embed="rId5"/>
          <a:stretch/>
        </p:blipFill>
        <p:spPr>
          <a:xfrm>
            <a:off x="328680" y="4233960"/>
            <a:ext cx="8748720" cy="900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7" descr=""/>
          <p:cNvPicPr/>
          <p:nvPr/>
        </p:nvPicPr>
        <p:blipFill>
          <a:blip r:embed="rId6"/>
          <a:stretch/>
        </p:blipFill>
        <p:spPr>
          <a:xfrm>
            <a:off x="324000" y="5308560"/>
            <a:ext cx="8748720" cy="88128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30"/>
          <p:cNvSpPr/>
          <p:nvPr/>
        </p:nvSpPr>
        <p:spPr>
          <a:xfrm>
            <a:off x="1819080" y="2813040"/>
            <a:ext cx="23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Differenza consecu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1"/>
          <p:cNvSpPr/>
          <p:nvPr/>
        </p:nvSpPr>
        <p:spPr>
          <a:xfrm>
            <a:off x="1767960" y="3924360"/>
            <a:ext cx="157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Media + sog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2"/>
          <p:cNvSpPr/>
          <p:nvPr/>
        </p:nvSpPr>
        <p:spPr>
          <a:xfrm>
            <a:off x="1909080" y="5029200"/>
            <a:ext cx="129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Media + s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3"/>
          <p:cNvSpPr/>
          <p:nvPr/>
        </p:nvSpPr>
        <p:spPr>
          <a:xfrm>
            <a:off x="1911240" y="611676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TAPPM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34"/>
          <p:cNvSpPr/>
          <p:nvPr/>
        </p:nvSpPr>
        <p:spPr>
          <a:xfrm rot="2485200">
            <a:off x="3058920" y="6237000"/>
            <a:ext cx="288720" cy="142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5"/>
          <p:cNvSpPr/>
          <p:nvPr/>
        </p:nvSpPr>
        <p:spPr>
          <a:xfrm rot="2485200">
            <a:off x="3130200" y="5157360"/>
            <a:ext cx="289080" cy="142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6"/>
          <p:cNvSpPr/>
          <p:nvPr/>
        </p:nvSpPr>
        <p:spPr>
          <a:xfrm rot="2485200">
            <a:off x="3201480" y="4006440"/>
            <a:ext cx="289080" cy="142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37"/>
          <p:cNvSpPr/>
          <p:nvPr/>
        </p:nvSpPr>
        <p:spPr>
          <a:xfrm rot="2485200">
            <a:off x="4138200" y="2925360"/>
            <a:ext cx="289080" cy="142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F829-EE00-4C7E-A926-2B66D79D9AAD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Approcci per region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9640" y="1555560"/>
            <a:ext cx="66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atch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 pixel sono classificate come BG o FG via block-match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oss-correlazione normalizzat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ronti tra istogrammi local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e, ogni regione ha il proprio modello di B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ana su una coda di pat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PR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ù robusti dei modelli per-pix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C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 precisi spazial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esosi computazional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7091280" y="3068640"/>
          <a:ext cx="1536840" cy="1600200"/>
        </p:xfrm>
        <a:graphic>
          <a:graphicData uri="http://schemas.openxmlformats.org/drawingml/2006/table">
            <a:tbl>
              <a:tblPr/>
              <a:tblGrid>
                <a:gridCol w="513000"/>
                <a:gridCol w="511200"/>
                <a:gridCol w="51264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Line 23"/>
          <p:cNvSpPr/>
          <p:nvPr/>
        </p:nvSpPr>
        <p:spPr>
          <a:xfrm flipH="1">
            <a:off x="7164000" y="3573360"/>
            <a:ext cx="987480" cy="1656000"/>
          </a:xfrm>
          <a:prstGeom prst="line">
            <a:avLst/>
          </a:prstGeom>
          <a:ln w="889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4"/>
          <p:cNvSpPr/>
          <p:nvPr/>
        </p:nvSpPr>
        <p:spPr>
          <a:xfrm>
            <a:off x="6884280" y="256536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gione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Z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5"/>
          <p:cNvSpPr/>
          <p:nvPr/>
        </p:nvSpPr>
        <p:spPr>
          <a:xfrm>
            <a:off x="7183080" y="4869000"/>
            <a:ext cx="9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7522560" y="3832200"/>
            <a:ext cx="12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7"/>
          <p:cNvSpPr/>
          <p:nvPr/>
        </p:nvSpPr>
        <p:spPr>
          <a:xfrm>
            <a:off x="7697160" y="356076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8"/>
          <p:cNvSpPr/>
          <p:nvPr/>
        </p:nvSpPr>
        <p:spPr>
          <a:xfrm>
            <a:off x="7362360" y="4111560"/>
            <a:ext cx="12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9"/>
          <p:cNvSpPr/>
          <p:nvPr/>
        </p:nvSpPr>
        <p:spPr>
          <a:xfrm>
            <a:off x="7182720" y="440064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EF22-B3DD-46A9-91F9-D0B6E1ACEF26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Approcci per region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430" name="Picture 30" descr=""/>
          <p:cNvPicPr/>
          <p:nvPr/>
        </p:nvPicPr>
        <p:blipFill>
          <a:blip r:embed="rId1"/>
          <a:stretch/>
        </p:blipFill>
        <p:spPr>
          <a:xfrm>
            <a:off x="324000" y="1444680"/>
            <a:ext cx="8748720" cy="8809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1" descr=""/>
          <p:cNvPicPr/>
          <p:nvPr/>
        </p:nvPicPr>
        <p:blipFill>
          <a:blip r:embed="rId2"/>
          <a:stretch/>
        </p:blipFill>
        <p:spPr>
          <a:xfrm>
            <a:off x="316080" y="2332080"/>
            <a:ext cx="8748720" cy="8809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2" descr=""/>
          <p:cNvPicPr/>
          <p:nvPr/>
        </p:nvPicPr>
        <p:blipFill>
          <a:blip r:embed="rId3"/>
          <a:stretch/>
        </p:blipFill>
        <p:spPr>
          <a:xfrm>
            <a:off x="266760" y="4005360"/>
            <a:ext cx="8856720" cy="898560"/>
          </a:xfrm>
          <a:prstGeom prst="rect">
            <a:avLst/>
          </a:prstGeom>
          <a:ln w="0">
            <a:noFill/>
          </a:ln>
        </p:spPr>
      </p:pic>
      <p:sp>
        <p:nvSpPr>
          <p:cNvPr id="433" name="AutoShape 33"/>
          <p:cNvSpPr/>
          <p:nvPr/>
        </p:nvSpPr>
        <p:spPr>
          <a:xfrm rot="2485200">
            <a:off x="394920" y="5084640"/>
            <a:ext cx="722160" cy="576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4"/>
          <p:cNvSpPr/>
          <p:nvPr/>
        </p:nvSpPr>
        <p:spPr>
          <a:xfrm>
            <a:off x="1046160" y="537372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-m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E975-73B7-42FF-A95F-56ED3E25FB79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Approcci per fram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9640" y="1555560"/>
            <a:ext cx="66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gono effettuate elaborazioni sull’intera matrice dei pixel, ed i pixel non sono considerati come processi indipend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e, agiscono come supporto per i metodi per pixel o per reg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gono applicati per cercare cambi globali della scena che non devono essere identificati come FG – esempio, cambi di illumin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emp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genbackgrou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breri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7559640" y="2924280"/>
          <a:ext cx="1536840" cy="1600200"/>
        </p:xfrm>
        <a:graphic>
          <a:graphicData uri="http://schemas.openxmlformats.org/drawingml/2006/table">
            <a:tbl>
              <a:tblPr/>
              <a:tblGrid>
                <a:gridCol w="512640"/>
                <a:gridCol w="511200"/>
                <a:gridCol w="51300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439" name="Rectangle 47"/>
          <p:cNvSpPr/>
          <p:nvPr/>
        </p:nvSpPr>
        <p:spPr>
          <a:xfrm>
            <a:off x="7255080" y="2421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rame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8"/>
          <p:cNvSpPr/>
          <p:nvPr/>
        </p:nvSpPr>
        <p:spPr>
          <a:xfrm>
            <a:off x="7362360" y="5059440"/>
            <a:ext cx="9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9"/>
          <p:cNvSpPr/>
          <p:nvPr/>
        </p:nvSpPr>
        <p:spPr>
          <a:xfrm>
            <a:off x="7702200" y="3975120"/>
            <a:ext cx="12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0"/>
          <p:cNvSpPr/>
          <p:nvPr/>
        </p:nvSpPr>
        <p:spPr>
          <a:xfrm>
            <a:off x="7876440" y="370368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1"/>
          <p:cNvSpPr/>
          <p:nvPr/>
        </p:nvSpPr>
        <p:spPr>
          <a:xfrm>
            <a:off x="7541640" y="4254480"/>
            <a:ext cx="12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2"/>
          <p:cNvSpPr/>
          <p:nvPr/>
        </p:nvSpPr>
        <p:spPr>
          <a:xfrm>
            <a:off x="7362000" y="454356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4"/>
          <p:cNvSpPr/>
          <p:nvPr/>
        </p:nvSpPr>
        <p:spPr>
          <a:xfrm flipH="1">
            <a:off x="7308360" y="3573360"/>
            <a:ext cx="987480" cy="1656000"/>
          </a:xfrm>
          <a:prstGeom prst="line">
            <a:avLst/>
          </a:prstGeom>
          <a:ln w="1144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CB20-1905-457C-9920-0738BB47F076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443640" y="4581360"/>
            <a:ext cx="2016000" cy="137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Il problema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5472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opo (classico): Data una sequenza di frame acquisita da camera fissa, trovare tutti gli oggetti in movi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glio: data una scena acquisita da una telecamera mobile o fissa, evidenziare tutti gli oggetti inattesi (foreground, FG, visualizzato come pixel bianchi) distinguendoli da ciò che è atteso, la scena (background, BG, visualizzato come pixel ner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on detection di solito ha sol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ost-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659640" y="4764240"/>
            <a:ext cx="1584360" cy="433080"/>
          </a:xfrm>
          <a:prstGeom prst="rect">
            <a:avLst/>
          </a:prstGeom>
          <a:solidFill>
            <a:srgbClr val="e4e4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6659640" y="5415120"/>
            <a:ext cx="1584360" cy="433080"/>
          </a:xfrm>
          <a:prstGeom prst="rect">
            <a:avLst/>
          </a:prstGeom>
          <a:solidFill>
            <a:srgbClr val="e4e4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ST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8"/>
          <p:cNvCxnSpPr>
            <a:stCxn id="72" idx="2"/>
            <a:endCxn id="73" idx="0"/>
          </p:cNvCxnSpPr>
          <p:nvPr/>
        </p:nvCxnSpPr>
        <p:spPr>
          <a:xfrm>
            <a:off x="7451280" y="5196960"/>
            <a:ext cx="1080" cy="21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AutoShape 10"/>
          <p:cNvCxnSpPr>
            <a:stCxn id="76" idx="4"/>
            <a:endCxn id="69" idx="0"/>
          </p:cNvCxnSpPr>
          <p:nvPr/>
        </p:nvCxnSpPr>
        <p:spPr>
          <a:xfrm>
            <a:off x="7451280" y="436392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Oval 11"/>
          <p:cNvSpPr/>
          <p:nvPr/>
        </p:nvSpPr>
        <p:spPr>
          <a:xfrm>
            <a:off x="6946920" y="3860640"/>
            <a:ext cx="1008000" cy="50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AW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7151400" y="6170760"/>
            <a:ext cx="587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13"/>
          <p:cNvCxnSpPr>
            <a:stCxn id="77" idx="0"/>
            <a:endCxn id="77" idx="0"/>
          </p:cNvCxnSpPr>
          <p:nvPr/>
        </p:nvCxnSpPr>
        <p:spPr>
          <a:xfrm>
            <a:off x="7445160" y="61704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14"/>
          <p:cNvCxnSpPr>
            <a:stCxn id="69" idx="2"/>
            <a:endCxn id="77" idx="0"/>
          </p:cNvCxnSpPr>
          <p:nvPr/>
        </p:nvCxnSpPr>
        <p:spPr>
          <a:xfrm flipH="1">
            <a:off x="7444800" y="5951160"/>
            <a:ext cx="684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80" name="PIRAMIDE_Original_nosound2.avi" descr=""/>
          <p:cNvPicPr/>
          <p:nvPr/>
        </p:nvPicPr>
        <p:blipFill>
          <a:blip r:embed="rId1"/>
          <a:stretch/>
        </p:blipFill>
        <p:spPr>
          <a:xfrm>
            <a:off x="6465960" y="1484280"/>
            <a:ext cx="21146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9701-A589-451D-A1C2-AAABDA796EC5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Eigenbackgrounds 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(N. M. Oliver, B. Rosario, and A. P. Pentland, 2000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640" y="1555920"/>
            <a:ext cx="835344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A può essere applicato ad una sequenza di n frame per calcolare gli eigenbackgoru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on funzionamento, comparabile a  TAPPM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9" name="Picture 6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8748720" cy="8809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243000" y="3884760"/>
            <a:ext cx="8748720" cy="8809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"/>
          <p:cNvPicPr/>
          <p:nvPr/>
        </p:nvPicPr>
        <p:blipFill>
          <a:blip r:embed="rId3"/>
          <a:stretch/>
        </p:blipFill>
        <p:spPr>
          <a:xfrm>
            <a:off x="249120" y="5084640"/>
            <a:ext cx="8715600" cy="86832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9"/>
          <p:cNvSpPr/>
          <p:nvPr/>
        </p:nvSpPr>
        <p:spPr>
          <a:xfrm rot="2485200">
            <a:off x="178920" y="6021360"/>
            <a:ext cx="722520" cy="576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1"/>
          <p:cNvSpPr/>
          <p:nvPr/>
        </p:nvSpPr>
        <p:spPr>
          <a:xfrm>
            <a:off x="395280" y="0"/>
            <a:ext cx="862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Nuria M. Oliver , Barbara Rosario , Alex P. Pentland, A Bayesian Computer Vision System for Modeling Human Interactions, IEEE Transactions on Pattern Analysis and Machine Intelligence, v.22 n.8, p.831-843, August 200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1F12-E029-454F-889B-39BC5327129F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Eigenbackgrounds 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(N. M. Oliver, B. Rosario, and A. P. Pentland, 2000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9640" y="155556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i n frames (meno la loro media) sono organizzati come colonne di una matrice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olo la matrice A’A (MxM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raggo M autovettori         , li trasformo negli autovettori per la matrice di covarianza AA’ mediante                 e li organizzo come colonne di una matrice 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ndo è disponibile una nuova immagine, z, viene prima sottratta della media, ottenendo    , che viene proiettata nello spazio a bassa dimensionalità mediante                   e ricostruita v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olo la differenza           :  poiché il sottospazio ben rappresenta solo la parte statica della scena (ossia quello che si è visto di più) la differenza sono solo gli oggetti di fore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4"/>
              <p:cNvSpPr txBox="1"/>
              <p:nvPr/>
            </p:nvSpPr>
            <p:spPr>
              <a:xfrm>
                <a:off x="5003640" y="3284640"/>
                <a:ext cx="8607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5"/>
              <p:cNvSpPr txBox="1"/>
              <p:nvPr/>
            </p:nvSpPr>
            <p:spPr>
              <a:xfrm>
                <a:off x="3635280" y="2924280"/>
                <a:ext cx="3906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6"/>
              <p:cNvSpPr txBox="1"/>
              <p:nvPr/>
            </p:nvSpPr>
            <p:spPr>
              <a:xfrm>
                <a:off x="3851280" y="4581360"/>
                <a:ext cx="101916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'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7"/>
              <p:cNvSpPr txBox="1"/>
              <p:nvPr/>
            </p:nvSpPr>
            <p:spPr>
              <a:xfrm>
                <a:off x="3611520" y="4251240"/>
                <a:ext cx="25560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8"/>
              <p:cNvSpPr txBox="1"/>
              <p:nvPr/>
            </p:nvSpPr>
            <p:spPr>
              <a:xfrm>
                <a:off x="6804000" y="4557600"/>
                <a:ext cx="1201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9"/>
              <p:cNvSpPr txBox="1"/>
              <p:nvPr/>
            </p:nvSpPr>
            <p:spPr>
              <a:xfrm>
                <a:off x="3112920" y="4892760"/>
                <a:ext cx="9241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00B1-3624-48F7-B680-74CB8ACAF8FB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Libreri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 basano su una fase di bootstrapping [Ohta 2001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 addestra un modello per-pixel ordin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 valuta l’errore globale E su ogni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  l’errore supera una determinata soglia per più di N frame, seleziono quei frame per addestrare un altro mode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tengo così M modelli, formanti una libreria di model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 ogni time step costruisco la funzione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):=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umero globale di pixel di F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uto              : se è oltre una certa soglia, cambiamento brusc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lla scen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al caso, seleziono dalla libreria il modello per cui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) è mini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4"/>
              <p:cNvSpPr txBox="1"/>
              <p:nvPr/>
            </p:nvSpPr>
            <p:spPr>
              <a:xfrm>
                <a:off x="2155680" y="4260960"/>
                <a:ext cx="9954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67" name=""/>
          <p:cNvGraphicFramePr/>
          <p:nvPr/>
        </p:nvGraphicFramePr>
        <p:xfrm>
          <a:off x="0" y="0"/>
          <a:ext cx="9144000" cy="608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 Ohta. </a:t>
                      </a:r>
                      <a:r>
                        <a:rPr b="1" i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tatistical approach to background subtraction for surveillance systems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In ICCV, pages II: 481--486, Vancouver, Canada, June 200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43DE-97F9-41E0-9117-1B5FBEB2C173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Approcci misti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ificano pixel basandosi su valutazioni di regioni loc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rocci più in vog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Elgammal 2000] - sch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468360" y="1557360"/>
            <a:ext cx="73436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6227640" y="4149720"/>
            <a:ext cx="2519640" cy="2089080"/>
          </a:xfrm>
          <a:prstGeom prst="rect">
            <a:avLst/>
          </a:prstGeom>
          <a:solidFill>
            <a:srgbClr val="e7e7e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2"/>
          <p:cNvSpPr/>
          <p:nvPr/>
        </p:nvSpPr>
        <p:spPr>
          <a:xfrm>
            <a:off x="7172280" y="5060880"/>
            <a:ext cx="432000" cy="432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3"/>
          <p:cNvSpPr/>
          <p:nvPr/>
        </p:nvSpPr>
        <p:spPr>
          <a:xfrm>
            <a:off x="6721560" y="4629240"/>
            <a:ext cx="1368360" cy="12873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4"/>
          <p:cNvGrpSpPr/>
          <p:nvPr/>
        </p:nvGrpSpPr>
        <p:grpSpPr>
          <a:xfrm>
            <a:off x="7380360" y="5067360"/>
            <a:ext cx="1095480" cy="398880"/>
            <a:chOff x="7380360" y="5067360"/>
            <a:chExt cx="1095480" cy="398880"/>
          </a:xfrm>
        </p:grpSpPr>
        <p:sp>
          <p:nvSpPr>
            <p:cNvPr id="476" name="AutoShape 15"/>
            <p:cNvSpPr/>
            <p:nvPr/>
          </p:nvSpPr>
          <p:spPr>
            <a:xfrm>
              <a:off x="7380360" y="5219280"/>
              <a:ext cx="504720" cy="142560"/>
            </a:xfrm>
            <a:prstGeom prst="rightArrow">
              <a:avLst>
                <a:gd name="adj1" fmla="val 37167"/>
                <a:gd name="adj2" fmla="val 6320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6"/>
            <p:cNvSpPr/>
            <p:nvPr/>
          </p:nvSpPr>
          <p:spPr>
            <a:xfrm>
              <a:off x="7453440" y="506736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17"/>
          <p:cNvGrpSpPr/>
          <p:nvPr/>
        </p:nvGrpSpPr>
        <p:grpSpPr>
          <a:xfrm>
            <a:off x="7346880" y="5205600"/>
            <a:ext cx="1022400" cy="675000"/>
            <a:chOff x="7346880" y="5205600"/>
            <a:chExt cx="1022400" cy="675000"/>
          </a:xfrm>
        </p:grpSpPr>
        <p:sp>
          <p:nvSpPr>
            <p:cNvPr id="479" name="AutoShape 18"/>
            <p:cNvSpPr/>
            <p:nvPr/>
          </p:nvSpPr>
          <p:spPr>
            <a:xfrm rot="3006600">
              <a:off x="7316280" y="5373720"/>
              <a:ext cx="505080" cy="142920"/>
            </a:xfrm>
            <a:prstGeom prst="rightArrow">
              <a:avLst>
                <a:gd name="adj1" fmla="val 37167"/>
                <a:gd name="adj2" fmla="val 6308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19"/>
            <p:cNvSpPr/>
            <p:nvPr/>
          </p:nvSpPr>
          <p:spPr>
            <a:xfrm>
              <a:off x="7346880" y="548172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20"/>
          <p:cNvGrpSpPr/>
          <p:nvPr/>
        </p:nvGrpSpPr>
        <p:grpSpPr>
          <a:xfrm>
            <a:off x="6894720" y="5229360"/>
            <a:ext cx="1022400" cy="759240"/>
            <a:chOff x="6894720" y="5229360"/>
            <a:chExt cx="1022400" cy="759240"/>
          </a:xfrm>
        </p:grpSpPr>
        <p:sp>
          <p:nvSpPr>
            <p:cNvPr id="482" name="AutoShape 21"/>
            <p:cNvSpPr/>
            <p:nvPr/>
          </p:nvSpPr>
          <p:spPr>
            <a:xfrm rot="5400000">
              <a:off x="7164000" y="5410080"/>
              <a:ext cx="504720" cy="142920"/>
            </a:xfrm>
            <a:prstGeom prst="rightArrow">
              <a:avLst>
                <a:gd name="adj1" fmla="val 37167"/>
                <a:gd name="adj2" fmla="val 6304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22"/>
            <p:cNvSpPr/>
            <p:nvPr/>
          </p:nvSpPr>
          <p:spPr>
            <a:xfrm>
              <a:off x="6894720" y="558972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23"/>
          <p:cNvGrpSpPr/>
          <p:nvPr/>
        </p:nvGrpSpPr>
        <p:grpSpPr>
          <a:xfrm>
            <a:off x="6389640" y="5226840"/>
            <a:ext cx="1095480" cy="653760"/>
            <a:chOff x="6389640" y="5226840"/>
            <a:chExt cx="1095480" cy="653760"/>
          </a:xfrm>
        </p:grpSpPr>
        <p:sp>
          <p:nvSpPr>
            <p:cNvPr id="485" name="AutoShape 24"/>
            <p:cNvSpPr/>
            <p:nvPr/>
          </p:nvSpPr>
          <p:spPr>
            <a:xfrm rot="8178000">
              <a:off x="7000920" y="5381280"/>
              <a:ext cx="504720" cy="142920"/>
            </a:xfrm>
            <a:prstGeom prst="rightArrow">
              <a:avLst>
                <a:gd name="adj1" fmla="val 37167"/>
                <a:gd name="adj2" fmla="val 6304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25"/>
            <p:cNvSpPr/>
            <p:nvPr/>
          </p:nvSpPr>
          <p:spPr>
            <a:xfrm>
              <a:off x="6389640" y="548172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26"/>
          <p:cNvGrpSpPr/>
          <p:nvPr/>
        </p:nvGrpSpPr>
        <p:grpSpPr>
          <a:xfrm>
            <a:off x="6329520" y="5076720"/>
            <a:ext cx="1122120" cy="398880"/>
            <a:chOff x="6329520" y="5076720"/>
            <a:chExt cx="1122120" cy="398880"/>
          </a:xfrm>
        </p:grpSpPr>
        <p:sp>
          <p:nvSpPr>
            <p:cNvPr id="488" name="AutoShape 27"/>
            <p:cNvSpPr/>
            <p:nvPr/>
          </p:nvSpPr>
          <p:spPr>
            <a:xfrm rot="10800000">
              <a:off x="6946920" y="5218920"/>
              <a:ext cx="504720" cy="142920"/>
            </a:xfrm>
            <a:prstGeom prst="rightArrow">
              <a:avLst>
                <a:gd name="adj1" fmla="val 37167"/>
                <a:gd name="adj2" fmla="val 6304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28"/>
            <p:cNvSpPr/>
            <p:nvPr/>
          </p:nvSpPr>
          <p:spPr>
            <a:xfrm>
              <a:off x="6329520" y="507672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29"/>
          <p:cNvGrpSpPr/>
          <p:nvPr/>
        </p:nvGrpSpPr>
        <p:grpSpPr>
          <a:xfrm>
            <a:off x="6389640" y="4616280"/>
            <a:ext cx="1106640" cy="743040"/>
            <a:chOff x="6389640" y="4616280"/>
            <a:chExt cx="1106640" cy="743040"/>
          </a:xfrm>
        </p:grpSpPr>
        <p:sp>
          <p:nvSpPr>
            <p:cNvPr id="491" name="AutoShape 30"/>
            <p:cNvSpPr/>
            <p:nvPr/>
          </p:nvSpPr>
          <p:spPr>
            <a:xfrm flipV="1" rot="13422000">
              <a:off x="7008480" y="5053320"/>
              <a:ext cx="505080" cy="152280"/>
            </a:xfrm>
            <a:prstGeom prst="rightArrow">
              <a:avLst>
                <a:gd name="adj1" fmla="val 37167"/>
                <a:gd name="adj2" fmla="val 5921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31"/>
            <p:cNvSpPr/>
            <p:nvPr/>
          </p:nvSpPr>
          <p:spPr>
            <a:xfrm>
              <a:off x="6389640" y="461628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32"/>
          <p:cNvGrpSpPr/>
          <p:nvPr/>
        </p:nvGrpSpPr>
        <p:grpSpPr>
          <a:xfrm>
            <a:off x="6915240" y="4510080"/>
            <a:ext cx="1022400" cy="825120"/>
            <a:chOff x="6915240" y="4510080"/>
            <a:chExt cx="1022400" cy="825120"/>
          </a:xfrm>
        </p:grpSpPr>
        <p:sp>
          <p:nvSpPr>
            <p:cNvPr id="494" name="AutoShape 33"/>
            <p:cNvSpPr/>
            <p:nvPr/>
          </p:nvSpPr>
          <p:spPr>
            <a:xfrm flipV="1" rot="16200000">
              <a:off x="7155360" y="4994280"/>
              <a:ext cx="538200" cy="142920"/>
            </a:xfrm>
            <a:prstGeom prst="rightArrow">
              <a:avLst>
                <a:gd name="adj1" fmla="val 37167"/>
                <a:gd name="adj2" fmla="val 6722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34"/>
            <p:cNvSpPr/>
            <p:nvPr/>
          </p:nvSpPr>
          <p:spPr>
            <a:xfrm>
              <a:off x="6915240" y="451008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35"/>
          <p:cNvGrpSpPr/>
          <p:nvPr/>
        </p:nvGrpSpPr>
        <p:grpSpPr>
          <a:xfrm>
            <a:off x="7349400" y="4606920"/>
            <a:ext cx="1038960" cy="785160"/>
            <a:chOff x="7349400" y="4606920"/>
            <a:chExt cx="1038960" cy="785160"/>
          </a:xfrm>
        </p:grpSpPr>
        <p:sp>
          <p:nvSpPr>
            <p:cNvPr id="497" name="AutoShape 36"/>
            <p:cNvSpPr/>
            <p:nvPr/>
          </p:nvSpPr>
          <p:spPr>
            <a:xfrm flipV="1" rot="18593400">
              <a:off x="7307640" y="5068080"/>
              <a:ext cx="538200" cy="143280"/>
            </a:xfrm>
            <a:prstGeom prst="rightArrow">
              <a:avLst>
                <a:gd name="adj1" fmla="val 37167"/>
                <a:gd name="adj2" fmla="val 6705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37"/>
            <p:cNvSpPr/>
            <p:nvPr/>
          </p:nvSpPr>
          <p:spPr>
            <a:xfrm>
              <a:off x="7365960" y="460692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Text Box 38"/>
          <p:cNvSpPr/>
          <p:nvPr/>
        </p:nvSpPr>
        <p:spPr>
          <a:xfrm>
            <a:off x="7278840" y="5067360"/>
            <a:ext cx="2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9"/>
          <p:cNvSpPr/>
          <p:nvPr/>
        </p:nvSpPr>
        <p:spPr>
          <a:xfrm>
            <a:off x="7796160" y="5057640"/>
            <a:ext cx="2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0"/>
          <p:cNvSpPr/>
          <p:nvPr/>
        </p:nvSpPr>
        <p:spPr>
          <a:xfrm>
            <a:off x="1455840" y="5295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1"/>
          <p:cNvSpPr/>
          <p:nvPr/>
        </p:nvSpPr>
        <p:spPr>
          <a:xfrm>
            <a:off x="2050920" y="2349360"/>
            <a:ext cx="3456000" cy="1008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egui FG test sul valore di pixel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iderato come segnale indepen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2"/>
          <p:cNvSpPr/>
          <p:nvPr/>
        </p:nvSpPr>
        <p:spPr>
          <a:xfrm>
            <a:off x="611280" y="3933720"/>
            <a:ext cx="3456000" cy="1195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a nei pixel vici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se il valore di pixel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a ess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tato come valore di 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AutoShape 43"/>
          <p:cNvCxnSpPr>
            <a:stCxn id="502" idx="2"/>
            <a:endCxn id="503" idx="0"/>
          </p:cNvCxnSpPr>
          <p:nvPr/>
        </p:nvCxnSpPr>
        <p:spPr>
          <a:xfrm flipH="1">
            <a:off x="2340000" y="3365640"/>
            <a:ext cx="1440360" cy="568800"/>
          </a:xfrm>
          <a:prstGeom prst="straightConnector1">
            <a:avLst/>
          </a:prstGeom>
          <a:ln w="2232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505" name="Text Box 44"/>
          <p:cNvSpPr/>
          <p:nvPr/>
        </p:nvSpPr>
        <p:spPr>
          <a:xfrm>
            <a:off x="1926720" y="3500280"/>
            <a:ext cx="137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AutoShape 45"/>
          <p:cNvCxnSpPr>
            <a:stCxn id="502" idx="2"/>
            <a:endCxn id="507" idx="0"/>
          </p:cNvCxnSpPr>
          <p:nvPr/>
        </p:nvCxnSpPr>
        <p:spPr>
          <a:xfrm>
            <a:off x="3780000" y="3365280"/>
            <a:ext cx="1584720" cy="640440"/>
          </a:xfrm>
          <a:prstGeom prst="straightConnector1">
            <a:avLst/>
          </a:prstGeom>
          <a:ln w="2232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508" name="Text Box 46"/>
          <p:cNvSpPr/>
          <p:nvPr/>
        </p:nvSpPr>
        <p:spPr>
          <a:xfrm>
            <a:off x="4806360" y="350028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7"/>
          <p:cNvSpPr/>
          <p:nvPr/>
        </p:nvSpPr>
        <p:spPr>
          <a:xfrm>
            <a:off x="4788000" y="4005360"/>
            <a:ext cx="11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AutoShape 48"/>
          <p:cNvCxnSpPr>
            <a:stCxn id="503" idx="2"/>
            <a:endCxn id="510" idx="0"/>
          </p:cNvCxnSpPr>
          <p:nvPr/>
        </p:nvCxnSpPr>
        <p:spPr>
          <a:xfrm flipH="1">
            <a:off x="1186920" y="5133960"/>
            <a:ext cx="1153440" cy="527760"/>
          </a:xfrm>
          <a:prstGeom prst="straightConnector1">
            <a:avLst/>
          </a:prstGeom>
          <a:ln w="2232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510" name="Rectangle 49"/>
          <p:cNvSpPr/>
          <p:nvPr/>
        </p:nvSpPr>
        <p:spPr>
          <a:xfrm>
            <a:off x="611280" y="5661000"/>
            <a:ext cx="11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486720" y="5157720"/>
            <a:ext cx="137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AutoShape 51"/>
          <p:cNvCxnSpPr>
            <a:stCxn id="503" idx="2"/>
            <a:endCxn id="513" idx="0"/>
          </p:cNvCxnSpPr>
          <p:nvPr/>
        </p:nvCxnSpPr>
        <p:spPr>
          <a:xfrm>
            <a:off x="2340000" y="5133960"/>
            <a:ext cx="1224720" cy="527760"/>
          </a:xfrm>
          <a:prstGeom prst="straightConnector1">
            <a:avLst/>
          </a:prstGeom>
          <a:ln w="2232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514" name="Text Box 52"/>
          <p:cNvSpPr/>
          <p:nvPr/>
        </p:nvSpPr>
        <p:spPr>
          <a:xfrm>
            <a:off x="2645640" y="508464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3"/>
          <p:cNvSpPr/>
          <p:nvPr/>
        </p:nvSpPr>
        <p:spPr>
          <a:xfrm>
            <a:off x="2987640" y="5661000"/>
            <a:ext cx="1152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4"/>
          <p:cNvSpPr/>
          <p:nvPr/>
        </p:nvSpPr>
        <p:spPr>
          <a:xfrm>
            <a:off x="6227640" y="1916280"/>
            <a:ext cx="2519640" cy="2089080"/>
          </a:xfrm>
          <a:prstGeom prst="rect">
            <a:avLst/>
          </a:prstGeom>
          <a:solidFill>
            <a:srgbClr val="e7e7e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5"/>
          <p:cNvSpPr/>
          <p:nvPr/>
        </p:nvSpPr>
        <p:spPr>
          <a:xfrm>
            <a:off x="7172280" y="2827440"/>
            <a:ext cx="432000" cy="43164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6"/>
          <p:cNvSpPr/>
          <p:nvPr/>
        </p:nvSpPr>
        <p:spPr>
          <a:xfrm>
            <a:off x="7278840" y="2833560"/>
            <a:ext cx="2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7"/>
          <p:cNvSpPr/>
          <p:nvPr/>
        </p:nvSpPr>
        <p:spPr>
          <a:xfrm>
            <a:off x="7000560" y="3137040"/>
            <a:ext cx="18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FG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8"/>
          <p:cNvSpPr/>
          <p:nvPr/>
        </p:nvSpPr>
        <p:spPr>
          <a:xfrm>
            <a:off x="-324000" y="2482920"/>
            <a:ext cx="12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9"/>
          <p:cNvSpPr/>
          <p:nvPr/>
        </p:nvSpPr>
        <p:spPr>
          <a:xfrm>
            <a:off x="-306360" y="4292640"/>
            <a:ext cx="12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1"/>
          <p:cNvSpPr/>
          <p:nvPr/>
        </p:nvSpPr>
        <p:spPr>
          <a:xfrm>
            <a:off x="0" y="0"/>
            <a:ext cx="896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. Elgammal, D. Harwood, L. S. Davis,  “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Non-parametric Model for Background Subtraction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” IEEE ICCV99 Frame Rate Workshop. IEEE 7th International Conference on Computer Vision. Kerkyra, Greece, September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F4A1-F1B2-43EE-B2BB-8C1012E550D1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Elgammal - risultati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524" name="Picture 55" descr=""/>
          <p:cNvPicPr/>
          <p:nvPr/>
        </p:nvPicPr>
        <p:blipFill>
          <a:blip r:embed="rId1"/>
          <a:stretch/>
        </p:blipFill>
        <p:spPr>
          <a:xfrm>
            <a:off x="3995640" y="3068640"/>
            <a:ext cx="1152720" cy="8524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56" descr=""/>
          <p:cNvPicPr/>
          <p:nvPr/>
        </p:nvPicPr>
        <p:blipFill>
          <a:blip r:embed="rId2"/>
          <a:stretch/>
        </p:blipFill>
        <p:spPr>
          <a:xfrm>
            <a:off x="5219640" y="3068640"/>
            <a:ext cx="1152720" cy="8413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57" descr=""/>
          <p:cNvPicPr/>
          <p:nvPr/>
        </p:nvPicPr>
        <p:blipFill>
          <a:blip r:embed="rId3"/>
          <a:stretch/>
        </p:blipFill>
        <p:spPr>
          <a:xfrm>
            <a:off x="6477120" y="3068640"/>
            <a:ext cx="1150920" cy="8398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8" descr=""/>
          <p:cNvPicPr/>
          <p:nvPr/>
        </p:nvPicPr>
        <p:blipFill>
          <a:blip r:embed="rId4"/>
          <a:stretch/>
        </p:blipFill>
        <p:spPr>
          <a:xfrm>
            <a:off x="7736040" y="3068640"/>
            <a:ext cx="1157040" cy="8445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59" descr=""/>
          <p:cNvPicPr/>
          <p:nvPr/>
        </p:nvPicPr>
        <p:blipFill>
          <a:blip r:embed="rId5"/>
          <a:stretch/>
        </p:blipFill>
        <p:spPr>
          <a:xfrm>
            <a:off x="179280" y="1268280"/>
            <a:ext cx="8748720" cy="8812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0" descr=""/>
          <p:cNvPicPr/>
          <p:nvPr/>
        </p:nvPicPr>
        <p:blipFill>
          <a:blip r:embed="rId6"/>
          <a:stretch/>
        </p:blipFill>
        <p:spPr>
          <a:xfrm>
            <a:off x="171360" y="2155680"/>
            <a:ext cx="8748720" cy="88128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62"/>
          <p:cNvSpPr/>
          <p:nvPr/>
        </p:nvSpPr>
        <p:spPr>
          <a:xfrm>
            <a:off x="-442080" y="4149720"/>
            <a:ext cx="497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ngono minimizzati i falsi nega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C93D-75BC-4723-AF76-09CFF600FA57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Spazi colore per la sottrazione del BG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 setting più semplice (e veloce computazionalmente) è quello di avere sequenze a livelli di grig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co preciso (vedasi mascheramento del F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ando input a colori, i risultati, naturalmente, migliorano. Gli spazi colore che si considerano abitualmente so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GB [Wallflower 200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GB normalizzato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no sensibile a leggeri cambi di illuminazione, ma anche meno sensibile alla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ghtne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ossia alla differenza tra bianco-grigio-n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SV utilizzato soprattutto per l’eliminazione delle ombre (a seguir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11"/>
              <p:cNvSpPr txBox="1"/>
              <p:nvPr/>
            </p:nvSpPr>
            <p:spPr>
              <a:xfrm>
                <a:off x="1187280" y="3645000"/>
                <a:ext cx="20178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12"/>
              <p:cNvSpPr txBox="1"/>
              <p:nvPr/>
            </p:nvSpPr>
            <p:spPr>
              <a:xfrm>
                <a:off x="3492360" y="3718080"/>
                <a:ext cx="20178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13"/>
              <p:cNvSpPr txBox="1"/>
              <p:nvPr/>
            </p:nvSpPr>
            <p:spPr>
              <a:xfrm>
                <a:off x="5796000" y="3718080"/>
                <a:ext cx="20178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3082-A8DB-49E7-8E29-E3DB4499E72A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Spazi colore per la sottraizone del BG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l caso di RGB e RGB normalizzato ogni canale può essere valutato in maniera indipendente (anche se non è corrett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o F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l foreground trovato nel canale x, il FG finale è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ernativamente, un singolo valore di pixel puo’ essere modellato come unico segnale a covarianza diagonale (anche questa è una semplificazione scorretta teoricamente – c’è dipendenza tra i singoli canali colore – ma funzionalmente vantaggiosa)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5"/>
              <p:cNvSpPr txBox="1"/>
              <p:nvPr/>
            </p:nvSpPr>
            <p:spPr>
              <a:xfrm>
                <a:off x="2627280" y="2349360"/>
                <a:ext cx="34005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G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G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G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6"/>
              <p:cNvSpPr txBox="1"/>
              <p:nvPr/>
            </p:nvSpPr>
            <p:spPr>
              <a:xfrm>
                <a:off x="2771640" y="4292640"/>
                <a:ext cx="2737080" cy="15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G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D3CF-F1E5-4E55-81C4-CB84E21DC1D2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Il problema delle ombr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a grave: soprattutto nelle interfacce di HCI è basilare acquisire la forma esatta dell’oggetto in movi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5" name="Picture 7" descr="\includegraphics[width=.9\textwidth]{shadow_bg_frame_problem}"/>
          <p:cNvPicPr/>
          <p:nvPr/>
        </p:nvPicPr>
        <p:blipFill>
          <a:blip r:embed="rId1"/>
          <a:stretch/>
        </p:blipFill>
        <p:spPr>
          <a:xfrm>
            <a:off x="2050920" y="5229360"/>
            <a:ext cx="4103640" cy="10015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"/>
          <p:cNvPicPr/>
          <p:nvPr/>
        </p:nvPicPr>
        <p:blipFill>
          <a:blip r:embed="rId2"/>
          <a:stretch/>
        </p:blipFill>
        <p:spPr>
          <a:xfrm>
            <a:off x="2050920" y="1989000"/>
            <a:ext cx="4103640" cy="306252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9"/>
          <p:cNvSpPr/>
          <p:nvPr/>
        </p:nvSpPr>
        <p:spPr>
          <a:xfrm>
            <a:off x="902160" y="206064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mp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4283-864C-4DBB-A5BE-0A3BFC55C4F3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Il problema delle ombre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5761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maggior parte delle soluzioni lavora utilizzando delle soglie sullo spazio colore HS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roccio semplice ma effettivo [Cucchiara 200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9"/>
              <p:cNvSpPr txBox="1"/>
              <p:nvPr/>
            </p:nvSpPr>
            <p:spPr>
              <a:xfrm>
                <a:off x="822240" y="2924280"/>
                <a:ext cx="6270840" cy="21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se </m:t>
                              </m:r>
                              <m:r>
                                <m:t xml:space="preserve">α</m:t>
                              </m:r>
                              <m:r>
                                <m:t xml:space="preserve">≤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V</m:t>
                                  </m:r>
                                </m:den>
                              </m:f>
                              <m:r>
                                <m:t xml:space="preserve">≤</m:t>
                              </m:r>
                              <m:r>
                                <m:t xml:space="preserve">β</m:t>
                              </m:r>
                              <m:r>
                                <m:t xml:space="preserve">∧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S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       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t xml:space="preserve">∧</m:t>
                              </m:r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H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    </m:t>
                              </m:r>
                              <m:r>
                                <m:t xml:space="preserve">α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,1</m:t>
                                  </m:r>
                                </m:e>
                              </m:d>
                              <m:r>
                                <m:t xml:space="preserve">,</m:t>
                              </m:r>
                              <m:r>
                                <m:t xml:space="preserve">β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,1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 altrimenti                            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11"/>
              <p:cNvSpPr txBox="1"/>
              <p:nvPr/>
            </p:nvSpPr>
            <p:spPr>
              <a:xfrm>
                <a:off x="900000" y="5291280"/>
                <a:ext cx="5904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H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H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H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3" name="Text Box 12"/>
          <p:cNvSpPr/>
          <p:nvPr/>
        </p:nvSpPr>
        <p:spPr>
          <a:xfrm>
            <a:off x="686520" y="4076640"/>
            <a:ext cx="8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0000"/>
                </a:solidFill>
                <a:latin typeface="Arial"/>
              </a:rPr>
              <a:t>flag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0000"/>
                </a:solidFill>
                <a:latin typeface="Arial"/>
              </a:rPr>
              <a:t>om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4" descr="300px-HSV_cone"/>
          <p:cNvPicPr/>
          <p:nvPr/>
        </p:nvPicPr>
        <p:blipFill>
          <a:blip r:embed="rId1"/>
          <a:stretch/>
        </p:blipFill>
        <p:spPr>
          <a:xfrm>
            <a:off x="6443640" y="1125360"/>
            <a:ext cx="2425680" cy="181944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15"/>
          <p:cNvSpPr/>
          <p:nvPr/>
        </p:nvSpPr>
        <p:spPr>
          <a:xfrm>
            <a:off x="179280" y="-720"/>
            <a:ext cx="864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R. Cucchiara, C. Grana, M. Piccardi, and A. Prati, "Detecting moving objects, Ghosts, and shadows in video streams," IEEE Trans. Pattern Anal. Mach. Intell. 25,1337-1342 (200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46EB-394D-40A9-B554-E2AB178EC175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Il problema delle ombre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558" name="Picture 9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56944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F990-7C5A-4B3A-8859-9A56B4C4A7F2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Come valutare le soluzion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777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mente, è difficile avere un ground-truth (risultato corretto) per confrontare le soluzio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 hanno molto senso esperimenti su dati sinteti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 valutare la bontà di un approccio di mot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lsi negativi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ono essere minimizzati se la perdita di un soggetto in movimento è gra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lsi positivi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ono essere minimizzati se l’identificazione di un oggetto in movimento corrisponde ad una scelta drastica da parte della macchina (lanciare un allarme nel caso della video-sorveglianz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e da valutare: E = FN + F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35D1-9C46-446D-845E-F4C84F3BFE40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Retro”-applicazioni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on detection come pre-processing o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e dete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po motion detectio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i di proie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e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ulta più semplice fare allinea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ultati migliori dell’operazione di mas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2" name="Picture 12" descr="BiceAV1BG"/>
          <p:cNvPicPr/>
          <p:nvPr/>
        </p:nvPicPr>
        <p:blipFill>
          <a:blip r:embed="rId1"/>
          <a:stretch/>
        </p:blipFill>
        <p:spPr>
          <a:xfrm>
            <a:off x="1332000" y="4797360"/>
            <a:ext cx="1728720" cy="13683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5" descr="BiceFG"/>
          <p:cNvPicPr/>
          <p:nvPr/>
        </p:nvPicPr>
        <p:blipFill>
          <a:blip r:embed="rId2"/>
          <a:stretch/>
        </p:blipFill>
        <p:spPr>
          <a:xfrm>
            <a:off x="5580000" y="4726080"/>
            <a:ext cx="2016360" cy="16383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1" descr="BiceBG"/>
          <p:cNvPicPr/>
          <p:nvPr/>
        </p:nvPicPr>
        <p:blipFill>
          <a:blip r:embed="rId3"/>
          <a:stretch/>
        </p:blipFill>
        <p:spPr>
          <a:xfrm>
            <a:off x="3492360" y="4767120"/>
            <a:ext cx="1944720" cy="157824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29"/>
          <p:cNvSpPr/>
          <p:nvPr/>
        </p:nvSpPr>
        <p:spPr>
          <a:xfrm>
            <a:off x="5366160" y="52293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3"/>
          <p:cNvSpPr/>
          <p:nvPr/>
        </p:nvSpPr>
        <p:spPr>
          <a:xfrm>
            <a:off x="3278520" y="5157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11A7-9C94-497D-8EB8-3E6AEDC4C352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Nuove sequenze “difficili” e di test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569" name="Semaforo pioggia.avi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739200" cy="2527560"/>
          </a:xfrm>
          <a:prstGeom prst="rect">
            <a:avLst/>
          </a:prstGeom>
          <a:ln w="0">
            <a:noFill/>
          </a:ln>
        </p:spPr>
      </p:pic>
      <p:pic>
        <p:nvPicPr>
          <p:cNvPr id="570" name="ElbaOriginal.avi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571" name="ElbaSG.avi" descr=""/>
          <p:cNvPicPr/>
          <p:nvPr/>
        </p:nvPicPr>
        <p:blipFill>
          <a:blip r:embed="rId3"/>
          <a:stretch/>
        </p:blipFill>
        <p:spPr>
          <a:xfrm>
            <a:off x="4500720" y="3860640"/>
            <a:ext cx="2805120" cy="220536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13"/>
          <p:cNvSpPr/>
          <p:nvPr/>
        </p:nvSpPr>
        <p:spPr>
          <a:xfrm>
            <a:off x="5276880" y="604512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TAPPM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8" dur="1" fill="hold"/>
                                        <p:tgtEl>
                                          <p:spTgt spid="5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3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8" dur="1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9366-E16D-4E2D-8B69-79239314682A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Considerazioni finali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64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 può esistere un metodo infallibile di background subtr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un metodo di sottrtazione del BG, si modellano la formazione e l’updating di un modello di background, ignorando il F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sso il FG ha le stesse caratteristiche del BG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bl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uzione: si connettono in feedback approcci per la modellazione del FG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racking (modellano l’appearance e la dinamica di un oggetto di F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dinamica è discrimina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1476360" y="4741920"/>
            <a:ext cx="792000" cy="10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9"/>
          <p:cNvSpPr/>
          <p:nvPr/>
        </p:nvSpPr>
        <p:spPr>
          <a:xfrm>
            <a:off x="539640" y="4957920"/>
            <a:ext cx="576360" cy="57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1"/>
          <p:cNvSpPr/>
          <p:nvPr/>
        </p:nvSpPr>
        <p:spPr>
          <a:xfrm>
            <a:off x="682560" y="5029200"/>
            <a:ext cx="289080" cy="433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540720" y="574992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4"/>
          <p:cNvSpPr/>
          <p:nvPr/>
        </p:nvSpPr>
        <p:spPr>
          <a:xfrm>
            <a:off x="1622160" y="5749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5"/>
          <p:cNvSpPr/>
          <p:nvPr/>
        </p:nvSpPr>
        <p:spPr>
          <a:xfrm>
            <a:off x="3060720" y="4789440"/>
            <a:ext cx="792000" cy="10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6"/>
          <p:cNvSpPr/>
          <p:nvPr/>
        </p:nvSpPr>
        <p:spPr>
          <a:xfrm>
            <a:off x="2629080" y="5005440"/>
            <a:ext cx="576000" cy="576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7"/>
          <p:cNvSpPr/>
          <p:nvPr/>
        </p:nvSpPr>
        <p:spPr>
          <a:xfrm>
            <a:off x="2771640" y="5149800"/>
            <a:ext cx="28908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20"/>
          <p:cNvSpPr/>
          <p:nvPr/>
        </p:nvSpPr>
        <p:spPr>
          <a:xfrm>
            <a:off x="4572000" y="4797360"/>
            <a:ext cx="792000" cy="10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21"/>
          <p:cNvSpPr/>
          <p:nvPr/>
        </p:nvSpPr>
        <p:spPr>
          <a:xfrm>
            <a:off x="4716360" y="5013360"/>
            <a:ext cx="576360" cy="576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22"/>
          <p:cNvSpPr/>
          <p:nvPr/>
        </p:nvSpPr>
        <p:spPr>
          <a:xfrm>
            <a:off x="4932360" y="5245200"/>
            <a:ext cx="120600" cy="16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23"/>
          <p:cNvSpPr/>
          <p:nvPr/>
        </p:nvSpPr>
        <p:spPr>
          <a:xfrm>
            <a:off x="5940360" y="4813200"/>
            <a:ext cx="792360" cy="10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24"/>
          <p:cNvSpPr/>
          <p:nvPr/>
        </p:nvSpPr>
        <p:spPr>
          <a:xfrm>
            <a:off x="6300720" y="5029200"/>
            <a:ext cx="576360" cy="576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25"/>
          <p:cNvSpPr/>
          <p:nvPr/>
        </p:nvSpPr>
        <p:spPr>
          <a:xfrm>
            <a:off x="6492960" y="5211720"/>
            <a:ext cx="215640" cy="249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6"/>
          <p:cNvSpPr/>
          <p:nvPr/>
        </p:nvSpPr>
        <p:spPr>
          <a:xfrm>
            <a:off x="7164360" y="4813200"/>
            <a:ext cx="792360" cy="10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9"/>
          <p:cNvSpPr/>
          <p:nvPr/>
        </p:nvSpPr>
        <p:spPr>
          <a:xfrm>
            <a:off x="8028000" y="5029200"/>
            <a:ext cx="576360" cy="576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30"/>
          <p:cNvSpPr/>
          <p:nvPr/>
        </p:nvSpPr>
        <p:spPr>
          <a:xfrm>
            <a:off x="8170920" y="5100480"/>
            <a:ext cx="288720" cy="433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1"/>
          <p:cNvSpPr/>
          <p:nvPr/>
        </p:nvSpPr>
        <p:spPr>
          <a:xfrm>
            <a:off x="248436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5"/>
          <p:cNvSpPr/>
          <p:nvPr/>
        </p:nvSpPr>
        <p:spPr>
          <a:xfrm>
            <a:off x="1634400" y="6138720"/>
            <a:ext cx="763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la grandezza della freccia è proporzionale al peso dato alla dinamica nella definizione del F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36"/>
          <p:cNvSpPr/>
          <p:nvPr/>
        </p:nvSpPr>
        <p:spPr>
          <a:xfrm>
            <a:off x="421164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37"/>
          <p:cNvSpPr/>
          <p:nvPr/>
        </p:nvSpPr>
        <p:spPr>
          <a:xfrm>
            <a:off x="572436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38"/>
          <p:cNvSpPr/>
          <p:nvPr/>
        </p:nvSpPr>
        <p:spPr>
          <a:xfrm>
            <a:off x="702000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9"/>
          <p:cNvSpPr/>
          <p:nvPr/>
        </p:nvSpPr>
        <p:spPr>
          <a:xfrm>
            <a:off x="867564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0"/>
          <p:cNvSpPr/>
          <p:nvPr/>
        </p:nvSpPr>
        <p:spPr>
          <a:xfrm>
            <a:off x="7236000" y="2133720"/>
            <a:ext cx="1584000" cy="433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OTION 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41"/>
          <p:cNvSpPr/>
          <p:nvPr/>
        </p:nvSpPr>
        <p:spPr>
          <a:xfrm>
            <a:off x="7236000" y="2781360"/>
            <a:ext cx="1584000" cy="433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42"/>
          <p:cNvSpPr/>
          <p:nvPr/>
        </p:nvSpPr>
        <p:spPr>
          <a:xfrm flipH="1">
            <a:off x="8856000" y="2205000"/>
            <a:ext cx="252360" cy="1008000"/>
          </a:xfrm>
          <a:custGeom>
            <a:avLst/>
            <a:gdLst>
              <a:gd name="textAreaLeft" fmla="*/ 33840 w 252360"/>
              <a:gd name="textAreaRight" fmla="*/ 218520 w 25236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43"/>
          <p:cNvSpPr/>
          <p:nvPr/>
        </p:nvSpPr>
        <p:spPr>
          <a:xfrm flipV="1">
            <a:off x="6916680" y="2109960"/>
            <a:ext cx="287280" cy="1079280"/>
          </a:xfrm>
          <a:custGeom>
            <a:avLst/>
            <a:gdLst>
              <a:gd name="textAreaLeft" fmla="*/ 38520 w 287280"/>
              <a:gd name="textAreaRight" fmla="*/ 248760 w 28728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44"/>
          <p:cNvSpPr/>
          <p:nvPr/>
        </p:nvSpPr>
        <p:spPr>
          <a:xfrm>
            <a:off x="7524720" y="1292400"/>
            <a:ext cx="1008000" cy="502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AW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AutoShape 45"/>
          <p:cNvCxnSpPr>
            <a:stCxn id="603" idx="4"/>
          </p:cNvCxnSpPr>
          <p:nvPr/>
        </p:nvCxnSpPr>
        <p:spPr>
          <a:xfrm>
            <a:off x="8029080" y="179496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5" name="AutoShape 46"/>
          <p:cNvCxnSpPr/>
          <p:nvPr/>
        </p:nvCxnSpPr>
        <p:spPr>
          <a:xfrm>
            <a:off x="7740360" y="321264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6" name="AutoShape 47"/>
          <p:cNvCxnSpPr/>
          <p:nvPr/>
        </p:nvCxnSpPr>
        <p:spPr>
          <a:xfrm>
            <a:off x="8316720" y="321264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7" name="Oval 48"/>
          <p:cNvSpPr/>
          <p:nvPr/>
        </p:nvSpPr>
        <p:spPr>
          <a:xfrm>
            <a:off x="7500960" y="3565440"/>
            <a:ext cx="503280" cy="50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49"/>
          <p:cNvSpPr/>
          <p:nvPr/>
        </p:nvSpPr>
        <p:spPr>
          <a:xfrm>
            <a:off x="8085240" y="3573360"/>
            <a:ext cx="503280" cy="50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Materiale aggiuntivo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iew di metodi di sottrazione del B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ccardi.p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mozione delle omb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cchiara03detecting.p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PPM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sam-pami-tracking.p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Segnaposto numero diapositiva 3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D743-FFF1-429B-9D28-AA03AACEE307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CBBE-6EE4-4F72-95BB-7687FB4C1ECA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Soluzione intuitiva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co gli oggetti di foreground tramite la differenza tra il frame corrent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 un’img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presentante la scen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&gt; Th  , i  pixel = 1,...,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mo problema: come ottenere l’immagine della scena in modo automa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a dell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ima del backgrou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o background initializ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bootstrapshort.avi" descr=""/>
          <p:cNvPicPr/>
          <p:nvPr/>
        </p:nvPicPr>
        <p:blipFill>
          <a:blip r:embed="rId1"/>
          <a:stretch/>
        </p:blipFill>
        <p:spPr>
          <a:xfrm>
            <a:off x="3708360" y="4221000"/>
            <a:ext cx="21589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DA85-A3E0-436B-9ACC-CBC4F926CD51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Soluzione intuitiva - difetto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’immagine di background non è fissa ma si deve adattare a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mbi di illumin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du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ntini (lampi, nuvole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m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scillazioni della telecam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ggetti ad alta frequenza appartenenti alla scena (come rami di alberi,onde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mbiamenti nella geometria della sce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o parcheggiate etc.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a de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ntenimento del backgrou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o BG ada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0E4A-2400-4DAE-B5D3-B3A4C9AA87F9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Metodi di bas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occ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 pix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 reg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EF8B-4073-4D2E-8498-ECBA4DA38F22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628640"/>
            <a:ext cx="6481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gni pixel rappresenta un processo indipend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ogni istante temporale t ogni pixel viene classificato com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473280" y="4006800"/>
          <a:ext cx="1536840" cy="1600200"/>
        </p:xfrm>
        <a:graphic>
          <a:graphicData uri="http://schemas.openxmlformats.org/drawingml/2006/table">
            <a:tbl>
              <a:tblPr/>
              <a:tblGrid>
                <a:gridCol w="513000"/>
                <a:gridCol w="511200"/>
                <a:gridCol w="51264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Line 22"/>
          <p:cNvSpPr/>
          <p:nvPr/>
        </p:nvSpPr>
        <p:spPr>
          <a:xfrm flipH="1">
            <a:off x="3203280" y="4222800"/>
            <a:ext cx="990360" cy="172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3"/>
          <p:cNvSpPr/>
          <p:nvPr/>
        </p:nvSpPr>
        <p:spPr>
          <a:xfrm>
            <a:off x="3291840" y="3429000"/>
            <a:ext cx="1861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ix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value z</a:t>
            </a:r>
            <a:r>
              <a:rPr b="1" lang="it-IT" sz="2000" spc="-1" strike="noStrike" baseline="30000">
                <a:solidFill>
                  <a:srgbClr val="000000"/>
                </a:solidFill>
                <a:latin typeface="Arial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3078000" y="5591160"/>
            <a:ext cx="9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3430080" y="4638600"/>
            <a:ext cx="12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6"/>
          <p:cNvSpPr/>
          <p:nvPr/>
        </p:nvSpPr>
        <p:spPr>
          <a:xfrm>
            <a:off x="3604320" y="436716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7"/>
          <p:cNvSpPr/>
          <p:nvPr/>
        </p:nvSpPr>
        <p:spPr>
          <a:xfrm>
            <a:off x="3269880" y="4917960"/>
            <a:ext cx="12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3102840" y="519444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0"/>
          <p:cNvSpPr/>
          <p:nvPr/>
        </p:nvSpPr>
        <p:spPr>
          <a:xfrm>
            <a:off x="61128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Metodi di base – approcci per-pix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1"/>
          <p:cNvSpPr/>
          <p:nvPr/>
        </p:nvSpPr>
        <p:spPr>
          <a:xfrm>
            <a:off x="7162920" y="3530520"/>
            <a:ext cx="569880" cy="538200"/>
          </a:xfrm>
          <a:prstGeom prst="cube">
            <a:avLst>
              <a:gd name="adj" fmla="val 96324"/>
            </a:avLst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000" bIns="-27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2"/>
          <p:cNvGrpSpPr/>
          <p:nvPr/>
        </p:nvGrpSpPr>
        <p:grpSpPr>
          <a:xfrm>
            <a:off x="7162920" y="2995560"/>
            <a:ext cx="1296720" cy="1076040"/>
            <a:chOff x="7162920" y="2995560"/>
            <a:chExt cx="1296720" cy="1076040"/>
          </a:xfrm>
        </p:grpSpPr>
        <p:sp>
          <p:nvSpPr>
            <p:cNvPr id="107" name="AutoShape 33"/>
            <p:cNvSpPr/>
            <p:nvPr/>
          </p:nvSpPr>
          <p:spPr>
            <a:xfrm>
              <a:off x="7245720" y="3533400"/>
              <a:ext cx="57060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7317720" y="3533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35"/>
            <p:cNvSpPr/>
            <p:nvPr/>
          </p:nvSpPr>
          <p:spPr>
            <a:xfrm>
              <a:off x="7388640" y="353340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36"/>
            <p:cNvSpPr/>
            <p:nvPr/>
          </p:nvSpPr>
          <p:spPr>
            <a:xfrm>
              <a:off x="7460640" y="3533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37"/>
            <p:cNvSpPr/>
            <p:nvPr/>
          </p:nvSpPr>
          <p:spPr>
            <a:xfrm>
              <a:off x="7531560" y="3533400"/>
              <a:ext cx="57060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38"/>
            <p:cNvSpPr/>
            <p:nvPr/>
          </p:nvSpPr>
          <p:spPr>
            <a:xfrm>
              <a:off x="7603560" y="3533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39"/>
            <p:cNvSpPr/>
            <p:nvPr/>
          </p:nvSpPr>
          <p:spPr>
            <a:xfrm>
              <a:off x="7674480" y="353340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40"/>
            <p:cNvSpPr/>
            <p:nvPr/>
          </p:nvSpPr>
          <p:spPr>
            <a:xfrm>
              <a:off x="7746480" y="3533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41"/>
            <p:cNvSpPr/>
            <p:nvPr/>
          </p:nvSpPr>
          <p:spPr>
            <a:xfrm>
              <a:off x="7817760" y="3533400"/>
              <a:ext cx="57060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42"/>
            <p:cNvSpPr/>
            <p:nvPr/>
          </p:nvSpPr>
          <p:spPr>
            <a:xfrm>
              <a:off x="7889760" y="3533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43"/>
            <p:cNvSpPr/>
            <p:nvPr/>
          </p:nvSpPr>
          <p:spPr>
            <a:xfrm>
              <a:off x="717012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44"/>
            <p:cNvSpPr/>
            <p:nvPr/>
          </p:nvSpPr>
          <p:spPr>
            <a:xfrm>
              <a:off x="724104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45"/>
            <p:cNvSpPr/>
            <p:nvPr/>
          </p:nvSpPr>
          <p:spPr>
            <a:xfrm>
              <a:off x="731304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46"/>
            <p:cNvSpPr/>
            <p:nvPr/>
          </p:nvSpPr>
          <p:spPr>
            <a:xfrm>
              <a:off x="738396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47"/>
            <p:cNvSpPr/>
            <p:nvPr/>
          </p:nvSpPr>
          <p:spPr>
            <a:xfrm>
              <a:off x="745596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48"/>
            <p:cNvSpPr/>
            <p:nvPr/>
          </p:nvSpPr>
          <p:spPr>
            <a:xfrm>
              <a:off x="752724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49"/>
            <p:cNvSpPr/>
            <p:nvPr/>
          </p:nvSpPr>
          <p:spPr>
            <a:xfrm>
              <a:off x="759924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50"/>
            <p:cNvSpPr/>
            <p:nvPr/>
          </p:nvSpPr>
          <p:spPr>
            <a:xfrm>
              <a:off x="767016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51"/>
            <p:cNvSpPr/>
            <p:nvPr/>
          </p:nvSpPr>
          <p:spPr>
            <a:xfrm>
              <a:off x="774180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2"/>
            <p:cNvSpPr/>
            <p:nvPr/>
          </p:nvSpPr>
          <p:spPr>
            <a:xfrm>
              <a:off x="781308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53"/>
            <p:cNvSpPr/>
            <p:nvPr/>
          </p:nvSpPr>
          <p:spPr>
            <a:xfrm>
              <a:off x="788508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54"/>
            <p:cNvSpPr/>
            <p:nvPr/>
          </p:nvSpPr>
          <p:spPr>
            <a:xfrm>
              <a:off x="716544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55"/>
            <p:cNvSpPr/>
            <p:nvPr/>
          </p:nvSpPr>
          <p:spPr>
            <a:xfrm>
              <a:off x="723672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56"/>
            <p:cNvSpPr/>
            <p:nvPr/>
          </p:nvSpPr>
          <p:spPr>
            <a:xfrm>
              <a:off x="730836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57"/>
            <p:cNvSpPr/>
            <p:nvPr/>
          </p:nvSpPr>
          <p:spPr>
            <a:xfrm>
              <a:off x="737928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58"/>
            <p:cNvSpPr/>
            <p:nvPr/>
          </p:nvSpPr>
          <p:spPr>
            <a:xfrm>
              <a:off x="745128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59"/>
            <p:cNvSpPr/>
            <p:nvPr/>
          </p:nvSpPr>
          <p:spPr>
            <a:xfrm>
              <a:off x="752256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60"/>
            <p:cNvSpPr/>
            <p:nvPr/>
          </p:nvSpPr>
          <p:spPr>
            <a:xfrm>
              <a:off x="759456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61"/>
            <p:cNvSpPr/>
            <p:nvPr/>
          </p:nvSpPr>
          <p:spPr>
            <a:xfrm>
              <a:off x="766548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62"/>
            <p:cNvSpPr/>
            <p:nvPr/>
          </p:nvSpPr>
          <p:spPr>
            <a:xfrm>
              <a:off x="773748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63"/>
            <p:cNvSpPr/>
            <p:nvPr/>
          </p:nvSpPr>
          <p:spPr>
            <a:xfrm>
              <a:off x="780840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64"/>
            <p:cNvSpPr/>
            <p:nvPr/>
          </p:nvSpPr>
          <p:spPr>
            <a:xfrm>
              <a:off x="788040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65"/>
            <p:cNvSpPr/>
            <p:nvPr/>
          </p:nvSpPr>
          <p:spPr>
            <a:xfrm>
              <a:off x="7162920" y="3299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66"/>
            <p:cNvSpPr/>
            <p:nvPr/>
          </p:nvSpPr>
          <p:spPr>
            <a:xfrm>
              <a:off x="7233480" y="329940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67"/>
            <p:cNvSpPr/>
            <p:nvPr/>
          </p:nvSpPr>
          <p:spPr>
            <a:xfrm>
              <a:off x="7305480" y="3299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68"/>
            <p:cNvSpPr/>
            <p:nvPr/>
          </p:nvSpPr>
          <p:spPr>
            <a:xfrm>
              <a:off x="7376760" y="3299400"/>
              <a:ext cx="57060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69"/>
            <p:cNvSpPr/>
            <p:nvPr/>
          </p:nvSpPr>
          <p:spPr>
            <a:xfrm>
              <a:off x="7448760" y="3299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70"/>
            <p:cNvSpPr/>
            <p:nvPr/>
          </p:nvSpPr>
          <p:spPr>
            <a:xfrm>
              <a:off x="7519680" y="329940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71"/>
            <p:cNvSpPr/>
            <p:nvPr/>
          </p:nvSpPr>
          <p:spPr>
            <a:xfrm>
              <a:off x="7591680" y="3299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72"/>
            <p:cNvSpPr/>
            <p:nvPr/>
          </p:nvSpPr>
          <p:spPr>
            <a:xfrm>
              <a:off x="7662600" y="3299400"/>
              <a:ext cx="57060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73"/>
            <p:cNvSpPr/>
            <p:nvPr/>
          </p:nvSpPr>
          <p:spPr>
            <a:xfrm>
              <a:off x="7734600" y="3299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74"/>
            <p:cNvSpPr/>
            <p:nvPr/>
          </p:nvSpPr>
          <p:spPr>
            <a:xfrm>
              <a:off x="7805520" y="329940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5"/>
            <p:cNvSpPr/>
            <p:nvPr/>
          </p:nvSpPr>
          <p:spPr>
            <a:xfrm>
              <a:off x="7877520" y="3299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76"/>
            <p:cNvSpPr/>
            <p:nvPr/>
          </p:nvSpPr>
          <p:spPr>
            <a:xfrm>
              <a:off x="7174800" y="3229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77"/>
            <p:cNvSpPr/>
            <p:nvPr/>
          </p:nvSpPr>
          <p:spPr>
            <a:xfrm>
              <a:off x="7245720" y="3229560"/>
              <a:ext cx="57060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78"/>
            <p:cNvSpPr/>
            <p:nvPr/>
          </p:nvSpPr>
          <p:spPr>
            <a:xfrm>
              <a:off x="7317720" y="3229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79"/>
            <p:cNvSpPr/>
            <p:nvPr/>
          </p:nvSpPr>
          <p:spPr>
            <a:xfrm>
              <a:off x="7388640" y="322956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80"/>
            <p:cNvSpPr/>
            <p:nvPr/>
          </p:nvSpPr>
          <p:spPr>
            <a:xfrm>
              <a:off x="7460640" y="3229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81"/>
            <p:cNvSpPr/>
            <p:nvPr/>
          </p:nvSpPr>
          <p:spPr>
            <a:xfrm>
              <a:off x="7531560" y="3229560"/>
              <a:ext cx="57060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82"/>
            <p:cNvSpPr/>
            <p:nvPr/>
          </p:nvSpPr>
          <p:spPr>
            <a:xfrm>
              <a:off x="7603560" y="3229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83"/>
            <p:cNvSpPr/>
            <p:nvPr/>
          </p:nvSpPr>
          <p:spPr>
            <a:xfrm>
              <a:off x="7674480" y="322956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84"/>
            <p:cNvSpPr/>
            <p:nvPr/>
          </p:nvSpPr>
          <p:spPr>
            <a:xfrm>
              <a:off x="7746480" y="3229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85"/>
            <p:cNvSpPr/>
            <p:nvPr/>
          </p:nvSpPr>
          <p:spPr>
            <a:xfrm>
              <a:off x="7817760" y="3229560"/>
              <a:ext cx="57060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6"/>
            <p:cNvSpPr/>
            <p:nvPr/>
          </p:nvSpPr>
          <p:spPr>
            <a:xfrm>
              <a:off x="7889760" y="3229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87"/>
            <p:cNvSpPr/>
            <p:nvPr/>
          </p:nvSpPr>
          <p:spPr>
            <a:xfrm>
              <a:off x="717012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88"/>
            <p:cNvSpPr/>
            <p:nvPr/>
          </p:nvSpPr>
          <p:spPr>
            <a:xfrm>
              <a:off x="724104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89"/>
            <p:cNvSpPr/>
            <p:nvPr/>
          </p:nvSpPr>
          <p:spPr>
            <a:xfrm>
              <a:off x="731304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90"/>
            <p:cNvSpPr/>
            <p:nvPr/>
          </p:nvSpPr>
          <p:spPr>
            <a:xfrm>
              <a:off x="738396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91"/>
            <p:cNvSpPr/>
            <p:nvPr/>
          </p:nvSpPr>
          <p:spPr>
            <a:xfrm>
              <a:off x="745596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92"/>
            <p:cNvSpPr/>
            <p:nvPr/>
          </p:nvSpPr>
          <p:spPr>
            <a:xfrm>
              <a:off x="752724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93"/>
            <p:cNvSpPr/>
            <p:nvPr/>
          </p:nvSpPr>
          <p:spPr>
            <a:xfrm>
              <a:off x="759924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94"/>
            <p:cNvSpPr/>
            <p:nvPr/>
          </p:nvSpPr>
          <p:spPr>
            <a:xfrm>
              <a:off x="767016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95"/>
            <p:cNvSpPr/>
            <p:nvPr/>
          </p:nvSpPr>
          <p:spPr>
            <a:xfrm>
              <a:off x="774180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96"/>
            <p:cNvSpPr/>
            <p:nvPr/>
          </p:nvSpPr>
          <p:spPr>
            <a:xfrm>
              <a:off x="781308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97"/>
            <p:cNvSpPr/>
            <p:nvPr/>
          </p:nvSpPr>
          <p:spPr>
            <a:xfrm>
              <a:off x="788508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98"/>
            <p:cNvSpPr/>
            <p:nvPr/>
          </p:nvSpPr>
          <p:spPr>
            <a:xfrm>
              <a:off x="716544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99"/>
            <p:cNvSpPr/>
            <p:nvPr/>
          </p:nvSpPr>
          <p:spPr>
            <a:xfrm>
              <a:off x="723672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100"/>
            <p:cNvSpPr/>
            <p:nvPr/>
          </p:nvSpPr>
          <p:spPr>
            <a:xfrm>
              <a:off x="730836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101"/>
            <p:cNvSpPr/>
            <p:nvPr/>
          </p:nvSpPr>
          <p:spPr>
            <a:xfrm>
              <a:off x="737928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102"/>
            <p:cNvSpPr/>
            <p:nvPr/>
          </p:nvSpPr>
          <p:spPr>
            <a:xfrm>
              <a:off x="745128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03"/>
            <p:cNvSpPr/>
            <p:nvPr/>
          </p:nvSpPr>
          <p:spPr>
            <a:xfrm>
              <a:off x="752256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104"/>
            <p:cNvSpPr/>
            <p:nvPr/>
          </p:nvSpPr>
          <p:spPr>
            <a:xfrm>
              <a:off x="759456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05"/>
            <p:cNvSpPr/>
            <p:nvPr/>
          </p:nvSpPr>
          <p:spPr>
            <a:xfrm>
              <a:off x="766548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06"/>
            <p:cNvSpPr/>
            <p:nvPr/>
          </p:nvSpPr>
          <p:spPr>
            <a:xfrm>
              <a:off x="773748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07"/>
            <p:cNvSpPr/>
            <p:nvPr/>
          </p:nvSpPr>
          <p:spPr>
            <a:xfrm>
              <a:off x="780840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08"/>
            <p:cNvSpPr/>
            <p:nvPr/>
          </p:nvSpPr>
          <p:spPr>
            <a:xfrm>
              <a:off x="788040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09"/>
            <p:cNvSpPr/>
            <p:nvPr/>
          </p:nvSpPr>
          <p:spPr>
            <a:xfrm>
              <a:off x="7162920" y="2995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10"/>
            <p:cNvSpPr/>
            <p:nvPr/>
          </p:nvSpPr>
          <p:spPr>
            <a:xfrm>
              <a:off x="7233480" y="299556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11"/>
            <p:cNvSpPr/>
            <p:nvPr/>
          </p:nvSpPr>
          <p:spPr>
            <a:xfrm>
              <a:off x="7305480" y="2995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2"/>
            <p:cNvSpPr/>
            <p:nvPr/>
          </p:nvSpPr>
          <p:spPr>
            <a:xfrm>
              <a:off x="7376760" y="2995560"/>
              <a:ext cx="57060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13"/>
            <p:cNvSpPr/>
            <p:nvPr/>
          </p:nvSpPr>
          <p:spPr>
            <a:xfrm>
              <a:off x="7448760" y="2995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14"/>
            <p:cNvSpPr/>
            <p:nvPr/>
          </p:nvSpPr>
          <p:spPr>
            <a:xfrm>
              <a:off x="7519680" y="299556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15"/>
            <p:cNvSpPr/>
            <p:nvPr/>
          </p:nvSpPr>
          <p:spPr>
            <a:xfrm>
              <a:off x="7591680" y="2995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16"/>
            <p:cNvSpPr/>
            <p:nvPr/>
          </p:nvSpPr>
          <p:spPr>
            <a:xfrm>
              <a:off x="7662600" y="2995560"/>
              <a:ext cx="57060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17"/>
            <p:cNvSpPr/>
            <p:nvPr/>
          </p:nvSpPr>
          <p:spPr>
            <a:xfrm>
              <a:off x="7734600" y="2995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18"/>
            <p:cNvSpPr/>
            <p:nvPr/>
          </p:nvSpPr>
          <p:spPr>
            <a:xfrm>
              <a:off x="7805520" y="299556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19"/>
            <p:cNvSpPr/>
            <p:nvPr/>
          </p:nvSpPr>
          <p:spPr>
            <a:xfrm>
              <a:off x="7877520" y="2995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AutoShape 122"/>
          <p:cNvSpPr/>
          <p:nvPr/>
        </p:nvSpPr>
        <p:spPr>
          <a:xfrm>
            <a:off x="7236000" y="1557360"/>
            <a:ext cx="1223640" cy="1014480"/>
          </a:xfrm>
          <a:prstGeom prst="cube">
            <a:avLst>
              <a:gd name="adj" fmla="val 61027"/>
            </a:avLst>
          </a:prstGeom>
          <a:solidFill>
            <a:srgbClr val="000000"/>
          </a:solidFill>
          <a:ln w="349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86" descr="BiceAV1BG"/>
          <p:cNvPicPr/>
          <p:nvPr/>
        </p:nvPicPr>
        <p:blipFill>
          <a:blip r:embed="rId1"/>
          <a:stretch/>
        </p:blipFill>
        <p:spPr>
          <a:xfrm>
            <a:off x="7236000" y="2185920"/>
            <a:ext cx="609480" cy="385920"/>
          </a:xfrm>
          <a:prstGeom prst="rect">
            <a:avLst/>
          </a:prstGeom>
          <a:ln w="0">
            <a:noFill/>
          </a:ln>
        </p:spPr>
      </p:pic>
      <p:sp>
        <p:nvSpPr>
          <p:cNvPr id="196" name="Line 187"/>
          <p:cNvSpPr/>
          <p:nvPr/>
        </p:nvSpPr>
        <p:spPr>
          <a:xfrm>
            <a:off x="7451640" y="2779560"/>
            <a:ext cx="0" cy="358920"/>
          </a:xfrm>
          <a:prstGeom prst="line">
            <a:avLst/>
          </a:prstGeom>
          <a:ln w="76320">
            <a:solidFill>
              <a:srgbClr val="ffcc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90"/>
          <p:cNvSpPr/>
          <p:nvPr/>
        </p:nvSpPr>
        <p:spPr>
          <a:xfrm flipH="1">
            <a:off x="7884720" y="1844640"/>
            <a:ext cx="91764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91"/>
          <p:cNvSpPr/>
          <p:nvPr/>
        </p:nvSpPr>
        <p:spPr>
          <a:xfrm>
            <a:off x="8191080" y="2133720"/>
            <a:ext cx="9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DE98-51AB-4A8F-9919-9C4ABEED8E6A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Metodi di bas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za tra fram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background stimato è semplicemente l’immagine preced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vora solo in particolari condizioni (velocità degli oggetti in movimento e frame rate – fattori collegat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ile trovare una sogli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atta (sensibilità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2:55:16Z</dcterms:created>
  <dc:creator>Marco</dc:creator>
  <dc:description/>
  <dc:language>en-US</dc:language>
  <cp:lastModifiedBy>Marco Cristani</cp:lastModifiedBy>
  <dcterms:modified xsi:type="dcterms:W3CDTF">2015-05-12T00:24:21Z</dcterms:modified>
  <cp:revision>179</cp:revision>
  <dc:subject/>
  <dc:title>Diapositiva 1</dc:title>
</cp:coreProperties>
</file>