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26.png" ContentType="image/png"/>
  <Override PartName="/ppt/media/image3.png" ContentType="image/png"/>
  <Override PartName="/ppt/media/image13.wmf" ContentType="image/x-wmf"/>
  <Override PartName="/ppt/media/image5.png" ContentType="image/png"/>
  <Override PartName="/ppt/media/image28.wmf" ContentType="image/x-wmf"/>
  <Override PartName="/ppt/media/image30.png" ContentType="image/png"/>
  <Override PartName="/ppt/media/image35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46.png" ContentType="image/png"/>
  <Override PartName="/ppt/media/image32.png" ContentType="image/png"/>
  <Override PartName="/ppt/media/image43.wmf" ContentType="image/x-wmf"/>
  <Override PartName="/ppt/media/image36.wmf" ContentType="image/x-wmf"/>
  <Override PartName="/ppt/media/image44.jpeg" ContentType="image/jpeg"/>
  <Override PartName="/ppt/media/image9.png" ContentType="image/png"/>
  <Override PartName="/ppt/media/image34.wmf" ContentType="image/x-wmf"/>
  <Override PartName="/ppt/media/image45.jpeg" ContentType="image/jpeg"/>
  <Override PartName="/ppt/media/image33.wmf" ContentType="image/x-wmf"/>
  <Override PartName="/ppt/media/image11.png" ContentType="image/png"/>
  <Override PartName="/ppt/media/image48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47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F81-C4A0-4A47-9C30-98CC4CAE79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268-F8BA-4B8B-8721-FF50E4B09B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710C-BA36-4273-8C00-CF9C9EC702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Hue (tin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tinta è esattamente il colore pieno: rosso, verde, giallo, blu, e le varie sfumature tra di essi. Nello spazio HSV viene rappresentata come un cerchio, e quindi il singolo colore lo identifico con un numero che va da 0° a 360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aturation (saturazi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aturazione è un indicatore di quanto il nostro colore è pieno, e quanto invece smorzato. Saturo vuol dire che è 100% della nostra tinta, mentre procedendo verso lo 0% trovo un colore sempre più mischiato al bianco, ovvero più pallido, smorto, più pastello. La saturazione va quindi dallo 0% al 100%: 100% = colore pieno; 0% = bian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Value (valo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potrebbe tradurre anche con luminosità. Mi dice quanto è luminoso il colore. 100% vuol dire che il colore è brillante, mentre 0% vuol dire che non c'è luce, cioè è nero. I gradi intermedi sono una fusione tra questi due valori estre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ED1C-784F-4ACC-8E02-17DFDA9A0D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BD5-2D4A-476A-8479-A2B5E99B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361-CED9-42E1-876F-B514F5FB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69B-FABE-4E7A-9531-E40BCB3E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3C7-CC9B-40B6-B97B-4833628B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404-D8C7-49A0-8756-031A74F7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4A7-84F7-4409-B8BA-C45A18B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4C6-32AA-47A9-8B29-8076F0FD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152-C751-4E71-A6B3-2371D830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B47-A994-46C8-997C-1D3F69C2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F86-1586-4524-9A9C-244A58C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A8B-9063-4965-8CB4-68D5FB0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CDB-9A4A-4A21-A06E-F0FDDF85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A5A1-CAE9-4997-A166-A522E8454A9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539640" y="6381720"/>
            <a:ext cx="6913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1258920" y="623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03B-A7BC-4B05-A99A-22D64E12ED4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Sistemi Avanzati per il Riconoscimento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573228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rof. Marco Cristan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258920" y="115920"/>
            <a:ext cx="6337440" cy="7333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Università di Verona</a:t>
            </a:r>
            <a:br>
              <a:rPr sz="1400"/>
            </a:b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Dipartimento di Informa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Corso di Laurea Magistrale in Ingegneria e Scienze Informa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270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otion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Roadrunner"/>
          <p:cNvPicPr/>
          <p:nvPr/>
        </p:nvPicPr>
        <p:blipFill>
          <a:blip r:embed="rId1"/>
          <a:stretch/>
        </p:blipFill>
        <p:spPr>
          <a:xfrm>
            <a:off x="2554200" y="1954080"/>
            <a:ext cx="4173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6BC-33F8-43E8-85AE-4E5E5E9C9E0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3384360" cy="251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4643280" y="113508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1258920" y="3646440"/>
            <a:ext cx="3384360" cy="2519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4"/>
          <a:stretch/>
        </p:blipFill>
        <p:spPr>
          <a:xfrm>
            <a:off x="4643280" y="3654360"/>
            <a:ext cx="3456000" cy="2519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3240" y="20606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8147880" y="19954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1440" y="45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8200440" y="458136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B8B0-5B55-4928-B477-E79226E52F4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etodi di base: approccio basato su mediana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è la media o la mediana (Velastin, 2000; Cucchiara, 2003) degli n frame preced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uttosto veloce, ma esoso in termini di spazio: i requisiti di memoria sono n * size(fr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il background come un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dia mob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α*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+1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(1 -α) *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α, il learning rate, è tipicamente basso - 0.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sun requisito di memo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6E3C-0B00-416D-8558-3A7A3E93F1D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considerazion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dello di background ad ogni locazione di pixel è basato sulla storia recente del pixel stes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olti lavori, tale storia è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plicemente i primi n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media pesata in cui i valori più recenti hanno peso più picco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questi metodi non viene modellata alcuna correlazione tra pixel adiacenti (approcci per pix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B298-648F-4AAF-8A4F-22C0E6E3683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ttività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 ogni frame, un pixel viene classificato come BG o F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 feedback puo’ essere ricavato da questa operazion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il pixel viene identificato come foreground, esso non viene incluso ne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questo modo il modello di BG non viene inquinato da valori che logicamente non appartengono alla sce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mobile con sel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gimento usato larg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BG modellato è monomod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 scegliere la soglia 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481040" y="3328920"/>
                <a:ext cx="555156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e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f 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7FE9-BC08-46CE-875E-4FAD5DAD360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etodi di base: selezione della soglia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finder (Wren, Azarbayejani, Darrell, Pentland, 1997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ne fittata una distribuzione gaussiana (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μ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ll’istogramma generato dalla storia di ogni pixel: questo restituisce la distribuzione (PDF) del backgr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iornamento dei parametri: media 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ò risolve il problema della soglia: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oreground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isul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5"/>
              <p:cNvSpPr txBox="1"/>
              <p:nvPr/>
            </p:nvSpPr>
            <p:spPr>
              <a:xfrm>
                <a:off x="1828800" y="3357720"/>
                <a:ext cx="517032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835280" y="5099040"/>
                <a:ext cx="56656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      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     altriment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Text Box 7"/>
          <p:cNvSpPr/>
          <p:nvPr/>
        </p:nvSpPr>
        <p:spPr>
          <a:xfrm rot="21430800">
            <a:off x="6227640" y="5876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33"/>
                </a:solidFill>
                <a:latin typeface="Arial"/>
              </a:rPr>
              <a:t>NO MULTIMODA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792120" y="52038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= 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63D-223B-4CC9-BF62-403A08365C5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Background bimodal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31" name="WaterBIG.avi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2268360" y="4508640"/>
            <a:ext cx="1224000" cy="431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Water.avi" descr=""/>
          <p:cNvPicPr/>
          <p:nvPr/>
        </p:nvPicPr>
        <p:blipFill>
          <a:blip r:embed="rId2"/>
          <a:stretch/>
        </p:blipFill>
        <p:spPr>
          <a:xfrm>
            <a:off x="2987640" y="5734080"/>
            <a:ext cx="1114560" cy="390600"/>
          </a:xfrm>
          <a:prstGeom prst="rect">
            <a:avLst/>
          </a:prstGeom>
          <a:ln w="0">
            <a:noFill/>
          </a:ln>
        </p:spPr>
      </p:pic>
      <p:cxnSp>
        <p:nvCxnSpPr>
          <p:cNvPr id="234" name="AutoShape 13"/>
          <p:cNvCxnSpPr>
            <a:stCxn id="232" idx="2"/>
            <a:endCxn id="233" idx="0"/>
          </p:cNvCxnSpPr>
          <p:nvPr/>
        </p:nvCxnSpPr>
        <p:spPr>
          <a:xfrm>
            <a:off x="2881080" y="4954320"/>
            <a:ext cx="664200" cy="7801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pic>
        <p:nvPicPr>
          <p:cNvPr id="235" name="Picture 14" descr="Histoplot"/>
          <p:cNvPicPr/>
          <p:nvPr/>
        </p:nvPicPr>
        <p:blipFill>
          <a:blip r:embed="rId3"/>
          <a:stretch/>
        </p:blipFill>
        <p:spPr>
          <a:xfrm>
            <a:off x="5724360" y="3933720"/>
            <a:ext cx="2883240" cy="2168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timeplot"/>
          <p:cNvPicPr/>
          <p:nvPr/>
        </p:nvPicPr>
        <p:blipFill>
          <a:blip r:embed="rId4"/>
          <a:stretch/>
        </p:blipFill>
        <p:spPr>
          <a:xfrm>
            <a:off x="5724360" y="1268280"/>
            <a:ext cx="2808360" cy="2113200"/>
          </a:xfrm>
          <a:prstGeom prst="rect">
            <a:avLst/>
          </a:prstGeom>
          <a:ln w="0">
            <a:noFill/>
          </a:ln>
        </p:spPr>
      </p:pic>
      <p:sp>
        <p:nvSpPr>
          <p:cNvPr id="237" name="Line 16"/>
          <p:cNvSpPr/>
          <p:nvPr/>
        </p:nvSpPr>
        <p:spPr>
          <a:xfrm>
            <a:off x="6012000" y="35002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8318160" y="3355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8"/>
          <p:cNvSpPr/>
          <p:nvPr/>
        </p:nvSpPr>
        <p:spPr>
          <a:xfrm>
            <a:off x="5796000" y="4148280"/>
            <a:ext cx="1800360" cy="172872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9"/>
          <p:cNvSpPr/>
          <p:nvPr/>
        </p:nvSpPr>
        <p:spPr>
          <a:xfrm>
            <a:off x="6299280" y="4581360"/>
            <a:ext cx="2520720" cy="1295640"/>
          </a:xfrm>
          <a:custGeom>
            <a:avLst/>
            <a:gdLst/>
            <a:ahLst/>
            <a:rect l="l" t="t" r="r" b="b"/>
            <a:pathLst>
              <a:path w="1723" h="2155">
                <a:moveTo>
                  <a:pt x="1723" y="2109"/>
                </a:moveTo>
                <a:cubicBezTo>
                  <a:pt x="1624" y="2090"/>
                  <a:pt x="1526" y="2071"/>
                  <a:pt x="1451" y="1973"/>
                </a:cubicBezTo>
                <a:cubicBezTo>
                  <a:pt x="1376" y="1875"/>
                  <a:pt x="1315" y="1792"/>
                  <a:pt x="1270" y="1520"/>
                </a:cubicBezTo>
                <a:cubicBezTo>
                  <a:pt x="1225" y="1248"/>
                  <a:pt x="1224" y="589"/>
                  <a:pt x="1179" y="340"/>
                </a:cubicBezTo>
                <a:cubicBezTo>
                  <a:pt x="1134" y="91"/>
                  <a:pt x="1065" y="46"/>
                  <a:pt x="997" y="23"/>
                </a:cubicBezTo>
                <a:cubicBezTo>
                  <a:pt x="929" y="0"/>
                  <a:pt x="824" y="15"/>
                  <a:pt x="771" y="204"/>
                </a:cubicBezTo>
                <a:cubicBezTo>
                  <a:pt x="718" y="393"/>
                  <a:pt x="703" y="915"/>
                  <a:pt x="680" y="1157"/>
                </a:cubicBezTo>
                <a:cubicBezTo>
                  <a:pt x="657" y="1399"/>
                  <a:pt x="665" y="1520"/>
                  <a:pt x="635" y="1656"/>
                </a:cubicBezTo>
                <a:cubicBezTo>
                  <a:pt x="605" y="1792"/>
                  <a:pt x="604" y="1890"/>
                  <a:pt x="498" y="1973"/>
                </a:cubicBezTo>
                <a:cubicBezTo>
                  <a:pt x="392" y="2056"/>
                  <a:pt x="196" y="2105"/>
                  <a:pt x="0" y="215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23"/>
          <p:cNvCxnSpPr>
            <a:stCxn id="233" idx="3"/>
            <a:endCxn id="236" idx="1"/>
          </p:cNvCxnSpPr>
          <p:nvPr/>
        </p:nvCxnSpPr>
        <p:spPr>
          <a:xfrm flipV="1">
            <a:off x="4102200" y="2325240"/>
            <a:ext cx="1622880" cy="360432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cxnSp>
        <p:nvCxnSpPr>
          <p:cNvPr id="242" name="AutoShape 24"/>
          <p:cNvCxnSpPr>
            <a:stCxn id="233" idx="3"/>
            <a:endCxn id="235" idx="1"/>
          </p:cNvCxnSpPr>
          <p:nvPr/>
        </p:nvCxnSpPr>
        <p:spPr>
          <a:xfrm flipV="1">
            <a:off x="4102200" y="5017320"/>
            <a:ext cx="1622880" cy="911880"/>
          </a:xfrm>
          <a:prstGeom prst="straightConnector1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</p:cxnSp>
      <p:sp>
        <p:nvSpPr>
          <p:cNvPr id="243" name="Oval 25"/>
          <p:cNvSpPr/>
          <p:nvPr/>
        </p:nvSpPr>
        <p:spPr>
          <a:xfrm>
            <a:off x="5580000" y="1341360"/>
            <a:ext cx="2952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5651640" y="2349360"/>
            <a:ext cx="2952720" cy="719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8011800" y="10731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822564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7A36-B864-4A26-8828-F97F32B8DC5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APPMO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6360" y="981000"/>
            <a:ext cx="6264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lo statistic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enerati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Time Adaptive Mixture Of Gaussian (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TAPPMOG, Stauffer and Grimson, 1999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babilità di osservare il valore di pixel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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k ,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 identificano le componenti gauss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40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(t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grado di importanz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; se alto, indica una componente che modella un segnale persistente, quindi di BG; altrimenti abbiamo un valore di FG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930240" y="2997360"/>
                <a:ext cx="41990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Ν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5"/>
          <p:cNvSpPr/>
          <p:nvPr/>
        </p:nvSpPr>
        <p:spPr>
          <a:xfrm>
            <a:off x="6525720" y="42926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ge of the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780160" y="12621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 flipV="1">
            <a:off x="6012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GMovNew.avi" descr=""/>
          <p:cNvPicPr/>
          <p:nvPr/>
        </p:nvPicPr>
        <p:blipFill>
          <a:blip r:embed="rId1"/>
          <a:stretch/>
        </p:blipFill>
        <p:spPr>
          <a:xfrm>
            <a:off x="6149880" y="1190520"/>
            <a:ext cx="2987640" cy="3167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rot="19132200">
            <a:off x="5724000" y="2276280"/>
            <a:ext cx="358920" cy="358560"/>
          </a:xfrm>
          <a:prstGeom prst="rightArrow">
            <a:avLst>
              <a:gd name="adj1" fmla="val 50000"/>
              <a:gd name="adj2" fmla="val 2502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0" y="43560"/>
            <a:ext cx="9144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Stauffer, C., Grimson, W., 1999. Adaptive background mixture models for real-time tracking. In: Proc. of the IEEE Int. Conf. on Computer Vision and Pattern Recognition, Ft. Collins, CO, USA. pp. 246-252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700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1398-6FB1-402A-A016-D2DBB281B46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nuovo frame, alcune Gaussiane associate al pixel i-esimo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ono “matchare” il valore del pixel corrente, oss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 k indice di compon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o co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a componente a distanza mino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e gaussiana (e il rispettivo valore di pixel) viene classificata come BG o FG, mediante i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G test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gnoro l’indice i del pix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ndi                                             è il numero di comp che modellano il B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908000" y="5262480"/>
                <a:ext cx="3095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in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3059280" y="4000680"/>
                <a:ext cx="25923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rPr>
                            <m:lit/>
                            <m:nor/>
                          </m:rPr>
                          <m:t xml:space="preserve">   if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tched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3049560" y="1887480"/>
                <a:ext cx="248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496-FE47-45BB-9503-FC728A12EAA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a importante: le componenti Gaussiane sono ordinate in maniera decrescente s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i con peso maggiore (viste più volte) con varianza minore (più stabili e regolari nel tempo) si trovano nelle prime posi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2700360" y="1471680"/>
                <a:ext cx="1241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D7F-CAEB-44A5-A4FA-3C8B7568EF5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5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vengono addestrati on-line – il training avviene interfogliato con la classific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esi di tutte le componenti di tutti i pixel vengono aggiornati come se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un dato pixel, l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tching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menta di peso, le altre diminuisc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2268360" y="3213000"/>
                <a:ext cx="461340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if k è </m:t>
                                  </m:r>
                                  <m:r>
                                    <m:t xml:space="preserve">matching</m:t>
                                  </m:r>
                                  <m:r>
                                    <m:t xml:space="preserve">comp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  <m: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altrimenti                     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AFFE-B8EB-4848-99BD-8608BF1FF9B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66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- operazione necessaria per la maggior parte delle applicazioni di sorveglianza, HCI avanzate, etc. che operano mediante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e-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king (face-hand-gesture-bod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te le applicazioni di cui sopra sono organizzate come architetture ser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è importante non introdurre errori nei primi stage dell’architettura, pena la loro propagazione amplificata nei successiv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po di ricerca attivo dal 1970, tuttora ferv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nonimi di motion det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strazione del fore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380360" y="2308320"/>
            <a:ext cx="1584360" cy="433440"/>
          </a:xfrm>
          <a:prstGeom prst="rect">
            <a:avLst/>
          </a:prstGeom>
          <a:solidFill>
            <a:srgbClr val="c0c0c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380360" y="2955960"/>
            <a:ext cx="158436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ATURE 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380360" y="3675240"/>
            <a:ext cx="1584360" cy="43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7667640" y="148428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7667640" y="439740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15"/>
          <p:cNvCxnSpPr>
            <a:stCxn id="62" idx="4"/>
            <a:endCxn id="59" idx="0"/>
          </p:cNvCxnSpPr>
          <p:nvPr/>
        </p:nvCxnSpPr>
        <p:spPr>
          <a:xfrm>
            <a:off x="8172000" y="198720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6"/>
          <p:cNvCxnSpPr>
            <a:stCxn id="59" idx="2"/>
            <a:endCxn id="60" idx="0"/>
          </p:cNvCxnSpPr>
          <p:nvPr/>
        </p:nvCxnSpPr>
        <p:spPr>
          <a:xfrm>
            <a:off x="8172000" y="2755800"/>
            <a:ext cx="108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17"/>
          <p:cNvCxnSpPr>
            <a:stCxn id="60" idx="2"/>
            <a:endCxn id="61" idx="0"/>
          </p:cNvCxnSpPr>
          <p:nvPr/>
        </p:nvCxnSpPr>
        <p:spPr>
          <a:xfrm>
            <a:off x="8172000" y="3389400"/>
            <a:ext cx="10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8"/>
          <p:cNvCxnSpPr>
            <a:stCxn id="61" idx="2"/>
            <a:endCxn id="63" idx="0"/>
          </p:cNvCxnSpPr>
          <p:nvPr/>
        </p:nvCxnSpPr>
        <p:spPr>
          <a:xfrm>
            <a:off x="8172000" y="4107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CF29-10D2-441C-A856-D921FF3058C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Misture di gaussiane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arametri della matching component, 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engono aggiornate mediante media mobile, con le seguenti eq. di rinnovo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er un dato pixel non ho componenti che matchano, inserisco una nuova componente 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2195640" y="2421000"/>
                <a:ext cx="60768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e>
                        </m:d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α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2236680" y="5013360"/>
                <a:ext cx="2403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lore alt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BC8-113C-4CA9-B34B-570F5A071C4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3360" y="1308240"/>
            <a:ext cx="8353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aramet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è detto learning rat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pero veloce degli err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 oggetto inizialmente mobile, poi statico, viene “assorbito” presto dal modello di B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sa di buchi in un oggetto mobile l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ta sensibilità verso oggetti l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a adattività (difficoltà con cambi di illuminazion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3059280" y="15318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6"/>
              <p:cNvSpPr txBox="1"/>
              <p:nvPr/>
            </p:nvSpPr>
            <p:spPr>
              <a:xfrm>
                <a:off x="6877080" y="1413000"/>
                <a:ext cx="931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427040" y="189216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8"/>
              <p:cNvSpPr txBox="1"/>
              <p:nvPr/>
            </p:nvSpPr>
            <p:spPr>
              <a:xfrm>
                <a:off x="1403280" y="3965400"/>
                <a:ext cx="3603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DC8-C5BE-461C-B718-7E2FD100539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important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numero di mode è definito una volta per tutte a priori (di solito da 3 a 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istono metodi di scelta on-line per le componenti [Zivkovic@ICPR0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inizializzare le Gaussiane 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 ,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539640" y="27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Risultati (diffici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SnowTAPPMOG.avi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1656000" cy="1301760"/>
          </a:xfrm>
          <a:prstGeom prst="rect">
            <a:avLst/>
          </a:prstGeom>
          <a:ln w="0">
            <a:noFill/>
          </a:ln>
        </p:spPr>
      </p:pic>
      <p:pic>
        <p:nvPicPr>
          <p:cNvPr id="288" name="Snow2.avi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1656000" cy="1282680"/>
          </a:xfrm>
          <a:prstGeom prst="rect">
            <a:avLst/>
          </a:prstGeom>
          <a:ln w="0">
            <a:noFill/>
          </a:ln>
        </p:spPr>
      </p:pic>
      <p:pic>
        <p:nvPicPr>
          <p:cNvPr id="289" name="SnowS-TAPPMOG.avi" descr=""/>
          <p:cNvPicPr/>
          <p:nvPr/>
        </p:nvPicPr>
        <p:blipFill>
          <a:blip r:embed="rId3"/>
          <a:stretch/>
        </p:blipFill>
        <p:spPr>
          <a:xfrm>
            <a:off x="1908000" y="5013360"/>
            <a:ext cx="1652760" cy="1299960"/>
          </a:xfrm>
          <a:prstGeom prst="rect">
            <a:avLst/>
          </a:prstGeom>
          <a:ln w="0">
            <a:noFill/>
          </a:ln>
        </p:spPr>
      </p:pic>
      <p:pic>
        <p:nvPicPr>
          <p:cNvPr id="290" name="Originale_Esperimento1.avi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1942920" cy="1590840"/>
          </a:xfrm>
          <a:prstGeom prst="rect">
            <a:avLst/>
          </a:prstGeom>
          <a:ln w="0">
            <a:noFill/>
          </a:ln>
        </p:spPr>
      </p:pic>
      <p:pic>
        <p:nvPicPr>
          <p:cNvPr id="291" name="SG_Esperimento1.avi" descr=""/>
          <p:cNvPicPr/>
          <p:nvPr/>
        </p:nvPicPr>
        <p:blipFill>
          <a:blip r:embed="rId5"/>
          <a:stretch/>
        </p:blipFill>
        <p:spPr>
          <a:xfrm>
            <a:off x="6516720" y="4076640"/>
            <a:ext cx="19447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Object 14"/>
              <p:cNvSpPr txBox="1"/>
              <p:nvPr/>
            </p:nvSpPr>
            <p:spPr>
              <a:xfrm>
                <a:off x="5292720" y="5805360"/>
                <a:ext cx="2552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roppo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ass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15"/>
          <p:cNvSpPr/>
          <p:nvPr/>
        </p:nvSpPr>
        <p:spPr>
          <a:xfrm>
            <a:off x="324000" y="530064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mor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9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6B8-50AF-4444-BC52-5BB4FC16F87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99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280" y="2997360"/>
            <a:ext cx="5977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stribuzione sui valori di BG per un pixel è data dall’istogramma degl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ori di pixel più rec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ni valore della 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valutato puntualmente (stim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zen Window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ne filtrato con una funzione particolar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in modo che la pdf risultante sia smoo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070800" y="1825560"/>
            <a:ext cx="2572920" cy="1570680"/>
            <a:chOff x="3070800" y="1825560"/>
            <a:chExt cx="2572920" cy="1570680"/>
          </a:xfrm>
        </p:grpSpPr>
        <p:sp>
          <p:nvSpPr>
            <p:cNvPr id="298" name="AutoShape 5"/>
            <p:cNvSpPr/>
            <p:nvPr/>
          </p:nvSpPr>
          <p:spPr>
            <a:xfrm flipV="1" rot="20758800">
              <a:off x="3158280" y="2100240"/>
              <a:ext cx="2397240" cy="1020240"/>
            </a:xfrm>
            <a:prstGeom prst="parallelogram">
              <a:avLst>
                <a:gd name="adj" fmla="val 5956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"/>
            <p:cNvSpPr/>
            <p:nvPr/>
          </p:nvSpPr>
          <p:spPr>
            <a:xfrm rot="20934600">
              <a:off x="3654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7"/>
            <p:cNvSpPr/>
            <p:nvPr/>
          </p:nvSpPr>
          <p:spPr>
            <a:xfrm rot="20934600">
              <a:off x="3736080" y="2535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"/>
            <p:cNvSpPr/>
            <p:nvPr/>
          </p:nvSpPr>
          <p:spPr>
            <a:xfrm rot="20934600">
              <a:off x="3861720" y="2502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9"/>
            <p:cNvSpPr/>
            <p:nvPr/>
          </p:nvSpPr>
          <p:spPr>
            <a:xfrm rot="20934600">
              <a:off x="3699000" y="24339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0"/>
            <p:cNvSpPr/>
            <p:nvPr/>
          </p:nvSpPr>
          <p:spPr>
            <a:xfrm rot="20934600">
              <a:off x="3810240" y="2400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1"/>
            <p:cNvSpPr/>
            <p:nvPr/>
          </p:nvSpPr>
          <p:spPr>
            <a:xfrm rot="20934600">
              <a:off x="3898800" y="2440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2"/>
            <p:cNvSpPr/>
            <p:nvPr/>
          </p:nvSpPr>
          <p:spPr>
            <a:xfrm rot="20934600">
              <a:off x="3780360" y="246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 rot="20934600">
              <a:off x="3612960" y="2616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 rot="20934600">
              <a:off x="3506400" y="2535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 rot="20934600">
              <a:off x="35139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 rot="20934600">
              <a:off x="3635280" y="235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 rot="20934600">
              <a:off x="331704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8"/>
            <p:cNvSpPr/>
            <p:nvPr/>
          </p:nvSpPr>
          <p:spPr>
            <a:xfrm rot="20934600">
              <a:off x="3114720" y="23727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9"/>
            <p:cNvSpPr/>
            <p:nvPr/>
          </p:nvSpPr>
          <p:spPr>
            <a:xfrm rot="20934600">
              <a:off x="342504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0"/>
            <p:cNvSpPr/>
            <p:nvPr/>
          </p:nvSpPr>
          <p:spPr>
            <a:xfrm rot="20934600">
              <a:off x="3768480" y="223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"/>
            <p:cNvSpPr/>
            <p:nvPr/>
          </p:nvSpPr>
          <p:spPr>
            <a:xfrm rot="20934600">
              <a:off x="3494520" y="27460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2"/>
            <p:cNvSpPr/>
            <p:nvPr/>
          </p:nvSpPr>
          <p:spPr>
            <a:xfrm rot="20934600">
              <a:off x="3716640" y="2957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3"/>
            <p:cNvSpPr/>
            <p:nvPr/>
          </p:nvSpPr>
          <p:spPr>
            <a:xfrm rot="20934600">
              <a:off x="371664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4"/>
            <p:cNvSpPr/>
            <p:nvPr/>
          </p:nvSpPr>
          <p:spPr>
            <a:xfrm rot="20934600">
              <a:off x="4249440" y="3072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5"/>
            <p:cNvSpPr/>
            <p:nvPr/>
          </p:nvSpPr>
          <p:spPr>
            <a:xfrm rot="20934600">
              <a:off x="4091040" y="2835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6"/>
            <p:cNvSpPr/>
            <p:nvPr/>
          </p:nvSpPr>
          <p:spPr>
            <a:xfrm rot="20934600">
              <a:off x="427140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7"/>
            <p:cNvSpPr/>
            <p:nvPr/>
          </p:nvSpPr>
          <p:spPr>
            <a:xfrm rot="20934600">
              <a:off x="4389840" y="242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8"/>
            <p:cNvSpPr/>
            <p:nvPr/>
          </p:nvSpPr>
          <p:spPr>
            <a:xfrm rot="20934600">
              <a:off x="443412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9"/>
            <p:cNvSpPr/>
            <p:nvPr/>
          </p:nvSpPr>
          <p:spPr>
            <a:xfrm rot="20934600">
              <a:off x="4365000" y="259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 rot="20934600">
              <a:off x="461196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1"/>
            <p:cNvSpPr/>
            <p:nvPr/>
          </p:nvSpPr>
          <p:spPr>
            <a:xfrm rot="20934600">
              <a:off x="4530600" y="26038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2"/>
            <p:cNvSpPr/>
            <p:nvPr/>
          </p:nvSpPr>
          <p:spPr>
            <a:xfrm rot="20934600">
              <a:off x="456732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rot="20934600">
              <a:off x="3306960" y="258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4"/>
            <p:cNvSpPr/>
            <p:nvPr/>
          </p:nvSpPr>
          <p:spPr>
            <a:xfrm rot="20934600">
              <a:off x="4086360" y="24271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5"/>
            <p:cNvSpPr/>
            <p:nvPr/>
          </p:nvSpPr>
          <p:spPr>
            <a:xfrm rot="20934600">
              <a:off x="4071960" y="25426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6"/>
            <p:cNvSpPr/>
            <p:nvPr/>
          </p:nvSpPr>
          <p:spPr>
            <a:xfrm rot="20934600">
              <a:off x="4579560" y="22230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37"/>
            <p:cNvSpPr/>
            <p:nvPr/>
          </p:nvSpPr>
          <p:spPr>
            <a:xfrm rot="20934600">
              <a:off x="3913560" y="23047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8"/>
            <p:cNvSpPr/>
            <p:nvPr/>
          </p:nvSpPr>
          <p:spPr>
            <a:xfrm rot="20934600">
              <a:off x="3869280" y="266436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9"/>
            <p:cNvSpPr/>
            <p:nvPr/>
          </p:nvSpPr>
          <p:spPr>
            <a:xfrm rot="20934600">
              <a:off x="4241880" y="2698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 rot="20934600">
              <a:off x="4535280" y="27536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 rot="20934600">
              <a:off x="5004000" y="28278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 rot="20934600">
              <a:off x="5403600" y="279432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 rot="20934600">
              <a:off x="5181480" y="25088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 rot="20934600">
              <a:off x="4890240" y="23454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5"/>
            <p:cNvSpPr/>
            <p:nvPr/>
          </p:nvSpPr>
          <p:spPr>
            <a:xfrm rot="20934600">
              <a:off x="4402080" y="21006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 rot="20934600">
              <a:off x="4801680" y="26312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 rot="20934600">
              <a:off x="4224240" y="226404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 rot="20934600">
              <a:off x="4757040" y="206028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 rot="20934600">
              <a:off x="4648680" y="2950200"/>
              <a:ext cx="108000" cy="48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50" descr="Just-a-PDF"/>
          <p:cNvPicPr/>
          <p:nvPr/>
        </p:nvPicPr>
        <p:blipFill>
          <a:blip r:embed="rId1"/>
          <a:stretch/>
        </p:blipFill>
        <p:spPr>
          <a:xfrm>
            <a:off x="539640" y="1406520"/>
            <a:ext cx="2397240" cy="1776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1"/>
          <p:cNvSpPr/>
          <p:nvPr/>
        </p:nvSpPr>
        <p:spPr>
          <a:xfrm>
            <a:off x="893160" y="341640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sità soggia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2"/>
          <p:cNvSpPr/>
          <p:nvPr/>
        </p:nvSpPr>
        <p:spPr>
          <a:xfrm>
            <a:off x="3685320" y="341460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pioni re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3"/>
          <p:cNvSpPr/>
          <p:nvPr/>
        </p:nvSpPr>
        <p:spPr>
          <a:xfrm rot="20861400">
            <a:off x="3630240" y="2385720"/>
            <a:ext cx="399960" cy="2109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4"/>
          <p:cNvSpPr/>
          <p:nvPr/>
        </p:nvSpPr>
        <p:spPr>
          <a:xfrm flipH="1" flipV="1">
            <a:off x="1604520" y="2060640"/>
            <a:ext cx="2086200" cy="36648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55"/>
          <p:cNvSpPr/>
          <p:nvPr/>
        </p:nvSpPr>
        <p:spPr>
          <a:xfrm>
            <a:off x="1916280" y="2386080"/>
            <a:ext cx="2396880" cy="368280"/>
          </a:xfrm>
          <a:custGeom>
            <a:avLst/>
            <a:gdLst/>
            <a:ahLst/>
            <a:rect l="l" t="t" r="r" b="b"/>
            <a:pathLst>
              <a:path w="2448" h="384">
                <a:moveTo>
                  <a:pt x="2448" y="240"/>
                </a:moveTo>
                <a:cubicBezTo>
                  <a:pt x="2304" y="276"/>
                  <a:pt x="2160" y="312"/>
                  <a:pt x="1968" y="336"/>
                </a:cubicBezTo>
                <a:cubicBezTo>
                  <a:pt x="1776" y="360"/>
                  <a:pt x="1504" y="384"/>
                  <a:pt x="1296" y="384"/>
                </a:cubicBezTo>
                <a:cubicBezTo>
                  <a:pt x="1088" y="384"/>
                  <a:pt x="872" y="360"/>
                  <a:pt x="720" y="336"/>
                </a:cubicBezTo>
                <a:cubicBezTo>
                  <a:pt x="568" y="312"/>
                  <a:pt x="504" y="296"/>
                  <a:pt x="384" y="240"/>
                </a:cubicBezTo>
                <a:cubicBezTo>
                  <a:pt x="264" y="184"/>
                  <a:pt x="132" y="92"/>
                  <a:pt x="0" y="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56"/>
          <p:cNvSpPr/>
          <p:nvPr/>
        </p:nvSpPr>
        <p:spPr>
          <a:xfrm rot="20861400">
            <a:off x="3913200" y="283500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7"/>
          <p:cNvSpPr/>
          <p:nvPr/>
        </p:nvSpPr>
        <p:spPr>
          <a:xfrm flipH="1" flipV="1">
            <a:off x="1560240" y="2835000"/>
            <a:ext cx="2352600" cy="12204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8"/>
          <p:cNvSpPr/>
          <p:nvPr/>
        </p:nvSpPr>
        <p:spPr>
          <a:xfrm>
            <a:off x="3035160" y="1446120"/>
            <a:ext cx="1332000" cy="530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sità di pu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cano alti valor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densit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59"/>
          <p:cNvSpPr/>
          <p:nvPr/>
        </p:nvSpPr>
        <p:spPr>
          <a:xfrm rot="20861400">
            <a:off x="4268880" y="2426760"/>
            <a:ext cx="399960" cy="21276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60"/>
          <p:cNvSpPr/>
          <p:nvPr/>
        </p:nvSpPr>
        <p:spPr>
          <a:xfrm rot="20175600">
            <a:off x="5360760" y="965160"/>
            <a:ext cx="576000" cy="2735280"/>
          </a:xfrm>
          <a:custGeom>
            <a:avLst/>
            <a:gdLst>
              <a:gd name="textAreaLeft" fmla="*/ 0 w 576000"/>
              <a:gd name="textAreaRight" fmla="*/ 208080 w 57600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1"/>
          <p:cNvSpPr/>
          <p:nvPr/>
        </p:nvSpPr>
        <p:spPr>
          <a:xfrm>
            <a:off x="5509800" y="1628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Z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5" descr="digitale11"/>
          <p:cNvPicPr/>
          <p:nvPr/>
        </p:nvPicPr>
        <p:blipFill>
          <a:blip r:embed="rId2"/>
          <a:stretch/>
        </p:blipFill>
        <p:spPr>
          <a:xfrm>
            <a:off x="6875640" y="4581360"/>
            <a:ext cx="2060280" cy="1546560"/>
          </a:xfrm>
          <a:prstGeom prst="rect">
            <a:avLst/>
          </a:prstGeom>
          <a:ln w="0">
            <a:noFill/>
          </a:ln>
        </p:spPr>
      </p:pic>
      <p:sp>
        <p:nvSpPr>
          <p:cNvPr id="356" name="AutoShape 67"/>
          <p:cNvSpPr/>
          <p:nvPr/>
        </p:nvSpPr>
        <p:spPr>
          <a:xfrm>
            <a:off x="7596360" y="292428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58"/>
          <p:cNvSpPr/>
          <p:nvPr/>
        </p:nvSpPr>
        <p:spPr>
          <a:xfrm>
            <a:off x="7596360" y="148428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22" descr="BiceAV1BG"/>
          <p:cNvPicPr/>
          <p:nvPr/>
        </p:nvPicPr>
        <p:blipFill>
          <a:blip r:embed="rId3"/>
          <a:stretch/>
        </p:blipFill>
        <p:spPr>
          <a:xfrm>
            <a:off x="7596360" y="2104920"/>
            <a:ext cx="588960" cy="385920"/>
          </a:xfrm>
          <a:prstGeom prst="rect">
            <a:avLst/>
          </a:prstGeom>
          <a:ln w="0">
            <a:noFill/>
          </a:ln>
        </p:spPr>
      </p:pic>
      <p:sp>
        <p:nvSpPr>
          <p:cNvPr id="359" name="Line 223"/>
          <p:cNvSpPr/>
          <p:nvPr/>
        </p:nvSpPr>
        <p:spPr>
          <a:xfrm>
            <a:off x="7812000" y="25653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4"/>
          <p:cNvSpPr/>
          <p:nvPr/>
        </p:nvSpPr>
        <p:spPr>
          <a:xfrm>
            <a:off x="7812000" y="2421000"/>
            <a:ext cx="36720" cy="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5"/>
          <p:cNvSpPr/>
          <p:nvPr/>
        </p:nvSpPr>
        <p:spPr>
          <a:xfrm>
            <a:off x="6929640" y="57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26"/>
          <p:cNvSpPr/>
          <p:nvPr/>
        </p:nvSpPr>
        <p:spPr>
          <a:xfrm>
            <a:off x="8319240" y="5770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7"/>
          <p:cNvSpPr/>
          <p:nvPr/>
        </p:nvSpPr>
        <p:spPr>
          <a:xfrm>
            <a:off x="6444000" y="4653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28"/>
          <p:cNvSpPr/>
          <p:nvPr/>
        </p:nvSpPr>
        <p:spPr>
          <a:xfrm>
            <a:off x="7812000" y="2997360"/>
            <a:ext cx="289080" cy="208728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29"/>
          <p:cNvSpPr/>
          <p:nvPr/>
        </p:nvSpPr>
        <p:spPr>
          <a:xfrm>
            <a:off x="7812000" y="3141720"/>
            <a:ext cx="144720" cy="194292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30"/>
          <p:cNvSpPr/>
          <p:nvPr/>
        </p:nvSpPr>
        <p:spPr>
          <a:xfrm flipH="1">
            <a:off x="7740720" y="3284640"/>
            <a:ext cx="71280" cy="1800000"/>
          </a:xfrm>
          <a:custGeom>
            <a:avLst/>
            <a:gdLst/>
            <a:ahLst/>
            <a:rect l="l" t="t" r="r" b="b"/>
            <a:pathLst>
              <a:path w="182" h="1270">
                <a:moveTo>
                  <a:pt x="182" y="0"/>
                </a:moveTo>
                <a:cubicBezTo>
                  <a:pt x="182" y="0"/>
                  <a:pt x="91" y="635"/>
                  <a:pt x="0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31"/>
          <p:cNvSpPr/>
          <p:nvPr/>
        </p:nvSpPr>
        <p:spPr>
          <a:xfrm>
            <a:off x="7093080" y="5049720"/>
            <a:ext cx="1511280" cy="792360"/>
          </a:xfrm>
          <a:custGeom>
            <a:avLst/>
            <a:gdLst/>
            <a:ahLst/>
            <a:rect l="l" t="t" r="r" b="b"/>
            <a:pathLst>
              <a:path w="952" h="499">
                <a:moveTo>
                  <a:pt x="952" y="476"/>
                </a:moveTo>
                <a:cubicBezTo>
                  <a:pt x="952" y="479"/>
                  <a:pt x="952" y="483"/>
                  <a:pt x="907" y="476"/>
                </a:cubicBezTo>
                <a:cubicBezTo>
                  <a:pt x="862" y="469"/>
                  <a:pt x="748" y="499"/>
                  <a:pt x="680" y="431"/>
                </a:cubicBezTo>
                <a:cubicBezTo>
                  <a:pt x="612" y="363"/>
                  <a:pt x="536" y="136"/>
                  <a:pt x="498" y="68"/>
                </a:cubicBezTo>
                <a:cubicBezTo>
                  <a:pt x="460" y="0"/>
                  <a:pt x="468" y="22"/>
                  <a:pt x="453" y="22"/>
                </a:cubicBezTo>
                <a:cubicBezTo>
                  <a:pt x="438" y="22"/>
                  <a:pt x="461" y="0"/>
                  <a:pt x="408" y="68"/>
                </a:cubicBezTo>
                <a:cubicBezTo>
                  <a:pt x="355" y="136"/>
                  <a:pt x="204" y="363"/>
                  <a:pt x="136" y="431"/>
                </a:cubicBezTo>
                <a:cubicBezTo>
                  <a:pt x="68" y="499"/>
                  <a:pt x="34" y="487"/>
                  <a:pt x="0" y="476"/>
                </a:cubicBezTo>
              </a:path>
            </a:pathLst>
          </a:custGeom>
          <a:noFill/>
          <a:ln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8605800" y="23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33"/>
          <p:cNvSpPr/>
          <p:nvPr/>
        </p:nvSpPr>
        <p:spPr>
          <a:xfrm flipV="1">
            <a:off x="8317080" y="2060280"/>
            <a:ext cx="64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35"/>
          <p:cNvSpPr/>
          <p:nvPr/>
        </p:nvSpPr>
        <p:spPr>
          <a:xfrm>
            <a:off x="7667640" y="5013360"/>
            <a:ext cx="287280" cy="431640"/>
          </a:xfrm>
          <a:custGeom>
            <a:avLst/>
            <a:gdLst>
              <a:gd name="textAreaLeft" fmla="*/ 0 w 287280"/>
              <a:gd name="textAreaRight" fmla="*/ 287640 w 287280"/>
              <a:gd name="textAreaTop" fmla="*/ 0 h 431640"/>
              <a:gd name="textAreaBottom" fmla="*/ 154080 h 431640"/>
            </a:gdLst>
            <a:ahLst/>
            <a:rect l="textAreaLeft" t="textAreaTop" r="textAreaRight" b="textAreaBottom"/>
            <a:pathLst>
              <a:path w="21600" h="21600">
                <a:moveTo>
                  <a:pt x="1012" y="10800"/>
                </a:moveTo>
                <a:cubicBezTo>
                  <a:pt x="1012" y="5394"/>
                  <a:pt x="5394" y="1012"/>
                  <a:pt x="10800" y="1012"/>
                </a:cubicBezTo>
                <a:cubicBezTo>
                  <a:pt x="16205" y="1011"/>
                  <a:pt x="20587" y="5394"/>
                  <a:pt x="2058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12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6"/>
          <p:cNvSpPr/>
          <p:nvPr/>
        </p:nvSpPr>
        <p:spPr>
          <a:xfrm>
            <a:off x="108000" y="44280"/>
            <a:ext cx="907236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CCE1-32A6-435F-8FFB-1B1728EE101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Stimatori non parametrici di BG (stimatori kernel, [Elgammal, Harwood, Davis, 2000]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funzione ker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(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gt; Th, il pixel z è classificato come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o perchè il valore del pixel nel tempo non è cambiato “di molto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stisce multimodalità, e selettiv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a: i requisiti di memoria sono pesanti, ossia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* size(frame))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l tempo di calcolo della probabi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2360520" y="1700280"/>
                <a:ext cx="39196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5091-11A1-4A56-8A98-85B74E1C241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miti degli approcci per-pixel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 di sequenze, ognuna delle quali contiene un problema tip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llflower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bootstrapshort.avi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comouflageshort.avi" descr=""/>
          <p:cNvPicPr/>
          <p:nvPr/>
        </p:nvPicPr>
        <p:blipFill>
          <a:blip r:embed="rId2"/>
          <a:stretch/>
        </p:blipFill>
        <p:spPr>
          <a:xfrm>
            <a:off x="3132000" y="2500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1" name="fgapertureshort.avi" descr=""/>
          <p:cNvPicPr/>
          <p:nvPr/>
        </p:nvPicPr>
        <p:blipFill>
          <a:blip r:embed="rId3"/>
          <a:stretch/>
        </p:blipFill>
        <p:spPr>
          <a:xfrm>
            <a:off x="5148360" y="249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2" name="lightswitchshort.avi" descr=""/>
          <p:cNvPicPr/>
          <p:nvPr/>
        </p:nvPicPr>
        <p:blipFill>
          <a:blip r:embed="rId4"/>
          <a:stretch/>
        </p:blipFill>
        <p:spPr>
          <a:xfrm>
            <a:off x="7319880" y="249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movedshort.avi" descr=""/>
          <p:cNvPicPr/>
          <p:nvPr/>
        </p:nvPicPr>
        <p:blipFill>
          <a:blip r:embed="rId5"/>
          <a:stretch/>
        </p:blipFill>
        <p:spPr>
          <a:xfrm>
            <a:off x="3144960" y="3932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84" name="todshort.avi" descr=""/>
          <p:cNvPicPr/>
          <p:nvPr/>
        </p:nvPicPr>
        <p:blipFill>
          <a:blip r:embed="rId6"/>
          <a:stretch/>
        </p:blipFill>
        <p:spPr>
          <a:xfrm>
            <a:off x="911160" y="3932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wavingshort.avi" descr=""/>
          <p:cNvPicPr/>
          <p:nvPr/>
        </p:nvPicPr>
        <p:blipFill>
          <a:blip r:embed="rId7"/>
          <a:stretch/>
        </p:blipFill>
        <p:spPr>
          <a:xfrm>
            <a:off x="5160960" y="393228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9"/>
          <p:cNvSpPr/>
          <p:nvPr/>
        </p:nvSpPr>
        <p:spPr>
          <a:xfrm>
            <a:off x="1198440" y="35719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1198080" y="49957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3431160" y="35719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5375160" y="35719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7521840" y="35719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3285360" y="501336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5302440" y="501336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0" y="5488920"/>
            <a:ext cx="9529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Kentaro Toyama, John Krumm, Barry Brumitt, Brian Meyers, "Wallflower: Principles and Practice of Background Maintenance", </a:t>
            </a: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Seventh International Conference on Computer Vision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, September 1999, Kerkyra, Greece, pp. 255-261, IEEE Computer Society Press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9FBF-BBF0-4F76-9346-F7199120355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6760800" y="468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boot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634400" y="-1260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time of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415480" y="-46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camouf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7846560" y="731880"/>
            <a:ext cx="10936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foregrou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aper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914920" y="-3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light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307080" y="-126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moved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4138920" y="-46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Arial"/>
              </a:rPr>
              <a:t>waving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9" descr=""/>
          <p:cNvPicPr/>
          <p:nvPr/>
        </p:nvPicPr>
        <p:blipFill>
          <a:blip r:embed="rId1"/>
          <a:stretch/>
        </p:blipFill>
        <p:spPr>
          <a:xfrm>
            <a:off x="324000" y="22860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0" descr=""/>
          <p:cNvPicPr/>
          <p:nvPr/>
        </p:nvPicPr>
        <p:blipFill>
          <a:blip r:embed="rId2"/>
          <a:stretch/>
        </p:blipFill>
        <p:spPr>
          <a:xfrm>
            <a:off x="316080" y="1116000"/>
            <a:ext cx="8748720" cy="880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1"/>
          <p:cNvSpPr/>
          <p:nvPr/>
        </p:nvSpPr>
        <p:spPr>
          <a:xfrm rot="16200000">
            <a:off x="-73080" y="1285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4" descr=""/>
          <p:cNvPicPr/>
          <p:nvPr/>
        </p:nvPicPr>
        <p:blipFill>
          <a:blip r:embed="rId3"/>
          <a:stretch/>
        </p:blipFill>
        <p:spPr>
          <a:xfrm>
            <a:off x="312840" y="1989000"/>
            <a:ext cx="8748720" cy="906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5" descr=""/>
          <p:cNvPicPr/>
          <p:nvPr/>
        </p:nvPicPr>
        <p:blipFill>
          <a:blip r:embed="rId4"/>
          <a:stretch/>
        </p:blipFill>
        <p:spPr>
          <a:xfrm>
            <a:off x="324000" y="3117960"/>
            <a:ext cx="8748720" cy="877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6" descr=""/>
          <p:cNvPicPr/>
          <p:nvPr/>
        </p:nvPicPr>
        <p:blipFill>
          <a:blip r:embed="rId5"/>
          <a:stretch/>
        </p:blipFill>
        <p:spPr>
          <a:xfrm>
            <a:off x="328680" y="4233960"/>
            <a:ext cx="8748720" cy="900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7" descr=""/>
          <p:cNvPicPr/>
          <p:nvPr/>
        </p:nvPicPr>
        <p:blipFill>
          <a:blip r:embed="rId6"/>
          <a:stretch/>
        </p:blipFill>
        <p:spPr>
          <a:xfrm>
            <a:off x="324000" y="530856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0"/>
          <p:cNvSpPr/>
          <p:nvPr/>
        </p:nvSpPr>
        <p:spPr>
          <a:xfrm>
            <a:off x="1819080" y="281304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Differenza consecu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1"/>
          <p:cNvSpPr/>
          <p:nvPr/>
        </p:nvSpPr>
        <p:spPr>
          <a:xfrm>
            <a:off x="1767960" y="3924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og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1909080" y="5029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Media + s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1911240" y="61167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4"/>
          <p:cNvSpPr/>
          <p:nvPr/>
        </p:nvSpPr>
        <p:spPr>
          <a:xfrm rot="2485200">
            <a:off x="3058920" y="6237000"/>
            <a:ext cx="28872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5"/>
          <p:cNvSpPr/>
          <p:nvPr/>
        </p:nvSpPr>
        <p:spPr>
          <a:xfrm rot="2485200">
            <a:off x="3130200" y="5157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6"/>
          <p:cNvSpPr/>
          <p:nvPr/>
        </p:nvSpPr>
        <p:spPr>
          <a:xfrm rot="2485200">
            <a:off x="3201480" y="400644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37"/>
          <p:cNvSpPr/>
          <p:nvPr/>
        </p:nvSpPr>
        <p:spPr>
          <a:xfrm rot="2485200">
            <a:off x="4138200" y="2925360"/>
            <a:ext cx="289080" cy="142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29C4-35B3-45E3-8061-9FC26D2FDD9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t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 pixel sono classificate come BG o FG via block-ma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-correlazione normalizz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ronti tra istogrammi loc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ogni regione ha il proprio modello di B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na su una coda di pat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ù robusti dei modelli per-pix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precisi spazi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esosi computazion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7091280" y="306864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Line 23"/>
          <p:cNvSpPr/>
          <p:nvPr/>
        </p:nvSpPr>
        <p:spPr>
          <a:xfrm flipH="1">
            <a:off x="7164000" y="3573360"/>
            <a:ext cx="987480" cy="1656000"/>
          </a:xfrm>
          <a:prstGeom prst="line">
            <a:avLst/>
          </a:prstGeom>
          <a:ln w="889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4"/>
          <p:cNvSpPr/>
          <p:nvPr/>
        </p:nvSpPr>
        <p:spPr>
          <a:xfrm>
            <a:off x="6884280" y="256536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Z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7183080" y="486900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7522560" y="38322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7697160" y="35607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362360" y="41115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7182720" y="4400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E59-7A31-4688-97C5-4A9E7817466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regio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430" name="Picture 30" descr=""/>
          <p:cNvPicPr/>
          <p:nvPr/>
        </p:nvPicPr>
        <p:blipFill>
          <a:blip r:embed="rId1"/>
          <a:stretch/>
        </p:blipFill>
        <p:spPr>
          <a:xfrm>
            <a:off x="324000" y="14446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1" descr=""/>
          <p:cNvPicPr/>
          <p:nvPr/>
        </p:nvPicPr>
        <p:blipFill>
          <a:blip r:embed="rId2"/>
          <a:stretch/>
        </p:blipFill>
        <p:spPr>
          <a:xfrm>
            <a:off x="316080" y="233208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2" descr=""/>
          <p:cNvPicPr/>
          <p:nvPr/>
        </p:nvPicPr>
        <p:blipFill>
          <a:blip r:embed="rId3"/>
          <a:stretch/>
        </p:blipFill>
        <p:spPr>
          <a:xfrm>
            <a:off x="266760" y="4005360"/>
            <a:ext cx="8856720" cy="898560"/>
          </a:xfrm>
          <a:prstGeom prst="rect">
            <a:avLst/>
          </a:prstGeom>
          <a:ln w="0">
            <a:noFill/>
          </a:ln>
        </p:spPr>
      </p:pic>
      <p:sp>
        <p:nvSpPr>
          <p:cNvPr id="433" name="AutoShape 33"/>
          <p:cNvSpPr/>
          <p:nvPr/>
        </p:nvSpPr>
        <p:spPr>
          <a:xfrm rot="2485200">
            <a:off x="394920" y="5084640"/>
            <a:ext cx="72216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4"/>
          <p:cNvSpPr/>
          <p:nvPr/>
        </p:nvSpPr>
        <p:spPr>
          <a:xfrm>
            <a:off x="1046160" y="5373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-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5C6-08A9-470A-8508-F0559353EFE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per fram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66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effettuate elaborazioni sull’intera matrice dei pixel, ed i pixel non sono considerati come processi indipend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e, agiscono come supporto per i metodi per pixel o per reg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gono applicati per cercare cambi globali della scena che non devono essere identificati come FG – esempio, 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backgro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rer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559640" y="2924280"/>
          <a:ext cx="1536840" cy="1600200"/>
        </p:xfrm>
        <a:graphic>
          <a:graphicData uri="http://schemas.openxmlformats.org/drawingml/2006/table">
            <a:tbl>
              <a:tblPr/>
              <a:tblGrid>
                <a:gridCol w="512640"/>
                <a:gridCol w="511200"/>
                <a:gridCol w="5130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39" name="Rectangle 47"/>
          <p:cNvSpPr/>
          <p:nvPr/>
        </p:nvSpPr>
        <p:spPr>
          <a:xfrm>
            <a:off x="725508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rame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8"/>
          <p:cNvSpPr/>
          <p:nvPr/>
        </p:nvSpPr>
        <p:spPr>
          <a:xfrm>
            <a:off x="7362360" y="505944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7702200" y="397512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0"/>
          <p:cNvSpPr/>
          <p:nvPr/>
        </p:nvSpPr>
        <p:spPr>
          <a:xfrm>
            <a:off x="7876440" y="37036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7541640" y="425448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7362000" y="45435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4"/>
          <p:cNvSpPr/>
          <p:nvPr/>
        </p:nvSpPr>
        <p:spPr>
          <a:xfrm flipH="1">
            <a:off x="7308360" y="3573360"/>
            <a:ext cx="987480" cy="1656000"/>
          </a:xfrm>
          <a:prstGeom prst="line">
            <a:avLst/>
          </a:prstGeom>
          <a:ln w="1144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E95A-D190-4ED2-975D-6E471BC19FD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443640" y="4581360"/>
            <a:ext cx="2016000" cy="137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l problem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5472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o (classico): Data una sequenza di frame acquisita da camera fissa, trovare tutti gli oggetti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glio: data una scena acquisita da una telecamera mobile o fissa, evidenziare tutti gli oggetti inattesi (foreground, FG, visualizzato come pixel bianchi) distinguendoli da ciò che è atteso, la scena (background, BG, visualizzato come pixel ner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on detection di solito ha so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ost-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59640" y="476424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59640" y="5415120"/>
            <a:ext cx="1584360" cy="43308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ST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8"/>
          <p:cNvCxnSpPr>
            <a:stCxn id="72" idx="2"/>
            <a:endCxn id="73" idx="0"/>
          </p:cNvCxnSpPr>
          <p:nvPr/>
        </p:nvCxnSpPr>
        <p:spPr>
          <a:xfrm>
            <a:off x="7451280" y="519696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10"/>
          <p:cNvCxnSpPr>
            <a:stCxn id="76" idx="4"/>
            <a:endCxn id="69" idx="0"/>
          </p:cNvCxnSpPr>
          <p:nvPr/>
        </p:nvCxnSpPr>
        <p:spPr>
          <a:xfrm>
            <a:off x="7451280" y="4363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Oval 11"/>
          <p:cNvSpPr/>
          <p:nvPr/>
        </p:nvSpPr>
        <p:spPr>
          <a:xfrm>
            <a:off x="6946920" y="3860640"/>
            <a:ext cx="100800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151400" y="6170760"/>
            <a:ext cx="587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13"/>
          <p:cNvCxnSpPr>
            <a:stCxn id="77" idx="0"/>
            <a:endCxn id="77" idx="0"/>
          </p:cNvCxnSpPr>
          <p:nvPr/>
        </p:nvCxnSpPr>
        <p:spPr>
          <a:xfrm>
            <a:off x="7445160" y="6170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4"/>
          <p:cNvCxnSpPr>
            <a:stCxn id="69" idx="2"/>
            <a:endCxn id="77" idx="0"/>
          </p:cNvCxnSpPr>
          <p:nvPr/>
        </p:nvCxnSpPr>
        <p:spPr>
          <a:xfrm flipH="1">
            <a:off x="7444800" y="5951160"/>
            <a:ext cx="684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0" name="PIRAMIDE_Original_nosound2.avi" descr=""/>
          <p:cNvPicPr/>
          <p:nvPr/>
        </p:nvPicPr>
        <p:blipFill>
          <a:blip r:embed="rId1"/>
          <a:stretch/>
        </p:blipFill>
        <p:spPr>
          <a:xfrm>
            <a:off x="6465960" y="1484280"/>
            <a:ext cx="2114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6E96-C66F-4DE8-A5A8-7FB395ACE8F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155592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A può essere applicato ad una sequenza di n frame per calcolare gli eigenbackgor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on funzionamento, comparabile a  TAPPM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243000" y="3884760"/>
            <a:ext cx="8748720" cy="880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3"/>
          <a:stretch/>
        </p:blipFill>
        <p:spPr>
          <a:xfrm>
            <a:off x="249120" y="5084640"/>
            <a:ext cx="8715600" cy="86832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9"/>
          <p:cNvSpPr/>
          <p:nvPr/>
        </p:nvSpPr>
        <p:spPr>
          <a:xfrm rot="2485200">
            <a:off x="178920" y="6021360"/>
            <a:ext cx="722520" cy="576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395280" y="0"/>
            <a:ext cx="862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uria M. Oliver , Barbara Rosario , Alex P. Pentland, A Bayesian Computer Vision System for Modeling Human Interactions, IEEE Transactions on Pattern Analysis and Machine Intelligence, v.22 n.8, p.831-843, August 200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95A6-1100-44C3-9622-AB604C6BAFF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Eigenbackgrounds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(N. M. Oliver, B. Rosario, and A. P. Pentland, 2000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9640" y="155556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li n frames (meno la loro media) sono organizzati come colonne di una matrice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matrice A’A (MxM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ggo M autovettori         , li trasformo negli autovettori per la matrice di covarianza AA’ mediante                 e li organizzo come colonne di una matrice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do è disponibile una nuova immagine, z, viene prima sottratta della media, ottenendo    , che viene proiettata nello spazio a bassa dimensionalità mediante                   e ricostruita v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olo la differenza           :  poiché il sottospazio ben rappresenta solo la parte statica della scena (ossia quello che si è visto di più) la differenza sono solo gli oggetti di fore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003640" y="3284640"/>
                <a:ext cx="8607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5"/>
              <p:cNvSpPr txBox="1"/>
              <p:nvPr/>
            </p:nvSpPr>
            <p:spPr>
              <a:xfrm>
                <a:off x="3635280" y="2924280"/>
                <a:ext cx="390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3851280" y="4581360"/>
                <a:ext cx="1019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'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3611520" y="4251240"/>
                <a:ext cx="2556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8"/>
              <p:cNvSpPr txBox="1"/>
              <p:nvPr/>
            </p:nvSpPr>
            <p:spPr>
              <a:xfrm>
                <a:off x="6804000" y="4557600"/>
                <a:ext cx="1201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3112920" y="4892760"/>
                <a:ext cx="924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57E-EBF8-49B9-ABFE-58C1C59E32C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Libreri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 basano su una fase di bootstrapping [Ohta 200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addestra un modello per-pixel ordin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 valuta l’errore globale E su ogni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 l’errore supera una determinata soglia per più di N frame, seleziono quei frame per addestrare un altro mode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tengo così M modelli, formanti una libreria di model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ogni time step costruisco la funzione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:=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umero globale di pixel di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to              : se è oltre una certa soglia, cambiamento brusc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al caso, seleziono dalla libreria il modello per cui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) è min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4"/>
              <p:cNvSpPr txBox="1"/>
              <p:nvPr/>
            </p:nvSpPr>
            <p:spPr>
              <a:xfrm>
                <a:off x="2155680" y="4260960"/>
                <a:ext cx="995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67" name=""/>
          <p:cNvGraphicFramePr/>
          <p:nvPr/>
        </p:nvGraphicFramePr>
        <p:xfrm>
          <a:off x="0" y="0"/>
          <a:ext cx="9144000" cy="608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Ohta. </a:t>
                      </a:r>
                      <a:r>
                        <a:rPr b="1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atistical approach to background subtraction for surveillance systems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n ICCV, pages II: 481--486, Vancouver, Canada, June 200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0EF2-EE5B-4A7F-B498-B799D6FEF82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Approcci mis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cano pixel basandosi su valutazioni di regioni loc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 più in vog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Elgammal 2000] - sch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468360" y="1557360"/>
            <a:ext cx="7343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227640" y="414972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7172280" y="5060880"/>
            <a:ext cx="432000" cy="432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3"/>
          <p:cNvSpPr/>
          <p:nvPr/>
        </p:nvSpPr>
        <p:spPr>
          <a:xfrm>
            <a:off x="6721560" y="4629240"/>
            <a:ext cx="1368360" cy="12873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4"/>
          <p:cNvGrpSpPr/>
          <p:nvPr/>
        </p:nvGrpSpPr>
        <p:grpSpPr>
          <a:xfrm>
            <a:off x="7380360" y="5067360"/>
            <a:ext cx="1095480" cy="398880"/>
            <a:chOff x="7380360" y="5067360"/>
            <a:chExt cx="1095480" cy="398880"/>
          </a:xfrm>
        </p:grpSpPr>
        <p:sp>
          <p:nvSpPr>
            <p:cNvPr id="476" name="AutoShape 15"/>
            <p:cNvSpPr/>
            <p:nvPr/>
          </p:nvSpPr>
          <p:spPr>
            <a:xfrm>
              <a:off x="7380360" y="5219280"/>
              <a:ext cx="504720" cy="142560"/>
            </a:xfrm>
            <a:prstGeom prst="rightArrow">
              <a:avLst>
                <a:gd name="adj1" fmla="val 37167"/>
                <a:gd name="adj2" fmla="val 6320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7453440" y="506736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7"/>
          <p:cNvGrpSpPr/>
          <p:nvPr/>
        </p:nvGrpSpPr>
        <p:grpSpPr>
          <a:xfrm>
            <a:off x="7346880" y="5205600"/>
            <a:ext cx="1022400" cy="675000"/>
            <a:chOff x="7346880" y="5205600"/>
            <a:chExt cx="1022400" cy="675000"/>
          </a:xfrm>
        </p:grpSpPr>
        <p:sp>
          <p:nvSpPr>
            <p:cNvPr id="479" name="AutoShape 18"/>
            <p:cNvSpPr/>
            <p:nvPr/>
          </p:nvSpPr>
          <p:spPr>
            <a:xfrm rot="3006600">
              <a:off x="7316280" y="5373720"/>
              <a:ext cx="505080" cy="142920"/>
            </a:xfrm>
            <a:prstGeom prst="rightArrow">
              <a:avLst>
                <a:gd name="adj1" fmla="val 37167"/>
                <a:gd name="adj2" fmla="val 6308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19"/>
            <p:cNvSpPr/>
            <p:nvPr/>
          </p:nvSpPr>
          <p:spPr>
            <a:xfrm>
              <a:off x="734688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0"/>
          <p:cNvGrpSpPr/>
          <p:nvPr/>
        </p:nvGrpSpPr>
        <p:grpSpPr>
          <a:xfrm>
            <a:off x="6894720" y="5229360"/>
            <a:ext cx="1022400" cy="759240"/>
            <a:chOff x="6894720" y="5229360"/>
            <a:chExt cx="1022400" cy="759240"/>
          </a:xfrm>
        </p:grpSpPr>
        <p:sp>
          <p:nvSpPr>
            <p:cNvPr id="482" name="AutoShape 21"/>
            <p:cNvSpPr/>
            <p:nvPr/>
          </p:nvSpPr>
          <p:spPr>
            <a:xfrm rot="5400000">
              <a:off x="7164000" y="54100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6894720" y="5589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3"/>
          <p:cNvGrpSpPr/>
          <p:nvPr/>
        </p:nvGrpSpPr>
        <p:grpSpPr>
          <a:xfrm>
            <a:off x="6389640" y="5226840"/>
            <a:ext cx="1095480" cy="653760"/>
            <a:chOff x="6389640" y="5226840"/>
            <a:chExt cx="1095480" cy="653760"/>
          </a:xfrm>
        </p:grpSpPr>
        <p:sp>
          <p:nvSpPr>
            <p:cNvPr id="485" name="AutoShape 24"/>
            <p:cNvSpPr/>
            <p:nvPr/>
          </p:nvSpPr>
          <p:spPr>
            <a:xfrm rot="8178000">
              <a:off x="7000920" y="538128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5"/>
            <p:cNvSpPr/>
            <p:nvPr/>
          </p:nvSpPr>
          <p:spPr>
            <a:xfrm>
              <a:off x="6389640" y="5481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6"/>
          <p:cNvGrpSpPr/>
          <p:nvPr/>
        </p:nvGrpSpPr>
        <p:grpSpPr>
          <a:xfrm>
            <a:off x="6329520" y="5076720"/>
            <a:ext cx="1122120" cy="398880"/>
            <a:chOff x="6329520" y="5076720"/>
            <a:chExt cx="1122120" cy="398880"/>
          </a:xfrm>
        </p:grpSpPr>
        <p:sp>
          <p:nvSpPr>
            <p:cNvPr id="488" name="AutoShape 27"/>
            <p:cNvSpPr/>
            <p:nvPr/>
          </p:nvSpPr>
          <p:spPr>
            <a:xfrm rot="10800000">
              <a:off x="6946920" y="5218920"/>
              <a:ext cx="504720" cy="142920"/>
            </a:xfrm>
            <a:prstGeom prst="rightArrow">
              <a:avLst>
                <a:gd name="adj1" fmla="val 37167"/>
                <a:gd name="adj2" fmla="val 630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8"/>
            <p:cNvSpPr/>
            <p:nvPr/>
          </p:nvSpPr>
          <p:spPr>
            <a:xfrm>
              <a:off x="6329520" y="50767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389640" y="4616280"/>
            <a:ext cx="1106640" cy="743040"/>
            <a:chOff x="6389640" y="4616280"/>
            <a:chExt cx="1106640" cy="743040"/>
          </a:xfrm>
        </p:grpSpPr>
        <p:sp>
          <p:nvSpPr>
            <p:cNvPr id="491" name="AutoShape 30"/>
            <p:cNvSpPr/>
            <p:nvPr/>
          </p:nvSpPr>
          <p:spPr>
            <a:xfrm flipV="1" rot="13422000">
              <a:off x="7008480" y="5053320"/>
              <a:ext cx="505080" cy="152280"/>
            </a:xfrm>
            <a:prstGeom prst="rightArrow">
              <a:avLst>
                <a:gd name="adj1" fmla="val 37167"/>
                <a:gd name="adj2" fmla="val 5921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31"/>
            <p:cNvSpPr/>
            <p:nvPr/>
          </p:nvSpPr>
          <p:spPr>
            <a:xfrm>
              <a:off x="6389640" y="46162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32"/>
          <p:cNvGrpSpPr/>
          <p:nvPr/>
        </p:nvGrpSpPr>
        <p:grpSpPr>
          <a:xfrm>
            <a:off x="6915240" y="4510080"/>
            <a:ext cx="1022400" cy="825120"/>
            <a:chOff x="6915240" y="4510080"/>
            <a:chExt cx="1022400" cy="825120"/>
          </a:xfrm>
        </p:grpSpPr>
        <p:sp>
          <p:nvSpPr>
            <p:cNvPr id="494" name="AutoShape 33"/>
            <p:cNvSpPr/>
            <p:nvPr/>
          </p:nvSpPr>
          <p:spPr>
            <a:xfrm flipV="1" rot="16200000">
              <a:off x="7155360" y="4994280"/>
              <a:ext cx="538200" cy="142920"/>
            </a:xfrm>
            <a:prstGeom prst="rightArrow">
              <a:avLst>
                <a:gd name="adj1" fmla="val 37167"/>
                <a:gd name="adj2" fmla="val 672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34"/>
            <p:cNvSpPr/>
            <p:nvPr/>
          </p:nvSpPr>
          <p:spPr>
            <a:xfrm>
              <a:off x="6915240" y="451008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35"/>
          <p:cNvGrpSpPr/>
          <p:nvPr/>
        </p:nvGrpSpPr>
        <p:grpSpPr>
          <a:xfrm>
            <a:off x="7349400" y="4606920"/>
            <a:ext cx="1038960" cy="785160"/>
            <a:chOff x="7349400" y="4606920"/>
            <a:chExt cx="1038960" cy="785160"/>
          </a:xfrm>
        </p:grpSpPr>
        <p:sp>
          <p:nvSpPr>
            <p:cNvPr id="497" name="AutoShape 36"/>
            <p:cNvSpPr/>
            <p:nvPr/>
          </p:nvSpPr>
          <p:spPr>
            <a:xfrm flipV="1" rot="18593400">
              <a:off x="7307640" y="5068080"/>
              <a:ext cx="538200" cy="143280"/>
            </a:xfrm>
            <a:prstGeom prst="rightArrow">
              <a:avLst>
                <a:gd name="adj1" fmla="val 37167"/>
                <a:gd name="adj2" fmla="val 6705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>
              <a:off x="7365960" y="46069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808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>
            <a:off x="7278840" y="50673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796160" y="505764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1455840" y="5295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1"/>
          <p:cNvSpPr/>
          <p:nvPr/>
        </p:nvSpPr>
        <p:spPr>
          <a:xfrm>
            <a:off x="2050920" y="2349360"/>
            <a:ext cx="3456000" cy="100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i FG test su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iderato come segnale indepe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2"/>
          <p:cNvSpPr/>
          <p:nvPr/>
        </p:nvSpPr>
        <p:spPr>
          <a:xfrm>
            <a:off x="611280" y="3933720"/>
            <a:ext cx="3456000" cy="1195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a nei pixel vic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se il valore di pixe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a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tato come valore di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AutoShape 43"/>
          <p:cNvCxnSpPr>
            <a:stCxn id="502" idx="2"/>
            <a:endCxn id="503" idx="0"/>
          </p:cNvCxnSpPr>
          <p:nvPr/>
        </p:nvCxnSpPr>
        <p:spPr>
          <a:xfrm flipH="1">
            <a:off x="2340000" y="3365640"/>
            <a:ext cx="1440360" cy="56880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5" name="Text Box 44"/>
          <p:cNvSpPr/>
          <p:nvPr/>
        </p:nvSpPr>
        <p:spPr>
          <a:xfrm>
            <a:off x="1926720" y="350028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45"/>
          <p:cNvCxnSpPr>
            <a:stCxn id="502" idx="2"/>
            <a:endCxn id="507" idx="0"/>
          </p:cNvCxnSpPr>
          <p:nvPr/>
        </p:nvCxnSpPr>
        <p:spPr>
          <a:xfrm>
            <a:off x="3780000" y="3365280"/>
            <a:ext cx="1584720" cy="64044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08" name="Text Box 46"/>
          <p:cNvSpPr/>
          <p:nvPr/>
        </p:nvSpPr>
        <p:spPr>
          <a:xfrm>
            <a:off x="4806360" y="350028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7"/>
          <p:cNvSpPr/>
          <p:nvPr/>
        </p:nvSpPr>
        <p:spPr>
          <a:xfrm>
            <a:off x="4788000" y="400536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48"/>
          <p:cNvCxnSpPr>
            <a:stCxn id="503" idx="2"/>
            <a:endCxn id="510" idx="0"/>
          </p:cNvCxnSpPr>
          <p:nvPr/>
        </p:nvCxnSpPr>
        <p:spPr>
          <a:xfrm flipH="1">
            <a:off x="1186920" y="5133960"/>
            <a:ext cx="115344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0" name="Rectangle 49"/>
          <p:cNvSpPr/>
          <p:nvPr/>
        </p:nvSpPr>
        <p:spPr>
          <a:xfrm>
            <a:off x="611280" y="5661000"/>
            <a:ext cx="11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486720" y="515772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AutoShape 51"/>
          <p:cNvCxnSpPr>
            <a:stCxn id="503" idx="2"/>
            <a:endCxn id="513" idx="0"/>
          </p:cNvCxnSpPr>
          <p:nvPr/>
        </p:nvCxnSpPr>
        <p:spPr>
          <a:xfrm>
            <a:off x="2340000" y="5133960"/>
            <a:ext cx="1224720" cy="527760"/>
          </a:xfrm>
          <a:prstGeom prst="straightConnector1">
            <a:avLst/>
          </a:prstGeom>
          <a:ln w="2232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514" name="Text Box 52"/>
          <p:cNvSpPr/>
          <p:nvPr/>
        </p:nvSpPr>
        <p:spPr>
          <a:xfrm>
            <a:off x="2645640" y="50846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3"/>
          <p:cNvSpPr/>
          <p:nvPr/>
        </p:nvSpPr>
        <p:spPr>
          <a:xfrm>
            <a:off x="2987640" y="5661000"/>
            <a:ext cx="1152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6227640" y="1916280"/>
            <a:ext cx="2519640" cy="2089080"/>
          </a:xfrm>
          <a:prstGeom prst="rect">
            <a:avLst/>
          </a:prstGeom>
          <a:solidFill>
            <a:srgbClr val="e7e7e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7172280" y="2827440"/>
            <a:ext cx="432000" cy="43164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7278840" y="283356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7"/>
          <p:cNvSpPr/>
          <p:nvPr/>
        </p:nvSpPr>
        <p:spPr>
          <a:xfrm>
            <a:off x="7000560" y="3137040"/>
            <a:ext cx="18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F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8"/>
          <p:cNvSpPr/>
          <p:nvPr/>
        </p:nvSpPr>
        <p:spPr>
          <a:xfrm>
            <a:off x="-324000" y="248292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9"/>
          <p:cNvSpPr/>
          <p:nvPr/>
        </p:nvSpPr>
        <p:spPr>
          <a:xfrm>
            <a:off x="-306360" y="4292640"/>
            <a:ext cx="12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1"/>
          <p:cNvSpPr/>
          <p:nvPr/>
        </p:nvSpPr>
        <p:spPr>
          <a:xfrm>
            <a:off x="0" y="0"/>
            <a:ext cx="89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. Elgammal, D. Harwood, L. S. Davis,  “</a:t>
            </a: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Non-parametric Model for Background Subtraction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” IEEE ICCV99 Frame Rate Workshop. IEEE 7th International Conference on Computer Vision. Kerkyra, Greece, Septemb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388-4C4F-4192-A5A9-6B94EFB4F1D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Elgammal - risulta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24" name="Picture 55" descr=""/>
          <p:cNvPicPr/>
          <p:nvPr/>
        </p:nvPicPr>
        <p:blipFill>
          <a:blip r:embed="rId1"/>
          <a:stretch/>
        </p:blipFill>
        <p:spPr>
          <a:xfrm>
            <a:off x="3995640" y="3068640"/>
            <a:ext cx="1152720" cy="8524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6" descr=""/>
          <p:cNvPicPr/>
          <p:nvPr/>
        </p:nvPicPr>
        <p:blipFill>
          <a:blip r:embed="rId2"/>
          <a:stretch/>
        </p:blipFill>
        <p:spPr>
          <a:xfrm>
            <a:off x="5219640" y="3068640"/>
            <a:ext cx="1152720" cy="841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7" descr=""/>
          <p:cNvPicPr/>
          <p:nvPr/>
        </p:nvPicPr>
        <p:blipFill>
          <a:blip r:embed="rId3"/>
          <a:stretch/>
        </p:blipFill>
        <p:spPr>
          <a:xfrm>
            <a:off x="6477120" y="3068640"/>
            <a:ext cx="1150920" cy="839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8" descr=""/>
          <p:cNvPicPr/>
          <p:nvPr/>
        </p:nvPicPr>
        <p:blipFill>
          <a:blip r:embed="rId4"/>
          <a:stretch/>
        </p:blipFill>
        <p:spPr>
          <a:xfrm>
            <a:off x="7736040" y="3068640"/>
            <a:ext cx="1157040" cy="8445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9" descr=""/>
          <p:cNvPicPr/>
          <p:nvPr/>
        </p:nvPicPr>
        <p:blipFill>
          <a:blip r:embed="rId5"/>
          <a:stretch/>
        </p:blipFill>
        <p:spPr>
          <a:xfrm>
            <a:off x="179280" y="1268280"/>
            <a:ext cx="8748720" cy="881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0" descr=""/>
          <p:cNvPicPr/>
          <p:nvPr/>
        </p:nvPicPr>
        <p:blipFill>
          <a:blip r:embed="rId6"/>
          <a:stretch/>
        </p:blipFill>
        <p:spPr>
          <a:xfrm>
            <a:off x="171360" y="2155680"/>
            <a:ext cx="8748720" cy="8812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62"/>
          <p:cNvSpPr/>
          <p:nvPr/>
        </p:nvSpPr>
        <p:spPr>
          <a:xfrm>
            <a:off x="-442080" y="4149720"/>
            <a:ext cx="49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gono minimizzati i falsi neg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366B-7D9A-4B27-A822-8C6945DC9B6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zi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l setting più semplice (e veloce computazionalmente) è quello di avere sequenze a livelli di grig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co preciso (vedasi mascheramento del F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ando input a colori, i risultati, naturalmente, migliorano. Gli spazi colore che si considerano abitualmente so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[Wallflower 200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B normalizzat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no sensibile a leggeri cambi di illuminazione, ma anche meno sensibile al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ghtn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ssia alla differenza tra bianco-grigio-n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SV utilizzato soprattutto per l’eliminazione delle ombre (a segui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1"/>
              <p:cNvSpPr txBox="1"/>
              <p:nvPr/>
            </p:nvSpPr>
            <p:spPr>
              <a:xfrm>
                <a:off x="1187280" y="364500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2"/>
              <p:cNvSpPr txBox="1"/>
              <p:nvPr/>
            </p:nvSpPr>
            <p:spPr>
              <a:xfrm>
                <a:off x="349236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5796000" y="3718080"/>
                <a:ext cx="201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591A-0201-410F-A426-17803FA8129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pazi colore per la sottraizone del BG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l caso di RGB e RGB normalizzato ogni canale può essere valutato in maniera indipendente (anche se non è corrett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o F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foreground trovato nel canale x, il FG finale 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amente, un singolo valore di pixel puo’ essere modellato come unico segnale a covarianza diagonale (anche questa è una semplificazione scorretta teoricamente – c’è dipendenza tra i singoli canali colore – ma funzionalmente vantaggiosa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5"/>
              <p:cNvSpPr txBox="1"/>
              <p:nvPr/>
            </p:nvSpPr>
            <p:spPr>
              <a:xfrm>
                <a:off x="2627280" y="2349360"/>
                <a:ext cx="3400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6"/>
              <p:cNvSpPr txBox="1"/>
              <p:nvPr/>
            </p:nvSpPr>
            <p:spPr>
              <a:xfrm>
                <a:off x="2771640" y="4292640"/>
                <a:ext cx="273708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G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0CA-BF50-4BDA-A03D-FAC943EE440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grave: soprattutto nelle interfacce di HCI è basilare acquisire la forma esatta dell’oggetto in mov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Picture 7" descr="\includegraphics[width=.9\textwidth]{shadow_bg_frame_problem}"/>
          <p:cNvPicPr/>
          <p:nvPr/>
        </p:nvPicPr>
        <p:blipFill>
          <a:blip r:embed="rId1"/>
          <a:stretch/>
        </p:blipFill>
        <p:spPr>
          <a:xfrm>
            <a:off x="2050920" y="5229360"/>
            <a:ext cx="4103640" cy="1001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103640" cy="3062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902160" y="2060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D870-8C11-4C7E-9B5B-0368738B01E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5761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maggior parte delle soluzioni lavora utilizzando delle soglie sullo spazio colore HS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ccio semplice ma effettivo [Cucchiara 200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9"/>
              <p:cNvSpPr txBox="1"/>
              <p:nvPr/>
            </p:nvSpPr>
            <p:spPr>
              <a:xfrm>
                <a:off x="822240" y="2924280"/>
                <a:ext cx="6270840" cy="21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se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V</m:t>
                                  </m:r>
                                </m:den>
                              </m:f>
                              <m:r>
                                <m:t xml:space="preserve">≤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∧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S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∧</m:t>
                              </m:r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H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r>
                                <m:t xml:space="preserve">α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β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1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      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11"/>
              <p:cNvSpPr txBox="1"/>
              <p:nvPr/>
            </p:nvSpPr>
            <p:spPr>
              <a:xfrm>
                <a:off x="900000" y="5291280"/>
                <a:ext cx="5904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Text Box 12"/>
          <p:cNvSpPr/>
          <p:nvPr/>
        </p:nvSpPr>
        <p:spPr>
          <a:xfrm>
            <a:off x="686520" y="407664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flag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0000"/>
                </a:solidFill>
                <a:latin typeface="Arial"/>
              </a:rPr>
              <a:t>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4" descr="300px-HSV_cone"/>
          <p:cNvPicPr/>
          <p:nvPr/>
        </p:nvPicPr>
        <p:blipFill>
          <a:blip r:embed="rId1"/>
          <a:stretch/>
        </p:blipFill>
        <p:spPr>
          <a:xfrm>
            <a:off x="6443640" y="1125360"/>
            <a:ext cx="2425680" cy="1819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5"/>
          <p:cNvSpPr/>
          <p:nvPr/>
        </p:nvSpPr>
        <p:spPr>
          <a:xfrm>
            <a:off x="179280" y="-72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. Cucchiara, C. Grana, M. Piccardi, and A. Prati, "Detecting moving objects, Ghosts, and shadows in video streams," IEEE Trans. Pattern Anal. Mach. Intell. 25,1337-1342 (20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9BBF-83C7-4CD3-97BA-522D838B5EE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l problema delle ombr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56944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5AA-49CE-4899-8064-D6AFEFC8393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me valutare le solu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mente, è difficile avere un ground-truth (risultato corretto) per confrontare le solu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 hanno molto senso esperimenti su dati sinte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 valutare la bontà di un approccio di mot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nega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a perdita di un soggetto in movimento è gra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i positivi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ono essere minimizzati se l’identificazione di un oggetto in movimento corrisponde ad una scelta drastica da parte della macchina (lanciare un allarme nel caso della video-sorveglianz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e da valutare: E = FN + 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8A0-CCD5-4441-BD1C-5EE99F5C2EB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Retro”-applic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on detection come pre-processing o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det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o motion dete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i di proi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 più semplice fare alline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ultati migliori dell’operazione di mas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Picture 12" descr="BiceAV1BG"/>
          <p:cNvPicPr/>
          <p:nvPr/>
        </p:nvPicPr>
        <p:blipFill>
          <a:blip r:embed="rId1"/>
          <a:stretch/>
        </p:blipFill>
        <p:spPr>
          <a:xfrm>
            <a:off x="1332000" y="479736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5" descr="BiceFG"/>
          <p:cNvPicPr/>
          <p:nvPr/>
        </p:nvPicPr>
        <p:blipFill>
          <a:blip r:embed="rId2"/>
          <a:stretch/>
        </p:blipFill>
        <p:spPr>
          <a:xfrm>
            <a:off x="5580000" y="4726080"/>
            <a:ext cx="2016360" cy="163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1" descr="BiceBG"/>
          <p:cNvPicPr/>
          <p:nvPr/>
        </p:nvPicPr>
        <p:blipFill>
          <a:blip r:embed="rId3"/>
          <a:stretch/>
        </p:blipFill>
        <p:spPr>
          <a:xfrm>
            <a:off x="3492360" y="4767120"/>
            <a:ext cx="1944720" cy="1578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29"/>
          <p:cNvSpPr/>
          <p:nvPr/>
        </p:nvSpPr>
        <p:spPr>
          <a:xfrm>
            <a:off x="5366160" y="52293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327852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04D5-D560-4029-AC98-94EA84852AD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Nuove sequenze “difficili” e di test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569" name="Semaforo pioggia.avi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39200" cy="2527560"/>
          </a:xfrm>
          <a:prstGeom prst="rect">
            <a:avLst/>
          </a:prstGeom>
          <a:ln w="0">
            <a:noFill/>
          </a:ln>
        </p:spPr>
      </p:pic>
      <p:pic>
        <p:nvPicPr>
          <p:cNvPr id="570" name="ElbaOriginal.avi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71" name="ElbaSG.avi" descr=""/>
          <p:cNvPicPr/>
          <p:nvPr/>
        </p:nvPicPr>
        <p:blipFill>
          <a:blip r:embed="rId3"/>
          <a:stretch/>
        </p:blipFill>
        <p:spPr>
          <a:xfrm>
            <a:off x="4500720" y="3860640"/>
            <a:ext cx="2805120" cy="220536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3"/>
          <p:cNvSpPr/>
          <p:nvPr/>
        </p:nvSpPr>
        <p:spPr>
          <a:xfrm>
            <a:off x="5276880" y="6045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TAPPM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414C-EA3E-4A64-A49A-93BA977DDBD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Considerazioni finali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64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può esistere un metodo infallibile di background sub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un metodo di sottrtazione del BG, si modellano la formazione e l’updating di un modello di background, ignorando il 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sso il FG ha le stesse caratteristiche del B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bl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zione: si connettono in feedback approcci per la modellazione del FG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racking (modellano l’appearance e la dinamica di un oggetto di F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inamica è discrimin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476360" y="474192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9"/>
          <p:cNvSpPr/>
          <p:nvPr/>
        </p:nvSpPr>
        <p:spPr>
          <a:xfrm>
            <a:off x="539640" y="4957920"/>
            <a:ext cx="576360" cy="57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682560" y="5029200"/>
            <a:ext cx="28908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540720" y="57499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622160" y="5749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3060720" y="478944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6"/>
          <p:cNvSpPr/>
          <p:nvPr/>
        </p:nvSpPr>
        <p:spPr>
          <a:xfrm>
            <a:off x="2629080" y="5005440"/>
            <a:ext cx="57600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771640" y="5149800"/>
            <a:ext cx="2890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4572000" y="4797360"/>
            <a:ext cx="79200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4716360" y="501336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2"/>
          <p:cNvSpPr/>
          <p:nvPr/>
        </p:nvSpPr>
        <p:spPr>
          <a:xfrm>
            <a:off x="4932360" y="5245200"/>
            <a:ext cx="120600" cy="16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5940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4"/>
          <p:cNvSpPr/>
          <p:nvPr/>
        </p:nvSpPr>
        <p:spPr>
          <a:xfrm>
            <a:off x="630072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5"/>
          <p:cNvSpPr/>
          <p:nvPr/>
        </p:nvSpPr>
        <p:spPr>
          <a:xfrm>
            <a:off x="6492960" y="5211720"/>
            <a:ext cx="215640" cy="249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6"/>
          <p:cNvSpPr/>
          <p:nvPr/>
        </p:nvSpPr>
        <p:spPr>
          <a:xfrm>
            <a:off x="7164360" y="4813200"/>
            <a:ext cx="792360" cy="10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9"/>
          <p:cNvSpPr/>
          <p:nvPr/>
        </p:nvSpPr>
        <p:spPr>
          <a:xfrm>
            <a:off x="8028000" y="5029200"/>
            <a:ext cx="576360" cy="57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30"/>
          <p:cNvSpPr/>
          <p:nvPr/>
        </p:nvSpPr>
        <p:spPr>
          <a:xfrm>
            <a:off x="8170920" y="5100480"/>
            <a:ext cx="288720" cy="43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1"/>
          <p:cNvSpPr/>
          <p:nvPr/>
        </p:nvSpPr>
        <p:spPr>
          <a:xfrm>
            <a:off x="248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634400" y="6138720"/>
            <a:ext cx="763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grandezza della freccia è proporzionale al peso dato alla dinamica nella definizione del F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6"/>
          <p:cNvSpPr/>
          <p:nvPr/>
        </p:nvSpPr>
        <p:spPr>
          <a:xfrm>
            <a:off x="4211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7"/>
          <p:cNvSpPr/>
          <p:nvPr/>
        </p:nvSpPr>
        <p:spPr>
          <a:xfrm>
            <a:off x="572436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8"/>
          <p:cNvSpPr/>
          <p:nvPr/>
        </p:nvSpPr>
        <p:spPr>
          <a:xfrm>
            <a:off x="702000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9"/>
          <p:cNvSpPr/>
          <p:nvPr/>
        </p:nvSpPr>
        <p:spPr>
          <a:xfrm>
            <a:off x="867564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0"/>
          <p:cNvSpPr/>
          <p:nvPr/>
        </p:nvSpPr>
        <p:spPr>
          <a:xfrm>
            <a:off x="7236000" y="213372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TION 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1"/>
          <p:cNvSpPr/>
          <p:nvPr/>
        </p:nvSpPr>
        <p:spPr>
          <a:xfrm>
            <a:off x="7236000" y="2781360"/>
            <a:ext cx="1584000" cy="433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2"/>
          <p:cNvSpPr/>
          <p:nvPr/>
        </p:nvSpPr>
        <p:spPr>
          <a:xfrm flipH="1">
            <a:off x="8856000" y="2205000"/>
            <a:ext cx="252360" cy="1008000"/>
          </a:xfrm>
          <a:custGeom>
            <a:avLst/>
            <a:gdLst>
              <a:gd name="textAreaLeft" fmla="*/ 33840 w 252360"/>
              <a:gd name="textAreaRight" fmla="*/ 218520 w 25236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43"/>
          <p:cNvSpPr/>
          <p:nvPr/>
        </p:nvSpPr>
        <p:spPr>
          <a:xfrm flipV="1">
            <a:off x="6916680" y="2109960"/>
            <a:ext cx="287280" cy="1079280"/>
          </a:xfrm>
          <a:custGeom>
            <a:avLst/>
            <a:gdLst>
              <a:gd name="textAreaLeft" fmla="*/ 38520 w 287280"/>
              <a:gd name="textAreaRight" fmla="*/ 248760 w 2872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44"/>
          <p:cNvSpPr/>
          <p:nvPr/>
        </p:nvSpPr>
        <p:spPr>
          <a:xfrm>
            <a:off x="7524720" y="1292400"/>
            <a:ext cx="1008000" cy="502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W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AutoShape 45"/>
          <p:cNvCxnSpPr>
            <a:stCxn id="603" idx="4"/>
          </p:cNvCxnSpPr>
          <p:nvPr/>
        </p:nvCxnSpPr>
        <p:spPr>
          <a:xfrm>
            <a:off x="8029080" y="179496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46"/>
          <p:cNvCxnSpPr/>
          <p:nvPr/>
        </p:nvCxnSpPr>
        <p:spPr>
          <a:xfrm>
            <a:off x="774036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47"/>
          <p:cNvCxnSpPr/>
          <p:nvPr/>
        </p:nvCxnSpPr>
        <p:spPr>
          <a:xfrm>
            <a:off x="8316720" y="321264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Oval 48"/>
          <p:cNvSpPr/>
          <p:nvPr/>
        </p:nvSpPr>
        <p:spPr>
          <a:xfrm>
            <a:off x="7500960" y="356544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9"/>
          <p:cNvSpPr/>
          <p:nvPr/>
        </p:nvSpPr>
        <p:spPr>
          <a:xfrm>
            <a:off x="8085240" y="3573360"/>
            <a:ext cx="503280" cy="50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ateriale aggiuntiv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 di metodi di sottrazione del B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cardi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mozione delle omb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cchiara03detect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PPM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sam-pami-tracking.p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egnaposto numero diapositiva 3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6C13-A33F-418B-8609-2825CCB4A42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8BEB-379D-4FA9-A1CA-C24C97306F9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co gli oggetti di foreground tramite la differenza tra il frame corren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un’im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presentante la sc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&gt; Th  , i  pixel = 1,...,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o problema: come ottenere l’immagine della scena in modo automa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a dell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ima del backgrou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 background initializ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bootstrapshort.avi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1F4B-043A-4713-985A-02D8055D3F5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oluzione intuitiva - difett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immagine di background non è fissa ma si deve adattare 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 di illumin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ntini (lampi, nuvol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m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cillazioni della tele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getti ad alta frequenza appartenenti alla scena (come rami di alberi,onde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mbiamenti nella geometria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 parcheggiate etc.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 d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tenimento del backgrou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 BG ada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10D9-0BAE-478A-B04C-A49D7E82DCD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cc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pix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reg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CFB9-6871-4CA5-BD4D-BC7F41C57C4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628640"/>
            <a:ext cx="6481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pixel rappresenta un processo indipend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ogni istante temporale t ogni pixel viene classificato com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73280" y="4006800"/>
          <a:ext cx="1536840" cy="1600200"/>
        </p:xfrm>
        <a:graphic>
          <a:graphicData uri="http://schemas.openxmlformats.org/drawingml/2006/table">
            <a:tbl>
              <a:tblPr/>
              <a:tblGrid>
                <a:gridCol w="513000"/>
                <a:gridCol w="511200"/>
                <a:gridCol w="51264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Line 22"/>
          <p:cNvSpPr/>
          <p:nvPr/>
        </p:nvSpPr>
        <p:spPr>
          <a:xfrm flipH="1">
            <a:off x="3203280" y="4222800"/>
            <a:ext cx="99036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3291840" y="3429000"/>
            <a:ext cx="1861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x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lue z</a:t>
            </a:r>
            <a:r>
              <a:rPr b="1" lang="it-IT" sz="2000" spc="-1" strike="noStrike" baseline="30000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078000" y="559116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430080" y="463860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3604320" y="436716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3269880" y="4917960"/>
            <a:ext cx="12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3102840" y="5194440"/>
            <a:ext cx="12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Metodi di base – approcci per-pix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1"/>
          <p:cNvSpPr/>
          <p:nvPr/>
        </p:nvSpPr>
        <p:spPr>
          <a:xfrm>
            <a:off x="7162920" y="3530520"/>
            <a:ext cx="569880" cy="538200"/>
          </a:xfrm>
          <a:prstGeom prst="cube">
            <a:avLst>
              <a:gd name="adj" fmla="val 96324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7162920" y="2995560"/>
            <a:ext cx="1296720" cy="1076040"/>
            <a:chOff x="7162920" y="2995560"/>
            <a:chExt cx="1296720" cy="1076040"/>
          </a:xfrm>
        </p:grpSpPr>
        <p:sp>
          <p:nvSpPr>
            <p:cNvPr id="107" name="AutoShape 33"/>
            <p:cNvSpPr/>
            <p:nvPr/>
          </p:nvSpPr>
          <p:spPr>
            <a:xfrm>
              <a:off x="724572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731772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5"/>
            <p:cNvSpPr/>
            <p:nvPr/>
          </p:nvSpPr>
          <p:spPr>
            <a:xfrm>
              <a:off x="738864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6"/>
            <p:cNvSpPr/>
            <p:nvPr/>
          </p:nvSpPr>
          <p:spPr>
            <a:xfrm>
              <a:off x="746064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7"/>
            <p:cNvSpPr/>
            <p:nvPr/>
          </p:nvSpPr>
          <p:spPr>
            <a:xfrm>
              <a:off x="75315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8"/>
            <p:cNvSpPr/>
            <p:nvPr/>
          </p:nvSpPr>
          <p:spPr>
            <a:xfrm>
              <a:off x="76035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9"/>
            <p:cNvSpPr/>
            <p:nvPr/>
          </p:nvSpPr>
          <p:spPr>
            <a:xfrm>
              <a:off x="7674480" y="3533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40"/>
            <p:cNvSpPr/>
            <p:nvPr/>
          </p:nvSpPr>
          <p:spPr>
            <a:xfrm>
              <a:off x="774648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1"/>
            <p:cNvSpPr/>
            <p:nvPr/>
          </p:nvSpPr>
          <p:spPr>
            <a:xfrm>
              <a:off x="7817760" y="3533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42"/>
            <p:cNvSpPr/>
            <p:nvPr/>
          </p:nvSpPr>
          <p:spPr>
            <a:xfrm>
              <a:off x="7889760" y="3533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3"/>
            <p:cNvSpPr/>
            <p:nvPr/>
          </p:nvSpPr>
          <p:spPr>
            <a:xfrm>
              <a:off x="717012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4"/>
            <p:cNvSpPr/>
            <p:nvPr/>
          </p:nvSpPr>
          <p:spPr>
            <a:xfrm>
              <a:off x="7241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45"/>
            <p:cNvSpPr/>
            <p:nvPr/>
          </p:nvSpPr>
          <p:spPr>
            <a:xfrm>
              <a:off x="73130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6"/>
            <p:cNvSpPr/>
            <p:nvPr/>
          </p:nvSpPr>
          <p:spPr>
            <a:xfrm>
              <a:off x="7383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47"/>
            <p:cNvSpPr/>
            <p:nvPr/>
          </p:nvSpPr>
          <p:spPr>
            <a:xfrm>
              <a:off x="74559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48"/>
            <p:cNvSpPr/>
            <p:nvPr/>
          </p:nvSpPr>
          <p:spPr>
            <a:xfrm>
              <a:off x="7527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9"/>
            <p:cNvSpPr/>
            <p:nvPr/>
          </p:nvSpPr>
          <p:spPr>
            <a:xfrm>
              <a:off x="759924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50"/>
            <p:cNvSpPr/>
            <p:nvPr/>
          </p:nvSpPr>
          <p:spPr>
            <a:xfrm>
              <a:off x="767016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1"/>
            <p:cNvSpPr/>
            <p:nvPr/>
          </p:nvSpPr>
          <p:spPr>
            <a:xfrm>
              <a:off x="774180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2"/>
            <p:cNvSpPr/>
            <p:nvPr/>
          </p:nvSpPr>
          <p:spPr>
            <a:xfrm>
              <a:off x="7813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3"/>
            <p:cNvSpPr/>
            <p:nvPr/>
          </p:nvSpPr>
          <p:spPr>
            <a:xfrm>
              <a:off x="7885080" y="34534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4"/>
            <p:cNvSpPr/>
            <p:nvPr/>
          </p:nvSpPr>
          <p:spPr>
            <a:xfrm>
              <a:off x="716544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55"/>
            <p:cNvSpPr/>
            <p:nvPr/>
          </p:nvSpPr>
          <p:spPr>
            <a:xfrm>
              <a:off x="723672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6"/>
            <p:cNvSpPr/>
            <p:nvPr/>
          </p:nvSpPr>
          <p:spPr>
            <a:xfrm>
              <a:off x="73083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7"/>
            <p:cNvSpPr/>
            <p:nvPr/>
          </p:nvSpPr>
          <p:spPr>
            <a:xfrm>
              <a:off x="7379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8"/>
            <p:cNvSpPr/>
            <p:nvPr/>
          </p:nvSpPr>
          <p:spPr>
            <a:xfrm>
              <a:off x="74512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9"/>
            <p:cNvSpPr/>
            <p:nvPr/>
          </p:nvSpPr>
          <p:spPr>
            <a:xfrm>
              <a:off x="7522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0"/>
            <p:cNvSpPr/>
            <p:nvPr/>
          </p:nvSpPr>
          <p:spPr>
            <a:xfrm>
              <a:off x="759456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61"/>
            <p:cNvSpPr/>
            <p:nvPr/>
          </p:nvSpPr>
          <p:spPr>
            <a:xfrm>
              <a:off x="7665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2"/>
            <p:cNvSpPr/>
            <p:nvPr/>
          </p:nvSpPr>
          <p:spPr>
            <a:xfrm>
              <a:off x="773748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3"/>
            <p:cNvSpPr/>
            <p:nvPr/>
          </p:nvSpPr>
          <p:spPr>
            <a:xfrm>
              <a:off x="7808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64"/>
            <p:cNvSpPr/>
            <p:nvPr/>
          </p:nvSpPr>
          <p:spPr>
            <a:xfrm>
              <a:off x="7880400" y="337428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65"/>
            <p:cNvSpPr/>
            <p:nvPr/>
          </p:nvSpPr>
          <p:spPr>
            <a:xfrm>
              <a:off x="71629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66"/>
            <p:cNvSpPr/>
            <p:nvPr/>
          </p:nvSpPr>
          <p:spPr>
            <a:xfrm>
              <a:off x="72334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67"/>
            <p:cNvSpPr/>
            <p:nvPr/>
          </p:nvSpPr>
          <p:spPr>
            <a:xfrm>
              <a:off x="73054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68"/>
            <p:cNvSpPr/>
            <p:nvPr/>
          </p:nvSpPr>
          <p:spPr>
            <a:xfrm>
              <a:off x="737676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9"/>
            <p:cNvSpPr/>
            <p:nvPr/>
          </p:nvSpPr>
          <p:spPr>
            <a:xfrm>
              <a:off x="744876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0"/>
            <p:cNvSpPr/>
            <p:nvPr/>
          </p:nvSpPr>
          <p:spPr>
            <a:xfrm>
              <a:off x="751968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1"/>
            <p:cNvSpPr/>
            <p:nvPr/>
          </p:nvSpPr>
          <p:spPr>
            <a:xfrm>
              <a:off x="759168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2"/>
            <p:cNvSpPr/>
            <p:nvPr/>
          </p:nvSpPr>
          <p:spPr>
            <a:xfrm>
              <a:off x="7662600" y="3299400"/>
              <a:ext cx="57060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3"/>
            <p:cNvSpPr/>
            <p:nvPr/>
          </p:nvSpPr>
          <p:spPr>
            <a:xfrm>
              <a:off x="773460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4"/>
            <p:cNvSpPr/>
            <p:nvPr/>
          </p:nvSpPr>
          <p:spPr>
            <a:xfrm>
              <a:off x="7805520" y="3299400"/>
              <a:ext cx="57096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5"/>
            <p:cNvSpPr/>
            <p:nvPr/>
          </p:nvSpPr>
          <p:spPr>
            <a:xfrm>
              <a:off x="7877520" y="3299400"/>
              <a:ext cx="569880" cy="53820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6"/>
            <p:cNvSpPr/>
            <p:nvPr/>
          </p:nvSpPr>
          <p:spPr>
            <a:xfrm>
              <a:off x="717480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7"/>
            <p:cNvSpPr/>
            <p:nvPr/>
          </p:nvSpPr>
          <p:spPr>
            <a:xfrm>
              <a:off x="724572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78"/>
            <p:cNvSpPr/>
            <p:nvPr/>
          </p:nvSpPr>
          <p:spPr>
            <a:xfrm>
              <a:off x="731772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9"/>
            <p:cNvSpPr/>
            <p:nvPr/>
          </p:nvSpPr>
          <p:spPr>
            <a:xfrm>
              <a:off x="738864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80"/>
            <p:cNvSpPr/>
            <p:nvPr/>
          </p:nvSpPr>
          <p:spPr>
            <a:xfrm>
              <a:off x="746064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1"/>
            <p:cNvSpPr/>
            <p:nvPr/>
          </p:nvSpPr>
          <p:spPr>
            <a:xfrm>
              <a:off x="75315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82"/>
            <p:cNvSpPr/>
            <p:nvPr/>
          </p:nvSpPr>
          <p:spPr>
            <a:xfrm>
              <a:off x="76035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83"/>
            <p:cNvSpPr/>
            <p:nvPr/>
          </p:nvSpPr>
          <p:spPr>
            <a:xfrm>
              <a:off x="7674480" y="3229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4"/>
            <p:cNvSpPr/>
            <p:nvPr/>
          </p:nvSpPr>
          <p:spPr>
            <a:xfrm>
              <a:off x="774648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85"/>
            <p:cNvSpPr/>
            <p:nvPr/>
          </p:nvSpPr>
          <p:spPr>
            <a:xfrm>
              <a:off x="7817760" y="3229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6"/>
            <p:cNvSpPr/>
            <p:nvPr/>
          </p:nvSpPr>
          <p:spPr>
            <a:xfrm>
              <a:off x="7889760" y="3229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87"/>
            <p:cNvSpPr/>
            <p:nvPr/>
          </p:nvSpPr>
          <p:spPr>
            <a:xfrm>
              <a:off x="717012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8"/>
            <p:cNvSpPr/>
            <p:nvPr/>
          </p:nvSpPr>
          <p:spPr>
            <a:xfrm>
              <a:off x="7241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89"/>
            <p:cNvSpPr/>
            <p:nvPr/>
          </p:nvSpPr>
          <p:spPr>
            <a:xfrm>
              <a:off x="73130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90"/>
            <p:cNvSpPr/>
            <p:nvPr/>
          </p:nvSpPr>
          <p:spPr>
            <a:xfrm>
              <a:off x="7383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91"/>
            <p:cNvSpPr/>
            <p:nvPr/>
          </p:nvSpPr>
          <p:spPr>
            <a:xfrm>
              <a:off x="74559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2"/>
            <p:cNvSpPr/>
            <p:nvPr/>
          </p:nvSpPr>
          <p:spPr>
            <a:xfrm>
              <a:off x="7527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93"/>
            <p:cNvSpPr/>
            <p:nvPr/>
          </p:nvSpPr>
          <p:spPr>
            <a:xfrm>
              <a:off x="759924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94"/>
            <p:cNvSpPr/>
            <p:nvPr/>
          </p:nvSpPr>
          <p:spPr>
            <a:xfrm>
              <a:off x="767016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95"/>
            <p:cNvSpPr/>
            <p:nvPr/>
          </p:nvSpPr>
          <p:spPr>
            <a:xfrm>
              <a:off x="774180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96"/>
            <p:cNvSpPr/>
            <p:nvPr/>
          </p:nvSpPr>
          <p:spPr>
            <a:xfrm>
              <a:off x="7813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7"/>
            <p:cNvSpPr/>
            <p:nvPr/>
          </p:nvSpPr>
          <p:spPr>
            <a:xfrm>
              <a:off x="7885080" y="31496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8"/>
            <p:cNvSpPr/>
            <p:nvPr/>
          </p:nvSpPr>
          <p:spPr>
            <a:xfrm>
              <a:off x="716544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99"/>
            <p:cNvSpPr/>
            <p:nvPr/>
          </p:nvSpPr>
          <p:spPr>
            <a:xfrm>
              <a:off x="723672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00"/>
            <p:cNvSpPr/>
            <p:nvPr/>
          </p:nvSpPr>
          <p:spPr>
            <a:xfrm>
              <a:off x="73083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01"/>
            <p:cNvSpPr/>
            <p:nvPr/>
          </p:nvSpPr>
          <p:spPr>
            <a:xfrm>
              <a:off x="7379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02"/>
            <p:cNvSpPr/>
            <p:nvPr/>
          </p:nvSpPr>
          <p:spPr>
            <a:xfrm>
              <a:off x="74512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3"/>
            <p:cNvSpPr/>
            <p:nvPr/>
          </p:nvSpPr>
          <p:spPr>
            <a:xfrm>
              <a:off x="7522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4"/>
            <p:cNvSpPr/>
            <p:nvPr/>
          </p:nvSpPr>
          <p:spPr>
            <a:xfrm>
              <a:off x="759456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05"/>
            <p:cNvSpPr/>
            <p:nvPr/>
          </p:nvSpPr>
          <p:spPr>
            <a:xfrm>
              <a:off x="7665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06"/>
            <p:cNvSpPr/>
            <p:nvPr/>
          </p:nvSpPr>
          <p:spPr>
            <a:xfrm>
              <a:off x="773748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7"/>
            <p:cNvSpPr/>
            <p:nvPr/>
          </p:nvSpPr>
          <p:spPr>
            <a:xfrm>
              <a:off x="7808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08"/>
            <p:cNvSpPr/>
            <p:nvPr/>
          </p:nvSpPr>
          <p:spPr>
            <a:xfrm>
              <a:off x="7880400" y="3070440"/>
              <a:ext cx="569880" cy="53892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9"/>
            <p:cNvSpPr/>
            <p:nvPr/>
          </p:nvSpPr>
          <p:spPr>
            <a:xfrm>
              <a:off x="71629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10"/>
            <p:cNvSpPr/>
            <p:nvPr/>
          </p:nvSpPr>
          <p:spPr>
            <a:xfrm>
              <a:off x="72334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1"/>
            <p:cNvSpPr/>
            <p:nvPr/>
          </p:nvSpPr>
          <p:spPr>
            <a:xfrm>
              <a:off x="73054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2"/>
            <p:cNvSpPr/>
            <p:nvPr/>
          </p:nvSpPr>
          <p:spPr>
            <a:xfrm>
              <a:off x="737676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13"/>
            <p:cNvSpPr/>
            <p:nvPr/>
          </p:nvSpPr>
          <p:spPr>
            <a:xfrm>
              <a:off x="744876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14"/>
            <p:cNvSpPr/>
            <p:nvPr/>
          </p:nvSpPr>
          <p:spPr>
            <a:xfrm>
              <a:off x="751968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5"/>
            <p:cNvSpPr/>
            <p:nvPr/>
          </p:nvSpPr>
          <p:spPr>
            <a:xfrm>
              <a:off x="759168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16"/>
            <p:cNvSpPr/>
            <p:nvPr/>
          </p:nvSpPr>
          <p:spPr>
            <a:xfrm>
              <a:off x="7662600" y="2995560"/>
              <a:ext cx="57060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17"/>
            <p:cNvSpPr/>
            <p:nvPr/>
          </p:nvSpPr>
          <p:spPr>
            <a:xfrm>
              <a:off x="773460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18"/>
            <p:cNvSpPr/>
            <p:nvPr/>
          </p:nvSpPr>
          <p:spPr>
            <a:xfrm>
              <a:off x="7805520" y="2995560"/>
              <a:ext cx="57096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9"/>
            <p:cNvSpPr/>
            <p:nvPr/>
          </p:nvSpPr>
          <p:spPr>
            <a:xfrm>
              <a:off x="7877520" y="2995560"/>
              <a:ext cx="569880" cy="537840"/>
            </a:xfrm>
            <a:prstGeom prst="cube">
              <a:avLst>
                <a:gd name="adj" fmla="val 96324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22"/>
          <p:cNvSpPr/>
          <p:nvPr/>
        </p:nvSpPr>
        <p:spPr>
          <a:xfrm>
            <a:off x="7236000" y="1557360"/>
            <a:ext cx="1223640" cy="1014480"/>
          </a:xfrm>
          <a:prstGeom prst="cube">
            <a:avLst>
              <a:gd name="adj" fmla="val 61027"/>
            </a:avLst>
          </a:prstGeom>
          <a:solidFill>
            <a:srgbClr val="000000"/>
          </a:solidFill>
          <a:ln w="349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6" descr="BiceAV1BG"/>
          <p:cNvPicPr/>
          <p:nvPr/>
        </p:nvPicPr>
        <p:blipFill>
          <a:blip r:embed="rId1"/>
          <a:stretch/>
        </p:blipFill>
        <p:spPr>
          <a:xfrm>
            <a:off x="7236000" y="2185920"/>
            <a:ext cx="609480" cy="385920"/>
          </a:xfrm>
          <a:prstGeom prst="rect">
            <a:avLst/>
          </a:prstGeom>
          <a:ln w="0">
            <a:noFill/>
          </a:ln>
        </p:spPr>
      </p:pic>
      <p:sp>
        <p:nvSpPr>
          <p:cNvPr id="196" name="Line 187"/>
          <p:cNvSpPr/>
          <p:nvPr/>
        </p:nvSpPr>
        <p:spPr>
          <a:xfrm>
            <a:off x="7451640" y="2779560"/>
            <a:ext cx="0" cy="358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0"/>
          <p:cNvSpPr/>
          <p:nvPr/>
        </p:nvSpPr>
        <p:spPr>
          <a:xfrm flipH="1">
            <a:off x="7884720" y="1844640"/>
            <a:ext cx="91764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1"/>
          <p:cNvSpPr/>
          <p:nvPr/>
        </p:nvSpPr>
        <p:spPr>
          <a:xfrm>
            <a:off x="8191080" y="2133720"/>
            <a:ext cx="9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1F18-130C-4B88-B24C-9F9CF30CBAB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Metodi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za tra fr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background stimato è semplicemente l’immagine prec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ora solo in particolari condizioni (velocità degli oggetti in movimento e frame rate – fattori collegat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ile trovare una sogli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atta (sensibilità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1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55:16Z</dcterms:created>
  <dc:creator>Marco</dc:creator>
  <dc:description/>
  <dc:language>en-US</dc:language>
  <cp:lastModifiedBy>Marco Cristani</cp:lastModifiedBy>
  <dcterms:modified xsi:type="dcterms:W3CDTF">2015-05-12T00:24:21Z</dcterms:modified>
  <cp:revision>179</cp:revision>
  <dc:subject/>
  <dc:title>Diapositiva 1</dc:title>
</cp:coreProperties>
</file>