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D4B-68DB-4DED-874F-0A209B48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83C-48BE-467F-8AB4-7CF91181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5D8-43C7-47BE-8A44-BFC30CA6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A5A-54FA-48B0-9300-FA7B81FB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3C9-677B-4174-A871-CFF1A2E9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FE1-4ED4-4C3E-B7EF-146725D8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E1A-865D-4E10-8756-8402EA91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F95-506B-430F-932E-FBA889AF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FBC-60D5-4D09-A3E6-2093A5BE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846-4D40-4B00-938A-EA3BCE6B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E065-F45C-4148-93C5-6DE19C9E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15B-BE13-45D5-87E8-76DC466E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6040-A5C1-4829-8A79-C3C7DD50A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3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“uncontrollable”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2743200"/>
            <a:ext cx="73915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here exist an 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54100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410080" y="4800240"/>
            <a:ext cx="1526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28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1066680"/>
            <a:ext cx="0" cy="99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5105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27432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0292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hosen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54100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 : 1 q : 1    r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914400"/>
            <a:ext cx="70102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2514600"/>
            <a:ext cx="77724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Controller keep track of the state of the Pl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Plant is output-deterministic,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then Controller looks exactly like the controllable part of Plant, with inputs and outputs swappe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52680" y="259092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2590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50292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he Controller can be made receptive in any wa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143000" y="2743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the Plant is not output-deterministic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ither 0 nor 1 is saf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219320" y="685800"/>
            <a:ext cx="7010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  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1676520"/>
            <a:ext cx="8001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Controllable be the controllable states of the Plant.  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l states in possibleUpdates (s,i) are 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M be the state machine whose states are the consistent subsets of Controllable.  Prune from M the states that have no successor, until no more states can be pru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52680" y="228600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286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733920"/>
            <a:ext cx="236232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146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55308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(“closed-loop”) system satisfies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9480" y="4495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sub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752480" y="51055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51055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{p,r} : 0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q,r}, {p,q,r}  not consistent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4197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44197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172200" y="4419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172200" y="4419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17220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86000" y="58672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05120" y="5943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143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Contro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8954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I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Linear Systems are Not Finite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449568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2"/>
                <a:ea typeface="MS Reference 2"/>
              </a:rPr>
              <a:t>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(z-1) + x(z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Finite-State Systems are Not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4956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(z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x(z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 x(z’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146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505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1828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 /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1828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048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&gt; 100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“i”  stands for any input valu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st Finite-State Control Obj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out of a set of undesirable plant states (the “error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tates of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7:38Z</dcterms:modified>
  <cp:revision>11</cp:revision>
  <dc:subject/>
  <dc:title>  </dc:title>
</cp:coreProperties>
</file>