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434-8675-402D-B42F-AB625256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575-62F3-4133-9B64-11A6E9FE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CF4-B291-46ED-BD6E-86C1DD92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62A-6023-4B1F-B4D5-2BA9759A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CBD-DF27-4187-9967-5C91540F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E80-5BF9-45D1-AF59-443495B6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AAB-0317-4E15-A0A7-5258696A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C02-431C-4D34-8A10-4DE40A91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E3B-97B1-4854-97C3-93328A07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80B-2336-4599-8085-B5DA5870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BFA-6ECB-4831-A790-94FE2F95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D0F-BCDA-42D7-A37D-EDCA97C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5D68-9B4F-43D0-A452-600D4E95B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3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“uncontrollable”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743200"/>
            <a:ext cx="7391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here exist an 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4100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10080" y="4800240"/>
            <a:ext cx="1526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28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066680"/>
            <a:ext cx="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743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0292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osen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4100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 : 1 q : 1    r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914400"/>
            <a:ext cx="70102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514600"/>
            <a:ext cx="7772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Controller keep track of the state of the Pl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Plant is output-deterministic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then Controller looks exactly like the controllable part of Plant, with inputs and outputs swappe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2680" y="259092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5029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he Controller can be made receptive in any w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2743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Plant is not output-deterministic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ither 0 nor 1 is saf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219320" y="685800"/>
            <a:ext cx="701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  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16765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Controllable be the controllable states of the Plant.  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states in possibleUpdates (s,i) are 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M be the state machine whose states are the consistent subsets of Controllable.  Prune from M the states that have no successor, until no more states can be pru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52680" y="228600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733920"/>
            <a:ext cx="236232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146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55308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(“closed-loop”) system satisfi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51055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51055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{p,r} : 0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q,r}, {p,q,r}  not consiste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4197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4419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72200" y="4419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72200" y="4419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722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5867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05120" y="5943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tro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I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Linear Systems are Not Finite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44956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2"/>
                <a:ea typeface="MS Reference 2"/>
              </a:rPr>
              <a:t>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(z-1) + x(z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Finite-State Systems are Not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4956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(z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x(z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 x(z’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05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 /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&gt; 100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“i”  stands for any input 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st Finite-State Control 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out of a set of undesirable plant states (the “error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7:38Z</dcterms:modified>
  <cp:revision>11</cp:revision>
  <dc:subject/>
  <dc:title>  </dc:title>
</cp:coreProperties>
</file>