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CBB-A8CB-46C6-BE59-1C52AF32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E3A-E748-4C17-B8B9-E0450A21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FC2-23EC-4D43-B943-F0F28B66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D3E-D3F4-494F-9EEB-0C11D6A0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EBD-772F-4C80-85A3-632894F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952-C359-4914-8554-63E53C1C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7B1-0DB8-44F3-AD0E-FA3EE99D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2EE-97B1-494E-8059-A10C5054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FC3-89FF-4C2B-BBE6-1DED014C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DB1-3C3D-4359-85C4-BF3F9597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DA1-27B5-4D14-92B7-7B5084DD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C95-95E5-4EC7-8BEA-F5DE586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BB37-5871-47F0-9C60-2F7AC3131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752480"/>
            <a:ext cx="8763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Safety-controllable without target states (including the empty set Ø), and whose out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3:17Z</dcterms:modified>
  <cp:revision>19</cp:revision>
  <dc:subject/>
  <dc:title>  </dc:title>
</cp:coreProperties>
</file>