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 LT St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31F-74AA-4E66-B37E-08E4EA0FCA7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out=imread('pout.jpg'); imshow(pout); pout=rgb2gray(pout); figure, imhist(pout) pout_eq=histeq(pout); figure, imshow(pout_eq) figure, imhist(pout_e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imshow(image,[low, high])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also has the functioning of histogram stretch: all value that no larger than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 low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will be shown as black; all pixel value that no less tha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high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will be shown as white; the rest will be stretched to 0~25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1D4-F973-418B-A52F-4DF92D146BE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BA4-6ACE-4FAF-AB58-BEB8436D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5DB-2B36-4FA8-803F-4068324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881-48D3-49E1-AD2D-28BB31D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520-947F-48D0-9BB2-6EFDDD17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1CF-9352-4DC1-B83D-29F2D6B7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8C6-1D6E-4A0D-8D8F-F390912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C90-238E-4757-A4E2-9EFC12A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771-945E-4228-A113-87CEEFD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3EF-70AF-4161-B1AB-1CDAC41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CA8-55D8-44E4-AF62-89DC708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D2A-1E98-4814-902D-CAA67A5F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E7E-5582-4F09-95F1-F387FBE5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 LT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LT Std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Univers LT Std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Univers LT Std 45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Univers LT Std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1E85-027E-4C3B-977D-778961DF83DA}" type="slidenum">
              <a:rPr b="0" lang="it-IT" sz="1200" spc="-1" strike="noStrike">
                <a:solidFill>
                  <a:srgbClr val="898989"/>
                </a:solidFill>
                <a:latin typeface="Univers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Didot LT Std"/>
              </a:rPr>
              <a:t>Histogram and region based processing</a:t>
            </a:r>
            <a:endParaRPr b="0" lang="en-US" sz="48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Univers LT Std 45 Light"/>
              </a:rPr>
              <a:t>C. Andr</a:t>
            </a:r>
            <a:r>
              <a:rPr b="0" lang="es-ES" sz="2800" spc="-1" strike="noStrike">
                <a:solidFill>
                  <a:srgbClr val="898989"/>
                </a:solidFill>
                <a:latin typeface="Univers LT Std 45 Light"/>
              </a:rPr>
              <a:t>és Méndez</a:t>
            </a: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Univers LT Std 45 Light"/>
              </a:rPr>
              <a:t>20/03/2013</a:t>
            </a: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</p:txBody>
      </p:sp>
      <p:sp>
        <p:nvSpPr>
          <p:cNvPr id="50" name="Straight Connector 3"/>
          <p:cNvSpPr/>
          <p:nvPr/>
        </p:nvSpPr>
        <p:spPr>
          <a:xfrm>
            <a:off x="1066680" y="3733920"/>
            <a:ext cx="716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riaonweb.it/Immagini/links/logo_univr.gif"/>
          <p:cNvPicPr/>
          <p:nvPr/>
        </p:nvPicPr>
        <p:blipFill>
          <a:blip r:embed="rId1"/>
          <a:stretch/>
        </p:blipFill>
        <p:spPr>
          <a:xfrm>
            <a:off x="533520" y="4952880"/>
            <a:ext cx="16383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A volte, l’equalizzazione dell’istogramma non produce i migliori risultati o il contrasto che aspettiamo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Univers LT Std 45 Ligh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Univers LT Std 45 Light"/>
              </a:rPr>
              <a:t>Esempio, presso da </a:t>
            </a:r>
            <a:r>
              <a:rPr b="0" i="1" lang="it-IT" sz="2000" spc="-1" strike="noStrike">
                <a:solidFill>
                  <a:srgbClr val="000000"/>
                </a:solidFill>
                <a:latin typeface="Univers LT Std 45 Light"/>
              </a:rPr>
              <a:t>Digital Image Processing, Using MATLAB</a:t>
            </a:r>
            <a:r>
              <a:rPr b="0" lang="it-IT" sz="2000" spc="-1" strike="noStrike">
                <a:solidFill>
                  <a:srgbClr val="000000"/>
                </a:solidFill>
                <a:latin typeface="Univers LT Std 45 Light"/>
              </a:rPr>
              <a:t>, by Rafael C. Gonzalez,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219564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3530520" y="3276720"/>
            <a:ext cx="218448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172200" y="3276720"/>
            <a:ext cx="219384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6587280" y="6488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Univers LT Std 45 Light"/>
              </a:rPr>
              <a:t>adapthist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70720" y="6488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Univers LT Std 45 Light"/>
              </a:rPr>
              <a:t>hist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11775" t="0" r="9172" b="57518"/>
          <a:stretch/>
        </p:blipFill>
        <p:spPr>
          <a:xfrm>
            <a:off x="228600" y="4038480"/>
            <a:ext cx="8610480" cy="2473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Univers LT Std 45 Light"/>
              </a:rPr>
              <a:t>Esercizio 3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&gt;&gt;</a:t>
            </a:r>
            <a:r>
              <a:rPr b="0" i="1" lang="es-ES" sz="2400" spc="-1" strike="noStrike">
                <a:solidFill>
                  <a:srgbClr val="000000"/>
                </a:solidFill>
                <a:latin typeface="Univers LT Std 45 Light"/>
              </a:rPr>
              <a:t>help adapthisteq   </a:t>
            </a: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(Contrast-limited adaptive histogram equalization 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Load deathstar.jpg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Show original, equalized and adaptive-equalized images with their respective histograms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920" y="1066680"/>
            <a:ext cx="905976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Univers LT Std 45 Light"/>
              </a:rPr>
              <a:t>Esercizio 3 (continuation)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&gt;&gt;</a:t>
            </a:r>
            <a:r>
              <a:rPr b="1" i="1" lang="es-ES" sz="2400" spc="-1" strike="noStrike">
                <a:solidFill>
                  <a:srgbClr val="000000"/>
                </a:solidFill>
                <a:latin typeface="Univers LT Std 45 Light"/>
              </a:rPr>
              <a:t>doc  adapthisteq   </a:t>
            </a:r>
            <a:r>
              <a:rPr b="0" i="1" lang="es-ES" sz="2400" spc="-1" strike="noStrike">
                <a:solidFill>
                  <a:srgbClr val="000000"/>
                </a:solidFill>
                <a:latin typeface="Univers LT Std 45 Light"/>
              </a:rPr>
              <a:t>(open documentation)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Load deathstar.jpg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Modify parameters&gt;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NumTiles’  (   for  example   </a:t>
            </a:r>
            <a:r>
              <a:rPr b="0" lang="it-IT" sz="2000" spc="-1" strike="noStrike">
                <a:solidFill>
                  <a:srgbClr val="000000"/>
                </a:solidFill>
                <a:latin typeface="Univers LT Std 45 Light"/>
              </a:rPr>
              <a:t>'NumTiles', [16 16]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ClipLimit’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Show image and histograms,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Compare the results  (also with POUT.tif and TIRE.tif)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Didot LT Std"/>
              </a:rPr>
              <a:t>Funzioni per la Trasformazione di Intensità</a:t>
            </a:r>
            <a:endParaRPr b="0" lang="en-US" sz="32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Le elaborazioni nel dominio spaziale possono essere espresse come: 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g(x,y)= T[f(x,y)] 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essendo f l’immagine di ingresso alla elaborazione, g quella di uscita e T un operatore su f, definito in un intorno di (x,y). La dimensione dell’intorno di (x,y) definisce il carattere della elaborazione: 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puntuale(l’intorno coincide con il pixel stesso);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locale(per esempio una piccola regione quadrata centrata sul pixel);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globale(l’intorno coincide con l’intera f).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Didot LT Std"/>
              </a:rPr>
              <a:t>Bimodal histogram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37160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</a:rPr>
              <a:t>Esercizio 4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Create a 400x400 image with normally distributed pixels. 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Normal dist., mean=100, std=25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Matlab: (</a:t>
            </a:r>
            <a:r>
              <a:rPr b="1" i="1" lang="en-US" sz="2000" spc="-1" strike="noStrike">
                <a:solidFill>
                  <a:srgbClr val="000000"/>
                </a:solidFill>
                <a:latin typeface="Univers LT Std 45 Light"/>
              </a:rPr>
              <a:t>randn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In the previous image insert a 250x250 square with pixels following the distribution: 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normal dist., mean =170, std=20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Visualize the image and its histogram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imshow 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hist    (better in this case than imhist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14900" t="5964" r="15557" b="12511"/>
          <a:stretch/>
        </p:blipFill>
        <p:spPr>
          <a:xfrm>
            <a:off x="5791320" y="1589040"/>
            <a:ext cx="2743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Didot LT Std"/>
              </a:rPr>
              <a:t>Bimodal Histogram, 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Didot LT Std"/>
              </a:rPr>
              <a:t>optimal threshold</a:t>
            </a:r>
            <a:endParaRPr b="0" lang="en-US" sz="40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600200"/>
            <a:ext cx="5790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LT Std 45 Light"/>
              </a:rPr>
              <a:t>Esercizio 5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Univers LT Std 45 Light"/>
              </a:rPr>
              <a:t>How to automatically select the best threshold value for segmentation?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Implement the following automatic procedure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952200" indent="-50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Univers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Choose initial threshold (e.g. randomly)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952200" indent="-50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Univers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Segment the image into object and background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952200" indent="-50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Univers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Compute mean intensity of object (mean1 ) and background (mean2 )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952200" indent="-50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Univers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Set new threshold to (mean1+mean2 )/2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952200" indent="-50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Univers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LT Std 45 Light"/>
              </a:rPr>
              <a:t>Repeat from Step 2 until convergence</a:t>
            </a:r>
            <a:endParaRPr b="0" lang="en-US" sz="18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Apply the procedure to the previous image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Generate a new combination of two distributions and apply the method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969160" y="2362320"/>
            <a:ext cx="3174840" cy="2381040"/>
          </a:xfrm>
          <a:prstGeom prst="rect">
            <a:avLst/>
          </a:prstGeom>
          <a:ln w="0">
            <a:noFill/>
          </a:ln>
        </p:spPr>
      </p:pic>
      <p:sp>
        <p:nvSpPr>
          <p:cNvPr id="97" name="Down Arrow 5"/>
          <p:cNvSpPr/>
          <p:nvPr/>
        </p:nvSpPr>
        <p:spPr>
          <a:xfrm>
            <a:off x="7543800" y="2362320"/>
            <a:ext cx="304920" cy="990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Didot LT Std"/>
              </a:rPr>
              <a:t>Where to find the presentations?</a:t>
            </a:r>
            <a:endParaRPr b="0" lang="en-US" sz="40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895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Univers LT Std 45 Light"/>
              </a:rPr>
              <a:t>http://profs.sci.univr.it/~mendezguerrero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0000"/>
                </a:solidFill>
                <a:latin typeface="Didot LT Std"/>
              </a:rPr>
              <a:t>Intensity Transformation Functions</a:t>
            </a:r>
            <a:endParaRPr b="0" lang="en-US" sz="40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Univers LT Std 45 Light"/>
              </a:rPr>
              <a:t>Esercizio 1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Caricare l’immagini </a:t>
            </a:r>
            <a:r>
              <a:rPr b="0" i="1" lang="es-ES" sz="2400" spc="-1" strike="noStrike">
                <a:solidFill>
                  <a:srgbClr val="000000"/>
                </a:solidFill>
                <a:latin typeface="Univers LT Std 45 Light"/>
              </a:rPr>
              <a:t>pout.tif </a:t>
            </a: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e </a:t>
            </a:r>
            <a:r>
              <a:rPr b="0" i="1" lang="es-ES" sz="2400" spc="-1" strike="noStrike">
                <a:solidFill>
                  <a:srgbClr val="000000"/>
                </a:solidFill>
                <a:latin typeface="Univers LT Std 45 Light"/>
              </a:rPr>
              <a:t>tire.tif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Visualizzare l’immagine  e il suo istogramma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Univers LT Std 45 Light"/>
              </a:rPr>
              <a:t>Regolare l’intensità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funzione </a:t>
            </a:r>
            <a:r>
              <a:rPr b="1" lang="es-ES" sz="2000" spc="-1" strike="noStrike">
                <a:solidFill>
                  <a:srgbClr val="000000"/>
                </a:solidFill>
                <a:latin typeface="Univers LT Std 45 Light"/>
              </a:rPr>
              <a:t>imadjust </a:t>
            </a: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 (help imadjust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imadjust(f,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[low_in high_in], [low_out  high_out], gamma</a:t>
            </a:r>
            <a:r>
              <a:rPr b="0" lang="es-ES" sz="20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6057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29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2409840" cy="286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867280" y="380880"/>
            <a:ext cx="2409840" cy="2867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6332040" y="33526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486400" y="38098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imadjust(pout,[0 1],[1 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gure,imshow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 LT Std 45 Light"/>
              </a:rPr>
              <a:t>L’istogramma è la rappresentazione grafica della quantità di pixel presenti nell’immagine per ciascun livello di grigio.</a:t>
            </a: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L’asse orizzontale X rappresenta i valori dei grigi. L’asse verticale Y rappresenta il numero di pixel per ogni livello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3676680" cy="27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rcRect l="20270" t="6079" r="21164" b="15228"/>
          <a:stretch/>
        </p:blipFill>
        <p:spPr>
          <a:xfrm>
            <a:off x="1981080" y="426708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E’ una tecnica che mira a modificare la forma dell’istogramma redistribuendo i valori dei livelli di grigio in modo che l’istogramma sia quanto più uniforme possibile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L’obiettivo è quello di migliorare l’immagine a debole contrasto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Univers LT Std 45 Light"/>
              </a:rPr>
              <a:t>Tuttavia, un’equalizzazione non porta necessariamente ad un miglioramento dell’immagine (Es. immagine con istogramma bimodale)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LT Std 45 Light"/>
              </a:rPr>
              <a:t>L’operazione di equalizzazione ha lo scopo di ottenere per l’istogramma un andamento praticamente costante.</a:t>
            </a: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Per fare ciò si sostituisce al valore x di livello di grigio un valore y dato dalla seguente trasformazione: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dove T è il numero complessivo dei pixel dell’immagine, L è il valore massimo dei livelli di grigi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Univers LT Std 45 Light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Univers LT Std 45 Light"/>
              </a:rPr>
              <a:t> è il numero di pixel che hanno un livello di grigio uguale a i, ovvero H(i) </a:t>
            </a:r>
            <a:endParaRPr b="0" lang="en-US" sz="2000" spc="-1" strike="noStrike">
              <a:solidFill>
                <a:srgbClr val="000000"/>
              </a:solidFill>
              <a:latin typeface="Univers LT Std 45 Light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2984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7816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0000"/>
                </a:solidFill>
                <a:latin typeface="Didot LT Std"/>
              </a:rPr>
              <a:t>Equalizzazione dell’istogramma</a:t>
            </a:r>
            <a:endParaRPr b="0" lang="en-US" sz="4400" spc="-1" strike="noStrike">
              <a:solidFill>
                <a:srgbClr val="000000"/>
              </a:solidFill>
              <a:latin typeface="Didot LT Std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Univers LT Std 45 Light"/>
              </a:rPr>
              <a:t>Esercizio 2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Univers LT Std 45 Light"/>
              </a:rPr>
              <a:t>Caricare l’immagini </a:t>
            </a:r>
            <a:r>
              <a:rPr b="0" i="1" lang="es-ES" sz="3200" spc="-1" strike="noStrike">
                <a:solidFill>
                  <a:srgbClr val="000000"/>
                </a:solidFill>
                <a:latin typeface="Univers LT Std 45 Light"/>
              </a:rPr>
              <a:t>pout.tif </a:t>
            </a:r>
            <a:r>
              <a:rPr b="0" lang="es-ES" sz="3200" spc="-1" strike="noStrike">
                <a:solidFill>
                  <a:srgbClr val="000000"/>
                </a:solidFill>
                <a:latin typeface="Univers LT Std 45 Light"/>
              </a:rPr>
              <a:t>e </a:t>
            </a:r>
            <a:r>
              <a:rPr b="0" i="1" lang="es-ES" sz="3200" spc="-1" strike="noStrike">
                <a:solidFill>
                  <a:srgbClr val="000000"/>
                </a:solidFill>
                <a:latin typeface="Univers LT Std 45 Light"/>
              </a:rPr>
              <a:t>tire.tif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Univers LT Std 45 Light"/>
              </a:rPr>
              <a:t>Visualizzare l’immagine e il suo istogramma (</a:t>
            </a:r>
            <a:r>
              <a:rPr b="0" i="1" lang="es-ES" sz="2800" spc="-1" strike="noStrike">
                <a:solidFill>
                  <a:srgbClr val="000000"/>
                </a:solidFill>
                <a:latin typeface="Univers LT Std 45 Light"/>
              </a:rPr>
              <a:t>imhist</a:t>
            </a:r>
            <a:r>
              <a:rPr b="0" lang="es-ES" sz="28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Univers LT Std 45 Light"/>
              </a:rPr>
              <a:t>Equalizzare l’istogramma</a:t>
            </a:r>
            <a:endParaRPr b="0" lang="en-US" sz="3200" spc="-1" strike="noStrike">
              <a:solidFill>
                <a:srgbClr val="000000"/>
              </a:solidFill>
              <a:latin typeface="Univers LT Std 45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Univers LT Std 45 Light"/>
              </a:rPr>
              <a:t>Visualizzare l’immagine equalizzata e il suo istogramma (</a:t>
            </a:r>
            <a:r>
              <a:rPr b="0" i="1" lang="es-ES" sz="2800" spc="-1" strike="noStrike">
                <a:solidFill>
                  <a:srgbClr val="000000"/>
                </a:solidFill>
                <a:latin typeface="Univers LT Std 45 Light"/>
              </a:rPr>
              <a:t>histeq</a:t>
            </a:r>
            <a:r>
              <a:rPr b="0" lang="es-ES" sz="2800" spc="-1" strike="noStrike">
                <a:solidFill>
                  <a:srgbClr val="000000"/>
                </a:solidFill>
                <a:latin typeface="Univers LT Std 45 Ligh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Univers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9:25:59Z</dcterms:created>
  <dc:creator>Andres</dc:creator>
  <dc:description/>
  <dc:language>en-US</dc:language>
  <cp:lastModifiedBy>Andres</cp:lastModifiedBy>
  <dcterms:modified xsi:type="dcterms:W3CDTF">2013-03-20T13:08:43Z</dcterms:modified>
  <cp:revision>73</cp:revision>
  <dc:subject/>
  <dc:title>Histogram and region based processing</dc:title>
</cp:coreProperties>
</file>