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E1678-052B-4E30-A3BD-E846016A44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28CB9-443C-4060-AFF3-7C584BA378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1A7F6-236C-4115-90AA-E23769E45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95353-8D5C-4E98-8F42-8008E9BD1D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3A16B-ED92-4204-8FFA-C243D13B19B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4B407-0E4A-4E8F-A579-845B0A644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1B96-EC6F-4E2E-A26A-5ED98C90C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B6D6-6329-4DF1-B80C-A5EDDF4A12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24086-DB59-4C93-BFAE-D9F3526012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AECC-8B36-484A-83BE-6A1F64FCF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62CA-B318-42E1-A0A3-0C677ADFF5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2BDC7-73A0-4599-ABA2-4EEE25B9C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703440" y="6400440"/>
            <a:ext cx="7737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Gloria Menega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807320" y="6400440"/>
            <a:ext cx="914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C29A-88A3-439A-84DE-088EC552C12C}" type="slidenum">
              <a:rPr b="0" lang="en-US" sz="14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52440" y="457200"/>
            <a:ext cx="8439120" cy="5943600"/>
          </a:xfrm>
          <a:prstGeom prst="rect">
            <a:avLst/>
          </a:prstGeom>
          <a:noFill/>
          <a:ln w="64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61"/>
              </a:spcBef>
              <a:spcAft>
                <a:spcPts val="561"/>
              </a:spcAft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1" marL="743040" indent="-28584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3" marL="16002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4" marL="2057400" indent="-228600">
              <a:spcBef>
                <a:spcPts val="561"/>
              </a:spcBef>
              <a:spcAft>
                <a:spcPts val="56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5" marL="2057400" indent="-22860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  <a:p>
            <a:pPr lvl="6" marL="2057400" indent="-228600">
              <a:spcBef>
                <a:spcPts val="561"/>
              </a:spcBef>
              <a:spcAft>
                <a:spcPts val="561"/>
              </a:spcAft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333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aplacian pyramid: decomposition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692360" y="2565360"/>
            <a:ext cx="5773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Laplacian Pyramid: reconstruction</a:t>
            </a:r>
            <a:endParaRPr b="0" lang="en-US" sz="2800" spc="-1" strike="noStrike">
              <a:solidFill>
                <a:srgbClr val="3333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384360" cy="17906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050920" y="3716280"/>
            <a:ext cx="5832720" cy="2619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54560" y="1628640"/>
            <a:ext cx="95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assical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7440" y="364500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and Vetterli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14:20:51Z</dcterms:created>
  <dc:creator>menegaz</dc:creator>
  <dc:description/>
  <dc:language>en-US</dc:language>
  <cp:lastModifiedBy>menegaz</cp:lastModifiedBy>
  <dcterms:modified xsi:type="dcterms:W3CDTF">2010-03-24T14:33:15Z</dcterms:modified>
  <cp:revision>2</cp:revision>
  <dc:subject/>
  <dc:title>Laplacian pyramid: decomposition</dc:title>
</cp:coreProperties>
</file>