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0194-0810-4EBC-833C-3C6351141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C550-C14F-41EB-AD93-CCA538E3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E3B0-464B-44ED-BB5D-F8AB712E9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E180-707E-45FB-BF32-6B2C0EDB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F7C9-56B0-41C6-A213-02AE547D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95B0-1A3D-40C3-914F-9A646A50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622A-3BB9-4DC7-8036-8F89E67A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B02B-63E2-4207-BCCA-2687D7E5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D375-8864-4BE6-BF69-5706FA58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19A9-D852-4B90-B281-E80B6AD8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21DD-CAB7-4B67-8DFA-B0BED6A3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DF41-0020-4E0B-8AE5-90ACE149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59A9-B04E-4952-B127-B421A9DA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E26F-A0B5-445F-B6E1-8B0FAE28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9314-5C16-4010-8775-E33695B0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2294-3604-4DC8-8D78-4EC63FCF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5D82-55E0-4670-8344-5B6232586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373B-3252-41EF-A033-A8F4A687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4777-B0E7-4C31-8B1A-E2B9E12D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87D9-5942-4E1F-81DA-1BB802C8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F0A4-6AB3-4A3C-82BD-664DAEAB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9C7C-57F1-4727-A642-014111F6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41D9-C324-403A-B085-6BC3F66D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B222-F6EE-49BD-9D5D-650A8763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5DF06D2-C00C-4A59-B9AB-3BFBD085979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2D7F27C-3243-4CBD-BBC4-7EC52CEBD7E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ate Machin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itive sequential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al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s for representing sequential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-state machines (Moore and Mea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sequential circuits revis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transition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at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B34A-026E-458E-842D-9F5486CC777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"/>
          <p:cNvGrpSpPr/>
          <p:nvPr/>
        </p:nvGrpSpPr>
        <p:grpSpPr>
          <a:xfrm>
            <a:off x="609480" y="3664080"/>
            <a:ext cx="3911760" cy="1771560"/>
            <a:chOff x="609480" y="3664080"/>
            <a:chExt cx="3911760" cy="1771560"/>
          </a:xfrm>
        </p:grpSpPr>
        <p:sp>
          <p:nvSpPr>
            <p:cNvPr id="510" name=""/>
            <p:cNvSpPr/>
            <p:nvPr/>
          </p:nvSpPr>
          <p:spPr>
            <a:xfrm>
              <a:off x="3409920" y="3664080"/>
              <a:ext cx="355680" cy="35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21280" y="4362480"/>
              <a:ext cx="355320" cy="342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381400" y="3664080"/>
              <a:ext cx="355320" cy="35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381400" y="5060880"/>
              <a:ext cx="355320" cy="33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327320" y="3664080"/>
              <a:ext cx="355320" cy="35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82640" y="383544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flipV="1">
              <a:off x="3714840" y="3943440"/>
              <a:ext cx="44424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907920" y="3955680"/>
              <a:ext cx="45720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62320" y="3695760"/>
              <a:ext cx="419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102200" y="4381560"/>
              <a:ext cx="419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362320" y="5067360"/>
              <a:ext cx="419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403440" y="3695760"/>
              <a:ext cx="419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308240" y="3708360"/>
              <a:ext cx="4190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409920" y="5060880"/>
              <a:ext cx="355680" cy="33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1520" y="4362480"/>
              <a:ext cx="342720" cy="342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327320" y="5060880"/>
              <a:ext cx="355320" cy="33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36720" y="5207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480" y="4381560"/>
              <a:ext cx="419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03440" y="5067360"/>
              <a:ext cx="419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08240" y="5092560"/>
              <a:ext cx="4190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736720" y="38228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95600" y="5207040"/>
              <a:ext cx="66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790640" y="4419720"/>
              <a:ext cx="15494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-bit up-coun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 flipV="1">
              <a:off x="895320" y="4654440"/>
              <a:ext cx="45720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3727440" y="4654080"/>
              <a:ext cx="43164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5268960" y="3073320"/>
            <a:ext cx="3476520" cy="3175200"/>
            <a:chOff x="5268960" y="3073320"/>
            <a:chExt cx="3476520" cy="3175200"/>
          </a:xfrm>
        </p:grpSpPr>
        <p:sp>
          <p:nvSpPr>
            <p:cNvPr id="536" name=""/>
            <p:cNvSpPr/>
            <p:nvPr/>
          </p:nvSpPr>
          <p:spPr>
            <a:xfrm>
              <a:off x="5486400" y="3073320"/>
              <a:ext cx="3259080" cy="31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22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1598760"/>
                  <a:tab algn="l" pos="1828800"/>
                  <a:tab algn="l" pos="2513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next stat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268960" y="3645000"/>
              <a:ext cx="30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826320" y="3390840"/>
              <a:ext cx="0" cy="250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829640" y="3664080"/>
              <a:ext cx="0" cy="21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781600" y="3664080"/>
              <a:ext cx="0" cy="21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SM design procedure: state diagram to encoded state transition tab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ular form of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a truth-table (specify output for all input combin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of states: easy for counters – just us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2F2E-1FB1-4B23-B98B-9242E1DDE37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"/>
          <p:cNvGrpSpPr/>
          <p:nvPr/>
        </p:nvGrpSpPr>
        <p:grpSpPr>
          <a:xfrm>
            <a:off x="1365120" y="2251080"/>
            <a:ext cx="2882880" cy="2895480"/>
            <a:chOff x="1365120" y="2251080"/>
            <a:chExt cx="2882880" cy="2895480"/>
          </a:xfrm>
        </p:grpSpPr>
        <p:sp>
          <p:nvSpPr>
            <p:cNvPr id="544" name=""/>
            <p:cNvSpPr/>
            <p:nvPr/>
          </p:nvSpPr>
          <p:spPr>
            <a:xfrm>
              <a:off x="1434960" y="2251080"/>
              <a:ext cx="274320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22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365120" y="282240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743200" y="2581200"/>
              <a:ext cx="0" cy="250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5040360" y="3139920"/>
            <a:ext cx="386244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C2’ + C1’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C2C3’ + C1’C3 + C2’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(C1C2)C3’ + (C1’ + C2’)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(C1C2)C3’ + (C1C2)’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(C1C2)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594400" y="2293560"/>
            <a:ext cx="762120" cy="878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489720" y="1844640"/>
            <a:ext cx="20829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ilog notation to 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 represents a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 to D-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flip-flop for each state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based on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88600" y="5195880"/>
            <a:ext cx="2383920" cy="1574280"/>
            <a:chOff x="588600" y="5195880"/>
            <a:chExt cx="2383920" cy="1574280"/>
          </a:xfrm>
        </p:grpSpPr>
        <p:grpSp>
          <p:nvGrpSpPr>
            <p:cNvPr id="553" name=""/>
            <p:cNvGrpSpPr/>
            <p:nvPr/>
          </p:nvGrpSpPr>
          <p:grpSpPr>
            <a:xfrm>
              <a:off x="779400" y="5281200"/>
              <a:ext cx="2193120" cy="1488960"/>
              <a:chOff x="779400" y="5281200"/>
              <a:chExt cx="2193120" cy="1488960"/>
            </a:xfrm>
          </p:grpSpPr>
          <p:sp>
            <p:nvSpPr>
              <p:cNvPr id="554" name=""/>
              <p:cNvSpPr/>
              <p:nvPr/>
            </p:nvSpPr>
            <p:spPr>
              <a:xfrm>
                <a:off x="1217160" y="560196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147040" y="560196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972440" y="552564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420280" y="5528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1962720" y="597636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972440" y="552564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506240" y="644004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058400" y="598284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79400" y="609408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912320" y="64400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378880" y="52812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058400" y="552564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506240" y="5528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1048680" y="597636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588600" y="5195880"/>
              <a:ext cx="453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449160" y="5195880"/>
            <a:ext cx="2384640" cy="1574280"/>
            <a:chOff x="3449160" y="5195880"/>
            <a:chExt cx="2384640" cy="1574280"/>
          </a:xfrm>
        </p:grpSpPr>
        <p:grpSp>
          <p:nvGrpSpPr>
            <p:cNvPr id="570" name=""/>
            <p:cNvGrpSpPr/>
            <p:nvPr/>
          </p:nvGrpSpPr>
          <p:grpSpPr>
            <a:xfrm>
              <a:off x="3640320" y="5281200"/>
              <a:ext cx="2193480" cy="1488960"/>
              <a:chOff x="3640320" y="5281200"/>
              <a:chExt cx="2193480" cy="1488960"/>
            </a:xfrm>
          </p:grpSpPr>
          <p:sp>
            <p:nvSpPr>
              <p:cNvPr id="571" name=""/>
              <p:cNvSpPr/>
              <p:nvPr/>
            </p:nvSpPr>
            <p:spPr>
              <a:xfrm>
                <a:off x="4078080" y="560196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008320" y="560196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833720" y="552564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281560" y="5528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4824000" y="597636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833720" y="552564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367160" y="644004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919320" y="598284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640320" y="609408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773600" y="64400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40160" y="52812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919320" y="552564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367160" y="5528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3909600" y="597636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3449160" y="5195880"/>
              <a:ext cx="453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6311520" y="5194440"/>
            <a:ext cx="2383920" cy="1574280"/>
            <a:chOff x="6311520" y="5194440"/>
            <a:chExt cx="2383920" cy="1574280"/>
          </a:xfrm>
        </p:grpSpPr>
        <p:grpSp>
          <p:nvGrpSpPr>
            <p:cNvPr id="587" name=""/>
            <p:cNvGrpSpPr/>
            <p:nvPr/>
          </p:nvGrpSpPr>
          <p:grpSpPr>
            <a:xfrm>
              <a:off x="6502320" y="5279760"/>
              <a:ext cx="2193120" cy="1488960"/>
              <a:chOff x="6502320" y="5279760"/>
              <a:chExt cx="2193120" cy="1488960"/>
            </a:xfrm>
          </p:grpSpPr>
          <p:sp>
            <p:nvSpPr>
              <p:cNvPr id="588" name=""/>
              <p:cNvSpPr/>
              <p:nvPr/>
            </p:nvSpPr>
            <p:spPr>
              <a:xfrm>
                <a:off x="6940080" y="560052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869960" y="56005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695360" y="55242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143200" y="55274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7685640" y="59749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695360" y="55242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229160" y="64386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781320" y="59814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502320" y="60926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635240" y="64386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101800" y="52797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781320" y="55242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229160" y="55274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6771600" y="59749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6311520" y="5194440"/>
              <a:ext cx="453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2019240" y="5551560"/>
            <a:ext cx="822240" cy="377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463840" y="5600880"/>
            <a:ext cx="328680" cy="771480"/>
          </a:xfrm>
          <a:custGeom>
            <a:avLst/>
            <a:gdLst>
              <a:gd name="textAreaLeft" fmla="*/ 15840 w 328680"/>
              <a:gd name="textAreaRight" fmla="*/ 312840 w 328680"/>
              <a:gd name="textAreaTop" fmla="*/ 15840 h 771480"/>
              <a:gd name="textAreaBottom" fmla="*/ 755640 h 771480"/>
            </a:gdLst>
            <a:ahLst/>
            <a:rect l="textAreaLeft" t="textAreaTop" r="textAreaRight" b="textAreaBottom"/>
            <a:pathLst>
              <a:path w="21600" h="50668">
                <a:moveTo>
                  <a:pt x="3600" y="0"/>
                </a:moveTo>
                <a:arcTo wR="3600" hR="3600" stAng="16200000" swAng="-5400000"/>
                <a:lnTo>
                  <a:pt x="0" y="47068"/>
                </a:lnTo>
                <a:arcTo wR="3600" hR="3600" stAng="10800000" swAng="-5400000"/>
                <a:lnTo>
                  <a:pt x="18000" y="506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576440" y="6043680"/>
            <a:ext cx="328680" cy="3286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417920" y="5567400"/>
            <a:ext cx="820800" cy="3618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48640" y="5567400"/>
            <a:ext cx="1692000" cy="3445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37000" y="6043680"/>
            <a:ext cx="476280" cy="328680"/>
          </a:xfrm>
          <a:custGeom>
            <a:avLst/>
            <a:gdLst>
              <a:gd name="textAreaLeft" fmla="*/ 140040 w 476280"/>
              <a:gd name="textAreaRight" fmla="*/ 476640 w 476280"/>
              <a:gd name="textAreaTop" fmla="*/ 13680 h 328680"/>
              <a:gd name="textAreaBottom" fmla="*/ 315000 h 32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3845880" y="6048360"/>
            <a:ext cx="476280" cy="328680"/>
          </a:xfrm>
          <a:custGeom>
            <a:avLst/>
            <a:gdLst>
              <a:gd name="textAreaLeft" fmla="*/ 140040 w 476280"/>
              <a:gd name="textAreaRight" fmla="*/ 476640 w 476280"/>
              <a:gd name="textAreaTop" fmla="*/ 13680 h 328680"/>
              <a:gd name="textAreaBottom" fmla="*/ 315000 h 32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EE7B-04F5-401E-8EDA-39D079C89AF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"/>
          <p:cNvGrpSpPr/>
          <p:nvPr/>
        </p:nvGrpSpPr>
        <p:grpSpPr>
          <a:xfrm>
            <a:off x="317520" y="2195640"/>
            <a:ext cx="3232080" cy="4051080"/>
            <a:chOff x="317520" y="2195640"/>
            <a:chExt cx="3232080" cy="4051080"/>
          </a:xfrm>
        </p:grpSpPr>
        <p:sp>
          <p:nvSpPr>
            <p:cNvPr id="611" name=""/>
            <p:cNvSpPr/>
            <p:nvPr/>
          </p:nvSpPr>
          <p:spPr>
            <a:xfrm>
              <a:off x="323640" y="2195640"/>
              <a:ext cx="3225960" cy="40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17520" y="2716200"/>
              <a:ext cx="313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076480" y="2500200"/>
              <a:ext cx="0" cy="363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91920" y="2722680"/>
              <a:ext cx="0" cy="340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3809880" y="4737240"/>
            <a:ext cx="137160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648640" y="3936960"/>
            <a:ext cx="52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ack to the shift regis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determines next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3938040" y="2693880"/>
            <a:ext cx="5118840" cy="1865520"/>
            <a:chOff x="3938040" y="2693880"/>
            <a:chExt cx="5118840" cy="1865520"/>
          </a:xfrm>
        </p:grpSpPr>
        <p:grpSp>
          <p:nvGrpSpPr>
            <p:cNvPr id="620" name=""/>
            <p:cNvGrpSpPr/>
            <p:nvPr/>
          </p:nvGrpSpPr>
          <p:grpSpPr>
            <a:xfrm>
              <a:off x="4341600" y="2693880"/>
              <a:ext cx="4340160" cy="1793160"/>
              <a:chOff x="4341600" y="2693880"/>
              <a:chExt cx="4340160" cy="1793160"/>
            </a:xfrm>
          </p:grpSpPr>
          <p:grpSp>
            <p:nvGrpSpPr>
              <p:cNvPr id="621" name=""/>
              <p:cNvGrpSpPr/>
              <p:nvPr/>
            </p:nvGrpSpPr>
            <p:grpSpPr>
              <a:xfrm>
                <a:off x="5013720" y="2693880"/>
                <a:ext cx="527040" cy="448200"/>
                <a:chOff x="5013720" y="2693880"/>
                <a:chExt cx="527040" cy="44820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5013720" y="269388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050800" y="282096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7479000" y="2693880"/>
                <a:ext cx="519480" cy="448200"/>
                <a:chOff x="7479000" y="2693880"/>
                <a:chExt cx="519480" cy="44820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7479000" y="269388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7508520" y="280908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8151480" y="3366360"/>
                <a:ext cx="530280" cy="448200"/>
                <a:chOff x="8151480" y="3366360"/>
                <a:chExt cx="530280" cy="44820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8151480" y="336636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8191800" y="348300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7479000" y="4038840"/>
                <a:ext cx="527760" cy="448200"/>
                <a:chOff x="7479000" y="4038840"/>
                <a:chExt cx="527760" cy="44820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7479000" y="403884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7516800" y="415404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6806520" y="3366360"/>
                <a:ext cx="515880" cy="448200"/>
                <a:chOff x="6806520" y="3366360"/>
                <a:chExt cx="515880" cy="44820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6806520" y="336636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6832440" y="348300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0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5686200" y="3366360"/>
                <a:ext cx="513720" cy="448200"/>
                <a:chOff x="5686200" y="3366360"/>
                <a:chExt cx="513720" cy="44820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5686200" y="336636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709960" y="348300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4341600" y="3366360"/>
                <a:ext cx="517320" cy="448200"/>
                <a:chOff x="4341600" y="3366360"/>
                <a:chExt cx="517320" cy="44820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4341600" y="336636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368960" y="349704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5013720" y="4038840"/>
                <a:ext cx="527040" cy="448200"/>
                <a:chOff x="5013720" y="4038840"/>
                <a:chExt cx="527040" cy="44820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5013720" y="403884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050800" y="415296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0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5" name=""/>
            <p:cNvGrpSpPr/>
            <p:nvPr/>
          </p:nvGrpSpPr>
          <p:grpSpPr>
            <a:xfrm>
              <a:off x="3938040" y="2732400"/>
              <a:ext cx="5118840" cy="1827000"/>
              <a:chOff x="3938040" y="2732400"/>
              <a:chExt cx="5118840" cy="1827000"/>
            </a:xfrm>
          </p:grpSpPr>
          <p:grpSp>
            <p:nvGrpSpPr>
              <p:cNvPr id="646" name=""/>
              <p:cNvGrpSpPr/>
              <p:nvPr/>
            </p:nvGrpSpPr>
            <p:grpSpPr>
              <a:xfrm>
                <a:off x="6068880" y="3748320"/>
                <a:ext cx="803160" cy="344880"/>
                <a:chOff x="6068880" y="3748320"/>
                <a:chExt cx="803160" cy="344880"/>
              </a:xfrm>
            </p:grpSpPr>
            <p:cxnSp>
              <p:nvCxnSpPr>
                <p:cNvPr id="647" name=""/>
                <p:cNvCxnSpPr>
                  <a:stCxn id="634" idx="3"/>
                  <a:endCxn id="637" idx="5"/>
                </p:cNvCxnSpPr>
                <p:nvPr/>
              </p:nvCxnSpPr>
              <p:spPr>
                <a:xfrm rot="5400000">
                  <a:off x="6469560" y="3347640"/>
                  <a:ext cx="1800" cy="803520"/>
                </a:xfrm>
                <a:prstGeom prst="curvedConnector5">
                  <a:avLst>
                    <a:gd name="adj1" fmla="val 20000000"/>
                    <a:gd name="adj2" fmla="val 49977"/>
                    <a:gd name="adj3" fmla="val 20000000"/>
                  </a:avLst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48" name=""/>
                <p:cNvSpPr/>
                <p:nvPr/>
              </p:nvSpPr>
              <p:spPr>
                <a:xfrm>
                  <a:off x="6385680" y="37882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5461560" y="2732400"/>
                <a:ext cx="2017080" cy="304920"/>
                <a:chOff x="5461560" y="2732400"/>
                <a:chExt cx="2017080" cy="304920"/>
              </a:xfrm>
            </p:grpSpPr>
            <p:cxnSp>
              <p:nvCxnSpPr>
                <p:cNvPr id="650" name=""/>
                <p:cNvCxnSpPr>
                  <a:stCxn id="622" idx="6"/>
                  <a:endCxn id="625" idx="2"/>
                </p:cNvCxnSpPr>
                <p:nvPr/>
              </p:nvCxnSpPr>
              <p:spPr>
                <a:xfrm>
                  <a:off x="5461560" y="2917440"/>
                  <a:ext cx="201744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51" name=""/>
                <p:cNvSpPr/>
                <p:nvPr/>
              </p:nvSpPr>
              <p:spPr>
                <a:xfrm>
                  <a:off x="6380640" y="273240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6069240" y="3193200"/>
                <a:ext cx="803160" cy="304920"/>
                <a:chOff x="6069240" y="3193200"/>
                <a:chExt cx="803160" cy="304920"/>
              </a:xfrm>
            </p:grpSpPr>
            <p:cxnSp>
              <p:nvCxnSpPr>
                <p:cNvPr id="653" name=""/>
                <p:cNvCxnSpPr>
                  <a:stCxn id="637" idx="7"/>
                  <a:endCxn id="634" idx="1"/>
                </p:cNvCxnSpPr>
                <p:nvPr/>
              </p:nvCxnSpPr>
              <p:spPr>
                <a:xfrm flipH="1" rot="16200000">
                  <a:off x="6470280" y="3029760"/>
                  <a:ext cx="1440" cy="803520"/>
                </a:xfrm>
                <a:prstGeom prst="curvedConnector5">
                  <a:avLst>
                    <a:gd name="adj1" fmla="val -20000000"/>
                    <a:gd name="adj2" fmla="val 49977"/>
                    <a:gd name="adj3" fmla="val -20000000"/>
                  </a:avLst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54" name=""/>
                <p:cNvSpPr/>
                <p:nvPr/>
              </p:nvSpPr>
              <p:spPr>
                <a:xfrm>
                  <a:off x="6385680" y="319320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7187400" y="3075840"/>
                <a:ext cx="357480" cy="363960"/>
                <a:chOff x="7187400" y="3075840"/>
                <a:chExt cx="357480" cy="363960"/>
              </a:xfrm>
            </p:grpSpPr>
            <p:cxnSp>
              <p:nvCxnSpPr>
                <p:cNvPr id="656" name=""/>
                <p:cNvCxnSpPr>
                  <a:stCxn id="634" idx="7"/>
                  <a:endCxn id="625" idx="3"/>
                </p:cNvCxnSpPr>
                <p:nvPr/>
              </p:nvCxnSpPr>
              <p:spPr>
                <a:xfrm flipV="1">
                  <a:off x="7189560" y="3075840"/>
                  <a:ext cx="35568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57" name=""/>
                <p:cNvSpPr/>
                <p:nvPr/>
              </p:nvSpPr>
              <p:spPr>
                <a:xfrm>
                  <a:off x="7187400" y="31348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" name=""/>
              <p:cNvGrpSpPr/>
              <p:nvPr/>
            </p:nvGrpSpPr>
            <p:grpSpPr>
              <a:xfrm>
                <a:off x="8533080" y="3198240"/>
                <a:ext cx="523800" cy="783000"/>
                <a:chOff x="8533080" y="3198240"/>
                <a:chExt cx="523800" cy="783000"/>
              </a:xfrm>
            </p:grpSpPr>
            <p:cxnSp>
              <p:nvCxnSpPr>
                <p:cNvPr id="659" name=""/>
                <p:cNvCxnSpPr>
                  <a:stCxn id="628" idx="5"/>
                  <a:endCxn id="628" idx="7"/>
                </p:cNvCxnSpPr>
                <p:nvPr/>
              </p:nvCxnSpPr>
              <p:spPr>
                <a:xfrm flipH="1" flipV="1" rot="5400000">
                  <a:off x="8375040" y="3588840"/>
                  <a:ext cx="317520" cy="1800"/>
                </a:xfrm>
                <a:prstGeom prst="curvedConnector5">
                  <a:avLst>
                    <a:gd name="adj1" fmla="val -73439"/>
                    <a:gd name="adj2" fmla="val 18175000"/>
                    <a:gd name="adj3" fmla="val -73439"/>
                  </a:avLst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0" name=""/>
                <p:cNvSpPr/>
                <p:nvPr/>
              </p:nvSpPr>
              <p:spPr>
                <a:xfrm>
                  <a:off x="8771040" y="346860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5054760" y="3141720"/>
                <a:ext cx="285840" cy="896760"/>
                <a:chOff x="5054760" y="3141720"/>
                <a:chExt cx="285840" cy="896760"/>
              </a:xfrm>
            </p:grpSpPr>
            <p:cxnSp>
              <p:nvCxnSpPr>
                <p:cNvPr id="662" name=""/>
                <p:cNvCxnSpPr>
                  <a:stCxn id="643" idx="0"/>
                  <a:endCxn id="622" idx="4"/>
                </p:cNvCxnSpPr>
                <p:nvPr/>
              </p:nvCxnSpPr>
              <p:spPr>
                <a:xfrm flipV="1">
                  <a:off x="5236920" y="3141720"/>
                  <a:ext cx="1080" cy="8971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3" name=""/>
                <p:cNvSpPr/>
                <p:nvPr/>
              </p:nvSpPr>
              <p:spPr>
                <a:xfrm>
                  <a:off x="5054760" y="349200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" name=""/>
              <p:cNvGrpSpPr/>
              <p:nvPr/>
            </p:nvGrpSpPr>
            <p:grpSpPr>
              <a:xfrm>
                <a:off x="4724280" y="3075840"/>
                <a:ext cx="355320" cy="354960"/>
                <a:chOff x="4724280" y="3075840"/>
                <a:chExt cx="355320" cy="354960"/>
              </a:xfrm>
            </p:grpSpPr>
            <p:cxnSp>
              <p:nvCxnSpPr>
                <p:cNvPr id="665" name=""/>
                <p:cNvCxnSpPr>
                  <a:stCxn id="640" idx="7"/>
                  <a:endCxn id="622" idx="3"/>
                </p:cNvCxnSpPr>
                <p:nvPr/>
              </p:nvCxnSpPr>
              <p:spPr>
                <a:xfrm flipV="1">
                  <a:off x="4724280" y="3075840"/>
                  <a:ext cx="35568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6" name=""/>
                <p:cNvSpPr/>
                <p:nvPr/>
              </p:nvSpPr>
              <p:spPr>
                <a:xfrm>
                  <a:off x="4731120" y="309996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189200" y="3747960"/>
                <a:ext cx="355320" cy="435240"/>
                <a:chOff x="7189200" y="3747960"/>
                <a:chExt cx="355320" cy="435240"/>
              </a:xfrm>
            </p:grpSpPr>
            <p:cxnSp>
              <p:nvCxnSpPr>
                <p:cNvPr id="668" name=""/>
                <p:cNvCxnSpPr>
                  <a:stCxn id="631" idx="1"/>
                  <a:endCxn id="634" idx="5"/>
                </p:cNvCxnSpPr>
                <p:nvPr/>
              </p:nvCxnSpPr>
              <p:spPr>
                <a:xfrm flipH="1" flipV="1">
                  <a:off x="7189200" y="3747960"/>
                  <a:ext cx="35568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9" name=""/>
                <p:cNvSpPr/>
                <p:nvPr/>
              </p:nvSpPr>
              <p:spPr>
                <a:xfrm>
                  <a:off x="7209360" y="38782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5461560" y="4254480"/>
                <a:ext cx="2017080" cy="304920"/>
                <a:chOff x="5461560" y="4254480"/>
                <a:chExt cx="2017080" cy="304920"/>
              </a:xfrm>
            </p:grpSpPr>
            <p:cxnSp>
              <p:nvCxnSpPr>
                <p:cNvPr id="671" name=""/>
                <p:cNvCxnSpPr>
                  <a:stCxn id="631" idx="2"/>
                  <a:endCxn id="643" idx="6"/>
                </p:cNvCxnSpPr>
                <p:nvPr/>
              </p:nvCxnSpPr>
              <p:spPr>
                <a:xfrm flipH="1">
                  <a:off x="5461560" y="4262040"/>
                  <a:ext cx="201744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72" name=""/>
                <p:cNvSpPr/>
                <p:nvPr/>
              </p:nvSpPr>
              <p:spPr>
                <a:xfrm>
                  <a:off x="6402960" y="42544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5396040" y="3748320"/>
                <a:ext cx="415080" cy="462960"/>
                <a:chOff x="5396040" y="3748320"/>
                <a:chExt cx="415080" cy="462960"/>
              </a:xfrm>
            </p:grpSpPr>
            <p:cxnSp>
              <p:nvCxnSpPr>
                <p:cNvPr id="674" name=""/>
                <p:cNvCxnSpPr>
                  <a:stCxn id="637" idx="3"/>
                  <a:endCxn id="643" idx="7"/>
                </p:cNvCxnSpPr>
                <p:nvPr/>
              </p:nvCxnSpPr>
              <p:spPr>
                <a:xfrm flipH="1">
                  <a:off x="5396040" y="3748320"/>
                  <a:ext cx="35532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75" name=""/>
                <p:cNvSpPr/>
                <p:nvPr/>
              </p:nvSpPr>
              <p:spPr>
                <a:xfrm>
                  <a:off x="5525280" y="390636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5396760" y="3072960"/>
                <a:ext cx="405000" cy="357840"/>
                <a:chOff x="5396760" y="3072960"/>
                <a:chExt cx="405000" cy="357840"/>
              </a:xfrm>
            </p:grpSpPr>
            <p:cxnSp>
              <p:nvCxnSpPr>
                <p:cNvPr id="677" name=""/>
                <p:cNvCxnSpPr>
                  <a:stCxn id="622" idx="5"/>
                  <a:endCxn id="637" idx="1"/>
                </p:cNvCxnSpPr>
                <p:nvPr/>
              </p:nvCxnSpPr>
              <p:spPr>
                <a:xfrm>
                  <a:off x="5396760" y="3075840"/>
                  <a:ext cx="35568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78" name=""/>
                <p:cNvSpPr/>
                <p:nvPr/>
              </p:nvSpPr>
              <p:spPr>
                <a:xfrm>
                  <a:off x="5515920" y="307296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4723920" y="3748320"/>
                <a:ext cx="355320" cy="445320"/>
                <a:chOff x="4723920" y="3748320"/>
                <a:chExt cx="355320" cy="445320"/>
              </a:xfrm>
            </p:grpSpPr>
            <p:cxnSp>
              <p:nvCxnSpPr>
                <p:cNvPr id="680" name=""/>
                <p:cNvCxnSpPr>
                  <a:stCxn id="643" idx="1"/>
                  <a:endCxn id="640" idx="5"/>
                </p:cNvCxnSpPr>
                <p:nvPr/>
              </p:nvCxnSpPr>
              <p:spPr>
                <a:xfrm flipH="1" flipV="1">
                  <a:off x="4723920" y="3748320"/>
                  <a:ext cx="355680" cy="3556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81" name=""/>
                <p:cNvSpPr/>
                <p:nvPr/>
              </p:nvSpPr>
              <p:spPr>
                <a:xfrm>
                  <a:off x="4732560" y="388872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7861320" y="3748680"/>
                <a:ext cx="471960" cy="436680"/>
                <a:chOff x="7861320" y="3748680"/>
                <a:chExt cx="471960" cy="436680"/>
              </a:xfrm>
            </p:grpSpPr>
            <p:cxnSp>
              <p:nvCxnSpPr>
                <p:cNvPr id="683" name=""/>
                <p:cNvCxnSpPr>
                  <a:stCxn id="628" idx="3"/>
                  <a:endCxn id="631" idx="7"/>
                </p:cNvCxnSpPr>
                <p:nvPr/>
              </p:nvCxnSpPr>
              <p:spPr>
                <a:xfrm flipH="1">
                  <a:off x="7861320" y="3748680"/>
                  <a:ext cx="355320" cy="3556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84" name=""/>
                <p:cNvSpPr/>
                <p:nvPr/>
              </p:nvSpPr>
              <p:spPr>
                <a:xfrm>
                  <a:off x="8047440" y="388044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7861680" y="3072960"/>
                <a:ext cx="436680" cy="357840"/>
                <a:chOff x="7861680" y="3072960"/>
                <a:chExt cx="436680" cy="357840"/>
              </a:xfrm>
            </p:grpSpPr>
            <p:cxnSp>
              <p:nvCxnSpPr>
                <p:cNvPr id="686" name=""/>
                <p:cNvCxnSpPr>
                  <a:stCxn id="625" idx="5"/>
                  <a:endCxn id="628" idx="1"/>
                </p:cNvCxnSpPr>
                <p:nvPr/>
              </p:nvCxnSpPr>
              <p:spPr>
                <a:xfrm>
                  <a:off x="7861680" y="3075840"/>
                  <a:ext cx="35532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87" name=""/>
                <p:cNvSpPr/>
                <p:nvPr/>
              </p:nvSpPr>
              <p:spPr>
                <a:xfrm>
                  <a:off x="8012520" y="307296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7676640" y="3142080"/>
                <a:ext cx="285840" cy="896760"/>
                <a:chOff x="7676640" y="3142080"/>
                <a:chExt cx="285840" cy="896760"/>
              </a:xfrm>
            </p:grpSpPr>
            <p:cxnSp>
              <p:nvCxnSpPr>
                <p:cNvPr id="689" name=""/>
                <p:cNvCxnSpPr>
                  <a:stCxn id="625" idx="4"/>
                  <a:endCxn id="631" idx="0"/>
                </p:cNvCxnSpPr>
                <p:nvPr/>
              </p:nvCxnSpPr>
              <p:spPr>
                <a:xfrm>
                  <a:off x="7702920" y="3142080"/>
                  <a:ext cx="1080" cy="8971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90" name=""/>
                <p:cNvSpPr/>
                <p:nvPr/>
              </p:nvSpPr>
              <p:spPr>
                <a:xfrm>
                  <a:off x="7676640" y="34876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3938040" y="3197520"/>
                <a:ext cx="470160" cy="784080"/>
                <a:chOff x="3938040" y="3197520"/>
                <a:chExt cx="470160" cy="784080"/>
              </a:xfrm>
            </p:grpSpPr>
            <p:cxnSp>
              <p:nvCxnSpPr>
                <p:cNvPr id="692" name=""/>
                <p:cNvCxnSpPr>
                  <a:stCxn id="640" idx="3"/>
                  <a:endCxn id="640" idx="1"/>
                </p:cNvCxnSpPr>
                <p:nvPr/>
              </p:nvCxnSpPr>
              <p:spPr>
                <a:xfrm flipH="1" flipV="1" rot="5400000">
                  <a:off x="4248720" y="3589200"/>
                  <a:ext cx="317880" cy="1440"/>
                </a:xfrm>
                <a:prstGeom prst="curvedConnector5">
                  <a:avLst>
                    <a:gd name="adj1" fmla="val -73469"/>
                    <a:gd name="adj2" fmla="val -19400000"/>
                    <a:gd name="adj3" fmla="val -73469"/>
                  </a:avLst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93" name=""/>
                <p:cNvSpPr/>
                <p:nvPr/>
              </p:nvSpPr>
              <p:spPr>
                <a:xfrm>
                  <a:off x="3938040" y="350604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94" name=""/>
          <p:cNvGrpSpPr/>
          <p:nvPr/>
        </p:nvGrpSpPr>
        <p:grpSpPr>
          <a:xfrm>
            <a:off x="4019400" y="5222880"/>
            <a:ext cx="4894200" cy="1274400"/>
            <a:chOff x="4019400" y="5222880"/>
            <a:chExt cx="4894200" cy="1274400"/>
          </a:xfrm>
        </p:grpSpPr>
        <p:sp>
          <p:nvSpPr>
            <p:cNvPr id="695" name=""/>
            <p:cNvSpPr/>
            <p:nvPr/>
          </p:nvSpPr>
          <p:spPr>
            <a:xfrm>
              <a:off x="5129280" y="5717880"/>
              <a:ext cx="466200" cy="48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5299920" y="6070680"/>
              <a:ext cx="5652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 flipV="1">
              <a:off x="5356440" y="6070680"/>
              <a:ext cx="6840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146200" y="5825880"/>
              <a:ext cx="2271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384880" y="5825880"/>
              <a:ext cx="2163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01440" y="5717880"/>
              <a:ext cx="466560" cy="48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6472080" y="6070680"/>
              <a:ext cx="4572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 flipV="1">
              <a:off x="6517440" y="6070680"/>
              <a:ext cx="6804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318360" y="5825880"/>
              <a:ext cx="2163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46240" y="5825880"/>
              <a:ext cx="2271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62440" y="5717880"/>
              <a:ext cx="466200" cy="48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7633080" y="6070680"/>
              <a:ext cx="5652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 flipV="1">
              <a:off x="7689960" y="6070680"/>
              <a:ext cx="6840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479720" y="5825880"/>
              <a:ext cx="2271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718400" y="5825880"/>
              <a:ext cx="2163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015160" y="5951160"/>
              <a:ext cx="10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548600" y="5951160"/>
              <a:ext cx="45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019400" y="584892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595840" y="5951160"/>
              <a:ext cx="10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176160" y="5951160"/>
              <a:ext cx="11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709600" y="595116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931720" y="5940000"/>
              <a:ext cx="34200" cy="4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948640" y="595116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942880" y="5410440"/>
              <a:ext cx="0" cy="53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942880" y="5222880"/>
              <a:ext cx="64872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768360" y="5951160"/>
              <a:ext cx="10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348680" y="5951160"/>
              <a:ext cx="10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881760" y="5951160"/>
              <a:ext cx="21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092360" y="5940000"/>
              <a:ext cx="34200" cy="4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109640" y="5951160"/>
              <a:ext cx="22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103880" y="5410440"/>
              <a:ext cx="0" cy="53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03880" y="5222880"/>
              <a:ext cx="63720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929000" y="5951160"/>
              <a:ext cx="10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043120" y="595116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276400" y="5410440"/>
              <a:ext cx="0" cy="53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276400" y="5222880"/>
              <a:ext cx="63720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362560" y="6207480"/>
              <a:ext cx="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339520" y="6315480"/>
              <a:ext cx="45360" cy="3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523200" y="6207480"/>
              <a:ext cx="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512040" y="6315480"/>
              <a:ext cx="34200" cy="3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695720" y="6207480"/>
              <a:ext cx="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548600" y="6326640"/>
              <a:ext cx="80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368320" y="6326640"/>
              <a:ext cx="114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528960" y="6326640"/>
              <a:ext cx="116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087800" y="6190200"/>
              <a:ext cx="45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C6A8-B2CA-4262-BDE3-07D58850FF1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complex counter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s 5 states in seq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a binary number re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: derive the state transition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t sequence: 000, 010, 011, 101, 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: derive the state transition table from the state transition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5375160" y="4029120"/>
            <a:ext cx="2805120" cy="2201760"/>
            <a:chOff x="5375160" y="4029120"/>
            <a:chExt cx="2805120" cy="2201760"/>
          </a:xfrm>
        </p:grpSpPr>
        <p:sp>
          <p:nvSpPr>
            <p:cNvPr id="743" name=""/>
            <p:cNvSpPr/>
            <p:nvPr/>
          </p:nvSpPr>
          <p:spPr>
            <a:xfrm>
              <a:off x="5475240" y="4079880"/>
              <a:ext cx="27050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375160" y="450864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6714720" y="4029120"/>
              <a:ext cx="17640" cy="220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1398600" y="6343560"/>
            <a:ext cx="647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e the don't care conditions that arise from the unused state 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1170000" y="4051440"/>
            <a:ext cx="2438280" cy="2133360"/>
            <a:chOff x="1170000" y="4051440"/>
            <a:chExt cx="2438280" cy="2133360"/>
          </a:xfrm>
        </p:grpSpPr>
        <p:sp>
          <p:nvSpPr>
            <p:cNvPr id="748" name=""/>
            <p:cNvSpPr/>
            <p:nvPr/>
          </p:nvSpPr>
          <p:spPr>
            <a:xfrm>
              <a:off x="1170000" y="504180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550880" y="405144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617920" y="405144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075120" y="504180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160720" y="565164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53" name=""/>
            <p:cNvCxnSpPr>
              <a:stCxn id="749" idx="3"/>
              <a:endCxn id="748" idx="0"/>
            </p:cNvCxnSpPr>
            <p:nvPr/>
          </p:nvCxnSpPr>
          <p:spPr>
            <a:xfrm flipH="1">
              <a:off x="1436040" y="4506840"/>
              <a:ext cx="19260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4" name=""/>
            <p:cNvCxnSpPr>
              <a:stCxn id="748" idx="5"/>
              <a:endCxn id="752" idx="2"/>
            </p:cNvCxnSpPr>
            <p:nvPr/>
          </p:nvCxnSpPr>
          <p:spPr>
            <a:xfrm>
              <a:off x="1625760" y="5497200"/>
              <a:ext cx="535680" cy="42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5" name=""/>
            <p:cNvCxnSpPr>
              <a:stCxn id="752" idx="6"/>
              <a:endCxn id="751" idx="3"/>
            </p:cNvCxnSpPr>
            <p:nvPr/>
          </p:nvCxnSpPr>
          <p:spPr>
            <a:xfrm flipV="1">
              <a:off x="2693520" y="5496840"/>
              <a:ext cx="459720" cy="42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6" name=""/>
            <p:cNvCxnSpPr>
              <a:stCxn id="751" idx="0"/>
              <a:endCxn id="750" idx="5"/>
            </p:cNvCxnSpPr>
            <p:nvPr/>
          </p:nvCxnSpPr>
          <p:spPr>
            <a:xfrm flipH="1" flipV="1">
              <a:off x="3072960" y="4506480"/>
              <a:ext cx="26928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7" name=""/>
            <p:cNvCxnSpPr>
              <a:stCxn id="750" idx="2"/>
              <a:endCxn id="749" idx="6"/>
            </p:cNvCxnSpPr>
            <p:nvPr/>
          </p:nvCxnSpPr>
          <p:spPr>
            <a:xfrm flipH="1">
              <a:off x="2084040" y="4317840"/>
              <a:ext cx="5342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1615-38E8-43FF-BAAC-CC77E3EBBD4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4086360" y="4325760"/>
            <a:ext cx="20952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+ &lt;=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+ &lt;= B’ + A’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+ &lt;= B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complex counter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3: K-maps for next state fu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656280" y="2249640"/>
            <a:ext cx="2359080" cy="1574280"/>
            <a:chOff x="656280" y="2249640"/>
            <a:chExt cx="2359080" cy="1574280"/>
          </a:xfrm>
        </p:grpSpPr>
        <p:grpSp>
          <p:nvGrpSpPr>
            <p:cNvPr id="762" name=""/>
            <p:cNvGrpSpPr/>
            <p:nvPr/>
          </p:nvGrpSpPr>
          <p:grpSpPr>
            <a:xfrm>
              <a:off x="822240" y="2334960"/>
              <a:ext cx="2193120" cy="1488960"/>
              <a:chOff x="822240" y="2334960"/>
              <a:chExt cx="2193120" cy="1488960"/>
            </a:xfrm>
          </p:grpSpPr>
          <p:sp>
            <p:nvSpPr>
              <p:cNvPr id="763" name=""/>
              <p:cNvSpPr/>
              <p:nvPr/>
            </p:nvSpPr>
            <p:spPr>
              <a:xfrm>
                <a:off x="1260000" y="265572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189880" y="26557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01528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46312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200556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015280" y="25794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549080" y="34938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101240" y="3036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822240" y="31478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955160" y="34938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421720" y="2334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10124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54908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109152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7" name=""/>
            <p:cNvSpPr/>
            <p:nvPr/>
          </p:nvSpPr>
          <p:spPr>
            <a:xfrm>
              <a:off x="656280" y="2249640"/>
              <a:ext cx="4273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3531240" y="2249640"/>
            <a:ext cx="2362320" cy="1574280"/>
            <a:chOff x="3531240" y="2249640"/>
            <a:chExt cx="2362320" cy="1574280"/>
          </a:xfrm>
        </p:grpSpPr>
        <p:grpSp>
          <p:nvGrpSpPr>
            <p:cNvPr id="779" name=""/>
            <p:cNvGrpSpPr/>
            <p:nvPr/>
          </p:nvGrpSpPr>
          <p:grpSpPr>
            <a:xfrm>
              <a:off x="3700440" y="2334960"/>
              <a:ext cx="2193120" cy="1488960"/>
              <a:chOff x="3700440" y="2334960"/>
              <a:chExt cx="2193120" cy="1488960"/>
            </a:xfrm>
          </p:grpSpPr>
          <p:sp>
            <p:nvSpPr>
              <p:cNvPr id="780" name=""/>
              <p:cNvSpPr/>
              <p:nvPr/>
            </p:nvSpPr>
            <p:spPr>
              <a:xfrm>
                <a:off x="4138200" y="265572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068080" y="26557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89348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34132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488376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893480" y="25794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427280" y="34938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979440" y="3036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00440" y="31478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833360" y="34938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299920" y="2334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97944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42728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396972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4" name=""/>
            <p:cNvSpPr/>
            <p:nvPr/>
          </p:nvSpPr>
          <p:spPr>
            <a:xfrm>
              <a:off x="3531240" y="2249640"/>
              <a:ext cx="4305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6411600" y="2249640"/>
            <a:ext cx="2360160" cy="1574280"/>
            <a:chOff x="6411600" y="2249640"/>
            <a:chExt cx="2360160" cy="1574280"/>
          </a:xfrm>
        </p:grpSpPr>
        <p:grpSp>
          <p:nvGrpSpPr>
            <p:cNvPr id="796" name=""/>
            <p:cNvGrpSpPr/>
            <p:nvPr/>
          </p:nvGrpSpPr>
          <p:grpSpPr>
            <a:xfrm>
              <a:off x="6578640" y="2334960"/>
              <a:ext cx="2193120" cy="1488960"/>
              <a:chOff x="6578640" y="2334960"/>
              <a:chExt cx="2193120" cy="1488960"/>
            </a:xfrm>
          </p:grpSpPr>
          <p:sp>
            <p:nvSpPr>
              <p:cNvPr id="797" name=""/>
              <p:cNvSpPr/>
              <p:nvPr/>
            </p:nvSpPr>
            <p:spPr>
              <a:xfrm>
                <a:off x="7016400" y="265572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946280" y="26557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77168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21952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>
                <a:off x="776196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771680" y="25794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305480" y="34938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857640" y="3036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578640" y="31478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711560" y="34938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8178120" y="2334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85764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30548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>
                <a:off x="684792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>
              <a:off x="6411600" y="2249640"/>
              <a:ext cx="429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1163520" y="3089160"/>
            <a:ext cx="1731960" cy="3463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906720" y="2604960"/>
            <a:ext cx="457200" cy="830520"/>
          </a:xfrm>
          <a:custGeom>
            <a:avLst/>
            <a:gdLst>
              <a:gd name="textAreaLeft" fmla="*/ 0 w 457200"/>
              <a:gd name="textAreaRight" fmla="*/ 320760 w 457200"/>
              <a:gd name="textAreaTop" fmla="*/ 34560 h 830520"/>
              <a:gd name="textAreaBottom" fmla="*/ 795960 h 83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430960" y="2617920"/>
            <a:ext cx="471240" cy="803160"/>
          </a:xfrm>
          <a:custGeom>
            <a:avLst/>
            <a:gdLst>
              <a:gd name="textAreaLeft" fmla="*/ 138600 w 471240"/>
              <a:gd name="textAreaRight" fmla="*/ 471600 w 471240"/>
              <a:gd name="textAreaTop" fmla="*/ 33480 h 803160"/>
              <a:gd name="textAreaBottom" fmla="*/ 770040 h 80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044960" y="2660760"/>
            <a:ext cx="762120" cy="276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385040" y="2646360"/>
            <a:ext cx="290520" cy="762120"/>
          </a:xfrm>
          <a:custGeom>
            <a:avLst/>
            <a:gdLst>
              <a:gd name="textAreaLeft" fmla="*/ 14040 w 290520"/>
              <a:gd name="textAreaRight" fmla="*/ 276480 w 290520"/>
              <a:gd name="textAreaTop" fmla="*/ 14040 h 762120"/>
              <a:gd name="textAreaBottom" fmla="*/ 748080 h 762120"/>
            </a:gdLst>
            <a:ahLst/>
            <a:rect l="textAreaLeft" t="textAreaTop" r="textAreaRight" b="textAreaBottom"/>
            <a:pathLst>
              <a:path w="21600" h="56620">
                <a:moveTo>
                  <a:pt x="3600" y="0"/>
                </a:moveTo>
                <a:arcTo wR="3600" hR="3600" stAng="16200000" swAng="-5400000"/>
                <a:lnTo>
                  <a:pt x="0" y="53020"/>
                </a:lnTo>
                <a:arcTo wR="3600" hR="3600" stAng="10800000" swAng="-5400000"/>
                <a:lnTo>
                  <a:pt x="18000" y="566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A958-159A-47D0-A79B-CDABCA93179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lf-starting counter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-deriving state transition table from don't care ass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605520" y="2100240"/>
            <a:ext cx="2359080" cy="1574640"/>
            <a:chOff x="605520" y="2100240"/>
            <a:chExt cx="2359080" cy="1574640"/>
          </a:xfrm>
        </p:grpSpPr>
        <p:grpSp>
          <p:nvGrpSpPr>
            <p:cNvPr id="820" name=""/>
            <p:cNvGrpSpPr/>
            <p:nvPr/>
          </p:nvGrpSpPr>
          <p:grpSpPr>
            <a:xfrm>
              <a:off x="771480" y="2185920"/>
              <a:ext cx="2193120" cy="1488960"/>
              <a:chOff x="771480" y="2185920"/>
              <a:chExt cx="2193120" cy="1488960"/>
            </a:xfrm>
          </p:grpSpPr>
          <p:sp>
            <p:nvSpPr>
              <p:cNvPr id="821" name=""/>
              <p:cNvSpPr/>
              <p:nvPr/>
            </p:nvSpPr>
            <p:spPr>
              <a:xfrm>
                <a:off x="1209240" y="250668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139120" y="250668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964520" y="24303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412360" y="2433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1954800" y="28810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964520" y="24303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498320" y="33447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050480" y="28875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71480" y="29988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904400" y="33447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370960" y="218592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1050480" y="24303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498320" y="2433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1040760" y="28810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5" name=""/>
            <p:cNvSpPr/>
            <p:nvPr/>
          </p:nvSpPr>
          <p:spPr>
            <a:xfrm>
              <a:off x="605520" y="2100240"/>
              <a:ext cx="4273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3521520" y="2098800"/>
            <a:ext cx="2363040" cy="1574280"/>
            <a:chOff x="3521520" y="2098800"/>
            <a:chExt cx="2363040" cy="1574280"/>
          </a:xfrm>
        </p:grpSpPr>
        <p:grpSp>
          <p:nvGrpSpPr>
            <p:cNvPr id="837" name=""/>
            <p:cNvGrpSpPr/>
            <p:nvPr/>
          </p:nvGrpSpPr>
          <p:grpSpPr>
            <a:xfrm>
              <a:off x="3691080" y="2184120"/>
              <a:ext cx="2193480" cy="1488960"/>
              <a:chOff x="3691080" y="2184120"/>
              <a:chExt cx="2193480" cy="1488960"/>
            </a:xfrm>
          </p:grpSpPr>
          <p:sp>
            <p:nvSpPr>
              <p:cNvPr id="838" name=""/>
              <p:cNvSpPr/>
              <p:nvPr/>
            </p:nvSpPr>
            <p:spPr>
              <a:xfrm>
                <a:off x="4128840" y="250488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059080" y="250488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884480" y="24285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332320" y="24318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4874760" y="28792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884480" y="24285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417920" y="33429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970080" y="28857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691080" y="29970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824360" y="3342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290920" y="218412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970080" y="24285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417920" y="24318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3960360" y="28792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2" name=""/>
            <p:cNvSpPr/>
            <p:nvPr/>
          </p:nvSpPr>
          <p:spPr>
            <a:xfrm>
              <a:off x="3521520" y="2098800"/>
              <a:ext cx="4305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6443280" y="2098800"/>
            <a:ext cx="2360160" cy="1574280"/>
            <a:chOff x="6443280" y="2098800"/>
            <a:chExt cx="2360160" cy="1574280"/>
          </a:xfrm>
        </p:grpSpPr>
        <p:grpSp>
          <p:nvGrpSpPr>
            <p:cNvPr id="854" name=""/>
            <p:cNvGrpSpPr/>
            <p:nvPr/>
          </p:nvGrpSpPr>
          <p:grpSpPr>
            <a:xfrm>
              <a:off x="6610320" y="2184120"/>
              <a:ext cx="2193120" cy="1488960"/>
              <a:chOff x="6610320" y="2184120"/>
              <a:chExt cx="2193120" cy="1488960"/>
            </a:xfrm>
          </p:grpSpPr>
          <p:sp>
            <p:nvSpPr>
              <p:cNvPr id="855" name=""/>
              <p:cNvSpPr/>
              <p:nvPr/>
            </p:nvSpPr>
            <p:spPr>
              <a:xfrm>
                <a:off x="7048080" y="250488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977960" y="250488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803360" y="24285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8251200" y="24318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7793640" y="28792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803360" y="24285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337160" y="33429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889320" y="28857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610320" y="29970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743240" y="3342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209800" y="218412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889320" y="24285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337160" y="24318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6879600" y="28792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9" name=""/>
            <p:cNvSpPr/>
            <p:nvPr/>
          </p:nvSpPr>
          <p:spPr>
            <a:xfrm>
              <a:off x="6443280" y="2098800"/>
              <a:ext cx="429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1104840" y="3962520"/>
            <a:ext cx="2805120" cy="2201760"/>
            <a:chOff x="1104840" y="3962520"/>
            <a:chExt cx="2805120" cy="2201760"/>
          </a:xfrm>
        </p:grpSpPr>
        <p:sp>
          <p:nvSpPr>
            <p:cNvPr id="871" name=""/>
            <p:cNvSpPr/>
            <p:nvPr/>
          </p:nvSpPr>
          <p:spPr>
            <a:xfrm>
              <a:off x="1204920" y="4013280"/>
              <a:ext cx="27050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104840" y="444204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2444400" y="3962520"/>
              <a:ext cx="17640" cy="220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2513160" y="4630680"/>
            <a:ext cx="1164960" cy="19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506680" y="5259240"/>
            <a:ext cx="1165320" cy="19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516040" y="5856120"/>
            <a:ext cx="1165320" cy="19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5661000" y="4392720"/>
            <a:ext cx="2438280" cy="2133360"/>
            <a:chOff x="5661000" y="4392720"/>
            <a:chExt cx="2438280" cy="2133360"/>
          </a:xfrm>
        </p:grpSpPr>
        <p:sp>
          <p:nvSpPr>
            <p:cNvPr id="878" name=""/>
            <p:cNvSpPr/>
            <p:nvPr/>
          </p:nvSpPr>
          <p:spPr>
            <a:xfrm>
              <a:off x="5661000" y="53830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41880" y="43927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08920" y="43927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566120" y="53830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651720" y="59929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3" name=""/>
            <p:cNvCxnSpPr>
              <a:stCxn id="879" idx="3"/>
              <a:endCxn id="878" idx="0"/>
            </p:cNvCxnSpPr>
            <p:nvPr/>
          </p:nvCxnSpPr>
          <p:spPr>
            <a:xfrm flipH="1">
              <a:off x="5927040" y="4848120"/>
              <a:ext cx="19260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4" name=""/>
            <p:cNvCxnSpPr>
              <a:stCxn id="878" idx="5"/>
              <a:endCxn id="882" idx="2"/>
            </p:cNvCxnSpPr>
            <p:nvPr/>
          </p:nvCxnSpPr>
          <p:spPr>
            <a:xfrm>
              <a:off x="6116760" y="5838480"/>
              <a:ext cx="535680" cy="42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5" name=""/>
            <p:cNvCxnSpPr>
              <a:stCxn id="882" idx="6"/>
              <a:endCxn id="881" idx="3"/>
            </p:cNvCxnSpPr>
            <p:nvPr/>
          </p:nvCxnSpPr>
          <p:spPr>
            <a:xfrm flipV="1">
              <a:off x="7184520" y="5838120"/>
              <a:ext cx="459720" cy="42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6" name=""/>
            <p:cNvCxnSpPr>
              <a:stCxn id="881" idx="0"/>
              <a:endCxn id="880" idx="5"/>
            </p:cNvCxnSpPr>
            <p:nvPr/>
          </p:nvCxnSpPr>
          <p:spPr>
            <a:xfrm flipH="1" flipV="1">
              <a:off x="7563960" y="4847760"/>
              <a:ext cx="26928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7" name=""/>
            <p:cNvCxnSpPr>
              <a:stCxn id="880" idx="2"/>
              <a:endCxn id="879" idx="6"/>
            </p:cNvCxnSpPr>
            <p:nvPr/>
          </p:nvCxnSpPr>
          <p:spPr>
            <a:xfrm flipH="1">
              <a:off x="6575040" y="4659120"/>
              <a:ext cx="5342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88" name=""/>
          <p:cNvGrpSpPr/>
          <p:nvPr/>
        </p:nvGrpSpPr>
        <p:grpSpPr>
          <a:xfrm>
            <a:off x="7563600" y="3784680"/>
            <a:ext cx="992880" cy="685800"/>
            <a:chOff x="7563600" y="3784680"/>
            <a:chExt cx="992880" cy="685800"/>
          </a:xfrm>
        </p:grpSpPr>
        <p:sp>
          <p:nvSpPr>
            <p:cNvPr id="889" name=""/>
            <p:cNvSpPr/>
            <p:nvPr/>
          </p:nvSpPr>
          <p:spPr>
            <a:xfrm>
              <a:off x="8023320" y="3784680"/>
              <a:ext cx="533160" cy="532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0" name=""/>
            <p:cNvCxnSpPr>
              <a:stCxn id="889" idx="3"/>
              <a:endCxn id="880" idx="7"/>
            </p:cNvCxnSpPr>
            <p:nvPr/>
          </p:nvCxnSpPr>
          <p:spPr>
            <a:xfrm flipH="1">
              <a:off x="7563600" y="4239000"/>
              <a:ext cx="537480" cy="231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91" name=""/>
          <p:cNvGrpSpPr/>
          <p:nvPr/>
        </p:nvGrpSpPr>
        <p:grpSpPr>
          <a:xfrm>
            <a:off x="4936320" y="3784680"/>
            <a:ext cx="724680" cy="912240"/>
            <a:chOff x="4936320" y="3784680"/>
            <a:chExt cx="724680" cy="912240"/>
          </a:xfrm>
        </p:grpSpPr>
        <p:sp>
          <p:nvSpPr>
            <p:cNvPr id="892" name=""/>
            <p:cNvSpPr/>
            <p:nvPr/>
          </p:nvSpPr>
          <p:spPr>
            <a:xfrm>
              <a:off x="5127480" y="3784680"/>
              <a:ext cx="533520" cy="532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3" name=""/>
            <p:cNvCxnSpPr>
              <a:stCxn id="892" idx="3"/>
              <a:endCxn id="894" idx="0"/>
            </p:cNvCxnSpPr>
            <p:nvPr/>
          </p:nvCxnSpPr>
          <p:spPr>
            <a:xfrm flipH="1">
              <a:off x="4936320" y="4239000"/>
              <a:ext cx="268920" cy="458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95" name=""/>
          <p:cNvGrpSpPr/>
          <p:nvPr/>
        </p:nvGrpSpPr>
        <p:grpSpPr>
          <a:xfrm>
            <a:off x="4670280" y="4697280"/>
            <a:ext cx="1068840" cy="763560"/>
            <a:chOff x="4670280" y="4697280"/>
            <a:chExt cx="1068840" cy="763560"/>
          </a:xfrm>
        </p:grpSpPr>
        <p:sp>
          <p:nvSpPr>
            <p:cNvPr id="894" name=""/>
            <p:cNvSpPr/>
            <p:nvPr/>
          </p:nvSpPr>
          <p:spPr>
            <a:xfrm>
              <a:off x="4670280" y="46972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6" name=""/>
            <p:cNvCxnSpPr>
              <a:stCxn id="894" idx="5"/>
              <a:endCxn id="878" idx="1"/>
            </p:cNvCxnSpPr>
            <p:nvPr/>
          </p:nvCxnSpPr>
          <p:spPr>
            <a:xfrm>
              <a:off x="5126040" y="5152680"/>
              <a:ext cx="613440" cy="308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D572-6A67-4274-BDAA-9C236C07F1A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lf-starting count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-up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power-up, counter may be in an unused or invali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er must guarantee that it (eventually) enters a vali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starting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counter so that invalid states eventually transition to a vali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limit exploitation of don't c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5051520" y="3909960"/>
            <a:ext cx="3886200" cy="2743200"/>
            <a:chOff x="5051520" y="3909960"/>
            <a:chExt cx="3886200" cy="2743200"/>
          </a:xfrm>
        </p:grpSpPr>
        <p:sp>
          <p:nvSpPr>
            <p:cNvPr id="900" name=""/>
            <p:cNvSpPr/>
            <p:nvPr/>
          </p:nvSpPr>
          <p:spPr>
            <a:xfrm>
              <a:off x="6186600" y="3962520"/>
              <a:ext cx="20444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mplem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 previous sli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1" name=""/>
            <p:cNvGrpSpPr/>
            <p:nvPr/>
          </p:nvGrpSpPr>
          <p:grpSpPr>
            <a:xfrm>
              <a:off x="5051520" y="3909960"/>
              <a:ext cx="3886200" cy="2743200"/>
              <a:chOff x="5051520" y="3909960"/>
              <a:chExt cx="3886200" cy="2743200"/>
            </a:xfrm>
          </p:grpSpPr>
          <p:sp>
            <p:nvSpPr>
              <p:cNvPr id="902" name=""/>
              <p:cNvSpPr/>
              <p:nvPr/>
            </p:nvSpPr>
            <p:spPr>
              <a:xfrm>
                <a:off x="6041880" y="5510160"/>
                <a:ext cx="53352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423120" y="4519800"/>
                <a:ext cx="533160" cy="533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489800" y="4519800"/>
                <a:ext cx="533520" cy="533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947000" y="5510160"/>
                <a:ext cx="53352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032600" y="6120000"/>
                <a:ext cx="533520" cy="533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07" name=""/>
              <p:cNvCxnSpPr>
                <a:stCxn id="903" idx="3"/>
                <a:endCxn id="902" idx="0"/>
              </p:cNvCxnSpPr>
              <p:nvPr/>
            </p:nvCxnSpPr>
            <p:spPr>
              <a:xfrm flipH="1">
                <a:off x="6308280" y="4975200"/>
                <a:ext cx="192960" cy="5356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08" name=""/>
              <p:cNvCxnSpPr>
                <a:stCxn id="902" idx="5"/>
                <a:endCxn id="906" idx="2"/>
              </p:cNvCxnSpPr>
              <p:nvPr/>
            </p:nvCxnSpPr>
            <p:spPr>
              <a:xfrm>
                <a:off x="6497640" y="5965560"/>
                <a:ext cx="535680" cy="4215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09" name=""/>
              <p:cNvCxnSpPr>
                <a:stCxn id="906" idx="6"/>
                <a:endCxn id="905" idx="3"/>
              </p:cNvCxnSpPr>
              <p:nvPr/>
            </p:nvCxnSpPr>
            <p:spPr>
              <a:xfrm flipV="1">
                <a:off x="7566120" y="5965200"/>
                <a:ext cx="459360" cy="4215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10" name=""/>
              <p:cNvCxnSpPr>
                <a:stCxn id="905" idx="0"/>
                <a:endCxn id="904" idx="5"/>
              </p:cNvCxnSpPr>
              <p:nvPr/>
            </p:nvCxnSpPr>
            <p:spPr>
              <a:xfrm flipH="1" flipV="1">
                <a:off x="7944840" y="4974840"/>
                <a:ext cx="268920" cy="5356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11" name=""/>
              <p:cNvCxnSpPr>
                <a:stCxn id="904" idx="2"/>
                <a:endCxn id="903" idx="6"/>
              </p:cNvCxnSpPr>
              <p:nvPr/>
            </p:nvCxnSpPr>
            <p:spPr>
              <a:xfrm flipH="1">
                <a:off x="6955920" y="4786200"/>
                <a:ext cx="5342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12" name=""/>
              <p:cNvSpPr/>
              <p:nvPr/>
            </p:nvSpPr>
            <p:spPr>
              <a:xfrm>
                <a:off x="8404200" y="3909960"/>
                <a:ext cx="53352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508720" y="3909960"/>
                <a:ext cx="53316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051520" y="4824360"/>
                <a:ext cx="53316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15" name=""/>
              <p:cNvCxnSpPr>
                <a:stCxn id="912" idx="3"/>
                <a:endCxn id="904" idx="7"/>
              </p:cNvCxnSpPr>
              <p:nvPr/>
            </p:nvCxnSpPr>
            <p:spPr>
              <a:xfrm flipH="1">
                <a:off x="7945560" y="4365720"/>
                <a:ext cx="536760" cy="2325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16" name=""/>
              <p:cNvCxnSpPr>
                <a:stCxn id="913" idx="3"/>
                <a:endCxn id="914" idx="0"/>
              </p:cNvCxnSpPr>
              <p:nvPr/>
            </p:nvCxnSpPr>
            <p:spPr>
              <a:xfrm flipH="1">
                <a:off x="5317560" y="4365720"/>
                <a:ext cx="268920" cy="4593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17" name=""/>
              <p:cNvCxnSpPr>
                <a:stCxn id="914" idx="5"/>
                <a:endCxn id="902" idx="1"/>
              </p:cNvCxnSpPr>
              <p:nvPr/>
            </p:nvCxnSpPr>
            <p:spPr>
              <a:xfrm>
                <a:off x="5506920" y="5279760"/>
                <a:ext cx="613440" cy="3085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918" name=""/>
          <p:cNvGrpSpPr/>
          <p:nvPr/>
        </p:nvGrpSpPr>
        <p:grpSpPr>
          <a:xfrm>
            <a:off x="393840" y="3925800"/>
            <a:ext cx="3999960" cy="2727360"/>
            <a:chOff x="393840" y="3925800"/>
            <a:chExt cx="3999960" cy="2727360"/>
          </a:xfrm>
        </p:grpSpPr>
        <p:sp>
          <p:nvSpPr>
            <p:cNvPr id="919" name=""/>
            <p:cNvSpPr/>
            <p:nvPr/>
          </p:nvSpPr>
          <p:spPr>
            <a:xfrm>
              <a:off x="1955520" y="551016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336760" y="4519440"/>
              <a:ext cx="53280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03440" y="451944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860640" y="551016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946240" y="611964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24" name=""/>
            <p:cNvCxnSpPr>
              <a:stCxn id="920" idx="3"/>
              <a:endCxn id="919" idx="0"/>
            </p:cNvCxnSpPr>
            <p:nvPr/>
          </p:nvCxnSpPr>
          <p:spPr>
            <a:xfrm flipH="1">
              <a:off x="2221560" y="4975200"/>
              <a:ext cx="19260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5" name=""/>
            <p:cNvCxnSpPr>
              <a:stCxn id="919" idx="5"/>
              <a:endCxn id="923" idx="2"/>
            </p:cNvCxnSpPr>
            <p:nvPr/>
          </p:nvCxnSpPr>
          <p:spPr>
            <a:xfrm>
              <a:off x="2410920" y="5965920"/>
              <a:ext cx="535320" cy="421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6" name=""/>
            <p:cNvCxnSpPr>
              <a:stCxn id="923" idx="6"/>
              <a:endCxn id="922" idx="3"/>
            </p:cNvCxnSpPr>
            <p:nvPr/>
          </p:nvCxnSpPr>
          <p:spPr>
            <a:xfrm flipV="1">
              <a:off x="3479400" y="5965560"/>
              <a:ext cx="459000" cy="421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7" name=""/>
            <p:cNvCxnSpPr>
              <a:stCxn id="922" idx="0"/>
              <a:endCxn id="921" idx="5"/>
            </p:cNvCxnSpPr>
            <p:nvPr/>
          </p:nvCxnSpPr>
          <p:spPr>
            <a:xfrm flipH="1" flipV="1">
              <a:off x="3858840" y="4974840"/>
              <a:ext cx="26856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8" name=""/>
            <p:cNvCxnSpPr>
              <a:stCxn id="921" idx="2"/>
              <a:endCxn id="920" idx="6"/>
            </p:cNvCxnSpPr>
            <p:nvPr/>
          </p:nvCxnSpPr>
          <p:spPr>
            <a:xfrm flipH="1">
              <a:off x="2869200" y="4785840"/>
              <a:ext cx="5338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9" name=""/>
            <p:cNvSpPr/>
            <p:nvPr/>
          </p:nvSpPr>
          <p:spPr>
            <a:xfrm>
              <a:off x="393840" y="395928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644480" y="392580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965160" y="4824360"/>
              <a:ext cx="53280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2" name=""/>
            <p:cNvCxnSpPr>
              <a:stCxn id="930" idx="3"/>
              <a:endCxn id="931" idx="7"/>
            </p:cNvCxnSpPr>
            <p:nvPr/>
          </p:nvCxnSpPr>
          <p:spPr>
            <a:xfrm flipH="1">
              <a:off x="1419840" y="4381560"/>
              <a:ext cx="302040" cy="521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33" name=""/>
            <p:cNvCxnSpPr>
              <a:stCxn id="929" idx="6"/>
              <a:endCxn id="930" idx="2"/>
            </p:cNvCxnSpPr>
            <p:nvPr/>
          </p:nvCxnSpPr>
          <p:spPr>
            <a:xfrm flipV="1">
              <a:off x="927000" y="4192200"/>
              <a:ext cx="717840" cy="33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34" name=""/>
            <p:cNvCxnSpPr>
              <a:stCxn id="931" idx="1"/>
              <a:endCxn id="929" idx="5"/>
            </p:cNvCxnSpPr>
            <p:nvPr/>
          </p:nvCxnSpPr>
          <p:spPr>
            <a:xfrm flipH="1" flipV="1">
              <a:off x="848520" y="4414320"/>
              <a:ext cx="194040" cy="488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FB3C-4F6E-4415-9FF2-9132AC9A564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bit up-down counter (2 inpu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: D = 0 for up, D = 1 for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: C = 0  for hold, C = 1 for 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676520" y="3809880"/>
            <a:ext cx="1676160" cy="1600200"/>
            <a:chOff x="1676520" y="3809880"/>
            <a:chExt cx="1676160" cy="1600200"/>
          </a:xfrm>
        </p:grpSpPr>
        <p:sp>
          <p:nvSpPr>
            <p:cNvPr id="938" name=""/>
            <p:cNvSpPr/>
            <p:nvPr/>
          </p:nvSpPr>
          <p:spPr>
            <a:xfrm>
              <a:off x="1676520" y="48769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676520" y="38098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819520" y="38098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819520" y="48769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1036800" y="3238560"/>
            <a:ext cx="2958840" cy="2743560"/>
            <a:chOff x="1036800" y="3238560"/>
            <a:chExt cx="2958840" cy="2743560"/>
          </a:xfrm>
        </p:grpSpPr>
        <p:cxnSp>
          <p:nvCxnSpPr>
            <p:cNvPr id="943" name=""/>
            <p:cNvCxnSpPr>
              <a:stCxn id="940" idx="0"/>
              <a:endCxn id="940" idx="6"/>
            </p:cNvCxnSpPr>
            <p:nvPr/>
          </p:nvCxnSpPr>
          <p:spPr>
            <a:xfrm flipH="1" rot="16200000">
              <a:off x="3086280" y="3808440"/>
              <a:ext cx="267120" cy="267120"/>
            </a:xfrm>
            <a:prstGeom prst="curvedConnector5">
              <a:avLst>
                <a:gd name="adj1" fmla="val -85695"/>
                <a:gd name="adj2" fmla="val 92847"/>
                <a:gd name="adj3" fmla="val -8569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4" name=""/>
            <p:cNvCxnSpPr>
              <a:stCxn id="941" idx="6"/>
              <a:endCxn id="941" idx="4"/>
            </p:cNvCxnSpPr>
            <p:nvPr/>
          </p:nvCxnSpPr>
          <p:spPr>
            <a:xfrm flipH="1">
              <a:off x="3085920" y="5143680"/>
              <a:ext cx="267120" cy="267120"/>
            </a:xfrm>
            <a:prstGeom prst="curvedConnector5">
              <a:avLst>
                <a:gd name="adj1" fmla="val -85695"/>
                <a:gd name="adj2" fmla="val 92847"/>
                <a:gd name="adj3" fmla="val -8569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5" name=""/>
            <p:cNvCxnSpPr>
              <a:stCxn id="938" idx="4"/>
              <a:endCxn id="938" idx="2"/>
            </p:cNvCxnSpPr>
            <p:nvPr/>
          </p:nvCxnSpPr>
          <p:spPr>
            <a:xfrm flipV="1" rot="16200000">
              <a:off x="1676160" y="5142960"/>
              <a:ext cx="267120" cy="267120"/>
            </a:xfrm>
            <a:prstGeom prst="curvedConnector5">
              <a:avLst>
                <a:gd name="adj1" fmla="val -85695"/>
                <a:gd name="adj2" fmla="val 92847"/>
                <a:gd name="adj3" fmla="val -8569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6" name=""/>
            <p:cNvCxnSpPr>
              <a:stCxn id="939" idx="2"/>
              <a:endCxn id="939" idx="0"/>
            </p:cNvCxnSpPr>
            <p:nvPr/>
          </p:nvCxnSpPr>
          <p:spPr>
            <a:xfrm flipH="1" rot="10800000">
              <a:off x="1675080" y="3809160"/>
              <a:ext cx="267120" cy="267120"/>
            </a:xfrm>
            <a:prstGeom prst="curvedConnector5">
              <a:avLst>
                <a:gd name="adj1" fmla="val -85695"/>
                <a:gd name="adj2" fmla="val 92847"/>
                <a:gd name="adj3" fmla="val -8569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7" name=""/>
            <p:cNvSpPr/>
            <p:nvPr/>
          </p:nvSpPr>
          <p:spPr>
            <a:xfrm>
              <a:off x="1036800" y="3238560"/>
              <a:ext cx="520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475080" y="3238560"/>
              <a:ext cx="520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471840" y="5464080"/>
              <a:ext cx="520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036800" y="5448240"/>
              <a:ext cx="520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1263600" y="3390840"/>
            <a:ext cx="2498760" cy="2423160"/>
            <a:chOff x="1263600" y="3390840"/>
            <a:chExt cx="2498760" cy="2423160"/>
          </a:xfrm>
        </p:grpSpPr>
        <p:cxnSp>
          <p:nvCxnSpPr>
            <p:cNvPr id="952" name=""/>
            <p:cNvCxnSpPr>
              <a:stCxn id="939" idx="3"/>
              <a:endCxn id="938" idx="1"/>
            </p:cNvCxnSpPr>
            <p:nvPr/>
          </p:nvCxnSpPr>
          <p:spPr>
            <a:xfrm>
              <a:off x="1753920" y="4265640"/>
              <a:ext cx="1080" cy="689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3" name=""/>
            <p:cNvCxnSpPr>
              <a:stCxn id="938" idx="5"/>
              <a:endCxn id="941" idx="3"/>
            </p:cNvCxnSpPr>
            <p:nvPr/>
          </p:nvCxnSpPr>
          <p:spPr>
            <a:xfrm>
              <a:off x="2131920" y="5331960"/>
              <a:ext cx="766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4" name=""/>
            <p:cNvCxnSpPr>
              <a:stCxn id="941" idx="7"/>
              <a:endCxn id="940" idx="5"/>
            </p:cNvCxnSpPr>
            <p:nvPr/>
          </p:nvCxnSpPr>
          <p:spPr>
            <a:xfrm flipV="1">
              <a:off x="3274560" y="4265280"/>
              <a:ext cx="1080" cy="689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5" name=""/>
            <p:cNvCxnSpPr>
              <a:stCxn id="940" idx="1"/>
              <a:endCxn id="939" idx="7"/>
            </p:cNvCxnSpPr>
            <p:nvPr/>
          </p:nvCxnSpPr>
          <p:spPr>
            <a:xfrm flipH="1">
              <a:off x="2131560" y="3887280"/>
              <a:ext cx="766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6" name=""/>
            <p:cNvSpPr/>
            <p:nvPr/>
          </p:nvSpPr>
          <p:spPr>
            <a:xfrm>
              <a:off x="3245040" y="438156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254320" y="529596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330640" y="339084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263600" y="430524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1942920" y="4076280"/>
            <a:ext cx="1143720" cy="1067760"/>
            <a:chOff x="1942920" y="4076280"/>
            <a:chExt cx="1143720" cy="1067760"/>
          </a:xfrm>
        </p:grpSpPr>
        <p:cxnSp>
          <p:nvCxnSpPr>
            <p:cNvPr id="961" name=""/>
            <p:cNvCxnSpPr>
              <a:stCxn id="940" idx="4"/>
              <a:endCxn id="941" idx="0"/>
            </p:cNvCxnSpPr>
            <p:nvPr/>
          </p:nvCxnSpPr>
          <p:spPr>
            <a:xfrm>
              <a:off x="3085920" y="4343400"/>
              <a:ext cx="1080" cy="53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2" name=""/>
            <p:cNvCxnSpPr>
              <a:stCxn id="941" idx="2"/>
              <a:endCxn id="938" idx="6"/>
            </p:cNvCxnSpPr>
            <p:nvPr/>
          </p:nvCxnSpPr>
          <p:spPr>
            <a:xfrm flipH="1">
              <a:off x="2209320" y="5143320"/>
              <a:ext cx="6105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3" name=""/>
            <p:cNvCxnSpPr>
              <a:stCxn id="938" idx="0"/>
              <a:endCxn id="939" idx="4"/>
            </p:cNvCxnSpPr>
            <p:nvPr/>
          </p:nvCxnSpPr>
          <p:spPr>
            <a:xfrm flipV="1">
              <a:off x="1942920" y="4343040"/>
              <a:ext cx="1080" cy="53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4" name=""/>
            <p:cNvCxnSpPr>
              <a:stCxn id="939" idx="6"/>
              <a:endCxn id="940" idx="2"/>
            </p:cNvCxnSpPr>
            <p:nvPr/>
          </p:nvCxnSpPr>
          <p:spPr>
            <a:xfrm>
              <a:off x="2209680" y="4076280"/>
              <a:ext cx="6105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5" name=""/>
            <p:cNvSpPr/>
            <p:nvPr/>
          </p:nvSpPr>
          <p:spPr>
            <a:xfrm>
              <a:off x="2254320" y="430524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5556240" y="2438280"/>
            <a:ext cx="2819520" cy="4051440"/>
            <a:chOff x="5556240" y="2438280"/>
            <a:chExt cx="2819520" cy="4051440"/>
          </a:xfrm>
        </p:grpSpPr>
        <p:sp>
          <p:nvSpPr>
            <p:cNvPr id="967" name=""/>
            <p:cNvSpPr/>
            <p:nvPr/>
          </p:nvSpPr>
          <p:spPr>
            <a:xfrm>
              <a:off x="5638680" y="2438280"/>
              <a:ext cx="2737080" cy="40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556240" y="2971800"/>
              <a:ext cx="274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7385040" y="2743200"/>
              <a:ext cx="6480" cy="373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394320" y="2971800"/>
              <a:ext cx="0" cy="350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0" y="2711520"/>
            <a:ext cx="927108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DF69-D15D-4869-B1EB-2F30BD47CB5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" descr=""/>
          <p:cNvPicPr/>
          <p:nvPr/>
        </p:nvPicPr>
        <p:blipFill>
          <a:blip r:embed="rId1"/>
          <a:stretch/>
        </p:blipFill>
        <p:spPr>
          <a:xfrm>
            <a:off x="4952880" y="4714920"/>
            <a:ext cx="4318200" cy="1958760"/>
          </a:xfrm>
          <a:prstGeom prst="rect">
            <a:avLst/>
          </a:prstGeom>
          <a:ln w="0">
            <a:noFill/>
          </a:ln>
        </p:spPr>
      </p:pic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4" name=""/>
          <p:cNvSpPr/>
          <p:nvPr/>
        </p:nvSpPr>
        <p:spPr>
          <a:xfrm>
            <a:off x="685800" y="1752480"/>
            <a:ext cx="2662200" cy="40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32004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03360" y="228600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320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2431800" y="2057400"/>
            <a:ext cx="6120" cy="3733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04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441440" y="2286000"/>
            <a:ext cx="0" cy="350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04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741640" y="1727280"/>
            <a:ext cx="28782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1 = C’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+ CDS0’S1’ + CDS0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+ CD’S0S1’ + CD’S0’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= C’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+ C(D’(S1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0) + D(S1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0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747040" y="3429000"/>
            <a:ext cx="1494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0 = CS0’ + C’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3733920" y="3048120"/>
            <a:ext cx="1675800" cy="1701720"/>
            <a:chOff x="3733920" y="3048120"/>
            <a:chExt cx="1675800" cy="1701720"/>
          </a:xfrm>
        </p:grpSpPr>
        <p:grpSp>
          <p:nvGrpSpPr>
            <p:cNvPr id="981" name=""/>
            <p:cNvGrpSpPr/>
            <p:nvPr/>
          </p:nvGrpSpPr>
          <p:grpSpPr>
            <a:xfrm>
              <a:off x="3733920" y="3048120"/>
              <a:ext cx="1675800" cy="1701720"/>
              <a:chOff x="3733920" y="3048120"/>
              <a:chExt cx="1675800" cy="1701720"/>
            </a:xfrm>
          </p:grpSpPr>
          <p:sp>
            <p:nvSpPr>
              <p:cNvPr id="982" name=""/>
              <p:cNvSpPr/>
              <p:nvPr/>
            </p:nvSpPr>
            <p:spPr>
              <a:xfrm>
                <a:off x="4038480" y="3301920"/>
                <a:ext cx="114264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1    1    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1    1    0 </a:t>
                </a:r>
                <a:br>
                  <a:rPr sz="1300"/>
                </a:b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   0    0    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   0    0   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571640" y="330192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571640" y="330192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181480" y="360684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206680" y="3759120"/>
                <a:ext cx="20304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597200" y="3048120"/>
                <a:ext cx="58392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971520" y="3301920"/>
                <a:ext cx="59976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267080" y="330192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H="1">
                <a:off x="3962160" y="360684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4267080" y="4521240"/>
                <a:ext cx="609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3962160" y="391176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4292280" y="4521240"/>
                <a:ext cx="583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3733920" y="3987720"/>
                <a:ext cx="229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4876560" y="330192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571640" y="391176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971520" y="3911760"/>
                <a:ext cx="59976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267080" y="391176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>
                <a:off x="3962160" y="421632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876560" y="391176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1" name=""/>
            <p:cNvSpPr/>
            <p:nvPr/>
          </p:nvSpPr>
          <p:spPr>
            <a:xfrm>
              <a:off x="4343400" y="3353040"/>
              <a:ext cx="457200" cy="53316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533160"/>
                <a:gd name="textAreaBottom" fmla="*/ 510840 h 533160"/>
              </a:gdLst>
              <a:ahLst/>
              <a:rect l="textAreaLeft" t="textAreaTop" r="textAreaRight" b="textAreaBottom"/>
              <a:pathLst>
                <a:path w="21600" h="25186">
                  <a:moveTo>
                    <a:pt x="3600" y="0"/>
                  </a:moveTo>
                  <a:arcTo wR="3600" hR="3600" stAng="16200000" swAng="-5400000"/>
                  <a:lnTo>
                    <a:pt x="0" y="21586"/>
                  </a:lnTo>
                  <a:arcTo wR="3600" hR="3600" stAng="10800000" swAng="-5400000"/>
                  <a:lnTo>
                    <a:pt x="18000" y="251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886200" y="3946680"/>
              <a:ext cx="304920" cy="533520"/>
            </a:xfrm>
            <a:custGeom>
              <a:avLst/>
              <a:gdLst>
                <a:gd name="textAreaLeft" fmla="*/ 0 w 304920"/>
                <a:gd name="textAreaRight" fmla="*/ 213840 w 30492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>
              <a:off x="4952160" y="3946680"/>
              <a:ext cx="304920" cy="533520"/>
            </a:xfrm>
            <a:custGeom>
              <a:avLst/>
              <a:gdLst>
                <a:gd name="textAreaLeft" fmla="*/ -360 w 304920"/>
                <a:gd name="textAreaRight" fmla="*/ 213480 w 30492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3733920" y="1422360"/>
            <a:ext cx="1675800" cy="1701720"/>
            <a:chOff x="3733920" y="1422360"/>
            <a:chExt cx="1675800" cy="1701720"/>
          </a:xfrm>
        </p:grpSpPr>
        <p:grpSp>
          <p:nvGrpSpPr>
            <p:cNvPr id="1005" name=""/>
            <p:cNvGrpSpPr/>
            <p:nvPr/>
          </p:nvGrpSpPr>
          <p:grpSpPr>
            <a:xfrm>
              <a:off x="3733920" y="1422360"/>
              <a:ext cx="1675800" cy="1701720"/>
              <a:chOff x="3733920" y="1422360"/>
              <a:chExt cx="1675800" cy="1701720"/>
            </a:xfrm>
          </p:grpSpPr>
          <p:sp>
            <p:nvSpPr>
              <p:cNvPr id="1006" name=""/>
              <p:cNvSpPr/>
              <p:nvPr/>
            </p:nvSpPr>
            <p:spPr>
              <a:xfrm>
                <a:off x="4038480" y="1676160"/>
                <a:ext cx="114264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0    1    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0    1    1 </a:t>
                </a:r>
                <a:br>
                  <a:rPr sz="1300"/>
                </a:b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   0    1    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1    0   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571640" y="167616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4571640" y="167616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181480" y="198108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206680" y="2133360"/>
                <a:ext cx="20304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597200" y="1422360"/>
                <a:ext cx="58392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971520" y="1676160"/>
                <a:ext cx="59976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267080" y="167616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H="1">
                <a:off x="3962160" y="198108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267080" y="2895480"/>
                <a:ext cx="609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962160" y="228600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292280" y="2895480"/>
                <a:ext cx="583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733920" y="2361960"/>
                <a:ext cx="229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876560" y="167616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4571640" y="228600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971520" y="2286000"/>
                <a:ext cx="59976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267080" y="2286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3962160" y="259056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4876560" y="2286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5" name=""/>
            <p:cNvSpPr/>
            <p:nvPr/>
          </p:nvSpPr>
          <p:spPr>
            <a:xfrm>
              <a:off x="4648320" y="1726920"/>
              <a:ext cx="457200" cy="5335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533520"/>
                <a:gd name="textAreaBottom" fmla="*/ 511200 h 533520"/>
              </a:gdLst>
              <a:ahLst/>
              <a:rect l="textAreaLeft" t="textAreaTop" r="textAreaRight" b="textAreaBottom"/>
              <a:pathLst>
                <a:path w="21600" h="25203">
                  <a:moveTo>
                    <a:pt x="3600" y="0"/>
                  </a:moveTo>
                  <a:arcTo wR="3600" hR="3600" stAng="16200000" swAng="-5400000"/>
                  <a:lnTo>
                    <a:pt x="0" y="21603"/>
                  </a:lnTo>
                  <a:arcTo wR="3600" hR="3600" stAng="10800000" swAng="-5400000"/>
                  <a:lnTo>
                    <a:pt x="18000" y="252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038480" y="2336760"/>
              <a:ext cx="152640" cy="228600"/>
            </a:xfrm>
            <a:custGeom>
              <a:avLst/>
              <a:gdLst>
                <a:gd name="textAreaLeft" fmla="*/ 7200 w 152640"/>
                <a:gd name="textAreaRight" fmla="*/ 145440 w 152640"/>
                <a:gd name="textAreaTop" fmla="*/ 7200 h 228600"/>
                <a:gd name="textAreaBottom" fmla="*/ 221400 h 228600"/>
              </a:gdLst>
              <a:ahLst/>
              <a:rect l="textAreaLeft" t="textAreaTop" r="textAreaRight" b="textAreaBottom"/>
              <a:pathLst>
                <a:path w="21600" h="32324">
                  <a:moveTo>
                    <a:pt x="3600" y="0"/>
                  </a:moveTo>
                  <a:arcTo wR="3600" hR="3600" stAng="16200000" swAng="-5400000"/>
                  <a:lnTo>
                    <a:pt x="0" y="28724"/>
                  </a:lnTo>
                  <a:arcTo wR="3600" hR="3600" stAng="10800000" swAng="-5400000"/>
                  <a:lnTo>
                    <a:pt x="18000" y="323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343400" y="2641320"/>
              <a:ext cx="152280" cy="22860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228600"/>
                <a:gd name="textAreaBottom" fmla="*/ 221400 h 22860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952880" y="2641320"/>
              <a:ext cx="152640" cy="228600"/>
            </a:xfrm>
            <a:custGeom>
              <a:avLst/>
              <a:gdLst>
                <a:gd name="textAreaLeft" fmla="*/ 7200 w 152640"/>
                <a:gd name="textAreaRight" fmla="*/ 145440 w 152640"/>
                <a:gd name="textAreaTop" fmla="*/ 7200 h 228600"/>
                <a:gd name="textAreaBottom" fmla="*/ 221400 h 228600"/>
              </a:gdLst>
              <a:ahLst/>
              <a:rect l="textAreaLeft" t="textAreaTop" r="textAreaRight" b="textAreaBottom"/>
              <a:pathLst>
                <a:path w="21600" h="32324">
                  <a:moveTo>
                    <a:pt x="3600" y="0"/>
                  </a:moveTo>
                  <a:arcTo wR="3600" hR="3600" stAng="16200000" swAng="-5400000"/>
                  <a:lnTo>
                    <a:pt x="0" y="28724"/>
                  </a:lnTo>
                  <a:arcTo wR="3600" hR="3600" stAng="10800000" swAng="-5400000"/>
                  <a:lnTo>
                    <a:pt x="18000" y="323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648320" y="2336760"/>
              <a:ext cx="152280" cy="22860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228600"/>
                <a:gd name="textAreaBottom" fmla="*/ 221400 h 22860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0" name=""/>
          <p:cNvSpPr/>
          <p:nvPr/>
        </p:nvSpPr>
        <p:spPr>
          <a:xfrm>
            <a:off x="228600" y="1447920"/>
            <a:ext cx="904248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ADCE-3870-4D24-9C48-BE17C72A5C0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unter/shift-register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stored in registers represent the state of the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compu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 of current state and in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s of flip-fl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1143000" y="4419720"/>
            <a:ext cx="7112160" cy="1523520"/>
            <a:chOff x="1143000" y="4419720"/>
            <a:chExt cx="7112160" cy="1523520"/>
          </a:xfrm>
        </p:grpSpPr>
        <p:sp>
          <p:nvSpPr>
            <p:cNvPr id="1034" name=""/>
            <p:cNvSpPr/>
            <p:nvPr/>
          </p:nvSpPr>
          <p:spPr>
            <a:xfrm>
              <a:off x="1143000" y="4647960"/>
              <a:ext cx="927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934320" y="5638680"/>
              <a:ext cx="1320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638680" y="4647960"/>
              <a:ext cx="1181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276720" y="5486400"/>
              <a:ext cx="1396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8" name=""/>
            <p:cNvGrpSpPr/>
            <p:nvPr/>
          </p:nvGrpSpPr>
          <p:grpSpPr>
            <a:xfrm>
              <a:off x="5029200" y="5181480"/>
              <a:ext cx="1066680" cy="304560"/>
              <a:chOff x="5029200" y="5181480"/>
              <a:chExt cx="1066680" cy="304560"/>
            </a:xfrm>
          </p:grpSpPr>
          <p:sp>
            <p:nvSpPr>
              <p:cNvPr id="1039" name=""/>
              <p:cNvSpPr/>
              <p:nvPr/>
            </p:nvSpPr>
            <p:spPr>
              <a:xfrm>
                <a:off x="5029200" y="5181480"/>
                <a:ext cx="1066680" cy="304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029200" y="525744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V="1">
                <a:off x="5029200" y="5333760"/>
                <a:ext cx="152280" cy="75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2" name=""/>
            <p:cNvSpPr/>
            <p:nvPr/>
          </p:nvSpPr>
          <p:spPr>
            <a:xfrm>
              <a:off x="3429000" y="4419720"/>
              <a:ext cx="1600200" cy="60948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3" name=""/>
            <p:cNvCxnSpPr>
              <a:stCxn id="1042" idx="3"/>
              <a:endCxn id="1039" idx="0"/>
            </p:cNvCxnSpPr>
            <p:nvPr/>
          </p:nvCxnSpPr>
          <p:spPr>
            <a:xfrm>
              <a:off x="5029200" y="4723920"/>
              <a:ext cx="534240" cy="4575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4" name=""/>
            <p:cNvCxnSpPr>
              <a:stCxn id="1039" idx="2"/>
              <a:endCxn id="1042" idx="1"/>
            </p:cNvCxnSpPr>
            <p:nvPr/>
          </p:nvCxnSpPr>
          <p:spPr>
            <a:xfrm flipV="1" rot="16200000">
              <a:off x="4114440" y="4037760"/>
              <a:ext cx="762480" cy="2134440"/>
            </a:xfrm>
            <a:prstGeom prst="bentConnector4">
              <a:avLst>
                <a:gd name="adj1" fmla="val -29995"/>
                <a:gd name="adj2" fmla="val 12893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5" name=""/>
            <p:cNvCxnSpPr/>
            <p:nvPr/>
          </p:nvCxnSpPr>
          <p:spPr>
            <a:xfrm>
              <a:off x="5562720" y="5714640"/>
              <a:ext cx="12196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6" name=""/>
            <p:cNvCxnSpPr/>
            <p:nvPr/>
          </p:nvCxnSpPr>
          <p:spPr>
            <a:xfrm>
              <a:off x="2209320" y="4723920"/>
              <a:ext cx="12200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2773-B75A-446C-AC51-89EA16E066F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bstraction of state elemen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599840"/>
            <a:ext cx="880740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circuit into combinational logic and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ize the feedback loops and make it easy to break cy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storage elements leads to various forms of 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47920" y="3473280"/>
            <a:ext cx="8167320" cy="2590560"/>
            <a:chOff x="547920" y="3473280"/>
            <a:chExt cx="8167320" cy="2590560"/>
          </a:xfrm>
        </p:grpSpPr>
        <p:sp>
          <p:nvSpPr>
            <p:cNvPr id="89" name=""/>
            <p:cNvSpPr/>
            <p:nvPr/>
          </p:nvSpPr>
          <p:spPr>
            <a:xfrm>
              <a:off x="3352680" y="3473280"/>
              <a:ext cx="243864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al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76520" y="37018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6520" y="39304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76520" y="354924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86000" y="408276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14600" y="43113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66880" y="4463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37018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91320" y="39304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91320" y="354924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91320" y="40827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91320" y="4311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91320" y="446364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76920" y="492084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76920" y="530208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76920" y="591156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43400" y="4768560"/>
              <a:ext cx="5335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343400" y="5149440"/>
              <a:ext cx="5335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43400" y="5759280"/>
              <a:ext cx="53352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66880" y="492084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14600" y="530208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86000" y="591156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53080" y="44636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705720" y="431136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408276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2666880" y="44636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14600" y="431136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86000" y="408276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74800" y="5454360"/>
              <a:ext cx="2190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torage El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34440" y="3549240"/>
              <a:ext cx="1123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32880" y="4920840"/>
              <a:ext cx="1782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tate 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7920" y="4920840"/>
              <a:ext cx="1590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tate In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5600" y="3549240"/>
              <a:ext cx="932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26A8-A5FB-4628-B4C1-478E0BA4528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eneral state machine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stored in registers represent the state of the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compu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 of current state and in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 of current state and inputs (Mealy mach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 of current state only (Moore mach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1643040" y="4451400"/>
            <a:ext cx="5892840" cy="1905120"/>
            <a:chOff x="1643040" y="4451400"/>
            <a:chExt cx="5892840" cy="1905120"/>
          </a:xfrm>
        </p:grpSpPr>
        <p:sp>
          <p:nvSpPr>
            <p:cNvPr id="1050" name=""/>
            <p:cNvSpPr/>
            <p:nvPr/>
          </p:nvSpPr>
          <p:spPr>
            <a:xfrm>
              <a:off x="1643040" y="4908600"/>
              <a:ext cx="927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215040" y="4603680"/>
              <a:ext cx="1320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605560" y="5213520"/>
              <a:ext cx="1181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243240" y="6051600"/>
              <a:ext cx="1397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395520" y="4451400"/>
              <a:ext cx="1600200" cy="53352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5" name=""/>
            <p:cNvGrpSpPr/>
            <p:nvPr/>
          </p:nvGrpSpPr>
          <p:grpSpPr>
            <a:xfrm>
              <a:off x="4995720" y="5746680"/>
              <a:ext cx="1066680" cy="304920"/>
              <a:chOff x="4995720" y="5746680"/>
              <a:chExt cx="1066680" cy="304920"/>
            </a:xfrm>
          </p:grpSpPr>
          <p:sp>
            <p:nvSpPr>
              <p:cNvPr id="1056" name=""/>
              <p:cNvSpPr/>
              <p:nvPr/>
            </p:nvSpPr>
            <p:spPr>
              <a:xfrm>
                <a:off x="4995720" y="5746680"/>
                <a:ext cx="106668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995720" y="582300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4995720" y="589896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9" name=""/>
            <p:cNvSpPr/>
            <p:nvPr/>
          </p:nvSpPr>
          <p:spPr>
            <a:xfrm>
              <a:off x="3395520" y="5060880"/>
              <a:ext cx="1600200" cy="53352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0" name=""/>
            <p:cNvCxnSpPr>
              <a:stCxn id="1059" idx="3"/>
              <a:endCxn id="1056" idx="0"/>
            </p:cNvCxnSpPr>
            <p:nvPr/>
          </p:nvCxnSpPr>
          <p:spPr>
            <a:xfrm>
              <a:off x="4995720" y="5327640"/>
              <a:ext cx="534240" cy="4197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1" name=""/>
            <p:cNvCxnSpPr>
              <a:stCxn id="1056" idx="2"/>
              <a:endCxn id="1054" idx="1"/>
            </p:cNvCxnSpPr>
            <p:nvPr/>
          </p:nvCxnSpPr>
          <p:spPr>
            <a:xfrm flipV="1" rot="16200000">
              <a:off x="3795120" y="4317480"/>
              <a:ext cx="1334160" cy="2134440"/>
            </a:xfrm>
            <a:prstGeom prst="bentConnector4">
              <a:avLst>
                <a:gd name="adj1" fmla="val -17139"/>
                <a:gd name="adj2" fmla="val 1107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2" name=""/>
            <p:cNvCxnSpPr>
              <a:stCxn id="1056" idx="2"/>
              <a:endCxn id="1059" idx="1"/>
            </p:cNvCxnSpPr>
            <p:nvPr/>
          </p:nvCxnSpPr>
          <p:spPr>
            <a:xfrm flipV="1" rot="16200000">
              <a:off x="4099680" y="4622040"/>
              <a:ext cx="724680" cy="2134440"/>
            </a:xfrm>
            <a:prstGeom prst="bentConnector4">
              <a:avLst>
                <a:gd name="adj1" fmla="val -31560"/>
                <a:gd name="adj2" fmla="val 1107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3" name=""/>
            <p:cNvCxnSpPr>
              <a:endCxn id="1054" idx="1"/>
            </p:cNvCxnSpPr>
            <p:nvPr/>
          </p:nvCxnSpPr>
          <p:spPr>
            <a:xfrm flipV="1">
              <a:off x="2557440" y="4717800"/>
              <a:ext cx="83880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4" name=""/>
            <p:cNvCxnSpPr>
              <a:endCxn id="1059" idx="1"/>
            </p:cNvCxnSpPr>
            <p:nvPr/>
          </p:nvCxnSpPr>
          <p:spPr>
            <a:xfrm>
              <a:off x="2557440" y="5022360"/>
              <a:ext cx="83880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5" name=""/>
            <p:cNvCxnSpPr>
              <a:stCxn id="1054" idx="3"/>
            </p:cNvCxnSpPr>
            <p:nvPr/>
          </p:nvCxnSpPr>
          <p:spPr>
            <a:xfrm>
              <a:off x="4995360" y="4717800"/>
              <a:ext cx="12200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658F-5C1B-48A8-B981-E2D13084152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machine model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: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function: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function: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3378240" y="3379680"/>
            <a:ext cx="5892840" cy="1905120"/>
            <a:chOff x="3378240" y="3379680"/>
            <a:chExt cx="5892840" cy="1905120"/>
          </a:xfrm>
        </p:grpSpPr>
        <p:sp>
          <p:nvSpPr>
            <p:cNvPr id="1069" name=""/>
            <p:cNvSpPr/>
            <p:nvPr/>
          </p:nvSpPr>
          <p:spPr>
            <a:xfrm>
              <a:off x="3378240" y="3836880"/>
              <a:ext cx="927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950240" y="3531960"/>
              <a:ext cx="1320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340760" y="4141800"/>
              <a:ext cx="1181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978440" y="4979880"/>
              <a:ext cx="1397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131080" y="3379680"/>
              <a:ext cx="1600200" cy="53352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4" name=""/>
            <p:cNvGrpSpPr/>
            <p:nvPr/>
          </p:nvGrpSpPr>
          <p:grpSpPr>
            <a:xfrm>
              <a:off x="6731280" y="4674960"/>
              <a:ext cx="1066680" cy="304920"/>
              <a:chOff x="6731280" y="4674960"/>
              <a:chExt cx="1066680" cy="304920"/>
            </a:xfrm>
          </p:grpSpPr>
          <p:sp>
            <p:nvSpPr>
              <p:cNvPr id="1075" name=""/>
              <p:cNvSpPr/>
              <p:nvPr/>
            </p:nvSpPr>
            <p:spPr>
              <a:xfrm>
                <a:off x="6731280" y="4674960"/>
                <a:ext cx="106668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6731280" y="475128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V="1">
                <a:off x="6731280" y="482724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8" name=""/>
            <p:cNvSpPr/>
            <p:nvPr/>
          </p:nvSpPr>
          <p:spPr>
            <a:xfrm>
              <a:off x="5131080" y="3989160"/>
              <a:ext cx="1600200" cy="53352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79" name=""/>
            <p:cNvCxnSpPr>
              <a:stCxn id="1078" idx="3"/>
              <a:endCxn id="1075" idx="0"/>
            </p:cNvCxnSpPr>
            <p:nvPr/>
          </p:nvCxnSpPr>
          <p:spPr>
            <a:xfrm>
              <a:off x="6730920" y="4255920"/>
              <a:ext cx="533880" cy="4197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0" name=""/>
            <p:cNvCxnSpPr>
              <a:stCxn id="1075" idx="2"/>
              <a:endCxn id="1073" idx="1"/>
            </p:cNvCxnSpPr>
            <p:nvPr/>
          </p:nvCxnSpPr>
          <p:spPr>
            <a:xfrm flipV="1" rot="16200000">
              <a:off x="5530680" y="3245760"/>
              <a:ext cx="1334160" cy="2134080"/>
            </a:xfrm>
            <a:prstGeom prst="bentConnector4">
              <a:avLst>
                <a:gd name="adj1" fmla="val -17139"/>
                <a:gd name="adj2" fmla="val 110696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1" name=""/>
            <p:cNvCxnSpPr>
              <a:stCxn id="1075" idx="2"/>
              <a:endCxn id="1078" idx="1"/>
            </p:cNvCxnSpPr>
            <p:nvPr/>
          </p:nvCxnSpPr>
          <p:spPr>
            <a:xfrm flipV="1" rot="16200000">
              <a:off x="5835240" y="3550320"/>
              <a:ext cx="724680" cy="2134080"/>
            </a:xfrm>
            <a:prstGeom prst="bentConnector4">
              <a:avLst>
                <a:gd name="adj1" fmla="val -31560"/>
                <a:gd name="adj2" fmla="val 110696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2" name=""/>
            <p:cNvCxnSpPr>
              <a:endCxn id="1073" idx="1"/>
            </p:cNvCxnSpPr>
            <p:nvPr/>
          </p:nvCxnSpPr>
          <p:spPr>
            <a:xfrm flipV="1">
              <a:off x="4292280" y="3645720"/>
              <a:ext cx="83916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3" name=""/>
            <p:cNvCxnSpPr>
              <a:endCxn id="1078" idx="1"/>
            </p:cNvCxnSpPr>
            <p:nvPr/>
          </p:nvCxnSpPr>
          <p:spPr>
            <a:xfrm>
              <a:off x="4292280" y="3951360"/>
              <a:ext cx="83916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4" name=""/>
            <p:cNvCxnSpPr>
              <a:stCxn id="1073" idx="3"/>
            </p:cNvCxnSpPr>
            <p:nvPr/>
          </p:nvCxnSpPr>
          <p:spPr>
            <a:xfrm>
              <a:off x="6731280" y="3646080"/>
              <a:ext cx="12196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85" name=""/>
          <p:cNvGrpSpPr/>
          <p:nvPr/>
        </p:nvGrpSpPr>
        <p:grpSpPr>
          <a:xfrm>
            <a:off x="420840" y="5457600"/>
            <a:ext cx="6400800" cy="1143360"/>
            <a:chOff x="420840" y="5457600"/>
            <a:chExt cx="6400800" cy="1143360"/>
          </a:xfrm>
        </p:grpSpPr>
        <p:sp>
          <p:nvSpPr>
            <p:cNvPr id="1086" name=""/>
            <p:cNvSpPr/>
            <p:nvPr/>
          </p:nvSpPr>
          <p:spPr>
            <a:xfrm flipV="1">
              <a:off x="23259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32403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41547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>
              <a:off x="50691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59835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878040" y="6296040"/>
              <a:ext cx="851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0840" y="5457960"/>
              <a:ext cx="1359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78040" y="5915160"/>
              <a:ext cx="889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94508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94508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1736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21736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2496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2496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4782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V="1">
              <a:off x="24782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5545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25545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6308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26308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7068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V="1">
              <a:off x="27068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7831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27831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8594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28594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9354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V="1">
              <a:off x="29354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0117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30117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0880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30880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1640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1640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3926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33926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4689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>
              <a:off x="34689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5452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>
              <a:off x="35452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6212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V="1">
              <a:off x="36212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6975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36975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738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37738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8498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V="1">
              <a:off x="38498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9261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V="1">
              <a:off x="39261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024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40024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784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784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3070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V="1">
              <a:off x="43070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3833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43833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4596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44596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5356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V="1">
              <a:off x="45356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6119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46119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6882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46882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7642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47642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8405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48405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9168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49168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928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9928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2214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52214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2977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52977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3740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V="1">
              <a:off x="53740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4500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54500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5263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V="1">
              <a:off x="55263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6026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56026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6786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56786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7549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57549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8312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58312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9072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9072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1358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61358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2121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>
              <a:off x="62121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2884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>
              <a:off x="62884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3644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63644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4407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64407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5170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65170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5930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65930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6693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66693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7456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V="1">
              <a:off x="67456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945080" y="61437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945080" y="59151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3259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V="1">
              <a:off x="23259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402280" y="61437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402280" y="59151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2403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32403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316680" y="61437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316680" y="59151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1547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41547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31080" y="61437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31080" y="59151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0691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50691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145480" y="61437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45480" y="59151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9835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59835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059880" y="614376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059880" y="591516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9835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0691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1547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2403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3259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79064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6287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5431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4575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3719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2863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A707-4D27-410C-82C1-79FF4592746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ison of Mealy and Moore machin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 machines tend to have less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outputs on arcs (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rather than states 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re machines are safer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 change at clock edge (always one cycle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aly machines, input change can cause output change as soon as logic is done – a big problem when two machines are interconnected – asynchronous feedback may occur if one isn’t care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 machines react faster to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 in same cycle – don't need to wait for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oore machines, more logic may be necessary to decode state into outputs – more gate delays after clock 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B3D0-F286-4400-9C50-3FAFCB4AAE1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62632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ison of Mealy and Moore machin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 Me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"/>
          <p:cNvGrpSpPr/>
          <p:nvPr/>
        </p:nvGrpSpPr>
        <p:grpSpPr>
          <a:xfrm>
            <a:off x="2671920" y="1477800"/>
            <a:ext cx="4533840" cy="1822320"/>
            <a:chOff x="2671920" y="1477800"/>
            <a:chExt cx="4533840" cy="1822320"/>
          </a:xfrm>
        </p:grpSpPr>
        <p:sp>
          <p:nvSpPr>
            <p:cNvPr id="1236" name=""/>
            <p:cNvSpPr/>
            <p:nvPr/>
          </p:nvSpPr>
          <p:spPr>
            <a:xfrm>
              <a:off x="3814920" y="2766960"/>
              <a:ext cx="14097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te feed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605400" y="1477800"/>
              <a:ext cx="977760" cy="96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211560" y="156024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211560" y="17128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211560" y="18777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211560" y="2030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211560" y="21952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211560" y="23605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83160" y="2030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583160" y="21952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583160" y="23605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977000" y="1947600"/>
              <a:ext cx="24120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218200" y="23605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288040" y="23666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H="1">
              <a:off x="3198600" y="2601720"/>
              <a:ext cx="209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V="1">
              <a:off x="3205080" y="235404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218200" y="21952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364360" y="220176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H="1">
              <a:off x="3122640" y="267804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V="1">
              <a:off x="3129120" y="218880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135240" y="219528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218200" y="203040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440320" y="2036520"/>
              <a:ext cx="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>
              <a:off x="3046320" y="2754000"/>
              <a:ext cx="24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V="1">
              <a:off x="3052800" y="2023920"/>
              <a:ext cx="0" cy="73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059280" y="20304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5052960" y="2353680"/>
              <a:ext cx="255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 flipV="1">
              <a:off x="5091120" y="2353680"/>
              <a:ext cx="381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097600" y="244296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671920" y="1623960"/>
              <a:ext cx="4953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621480" y="2093760"/>
              <a:ext cx="5842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957920" y="2093760"/>
              <a:ext cx="3808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598920" y="1699920"/>
              <a:ext cx="97776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binational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xt st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230800" y="20304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230800" y="21952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230800" y="236052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624640" y="1960560"/>
              <a:ext cx="571320" cy="482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554800" y="2004840"/>
              <a:ext cx="7239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195960" y="20430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195960" y="220824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195960" y="236052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2647800" y="3203640"/>
            <a:ext cx="3670200" cy="1860480"/>
            <a:chOff x="2647800" y="3203640"/>
            <a:chExt cx="3670200" cy="1860480"/>
          </a:xfrm>
        </p:grpSpPr>
        <p:sp>
          <p:nvSpPr>
            <p:cNvPr id="1278" name=""/>
            <p:cNvSpPr/>
            <p:nvPr/>
          </p:nvSpPr>
          <p:spPr>
            <a:xfrm>
              <a:off x="3619440" y="3203640"/>
              <a:ext cx="990360" cy="97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200400" y="328608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200400" y="342576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200400" y="36036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3768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200400" y="393408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200400" y="409896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609800" y="3286080"/>
              <a:ext cx="105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609800" y="3425760"/>
              <a:ext cx="105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609800" y="3603600"/>
              <a:ext cx="105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609800" y="376884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609800" y="393408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609800" y="409896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016240" y="3686400"/>
              <a:ext cx="254160" cy="495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270400" y="40989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340240" y="41054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3187440" y="4340160"/>
              <a:ext cx="21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3193920" y="409248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270400" y="39340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416560" y="39402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H="1">
              <a:off x="3123720" y="4403880"/>
              <a:ext cx="229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V="1">
              <a:off x="3130560" y="392760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136680" y="39340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270400" y="376884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505480" y="3775320"/>
              <a:ext cx="0" cy="72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3022560" y="4505400"/>
              <a:ext cx="248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>
              <a:off x="3028680" y="3762360"/>
              <a:ext cx="0" cy="74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035160" y="37688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V="1">
              <a:off x="5105160" y="4105080"/>
              <a:ext cx="129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 flipV="1">
              <a:off x="5130360" y="4105080"/>
              <a:ext cx="507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137200" y="418140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647800" y="3362400"/>
              <a:ext cx="520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721120" y="3362400"/>
              <a:ext cx="5968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790800" y="4530960"/>
              <a:ext cx="1460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te feed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984560" y="3807000"/>
              <a:ext cx="419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625560" y="3679920"/>
              <a:ext cx="9907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binational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xt st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025880" y="3203640"/>
              <a:ext cx="583920" cy="49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968640" y="3273480"/>
              <a:ext cx="7491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6" name=""/>
          <p:cNvGrpSpPr/>
          <p:nvPr/>
        </p:nvGrpSpPr>
        <p:grpSpPr>
          <a:xfrm>
            <a:off x="2674800" y="5049720"/>
            <a:ext cx="3670200" cy="1896840"/>
            <a:chOff x="2674800" y="5049720"/>
            <a:chExt cx="3670200" cy="1896840"/>
          </a:xfrm>
        </p:grpSpPr>
        <p:sp>
          <p:nvSpPr>
            <p:cNvPr id="1317" name=""/>
            <p:cNvSpPr/>
            <p:nvPr/>
          </p:nvSpPr>
          <p:spPr>
            <a:xfrm>
              <a:off x="3646440" y="5086080"/>
              <a:ext cx="990360" cy="97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227040" y="516852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227040" y="53082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227040" y="54860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227040" y="565128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227040" y="581616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227040" y="59814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636800" y="516852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636800" y="530820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636800" y="548604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636800" y="565128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636800" y="581616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636800" y="598140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043240" y="5049720"/>
              <a:ext cx="254160" cy="101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297400" y="59814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367240" y="59878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3214080" y="6222600"/>
              <a:ext cx="215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>
              <a:off x="3220920" y="597492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297400" y="58161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443200" y="58226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H="1">
              <a:off x="3150720" y="6286320"/>
              <a:ext cx="229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V="1">
              <a:off x="3157200" y="581004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163680" y="58161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297400" y="56512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532120" y="5657760"/>
              <a:ext cx="0" cy="72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3049560" y="6387840"/>
              <a:ext cx="248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V="1">
              <a:off x="3055680" y="5644800"/>
              <a:ext cx="0" cy="74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062160" y="56512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5132160" y="5987520"/>
              <a:ext cx="126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 flipV="1">
              <a:off x="5157360" y="5987520"/>
              <a:ext cx="507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163840" y="606384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74800" y="5244840"/>
              <a:ext cx="520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748120" y="5244840"/>
              <a:ext cx="5968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817800" y="6413400"/>
              <a:ext cx="1460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te feed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011560" y="5689440"/>
              <a:ext cx="419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652560" y="5562360"/>
              <a:ext cx="9907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binational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xt st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052520" y="5086080"/>
              <a:ext cx="584280" cy="49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995640" y="5155920"/>
              <a:ext cx="7491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9066-C98D-4231-BB63-DF14137797C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5" name=""/>
          <p:cNvGrpSpPr/>
          <p:nvPr/>
        </p:nvGrpSpPr>
        <p:grpSpPr>
          <a:xfrm>
            <a:off x="0" y="3071880"/>
            <a:ext cx="4635000" cy="3390480"/>
            <a:chOff x="0" y="3071880"/>
            <a:chExt cx="4635000" cy="3390480"/>
          </a:xfrm>
        </p:grpSpPr>
        <p:sp>
          <p:nvSpPr>
            <p:cNvPr id="1356" name=""/>
            <p:cNvSpPr/>
            <p:nvPr/>
          </p:nvSpPr>
          <p:spPr>
            <a:xfrm>
              <a:off x="1936440" y="5783040"/>
              <a:ext cx="68544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57360" y="5821200"/>
              <a:ext cx="11376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923840" y="3116160"/>
              <a:ext cx="68544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V="1">
              <a:off x="2444400" y="3560400"/>
              <a:ext cx="114120" cy="12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866760" y="35985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866760" y="54273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037960" y="35985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495160" y="3821040"/>
              <a:ext cx="135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V="1">
              <a:off x="1492200" y="3979440"/>
              <a:ext cx="583560" cy="58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860640" y="3643200"/>
              <a:ext cx="4820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873240" y="5472000"/>
              <a:ext cx="469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044440" y="3668400"/>
              <a:ext cx="469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123560" y="45129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037960" y="54273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130040" y="4557600"/>
              <a:ext cx="469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031840" y="5497200"/>
              <a:ext cx="4820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508120" y="5649840"/>
              <a:ext cx="134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 flipV="1">
              <a:off x="1478880" y="4906800"/>
              <a:ext cx="59652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H="1" flipV="1">
              <a:off x="2406240" y="3979440"/>
              <a:ext cx="1536120" cy="15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2406600" y="3979800"/>
              <a:ext cx="1523520" cy="15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228920" y="4017960"/>
              <a:ext cx="0" cy="145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V="1">
              <a:off x="3974760" y="4017960"/>
              <a:ext cx="0" cy="144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88880" y="4735440"/>
              <a:ext cx="59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606480" y="4506840"/>
              <a:ext cx="5587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384200" y="399888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993680" y="307188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361960" y="425268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076640" y="450684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374560" y="4925880"/>
              <a:ext cx="5587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006280" y="6056280"/>
              <a:ext cx="5587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409400" y="5091120"/>
              <a:ext cx="558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882520" y="3490920"/>
              <a:ext cx="55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819160" y="562428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0" y="4379760"/>
              <a:ext cx="8125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0" name=""/>
          <p:cNvSpPr/>
          <p:nvPr/>
        </p:nvSpPr>
        <p:spPr>
          <a:xfrm>
            <a:off x="4952880" y="2665440"/>
            <a:ext cx="398808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844880" y="3262320"/>
            <a:ext cx="402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089840" y="2697120"/>
            <a:ext cx="0" cy="363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pecifying outputs for a Moore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 is only function of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 state bubble in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sequence detector for 01 or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B275-00C0-42E6-9831-31CC101370E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"/>
          <p:cNvSpPr/>
          <p:nvPr/>
        </p:nvSpPr>
        <p:spPr>
          <a:xfrm>
            <a:off x="4971960" y="2895480"/>
            <a:ext cx="398772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863960" y="3492360"/>
            <a:ext cx="40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194600" y="2927520"/>
            <a:ext cx="0" cy="25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8" name=""/>
          <p:cNvGrpSpPr/>
          <p:nvPr/>
        </p:nvGrpSpPr>
        <p:grpSpPr>
          <a:xfrm>
            <a:off x="620640" y="2987640"/>
            <a:ext cx="3047760" cy="3365640"/>
            <a:chOff x="620640" y="2987640"/>
            <a:chExt cx="3047760" cy="3365640"/>
          </a:xfrm>
        </p:grpSpPr>
        <p:sp>
          <p:nvSpPr>
            <p:cNvPr id="1399" name=""/>
            <p:cNvSpPr/>
            <p:nvPr/>
          </p:nvSpPr>
          <p:spPr>
            <a:xfrm>
              <a:off x="2722320" y="5673960"/>
              <a:ext cx="68580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230280" y="5699160"/>
              <a:ext cx="11448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709720" y="3006720"/>
              <a:ext cx="68580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823840" y="3489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V="1">
              <a:off x="2277720" y="3870000"/>
              <a:ext cx="58428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919240" y="3559320"/>
              <a:ext cx="279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909440" y="4403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823840" y="53182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004840" y="4448160"/>
              <a:ext cx="279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919240" y="5388120"/>
              <a:ext cx="291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 flipV="1">
              <a:off x="2265120" y="4797000"/>
              <a:ext cx="59688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198600" y="3908520"/>
              <a:ext cx="0" cy="146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V="1">
              <a:off x="2944800" y="3908520"/>
              <a:ext cx="0" cy="144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274400" y="462600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500200" y="44355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106360" y="38512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792160" y="29876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109680" y="44355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792160" y="59468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118960" y="5032440"/>
              <a:ext cx="559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20640" y="427032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V="1">
              <a:off x="3230280" y="3450960"/>
              <a:ext cx="1144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pecifying outputs for a Mealy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 is function of state and 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put on transition arc between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sequence detector for 01 or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E766-F7B0-453A-B7F9-272C0603C09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istered Mealy machine (really Moore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 (or registered) Mealy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ed state AND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s ‘glitchy’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implement in P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re machine with no output de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 computed on transition to next state rather than after en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outputs as expanded state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1828800" y="4834080"/>
            <a:ext cx="927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824520" y="4529160"/>
            <a:ext cx="1320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429000" y="5977080"/>
            <a:ext cx="1397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581280" y="4376880"/>
            <a:ext cx="1600200" cy="533160"/>
          </a:xfrm>
          <a:prstGeom prst="roundRect">
            <a:avLst>
              <a:gd name="adj" fmla="val 4791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581280" y="4986360"/>
            <a:ext cx="1600200" cy="534960"/>
          </a:xfrm>
          <a:prstGeom prst="roundRect">
            <a:avLst>
              <a:gd name="adj" fmla="val 4791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xt st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0" name=""/>
          <p:cNvCxnSpPr>
            <a:stCxn id="1429" idx="3"/>
            <a:endCxn id="1431" idx="0"/>
          </p:cNvCxnSpPr>
          <p:nvPr/>
        </p:nvCxnSpPr>
        <p:spPr>
          <a:xfrm flipV="1">
            <a:off x="5181480" y="5252760"/>
            <a:ext cx="656640" cy="2160"/>
          </a:xfrm>
          <a:prstGeom prst="bentConnector3">
            <a:avLst>
              <a:gd name="adj1" fmla="val 49862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2" name=""/>
          <p:cNvCxnSpPr>
            <a:stCxn id="1429" idx="1"/>
            <a:endCxn id="1428" idx="1"/>
          </p:cNvCxnSpPr>
          <p:nvPr/>
        </p:nvCxnSpPr>
        <p:spPr>
          <a:xfrm flipH="1" rot="10800000">
            <a:off x="3580200" y="4642560"/>
            <a:ext cx="2520" cy="612000"/>
          </a:xfrm>
          <a:prstGeom prst="bentConnector3">
            <a:avLst>
              <a:gd name="adj1" fmla="val -144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3" name=""/>
          <p:cNvCxnSpPr>
            <a:stCxn id="1431" idx="2"/>
            <a:endCxn id="1429" idx="1"/>
          </p:cNvCxnSpPr>
          <p:nvPr/>
        </p:nvCxnSpPr>
        <p:spPr>
          <a:xfrm flipH="1">
            <a:off x="3580560" y="5253120"/>
            <a:ext cx="2590200" cy="2160"/>
          </a:xfrm>
          <a:prstGeom prst="bentConnector5">
            <a:avLst>
              <a:gd name="adj1" fmla="val -8826"/>
              <a:gd name="adj2" fmla="val 43100000"/>
              <a:gd name="adj3" fmla="val 10882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4" name=""/>
          <p:cNvCxnSpPr>
            <a:endCxn id="1428" idx="1"/>
          </p:cNvCxnSpPr>
          <p:nvPr/>
        </p:nvCxnSpPr>
        <p:spPr>
          <a:xfrm flipV="1">
            <a:off x="2743200" y="4642560"/>
            <a:ext cx="838800" cy="305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5" name=""/>
          <p:cNvCxnSpPr>
            <a:endCxn id="1429" idx="1"/>
          </p:cNvCxnSpPr>
          <p:nvPr/>
        </p:nvCxnSpPr>
        <p:spPr>
          <a:xfrm>
            <a:off x="2743200" y="4950000"/>
            <a:ext cx="838800" cy="305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6" name=""/>
          <p:cNvCxnSpPr>
            <a:stCxn id="1428" idx="3"/>
            <a:endCxn id="1437" idx="0"/>
          </p:cNvCxnSpPr>
          <p:nvPr/>
        </p:nvCxnSpPr>
        <p:spPr>
          <a:xfrm>
            <a:off x="5181120" y="4642920"/>
            <a:ext cx="661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8" name=""/>
          <p:cNvCxnSpPr/>
          <p:nvPr/>
        </p:nvCxnSpPr>
        <p:spPr>
          <a:xfrm>
            <a:off x="6175440" y="4647960"/>
            <a:ext cx="5590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39" name=""/>
          <p:cNvGrpSpPr/>
          <p:nvPr/>
        </p:nvGrpSpPr>
        <p:grpSpPr>
          <a:xfrm>
            <a:off x="5842080" y="4362120"/>
            <a:ext cx="333000" cy="561960"/>
            <a:chOff x="5842080" y="4362120"/>
            <a:chExt cx="333000" cy="561960"/>
          </a:xfrm>
        </p:grpSpPr>
        <p:sp>
          <p:nvSpPr>
            <p:cNvPr id="1437" name=""/>
            <p:cNvSpPr/>
            <p:nvPr/>
          </p:nvSpPr>
          <p:spPr>
            <a:xfrm rot="16200000">
              <a:off x="5727600" y="4476600"/>
              <a:ext cx="561960" cy="33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V="1">
              <a:off x="5925240" y="4844160"/>
              <a:ext cx="8316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 flipV="1">
              <a:off x="6008760" y="4844160"/>
              <a:ext cx="8280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2" name=""/>
          <p:cNvGrpSpPr/>
          <p:nvPr/>
        </p:nvGrpSpPr>
        <p:grpSpPr>
          <a:xfrm>
            <a:off x="5837400" y="4971600"/>
            <a:ext cx="333000" cy="561960"/>
            <a:chOff x="5837400" y="4971600"/>
            <a:chExt cx="333000" cy="561960"/>
          </a:xfrm>
        </p:grpSpPr>
        <p:sp>
          <p:nvSpPr>
            <p:cNvPr id="1431" name=""/>
            <p:cNvSpPr/>
            <p:nvPr/>
          </p:nvSpPr>
          <p:spPr>
            <a:xfrm rot="16200000">
              <a:off x="5722920" y="5086080"/>
              <a:ext cx="561960" cy="33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V="1">
              <a:off x="5920560" y="5453640"/>
              <a:ext cx="8316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 flipV="1">
              <a:off x="6004080" y="5453640"/>
              <a:ext cx="8280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7400-0C0A-43E2-934E-E9F0A5C936C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4343400" y="4156200"/>
            <a:ext cx="80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nd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chin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505320" y="4003560"/>
            <a:ext cx="2919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505320" y="4613400"/>
            <a:ext cx="291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4419720" y="3013200"/>
            <a:ext cx="596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495680" y="5756400"/>
            <a:ext cx="4194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5486400" y="4232160"/>
            <a:ext cx="5716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2362320" y="4308480"/>
            <a:ext cx="698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i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324480" y="4308480"/>
            <a:ext cx="1016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le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ease item after 15 cents are deposi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gle coin slot for dimes, nick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4114800" y="3927600"/>
            <a:ext cx="121932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248520" y="39276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248520" y="5070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248520" y="3927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2362320" y="39276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200400" y="39276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H="1">
            <a:off x="2362320" y="50706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334120" y="44607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200400" y="42321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3200400" y="4842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724280" y="32418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flipV="1">
            <a:off x="4724280" y="50702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D6F0-D290-4195-801F-C95BA338622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29332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5000"/>
          </a:bodyPr>
          <a:p>
            <a:pPr marL="330120" indent="-3301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itable abstract repres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4600" indent="-2739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ulate typical input seque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nick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kel, d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e, nick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d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600" indent="-2739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state diagr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: N, D, 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: open ch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600" indent="-2739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N and D asser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ne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te has a self loo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N = D = 0 (no co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9" name=""/>
          <p:cNvGrpSpPr/>
          <p:nvPr/>
        </p:nvGrpSpPr>
        <p:grpSpPr>
          <a:xfrm>
            <a:off x="6902280" y="1949400"/>
            <a:ext cx="936720" cy="1218960"/>
            <a:chOff x="6902280" y="1949400"/>
            <a:chExt cx="936720" cy="1218960"/>
          </a:xfrm>
        </p:grpSpPr>
        <p:sp>
          <p:nvSpPr>
            <p:cNvPr id="1470" name=""/>
            <p:cNvSpPr/>
            <p:nvPr/>
          </p:nvSpPr>
          <p:spPr>
            <a:xfrm>
              <a:off x="6902280" y="25588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1" name=""/>
            <p:cNvCxnSpPr/>
            <p:nvPr/>
          </p:nvCxnSpPr>
          <p:spPr>
            <a:xfrm>
              <a:off x="7206840" y="21016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2" name=""/>
            <p:cNvSpPr/>
            <p:nvPr/>
          </p:nvSpPr>
          <p:spPr>
            <a:xfrm>
              <a:off x="7196400" y="1949400"/>
              <a:ext cx="64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3" name=""/>
          <p:cNvGrpSpPr/>
          <p:nvPr/>
        </p:nvGrpSpPr>
        <p:grpSpPr>
          <a:xfrm>
            <a:off x="7422840" y="3016080"/>
            <a:ext cx="775080" cy="1066680"/>
            <a:chOff x="7422840" y="3016080"/>
            <a:chExt cx="775080" cy="1066680"/>
          </a:xfrm>
        </p:grpSpPr>
        <p:sp>
          <p:nvSpPr>
            <p:cNvPr id="1474" name=""/>
            <p:cNvSpPr/>
            <p:nvPr/>
          </p:nvSpPr>
          <p:spPr>
            <a:xfrm>
              <a:off x="7588080" y="34732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5" name=""/>
            <p:cNvCxnSpPr>
              <a:stCxn id="1470" idx="5"/>
              <a:endCxn id="1474" idx="1"/>
            </p:cNvCxnSpPr>
            <p:nvPr/>
          </p:nvCxnSpPr>
          <p:spPr>
            <a:xfrm>
              <a:off x="7422840" y="307908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6" name=""/>
            <p:cNvSpPr/>
            <p:nvPr/>
          </p:nvSpPr>
          <p:spPr>
            <a:xfrm>
              <a:off x="7509240" y="301608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8108640" y="3993840"/>
            <a:ext cx="775080" cy="1003680"/>
            <a:chOff x="8108640" y="3993840"/>
            <a:chExt cx="775080" cy="1003680"/>
          </a:xfrm>
        </p:grpSpPr>
        <p:sp>
          <p:nvSpPr>
            <p:cNvPr id="1478" name=""/>
            <p:cNvSpPr/>
            <p:nvPr/>
          </p:nvSpPr>
          <p:spPr>
            <a:xfrm>
              <a:off x="8273880" y="438804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9" name=""/>
            <p:cNvCxnSpPr>
              <a:stCxn id="1474" idx="5"/>
              <a:endCxn id="1478" idx="1"/>
            </p:cNvCxnSpPr>
            <p:nvPr/>
          </p:nvCxnSpPr>
          <p:spPr>
            <a:xfrm>
              <a:off x="8108640" y="399384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0" name=""/>
            <p:cNvSpPr/>
            <p:nvPr/>
          </p:nvSpPr>
          <p:spPr>
            <a:xfrm>
              <a:off x="8195040" y="400716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6445080" y="4006800"/>
            <a:ext cx="609840" cy="990360"/>
            <a:chOff x="6445080" y="4006800"/>
            <a:chExt cx="609840" cy="990360"/>
          </a:xfrm>
        </p:grpSpPr>
        <p:sp>
          <p:nvSpPr>
            <p:cNvPr id="1482" name=""/>
            <p:cNvSpPr/>
            <p:nvPr/>
          </p:nvSpPr>
          <p:spPr>
            <a:xfrm>
              <a:off x="6445080" y="43876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3" name=""/>
            <p:cNvCxnSpPr>
              <a:stCxn id="1484" idx="4"/>
              <a:endCxn id="1482" idx="0"/>
            </p:cNvCxnSpPr>
            <p:nvPr/>
          </p:nvCxnSpPr>
          <p:spPr>
            <a:xfrm>
              <a:off x="6521040" y="4082400"/>
              <a:ext cx="22932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5" name=""/>
            <p:cNvSpPr/>
            <p:nvPr/>
          </p:nvSpPr>
          <p:spPr>
            <a:xfrm>
              <a:off x="6594840" y="400680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6" name=""/>
          <p:cNvGrpSpPr/>
          <p:nvPr/>
        </p:nvGrpSpPr>
        <p:grpSpPr>
          <a:xfrm>
            <a:off x="6216480" y="3016080"/>
            <a:ext cx="774360" cy="1066680"/>
            <a:chOff x="6216480" y="3016080"/>
            <a:chExt cx="774360" cy="1066680"/>
          </a:xfrm>
        </p:grpSpPr>
        <p:sp>
          <p:nvSpPr>
            <p:cNvPr id="1484" name=""/>
            <p:cNvSpPr/>
            <p:nvPr/>
          </p:nvSpPr>
          <p:spPr>
            <a:xfrm>
              <a:off x="6216480" y="34732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7" name=""/>
            <p:cNvCxnSpPr>
              <a:stCxn id="1470" idx="3"/>
              <a:endCxn id="1484" idx="7"/>
            </p:cNvCxnSpPr>
            <p:nvPr/>
          </p:nvCxnSpPr>
          <p:spPr>
            <a:xfrm flipH="1">
              <a:off x="6736680" y="307908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8" name=""/>
            <p:cNvSpPr/>
            <p:nvPr/>
          </p:nvSpPr>
          <p:spPr>
            <a:xfrm>
              <a:off x="6591240" y="301608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9" name=""/>
          <p:cNvGrpSpPr/>
          <p:nvPr/>
        </p:nvGrpSpPr>
        <p:grpSpPr>
          <a:xfrm>
            <a:off x="5530680" y="3993840"/>
            <a:ext cx="774360" cy="1003680"/>
            <a:chOff x="5530680" y="3993840"/>
            <a:chExt cx="774360" cy="1003680"/>
          </a:xfrm>
        </p:grpSpPr>
        <p:sp>
          <p:nvSpPr>
            <p:cNvPr id="1490" name=""/>
            <p:cNvSpPr/>
            <p:nvPr/>
          </p:nvSpPr>
          <p:spPr>
            <a:xfrm>
              <a:off x="5530680" y="438804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1" name=""/>
            <p:cNvCxnSpPr>
              <a:stCxn id="1484" idx="3"/>
              <a:endCxn id="1490" idx="7"/>
            </p:cNvCxnSpPr>
            <p:nvPr/>
          </p:nvCxnSpPr>
          <p:spPr>
            <a:xfrm flipH="1">
              <a:off x="6050880" y="399384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92" name=""/>
            <p:cNvSpPr/>
            <p:nvPr/>
          </p:nvSpPr>
          <p:spPr>
            <a:xfrm>
              <a:off x="5905440" y="400716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7359480" y="4006800"/>
            <a:ext cx="609840" cy="990360"/>
            <a:chOff x="7359480" y="4006800"/>
            <a:chExt cx="609840" cy="990360"/>
          </a:xfrm>
        </p:grpSpPr>
        <p:sp>
          <p:nvSpPr>
            <p:cNvPr id="1494" name=""/>
            <p:cNvSpPr/>
            <p:nvPr/>
          </p:nvSpPr>
          <p:spPr>
            <a:xfrm>
              <a:off x="7359480" y="43876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5" name=""/>
            <p:cNvCxnSpPr>
              <a:stCxn id="1474" idx="4"/>
              <a:endCxn id="1494" idx="0"/>
            </p:cNvCxnSpPr>
            <p:nvPr/>
          </p:nvCxnSpPr>
          <p:spPr>
            <a:xfrm flipH="1">
              <a:off x="7663680" y="4082400"/>
              <a:ext cx="22932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96" name=""/>
            <p:cNvSpPr/>
            <p:nvPr/>
          </p:nvSpPr>
          <p:spPr>
            <a:xfrm>
              <a:off x="7505640" y="400680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7" name=""/>
          <p:cNvGrpSpPr/>
          <p:nvPr/>
        </p:nvGrpSpPr>
        <p:grpSpPr>
          <a:xfrm>
            <a:off x="5770440" y="4929120"/>
            <a:ext cx="609840" cy="990360"/>
            <a:chOff x="5770440" y="4929120"/>
            <a:chExt cx="609840" cy="990360"/>
          </a:xfrm>
        </p:grpSpPr>
        <p:sp>
          <p:nvSpPr>
            <p:cNvPr id="1498" name=""/>
            <p:cNvSpPr/>
            <p:nvPr/>
          </p:nvSpPr>
          <p:spPr>
            <a:xfrm>
              <a:off x="5770440" y="53100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9" name=""/>
            <p:cNvCxnSpPr>
              <a:endCxn id="1498" idx="0"/>
            </p:cNvCxnSpPr>
            <p:nvPr/>
          </p:nvCxnSpPr>
          <p:spPr>
            <a:xfrm>
              <a:off x="5846400" y="5004720"/>
              <a:ext cx="22932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00" name=""/>
            <p:cNvSpPr/>
            <p:nvPr/>
          </p:nvSpPr>
          <p:spPr>
            <a:xfrm>
              <a:off x="5920200" y="492912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4854600" y="4901760"/>
            <a:ext cx="774360" cy="1003680"/>
            <a:chOff x="4854600" y="4901760"/>
            <a:chExt cx="774360" cy="1003680"/>
          </a:xfrm>
        </p:grpSpPr>
        <p:sp>
          <p:nvSpPr>
            <p:cNvPr id="1502" name=""/>
            <p:cNvSpPr/>
            <p:nvPr/>
          </p:nvSpPr>
          <p:spPr>
            <a:xfrm>
              <a:off x="4854600" y="529596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3" name=""/>
            <p:cNvCxnSpPr>
              <a:endCxn id="1502" idx="7"/>
            </p:cNvCxnSpPr>
            <p:nvPr/>
          </p:nvCxnSpPr>
          <p:spPr>
            <a:xfrm flipH="1">
              <a:off x="5374800" y="490176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04" name=""/>
            <p:cNvSpPr/>
            <p:nvPr/>
          </p:nvSpPr>
          <p:spPr>
            <a:xfrm>
              <a:off x="5229360" y="491508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7D85-1EBD-4841-B716-7F95C806BDD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e number of states - reuse states whenever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7" name=""/>
          <p:cNvGrpSpPr/>
          <p:nvPr/>
        </p:nvGrpSpPr>
        <p:grpSpPr>
          <a:xfrm>
            <a:off x="4038480" y="2209680"/>
            <a:ext cx="4368960" cy="4089600"/>
            <a:chOff x="4038480" y="2209680"/>
            <a:chExt cx="4368960" cy="4089600"/>
          </a:xfrm>
        </p:grpSpPr>
        <p:sp>
          <p:nvSpPr>
            <p:cNvPr id="1508" name=""/>
            <p:cNvSpPr/>
            <p:nvPr/>
          </p:nvSpPr>
          <p:spPr>
            <a:xfrm>
              <a:off x="4876920" y="5715000"/>
              <a:ext cx="24638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mbolic state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267080" y="2209680"/>
              <a:ext cx="4140360" cy="361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1143000"/>
                  <a:tab algn="l" pos="1600200"/>
                  <a:tab algn="l" pos="22860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038480" y="2666880"/>
              <a:ext cx="434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248520" y="2209680"/>
              <a:ext cx="0" cy="342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2" name=""/>
          <p:cNvGrpSpPr/>
          <p:nvPr/>
        </p:nvGrpSpPr>
        <p:grpSpPr>
          <a:xfrm>
            <a:off x="1828800" y="2259000"/>
            <a:ext cx="998640" cy="1246320"/>
            <a:chOff x="1828800" y="2259000"/>
            <a:chExt cx="998640" cy="1246320"/>
          </a:xfrm>
        </p:grpSpPr>
        <p:sp>
          <p:nvSpPr>
            <p:cNvPr id="1513" name=""/>
            <p:cNvSpPr/>
            <p:nvPr/>
          </p:nvSpPr>
          <p:spPr>
            <a:xfrm>
              <a:off x="1828800" y="28954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4" name=""/>
            <p:cNvCxnSpPr/>
            <p:nvPr/>
          </p:nvCxnSpPr>
          <p:spPr>
            <a:xfrm>
              <a:off x="2133360" y="24382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5" name=""/>
            <p:cNvSpPr/>
            <p:nvPr/>
          </p:nvSpPr>
          <p:spPr>
            <a:xfrm>
              <a:off x="2120760" y="2259000"/>
              <a:ext cx="70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6" name=""/>
          <p:cNvGrpSpPr/>
          <p:nvPr/>
        </p:nvGrpSpPr>
        <p:grpSpPr>
          <a:xfrm>
            <a:off x="1828800" y="3478320"/>
            <a:ext cx="631800" cy="941400"/>
            <a:chOff x="1828800" y="3478320"/>
            <a:chExt cx="631800" cy="941400"/>
          </a:xfrm>
        </p:grpSpPr>
        <p:sp>
          <p:nvSpPr>
            <p:cNvPr id="1517" name=""/>
            <p:cNvSpPr/>
            <p:nvPr/>
          </p:nvSpPr>
          <p:spPr>
            <a:xfrm>
              <a:off x="1828800" y="38098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125800" y="3478320"/>
              <a:ext cx="33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9" name=""/>
            <p:cNvCxnSpPr>
              <a:stCxn id="1513" idx="4"/>
              <a:endCxn id="1517" idx="0"/>
            </p:cNvCxnSpPr>
            <p:nvPr/>
          </p:nvCxnSpPr>
          <p:spPr>
            <a:xfrm>
              <a:off x="2133360" y="350532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20" name=""/>
          <p:cNvGrpSpPr/>
          <p:nvPr/>
        </p:nvGrpSpPr>
        <p:grpSpPr>
          <a:xfrm>
            <a:off x="2125800" y="4392720"/>
            <a:ext cx="334800" cy="337320"/>
            <a:chOff x="2125800" y="4392720"/>
            <a:chExt cx="334800" cy="337320"/>
          </a:xfrm>
        </p:grpSpPr>
        <p:sp>
          <p:nvSpPr>
            <p:cNvPr id="1521" name=""/>
            <p:cNvSpPr/>
            <p:nvPr/>
          </p:nvSpPr>
          <p:spPr>
            <a:xfrm>
              <a:off x="2125800" y="4392720"/>
              <a:ext cx="33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2" name=""/>
            <p:cNvCxnSpPr>
              <a:stCxn id="1517" idx="4"/>
              <a:endCxn id="1523" idx="0"/>
            </p:cNvCxnSpPr>
            <p:nvPr/>
          </p:nvCxnSpPr>
          <p:spPr>
            <a:xfrm>
              <a:off x="2133360" y="441972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24" name=""/>
          <p:cNvGrpSpPr/>
          <p:nvPr/>
        </p:nvGrpSpPr>
        <p:grpSpPr>
          <a:xfrm>
            <a:off x="2133360" y="5307120"/>
            <a:ext cx="718560" cy="337320"/>
            <a:chOff x="2133360" y="5307120"/>
            <a:chExt cx="718560" cy="337320"/>
          </a:xfrm>
        </p:grpSpPr>
        <p:sp>
          <p:nvSpPr>
            <p:cNvPr id="1525" name=""/>
            <p:cNvSpPr/>
            <p:nvPr/>
          </p:nvSpPr>
          <p:spPr>
            <a:xfrm>
              <a:off x="2147040" y="530712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 +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6" name=""/>
            <p:cNvCxnSpPr>
              <a:stCxn id="1523" idx="4"/>
              <a:endCxn id="1527" idx="0"/>
            </p:cNvCxnSpPr>
            <p:nvPr/>
          </p:nvCxnSpPr>
          <p:spPr>
            <a:xfrm>
              <a:off x="2133360" y="533412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28" name=""/>
          <p:cNvGrpSpPr/>
          <p:nvPr/>
        </p:nvGrpSpPr>
        <p:grpSpPr>
          <a:xfrm>
            <a:off x="1828800" y="3200400"/>
            <a:ext cx="1316160" cy="2133720"/>
            <a:chOff x="1828800" y="3200400"/>
            <a:chExt cx="1316160" cy="2133720"/>
          </a:xfrm>
        </p:grpSpPr>
        <p:sp>
          <p:nvSpPr>
            <p:cNvPr id="1523" name=""/>
            <p:cNvSpPr/>
            <p:nvPr/>
          </p:nvSpPr>
          <p:spPr>
            <a:xfrm>
              <a:off x="1828800" y="47242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816280" y="385920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0" name=""/>
            <p:cNvCxnSpPr>
              <a:stCxn id="1513" idx="6"/>
              <a:endCxn id="1523" idx="6"/>
            </p:cNvCxnSpPr>
            <p:nvPr/>
          </p:nvCxnSpPr>
          <p:spPr>
            <a:xfrm>
              <a:off x="2437920" y="3200400"/>
              <a:ext cx="2520" cy="1829520"/>
            </a:xfrm>
            <a:prstGeom prst="curvedConnector5">
              <a:avLst>
                <a:gd name="adj1" fmla="val 14400000"/>
                <a:gd name="adj2" fmla="val 49990"/>
                <a:gd name="adj3" fmla="val 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31" name=""/>
          <p:cNvGrpSpPr/>
          <p:nvPr/>
        </p:nvGrpSpPr>
        <p:grpSpPr>
          <a:xfrm>
            <a:off x="1139760" y="4114800"/>
            <a:ext cx="1298520" cy="2133720"/>
            <a:chOff x="1139760" y="4114800"/>
            <a:chExt cx="1298520" cy="2133720"/>
          </a:xfrm>
        </p:grpSpPr>
        <p:sp>
          <p:nvSpPr>
            <p:cNvPr id="1527" name=""/>
            <p:cNvSpPr/>
            <p:nvPr/>
          </p:nvSpPr>
          <p:spPr>
            <a:xfrm>
              <a:off x="1828800" y="56386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2" name=""/>
            <p:cNvGrpSpPr/>
            <p:nvPr/>
          </p:nvGrpSpPr>
          <p:grpSpPr>
            <a:xfrm>
              <a:off x="1139760" y="4114800"/>
              <a:ext cx="690840" cy="1829160"/>
              <a:chOff x="1139760" y="4114800"/>
              <a:chExt cx="690840" cy="1829160"/>
            </a:xfrm>
          </p:grpSpPr>
          <p:sp>
            <p:nvSpPr>
              <p:cNvPr id="1533" name=""/>
              <p:cNvSpPr/>
              <p:nvPr/>
            </p:nvSpPr>
            <p:spPr>
              <a:xfrm>
                <a:off x="1139760" y="4849920"/>
                <a:ext cx="328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534" name=""/>
              <p:cNvCxnSpPr>
                <a:stCxn id="1517" idx="2"/>
                <a:endCxn id="1527" idx="2"/>
              </p:cNvCxnSpPr>
              <p:nvPr/>
            </p:nvCxnSpPr>
            <p:spPr>
              <a:xfrm flipH="1" flipV="1" rot="10800000">
                <a:off x="1828440" y="4114440"/>
                <a:ext cx="2160" cy="1829520"/>
              </a:xfrm>
              <a:prstGeom prst="curvedConnector5">
                <a:avLst>
                  <a:gd name="adj1" fmla="val -14400000"/>
                  <a:gd name="adj2" fmla="val 49990"/>
                  <a:gd name="adj3" fmla="val -144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F3E2-C364-4E84-B84F-B81930B4F60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s of 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sequential logic – state changes occur whenever state inputs change (elements may be simple wires or delay ele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 sequential logic – state changes occur in lock step across all storage elements (using a periodic waveform - the cl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3809880"/>
            <a:ext cx="3809520" cy="1752840"/>
            <a:chOff x="457200" y="3809880"/>
            <a:chExt cx="3809520" cy="1752840"/>
          </a:xfrm>
        </p:grpSpPr>
        <p:sp>
          <p:nvSpPr>
            <p:cNvPr id="125" name=""/>
            <p:cNvSpPr/>
            <p:nvPr/>
          </p:nvSpPr>
          <p:spPr>
            <a:xfrm>
              <a:off x="1559880" y="3809880"/>
              <a:ext cx="1603800" cy="76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397404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" y="413856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" y="386460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57880" y="4248000"/>
              <a:ext cx="70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08360" y="4412160"/>
              <a:ext cx="55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08800" y="4521960"/>
              <a:ext cx="45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64040" y="397404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64040" y="413856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164040" y="386460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64040" y="4248000"/>
              <a:ext cx="75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64040" y="4412160"/>
              <a:ext cx="60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64040" y="4521960"/>
              <a:ext cx="50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12000" y="4850640"/>
              <a:ext cx="125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12000" y="5124600"/>
              <a:ext cx="135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12000" y="5562720"/>
              <a:ext cx="150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08800" y="4850640"/>
              <a:ext cx="130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08360" y="5124600"/>
              <a:ext cx="140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57880" y="5562720"/>
              <a:ext cx="155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65520" y="452196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65600" y="4412160"/>
              <a:ext cx="0" cy="71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16080" y="4248000"/>
              <a:ext cx="0" cy="131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1108800" y="452160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08360" y="4412160"/>
              <a:ext cx="0" cy="71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7880" y="4248000"/>
              <a:ext cx="0" cy="131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648320" y="3809880"/>
            <a:ext cx="4114440" cy="2205000"/>
            <a:chOff x="4648320" y="3809880"/>
            <a:chExt cx="4114440" cy="2205000"/>
          </a:xfrm>
        </p:grpSpPr>
        <p:sp>
          <p:nvSpPr>
            <p:cNvPr id="151" name=""/>
            <p:cNvSpPr/>
            <p:nvPr/>
          </p:nvSpPr>
          <p:spPr>
            <a:xfrm>
              <a:off x="5839200" y="3809880"/>
              <a:ext cx="1732680" cy="75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48320" y="397188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48320" y="413424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8320" y="386388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81400" y="4242240"/>
              <a:ext cx="7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43760" y="4404600"/>
              <a:ext cx="59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51760" y="4512960"/>
              <a:ext cx="48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71880" y="397188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71880" y="413424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71880" y="386388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71880" y="4242240"/>
              <a:ext cx="81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71880" y="4404600"/>
              <a:ext cx="6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71880" y="4512960"/>
              <a:ext cx="54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22440" y="478332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22440" y="5053680"/>
              <a:ext cx="129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22440" y="5486400"/>
              <a:ext cx="146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43000" y="4728960"/>
              <a:ext cx="379080" cy="21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543000" y="4999680"/>
              <a:ext cx="37908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543000" y="5432400"/>
              <a:ext cx="379080" cy="21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51760" y="4837320"/>
              <a:ext cx="119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43760" y="5107680"/>
              <a:ext cx="129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81400" y="5540400"/>
              <a:ext cx="146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13320" y="451296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221680" y="4404600"/>
              <a:ext cx="0" cy="64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384040" y="4242240"/>
              <a:ext cx="0" cy="124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351760" y="4512600"/>
              <a:ext cx="0" cy="32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43760" y="4404600"/>
              <a:ext cx="0" cy="70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81400" y="4242240"/>
              <a:ext cx="0" cy="129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22440" y="4891320"/>
              <a:ext cx="37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22440" y="5162040"/>
              <a:ext cx="37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22440" y="5594400"/>
              <a:ext cx="37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01160" y="4891320"/>
              <a:ext cx="0" cy="86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02600" y="5648760"/>
              <a:ext cx="801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8A2B-E8BB-433B-96AB-6FEA7BF33C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5" name=""/>
          <p:cNvGrpSpPr/>
          <p:nvPr/>
        </p:nvGrpSpPr>
        <p:grpSpPr>
          <a:xfrm>
            <a:off x="2489040" y="2286000"/>
            <a:ext cx="4254840" cy="3835440"/>
            <a:chOff x="2489040" y="2286000"/>
            <a:chExt cx="4254840" cy="3835440"/>
          </a:xfrm>
        </p:grpSpPr>
        <p:sp>
          <p:nvSpPr>
            <p:cNvPr id="1536" name=""/>
            <p:cNvSpPr/>
            <p:nvPr/>
          </p:nvSpPr>
          <p:spPr>
            <a:xfrm>
              <a:off x="2590920" y="2286000"/>
              <a:ext cx="4140000" cy="38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228600"/>
                  <a:tab algn="l" pos="571680"/>
                  <a:tab algn="l" pos="1371600"/>
                  <a:tab algn="l" pos="1828800"/>
                  <a:tab algn="l" pos="2286000"/>
                  <a:tab algn="l" pos="2400480"/>
                  <a:tab algn="l" pos="2743200"/>
                  <a:tab algn="l" pos="34290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527200" y="2736720"/>
              <a:ext cx="421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502000" y="3587760"/>
              <a:ext cx="424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502000" y="4464000"/>
              <a:ext cx="422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489040" y="5340240"/>
              <a:ext cx="4229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749840" y="2298600"/>
              <a:ext cx="0" cy="337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quely encode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FCEF-374B-4B8E-ADF9-10ABB29110B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"/>
          <p:cNvSpPr/>
          <p:nvPr/>
        </p:nvSpPr>
        <p:spPr>
          <a:xfrm>
            <a:off x="5638680" y="4038480"/>
            <a:ext cx="33051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1 = Q1 + D + Q0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0 = Q0’ N + Q0 N’ + Q1 N + Q1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 = Q1 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Moore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ping to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7" name=""/>
          <p:cNvGrpSpPr/>
          <p:nvPr/>
        </p:nvGrpSpPr>
        <p:grpSpPr>
          <a:xfrm>
            <a:off x="3505320" y="1600200"/>
            <a:ext cx="5181480" cy="1828800"/>
            <a:chOff x="3505320" y="1600200"/>
            <a:chExt cx="5181480" cy="1828800"/>
          </a:xfrm>
        </p:grpSpPr>
        <p:grpSp>
          <p:nvGrpSpPr>
            <p:cNvPr id="1548" name=""/>
            <p:cNvGrpSpPr/>
            <p:nvPr/>
          </p:nvGrpSpPr>
          <p:grpSpPr>
            <a:xfrm>
              <a:off x="5105160" y="1981080"/>
              <a:ext cx="685800" cy="990720"/>
              <a:chOff x="5105160" y="1981080"/>
              <a:chExt cx="685800" cy="990720"/>
            </a:xfrm>
          </p:grpSpPr>
          <p:sp>
            <p:nvSpPr>
              <p:cNvPr id="1549" name=""/>
              <p:cNvSpPr/>
              <p:nvPr/>
            </p:nvSpPr>
            <p:spPr>
              <a:xfrm rot="5400000">
                <a:off x="5295600" y="2247840"/>
                <a:ext cx="457200" cy="533520"/>
              </a:xfrm>
              <a:custGeom>
                <a:avLst/>
                <a:gdLst>
                  <a:gd name="textAreaLeft" fmla="*/ 60480 w 457200"/>
                  <a:gd name="textAreaRight" fmla="*/ 396720 w 457200"/>
                  <a:gd name="textAreaTop" fmla="*/ 60480 h 533520"/>
                  <a:gd name="textAreaBottom" fmla="*/ 473040 h 533520"/>
                </a:gdLst>
                <a:ahLst/>
                <a:rect l="textAreaLeft" t="textAreaTop" r="textAreaRight" b="textAreaBottom"/>
                <a:pathLst>
                  <a:path w="21600" h="25203">
                    <a:moveTo>
                      <a:pt x="9750" y="0"/>
                    </a:moveTo>
                    <a:arcTo wR="9750" hR="9750" stAng="16200000" swAng="-5400000"/>
                    <a:lnTo>
                      <a:pt x="0" y="15453"/>
                    </a:lnTo>
                    <a:arcTo wR="9750" hR="9750" stAng="10800000" swAng="-5400000"/>
                    <a:lnTo>
                      <a:pt x="11850" y="25203"/>
                    </a:lnTo>
                    <a:arcTo wR="9750" hR="9750" stAng="5400000" swAng="-5400000"/>
                    <a:lnTo>
                      <a:pt x="21600" y="9750"/>
                    </a:lnTo>
                    <a:arcTo wR="9750" hR="9750" stAng="0" swAng="-5400000"/>
                    <a:close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V="1" rot="5400000">
                <a:off x="4838400" y="2247840"/>
                <a:ext cx="9907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6248520" y="2057040"/>
              <a:ext cx="685800" cy="990360"/>
              <a:chOff x="6248520" y="2057040"/>
              <a:chExt cx="685800" cy="990360"/>
            </a:xfrm>
          </p:grpSpPr>
          <p:sp>
            <p:nvSpPr>
              <p:cNvPr id="1552" name=""/>
              <p:cNvSpPr/>
              <p:nvPr/>
            </p:nvSpPr>
            <p:spPr>
              <a:xfrm rot="16200000">
                <a:off x="6286680" y="2247840"/>
                <a:ext cx="456840" cy="533160"/>
              </a:xfrm>
              <a:custGeom>
                <a:avLst/>
                <a:gdLst>
                  <a:gd name="textAreaLeft" fmla="*/ 60120 w 456840"/>
                  <a:gd name="textAreaRight" fmla="*/ 396720 w 456840"/>
                  <a:gd name="textAreaTop" fmla="*/ 60120 h 533160"/>
                  <a:gd name="textAreaBottom" fmla="*/ 473040 h 533160"/>
                </a:gdLst>
                <a:ahLst/>
                <a:rect l="textAreaLeft" t="textAreaTop" r="textAreaRight" b="textAreaBottom"/>
                <a:pathLst>
                  <a:path w="21600" h="25206">
                    <a:moveTo>
                      <a:pt x="9750" y="0"/>
                    </a:moveTo>
                    <a:arcTo wR="9750" hR="9750" stAng="16200000" swAng="-5400000"/>
                    <a:lnTo>
                      <a:pt x="0" y="15456"/>
                    </a:lnTo>
                    <a:arcTo wR="9750" hR="9750" stAng="10800000" swAng="-5400000"/>
                    <a:lnTo>
                      <a:pt x="11850" y="25206"/>
                    </a:lnTo>
                    <a:arcTo wR="9750" hR="9750" stAng="5400000" swAng="-5400000"/>
                    <a:lnTo>
                      <a:pt x="21600" y="9750"/>
                    </a:lnTo>
                    <a:arcTo wR="9750" hR="9750" stAng="0" swAng="-5400000"/>
                    <a:close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flipV="1" rot="16200000">
                <a:off x="6210360" y="2323080"/>
                <a:ext cx="99036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4" name=""/>
            <p:cNvSpPr/>
            <p:nvPr/>
          </p:nvSpPr>
          <p:spPr>
            <a:xfrm>
              <a:off x="5791320" y="2743200"/>
              <a:ext cx="457200" cy="533160"/>
            </a:xfrm>
            <a:custGeom>
              <a:avLst/>
              <a:gdLst>
                <a:gd name="textAreaLeft" fmla="*/ 60480 w 457200"/>
                <a:gd name="textAreaRight" fmla="*/ 396720 w 457200"/>
                <a:gd name="textAreaTop" fmla="*/ 60480 h 533160"/>
                <a:gd name="textAreaBottom" fmla="*/ 472680 h 533160"/>
              </a:gdLst>
              <a:ahLst/>
              <a:rect l="textAreaLeft" t="textAreaTop" r="textAreaRight" b="textAreaBottom"/>
              <a:pathLst>
                <a:path w="21600" h="25186">
                  <a:moveTo>
                    <a:pt x="9750" y="0"/>
                  </a:moveTo>
                  <a:arcTo wR="9750" hR="9750" stAng="16200000" swAng="-5400000"/>
                  <a:lnTo>
                    <a:pt x="0" y="15436"/>
                  </a:lnTo>
                  <a:arcTo wR="9750" hR="9750" stAng="10800000" swAng="-5400000"/>
                  <a:lnTo>
                    <a:pt x="11850" y="25186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V="1">
              <a:off x="5486400" y="2971800"/>
              <a:ext cx="990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V="1">
              <a:off x="5791320" y="1752480"/>
              <a:ext cx="457200" cy="533520"/>
            </a:xfrm>
            <a:custGeom>
              <a:avLst/>
              <a:gdLst>
                <a:gd name="textAreaLeft" fmla="*/ 60480 w 457200"/>
                <a:gd name="textAreaRight" fmla="*/ 396720 w 457200"/>
                <a:gd name="textAreaTop" fmla="*/ 60480 h 533520"/>
                <a:gd name="textAreaBottom" fmla="*/ 473040 h 533520"/>
              </a:gdLst>
              <a:ahLst/>
              <a:rect l="textAreaLeft" t="textAreaTop" r="textAreaRight" b="textAreaBottom"/>
              <a:pathLst>
                <a:path w="21600" h="25203">
                  <a:moveTo>
                    <a:pt x="9750" y="0"/>
                  </a:moveTo>
                  <a:arcTo wR="9750" hR="9750" stAng="16200000" swAng="-5400000"/>
                  <a:lnTo>
                    <a:pt x="0" y="15453"/>
                  </a:lnTo>
                  <a:arcTo wR="9750" hR="9750" stAng="10800000" swAng="-5400000"/>
                  <a:lnTo>
                    <a:pt x="11850" y="25203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562720" y="1600200"/>
              <a:ext cx="9903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8" name=""/>
            <p:cNvGrpSpPr/>
            <p:nvPr/>
          </p:nvGrpSpPr>
          <p:grpSpPr>
            <a:xfrm>
              <a:off x="3505320" y="1752480"/>
              <a:ext cx="1600200" cy="1600200"/>
              <a:chOff x="3505320" y="1752480"/>
              <a:chExt cx="1600200" cy="1600200"/>
            </a:xfrm>
          </p:grpSpPr>
          <p:sp>
            <p:nvSpPr>
              <p:cNvPr id="1559" name=""/>
              <p:cNvSpPr/>
              <p:nvPr/>
            </p:nvSpPr>
            <p:spPr>
              <a:xfrm>
                <a:off x="3886560" y="19810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4267440" y="175248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581640" y="182880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81024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403884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26744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449604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81024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403884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26744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449604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81024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403884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426744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449604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81024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403884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426744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449604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4267440" y="19810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4038840" y="30481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733920" y="25146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480096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4038840" y="304812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4876920" y="236232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505320" y="259092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5257800" y="1752480"/>
              <a:ext cx="1600200" cy="1600200"/>
              <a:chOff x="5257800" y="1752480"/>
              <a:chExt cx="1600200" cy="1600200"/>
            </a:xfrm>
          </p:grpSpPr>
          <p:sp>
            <p:nvSpPr>
              <p:cNvPr id="1586" name=""/>
              <p:cNvSpPr/>
              <p:nvPr/>
            </p:nvSpPr>
            <p:spPr>
              <a:xfrm>
                <a:off x="5639040" y="19810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6019920" y="175248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5334120" y="182880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55627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57913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0199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2485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55627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57913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0199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2485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5627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57913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60199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2485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55627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57913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60199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62485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6019920" y="19810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5791320" y="30481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5486400" y="25146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655344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5791320" y="304812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6629400" y="236232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5257800" y="259092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7086600" y="1752480"/>
              <a:ext cx="1600200" cy="1600200"/>
              <a:chOff x="7086600" y="1752480"/>
              <a:chExt cx="1600200" cy="1600200"/>
            </a:xfrm>
          </p:grpSpPr>
          <p:sp>
            <p:nvSpPr>
              <p:cNvPr id="1613" name=""/>
              <p:cNvSpPr/>
              <p:nvPr/>
            </p:nvSpPr>
            <p:spPr>
              <a:xfrm>
                <a:off x="7467840" y="19810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848720" y="175248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162920" y="182880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Op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3915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6201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8487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80773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3915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6201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8487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80773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3915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6201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8487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80773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73915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6201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78487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80773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848720" y="19810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620120" y="30481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315200" y="25146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838224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620120" y="304812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8458200" y="236232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086600" y="259092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>
              <a:off x="4267080" y="2057400"/>
              <a:ext cx="457200" cy="914400"/>
            </a:xfrm>
            <a:custGeom>
              <a:avLst/>
              <a:gdLst>
                <a:gd name="textAreaLeft" fmla="*/ 60480 w 457200"/>
                <a:gd name="textAreaRight" fmla="*/ 396720 w 457200"/>
                <a:gd name="textAreaTop" fmla="*/ 60480 h 914400"/>
                <a:gd name="textAreaBottom" fmla="*/ 853920 h 914400"/>
              </a:gdLst>
              <a:ahLst/>
              <a:rect l="textAreaLeft" t="textAreaTop" r="textAreaRight" b="textAreaBottom"/>
              <a:pathLst>
                <a:path w="21600" h="43183">
                  <a:moveTo>
                    <a:pt x="9750" y="0"/>
                  </a:moveTo>
                  <a:arcTo wR="9750" hR="9750" stAng="16200000" swAng="-5400000"/>
                  <a:lnTo>
                    <a:pt x="0" y="33433"/>
                  </a:lnTo>
                  <a:arcTo wR="9750" hR="9750" stAng="10800000" swAng="-5400000"/>
                  <a:lnTo>
                    <a:pt x="11850" y="43183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038480" y="228600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809880" y="2514600"/>
              <a:ext cx="9144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019920" y="2057400"/>
              <a:ext cx="228600" cy="914400"/>
            </a:xfrm>
            <a:custGeom>
              <a:avLst/>
              <a:gdLst>
                <a:gd name="textAreaLeft" fmla="*/ 30240 w 228600"/>
                <a:gd name="textAreaRight" fmla="*/ 198360 w 228600"/>
                <a:gd name="textAreaTop" fmla="*/ 30240 h 914400"/>
                <a:gd name="textAreaBottom" fmla="*/ 884160 h 914400"/>
              </a:gdLst>
              <a:ahLst/>
              <a:rect l="textAreaLeft" t="textAreaTop" r="textAreaRight" b="textAreaBottom"/>
              <a:pathLst>
                <a:path w="21600" h="86298">
                  <a:moveTo>
                    <a:pt x="9750" y="0"/>
                  </a:moveTo>
                  <a:arcTo wR="9750" hR="9750" stAng="16200000" swAng="-5400000"/>
                  <a:lnTo>
                    <a:pt x="0" y="76548"/>
                  </a:lnTo>
                  <a:arcTo wR="9750" hR="9750" stAng="10800000" swAng="-5400000"/>
                  <a:lnTo>
                    <a:pt x="11850" y="86298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848720" y="2057400"/>
              <a:ext cx="228600" cy="914400"/>
            </a:xfrm>
            <a:custGeom>
              <a:avLst/>
              <a:gdLst>
                <a:gd name="textAreaLeft" fmla="*/ 30240 w 228600"/>
                <a:gd name="textAreaRight" fmla="*/ 198360 w 228600"/>
                <a:gd name="textAreaTop" fmla="*/ 30240 h 914400"/>
                <a:gd name="textAreaBottom" fmla="*/ 884160 h 914400"/>
              </a:gdLst>
              <a:ahLst/>
              <a:rect l="textAreaLeft" t="textAreaTop" r="textAreaRight" b="textAreaBottom"/>
              <a:pathLst>
                <a:path w="21600" h="86298">
                  <a:moveTo>
                    <a:pt x="9750" y="0"/>
                  </a:moveTo>
                  <a:arcTo wR="9750" hR="9750" stAng="16200000" swAng="-5400000"/>
                  <a:lnTo>
                    <a:pt x="0" y="76548"/>
                  </a:lnTo>
                  <a:arcTo wR="9750" hR="9750" stAng="10800000" swAng="-5400000"/>
                  <a:lnTo>
                    <a:pt x="11850" y="86298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019920" y="251460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45" name="" descr=""/>
          <p:cNvPicPr/>
          <p:nvPr/>
        </p:nvPicPr>
        <p:blipFill>
          <a:blip r:embed="rId1"/>
          <a:stretch/>
        </p:blipFill>
        <p:spPr>
          <a:xfrm>
            <a:off x="466560" y="3349800"/>
            <a:ext cx="4938840" cy="314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8725-311B-4667-8519-5DA82FE73FA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"/>
          <p:cNvSpPr/>
          <p:nvPr/>
        </p:nvSpPr>
        <p:spPr>
          <a:xfrm>
            <a:off x="762120" y="2438280"/>
            <a:ext cx="414000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50760"/>
                <a:tab algn="l" pos="114480"/>
                <a:tab algn="l" pos="279360"/>
                <a:tab algn="l" pos="571680"/>
                <a:tab algn="l" pos="851040"/>
                <a:tab algn="l" pos="1308240"/>
                <a:tab algn="l" pos="1600200"/>
                <a:tab algn="l" pos="2057400"/>
                <a:tab algn="l" pos="2336760"/>
                <a:tab algn="l" pos="2629080"/>
                <a:tab algn="l" pos="2908440"/>
                <a:tab algn="l" pos="3365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esent stat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put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xt stat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3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3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98400" y="2905200"/>
            <a:ext cx="421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73200" y="3772080"/>
            <a:ext cx="4241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85800" y="4648320"/>
            <a:ext cx="422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85800" y="5486400"/>
            <a:ext cx="422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2806560" y="2451240"/>
            <a:ext cx="0" cy="3378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5562720" y="2895480"/>
            <a:ext cx="320508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0 = Q0 D’ N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1 = Q0 N + Q1 D’ N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 = Q0 D + Q1 N + Q2 D’ N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 = Q1 D + Q2 D + Q2 N + Q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 = Q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-hot enco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B0DA-3A75-49A5-9848-A8E8F8F0631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quivalent Mealy and Moore state diagra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6840" y="1339920"/>
            <a:ext cx="3886200" cy="761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re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 associated with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7" name=""/>
          <p:cNvGrpSpPr/>
          <p:nvPr/>
        </p:nvGrpSpPr>
        <p:grpSpPr>
          <a:xfrm>
            <a:off x="390240" y="2349360"/>
            <a:ext cx="3552480" cy="4190760"/>
            <a:chOff x="390240" y="2349360"/>
            <a:chExt cx="3552480" cy="4190760"/>
          </a:xfrm>
        </p:grpSpPr>
        <p:sp>
          <p:nvSpPr>
            <p:cNvPr id="1658" name=""/>
            <p:cNvSpPr/>
            <p:nvPr/>
          </p:nvSpPr>
          <p:spPr>
            <a:xfrm>
              <a:off x="2209680" y="29592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209680" y="47880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209680" y="38736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209680" y="57024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2" name=""/>
            <p:cNvCxnSpPr/>
            <p:nvPr/>
          </p:nvCxnSpPr>
          <p:spPr>
            <a:xfrm>
              <a:off x="2514240" y="250200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3" name=""/>
            <p:cNvSpPr/>
            <p:nvPr/>
          </p:nvSpPr>
          <p:spPr>
            <a:xfrm>
              <a:off x="2526480" y="2349360"/>
              <a:ext cx="120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 + 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521360" y="394956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521360" y="501660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203200" y="356868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983240" y="539748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+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203200" y="448308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9" name=""/>
            <p:cNvCxnSpPr>
              <a:stCxn id="1658" idx="4"/>
              <a:endCxn id="1660" idx="0"/>
            </p:cNvCxnSpPr>
            <p:nvPr/>
          </p:nvCxnSpPr>
          <p:spPr>
            <a:xfrm>
              <a:off x="2514240" y="35683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0" name=""/>
            <p:cNvCxnSpPr>
              <a:stCxn id="1660" idx="4"/>
              <a:endCxn id="1659" idx="0"/>
            </p:cNvCxnSpPr>
            <p:nvPr/>
          </p:nvCxnSpPr>
          <p:spPr>
            <a:xfrm>
              <a:off x="2514240" y="44827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1" name=""/>
            <p:cNvCxnSpPr>
              <a:stCxn id="1659" idx="4"/>
              <a:endCxn id="1661" idx="0"/>
            </p:cNvCxnSpPr>
            <p:nvPr/>
          </p:nvCxnSpPr>
          <p:spPr>
            <a:xfrm>
              <a:off x="2514240" y="53971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2" name=""/>
            <p:cNvCxnSpPr>
              <a:stCxn id="1660" idx="2"/>
              <a:endCxn id="1661" idx="2"/>
            </p:cNvCxnSpPr>
            <p:nvPr/>
          </p:nvCxnSpPr>
          <p:spPr>
            <a:xfrm flipH="1" flipV="1" rot="10800000">
              <a:off x="2208600" y="4177800"/>
              <a:ext cx="2520" cy="1829520"/>
            </a:xfrm>
            <a:prstGeom prst="curvedConnector5">
              <a:avLst>
                <a:gd name="adj1" fmla="val -26200000"/>
                <a:gd name="adj2" fmla="val 4999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3" name=""/>
            <p:cNvCxnSpPr>
              <a:stCxn id="1660" idx="5"/>
              <a:endCxn id="1660" idx="7"/>
            </p:cNvCxnSpPr>
            <p:nvPr/>
          </p:nvCxnSpPr>
          <p:spPr>
            <a:xfrm flipH="1" flipV="1" rot="5400000">
              <a:off x="2515320" y="4177080"/>
              <a:ext cx="432360" cy="2160"/>
            </a:xfrm>
            <a:prstGeom prst="curvedConnector5">
              <a:avLst>
                <a:gd name="adj1" fmla="val -40000"/>
                <a:gd name="adj2" fmla="val 16380000"/>
                <a:gd name="adj3" fmla="val -4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4" name=""/>
            <p:cNvCxnSpPr>
              <a:stCxn id="1658" idx="5"/>
              <a:endCxn id="1658" idx="7"/>
            </p:cNvCxnSpPr>
            <p:nvPr/>
          </p:nvCxnSpPr>
          <p:spPr>
            <a:xfrm flipH="1" flipV="1" rot="5400000">
              <a:off x="2515320" y="3262680"/>
              <a:ext cx="432360" cy="2160"/>
            </a:xfrm>
            <a:prstGeom prst="curvedConnector5">
              <a:avLst>
                <a:gd name="adj1" fmla="val -26833"/>
                <a:gd name="adj2" fmla="val 14540000"/>
                <a:gd name="adj3" fmla="val -26833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5" name=""/>
            <p:cNvCxnSpPr>
              <a:stCxn id="1661" idx="3"/>
              <a:endCxn id="1658" idx="1"/>
            </p:cNvCxnSpPr>
            <p:nvPr/>
          </p:nvCxnSpPr>
          <p:spPr>
            <a:xfrm flipH="1" flipV="1" rot="5400000">
              <a:off x="711000" y="4633920"/>
              <a:ext cx="3175560" cy="2520"/>
            </a:xfrm>
            <a:prstGeom prst="curvedConnector5">
              <a:avLst>
                <a:gd name="adj1" fmla="val -10000"/>
                <a:gd name="adj2" fmla="val -44150000"/>
                <a:gd name="adj3" fmla="val -1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6" name=""/>
            <p:cNvCxnSpPr/>
            <p:nvPr/>
          </p:nvCxnSpPr>
          <p:spPr>
            <a:xfrm flipH="1" flipV="1" rot="5400000">
              <a:off x="2527560" y="5078880"/>
              <a:ext cx="432720" cy="2160"/>
            </a:xfrm>
            <a:prstGeom prst="curvedConnector5">
              <a:avLst>
                <a:gd name="adj1" fmla="val -40049"/>
                <a:gd name="adj2" fmla="val 16380000"/>
                <a:gd name="adj3" fmla="val -400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7" name=""/>
            <p:cNvCxnSpPr/>
            <p:nvPr/>
          </p:nvCxnSpPr>
          <p:spPr>
            <a:xfrm flipH="1" flipV="1" rot="5400000">
              <a:off x="2527560" y="5993280"/>
              <a:ext cx="432720" cy="2160"/>
            </a:xfrm>
            <a:prstGeom prst="curvedConnector5">
              <a:avLst>
                <a:gd name="adj1" fmla="val -40049"/>
                <a:gd name="adj2" fmla="val 16380000"/>
                <a:gd name="adj3" fmla="val -400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8" name=""/>
            <p:cNvCxnSpPr/>
            <p:nvPr/>
          </p:nvCxnSpPr>
          <p:spPr>
            <a:xfrm flipH="1" flipV="1" rot="10800000">
              <a:off x="2208600" y="3187440"/>
              <a:ext cx="2520" cy="1829520"/>
            </a:xfrm>
            <a:prstGeom prst="curvedConnector5">
              <a:avLst>
                <a:gd name="adj1" fmla="val -26200000"/>
                <a:gd name="adj2" fmla="val 4999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79" name=""/>
            <p:cNvSpPr/>
            <p:nvPr/>
          </p:nvSpPr>
          <p:spPr>
            <a:xfrm>
              <a:off x="3278160" y="4940280"/>
              <a:ext cx="55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269880" y="5854680"/>
              <a:ext cx="6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278160" y="4025880"/>
              <a:ext cx="55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201840" y="3111480"/>
              <a:ext cx="55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360800" y="2425680"/>
              <a:ext cx="64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"/>
          <p:cNvGrpSpPr/>
          <p:nvPr/>
        </p:nvGrpSpPr>
        <p:grpSpPr>
          <a:xfrm>
            <a:off x="5586120" y="2349360"/>
            <a:ext cx="3171600" cy="4190760"/>
            <a:chOff x="5586120" y="2349360"/>
            <a:chExt cx="3171600" cy="4190760"/>
          </a:xfrm>
        </p:grpSpPr>
        <p:sp>
          <p:nvSpPr>
            <p:cNvPr id="1685" name=""/>
            <p:cNvSpPr/>
            <p:nvPr/>
          </p:nvSpPr>
          <p:spPr>
            <a:xfrm>
              <a:off x="6858000" y="29592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858000" y="47880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858000" y="38736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858000" y="57024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89" name=""/>
            <p:cNvCxnSpPr/>
            <p:nvPr/>
          </p:nvCxnSpPr>
          <p:spPr>
            <a:xfrm>
              <a:off x="7162560" y="250200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90" name=""/>
            <p:cNvSpPr/>
            <p:nvPr/>
          </p:nvSpPr>
          <p:spPr>
            <a:xfrm>
              <a:off x="7187400" y="2349360"/>
              <a:ext cx="148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N’ D’ + Reset)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938920" y="394956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938920" y="501660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620760" y="356868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324840" y="539748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+D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620760" y="448308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6" name=""/>
            <p:cNvCxnSpPr>
              <a:stCxn id="1685" idx="4"/>
              <a:endCxn id="1687" idx="0"/>
            </p:cNvCxnSpPr>
            <p:nvPr/>
          </p:nvCxnSpPr>
          <p:spPr>
            <a:xfrm>
              <a:off x="7162560" y="35683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7" name=""/>
            <p:cNvCxnSpPr>
              <a:stCxn id="1687" idx="4"/>
              <a:endCxn id="1686" idx="0"/>
            </p:cNvCxnSpPr>
            <p:nvPr/>
          </p:nvCxnSpPr>
          <p:spPr>
            <a:xfrm>
              <a:off x="7162560" y="44827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8" name=""/>
            <p:cNvCxnSpPr>
              <a:stCxn id="1686" idx="4"/>
              <a:endCxn id="1688" idx="0"/>
            </p:cNvCxnSpPr>
            <p:nvPr/>
          </p:nvCxnSpPr>
          <p:spPr>
            <a:xfrm>
              <a:off x="7162560" y="53971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9" name=""/>
            <p:cNvCxnSpPr>
              <a:stCxn id="1687" idx="2"/>
              <a:endCxn id="1688" idx="2"/>
            </p:cNvCxnSpPr>
            <p:nvPr/>
          </p:nvCxnSpPr>
          <p:spPr>
            <a:xfrm flipH="1" flipV="1" rot="10800000">
              <a:off x="6857640" y="4177800"/>
              <a:ext cx="2160" cy="1829520"/>
            </a:xfrm>
            <a:prstGeom prst="curvedConnector5">
              <a:avLst>
                <a:gd name="adj1" fmla="val -26200000"/>
                <a:gd name="adj2" fmla="val 4999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0" name=""/>
            <p:cNvCxnSpPr>
              <a:stCxn id="1687" idx="5"/>
              <a:endCxn id="1687" idx="7"/>
            </p:cNvCxnSpPr>
            <p:nvPr/>
          </p:nvCxnSpPr>
          <p:spPr>
            <a:xfrm flipH="1" flipV="1" rot="5400000">
              <a:off x="7162560" y="4176720"/>
              <a:ext cx="432360" cy="2520"/>
            </a:xfrm>
            <a:prstGeom prst="curvedConnector5">
              <a:avLst>
                <a:gd name="adj1" fmla="val -40000"/>
                <a:gd name="adj2" fmla="val 16383333"/>
                <a:gd name="adj3" fmla="val -4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1" name=""/>
            <p:cNvCxnSpPr>
              <a:stCxn id="1685" idx="5"/>
              <a:endCxn id="1685" idx="7"/>
            </p:cNvCxnSpPr>
            <p:nvPr/>
          </p:nvCxnSpPr>
          <p:spPr>
            <a:xfrm flipH="1" flipV="1" rot="5400000">
              <a:off x="7162560" y="3262320"/>
              <a:ext cx="432360" cy="2520"/>
            </a:xfrm>
            <a:prstGeom prst="curvedConnector5">
              <a:avLst>
                <a:gd name="adj1" fmla="val -26833"/>
                <a:gd name="adj2" fmla="val 14533333"/>
                <a:gd name="adj3" fmla="val -26833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2" name=""/>
            <p:cNvCxnSpPr>
              <a:stCxn id="1688" idx="3"/>
              <a:endCxn id="1685" idx="1"/>
            </p:cNvCxnSpPr>
            <p:nvPr/>
          </p:nvCxnSpPr>
          <p:spPr>
            <a:xfrm flipH="1" flipV="1" rot="5400000">
              <a:off x="5360040" y="4634280"/>
              <a:ext cx="3175560" cy="2160"/>
            </a:xfrm>
            <a:prstGeom prst="curvedConnector5">
              <a:avLst>
                <a:gd name="adj1" fmla="val -10000"/>
                <a:gd name="adj2" fmla="val -37800000"/>
                <a:gd name="adj3" fmla="val -1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3" name=""/>
            <p:cNvCxnSpPr/>
            <p:nvPr/>
          </p:nvCxnSpPr>
          <p:spPr>
            <a:xfrm flipH="1" flipV="1" rot="5400000">
              <a:off x="7175880" y="5078880"/>
              <a:ext cx="432720" cy="2160"/>
            </a:xfrm>
            <a:prstGeom prst="curvedConnector5">
              <a:avLst>
                <a:gd name="adj1" fmla="val -40049"/>
                <a:gd name="adj2" fmla="val 16380000"/>
                <a:gd name="adj3" fmla="val -400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4" name=""/>
            <p:cNvCxnSpPr/>
            <p:nvPr/>
          </p:nvCxnSpPr>
          <p:spPr>
            <a:xfrm flipH="1" flipV="1" rot="5400000">
              <a:off x="7175880" y="5993280"/>
              <a:ext cx="432720" cy="2160"/>
            </a:xfrm>
            <a:prstGeom prst="curvedConnector5">
              <a:avLst>
                <a:gd name="adj1" fmla="val -40049"/>
                <a:gd name="adj2" fmla="val 16380000"/>
                <a:gd name="adj3" fmla="val -400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5" name=""/>
            <p:cNvCxnSpPr/>
            <p:nvPr/>
          </p:nvCxnSpPr>
          <p:spPr>
            <a:xfrm flipH="1" flipV="1" rot="10800000">
              <a:off x="6857640" y="3187440"/>
              <a:ext cx="2160" cy="1829520"/>
            </a:xfrm>
            <a:prstGeom prst="curvedConnector5">
              <a:avLst>
                <a:gd name="adj1" fmla="val -26200000"/>
                <a:gd name="adj2" fmla="val 4999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06" name=""/>
            <p:cNvSpPr/>
            <p:nvPr/>
          </p:nvSpPr>
          <p:spPr>
            <a:xfrm>
              <a:off x="7924320" y="494028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915680" y="585468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’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924320" y="402588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848360" y="311148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854320" y="2425680"/>
              <a:ext cx="81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1" name=""/>
          <p:cNvSpPr/>
          <p:nvPr/>
        </p:nvSpPr>
        <p:spPr>
          <a:xfrm>
            <a:off x="4559400" y="13399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rmAutofit/>
          </a:bodyPr>
          <a:p>
            <a:pPr marL="347760" indent="-34776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8872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 associated with trans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0F60-414E-4B45-84A0-BAC244E46D1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Mealy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713" name=""/>
          <p:cNvGrpSpPr/>
          <p:nvPr/>
        </p:nvGrpSpPr>
        <p:grpSpPr>
          <a:xfrm>
            <a:off x="628560" y="1405080"/>
            <a:ext cx="2903040" cy="4190040"/>
            <a:chOff x="628560" y="1405080"/>
            <a:chExt cx="2903040" cy="4190040"/>
          </a:xfrm>
        </p:grpSpPr>
        <p:sp>
          <p:nvSpPr>
            <p:cNvPr id="1714" name=""/>
            <p:cNvSpPr/>
            <p:nvPr/>
          </p:nvSpPr>
          <p:spPr>
            <a:xfrm>
              <a:off x="1631880" y="2014560"/>
              <a:ext cx="60912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631880" y="3843360"/>
              <a:ext cx="60912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631880" y="2928960"/>
              <a:ext cx="60912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631880" y="4757760"/>
              <a:ext cx="60912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18" name=""/>
            <p:cNvCxnSpPr/>
            <p:nvPr/>
          </p:nvCxnSpPr>
          <p:spPr>
            <a:xfrm>
              <a:off x="1936440" y="1557000"/>
              <a:ext cx="1080" cy="457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19" name=""/>
            <p:cNvSpPr/>
            <p:nvPr/>
          </p:nvSpPr>
          <p:spPr>
            <a:xfrm>
              <a:off x="1923480" y="1405080"/>
              <a:ext cx="81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12440" y="300492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12440" y="407196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394640" y="262404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098360" y="445284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+D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394640" y="353844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25" name=""/>
            <p:cNvCxnSpPr>
              <a:stCxn id="1714" idx="4"/>
              <a:endCxn id="1716" idx="0"/>
            </p:cNvCxnSpPr>
            <p:nvPr/>
          </p:nvCxnSpPr>
          <p:spPr>
            <a:xfrm>
              <a:off x="1936440" y="262404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6" name=""/>
            <p:cNvCxnSpPr>
              <a:stCxn id="1716" idx="4"/>
              <a:endCxn id="1715" idx="0"/>
            </p:cNvCxnSpPr>
            <p:nvPr/>
          </p:nvCxnSpPr>
          <p:spPr>
            <a:xfrm>
              <a:off x="1936440" y="353844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7" name=""/>
            <p:cNvCxnSpPr>
              <a:stCxn id="1715" idx="4"/>
              <a:endCxn id="1717" idx="0"/>
            </p:cNvCxnSpPr>
            <p:nvPr/>
          </p:nvCxnSpPr>
          <p:spPr>
            <a:xfrm>
              <a:off x="1936440" y="445284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8" name=""/>
            <p:cNvCxnSpPr>
              <a:stCxn id="1716" idx="2"/>
              <a:endCxn id="1717" idx="2"/>
            </p:cNvCxnSpPr>
            <p:nvPr/>
          </p:nvCxnSpPr>
          <p:spPr>
            <a:xfrm flipH="1" flipV="1" rot="10800000">
              <a:off x="1630800" y="3232440"/>
              <a:ext cx="1800" cy="1829160"/>
            </a:xfrm>
            <a:prstGeom prst="curvedConnector5">
              <a:avLst>
                <a:gd name="adj1" fmla="val -26200000"/>
                <a:gd name="adj2" fmla="val 5000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9" name=""/>
            <p:cNvCxnSpPr>
              <a:stCxn id="1716" idx="5"/>
              <a:endCxn id="1716" idx="7"/>
            </p:cNvCxnSpPr>
            <p:nvPr/>
          </p:nvCxnSpPr>
          <p:spPr>
            <a:xfrm flipH="1" flipV="1" rot="5400000">
              <a:off x="1937160" y="3232440"/>
              <a:ext cx="432000" cy="2160"/>
            </a:xfrm>
            <a:prstGeom prst="curvedConnector5">
              <a:avLst>
                <a:gd name="adj1" fmla="val -40033"/>
                <a:gd name="adj2" fmla="val 16380000"/>
                <a:gd name="adj3" fmla="val -40033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0" name=""/>
            <p:cNvCxnSpPr>
              <a:stCxn id="1714" idx="5"/>
              <a:endCxn id="1714" idx="7"/>
            </p:cNvCxnSpPr>
            <p:nvPr/>
          </p:nvCxnSpPr>
          <p:spPr>
            <a:xfrm flipH="1" flipV="1" rot="5400000">
              <a:off x="1937160" y="2318040"/>
              <a:ext cx="432000" cy="2160"/>
            </a:xfrm>
            <a:prstGeom prst="curvedConnector5">
              <a:avLst>
                <a:gd name="adj1" fmla="val -26772"/>
                <a:gd name="adj2" fmla="val 14540000"/>
                <a:gd name="adj3" fmla="val -2677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1" name=""/>
            <p:cNvCxnSpPr>
              <a:stCxn id="1717" idx="3"/>
              <a:endCxn id="1714" idx="1"/>
            </p:cNvCxnSpPr>
            <p:nvPr/>
          </p:nvCxnSpPr>
          <p:spPr>
            <a:xfrm flipH="1" flipV="1" rot="5400000">
              <a:off x="132840" y="3689640"/>
              <a:ext cx="3175200" cy="1800"/>
            </a:xfrm>
            <a:prstGeom prst="curvedConnector5">
              <a:avLst>
                <a:gd name="adj1" fmla="val -9989"/>
                <a:gd name="adj2" fmla="val -37800000"/>
                <a:gd name="adj3" fmla="val -998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2" name=""/>
            <p:cNvCxnSpPr/>
            <p:nvPr/>
          </p:nvCxnSpPr>
          <p:spPr>
            <a:xfrm flipH="1" flipV="1" rot="5400000">
              <a:off x="1949040" y="4133880"/>
              <a:ext cx="432360" cy="1800"/>
            </a:xfrm>
            <a:prstGeom prst="curvedConnector5">
              <a:avLst>
                <a:gd name="adj1" fmla="val -40000"/>
                <a:gd name="adj2" fmla="val 16375000"/>
                <a:gd name="adj3" fmla="val -4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3" name=""/>
            <p:cNvCxnSpPr/>
            <p:nvPr/>
          </p:nvCxnSpPr>
          <p:spPr>
            <a:xfrm flipH="1" flipV="1" rot="5400000">
              <a:off x="1949040" y="5048280"/>
              <a:ext cx="432360" cy="1800"/>
            </a:xfrm>
            <a:prstGeom prst="curvedConnector5">
              <a:avLst>
                <a:gd name="adj1" fmla="val -40000"/>
                <a:gd name="adj2" fmla="val 16375000"/>
                <a:gd name="adj3" fmla="val -4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4" name=""/>
            <p:cNvCxnSpPr/>
            <p:nvPr/>
          </p:nvCxnSpPr>
          <p:spPr>
            <a:xfrm flipH="1" flipV="1" rot="10800000">
              <a:off x="1630800" y="2242080"/>
              <a:ext cx="1800" cy="1829160"/>
            </a:xfrm>
            <a:prstGeom prst="curvedConnector5">
              <a:avLst>
                <a:gd name="adj1" fmla="val -26200000"/>
                <a:gd name="adj2" fmla="val 5000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35" name=""/>
            <p:cNvSpPr/>
            <p:nvPr/>
          </p:nvSpPr>
          <p:spPr>
            <a:xfrm>
              <a:off x="2697840" y="399564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689560" y="491004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’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697840" y="308124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621880" y="216684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28560" y="1481040"/>
              <a:ext cx="81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0" name=""/>
          <p:cNvGrpSpPr/>
          <p:nvPr/>
        </p:nvGrpSpPr>
        <p:grpSpPr>
          <a:xfrm>
            <a:off x="4287960" y="1676520"/>
            <a:ext cx="4254120" cy="3835440"/>
            <a:chOff x="4287960" y="1676520"/>
            <a:chExt cx="4254120" cy="3835440"/>
          </a:xfrm>
        </p:grpSpPr>
        <p:sp>
          <p:nvSpPr>
            <p:cNvPr id="1741" name=""/>
            <p:cNvSpPr/>
            <p:nvPr/>
          </p:nvSpPr>
          <p:spPr>
            <a:xfrm>
              <a:off x="4389480" y="1676520"/>
              <a:ext cx="4139640" cy="38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228600"/>
                  <a:tab algn="l" pos="571680"/>
                  <a:tab algn="l" pos="1371600"/>
                  <a:tab algn="l" pos="1828800"/>
                  <a:tab algn="l" pos="2286000"/>
                  <a:tab algn="l" pos="2400480"/>
                  <a:tab algn="l" pos="2917800"/>
                  <a:tab algn="l" pos="34290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325760" y="2127240"/>
              <a:ext cx="4216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300560" y="2978280"/>
              <a:ext cx="4241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300560" y="3854520"/>
              <a:ext cx="4228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287960" y="4730760"/>
              <a:ext cx="422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548400" y="1689120"/>
              <a:ext cx="0" cy="337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7" name=""/>
          <p:cNvSpPr/>
          <p:nvPr/>
        </p:nvSpPr>
        <p:spPr>
          <a:xfrm>
            <a:off x="4549680" y="5468760"/>
            <a:ext cx="4327560" cy="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Q0’N + Q0N’ + Q1N + Q1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Q1 + D + Q0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Q1Q0 + Q1N + Q1D + Q0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8" name=""/>
          <p:cNvGrpSpPr/>
          <p:nvPr/>
        </p:nvGrpSpPr>
        <p:grpSpPr>
          <a:xfrm>
            <a:off x="2711520" y="5200560"/>
            <a:ext cx="1600200" cy="1600200"/>
            <a:chOff x="2711520" y="5200560"/>
            <a:chExt cx="1600200" cy="1600200"/>
          </a:xfrm>
        </p:grpSpPr>
        <p:grpSp>
          <p:nvGrpSpPr>
            <p:cNvPr id="1749" name=""/>
            <p:cNvGrpSpPr/>
            <p:nvPr/>
          </p:nvGrpSpPr>
          <p:grpSpPr>
            <a:xfrm>
              <a:off x="2711520" y="5200560"/>
              <a:ext cx="1600200" cy="1600200"/>
              <a:chOff x="2711520" y="5200560"/>
              <a:chExt cx="1600200" cy="1600200"/>
            </a:xfrm>
          </p:grpSpPr>
          <p:sp>
            <p:nvSpPr>
              <p:cNvPr id="1750" name=""/>
              <p:cNvSpPr/>
              <p:nvPr/>
            </p:nvSpPr>
            <p:spPr>
              <a:xfrm>
                <a:off x="3092760" y="542916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73640" y="520056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2787840" y="527688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Op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016440" y="55054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245040" y="55054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73640" y="55054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702240" y="55054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016440" y="57340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245040" y="57340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473640" y="57340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702240" y="57340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016440" y="59626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3245040" y="59626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3473640" y="59626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3702240" y="59626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3016440" y="61912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3245040" y="61912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3473640" y="61912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3702240" y="61912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3473640" y="54291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245040" y="64962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2940120" y="59626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007160" y="57340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245040" y="649620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4083120" y="581040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711520" y="603900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6" name=""/>
            <p:cNvSpPr/>
            <p:nvPr/>
          </p:nvSpPr>
          <p:spPr>
            <a:xfrm>
              <a:off x="3473640" y="5505480"/>
              <a:ext cx="228600" cy="914400"/>
            </a:xfrm>
            <a:custGeom>
              <a:avLst/>
              <a:gdLst>
                <a:gd name="textAreaLeft" fmla="*/ 30240 w 228600"/>
                <a:gd name="textAreaRight" fmla="*/ 198360 w 228600"/>
                <a:gd name="textAreaTop" fmla="*/ 30240 h 914400"/>
                <a:gd name="textAreaBottom" fmla="*/ 884160 h 914400"/>
              </a:gdLst>
              <a:ahLst/>
              <a:rect l="textAreaLeft" t="textAreaTop" r="textAreaRight" b="textAreaBottom"/>
              <a:pathLst>
                <a:path w="21600" h="86298">
                  <a:moveTo>
                    <a:pt x="9750" y="0"/>
                  </a:moveTo>
                  <a:arcTo wR="9750" hR="9750" stAng="16200000" swAng="-5400000"/>
                  <a:lnTo>
                    <a:pt x="0" y="76548"/>
                  </a:lnTo>
                  <a:arcTo wR="9750" hR="9750" stAng="10800000" swAng="-5400000"/>
                  <a:lnTo>
                    <a:pt x="11850" y="86298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473640" y="573408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483000" y="596592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238560" y="595944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A308-7E4A-44AE-9B54-A0EFF7CE0E6A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Mealy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1" name=""/>
          <p:cNvSpPr/>
          <p:nvPr/>
        </p:nvSpPr>
        <p:spPr>
          <a:xfrm>
            <a:off x="571680" y="1751040"/>
            <a:ext cx="484488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Q0’N + Q0N’ + Q1N + Q1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Q1 + D + Q0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Q1Q0 + Q1N + Q1D + Q0D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ke sure OPEN is 0 when res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 by adding AND 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2" name="" descr=""/>
          <p:cNvPicPr/>
          <p:nvPr/>
        </p:nvPicPr>
        <p:blipFill>
          <a:blip r:embed="rId1"/>
          <a:stretch/>
        </p:blipFill>
        <p:spPr>
          <a:xfrm>
            <a:off x="4278240" y="2708280"/>
            <a:ext cx="4722840" cy="39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3EA2-3089-431D-B831-270764218DA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nding machine: Moore to synch. Meal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= Q1Q0 creates a combinational delay after Q1 and Q0 change in Moor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corrected by retiming, i.e., move flip-flops and logic through each other to improve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.d = (Q1 + D + Q0N)(Q0'N + Q0N' + Q1N + Q1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= Q1Q0N' + Q1N + Q1D + Q0'ND + Q0N'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now looks like a synchronous Mealy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common for programmable devices to have FF at end of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0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" descr=""/>
          <p:cNvPicPr/>
          <p:nvPr/>
        </p:nvPicPr>
        <p:blipFill>
          <a:blip r:embed="rId1"/>
          <a:stretch/>
        </p:blipFill>
        <p:spPr>
          <a:xfrm>
            <a:off x="192240" y="4043520"/>
            <a:ext cx="3844800" cy="2450880"/>
          </a:xfrm>
          <a:prstGeom prst="rect">
            <a:avLst/>
          </a:prstGeom>
          <a:ln w="0">
            <a:noFill/>
          </a:ln>
        </p:spPr>
      </p:pic>
      <p:pic>
        <p:nvPicPr>
          <p:cNvPr id="1786" name="" descr=""/>
          <p:cNvPicPr/>
          <p:nvPr/>
        </p:nvPicPr>
        <p:blipFill>
          <a:blip r:embed="rId2"/>
          <a:stretch/>
        </p:blipFill>
        <p:spPr>
          <a:xfrm>
            <a:off x="4562640" y="4038480"/>
            <a:ext cx="4424040" cy="248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141C-884F-46DF-A63D-EA491859F73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nding machine: Mealy to synch. Meal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63320" y="149184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.d = Q1Q0 + Q1N + Q1D + Q0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.d = (Q1 + D + Q0N)(Q0'N + Q0N' + Q1N + Q1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= Q1Q0N' + Q1N + Q1D + Q0'ND + Q0N'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9" name="" descr=""/>
          <p:cNvPicPr/>
          <p:nvPr/>
        </p:nvPicPr>
        <p:blipFill>
          <a:blip r:embed="rId1"/>
          <a:stretch/>
        </p:blipFill>
        <p:spPr>
          <a:xfrm>
            <a:off x="4788000" y="4083120"/>
            <a:ext cx="4424400" cy="2482920"/>
          </a:xfrm>
          <a:prstGeom prst="rect">
            <a:avLst/>
          </a:prstGeom>
          <a:ln w="0">
            <a:noFill/>
          </a:ln>
        </p:spPr>
      </p:pic>
      <p:pic>
        <p:nvPicPr>
          <p:cNvPr id="1790" name="" descr=""/>
          <p:cNvPicPr/>
          <p:nvPr/>
        </p:nvPicPr>
        <p:blipFill>
          <a:blip r:embed="rId2"/>
          <a:stretch/>
        </p:blipFill>
        <p:spPr>
          <a:xfrm>
            <a:off x="0" y="2635200"/>
            <a:ext cx="4722840" cy="3906720"/>
          </a:xfrm>
          <a:prstGeom prst="rect">
            <a:avLst/>
          </a:prstGeom>
          <a:ln w="0">
            <a:noFill/>
          </a:ln>
        </p:spPr>
      </p:pic>
      <p:grpSp>
        <p:nvGrpSpPr>
          <p:cNvPr id="1791" name=""/>
          <p:cNvGrpSpPr/>
          <p:nvPr/>
        </p:nvGrpSpPr>
        <p:grpSpPr>
          <a:xfrm>
            <a:off x="4648320" y="2573280"/>
            <a:ext cx="2224080" cy="1600200"/>
            <a:chOff x="4648320" y="2573280"/>
            <a:chExt cx="2224080" cy="1600200"/>
          </a:xfrm>
        </p:grpSpPr>
        <p:grpSp>
          <p:nvGrpSpPr>
            <p:cNvPr id="1792" name=""/>
            <p:cNvGrpSpPr/>
            <p:nvPr/>
          </p:nvGrpSpPr>
          <p:grpSpPr>
            <a:xfrm>
              <a:off x="5272200" y="2573280"/>
              <a:ext cx="1600200" cy="1600200"/>
              <a:chOff x="5272200" y="2573280"/>
              <a:chExt cx="1600200" cy="1600200"/>
            </a:xfrm>
          </p:grpSpPr>
          <p:sp>
            <p:nvSpPr>
              <p:cNvPr id="1793" name=""/>
              <p:cNvSpPr/>
              <p:nvPr/>
            </p:nvSpPr>
            <p:spPr>
              <a:xfrm>
                <a:off x="5653440" y="28018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6034320" y="257328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5348520" y="264960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Open.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577120" y="2878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805720" y="2878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6034320" y="2878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6262920" y="2878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5577120" y="31068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5805720" y="31068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034320" y="31068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6262920" y="31068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5577120" y="3335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5805720" y="3335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6034320" y="3335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6262920" y="3335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5577120" y="3564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805720" y="3564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6034320" y="3564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6262920" y="3564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6034320" y="28018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805720" y="38689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5500800" y="33354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6567840" y="31068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5805720" y="386892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6643800" y="318312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272200" y="341172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9" name=""/>
            <p:cNvSpPr/>
            <p:nvPr/>
          </p:nvSpPr>
          <p:spPr>
            <a:xfrm>
              <a:off x="4648320" y="2651040"/>
              <a:ext cx="792000" cy="48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0" name=""/>
          <p:cNvGrpSpPr/>
          <p:nvPr/>
        </p:nvGrpSpPr>
        <p:grpSpPr>
          <a:xfrm>
            <a:off x="5334120" y="1660320"/>
            <a:ext cx="3617640" cy="2511720"/>
            <a:chOff x="5334120" y="1660320"/>
            <a:chExt cx="3617640" cy="2511720"/>
          </a:xfrm>
        </p:grpSpPr>
        <p:grpSp>
          <p:nvGrpSpPr>
            <p:cNvPr id="1821" name=""/>
            <p:cNvGrpSpPr/>
            <p:nvPr/>
          </p:nvGrpSpPr>
          <p:grpSpPr>
            <a:xfrm>
              <a:off x="7351560" y="2571840"/>
              <a:ext cx="1600200" cy="1600200"/>
              <a:chOff x="7351560" y="2571840"/>
              <a:chExt cx="1600200" cy="1600200"/>
            </a:xfrm>
          </p:grpSpPr>
          <p:sp>
            <p:nvSpPr>
              <p:cNvPr id="1822" name=""/>
              <p:cNvSpPr/>
              <p:nvPr/>
            </p:nvSpPr>
            <p:spPr>
              <a:xfrm>
                <a:off x="7732800" y="280044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8113680" y="257184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7427880" y="264816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Open.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7656480" y="28767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885080" y="28767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8113680" y="28767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8342280" y="28767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7656480" y="31053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7885080" y="31053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8113680" y="31053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8342280" y="31053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656480" y="33339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885080" y="33339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8113680" y="33339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8342280" y="33339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656480" y="35625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885080" y="35625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8113680" y="35625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8342280" y="35625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8113680" y="28004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885080" y="38674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7580160" y="33339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8647200" y="31053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7885080" y="386748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8723160" y="318168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7351560" y="341028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8" name=""/>
            <p:cNvSpPr/>
            <p:nvPr/>
          </p:nvSpPr>
          <p:spPr>
            <a:xfrm>
              <a:off x="6964200" y="1752480"/>
              <a:ext cx="71604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H="1" flipV="1">
              <a:off x="5334120" y="1660320"/>
              <a:ext cx="1630080" cy="9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CC70-0E78-46C0-979F-68A5A12989B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0" name="" descr=""/>
          <p:cNvPicPr/>
          <p:nvPr/>
        </p:nvPicPr>
        <p:blipFill>
          <a:blip r:embed="rId1"/>
          <a:stretch/>
        </p:blipFill>
        <p:spPr>
          <a:xfrm>
            <a:off x="901800" y="3701880"/>
            <a:ext cx="3416040" cy="736920"/>
          </a:xfrm>
          <a:prstGeom prst="rect">
            <a:avLst/>
          </a:prstGeom>
          <a:ln w="0">
            <a:noFill/>
          </a:ln>
        </p:spPr>
      </p:pic>
      <p:pic>
        <p:nvPicPr>
          <p:cNvPr id="1851" name="" descr=""/>
          <p:cNvPicPr/>
          <p:nvPr/>
        </p:nvPicPr>
        <p:blipFill>
          <a:blip r:embed="rId2"/>
          <a:stretch/>
        </p:blipFill>
        <p:spPr>
          <a:xfrm>
            <a:off x="4756320" y="4281480"/>
            <a:ext cx="3657600" cy="1397160"/>
          </a:xfrm>
          <a:prstGeom prst="rect">
            <a:avLst/>
          </a:prstGeom>
          <a:ln w="0">
            <a:noFill/>
          </a:ln>
        </p:spPr>
      </p:pic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aly and Moore examp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95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gnize A,B = 0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ly or Moo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5587920" y="2394000"/>
            <a:ext cx="304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5587920" y="2698920"/>
            <a:ext cx="317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 flipV="1">
            <a:off x="5587920" y="2393640"/>
            <a:ext cx="18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5892840" y="2406600"/>
            <a:ext cx="139680" cy="152280"/>
          </a:xfrm>
          <a:custGeom>
            <a:avLst/>
            <a:gdLst/>
            <a:ahLst/>
            <a:rect l="l" t="t" r="r" b="b"/>
            <a:pathLst>
              <a:path w="11" h="12">
                <a:moveTo>
                  <a:pt x="11" y="12"/>
                </a:moveTo>
                <a:cubicBezTo>
                  <a:pt x="11" y="5"/>
                  <a:pt x="6" y="0"/>
                  <a:pt x="0" y="0"/>
                </a:cubicBezTo>
                <a:lnTo>
                  <a:pt x="0" y="12"/>
                </a:lnTo>
                <a:lnTo>
                  <a:pt x="11" y="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5747040" y="2400480"/>
            <a:ext cx="291600" cy="31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5892840" y="2546280"/>
            <a:ext cx="139680" cy="152640"/>
          </a:xfrm>
          <a:custGeom>
            <a:avLst/>
            <a:gdLst/>
            <a:ahLst/>
            <a:rect l="l" t="t" r="r" b="b"/>
            <a:pathLst>
              <a:path w="11" h="12">
                <a:moveTo>
                  <a:pt x="0" y="11"/>
                </a:moveTo>
                <a:cubicBezTo>
                  <a:pt x="6" y="12"/>
                  <a:pt x="11" y="6"/>
                  <a:pt x="11" y="0"/>
                </a:cubicBezTo>
                <a:lnTo>
                  <a:pt x="0" y="0"/>
                </a:lnTo>
                <a:lnTo>
                  <a:pt x="0" y="1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5746680" y="2387520"/>
            <a:ext cx="29196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5016600" y="2355840"/>
            <a:ext cx="1904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 flipV="1">
            <a:off x="5016600" y="2482560"/>
            <a:ext cx="1904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5016600" y="2355840"/>
            <a:ext cx="144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5213520" y="246384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5460840" y="2610000"/>
            <a:ext cx="127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5460840" y="2610000"/>
            <a:ext cx="180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4635360" y="2736720"/>
            <a:ext cx="8254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724640" y="2610000"/>
            <a:ext cx="7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d4"/>
                </a:solidFill>
                <a:latin typeface="Geneva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889520" y="2482920"/>
            <a:ext cx="127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699080" y="2482920"/>
            <a:ext cx="190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725360" y="2355840"/>
            <a:ext cx="7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d4"/>
                </a:solidFill>
                <a:latin typeface="Geneva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460840" y="2482920"/>
            <a:ext cx="127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270400" y="2482920"/>
            <a:ext cx="127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5397480" y="2482920"/>
            <a:ext cx="63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032520" y="2546280"/>
            <a:ext cx="127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6083280" y="2546280"/>
            <a:ext cx="317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6161400" y="2419200"/>
            <a:ext cx="18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d4"/>
                </a:solidFill>
                <a:latin typeface="Geneva"/>
              </a:rPr>
              <a:t>o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44D6-7772-420E-ABA6-FB1FBFBD241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8" name="" descr=""/>
          <p:cNvPicPr/>
          <p:nvPr/>
        </p:nvPicPr>
        <p:blipFill>
          <a:blip r:embed="rId1"/>
          <a:stretch/>
        </p:blipFill>
        <p:spPr>
          <a:xfrm>
            <a:off x="977760" y="4392720"/>
            <a:ext cx="5753160" cy="2019240"/>
          </a:xfrm>
          <a:prstGeom prst="rect">
            <a:avLst/>
          </a:prstGeom>
          <a:ln w="0">
            <a:noFill/>
          </a:ln>
        </p:spPr>
      </p:pic>
      <p:pic>
        <p:nvPicPr>
          <p:cNvPr id="1879" name="" descr=""/>
          <p:cNvPicPr/>
          <p:nvPr/>
        </p:nvPicPr>
        <p:blipFill>
          <a:blip r:embed="rId2"/>
          <a:stretch/>
        </p:blipFill>
        <p:spPr>
          <a:xfrm>
            <a:off x="3887640" y="2241720"/>
            <a:ext cx="4953240" cy="2070000"/>
          </a:xfrm>
          <a:prstGeom prst="rect">
            <a:avLst/>
          </a:prstGeom>
          <a:ln w="0">
            <a:noFill/>
          </a:ln>
        </p:spPr>
      </p:pic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aly and Moore exampl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gnize A,B = 1,0 then 0,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 or Moo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429E-5E96-4322-9F97-CA2C2147E97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2616120" y="4940280"/>
            <a:ext cx="4280040" cy="1504800"/>
            <a:chOff x="2616120" y="4940280"/>
            <a:chExt cx="4280040" cy="1504800"/>
          </a:xfrm>
        </p:grpSpPr>
        <p:sp>
          <p:nvSpPr>
            <p:cNvPr id="185" name=""/>
            <p:cNvSpPr/>
            <p:nvPr/>
          </p:nvSpPr>
          <p:spPr>
            <a:xfrm>
              <a:off x="6407280" y="4940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8480" y="4940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664080" y="5854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92880" y="5854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749680" y="4940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06880" y="5162400"/>
              <a:ext cx="135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35680" y="5162400"/>
              <a:ext cx="135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5899320" y="5359320"/>
              <a:ext cx="59688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4108320" y="607680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3105000" y="5346720"/>
              <a:ext cx="59688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4070520" y="5346720"/>
              <a:ext cx="583920" cy="58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4933800" y="5346360"/>
              <a:ext cx="63504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16120" y="5607000"/>
              <a:ext cx="889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432320" y="6038640"/>
              <a:ext cx="888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=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94440" y="5352840"/>
              <a:ext cx="888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06840" y="5352840"/>
              <a:ext cx="888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=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45000" y="589896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59400" y="498456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73800" y="589896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88200" y="498456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30600" y="50101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ate machine representa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determined by possible values in sequential storage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s: change of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: controls when state can change by controlling storage ele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s through a series of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sequence of values on input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period defines elements of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D3A3-5222-41FC-88B2-94C1FAD1C6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 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d 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ip-fl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 of clocks - timing of stat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vs. synchro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S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al view (FFs separate from combinational log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havioral view (synthesis of sequencers – not in this cour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-paths = data computation (e.g., ALUs, comparators) + regi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rithmetic/logical 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of storage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7BCD-3DDF-4CFC-B113-55487DEA6B5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reduce-1-string-by-1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ove one 1 from every string of 1s on the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1600200" y="2971080"/>
            <a:ext cx="2176200" cy="3201480"/>
            <a:chOff x="1600200" y="2971080"/>
            <a:chExt cx="2176200" cy="3201480"/>
          </a:xfrm>
        </p:grpSpPr>
        <p:sp>
          <p:nvSpPr>
            <p:cNvPr id="1887" name=""/>
            <p:cNvSpPr/>
            <p:nvPr/>
          </p:nvSpPr>
          <p:spPr>
            <a:xfrm>
              <a:off x="2601720" y="385740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600200" y="4867200"/>
              <a:ext cx="6094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861920" y="421452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152520" y="3840120"/>
              <a:ext cx="6098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166920" y="509724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601720" y="490680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235240" y="32004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235240" y="426708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235240" y="533376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o1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96" name=""/>
            <p:cNvCxnSpPr>
              <a:stCxn id="1893" idx="4"/>
              <a:endCxn id="1894" idx="0"/>
            </p:cNvCxnSpPr>
            <p:nvPr/>
          </p:nvCxnSpPr>
          <p:spPr>
            <a:xfrm>
              <a:off x="2539440" y="38098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97" name=""/>
            <p:cNvCxnSpPr>
              <a:stCxn id="1894" idx="4"/>
              <a:endCxn id="1895" idx="0"/>
            </p:cNvCxnSpPr>
            <p:nvPr/>
          </p:nvCxnSpPr>
          <p:spPr>
            <a:xfrm>
              <a:off x="2539440" y="487656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98" name=""/>
            <p:cNvCxnSpPr>
              <a:stCxn id="1894" idx="2"/>
              <a:endCxn id="1893" idx="2"/>
            </p:cNvCxnSpPr>
            <p:nvPr/>
          </p:nvCxnSpPr>
          <p:spPr>
            <a:xfrm flipH="1" rot="10800000">
              <a:off x="2234880" y="3504240"/>
              <a:ext cx="2160" cy="1067760"/>
            </a:xfrm>
            <a:prstGeom prst="curvedConnector5">
              <a:avLst>
                <a:gd name="adj1" fmla="val -14400000"/>
                <a:gd name="adj2" fmla="val 49983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99" name=""/>
            <p:cNvCxnSpPr>
              <a:stCxn id="1895" idx="2"/>
              <a:endCxn id="1893" idx="2"/>
            </p:cNvCxnSpPr>
            <p:nvPr/>
          </p:nvCxnSpPr>
          <p:spPr>
            <a:xfrm flipH="1" rot="10800000">
              <a:off x="2234880" y="3504240"/>
              <a:ext cx="2160" cy="2134440"/>
            </a:xfrm>
            <a:prstGeom prst="curvedConnector5">
              <a:avLst>
                <a:gd name="adj1" fmla="val -31700000"/>
                <a:gd name="adj2" fmla="val 50000"/>
                <a:gd name="adj3" fmla="val -31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00" name=""/>
            <p:cNvCxnSpPr>
              <a:stCxn id="1893" idx="5"/>
              <a:endCxn id="1893" idx="7"/>
            </p:cNvCxnSpPr>
            <p:nvPr/>
          </p:nvCxnSpPr>
          <p:spPr>
            <a:xfrm flipH="1" flipV="1" rot="5400000">
              <a:off x="2540520" y="3503880"/>
              <a:ext cx="432360" cy="2160"/>
            </a:xfrm>
            <a:prstGeom prst="curvedConnector5">
              <a:avLst>
                <a:gd name="adj1" fmla="val -73500"/>
                <a:gd name="adj2" fmla="val 14580000"/>
                <a:gd name="adj3" fmla="val -735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01" name=""/>
            <p:cNvCxnSpPr>
              <a:stCxn id="1895" idx="5"/>
              <a:endCxn id="1895" idx="7"/>
            </p:cNvCxnSpPr>
            <p:nvPr/>
          </p:nvCxnSpPr>
          <p:spPr>
            <a:xfrm flipH="1" flipV="1" rot="5400000">
              <a:off x="2540160" y="5637600"/>
              <a:ext cx="432720" cy="2160"/>
            </a:xfrm>
            <a:prstGeom prst="curvedConnector5">
              <a:avLst>
                <a:gd name="adj1" fmla="val -73522"/>
                <a:gd name="adj2" fmla="val 14080000"/>
                <a:gd name="adj3" fmla="val -7352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902" name=""/>
          <p:cNvGrpSpPr/>
          <p:nvPr/>
        </p:nvGrpSpPr>
        <p:grpSpPr>
          <a:xfrm>
            <a:off x="5257800" y="3351600"/>
            <a:ext cx="2133360" cy="2134800"/>
            <a:chOff x="5257800" y="3351600"/>
            <a:chExt cx="2133360" cy="2134800"/>
          </a:xfrm>
        </p:grpSpPr>
        <p:sp>
          <p:nvSpPr>
            <p:cNvPr id="1903" name=""/>
            <p:cNvSpPr/>
            <p:nvPr/>
          </p:nvSpPr>
          <p:spPr>
            <a:xfrm>
              <a:off x="6259320" y="423864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257800" y="426708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781680" y="342900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781680" y="502920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5892840" y="35812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892840" y="464832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09" name=""/>
            <p:cNvCxnSpPr>
              <a:stCxn id="1907" idx="4"/>
              <a:endCxn id="1908" idx="0"/>
            </p:cNvCxnSpPr>
            <p:nvPr/>
          </p:nvCxnSpPr>
          <p:spPr>
            <a:xfrm>
              <a:off x="6197040" y="419112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10" name=""/>
            <p:cNvCxnSpPr>
              <a:stCxn id="1908" idx="2"/>
              <a:endCxn id="1907" idx="2"/>
            </p:cNvCxnSpPr>
            <p:nvPr/>
          </p:nvCxnSpPr>
          <p:spPr>
            <a:xfrm flipH="1" rot="10800000">
              <a:off x="5892480" y="3885480"/>
              <a:ext cx="2160" cy="106740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11" name=""/>
            <p:cNvCxnSpPr>
              <a:stCxn id="1908" idx="4"/>
              <a:endCxn id="1908" idx="6"/>
            </p:cNvCxnSpPr>
            <p:nvPr/>
          </p:nvCxnSpPr>
          <p:spPr>
            <a:xfrm flipH="1" flipV="1" rot="5400000">
              <a:off x="6196320" y="4952160"/>
              <a:ext cx="305640" cy="305640"/>
            </a:xfrm>
            <a:prstGeom prst="curvedConnector5">
              <a:avLst>
                <a:gd name="adj1" fmla="val -75000"/>
                <a:gd name="adj2" fmla="val 87500"/>
                <a:gd name="adj3" fmla="val -75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12" name=""/>
            <p:cNvCxnSpPr>
              <a:stCxn id="1907" idx="6"/>
              <a:endCxn id="1907" idx="0"/>
            </p:cNvCxnSpPr>
            <p:nvPr/>
          </p:nvCxnSpPr>
          <p:spPr>
            <a:xfrm flipH="1" flipV="1">
              <a:off x="6196680" y="3580560"/>
              <a:ext cx="305640" cy="305640"/>
            </a:xfrm>
            <a:prstGeom prst="curvedConnector5">
              <a:avLst>
                <a:gd name="adj1" fmla="val -75000"/>
                <a:gd name="adj2" fmla="val 87500"/>
                <a:gd name="adj3" fmla="val -75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913" name=""/>
          <p:cNvSpPr/>
          <p:nvPr/>
        </p:nvSpPr>
        <p:spPr>
          <a:xfrm>
            <a:off x="2093040" y="2514600"/>
            <a:ext cx="89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5805720" y="2514600"/>
            <a:ext cx="825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a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5ED5-BFA6-4098-87EF-4230F7B8CB7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"/>
          <p:cNvSpPr/>
          <p:nvPr/>
        </p:nvSpPr>
        <p:spPr>
          <a:xfrm>
            <a:off x="914400" y="2133720"/>
            <a:ext cx="73915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2678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reduce (clk, reset, in, out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 clk, reset, in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 out;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2678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ameter zero  = 2’b0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 one1  = 2’b0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 two1s = 2’b10;</a:t>
            </a:r>
            <a:br>
              <a:rPr sz="1400"/>
            </a:b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[2:1] state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state variabl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[2:1] next_state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if (reset) 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lse       state = next_state;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6159600" y="1568520"/>
            <a:ext cx="185400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 assign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easy to change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in one pl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flipH="1">
            <a:off x="3873600" y="1873080"/>
            <a:ext cx="228600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rilog FSM - Reduce 1s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ore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0" name=""/>
          <p:cNvGrpSpPr/>
          <p:nvPr/>
        </p:nvGrpSpPr>
        <p:grpSpPr>
          <a:xfrm>
            <a:off x="6553080" y="3047400"/>
            <a:ext cx="2176200" cy="3201480"/>
            <a:chOff x="6553080" y="3047400"/>
            <a:chExt cx="2176200" cy="3201480"/>
          </a:xfrm>
        </p:grpSpPr>
        <p:sp>
          <p:nvSpPr>
            <p:cNvPr id="1921" name=""/>
            <p:cNvSpPr/>
            <p:nvPr/>
          </p:nvSpPr>
          <p:spPr>
            <a:xfrm>
              <a:off x="7554600" y="393372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553080" y="4943520"/>
              <a:ext cx="6094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814800" y="429084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105400" y="3916440"/>
              <a:ext cx="6098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8119800" y="517356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7554600" y="498312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188120" y="327672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188120" y="43434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7188120" y="54100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o1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30" name=""/>
            <p:cNvCxnSpPr>
              <a:stCxn id="1927" idx="4"/>
              <a:endCxn id="1928" idx="0"/>
            </p:cNvCxnSpPr>
            <p:nvPr/>
          </p:nvCxnSpPr>
          <p:spPr>
            <a:xfrm>
              <a:off x="7492320" y="388620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1" name=""/>
            <p:cNvCxnSpPr>
              <a:stCxn id="1928" idx="4"/>
              <a:endCxn id="1929" idx="0"/>
            </p:cNvCxnSpPr>
            <p:nvPr/>
          </p:nvCxnSpPr>
          <p:spPr>
            <a:xfrm>
              <a:off x="7492320" y="49528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2" name=""/>
            <p:cNvCxnSpPr>
              <a:stCxn id="1928" idx="2"/>
              <a:endCxn id="1927" idx="2"/>
            </p:cNvCxnSpPr>
            <p:nvPr/>
          </p:nvCxnSpPr>
          <p:spPr>
            <a:xfrm flipH="1" rot="10800000">
              <a:off x="7187760" y="3580560"/>
              <a:ext cx="2160" cy="1067760"/>
            </a:xfrm>
            <a:prstGeom prst="curvedConnector5">
              <a:avLst>
                <a:gd name="adj1" fmla="val -14400000"/>
                <a:gd name="adj2" fmla="val 49983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3" name=""/>
            <p:cNvCxnSpPr>
              <a:stCxn id="1929" idx="2"/>
              <a:endCxn id="1927" idx="2"/>
            </p:cNvCxnSpPr>
            <p:nvPr/>
          </p:nvCxnSpPr>
          <p:spPr>
            <a:xfrm flipH="1" rot="10800000">
              <a:off x="7187760" y="3580560"/>
              <a:ext cx="2160" cy="2134440"/>
            </a:xfrm>
            <a:prstGeom prst="curvedConnector5">
              <a:avLst>
                <a:gd name="adj1" fmla="val -31700000"/>
                <a:gd name="adj2" fmla="val 50000"/>
                <a:gd name="adj3" fmla="val -31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4" name=""/>
            <p:cNvCxnSpPr>
              <a:stCxn id="1927" idx="5"/>
              <a:endCxn id="1927" idx="7"/>
            </p:cNvCxnSpPr>
            <p:nvPr/>
          </p:nvCxnSpPr>
          <p:spPr>
            <a:xfrm flipH="1" flipV="1" rot="5400000">
              <a:off x="7493400" y="3580200"/>
              <a:ext cx="432360" cy="2160"/>
            </a:xfrm>
            <a:prstGeom prst="curvedConnector5">
              <a:avLst>
                <a:gd name="adj1" fmla="val -73500"/>
                <a:gd name="adj2" fmla="val 14580000"/>
                <a:gd name="adj3" fmla="val -735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5" name=""/>
            <p:cNvCxnSpPr>
              <a:stCxn id="1929" idx="5"/>
              <a:endCxn id="1929" idx="7"/>
            </p:cNvCxnSpPr>
            <p:nvPr/>
          </p:nvCxnSpPr>
          <p:spPr>
            <a:xfrm flipH="1" flipV="1" rot="5400000">
              <a:off x="7493040" y="5713920"/>
              <a:ext cx="432720" cy="2160"/>
            </a:xfrm>
            <a:prstGeom prst="curvedConnector5">
              <a:avLst>
                <a:gd name="adj1" fmla="val -73522"/>
                <a:gd name="adj2" fmla="val 14080000"/>
                <a:gd name="adj3" fmla="val -7352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7236-F4D2-4C1D-B1AB-2EDA7C530A6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"/>
          <p:cNvSpPr/>
          <p:nvPr/>
        </p:nvSpPr>
        <p:spPr>
          <a:xfrm>
            <a:off x="404640" y="1460520"/>
            <a:ext cx="8472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in or st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zero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last input was a zer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next_state = one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next_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one1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we've seen one 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next_state = two1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next_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two1s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we've seen at least 2 on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next_state = two1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next_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 flipH="1" flipV="1">
            <a:off x="2895120" y="1599840"/>
            <a:ext cx="2406600" cy="26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5486400" y="1600200"/>
            <a:ext cx="27687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ucial to includ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 signals that ar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 to state determ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ore Verilog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0" name=""/>
          <p:cNvSpPr/>
          <p:nvPr/>
        </p:nvSpPr>
        <p:spPr>
          <a:xfrm>
            <a:off x="6248520" y="3200400"/>
            <a:ext cx="276840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e that outpu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ends only on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4952880" y="4572000"/>
            <a:ext cx="3962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zero: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ne1: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two1s: out =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 flipH="1">
            <a:off x="6324480" y="3809880"/>
            <a:ext cx="763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5BD6-F574-4A1F-8320-99C7750D1449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"/>
          <p:cNvSpPr/>
          <p:nvPr/>
        </p:nvSpPr>
        <p:spPr>
          <a:xfrm>
            <a:off x="533520" y="1136520"/>
            <a:ext cx="8458200" cy="54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256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reduce (clk, reset, in, out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 clk, reset, in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state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state variabl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next_state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if (reset) 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lse       state = next_state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in or 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zero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last input was a zer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next_state = on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next_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one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we've seen one 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if (in)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xt_state = one; out =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 else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xt_state = zero;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aly Verilog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945" name=""/>
          <p:cNvGrpSpPr/>
          <p:nvPr/>
        </p:nvGrpSpPr>
        <p:grpSpPr>
          <a:xfrm>
            <a:off x="6324480" y="2894400"/>
            <a:ext cx="2133360" cy="2134800"/>
            <a:chOff x="6324480" y="2894400"/>
            <a:chExt cx="2133360" cy="2134800"/>
          </a:xfrm>
        </p:grpSpPr>
        <p:sp>
          <p:nvSpPr>
            <p:cNvPr id="1946" name=""/>
            <p:cNvSpPr/>
            <p:nvPr/>
          </p:nvSpPr>
          <p:spPr>
            <a:xfrm>
              <a:off x="7326000" y="378144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324480" y="380988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848360" y="297180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848360" y="457200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959520" y="31240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6959520" y="419112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52" name=""/>
            <p:cNvCxnSpPr>
              <a:stCxn id="1950" idx="4"/>
              <a:endCxn id="1951" idx="0"/>
            </p:cNvCxnSpPr>
            <p:nvPr/>
          </p:nvCxnSpPr>
          <p:spPr>
            <a:xfrm>
              <a:off x="7263720" y="373392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53" name=""/>
            <p:cNvCxnSpPr>
              <a:stCxn id="1951" idx="2"/>
              <a:endCxn id="1950" idx="2"/>
            </p:cNvCxnSpPr>
            <p:nvPr/>
          </p:nvCxnSpPr>
          <p:spPr>
            <a:xfrm flipH="1" rot="10800000">
              <a:off x="6959160" y="3428280"/>
              <a:ext cx="2160" cy="106740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54" name=""/>
            <p:cNvCxnSpPr>
              <a:stCxn id="1951" idx="4"/>
              <a:endCxn id="1951" idx="6"/>
            </p:cNvCxnSpPr>
            <p:nvPr/>
          </p:nvCxnSpPr>
          <p:spPr>
            <a:xfrm flipH="1" flipV="1" rot="5400000">
              <a:off x="7263000" y="4494960"/>
              <a:ext cx="305640" cy="305640"/>
            </a:xfrm>
            <a:prstGeom prst="curvedConnector5">
              <a:avLst>
                <a:gd name="adj1" fmla="val -75000"/>
                <a:gd name="adj2" fmla="val 87500"/>
                <a:gd name="adj3" fmla="val -75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55" name=""/>
            <p:cNvCxnSpPr>
              <a:stCxn id="1950" idx="6"/>
              <a:endCxn id="1950" idx="0"/>
            </p:cNvCxnSpPr>
            <p:nvPr/>
          </p:nvCxnSpPr>
          <p:spPr>
            <a:xfrm flipH="1" flipV="1">
              <a:off x="7263360" y="3123360"/>
              <a:ext cx="305640" cy="305640"/>
            </a:xfrm>
            <a:prstGeom prst="curvedConnector5">
              <a:avLst>
                <a:gd name="adj1" fmla="val -75000"/>
                <a:gd name="adj2" fmla="val 87500"/>
                <a:gd name="adj3" fmla="val -75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9D0B-5EB8-43E5-81D8-534E40F79B0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"/>
          <p:cNvSpPr/>
          <p:nvPr/>
        </p:nvSpPr>
        <p:spPr>
          <a:xfrm>
            <a:off x="1854360" y="1523880"/>
            <a:ext cx="72896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533520" y="1339920"/>
            <a:ext cx="81788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reduce (clk, reset, in, out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 clk, reset, in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state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state variables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if (reset) 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ls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zero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last input was a zer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state = on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one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we've seen one 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if (in)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e = one; out =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 else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e = zero;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ynchronous Mealy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E10A-C0FB-4754-B4B3-853BF332A26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ate machines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ls for representing sequential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traction of sequential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 state machines and their state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/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, Moore, and synchronous Mealy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 state machine desig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ing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ing state transi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next state and outpu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ing combination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ABA1-36ED-444C-A0CD-9FE43135BF2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 finite state machine diagra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 lock from introduction to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self-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other transitions between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reset transition (from all states) to state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838080" y="3161520"/>
            <a:ext cx="7162920" cy="2971080"/>
            <a:chOff x="838080" y="3161520"/>
            <a:chExt cx="7162920" cy="2971080"/>
          </a:xfrm>
        </p:grpSpPr>
        <p:sp>
          <p:nvSpPr>
            <p:cNvPr id="211" name=""/>
            <p:cNvSpPr/>
            <p:nvPr/>
          </p:nvSpPr>
          <p:spPr>
            <a:xfrm>
              <a:off x="1957320" y="478800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06600" y="5119920"/>
              <a:ext cx="43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8080" y="4970520"/>
              <a:ext cx="71280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81800" y="4745160"/>
              <a:ext cx="652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37000" y="4788000"/>
              <a:ext cx="67464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13440" y="478800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92760" y="4788000"/>
              <a:ext cx="67644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80240" y="3662640"/>
              <a:ext cx="561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94040" y="4916520"/>
              <a:ext cx="690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82840" y="509112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314880" y="4151520"/>
              <a:ext cx="15015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59280" y="4227840"/>
              <a:ext cx="1503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04080" y="4303800"/>
              <a:ext cx="1501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38640" y="5794560"/>
              <a:ext cx="800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0760" y="579456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81080" y="579456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427120" y="4751640"/>
              <a:ext cx="6526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06800" y="4751640"/>
              <a:ext cx="6494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50120" y="4751640"/>
              <a:ext cx="6508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201080" y="3397320"/>
              <a:ext cx="7999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573360" y="4916520"/>
              <a:ext cx="68760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60720" y="5091120"/>
              <a:ext cx="1501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149800" y="4916520"/>
              <a:ext cx="690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38960" y="509112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40360" y="5016600"/>
              <a:ext cx="4636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92760" y="3434040"/>
              <a:ext cx="67644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7" name=""/>
            <p:cNvCxnSpPr>
              <a:stCxn id="211" idx="7"/>
              <a:endCxn id="236" idx="2"/>
            </p:cNvCxnSpPr>
            <p:nvPr/>
          </p:nvCxnSpPr>
          <p:spPr>
            <a:xfrm flipH="1" flipV="1" rot="5400000">
              <a:off x="4055400" y="2250720"/>
              <a:ext cx="1116720" cy="415836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8" name=""/>
            <p:cNvCxnSpPr>
              <a:stCxn id="215" idx="7"/>
              <a:endCxn id="236" idx="2"/>
            </p:cNvCxnSpPr>
            <p:nvPr/>
          </p:nvCxnSpPr>
          <p:spPr>
            <a:xfrm flipH="1" flipV="1" rot="5400000">
              <a:off x="4844520" y="3039840"/>
              <a:ext cx="1116720" cy="25801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9" name=""/>
            <p:cNvCxnSpPr>
              <a:stCxn id="216" idx="7"/>
              <a:endCxn id="236" idx="2"/>
            </p:cNvCxnSpPr>
            <p:nvPr/>
          </p:nvCxnSpPr>
          <p:spPr>
            <a:xfrm flipH="1" flipV="1" rot="5400000">
              <a:off x="5633640" y="3828960"/>
              <a:ext cx="1116720" cy="10022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0" name=""/>
            <p:cNvCxnSpPr>
              <a:stCxn id="211" idx="6"/>
              <a:endCxn id="215" idx="2"/>
            </p:cNvCxnSpPr>
            <p:nvPr/>
          </p:nvCxnSpPr>
          <p:spPr>
            <a:xfrm>
              <a:off x="2634840" y="5127480"/>
              <a:ext cx="90252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1" name=""/>
            <p:cNvCxnSpPr>
              <a:stCxn id="215" idx="6"/>
              <a:endCxn id="216" idx="2"/>
            </p:cNvCxnSpPr>
            <p:nvPr/>
          </p:nvCxnSpPr>
          <p:spPr>
            <a:xfrm>
              <a:off x="4211280" y="5127480"/>
              <a:ext cx="90252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2" name=""/>
            <p:cNvCxnSpPr>
              <a:stCxn id="216" idx="6"/>
              <a:endCxn id="217" idx="2"/>
            </p:cNvCxnSpPr>
            <p:nvPr/>
          </p:nvCxnSpPr>
          <p:spPr>
            <a:xfrm>
              <a:off x="5791320" y="5127480"/>
              <a:ext cx="90216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3" name=""/>
            <p:cNvCxnSpPr>
              <a:stCxn id="211" idx="3"/>
              <a:endCxn id="211" idx="5"/>
            </p:cNvCxnSpPr>
            <p:nvPr/>
          </p:nvCxnSpPr>
          <p:spPr>
            <a:xfrm flipH="1" rot="16200000">
              <a:off x="2294280" y="5127480"/>
              <a:ext cx="2520" cy="478440"/>
            </a:xfrm>
            <a:prstGeom prst="curvedConnector5">
              <a:avLst>
                <a:gd name="adj1" fmla="val 20700000"/>
                <a:gd name="adj2" fmla="val 50000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4" name=""/>
            <p:cNvCxnSpPr>
              <a:stCxn id="215" idx="3"/>
              <a:endCxn id="215" idx="5"/>
            </p:cNvCxnSpPr>
            <p:nvPr/>
          </p:nvCxnSpPr>
          <p:spPr>
            <a:xfrm flipH="1" rot="16200000">
              <a:off x="3873240" y="5127120"/>
              <a:ext cx="2520" cy="478800"/>
            </a:xfrm>
            <a:prstGeom prst="curvedConnector5">
              <a:avLst>
                <a:gd name="adj1" fmla="val 20700000"/>
                <a:gd name="adj2" fmla="val 49962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5" name=""/>
            <p:cNvCxnSpPr>
              <a:stCxn id="216" idx="3"/>
              <a:endCxn id="216" idx="5"/>
            </p:cNvCxnSpPr>
            <p:nvPr/>
          </p:nvCxnSpPr>
          <p:spPr>
            <a:xfrm flipH="1" rot="16200000">
              <a:off x="5450400" y="5127480"/>
              <a:ext cx="2520" cy="478440"/>
            </a:xfrm>
            <a:prstGeom prst="curvedConnector5">
              <a:avLst>
                <a:gd name="adj1" fmla="val 20700000"/>
                <a:gd name="adj2" fmla="val 50000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17" idx="3"/>
              <a:endCxn id="217" idx="5"/>
            </p:cNvCxnSpPr>
            <p:nvPr/>
          </p:nvCxnSpPr>
          <p:spPr>
            <a:xfrm flipH="1" rot="16200000">
              <a:off x="7030080" y="5126400"/>
              <a:ext cx="2520" cy="480240"/>
            </a:xfrm>
            <a:prstGeom prst="curvedConnector5">
              <a:avLst>
                <a:gd name="adj1" fmla="val 20700000"/>
                <a:gd name="adj2" fmla="val 49962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6" idx="7"/>
              <a:endCxn id="236" idx="1"/>
            </p:cNvCxnSpPr>
            <p:nvPr/>
          </p:nvCxnSpPr>
          <p:spPr>
            <a:xfrm rot="5400000">
              <a:off x="7029720" y="3293280"/>
              <a:ext cx="2160" cy="480240"/>
            </a:xfrm>
            <a:prstGeom prst="curvedConnector5">
              <a:avLst>
                <a:gd name="adj1" fmla="val -20600000"/>
                <a:gd name="adj2" fmla="val 49962"/>
                <a:gd name="adj3" fmla="val -20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F371-5948-4723-B1F9-168EB53719B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n any sequential system be represented with a state diagram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value show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ransition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values show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in state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824120" y="3703680"/>
            <a:ext cx="5790960" cy="2438280"/>
            <a:chOff x="1824120" y="3703680"/>
            <a:chExt cx="5790960" cy="2438280"/>
          </a:xfrm>
        </p:grpSpPr>
        <p:grpSp>
          <p:nvGrpSpPr>
            <p:cNvPr id="251" name=""/>
            <p:cNvGrpSpPr/>
            <p:nvPr/>
          </p:nvGrpSpPr>
          <p:grpSpPr>
            <a:xfrm>
              <a:off x="2738520" y="3703680"/>
              <a:ext cx="609480" cy="609480"/>
              <a:chOff x="2738520" y="3703680"/>
              <a:chExt cx="609480" cy="609480"/>
            </a:xfrm>
          </p:grpSpPr>
          <p:sp>
            <p:nvSpPr>
              <p:cNvPr id="252" name=""/>
              <p:cNvSpPr/>
              <p:nvPr/>
            </p:nvSpPr>
            <p:spPr>
              <a:xfrm>
                <a:off x="2738520" y="37036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792160" y="384012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6091200" y="3703680"/>
              <a:ext cx="609480" cy="609480"/>
              <a:chOff x="6091200" y="3703680"/>
              <a:chExt cx="609480" cy="609480"/>
            </a:xfrm>
          </p:grpSpPr>
          <p:sp>
            <p:nvSpPr>
              <p:cNvPr id="255" name=""/>
              <p:cNvSpPr/>
              <p:nvPr/>
            </p:nvSpPr>
            <p:spPr>
              <a:xfrm>
                <a:off x="6091200" y="37036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132240" y="382428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7005600" y="4618080"/>
              <a:ext cx="609480" cy="609480"/>
              <a:chOff x="7005600" y="4618080"/>
              <a:chExt cx="609480" cy="609480"/>
            </a:xfrm>
          </p:grpSpPr>
          <p:sp>
            <p:nvSpPr>
              <p:cNvPr id="258" name=""/>
              <p:cNvSpPr/>
              <p:nvPr/>
            </p:nvSpPr>
            <p:spPr>
              <a:xfrm>
                <a:off x="7005600" y="46180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59240" y="474192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6091200" y="5532480"/>
              <a:ext cx="609480" cy="609480"/>
              <a:chOff x="6091200" y="5532480"/>
              <a:chExt cx="609480" cy="609480"/>
            </a:xfrm>
          </p:grpSpPr>
          <p:sp>
            <p:nvSpPr>
              <p:cNvPr id="261" name=""/>
              <p:cNvSpPr/>
              <p:nvPr/>
            </p:nvSpPr>
            <p:spPr>
              <a:xfrm>
                <a:off x="6091200" y="55324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144840" y="565632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5176800" y="4618080"/>
              <a:ext cx="609480" cy="609480"/>
              <a:chOff x="5176800" y="4618080"/>
              <a:chExt cx="609480" cy="609480"/>
            </a:xfrm>
          </p:grpSpPr>
          <p:sp>
            <p:nvSpPr>
              <p:cNvPr id="264" name=""/>
              <p:cNvSpPr/>
              <p:nvPr/>
            </p:nvSpPr>
            <p:spPr>
              <a:xfrm>
                <a:off x="5176800" y="46180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214600" y="473868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3652920" y="4618080"/>
              <a:ext cx="609480" cy="609480"/>
              <a:chOff x="3652920" y="4618080"/>
              <a:chExt cx="609480" cy="609480"/>
            </a:xfrm>
          </p:grpSpPr>
          <p:sp>
            <p:nvSpPr>
              <p:cNvPr id="267" name=""/>
              <p:cNvSpPr/>
              <p:nvPr/>
            </p:nvSpPr>
            <p:spPr>
              <a:xfrm>
                <a:off x="3652920" y="46180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90720" y="473868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1824120" y="4618080"/>
              <a:ext cx="609480" cy="609480"/>
              <a:chOff x="1824120" y="4618080"/>
              <a:chExt cx="609480" cy="609480"/>
            </a:xfrm>
          </p:grpSpPr>
          <p:sp>
            <p:nvSpPr>
              <p:cNvPr id="270" name=""/>
              <p:cNvSpPr/>
              <p:nvPr/>
            </p:nvSpPr>
            <p:spPr>
              <a:xfrm>
                <a:off x="1824120" y="46180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65160" y="475776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738520" y="5532480"/>
              <a:ext cx="609480" cy="609480"/>
              <a:chOff x="2738520" y="5532480"/>
              <a:chExt cx="609480" cy="609480"/>
            </a:xfrm>
          </p:grpSpPr>
          <p:sp>
            <p:nvSpPr>
              <p:cNvPr id="273" name=""/>
              <p:cNvSpPr/>
              <p:nvPr/>
            </p:nvSpPr>
            <p:spPr>
              <a:xfrm>
                <a:off x="2738520" y="55324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792160" y="565308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3348000" y="3720960"/>
            <a:ext cx="2743560" cy="335160"/>
            <a:chOff x="3348000" y="3720960"/>
            <a:chExt cx="2743560" cy="335160"/>
          </a:xfrm>
        </p:grpSpPr>
        <p:cxnSp>
          <p:nvCxnSpPr>
            <p:cNvPr id="276" name=""/>
            <p:cNvCxnSpPr>
              <a:stCxn id="252" idx="6"/>
              <a:endCxn id="255" idx="2"/>
            </p:cNvCxnSpPr>
            <p:nvPr/>
          </p:nvCxnSpPr>
          <p:spPr>
            <a:xfrm>
              <a:off x="3348000" y="4007880"/>
              <a:ext cx="27439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7" name=""/>
            <p:cNvSpPr/>
            <p:nvPr/>
          </p:nvSpPr>
          <p:spPr>
            <a:xfrm>
              <a:off x="4596840" y="372096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173480" y="4347000"/>
            <a:ext cx="1092600" cy="361800"/>
            <a:chOff x="4173480" y="4347000"/>
            <a:chExt cx="1092600" cy="361800"/>
          </a:xfrm>
        </p:grpSpPr>
        <p:cxnSp>
          <p:nvCxnSpPr>
            <p:cNvPr id="279" name=""/>
            <p:cNvCxnSpPr>
              <a:stCxn id="267" idx="7"/>
              <a:endCxn id="264" idx="1"/>
            </p:cNvCxnSpPr>
            <p:nvPr/>
          </p:nvCxnSpPr>
          <p:spPr>
            <a:xfrm flipH="1" rot="16200000">
              <a:off x="4718880" y="4161240"/>
              <a:ext cx="2160" cy="1092960"/>
            </a:xfrm>
            <a:prstGeom prst="curvedConnector5">
              <a:avLst>
                <a:gd name="adj1" fmla="val -20000000"/>
                <a:gd name="adj2" fmla="val 49983"/>
                <a:gd name="adj3" fmla="val -200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0" name=""/>
            <p:cNvSpPr/>
            <p:nvPr/>
          </p:nvSpPr>
          <p:spPr>
            <a:xfrm>
              <a:off x="4606560" y="434988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795040" y="4312440"/>
            <a:ext cx="299520" cy="1219680"/>
            <a:chOff x="2795040" y="4312440"/>
            <a:chExt cx="299520" cy="1219680"/>
          </a:xfrm>
        </p:grpSpPr>
        <p:cxnSp>
          <p:nvCxnSpPr>
            <p:cNvPr id="282" name=""/>
            <p:cNvCxnSpPr>
              <a:stCxn id="273" idx="0"/>
              <a:endCxn id="252" idx="4"/>
            </p:cNvCxnSpPr>
            <p:nvPr/>
          </p:nvCxnSpPr>
          <p:spPr>
            <a:xfrm flipV="1">
              <a:off x="3042720" y="4312440"/>
              <a:ext cx="1080" cy="1220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3" name=""/>
            <p:cNvSpPr/>
            <p:nvPr/>
          </p:nvSpPr>
          <p:spPr>
            <a:xfrm>
              <a:off x="2795040" y="47563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344320" y="4219560"/>
            <a:ext cx="483120" cy="487080"/>
            <a:chOff x="2344320" y="4219560"/>
            <a:chExt cx="483120" cy="487080"/>
          </a:xfrm>
        </p:grpSpPr>
        <p:cxnSp>
          <p:nvCxnSpPr>
            <p:cNvPr id="285" name=""/>
            <p:cNvCxnSpPr>
              <a:stCxn id="270" idx="7"/>
              <a:endCxn id="252" idx="3"/>
            </p:cNvCxnSpPr>
            <p:nvPr/>
          </p:nvCxnSpPr>
          <p:spPr>
            <a:xfrm flipV="1">
              <a:off x="2344320" y="4223520"/>
              <a:ext cx="48348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6" name=""/>
            <p:cNvSpPr/>
            <p:nvPr/>
          </p:nvSpPr>
          <p:spPr>
            <a:xfrm>
              <a:off x="2355480" y="421956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3258360" y="5138280"/>
            <a:ext cx="483120" cy="511920"/>
            <a:chOff x="3258360" y="5138280"/>
            <a:chExt cx="483120" cy="511920"/>
          </a:xfrm>
        </p:grpSpPr>
        <p:cxnSp>
          <p:nvCxnSpPr>
            <p:cNvPr id="288" name=""/>
            <p:cNvCxnSpPr>
              <a:stCxn id="267" idx="3"/>
              <a:endCxn id="273" idx="7"/>
            </p:cNvCxnSpPr>
            <p:nvPr/>
          </p:nvCxnSpPr>
          <p:spPr>
            <a:xfrm flipH="1">
              <a:off x="3258360" y="5138280"/>
              <a:ext cx="48348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9" name=""/>
            <p:cNvSpPr/>
            <p:nvPr/>
          </p:nvSpPr>
          <p:spPr>
            <a:xfrm>
              <a:off x="3433320" y="531504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258720" y="4186080"/>
            <a:ext cx="483120" cy="520560"/>
            <a:chOff x="3258720" y="4186080"/>
            <a:chExt cx="483120" cy="520560"/>
          </a:xfrm>
        </p:grpSpPr>
        <p:cxnSp>
          <p:nvCxnSpPr>
            <p:cNvPr id="291" name=""/>
            <p:cNvCxnSpPr>
              <a:stCxn id="252" idx="5"/>
              <a:endCxn id="267" idx="1"/>
            </p:cNvCxnSpPr>
            <p:nvPr/>
          </p:nvCxnSpPr>
          <p:spPr>
            <a:xfrm>
              <a:off x="3258720" y="4223520"/>
              <a:ext cx="48348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3420360" y="418608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343960" y="5137920"/>
            <a:ext cx="483120" cy="489960"/>
            <a:chOff x="2343960" y="5137920"/>
            <a:chExt cx="483120" cy="489960"/>
          </a:xfrm>
        </p:grpSpPr>
        <p:cxnSp>
          <p:nvCxnSpPr>
            <p:cNvPr id="294" name=""/>
            <p:cNvCxnSpPr>
              <a:stCxn id="273" idx="1"/>
              <a:endCxn id="270" idx="5"/>
            </p:cNvCxnSpPr>
            <p:nvPr/>
          </p:nvCxnSpPr>
          <p:spPr>
            <a:xfrm flipH="1" flipV="1">
              <a:off x="2343960" y="5137920"/>
              <a:ext cx="48348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5" name=""/>
            <p:cNvSpPr/>
            <p:nvPr/>
          </p:nvSpPr>
          <p:spPr>
            <a:xfrm>
              <a:off x="2356920" y="52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347640" y="4186080"/>
            <a:ext cx="4963320" cy="1937160"/>
            <a:chOff x="3347640" y="4186080"/>
            <a:chExt cx="4963320" cy="1937160"/>
          </a:xfrm>
        </p:grpSpPr>
        <p:grpSp>
          <p:nvGrpSpPr>
            <p:cNvPr id="297" name=""/>
            <p:cNvGrpSpPr/>
            <p:nvPr/>
          </p:nvGrpSpPr>
          <p:grpSpPr>
            <a:xfrm>
              <a:off x="4173120" y="5138280"/>
              <a:ext cx="1092600" cy="432000"/>
              <a:chOff x="4173120" y="5138280"/>
              <a:chExt cx="1092600" cy="432000"/>
            </a:xfrm>
          </p:grpSpPr>
          <p:cxnSp>
            <p:nvCxnSpPr>
              <p:cNvPr id="298" name=""/>
              <p:cNvCxnSpPr>
                <a:stCxn id="264" idx="3"/>
                <a:endCxn id="267" idx="5"/>
              </p:cNvCxnSpPr>
              <p:nvPr/>
            </p:nvCxnSpPr>
            <p:spPr>
              <a:xfrm rot="5400000">
                <a:off x="4718160" y="4593240"/>
                <a:ext cx="2520" cy="1092960"/>
              </a:xfrm>
              <a:prstGeom prst="curvedConnector5">
                <a:avLst>
                  <a:gd name="adj1" fmla="val 20000000"/>
                  <a:gd name="adj2" fmla="val 49983"/>
                  <a:gd name="adj3" fmla="val 200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99" name=""/>
              <p:cNvSpPr/>
              <p:nvPr/>
            </p:nvSpPr>
            <p:spPr>
              <a:xfrm>
                <a:off x="4606560" y="515772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5693760" y="4223520"/>
              <a:ext cx="486360" cy="483120"/>
              <a:chOff x="5693760" y="4223520"/>
              <a:chExt cx="486360" cy="483120"/>
            </a:xfrm>
          </p:grpSpPr>
          <p:cxnSp>
            <p:nvCxnSpPr>
              <p:cNvPr id="301" name=""/>
              <p:cNvCxnSpPr>
                <a:stCxn id="264" idx="7"/>
                <a:endCxn id="255" idx="3"/>
              </p:cNvCxnSpPr>
              <p:nvPr/>
            </p:nvCxnSpPr>
            <p:spPr>
              <a:xfrm flipV="1">
                <a:off x="5697000" y="4223520"/>
                <a:ext cx="483480" cy="483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2" name=""/>
              <p:cNvSpPr/>
              <p:nvPr/>
            </p:nvSpPr>
            <p:spPr>
              <a:xfrm>
                <a:off x="5693760" y="427212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7525080" y="4388760"/>
              <a:ext cx="785880" cy="1067040"/>
              <a:chOff x="7525080" y="4388760"/>
              <a:chExt cx="785880" cy="1067040"/>
            </a:xfrm>
          </p:grpSpPr>
          <p:cxnSp>
            <p:nvCxnSpPr>
              <p:cNvPr id="304" name=""/>
              <p:cNvCxnSpPr>
                <a:stCxn id="258" idx="5"/>
                <a:endCxn id="258" idx="7"/>
              </p:cNvCxnSpPr>
              <p:nvPr/>
            </p:nvCxnSpPr>
            <p:spPr>
              <a:xfrm flipH="1" flipV="1" rot="5400000">
                <a:off x="7310160" y="4921200"/>
                <a:ext cx="432360" cy="2520"/>
              </a:xfrm>
              <a:prstGeom prst="curvedConnector5">
                <a:avLst>
                  <a:gd name="adj1" fmla="val -73500"/>
                  <a:gd name="adj2" fmla="val 18183333"/>
                  <a:gd name="adj3" fmla="val -735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5" name=""/>
              <p:cNvSpPr/>
              <p:nvPr/>
            </p:nvSpPr>
            <p:spPr>
              <a:xfrm>
                <a:off x="7849800" y="471960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696640" y="5137920"/>
              <a:ext cx="483120" cy="483120"/>
              <a:chOff x="5696640" y="5137920"/>
              <a:chExt cx="483120" cy="483120"/>
            </a:xfrm>
          </p:grpSpPr>
          <p:cxnSp>
            <p:nvCxnSpPr>
              <p:cNvPr id="307" name=""/>
              <p:cNvCxnSpPr>
                <a:stCxn id="261" idx="1"/>
                <a:endCxn id="264" idx="5"/>
              </p:cNvCxnSpPr>
              <p:nvPr/>
            </p:nvCxnSpPr>
            <p:spPr>
              <a:xfrm flipH="1" flipV="1">
                <a:off x="5696640" y="5137920"/>
                <a:ext cx="483480" cy="483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8" name=""/>
              <p:cNvSpPr/>
              <p:nvPr/>
            </p:nvSpPr>
            <p:spPr>
              <a:xfrm>
                <a:off x="5725440" y="527544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3347640" y="5788080"/>
              <a:ext cx="2743560" cy="335160"/>
              <a:chOff x="3347640" y="5788080"/>
              <a:chExt cx="2743560" cy="335160"/>
            </a:xfrm>
          </p:grpSpPr>
          <p:cxnSp>
            <p:nvCxnSpPr>
              <p:cNvPr id="310" name=""/>
              <p:cNvCxnSpPr>
                <a:stCxn id="261" idx="2"/>
                <a:endCxn id="273" idx="6"/>
              </p:cNvCxnSpPr>
              <p:nvPr/>
            </p:nvCxnSpPr>
            <p:spPr>
              <a:xfrm flipH="1">
                <a:off x="3347640" y="5837040"/>
                <a:ext cx="2743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11" name=""/>
              <p:cNvSpPr/>
              <p:nvPr/>
            </p:nvSpPr>
            <p:spPr>
              <a:xfrm>
                <a:off x="4627080" y="578808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611040" y="5138280"/>
              <a:ext cx="549000" cy="483120"/>
              <a:chOff x="6611040" y="5138280"/>
              <a:chExt cx="549000" cy="483120"/>
            </a:xfrm>
          </p:grpSpPr>
          <p:cxnSp>
            <p:nvCxnSpPr>
              <p:cNvPr id="313" name=""/>
              <p:cNvCxnSpPr>
                <a:stCxn id="258" idx="3"/>
                <a:endCxn id="261" idx="7"/>
              </p:cNvCxnSpPr>
              <p:nvPr/>
            </p:nvCxnSpPr>
            <p:spPr>
              <a:xfrm flipH="1">
                <a:off x="6611040" y="5138280"/>
                <a:ext cx="483480" cy="483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14" name=""/>
              <p:cNvSpPr/>
              <p:nvPr/>
            </p:nvSpPr>
            <p:spPr>
              <a:xfrm>
                <a:off x="6860520" y="528156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6611400" y="4186080"/>
              <a:ext cx="502560" cy="520560"/>
              <a:chOff x="6611400" y="4186080"/>
              <a:chExt cx="502560" cy="520560"/>
            </a:xfrm>
          </p:grpSpPr>
          <p:cxnSp>
            <p:nvCxnSpPr>
              <p:cNvPr id="316" name=""/>
              <p:cNvCxnSpPr>
                <a:stCxn id="255" idx="5"/>
                <a:endCxn id="258" idx="1"/>
              </p:cNvCxnSpPr>
              <p:nvPr/>
            </p:nvCxnSpPr>
            <p:spPr>
              <a:xfrm>
                <a:off x="6611400" y="4223520"/>
                <a:ext cx="483480" cy="483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17" name=""/>
              <p:cNvSpPr/>
              <p:nvPr/>
            </p:nvSpPr>
            <p:spPr>
              <a:xfrm>
                <a:off x="6814440" y="418608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6359040" y="4312800"/>
              <a:ext cx="299520" cy="1219680"/>
              <a:chOff x="6359040" y="4312800"/>
              <a:chExt cx="299520" cy="1219680"/>
            </a:xfrm>
          </p:grpSpPr>
          <p:cxnSp>
            <p:nvCxnSpPr>
              <p:cNvPr id="319" name=""/>
              <p:cNvCxnSpPr>
                <a:stCxn id="255" idx="4"/>
                <a:endCxn id="261" idx="0"/>
              </p:cNvCxnSpPr>
              <p:nvPr/>
            </p:nvCxnSpPr>
            <p:spPr>
              <a:xfrm>
                <a:off x="6395760" y="4312800"/>
                <a:ext cx="1080" cy="12200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20" name=""/>
              <p:cNvSpPr/>
              <p:nvPr/>
            </p:nvSpPr>
            <p:spPr>
              <a:xfrm>
                <a:off x="6359040" y="474984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1214640" y="4388760"/>
            <a:ext cx="700200" cy="1067040"/>
            <a:chOff x="1214640" y="4388760"/>
            <a:chExt cx="700200" cy="1067040"/>
          </a:xfrm>
        </p:grpSpPr>
        <p:cxnSp>
          <p:nvCxnSpPr>
            <p:cNvPr id="322" name=""/>
            <p:cNvCxnSpPr>
              <a:stCxn id="270" idx="3"/>
              <a:endCxn id="270" idx="1"/>
            </p:cNvCxnSpPr>
            <p:nvPr/>
          </p:nvCxnSpPr>
          <p:spPr>
            <a:xfrm flipH="1" flipV="1" rot="5400000">
              <a:off x="1697760" y="4921560"/>
              <a:ext cx="432360" cy="2160"/>
            </a:xfrm>
            <a:prstGeom prst="curvedConnector5">
              <a:avLst>
                <a:gd name="adj1" fmla="val -73500"/>
                <a:gd name="adj2" fmla="val -19400000"/>
                <a:gd name="adj3" fmla="val -735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3" name=""/>
            <p:cNvSpPr/>
            <p:nvPr/>
          </p:nvSpPr>
          <p:spPr>
            <a:xfrm>
              <a:off x="1275840" y="477216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22600" y="1843200"/>
            <a:ext cx="5461200" cy="1422360"/>
            <a:chOff x="3522600" y="1843200"/>
            <a:chExt cx="5461200" cy="1422360"/>
          </a:xfrm>
        </p:grpSpPr>
        <p:sp>
          <p:nvSpPr>
            <p:cNvPr id="325" name=""/>
            <p:cNvSpPr/>
            <p:nvPr/>
          </p:nvSpPr>
          <p:spPr>
            <a:xfrm>
              <a:off x="4761000" y="2395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4951440" y="278928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014800" y="278928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80080" y="251640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46480" y="251640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68880" y="239580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6259320" y="2789280"/>
              <a:ext cx="511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>
              <a:off x="6310080" y="278928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87960" y="251640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342120" y="251640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64520" y="2395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7554960" y="278928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>
              <a:off x="7618320" y="278928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83600" y="251640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50000" y="251640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633920" y="2656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13360" y="265608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22600" y="2541960"/>
              <a:ext cx="533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81560" y="2656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29200" y="26560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08640" y="26560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56320" y="2643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75400" y="2656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668920" y="2052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68920" y="1843200"/>
              <a:ext cx="723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589800" y="2656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37440" y="2656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716520" y="265608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51600" y="2643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970680" y="26560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964200" y="2052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964200" y="184320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885080" y="2656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012160" y="26560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272440" y="2052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72440" y="184320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021280" y="29419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95720" y="30625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16560" y="29419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03960" y="3062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624800" y="29419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13360" y="307512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027760" y="307512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323040" y="307512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98920" y="292284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7399-98F4-4AA4-ADE3-4D24B0ECCC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1684440" y="3862440"/>
            <a:ext cx="5994360" cy="2305080"/>
            <a:chOff x="1684440" y="3862440"/>
            <a:chExt cx="5994360" cy="2305080"/>
          </a:xfrm>
        </p:grpSpPr>
        <p:sp>
          <p:nvSpPr>
            <p:cNvPr id="371" name=""/>
            <p:cNvSpPr/>
            <p:nvPr/>
          </p:nvSpPr>
          <p:spPr>
            <a:xfrm>
              <a:off x="6275520" y="38624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189920" y="47768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446720" y="38624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446720" y="56912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17920" y="38624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75120" y="408456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flipV="1">
              <a:off x="6656400" y="4230720"/>
              <a:ext cx="59688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071800" y="4242960"/>
              <a:ext cx="58428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427640" y="39067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70840" y="48211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27640" y="57355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256440" y="39067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98840" y="393228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75520" y="56912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703520" y="47768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617920" y="56912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903920" y="5913360"/>
              <a:ext cx="134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84440" y="48211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256440" y="57355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98840" y="576108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03920" y="407196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87720" y="5913360"/>
              <a:ext cx="134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65520" y="4871880"/>
              <a:ext cx="2044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-bit up-cou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2059200" y="5169960"/>
              <a:ext cx="59688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6669360" y="5169960"/>
              <a:ext cx="58392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unters are simple finite state machin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ed through well-defined sequence of states in response to en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types of counters: binary, BCD, Gray-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bit up-counter: 000, 001, 010, 011, 100, 101, 110, 111, 000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bit down-counter:  111, 110, 101, 100, 011, 010, 001, 000, 111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CEEB-BCD7-47CD-BC52-15598D0C7F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ow do we turn a state diagram into logic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flip-flops to hol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to compute nex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signal controls when flip-flop memory can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long enough for combinational logic to compute new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't wait too long as that is low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025880" y="3591000"/>
            <a:ext cx="5203800" cy="2930400"/>
            <a:chOff x="4025880" y="3591000"/>
            <a:chExt cx="5203800" cy="2930400"/>
          </a:xfrm>
        </p:grpSpPr>
        <p:sp>
          <p:nvSpPr>
            <p:cNvPr id="401" name=""/>
            <p:cNvSpPr/>
            <p:nvPr/>
          </p:nvSpPr>
          <p:spPr>
            <a:xfrm>
              <a:off x="5187960" y="407664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5378400" y="4470120"/>
              <a:ext cx="637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5441760" y="447012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07040" y="419724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73800" y="419724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96200" y="407664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686640" y="447012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6737400" y="447012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15280" y="419724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769080" y="419724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91480" y="407664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7981920" y="4470120"/>
              <a:ext cx="637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8045280" y="447012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810560" y="419724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077320" y="419724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60880" y="43369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010120" y="4336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708880" y="43369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381720" y="433692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842080" y="432432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54680" y="37339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02560" y="3591000"/>
              <a:ext cx="7236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16760" y="43369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89960" y="43369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150320" y="432432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162920" y="37339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210440" y="359100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312040" y="43369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458200" y="432432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470800" y="37339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518680" y="359100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448240" y="46227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23040" y="474336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43880" y="46227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30920" y="47433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051760" y="46227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540320" y="475596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454720" y="475596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750000" y="4755960"/>
              <a:ext cx="129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025880" y="4603680"/>
              <a:ext cx="50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43840" y="5373720"/>
              <a:ext cx="2912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30160" y="5373720"/>
              <a:ext cx="29088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631188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643896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43840" y="53100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43840" y="4903920"/>
              <a:ext cx="29124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30160" y="4903920"/>
              <a:ext cx="29088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30160" y="5310000"/>
              <a:ext cx="29088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539120" y="5373720"/>
              <a:ext cx="3042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525440" y="5373720"/>
              <a:ext cx="3038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762012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774720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39120" y="5310000"/>
              <a:ext cx="2790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09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09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39120" y="4903920"/>
              <a:ext cx="30420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525440" y="4903920"/>
              <a:ext cx="3038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525440" y="5310000"/>
              <a:ext cx="3038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7391520" y="5803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7709040" y="57909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7384680" y="61149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405920" y="5672160"/>
              <a:ext cx="3171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9440" y="5665680"/>
              <a:ext cx="3301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91880" y="5672160"/>
              <a:ext cx="3168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385760" y="5665680"/>
              <a:ext cx="3290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872240" y="5373720"/>
              <a:ext cx="2912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58560" y="5373720"/>
              <a:ext cx="29088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494028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506736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872240" y="53100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872240" y="4903920"/>
              <a:ext cx="29124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58560" y="4903920"/>
              <a:ext cx="29088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858560" y="5310000"/>
              <a:ext cx="29088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75600" y="4788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80440" y="61214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3896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162920" y="434340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150320" y="553068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162920" y="554976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445440" y="5543640"/>
              <a:ext cx="71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169040" y="6369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480440" y="62485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683480" y="4788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4720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470800" y="434340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753320" y="5543640"/>
              <a:ext cx="71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62012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543800" y="55497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50280" y="55436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94028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40280" y="554976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24640" y="6000840"/>
              <a:ext cx="469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1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620120" y="61214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1188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6736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61160" y="64962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299280" y="6483240"/>
              <a:ext cx="38160" cy="38160"/>
            </a:xfrm>
            <a:prstGeom prst="rect">
              <a:avLst/>
            </a:prstGeom>
            <a:solidFill>
              <a:srgbClr val="d500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18360" y="649620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620120" y="624852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11880" y="5549760"/>
              <a:ext cx="0" cy="9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854680" y="434340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842080" y="55306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854680" y="5549760"/>
              <a:ext cx="0" cy="9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073840" y="554364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004000" y="4788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75600" y="43434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683480" y="43434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004000" y="43434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9B5C-F137-44DC-92E2-B3D6B76E95A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SM design proced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7000"/>
          </a:bodyPr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cou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because output is jus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because no choice of next state based on inpu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diagram to state transi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ular form of state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a truth-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e on representation of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ounters it is simple: just it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p-flop for each state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al logic based on en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8C74-4841-466A-A669-C3239DB66B6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2:03:47Z</dcterms:created>
  <dc:creator>Gaetano Borriello</dc:creator>
  <dc:description/>
  <dc:language>en-US</dc:language>
  <cp:lastModifiedBy>Gaetano Borriello</cp:lastModifiedBy>
  <cp:lastPrinted>2000-05-11T19:00:15Z</cp:lastPrinted>
  <dcterms:modified xsi:type="dcterms:W3CDTF">2005-01-24T07:01:04Z</dcterms:modified>
  <cp:revision>31</cp:revision>
  <dc:subject/>
  <dc:title>Sequential logic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