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C52-57F7-4F40-AF19-40840F65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E8A2-E8E8-4FDD-B7CE-4A260235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3FC8-7D05-40F3-8439-4C876E12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AEB-570C-4003-99BC-D2C9C565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6F9E-3DC6-41E0-AA84-5681E0E5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3918-A881-4B11-866F-B71C03C2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4A8B-8975-471A-B4D7-706CA743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3769-4170-489E-9CB9-0390162D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3E5A-4AAF-469B-8B6F-04743085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F1D7-A33C-47B4-B67C-349F9DF8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105B-31FB-4ADC-A531-BAA77EB7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DE4-7385-404B-A654-F9EFF5E4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5D38-B390-4F3B-BD8E-F41D7D75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6C59-CB5B-4146-9E09-8B02D167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B6CF-AE15-4ACD-BBE6-FAECEF14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9C18-8989-41A5-8916-639FC731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8F8D-D086-4DE0-8318-245B586F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EDB-356B-4AF3-9DF3-7AEB4448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8ED-4CB2-42DF-AC4E-BB7E63C6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30A-9AF5-44B7-8280-5F8044B5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8F0-12B8-4F77-A0E1-DA5A205E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CD8-F0DF-4BDE-A00A-AE984910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C24-EBCA-40E6-8F1A-E0D89901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0DE-F28B-4E5F-BAFD-348A87AC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6400800"/>
            <a:ext cx="398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3ADD-E8DA-4309-A4B7-3A5274F748E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6F12-44CC-49C9-95E2-D2926DFE97D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study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vious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urse is part of the CS/Comp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implementation basis for all modern computing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large things from smal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model of how a computer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important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herent parallelism in hardware is often our first exposure to parallel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offers an interesting counterpoint to software design and is therefo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in furthering our understanding of computation, 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BB5-E8F8-447A-93FF-B19FACCEDDE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92600" y="2873520"/>
            <a:ext cx="40705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 switch (if A is “1” or 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n light bulb (Z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924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926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5336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92600" y="4554360"/>
            <a:ext cx="407052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switch (if A is “0” or un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ff light bulb 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: basic element of physical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ing a simple circuit (arrow shows action if wire changes to “1”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11400" y="5734080"/>
            <a:ext cx="8773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14316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95480" y="360036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219320" y="36003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21932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31431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23720" y="2592360"/>
            <a:ext cx="762480" cy="550800"/>
            <a:chOff x="3123720" y="2592360"/>
            <a:chExt cx="762480" cy="550800"/>
          </a:xfrm>
        </p:grpSpPr>
        <p:sp>
          <p:nvSpPr>
            <p:cNvPr id="127" name=""/>
            <p:cNvSpPr/>
            <p:nvPr/>
          </p:nvSpPr>
          <p:spPr>
            <a:xfrm>
              <a:off x="3408120" y="27115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76360" y="25923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7360" y="27367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83000" y="272412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33760" y="271152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70320" y="282420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546360" y="281160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429000" y="305748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52840" y="304308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08120" y="269856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128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12372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752480" y="2914200"/>
            <a:ext cx="609840" cy="305280"/>
            <a:chOff x="1752480" y="2914200"/>
            <a:chExt cx="609840" cy="305280"/>
          </a:xfrm>
        </p:grpSpPr>
        <p:sp>
          <p:nvSpPr>
            <p:cNvPr id="140" name=""/>
            <p:cNvSpPr/>
            <p:nvPr/>
          </p:nvSpPr>
          <p:spPr>
            <a:xfrm flipH="1" flipV="1">
              <a:off x="1905120" y="2914200"/>
              <a:ext cx="380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096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24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514600" y="3371760"/>
            <a:ext cx="380880" cy="457200"/>
            <a:chOff x="2514600" y="3371760"/>
            <a:chExt cx="380880" cy="457200"/>
          </a:xfrm>
        </p:grpSpPr>
        <p:sp>
          <p:nvSpPr>
            <p:cNvPr id="144" name=""/>
            <p:cNvSpPr/>
            <p:nvPr/>
          </p:nvSpPr>
          <p:spPr>
            <a:xfrm>
              <a:off x="289548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1460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192400" y="429264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43401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81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895480" y="5276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19320" y="5276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1932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81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23720" y="4268880"/>
            <a:ext cx="762480" cy="550800"/>
            <a:chOff x="3123720" y="4268880"/>
            <a:chExt cx="762480" cy="550800"/>
          </a:xfrm>
        </p:grpSpPr>
        <p:sp>
          <p:nvSpPr>
            <p:cNvPr id="159" name=""/>
            <p:cNvSpPr/>
            <p:nvPr/>
          </p:nvSpPr>
          <p:spPr>
            <a:xfrm>
              <a:off x="3408120" y="43880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4268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7360" y="44132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3000" y="440064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33760" y="438804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70320" y="450072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546360" y="448812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429000" y="473400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52840" y="471960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08120" y="437508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8128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12372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752480" y="4743360"/>
            <a:ext cx="609840" cy="152280"/>
            <a:chOff x="1752480" y="4743360"/>
            <a:chExt cx="609840" cy="152280"/>
          </a:xfrm>
        </p:grpSpPr>
        <p:sp>
          <p:nvSpPr>
            <p:cNvPr id="172" name=""/>
            <p:cNvSpPr/>
            <p:nvPr/>
          </p:nvSpPr>
          <p:spPr>
            <a:xfrm flipH="1">
              <a:off x="1828800" y="4819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96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524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14600" y="5048280"/>
            <a:ext cx="380880" cy="457200"/>
            <a:chOff x="2514600" y="5048280"/>
            <a:chExt cx="380880" cy="457200"/>
          </a:xfrm>
        </p:grpSpPr>
        <p:sp>
          <p:nvSpPr>
            <p:cNvPr id="176" name=""/>
            <p:cNvSpPr/>
            <p:nvPr/>
          </p:nvSpPr>
          <p:spPr>
            <a:xfrm>
              <a:off x="289548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1952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320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9092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809880" y="4133880"/>
            <a:ext cx="55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3F81-736E-4B89-AD62-AB0C63AE47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0" y="2521080"/>
            <a:ext cx="90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36760" y="4376880"/>
            <a:ext cx="750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005280" y="2816280"/>
            <a:ext cx="2017080" cy="218880"/>
            <a:chOff x="3005280" y="2816280"/>
            <a:chExt cx="2017080" cy="218880"/>
          </a:xfrm>
        </p:grpSpPr>
        <p:sp>
          <p:nvSpPr>
            <p:cNvPr id="186" name=""/>
            <p:cNvSpPr/>
            <p:nvPr/>
          </p:nvSpPr>
          <p:spPr>
            <a:xfrm>
              <a:off x="30052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56360" y="2816280"/>
              <a:ext cx="32544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9440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45480" y="2816280"/>
              <a:ext cx="32580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838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130560" y="48783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89280" y="46594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95760" y="5105520"/>
            <a:ext cx="21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19680" y="5110200"/>
            <a:ext cx="32544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57720" y="510552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478400" y="4646520"/>
            <a:ext cx="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244760" y="4653000"/>
            <a:ext cx="23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906360" y="4421160"/>
            <a:ext cx="3510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82800" y="4653000"/>
            <a:ext cx="23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84520" y="4878360"/>
            <a:ext cx="4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0036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8948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64040" y="417024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64040" y="529920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06680" y="2990880"/>
            <a:ext cx="1126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068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4000" y="2990880"/>
            <a:ext cx="1144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70360" y="4610160"/>
            <a:ext cx="1126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70360" y="5060880"/>
            <a:ext cx="1126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4000" y="5048280"/>
            <a:ext cx="1144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4000" y="4610160"/>
            <a:ext cx="1144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80080" y="2647800"/>
            <a:ext cx="15778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03840" y="4552920"/>
            <a:ext cx="14540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8520" y="2359080"/>
            <a:ext cx="5493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2333520"/>
            <a:ext cx="550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925800"/>
            <a:ext cx="549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87920" y="549288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e switches into more complex ones (Boolean function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AA1-A753-4527-A5D5-C759BBF491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ing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whether or not a conducting path exists to ligh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ght bu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uild larger compu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light bulb (output of the network) to set other switches (inputs to another networ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together switching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struct larger  switching networks, i.e., there is a way to connect outputs of one network to the inputs of th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D021-086A-40C1-AB96-D88AB1874F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362320" y="3139920"/>
            <a:ext cx="14666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duc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th compo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witch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238720" y="3228840"/>
            <a:ext cx="163080" cy="763200"/>
            <a:chOff x="5238720" y="3228840"/>
            <a:chExt cx="163080" cy="763200"/>
          </a:xfrm>
        </p:grpSpPr>
        <p:sp>
          <p:nvSpPr>
            <p:cNvPr id="225" name=""/>
            <p:cNvSpPr/>
            <p:nvPr/>
          </p:nvSpPr>
          <p:spPr>
            <a:xfrm>
              <a:off x="5238720" y="32288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88760" y="340380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38720" y="33411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88760" y="327852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38720" y="34664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88760" y="36417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38720" y="357912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88760" y="351648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38720" y="37040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88760" y="38793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38720" y="381708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88760" y="37544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246480" y="4307040"/>
            <a:ext cx="33955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flowing through coi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gnetizes core and causes norm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d (nc) contact to be pulled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30680" y="5092560"/>
            <a:ext cx="42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no current flows, the spring of the cont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it to its normal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lay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151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way to convert between conducting paths and switch settings is to use (electro-mechanical) rel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a relay?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etermines the switching speed of a relay net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72000" y="2838600"/>
            <a:ext cx="380880" cy="457200"/>
            <a:chOff x="4572000" y="2838600"/>
            <a:chExt cx="380880" cy="457200"/>
          </a:xfrm>
        </p:grpSpPr>
        <p:sp>
          <p:nvSpPr>
            <p:cNvPr id="242" name=""/>
            <p:cNvSpPr/>
            <p:nvPr/>
          </p:nvSpPr>
          <p:spPr>
            <a:xfrm>
              <a:off x="495288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692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060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2428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4832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52880" y="3067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038480" y="30672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3868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305424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398160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038480" y="4057560"/>
            <a:ext cx="130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81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990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26859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914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2610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838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6400" y="26859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089680" y="2330280"/>
            <a:ext cx="1484280" cy="1587240"/>
            <a:chOff x="5089680" y="2330280"/>
            <a:chExt cx="1484280" cy="1587240"/>
          </a:xfrm>
        </p:grpSpPr>
        <p:grpSp>
          <p:nvGrpSpPr>
            <p:cNvPr id="264" name=""/>
            <p:cNvGrpSpPr/>
            <p:nvPr/>
          </p:nvGrpSpPr>
          <p:grpSpPr>
            <a:xfrm>
              <a:off x="5245200" y="2330280"/>
              <a:ext cx="1328760" cy="914400"/>
              <a:chOff x="5245200" y="2330280"/>
              <a:chExt cx="1328760" cy="914400"/>
            </a:xfrm>
          </p:grpSpPr>
          <p:sp>
            <p:nvSpPr>
              <p:cNvPr id="265" name=""/>
              <p:cNvSpPr/>
              <p:nvPr/>
            </p:nvSpPr>
            <p:spPr>
              <a:xfrm>
                <a:off x="5245200" y="2330280"/>
                <a:ext cx="1328760" cy="91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84960" y="270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18120" y="26236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018120" y="2852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5468040" y="2802960"/>
                <a:ext cx="643320" cy="254880"/>
                <a:chOff x="5468040" y="2802960"/>
                <a:chExt cx="643320" cy="254880"/>
              </a:xfrm>
            </p:grpSpPr>
            <p:sp>
              <p:nvSpPr>
                <p:cNvPr id="270" name=""/>
                <p:cNvSpPr/>
                <p:nvPr/>
              </p:nvSpPr>
              <p:spPr>
                <a:xfrm flipV="1">
                  <a:off x="5514480" y="2934360"/>
                  <a:ext cx="59688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20899200">
                  <a:off x="5489280" y="2815920"/>
                  <a:ext cx="15228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2" name=""/>
            <p:cNvSpPr/>
            <p:nvPr/>
          </p:nvSpPr>
          <p:spPr>
            <a:xfrm>
              <a:off x="5089680" y="3296880"/>
              <a:ext cx="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1CD-D1E1-44E2-9CA2-4D95CF48FA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nsistor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ys aren't used much any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raffic light controllers are still electro-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digital systems are designed in CMOS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 stands for Metal-Oxide on Semi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is for complementary because there are both normally-open and normally-closed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act as voltage-controlled 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, though easier to work with than rel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2F8-2327-48C6-A7F3-E1F723AD35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6364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gt; voltage (S)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0852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d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lt; voltage (S)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transis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have three terminals: drain, gate, and 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t as switches in the following wa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voltage on the gate terminal is (some amount) higher/lower than the source terminal then a conducting path will be established between the drain and source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27640" y="350532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221000"/>
            <a:ext cx="325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70920" y="4221000"/>
            <a:ext cx="280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65480" y="347508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191120"/>
            <a:ext cx="32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08400" y="4191120"/>
            <a:ext cx="280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913040" y="3809520"/>
            <a:ext cx="1371600" cy="533880"/>
            <a:chOff x="1913040" y="3809520"/>
            <a:chExt cx="1371600" cy="533880"/>
          </a:xfrm>
        </p:grpSpPr>
        <p:sp>
          <p:nvSpPr>
            <p:cNvPr id="286" name=""/>
            <p:cNvSpPr/>
            <p:nvPr/>
          </p:nvSpPr>
          <p:spPr>
            <a:xfrm flipV="1">
              <a:off x="2370240" y="4114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7024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27440" y="4114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274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70240" y="4038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598840" y="3809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9130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875200" y="3839760"/>
            <a:ext cx="1371600" cy="533880"/>
            <a:chOff x="5875200" y="3839760"/>
            <a:chExt cx="1371600" cy="533880"/>
          </a:xfrm>
        </p:grpSpPr>
        <p:sp>
          <p:nvSpPr>
            <p:cNvPr id="294" name=""/>
            <p:cNvSpPr/>
            <p:nvPr/>
          </p:nvSpPr>
          <p:spPr>
            <a:xfrm flipV="1">
              <a:off x="6332400" y="4144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32400" y="41450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9600" y="41450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96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32400" y="4068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561000" y="3839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8752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00880" y="39434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C2CD-6715-40CC-BCE2-704189CDC54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124080" y="32004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11120" y="3048120"/>
            <a:ext cx="365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808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05080" y="213372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365760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38280" y="251424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11840" y="3745080"/>
            <a:ext cx="888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61080" y="3570120"/>
            <a:ext cx="19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64400" y="3156120"/>
            <a:ext cx="0" cy="159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51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78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24440" y="422100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38120" y="4255920"/>
            <a:ext cx="338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6280" y="2065320"/>
            <a:ext cx="21052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 and 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752480" y="3885840"/>
            <a:ext cx="1371600" cy="533880"/>
            <a:chOff x="1752480" y="3885840"/>
            <a:chExt cx="1371600" cy="533880"/>
          </a:xfrm>
        </p:grpSpPr>
        <p:sp>
          <p:nvSpPr>
            <p:cNvPr id="318" name=""/>
            <p:cNvSpPr/>
            <p:nvPr/>
          </p:nvSpPr>
          <p:spPr>
            <a:xfrm flipV="1">
              <a:off x="2209680" y="4190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66880" y="41911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668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0968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438280" y="38858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7524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52480" y="2666520"/>
            <a:ext cx="1371600" cy="533880"/>
            <a:chOff x="1752480" y="2666520"/>
            <a:chExt cx="1371600" cy="533880"/>
          </a:xfrm>
        </p:grpSpPr>
        <p:sp>
          <p:nvSpPr>
            <p:cNvPr id="326" name=""/>
            <p:cNvSpPr/>
            <p:nvPr/>
          </p:nvSpPr>
          <p:spPr>
            <a:xfrm flipV="1">
              <a:off x="2209680" y="297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09680" y="2971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66880" y="2971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668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09680" y="2895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438280" y="2666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7524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78160" y="27702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048120" y="37339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48360" y="422604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73536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0080" y="3657600"/>
            <a:ext cx="89676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C49-1DE7-4798-A6E8-69A6DD4A55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834080" y="3686040"/>
            <a:ext cx="3848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37400" y="3335400"/>
            <a:ext cx="0" cy="220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324648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48440" y="324648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01000" y="325908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029200" y="3852720"/>
            <a:ext cx="1773360" cy="1730160"/>
            <a:chOff x="5029200" y="3852720"/>
            <a:chExt cx="1773360" cy="1730160"/>
          </a:xfrm>
        </p:grpSpPr>
        <p:sp>
          <p:nvSpPr>
            <p:cNvPr id="344" name=""/>
            <p:cNvSpPr/>
            <p:nvPr/>
          </p:nvSpPr>
          <p:spPr>
            <a:xfrm>
              <a:off x="5900760" y="3852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13360" y="429084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13360" y="4730400"/>
              <a:ext cx="8892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13360" y="5168880"/>
              <a:ext cx="889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29200" y="38653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42955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29200" y="4725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1800" y="515772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5121360" y="2081160"/>
            <a:ext cx="2305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, y and z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 input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"/>
          <p:cNvSpPr/>
          <p:nvPr/>
        </p:nvSpPr>
        <p:spPr>
          <a:xfrm>
            <a:off x="3659040" y="21240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0800" y="1940040"/>
            <a:ext cx="365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9040" y="2962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44760" y="120960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38600" y="120960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67796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330984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992160" y="2962440"/>
            <a:ext cx="1371600" cy="533160"/>
            <a:chOff x="992160" y="2962440"/>
            <a:chExt cx="1371600" cy="533160"/>
          </a:xfrm>
        </p:grpSpPr>
        <p:sp>
          <p:nvSpPr>
            <p:cNvPr id="362" name=""/>
            <p:cNvSpPr/>
            <p:nvPr/>
          </p:nvSpPr>
          <p:spPr>
            <a:xfrm flipV="1">
              <a:off x="14493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936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65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065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936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67796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9921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92160" y="1590840"/>
            <a:ext cx="1371600" cy="533160"/>
            <a:chOff x="992160" y="1590840"/>
            <a:chExt cx="1371600" cy="533160"/>
          </a:xfrm>
        </p:grpSpPr>
        <p:sp>
          <p:nvSpPr>
            <p:cNvPr id="370" name=""/>
            <p:cNvSpPr/>
            <p:nvPr/>
          </p:nvSpPr>
          <p:spPr>
            <a:xfrm flipV="1">
              <a:off x="14493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49360" y="1895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065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065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49360" y="1819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677960" y="1590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9921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7840" y="1693800"/>
              <a:ext cx="114120" cy="113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287440" y="2962440"/>
            <a:ext cx="1371600" cy="533160"/>
            <a:chOff x="2287440" y="2962440"/>
            <a:chExt cx="1371600" cy="533160"/>
          </a:xfrm>
        </p:grpSpPr>
        <p:sp>
          <p:nvSpPr>
            <p:cNvPr id="379" name=""/>
            <p:cNvSpPr/>
            <p:nvPr/>
          </p:nvSpPr>
          <p:spPr>
            <a:xfrm flipV="1">
              <a:off x="27446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4464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18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018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4464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97324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2874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H="1">
            <a:off x="1144080" y="27338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287440" y="2124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97324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4440" y="2124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92560" y="2809800"/>
            <a:ext cx="363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287440" y="2199960"/>
            <a:ext cx="1371600" cy="533880"/>
            <a:chOff x="2287440" y="2199960"/>
            <a:chExt cx="1371600" cy="533880"/>
          </a:xfrm>
        </p:grpSpPr>
        <p:sp>
          <p:nvSpPr>
            <p:cNvPr id="392" name=""/>
            <p:cNvSpPr/>
            <p:nvPr/>
          </p:nvSpPr>
          <p:spPr>
            <a:xfrm flipV="1">
              <a:off x="2744640" y="2504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44640" y="2505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01840" y="2505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018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44640" y="2428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2973240" y="2199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2874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13120" y="23036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068480" y="2048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3080" y="2657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3080" y="28861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59040" y="479124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0800" y="4606920"/>
            <a:ext cx="365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9040" y="532440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44760" y="3876840"/>
            <a:ext cx="36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38600" y="3876840"/>
            <a:ext cx="363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677960" y="425736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597708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92160" y="5628960"/>
            <a:ext cx="1371600" cy="533880"/>
            <a:chOff x="992160" y="5628960"/>
            <a:chExt cx="1371600" cy="533880"/>
          </a:xfrm>
        </p:grpSpPr>
        <p:sp>
          <p:nvSpPr>
            <p:cNvPr id="411" name=""/>
            <p:cNvSpPr/>
            <p:nvPr/>
          </p:nvSpPr>
          <p:spPr>
            <a:xfrm flipV="1">
              <a:off x="1449360" y="5933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49360" y="5934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06560" y="5934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065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49360" y="5857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677960" y="5628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9921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992160" y="4257360"/>
            <a:ext cx="1371600" cy="533880"/>
            <a:chOff x="992160" y="4257360"/>
            <a:chExt cx="1371600" cy="533880"/>
          </a:xfrm>
        </p:grpSpPr>
        <p:sp>
          <p:nvSpPr>
            <p:cNvPr id="419" name=""/>
            <p:cNvSpPr/>
            <p:nvPr/>
          </p:nvSpPr>
          <p:spPr>
            <a:xfrm flipV="1">
              <a:off x="144936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4936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656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65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4936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67796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9921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1784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287440" y="5019840"/>
            <a:ext cx="1371600" cy="533160"/>
            <a:chOff x="2287440" y="5019840"/>
            <a:chExt cx="1371600" cy="533160"/>
          </a:xfrm>
        </p:grpSpPr>
        <p:sp>
          <p:nvSpPr>
            <p:cNvPr id="428" name=""/>
            <p:cNvSpPr/>
            <p:nvPr/>
          </p:nvSpPr>
          <p:spPr>
            <a:xfrm flipV="1">
              <a:off x="27446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44640" y="5324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018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018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44640" y="5248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973240" y="5019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2874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1144080" y="5553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87440" y="61628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973240" y="42577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44440" y="5553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2560" y="5172120"/>
            <a:ext cx="363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287440" y="4257360"/>
            <a:ext cx="1371600" cy="533880"/>
            <a:chOff x="2287440" y="4257360"/>
            <a:chExt cx="1371600" cy="533880"/>
          </a:xfrm>
        </p:grpSpPr>
        <p:sp>
          <p:nvSpPr>
            <p:cNvPr id="441" name=""/>
            <p:cNvSpPr/>
            <p:nvPr/>
          </p:nvSpPr>
          <p:spPr>
            <a:xfrm flipV="1">
              <a:off x="274464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4464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184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18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4464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97324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2874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1312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068480" y="6086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3080" y="5477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83080" y="52484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75640" y="38257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89680" y="42670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85000" y="47102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80320" y="51530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805880" y="38401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819920" y="42814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15240" y="47242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810560" y="51674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75640" y="55674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05880" y="55818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78800" y="3781440"/>
            <a:ext cx="1846080" cy="22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0D1-664C-484B-BD23-66E6E50CD05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ed of 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nfluences the speed of CMOS network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ing and discharging of voltages on wires and gates of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acitors hold cha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 is at gates of transistors and wir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istors slow movement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mostly due to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577-E9BA-46D1-B005-F616CA2709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071800" y="2071800"/>
            <a:ext cx="4214880" cy="15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150800" y="3657600"/>
            <a:ext cx="2148120" cy="10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30960" y="3425760"/>
            <a:ext cx="22543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pe of CSE 3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presentation of digital desig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Physical devices (transistors,  rel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er-transfer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Concurrent abstract specif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FF0-B1A5-480C-BDBC-0D8ECB9687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will we learn in this class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nguage of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algebra, logic minimization, state, timing,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cept of state in digit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ous to variables and program counters in softwar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pecify/simulate/compile/realize our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to simulate the working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compilers to synthesize the hardware block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onto programmabl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ast with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and parallel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algorithm as well as computing/storage resources it wil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FDF-CBD8-419D-8033-D315315C4E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vs. ana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ient to think of digital systems as having on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, digital, input/output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real electronic components exhibi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, analog,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we make the digital abstraction anyw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operate this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think about a small number of discret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es it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propagate small errors in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resets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136-6970-4C9E-8086-9702B2897E3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27040" y="1752480"/>
            <a:ext cx="811548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State 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Sta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y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Clos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OS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1.0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3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istor transistor logic (TTL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0.8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5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ber Opt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f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ynamic RA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harged capaci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ged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nvolatile memory (erasable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pped electr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trapped elec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RO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blow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i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memo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magnetic bubb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pre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gnetic dis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flux revers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ux re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ct dis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p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5360" y="2128680"/>
            <a:ext cx="805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from physical world to binary worl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7FF-340F-47BC-8027-5E1DB96F60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651120" y="2655720"/>
            <a:ext cx="1301760" cy="95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2874960" y="2774880"/>
            <a:ext cx="776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874600" y="310212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887560" y="351648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74840" y="317016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74840" y="340848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74840" y="3295800"/>
            <a:ext cx="5112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941720" y="277488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41720" y="3102120"/>
            <a:ext cx="765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52520" y="3516480"/>
            <a:ext cx="754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43400" y="317016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43400" y="340848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43400" y="3295800"/>
            <a:ext cx="4788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916280" y="2951280"/>
            <a:ext cx="8143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37120" y="2951280"/>
            <a:ext cx="101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94120" y="2963880"/>
            <a:ext cx="101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vs. sequential digit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model of a digital system is a unit with inputs and outp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means "memory-less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gital circuit is combinational if its output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epend on it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1DB-A29B-4753-B21C-ABED1D6AE1E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803240" y="4511520"/>
            <a:ext cx="690840" cy="3016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803240" y="5829480"/>
            <a:ext cx="690840" cy="2761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3156120" y="4511520"/>
            <a:ext cx="750600" cy="3016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3156120" y="5829480"/>
            <a:ext cx="750600" cy="276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1803240" y="3260880"/>
            <a:ext cx="438480" cy="2491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6"/>
          <a:stretch/>
        </p:blipFill>
        <p:spPr>
          <a:xfrm>
            <a:off x="3156120" y="3260880"/>
            <a:ext cx="501480" cy="2491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935520" y="3502080"/>
            <a:ext cx="2241360" cy="1454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46400" y="4743360"/>
            <a:ext cx="2130480" cy="21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4203720" y="4956120"/>
            <a:ext cx="1973160" cy="7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59680" y="4397400"/>
            <a:ext cx="2603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y to imple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CMOS transis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switches we ha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ailable and use m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ymbo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combinational logic systems have standard symbols called logic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, NO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, NAN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86360" y="3219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86800" y="43941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85360" y="460692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47000" y="4487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08840" y="579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75640" y="32180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83560" y="57056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82120" y="591804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B31-86DF-4172-AE99-E080CF9563A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55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ibit behaviors (output values) that depend not on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current input values, but also on previou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all real circuits are sequ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 outputs do not change instantaneously after an inp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not, and why is it then sequent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undamental abstraction of digital design is to reason (mostly) about steady-state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the outputs only after sufficient time has elapsed for the system to make its required changes and settle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462-AEA8-4976-B36C-82BFD28B507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sequential digital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04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of a combinational circuit depend only on current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ufficient time has elap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circuits hav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after waiting for the transient activity to f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eady-state abstraction is so useful that most designers use a form of  it when constructing sequential circu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mory of a system is represented as its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system state are only allowed to occur at specific times controlled by an external periodic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ck period is the time that elapses between state changes it must be sufficiently long so that the system reaches a steady-state before the next state change at the end of th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C300-19F5-41C5-8D39-EDA4F86F1FA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207120" y="2797200"/>
            <a:ext cx="9018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54600" y="301608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54600" y="346716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108920" y="324180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86400" y="337356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86400" y="290844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642080" y="3124080"/>
            <a:ext cx="55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651720" y="368604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65840" y="3983040"/>
            <a:ext cx="665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04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of combinational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will stay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may b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6D8-77FB-4B02-8300-D30909603CD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we've seen alre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interpretation of analog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as log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 clock to realize a synchronous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thers we will s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s and Boolean algebra to represent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ignals with more than two logical values in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 to represent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to represent digit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 to represent tempor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36EE-1F4F-4DC3-A47E-589D52FF489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endar subsystem: number of days in a month (to control watch displ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061-6D73-4479-9AA9-B64ED9BD237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2: if (leap_year_flag == 1) then return (29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else return (2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3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153-619C-42D3-9EE3-FEA88F6531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ications of logic desig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tional computer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s, busses, periph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ing and commun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s, modems,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bedded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rs, toys, appliances, entertainmen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equi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, sensing,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orld of computing is much much bigger than just P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A59-AC8C-4BEE-AFC1-492E9A7C0F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862360" y="4711680"/>
            <a:ext cx="14634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8124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95720" y="428004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3232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0660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768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9552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800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5116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83040" y="3965400"/>
            <a:ext cx="8510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94040" y="3952800"/>
            <a:ext cx="10508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76600" y="5997600"/>
            <a:ext cx="674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60720" y="5997600"/>
            <a:ext cx="67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40160" y="5997600"/>
            <a:ext cx="677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13120" y="5997600"/>
            <a:ext cx="676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258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48160" y="2104920"/>
            <a:ext cx="326232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432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9144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126040" y="2581200"/>
            <a:ext cx="359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27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75560" y="2362320"/>
            <a:ext cx="6120" cy="380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for each input/outp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wires for 28, 29, 30, and 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641-3102-4381-B11E-DF360514A9D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056120" y="3738600"/>
            <a:ext cx="181080" cy="993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2838600" y="3716280"/>
            <a:ext cx="560160" cy="113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160960" y="2525760"/>
            <a:ext cx="1274760" cy="95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90760" y="4884840"/>
            <a:ext cx="8254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97280" y="4782960"/>
            <a:ext cx="8762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472080" y="2057400"/>
            <a:ext cx="7747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-table to logic to switches to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1 when month=0010 and leap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m8'•m4'•m2•m1'•leap'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1 when month=0001 or month=0011 or ... month=1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(m8'•m4'•m2'•m1) + (m8'•m4'•m2•m1) + ... (m8•m4•m2'•m1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can we simplify m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800600" y="3753000"/>
            <a:ext cx="4017960" cy="2728800"/>
            <a:chOff x="4800600" y="3753000"/>
            <a:chExt cx="4017960" cy="2728800"/>
          </a:xfrm>
        </p:grpSpPr>
        <p:sp>
          <p:nvSpPr>
            <p:cNvPr id="564" name=""/>
            <p:cNvSpPr/>
            <p:nvPr/>
          </p:nvSpPr>
          <p:spPr>
            <a:xfrm>
              <a:off x="5022720" y="3753000"/>
              <a:ext cx="3795840" cy="27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60020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00600" y="4229280"/>
              <a:ext cx="359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50120" y="4010040"/>
              <a:ext cx="0" cy="24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D04-5467-48DE-B45F-DCE1AAD931D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= (m8'•m4•m1') + (m8•m4'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rcRect l="19584" t="70710" r="0" b="1012"/>
          <a:stretch/>
        </p:blipFill>
        <p:spPr>
          <a:xfrm>
            <a:off x="1430280" y="4927680"/>
            <a:ext cx="5996160" cy="15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E11-323F-45FA-BA97-4D2C780F351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can we simplify d3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f we started the months with 0 instead of 1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.e., January is 0000 and December is 1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73160" y="223200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7 or less and odd (1, 3, 5, 7), 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8 or more and even (8, 10, 12, and includes 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60560" y="299736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 is 0 and m1 is 1, or m8 is 1 and m1 is 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 + m8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68480" y="4772160"/>
            <a:ext cx="72342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e complex expression (0, 2, 4, 6, 7, 9, 1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4’m2’m1’ + m8’m4’m2m1’ + m8’m4m2’m1’ + m8’m4m2m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m8’m4m2m1 + m8m4’m2’m1 + m8m4’m2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72360" y="5742000"/>
            <a:ext cx="61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’ + m8’m4m2 + m8m1  (includes 13 and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68120" y="60721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(d28 + d29 + d30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84360" y="2165400"/>
            <a:ext cx="8113680" cy="4257360"/>
            <a:chOff x="684360" y="2165400"/>
            <a:chExt cx="8113680" cy="4257360"/>
          </a:xfrm>
        </p:grpSpPr>
        <p:sp>
          <p:nvSpPr>
            <p:cNvPr id="578" name=""/>
            <p:cNvSpPr/>
            <p:nvPr/>
          </p:nvSpPr>
          <p:spPr>
            <a:xfrm>
              <a:off x="685800" y="2165400"/>
              <a:ext cx="811224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4360" y="4792680"/>
              <a:ext cx="811188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1B3-E1BF-4047-896D-00647554764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4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8800" y="4651200"/>
            <a:ext cx="5289120" cy="1622160"/>
            <a:chOff x="1828800" y="4651200"/>
            <a:chExt cx="5289120" cy="1622160"/>
          </a:xfrm>
        </p:grpSpPr>
        <p:grpSp>
          <p:nvGrpSpPr>
            <p:cNvPr id="583" name=""/>
            <p:cNvGrpSpPr/>
            <p:nvPr/>
          </p:nvGrpSpPr>
          <p:grpSpPr>
            <a:xfrm>
              <a:off x="1828800" y="4651200"/>
              <a:ext cx="1491120" cy="1622160"/>
              <a:chOff x="1828800" y="4651200"/>
              <a:chExt cx="1491120" cy="162216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"/>
              <a:srcRect l="35650" t="78708" r="46228" b="1568"/>
              <a:stretch/>
            </p:blipFill>
            <p:spPr>
              <a:xfrm>
                <a:off x="1828800" y="4651200"/>
                <a:ext cx="1491120" cy="162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>
                <a:off x="1869120" y="6048720"/>
                <a:ext cx="589680" cy="17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86" name="" descr=""/>
            <p:cNvPicPr/>
            <p:nvPr/>
          </p:nvPicPr>
          <p:blipFill>
            <a:blip r:embed="rId2"/>
            <a:srcRect l="68283" t="51621" r="0" b="3414"/>
            <a:stretch/>
          </p:blipFill>
          <p:spPr>
            <a:xfrm>
              <a:off x="4557960" y="4701960"/>
              <a:ext cx="2559960" cy="14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DBA-743F-4591-957C-39F09055C8E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: must remember combin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lways have it available as an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193-C980-4DD1-AD73-3DA4B62BCC0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DC1-F139-4DD8-BA39-26957D78AAB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051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 sequenti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represent the state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re tells us when it’s 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ok at inpu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they have settled after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sequence of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e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remember if an error occu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ate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457960" y="3557520"/>
            <a:ext cx="3669840" cy="2442960"/>
            <a:chOff x="5457960" y="3557520"/>
            <a:chExt cx="3669840" cy="2442960"/>
          </a:xfrm>
        </p:grpSpPr>
        <p:sp>
          <p:nvSpPr>
            <p:cNvPr id="594" name=""/>
            <p:cNvSpPr/>
            <p:nvPr/>
          </p:nvSpPr>
          <p:spPr>
            <a:xfrm>
              <a:off x="6818040" y="4314600"/>
              <a:ext cx="180324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7532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98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264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9924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04996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77120" y="3568680"/>
              <a:ext cx="8506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13600" y="3557520"/>
              <a:ext cx="1213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7200" y="5600520"/>
              <a:ext cx="1652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43600" y="5202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3728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86560" y="3568680"/>
              <a:ext cx="839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6354720" y="4986360"/>
              <a:ext cx="46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57960" y="4809960"/>
              <a:ext cx="8395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29200" y="489744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828840" y="497340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7524720" y="4629240"/>
            <a:ext cx="7621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682-DB29-4E3E-855B-8A64981574D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5052960" y="4204800"/>
            <a:ext cx="2468520" cy="1365480"/>
            <a:chOff x="5052960" y="4204800"/>
            <a:chExt cx="2468520" cy="1365480"/>
          </a:xfrm>
        </p:grpSpPr>
        <p:sp>
          <p:nvSpPr>
            <p:cNvPr id="612" name=""/>
            <p:cNvSpPr/>
            <p:nvPr/>
          </p:nvSpPr>
          <p:spPr>
            <a:xfrm>
              <a:off x="5560920" y="4711680"/>
              <a:ext cx="15033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052960" y="4204800"/>
              <a:ext cx="246852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632640" y="4204800"/>
            <a:ext cx="1671120" cy="1365480"/>
            <a:chOff x="6632640" y="4204800"/>
            <a:chExt cx="1671120" cy="1365480"/>
          </a:xfrm>
        </p:grpSpPr>
        <p:sp>
          <p:nvSpPr>
            <p:cNvPr id="615" name=""/>
            <p:cNvSpPr/>
            <p:nvPr/>
          </p:nvSpPr>
          <p:spPr>
            <a:xfrm>
              <a:off x="6802200" y="471168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632640" y="4204800"/>
              <a:ext cx="88884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677960" y="5415120"/>
            <a:ext cx="1108080" cy="338040"/>
            <a:chOff x="1677960" y="5415120"/>
            <a:chExt cx="1108080" cy="338040"/>
          </a:xfrm>
        </p:grpSpPr>
        <p:sp>
          <p:nvSpPr>
            <p:cNvPr id="618" name=""/>
            <p:cNvSpPr/>
            <p:nvPr/>
          </p:nvSpPr>
          <p:spPr>
            <a:xfrm>
              <a:off x="2347920" y="556416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77960" y="5415120"/>
              <a:ext cx="714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7745400" y="5910120"/>
            <a:ext cx="239760" cy="331920"/>
            <a:chOff x="7745400" y="5910120"/>
            <a:chExt cx="239760" cy="331920"/>
          </a:xfrm>
        </p:grpSpPr>
        <p:sp>
          <p:nvSpPr>
            <p:cNvPr id="621" name=""/>
            <p:cNvSpPr/>
            <p:nvPr/>
          </p:nvSpPr>
          <p:spPr>
            <a:xfrm>
              <a:off x="77518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790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74540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5948280" y="5910120"/>
            <a:ext cx="803160" cy="633600"/>
            <a:chOff x="5948280" y="5910120"/>
            <a:chExt cx="803160" cy="633600"/>
          </a:xfrm>
        </p:grpSpPr>
        <p:sp>
          <p:nvSpPr>
            <p:cNvPr id="625" name=""/>
            <p:cNvSpPr/>
            <p:nvPr/>
          </p:nvSpPr>
          <p:spPr>
            <a:xfrm>
              <a:off x="61750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9900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16860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828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371840" y="5910120"/>
            <a:ext cx="799920" cy="633600"/>
            <a:chOff x="4371840" y="5910120"/>
            <a:chExt cx="799920" cy="633600"/>
          </a:xfrm>
        </p:grpSpPr>
        <p:sp>
          <p:nvSpPr>
            <p:cNvPr id="630" name=""/>
            <p:cNvSpPr/>
            <p:nvPr/>
          </p:nvSpPr>
          <p:spPr>
            <a:xfrm>
              <a:off x="45957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225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58928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71840" y="6203880"/>
              <a:ext cx="799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792520" y="5910120"/>
            <a:ext cx="803160" cy="633600"/>
            <a:chOff x="2792520" y="5910120"/>
            <a:chExt cx="803160" cy="633600"/>
          </a:xfrm>
        </p:grpSpPr>
        <p:sp>
          <p:nvSpPr>
            <p:cNvPr id="635" name=""/>
            <p:cNvSpPr/>
            <p:nvPr/>
          </p:nvSpPr>
          <p:spPr>
            <a:xfrm>
              <a:off x="30196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432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01284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9252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798640" y="5102280"/>
            <a:ext cx="995400" cy="807840"/>
            <a:chOff x="2798640" y="5102280"/>
            <a:chExt cx="995400" cy="807840"/>
          </a:xfrm>
        </p:grpSpPr>
        <p:sp>
          <p:nvSpPr>
            <p:cNvPr id="640" name=""/>
            <p:cNvSpPr/>
            <p:nvPr/>
          </p:nvSpPr>
          <p:spPr>
            <a:xfrm>
              <a:off x="286668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798640" y="5232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44600" y="51022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192480" y="5102280"/>
            <a:ext cx="2181240" cy="1065240"/>
            <a:chOff x="3192480" y="5102280"/>
            <a:chExt cx="2181240" cy="1065240"/>
          </a:xfrm>
        </p:grpSpPr>
        <p:sp>
          <p:nvSpPr>
            <p:cNvPr id="644" name=""/>
            <p:cNvSpPr/>
            <p:nvPr/>
          </p:nvSpPr>
          <p:spPr>
            <a:xfrm>
              <a:off x="443412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92480" y="56149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76880" y="5564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2140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78320" y="5232240"/>
              <a:ext cx="67500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72160" y="5102280"/>
            <a:ext cx="2179080" cy="1065240"/>
            <a:chOff x="4772160" y="5102280"/>
            <a:chExt cx="2179080" cy="1065240"/>
          </a:xfrm>
        </p:grpSpPr>
        <p:sp>
          <p:nvSpPr>
            <p:cNvPr id="650" name=""/>
            <p:cNvSpPr/>
            <p:nvPr/>
          </p:nvSpPr>
          <p:spPr>
            <a:xfrm>
              <a:off x="6024240" y="5425920"/>
              <a:ext cx="563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772160" y="5614920"/>
              <a:ext cx="15030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00720" y="5102280"/>
              <a:ext cx="6505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52960" y="5564160"/>
              <a:ext cx="88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54400" y="5232240"/>
              <a:ext cx="67752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351480" y="5102280"/>
            <a:ext cx="2292120" cy="1065240"/>
            <a:chOff x="6351480" y="5102280"/>
            <a:chExt cx="2292120" cy="1065240"/>
          </a:xfrm>
        </p:grpSpPr>
        <p:sp>
          <p:nvSpPr>
            <p:cNvPr id="656" name=""/>
            <p:cNvSpPr/>
            <p:nvPr/>
          </p:nvSpPr>
          <p:spPr>
            <a:xfrm>
              <a:off x="6351480" y="56149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9128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2280" y="5564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34080" y="5232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53240" y="5425920"/>
              <a:ext cx="463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476520" y="3746520"/>
            <a:ext cx="5240160" cy="1823760"/>
            <a:chOff x="3476520" y="3746520"/>
            <a:chExt cx="5240160" cy="1823760"/>
          </a:xfrm>
        </p:grpSpPr>
        <p:sp>
          <p:nvSpPr>
            <p:cNvPr id="662" name=""/>
            <p:cNvSpPr/>
            <p:nvPr/>
          </p:nvSpPr>
          <p:spPr>
            <a:xfrm>
              <a:off x="4093920" y="4599000"/>
              <a:ext cx="15048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476520" y="4204800"/>
              <a:ext cx="404496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91320" y="4073400"/>
              <a:ext cx="563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914960" y="3746520"/>
              <a:ext cx="8017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34080" y="3878280"/>
              <a:ext cx="6746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751880" y="3552840"/>
            <a:ext cx="226800" cy="350640"/>
            <a:chOff x="7751880" y="3552840"/>
            <a:chExt cx="226800" cy="350640"/>
          </a:xfrm>
        </p:grpSpPr>
        <p:sp>
          <p:nvSpPr>
            <p:cNvPr id="668" name=""/>
            <p:cNvSpPr/>
            <p:nvPr/>
          </p:nvSpPr>
          <p:spPr>
            <a:xfrm flipV="1">
              <a:off x="79786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7518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58000" y="3558960"/>
              <a:ext cx="21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-150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’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068-45FC-408A-9A08-C7C64039970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5729400" y="4791240"/>
            <a:ext cx="18032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0260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89920" y="4044960"/>
            <a:ext cx="850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37400" y="607536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247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5008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499000" y="4044960"/>
            <a:ext cx="838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596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6384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784520" y="5467320"/>
            <a:ext cx="135252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85960" y="5016600"/>
            <a:ext cx="180360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28760" y="4678200"/>
            <a:ext cx="0" cy="7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17640" y="4621320"/>
            <a:ext cx="412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19480" y="4621320"/>
            <a:ext cx="725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94120" y="4621320"/>
            <a:ext cx="7286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0664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5916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81280" y="524196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673360" y="5348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79840" y="535464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79640" y="5450040"/>
            <a:ext cx="101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559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752480" y="4370400"/>
            <a:ext cx="965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79640" y="6064200"/>
            <a:ext cx="965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17960" y="4997520"/>
            <a:ext cx="977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62472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88120" y="4044960"/>
            <a:ext cx="851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99200" y="5073480"/>
            <a:ext cx="8539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10240" y="4835520"/>
            <a:ext cx="850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476600" y="5122800"/>
            <a:ext cx="125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7408800" y="545472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7421400" y="5342040"/>
            <a:ext cx="986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32640" y="546084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977240" y="5286240"/>
            <a:ext cx="841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vs.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for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25880" y="1990800"/>
            <a:ext cx="497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hanges controlled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870-9F6C-4613-B68F-A5E22608BF9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quick history less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6868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50: George Boole invents Boolean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logical propositions to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manipulation of logic statements using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8: Claude Shannon links Boolean algebra to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Masters’ 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5: John von Neumann develops the first stored program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switching elements are vacuum tubes (a big advance from rel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6: ENIAC . . . The world’s first completely electronic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,000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hundred multiplications per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7: Shockley, Brittain, and Bardeen invent the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s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tegration of multiple devices into on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 to modern 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BB0-6CD0-4CFB-85DF-F9601DCAC2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1190520" y="2668680"/>
            <a:ext cx="7037280" cy="2988720"/>
            <a:chOff x="1190520" y="2668680"/>
            <a:chExt cx="7037280" cy="2988720"/>
          </a:xfrm>
        </p:grpSpPr>
        <p:sp>
          <p:nvSpPr>
            <p:cNvPr id="713" name=""/>
            <p:cNvSpPr/>
            <p:nvPr/>
          </p:nvSpPr>
          <p:spPr>
            <a:xfrm>
              <a:off x="230976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58680" y="467964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987640" y="467964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2987640" y="3320640"/>
              <a:ext cx="404496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564080" y="3320640"/>
              <a:ext cx="246852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143400" y="3320640"/>
              <a:ext cx="88920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02440" y="3187440"/>
              <a:ext cx="56196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15880" y="4441680"/>
              <a:ext cx="690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190520" y="4530600"/>
              <a:ext cx="712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0504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36720" y="367632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81480" y="3752640"/>
              <a:ext cx="1503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325920" y="382896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862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115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67972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068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336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100400" y="5357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30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543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2523600" y="535752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64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98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25760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60840" y="53193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8296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30328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654280" y="4216320"/>
              <a:ext cx="6523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33600" y="4216320"/>
              <a:ext cx="6494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10040" y="4216320"/>
              <a:ext cx="652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02400" y="4216320"/>
              <a:ext cx="6508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27880" y="2862000"/>
              <a:ext cx="799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89080" y="4348080"/>
              <a:ext cx="67500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95560" y="4441680"/>
              <a:ext cx="6876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64080" y="4679640"/>
              <a:ext cx="89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82920" y="461628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6552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72000" y="4441680"/>
              <a:ext cx="69048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3400" y="467964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6080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45200" y="4348080"/>
              <a:ext cx="67644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560" y="4541760"/>
              <a:ext cx="4636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5200" y="29937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7684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25148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57960" y="26730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include internal struct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BD8-1D00-44CD-B265-2812A834D01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"/>
          <p:cNvGrpSpPr/>
          <p:nvPr/>
        </p:nvGrpSpPr>
        <p:grpSpPr>
          <a:xfrm>
            <a:off x="542880" y="3102120"/>
            <a:ext cx="5854680" cy="3276000"/>
            <a:chOff x="542880" y="3102120"/>
            <a:chExt cx="5854680" cy="3276000"/>
          </a:xfrm>
        </p:grpSpPr>
        <p:sp>
          <p:nvSpPr>
            <p:cNvPr id="763" name=""/>
            <p:cNvSpPr/>
            <p:nvPr/>
          </p:nvSpPr>
          <p:spPr>
            <a:xfrm>
              <a:off x="687240" y="32781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2880" y="37544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62400" y="3406680"/>
              <a:ext cx="0" cy="29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38360" y="31021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state table (much like a truth-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4649760" y="1778040"/>
            <a:ext cx="3998520" cy="1698480"/>
            <a:chOff x="4649760" y="1778040"/>
            <a:chExt cx="3998520" cy="1698480"/>
          </a:xfrm>
        </p:grpSpPr>
        <p:sp>
          <p:nvSpPr>
            <p:cNvPr id="770" name=""/>
            <p:cNvSpPr/>
            <p:nvPr/>
          </p:nvSpPr>
          <p:spPr>
            <a:xfrm>
              <a:off x="528552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29200" y="292068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7072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5670720" y="2148840"/>
              <a:ext cx="229860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566760" y="2148840"/>
              <a:ext cx="140256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464240" y="2148840"/>
              <a:ext cx="50508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009280" y="2072880"/>
              <a:ext cx="3193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89120" y="2785680"/>
              <a:ext cx="3924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649760" y="2836080"/>
              <a:ext cx="405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1016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39720" y="2350440"/>
              <a:ext cx="8532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17400" y="2394000"/>
              <a:ext cx="854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67920" y="243720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043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3324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720036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068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357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303240" y="3305880"/>
              <a:ext cx="13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1116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538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406840" y="3305880"/>
              <a:ext cx="13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010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229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09712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6160" y="3284280"/>
              <a:ext cx="4546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7976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8192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81360" y="2657520"/>
              <a:ext cx="370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78840" y="2657520"/>
              <a:ext cx="369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74520" y="2657520"/>
              <a:ext cx="37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236440" y="2657520"/>
              <a:ext cx="36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193960" y="1887840"/>
              <a:ext cx="45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83000" y="2732400"/>
              <a:ext cx="3834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86600" y="2785680"/>
              <a:ext cx="3906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66760" y="2920680"/>
              <a:ext cx="50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406920" y="288468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07904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82640" y="2785680"/>
              <a:ext cx="39204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46424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30368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976520" y="2732400"/>
              <a:ext cx="38412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043120" y="2842200"/>
              <a:ext cx="2631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976520" y="1962720"/>
              <a:ext cx="384120" cy="384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822204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809388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097480" y="17805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6CC4-7629-4FC4-B3C1-EC3CA1DA3EB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445-46E8-47BD-8434-914CC9CCFC5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6570720" y="4325760"/>
            <a:ext cx="235116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od choice of encod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is identical 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t 3 bits of sta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 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cal to first b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525680" y="3220920"/>
            <a:ext cx="5854680" cy="3276720"/>
            <a:chOff x="1525680" y="3220920"/>
            <a:chExt cx="5854680" cy="3276720"/>
          </a:xfrm>
        </p:grpSpPr>
        <p:sp>
          <p:nvSpPr>
            <p:cNvPr id="823" name=""/>
            <p:cNvSpPr/>
            <p:nvPr/>
          </p:nvSpPr>
          <p:spPr>
            <a:xfrm>
              <a:off x="1670040" y="3397320"/>
              <a:ext cx="5710320" cy="20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25680" y="387360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45200" y="352584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21160" y="3220920"/>
              <a:ext cx="789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251-3273-4888-8908-7D7BDF980ED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lock always wait for 3 key presses exactly before making a d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294000" y="3606840"/>
            <a:ext cx="1503360" cy="1387440"/>
            <a:chOff x="3294000" y="3606840"/>
            <a:chExt cx="1503360" cy="1387440"/>
          </a:xfrm>
        </p:grpSpPr>
        <p:sp>
          <p:nvSpPr>
            <p:cNvPr id="830" name=""/>
            <p:cNvSpPr/>
            <p:nvPr/>
          </p:nvSpPr>
          <p:spPr>
            <a:xfrm flipV="1">
              <a:off x="3871800" y="3606840"/>
              <a:ext cx="8701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294000" y="391176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4818240" y="3629160"/>
            <a:ext cx="1521720" cy="1365120"/>
            <a:chOff x="4818240" y="3629160"/>
            <a:chExt cx="1521720" cy="1365120"/>
          </a:xfrm>
        </p:grpSpPr>
        <p:sp>
          <p:nvSpPr>
            <p:cNvPr id="833" name=""/>
            <p:cNvSpPr/>
            <p:nvPr/>
          </p:nvSpPr>
          <p:spPr>
            <a:xfrm flipV="1">
              <a:off x="5451480" y="3629160"/>
              <a:ext cx="888480" cy="13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18240" y="39877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611360" y="4524480"/>
            <a:ext cx="5850000" cy="1441440"/>
            <a:chOff x="1611360" y="4524480"/>
            <a:chExt cx="5850000" cy="1441440"/>
          </a:xfrm>
        </p:grpSpPr>
        <p:sp>
          <p:nvSpPr>
            <p:cNvPr id="836" name=""/>
            <p:cNvSpPr/>
            <p:nvPr/>
          </p:nvSpPr>
          <p:spPr>
            <a:xfrm>
              <a:off x="161748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95360" y="4988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2396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1276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942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21964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987800" y="566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1460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6417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408120" y="5666040"/>
              <a:ext cx="23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81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0620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1831680" y="5666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68920" y="5627880"/>
              <a:ext cx="7999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9068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1136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62000" y="452448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541680" y="45244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18120" y="45244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10480" y="452448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97160" y="4656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03640" y="4749840"/>
              <a:ext cx="68724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71800" y="4988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91000" y="492444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7360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78008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51480" y="4988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6888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53280" y="4656240"/>
              <a:ext cx="6760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70640" y="484992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1639800" y="3083040"/>
            <a:ext cx="2683080" cy="1911240"/>
            <a:chOff x="1639800" y="3083040"/>
            <a:chExt cx="2683080" cy="1911240"/>
          </a:xfrm>
        </p:grpSpPr>
        <p:sp>
          <p:nvSpPr>
            <p:cNvPr id="867" name=""/>
            <p:cNvSpPr/>
            <p:nvPr/>
          </p:nvSpPr>
          <p:spPr>
            <a:xfrm flipV="1">
              <a:off x="2295360" y="3606840"/>
              <a:ext cx="9223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39800" y="391176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7492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22600" y="308304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17680" y="32259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3141720" y="2616120"/>
            <a:ext cx="801720" cy="635040"/>
            <a:chOff x="3141720" y="2616120"/>
            <a:chExt cx="801720" cy="635040"/>
          </a:xfrm>
        </p:grpSpPr>
        <p:sp>
          <p:nvSpPr>
            <p:cNvPr id="873" name=""/>
            <p:cNvSpPr/>
            <p:nvPr/>
          </p:nvSpPr>
          <p:spPr>
            <a:xfrm flipV="1">
              <a:off x="364968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342432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3044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4172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665600" y="2616120"/>
            <a:ext cx="801720" cy="635040"/>
            <a:chOff x="4665600" y="2616120"/>
            <a:chExt cx="801720" cy="635040"/>
          </a:xfrm>
        </p:grpSpPr>
        <p:sp>
          <p:nvSpPr>
            <p:cNvPr id="878" name=""/>
            <p:cNvSpPr/>
            <p:nvPr/>
          </p:nvSpPr>
          <p:spPr>
            <a:xfrm flipV="1">
              <a:off x="517356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494820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95468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6560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643200" y="3094200"/>
            <a:ext cx="2214720" cy="807840"/>
            <a:chOff x="3643200" y="3094200"/>
            <a:chExt cx="2214720" cy="807840"/>
          </a:xfrm>
        </p:grpSpPr>
        <p:sp>
          <p:nvSpPr>
            <p:cNvPr id="883" name=""/>
            <p:cNvSpPr/>
            <p:nvPr/>
          </p:nvSpPr>
          <p:spPr>
            <a:xfrm>
              <a:off x="479916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57640" y="309420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41920" y="3225960"/>
              <a:ext cx="67608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79720" y="3575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43200" y="330048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211720" y="3103560"/>
            <a:ext cx="2313000" cy="808200"/>
            <a:chOff x="5211720" y="3103560"/>
            <a:chExt cx="2313000" cy="808200"/>
          </a:xfrm>
        </p:grpSpPr>
        <p:sp>
          <p:nvSpPr>
            <p:cNvPr id="889" name=""/>
            <p:cNvSpPr/>
            <p:nvPr/>
          </p:nvSpPr>
          <p:spPr>
            <a:xfrm>
              <a:off x="6399360" y="342900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24800" y="310356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342120" y="3235320"/>
              <a:ext cx="676080" cy="67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27720" y="3575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211720" y="329400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257480" y="3547800"/>
            <a:ext cx="6526080" cy="2540160"/>
            <a:chOff x="1257480" y="3547800"/>
            <a:chExt cx="6526080" cy="2540160"/>
          </a:xfrm>
        </p:grpSpPr>
        <p:sp>
          <p:nvSpPr>
            <p:cNvPr id="895" name=""/>
            <p:cNvSpPr/>
            <p:nvPr/>
          </p:nvSpPr>
          <p:spPr>
            <a:xfrm>
              <a:off x="1257480" y="5014800"/>
              <a:ext cx="36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257480" y="5014800"/>
              <a:ext cx="0" cy="10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57480" y="6087960"/>
              <a:ext cx="652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7783560" y="3547800"/>
              <a:ext cx="0" cy="253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7016400" y="3548160"/>
              <a:ext cx="76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027920" y="4992480"/>
              <a:ext cx="75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465120" y="2363760"/>
            <a:ext cx="7840800" cy="390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682-AE70-496B-A852-2F3AD112F7C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1658880" y="3009960"/>
            <a:ext cx="18036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3208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19400" y="2263680"/>
            <a:ext cx="8510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765440" y="429408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4200" y="391176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7956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28840" y="2263680"/>
            <a:ext cx="838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55420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16160" y="2263680"/>
            <a:ext cx="8524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128680" y="3292560"/>
            <a:ext cx="851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39720" y="3054240"/>
            <a:ext cx="8510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06080" y="3341520"/>
            <a:ext cx="12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 flipV="1">
            <a:off x="3338640" y="367344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351240" y="3560400"/>
            <a:ext cx="9828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462480" y="36799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906720" y="3505320"/>
            <a:ext cx="8413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79920" y="4727520"/>
            <a:ext cx="18036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077240" y="4275000"/>
            <a:ext cx="0" cy="57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6484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97600" y="599904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862600" y="513072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24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307120" y="3981600"/>
            <a:ext cx="8380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399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9752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59320" y="4675320"/>
            <a:ext cx="8510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4227120" y="4997520"/>
            <a:ext cx="13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6975360" y="5435280"/>
            <a:ext cx="11448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978600" y="5319360"/>
            <a:ext cx="11268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89840" y="5435640"/>
            <a:ext cx="538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634160" y="5230800"/>
            <a:ext cx="563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13400" y="5316480"/>
            <a:ext cx="676440" cy="23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618160" y="4863960"/>
            <a:ext cx="1565280" cy="26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6211800" y="513036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6205680" y="54356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756480" y="5138640"/>
            <a:ext cx="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16520" y="4861080"/>
            <a:ext cx="1565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435720" y="5302080"/>
            <a:ext cx="9144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6958080" y="4267080"/>
            <a:ext cx="1347840" cy="111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7696080" y="3276360"/>
            <a:ext cx="60984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37280" y="2125800"/>
            <a:ext cx="30556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al circuit elemen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register,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embering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told to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181480" y="2133720"/>
            <a:ext cx="2514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troller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of the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43F-B8C0-454E-976C-EE08DE9693E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4468680" y="1519200"/>
            <a:ext cx="1027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63680" y="2473200"/>
            <a:ext cx="1214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72040" y="2460600"/>
            <a:ext cx="1013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05280" y="3476520"/>
            <a:ext cx="152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208560" y="3489480"/>
            <a:ext cx="216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ati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838160" y="3551400"/>
            <a:ext cx="1365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3640" y="3564000"/>
            <a:ext cx="1390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0320" y="3413160"/>
            <a:ext cx="9273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3520" y="4867200"/>
            <a:ext cx="1065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118120" y="4867200"/>
            <a:ext cx="841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49920" y="1801800"/>
            <a:ext cx="1428480" cy="70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2784240" y="1790640"/>
            <a:ext cx="2052360" cy="68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2406240" y="2792520"/>
            <a:ext cx="252360" cy="77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58960" y="2766960"/>
            <a:ext cx="1100160" cy="84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317600" y="2755800"/>
            <a:ext cx="1354320" cy="70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192320" y="3933720"/>
            <a:ext cx="265572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886200" y="3971880"/>
            <a:ext cx="1603440" cy="89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552640" y="2743200"/>
            <a:ext cx="776520" cy="7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353280" y="2743200"/>
            <a:ext cx="86508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759120" y="3857760"/>
            <a:ext cx="1604880" cy="102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06600" y="3857760"/>
            <a:ext cx="2932200" cy="104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5415120" y="3971880"/>
            <a:ext cx="179064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740040" y="5619600"/>
            <a:ext cx="1854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4800240" y="5175360"/>
            <a:ext cx="563400" cy="4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86200" y="5162400"/>
            <a:ext cx="638280" cy="46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hierarch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231-D23E-434D-B387-62F7791C8A1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was what the entire course is ab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ing solutions to problems into combinational and sequential networks effectively organizing the design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so with a modern set of design tools that lets us handle large designs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ing advantage of optimization opportun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 lets do it a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ime we'll take nine weeks instead of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228-6840-4D89-8BD9-B6A81F086AB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47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specification of a problem, come up with a way of solving it choosing appropriately from a collection of availabl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meeting some criteria for size, cost, power, beauty, eleganc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logic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collection of digital logic components to perform a specified control and/or data manipulation and/or communication function and the interconnections betwee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logic components to choose? – there are many implementation technologies (e.g., off-the-shelf fixed-function components, programmable devices, transistors on a chip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ign may need to be optimized and/or transformed to meet design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A84-7E99-4293-A035-A7A82EAC20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472000" y="5138640"/>
            <a:ext cx="3864240" cy="1741320"/>
            <a:chOff x="5472000" y="5138640"/>
            <a:chExt cx="3864240" cy="1741320"/>
          </a:xfrm>
        </p:grpSpPr>
        <p:sp>
          <p:nvSpPr>
            <p:cNvPr id="95" name=""/>
            <p:cNvSpPr/>
            <p:nvPr/>
          </p:nvSpPr>
          <p:spPr>
            <a:xfrm>
              <a:off x="6943680" y="5651280"/>
              <a:ext cx="617760" cy="6177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43640" y="52797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454800" y="61941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1440" y="5965560"/>
              <a:ext cx="87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9640" y="6516720"/>
              <a:ext cx="91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72000" y="5138640"/>
              <a:ext cx="914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10760" y="5833800"/>
              <a:ext cx="8254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r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86520" y="5837040"/>
              <a:ext cx="525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digital hardware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6480"/>
            <a:ext cx="8150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of devices that sense and/or control wires that carry a digital value (i.e., a physical quantity that can be interpre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“0” or “1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igital logic where voltage &lt; 0.8v is a “0” and &gt; 2.0v is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pair of transmission wires where a “0” or “1” is distinguished by which wire has a higher voltage (differ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orientation of magnetization signifies a “0” or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 digital hardwar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omputation devices (sense and d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wo wires both “1” - make another be “1” (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t least one of two wires “1” - make another be “1” (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wire “1” - then make another be “0” (N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devices (st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a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all a previously stored 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7B6D-F727-4267-AE8F-45D2EE6332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happening now in digital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809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rends in how industry does hardwar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and larger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r and shorter time to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er and cheaper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vasive use of computer-aided design tools over h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levels of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on abstract design repres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rather than fixed function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synthesi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ce of sound 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s of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imulation to debug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verify before you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1CAB-BBD3-4607-B60E-1972F16E5C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23800" y="4981680"/>
            <a:ext cx="80773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ew abilit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to accomplish the logic design task with the aid of computer-aid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tools and map a problem description into an implementation wi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logic devices after validation via simulation and understand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 the advantages/disadvantages as compared to a softwar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SE 370: concepts/skills/abilit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basics of logic design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sound design methodologie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specification method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arity with a full set of CAD tools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digital designs in an implementation technology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eciation for the differences and similarities (abilities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hardware and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A48D-E9F7-4F8B-98C4-09F5BE982B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utation: abstract vs.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76200"/>
            <a:ext cx="8380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now, computation has been a mental exercise (paper, progra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class is about physically implementing computation using physical devices that use voltages to represent logical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units of computation ar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0", "1" on a w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wires (e.g., for binary 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=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peratio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y –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statemen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B;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al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x == 1   then  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 i = 1 ; i == 10,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proc(...)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will study how each of these are implemented in hardware and composed into computation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1D3-F390-4879-A0E8-C4B2FD7E1A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>Gaetano Borriello</dc:creator>
  <dc:description/>
  <dc:language>en-US</dc:language>
  <cp:lastModifiedBy>Gaetano Borriello</cp:lastModifiedBy>
  <cp:lastPrinted>2000-09-25T15:09:03Z</cp:lastPrinted>
  <dcterms:modified xsi:type="dcterms:W3CDTF">2005-01-24T06:56:53Z</dcterms:modified>
  <cp:revision>46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