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0E50-6C59-4B02-975E-BD1DEFFF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A02-D4C8-49BF-8AD3-8B1C0B74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BAC-F99C-494C-9AB7-C1D8F12A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A26-85D8-4EDD-ACC1-9CE54AF7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1017-1A79-4BDC-A2D5-961B054A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169D-D2B7-478A-A6E2-A090FD71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9CB0-518C-41D3-A73C-51350D0D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D49D-A2AE-47B9-8903-EBEAD15F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AFF2-1CD6-4F41-BDE1-629EA01A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1ADB-1D23-4ED2-B633-A043F86E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03ED-FF8B-4DFD-80A5-6BB09E85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66E-8339-4874-8632-7987DC65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C713-A421-4D99-B682-89D60545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1E98-449B-495D-B2FF-F9E869EC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CC9B-E4C8-4BB6-AD13-F350FB7B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68EB-FDB8-49A7-966C-5BD3FBB7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3539-CF23-4DDE-829E-293F3FAF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511-C585-45FE-BD65-CE7845B4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DE31-7279-4D81-8E6A-34C78916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70B-25C5-44F8-86D6-018BD18E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848-9E3A-422A-B2B6-F744505D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42B-AD1C-43F6-8633-5311DCDC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A3D-269B-4886-B02E-41FB7363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A31-FB05-47B9-85B0-DA99F05B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240" y="6483240"/>
            <a:ext cx="3957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D0B085E-C475-40DC-A865-2FDA27BF527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44E8002-4BF3-44BA-BCF3-AF848443C81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an algebra, proofs by re-writing, proofs by perfect in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functions, truth tables,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, AND, OR, NAND, NOR, XOR, . . ., minimal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re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logic and canonical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pletely specifie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ing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of terms in Boolea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 representations of Boolean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naugh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8E5-6556-46FD-B930-7A9EFA34124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6764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organ’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. (X + Y + ...)’ = X’ • Y’ • ..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D. (X • Y • ...)’ = X’ + Y’ +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de Morgan’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. f’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0,1,+,•) =  f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1,0,•,+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s relationship between • and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644-EE9F-401F-8FE4-348A38C4C7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788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ual of a Boolean expression is derived by replac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by +, + by •, 0 by 1, and 1 by 0, and leaving variables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heorem that can be proven is thus also proven for its du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ta-theorem (a theorem about theorem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ity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. X + Y + ...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X • Y • ..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duality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7. f 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0,1,+,•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1,0,•,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than deMorgan’s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statement about theor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a way to manipulate (re-write)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B913-5756-4EC3-B84D-FCE4A2B638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ving theorems (rewrit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axioms of Boolean algeb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ve the theore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• Y + X • Y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X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ve the theore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X • 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68320" y="2514600"/>
            <a:ext cx="60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ivity (8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Y + X • Y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(Y + Y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mentarity (5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Y + Y’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 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(1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77680" y="4724280"/>
            <a:ext cx="63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 + 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1  +  X •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ivity (8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1  + 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(1 +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2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1 + Y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 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1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8A4-6D96-4FE3-88A7-E95C10CFE6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 the following using the laws of Boolean algeb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• Y) + (Y • Z) + (X’ • Z) =  X • Y + X’ •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1080" y="2475000"/>
            <a:ext cx="7273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1) •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ar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+ X) •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• Y • Z) + (X • Y • Z) + (X’ •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ta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 • Y • Z) + (X’ • Y • Z) + (X’ •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• (1 + Z) + (X’ • Z) • (1 +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• (1) + (X’ • Z) • (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• Z) </a:t>
            </a:r>
            <a:r>
              <a:rPr b="0" lang="en-US" sz="16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560" y="2637000"/>
            <a:ext cx="8221680" cy="38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D6D-97AA-4A21-8CF6-BA780A485D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98400" y="2959200"/>
            <a:ext cx="3213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+ Y)’ = X’ • Y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R is equivalent t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343400"/>
            <a:ext cx="3200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’ = X’ + Y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is equivalent to 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362480" y="2857680"/>
            <a:ext cx="4133880" cy="1143000"/>
            <a:chOff x="4362480" y="2857680"/>
            <a:chExt cx="4133880" cy="1143000"/>
          </a:xfrm>
        </p:grpSpPr>
        <p:sp>
          <p:nvSpPr>
            <p:cNvPr id="177" name=""/>
            <p:cNvSpPr/>
            <p:nvPr/>
          </p:nvSpPr>
          <p:spPr>
            <a:xfrm>
              <a:off x="4362480" y="3086280"/>
              <a:ext cx="346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59600" y="287676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19720" y="2857680"/>
              <a:ext cx="4076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 + Y)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 • Y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362480" y="4267080"/>
            <a:ext cx="4133880" cy="1143000"/>
            <a:chOff x="4362480" y="4267080"/>
            <a:chExt cx="4133880" cy="1143000"/>
          </a:xfrm>
        </p:grpSpPr>
        <p:sp>
          <p:nvSpPr>
            <p:cNvPr id="181" name=""/>
            <p:cNvSpPr/>
            <p:nvPr/>
          </p:nvSpPr>
          <p:spPr>
            <a:xfrm>
              <a:off x="4362480" y="4495680"/>
              <a:ext cx="346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59600" y="428616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19720" y="4267080"/>
              <a:ext cx="4076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 • Y)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 + Y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ving theorems (perfect induction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perfect induction (complete truth table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37240" y="3063960"/>
            <a:ext cx="152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97640" y="4471920"/>
            <a:ext cx="16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8280" y="3073320"/>
            <a:ext cx="152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96200" y="4465800"/>
            <a:ext cx="16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E76-797A-4604-87E4-ACA11F1B3D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simple example: 1-bit binary add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s: A, B, Carry-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: Sum, Carry-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95920" y="3346560"/>
            <a:ext cx="1371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86440" y="3498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86440" y="38037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86440" y="4108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7520" y="3651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67520" y="39560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79720" y="33465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77200" y="365112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19160" y="39560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61880" y="380376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79520" y="346716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39402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3753000"/>
            <a:ext cx="0" cy="19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30240" y="3733920"/>
            <a:ext cx="25750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81440" y="3943440"/>
            <a:ext cx="152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54120" y="3940200"/>
            <a:ext cx="152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60280" y="496728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A’ B Cin + A B’ Cin + A B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95560" y="457200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= A’ B’ Cin + A’ B Cin’ + A B’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26120" y="238608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98920" y="1751040"/>
            <a:ext cx="19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6040" y="2025720"/>
            <a:ext cx="19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92800" y="2367000"/>
            <a:ext cx="19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35720" y="1666800"/>
            <a:ext cx="297000" cy="115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87960" y="1663560"/>
            <a:ext cx="297000" cy="115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98920" y="1663560"/>
            <a:ext cx="297000" cy="115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37320" y="1668600"/>
            <a:ext cx="29664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78800" y="1668600"/>
            <a:ext cx="29664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/>
          <p:nvPr/>
        </p:nvCxnSpPr>
        <p:spPr>
          <a:xfrm flipV="1" rot="16200000">
            <a:off x="6756840" y="1538280"/>
            <a:ext cx="216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/>
          <p:nvPr/>
        </p:nvCxnSpPr>
        <p:spPr>
          <a:xfrm flipV="1" rot="16200000">
            <a:off x="641052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/>
          <p:nvPr/>
        </p:nvCxnSpPr>
        <p:spPr>
          <a:xfrm flipV="1" rot="16200000">
            <a:off x="606600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/>
          <p:nvPr/>
        </p:nvCxnSpPr>
        <p:spPr>
          <a:xfrm flipV="1" rot="16200000">
            <a:off x="571032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flipV="1" rot="16200000">
            <a:off x="5389560" y="1536840"/>
            <a:ext cx="2520" cy="25452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6211800" y="1146240"/>
            <a:ext cx="5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05640" y="11476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8458-EBCE-4F68-89C1-7D840871465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pply the theorems to simplify express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650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eorems of Boolean algebra can simplify Boolean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ull adder’s carry-out function (same rules apply to any function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57400" y="2901960"/>
            <a:ext cx="674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+ A B’ Cin + A B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 +  A B’ Cin  +  A B Cin’  +  A B Cin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 +  A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A’ + A)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1)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B’ Cin  + A B Cin’  +  A B Cin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B’ Cin  +  A B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(B’ + B)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(1)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(Cin’ +  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611680" y="3228840"/>
            <a:ext cx="3098880" cy="3827880"/>
            <a:chOff x="5611680" y="3228840"/>
            <a:chExt cx="3098880" cy="3827880"/>
          </a:xfrm>
        </p:grpSpPr>
        <p:sp>
          <p:nvSpPr>
            <p:cNvPr id="230" name=""/>
            <p:cNvSpPr/>
            <p:nvPr/>
          </p:nvSpPr>
          <p:spPr>
            <a:xfrm>
              <a:off x="6237360" y="5865480"/>
              <a:ext cx="247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Tahoma"/>
                </a:rPr>
                <a:t>adding extra terms creates new factoring opportun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59440" y="3228840"/>
              <a:ext cx="2055960" cy="27756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11680" y="4325760"/>
              <a:ext cx="2055960" cy="27756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30" idx="0"/>
              <a:endCxn id="232" idx="3"/>
            </p:cNvCxnSpPr>
            <p:nvPr/>
          </p:nvCxnSpPr>
          <p:spPr>
            <a:xfrm flipH="1" flipV="1" rot="5400000">
              <a:off x="6870600" y="5068080"/>
              <a:ext cx="1400400" cy="194400"/>
            </a:xfrm>
            <a:prstGeom prst="curvedConnector5">
              <a:avLst>
                <a:gd name="adj1" fmla="val 42504"/>
                <a:gd name="adj2" fmla="val 147495"/>
                <a:gd name="adj3" fmla="val 42504"/>
              </a:avLst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30" idx="0"/>
              <a:endCxn id="231" idx="3"/>
            </p:cNvCxnSpPr>
            <p:nvPr/>
          </p:nvCxnSpPr>
          <p:spPr>
            <a:xfrm flipH="1" flipV="1" rot="5400000">
              <a:off x="6495840" y="4345920"/>
              <a:ext cx="2497680" cy="542160"/>
            </a:xfrm>
            <a:prstGeom prst="curvedConnector5">
              <a:avLst>
                <a:gd name="adj1" fmla="val 22041"/>
                <a:gd name="adj2" fmla="val 109767"/>
                <a:gd name="adj3" fmla="val 22041"/>
              </a:avLst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2F0A-6973-4858-9F10-FDD66DF1C40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 in the truth-table for a circuit that checks that a 4-bit number is divisible by 2, 3, or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 down Boolean expressions for By2, By3, and By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09280" y="2446200"/>
            <a:ext cx="599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8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3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72120" y="235908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650960" y="2722680"/>
            <a:ext cx="6224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E0F3-18A4-47E8-B529-0485A622124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345960" y="1484280"/>
            <a:ext cx="5064120" cy="3802320"/>
            <a:chOff x="345960" y="1484280"/>
            <a:chExt cx="5064120" cy="3802320"/>
          </a:xfrm>
        </p:grpSpPr>
        <p:sp>
          <p:nvSpPr>
            <p:cNvPr id="241" name=""/>
            <p:cNvSpPr/>
            <p:nvPr/>
          </p:nvSpPr>
          <p:spPr>
            <a:xfrm>
              <a:off x="404280" y="1571760"/>
              <a:ext cx="4617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8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4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2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2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3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67200" y="1484280"/>
              <a:ext cx="0" cy="37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45960" y="1847880"/>
              <a:ext cx="471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840" y="2635200"/>
              <a:ext cx="5016240" cy="26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"/>
          <p:cNvSpPr/>
          <p:nvPr/>
        </p:nvSpPr>
        <p:spPr>
          <a:xfrm>
            <a:off x="5391000" y="3211560"/>
            <a:ext cx="3664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’X2X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’X4X2’X1’ + X8’X4X2X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’X2’X1’ + X8X4’X2X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X2’X1’ + X8X4X2X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X1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’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’X4X2X1’ + X8X4’X2’X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X2’X1’ + X8X4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X2’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X4’X2X1’ + X8X4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0960" y="1414440"/>
            <a:ext cx="8912520" cy="51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7091-3031-4794-982D-4F1157EC949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7029360" y="2349360"/>
            <a:ext cx="1276200" cy="1143000"/>
            <a:chOff x="7029360" y="2349360"/>
            <a:chExt cx="1276200" cy="1143000"/>
          </a:xfrm>
        </p:grpSpPr>
        <p:sp>
          <p:nvSpPr>
            <p:cNvPr id="249" name=""/>
            <p:cNvSpPr/>
            <p:nvPr/>
          </p:nvSpPr>
          <p:spPr>
            <a:xfrm>
              <a:off x="7029360" y="25779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37280" y="23940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9200" y="2349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194600" y="1511280"/>
            <a:ext cx="869760" cy="736560"/>
            <a:chOff x="7194600" y="1511280"/>
            <a:chExt cx="869760" cy="736560"/>
          </a:xfrm>
        </p:grpSpPr>
        <p:sp>
          <p:nvSpPr>
            <p:cNvPr id="253" name=""/>
            <p:cNvSpPr/>
            <p:nvPr/>
          </p:nvSpPr>
          <p:spPr>
            <a:xfrm>
              <a:off x="7194600" y="1727280"/>
              <a:ext cx="81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81960" y="151776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64440" y="1511280"/>
              <a:ext cx="799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016760" y="3581280"/>
            <a:ext cx="1276200" cy="1143000"/>
            <a:chOff x="7016760" y="3581280"/>
            <a:chExt cx="1276200" cy="1143000"/>
          </a:xfrm>
        </p:grpSpPr>
        <p:sp>
          <p:nvSpPr>
            <p:cNvPr id="257" name=""/>
            <p:cNvSpPr/>
            <p:nvPr/>
          </p:nvSpPr>
          <p:spPr>
            <a:xfrm>
              <a:off x="7016760" y="380988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24680" y="362592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86600" y="358128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003640" y="3784680"/>
            <a:ext cx="1181160" cy="5713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965840" y="2629080"/>
            <a:ext cx="1193760" cy="5457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5105520" y="1612800"/>
            <a:ext cx="876240" cy="457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889520" y="1676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32520" y="16891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99080" y="2603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377208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11680" y="28447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405144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84800" y="27939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9117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38440" y="1676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X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•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+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9E5-2FBB-4ACD-BD12-93EF3D62E34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4600" y="39736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90680" y="378936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1600" y="3736800"/>
            <a:ext cx="87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080" tIns="27000" bIns="27000" anchor="t">
            <a:noAutofit/>
          </a:bodyPr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 possible functions (F0–F15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55520" y="50371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5342040"/>
            <a:ext cx="990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2240" y="513864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1400" y="515160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89520" y="5583240"/>
            <a:ext cx="952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2240" y="5164200"/>
            <a:ext cx="838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76960" y="513864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9640" y="50371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22240" y="4941720"/>
            <a:ext cx="35532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478040" y="4979880"/>
            <a:ext cx="368280" cy="6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76640" y="288756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91040" y="3110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19440" y="29955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19440" y="32241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08400" y="2830680"/>
            <a:ext cx="5842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8400" y="3059280"/>
            <a:ext cx="5842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79920" y="2932200"/>
            <a:ext cx="571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417680" y="4929120"/>
            <a:ext cx="1778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560320" y="4916520"/>
            <a:ext cx="3934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35040" y="4916520"/>
            <a:ext cx="5713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70120" y="5265720"/>
            <a:ext cx="863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008600" y="4929120"/>
            <a:ext cx="3427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15000" y="558324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67560" y="5278320"/>
            <a:ext cx="7617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88080" y="5342040"/>
            <a:ext cx="1505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265720" y="4916520"/>
            <a:ext cx="3403440" cy="685800"/>
            <a:chOff x="5265720" y="4916520"/>
            <a:chExt cx="3403440" cy="685800"/>
          </a:xfrm>
        </p:grpSpPr>
        <p:sp>
          <p:nvSpPr>
            <p:cNvPr id="115" name=""/>
            <p:cNvSpPr/>
            <p:nvPr/>
          </p:nvSpPr>
          <p:spPr>
            <a:xfrm>
              <a:off x="8034120" y="4941720"/>
              <a:ext cx="33048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65720" y="4979880"/>
              <a:ext cx="34272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16880" y="4929120"/>
              <a:ext cx="1522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57880" y="4916520"/>
              <a:ext cx="36828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05320" y="4916520"/>
              <a:ext cx="54612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61080" y="4929120"/>
              <a:ext cx="3175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ossible logic functions of two variab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16 possible functions of 2 input variab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re are 2**(2**n) functions of n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ACD-BD13-4FCB-9AD9-99A2404B3B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22640" y="160020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22640" y="18669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1752480"/>
            <a:ext cx="5331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476440" y="1612800"/>
            <a:ext cx="1231920" cy="57168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4641840" y="1409760"/>
            <a:ext cx="1276200" cy="1143000"/>
            <a:chOff x="4641840" y="1409760"/>
            <a:chExt cx="1276200" cy="1143000"/>
          </a:xfrm>
        </p:grpSpPr>
        <p:sp>
          <p:nvSpPr>
            <p:cNvPr id="279" name=""/>
            <p:cNvSpPr/>
            <p:nvPr/>
          </p:nvSpPr>
          <p:spPr>
            <a:xfrm>
              <a:off x="4641840" y="16383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49760" y="14540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11680" y="14097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629240" y="2781360"/>
            <a:ext cx="1276200" cy="1143000"/>
            <a:chOff x="4629240" y="2781360"/>
            <a:chExt cx="1276200" cy="1143000"/>
          </a:xfrm>
        </p:grpSpPr>
        <p:sp>
          <p:nvSpPr>
            <p:cNvPr id="283" name=""/>
            <p:cNvSpPr/>
            <p:nvPr/>
          </p:nvSpPr>
          <p:spPr>
            <a:xfrm>
              <a:off x="4629240" y="30099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37160" y="28256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99080" y="2781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695760" y="3174840"/>
            <a:ext cx="533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97080" y="29973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97080" y="332748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2463840" y="3073320"/>
            <a:ext cx="1219320" cy="495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60440" y="434340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73400" y="46483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45212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629240" y="5537160"/>
            <a:ext cx="1276200" cy="1143000"/>
            <a:chOff x="4629240" y="5537160"/>
            <a:chExt cx="1276200" cy="1143000"/>
          </a:xfrm>
        </p:grpSpPr>
        <p:sp>
          <p:nvSpPr>
            <p:cNvPr id="294" name=""/>
            <p:cNvSpPr/>
            <p:nvPr/>
          </p:nvSpPr>
          <p:spPr>
            <a:xfrm>
              <a:off x="4629240" y="57657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37160" y="55818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9080" y="55371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629240" y="4203720"/>
            <a:ext cx="1276200" cy="1143000"/>
            <a:chOff x="4629240" y="4203720"/>
            <a:chExt cx="1276200" cy="1143000"/>
          </a:xfrm>
        </p:grpSpPr>
        <p:sp>
          <p:nvSpPr>
            <p:cNvPr id="298" name=""/>
            <p:cNvSpPr/>
            <p:nvPr/>
          </p:nvSpPr>
          <p:spPr>
            <a:xfrm>
              <a:off x="4629240" y="443232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37160" y="4248000"/>
              <a:ext cx="0" cy="10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99080" y="420372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670200" y="59054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2540160" y="4406760"/>
            <a:ext cx="1104840" cy="5083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2476440" y="5791320"/>
            <a:ext cx="1181160" cy="5205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209680" y="57405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97080" y="60069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84800" y="4292640"/>
            <a:ext cx="3086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= X Y’ + X’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or Y but not bo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"inequality", "difference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21440" y="5638680"/>
            <a:ext cx="332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xn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= X Y + X’ Y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and Y are the s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"equality", "coincidenc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D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N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X =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3288-C358-4179-AD68-3E05DDEF6D2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511960" y="307800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1800" y="335772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6560" y="3332160"/>
            <a:ext cx="673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1800" y="3052800"/>
            <a:ext cx="672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156440" y="4184640"/>
            <a:ext cx="368280" cy="6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29400" y="3797280"/>
            <a:ext cx="2260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3-input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09720" y="427356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809720" y="4425480"/>
            <a:ext cx="190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03240" y="42735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13120" y="4400640"/>
            <a:ext cx="507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09720" y="4832280"/>
            <a:ext cx="190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809720" y="4984920"/>
            <a:ext cx="19044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03240" y="4832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13120" y="4959360"/>
            <a:ext cx="507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08560" y="5380200"/>
            <a:ext cx="13896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76920" y="5380200"/>
            <a:ext cx="100224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26960" y="5365800"/>
            <a:ext cx="95220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08200" y="5365800"/>
            <a:ext cx="13932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09720" y="54608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09720" y="56260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10000" y="4876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10000" y="52578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603520" y="48704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82080" y="4890960"/>
            <a:ext cx="29088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75600" y="4884840"/>
            <a:ext cx="30384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81720" y="4876920"/>
            <a:ext cx="2912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75240" y="4870440"/>
            <a:ext cx="30420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46560" y="43178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46560" y="4699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340080" y="431136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18640" y="4332240"/>
            <a:ext cx="29088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12160" y="4325760"/>
            <a:ext cx="30384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18280" y="4318200"/>
            <a:ext cx="2912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11800" y="4312080"/>
            <a:ext cx="30420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82640" y="44323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15880" y="44323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1160" y="4280040"/>
            <a:ext cx="2667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19480" y="4432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76480" y="4432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16160" y="4432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82640" y="4991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15880" y="49910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93760" y="482616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82640" y="54608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5880" y="54608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93760" y="529596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82640" y="56260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15880" y="56260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93760" y="549900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7648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82920" y="4991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16160" y="49910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79520" y="5549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82920" y="5143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13080" y="51498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19200" y="5143680"/>
            <a:ext cx="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14600" y="5397480"/>
            <a:ext cx="380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79800" y="5067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19480" y="45846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13000" y="45910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14880" y="4927680"/>
            <a:ext cx="5713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16360" y="4508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6040" y="45086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40360" y="4368960"/>
            <a:ext cx="2412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64200" y="4514760"/>
            <a:ext cx="190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064200" y="462888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58080" y="451476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67600" y="4616280"/>
            <a:ext cx="5076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64200" y="4984920"/>
            <a:ext cx="1904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064200" y="5099040"/>
            <a:ext cx="1904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5808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67600" y="50864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50080" y="5430960"/>
            <a:ext cx="15192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18440" y="5430960"/>
            <a:ext cx="1015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69200" y="5416200"/>
            <a:ext cx="9644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49720" y="5416200"/>
            <a:ext cx="1522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64200" y="549900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64200" y="56386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77080" y="4940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77080" y="52578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70600" y="49467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49160" y="49546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43040" y="4948200"/>
            <a:ext cx="31608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48800" y="494028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42680" y="4933800"/>
            <a:ext cx="3164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2452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57760" y="463536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35640" y="447048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24520" y="51055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57760" y="51055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35640" y="495288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24520" y="5499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57760" y="549900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23040" y="533412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24520" y="5638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57760" y="56386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23040" y="552456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59480" y="5105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6560" y="51055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4952880"/>
            <a:ext cx="241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3096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50000" y="49784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43880" y="46418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70640" y="46353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330960" y="51055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50000" y="5105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70640" y="510552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34000" y="5562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50000" y="52322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43880" y="52387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73680" y="5562720"/>
            <a:ext cx="6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024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than one way to map expressions to gates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 Z = A’ • B’ • (C + D) = (A’ • (B’ • (C + D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6103-7D4B-4EED-BD35-6DBA07E597A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36560" y="3222720"/>
            <a:ext cx="7721640" cy="26668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 flipH="1">
            <a:off x="2825280" y="3083040"/>
            <a:ext cx="3390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241880" y="275256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03440" y="4054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03440" y="6080040"/>
            <a:ext cx="4913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e in Y takes time to "propagate" through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aveform view of logic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 sideways 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e how edges don’t line up exa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takes time for a gate to switch its outpu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490-2121-4F27-9F14-08DAEA8033C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361800" y="1574640"/>
            <a:ext cx="2355840" cy="1955880"/>
            <a:chOff x="361800" y="1574640"/>
            <a:chExt cx="2355840" cy="1955880"/>
          </a:xfrm>
        </p:grpSpPr>
        <p:sp>
          <p:nvSpPr>
            <p:cNvPr id="431" name=""/>
            <p:cNvSpPr/>
            <p:nvPr/>
          </p:nvSpPr>
          <p:spPr>
            <a:xfrm>
              <a:off x="361800" y="180324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14320" y="1619280"/>
              <a:ext cx="0" cy="18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4240" y="1574640"/>
              <a:ext cx="22734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540160" y="1319040"/>
            <a:ext cx="4173120" cy="5240160"/>
            <a:chOff x="2540160" y="1319040"/>
            <a:chExt cx="4173120" cy="5240160"/>
          </a:xfrm>
        </p:grpSpPr>
        <p:sp>
          <p:nvSpPr>
            <p:cNvPr id="435" name=""/>
            <p:cNvSpPr/>
            <p:nvPr/>
          </p:nvSpPr>
          <p:spPr>
            <a:xfrm>
              <a:off x="2585520" y="1455840"/>
              <a:ext cx="3990600" cy="51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6" name="" descr=""/>
            <p:cNvPicPr/>
            <p:nvPr/>
          </p:nvPicPr>
          <p:blipFill>
            <a:blip r:embed="rId1"/>
            <a:stretch/>
          </p:blipFill>
          <p:spPr>
            <a:xfrm>
              <a:off x="2585520" y="1455840"/>
              <a:ext cx="3975480" cy="50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5724000" y="2948400"/>
              <a:ext cx="48708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47680" y="284184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26200" y="454896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49880" y="4442400"/>
              <a:ext cx="48744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64800" y="5691240"/>
              <a:ext cx="48708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88840" y="558468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40160" y="1319040"/>
              <a:ext cx="1081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hoosing different realizations of a fun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"/>
          <p:cNvSpPr/>
          <p:nvPr/>
        </p:nvSpPr>
        <p:spPr>
          <a:xfrm>
            <a:off x="5896080" y="2876400"/>
            <a:ext cx="2984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re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 don’t count NOT ga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51600" y="5883120"/>
            <a:ext cx="2959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 gate (easier to draw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ostlier to bui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16680" y="4286160"/>
            <a:ext cx="28065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level re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ates with fewer inpu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8CF-F026-40A1-88F5-142584BCC6C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ich realization is best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542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: input variable (complemented or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pproximate cost of logic gate as 2 transitors per li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not count invert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literals means less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inputs implies faster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s are smaller and thus also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-ins (# of gate inputs) are limited in som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gates (and the packages they come in) means smaller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ly influences manufacturing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964-9041-481D-AD7E-4957390B871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ich is the best realization? 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levels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level of gates implies reduced signal propagation de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delay configuration typically requires more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r, less deep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explore tradeoffs between increased circuit delay and siz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tools to generate different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minimization: reduce number of gates and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optimization: reduction while trading off against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9392-74B5-4C8D-A49B-66979061A1F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941400" y="4411800"/>
            <a:ext cx="7381800" cy="197784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e all realizations equivalent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708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 the same input stimuli, the three alternative implementations hav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most the same waveform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ar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tches (hazards) may arise – these could be bad, it dep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s due to differences in number of gate levels 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ree implementations are functionally equiva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B3A-909C-448E-A395-6E741A00B8B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ing Boolean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for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ch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s of a few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programmabl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programmabl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64E-0B29-4FF0-98E6-8B0F48DAF7A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 is the unique signature of a Boolea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ame truth table can have many gate real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forms for a Boolean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unique algebraic sig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D35-FA1C-4889-835E-C4605798668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907920" y="3911760"/>
            <a:ext cx="2584440" cy="1955520"/>
            <a:chOff x="907920" y="3911760"/>
            <a:chExt cx="2584440" cy="1955520"/>
          </a:xfrm>
        </p:grpSpPr>
        <p:sp>
          <p:nvSpPr>
            <p:cNvPr id="460" name=""/>
            <p:cNvSpPr/>
            <p:nvPr/>
          </p:nvSpPr>
          <p:spPr>
            <a:xfrm>
              <a:off x="907920" y="414000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35240" y="391788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65160" y="3911760"/>
              <a:ext cx="252720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114800" y="3276720"/>
            <a:ext cx="535932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67080" y="5486400"/>
            <a:ext cx="32641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’ = A’B’C’ + A’BC’ + AB’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-of-products 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disjunctive normal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minterm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203000" y="289548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001      011      101       110       111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14600" y="3260880"/>
            <a:ext cx="3237120" cy="1615680"/>
            <a:chOff x="2514600" y="3260880"/>
            <a:chExt cx="3237120" cy="1615680"/>
          </a:xfrm>
        </p:grpSpPr>
        <p:sp>
          <p:nvSpPr>
            <p:cNvPr id="469" name=""/>
            <p:cNvSpPr/>
            <p:nvPr/>
          </p:nvSpPr>
          <p:spPr>
            <a:xfrm>
              <a:off x="497808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’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2514600" y="3657240"/>
              <a:ext cx="289548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514600" y="3260880"/>
            <a:ext cx="3962520" cy="1996560"/>
            <a:chOff x="2514600" y="3260880"/>
            <a:chExt cx="3962520" cy="1996560"/>
          </a:xfrm>
        </p:grpSpPr>
        <p:sp>
          <p:nvSpPr>
            <p:cNvPr id="472" name=""/>
            <p:cNvSpPr/>
            <p:nvPr/>
          </p:nvSpPr>
          <p:spPr>
            <a:xfrm>
              <a:off x="570348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514600" y="3657240"/>
              <a:ext cx="358128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14600" y="3260880"/>
            <a:ext cx="4724640" cy="2225520"/>
            <a:chOff x="2514600" y="3260880"/>
            <a:chExt cx="4724640" cy="2225520"/>
          </a:xfrm>
        </p:grpSpPr>
        <p:sp>
          <p:nvSpPr>
            <p:cNvPr id="475" name=""/>
            <p:cNvSpPr/>
            <p:nvPr/>
          </p:nvSpPr>
          <p:spPr>
            <a:xfrm>
              <a:off x="646560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514600" y="3657600"/>
              <a:ext cx="434340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514600" y="3276720"/>
            <a:ext cx="5450760" cy="2437920"/>
            <a:chOff x="2514600" y="3276720"/>
            <a:chExt cx="5450760" cy="2437920"/>
          </a:xfrm>
        </p:grpSpPr>
        <p:sp>
          <p:nvSpPr>
            <p:cNvPr id="478" name=""/>
            <p:cNvSpPr/>
            <p:nvPr/>
          </p:nvSpPr>
          <p:spPr>
            <a:xfrm>
              <a:off x="7227000" y="3276720"/>
              <a:ext cx="73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514600" y="3580920"/>
              <a:ext cx="510552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514600" y="3289320"/>
            <a:ext cx="2573280" cy="1130040"/>
            <a:chOff x="2514600" y="3289320"/>
            <a:chExt cx="2573280" cy="1130040"/>
          </a:xfrm>
        </p:grpSpPr>
        <p:sp>
          <p:nvSpPr>
            <p:cNvPr id="481" name=""/>
            <p:cNvSpPr/>
            <p:nvPr/>
          </p:nvSpPr>
          <p:spPr>
            <a:xfrm flipV="1">
              <a:off x="2514600" y="3657240"/>
              <a:ext cx="21337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48520" y="328932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5A30-67C5-4D93-B149-4EF49548585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st of different logic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functions are easier or harder to imp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s a cost associated with the number of switche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(F0) and 1 (F15): require 0 switches, directly connect output to low/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(F3) and Y (F5): require 0 switches, output is one of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’ (F12) and Y’ (F10): require 2 switches for "inverter" or NOT-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nor Y (F4) and X nand Y (F14): require 4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or Y (F7) and X and Y (F1): require 6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Y (F9) and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(F6): require 16 switch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because NOT, NOR, and NAND are the cheapest they are the functions we implement the most i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5E1-AB0F-4758-8212-C067ABDF68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54120" y="5997600"/>
            <a:ext cx="2628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-hand notation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terms of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884160" y="3106800"/>
            <a:ext cx="2762280" cy="2527200"/>
            <a:chOff x="884160" y="3106800"/>
            <a:chExt cx="2762280" cy="2527200"/>
          </a:xfrm>
        </p:grpSpPr>
        <p:sp>
          <p:nvSpPr>
            <p:cNvPr id="485" name=""/>
            <p:cNvSpPr/>
            <p:nvPr/>
          </p:nvSpPr>
          <p:spPr>
            <a:xfrm>
              <a:off x="979560" y="3106800"/>
              <a:ext cx="266688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interm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84160" y="3385800"/>
              <a:ext cx="265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36680" y="3151080"/>
              <a:ext cx="0" cy="23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 flipV="1">
            <a:off x="2789280" y="5576760"/>
            <a:ext cx="4446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51360" y="3259080"/>
            <a:ext cx="498960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(1,3,5,6,7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m1 + m3 + m5 + m6 + 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A’B’C + A’BC + AB’C + ABC’ + A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’B’C + A’BC + AB’C + ABC + ABC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’B’ + A’B + AB’ + AB)C + AB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(A’ + A)(B’ + B))C + AB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C + AB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BC’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-of-products canonical for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6040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term (or min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d product of literals – input combination for which output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variable appears exactly once, true or inverted (but not bo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CD0-D43B-4DD8-8E30-E50BF8D9FD3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907920" y="3606840"/>
            <a:ext cx="2584440" cy="1955880"/>
            <a:chOff x="907920" y="3606840"/>
            <a:chExt cx="2584440" cy="1955880"/>
          </a:xfrm>
        </p:grpSpPr>
        <p:sp>
          <p:nvSpPr>
            <p:cNvPr id="493" name=""/>
            <p:cNvSpPr/>
            <p:nvPr/>
          </p:nvSpPr>
          <p:spPr>
            <a:xfrm>
              <a:off x="907920" y="383544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35240" y="3613320"/>
              <a:ext cx="0" cy="18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65160" y="3606840"/>
              <a:ext cx="25272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949560" y="2743200"/>
            <a:ext cx="5359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    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000              010              1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5969160"/>
            <a:ext cx="6705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’ = (A + B + C’) (A + B’ + C’) (A’ + B + C’) (A’ + B’ + C) (A’ + B’ + C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-of-sums canonical for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conjunctive normal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maxterm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517840" y="3003480"/>
            <a:ext cx="2986560" cy="934920"/>
            <a:chOff x="2517840" y="3003480"/>
            <a:chExt cx="2986560" cy="934920"/>
          </a:xfrm>
        </p:grpSpPr>
        <p:sp>
          <p:nvSpPr>
            <p:cNvPr id="501" name=""/>
            <p:cNvSpPr/>
            <p:nvPr/>
          </p:nvSpPr>
          <p:spPr>
            <a:xfrm>
              <a:off x="4368240" y="3003480"/>
              <a:ext cx="11361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 + B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2517840" y="3341160"/>
              <a:ext cx="23572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486160" y="3003480"/>
            <a:ext cx="4227120" cy="1338480"/>
            <a:chOff x="2486160" y="3003480"/>
            <a:chExt cx="4227120" cy="1338480"/>
          </a:xfrm>
        </p:grpSpPr>
        <p:sp>
          <p:nvSpPr>
            <p:cNvPr id="504" name=""/>
            <p:cNvSpPr/>
            <p:nvPr/>
          </p:nvSpPr>
          <p:spPr>
            <a:xfrm>
              <a:off x="5541840" y="3003480"/>
              <a:ext cx="11714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 + B’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486160" y="3357720"/>
              <a:ext cx="3616200" cy="9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502000" y="2997360"/>
            <a:ext cx="5427360" cy="1731960"/>
            <a:chOff x="2502000" y="2997360"/>
            <a:chExt cx="5427360" cy="1731960"/>
          </a:xfrm>
        </p:grpSpPr>
        <p:sp>
          <p:nvSpPr>
            <p:cNvPr id="507" name=""/>
            <p:cNvSpPr/>
            <p:nvPr/>
          </p:nvSpPr>
          <p:spPr>
            <a:xfrm>
              <a:off x="6757920" y="2997360"/>
              <a:ext cx="11714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’ + B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2502000" y="3357720"/>
              <a:ext cx="485928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0C5-A0F6-4EAB-8F64-F413789B011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520560" y="3041640"/>
            <a:ext cx="3308400" cy="2527200"/>
            <a:chOff x="520560" y="3041640"/>
            <a:chExt cx="3308400" cy="2527200"/>
          </a:xfrm>
        </p:grpSpPr>
        <p:sp>
          <p:nvSpPr>
            <p:cNvPr id="510" name=""/>
            <p:cNvSpPr/>
            <p:nvPr/>
          </p:nvSpPr>
          <p:spPr>
            <a:xfrm>
              <a:off x="520560" y="3333600"/>
              <a:ext cx="29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809720" y="3111480"/>
              <a:ext cx="0" cy="23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7040" y="3041640"/>
              <a:ext cx="330192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xterm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’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’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’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’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03040" y="5778360"/>
            <a:ext cx="262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-hand notation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xterms of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41920" y="3105000"/>
            <a:ext cx="5144760" cy="27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(0,2,4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M0 • M2 • 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(A + B + C) (A + B’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B + C) (A + B’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B + C) (A + B’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C) (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2400480" y="5460840"/>
            <a:ext cx="7999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-of-sums canonical for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term (or max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ed sum of literals – input combination for which output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variable appears exactly once, true or inverted (but not bo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E19-E00A-44B3-9869-928F435E6D4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-o-P, P-o-S, and de Morgan’s theor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-of-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 = A’B’C’ + A’BC’ + AB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e Morga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’)’ = (A’B’C’ + A’BC’ + AB’C’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(A + B + C) (A + B’ + C) (A’ + B + C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of-s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 = (A + B + C’) (A + B’ + C’) (A’ + B + C’) (A’ + B’ + C) (A’ + B’ + C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e Morga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’)’ = ( (A + B + C’)(A + B’ + C’)(A’ + B + C’)(A’ + B’ + C)(A’ + B’ + C’) 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A’B’C + A’BC + AB’C + ABC’ +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FD2-AC79-4B7D-9749-34AEC67E71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613480" y="2279520"/>
            <a:ext cx="325116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sum-of-produc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d sum-of-produc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product-of-sum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d product-of-s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984560" y="2502000"/>
            <a:ext cx="60948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984560" y="3619440"/>
            <a:ext cx="63468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971960" y="4724280"/>
            <a:ext cx="6350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971600" y="5829480"/>
            <a:ext cx="660600" cy="26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49480" y="1994040"/>
            <a:ext cx="1778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149480" y="210816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3000" y="1994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39920" y="209556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9480" y="2629080"/>
            <a:ext cx="1778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149480" y="274320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143000" y="26290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39920" y="273060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9480" y="3263760"/>
            <a:ext cx="177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149480" y="337824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43000" y="326376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339920" y="336564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17960" y="17715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17960" y="2076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11480" y="17780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90040" y="178596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83560" y="17794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89680" y="177192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83200" y="176544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17960" y="2152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17960" y="24573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11480" y="21589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90040" y="21668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83560" y="21607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89680" y="21528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83200" y="21463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17960" y="2533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17960" y="28386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11480" y="25401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90040" y="254808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283560" y="254160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89680" y="2533320"/>
            <a:ext cx="291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83200" y="252720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17960" y="29145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17960" y="3219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11480" y="29210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90040" y="292896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83560" y="29224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89680" y="291492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83200" y="290844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17960" y="3295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17960" y="36003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11480" y="33019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90040" y="33098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83560" y="33037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89680" y="32958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83200" y="32893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68320" y="2546280"/>
            <a:ext cx="93996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62200" y="2539800"/>
            <a:ext cx="9522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68680" y="2560680"/>
            <a:ext cx="9396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62560" y="2554200"/>
            <a:ext cx="9518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75120" y="256068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969000" y="255420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74760" y="254628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68640" y="253980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237492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038480" y="28191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044960" y="268596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17960" y="38037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17960" y="4121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111480" y="379692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90040" y="38178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83560" y="3811680"/>
            <a:ext cx="30384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89680" y="38037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83200" y="3797640"/>
            <a:ext cx="3042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43800" y="3887640"/>
            <a:ext cx="13896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11800" y="3887640"/>
            <a:ext cx="9900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74800" y="3873600"/>
            <a:ext cx="927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43440" y="3873600"/>
            <a:ext cx="1393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44960" y="39560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44960" y="4083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91280" y="454176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84800" y="4535640"/>
            <a:ext cx="99000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41320" y="452772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34840" y="4521600"/>
            <a:ext cx="93996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09600" y="452772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03480" y="4521600"/>
            <a:ext cx="1393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17960" y="4667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09960" y="454176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03840" y="453564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91280" y="492300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84800" y="491652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641320" y="490860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34840" y="4902120"/>
            <a:ext cx="939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09600" y="490860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03480" y="490212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17960" y="50482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09960" y="4923000"/>
            <a:ext cx="12672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03840" y="491652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91280" y="530388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84800" y="529740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41320" y="528948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634840" y="5283000"/>
            <a:ext cx="939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09600" y="528948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03480" y="528300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17960" y="54291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009960" y="530388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03840" y="529740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44960" y="4896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044960" y="5200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38480" y="49021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204440" y="49100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97960" y="49039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04080" y="48960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97600" y="48895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16800" y="580536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7400" y="580536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48160" y="5790960"/>
            <a:ext cx="9392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016440" y="579096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17960" y="58737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17960" y="60008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16800" y="618660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97400" y="6186600"/>
            <a:ext cx="99000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48160" y="6172560"/>
            <a:ext cx="93924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016440" y="6172560"/>
            <a:ext cx="1393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17960" y="62546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17960" y="63817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044960" y="597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044960" y="6280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038480" y="5969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204440" y="598968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97960" y="598320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204080" y="597564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97600" y="596916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415880" y="21146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90880" y="1797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63560" y="1676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50960" y="17845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63560" y="180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50960" y="21016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63560" y="2120760"/>
            <a:ext cx="0" cy="438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670040" y="179712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42960" y="21146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58776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17880" y="24321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35440" y="193032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1484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41920" y="24321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587760" y="2305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17880" y="25588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714840" y="25588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08360" y="23115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58776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17880" y="26859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714840" y="26859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87760" y="3067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917880" y="2813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14840" y="28130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708360" y="28195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776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17880" y="2940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41920" y="294012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35440" y="29462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484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0216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60920" y="2571840"/>
            <a:ext cx="4316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7760" y="3956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17880" y="3956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14840" y="39560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02160" y="4019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660920" y="3905280"/>
            <a:ext cx="4064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15880" y="33847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990880" y="2432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90880" y="3193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90880" y="51753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63840" y="167652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11560" y="24192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63840" y="243828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451240" y="31813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463840" y="32004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451240" y="33717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63840" y="3390840"/>
            <a:ext cx="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11560" y="51624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63840" y="5181480"/>
            <a:ext cx="0" cy="132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42960" y="3384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343240" y="243216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70320" y="31939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30280" y="51753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415880" y="27496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990880" y="2305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9088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90880" y="5429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57400" y="1676520"/>
            <a:ext cx="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917720" y="22924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57400" y="2311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4800" y="26733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057400" y="26924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44800" y="27367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57400" y="275580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17720" y="54165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54356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42960" y="27496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49400" y="230508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63880" y="26859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49400" y="542916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587760" y="4667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17880" y="4921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14840" y="4921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708360" y="467352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58776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17880" y="5048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714840" y="5048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587760" y="5429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917880" y="51753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714840" y="51753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708360" y="518148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50216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60920" y="4933800"/>
            <a:ext cx="393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22400" y="2749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90880" y="4019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9088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990880" y="3067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9088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990880" y="4667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9088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90880" y="60008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2280" y="2495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003320" y="2482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22400" y="24955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917720" y="2482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30320" y="16765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44800" y="19112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30320" y="193032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30320" y="250200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17720" y="30542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930320" y="30733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17720" y="34354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30320" y="3454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17720" y="40068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30320" y="402588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17720" y="46544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30320" y="4673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44800" y="50356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930320" y="505476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311560" y="598788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30320" y="600696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76480" y="192420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015920" y="2502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936800" y="30672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36800" y="344808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936800" y="4667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63880" y="5048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43240" y="600084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4019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44600" y="238140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22400" y="2114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17880" y="4083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990880" y="2178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990880" y="25588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990880" y="2940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990880" y="3321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990880" y="45403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990880" y="492120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990880" y="530208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90880" y="58737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990880" y="6254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92280" y="1860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003320" y="18478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022400" y="18604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23880" y="18478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536840" y="16765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36840" y="18669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50960" y="2165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36840" y="2184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23880" y="25462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36840" y="2565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23880" y="29275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36840" y="29462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23880" y="3308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536840" y="3327480"/>
            <a:ext cx="0" cy="8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311560" y="4210200"/>
            <a:ext cx="3780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36840" y="42292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523880" y="45277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536840" y="45464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523880" y="49086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536840" y="4927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50960" y="52894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36840" y="5308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23880" y="58611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36840" y="5880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17720" y="62420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36840" y="62611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015920" y="18669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670040" y="217800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542960" y="25588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542960" y="29401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542960" y="33210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542960" y="45403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42960" y="49212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670040" y="530208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42960" y="587376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936800" y="625464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30280" y="422280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11760" y="40892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4600" y="174636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022400" y="3384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990880" y="3892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990880" y="2050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90880" y="2813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990880" y="3575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990880" y="47941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90880" y="55562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990880" y="6381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324160" y="1676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311560" y="20383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324160" y="20574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11560" y="280044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2416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311560" y="31179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324160" y="313704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11560" y="35622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32416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523880" y="38797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324160" y="3898800"/>
            <a:ext cx="0" cy="88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11560" y="47815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24160" y="48006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11560" y="554364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324160" y="5562720"/>
            <a:ext cx="0" cy="81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311560" y="63691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324160" y="63882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330280" y="20509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330280" y="28130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92280" y="3130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003320" y="31179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22400" y="31305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015920" y="3137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30280" y="35751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330280" y="47941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330280" y="55562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330280" y="63817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542960" y="38926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4600" y="301608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587760" y="5937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17880" y="6064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714840" y="6064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08360" y="59436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587760" y="63183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17880" y="6191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14840" y="6191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708360" y="61977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02160" y="6127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60920" y="6013440"/>
            <a:ext cx="380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ur alternative two-level implementations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f F = AB + 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89A-60CB-4ECA-8B1E-F687AEA11C9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8013960" cy="251460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aveforms for the four alternativ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forms are essentially iden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for timing hazards (glit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almost identical (modeled as a delay per level, not type of gate or number of inputs to g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8805-764B-4CDF-ABB8-EAAADC62C95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between 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term to maxterm 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xterms whose indices do not appear in minterm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term to minterm 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interms whose indices do not appear in maxterm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term expansion of F to minterm expansion of F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interms whose indices do not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term expansion of F to maxterm expansion of F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xterms whose indices do not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12A3-8182-4FF6-9CFE-B31AB9DB99B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757080" y="2986200"/>
            <a:ext cx="363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567160" y="275112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39880" y="2744640"/>
            <a:ext cx="35049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662200" y="2973240"/>
            <a:ext cx="4572000" cy="2210040"/>
            <a:chOff x="2662200" y="2973240"/>
            <a:chExt cx="4572000" cy="2210040"/>
          </a:xfrm>
        </p:grpSpPr>
        <p:sp>
          <p:nvSpPr>
            <p:cNvPr id="877" name=""/>
            <p:cNvSpPr/>
            <p:nvPr/>
          </p:nvSpPr>
          <p:spPr>
            <a:xfrm>
              <a:off x="2662200" y="49546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52760" y="320184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ff-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662200" y="2973240"/>
              <a:ext cx="152280" cy="152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2814480" y="3354480"/>
              <a:ext cx="22860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814480" y="3354480"/>
              <a:ext cx="228600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4262400" y="5151600"/>
            <a:ext cx="4565520" cy="1269000"/>
            <a:chOff x="4262400" y="5151600"/>
            <a:chExt cx="4565520" cy="1269000"/>
          </a:xfrm>
        </p:grpSpPr>
        <p:sp>
          <p:nvSpPr>
            <p:cNvPr id="883" name=""/>
            <p:cNvSpPr/>
            <p:nvPr/>
          </p:nvSpPr>
          <p:spPr>
            <a:xfrm>
              <a:off x="5640120" y="5259240"/>
              <a:ext cx="31878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ese inputs patterns shoul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ver be encountered in practic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"don’t care"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about associate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 values, can be exploite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 minim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4262400" y="5659200"/>
              <a:ext cx="1282680" cy="76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62400" y="5151600"/>
              <a:ext cx="128268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completeley specified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binary coded decimal increment b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D digits encode the decimal digits 0 – 9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bit patterns 0000 – 1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662200" y="4125960"/>
            <a:ext cx="5133960" cy="2352600"/>
            <a:chOff x="2662200" y="4125960"/>
            <a:chExt cx="5133960" cy="2352600"/>
          </a:xfrm>
        </p:grpSpPr>
        <p:sp>
          <p:nvSpPr>
            <p:cNvPr id="889" name=""/>
            <p:cNvSpPr/>
            <p:nvPr/>
          </p:nvSpPr>
          <p:spPr>
            <a:xfrm>
              <a:off x="2662200" y="5183280"/>
              <a:ext cx="152280" cy="12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2814480" y="4268880"/>
              <a:ext cx="22860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76800" y="4125960"/>
              <a:ext cx="26193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n’t care (DC) 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2662200" y="3659040"/>
            <a:ext cx="3764160" cy="1295640"/>
            <a:chOff x="2662200" y="3659040"/>
            <a:chExt cx="3764160" cy="1295640"/>
          </a:xfrm>
        </p:grpSpPr>
        <p:sp>
          <p:nvSpPr>
            <p:cNvPr id="893" name=""/>
            <p:cNvSpPr/>
            <p:nvPr/>
          </p:nvSpPr>
          <p:spPr>
            <a:xfrm>
              <a:off x="2662200" y="4497480"/>
              <a:ext cx="1522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2814480" y="3811680"/>
              <a:ext cx="22860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60600" y="3659040"/>
              <a:ext cx="12657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-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569-4D53-48BE-A680-31C52BC3272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Notation for incompletely specified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’t cares and canonical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far, only represented on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represent don’t-care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wo of the three sets (on-set, off-set, dc-se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onical representations of the BCD increment by 1 function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m0 + m2 + m4 + m6 + m8 + d10 + d11 + d12 + d13 + d14 + d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 m(0,2,4,6,8) + d(10,11,12,13,14,15) 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M1 • M3 • M5 • M7 • M9 • D10 • D11 • D12 • D13 • D14 • D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 M(1,3,5,7,9) • D(10,11,12,13,14,15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202C-26CE-4764-914E-6A7FD68F196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ification of two-level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 minimal sum of products or product of sums re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don’t care information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ebraic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algorithmic/systematic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know when the minimum realization has been fou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-aided desig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e solutions require very long computation times, especially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with many inputs (&gt;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methods employed – "educated guesses" to reduce amount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 and yield good if not best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methods still 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nderstand automatic tools and their strengths and wea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check results (on small ex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835B-A388-48A6-AD71-C256A273EAE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883040" y="3456000"/>
            <a:ext cx="199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271680"/>
            <a:ext cx="0" cy="59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3227400"/>
            <a:ext cx="19940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nand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43240" y="3456000"/>
            <a:ext cx="18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51160" y="3271680"/>
            <a:ext cx="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3080" y="3227400"/>
            <a:ext cx="19047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nor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4784760"/>
            <a:ext cx="4610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11430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)  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al set of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implement all logic functions from NOT, NOR, and NA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mplementing          X and 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ame as implementing   not (X nand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act, we can do it with only NOR or only N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s just a NAND or a NOR with both inputs tied together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AND and NOR are "duals"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its easy to implement one using the other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lets not move too fas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s look at the mathematical foundation of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0F4-36E0-4C63-A4C8-9B73DC5FCC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066680" y="4495680"/>
            <a:ext cx="1524240" cy="990720"/>
            <a:chOff x="1066680" y="4495680"/>
            <a:chExt cx="1524240" cy="990720"/>
          </a:xfrm>
        </p:grpSpPr>
        <p:sp>
          <p:nvSpPr>
            <p:cNvPr id="901" name=""/>
            <p:cNvSpPr/>
            <p:nvPr/>
          </p:nvSpPr>
          <p:spPr>
            <a:xfrm>
              <a:off x="1066680" y="51814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66680" y="44956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1308240" y="415296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263600" y="444492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133720" y="417204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1676520" y="4317840"/>
            <a:ext cx="6464160" cy="1168560"/>
            <a:chOff x="1676520" y="4317840"/>
            <a:chExt cx="6464160" cy="1168560"/>
          </a:xfrm>
        </p:grpSpPr>
        <p:sp>
          <p:nvSpPr>
            <p:cNvPr id="907" name=""/>
            <p:cNvSpPr/>
            <p:nvPr/>
          </p:nvSpPr>
          <p:spPr>
            <a:xfrm>
              <a:off x="16765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6765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81080" y="4495680"/>
              <a:ext cx="1403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1981080" y="4629240"/>
              <a:ext cx="140364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29000" y="4317840"/>
              <a:ext cx="4711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has the same value in both on-set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B rem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1219320" y="4495680"/>
            <a:ext cx="6705360" cy="1803600"/>
            <a:chOff x="1219320" y="4495680"/>
            <a:chExt cx="6705360" cy="1803600"/>
          </a:xfrm>
        </p:grpSpPr>
        <p:sp>
          <p:nvSpPr>
            <p:cNvPr id="913" name=""/>
            <p:cNvSpPr/>
            <p:nvPr/>
          </p:nvSpPr>
          <p:spPr>
            <a:xfrm>
              <a:off x="12193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2193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23880" y="4800600"/>
              <a:ext cx="1873440" cy="11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5486400"/>
              <a:ext cx="186084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41600" y="5638680"/>
              <a:ext cx="44830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has a different value in the two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A is elimin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2743200" y="3657600"/>
            <a:ext cx="341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A’B’+AB’ = (A’+A)B’ = B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 uniting theor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 tool to simplification: A (B’ + B) =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sence of simplification of two-leve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wo element subsets of the ON-set where only one variable changes its value – this single varying variable can be eliminated and a single product term used to represent both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5BD-D84A-44CC-A4D3-4A58A823A58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"/>
          <p:cNvGrpSpPr/>
          <p:nvPr/>
        </p:nvGrpSpPr>
        <p:grpSpPr>
          <a:xfrm>
            <a:off x="673200" y="3305160"/>
            <a:ext cx="2705040" cy="787320"/>
            <a:chOff x="673200" y="3305160"/>
            <a:chExt cx="2705040" cy="787320"/>
          </a:xfrm>
        </p:grpSpPr>
        <p:grpSp>
          <p:nvGrpSpPr>
            <p:cNvPr id="922" name=""/>
            <p:cNvGrpSpPr/>
            <p:nvPr/>
          </p:nvGrpSpPr>
          <p:grpSpPr>
            <a:xfrm>
              <a:off x="1981080" y="3610080"/>
              <a:ext cx="990720" cy="152280"/>
              <a:chOff x="1981080" y="3610080"/>
              <a:chExt cx="990720" cy="152280"/>
            </a:xfrm>
          </p:grpSpPr>
          <p:sp>
            <p:nvSpPr>
              <p:cNvPr id="923" name=""/>
              <p:cNvSpPr/>
              <p:nvPr/>
            </p:nvSpPr>
            <p:spPr>
              <a:xfrm>
                <a:off x="2133720" y="368604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81080" y="36100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819520" y="3610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>
              <a:off x="673200" y="349560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362320" y="376236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981080" y="330516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819520" y="330516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oolean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ual technique for indentifying when the uniting theore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ppl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input variables = n-dimensional "cub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622760" y="3000240"/>
            <a:ext cx="2933640" cy="1371600"/>
            <a:chOff x="4622760" y="3000240"/>
            <a:chExt cx="2933640" cy="1371600"/>
          </a:xfrm>
        </p:grpSpPr>
        <p:sp>
          <p:nvSpPr>
            <p:cNvPr id="933" name=""/>
            <p:cNvSpPr/>
            <p:nvPr/>
          </p:nvSpPr>
          <p:spPr>
            <a:xfrm>
              <a:off x="6400800" y="3470400"/>
              <a:ext cx="1155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34120" y="40417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826160" y="34322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19920" y="300024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22760" y="3876840"/>
              <a:ext cx="787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22760" y="305100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019920" y="3838680"/>
              <a:ext cx="685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4952880" y="3076560"/>
              <a:ext cx="990720" cy="990720"/>
              <a:chOff x="4952880" y="3076560"/>
              <a:chExt cx="990720" cy="990720"/>
            </a:xfrm>
          </p:grpSpPr>
          <p:grpSp>
            <p:nvGrpSpPr>
              <p:cNvPr id="941" name=""/>
              <p:cNvGrpSpPr/>
              <p:nvPr/>
            </p:nvGrpSpPr>
            <p:grpSpPr>
              <a:xfrm>
                <a:off x="4952880" y="3914640"/>
                <a:ext cx="990720" cy="152640"/>
                <a:chOff x="4952880" y="3914640"/>
                <a:chExt cx="990720" cy="15264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5105520" y="399096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952880" y="3914640"/>
                  <a:ext cx="15264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791320" y="3914640"/>
                  <a:ext cx="15228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4952880" y="3076920"/>
                <a:ext cx="152280" cy="990360"/>
                <a:chOff x="4952880" y="3076920"/>
                <a:chExt cx="152280" cy="990360"/>
              </a:xfrm>
            </p:grpSpPr>
            <p:sp>
              <p:nvSpPr>
                <p:cNvPr id="946" name=""/>
                <p:cNvSpPr/>
                <p:nvPr/>
              </p:nvSpPr>
              <p:spPr>
                <a:xfrm flipV="1">
                  <a:off x="5028840" y="322920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rot="16200000">
                  <a:off x="4952880" y="3915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rot="16200000">
                  <a:off x="4952880" y="30769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5791320" y="3076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05520" y="31528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67280" y="322884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647640" y="4524480"/>
            <a:ext cx="3403800" cy="1780920"/>
            <a:chOff x="647640" y="4524480"/>
            <a:chExt cx="3403800" cy="1780920"/>
          </a:xfrm>
        </p:grpSpPr>
        <p:sp>
          <p:nvSpPr>
            <p:cNvPr id="953" name=""/>
            <p:cNvSpPr/>
            <p:nvPr/>
          </p:nvSpPr>
          <p:spPr>
            <a:xfrm>
              <a:off x="647640" y="536256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219400" y="59752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711440" y="5413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981080" y="5514840"/>
              <a:ext cx="55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47920" y="592128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238560" y="452448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244680" y="550548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1847880" y="4667400"/>
              <a:ext cx="1371240" cy="1371600"/>
              <a:chOff x="1847880" y="4667400"/>
              <a:chExt cx="1371240" cy="1371600"/>
            </a:xfrm>
          </p:grpSpPr>
          <p:sp>
            <p:nvSpPr>
              <p:cNvPr id="961" name=""/>
              <p:cNvSpPr/>
              <p:nvPr/>
            </p:nvSpPr>
            <p:spPr>
              <a:xfrm flipV="1">
                <a:off x="2762280" y="558180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1924200" y="5637240"/>
                <a:ext cx="324000" cy="32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1924200" y="4743720"/>
                <a:ext cx="38088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V="1">
                <a:off x="2762280" y="474372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1847880" y="5048280"/>
                <a:ext cx="990720" cy="990720"/>
                <a:chOff x="1847880" y="5048280"/>
                <a:chExt cx="990720" cy="990720"/>
              </a:xfrm>
            </p:grpSpPr>
            <p:grpSp>
              <p:nvGrpSpPr>
                <p:cNvPr id="966" name=""/>
                <p:cNvGrpSpPr/>
                <p:nvPr/>
              </p:nvGrpSpPr>
              <p:grpSpPr>
                <a:xfrm>
                  <a:off x="1847880" y="5886360"/>
                  <a:ext cx="990720" cy="152640"/>
                  <a:chOff x="1847880" y="5886360"/>
                  <a:chExt cx="990720" cy="15264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>
                    <a:off x="2000520" y="596268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1847880" y="5886360"/>
                    <a:ext cx="15264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686320" y="5886360"/>
                    <a:ext cx="1522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1847880" y="5048640"/>
                  <a:ext cx="152280" cy="990360"/>
                  <a:chOff x="1847880" y="5048640"/>
                  <a:chExt cx="152280" cy="99036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 flipV="1">
                    <a:off x="1923840" y="520092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rot="16200000">
                    <a:off x="1847880" y="588672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 rot="16200000">
                    <a:off x="1847880" y="504864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4" name=""/>
                <p:cNvSpPr/>
                <p:nvPr/>
              </p:nvSpPr>
              <p:spPr>
                <a:xfrm>
                  <a:off x="2686320" y="504828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000520" y="512460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762280" y="520056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2229120" y="4667400"/>
                <a:ext cx="990000" cy="990720"/>
                <a:chOff x="2229120" y="4667400"/>
                <a:chExt cx="990000" cy="990720"/>
              </a:xfrm>
            </p:grpSpPr>
            <p:grpSp>
              <p:nvGrpSpPr>
                <p:cNvPr id="978" name=""/>
                <p:cNvGrpSpPr/>
                <p:nvPr/>
              </p:nvGrpSpPr>
              <p:grpSpPr>
                <a:xfrm>
                  <a:off x="2229120" y="5505480"/>
                  <a:ext cx="990000" cy="152640"/>
                  <a:chOff x="2229120" y="5505480"/>
                  <a:chExt cx="990000" cy="152640"/>
                </a:xfrm>
              </p:grpSpPr>
              <p:sp>
                <p:nvSpPr>
                  <p:cNvPr id="979" name=""/>
                  <p:cNvSpPr/>
                  <p:nvPr/>
                </p:nvSpPr>
                <p:spPr>
                  <a:xfrm>
                    <a:off x="2381400" y="558180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2229120" y="5505480"/>
                    <a:ext cx="1522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067200" y="5505480"/>
                    <a:ext cx="15192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2229120" y="4667760"/>
                  <a:ext cx="152280" cy="990360"/>
                  <a:chOff x="2229120" y="4667760"/>
                  <a:chExt cx="152280" cy="99036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 flipV="1">
                    <a:off x="2305080" y="482004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rot="16200000">
                    <a:off x="2229120" y="550584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rot="16200000">
                    <a:off x="2229120" y="466776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6" name=""/>
                <p:cNvSpPr/>
                <p:nvPr/>
              </p:nvSpPr>
              <p:spPr>
                <a:xfrm>
                  <a:off x="3067200" y="4667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381400" y="4743720"/>
                  <a:ext cx="68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143160" y="481968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9" name=""/>
          <p:cNvGrpSpPr/>
          <p:nvPr/>
        </p:nvGrpSpPr>
        <p:grpSpPr>
          <a:xfrm>
            <a:off x="3809880" y="4524480"/>
            <a:ext cx="5308560" cy="2057400"/>
            <a:chOff x="3809880" y="4524480"/>
            <a:chExt cx="5308560" cy="2057400"/>
          </a:xfrm>
        </p:grpSpPr>
        <p:sp>
          <p:nvSpPr>
            <p:cNvPr id="990" name=""/>
            <p:cNvSpPr/>
            <p:nvPr/>
          </p:nvSpPr>
          <p:spPr>
            <a:xfrm>
              <a:off x="7962840" y="527364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902120" y="59468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724280" y="625140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91120" y="564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70480" y="5794200"/>
              <a:ext cx="5587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09880" y="625140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620120" y="452448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918040" y="607392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664240" y="4676760"/>
              <a:ext cx="939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9" name=""/>
            <p:cNvGrpSpPr/>
            <p:nvPr/>
          </p:nvGrpSpPr>
          <p:grpSpPr>
            <a:xfrm>
              <a:off x="4317840" y="4727520"/>
              <a:ext cx="3276360" cy="1600200"/>
              <a:chOff x="4317840" y="4727520"/>
              <a:chExt cx="3276360" cy="1600200"/>
            </a:xfrm>
          </p:grpSpPr>
          <p:sp>
            <p:nvSpPr>
              <p:cNvPr id="1000" name=""/>
              <p:cNvSpPr/>
              <p:nvPr/>
            </p:nvSpPr>
            <p:spPr>
              <a:xfrm flipV="1">
                <a:off x="5232240" y="602244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5613120" y="564156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4775040" y="564192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4393800" y="6022800"/>
                <a:ext cx="19047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V="1">
                <a:off x="5232240" y="518436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5613120" y="480312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4775040" y="480348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4393800" y="5184720"/>
                <a:ext cx="19047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4317840" y="4956120"/>
                <a:ext cx="1371240" cy="1371600"/>
                <a:chOff x="4317840" y="4956120"/>
                <a:chExt cx="1371240" cy="1371600"/>
              </a:xfrm>
            </p:grpSpPr>
            <p:sp>
              <p:nvSpPr>
                <p:cNvPr id="1009" name=""/>
                <p:cNvSpPr/>
                <p:nvPr/>
              </p:nvSpPr>
              <p:spPr>
                <a:xfrm flipV="1">
                  <a:off x="5232240" y="587052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4394160" y="5925960"/>
                  <a:ext cx="324000" cy="32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V="1">
                  <a:off x="4394160" y="5032440"/>
                  <a:ext cx="38088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5232240" y="503244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3" name=""/>
                <p:cNvGrpSpPr/>
                <p:nvPr/>
              </p:nvGrpSpPr>
              <p:grpSpPr>
                <a:xfrm>
                  <a:off x="4317840" y="5337000"/>
                  <a:ext cx="990720" cy="990720"/>
                  <a:chOff x="4317840" y="5337000"/>
                  <a:chExt cx="990720" cy="990720"/>
                </a:xfrm>
              </p:grpSpPr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4317840" y="6175080"/>
                    <a:ext cx="990720" cy="152640"/>
                    <a:chOff x="4317840" y="6175080"/>
                    <a:chExt cx="990720" cy="15264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4470480" y="6251400"/>
                      <a:ext cx="68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4317840" y="6175080"/>
                      <a:ext cx="15264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5156280" y="617508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4317840" y="5337360"/>
                    <a:ext cx="152280" cy="990360"/>
                    <a:chOff x="4317840" y="5337360"/>
                    <a:chExt cx="152280" cy="990360"/>
                  </a:xfrm>
                </p:grpSpPr>
                <p:sp>
                  <p:nvSpPr>
                    <p:cNvPr id="1019" name=""/>
                    <p:cNvSpPr/>
                    <p:nvPr/>
                  </p:nvSpPr>
                  <p:spPr>
                    <a:xfrm flipV="1">
                      <a:off x="4393800" y="548964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rot="16200000">
                      <a:off x="4317840" y="617544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rot="16200000">
                      <a:off x="4317840" y="53373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2" name=""/>
                  <p:cNvSpPr/>
                  <p:nvPr/>
                </p:nvSpPr>
                <p:spPr>
                  <a:xfrm>
                    <a:off x="5156280" y="53370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470480" y="541332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5232240" y="548928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4699080" y="4956120"/>
                  <a:ext cx="990000" cy="990720"/>
                  <a:chOff x="4699080" y="4956120"/>
                  <a:chExt cx="990000" cy="990720"/>
                </a:xfrm>
              </p:grpSpPr>
              <p:grpSp>
                <p:nvGrpSpPr>
                  <p:cNvPr id="1026" name=""/>
                  <p:cNvGrpSpPr/>
                  <p:nvPr/>
                </p:nvGrpSpPr>
                <p:grpSpPr>
                  <a:xfrm>
                    <a:off x="4699080" y="5794200"/>
                    <a:ext cx="990000" cy="152640"/>
                    <a:chOff x="4699080" y="5794200"/>
                    <a:chExt cx="990000" cy="152640"/>
                  </a:xfrm>
                </p:grpSpPr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4851360" y="5870520"/>
                      <a:ext cx="68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4699080" y="579420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5537160" y="5794200"/>
                      <a:ext cx="15192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0" name=""/>
                  <p:cNvGrpSpPr/>
                  <p:nvPr/>
                </p:nvGrpSpPr>
                <p:grpSpPr>
                  <a:xfrm>
                    <a:off x="4699080" y="4956480"/>
                    <a:ext cx="152280" cy="990360"/>
                    <a:chOff x="4699080" y="4956480"/>
                    <a:chExt cx="152280" cy="990360"/>
                  </a:xfrm>
                </p:grpSpPr>
                <p:sp>
                  <p:nvSpPr>
                    <p:cNvPr id="1031" name=""/>
                    <p:cNvSpPr/>
                    <p:nvPr/>
                  </p:nvSpPr>
                  <p:spPr>
                    <a:xfrm flipV="1">
                      <a:off x="4775040" y="510876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 rot="16200000">
                      <a:off x="4699080" y="57945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rot="16200000">
                      <a:off x="4699080" y="495648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4" name=""/>
                  <p:cNvSpPr/>
                  <p:nvPr/>
                </p:nvSpPr>
                <p:spPr>
                  <a:xfrm>
                    <a:off x="5537160" y="4956120"/>
                    <a:ext cx="15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4851360" y="503244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5613120" y="510840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7" name=""/>
              <p:cNvGrpSpPr/>
              <p:nvPr/>
            </p:nvGrpSpPr>
            <p:grpSpPr>
              <a:xfrm>
                <a:off x="6222960" y="4727520"/>
                <a:ext cx="1371240" cy="1371600"/>
                <a:chOff x="6222960" y="4727520"/>
                <a:chExt cx="1371240" cy="1371600"/>
              </a:xfrm>
            </p:grpSpPr>
            <p:sp>
              <p:nvSpPr>
                <p:cNvPr id="1038" name=""/>
                <p:cNvSpPr/>
                <p:nvPr/>
              </p:nvSpPr>
              <p:spPr>
                <a:xfrm flipV="1">
                  <a:off x="7137360" y="564192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6299280" y="5697360"/>
                  <a:ext cx="324000" cy="32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6299280" y="4803840"/>
                  <a:ext cx="38088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7137360" y="480384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2" name=""/>
                <p:cNvGrpSpPr/>
                <p:nvPr/>
              </p:nvGrpSpPr>
              <p:grpSpPr>
                <a:xfrm>
                  <a:off x="6222960" y="5108400"/>
                  <a:ext cx="990720" cy="990720"/>
                  <a:chOff x="6222960" y="5108400"/>
                  <a:chExt cx="990720" cy="990720"/>
                </a:xfrm>
              </p:grpSpPr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6222960" y="5946480"/>
                    <a:ext cx="990720" cy="152640"/>
                    <a:chOff x="6222960" y="5946480"/>
                    <a:chExt cx="990720" cy="152640"/>
                  </a:xfrm>
                </p:grpSpPr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6375600" y="6022800"/>
                      <a:ext cx="68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6222960" y="5946480"/>
                      <a:ext cx="15264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7061400" y="594648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7" name=""/>
                  <p:cNvGrpSpPr/>
                  <p:nvPr/>
                </p:nvGrpSpPr>
                <p:grpSpPr>
                  <a:xfrm>
                    <a:off x="6222960" y="5108760"/>
                    <a:ext cx="152280" cy="990360"/>
                    <a:chOff x="6222960" y="5108760"/>
                    <a:chExt cx="152280" cy="990360"/>
                  </a:xfrm>
                </p:grpSpPr>
                <p:sp>
                  <p:nvSpPr>
                    <p:cNvPr id="1048" name=""/>
                    <p:cNvSpPr/>
                    <p:nvPr/>
                  </p:nvSpPr>
                  <p:spPr>
                    <a:xfrm flipV="1">
                      <a:off x="6298920" y="526104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9" name=""/>
                    <p:cNvSpPr/>
                    <p:nvPr/>
                  </p:nvSpPr>
                  <p:spPr>
                    <a:xfrm rot="16200000">
                      <a:off x="6222960" y="594684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 rot="16200000">
                      <a:off x="6222960" y="51087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1" name=""/>
                  <p:cNvSpPr/>
                  <p:nvPr/>
                </p:nvSpPr>
                <p:spPr>
                  <a:xfrm>
                    <a:off x="7061400" y="51084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6375600" y="518472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7137360" y="526068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6604200" y="4727520"/>
                  <a:ext cx="990000" cy="990720"/>
                  <a:chOff x="6604200" y="4727520"/>
                  <a:chExt cx="990000" cy="990720"/>
                </a:xfrm>
              </p:grpSpPr>
              <p:grpSp>
                <p:nvGrpSpPr>
                  <p:cNvPr id="1055" name=""/>
                  <p:cNvGrpSpPr/>
                  <p:nvPr/>
                </p:nvGrpSpPr>
                <p:grpSpPr>
                  <a:xfrm>
                    <a:off x="6604200" y="5565600"/>
                    <a:ext cx="990000" cy="152640"/>
                    <a:chOff x="6604200" y="5565600"/>
                    <a:chExt cx="990000" cy="152640"/>
                  </a:xfrm>
                </p:grpSpPr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6756480" y="5641920"/>
                      <a:ext cx="68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>
                      <a:off x="6604200" y="556560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7442280" y="5565600"/>
                      <a:ext cx="15192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9" name=""/>
                  <p:cNvGrpSpPr/>
                  <p:nvPr/>
                </p:nvGrpSpPr>
                <p:grpSpPr>
                  <a:xfrm>
                    <a:off x="6604200" y="4727880"/>
                    <a:ext cx="152280" cy="990360"/>
                    <a:chOff x="6604200" y="4727880"/>
                    <a:chExt cx="152280" cy="990360"/>
                  </a:xfrm>
                </p:grpSpPr>
                <p:sp>
                  <p:nvSpPr>
                    <p:cNvPr id="1060" name=""/>
                    <p:cNvSpPr/>
                    <p:nvPr/>
                  </p:nvSpPr>
                  <p:spPr>
                    <a:xfrm flipV="1">
                      <a:off x="6680160" y="488016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 rot="16200000">
                      <a:off x="6604200" y="55659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 rot="16200000">
                      <a:off x="6604200" y="472788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3" name=""/>
                  <p:cNvSpPr/>
                  <p:nvPr/>
                </p:nvSpPr>
                <p:spPr>
                  <a:xfrm>
                    <a:off x="7442280" y="4727520"/>
                    <a:ext cx="15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756480" y="480384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518240" y="487980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CB3-15BC-4F20-849B-89EFF4933CE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028880" y="308124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84240" y="337356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854360" y="310032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730600" y="5646600"/>
            <a:ext cx="22730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-set = solid 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set = empty 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C-set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d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3073320" y="2789280"/>
            <a:ext cx="5689800" cy="2832120"/>
            <a:chOff x="3073320" y="2789280"/>
            <a:chExt cx="5689800" cy="2832120"/>
          </a:xfrm>
        </p:grpSpPr>
        <p:sp>
          <p:nvSpPr>
            <p:cNvPr id="1071" name=""/>
            <p:cNvSpPr/>
            <p:nvPr/>
          </p:nvSpPr>
          <p:spPr>
            <a:xfrm>
              <a:off x="3073320" y="4097520"/>
              <a:ext cx="1295640" cy="317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524560" y="2789280"/>
              <a:ext cx="316224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 faces of size 0 (nodes)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bine into a face of size 1(li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562720" y="5011920"/>
              <a:ext cx="3200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varies within face, B does no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is face represents the literal 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4387680" y="2973600"/>
              <a:ext cx="110520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4362120" y="4383360"/>
              <a:ext cx="11811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truth tables onto Boolean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ing theorem combines two "faces" of a cu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o a larger "fac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895480" y="3259080"/>
            <a:ext cx="2082960" cy="1371600"/>
            <a:chOff x="2895480" y="3259080"/>
            <a:chExt cx="2082960" cy="1371600"/>
          </a:xfrm>
        </p:grpSpPr>
        <p:sp>
          <p:nvSpPr>
            <p:cNvPr id="1079" name=""/>
            <p:cNvSpPr/>
            <p:nvPr/>
          </p:nvSpPr>
          <p:spPr>
            <a:xfrm>
              <a:off x="3606840" y="43005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098880" y="3691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292640" y="325908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95480" y="4135680"/>
              <a:ext cx="787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95480" y="330984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92640" y="4097520"/>
              <a:ext cx="685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8240" y="4249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25960" y="4173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064040" y="4173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3301920" y="34873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16200000">
              <a:off x="3224160" y="41713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16200000">
              <a:off x="3224160" y="3333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064040" y="3335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78240" y="34117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140360" y="34876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3657600" y="2928960"/>
            <a:ext cx="685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565-E6B2-48BC-83A5-A6B56F4D921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6138720" y="2604960"/>
            <a:ext cx="381240" cy="129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920880" y="26924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489040" y="245736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39960" y="2425680"/>
            <a:ext cx="25398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452920" y="184320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'+A)B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053120" y="2376360"/>
            <a:ext cx="182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(Cin'+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129440" y="390060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(B+B')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300640" y="5958000"/>
            <a:ext cx="2870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BCin+AB+A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529240" y="214776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 flipV="1">
            <a:off x="6411960" y="3881160"/>
            <a:ext cx="698400" cy="12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767120" y="4586400"/>
            <a:ext cx="40006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on-set is completely covered b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mbination (OR) of the subcub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lower dimensionality - note that “111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covered three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ree variable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nary full-adder carry-out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4614840" y="2604960"/>
            <a:ext cx="2603520" cy="1781280"/>
            <a:chOff x="4614840" y="2604960"/>
            <a:chExt cx="2603520" cy="1781280"/>
          </a:xfrm>
        </p:grpSpPr>
        <p:sp>
          <p:nvSpPr>
            <p:cNvPr id="1109" name=""/>
            <p:cNvSpPr/>
            <p:nvPr/>
          </p:nvSpPr>
          <p:spPr>
            <a:xfrm>
              <a:off x="5386320" y="4056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78360" y="3494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148360" y="359568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14840" y="400212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05480" y="260496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11960" y="358632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5929200" y="366192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5091120" y="371808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5091120" y="282420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5929200" y="282420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167440" y="40435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14800" y="3967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53240" y="3967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5091120" y="3281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16200000">
              <a:off x="5013360" y="3965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16200000">
              <a:off x="5013000" y="3127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853240" y="3129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167440" y="3205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929200" y="3281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548320" y="36622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396040" y="3586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234120" y="3586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5472000" y="2900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16200000">
              <a:off x="5394240" y="35845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6200000">
              <a:off x="5394240" y="27457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234120" y="2747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548320" y="28242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10440" y="2900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 rot="16200000">
            <a:off x="5681520" y="2147400"/>
            <a:ext cx="381240" cy="129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rot="2751600">
            <a:off x="5970240" y="2412720"/>
            <a:ext cx="30456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6519600" y="2529000"/>
            <a:ext cx="53316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0491-7D2C-411D-9AE0-83F94FDFD1F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4216320" y="2440080"/>
            <a:ext cx="46483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(A,B,C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4,5,6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-set forms a squ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.e., a cube of dimens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n expression in one variable      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.e., 3 dimensions  –  2 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235400" y="4165560"/>
            <a:ext cx="3936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is asserted (true) and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and C v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308480" y="4924440"/>
            <a:ext cx="327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subcube represent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51240" y="4780080"/>
            <a:ext cx="3403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 flipV="1">
            <a:off x="2477880" y="4037040"/>
            <a:ext cx="1773000" cy="744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igher dimensional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-cubes of higher dimension than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838080" y="3193920"/>
            <a:ext cx="2679840" cy="1781280"/>
            <a:chOff x="838080" y="3193920"/>
            <a:chExt cx="2679840" cy="1781280"/>
          </a:xfrm>
        </p:grpSpPr>
        <p:sp>
          <p:nvSpPr>
            <p:cNvPr id="1148" name=""/>
            <p:cNvSpPr/>
            <p:nvPr/>
          </p:nvSpPr>
          <p:spPr>
            <a:xfrm flipV="1" rot="5400000">
              <a:off x="1814400" y="3835800"/>
              <a:ext cx="1209960" cy="381240"/>
            </a:xfrm>
            <a:prstGeom prst="parallelogram">
              <a:avLst>
                <a:gd name="adj" fmla="val 97872"/>
              </a:avLst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85880" y="4645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177920" y="4083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447920" y="41846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14400" y="459108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05040" y="319392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711520" y="417528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2228760" y="425088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1390680" y="430704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1390680" y="341316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2228760" y="341316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467000" y="4632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314360" y="4556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52800" y="45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1390680" y="3870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16200000">
              <a:off x="1312560" y="4554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16200000">
              <a:off x="1312920" y="3715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152800" y="3718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67000" y="3794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228760" y="3870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847880" y="42512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69560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53368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1771560" y="3489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16200000">
              <a:off x="1693800" y="41727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16200000">
              <a:off x="1693800" y="3334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33680" y="333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47880" y="34131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10000" y="3489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362320" y="45655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828800" y="400680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38080" y="36511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19320" y="31939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905120" y="349884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D974-EAE5-4822-ADDD-25ABC148141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-dimensional cubes in a n-dimensional Boolean spa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3-cube (three variable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0-cube, i.e., a single node, yields a term in 3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-cube, i.e., a line of two nodes, yields a term in 2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2-cube, i.e., a plane of four nodes, yields a term in 1 li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3-cube, i.e., a cube of eight nodes, yields a constant term "1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m-subcube within an n-cube (m &lt; n) yields a ter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 – m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13E-7844-4EDB-8556-60B8AD490EF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"/>
          <p:cNvGrpSpPr/>
          <p:nvPr/>
        </p:nvGrpSpPr>
        <p:grpSpPr>
          <a:xfrm>
            <a:off x="5086440" y="4678200"/>
            <a:ext cx="1415880" cy="1726920"/>
            <a:chOff x="5086440" y="4678200"/>
            <a:chExt cx="1415880" cy="1726920"/>
          </a:xfrm>
        </p:grpSpPr>
        <p:sp>
          <p:nvSpPr>
            <p:cNvPr id="1185" name=""/>
            <p:cNvSpPr/>
            <p:nvPr/>
          </p:nvSpPr>
          <p:spPr>
            <a:xfrm>
              <a:off x="5130720" y="4678200"/>
              <a:ext cx="137160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086440" y="4970160"/>
              <a:ext cx="133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56200" y="4697280"/>
              <a:ext cx="0" cy="166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t map of Boolean cu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–around at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draw and visualize for more than 4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ly impossible for more than 6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 to truth-tables to help visualize adjac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o applying the uniting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set elements with only one variable changing value are adjacent unlike the situation in a linear truth-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2575080" y="4807080"/>
            <a:ext cx="1371600" cy="1431360"/>
            <a:chOff x="2575080" y="4807080"/>
            <a:chExt cx="1371600" cy="1431360"/>
          </a:xfrm>
        </p:grpSpPr>
        <p:sp>
          <p:nvSpPr>
            <p:cNvPr id="1191" name=""/>
            <p:cNvSpPr/>
            <p:nvPr/>
          </p:nvSpPr>
          <p:spPr>
            <a:xfrm>
              <a:off x="2959200" y="54259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930760" y="495936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387960" y="495936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778120" y="4807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575080" y="49845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752920" y="528948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752920" y="572112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930760" y="52768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930760" y="57340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387960" y="57340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387960" y="52768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930760" y="52131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387960" y="52131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2930760" y="5670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 flipV="1">
              <a:off x="2625480" y="4908240"/>
              <a:ext cx="304920" cy="30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837-D08F-4E11-A3A2-4BF2CA86D98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ing scheme based on Gray–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00, 01, 11,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 single bit changes in code for adjacent map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841320" y="3038400"/>
            <a:ext cx="2387520" cy="1828800"/>
            <a:chOff x="841320" y="3038400"/>
            <a:chExt cx="2387520" cy="1828800"/>
          </a:xfrm>
        </p:grpSpPr>
        <p:sp>
          <p:nvSpPr>
            <p:cNvPr id="1209" name=""/>
            <p:cNvSpPr/>
            <p:nvPr/>
          </p:nvSpPr>
          <p:spPr>
            <a:xfrm>
              <a:off x="1332000" y="3751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303200" y="32842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60400" y="32842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150920" y="3132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947880" y="33098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125360" y="3614400"/>
              <a:ext cx="55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125360" y="40464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 flipV="1">
              <a:off x="998640" y="3233160"/>
              <a:ext cx="304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241360" y="3749400"/>
              <a:ext cx="825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12920" y="32828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70120" y="32828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222640" y="3543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670120" y="3546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2212920" y="3993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212920" y="3267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755720" y="4562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069920" y="40287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41320" y="407952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162160" y="453672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619360" y="3038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308240" y="3543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755720" y="3546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1298520" y="3993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1108080" y="4943520"/>
            <a:ext cx="2114640" cy="1457280"/>
            <a:chOff x="1108080" y="4943520"/>
            <a:chExt cx="2114640" cy="1457280"/>
          </a:xfrm>
        </p:grpSpPr>
        <p:sp>
          <p:nvSpPr>
            <p:cNvPr id="1233" name=""/>
            <p:cNvSpPr/>
            <p:nvPr/>
          </p:nvSpPr>
          <p:spPr>
            <a:xfrm>
              <a:off x="1341720" y="5380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251080" y="53784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232000" y="5172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679840" y="5175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>
              <a:off x="2222640" y="5622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232000" y="5172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65440" y="608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317600" y="5629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108080" y="57088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71880" y="60706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638440" y="4943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317600" y="5172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765440" y="5175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1308240" y="5622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4286160" y="3502080"/>
            <a:ext cx="2691000" cy="2365200"/>
            <a:chOff x="4286160" y="3502080"/>
            <a:chExt cx="2691000" cy="2365200"/>
          </a:xfrm>
        </p:grpSpPr>
        <p:sp>
          <p:nvSpPr>
            <p:cNvPr id="1248" name=""/>
            <p:cNvSpPr/>
            <p:nvPr/>
          </p:nvSpPr>
          <p:spPr>
            <a:xfrm>
              <a:off x="4527720" y="3917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37080" y="3916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410080" y="373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579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5400720" y="418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10080" y="3730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327720" y="416736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392880" y="4456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816520" y="3502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495680" y="373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435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4486320" y="418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519440" y="4856040"/>
              <a:ext cx="825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429160" y="4854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410080" y="4648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857920" y="4651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400720" y="509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9435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495680" y="463716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286160" y="5175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349960" y="5537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495680" y="4648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943520" y="4651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4486320" y="509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6577560" y="5603760"/>
            <a:ext cx="18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3 = 1101= ABC’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868-2582-4E3E-8CA9-115AA550CBF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3" name=""/>
          <p:cNvGrpSpPr/>
          <p:nvPr/>
        </p:nvGrpSpPr>
        <p:grpSpPr>
          <a:xfrm>
            <a:off x="5715000" y="4191120"/>
            <a:ext cx="762120" cy="761760"/>
            <a:chOff x="5715000" y="4191120"/>
            <a:chExt cx="762120" cy="761760"/>
          </a:xfrm>
        </p:grpSpPr>
        <p:sp>
          <p:nvSpPr>
            <p:cNvPr id="1274" name=""/>
            <p:cNvSpPr/>
            <p:nvPr/>
          </p:nvSpPr>
          <p:spPr>
            <a:xfrm flipV="1">
              <a:off x="5715000" y="4627080"/>
              <a:ext cx="324000" cy="32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1320" y="49528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5715000" y="419112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djacencies in Karnaugh ma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ap from first to last colum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ap top row to bottom r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1676520" y="3657600"/>
            <a:ext cx="2114280" cy="1457280"/>
            <a:chOff x="1676520" y="3657600"/>
            <a:chExt cx="2114280" cy="1457280"/>
          </a:xfrm>
        </p:grpSpPr>
        <p:sp>
          <p:nvSpPr>
            <p:cNvPr id="1280" name=""/>
            <p:cNvSpPr/>
            <p:nvPr/>
          </p:nvSpPr>
          <p:spPr>
            <a:xfrm>
              <a:off x="1981080" y="39625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895480" y="39625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00440" y="3886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47920" y="3889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790720" y="433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800440" y="3886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33520" y="4800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886040" y="4343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676520" y="4422600"/>
              <a:ext cx="5839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739960" y="47847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206880" y="36576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886040" y="3886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333520" y="3889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1876320" y="433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5991120" y="495612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483160" y="439416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753160" y="4495680"/>
            <a:ext cx="558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219640" y="490212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010280" y="350532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016760" y="44863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6534000" y="456264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5695920" y="4627440"/>
            <a:ext cx="3240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5695920" y="372384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6534000" y="372384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772240" y="495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619600" y="486720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458040" y="486720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5695920" y="41907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16200000">
            <a:off x="5618160" y="48654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rot="16200000">
            <a:off x="5617800" y="40273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58040" y="40291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772240" y="41054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534000" y="4181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153120" y="45626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00840" y="4486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838920" y="4486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076800" y="3800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rot="16200000">
            <a:off x="5999040" y="448452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rot="16200000">
            <a:off x="5999040" y="364572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838920" y="364824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153120" y="3724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915240" y="3800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667560" y="48769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34040" y="4317840"/>
            <a:ext cx="72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143680" y="3962520"/>
            <a:ext cx="723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524560" y="35053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10360" y="3809880"/>
            <a:ext cx="72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828440" y="3809520"/>
            <a:ext cx="609840" cy="610200"/>
            <a:chOff x="1828440" y="3809520"/>
            <a:chExt cx="609840" cy="610200"/>
          </a:xfrm>
        </p:grpSpPr>
        <p:sp>
          <p:nvSpPr>
            <p:cNvPr id="1328" name=""/>
            <p:cNvSpPr/>
            <p:nvPr/>
          </p:nvSpPr>
          <p:spPr>
            <a:xfrm>
              <a:off x="2133720" y="4114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33720" y="4114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2133720" y="38095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1828440" y="4114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F30-B8AE-4B62-AD6B-AE175506642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7477200" y="5195880"/>
            <a:ext cx="14698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tain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the func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overing 0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subcu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t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0,4,5,7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1830240" y="2592360"/>
            <a:ext cx="5440320" cy="2435040"/>
            <a:chOff x="1830240" y="2592360"/>
            <a:chExt cx="5440320" cy="2435040"/>
          </a:xfrm>
        </p:grpSpPr>
        <p:sp>
          <p:nvSpPr>
            <p:cNvPr id="1336" name=""/>
            <p:cNvSpPr/>
            <p:nvPr/>
          </p:nvSpPr>
          <p:spPr>
            <a:xfrm>
              <a:off x="1830240" y="2592360"/>
              <a:ext cx="3260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5035320" y="3570120"/>
              <a:ext cx="2235240" cy="1457280"/>
              <a:chOff x="5035320" y="3570120"/>
              <a:chExt cx="2235240" cy="1457280"/>
            </a:xfrm>
          </p:grpSpPr>
          <p:sp>
            <p:nvSpPr>
              <p:cNvPr id="1338" name=""/>
              <p:cNvSpPr/>
              <p:nvPr/>
            </p:nvSpPr>
            <p:spPr>
              <a:xfrm>
                <a:off x="5514840" y="38750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445080" y="38750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480" y="37987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717960" y="3801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6260760" y="424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270480" y="37987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803560" y="47131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356080" y="42559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035320" y="43354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210000" y="4697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676920" y="35701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356080" y="37987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803560" y="3801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5346360" y="424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2" name=""/>
          <p:cNvGrpSpPr/>
          <p:nvPr/>
        </p:nvGrpSpPr>
        <p:grpSpPr>
          <a:xfrm>
            <a:off x="1455840" y="1725480"/>
            <a:ext cx="5634000" cy="1176480"/>
            <a:chOff x="1455840" y="1725480"/>
            <a:chExt cx="5634000" cy="1176480"/>
          </a:xfrm>
        </p:grpSpPr>
        <p:sp>
          <p:nvSpPr>
            <p:cNvPr id="1353" name=""/>
            <p:cNvSpPr/>
            <p:nvPr/>
          </p:nvSpPr>
          <p:spPr>
            <a:xfrm>
              <a:off x="1455840" y="1865160"/>
              <a:ext cx="443700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5918400" y="1725480"/>
              <a:ext cx="1171440" cy="1176480"/>
              <a:chOff x="5918400" y="1725480"/>
              <a:chExt cx="1171440" cy="1176480"/>
            </a:xfrm>
          </p:grpSpPr>
          <p:sp>
            <p:nvSpPr>
              <p:cNvPr id="1355" name=""/>
              <p:cNvSpPr/>
              <p:nvPr/>
            </p:nvSpPr>
            <p:spPr>
              <a:xfrm>
                <a:off x="6264360" y="20304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089760" y="19540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537240" y="19573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>
                <a:off x="6080040" y="240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6546960" y="1922400"/>
                <a:ext cx="45720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080040" y="2395440"/>
                <a:ext cx="0" cy="50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918400" y="2490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496200" y="1725480"/>
                <a:ext cx="58392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3" name=""/>
          <p:cNvGrpSpPr/>
          <p:nvPr/>
        </p:nvGrpSpPr>
        <p:grpSpPr>
          <a:xfrm>
            <a:off x="2179800" y="3541680"/>
            <a:ext cx="2155320" cy="2727360"/>
            <a:chOff x="2179800" y="3541680"/>
            <a:chExt cx="2155320" cy="2727360"/>
          </a:xfrm>
        </p:grpSpPr>
        <p:sp>
          <p:nvSpPr>
            <p:cNvPr id="1364" name=""/>
            <p:cNvSpPr/>
            <p:nvPr/>
          </p:nvSpPr>
          <p:spPr>
            <a:xfrm>
              <a:off x="2528640" y="3541680"/>
              <a:ext cx="711000" cy="12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2179800" y="4811760"/>
              <a:ext cx="2155320" cy="1457280"/>
              <a:chOff x="2179800" y="4811760"/>
              <a:chExt cx="2155320" cy="1457280"/>
            </a:xfrm>
          </p:grpSpPr>
          <p:sp>
            <p:nvSpPr>
              <p:cNvPr id="1366" name=""/>
              <p:cNvSpPr/>
              <p:nvPr/>
            </p:nvSpPr>
            <p:spPr>
              <a:xfrm>
                <a:off x="2579400" y="5116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510000" y="5116320"/>
                <a:ext cx="82512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335400" y="504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782880" y="504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3325320" y="549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335400" y="50403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868480" y="59547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421000" y="54975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179800" y="5592600"/>
                <a:ext cx="58392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274920" y="59389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741480" y="4811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421000" y="504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868480" y="504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410920" y="549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0" name=""/>
          <p:cNvGrpSpPr/>
          <p:nvPr/>
        </p:nvGrpSpPr>
        <p:grpSpPr>
          <a:xfrm>
            <a:off x="6154560" y="2031840"/>
            <a:ext cx="1631880" cy="577800"/>
            <a:chOff x="6154560" y="2031840"/>
            <a:chExt cx="1631880" cy="577800"/>
          </a:xfrm>
        </p:grpSpPr>
        <p:sp>
          <p:nvSpPr>
            <p:cNvPr id="1381" name=""/>
            <p:cNvSpPr/>
            <p:nvPr/>
          </p:nvSpPr>
          <p:spPr>
            <a:xfrm>
              <a:off x="7416720" y="224136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154560" y="203184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6350040" y="3745080"/>
            <a:ext cx="1515240" cy="857160"/>
            <a:chOff x="6350040" y="3745080"/>
            <a:chExt cx="1515240" cy="857160"/>
          </a:xfrm>
        </p:grpSpPr>
        <p:sp>
          <p:nvSpPr>
            <p:cNvPr id="1384" name=""/>
            <p:cNvSpPr/>
            <p:nvPr/>
          </p:nvSpPr>
          <p:spPr>
            <a:xfrm>
              <a:off x="7389000" y="374508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350040" y="3843360"/>
              <a:ext cx="30636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3368520" y="5554800"/>
            <a:ext cx="1534680" cy="628560"/>
            <a:chOff x="3368520" y="5554800"/>
            <a:chExt cx="1534680" cy="628560"/>
          </a:xfrm>
        </p:grpSpPr>
        <p:sp>
          <p:nvSpPr>
            <p:cNvPr id="1387" name=""/>
            <p:cNvSpPr/>
            <p:nvPr/>
          </p:nvSpPr>
          <p:spPr>
            <a:xfrm>
              <a:off x="4431240" y="58150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68520" y="555480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594400" y="5716440"/>
            <a:ext cx="677520" cy="533520"/>
            <a:chOff x="5594400" y="5716440"/>
            <a:chExt cx="677520" cy="533520"/>
          </a:xfrm>
        </p:grpSpPr>
        <p:sp>
          <p:nvSpPr>
            <p:cNvPr id="1390" name=""/>
            <p:cNvSpPr/>
            <p:nvPr/>
          </p:nvSpPr>
          <p:spPr>
            <a:xfrm>
              <a:off x="5594400" y="5749920"/>
              <a:ext cx="66168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5643360" y="5716440"/>
              <a:ext cx="6285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6303960" y="3745080"/>
            <a:ext cx="2253240" cy="873000"/>
            <a:chOff x="6303960" y="3745080"/>
            <a:chExt cx="2253240" cy="873000"/>
          </a:xfrm>
        </p:grpSpPr>
        <p:sp>
          <p:nvSpPr>
            <p:cNvPr id="1393" name=""/>
            <p:cNvSpPr/>
            <p:nvPr/>
          </p:nvSpPr>
          <p:spPr>
            <a:xfrm>
              <a:off x="6303960" y="431172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693560" y="37450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AC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5857920" y="3745080"/>
            <a:ext cx="3458880" cy="880920"/>
            <a:chOff x="5857920" y="3745080"/>
            <a:chExt cx="3458880" cy="880920"/>
          </a:xfrm>
        </p:grpSpPr>
        <p:sp>
          <p:nvSpPr>
            <p:cNvPr id="1396" name=""/>
            <p:cNvSpPr/>
            <p:nvPr/>
          </p:nvSpPr>
          <p:spPr>
            <a:xfrm>
              <a:off x="5857920" y="431964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450280" y="37450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C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1932120" y="5006880"/>
            <a:ext cx="3636360" cy="1176480"/>
            <a:chOff x="1932120" y="5006880"/>
            <a:chExt cx="3636360" cy="1176480"/>
          </a:xfrm>
        </p:grpSpPr>
        <p:sp>
          <p:nvSpPr>
            <p:cNvPr id="1399" name=""/>
            <p:cNvSpPr/>
            <p:nvPr/>
          </p:nvSpPr>
          <p:spPr>
            <a:xfrm>
              <a:off x="3857400" y="5126040"/>
              <a:ext cx="80604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92240" y="5100480"/>
              <a:ext cx="80604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32120" y="5006880"/>
              <a:ext cx="41868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27560" y="5029200"/>
              <a:ext cx="41868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824000" y="58150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’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3849840" y="5118120"/>
            <a:ext cx="2395080" cy="1065240"/>
            <a:chOff x="3849840" y="5118120"/>
            <a:chExt cx="2395080" cy="1065240"/>
          </a:xfrm>
        </p:grpSpPr>
        <p:sp>
          <p:nvSpPr>
            <p:cNvPr id="1405" name=""/>
            <p:cNvSpPr/>
            <p:nvPr/>
          </p:nvSpPr>
          <p:spPr>
            <a:xfrm>
              <a:off x="3849840" y="5118120"/>
              <a:ext cx="30600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38240" y="581508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A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7F8-8BB4-45AB-AFF4-992FDB316C7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 algebraic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201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gebraic structure consists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elements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operations { + , •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 unary operation { ’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that the following axioms hol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51"/>
              </a:spcBef>
              <a:buNone/>
              <a:tabLst>
                <a:tab algn="l" pos="0"/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the set B contains at least two elements: a,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losu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  is in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b   is in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ommuta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= b +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b = b •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associa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b + c) = (a + b) +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(b • c) = (a • b) • 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ident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0 =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1 =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istribu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b • c) = (a + b) • (a + 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(b + c) = (a • b) + (a • 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complementar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a’ 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a’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B8B-1EFA-4385-828C-2422A1A020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3524400" y="3487680"/>
            <a:ext cx="320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A,B,C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0,4,5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524400" y="5184720"/>
            <a:ext cx="320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'(A,B,C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(1,2,3,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524400" y="5043600"/>
            <a:ext cx="4889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' simply replace 1's with 0's and vice 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524400" y="1925640"/>
            <a:ext cx="148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(A,B,C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Karnaugh map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958680" y="1495440"/>
            <a:ext cx="2155680" cy="1457280"/>
            <a:chOff x="958680" y="1495440"/>
            <a:chExt cx="2155680" cy="1457280"/>
          </a:xfrm>
        </p:grpSpPr>
        <p:sp>
          <p:nvSpPr>
            <p:cNvPr id="1413" name=""/>
            <p:cNvSpPr/>
            <p:nvPr/>
          </p:nvSpPr>
          <p:spPr>
            <a:xfrm>
              <a:off x="1358640" y="18003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288880" y="18003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114280" y="1724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562120" y="1727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2104920" y="21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14280" y="17240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47720" y="2638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99880" y="21812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958680" y="2260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53800" y="2622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20720" y="1495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99880" y="1724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647720" y="1727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1190520" y="21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957240" y="3116160"/>
            <a:ext cx="2155680" cy="1457280"/>
            <a:chOff x="957240" y="3116160"/>
            <a:chExt cx="2155680" cy="1457280"/>
          </a:xfrm>
        </p:grpSpPr>
        <p:sp>
          <p:nvSpPr>
            <p:cNvPr id="1428" name=""/>
            <p:cNvSpPr/>
            <p:nvPr/>
          </p:nvSpPr>
          <p:spPr>
            <a:xfrm>
              <a:off x="1357200" y="34210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87440" y="34210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12840" y="33447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560680" y="3348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2103480" y="3795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112840" y="33447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646280" y="42591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198440" y="38019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957240" y="3881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052360" y="4243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519280" y="3116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98440" y="33447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646280" y="3348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1189080" y="3795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957240" y="4738680"/>
            <a:ext cx="2155680" cy="1457280"/>
            <a:chOff x="957240" y="4738680"/>
            <a:chExt cx="2155680" cy="1457280"/>
          </a:xfrm>
        </p:grpSpPr>
        <p:sp>
          <p:nvSpPr>
            <p:cNvPr id="1443" name=""/>
            <p:cNvSpPr/>
            <p:nvPr/>
          </p:nvSpPr>
          <p:spPr>
            <a:xfrm>
              <a:off x="1357200" y="5043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287440" y="5043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112840" y="4967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560680" y="497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2103480" y="541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112840" y="49672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46280" y="5881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198440" y="5424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957240" y="5504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052360" y="58658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519280" y="47386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198440" y="4967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46280" y="497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1189080" y="541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2163600" y="1776240"/>
            <a:ext cx="3024360" cy="790920"/>
            <a:chOff x="2163600" y="1776240"/>
            <a:chExt cx="3024360" cy="790920"/>
          </a:xfrm>
        </p:grpSpPr>
        <p:sp>
          <p:nvSpPr>
            <p:cNvPr id="1458" name=""/>
            <p:cNvSpPr/>
            <p:nvPr/>
          </p:nvSpPr>
          <p:spPr>
            <a:xfrm>
              <a:off x="4705200" y="1935000"/>
              <a:ext cx="482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163600" y="1776240"/>
              <a:ext cx="822600" cy="790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711360" y="3308400"/>
            <a:ext cx="6751440" cy="853920"/>
            <a:chOff x="711360" y="3308400"/>
            <a:chExt cx="6751440" cy="853920"/>
          </a:xfrm>
        </p:grpSpPr>
        <p:sp>
          <p:nvSpPr>
            <p:cNvPr id="1461" name=""/>
            <p:cNvSpPr/>
            <p:nvPr/>
          </p:nvSpPr>
          <p:spPr>
            <a:xfrm>
              <a:off x="6058080" y="3586320"/>
              <a:ext cx="1404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AC + B’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147760" y="38559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637000" y="34275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71480" y="340200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11360" y="330840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106800" y="333072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1260360" y="5030640"/>
            <a:ext cx="6148440" cy="798480"/>
            <a:chOff x="1260360" y="5030640"/>
            <a:chExt cx="6148440" cy="798480"/>
          </a:xfrm>
        </p:grpSpPr>
        <p:sp>
          <p:nvSpPr>
            <p:cNvPr id="1468" name=""/>
            <p:cNvSpPr/>
            <p:nvPr/>
          </p:nvSpPr>
          <p:spPr>
            <a:xfrm>
              <a:off x="6004080" y="5275080"/>
              <a:ext cx="1404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BC’ + A’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722600" y="5030640"/>
              <a:ext cx="806400" cy="355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260360" y="5473440"/>
              <a:ext cx="80676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DBA-4F61-45B1-B11D-03A3AA66D606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1" name=""/>
          <p:cNvGrpSpPr/>
          <p:nvPr/>
        </p:nvGrpSpPr>
        <p:grpSpPr>
          <a:xfrm>
            <a:off x="1176480" y="2324160"/>
            <a:ext cx="6611760" cy="2646360"/>
            <a:chOff x="1176480" y="2324160"/>
            <a:chExt cx="6611760" cy="2646360"/>
          </a:xfrm>
        </p:grpSpPr>
        <p:sp>
          <p:nvSpPr>
            <p:cNvPr id="1472" name=""/>
            <p:cNvSpPr/>
            <p:nvPr/>
          </p:nvSpPr>
          <p:spPr>
            <a:xfrm rot="21085200">
              <a:off x="4232520" y="3200400"/>
              <a:ext cx="3516120" cy="7920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3" name=""/>
            <p:cNvGrpSpPr/>
            <p:nvPr/>
          </p:nvGrpSpPr>
          <p:grpSpPr>
            <a:xfrm>
              <a:off x="1176480" y="2324160"/>
              <a:ext cx="1727280" cy="2646360"/>
              <a:chOff x="1176480" y="2324160"/>
              <a:chExt cx="1727280" cy="2646360"/>
            </a:xfrm>
          </p:grpSpPr>
          <p:sp>
            <p:nvSpPr>
              <p:cNvPr id="1474" name=""/>
              <p:cNvSpPr/>
              <p:nvPr/>
            </p:nvSpPr>
            <p:spPr>
              <a:xfrm>
                <a:off x="1176480" y="4213080"/>
                <a:ext cx="1727280" cy="7574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56840" y="23241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6" name=""/>
          <p:cNvGrpSpPr/>
          <p:nvPr/>
        </p:nvGrpSpPr>
        <p:grpSpPr>
          <a:xfrm>
            <a:off x="899640" y="2324160"/>
            <a:ext cx="5459760" cy="2962440"/>
            <a:chOff x="899640" y="2324160"/>
            <a:chExt cx="5459760" cy="2962440"/>
          </a:xfrm>
        </p:grpSpPr>
        <p:sp>
          <p:nvSpPr>
            <p:cNvPr id="1477" name=""/>
            <p:cNvSpPr/>
            <p:nvPr/>
          </p:nvSpPr>
          <p:spPr>
            <a:xfrm flipV="1" rot="5400000">
              <a:off x="4885200" y="3222000"/>
              <a:ext cx="1049400" cy="1898640"/>
            </a:xfrm>
            <a:prstGeom prst="parallelogram">
              <a:avLst>
                <a:gd name="adj" fmla="val 21481"/>
              </a:avLst>
            </a:prstGeom>
            <a:solidFill>
              <a:srgbClr val="00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8" name=""/>
            <p:cNvGrpSpPr/>
            <p:nvPr/>
          </p:nvGrpSpPr>
          <p:grpSpPr>
            <a:xfrm>
              <a:off x="899640" y="2324160"/>
              <a:ext cx="2392920" cy="2962440"/>
              <a:chOff x="899640" y="2324160"/>
              <a:chExt cx="2392920" cy="2962440"/>
            </a:xfrm>
          </p:grpSpPr>
          <p:sp>
            <p:nvSpPr>
              <p:cNvPr id="1479" name=""/>
              <p:cNvSpPr/>
              <p:nvPr/>
            </p:nvSpPr>
            <p:spPr>
              <a:xfrm>
                <a:off x="2525040" y="2324160"/>
                <a:ext cx="76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+ B’D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0" name=""/>
              <p:cNvGrpSpPr/>
              <p:nvPr/>
            </p:nvGrpSpPr>
            <p:grpSpPr>
              <a:xfrm>
                <a:off x="906480" y="3011040"/>
                <a:ext cx="547560" cy="598320"/>
                <a:chOff x="906480" y="3011040"/>
                <a:chExt cx="547560" cy="598320"/>
              </a:xfrm>
            </p:grpSpPr>
            <p:sp>
              <p:nvSpPr>
                <p:cNvPr id="1481" name=""/>
                <p:cNvSpPr/>
                <p:nvPr/>
              </p:nvSpPr>
              <p:spPr>
                <a:xfrm flipH="1">
                  <a:off x="1030320" y="312552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flipH="1">
                  <a:off x="917280" y="306180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flipH="1" rot="5400000">
                  <a:off x="1099080" y="281808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2634840" y="3009600"/>
                <a:ext cx="547560" cy="598320"/>
                <a:chOff x="2634840" y="3009600"/>
                <a:chExt cx="547560" cy="5983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2639520" y="312408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3009600" y="306036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rot="16200000">
                  <a:off x="2827800" y="281664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899640" y="4688280"/>
                <a:ext cx="547560" cy="598320"/>
                <a:chOff x="899640" y="4688280"/>
                <a:chExt cx="547560" cy="598320"/>
              </a:xfrm>
            </p:grpSpPr>
            <p:sp>
              <p:nvSpPr>
                <p:cNvPr id="1489" name=""/>
                <p:cNvSpPr/>
                <p:nvPr/>
              </p:nvSpPr>
              <p:spPr>
                <a:xfrm flipH="1" flipV="1">
                  <a:off x="1023480" y="471996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flipH="1" flipV="1">
                  <a:off x="910440" y="468792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flipH="1" flipV="1" rot="16200000">
                  <a:off x="1092240" y="493164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2" name=""/>
              <p:cNvGrpSpPr/>
              <p:nvPr/>
            </p:nvGrpSpPr>
            <p:grpSpPr>
              <a:xfrm>
                <a:off x="2628720" y="4685760"/>
                <a:ext cx="547560" cy="598680"/>
                <a:chOff x="2628720" y="4685760"/>
                <a:chExt cx="547560" cy="598680"/>
              </a:xfrm>
            </p:grpSpPr>
            <p:sp>
              <p:nvSpPr>
                <p:cNvPr id="1493" name=""/>
                <p:cNvSpPr/>
                <p:nvPr/>
              </p:nvSpPr>
              <p:spPr>
                <a:xfrm flipV="1">
                  <a:off x="2633400" y="4717800"/>
                  <a:ext cx="419040" cy="45216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2160"/>
                    <a:gd name="textAreaBottom" fmla="*/ 432000 h 452160"/>
                  </a:gdLst>
                  <a:ahLst/>
                  <a:rect l="textAreaLeft" t="textAreaTop" r="textAreaRight" b="textAreaBottom"/>
                  <a:pathLst>
                    <a:path w="21600" h="23306">
                      <a:moveTo>
                        <a:pt x="3600" y="0"/>
                      </a:moveTo>
                      <a:arcTo wR="3600" hR="3600" stAng="16200000" swAng="-5400000"/>
                      <a:lnTo>
                        <a:pt x="0" y="19706"/>
                      </a:lnTo>
                      <a:arcTo wR="3600" hR="3600" stAng="10800000" swAng="-5400000"/>
                      <a:lnTo>
                        <a:pt x="18000" y="233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flipV="1">
                  <a:off x="3003480" y="4685760"/>
                  <a:ext cx="161640" cy="547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flipV="1" rot="5400000">
                  <a:off x="2821320" y="4929480"/>
                  <a:ext cx="16200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96" name=""/>
          <p:cNvSpPr/>
          <p:nvPr/>
        </p:nvSpPr>
        <p:spPr>
          <a:xfrm>
            <a:off x="3591000" y="5389560"/>
            <a:ext cx="5105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smallest number of the largest possi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ubes to cover the ON-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wer terms with fewer inputs per 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: 4-variable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0,2,3,5,6,7,8,10,11,14,15)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035160" y="395280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459160" y="2998800"/>
            <a:ext cx="583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992240" y="503388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3870360" y="2979720"/>
            <a:ext cx="4622760" cy="2057400"/>
            <a:chOff x="3870360" y="2979720"/>
            <a:chExt cx="4622760" cy="2057400"/>
          </a:xfrm>
        </p:grpSpPr>
        <p:sp>
          <p:nvSpPr>
            <p:cNvPr id="1503" name=""/>
            <p:cNvSpPr/>
            <p:nvPr/>
          </p:nvSpPr>
          <p:spPr>
            <a:xfrm>
              <a:off x="4962600" y="4402080"/>
              <a:ext cx="634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784760" y="47070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251240" y="4097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30600" y="424980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70360" y="47070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680240" y="297972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78520" y="4529160"/>
              <a:ext cx="939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724360" y="313200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5292720" y="447804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5673600" y="409680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4835160" y="409716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4454280" y="447840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5292720" y="363960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5673600" y="325872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4835160" y="325908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4454280" y="363996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5292720" y="4325400"/>
              <a:ext cx="38088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4454280" y="438156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4454280" y="348768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5292720" y="348768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30600" y="4707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78320" y="4630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2164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4454280" y="3944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rot="16200000">
              <a:off x="4376520" y="4628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rot="16200000">
              <a:off x="4376520" y="3790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216400" y="3792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530600" y="386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292720" y="39448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911480" y="43257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759200" y="4249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597280" y="4249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4835520" y="35636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16200000">
              <a:off x="4757760" y="424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16200000">
              <a:off x="4757760" y="3409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597280" y="341136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911480" y="34876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673600" y="3564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7197480" y="409680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359400" y="415296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V="1">
              <a:off x="6359400" y="325908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7197480" y="325908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435720" y="44784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83080" y="4402080"/>
              <a:ext cx="152640" cy="152280"/>
            </a:xfrm>
            <a:prstGeom prst="ellipse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121520" y="4402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6359400" y="37159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16200000">
              <a:off x="6281280" y="4400280"/>
              <a:ext cx="152640" cy="152280"/>
            </a:xfrm>
            <a:prstGeom prst="ellipse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16200000">
              <a:off x="6281640" y="3561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121520" y="3564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435720" y="3639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197480" y="37162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816600" y="40971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664320" y="4021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502400" y="4021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6740280" y="3335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16200000">
              <a:off x="6662520" y="4018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16200000">
              <a:off x="6662520" y="31806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502400" y="31827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16600" y="3259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578720" y="3335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859320" y="3227400"/>
            <a:ext cx="2188800" cy="1842840"/>
            <a:chOff x="859320" y="3227400"/>
            <a:chExt cx="2188800" cy="1842840"/>
          </a:xfrm>
        </p:grpSpPr>
        <p:sp>
          <p:nvSpPr>
            <p:cNvPr id="1564" name=""/>
            <p:cNvSpPr/>
            <p:nvPr/>
          </p:nvSpPr>
          <p:spPr>
            <a:xfrm>
              <a:off x="1312920" y="33192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222640" y="3317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052720" y="322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50056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2043360" y="3678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052720" y="32274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70360" y="366372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38320" y="322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58616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1128960" y="3678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305000" y="4257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14720" y="4255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052720" y="4145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500560" y="4147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2043360" y="45957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586160" y="5059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138320" y="413388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138320" y="4145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586160" y="4147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1128960" y="45957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59320" y="44370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1628640" y="2324160"/>
            <a:ext cx="4260600" cy="2226960"/>
            <a:chOff x="1628640" y="2324160"/>
            <a:chExt cx="4260600" cy="2226960"/>
          </a:xfrm>
        </p:grpSpPr>
        <p:grpSp>
          <p:nvGrpSpPr>
            <p:cNvPr id="1586" name=""/>
            <p:cNvGrpSpPr/>
            <p:nvPr/>
          </p:nvGrpSpPr>
          <p:grpSpPr>
            <a:xfrm>
              <a:off x="1628640" y="2324160"/>
              <a:ext cx="888480" cy="2226960"/>
              <a:chOff x="1628640" y="2324160"/>
              <a:chExt cx="888480" cy="2226960"/>
            </a:xfrm>
          </p:grpSpPr>
          <p:sp>
            <p:nvSpPr>
              <p:cNvPr id="1587" name=""/>
              <p:cNvSpPr/>
              <p:nvPr/>
            </p:nvSpPr>
            <p:spPr>
              <a:xfrm>
                <a:off x="1643040" y="2324160"/>
                <a:ext cx="87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+ A’B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28640" y="3727440"/>
                <a:ext cx="371160" cy="823680"/>
              </a:xfrm>
              <a:custGeom>
                <a:avLst/>
                <a:gdLst>
                  <a:gd name="textAreaLeft" fmla="*/ 18000 w 371160"/>
                  <a:gd name="textAreaRight" fmla="*/ 353160 w 371160"/>
                  <a:gd name="textAreaTop" fmla="*/ 18000 h 823680"/>
                  <a:gd name="textAreaBottom" fmla="*/ 805680 h 823680"/>
                </a:gdLst>
                <a:ahLst/>
                <a:rect l="textAreaLeft" t="textAreaTop" r="textAreaRight" b="textAreaBottom"/>
                <a:pathLst>
                  <a:path w="21600" h="47909">
                    <a:moveTo>
                      <a:pt x="3600" y="0"/>
                    </a:moveTo>
                    <a:arcTo wR="3600" hR="3600" stAng="16200000" swAng="-5400000"/>
                    <a:lnTo>
                      <a:pt x="0" y="44309"/>
                    </a:lnTo>
                    <a:arcTo wR="3600" hR="3600" stAng="10800000" swAng="-5400000"/>
                    <a:lnTo>
                      <a:pt x="18000" y="4790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9" name=""/>
            <p:cNvSpPr/>
            <p:nvPr/>
          </p:nvSpPr>
          <p:spPr>
            <a:xfrm>
              <a:off x="5454360" y="3228840"/>
              <a:ext cx="434880" cy="12574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036-3326-4B26-9B14-7551B9F83F9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"/>
          <p:cNvGrpSpPr/>
          <p:nvPr/>
        </p:nvGrpSpPr>
        <p:grpSpPr>
          <a:xfrm>
            <a:off x="946080" y="2392200"/>
            <a:ext cx="2849760" cy="2273400"/>
            <a:chOff x="946080" y="2392200"/>
            <a:chExt cx="2849760" cy="2273400"/>
          </a:xfrm>
        </p:grpSpPr>
        <p:grpSp>
          <p:nvGrpSpPr>
            <p:cNvPr id="1591" name=""/>
            <p:cNvGrpSpPr/>
            <p:nvPr/>
          </p:nvGrpSpPr>
          <p:grpSpPr>
            <a:xfrm>
              <a:off x="2876400" y="4238280"/>
              <a:ext cx="919440" cy="419400"/>
              <a:chOff x="2876400" y="4238280"/>
              <a:chExt cx="919440" cy="419400"/>
            </a:xfrm>
          </p:grpSpPr>
          <p:sp>
            <p:nvSpPr>
              <p:cNvPr id="1592" name=""/>
              <p:cNvSpPr/>
              <p:nvPr/>
            </p:nvSpPr>
            <p:spPr>
              <a:xfrm>
                <a:off x="2876400" y="4271760"/>
                <a:ext cx="75888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328920" y="4238280"/>
                <a:ext cx="46692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4" name=""/>
            <p:cNvSpPr/>
            <p:nvPr/>
          </p:nvSpPr>
          <p:spPr>
            <a:xfrm>
              <a:off x="2400480" y="2392200"/>
              <a:ext cx="91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’C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5" name=""/>
            <p:cNvGrpSpPr/>
            <p:nvPr/>
          </p:nvGrpSpPr>
          <p:grpSpPr>
            <a:xfrm>
              <a:off x="946080" y="4246200"/>
              <a:ext cx="919440" cy="419400"/>
              <a:chOff x="946080" y="4246200"/>
              <a:chExt cx="919440" cy="419400"/>
            </a:xfrm>
          </p:grpSpPr>
          <p:sp>
            <p:nvSpPr>
              <p:cNvPr id="1596" name=""/>
              <p:cNvSpPr/>
              <p:nvPr/>
            </p:nvSpPr>
            <p:spPr>
              <a:xfrm flipH="1">
                <a:off x="1106640" y="4279680"/>
                <a:ext cx="75888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945720" y="4246200"/>
                <a:ext cx="46692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: don’t ca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1,3,5,7,9) + d(6,12,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1172160" y="3540240"/>
            <a:ext cx="2760120" cy="2364840"/>
            <a:chOff x="1172160" y="3540240"/>
            <a:chExt cx="2760120" cy="2364840"/>
          </a:xfrm>
        </p:grpSpPr>
        <p:sp>
          <p:nvSpPr>
            <p:cNvPr id="1601" name=""/>
            <p:cNvSpPr/>
            <p:nvPr/>
          </p:nvSpPr>
          <p:spPr>
            <a:xfrm>
              <a:off x="1625760" y="38606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535480" y="3859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365560" y="3768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813400" y="3771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2356200" y="421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65560" y="3768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283200" y="420516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348360" y="449424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772000" y="35402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51160" y="3768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899000" y="3771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1441800" y="421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617840" y="47988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527560" y="47973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65560" y="46861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813400" y="46893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2356200" y="5137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899000" y="560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451160" y="467496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305080" y="557532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451160" y="46861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899000" y="46893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1441800" y="5137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172160" y="49784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1503360" y="2392200"/>
            <a:ext cx="973800" cy="2685960"/>
            <a:chOff x="1503360" y="2392200"/>
            <a:chExt cx="973800" cy="2685960"/>
          </a:xfrm>
        </p:grpSpPr>
        <p:sp>
          <p:nvSpPr>
            <p:cNvPr id="1626" name=""/>
            <p:cNvSpPr/>
            <p:nvPr/>
          </p:nvSpPr>
          <p:spPr>
            <a:xfrm>
              <a:off x="1942920" y="2392200"/>
              <a:ext cx="53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503360" y="4270320"/>
              <a:ext cx="792360" cy="807840"/>
            </a:xfrm>
            <a:custGeom>
              <a:avLst/>
              <a:gdLst>
                <a:gd name="textAreaLeft" fmla="*/ 38520 w 792360"/>
                <a:gd name="textAreaRight" fmla="*/ 753840 w 792360"/>
                <a:gd name="textAreaTop" fmla="*/ 38520 h 807840"/>
                <a:gd name="textAreaBottom" fmla="*/ 769320 h 80784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94B-4F31-465E-8486-43F6CC91310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: don’t car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1,3,5,7,9) + d(6,12,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A'D + B'C'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don't ca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4881600" y="4856040"/>
            <a:ext cx="34164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't ca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eated 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or 0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which is mo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961920" y="3421080"/>
            <a:ext cx="2757600" cy="2364840"/>
            <a:chOff x="961920" y="3421080"/>
            <a:chExt cx="2757600" cy="2364840"/>
          </a:xfrm>
        </p:grpSpPr>
        <p:sp>
          <p:nvSpPr>
            <p:cNvPr id="1632" name=""/>
            <p:cNvSpPr/>
            <p:nvPr/>
          </p:nvSpPr>
          <p:spPr>
            <a:xfrm>
              <a:off x="1413000" y="374148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322720" y="37400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152800" y="36493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600640" y="36525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2143440" y="4100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15280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070440" y="40860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135600" y="437508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559240" y="3421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238400" y="36493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686240" y="36525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1229040" y="4100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405080" y="46796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314800" y="4678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152800" y="45669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600640" y="45702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2143440" y="5018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686240" y="5481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238400" y="45558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092320" y="545616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238400" y="45669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686240" y="45702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1229040" y="5018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961920" y="4863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1257480" y="2363760"/>
            <a:ext cx="913320" cy="2611440"/>
            <a:chOff x="1257480" y="2363760"/>
            <a:chExt cx="913320" cy="2611440"/>
          </a:xfrm>
        </p:grpSpPr>
        <p:sp>
          <p:nvSpPr>
            <p:cNvPr id="1657" name=""/>
            <p:cNvSpPr/>
            <p:nvPr/>
          </p:nvSpPr>
          <p:spPr>
            <a:xfrm>
              <a:off x="1257480" y="4151520"/>
              <a:ext cx="807840" cy="823680"/>
            </a:xfrm>
            <a:custGeom>
              <a:avLst/>
              <a:gdLst>
                <a:gd name="textAreaLeft" fmla="*/ 39240 w 807840"/>
                <a:gd name="textAreaRight" fmla="*/ 768600 w 807840"/>
                <a:gd name="textAreaTop" fmla="*/ 39240 h 823680"/>
                <a:gd name="textAreaBottom" fmla="*/ 784440 h 823680"/>
              </a:gdLst>
              <a:ahLst/>
              <a:rect l="textAreaLeft" t="textAreaTop" r="textAreaRight" b="textAreaBottom"/>
              <a:pathLst>
                <a:path w="21600" h="22023">
                  <a:moveTo>
                    <a:pt x="3600" y="0"/>
                  </a:moveTo>
                  <a:arcTo wR="3600" hR="3600" stAng="16200000" swAng="-5400000"/>
                  <a:lnTo>
                    <a:pt x="0" y="18423"/>
                  </a:lnTo>
                  <a:arcTo wR="3600" hR="3600" stAng="10800000" swAng="-5400000"/>
                  <a:lnTo>
                    <a:pt x="18000" y="220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587600" y="2363760"/>
              <a:ext cx="58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'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1400040" y="2363760"/>
            <a:ext cx="7343640" cy="2395080"/>
            <a:chOff x="1400040" y="2363760"/>
            <a:chExt cx="7343640" cy="2395080"/>
          </a:xfrm>
        </p:grpSpPr>
        <p:sp>
          <p:nvSpPr>
            <p:cNvPr id="1660" name=""/>
            <p:cNvSpPr/>
            <p:nvPr/>
          </p:nvSpPr>
          <p:spPr>
            <a:xfrm>
              <a:off x="5060880" y="3565440"/>
              <a:ext cx="3682800" cy="11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y using don't care as a "1"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2-cube can be formed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ther than a 1-cube to co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3200400" y="3711240"/>
              <a:ext cx="1765080" cy="50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00040" y="4227120"/>
              <a:ext cx="1630440" cy="2901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045160" y="236376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 C'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91D-FD3A-4A82-AEB2-561483AE7EA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the function F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 2, 7, 8, 14, 15) + d(3, 6, 9, 12,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87360" y="2809800"/>
            <a:ext cx="1742760" cy="1752480"/>
            <a:chOff x="1287360" y="2809800"/>
            <a:chExt cx="1742760" cy="1752480"/>
          </a:xfrm>
        </p:grpSpPr>
        <p:sp>
          <p:nvSpPr>
            <p:cNvPr id="1667" name=""/>
            <p:cNvSpPr/>
            <p:nvPr/>
          </p:nvSpPr>
          <p:spPr>
            <a:xfrm>
              <a:off x="1295280" y="28112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04640" y="28098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287360" y="37494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196720" y="37479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842040" y="2490840"/>
            <a:ext cx="2760120" cy="2364840"/>
            <a:chOff x="842040" y="2490840"/>
            <a:chExt cx="2760120" cy="2364840"/>
          </a:xfrm>
        </p:grpSpPr>
        <p:sp>
          <p:nvSpPr>
            <p:cNvPr id="1672" name=""/>
            <p:cNvSpPr/>
            <p:nvPr/>
          </p:nvSpPr>
          <p:spPr>
            <a:xfrm>
              <a:off x="2035440" y="27190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482920" y="27223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2025720" y="3170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035440" y="27190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952720" y="3155760"/>
              <a:ext cx="0" cy="90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017880" y="344484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41520" y="24908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121040" y="27190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568520" y="27223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1111320" y="3170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035440" y="36367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482920" y="36399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2025720" y="4087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568520" y="455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121040" y="362556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974960" y="452592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121040" y="36367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568520" y="36399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1111320" y="4087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42040" y="39290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2095560" y="2813040"/>
            <a:ext cx="797040" cy="766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627200" y="3718080"/>
            <a:ext cx="797040" cy="766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071800" y="2789280"/>
            <a:ext cx="295200" cy="1652400"/>
          </a:xfrm>
          <a:custGeom>
            <a:avLst/>
            <a:gdLst>
              <a:gd name="textAreaLeft" fmla="*/ 14400 w 295200"/>
              <a:gd name="textAreaRight" fmla="*/ 280800 w 295200"/>
              <a:gd name="textAreaTop" fmla="*/ 14400 h 1652400"/>
              <a:gd name="textAreaBottom" fmla="*/ 1638000 h 1652400"/>
            </a:gdLst>
            <a:ahLst/>
            <a:rect l="textAreaLeft" t="textAreaTop" r="textAreaRight" b="textAreaBottom"/>
            <a:pathLst>
              <a:path w="21600" h="120786">
                <a:moveTo>
                  <a:pt x="3600" y="0"/>
                </a:moveTo>
                <a:arcTo wR="3600" hR="3600" stAng="16200000" swAng="-5400000"/>
                <a:lnTo>
                  <a:pt x="0" y="117186"/>
                </a:lnTo>
                <a:arcTo wR="3600" hR="3600" stAng="10800000" swAng="-5400000"/>
                <a:lnTo>
                  <a:pt x="18000" y="120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190520" y="3738600"/>
            <a:ext cx="797040" cy="766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1174680" y="2631240"/>
            <a:ext cx="328680" cy="2016360"/>
            <a:chOff x="1174680" y="2631240"/>
            <a:chExt cx="328680" cy="2016360"/>
          </a:xfrm>
        </p:grpSpPr>
        <p:sp>
          <p:nvSpPr>
            <p:cNvPr id="1697" name=""/>
            <p:cNvSpPr/>
            <p:nvPr/>
          </p:nvSpPr>
          <p:spPr>
            <a:xfrm rot="16200000">
              <a:off x="1085760" y="4234680"/>
              <a:ext cx="501480" cy="32400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 rot="5400000">
              <a:off x="1090800" y="2719800"/>
              <a:ext cx="501480" cy="32364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1760 h 323640"/>
                <a:gd name="textAreaBottom" fmla="*/ 28188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1031760" y="2779560"/>
            <a:ext cx="2035080" cy="339840"/>
            <a:chOff x="1031760" y="2779560"/>
            <a:chExt cx="2035080" cy="339840"/>
          </a:xfrm>
        </p:grpSpPr>
        <p:sp>
          <p:nvSpPr>
            <p:cNvPr id="1700" name=""/>
            <p:cNvSpPr/>
            <p:nvPr/>
          </p:nvSpPr>
          <p:spPr>
            <a:xfrm rot="10800000">
              <a:off x="2565000" y="2795400"/>
              <a:ext cx="501840" cy="324000"/>
            </a:xfrm>
            <a:custGeom>
              <a:avLst/>
              <a:gdLst>
                <a:gd name="textAreaLeft" fmla="*/ 0 w 501840"/>
                <a:gd name="textAreaRight" fmla="*/ 352080 w 50184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031760" y="2779560"/>
              <a:ext cx="501480" cy="32400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2" name=""/>
          <p:cNvSpPr/>
          <p:nvPr/>
        </p:nvSpPr>
        <p:spPr>
          <a:xfrm>
            <a:off x="3666600" y="272412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215960" y="27255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215960" y="30034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A’C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211640" y="32814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C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207680" y="355752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ahoma"/>
              </a:rPr>
              <a:t>AB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229640" y="3835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A’B’D’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201560" y="41115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ahoma"/>
              </a:rPr>
              <a:t>B’C’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132440" y="2770200"/>
            <a:ext cx="69192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137120" y="3586320"/>
            <a:ext cx="69192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141800" y="3030480"/>
            <a:ext cx="6922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2" name=""/>
          <p:cNvGrpSpPr/>
          <p:nvPr/>
        </p:nvGrpSpPr>
        <p:grpSpPr>
          <a:xfrm>
            <a:off x="5936040" y="2179800"/>
            <a:ext cx="2760120" cy="2364840"/>
            <a:chOff x="5936040" y="2179800"/>
            <a:chExt cx="2760120" cy="2364840"/>
          </a:xfrm>
        </p:grpSpPr>
        <p:grpSp>
          <p:nvGrpSpPr>
            <p:cNvPr id="1713" name=""/>
            <p:cNvGrpSpPr/>
            <p:nvPr/>
          </p:nvGrpSpPr>
          <p:grpSpPr>
            <a:xfrm>
              <a:off x="6381720" y="2498760"/>
              <a:ext cx="1742760" cy="1751760"/>
              <a:chOff x="6381720" y="2498760"/>
              <a:chExt cx="1742760" cy="1751760"/>
            </a:xfrm>
          </p:grpSpPr>
          <p:sp>
            <p:nvSpPr>
              <p:cNvPr id="1714" name=""/>
              <p:cNvSpPr/>
              <p:nvPr/>
            </p:nvSpPr>
            <p:spPr>
              <a:xfrm>
                <a:off x="6389640" y="249984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299000" y="2498760"/>
                <a:ext cx="825480" cy="81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381720" y="343800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291080" y="34365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5936040" y="2179800"/>
              <a:ext cx="2760120" cy="2364840"/>
              <a:chOff x="5936040" y="2179800"/>
              <a:chExt cx="2760120" cy="2364840"/>
            </a:xfrm>
          </p:grpSpPr>
          <p:sp>
            <p:nvSpPr>
              <p:cNvPr id="1719" name=""/>
              <p:cNvSpPr/>
              <p:nvPr/>
            </p:nvSpPr>
            <p:spPr>
              <a:xfrm>
                <a:off x="7129440" y="240804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576920" y="241128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7119720" y="28591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129440" y="24080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046720" y="2844720"/>
                <a:ext cx="0" cy="90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111880" y="3133800"/>
                <a:ext cx="5842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535520" y="21798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215040" y="240804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662520" y="241128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>
                <a:off x="6205320" y="28591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129440" y="332568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576920" y="332892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7119720" y="37767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662520" y="42400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215040" y="3314520"/>
                <a:ext cx="0" cy="92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068960" y="4214880"/>
                <a:ext cx="5842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215040" y="332568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662520" y="332892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6205320" y="37767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936040" y="36180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9" name=""/>
            <p:cNvSpPr/>
            <p:nvPr/>
          </p:nvSpPr>
          <p:spPr>
            <a:xfrm>
              <a:off x="6721560" y="3406680"/>
              <a:ext cx="796680" cy="7664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0" name=""/>
            <p:cNvGrpSpPr/>
            <p:nvPr/>
          </p:nvGrpSpPr>
          <p:grpSpPr>
            <a:xfrm>
              <a:off x="6269040" y="2320920"/>
              <a:ext cx="328680" cy="2015280"/>
              <a:chOff x="6269040" y="2320920"/>
              <a:chExt cx="328680" cy="2015280"/>
            </a:xfrm>
          </p:grpSpPr>
          <p:sp>
            <p:nvSpPr>
              <p:cNvPr id="1741" name=""/>
              <p:cNvSpPr/>
              <p:nvPr/>
            </p:nvSpPr>
            <p:spPr>
              <a:xfrm rot="16200000">
                <a:off x="6180480" y="3923640"/>
                <a:ext cx="501120" cy="324000"/>
              </a:xfrm>
              <a:custGeom>
                <a:avLst/>
                <a:gdLst>
                  <a:gd name="textAreaLeft" fmla="*/ 0 w 501120"/>
                  <a:gd name="textAreaRight" fmla="*/ 351720 w 501120"/>
                  <a:gd name="textAreaTop" fmla="*/ 42120 h 324000"/>
                  <a:gd name="textAreaBottom" fmla="*/ 281880 h 3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 rot="5400000">
                <a:off x="6185160" y="2409480"/>
                <a:ext cx="501120" cy="323640"/>
              </a:xfrm>
              <a:custGeom>
                <a:avLst/>
                <a:gdLst>
                  <a:gd name="textAreaLeft" fmla="*/ 0 w 501120"/>
                  <a:gd name="textAreaRight" fmla="*/ 351720 w 50112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6126120" y="2468520"/>
              <a:ext cx="2035080" cy="338760"/>
              <a:chOff x="6126120" y="2468520"/>
              <a:chExt cx="2035080" cy="338760"/>
            </a:xfrm>
          </p:grpSpPr>
          <p:sp>
            <p:nvSpPr>
              <p:cNvPr id="1744" name=""/>
              <p:cNvSpPr/>
              <p:nvPr/>
            </p:nvSpPr>
            <p:spPr>
              <a:xfrm rot="10800000">
                <a:off x="7659360" y="2484000"/>
                <a:ext cx="501840" cy="323280"/>
              </a:xfrm>
              <a:custGeom>
                <a:avLst/>
                <a:gdLst>
                  <a:gd name="textAreaLeft" fmla="*/ 0 w 501840"/>
                  <a:gd name="textAreaRight" fmla="*/ 352080 w 501840"/>
                  <a:gd name="textAreaTop" fmla="*/ 41760 h 323280"/>
                  <a:gd name="textAreaBottom" fmla="*/ 281520 h 3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126120" y="2468520"/>
                <a:ext cx="501480" cy="32328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280"/>
                  <a:gd name="textAreaBottom" fmla="*/ 281520 h 3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6" name=""/>
          <p:cNvGrpSpPr/>
          <p:nvPr/>
        </p:nvGrpSpPr>
        <p:grpSpPr>
          <a:xfrm>
            <a:off x="5964840" y="4379760"/>
            <a:ext cx="2760120" cy="2365560"/>
            <a:chOff x="5964840" y="4379760"/>
            <a:chExt cx="2760120" cy="2365560"/>
          </a:xfrm>
        </p:grpSpPr>
        <p:grpSp>
          <p:nvGrpSpPr>
            <p:cNvPr id="1747" name=""/>
            <p:cNvGrpSpPr/>
            <p:nvPr/>
          </p:nvGrpSpPr>
          <p:grpSpPr>
            <a:xfrm>
              <a:off x="6410160" y="4698720"/>
              <a:ext cx="1742760" cy="1752480"/>
              <a:chOff x="6410160" y="4698720"/>
              <a:chExt cx="1742760" cy="1752480"/>
            </a:xfrm>
          </p:grpSpPr>
          <p:sp>
            <p:nvSpPr>
              <p:cNvPr id="1748" name=""/>
              <p:cNvSpPr/>
              <p:nvPr/>
            </p:nvSpPr>
            <p:spPr>
              <a:xfrm>
                <a:off x="6418080" y="4700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327440" y="4698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410160" y="5638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319520" y="563688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5964840" y="4379760"/>
              <a:ext cx="2760120" cy="2365560"/>
              <a:chOff x="5964840" y="4379760"/>
              <a:chExt cx="2760120" cy="2365560"/>
            </a:xfrm>
          </p:grpSpPr>
          <p:sp>
            <p:nvSpPr>
              <p:cNvPr id="1753" name=""/>
              <p:cNvSpPr/>
              <p:nvPr/>
            </p:nvSpPr>
            <p:spPr>
              <a:xfrm>
                <a:off x="7158240" y="460836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605720" y="4611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H="1">
                <a:off x="7148520" y="505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158240" y="460836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8075520" y="504504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140680" y="53341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564320" y="4379760"/>
                <a:ext cx="58428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243840" y="460836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691320" y="4611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6234120" y="505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158240" y="5526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605720" y="5529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H="1">
                <a:off x="7148520" y="5977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691320" y="64404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243840" y="551484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097760" y="6415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243840" y="5526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691320" y="5529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H="1">
                <a:off x="6234120" y="5977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964840" y="581832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7194600" y="4678200"/>
              <a:ext cx="295200" cy="165276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1652760"/>
                <a:gd name="textAreaBottom" fmla="*/ 1638360 h 1652760"/>
              </a:gdLst>
              <a:ahLst/>
              <a:rect l="textAreaLeft" t="textAreaTop" r="textAreaRight" b="textAreaBottom"/>
              <a:pathLst>
                <a:path w="21600" h="120813">
                  <a:moveTo>
                    <a:pt x="3600" y="0"/>
                  </a:moveTo>
                  <a:arcTo wR="3600" hR="3600" stAng="16200000" swAng="-5400000"/>
                  <a:lnTo>
                    <a:pt x="0" y="117213"/>
                  </a:lnTo>
                  <a:arcTo wR="3600" hR="3600" stAng="10800000" swAng="-5400000"/>
                  <a:lnTo>
                    <a:pt x="18000" y="120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313320" y="562752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5" name=""/>
            <p:cNvGrpSpPr/>
            <p:nvPr/>
          </p:nvGrpSpPr>
          <p:grpSpPr>
            <a:xfrm>
              <a:off x="6154560" y="4668840"/>
              <a:ext cx="2035080" cy="338760"/>
              <a:chOff x="6154560" y="4668840"/>
              <a:chExt cx="2035080" cy="338760"/>
            </a:xfrm>
          </p:grpSpPr>
          <p:sp>
            <p:nvSpPr>
              <p:cNvPr id="1776" name=""/>
              <p:cNvSpPr/>
              <p:nvPr/>
            </p:nvSpPr>
            <p:spPr>
              <a:xfrm rot="10800000">
                <a:off x="7687800" y="4683960"/>
                <a:ext cx="501840" cy="323640"/>
              </a:xfrm>
              <a:custGeom>
                <a:avLst/>
                <a:gdLst>
                  <a:gd name="textAreaLeft" fmla="*/ 0 w 501840"/>
                  <a:gd name="textAreaRight" fmla="*/ 352080 w 50184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154560" y="4668840"/>
                <a:ext cx="501480" cy="32364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8" name=""/>
          <p:cNvGrpSpPr/>
          <p:nvPr/>
        </p:nvGrpSpPr>
        <p:grpSpPr>
          <a:xfrm>
            <a:off x="2286720" y="3462480"/>
            <a:ext cx="3686760" cy="1962360"/>
            <a:chOff x="2286720" y="3462480"/>
            <a:chExt cx="3686760" cy="1962360"/>
          </a:xfrm>
        </p:grpSpPr>
        <p:sp>
          <p:nvSpPr>
            <p:cNvPr id="1779" name=""/>
            <p:cNvSpPr/>
            <p:nvPr/>
          </p:nvSpPr>
          <p:spPr>
            <a:xfrm>
              <a:off x="2286720" y="5056560"/>
              <a:ext cx="260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 = 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BC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 </a:t>
              </a:r>
              <a:r>
                <a:rPr b="1" lang="en-US" sz="1800" spc="-1" strike="noStrike">
                  <a:solidFill>
                    <a:srgbClr val="996600"/>
                  </a:solidFill>
                  <a:latin typeface="Tahoma"/>
                </a:rPr>
                <a:t>A’B’D’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+ </a:t>
              </a:r>
              <a:r>
                <a:rPr b="1" lang="en-US" sz="1800" spc="-1" strike="noStrike">
                  <a:solidFill>
                    <a:srgbClr val="cc9900"/>
                  </a:solidFill>
                  <a:latin typeface="Tahoma"/>
                </a:rPr>
                <a:t>B’C’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5073120" y="3462480"/>
              <a:ext cx="900360" cy="154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2274120" y="5487840"/>
            <a:ext cx="3704400" cy="428760"/>
            <a:chOff x="2274120" y="5487840"/>
            <a:chExt cx="3704400" cy="428760"/>
          </a:xfrm>
        </p:grpSpPr>
        <p:sp>
          <p:nvSpPr>
            <p:cNvPr id="1782" name=""/>
            <p:cNvSpPr/>
            <p:nvPr/>
          </p:nvSpPr>
          <p:spPr>
            <a:xfrm>
              <a:off x="2274120" y="5548320"/>
              <a:ext cx="23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 = </a:t>
              </a: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A’C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ff00ff"/>
                  </a:solidFill>
                  <a:latin typeface="Tahoma"/>
                </a:rPr>
                <a:t>AB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cc9900"/>
                  </a:solidFill>
                  <a:latin typeface="Tahoma"/>
                </a:rPr>
                <a:t>B’C’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4799160" y="5487840"/>
              <a:ext cx="117936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318960" y="2082960"/>
            <a:ext cx="8804520" cy="45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1290-39F2-4856-8B2E-8267499D765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functions, truth tables,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, AND, OR, NAND, NOR, XOR, . . ., minimal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oms and theorems of Boolean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ofs by re-writing and perfect in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s of Boolean functions and their time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-level and incompletely specified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tart at understanding two-level 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on of 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level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case 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B3EC-71A6-4608-9C44-FA1E606C534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{0, 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is logical OR, • is logical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logical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algebraic axioms h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F77-11CD-4BBB-8AC5-F15E65FA2E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17440" y="6342120"/>
            <a:ext cx="3340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, Y are Boolean algebra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304020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115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73120" y="281160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 • 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64040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115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73120" y="4411800"/>
            <a:ext cx="496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 • 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 • Y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X • Y ) + ( X’ • Y’ 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00880" y="4932360"/>
            <a:ext cx="2717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X • Y ) + ( X’ • Y’ )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X = 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17880" y="304020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261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87720" y="28116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 • 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833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687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259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17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975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5732640"/>
            <a:ext cx="2629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oolean expression that i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rue when the variables X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Y have the same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false, otherw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394320" y="5179680"/>
            <a:ext cx="47016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 functions and 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logic function that can be expressed as a truth table can be written as an expression in Boolean algebra using the operators: ’, +, and 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50E7-8E19-4BCC-A821-FAACFFA87D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X + 0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D.   X • 1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X + 1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.   X • 0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mpotenc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X + X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.   X • X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u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(X’)’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X + X’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D.   X • X’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ta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X + Y = Y +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D.   X • Y = Y •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 (X + Y) + Z = X + (Y +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D.   (X • Y) • Z = X • (Y •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5E11-5472-4EC8-9FB2-76AC16ED9E5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X • (Y + Z) = (X • Y) + (X •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D.   X + (Y • Z) = (X + Y) • (X +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  X • Y + X • Y’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D.   (X + Y) • (X + Y’)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p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X + X • Y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D.  X • (X + Y) = 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(X + Y’) • Y = X •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D. (X • Y’) + Y = X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 (X + Y) • (X’ + Z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D. X • Y + X’ • Z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X • Z + X’ •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(X + Z) • (X’ +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su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 (X • Y) + (Y • Z) + (X’ • Z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D. (X + Y) • (Y + Z) • (X’ + Z)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X • Y + X’ • 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(X + Y) • (X’ +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876B-4976-4528-9E04-33002DD6BF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1:29Z</dcterms:created>
  <dc:creator>Gaetano Borriello</dc:creator>
  <dc:description/>
  <dc:language>en-US</dc:language>
  <cp:lastModifiedBy>Gaetano Borriello</cp:lastModifiedBy>
  <cp:lastPrinted>2000-09-30T01:10:40Z</cp:lastPrinted>
  <dcterms:modified xsi:type="dcterms:W3CDTF">2005-01-24T06:58:10Z</dcterms:modified>
  <cp:revision>44</cp:revision>
  <dc:subject/>
  <dc:title>Combination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