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269413" cy="6948488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A17B-32AA-477A-8425-306FCFAD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B494-D97A-455A-9172-65F649B3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162-ED1C-400C-B956-B6DCF523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7814-321A-4296-BCB0-A0D8124C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6A4D-7E5D-43A1-AE13-FBD94614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42CB-5478-4C02-9BD7-102C6E7B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D1AC-EC8B-4169-94B4-B722D620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6B11-6457-4C20-959A-4A5B4FF4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658A-4993-4AC9-AD12-39ABBE67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C521-7601-475B-8A74-885EF3A3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5852-B3A1-4BD7-B6F4-609E4AF3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963D-B95B-4319-A9C9-A6CB30B9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A269-9CC5-4C8D-91D3-A233FE84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33A7-0A96-42F5-8348-6C4CAB52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D14A-E02E-489A-A209-071C8790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BCDC-8045-45D8-A243-475EE753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6A77-4309-4F88-962A-CCAB569C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5CE5-9306-4715-9DC5-C333ED82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B602-35AF-41F6-8F9B-0E2238B9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DB4C-1D28-40A7-8154-D3345E92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010A-9278-4191-BB12-ED60872E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D01E-8DCA-417E-8DF8-57E82600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8F1-1635-4F55-B8E3-8D8AE365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A909-7D9D-48B8-9517-DF9B588C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698152E-1A90-45EE-8BF1-9A069893136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0D510CB-94D7-468E-8299-3A93EA57DDD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design case stud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D to 7-segment display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function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line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endar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ithmetic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 re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/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/log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432-D2AC-4ABF-B6F1-E9798B6C732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3886200" y="1863720"/>
            <a:ext cx="46864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implementation technolog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-variable K-map to discrete gat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or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575320" y="3260880"/>
            <a:ext cx="40644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032000" y="4714920"/>
            <a:ext cx="1816200" cy="469800"/>
            <a:chOff x="4032000" y="4714920"/>
            <a:chExt cx="1816200" cy="469800"/>
          </a:xfrm>
        </p:grpSpPr>
        <p:sp>
          <p:nvSpPr>
            <p:cNvPr id="729" name=""/>
            <p:cNvSpPr/>
            <p:nvPr/>
          </p:nvSpPr>
          <p:spPr>
            <a:xfrm>
              <a:off x="4044960" y="4714920"/>
              <a:ext cx="1843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4032000" y="4803840"/>
              <a:ext cx="1816200" cy="305640"/>
              <a:chOff x="4032000" y="4803840"/>
              <a:chExt cx="1816200" cy="30564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4032000" y="4803840"/>
                <a:ext cx="914760" cy="305640"/>
                <a:chOff x="4032000" y="4803840"/>
                <a:chExt cx="914760" cy="30564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4038480" y="4810320"/>
                  <a:ext cx="850680" cy="27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032000" y="4803840"/>
                  <a:ext cx="8636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4038840" y="4824360"/>
                  <a:ext cx="850320" cy="27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4032360" y="4818240"/>
                  <a:ext cx="8632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420440" y="4824360"/>
                  <a:ext cx="74880" cy="25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4413960" y="4818240"/>
                  <a:ext cx="8784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445280" y="4823280"/>
                  <a:ext cx="50040" cy="25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4439160" y="4816440"/>
                  <a:ext cx="6264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4451400" y="4886280"/>
                  <a:ext cx="3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4451400" y="5013360"/>
                  <a:ext cx="3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4902120" y="493704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896000" y="4930560"/>
                  <a:ext cx="50760" cy="504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4" name=""/>
              <p:cNvSpPr/>
              <p:nvPr/>
            </p:nvSpPr>
            <p:spPr>
              <a:xfrm>
                <a:off x="4336920" y="488628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336920" y="501336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959360" y="495000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016600" y="4950000"/>
                <a:ext cx="19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226120" y="4950000"/>
                <a:ext cx="622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9" name=""/>
          <p:cNvGrpSpPr/>
          <p:nvPr/>
        </p:nvGrpSpPr>
        <p:grpSpPr>
          <a:xfrm>
            <a:off x="5200560" y="3559320"/>
            <a:ext cx="647640" cy="1409400"/>
            <a:chOff x="5200560" y="3559320"/>
            <a:chExt cx="647640" cy="1409400"/>
          </a:xfrm>
        </p:grpSpPr>
        <p:grpSp>
          <p:nvGrpSpPr>
            <p:cNvPr id="750" name=""/>
            <p:cNvGrpSpPr/>
            <p:nvPr/>
          </p:nvGrpSpPr>
          <p:grpSpPr>
            <a:xfrm>
              <a:off x="5346720" y="3559320"/>
              <a:ext cx="247680" cy="253800"/>
              <a:chOff x="5346720" y="3559320"/>
              <a:chExt cx="247680" cy="253800"/>
            </a:xfrm>
          </p:grpSpPr>
          <p:sp>
            <p:nvSpPr>
              <p:cNvPr id="751" name=""/>
              <p:cNvSpPr/>
              <p:nvPr/>
            </p:nvSpPr>
            <p:spPr>
              <a:xfrm>
                <a:off x="5353200" y="3559320"/>
                <a:ext cx="1778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5353200" y="367344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346720" y="355932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543640" y="366084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" name=""/>
            <p:cNvSpPr/>
            <p:nvPr/>
          </p:nvSpPr>
          <p:spPr>
            <a:xfrm>
              <a:off x="5226120" y="3679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00560" y="493092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219640" y="3673440"/>
              <a:ext cx="0" cy="127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07000" y="36799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4020120" y="4105440"/>
            <a:ext cx="2056320" cy="475920"/>
            <a:chOff x="4020120" y="4105440"/>
            <a:chExt cx="2056320" cy="475920"/>
          </a:xfrm>
        </p:grpSpPr>
        <p:sp>
          <p:nvSpPr>
            <p:cNvPr id="760" name=""/>
            <p:cNvSpPr/>
            <p:nvPr/>
          </p:nvSpPr>
          <p:spPr>
            <a:xfrm>
              <a:off x="4038480" y="4105440"/>
              <a:ext cx="2034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4020120" y="4168800"/>
              <a:ext cx="2056320" cy="406440"/>
              <a:chOff x="4020120" y="4168800"/>
              <a:chExt cx="2056320" cy="406440"/>
            </a:xfrm>
          </p:grpSpPr>
          <p:sp>
            <p:nvSpPr>
              <p:cNvPr id="762" name=""/>
              <p:cNvSpPr/>
              <p:nvPr/>
            </p:nvSpPr>
            <p:spPr>
              <a:xfrm flipH="1">
                <a:off x="5784480" y="418788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5784840" y="444168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4" name=""/>
              <p:cNvGrpSpPr/>
              <p:nvPr/>
            </p:nvGrpSpPr>
            <p:grpSpPr>
              <a:xfrm>
                <a:off x="4020120" y="4168800"/>
                <a:ext cx="938880" cy="305640"/>
                <a:chOff x="4020120" y="4168800"/>
                <a:chExt cx="938880" cy="30564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4324320" y="4183200"/>
                  <a:ext cx="1648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323960" y="4168800"/>
                  <a:ext cx="1652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438800" y="4251240"/>
                  <a:ext cx="25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438800" y="4378320"/>
                  <a:ext cx="25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413600" y="4183200"/>
                  <a:ext cx="13896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020120" y="4183200"/>
                  <a:ext cx="9388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070160" y="4168800"/>
                  <a:ext cx="8888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413240" y="4168800"/>
                  <a:ext cx="13932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3" name=""/>
              <p:cNvSpPr/>
              <p:nvPr/>
            </p:nvSpPr>
            <p:spPr>
              <a:xfrm>
                <a:off x="4324320" y="425124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324320" y="437832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971960" y="431496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073480" y="4295880"/>
                <a:ext cx="381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353200" y="444168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086440" y="4187880"/>
                <a:ext cx="76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092560" y="4194000"/>
                <a:ext cx="0" cy="2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086440" y="4441680"/>
                <a:ext cx="253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1" name=""/>
              <p:cNvGrpSpPr/>
              <p:nvPr/>
            </p:nvGrpSpPr>
            <p:grpSpPr>
              <a:xfrm>
                <a:off x="5473800" y="4321080"/>
                <a:ext cx="374400" cy="254160"/>
                <a:chOff x="5473800" y="4321080"/>
                <a:chExt cx="374400" cy="25416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479920" y="4321080"/>
                  <a:ext cx="17784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V="1">
                  <a:off x="5479920" y="4435560"/>
                  <a:ext cx="17784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473800" y="4321080"/>
                  <a:ext cx="0" cy="24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670720" y="4422600"/>
                  <a:ext cx="50760" cy="511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34080" y="4441680"/>
                  <a:ext cx="11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87" name=""/>
          <p:cNvGrpSpPr/>
          <p:nvPr/>
        </p:nvGrpSpPr>
        <p:grpSpPr>
          <a:xfrm>
            <a:off x="4038480" y="3679920"/>
            <a:ext cx="1809720" cy="457200"/>
            <a:chOff x="4038480" y="3679920"/>
            <a:chExt cx="1809720" cy="457200"/>
          </a:xfrm>
        </p:grpSpPr>
        <p:sp>
          <p:nvSpPr>
            <p:cNvPr id="788" name=""/>
            <p:cNvSpPr/>
            <p:nvPr/>
          </p:nvSpPr>
          <p:spPr>
            <a:xfrm>
              <a:off x="4038480" y="3679920"/>
              <a:ext cx="203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4330800" y="3775680"/>
              <a:ext cx="1517400" cy="330840"/>
              <a:chOff x="4330800" y="3775680"/>
              <a:chExt cx="1517400" cy="330840"/>
            </a:xfrm>
          </p:grpSpPr>
          <p:grpSp>
            <p:nvGrpSpPr>
              <p:cNvPr id="790" name=""/>
              <p:cNvGrpSpPr/>
              <p:nvPr/>
            </p:nvGrpSpPr>
            <p:grpSpPr>
              <a:xfrm>
                <a:off x="4451400" y="3775680"/>
                <a:ext cx="520200" cy="330840"/>
                <a:chOff x="4451400" y="3775680"/>
                <a:chExt cx="520200" cy="33084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4457520" y="3781440"/>
                  <a:ext cx="30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457520" y="4086360"/>
                  <a:ext cx="30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451400" y="3787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4629600" y="3795840"/>
                  <a:ext cx="2779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4623120" y="3789360"/>
                  <a:ext cx="290880" cy="31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629240" y="3781800"/>
                  <a:ext cx="27828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622760" y="3775680"/>
                  <a:ext cx="291240" cy="31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933800" y="392112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4914720" y="3915000"/>
                  <a:ext cx="50400" cy="50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0" name=""/>
              <p:cNvSpPr/>
              <p:nvPr/>
            </p:nvSpPr>
            <p:spPr>
              <a:xfrm>
                <a:off x="4330800" y="387036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330800" y="399744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978440" y="393372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53200" y="3933720"/>
                <a:ext cx="49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029200" y="3933720"/>
                <a:ext cx="31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327640" y="3914640"/>
            <a:ext cx="520560" cy="914400"/>
            <a:chOff x="5327640" y="3914640"/>
            <a:chExt cx="520560" cy="914400"/>
          </a:xfrm>
        </p:grpSpPr>
        <p:grpSp>
          <p:nvGrpSpPr>
            <p:cNvPr id="806" name=""/>
            <p:cNvGrpSpPr/>
            <p:nvPr/>
          </p:nvGrpSpPr>
          <p:grpSpPr>
            <a:xfrm>
              <a:off x="5473800" y="4575240"/>
              <a:ext cx="247680" cy="253800"/>
              <a:chOff x="5473800" y="4575240"/>
              <a:chExt cx="247680" cy="253800"/>
            </a:xfrm>
          </p:grpSpPr>
          <p:sp>
            <p:nvSpPr>
              <p:cNvPr id="807" name=""/>
              <p:cNvSpPr/>
              <p:nvPr/>
            </p:nvSpPr>
            <p:spPr>
              <a:xfrm>
                <a:off x="5479920" y="4575240"/>
                <a:ext cx="1778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5479920" y="468936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473800" y="457524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670720" y="467676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5340240" y="4689360"/>
              <a:ext cx="1335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327640" y="39146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46720" y="394020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734080" y="4695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606600" y="969840"/>
            <a:ext cx="2682720" cy="10294560"/>
            <a:chOff x="606600" y="969840"/>
            <a:chExt cx="2682720" cy="10294560"/>
          </a:xfrm>
        </p:grpSpPr>
        <p:sp>
          <p:nvSpPr>
            <p:cNvPr id="817" name=""/>
            <p:cNvSpPr/>
            <p:nvPr/>
          </p:nvSpPr>
          <p:spPr>
            <a:xfrm>
              <a:off x="606600" y="969840"/>
              <a:ext cx="2546280" cy="102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22440" y="11538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03680" y="969840"/>
              <a:ext cx="0" cy="510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22440" y="17636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2440" y="23731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2440" y="29984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22440" y="35924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22440" y="42019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22440" y="48114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2440" y="543708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5778360" y="3178080"/>
            <a:ext cx="2381400" cy="3292560"/>
            <a:chOff x="5778360" y="3178080"/>
            <a:chExt cx="2381400" cy="3292560"/>
          </a:xfrm>
        </p:grpSpPr>
        <p:sp>
          <p:nvSpPr>
            <p:cNvPr id="828" name=""/>
            <p:cNvSpPr/>
            <p:nvPr/>
          </p:nvSpPr>
          <p:spPr>
            <a:xfrm>
              <a:off x="710892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15636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61356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37280" y="3260880"/>
              <a:ext cx="266760" cy="24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84800" y="5267160"/>
              <a:ext cx="7495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070680" y="4124160"/>
              <a:ext cx="13208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 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616800" y="5267160"/>
              <a:ext cx="76176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048440" y="5267160"/>
              <a:ext cx="7495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37320" y="3946680"/>
              <a:ext cx="622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076800" y="3178080"/>
              <a:ext cx="1320840" cy="233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04120" y="43149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5784480" y="34257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5784480" y="3679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784480" y="39337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1120" y="55278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18320" y="552780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5784840" y="46958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784840" y="4950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5784840" y="52038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201080" y="551484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778360" y="41878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5778360" y="44416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D70F-2AF4-425C-A4BA-A2DCB684E65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ion line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ds of varying length (+/-10%) travel on conveyor be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cal arm pushes rods within spec (+/-5%) to one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arm pushes rods too long to oth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ds that are too short stay on b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light barriers (light source + photocell) as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combinational logic to activate the a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are three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are two arm control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sensor reads "1" when tripped, "0" other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sensors A, B,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A35C-F66A-45E2-AA77-D0C2073BABE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"/>
          <p:cNvGrpSpPr/>
          <p:nvPr/>
        </p:nvGrpSpPr>
        <p:grpSpPr>
          <a:xfrm>
            <a:off x="2646360" y="2839680"/>
            <a:ext cx="1438200" cy="3276720"/>
            <a:chOff x="2646360" y="2839680"/>
            <a:chExt cx="1438200" cy="3276720"/>
          </a:xfrm>
        </p:grpSpPr>
        <p:sp>
          <p:nvSpPr>
            <p:cNvPr id="853" name=""/>
            <p:cNvSpPr/>
            <p:nvPr/>
          </p:nvSpPr>
          <p:spPr>
            <a:xfrm rot="16200000">
              <a:off x="325116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16200000">
              <a:off x="325584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6560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4265640" y="2839680"/>
            <a:ext cx="1438200" cy="3276720"/>
            <a:chOff x="4265640" y="2839680"/>
            <a:chExt cx="1438200" cy="3276720"/>
          </a:xfrm>
        </p:grpSpPr>
        <p:sp>
          <p:nvSpPr>
            <p:cNvPr id="857" name=""/>
            <p:cNvSpPr/>
            <p:nvPr/>
          </p:nvSpPr>
          <p:spPr>
            <a:xfrm rot="16200000">
              <a:off x="487044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16200000">
              <a:off x="487512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48488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5856120" y="2839680"/>
            <a:ext cx="1438200" cy="3276720"/>
            <a:chOff x="5856120" y="2839680"/>
            <a:chExt cx="1438200" cy="3276720"/>
          </a:xfrm>
        </p:grpSpPr>
        <p:sp>
          <p:nvSpPr>
            <p:cNvPr id="861" name=""/>
            <p:cNvSpPr/>
            <p:nvPr/>
          </p:nvSpPr>
          <p:spPr>
            <a:xfrm rot="16200000">
              <a:off x="646092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16200000">
              <a:off x="646560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07536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ketch of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 of sens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 B distance = specification –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 C distance = specification +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618080" y="2817360"/>
            <a:ext cx="914400" cy="2749680"/>
            <a:chOff x="4618080" y="2817360"/>
            <a:chExt cx="914400" cy="2749680"/>
          </a:xfrm>
        </p:grpSpPr>
        <p:sp>
          <p:nvSpPr>
            <p:cNvPr id="867" name=""/>
            <p:cNvSpPr/>
            <p:nvPr/>
          </p:nvSpPr>
          <p:spPr>
            <a:xfrm flipV="1">
              <a:off x="50752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618080" y="3166920"/>
              <a:ext cx="914400" cy="24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08520" y="4227120"/>
              <a:ext cx="49536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Withi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218280" y="2817360"/>
            <a:ext cx="927000" cy="2762640"/>
            <a:chOff x="6218280" y="2817360"/>
            <a:chExt cx="927000" cy="2762640"/>
          </a:xfrm>
        </p:grpSpPr>
        <p:sp>
          <p:nvSpPr>
            <p:cNvPr id="871" name=""/>
            <p:cNvSpPr/>
            <p:nvPr/>
          </p:nvSpPr>
          <p:spPr>
            <a:xfrm>
              <a:off x="6218280" y="5338440"/>
              <a:ext cx="927000" cy="2415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66754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218280" y="3166920"/>
              <a:ext cx="914400" cy="217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31040" y="4214520"/>
              <a:ext cx="44460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o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h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3017880" y="2817360"/>
            <a:ext cx="914400" cy="2978280"/>
            <a:chOff x="3017880" y="2817360"/>
            <a:chExt cx="914400" cy="2978280"/>
          </a:xfrm>
        </p:grpSpPr>
        <p:sp>
          <p:nvSpPr>
            <p:cNvPr id="876" name=""/>
            <p:cNvSpPr/>
            <p:nvPr/>
          </p:nvSpPr>
          <p:spPr>
            <a:xfrm flipV="1">
              <a:off x="34750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017880" y="3166920"/>
              <a:ext cx="914400" cy="262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98960" y="4227120"/>
              <a:ext cx="41904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o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o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32280" y="5567040"/>
              <a:ext cx="888840" cy="222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2408400" y="3129120"/>
            <a:ext cx="6473160" cy="2882880"/>
            <a:chOff x="2408400" y="3129120"/>
            <a:chExt cx="6473160" cy="2882880"/>
          </a:xfrm>
        </p:grpSpPr>
        <p:sp>
          <p:nvSpPr>
            <p:cNvPr id="881" name=""/>
            <p:cNvSpPr/>
            <p:nvPr/>
          </p:nvSpPr>
          <p:spPr>
            <a:xfrm>
              <a:off x="2408400" y="312912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408400" y="536436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408400" y="568188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50000" y="3535560"/>
              <a:ext cx="5457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 5%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272080" y="428472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00000" y="31672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00000" y="54532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700000" y="56818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589520" y="3179880"/>
              <a:ext cx="0" cy="226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275320" y="3179880"/>
              <a:ext cx="0" cy="248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CA1E-8F92-4DD3-85C9-F2EADF38626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4272120" y="2882880"/>
            <a:ext cx="454644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implementation now straightforwar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st use three 3-input AND gate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too short" = AB'C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only first sensor tripped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in spec" = A B C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irst two sensors tripp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too long" = A B 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ll three sensors tripp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93880" y="3289320"/>
            <a:ext cx="2768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239920" y="3035160"/>
            <a:ext cx="0" cy="251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69840" y="2946240"/>
            <a:ext cx="287028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 sh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n't ca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spe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 l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DD1-E7A2-49E8-A4F9-08117146DEB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4554360" y="2370240"/>
            <a:ext cx="4638960" cy="37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eger number_of_days ( month, leap_year_flag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witch (month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1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2: if (leap_year_flag ==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n return (2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else return (28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3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4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5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6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7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8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9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0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1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2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: return (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lendar sub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number of days in a month (to control watch displ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controlling the display of a wrist-watch LCD scr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month, leap year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: number of day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oftware implement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help understand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062F-4CCB-4C1F-9E40-C991639BA33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1447920" y="3657600"/>
            <a:ext cx="2120760" cy="2476440"/>
            <a:chOff x="1447920" y="3657600"/>
            <a:chExt cx="2120760" cy="2476440"/>
          </a:xfrm>
        </p:grpSpPr>
        <p:sp>
          <p:nvSpPr>
            <p:cNvPr id="901" name=""/>
            <p:cNvSpPr/>
            <p:nvPr/>
          </p:nvSpPr>
          <p:spPr>
            <a:xfrm>
              <a:off x="1568520" y="4425840"/>
              <a:ext cx="148572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906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81952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2478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192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4764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13372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47644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81952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705040" y="367020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600200" y="3657600"/>
              <a:ext cx="1066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44792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0324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3372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7644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79064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5272200" y="1905120"/>
            <a:ext cx="3879720" cy="4051080"/>
            <a:chOff x="5272200" y="1905120"/>
            <a:chExt cx="3879720" cy="4051080"/>
          </a:xfrm>
        </p:grpSpPr>
        <p:sp>
          <p:nvSpPr>
            <p:cNvPr id="918" name=""/>
            <p:cNvSpPr/>
            <p:nvPr/>
          </p:nvSpPr>
          <p:spPr>
            <a:xfrm>
              <a:off x="5303880" y="1905120"/>
              <a:ext cx="3848040" cy="40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59876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272200" y="2387520"/>
              <a:ext cx="36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751800" y="2165400"/>
              <a:ext cx="0" cy="36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for month: 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wires for 28, 29, 30, and 3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hot – only one true at any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 diagra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32D-A471-4211-964A-4391DE217B0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4959360" y="1511280"/>
            <a:ext cx="3879720" cy="4051440"/>
            <a:chOff x="4959360" y="1511280"/>
            <a:chExt cx="3879720" cy="4051440"/>
          </a:xfrm>
        </p:grpSpPr>
        <p:sp>
          <p:nvSpPr>
            <p:cNvPr id="924" name=""/>
            <p:cNvSpPr/>
            <p:nvPr/>
          </p:nvSpPr>
          <p:spPr>
            <a:xfrm>
              <a:off x="4991040" y="1511280"/>
              <a:ext cx="384804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59876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59360" y="1994040"/>
              <a:ext cx="36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38960" y="1771560"/>
              <a:ext cx="0" cy="36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94168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hoose implementation target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 perform mapp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te gat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translate to S-o-P or P-o-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766880" y="2376360"/>
            <a:ext cx="241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’ m2 m1’ leap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751760" y="3054240"/>
            <a:ext cx="237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’ m2 m1’ l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785240" y="3719520"/>
            <a:ext cx="241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 m1’ + m8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783800" y="4394160"/>
            <a:ext cx="200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1 + m8 m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37FD-FAB6-4E79-AED9-858AA8139CE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63320" y="1176480"/>
            <a:ext cx="8343720" cy="458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1000"/>
          </a:bodyPr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value of leap year flag given th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years after 1582 (Gregorian calendar reformation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p years are all the years divisible by 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that years divisible by 100 are not leap yea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years divisible by 400 are leap ye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the y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– easy for divisible by 4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difficult for 100 and 400 (not powers of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D – easy for 100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ore difficult for 4, what about 4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the results of the previous three steps to yield the leap year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AACA-191C-4B55-89F9-874929CFFAF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: divisible-by-4 circu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992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CD coded y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M8 YM4 YM2 YM1 – YH8 YH4 YH2 YH1 – YT8 YT4 YT2 YT1 – YO8 YO4 YO2 Y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need to look at low-order two digits of the ye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years ending in 00, 04, 08, 12, 16, 20, etc. are divisible by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ens digit is even, then divisible by 4 if ones digit is 0, 4, or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ens digit is odd, then divisible by 4 if the ones digit is 2 or 6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es into the following Boolean express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here YT1 is the year's tens digit low-order bit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8 is the high-order bit of year's ones digit, etc.)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T1’ (YO8’ YO4’ YO2’ YO1’ + YO8’ YO4 YO2’ YO1’ + YO8 YO4’ YO2’ YO1’ )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YT1 (YO8’ YO4’ YO2 YO1’ + YO8’ YO4 YO2 YO1’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s with values of 10 to 15 will never occur, simplify further to yield: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T1’ YO2’ YO1’ + YT1 YO2 YO1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06360" y="1595520"/>
            <a:ext cx="864072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43A0-EB35-4C80-A91D-3246585840F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visible-by-100 and divisible-by-400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sible-by-100 just requires checking that all bits of two low-order digits are all 0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T8’ YT4’ YT2’ YT1’   •   YO8’ YO4’ YO2’ YO1’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sible-by-400 combines the divisible-by-4 (applied to the thousands and hundreds digits) and divisible-by-100 circuit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M1’ YH2’ YH1’ + YM1 YH2 YH1’)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(YT8’ YT4’ YT2’ YT1’ •  YO8’ YO4’ YO2’ YO1’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E9E1-BE93-4CE8-AED3-3FEA8071994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design procedure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Understand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circuit supposed to 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inputs (data, control) and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w block diagram or other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Formulate the problem using a suitable design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th table or waveform diagram are typ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require encoding of symbolic inputs and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Choose implementation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M, PAL, P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x, decoder and OR-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e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Follow implementation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-maps for two-level, multi-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tools and hardware description language (e.g., Verilo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184C-D52A-4EDA-B507-8B2E9438823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ing to determine 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 results of previous three circuits: D4, D100, and D40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p_year_fl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(D100 • D400’ ) ’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• D100’ + D4 • D40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• D100’ + D4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F36-1E53-4CA0-96B6-BB33CCB5B14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1430280" y="1866960"/>
            <a:ext cx="5310360" cy="4145040"/>
          </a:xfrm>
          <a:custGeom>
            <a:avLst/>
            <a:gdLst/>
            <a:ahLst/>
            <a:rect l="l" t="t" r="r" b="b"/>
            <a:pathLst>
              <a:path w="3345" h="2611">
                <a:moveTo>
                  <a:pt x="9" y="2611"/>
                </a:moveTo>
                <a:lnTo>
                  <a:pt x="1134" y="2611"/>
                </a:lnTo>
                <a:lnTo>
                  <a:pt x="1134" y="1644"/>
                </a:lnTo>
                <a:lnTo>
                  <a:pt x="2592" y="1635"/>
                </a:lnTo>
                <a:lnTo>
                  <a:pt x="2601" y="1468"/>
                </a:lnTo>
                <a:lnTo>
                  <a:pt x="3159" y="1468"/>
                </a:lnTo>
                <a:lnTo>
                  <a:pt x="3345" y="1468"/>
                </a:lnTo>
                <a:lnTo>
                  <a:pt x="3345" y="0"/>
                </a:lnTo>
                <a:lnTo>
                  <a:pt x="0" y="0"/>
                </a:lnTo>
                <a:lnTo>
                  <a:pt x="9" y="2611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of 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534960" y="950760"/>
            <a:ext cx="8186760" cy="523404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1444680" y="3503520"/>
            <a:ext cx="2508120" cy="2508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233880" y="4483080"/>
            <a:ext cx="2522520" cy="1548000"/>
          </a:xfrm>
          <a:prstGeom prst="rect">
            <a:avLst/>
          </a:prstGeom>
          <a:solidFill>
            <a:srgbClr val="3b812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214800" y="1955880"/>
            <a:ext cx="2536560" cy="1547640"/>
          </a:xfrm>
          <a:prstGeom prst="rect">
            <a:avLst/>
          </a:prstGeom>
          <a:solidFill>
            <a:srgbClr val="3b812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8C9-F68F-44E9-AA8B-62A25DA2340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cellent examples of combinational logic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vs. space trade-o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things fast may require more logic and thus mor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arry lookahead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ithmetic and logic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-purpose building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components of processor data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ithin most computer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C117-E9C2-4872-8536-687E4175E6F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Number syste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positive numbers is the same in most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differences are in how negative numbers are represe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negative numbers come in three major 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 and magn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 co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 co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'll assume a 4 bit machine 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different values can be repres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ly half are positive, half are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AEFE-8AA3-4A3B-B2F5-6C3CC0C2BC4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5435640" y="3019320"/>
            <a:ext cx="3378240" cy="3263760"/>
            <a:chOff x="5435640" y="3019320"/>
            <a:chExt cx="3378240" cy="3263760"/>
          </a:xfrm>
        </p:grpSpPr>
        <p:grpSp>
          <p:nvGrpSpPr>
            <p:cNvPr id="953" name=""/>
            <p:cNvGrpSpPr/>
            <p:nvPr/>
          </p:nvGrpSpPr>
          <p:grpSpPr>
            <a:xfrm>
              <a:off x="5791320" y="3254400"/>
              <a:ext cx="2882880" cy="2717640"/>
              <a:chOff x="5791320" y="3254400"/>
              <a:chExt cx="2882880" cy="2717640"/>
            </a:xfrm>
          </p:grpSpPr>
          <p:sp>
            <p:nvSpPr>
              <p:cNvPr id="954" name=""/>
              <p:cNvSpPr/>
              <p:nvPr/>
            </p:nvSpPr>
            <p:spPr>
              <a:xfrm>
                <a:off x="5797440" y="3254400"/>
                <a:ext cx="2705040" cy="271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162920" y="33494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175520" y="566100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001000" y="430200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42080" y="47084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566040" y="3362400"/>
                <a:ext cx="5587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184800" y="357804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918040" y="3933720"/>
                <a:ext cx="5335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791320" y="4302000"/>
                <a:ext cx="583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943600" y="506412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159600" y="538164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540480" y="5661000"/>
                <a:ext cx="571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07160" y="541980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861320" y="510228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962840" y="4746600"/>
                <a:ext cx="6606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823160" y="3933720"/>
                <a:ext cx="6350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543800" y="360360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7429680" y="301932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988400" y="3324240"/>
              <a:ext cx="330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344080" y="375588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470800" y="4225680"/>
              <a:ext cx="330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483760" y="475920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344080" y="5191200"/>
              <a:ext cx="330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026560" y="559728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78560" y="5978520"/>
              <a:ext cx="330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527880" y="5914800"/>
              <a:ext cx="368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31000" y="5648400"/>
              <a:ext cx="495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575320" y="5153040"/>
              <a:ext cx="431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35640" y="4708440"/>
              <a:ext cx="380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35640" y="4200480"/>
              <a:ext cx="444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638680" y="3717720"/>
              <a:ext cx="393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31000" y="3362400"/>
              <a:ext cx="444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578640" y="3019320"/>
              <a:ext cx="482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6515280" y="1749600"/>
            <a:ext cx="15746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100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gn and magnitud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it dedicate to sign (positive or neg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: 0 = positive (or zero), 1 =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 represent the absolute value or magn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ow order bits: 0 (000) thru 7 (1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for n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/– 2n–1 –1  (two representations for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mbersome addition/subtr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compare magnitud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termine sign of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436-2E90-4D9A-928C-FE7CFC825DC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2193840" y="2898720"/>
            <a:ext cx="506736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0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   –1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  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  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   =  –7 in 1s complement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292560" y="3711600"/>
            <a:ext cx="71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43320" y="44737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359080" y="284796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371680" y="3610080"/>
            <a:ext cx="292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1s comple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 is a positive number, then the negative of N (its 1s complement or N' ) is N' = (2n– 1) –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1s complement of 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cut: simply compute bit-wise complement ( 0111 -&gt; 100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D99-FEA4-460F-9BE8-7CFEA8E2B96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"/>
          <p:cNvGrpSpPr/>
          <p:nvPr/>
        </p:nvGrpSpPr>
        <p:grpSpPr>
          <a:xfrm>
            <a:off x="5016600" y="2678040"/>
            <a:ext cx="3556080" cy="3556080"/>
            <a:chOff x="5016600" y="2678040"/>
            <a:chExt cx="3556080" cy="3556080"/>
          </a:xfrm>
        </p:grpSpPr>
        <p:grpSp>
          <p:nvGrpSpPr>
            <p:cNvPr id="998" name=""/>
            <p:cNvGrpSpPr/>
            <p:nvPr/>
          </p:nvGrpSpPr>
          <p:grpSpPr>
            <a:xfrm>
              <a:off x="5435640" y="3039840"/>
              <a:ext cx="2882880" cy="2718000"/>
              <a:chOff x="5435640" y="3039840"/>
              <a:chExt cx="2882880" cy="2718000"/>
            </a:xfrm>
          </p:grpSpPr>
          <p:sp>
            <p:nvSpPr>
              <p:cNvPr id="999" name=""/>
              <p:cNvSpPr/>
              <p:nvPr/>
            </p:nvSpPr>
            <p:spPr>
              <a:xfrm>
                <a:off x="5442120" y="303984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807240" y="31352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819840" y="544680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645320" y="408780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486400" y="4494240"/>
                <a:ext cx="609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210360" y="3147840"/>
                <a:ext cx="558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829480" y="3363840"/>
                <a:ext cx="622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562720" y="371952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35640" y="408780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87920" y="4849920"/>
                <a:ext cx="597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803920" y="516708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185160" y="5446800"/>
                <a:ext cx="571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251840" y="520524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505640" y="488772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607520" y="453240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67840" y="3719520"/>
                <a:ext cx="634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188120" y="338940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7124760" y="267804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683480" y="300816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051760" y="346536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191440" y="396072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217000" y="45324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051760" y="50022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721640" y="54468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61400" y="5852880"/>
              <a:ext cx="3553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172200" y="58658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550120" y="5497560"/>
              <a:ext cx="49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156280" y="4951440"/>
              <a:ext cx="4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016600" y="446868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016600" y="3948120"/>
              <a:ext cx="39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2600" y="34146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550120" y="3046320"/>
              <a:ext cx="4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222960" y="267804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2641680" y="4189320"/>
            <a:ext cx="1574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011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1s complement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traction implemented by 1s complement and then ad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representations of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 some complexities in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-order bit can act as sign b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5F9-F51A-4890-B460-A534B0BD226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076480" y="4181400"/>
            <a:ext cx="15368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100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5156280" y="2743200"/>
            <a:ext cx="3556080" cy="3530520"/>
            <a:chOff x="5156280" y="2743200"/>
            <a:chExt cx="3556080" cy="3530520"/>
          </a:xfrm>
        </p:grpSpPr>
        <p:sp>
          <p:nvSpPr>
            <p:cNvPr id="1037" name=""/>
            <p:cNvSpPr/>
            <p:nvPr/>
          </p:nvSpPr>
          <p:spPr>
            <a:xfrm>
              <a:off x="7264800" y="2743200"/>
              <a:ext cx="355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823520" y="306072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191800" y="35305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331480" y="402588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356680" y="45972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191800" y="50544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861680" y="549900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201080" y="59054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12240" y="5918040"/>
              <a:ext cx="495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689800" y="5549760"/>
              <a:ext cx="482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96320" y="5003640"/>
              <a:ext cx="380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181840" y="4533840"/>
              <a:ext cx="393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156280" y="401292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72280" y="3479760"/>
              <a:ext cx="4190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89800" y="3111480"/>
              <a:ext cx="380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350400" y="2743200"/>
              <a:ext cx="482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3" name=""/>
            <p:cNvGrpSpPr/>
            <p:nvPr/>
          </p:nvGrpSpPr>
          <p:grpSpPr>
            <a:xfrm>
              <a:off x="5562720" y="3092400"/>
              <a:ext cx="2882880" cy="2717640"/>
              <a:chOff x="5562720" y="3092400"/>
              <a:chExt cx="2882880" cy="2717640"/>
            </a:xfrm>
          </p:grpSpPr>
          <p:sp>
            <p:nvSpPr>
              <p:cNvPr id="1054" name=""/>
              <p:cNvSpPr/>
              <p:nvPr/>
            </p:nvSpPr>
            <p:spPr>
              <a:xfrm>
                <a:off x="5569200" y="3092400"/>
                <a:ext cx="2705040" cy="271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934320" y="318744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947280" y="5499000"/>
                <a:ext cx="533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772760" y="4140000"/>
                <a:ext cx="672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613480" y="454644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337440" y="3200400"/>
                <a:ext cx="559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956560" y="341604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689800" y="3771720"/>
                <a:ext cx="5335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562720" y="414000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715360" y="49021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931000" y="521964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312240" y="5499000"/>
                <a:ext cx="571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378920" y="525780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633080" y="4940280"/>
                <a:ext cx="672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734600" y="4584600"/>
                <a:ext cx="6602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594920" y="3771720"/>
                <a:ext cx="6350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315560" y="3441600"/>
                <a:ext cx="5461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s complement with negative numbers shifted one position clockw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representation for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ore negative numb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 positiv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order bit can act as sign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B288-FC7F-4FEA-8F18-F0BDC44A8E6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5376960" y="2462040"/>
            <a:ext cx="29718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1  = repr. of –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992920" y="321156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504040" y="236052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64000" y="3790800"/>
            <a:ext cx="2959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11  = repr. of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992920" y="4540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04040" y="368928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373640" y="2919240"/>
            <a:ext cx="106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ub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398840" y="4260960"/>
            <a:ext cx="10414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ub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 is a positive number, then the negative of N (its 2s complement or N* ) is N* = 2n –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2s complement of 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2s complement of –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cut: 2s complement = bit-wise complement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11 -&gt; 1000 + 1 -&gt; 1001  (representation of -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1 -&gt; 0110 + 1 -&gt; 0111  (representation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33DD-EA9E-4AD2-B157-A1D5AFD743F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2509920" y="2925720"/>
            <a:ext cx="6350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706840" y="366228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500280" y="2925720"/>
            <a:ext cx="673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494160" y="37004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668840" y="2913120"/>
            <a:ext cx="88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(– 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827600" y="36878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619600" y="2913120"/>
            <a:ext cx="8906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742000" y="36878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535120" y="4970520"/>
            <a:ext cx="5968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30520" y="571968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33880" y="4970520"/>
            <a:ext cx="939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419640" y="5719680"/>
            <a:ext cx="64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948200" y="4983120"/>
            <a:ext cx="6476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068800" y="5719680"/>
            <a:ext cx="47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862600" y="4983120"/>
            <a:ext cx="673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856120" y="57578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 addition and subtra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ddition and 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scheme makes 2s complement the virtually unanimous choice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 number systems in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337-3230-4751-A867-1043BCBDF90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218280" y="2906640"/>
            <a:ext cx="1828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CD to 7–seg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770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056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42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28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058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772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486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200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14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628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342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11800" y="2874960"/>
            <a:ext cx="182880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11800" y="588960"/>
            <a:ext cx="1828800" cy="18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41960" y="2170080"/>
            <a:ext cx="194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0  c1  c2  c3  c4  c5  c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97640" y="3986280"/>
            <a:ext cx="1257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  B   C  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CD to 7-segment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splay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is a 4 bit bcd digit (A, B, C,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s the control signa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display (7 outputs C0 – C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467480" y="4414680"/>
            <a:ext cx="381240" cy="685800"/>
            <a:chOff x="7467480" y="4414680"/>
            <a:chExt cx="381240" cy="685800"/>
          </a:xfrm>
        </p:grpSpPr>
        <p:sp>
          <p:nvSpPr>
            <p:cNvPr id="107" name=""/>
            <p:cNvSpPr/>
            <p:nvPr/>
          </p:nvSpPr>
          <p:spPr>
            <a:xfrm>
              <a:off x="74674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674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5400000">
              <a:off x="761940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24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724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761940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761976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858000" y="4414680"/>
            <a:ext cx="380880" cy="685800"/>
            <a:chOff x="6858000" y="4414680"/>
            <a:chExt cx="380880" cy="685800"/>
          </a:xfrm>
        </p:grpSpPr>
        <p:sp>
          <p:nvSpPr>
            <p:cNvPr id="115" name=""/>
            <p:cNvSpPr/>
            <p:nvPr/>
          </p:nvSpPr>
          <p:spPr>
            <a:xfrm>
              <a:off x="68580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700992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629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700992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701028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248520" y="4414680"/>
            <a:ext cx="380880" cy="685800"/>
            <a:chOff x="6248520" y="4414680"/>
            <a:chExt cx="380880" cy="685800"/>
          </a:xfrm>
        </p:grpSpPr>
        <p:sp>
          <p:nvSpPr>
            <p:cNvPr id="123" name=""/>
            <p:cNvSpPr/>
            <p:nvPr/>
          </p:nvSpPr>
          <p:spPr>
            <a:xfrm>
              <a:off x="62485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485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00000">
              <a:off x="6400800" y="46054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530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6400800" y="43005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6400800" y="49100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077320" y="4414680"/>
            <a:ext cx="380880" cy="685800"/>
            <a:chOff x="8077320" y="4414680"/>
            <a:chExt cx="380880" cy="685800"/>
          </a:xfrm>
        </p:grpSpPr>
        <p:sp>
          <p:nvSpPr>
            <p:cNvPr id="131" name=""/>
            <p:cNvSpPr/>
            <p:nvPr/>
          </p:nvSpPr>
          <p:spPr>
            <a:xfrm>
              <a:off x="80773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773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8229600" y="46054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18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18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8229600" y="43005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8229600" y="49100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638680" y="4414680"/>
            <a:ext cx="381240" cy="685800"/>
            <a:chOff x="5638680" y="4414680"/>
            <a:chExt cx="381240" cy="685800"/>
          </a:xfrm>
        </p:grpSpPr>
        <p:sp>
          <p:nvSpPr>
            <p:cNvPr id="139" name=""/>
            <p:cNvSpPr/>
            <p:nvPr/>
          </p:nvSpPr>
          <p:spPr>
            <a:xfrm>
              <a:off x="56386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386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5400000">
              <a:off x="579060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436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36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579060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579096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467480" y="5329080"/>
            <a:ext cx="381240" cy="685800"/>
            <a:chOff x="7467480" y="5329080"/>
            <a:chExt cx="381240" cy="685800"/>
          </a:xfrm>
        </p:grpSpPr>
        <p:sp>
          <p:nvSpPr>
            <p:cNvPr id="147" name=""/>
            <p:cNvSpPr/>
            <p:nvPr/>
          </p:nvSpPr>
          <p:spPr>
            <a:xfrm>
              <a:off x="74674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674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761940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24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724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761940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761976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58000" y="5329080"/>
            <a:ext cx="380880" cy="685800"/>
            <a:chOff x="6858000" y="5329080"/>
            <a:chExt cx="380880" cy="685800"/>
          </a:xfrm>
        </p:grpSpPr>
        <p:sp>
          <p:nvSpPr>
            <p:cNvPr id="155" name=""/>
            <p:cNvSpPr/>
            <p:nvPr/>
          </p:nvSpPr>
          <p:spPr>
            <a:xfrm>
              <a:off x="68580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700992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9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700992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701028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248520" y="5329080"/>
            <a:ext cx="380880" cy="685800"/>
            <a:chOff x="6248520" y="5329080"/>
            <a:chExt cx="380880" cy="685800"/>
          </a:xfrm>
        </p:grpSpPr>
        <p:sp>
          <p:nvSpPr>
            <p:cNvPr id="163" name=""/>
            <p:cNvSpPr/>
            <p:nvPr/>
          </p:nvSpPr>
          <p:spPr>
            <a:xfrm>
              <a:off x="62485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485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6400800" y="55198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530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530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6400800" y="52149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6400800" y="58244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8077320" y="5329080"/>
            <a:ext cx="380880" cy="685800"/>
            <a:chOff x="8077320" y="5329080"/>
            <a:chExt cx="380880" cy="685800"/>
          </a:xfrm>
        </p:grpSpPr>
        <p:sp>
          <p:nvSpPr>
            <p:cNvPr id="171" name=""/>
            <p:cNvSpPr/>
            <p:nvPr/>
          </p:nvSpPr>
          <p:spPr>
            <a:xfrm>
              <a:off x="80773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773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8229600" y="55198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818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18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8229600" y="52149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8229600" y="58244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638680" y="5329080"/>
            <a:ext cx="381240" cy="685800"/>
            <a:chOff x="5638680" y="5329080"/>
            <a:chExt cx="381240" cy="685800"/>
          </a:xfrm>
        </p:grpSpPr>
        <p:sp>
          <p:nvSpPr>
            <p:cNvPr id="179" name=""/>
            <p:cNvSpPr/>
            <p:nvPr/>
          </p:nvSpPr>
          <p:spPr>
            <a:xfrm>
              <a:off x="56386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579060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36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579060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400000">
              <a:off x="579096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176880" y="716040"/>
            <a:ext cx="1905120" cy="1508040"/>
            <a:chOff x="6176880" y="716040"/>
            <a:chExt cx="1905120" cy="1508040"/>
          </a:xfrm>
        </p:grpSpPr>
        <p:sp>
          <p:nvSpPr>
            <p:cNvPr id="187" name=""/>
            <p:cNvSpPr/>
            <p:nvPr/>
          </p:nvSpPr>
          <p:spPr>
            <a:xfrm>
              <a:off x="7485120" y="96048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76880" y="96372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85120" y="149724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6880" y="148104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15320" y="137016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15320" y="83664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5320" y="191952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770880" y="716040"/>
              <a:ext cx="677160" cy="1218960"/>
              <a:chOff x="6770880" y="716040"/>
              <a:chExt cx="677160" cy="1218960"/>
            </a:xfrm>
          </p:grpSpPr>
          <p:sp>
            <p:nvSpPr>
              <p:cNvPr id="195" name=""/>
              <p:cNvSpPr/>
              <p:nvPr/>
            </p:nvSpPr>
            <p:spPr>
              <a:xfrm>
                <a:off x="6770880" y="78372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70880" y="1325880"/>
                <a:ext cx="135360" cy="541080"/>
              </a:xfrm>
              <a:prstGeom prst="upDownArrow">
                <a:avLst>
                  <a:gd name="adj1" fmla="val 100000"/>
                  <a:gd name="adj2" fmla="val 499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5400000">
                <a:off x="7041240" y="105444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312680" y="78372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12680" y="1325880"/>
                <a:ext cx="135360" cy="541080"/>
              </a:xfrm>
              <a:prstGeom prst="upDownArrow">
                <a:avLst>
                  <a:gd name="adj1" fmla="val 100000"/>
                  <a:gd name="adj2" fmla="val 499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400000">
                <a:off x="7041240" y="51264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5400000">
                <a:off x="7041600" y="1596600"/>
                <a:ext cx="135000" cy="541800"/>
              </a:xfrm>
              <a:prstGeom prst="upDownArrow">
                <a:avLst>
                  <a:gd name="adj1" fmla="val 100000"/>
                  <a:gd name="adj2" fmla="val 501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3C3-4800-48EF-B911-EBE761927E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y can the carry-out be ignored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't ignore it comple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ed to check for overflow (see next two sli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re is no overflow, carry-out may be true but can be ignore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 M + N when N &gt; 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*  +  N  =  (2n –  M)  +  N  =  2n +  (N – M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ing carry-out is just like subtracting 2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 M + – N where N + 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n–1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– M) + (– N) = M* +  N* = (2n– M) + (2n– N)   = 2n – (M + N)  +  2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ing the carry, it is just the 2s complement representation for – (M +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4E3-E5A6-47CB-B0C7-EBBB74F716F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368280" y="5962680"/>
            <a:ext cx="1168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5 + 3 = –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480440" y="5962680"/>
            <a:ext cx="14605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 – 2 = +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5079960" y="2521080"/>
            <a:ext cx="3556080" cy="3530520"/>
            <a:chOff x="5079960" y="2521080"/>
            <a:chExt cx="3556080" cy="3530520"/>
          </a:xfrm>
        </p:grpSpPr>
        <p:sp>
          <p:nvSpPr>
            <p:cNvPr id="1106" name=""/>
            <p:cNvSpPr/>
            <p:nvPr/>
          </p:nvSpPr>
          <p:spPr>
            <a:xfrm>
              <a:off x="7188120" y="252108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746840" y="28386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115480" y="330840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255160" y="38037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280360" y="43754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15480" y="483264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785000" y="527724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124760" y="56833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235560" y="5696280"/>
              <a:ext cx="495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613480" y="5328000"/>
              <a:ext cx="482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219640" y="4781880"/>
              <a:ext cx="3812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105520" y="4311720"/>
              <a:ext cx="393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079960" y="379116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95960" y="3257640"/>
              <a:ext cx="4190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13480" y="2889360"/>
              <a:ext cx="380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273720" y="2521080"/>
              <a:ext cx="482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5486400" y="2870280"/>
              <a:ext cx="2882880" cy="2718000"/>
              <a:chOff x="5486400" y="2870280"/>
              <a:chExt cx="2882880" cy="2718000"/>
            </a:xfrm>
          </p:grpSpPr>
          <p:sp>
            <p:nvSpPr>
              <p:cNvPr id="1123" name=""/>
              <p:cNvSpPr/>
              <p:nvPr/>
            </p:nvSpPr>
            <p:spPr>
              <a:xfrm>
                <a:off x="5492880" y="287028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858000" y="29656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870600" y="527724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696080" y="391824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537160" y="432468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261120" y="2978280"/>
                <a:ext cx="558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880240" y="3194280"/>
                <a:ext cx="622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613480" y="3549960"/>
                <a:ext cx="533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486400" y="391824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638680" y="468000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854680" y="49975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35560" y="5277240"/>
                <a:ext cx="571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302600" y="503568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556400" y="471816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658280" y="436284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518240" y="3549960"/>
                <a:ext cx="635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238880" y="321984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0" name=""/>
          <p:cNvSpPr/>
          <p:nvPr/>
        </p:nvSpPr>
        <p:spPr>
          <a:xfrm flipH="1">
            <a:off x="6781320" y="5149800"/>
            <a:ext cx="25560" cy="781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851040" y="2521080"/>
            <a:ext cx="3555720" cy="3530520"/>
            <a:chOff x="851040" y="2521080"/>
            <a:chExt cx="3555720" cy="3530520"/>
          </a:xfrm>
        </p:grpSpPr>
        <p:sp>
          <p:nvSpPr>
            <p:cNvPr id="1142" name=""/>
            <p:cNvSpPr/>
            <p:nvPr/>
          </p:nvSpPr>
          <p:spPr>
            <a:xfrm>
              <a:off x="2959200" y="252108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517920" y="28386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86200" y="33084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25880" y="380376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51440" y="437544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86200" y="48326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556080" y="527724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895480" y="56833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006640" y="5696280"/>
              <a:ext cx="495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384200" y="5328000"/>
              <a:ext cx="482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90720" y="4781880"/>
              <a:ext cx="380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76240" y="4311720"/>
              <a:ext cx="393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51040" y="3791160"/>
              <a:ext cx="431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066680" y="3257640"/>
              <a:ext cx="419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384200" y="2889360"/>
              <a:ext cx="3812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044800" y="2521080"/>
              <a:ext cx="482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1257480" y="2870280"/>
              <a:ext cx="2882880" cy="2718000"/>
              <a:chOff x="1257480" y="2870280"/>
              <a:chExt cx="2882880" cy="2718000"/>
            </a:xfrm>
          </p:grpSpPr>
          <p:sp>
            <p:nvSpPr>
              <p:cNvPr id="1159" name=""/>
              <p:cNvSpPr/>
              <p:nvPr/>
            </p:nvSpPr>
            <p:spPr>
              <a:xfrm>
                <a:off x="1263600" y="287028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629080" y="29656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641680" y="5277240"/>
                <a:ext cx="533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467160" y="391824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308240" y="432468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031840" y="2978280"/>
                <a:ext cx="559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650960" y="319428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384200" y="354996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257480" y="3918240"/>
                <a:ext cx="583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409760" y="468000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625760" y="49975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006640" y="5277240"/>
                <a:ext cx="571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073320" y="503568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327480" y="471816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429000" y="436284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289320" y="3549960"/>
                <a:ext cx="635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009960" y="321984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6" name=""/>
          <p:cNvSpPr/>
          <p:nvPr/>
        </p:nvSpPr>
        <p:spPr>
          <a:xfrm flipH="1">
            <a:off x="2552760" y="5099040"/>
            <a:ext cx="25200" cy="80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verflow in 2s complement addition/subtra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wo positive numbers to get a negativ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wo negative numbers to get a positiv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78F-95DD-4404-BFCC-A4744968A5B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1054080" y="2508120"/>
            <a:ext cx="8762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641680" y="2000160"/>
            <a:ext cx="1155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  1  1 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0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0 0 1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0 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749840" y="2558880"/>
            <a:ext cx="8888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426360" y="2050920"/>
            <a:ext cx="10540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  0  0  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0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1 1 1 0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0 1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264280" y="3308400"/>
            <a:ext cx="35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600200" y="4676760"/>
            <a:ext cx="2919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603520" y="4118040"/>
            <a:ext cx="105408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  0  0  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0 0 1 0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504800" y="540072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813200" y="4753080"/>
            <a:ext cx="9273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–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426360" y="4219560"/>
            <a:ext cx="1117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  1  1 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1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1 0 1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1 0 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460520" y="3625920"/>
            <a:ext cx="114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156280" y="3676680"/>
            <a:ext cx="1143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460520" y="5819760"/>
            <a:ext cx="146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219640" y="5870520"/>
            <a:ext cx="146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verflow condi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when carry into sign bit position is not equal to carry-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E64-B756-4CB7-80A3-695473C85EB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5" name=""/>
          <p:cNvGrpSpPr/>
          <p:nvPr/>
        </p:nvGrpSpPr>
        <p:grpSpPr>
          <a:xfrm>
            <a:off x="1325520" y="4233960"/>
            <a:ext cx="2253960" cy="1778040"/>
            <a:chOff x="1325520" y="4233960"/>
            <a:chExt cx="2253960" cy="1778040"/>
          </a:xfrm>
        </p:grpSpPr>
        <p:sp>
          <p:nvSpPr>
            <p:cNvPr id="1196" name=""/>
            <p:cNvSpPr/>
            <p:nvPr/>
          </p:nvSpPr>
          <p:spPr>
            <a:xfrm>
              <a:off x="1357200" y="4233960"/>
              <a:ext cx="2222280" cy="17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4842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325520" y="4564080"/>
              <a:ext cx="218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82680" y="4291200"/>
              <a:ext cx="0" cy="13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6097680" y="3594240"/>
            <a:ext cx="2876400" cy="2895480"/>
            <a:chOff x="6097680" y="3594240"/>
            <a:chExt cx="2876400" cy="2895480"/>
          </a:xfrm>
        </p:grpSpPr>
        <p:sp>
          <p:nvSpPr>
            <p:cNvPr id="1200" name=""/>
            <p:cNvSpPr/>
            <p:nvPr/>
          </p:nvSpPr>
          <p:spPr>
            <a:xfrm>
              <a:off x="6129360" y="3594240"/>
              <a:ext cx="28447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48428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097680" y="3924360"/>
              <a:ext cx="270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539120" y="3638520"/>
              <a:ext cx="0" cy="250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ircuits for binary addi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adder (add 2 1-bit num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= Ai' Bi + Ai Bi' = Ai xor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= Ai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adder (carry-in to cascade for multi-bit add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= Ci xor A x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= B Ci  +  A Ci  +  A B = Ci (A + B) + 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1DF-237B-485C-93D0-69DD3291C49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4506840" y="3894120"/>
            <a:ext cx="4114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ut = A B + Cin (A xor B) = A B + B Cin + A C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4855320" y="1066680"/>
            <a:ext cx="3206160" cy="939600"/>
            <a:chOff x="4855320" y="1066680"/>
            <a:chExt cx="3206160" cy="939600"/>
          </a:xfrm>
        </p:grpSpPr>
        <p:sp>
          <p:nvSpPr>
            <p:cNvPr id="1207" name=""/>
            <p:cNvSpPr/>
            <p:nvPr/>
          </p:nvSpPr>
          <p:spPr>
            <a:xfrm>
              <a:off x="5337720" y="111240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337360" y="108540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515200" y="12189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515200" y="14220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477400" y="1112400"/>
              <a:ext cx="2023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855320" y="1112400"/>
              <a:ext cx="1459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930560" y="1085400"/>
              <a:ext cx="1384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477040" y="1085400"/>
              <a:ext cx="202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518520" y="1506240"/>
              <a:ext cx="2534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518160" y="1491840"/>
              <a:ext cx="253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696000" y="162540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696000" y="182844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58560" y="150624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23520" y="1506240"/>
              <a:ext cx="1472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099480" y="1491840"/>
              <a:ext cx="1396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658200" y="1491840"/>
              <a:ext cx="202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337360" y="1218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064120" y="10666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337360" y="142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064120" y="128232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518520" y="16254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315120" y="13204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512040" y="13269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518520" y="182844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337360" y="1828440"/>
              <a:ext cx="116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924440" y="1701360"/>
              <a:ext cx="432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508880" y="1726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99320" y="1726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820280" y="1574640"/>
              <a:ext cx="241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4474080" y="2209680"/>
            <a:ext cx="4476240" cy="1434960"/>
            <a:chOff x="4474080" y="2209680"/>
            <a:chExt cx="4476240" cy="1434960"/>
          </a:xfrm>
        </p:grpSpPr>
        <p:sp>
          <p:nvSpPr>
            <p:cNvPr id="1237" name=""/>
            <p:cNvSpPr/>
            <p:nvPr/>
          </p:nvSpPr>
          <p:spPr>
            <a:xfrm>
              <a:off x="5096160" y="2242800"/>
              <a:ext cx="2152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474080" y="2242800"/>
              <a:ext cx="1472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0040" y="2228760"/>
              <a:ext cx="13964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095800" y="2228760"/>
              <a:ext cx="2156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261040" y="23493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261040" y="255240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40680" y="23112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340680" y="279360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6334200" y="23047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581880" y="2319120"/>
              <a:ext cx="4442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581520" y="229176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340680" y="3124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340680" y="36064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6334200" y="3117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581880" y="3132000"/>
              <a:ext cx="4442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581520" y="3105720"/>
              <a:ext cx="44460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369560" y="2738160"/>
              <a:ext cx="2152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734520" y="2738160"/>
              <a:ext cx="1472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823440" y="2723760"/>
              <a:ext cx="138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369200" y="2723760"/>
              <a:ext cx="21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521480" y="2857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521480" y="3060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149880" y="3263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058000" y="326376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797360" y="31240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058000" y="23493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97360" y="22096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149880" y="3466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058000" y="346680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797360" y="333972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58000" y="25524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810320" y="2425320"/>
              <a:ext cx="241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149880" y="2653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143760" y="266040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058000" y="285732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3240" y="2717640"/>
              <a:ext cx="482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946840" y="24508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149880" y="2450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331040" y="28573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039080" y="2552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229520" y="2552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324920" y="25588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331040" y="3060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039080" y="3365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24920" y="30668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29520" y="3365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220240" y="295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429760" y="2831760"/>
              <a:ext cx="52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1130400" y="4983120"/>
            <a:ext cx="7200360" cy="1226880"/>
            <a:chOff x="1130400" y="4983120"/>
            <a:chExt cx="7200360" cy="1226880"/>
          </a:xfrm>
        </p:grpSpPr>
        <p:sp>
          <p:nvSpPr>
            <p:cNvPr id="1286" name=""/>
            <p:cNvSpPr/>
            <p:nvPr/>
          </p:nvSpPr>
          <p:spPr>
            <a:xfrm>
              <a:off x="1295280" y="5084640"/>
              <a:ext cx="266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82680" y="5414760"/>
              <a:ext cx="266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238560" y="4983120"/>
              <a:ext cx="736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xor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305240" y="556092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1530000" y="5897520"/>
              <a:ext cx="276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130400" y="5770440"/>
              <a:ext cx="431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095880" y="4983120"/>
              <a:ext cx="1155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xor B xor 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3" name=""/>
            <p:cNvGrpSpPr/>
            <p:nvPr/>
          </p:nvGrpSpPr>
          <p:grpSpPr>
            <a:xfrm>
              <a:off x="4946400" y="5103720"/>
              <a:ext cx="1059840" cy="704880"/>
              <a:chOff x="4946400" y="5103720"/>
              <a:chExt cx="1059840" cy="704880"/>
            </a:xfrm>
          </p:grpSpPr>
          <p:sp>
            <p:nvSpPr>
              <p:cNvPr id="1294" name=""/>
              <p:cNvSpPr/>
              <p:nvPr/>
            </p:nvSpPr>
            <p:spPr>
              <a:xfrm>
                <a:off x="4946400" y="5103720"/>
                <a:ext cx="105372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206680" y="5198760"/>
                <a:ext cx="59652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Half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320800" y="5109840"/>
                <a:ext cx="68544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27558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498640" y="5554440"/>
                <a:ext cx="495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8" name=""/>
            <p:cNvSpPr/>
            <p:nvPr/>
          </p:nvSpPr>
          <p:spPr>
            <a:xfrm>
              <a:off x="3232080" y="566892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956200" y="5440320"/>
              <a:ext cx="1269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 (A xor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013440" y="5668920"/>
              <a:ext cx="25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263760" y="5440320"/>
              <a:ext cx="418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924360" y="567504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930480" y="6049800"/>
              <a:ext cx="253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286320" y="56750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292800" y="5859360"/>
              <a:ext cx="19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505640" y="5071680"/>
              <a:ext cx="82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607160" y="5846400"/>
              <a:ext cx="647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293520" y="5740200"/>
              <a:ext cx="21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658480" y="5740200"/>
              <a:ext cx="1471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47400" y="5725800"/>
              <a:ext cx="13827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293160" y="5725800"/>
              <a:ext cx="214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445080" y="58593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000480" y="52117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130880" y="5960880"/>
              <a:ext cx="54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244680" y="5224320"/>
              <a:ext cx="168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311360" y="555444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42960" y="5224320"/>
              <a:ext cx="63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55560" y="555444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2178000" y="5103720"/>
              <a:ext cx="1059840" cy="704880"/>
              <a:chOff x="2178000" y="5103720"/>
              <a:chExt cx="1059840" cy="704880"/>
            </a:xfrm>
          </p:grpSpPr>
          <p:sp>
            <p:nvSpPr>
              <p:cNvPr id="1320" name=""/>
              <p:cNvSpPr/>
              <p:nvPr/>
            </p:nvSpPr>
            <p:spPr>
              <a:xfrm>
                <a:off x="2178000" y="5103720"/>
                <a:ext cx="105372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437920" y="5198760"/>
                <a:ext cx="59652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Half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552400" y="5109840"/>
                <a:ext cx="68544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27558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729880" y="5554440"/>
                <a:ext cx="495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ull adder implem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XORs, 2 ANDs, 2 ORs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f adder is an XOR gate and AND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XORs, 2 ANDs, 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905200" y="1857240"/>
            <a:ext cx="1728720" cy="61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0B06-05B0-443C-A586-3E016640ACE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7" name=""/>
          <p:cNvGrpSpPr/>
          <p:nvPr/>
        </p:nvGrpSpPr>
        <p:grpSpPr>
          <a:xfrm>
            <a:off x="447840" y="2589120"/>
            <a:ext cx="8483400" cy="3975120"/>
            <a:chOff x="447840" y="2589120"/>
            <a:chExt cx="8483400" cy="3975120"/>
          </a:xfrm>
        </p:grpSpPr>
        <p:sp>
          <p:nvSpPr>
            <p:cNvPr id="1328" name=""/>
            <p:cNvSpPr/>
            <p:nvPr/>
          </p:nvSpPr>
          <p:spPr>
            <a:xfrm>
              <a:off x="60739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5437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9720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1372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1880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686040" y="32623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927600" y="32623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712280" y="4417920"/>
              <a:ext cx="12189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btra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0231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658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944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8356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0" name=""/>
            <p:cNvGrpSpPr/>
            <p:nvPr/>
          </p:nvGrpSpPr>
          <p:grpSpPr>
            <a:xfrm>
              <a:off x="1317960" y="4843440"/>
              <a:ext cx="381960" cy="1574640"/>
              <a:chOff x="1317960" y="4843440"/>
              <a:chExt cx="381960" cy="1574640"/>
            </a:xfrm>
          </p:grpSpPr>
          <p:sp>
            <p:nvSpPr>
              <p:cNvPr id="1341" name=""/>
              <p:cNvSpPr/>
              <p:nvPr/>
            </p:nvSpPr>
            <p:spPr>
              <a:xfrm>
                <a:off x="1317960" y="5301360"/>
                <a:ext cx="367560" cy="252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319400" y="5301360"/>
                <a:ext cx="380520" cy="252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590840" y="5465520"/>
                <a:ext cx="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413000" y="5465520"/>
                <a:ext cx="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43520" y="5440320"/>
                <a:ext cx="342000" cy="21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317960" y="4843440"/>
                <a:ext cx="367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319400" y="4919760"/>
                <a:ext cx="380520" cy="133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1319400" y="5440320"/>
                <a:ext cx="380520" cy="21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590840" y="5300640"/>
                <a:ext cx="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413000" y="5300640"/>
                <a:ext cx="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501920" y="6253200"/>
                <a:ext cx="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1413000" y="46911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596960" y="5294160"/>
              <a:ext cx="140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47840" y="5967360"/>
              <a:ext cx="10033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9785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4357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2006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578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4292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55083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6880320" y="467208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5437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7723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68799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343640" y="3535200"/>
              <a:ext cx="0" cy="11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7023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1721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6004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7656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8164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6515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9942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228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40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6069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0641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8290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2862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0576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41367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1721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007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55083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9720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3210120" y="3986280"/>
              <a:ext cx="414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307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005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2288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3940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4448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2799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6226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8512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0924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2353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6925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574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9146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6860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27651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005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0291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41367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6004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057640" y="32749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299200" y="3274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429240" y="32749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70800" y="3274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301840" y="331308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43040" y="331308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946160" y="422748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416320" y="422748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844640" y="45702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009880" y="491328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060640" y="4570200"/>
              <a:ext cx="711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895400" y="262728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38480" y="2627280"/>
              <a:ext cx="393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467080" y="262728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708280" y="319860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8637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3209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0858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430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3144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13935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4289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6575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27651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2288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124000" y="552276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495600" y="553572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867200" y="553572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251760" y="55357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013200" y="46782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dder/subtrac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n adder to do subtraction thanks to 2s complement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– B  =   A + (– B)   =   A + B'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signal selects B or 2s complement of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CFAC-CD3B-4B51-AD6B-50A071EE674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7" name=""/>
          <p:cNvGrpSpPr/>
          <p:nvPr/>
        </p:nvGrpSpPr>
        <p:grpSpPr>
          <a:xfrm>
            <a:off x="368280" y="2878200"/>
            <a:ext cx="4559400" cy="2599920"/>
            <a:chOff x="368280" y="2878200"/>
            <a:chExt cx="4559400" cy="2599920"/>
          </a:xfrm>
        </p:grpSpPr>
        <p:sp>
          <p:nvSpPr>
            <p:cNvPr id="1438" name=""/>
            <p:cNvSpPr/>
            <p:nvPr/>
          </p:nvSpPr>
          <p:spPr>
            <a:xfrm>
              <a:off x="1302120" y="2997000"/>
              <a:ext cx="2023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30440" y="2997000"/>
              <a:ext cx="1345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06400" y="2995920"/>
              <a:ext cx="1269720" cy="41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301760" y="2995920"/>
              <a:ext cx="202680" cy="41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352520" y="30906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352520" y="32684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432160" y="30654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432160" y="351000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2425680" y="3058560"/>
              <a:ext cx="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648520" y="3073320"/>
              <a:ext cx="418320" cy="46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648160" y="3059280"/>
              <a:ext cx="41868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432160" y="3801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432160" y="423360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2425680" y="3795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648520" y="3809880"/>
              <a:ext cx="41832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648160" y="3783600"/>
              <a:ext cx="418680" cy="46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359520" y="3454200"/>
              <a:ext cx="2023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787840" y="3454200"/>
              <a:ext cx="1345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863800" y="3440160"/>
              <a:ext cx="126972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359160" y="3440160"/>
              <a:ext cx="202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511440" y="356076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511440" y="3738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254320" y="39290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263600" y="392904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977760" y="380196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263600" y="3103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977760" y="297648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254320" y="4106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263600" y="410688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977760" y="3979800"/>
              <a:ext cx="2415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263600" y="3281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977760" y="316692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273400" y="3369960"/>
              <a:ext cx="14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247840" y="3348000"/>
              <a:ext cx="0" cy="186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282680" y="3560760"/>
              <a:ext cx="996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11360" y="3433680"/>
              <a:ext cx="5331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076480" y="31924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254320" y="3192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292560" y="3560760"/>
              <a:ext cx="250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086280" y="3281400"/>
              <a:ext cx="231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314880" y="3259080"/>
              <a:ext cx="0" cy="304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333600" y="373860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054240" y="4017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327480" y="37447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232080" y="4017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33880" y="36496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317840" y="349704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68280" y="2912760"/>
              <a:ext cx="53352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68280" y="3738600"/>
              <a:ext cx="55872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68280" y="3458880"/>
              <a:ext cx="48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044800" y="2963880"/>
              <a:ext cx="4316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124080" y="4093920"/>
              <a:ext cx="444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124080" y="2878200"/>
              <a:ext cx="609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292640" y="3674880"/>
              <a:ext cx="6350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33520" y="4665600"/>
              <a:ext cx="9903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iv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959200" y="4741560"/>
              <a:ext cx="18669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 gate del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compute 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1143000" y="3598200"/>
              <a:ext cx="419040" cy="109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4000680" y="3903120"/>
              <a:ext cx="520560" cy="85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6" name=""/>
          <p:cNvGrpSpPr/>
          <p:nvPr/>
        </p:nvGrpSpPr>
        <p:grpSpPr>
          <a:xfrm>
            <a:off x="4997520" y="1703520"/>
            <a:ext cx="4054320" cy="4022280"/>
            <a:chOff x="4997520" y="1703520"/>
            <a:chExt cx="4054320" cy="4022280"/>
          </a:xfrm>
        </p:grpSpPr>
        <p:sp>
          <p:nvSpPr>
            <p:cNvPr id="1497" name=""/>
            <p:cNvSpPr/>
            <p:nvPr/>
          </p:nvSpPr>
          <p:spPr>
            <a:xfrm>
              <a:off x="7489800" y="1935000"/>
              <a:ext cx="9525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997520" y="24303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997520" y="26463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724360" y="1703520"/>
              <a:ext cx="4320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562800" y="2440080"/>
              <a:ext cx="6476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587920" y="33321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587920" y="35607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550200" y="2681280"/>
              <a:ext cx="7873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 @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147080" y="3367080"/>
              <a:ext cx="9270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 @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159600" y="42465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159600" y="44751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134120" y="3595680"/>
              <a:ext cx="10288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 @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705800" y="4281480"/>
              <a:ext cx="761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 @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718320" y="514800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718320" y="537660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718400" y="4510080"/>
              <a:ext cx="8380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 @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264520" y="5195880"/>
              <a:ext cx="6476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 @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264520" y="5437080"/>
              <a:ext cx="7873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 @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705640" y="22971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362560" y="2519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362560" y="2747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927760" y="1954080"/>
              <a:ext cx="0" cy="32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162840" y="2519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162840" y="2747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499080" y="27543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276960" y="32115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934240" y="343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934240" y="366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734160" y="343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734160" y="366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070760" y="36687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848640" y="41259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505560" y="4348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505560" y="4576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305840" y="4348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305840" y="4576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642080" y="45831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419960" y="50403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077240" y="5262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077240" y="5491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877160" y="5262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877160" y="5491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ipple-carry ad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agation of carry fr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to high order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6F04-B08B-413C-9A31-7C058DC1A41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1" name="" descr=""/>
          <p:cNvPicPr/>
          <p:nvPr/>
        </p:nvPicPr>
        <p:blipFill>
          <a:blip r:embed="rId1"/>
          <a:stretch/>
        </p:blipFill>
        <p:spPr>
          <a:xfrm>
            <a:off x="1152360" y="3219480"/>
            <a:ext cx="7048800" cy="2882880"/>
          </a:xfrm>
          <a:prstGeom prst="rect">
            <a:avLst/>
          </a:prstGeom>
          <a:ln w="0">
            <a:noFill/>
          </a:ln>
        </p:spPr>
      </p:pic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ipple-carry adder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agation of carry from low to high order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 + 0001 is the worst case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must propagate through all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056E-5BEC-4CE9-87E8-9306ABF4DA6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generate:  Gi = Ai 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generate carry when A = B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propagate:  Pi = Ai xor 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in will equal carry-ou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and Cout can be re-expressed in terms of generate/propag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xor Bi xor C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i xor 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Ai Ci + Bi C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Ci (Ai + Bi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Ci (Ai xor Bi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Gi + Ci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A0B-985C-4DC1-BDF9-C22F11FD8AA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6288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xpress the carry logic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 = G0 +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 = G1 + P1 C1 = G1 + P1 G0 + P1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 = G2 + P2 C2 = G2 + P2 G1 + P2 P1 G0 + P2 P1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4 = G3 + P3 C3 = G3 + P3 G2 + P3 P2 G1 + P3 P2 P1 G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+ P3 P2 P1 P0 C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f the carry equations can be implemented with two-leve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puts are now directly derived from data inputs and not fr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car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llows computation of all sum outputs to proceed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24EE-8D59-4E32-AD26-064E35CC836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203800" y="2583000"/>
            <a:ext cx="384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68920" y="2297160"/>
            <a:ext cx="0" cy="372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35480" y="2278080"/>
            <a:ext cx="389916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ose implementation tar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OM, we are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't cares imply PAL/PL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att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 implementatio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ation using K-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0C63-3D48-40DD-917B-32201FEE04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6230880" y="575784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861840" y="38736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861840" y="42292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855720" y="38667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027440" y="388152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027080" y="387972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509840" y="3970440"/>
            <a:ext cx="1519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065240" y="3970440"/>
            <a:ext cx="104112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128960" y="3956400"/>
            <a:ext cx="9774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509480" y="3956400"/>
            <a:ext cx="15228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623960" y="40384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623960" y="4191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861840" y="48132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861840" y="5168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855720" y="481968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027440" y="48211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027080" y="481968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861840" y="52578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861840" y="5600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855720" y="52513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027440" y="52657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027080" y="5238720"/>
            <a:ext cx="3171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052640" y="5278320"/>
            <a:ext cx="102816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103400" y="5263920"/>
            <a:ext cx="977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96880" y="5263920"/>
            <a:ext cx="15228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17840" y="54356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497240" y="5278320"/>
            <a:ext cx="1519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678120" y="40258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678120" y="436896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3672000" y="401940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672000" y="3905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843720" y="4033800"/>
            <a:ext cx="31680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843360" y="400716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678120" y="4597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678120" y="4952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672000" y="460368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843720" y="460548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843360" y="45907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678120" y="51055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678120" y="546084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3672000" y="5098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843720" y="511344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843360" y="509940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148640" y="5062680"/>
            <a:ext cx="97704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594320" y="5062680"/>
            <a:ext cx="9792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148280" y="5036040"/>
            <a:ext cx="97740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593960" y="5036040"/>
            <a:ext cx="9828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643280" y="5143680"/>
            <a:ext cx="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643280" y="5295960"/>
            <a:ext cx="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4637160" y="53654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637160" y="49338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688080" y="35449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688080" y="39006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853680" y="355284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853320" y="353880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681960" y="3360600"/>
            <a:ext cx="0" cy="72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688080" y="42688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688080" y="462456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6681960" y="4262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681960" y="416088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853680" y="427680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6853320" y="427500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688080" y="48531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688080" y="52084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681960" y="485928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3680" y="4861080"/>
            <a:ext cx="31680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853320" y="48463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688080" y="52974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688080" y="56530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6681960" y="5290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853680" y="53053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853320" y="52909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209000" y="5151960"/>
            <a:ext cx="101556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209360" y="5178600"/>
            <a:ext cx="10152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641360" y="5178600"/>
            <a:ext cx="1512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641000" y="5151960"/>
            <a:ext cx="15156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710480" y="49737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7710480" y="54813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716960" y="532296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548400" y="34304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237360" y="332892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538440" y="3975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290760" y="386064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722160" y="4851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23720" y="474984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22160" y="3975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23720" y="387360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548400" y="3570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237360" y="3481560"/>
            <a:ext cx="368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53844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290760" y="401328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2216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23720" y="490212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2216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23720" y="4025880"/>
            <a:ext cx="343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344600" y="40384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484280" y="40384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548400" y="4230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237360" y="414180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53844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290760" y="452124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22160" y="5359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23720" y="527040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484280" y="4191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477800" y="41972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22160" y="433080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23720" y="424188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09376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241720" y="4064040"/>
            <a:ext cx="752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548400" y="43830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237360" y="431316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548400" y="3722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237360" y="363708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538440" y="4775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290760" y="467352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538440" y="42670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290760" y="415296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2216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23720" y="505476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2160" y="5511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23720" y="541008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48428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34460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477800" y="499752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34460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48428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548400" y="4890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237360" y="480204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538440" y="5219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290760" y="510552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484280" y="5575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477800" y="55818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22160" y="586728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23720" y="576576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09376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241720" y="5384880"/>
            <a:ext cx="811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 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548400" y="5030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237360" y="49579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548400" y="4522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237360" y="446580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548400" y="38624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237360" y="37735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538440" y="5359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290760" y="525780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538440" y="4927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290760" y="481320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538440" y="4406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290760" y="430524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50360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160880" y="4191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300560" y="41911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497480" y="4197240"/>
            <a:ext cx="0" cy="7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50360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160880" y="4775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300560" y="477504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357800" y="47815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36392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50360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16088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300560" y="52959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548400" y="53989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237360" y="532908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50360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497480" y="5442120"/>
            <a:ext cx="0" cy="26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538440" y="571500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290760" y="561348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126040" y="5219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275440" y="5156280"/>
            <a:ext cx="807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548400" y="5538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237360" y="54817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548400" y="5170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237360" y="509760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548400" y="4675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237360" y="463716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548400" y="4014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237360" y="394488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589880" y="5030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170840" y="372276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310520" y="37227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583400" y="37288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589880" y="5462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170840" y="546264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7310520" y="546264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170840" y="444672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589880" y="5170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10520" y="4446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450200" y="5170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443720" y="445284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170840" y="503064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7589880" y="5322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7310520" y="53229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304040" y="503712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7589880" y="5614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7583400" y="562140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548400" y="583092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8211960" y="5322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8375760" y="5259240"/>
            <a:ext cx="693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4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5" name=""/>
          <p:cNvGrpSpPr/>
          <p:nvPr/>
        </p:nvGrpSpPr>
        <p:grpSpPr>
          <a:xfrm>
            <a:off x="885960" y="2070000"/>
            <a:ext cx="4660920" cy="1315440"/>
            <a:chOff x="885960" y="2070000"/>
            <a:chExt cx="4660920" cy="1315440"/>
          </a:xfrm>
        </p:grpSpPr>
        <p:sp>
          <p:nvSpPr>
            <p:cNvPr id="1746" name=""/>
            <p:cNvSpPr/>
            <p:nvPr/>
          </p:nvSpPr>
          <p:spPr>
            <a:xfrm>
              <a:off x="2492640" y="2522520"/>
              <a:ext cx="22824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492280" y="2495160"/>
              <a:ext cx="2286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657520" y="2603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657520" y="2768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620080" y="2522520"/>
              <a:ext cx="189360" cy="3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061000" y="2522520"/>
              <a:ext cx="1294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136960" y="2495160"/>
              <a:ext cx="12186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619720" y="2495160"/>
              <a:ext cx="189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451880" y="2103480"/>
              <a:ext cx="214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451520" y="2102040"/>
              <a:ext cx="21492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603440" y="2197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603440" y="2361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565280" y="2103480"/>
              <a:ext cx="20304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019160" y="2103480"/>
              <a:ext cx="129528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083240" y="2102040"/>
              <a:ext cx="12312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564920" y="2102040"/>
              <a:ext cx="2034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793880" y="29718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793880" y="33652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1787760" y="296496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010240" y="2979720"/>
              <a:ext cx="3931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009880" y="2977920"/>
              <a:ext cx="3934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327400" y="22860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479680" y="2266920"/>
              <a:ext cx="2556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492640" y="26035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486160" y="22921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492640" y="2286000"/>
              <a:ext cx="104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552840" y="2158920"/>
              <a:ext cx="1994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i @ 1 gate 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492640" y="276840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184400" y="27684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85960" y="2654280"/>
              <a:ext cx="380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368880" y="2679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540240" y="2565360"/>
              <a:ext cx="1866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i @ 2 gate dela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451160" y="236196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425600" y="2355840"/>
              <a:ext cx="38160" cy="25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629000" y="30985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451160" y="30985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444680" y="2368440"/>
              <a:ext cx="0" cy="72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184400" y="23619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85960" y="2247840"/>
              <a:ext cx="406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451160" y="21970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62900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184400" y="2197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260720" y="2190600"/>
              <a:ext cx="25200" cy="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273320" y="21970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273320" y="326376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266840" y="2203200"/>
              <a:ext cx="0" cy="10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885960" y="2070000"/>
              <a:ext cx="698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403720" y="317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581200" y="317484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565800" y="3047760"/>
              <a:ext cx="19555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i @ 1 gate 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6" name=""/>
          <p:cNvSpPr/>
          <p:nvPr/>
        </p:nvSpPr>
        <p:spPr>
          <a:xfrm>
            <a:off x="6338880" y="2233440"/>
            <a:ext cx="25527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creasingly complex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for car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837560" y="2724120"/>
            <a:ext cx="2700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r with propagate and generate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C86C-5ED7-489C-B4CE-4029FD39317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0" name=""/>
          <p:cNvGrpSpPr/>
          <p:nvPr/>
        </p:nvGrpSpPr>
        <p:grpSpPr>
          <a:xfrm>
            <a:off x="900000" y="2498760"/>
            <a:ext cx="3911760" cy="4019400"/>
            <a:chOff x="900000" y="2498760"/>
            <a:chExt cx="3911760" cy="4019400"/>
          </a:xfrm>
        </p:grpSpPr>
        <p:sp>
          <p:nvSpPr>
            <p:cNvPr id="1801" name=""/>
            <p:cNvSpPr/>
            <p:nvPr/>
          </p:nvSpPr>
          <p:spPr>
            <a:xfrm>
              <a:off x="900000" y="32227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900000" y="34387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548000" y="2498760"/>
              <a:ext cx="431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322720" y="318456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459080" y="41245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459080" y="43531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309760" y="3425760"/>
              <a:ext cx="787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906640" y="4111560"/>
              <a:ext cx="9273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030400" y="50389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030400" y="52675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894040" y="4340160"/>
              <a:ext cx="1028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465720" y="5025960"/>
              <a:ext cx="761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589120" y="594036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589120" y="616896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478320" y="52545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 @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024440" y="594036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@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024440" y="6181920"/>
              <a:ext cx="787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 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528920" y="30891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185840" y="3311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185840" y="354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51040" y="274644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986120" y="3311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986120" y="354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322720" y="35463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100240" y="40035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57520" y="4226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757520" y="4454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557440" y="4226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557440" y="4454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894040" y="44607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671920" y="49179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328840" y="5140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328840" y="536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129120" y="5140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129120" y="536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465720" y="53751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243240" y="5832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900520" y="60548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900520" y="628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700440" y="60548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700440" y="628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2" name=""/>
          <p:cNvGrpSpPr/>
          <p:nvPr/>
        </p:nvGrpSpPr>
        <p:grpSpPr>
          <a:xfrm>
            <a:off x="5805360" y="2203560"/>
            <a:ext cx="3209760" cy="3962160"/>
            <a:chOff x="5805360" y="2203560"/>
            <a:chExt cx="3209760" cy="3962160"/>
          </a:xfrm>
        </p:grpSpPr>
        <p:sp>
          <p:nvSpPr>
            <p:cNvPr id="1843" name=""/>
            <p:cNvSpPr/>
            <p:nvPr/>
          </p:nvSpPr>
          <p:spPr>
            <a:xfrm>
              <a:off x="6500520" y="2546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03760" y="27748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14840" y="2203560"/>
              <a:ext cx="432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8075520" y="255888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529320" y="3473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29320" y="3689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008400" y="3130560"/>
              <a:ext cx="787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088120" y="3473280"/>
              <a:ext cx="927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529320" y="43750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516360" y="4616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805360" y="4032360"/>
              <a:ext cx="1028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8075520" y="4387680"/>
              <a:ext cx="761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529320" y="52894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535440" y="55306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995800" y="4959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8062920" y="530208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224480" y="24224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881760" y="2644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881760" y="28731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446960" y="23083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681680" y="2644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224480" y="33368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881760" y="3558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881760" y="3787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681680" y="3558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224480" y="42512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881760" y="4473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881760" y="4701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681680" y="4473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224480" y="51656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881760" y="53877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881760" y="5616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681680" y="53877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6868440" y="23018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446960" y="32227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6868440" y="32162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446960" y="41371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6868440" y="41306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446960" y="50515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6868440" y="50450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970600" y="5886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6868440" y="595944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8075520" y="5886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implementatio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lookahead logic generates individual car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s computed much more quickly in parall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ever, cost of carry logic increases with more s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6F5-0DF7-4C24-A1A8-BDB83EC7E19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8" name=""/>
          <p:cNvGrpSpPr/>
          <p:nvPr/>
        </p:nvGrpSpPr>
        <p:grpSpPr>
          <a:xfrm>
            <a:off x="361800" y="2838240"/>
            <a:ext cx="8642520" cy="3657960"/>
            <a:chOff x="361800" y="2838240"/>
            <a:chExt cx="8642520" cy="3657960"/>
          </a:xfrm>
        </p:grpSpPr>
        <p:sp>
          <p:nvSpPr>
            <p:cNvPr id="1889" name=""/>
            <p:cNvSpPr/>
            <p:nvPr/>
          </p:nvSpPr>
          <p:spPr>
            <a:xfrm>
              <a:off x="3822840" y="5524560"/>
              <a:ext cx="1714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ookahead Carry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8458200" y="539748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531200" y="5130720"/>
              <a:ext cx="393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975440" y="5130720"/>
              <a:ext cx="419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473800" y="5130720"/>
              <a:ext cx="330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931000" y="5130720"/>
              <a:ext cx="342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03440" y="5130720"/>
              <a:ext cx="343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873600" y="5130720"/>
              <a:ext cx="355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320840" y="5130720"/>
              <a:ext cx="419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739880" y="5130720"/>
              <a:ext cx="482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463840" y="5143680"/>
              <a:ext cx="419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2000" y="5130720"/>
              <a:ext cx="330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566040" y="5130720"/>
              <a:ext cx="4442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912080" y="5460840"/>
              <a:ext cx="4953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286680" y="5854680"/>
              <a:ext cx="520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3-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730920" y="585468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3-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51040" y="5473800"/>
              <a:ext cx="571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128080" y="4635360"/>
              <a:ext cx="4190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670880" y="4635360"/>
              <a:ext cx="4824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743880" y="480060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045120" y="4635360"/>
              <a:ext cx="5335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587920" y="463536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699080" y="4800600"/>
              <a:ext cx="368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000680" y="4635360"/>
              <a:ext cx="4572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543480" y="463536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641680" y="4788000"/>
              <a:ext cx="393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955880" y="4622760"/>
              <a:ext cx="584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498680" y="4635360"/>
              <a:ext cx="3808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57200" y="5575320"/>
              <a:ext cx="431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997680" y="6058080"/>
              <a:ext cx="432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527880" y="6058080"/>
              <a:ext cx="444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394840" y="5575320"/>
              <a:ext cx="609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9800" y="541008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51040" y="3301920"/>
              <a:ext cx="79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447920" y="3301920"/>
              <a:ext cx="787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324160" y="3467160"/>
              <a:ext cx="533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98400" y="4406760"/>
              <a:ext cx="7621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895480" y="3301920"/>
              <a:ext cx="66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632040" y="3301920"/>
              <a:ext cx="648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394160" y="3467160"/>
              <a:ext cx="584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641680" y="4406760"/>
              <a:ext cx="9525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940280" y="330192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753160" y="3301920"/>
              <a:ext cx="571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438960" y="3467160"/>
              <a:ext cx="469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00600" y="4406760"/>
              <a:ext cx="7239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15080" y="4572000"/>
              <a:ext cx="495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844720" y="455940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851040" y="457200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023240" y="330192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797960" y="3301920"/>
              <a:ext cx="609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8521560" y="3467160"/>
              <a:ext cx="330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946920" y="4406760"/>
              <a:ext cx="6094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8508960" y="363204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035840" y="4572000"/>
              <a:ext cx="444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3" name=""/>
            <p:cNvGrpSpPr/>
            <p:nvPr/>
          </p:nvGrpSpPr>
          <p:grpSpPr>
            <a:xfrm>
              <a:off x="7023240" y="2838240"/>
              <a:ext cx="1822320" cy="1612800"/>
              <a:chOff x="7023240" y="2838240"/>
              <a:chExt cx="1822320" cy="1612800"/>
            </a:xfrm>
          </p:grpSpPr>
          <p:sp>
            <p:nvSpPr>
              <p:cNvPr id="1944" name=""/>
              <p:cNvSpPr/>
              <p:nvPr/>
            </p:nvSpPr>
            <p:spPr>
              <a:xfrm flipV="1">
                <a:off x="71690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V="1">
                <a:off x="80834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V="1">
                <a:off x="71564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0358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9502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02324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62012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80517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0293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84009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V="1">
                <a:off x="72518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81662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V="1">
                <a:off x="72518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V="1">
                <a:off x="81662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V="1">
                <a:off x="77090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289640" y="3556080"/>
                <a:ext cx="876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0" name=""/>
            <p:cNvGrpSpPr/>
            <p:nvPr/>
          </p:nvGrpSpPr>
          <p:grpSpPr>
            <a:xfrm>
              <a:off x="4940280" y="2838240"/>
              <a:ext cx="1822320" cy="1612800"/>
              <a:chOff x="4940280" y="2838240"/>
              <a:chExt cx="1822320" cy="1612800"/>
            </a:xfrm>
          </p:grpSpPr>
          <p:sp>
            <p:nvSpPr>
              <p:cNvPr id="1961" name=""/>
              <p:cNvSpPr/>
              <p:nvPr/>
            </p:nvSpPr>
            <p:spPr>
              <a:xfrm flipV="1">
                <a:off x="50864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V="1">
                <a:off x="60008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V="1">
                <a:off x="5073480" y="4070520"/>
                <a:ext cx="19080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95288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586728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94028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53716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5969160" y="3797280"/>
                <a:ext cx="2664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9467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318360" y="3645000"/>
                <a:ext cx="444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V="1">
                <a:off x="51688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60832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V="1">
                <a:off x="51688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V="1">
                <a:off x="60832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V="1">
                <a:off x="56260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207040" y="3556080"/>
                <a:ext cx="876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7" name=""/>
            <p:cNvGrpSpPr/>
            <p:nvPr/>
          </p:nvGrpSpPr>
          <p:grpSpPr>
            <a:xfrm>
              <a:off x="2895480" y="2838240"/>
              <a:ext cx="1822680" cy="1612800"/>
              <a:chOff x="2895480" y="2838240"/>
              <a:chExt cx="1822680" cy="1612800"/>
            </a:xfrm>
          </p:grpSpPr>
          <p:sp>
            <p:nvSpPr>
              <p:cNvPr id="1978" name=""/>
              <p:cNvSpPr/>
              <p:nvPr/>
            </p:nvSpPr>
            <p:spPr>
              <a:xfrm flipV="1">
                <a:off x="30416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V="1">
                <a:off x="39560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V="1">
                <a:off x="30290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9084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8228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9548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492360" y="3797280"/>
                <a:ext cx="2415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9243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9019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2735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31240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V="1">
                <a:off x="40384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V="1">
                <a:off x="31240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flipV="1">
                <a:off x="40384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V="1">
                <a:off x="35812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162240" y="3556080"/>
                <a:ext cx="876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4" name=""/>
            <p:cNvGrpSpPr/>
            <p:nvPr/>
          </p:nvGrpSpPr>
          <p:grpSpPr>
            <a:xfrm>
              <a:off x="851040" y="2838240"/>
              <a:ext cx="1822320" cy="1612800"/>
              <a:chOff x="851040" y="2838240"/>
              <a:chExt cx="1822320" cy="1612800"/>
            </a:xfrm>
          </p:grpSpPr>
          <p:sp>
            <p:nvSpPr>
              <p:cNvPr id="1995" name=""/>
              <p:cNvSpPr/>
              <p:nvPr/>
            </p:nvSpPr>
            <p:spPr>
              <a:xfrm flipV="1">
                <a:off x="9968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V="1">
                <a:off x="19112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V="1">
                <a:off x="9842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8636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780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85104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44792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8795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8571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2287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V="1">
                <a:off x="10796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19940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V="1">
                <a:off x="10796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V="1">
                <a:off x="19940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V="1">
                <a:off x="15368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117440" y="3556080"/>
                <a:ext cx="876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1" name=""/>
            <p:cNvSpPr/>
            <p:nvPr/>
          </p:nvSpPr>
          <p:spPr>
            <a:xfrm>
              <a:off x="81662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7090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0832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6260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0384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5812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9940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5368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V="1">
              <a:off x="473724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V="1">
              <a:off x="678168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267984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57160" y="5137200"/>
              <a:ext cx="75438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40096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361800" y="558792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566040" y="60516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023240" y="6051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adder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ith cascaded carry-lookahead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lookahead 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four-bit adders with internal carry look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 carry lookahead unit extends lookahead to 16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9" name=""/>
          <p:cNvGrpSpPr/>
          <p:nvPr/>
        </p:nvGrpSpPr>
        <p:grpSpPr>
          <a:xfrm>
            <a:off x="5488560" y="1563840"/>
            <a:ext cx="3596760" cy="2181240"/>
            <a:chOff x="5488560" y="1563840"/>
            <a:chExt cx="3596760" cy="2181240"/>
          </a:xfrm>
        </p:grpSpPr>
        <p:sp>
          <p:nvSpPr>
            <p:cNvPr id="2030" name=""/>
            <p:cNvSpPr/>
            <p:nvPr/>
          </p:nvSpPr>
          <p:spPr>
            <a:xfrm>
              <a:off x="5488560" y="1563840"/>
              <a:ext cx="354996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G = G3 + P3 G2 + P3 P2 G1 + P3 P2 P1 G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H="1">
              <a:off x="8186760" y="1871640"/>
              <a:ext cx="898560" cy="1873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2" name=""/>
          <p:cNvGrpSpPr/>
          <p:nvPr/>
        </p:nvGrpSpPr>
        <p:grpSpPr>
          <a:xfrm>
            <a:off x="6340320" y="1920960"/>
            <a:ext cx="1463760" cy="1838160"/>
            <a:chOff x="6340320" y="1920960"/>
            <a:chExt cx="1463760" cy="1838160"/>
          </a:xfrm>
        </p:grpSpPr>
        <p:sp>
          <p:nvSpPr>
            <p:cNvPr id="2033" name=""/>
            <p:cNvSpPr/>
            <p:nvPr/>
          </p:nvSpPr>
          <p:spPr>
            <a:xfrm>
              <a:off x="6340320" y="1920960"/>
              <a:ext cx="146376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P = P3 P2 P1 P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7662960" y="2251080"/>
              <a:ext cx="131760" cy="1508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5" name=""/>
          <p:cNvGrpSpPr/>
          <p:nvPr/>
        </p:nvGrpSpPr>
        <p:grpSpPr>
          <a:xfrm>
            <a:off x="6873840" y="5390640"/>
            <a:ext cx="2087280" cy="1099080"/>
            <a:chOff x="6873840" y="5390640"/>
            <a:chExt cx="2087280" cy="1099080"/>
          </a:xfrm>
        </p:grpSpPr>
        <p:sp>
          <p:nvSpPr>
            <p:cNvPr id="2036" name=""/>
            <p:cNvSpPr/>
            <p:nvPr/>
          </p:nvSpPr>
          <p:spPr>
            <a:xfrm>
              <a:off x="7472880" y="6184800"/>
              <a:ext cx="148824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C1 = G0 + P0 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H="1" flipV="1">
              <a:off x="6873840" y="5390640"/>
              <a:ext cx="581040" cy="79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3745800" y="5297400"/>
            <a:ext cx="2425320" cy="1268640"/>
            <a:chOff x="3745800" y="5297400"/>
            <a:chExt cx="2425320" cy="1268640"/>
          </a:xfrm>
        </p:grpSpPr>
        <p:sp>
          <p:nvSpPr>
            <p:cNvPr id="2039" name=""/>
            <p:cNvSpPr/>
            <p:nvPr/>
          </p:nvSpPr>
          <p:spPr>
            <a:xfrm>
              <a:off x="3745800" y="6261120"/>
              <a:ext cx="242532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C2 = G1 + P1 G0 + P1 P0 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4618080" y="5297400"/>
              <a:ext cx="100080" cy="959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B02-783E-414F-B250-024FC6AB164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1" name=""/>
          <p:cNvGrpSpPr/>
          <p:nvPr/>
        </p:nvGrpSpPr>
        <p:grpSpPr>
          <a:xfrm>
            <a:off x="1689120" y="3117960"/>
            <a:ext cx="6089760" cy="3321000"/>
            <a:chOff x="1689120" y="3117960"/>
            <a:chExt cx="6089760" cy="3321000"/>
          </a:xfrm>
        </p:grpSpPr>
        <p:sp>
          <p:nvSpPr>
            <p:cNvPr id="2042" name=""/>
            <p:cNvSpPr/>
            <p:nvPr/>
          </p:nvSpPr>
          <p:spPr>
            <a:xfrm>
              <a:off x="5905440" y="5283360"/>
              <a:ext cx="978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: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404120" y="524520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978440" y="528336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403440" y="3187800"/>
              <a:ext cx="978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: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003640" y="322596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641680" y="3213000"/>
              <a:ext cx="355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003640" y="417816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666880" y="415296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689120" y="5295960"/>
              <a:ext cx="7239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iv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43232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2292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000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7972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568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352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1370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9336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423040" y="4356000"/>
              <a:ext cx="5968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de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423040" y="3276720"/>
              <a:ext cx="5968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i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7050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50200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492880" y="517536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3498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8926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4354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9782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5210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5720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1148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7150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1722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6294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0866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6576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2004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7432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4793760" y="5511960"/>
              <a:ext cx="69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7308720" y="551196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978280" y="414648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3148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7720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2292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6864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4794120" y="4483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978280" y="311796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0862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5434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0006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4578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>
              <a:off x="4794120" y="345456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321000" y="4260960"/>
              <a:ext cx="10288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378240" y="4228920"/>
              <a:ext cx="977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: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857680" y="448956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629080" y="3460680"/>
              <a:ext cx="0" cy="170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2622600" y="34545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2850840" y="4483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4256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8954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352680" y="61214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8098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2544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4100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8672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324480" y="61214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7690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select add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ndant hardware to make carry calculation go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 two high-order sums in parallel while waiting for carry-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assuming carry-in is 0 and another assuming carry-in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correct result once carry-in is finall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CD0-0F90-4EE9-8EC2-4F9F0AE8AD8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"/>
          <p:cNvSpPr/>
          <p:nvPr/>
        </p:nvSpPr>
        <p:spPr>
          <a:xfrm>
            <a:off x="925560" y="6051600"/>
            <a:ext cx="76579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gical and arithmetic operat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t all operations appear useful, but "fall out" of internal 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1319040" y="1863720"/>
            <a:ext cx="36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1623960" y="1863720"/>
            <a:ext cx="39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03600" y="1863720"/>
            <a:ext cx="129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not A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 xor B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 xnor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802040" y="186372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m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put Ai transferr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lement of Ai transferr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XOR of Ai, B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XNOR of Ai,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351080" y="2130480"/>
            <a:ext cx="726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773280" y="1596960"/>
            <a:ext cx="285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0, logical bitwise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773280" y="3193920"/>
            <a:ext cx="309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1, C0 = 0, arithmetic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370160" y="3473280"/>
            <a:ext cx="253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1712880" y="3473280"/>
            <a:ext cx="254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2563920" y="3473280"/>
            <a:ext cx="1574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not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840200" y="3473280"/>
            <a:ext cx="2946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put A pass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lement of A pass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um of A and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um of B and complement of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760320" y="4606920"/>
            <a:ext cx="309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1, C0 = 1, arithmetic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370160" y="4886280"/>
            <a:ext cx="25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1712880" y="4886280"/>
            <a:ext cx="25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347920" y="4886280"/>
            <a:ext cx="2108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B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B plu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865760" y="4886280"/>
            <a:ext cx="224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crement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wos complement of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crement sum of A and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 minu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spec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3EC-2785-46CC-BE84-E5519C28127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7" name=""/>
          <p:cNvGrpSpPr/>
          <p:nvPr/>
        </p:nvGrpSpPr>
        <p:grpSpPr>
          <a:xfrm>
            <a:off x="4960800" y="1050840"/>
            <a:ext cx="3403800" cy="5295600"/>
            <a:chOff x="4960800" y="1050840"/>
            <a:chExt cx="3403800" cy="5295600"/>
          </a:xfrm>
        </p:grpSpPr>
        <p:sp>
          <p:nvSpPr>
            <p:cNvPr id="2128" name=""/>
            <p:cNvSpPr/>
            <p:nvPr/>
          </p:nvSpPr>
          <p:spPr>
            <a:xfrm>
              <a:off x="4998960" y="1050840"/>
              <a:ext cx="228600" cy="37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354640" y="1050840"/>
              <a:ext cx="330120" cy="48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761080" y="1050840"/>
              <a:ext cx="330120" cy="48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192720" y="1050840"/>
              <a:ext cx="29232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599160" y="1050840"/>
              <a:ext cx="2793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005600" y="1050840"/>
              <a:ext cx="2793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539120" y="1050840"/>
              <a:ext cx="2667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754760" y="1050840"/>
              <a:ext cx="60984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i+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960800" y="1196640"/>
              <a:ext cx="332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018040" y="2889000"/>
              <a:ext cx="332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005440" y="4549680"/>
              <a:ext cx="331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992840" y="6270480"/>
              <a:ext cx="323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399440" y="1088640"/>
              <a:ext cx="0" cy="5207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510240" y="1056960"/>
              <a:ext cx="0" cy="525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>
              <a:off x="6126120" y="1063440"/>
              <a:ext cx="15840" cy="520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BBB9-6756-4DEB-BE4D-BCC9A4EC949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"/>
          <p:cNvSpPr/>
          <p:nvPr/>
        </p:nvSpPr>
        <p:spPr>
          <a:xfrm>
            <a:off x="4092480" y="5038560"/>
            <a:ext cx="1117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2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138600" y="2473200"/>
            <a:ext cx="8894160" cy="2506680"/>
            <a:chOff x="138600" y="2473200"/>
            <a:chExt cx="8894160" cy="2506680"/>
          </a:xfrm>
        </p:grpSpPr>
        <p:sp>
          <p:nvSpPr>
            <p:cNvPr id="2147" name=""/>
            <p:cNvSpPr/>
            <p:nvPr/>
          </p:nvSpPr>
          <p:spPr>
            <a:xfrm>
              <a:off x="740160" y="2549520"/>
              <a:ext cx="20880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38600" y="2549520"/>
              <a:ext cx="14277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26800" y="2529000"/>
              <a:ext cx="13395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39800" y="2529000"/>
              <a:ext cx="2091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96760" y="264492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896760" y="283860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896760" y="338472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96760" y="3843360"/>
              <a:ext cx="4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88840" y="339408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125720" y="3395520"/>
              <a:ext cx="44064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125360" y="3375360"/>
              <a:ext cx="44100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04880" y="4294080"/>
              <a:ext cx="2440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04880" y="4276440"/>
              <a:ext cx="24408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879480" y="43894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879480" y="45831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843480" y="4294080"/>
              <a:ext cx="21168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44440" y="4294080"/>
              <a:ext cx="14284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98080" y="4276440"/>
              <a:ext cx="137484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843120" y="4276440"/>
              <a:ext cx="21204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259080" y="269712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259080" y="315612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3251160" y="2687400"/>
              <a:ext cx="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488040" y="2708280"/>
              <a:ext cx="44064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487680" y="2687400"/>
              <a:ext cx="441000" cy="4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259080" y="327816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259080" y="373680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V="1">
              <a:off x="3251160" y="3269880"/>
              <a:ext cx="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488040" y="3289320"/>
              <a:ext cx="44064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487680" y="325116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259080" y="384336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259080" y="431964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251160" y="385128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488040" y="385452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487680" y="3835080"/>
              <a:ext cx="44100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543480" y="3306600"/>
              <a:ext cx="14248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613320" y="328752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158000" y="3287520"/>
              <a:ext cx="212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316400" y="3508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158360" y="3306600"/>
              <a:ext cx="21168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556320" y="262728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556320" y="3102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6546960" y="263520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785280" y="263844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784920" y="261612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556320" y="320832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556320" y="3684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546960" y="32180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785280" y="321948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784920" y="3200760"/>
              <a:ext cx="44100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556320" y="378936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556320" y="42656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546960" y="379872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785280" y="3800520"/>
              <a:ext cx="4406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784920" y="377964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556320" y="437184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556320" y="48308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546960" y="4379760"/>
              <a:ext cx="0" cy="4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6785280" y="4383000"/>
              <a:ext cx="44064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784920" y="4362120"/>
              <a:ext cx="441000" cy="4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121880" y="353700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737840" y="3537000"/>
              <a:ext cx="1231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121880" y="351612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737480" y="3516120"/>
              <a:ext cx="1234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807320" y="363204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807320" y="382572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V="1">
              <a:off x="7799400" y="3939840"/>
              <a:ext cx="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799400" y="3357720"/>
              <a:ext cx="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03440" y="264492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68280" y="2473200"/>
              <a:ext cx="49356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03440" y="283860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362640" y="42130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891040" y="413064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566720" y="27496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735200" y="255600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362640" y="26798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068880" y="2629080"/>
              <a:ext cx="38916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065400" y="38955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805120" y="3844800"/>
              <a:ext cx="3873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03440" y="3419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09680" y="3336840"/>
              <a:ext cx="47448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03440" y="361332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03440" y="38084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36264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891040" y="354816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065400" y="35956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2611440" y="351324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65400" y="30146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611440" y="293220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566720" y="36133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735200" y="341964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03440" y="43894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09680" y="4275000"/>
              <a:ext cx="4744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03440" y="458316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36264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891040" y="390528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36264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891040" y="337032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3065400" y="4282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611440" y="423216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065400" y="3402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611440" y="331956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673280" y="4495680"/>
              <a:ext cx="15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822320" y="4300560"/>
              <a:ext cx="5461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362640" y="3243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84720" y="319248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36264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68880" y="282240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065400" y="4089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805120" y="4038480"/>
              <a:ext cx="404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65400" y="28209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805120" y="2738520"/>
              <a:ext cx="404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122720" y="3314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929040" y="29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114800" y="2935440"/>
              <a:ext cx="0" cy="3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929040" y="35082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122720" y="35082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929040" y="4089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22720" y="3701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14800" y="3710160"/>
              <a:ext cx="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005440" y="3508200"/>
              <a:ext cx="15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154480" y="3314880"/>
              <a:ext cx="47628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362640" y="44067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23080" y="4340160"/>
              <a:ext cx="5112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36264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916600" y="3759120"/>
              <a:ext cx="528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362640" y="30495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964120" y="298440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36264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818320" y="4486320"/>
              <a:ext cx="5810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362640" y="47941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8477280" y="373680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8645400" y="3543480"/>
              <a:ext cx="38736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61364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22628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605720" y="2882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41996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22628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61364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41996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410600" y="3446640"/>
              <a:ext cx="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22628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61364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410600" y="383364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41996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61364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22628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7605720" y="4027320"/>
              <a:ext cx="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41996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multi-level discrete gate logic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78C-7EF3-49C5-AAF6-009B32386E8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7" name=""/>
          <p:cNvGrpSpPr/>
          <p:nvPr/>
        </p:nvGrpSpPr>
        <p:grpSpPr>
          <a:xfrm>
            <a:off x="179280" y="1724760"/>
            <a:ext cx="3384360" cy="5021640"/>
            <a:chOff x="179280" y="1724760"/>
            <a:chExt cx="3384360" cy="5021640"/>
          </a:xfrm>
        </p:grpSpPr>
        <p:sp>
          <p:nvSpPr>
            <p:cNvPr id="2298" name=""/>
            <p:cNvSpPr/>
            <p:nvPr/>
          </p:nvSpPr>
          <p:spPr>
            <a:xfrm>
              <a:off x="960120" y="24094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28480" y="240948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34960" y="24033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21640" y="2625840"/>
              <a:ext cx="41940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3640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487520" y="2156400"/>
              <a:ext cx="380520" cy="2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488960" y="2156400"/>
              <a:ext cx="405720" cy="2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760400" y="2307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595160" y="2307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512720" y="2270160"/>
              <a:ext cx="3553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487520" y="1724760"/>
              <a:ext cx="380520" cy="12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488960" y="1812960"/>
              <a:ext cx="405720" cy="119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488960" y="2270160"/>
              <a:ext cx="4057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903400" y="24094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509560" y="240948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516040" y="24033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49084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51748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007720" y="3438360"/>
              <a:ext cx="3682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009520" y="3438360"/>
              <a:ext cx="3934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268360" y="3616200"/>
              <a:ext cx="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103120" y="3616200"/>
              <a:ext cx="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020680" y="3565440"/>
              <a:ext cx="355320" cy="1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007720" y="3019680"/>
              <a:ext cx="36828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009520" y="3083040"/>
              <a:ext cx="393480" cy="123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009520" y="3565440"/>
              <a:ext cx="393480" cy="1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1840" y="474624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98360" y="474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04480" y="47401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792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062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290600" y="474624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871560" y="474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77680" y="47401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524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794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919160" y="5445000"/>
              <a:ext cx="380520" cy="21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920600" y="5445000"/>
              <a:ext cx="393480" cy="21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192040" y="55972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014560" y="55972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944360" y="5559840"/>
              <a:ext cx="355320" cy="18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919160" y="5000760"/>
              <a:ext cx="38052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920600" y="5090040"/>
              <a:ext cx="393480" cy="12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920600" y="5559840"/>
              <a:ext cx="393480" cy="18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85720" y="5648400"/>
              <a:ext cx="3553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34600" y="5089680"/>
              <a:ext cx="40644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61960" y="5178240"/>
              <a:ext cx="380520" cy="12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61960" y="5648400"/>
              <a:ext cx="3805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33400" y="5787720"/>
              <a:ext cx="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55560" y="5787720"/>
              <a:ext cx="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3340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3340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20440" y="1971720"/>
              <a:ext cx="4064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5556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5556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63240" y="1971720"/>
              <a:ext cx="320040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84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1760400" y="215568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1760400" y="206676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1595160" y="215568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1595160" y="206676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265040" y="1971720"/>
              <a:ext cx="45720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80188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88920" y="1971720"/>
              <a:ext cx="3812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63664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3664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357280" y="1983960"/>
              <a:ext cx="254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103120" y="343836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67148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9032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96800" y="3342960"/>
              <a:ext cx="116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665000" y="3349440"/>
              <a:ext cx="38160" cy="24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677960" y="3342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103120" y="334944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90320" y="3349440"/>
              <a:ext cx="0" cy="12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71480" y="3184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71296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706480" y="3184200"/>
              <a:ext cx="12600" cy="12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68360" y="343836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2544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712960" y="3184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274840" y="33429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268360" y="334944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25440" y="3184200"/>
              <a:ext cx="0" cy="137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31560" y="3178080"/>
              <a:ext cx="237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55560" y="5622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01400" y="53686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01400" y="553392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07880" y="56163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192040" y="43146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192040" y="54450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16352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192040" y="44924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198520" y="4555800"/>
              <a:ext cx="12600" cy="37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192040" y="4568400"/>
              <a:ext cx="0" cy="86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170000" y="4562280"/>
              <a:ext cx="101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99828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4448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14560" y="54450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44480" y="318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50600" y="430812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979200" y="4302000"/>
              <a:ext cx="38160" cy="37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004760" y="4308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1760400" y="4314600"/>
              <a:ext cx="0" cy="111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766880" y="54385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998280" y="4314600"/>
              <a:ext cx="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103120" y="63082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103120" y="6473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179440" y="6416280"/>
              <a:ext cx="317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087200" y="53686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33400" y="5622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39520" y="56163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087200" y="553392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44480" y="63846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69680" y="6416280"/>
              <a:ext cx="622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557360" y="2543040"/>
              <a:ext cx="30456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052360" y="3838320"/>
              <a:ext cx="304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976400" y="5832360"/>
              <a:ext cx="30456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79240" y="2568240"/>
              <a:ext cx="22860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1979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249120" y="4905000"/>
              <a:ext cx="97776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04800" y="5921280"/>
              <a:ext cx="3175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80188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2654280" y="3200400"/>
            <a:ext cx="2616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2654280" y="3657600"/>
            <a:ext cx="2616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641680" y="5143680"/>
            <a:ext cx="412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551400" y="2054160"/>
            <a:ext cx="546552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rst-level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S0 to complement A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X1 to pass A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X1 to pass Ai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S1 to block B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1 to make Bi go forward as 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on't want Bi for operations with just A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1 to pass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M to block C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2 to make Ci go forward as 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on't want Ci for logical operation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2 to pass C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ther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M=0 (logical operations, Ci is ignor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 = S1 Bi xor (S0 xor A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 S1'S0' ( Ai ) + S1'S0 ( Ai' ) 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S1 S0' ( Ai Bi' + Ai' Bi ) + S1 S0 ( Ai' Bi' + Ai Bi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M=1 (arithmetic opera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 = S1 Bi xor ( ( S0 xor Ai ) xor Ci )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i+1 = Ci (S0 xor Ai) + S1 Bi ( (S0 xor Ai) xor Ci ) =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st a full adder with inputs S0 xor Ai, S1 Bi, and C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clever multi-level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64A9-089A-4FA6-A58A-0FC52B2065C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for examples of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77120" cy="5127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desig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ize problem: encodings, truth-table,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implementation technology (ROM, PAL, PLA, discrete g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 by following the design procedure for that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numbers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is in how negative numbers are re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 complement easiest to handle: one representation for zero, slightly complicated complementation, simple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for binary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half-adder and full-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lookahead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U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,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D5C1-A495-41E0-8BAD-4FF89C16ABB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0" y="4419720"/>
            <a:ext cx="3429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A + B D + C + B'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C' D' + C D +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' D' + C D' + B C' D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A + C' D' + B D' +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A + C D' + B C'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minimized sum-of-produc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 unique product terms when minimized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80880" y="2286000"/>
            <a:ext cx="1676520" cy="1701720"/>
            <a:chOff x="380880" y="2286000"/>
            <a:chExt cx="1676520" cy="1701720"/>
          </a:xfrm>
        </p:grpSpPr>
        <p:sp>
          <p:nvSpPr>
            <p:cNvPr id="211" name=""/>
            <p:cNvSpPr/>
            <p:nvPr/>
          </p:nvSpPr>
          <p:spPr>
            <a:xfrm>
              <a:off x="685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8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8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28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54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44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8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14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09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4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9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39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3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18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8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14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09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23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057400" y="2286000"/>
            <a:ext cx="1676520" cy="1701720"/>
            <a:chOff x="2057400" y="2286000"/>
            <a:chExt cx="1676520" cy="1701720"/>
          </a:xfrm>
        </p:grpSpPr>
        <p:sp>
          <p:nvSpPr>
            <p:cNvPr id="231" name=""/>
            <p:cNvSpPr/>
            <p:nvPr/>
          </p:nvSpPr>
          <p:spPr>
            <a:xfrm>
              <a:off x="236232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9548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9548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0532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3052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2104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9536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9092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28564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9092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8600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1612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5740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00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9548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9536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9092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28564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00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057400" y="4038480"/>
            <a:ext cx="1676520" cy="1701720"/>
            <a:chOff x="2057400" y="4038480"/>
            <a:chExt cx="1676520" cy="1701720"/>
          </a:xfrm>
        </p:grpSpPr>
        <p:sp>
          <p:nvSpPr>
            <p:cNvPr id="251" name=""/>
            <p:cNvSpPr/>
            <p:nvPr/>
          </p:nvSpPr>
          <p:spPr>
            <a:xfrm>
              <a:off x="2362320" y="429228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4292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95480" y="42922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05320" y="4597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30520" y="474948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21040" y="403848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95360" y="429228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92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285640" y="4597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90920" y="5511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86000" y="4902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16120" y="551160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57400" y="497808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0040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95480" y="49021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95360" y="490212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9092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285640" y="52066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0040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809880" y="2286000"/>
            <a:ext cx="1676520" cy="1701720"/>
            <a:chOff x="3809880" y="2286000"/>
            <a:chExt cx="1676520" cy="1701720"/>
          </a:xfrm>
        </p:grpSpPr>
        <p:sp>
          <p:nvSpPr>
            <p:cNvPr id="271" name=""/>
            <p:cNvSpPr/>
            <p:nvPr/>
          </p:nvSpPr>
          <p:spPr>
            <a:xfrm>
              <a:off x="4114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47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47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57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83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73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47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43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038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38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68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09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2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47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47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43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038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52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562720" y="2286000"/>
            <a:ext cx="1675800" cy="1701720"/>
            <a:chOff x="5562720" y="2286000"/>
            <a:chExt cx="1675800" cy="1701720"/>
          </a:xfrm>
        </p:grpSpPr>
        <p:sp>
          <p:nvSpPr>
            <p:cNvPr id="291" name=""/>
            <p:cNvSpPr/>
            <p:nvPr/>
          </p:nvSpPr>
          <p:spPr>
            <a:xfrm>
              <a:off x="5867280" y="2539800"/>
              <a:ext cx="1142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0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00440" y="253980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00440" y="25398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1028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35480" y="2997000"/>
              <a:ext cx="203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26000" y="2286000"/>
              <a:ext cx="583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0320" y="2539800"/>
              <a:ext cx="59976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5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790960" y="28447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5880" y="375912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096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21080" y="3759120"/>
              <a:ext cx="58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62720" y="3225600"/>
              <a:ext cx="229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0536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00440" y="314964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00320" y="3149640"/>
              <a:ext cx="5997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790960" y="34542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536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7238880" y="2286000"/>
            <a:ext cx="1676520" cy="1701720"/>
            <a:chOff x="7238880" y="2286000"/>
            <a:chExt cx="1676520" cy="1701720"/>
          </a:xfrm>
        </p:grpSpPr>
        <p:sp>
          <p:nvSpPr>
            <p:cNvPr id="311" name=""/>
            <p:cNvSpPr/>
            <p:nvPr/>
          </p:nvSpPr>
          <p:spPr>
            <a:xfrm>
              <a:off x="7543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0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76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76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686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712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102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76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72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467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72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67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97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8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381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076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76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72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467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81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80880" y="4038480"/>
            <a:ext cx="1676520" cy="1701720"/>
            <a:chOff x="380880" y="4038480"/>
            <a:chExt cx="1676520" cy="1701720"/>
          </a:xfrm>
        </p:grpSpPr>
        <p:sp>
          <p:nvSpPr>
            <p:cNvPr id="331" name=""/>
            <p:cNvSpPr/>
            <p:nvPr/>
          </p:nvSpPr>
          <p:spPr>
            <a:xfrm>
              <a:off x="685800" y="429228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8960" y="4292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18960" y="42922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28800" y="4597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54000" y="474948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44520" y="403848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8840" y="429228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1440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09120" y="4597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14400" y="5511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9480" y="4902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39600" y="551160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880" y="497808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2388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18960" y="49021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8840" y="490212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1440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09120" y="52066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2388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4120-3DF9-468F-9D8E-5F7D63AAC5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724280" y="4889520"/>
            <a:ext cx="391176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B C' D + C D + B' D' + B C D' +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B' D + C' D' + C D + B'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' D + B C' D + C' D' + C D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 C' D + B' D + B' D'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B C' D + C' D' + A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B' C + B C' + B C D' +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4889520"/>
            <a:ext cx="287028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A + B D + C + B'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C' D' + C D +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' D' + C D' + B C' D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A + C' D' + B D' +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A + C D' + B C'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3276720"/>
            <a:ext cx="660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minimized S-o-P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do be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unique product terms (instead of 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terms among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utput not necessarily in minimized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791320" y="3048120"/>
            <a:ext cx="1675800" cy="1701720"/>
            <a:chOff x="5791320" y="3048120"/>
            <a:chExt cx="1675800" cy="1701720"/>
          </a:xfrm>
        </p:grpSpPr>
        <p:sp>
          <p:nvSpPr>
            <p:cNvPr id="356" name=""/>
            <p:cNvSpPr/>
            <p:nvPr/>
          </p:nvSpPr>
          <p:spPr>
            <a:xfrm>
              <a:off x="6095880" y="3301920"/>
              <a:ext cx="1142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330192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29040" y="33019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38880" y="3606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64080" y="3759120"/>
              <a:ext cx="203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54600" y="3048120"/>
              <a:ext cx="583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28920" y="3301920"/>
              <a:ext cx="59976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2448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6019560" y="360684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24480" y="452124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19560" y="39117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49680" y="4521240"/>
              <a:ext cx="58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91320" y="3987720"/>
              <a:ext cx="229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396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29040" y="391176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28920" y="3911760"/>
              <a:ext cx="5997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2448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019560" y="42163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396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6400800" y="3657600"/>
            <a:ext cx="45720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5880" y="3962520"/>
            <a:ext cx="10670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5880" y="3352680"/>
            <a:ext cx="10670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00800" y="4267080"/>
            <a:ext cx="45720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12080" y="3657600"/>
            <a:ext cx="226800" cy="533520"/>
          </a:xfrm>
          <a:custGeom>
            <a:avLst/>
            <a:gdLst>
              <a:gd name="textAreaLeft" fmla="*/ 66600 w 226800"/>
              <a:gd name="textAreaRight" fmla="*/ 227160 w 226800"/>
              <a:gd name="textAreaTop" fmla="*/ 27000 h 533520"/>
              <a:gd name="textAreaBottom" fmla="*/ 50652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93"/>
                  <a:pt x="0" y="2186"/>
                </a:cubicBezTo>
                <a:lnTo>
                  <a:pt x="0" y="19414"/>
                </a:lnTo>
                <a:cubicBezTo>
                  <a:pt x="0" y="20507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6019200" y="3657600"/>
            <a:ext cx="228600" cy="533520"/>
          </a:xfrm>
          <a:custGeom>
            <a:avLst/>
            <a:gdLst>
              <a:gd name="textAreaLeft" fmla="*/ 66600 w 228600"/>
              <a:gd name="textAreaRight" fmla="*/ 228600 w 228600"/>
              <a:gd name="textAreaTop" fmla="*/ 27000 h 533520"/>
              <a:gd name="textAreaBottom" fmla="*/ 50652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93"/>
                  <a:pt x="0" y="2186"/>
                </a:cubicBezTo>
                <a:lnTo>
                  <a:pt x="0" y="19414"/>
                </a:lnTo>
                <a:cubicBezTo>
                  <a:pt x="0" y="20507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295280" y="3048120"/>
            <a:ext cx="1676520" cy="1701720"/>
            <a:chOff x="1295280" y="3048120"/>
            <a:chExt cx="1676520" cy="1701720"/>
          </a:xfrm>
        </p:grpSpPr>
        <p:sp>
          <p:nvSpPr>
            <p:cNvPr id="382" name=""/>
            <p:cNvSpPr/>
            <p:nvPr/>
          </p:nvSpPr>
          <p:spPr>
            <a:xfrm>
              <a:off x="1600200" y="330192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33360" y="330192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33360" y="33019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43200" y="3606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68400" y="375912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58920" y="304812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33240" y="330192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2880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523520" y="360684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45212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23880" y="39117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54000" y="452124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95280" y="398772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3828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33360" y="391176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33240" y="391176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2880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1523520" y="42163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3828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1854360" y="3352680"/>
            <a:ext cx="533160" cy="114300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90">
                <a:moveTo>
                  <a:pt x="3600" y="0"/>
                </a:moveTo>
                <a:arcTo wR="3600" hR="3600" stAng="16200000" swAng="-5400000"/>
                <a:lnTo>
                  <a:pt x="0" y="42690"/>
                </a:lnTo>
                <a:arcTo wR="3600" hR="3600" stAng="10800000" swAng="-5400000"/>
                <a:lnTo>
                  <a:pt x="18000" y="462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1854000" y="3047760"/>
            <a:ext cx="533520" cy="11430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59">
                <a:moveTo>
                  <a:pt x="3600" y="0"/>
                </a:moveTo>
                <a:arcTo wR="3600" hR="3600" stAng="16200000" swAng="-5400000"/>
                <a:lnTo>
                  <a:pt x="0" y="42659"/>
                </a:lnTo>
                <a:arcTo wR="3600" hR="3600" stAng="10800000" swAng="-5400000"/>
                <a:lnTo>
                  <a:pt x="18000" y="4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6200000">
            <a:off x="1854000" y="3352680"/>
            <a:ext cx="533520" cy="11430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59">
                <a:moveTo>
                  <a:pt x="3600" y="0"/>
                </a:moveTo>
                <a:arcTo wR="3600" hR="3600" stAng="16200000" swAng="-5400000"/>
                <a:lnTo>
                  <a:pt x="0" y="42659"/>
                </a:lnTo>
                <a:arcTo wR="3600" hR="3600" stAng="10800000" swAng="-5400000"/>
                <a:lnTo>
                  <a:pt x="18000" y="4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3276720"/>
            <a:ext cx="660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92B-BCFA-4A70-8D94-80CE3740CF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1996920" y="890640"/>
            <a:ext cx="6054840" cy="5137200"/>
            <a:chOff x="1996920" y="890640"/>
            <a:chExt cx="6054840" cy="5137200"/>
          </a:xfrm>
        </p:grpSpPr>
        <p:sp>
          <p:nvSpPr>
            <p:cNvPr id="406" name=""/>
            <p:cNvSpPr/>
            <p:nvPr/>
          </p:nvSpPr>
          <p:spPr>
            <a:xfrm>
              <a:off x="6781680" y="1646280"/>
              <a:ext cx="127008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'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4964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2256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3060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6536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4632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7340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422520" y="27003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22520" y="3005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3416400" y="2693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75160" y="2708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74800" y="2693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13120" y="285264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67120" y="285264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07980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65320" y="144936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95236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3056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8628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22520" y="15955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22520" y="190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416400" y="1589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75160" y="1603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74800" y="15890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13120" y="17478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67120" y="174780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22520" y="19638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22520" y="2268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416400" y="1957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75160" y="1971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74800" y="1957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13120" y="21160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67120" y="21160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22520" y="2332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2520" y="2637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416400" y="2325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75160" y="2340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4800" y="2325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13120" y="2484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67120" y="248436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787120" y="1449360"/>
              <a:ext cx="140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73360" y="144936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66040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83860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9396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57680" y="1627200"/>
              <a:ext cx="0" cy="355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49552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1400" y="144936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36808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4628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0200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20356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89080" y="144936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207612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5432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20968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22520" y="3056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22520" y="3360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416400" y="30495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75160" y="3063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74800" y="30495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013120" y="320832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67120" y="3208320"/>
              <a:ext cx="289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22520" y="34117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22520" y="3716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416400" y="3405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575160" y="34196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74800" y="34052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13120" y="35640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67120" y="35640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22520" y="3767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422520" y="4071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3416400" y="3760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75160" y="3774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74800" y="3760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13120" y="39196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67120" y="39196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22520" y="41227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22520" y="44276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416400" y="411624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75160" y="41306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574800" y="411696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120" y="4275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67120" y="427536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22520" y="4478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22520" y="4783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3416400" y="4471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75160" y="4486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74800" y="4471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13120" y="46306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67120" y="463068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22520" y="4834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22520" y="51386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416400" y="4827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575160" y="4842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74800" y="4827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13120" y="4986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67120" y="498636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11480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3968640" y="4624920"/>
              <a:ext cx="306360" cy="1065960"/>
              <a:chOff x="3968640" y="4624920"/>
              <a:chExt cx="306360" cy="1065960"/>
            </a:xfrm>
          </p:grpSpPr>
          <p:sp>
            <p:nvSpPr>
              <p:cNvPr id="507" name=""/>
              <p:cNvSpPr/>
              <p:nvPr/>
            </p:nvSpPr>
            <p:spPr>
              <a:xfrm>
                <a:off x="3994200" y="5031360"/>
                <a:ext cx="26640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96864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98304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98304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11480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447048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4324680" y="4624920"/>
              <a:ext cx="305280" cy="1065960"/>
              <a:chOff x="4324680" y="4624920"/>
              <a:chExt cx="305280" cy="1065960"/>
            </a:xfrm>
          </p:grpSpPr>
          <p:sp>
            <p:nvSpPr>
              <p:cNvPr id="514" name=""/>
              <p:cNvSpPr/>
              <p:nvPr/>
            </p:nvSpPr>
            <p:spPr>
              <a:xfrm>
                <a:off x="434988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2468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33872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33872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47048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82616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4680360" y="4624920"/>
              <a:ext cx="305280" cy="1065960"/>
              <a:chOff x="4680360" y="4624920"/>
              <a:chExt cx="305280" cy="1065960"/>
            </a:xfrm>
          </p:grpSpPr>
          <p:sp>
            <p:nvSpPr>
              <p:cNvPr id="521" name=""/>
              <p:cNvSpPr/>
              <p:nvPr/>
            </p:nvSpPr>
            <p:spPr>
              <a:xfrm>
                <a:off x="470556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8036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9440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9440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2616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519444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5048640" y="4624920"/>
              <a:ext cx="305280" cy="1065960"/>
              <a:chOff x="5048640" y="4624920"/>
              <a:chExt cx="305280" cy="1065960"/>
            </a:xfrm>
          </p:grpSpPr>
          <p:sp>
            <p:nvSpPr>
              <p:cNvPr id="528" name=""/>
              <p:cNvSpPr/>
              <p:nvPr/>
            </p:nvSpPr>
            <p:spPr>
              <a:xfrm>
                <a:off x="507384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4864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6268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06268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19444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556272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5416920" y="4624920"/>
              <a:ext cx="305280" cy="1065960"/>
              <a:chOff x="5416920" y="4624920"/>
              <a:chExt cx="305280" cy="1065960"/>
            </a:xfrm>
          </p:grpSpPr>
          <p:sp>
            <p:nvSpPr>
              <p:cNvPr id="535" name=""/>
              <p:cNvSpPr/>
              <p:nvPr/>
            </p:nvSpPr>
            <p:spPr>
              <a:xfrm>
                <a:off x="544212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1692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3096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3096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56272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591804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771880" y="4624920"/>
              <a:ext cx="306360" cy="1065960"/>
              <a:chOff x="5771880" y="4624920"/>
              <a:chExt cx="306360" cy="1065960"/>
            </a:xfrm>
          </p:grpSpPr>
          <p:sp>
            <p:nvSpPr>
              <p:cNvPr id="542" name=""/>
              <p:cNvSpPr/>
              <p:nvPr/>
            </p:nvSpPr>
            <p:spPr>
              <a:xfrm>
                <a:off x="579780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77188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78628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78628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91804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627372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6127560" y="4624920"/>
              <a:ext cx="306360" cy="1065960"/>
              <a:chOff x="6127560" y="4624920"/>
              <a:chExt cx="306360" cy="1065960"/>
            </a:xfrm>
          </p:grpSpPr>
          <p:sp>
            <p:nvSpPr>
              <p:cNvPr id="549" name=""/>
              <p:cNvSpPr/>
              <p:nvPr/>
            </p:nvSpPr>
            <p:spPr>
              <a:xfrm>
                <a:off x="615348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12756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14196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14196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27372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64200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6495840" y="4624920"/>
              <a:ext cx="306360" cy="1065960"/>
              <a:chOff x="6495840" y="4624920"/>
              <a:chExt cx="306360" cy="1065960"/>
            </a:xfrm>
          </p:grpSpPr>
          <p:sp>
            <p:nvSpPr>
              <p:cNvPr id="556" name=""/>
              <p:cNvSpPr/>
              <p:nvPr/>
            </p:nvSpPr>
            <p:spPr>
              <a:xfrm>
                <a:off x="652176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49584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51024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1024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64200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1996920" y="890640"/>
              <a:ext cx="1409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18288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35440" y="5545080"/>
              <a:ext cx="30607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18288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393840"/>
                  <a:tab algn="l" pos="800280"/>
                  <a:tab algn="l" pos="1193760"/>
                  <a:tab algn="l" pos="1598760"/>
                  <a:tab algn="l" pos="199404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  C1  C2  C3  C4  C5  C6  C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LA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361960" y="1671480"/>
            <a:ext cx="574920" cy="152280"/>
            <a:chOff x="2361960" y="1671480"/>
            <a:chExt cx="574920" cy="152280"/>
          </a:xfrm>
        </p:grpSpPr>
        <p:grpSp>
          <p:nvGrpSpPr>
            <p:cNvPr id="565" name=""/>
            <p:cNvGrpSpPr/>
            <p:nvPr/>
          </p:nvGrpSpPr>
          <p:grpSpPr>
            <a:xfrm>
              <a:off x="2361960" y="1671480"/>
              <a:ext cx="152640" cy="152280"/>
              <a:chOff x="2361960" y="1671480"/>
              <a:chExt cx="152640" cy="152280"/>
            </a:xfrm>
          </p:grpSpPr>
          <p:sp>
            <p:nvSpPr>
              <p:cNvPr id="566" name=""/>
              <p:cNvSpPr/>
              <p:nvPr/>
            </p:nvSpPr>
            <p:spPr>
              <a:xfrm>
                <a:off x="236232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236196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2784240" y="1671480"/>
              <a:ext cx="152640" cy="152280"/>
              <a:chOff x="2784240" y="1671480"/>
              <a:chExt cx="152640" cy="152280"/>
            </a:xfrm>
          </p:grpSpPr>
          <p:sp>
            <p:nvSpPr>
              <p:cNvPr id="569" name=""/>
              <p:cNvSpPr/>
              <p:nvPr/>
            </p:nvSpPr>
            <p:spPr>
              <a:xfrm>
                <a:off x="278460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278424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" name=""/>
          <p:cNvGrpSpPr/>
          <p:nvPr/>
        </p:nvGrpSpPr>
        <p:grpSpPr>
          <a:xfrm>
            <a:off x="2488680" y="2033640"/>
            <a:ext cx="324360" cy="152280"/>
            <a:chOff x="2488680" y="2033640"/>
            <a:chExt cx="324360" cy="152280"/>
          </a:xfrm>
        </p:grpSpPr>
        <p:grpSp>
          <p:nvGrpSpPr>
            <p:cNvPr id="572" name=""/>
            <p:cNvGrpSpPr/>
            <p:nvPr/>
          </p:nvGrpSpPr>
          <p:grpSpPr>
            <a:xfrm>
              <a:off x="2660400" y="2033640"/>
              <a:ext cx="152640" cy="152280"/>
              <a:chOff x="2660400" y="2033640"/>
              <a:chExt cx="152640" cy="152280"/>
            </a:xfrm>
          </p:grpSpPr>
          <p:sp>
            <p:nvSpPr>
              <p:cNvPr id="573" name=""/>
              <p:cNvSpPr/>
              <p:nvPr/>
            </p:nvSpPr>
            <p:spPr>
              <a:xfrm>
                <a:off x="266076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266040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2488680" y="2033640"/>
              <a:ext cx="152640" cy="152280"/>
              <a:chOff x="2488680" y="2033640"/>
              <a:chExt cx="152640" cy="152280"/>
            </a:xfrm>
          </p:grpSpPr>
          <p:sp>
            <p:nvSpPr>
              <p:cNvPr id="576" name=""/>
              <p:cNvSpPr/>
              <p:nvPr/>
            </p:nvSpPr>
            <p:spPr>
              <a:xfrm>
                <a:off x="248904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248868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8" name=""/>
          <p:cNvGrpSpPr/>
          <p:nvPr/>
        </p:nvGrpSpPr>
        <p:grpSpPr>
          <a:xfrm>
            <a:off x="2488680" y="2405160"/>
            <a:ext cx="609840" cy="152280"/>
            <a:chOff x="2488680" y="2405160"/>
            <a:chExt cx="609840" cy="152280"/>
          </a:xfrm>
        </p:grpSpPr>
        <p:grpSp>
          <p:nvGrpSpPr>
            <p:cNvPr id="579" name=""/>
            <p:cNvGrpSpPr/>
            <p:nvPr/>
          </p:nvGrpSpPr>
          <p:grpSpPr>
            <a:xfrm>
              <a:off x="2945880" y="2405160"/>
              <a:ext cx="152640" cy="152280"/>
              <a:chOff x="2945880" y="2405160"/>
              <a:chExt cx="152640" cy="152280"/>
            </a:xfrm>
          </p:grpSpPr>
          <p:sp>
            <p:nvSpPr>
              <p:cNvPr id="580" name=""/>
              <p:cNvSpPr/>
              <p:nvPr/>
            </p:nvSpPr>
            <p:spPr>
              <a:xfrm>
                <a:off x="294624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94588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2488680" y="2405160"/>
              <a:ext cx="152640" cy="152280"/>
              <a:chOff x="2488680" y="2405160"/>
              <a:chExt cx="152640" cy="152280"/>
            </a:xfrm>
          </p:grpSpPr>
          <p:sp>
            <p:nvSpPr>
              <p:cNvPr id="583" name=""/>
              <p:cNvSpPr/>
              <p:nvPr/>
            </p:nvSpPr>
            <p:spPr>
              <a:xfrm>
                <a:off x="248904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248868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5" name=""/>
          <p:cNvGrpSpPr/>
          <p:nvPr/>
        </p:nvGrpSpPr>
        <p:grpSpPr>
          <a:xfrm>
            <a:off x="2364840" y="2776680"/>
            <a:ext cx="733680" cy="152280"/>
            <a:chOff x="2364840" y="2776680"/>
            <a:chExt cx="733680" cy="152280"/>
          </a:xfrm>
        </p:grpSpPr>
        <p:grpSp>
          <p:nvGrpSpPr>
            <p:cNvPr id="586" name=""/>
            <p:cNvGrpSpPr/>
            <p:nvPr/>
          </p:nvGrpSpPr>
          <p:grpSpPr>
            <a:xfrm>
              <a:off x="2364840" y="2776680"/>
              <a:ext cx="152640" cy="152280"/>
              <a:chOff x="2364840" y="2776680"/>
              <a:chExt cx="152640" cy="152280"/>
            </a:xfrm>
          </p:grpSpPr>
          <p:sp>
            <p:nvSpPr>
              <p:cNvPr id="587" name=""/>
              <p:cNvSpPr/>
              <p:nvPr/>
            </p:nvSpPr>
            <p:spPr>
              <a:xfrm>
                <a:off x="236520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23648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2784240" y="2776680"/>
              <a:ext cx="152640" cy="152280"/>
              <a:chOff x="2784240" y="2776680"/>
              <a:chExt cx="152640" cy="152280"/>
            </a:xfrm>
          </p:grpSpPr>
          <p:sp>
            <p:nvSpPr>
              <p:cNvPr id="590" name=""/>
              <p:cNvSpPr/>
              <p:nvPr/>
            </p:nvSpPr>
            <p:spPr>
              <a:xfrm>
                <a:off x="278460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27842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2945880" y="2776680"/>
              <a:ext cx="152640" cy="152280"/>
              <a:chOff x="2945880" y="2776680"/>
              <a:chExt cx="152640" cy="152280"/>
            </a:xfrm>
          </p:grpSpPr>
          <p:sp>
            <p:nvSpPr>
              <p:cNvPr id="593" name=""/>
              <p:cNvSpPr/>
              <p:nvPr/>
            </p:nvSpPr>
            <p:spPr>
              <a:xfrm>
                <a:off x="29462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294588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2069640" y="3129120"/>
            <a:ext cx="1162440" cy="1571400"/>
            <a:chOff x="2069640" y="3129120"/>
            <a:chExt cx="1162440" cy="1571400"/>
          </a:xfrm>
        </p:grpSpPr>
        <p:grpSp>
          <p:nvGrpSpPr>
            <p:cNvPr id="596" name=""/>
            <p:cNvGrpSpPr/>
            <p:nvPr/>
          </p:nvGrpSpPr>
          <p:grpSpPr>
            <a:xfrm>
              <a:off x="2784240" y="3129120"/>
              <a:ext cx="152640" cy="152280"/>
              <a:chOff x="2784240" y="3129120"/>
              <a:chExt cx="152640" cy="152280"/>
            </a:xfrm>
          </p:grpSpPr>
          <p:sp>
            <p:nvSpPr>
              <p:cNvPr id="597" name=""/>
              <p:cNvSpPr/>
              <p:nvPr/>
            </p:nvSpPr>
            <p:spPr>
              <a:xfrm>
                <a:off x="27846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278424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3079440" y="3129120"/>
              <a:ext cx="152640" cy="152280"/>
              <a:chOff x="3079440" y="3129120"/>
              <a:chExt cx="152640" cy="152280"/>
            </a:xfrm>
          </p:grpSpPr>
          <p:sp>
            <p:nvSpPr>
              <p:cNvPr id="600" name=""/>
              <p:cNvSpPr/>
              <p:nvPr/>
            </p:nvSpPr>
            <p:spPr>
              <a:xfrm>
                <a:off x="30798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307944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945880" y="3481560"/>
              <a:ext cx="152640" cy="152280"/>
              <a:chOff x="2945880" y="3481560"/>
              <a:chExt cx="152640" cy="152280"/>
            </a:xfrm>
          </p:grpSpPr>
          <p:sp>
            <p:nvSpPr>
              <p:cNvPr id="603" name=""/>
              <p:cNvSpPr/>
              <p:nvPr/>
            </p:nvSpPr>
            <p:spPr>
              <a:xfrm>
                <a:off x="294624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294588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660400" y="3481560"/>
              <a:ext cx="152640" cy="152280"/>
              <a:chOff x="2660400" y="3481560"/>
              <a:chExt cx="152640" cy="152280"/>
            </a:xfrm>
          </p:grpSpPr>
          <p:sp>
            <p:nvSpPr>
              <p:cNvPr id="606" name=""/>
              <p:cNvSpPr/>
              <p:nvPr/>
            </p:nvSpPr>
            <p:spPr>
              <a:xfrm>
                <a:off x="26607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266040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2488680" y="3843360"/>
              <a:ext cx="152640" cy="152280"/>
              <a:chOff x="2488680" y="3843360"/>
              <a:chExt cx="152640" cy="152280"/>
            </a:xfrm>
          </p:grpSpPr>
          <p:sp>
            <p:nvSpPr>
              <p:cNvPr id="609" name=""/>
              <p:cNvSpPr/>
              <p:nvPr/>
            </p:nvSpPr>
            <p:spPr>
              <a:xfrm>
                <a:off x="248904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248868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3079440" y="3843360"/>
              <a:ext cx="152640" cy="152280"/>
              <a:chOff x="3079440" y="3843360"/>
              <a:chExt cx="152640" cy="152280"/>
            </a:xfrm>
          </p:grpSpPr>
          <p:sp>
            <p:nvSpPr>
              <p:cNvPr id="612" name=""/>
              <p:cNvSpPr/>
              <p:nvPr/>
            </p:nvSpPr>
            <p:spPr>
              <a:xfrm>
                <a:off x="307980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307944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069640" y="4195800"/>
              <a:ext cx="152640" cy="152280"/>
              <a:chOff x="2069640" y="4195800"/>
              <a:chExt cx="152640" cy="152280"/>
            </a:xfrm>
          </p:grpSpPr>
          <p:sp>
            <p:nvSpPr>
              <p:cNvPr id="615" name=""/>
              <p:cNvSpPr/>
              <p:nvPr/>
            </p:nvSpPr>
            <p:spPr>
              <a:xfrm>
                <a:off x="2070000" y="4195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2069640" y="4195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2364840" y="4548240"/>
              <a:ext cx="152640" cy="152280"/>
              <a:chOff x="2364840" y="4548240"/>
              <a:chExt cx="152640" cy="152280"/>
            </a:xfrm>
          </p:grpSpPr>
          <p:sp>
            <p:nvSpPr>
              <p:cNvPr id="618" name=""/>
              <p:cNvSpPr/>
              <p:nvPr/>
            </p:nvSpPr>
            <p:spPr>
              <a:xfrm>
                <a:off x="23652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236484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2660400" y="4548240"/>
              <a:ext cx="152640" cy="152280"/>
              <a:chOff x="2660400" y="4548240"/>
              <a:chExt cx="152640" cy="152280"/>
            </a:xfrm>
          </p:grpSpPr>
          <p:sp>
            <p:nvSpPr>
              <p:cNvPr id="621" name=""/>
              <p:cNvSpPr/>
              <p:nvPr/>
            </p:nvSpPr>
            <p:spPr>
              <a:xfrm>
                <a:off x="26607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26604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3079440" y="4548240"/>
              <a:ext cx="152640" cy="152280"/>
              <a:chOff x="3079440" y="4548240"/>
              <a:chExt cx="152640" cy="152280"/>
            </a:xfrm>
          </p:grpSpPr>
          <p:sp>
            <p:nvSpPr>
              <p:cNvPr id="624" name=""/>
              <p:cNvSpPr/>
              <p:nvPr/>
            </p:nvSpPr>
            <p:spPr>
              <a:xfrm>
                <a:off x="30798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307944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"/>
          <p:cNvGrpSpPr/>
          <p:nvPr/>
        </p:nvGrpSpPr>
        <p:grpSpPr>
          <a:xfrm>
            <a:off x="4041360" y="2776680"/>
            <a:ext cx="152640" cy="1923840"/>
            <a:chOff x="4041360" y="2776680"/>
            <a:chExt cx="152640" cy="1923840"/>
          </a:xfrm>
        </p:grpSpPr>
        <p:grpSp>
          <p:nvGrpSpPr>
            <p:cNvPr id="627" name=""/>
            <p:cNvGrpSpPr/>
            <p:nvPr/>
          </p:nvGrpSpPr>
          <p:grpSpPr>
            <a:xfrm>
              <a:off x="4041360" y="2776680"/>
              <a:ext cx="152640" cy="152280"/>
              <a:chOff x="4041360" y="2776680"/>
              <a:chExt cx="152640" cy="152280"/>
            </a:xfrm>
          </p:grpSpPr>
          <p:sp>
            <p:nvSpPr>
              <p:cNvPr id="628" name=""/>
              <p:cNvSpPr/>
              <p:nvPr/>
            </p:nvSpPr>
            <p:spPr>
              <a:xfrm>
                <a:off x="404172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404136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4041360" y="3481560"/>
              <a:ext cx="152640" cy="152280"/>
              <a:chOff x="4041360" y="3481560"/>
              <a:chExt cx="152640" cy="152280"/>
            </a:xfrm>
          </p:grpSpPr>
          <p:sp>
            <p:nvSpPr>
              <p:cNvPr id="631" name=""/>
              <p:cNvSpPr/>
              <p:nvPr/>
            </p:nvSpPr>
            <p:spPr>
              <a:xfrm>
                <a:off x="404172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40413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4041360" y="3843360"/>
              <a:ext cx="152640" cy="152280"/>
              <a:chOff x="4041360" y="3843360"/>
              <a:chExt cx="152640" cy="152280"/>
            </a:xfrm>
          </p:grpSpPr>
          <p:sp>
            <p:nvSpPr>
              <p:cNvPr id="634" name=""/>
              <p:cNvSpPr/>
              <p:nvPr/>
            </p:nvSpPr>
            <p:spPr>
              <a:xfrm>
                <a:off x="404172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404136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4041360" y="4548240"/>
              <a:ext cx="152640" cy="152280"/>
              <a:chOff x="4041360" y="4548240"/>
              <a:chExt cx="152640" cy="152280"/>
            </a:xfrm>
          </p:grpSpPr>
          <p:sp>
            <p:nvSpPr>
              <p:cNvPr id="637" name=""/>
              <p:cNvSpPr/>
              <p:nvPr/>
            </p:nvSpPr>
            <p:spPr>
              <a:xfrm>
                <a:off x="404172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40413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9" name=""/>
          <p:cNvGrpSpPr/>
          <p:nvPr/>
        </p:nvGrpSpPr>
        <p:grpSpPr>
          <a:xfrm>
            <a:off x="4393800" y="2405160"/>
            <a:ext cx="152640" cy="1590480"/>
            <a:chOff x="4393800" y="2405160"/>
            <a:chExt cx="152640" cy="1590480"/>
          </a:xfrm>
        </p:grpSpPr>
        <p:grpSp>
          <p:nvGrpSpPr>
            <p:cNvPr id="640" name=""/>
            <p:cNvGrpSpPr/>
            <p:nvPr/>
          </p:nvGrpSpPr>
          <p:grpSpPr>
            <a:xfrm>
              <a:off x="4393800" y="2405160"/>
              <a:ext cx="152640" cy="152280"/>
              <a:chOff x="4393800" y="2405160"/>
              <a:chExt cx="152640" cy="152280"/>
            </a:xfrm>
          </p:grpSpPr>
          <p:sp>
            <p:nvSpPr>
              <p:cNvPr id="641" name=""/>
              <p:cNvSpPr/>
              <p:nvPr/>
            </p:nvSpPr>
            <p:spPr>
              <a:xfrm>
                <a:off x="439416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439380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4393800" y="3129120"/>
              <a:ext cx="152640" cy="152280"/>
              <a:chOff x="4393800" y="3129120"/>
              <a:chExt cx="152640" cy="152280"/>
            </a:xfrm>
          </p:grpSpPr>
          <p:sp>
            <p:nvSpPr>
              <p:cNvPr id="644" name=""/>
              <p:cNvSpPr/>
              <p:nvPr/>
            </p:nvSpPr>
            <p:spPr>
              <a:xfrm>
                <a:off x="439416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43938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4393800" y="3481560"/>
              <a:ext cx="152640" cy="152280"/>
              <a:chOff x="4393800" y="3481560"/>
              <a:chExt cx="152640" cy="152280"/>
            </a:xfrm>
          </p:grpSpPr>
          <p:sp>
            <p:nvSpPr>
              <p:cNvPr id="647" name=""/>
              <p:cNvSpPr/>
              <p:nvPr/>
            </p:nvSpPr>
            <p:spPr>
              <a:xfrm>
                <a:off x="43941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439380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4393800" y="3843360"/>
              <a:ext cx="152640" cy="152280"/>
              <a:chOff x="4393800" y="3843360"/>
              <a:chExt cx="152640" cy="152280"/>
            </a:xfrm>
          </p:grpSpPr>
          <p:sp>
            <p:nvSpPr>
              <p:cNvPr id="650" name=""/>
              <p:cNvSpPr/>
              <p:nvPr/>
            </p:nvSpPr>
            <p:spPr>
              <a:xfrm>
                <a:off x="439416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439380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2" name=""/>
          <p:cNvGrpSpPr/>
          <p:nvPr/>
        </p:nvGrpSpPr>
        <p:grpSpPr>
          <a:xfrm>
            <a:off x="4755960" y="2405160"/>
            <a:ext cx="152640" cy="2295360"/>
            <a:chOff x="4755960" y="2405160"/>
            <a:chExt cx="152640" cy="2295360"/>
          </a:xfrm>
        </p:grpSpPr>
        <p:grpSp>
          <p:nvGrpSpPr>
            <p:cNvPr id="653" name=""/>
            <p:cNvGrpSpPr/>
            <p:nvPr/>
          </p:nvGrpSpPr>
          <p:grpSpPr>
            <a:xfrm>
              <a:off x="4755960" y="2405160"/>
              <a:ext cx="152640" cy="152280"/>
              <a:chOff x="4755960" y="2405160"/>
              <a:chExt cx="152640" cy="152280"/>
            </a:xfrm>
          </p:grpSpPr>
          <p:sp>
            <p:nvSpPr>
              <p:cNvPr id="654" name=""/>
              <p:cNvSpPr/>
              <p:nvPr/>
            </p:nvSpPr>
            <p:spPr>
              <a:xfrm>
                <a:off x="475632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475596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4755960" y="2776680"/>
              <a:ext cx="152640" cy="152280"/>
              <a:chOff x="4755960" y="2776680"/>
              <a:chExt cx="152640" cy="152280"/>
            </a:xfrm>
          </p:grpSpPr>
          <p:sp>
            <p:nvSpPr>
              <p:cNvPr id="657" name=""/>
              <p:cNvSpPr/>
              <p:nvPr/>
            </p:nvSpPr>
            <p:spPr>
              <a:xfrm>
                <a:off x="475632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475596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4755960" y="3129120"/>
              <a:ext cx="152640" cy="152280"/>
              <a:chOff x="4755960" y="3129120"/>
              <a:chExt cx="152640" cy="152280"/>
            </a:xfrm>
          </p:grpSpPr>
          <p:sp>
            <p:nvSpPr>
              <p:cNvPr id="660" name=""/>
              <p:cNvSpPr/>
              <p:nvPr/>
            </p:nvSpPr>
            <p:spPr>
              <a:xfrm>
                <a:off x="475632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475596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4755960" y="3481560"/>
              <a:ext cx="152640" cy="152280"/>
              <a:chOff x="4755960" y="3481560"/>
              <a:chExt cx="152640" cy="152280"/>
            </a:xfrm>
          </p:grpSpPr>
          <p:sp>
            <p:nvSpPr>
              <p:cNvPr id="663" name=""/>
              <p:cNvSpPr/>
              <p:nvPr/>
            </p:nvSpPr>
            <p:spPr>
              <a:xfrm>
                <a:off x="475632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47559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4755960" y="4548240"/>
              <a:ext cx="152640" cy="152280"/>
              <a:chOff x="4755960" y="4548240"/>
              <a:chExt cx="152640" cy="152280"/>
            </a:xfrm>
          </p:grpSpPr>
          <p:sp>
            <p:nvSpPr>
              <p:cNvPr id="666" name=""/>
              <p:cNvSpPr/>
              <p:nvPr/>
            </p:nvSpPr>
            <p:spPr>
              <a:xfrm>
                <a:off x="475632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47559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8" name=""/>
          <p:cNvGrpSpPr/>
          <p:nvPr/>
        </p:nvGrpSpPr>
        <p:grpSpPr>
          <a:xfrm>
            <a:off x="5117760" y="1671480"/>
            <a:ext cx="1238400" cy="3028680"/>
            <a:chOff x="5117760" y="1671480"/>
            <a:chExt cx="1238400" cy="3028680"/>
          </a:xfrm>
        </p:grpSpPr>
        <p:grpSp>
          <p:nvGrpSpPr>
            <p:cNvPr id="669" name=""/>
            <p:cNvGrpSpPr/>
            <p:nvPr/>
          </p:nvGrpSpPr>
          <p:grpSpPr>
            <a:xfrm>
              <a:off x="5117760" y="2776320"/>
              <a:ext cx="152640" cy="152280"/>
              <a:chOff x="5117760" y="2776320"/>
              <a:chExt cx="152640" cy="152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11812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511776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5117760" y="2404800"/>
              <a:ext cx="152640" cy="152280"/>
              <a:chOff x="5117760" y="2404800"/>
              <a:chExt cx="152640" cy="152280"/>
            </a:xfrm>
          </p:grpSpPr>
          <p:sp>
            <p:nvSpPr>
              <p:cNvPr id="673" name=""/>
              <p:cNvSpPr/>
              <p:nvPr/>
            </p:nvSpPr>
            <p:spPr>
              <a:xfrm>
                <a:off x="5118120" y="2404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5117760" y="2404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17760" y="3843000"/>
              <a:ext cx="152640" cy="152280"/>
              <a:chOff x="5117760" y="3843000"/>
              <a:chExt cx="152640" cy="152280"/>
            </a:xfrm>
          </p:grpSpPr>
          <p:sp>
            <p:nvSpPr>
              <p:cNvPr id="676" name=""/>
              <p:cNvSpPr/>
              <p:nvPr/>
            </p:nvSpPr>
            <p:spPr>
              <a:xfrm>
                <a:off x="511812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511776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117760" y="4547880"/>
              <a:ext cx="152640" cy="152280"/>
              <a:chOff x="5117760" y="4547880"/>
              <a:chExt cx="152640" cy="152280"/>
            </a:xfrm>
          </p:grpSpPr>
          <p:sp>
            <p:nvSpPr>
              <p:cNvPr id="679" name=""/>
              <p:cNvSpPr/>
              <p:nvPr/>
            </p:nvSpPr>
            <p:spPr>
              <a:xfrm>
                <a:off x="51181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511776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5489280" y="3843000"/>
              <a:ext cx="152640" cy="152280"/>
              <a:chOff x="5489280" y="3843000"/>
              <a:chExt cx="152640" cy="152280"/>
            </a:xfrm>
          </p:grpSpPr>
          <p:sp>
            <p:nvSpPr>
              <p:cNvPr id="682" name=""/>
              <p:cNvSpPr/>
              <p:nvPr/>
            </p:nvSpPr>
            <p:spPr>
              <a:xfrm>
                <a:off x="548964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548928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5489280" y="4547880"/>
              <a:ext cx="152640" cy="152280"/>
              <a:chOff x="5489280" y="4547880"/>
              <a:chExt cx="152640" cy="152280"/>
            </a:xfrm>
          </p:grpSpPr>
          <p:sp>
            <p:nvSpPr>
              <p:cNvPr id="685" name=""/>
              <p:cNvSpPr/>
              <p:nvPr/>
            </p:nvSpPr>
            <p:spPr>
              <a:xfrm>
                <a:off x="548964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54892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5841720" y="4547880"/>
              <a:ext cx="152640" cy="152280"/>
              <a:chOff x="5841720" y="4547880"/>
              <a:chExt cx="152640" cy="152280"/>
            </a:xfrm>
          </p:grpSpPr>
          <p:sp>
            <p:nvSpPr>
              <p:cNvPr id="688" name=""/>
              <p:cNvSpPr/>
              <p:nvPr/>
            </p:nvSpPr>
            <p:spPr>
              <a:xfrm>
                <a:off x="58420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58417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5841720" y="2776320"/>
              <a:ext cx="152640" cy="152280"/>
              <a:chOff x="5841720" y="2776320"/>
              <a:chExt cx="152640" cy="152280"/>
            </a:xfrm>
          </p:grpSpPr>
          <p:sp>
            <p:nvSpPr>
              <p:cNvPr id="691" name=""/>
              <p:cNvSpPr/>
              <p:nvPr/>
            </p:nvSpPr>
            <p:spPr>
              <a:xfrm>
                <a:off x="584208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584172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5841720" y="3128760"/>
              <a:ext cx="152640" cy="152280"/>
              <a:chOff x="5841720" y="3128760"/>
              <a:chExt cx="152640" cy="152280"/>
            </a:xfrm>
          </p:grpSpPr>
          <p:sp>
            <p:nvSpPr>
              <p:cNvPr id="694" name=""/>
              <p:cNvSpPr/>
              <p:nvPr/>
            </p:nvSpPr>
            <p:spPr>
              <a:xfrm>
                <a:off x="5842080" y="3128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5841720" y="3128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5841720" y="4195440"/>
              <a:ext cx="152640" cy="152280"/>
              <a:chOff x="5841720" y="4195440"/>
              <a:chExt cx="152640" cy="152280"/>
            </a:xfrm>
          </p:grpSpPr>
          <p:sp>
            <p:nvSpPr>
              <p:cNvPr id="697" name=""/>
              <p:cNvSpPr/>
              <p:nvPr/>
            </p:nvSpPr>
            <p:spPr>
              <a:xfrm>
                <a:off x="584208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584172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6203520" y="2033280"/>
              <a:ext cx="152640" cy="152280"/>
              <a:chOff x="6203520" y="2033280"/>
              <a:chExt cx="152640" cy="152280"/>
            </a:xfrm>
          </p:grpSpPr>
          <p:sp>
            <p:nvSpPr>
              <p:cNvPr id="700" name=""/>
              <p:cNvSpPr/>
              <p:nvPr/>
            </p:nvSpPr>
            <p:spPr>
              <a:xfrm>
                <a:off x="6203880" y="2033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6203520" y="2033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6203520" y="1671480"/>
              <a:ext cx="152640" cy="152280"/>
              <a:chOff x="6203520" y="1671480"/>
              <a:chExt cx="152640" cy="152280"/>
            </a:xfrm>
          </p:grpSpPr>
          <p:sp>
            <p:nvSpPr>
              <p:cNvPr id="703" name=""/>
              <p:cNvSpPr/>
              <p:nvPr/>
            </p:nvSpPr>
            <p:spPr>
              <a:xfrm>
                <a:off x="620388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620352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6203520" y="4547880"/>
              <a:ext cx="152640" cy="152280"/>
              <a:chOff x="6203520" y="4547880"/>
              <a:chExt cx="152640" cy="152280"/>
            </a:xfrm>
          </p:grpSpPr>
          <p:sp>
            <p:nvSpPr>
              <p:cNvPr id="706" name=""/>
              <p:cNvSpPr/>
              <p:nvPr/>
            </p:nvSpPr>
            <p:spPr>
              <a:xfrm>
                <a:off x="62038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62035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6203520" y="4195440"/>
              <a:ext cx="152640" cy="152280"/>
              <a:chOff x="6203520" y="4195440"/>
              <a:chExt cx="152640" cy="152280"/>
            </a:xfrm>
          </p:grpSpPr>
          <p:sp>
            <p:nvSpPr>
              <p:cNvPr id="709" name=""/>
              <p:cNvSpPr/>
              <p:nvPr/>
            </p:nvSpPr>
            <p:spPr>
              <a:xfrm>
                <a:off x="620388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620352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7A8-52DF-45E8-AC29-FD3A4CFC7F0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600200" y="4836960"/>
            <a:ext cx="396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0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 D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1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C' D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D + A' C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B D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D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C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6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A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C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+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372280" y="5300640"/>
            <a:ext cx="1409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= C' +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=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25760" y="2795760"/>
            <a:ext cx="363204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' D + B C' D + C' D' + C D + B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' D + B C' D + C' D' +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 = C D + B C D'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6706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 implementation vs.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screte gate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of 4 product terms per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composition of functions with larger number of ter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o not share terms in PAL anywa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lthough there are some with some shared terms)</a:t>
            </a: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e into multi-level logic (hopefully with CAD sup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nd common sub-expressions among fun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789800" y="3754440"/>
            <a:ext cx="3951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need another input and anoth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572000" y="3862440"/>
            <a:ext cx="380880" cy="7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428640" y="3938760"/>
            <a:ext cx="152388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837-7E97-4BBF-B92D-1EB53308DE6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838080" y="3543480"/>
            <a:ext cx="46022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ways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+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• B)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N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xor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x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xnor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xn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•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+ B)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N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way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00280" y="3848040"/>
            <a:ext cx="458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117880" y="3594240"/>
            <a:ext cx="0" cy="255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79760" y="3581280"/>
            <a:ext cx="0" cy="259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15000" y="4267080"/>
            <a:ext cx="3060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 control inputs: C0, C1, C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data inputs: A, 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output: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al function un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-purpose function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control inputs to specify operation to perform on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data inputs for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output of the same bit-width as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95C5-325D-4210-A89C-2605116C60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47:20Z</dcterms:created>
  <dc:creator>Gaetano Borriello</dc:creator>
  <dc:description/>
  <dc:language>en-US</dc:language>
  <cp:lastModifiedBy>Gaetano Borriello</cp:lastModifiedBy>
  <cp:lastPrinted>2000-04-21T18:43:25Z</cp:lastPrinted>
  <dcterms:modified xsi:type="dcterms:W3CDTF">2005-01-24T07:00:13Z</dcterms:modified>
  <cp:revision>31</cp:revision>
  <dc:subject/>
  <dc:title>Combinational Logic Exam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