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78E0-FB07-4D49-ADF3-18A35F51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9DDA-8FE9-4E1A-B794-7C496505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0A73-4314-4B8A-A5DB-F449F949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3C86-0551-4805-8753-3C5782F8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E63D-0BC8-4C36-8E00-89E7BE93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47F9-D3E2-4DB9-9E68-AB4413DE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B35F-D563-4A36-A654-4B18165B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BAFB-5DDC-4D6B-ACD1-DADCF3B8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FC3D-4678-4D8D-8F76-F000515D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92F0-413A-49BE-BF8D-BEAB3794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54BB-0B38-4FE6-9CDC-0E39194F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78FC-E3A2-46CD-8854-C275B97D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DB2A-5D7A-4B1A-AF35-FA8224E8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AE4F-F49A-49F5-9BCA-4DE09223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F781-F226-4FF7-8F44-5CD4CD32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3188-C629-48C4-A362-4428D09D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4E05-2C03-4F97-B209-6EAA71BA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4196-2E17-4D56-A349-712A1657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202A-3689-421C-B2E8-F382C0D1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0A19-0004-4851-8C6F-64BFEF89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9803-D0DE-4312-B921-D75B5CD8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B34F-1DBD-46BE-BD43-D7D994E1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2B7F-0119-4052-99D0-C8DFDBC7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E30F-DD00-4FAC-9F0E-011D680B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9D6ACDE-339B-4D44-95B5-9824631942F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9C49A57-2B02-443D-90A0-319512F7A62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 optim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min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states require fewer stat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bits require fewer logic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ings: state, inputs,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ncoding with fewer bits has fewer equations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each may be mo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ncoding with more bits (e.g., one-hot) has simpler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ity directly related to complexity of stat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/output encoding may or may not be under designer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E5BD-E580-41D4-A6B3-442A7E2BEB7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other implementation of edge detect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Ad hoc" solution - not minimal but cheap and f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990720" y="2286000"/>
            <a:ext cx="2971800" cy="3611880"/>
            <a:chOff x="990720" y="2286000"/>
            <a:chExt cx="2971800" cy="3611880"/>
          </a:xfrm>
        </p:grpSpPr>
        <p:sp>
          <p:nvSpPr>
            <p:cNvPr id="370" name=""/>
            <p:cNvSpPr/>
            <p:nvPr/>
          </p:nvSpPr>
          <p:spPr>
            <a:xfrm>
              <a:off x="2209680" y="28195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907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29000" y="38098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3" name=""/>
            <p:cNvCxnSpPr>
              <a:stCxn id="372" idx="3"/>
              <a:endCxn id="371" idx="5"/>
            </p:cNvCxnSpPr>
            <p:nvPr/>
          </p:nvCxnSpPr>
          <p:spPr>
            <a:xfrm rot="5400000">
              <a:off x="2475000" y="3236040"/>
              <a:ext cx="2160" cy="2061360"/>
            </a:xfrm>
            <a:prstGeom prst="curvedConnector5">
              <a:avLst>
                <a:gd name="adj1" fmla="val 19300000"/>
                <a:gd name="adj2" fmla="val 49991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4" name=""/>
            <p:cNvCxnSpPr>
              <a:stCxn id="371" idx="0"/>
              <a:endCxn id="370" idx="2"/>
            </p:cNvCxnSpPr>
            <p:nvPr/>
          </p:nvCxnSpPr>
          <p:spPr>
            <a:xfrm flipH="1" flipV="1" rot="5400000">
              <a:off x="1371240" y="2971440"/>
              <a:ext cx="724320" cy="9529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5" name=""/>
            <p:cNvCxnSpPr>
              <a:stCxn id="370" idx="6"/>
              <a:endCxn id="372" idx="0"/>
            </p:cNvCxnSpPr>
            <p:nvPr/>
          </p:nvCxnSpPr>
          <p:spPr>
            <a:xfrm>
              <a:off x="2743200" y="3086280"/>
              <a:ext cx="953280" cy="7243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6" name=""/>
            <p:cNvCxnSpPr>
              <a:stCxn id="370" idx="7"/>
              <a:endCxn id="370" idx="1"/>
            </p:cNvCxnSpPr>
            <p:nvPr/>
          </p:nvCxnSpPr>
          <p:spPr>
            <a:xfrm rot="5400000">
              <a:off x="2475000" y="2709000"/>
              <a:ext cx="2160" cy="378720"/>
            </a:xfrm>
            <a:prstGeom prst="curvedConnector5">
              <a:avLst>
                <a:gd name="adj1" fmla="val -19300000"/>
                <a:gd name="adj2" fmla="val 49952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7" name=""/>
            <p:cNvSpPr/>
            <p:nvPr/>
          </p:nvSpPr>
          <p:spPr>
            <a:xfrm>
              <a:off x="1222560" y="30481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52320" y="304812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89240" y="228600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61960" y="358128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61960" y="556272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320" y="480060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3" name=""/>
            <p:cNvCxnSpPr>
              <a:stCxn id="371" idx="7"/>
              <a:endCxn id="372" idx="1"/>
            </p:cNvCxnSpPr>
            <p:nvPr/>
          </p:nvCxnSpPr>
          <p:spPr>
            <a:xfrm flipH="1" rot="16200000">
              <a:off x="2475360" y="2856960"/>
              <a:ext cx="2520" cy="2061360"/>
            </a:xfrm>
            <a:prstGeom prst="curvedConnector5">
              <a:avLst>
                <a:gd name="adj1" fmla="val -19300000"/>
                <a:gd name="adj2" fmla="val 49991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4" name=""/>
            <p:cNvSpPr/>
            <p:nvPr/>
          </p:nvSpPr>
          <p:spPr>
            <a:xfrm>
              <a:off x="2209680" y="48006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2"/>
              <a:endCxn id="371" idx="4"/>
            </p:cNvCxnSpPr>
            <p:nvPr/>
          </p:nvCxnSpPr>
          <p:spPr>
            <a:xfrm rot="10800000">
              <a:off x="1256760" y="4342680"/>
              <a:ext cx="952920" cy="7246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6" name=""/>
            <p:cNvCxnSpPr>
              <a:stCxn id="372" idx="4"/>
              <a:endCxn id="384" idx="6"/>
            </p:cNvCxnSpPr>
            <p:nvPr/>
          </p:nvCxnSpPr>
          <p:spPr>
            <a:xfrm rot="5400000">
              <a:off x="2856960" y="4228920"/>
              <a:ext cx="724680" cy="953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7" name=""/>
            <p:cNvCxnSpPr>
              <a:stCxn id="384" idx="3"/>
              <a:endCxn id="384" idx="5"/>
            </p:cNvCxnSpPr>
            <p:nvPr/>
          </p:nvCxnSpPr>
          <p:spPr>
            <a:xfrm flipH="1" rot="16200000">
              <a:off x="2475720" y="5067720"/>
              <a:ext cx="2160" cy="378720"/>
            </a:xfrm>
            <a:prstGeom prst="curvedConnector5">
              <a:avLst>
                <a:gd name="adj1" fmla="val 19300000"/>
                <a:gd name="adj2" fmla="val 49952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8" name=""/>
            <p:cNvSpPr/>
            <p:nvPr/>
          </p:nvSpPr>
          <p:spPr>
            <a:xfrm>
              <a:off x="2365560" y="426708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98520" y="480060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410000" cy="15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D50F-2D54-45A6-A5E3-E5FD03E4A2B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bit vectors to assign to each “symbolic”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n state bits for m states there ar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 / 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)!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log n &lt;=  m &lt;= 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des possible for 1st state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1 for 2nd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2 for 3rd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ge number even for small values of n and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ctable for state machines of any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uristics are necessary for practical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e some metric for the combinationa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ze (amount of logic and number of FF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ed (depth of logic and fanou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cies (decompos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C535-D6A3-46CC-9749-716D5013EDB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assignment strateg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tial – just number states as they appear in the stat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– pick random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hot – use as many state bits as there are states (bit=1 –&gt; st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– use outputs to help encode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– rules of thumb that seem to work in most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guarantee of optimality – another intractabl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F52C-8DE1-4CAE-B65C-181EB5CF1D0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ne-hot 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logi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function requires only predecessor state bits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for programmabl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ts of flip-flops readily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functions with small support (signals its dependent up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actical for larg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 many states require too many flip-fl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e FSMs into smaller pieces that can be one-hot enco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light variations to one-h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hot + all-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1EDC-A9CC-4779-B5B5-7F2F304BDFB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879560" y="2286000"/>
            <a:ext cx="2565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666880" y="22860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752480" y="25909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47880" y="3886200"/>
            <a:ext cx="2565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66880" y="38862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4191120"/>
            <a:ext cx="17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879560" y="5384880"/>
            <a:ext cx="2565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6880" y="542304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52480" y="5727600"/>
            <a:ext cx="17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19720" y="2438280"/>
            <a:ext cx="1536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 = i *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i *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19720" y="3962520"/>
            <a:ext cx="153648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 = i  *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 = k *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19720" y="5486400"/>
            <a:ext cx="1536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 = i  * a +  i  * 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 = i *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 = i *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858000" y="1998720"/>
            <a:ext cx="2031480" cy="1155240"/>
            <a:chOff x="6858000" y="1998720"/>
            <a:chExt cx="2031480" cy="1155240"/>
          </a:xfrm>
        </p:grpSpPr>
        <p:sp>
          <p:nvSpPr>
            <p:cNvPr id="410" name=""/>
            <p:cNvSpPr/>
            <p:nvPr/>
          </p:nvSpPr>
          <p:spPr>
            <a:xfrm>
              <a:off x="7080120" y="20174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994520" y="20174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537320" y="27032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7867080" y="2360520"/>
              <a:ext cx="24084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08720" y="2360520"/>
              <a:ext cx="21528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58000" y="2392200"/>
              <a:ext cx="749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76960" y="2442960"/>
              <a:ext cx="812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137000" y="1998720"/>
              <a:ext cx="558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38800" y="2023920"/>
              <a:ext cx="558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94200" y="2697120"/>
              <a:ext cx="558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889680" y="3581280"/>
            <a:ext cx="1966680" cy="1143000"/>
            <a:chOff x="6889680" y="3581280"/>
            <a:chExt cx="1966680" cy="1143000"/>
          </a:xfrm>
        </p:grpSpPr>
        <p:sp>
          <p:nvSpPr>
            <p:cNvPr id="421" name=""/>
            <p:cNvSpPr/>
            <p:nvPr/>
          </p:nvSpPr>
          <p:spPr>
            <a:xfrm>
              <a:off x="7073280" y="42735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86960" y="42735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30120" y="35877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288920" y="3816360"/>
              <a:ext cx="2408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73200" y="3816360"/>
              <a:ext cx="2156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74760" y="3581280"/>
              <a:ext cx="5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17920" y="4267080"/>
              <a:ext cx="5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031600" y="4267080"/>
              <a:ext cx="5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89680" y="3809880"/>
              <a:ext cx="748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44200" y="3860640"/>
              <a:ext cx="812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k / 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6648480" y="5207040"/>
            <a:ext cx="2622600" cy="1168200"/>
            <a:chOff x="6648480" y="5207040"/>
            <a:chExt cx="2622600" cy="1168200"/>
          </a:xfrm>
        </p:grpSpPr>
        <p:sp>
          <p:nvSpPr>
            <p:cNvPr id="432" name=""/>
            <p:cNvSpPr/>
            <p:nvPr/>
          </p:nvSpPr>
          <p:spPr>
            <a:xfrm>
              <a:off x="7162920" y="59180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496360" y="59180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05680" y="59626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8480" y="52768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91200" y="5505480"/>
              <a:ext cx="21600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77280" y="59626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20080" y="52768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62800" y="5505480"/>
              <a:ext cx="21600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12160" y="5537160"/>
              <a:ext cx="749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718320" y="52070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77320" y="52322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521560" y="5499000"/>
              <a:ext cx="749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euristics for 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45600" cy="4862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codes to states that share a common next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's in next state map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codes to states that share a common ancestor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's in next state map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codes to states that have a common output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's in output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A045-6782-4482-AF99-079AC816C5B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024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approach to heuristic 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667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urrent methods are variants of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determine which states “attract” each other (weighted pa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generate constraints on codes (which should be in same cu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place codes on Boolean cube so as to maximize constraints satisf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eighted s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weights make sense depending on whether we are optimizing for two-level or multi-level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consider all possible embeddings of state clusters in Boolean c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s for ordering embe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une search for best embe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cube (more state bits) to satisfy more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8280-A01B-4E3B-BE56-C091616F0B7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utput-based encod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3320" y="1487520"/>
            <a:ext cx="8343720" cy="4589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outputs as state bits - use outputs to help distinguish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create new functions for state bits when output can serve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ts in nicely with synchronous Mealy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1000" y="5529240"/>
            <a:ext cx="41274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ST’ H1’ H0’ F1 F0’ + ST H1 H0’ F1’ F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ST H1’ H0’ F1 F0’ + ST’ H1’ H0 F1 F0’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ST H1’ H0 F1 F0’ + ST’ H1 H0’ F1’ F0’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ST H1 H0’ F1’ F0’ + ST’ H1 H0’ F1’ F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37160" y="5521320"/>
            <a:ext cx="43513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patterns are unique to states, we do no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ed ANY state bits – implement 5 fun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one for each output) instead of 7 (outputs plu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 state b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460440" y="2665440"/>
            <a:ext cx="8489880" cy="2978280"/>
            <a:chOff x="460440" y="2665440"/>
            <a:chExt cx="8489880" cy="2978280"/>
          </a:xfrm>
        </p:grpSpPr>
        <p:sp>
          <p:nvSpPr>
            <p:cNvPr id="453" name=""/>
            <p:cNvSpPr/>
            <p:nvPr/>
          </p:nvSpPr>
          <p:spPr>
            <a:xfrm>
              <a:off x="555480" y="2709720"/>
              <a:ext cx="8394840" cy="29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4113360"/>
                  <a:tab algn="l" pos="4570560"/>
                  <a:tab algn="l" pos="5029200"/>
                  <a:tab algn="l" pos="5942160"/>
                  <a:tab algn="l" pos="6399360"/>
                  <a:tab algn="l" pos="7313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0440" y="3166920"/>
              <a:ext cx="826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08520" y="2678040"/>
              <a:ext cx="0" cy="27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04080" y="2678040"/>
              <a:ext cx="0" cy="27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66760" y="2665440"/>
              <a:ext cx="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0B67-997D-4C2B-A80C-371ED7C5CE7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urrent state assignment approach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ight encodings using close to the minimum number of stat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of 10 random seems to be adequate (averages as well as heurist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approaches are not even close to optim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custom chip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hot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for small state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s small equations with easy to estimate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n FPGAs and other programmable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-based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 hoc - no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common approach taken by human desig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elds very small circuits for most F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81BA-742E-481A-8D06-4ABD1270005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optimization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min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ghtforward in fully-specified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ally intractable, in general (with don’t ca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heu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-of-10-random just as good or better for most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encoding can be attractive (especially for PAL implem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6F20-1B26-40AA-B367-394E93A2387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gorithmic approach to state minim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identify and combine states that have equivalent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sta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input combinations, states transition to same or equivalent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ske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place all states in on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initially partition set based on output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uccessively partition resulting subsets based on next state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repeat (3) until no further partitioning i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s left in the same set are equival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nomial time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0A1C-8420-4507-900F-A6888AAA7E2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479680" y="2303640"/>
            <a:ext cx="6343200" cy="2158920"/>
            <a:chOff x="2479680" y="2303640"/>
            <a:chExt cx="6343200" cy="2158920"/>
          </a:xfrm>
        </p:grpSpPr>
        <p:sp>
          <p:nvSpPr>
            <p:cNvPr id="89" name=""/>
            <p:cNvSpPr/>
            <p:nvPr/>
          </p:nvSpPr>
          <p:spPr>
            <a:xfrm>
              <a:off x="2600280" y="2303640"/>
              <a:ext cx="622260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92280" y="2836800"/>
              <a:ext cx="621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56280" y="2322720"/>
              <a:ext cx="0" cy="209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92720" y="2309760"/>
              <a:ext cx="0" cy="209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94040" y="2322720"/>
              <a:ext cx="0" cy="20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79680" y="2322720"/>
              <a:ext cx="6235560" cy="210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minimizatio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ce detector for 010 or 11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50880" y="4284720"/>
            <a:ext cx="2925360" cy="2265120"/>
            <a:chOff x="650880" y="4284720"/>
            <a:chExt cx="2925360" cy="2265120"/>
          </a:xfrm>
        </p:grpSpPr>
        <p:sp>
          <p:nvSpPr>
            <p:cNvPr id="98" name=""/>
            <p:cNvSpPr/>
            <p:nvPr/>
          </p:nvSpPr>
          <p:spPr>
            <a:xfrm>
              <a:off x="1946160" y="4492440"/>
              <a:ext cx="380520" cy="381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3176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55640" y="510228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36320" y="51022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50720" y="57117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6056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4124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" name=""/>
            <p:cNvCxnSpPr>
              <a:stCxn id="98" idx="3"/>
              <a:endCxn id="101" idx="7"/>
            </p:cNvCxnSpPr>
            <p:nvPr/>
          </p:nvCxnSpPr>
          <p:spPr>
            <a:xfrm flipH="1">
              <a:off x="1661040" y="4817880"/>
              <a:ext cx="340200" cy="34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101" idx="3"/>
              <a:endCxn id="99" idx="0"/>
            </p:cNvCxnSpPr>
            <p:nvPr/>
          </p:nvCxnSpPr>
          <p:spPr>
            <a:xfrm flipH="1">
              <a:off x="122148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>
              <a:stCxn id="101" idx="5"/>
              <a:endCxn id="104" idx="0"/>
            </p:cNvCxnSpPr>
            <p:nvPr/>
          </p:nvCxnSpPr>
          <p:spPr>
            <a:xfrm>
              <a:off x="166140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100" idx="3"/>
              <a:endCxn id="102" idx="0"/>
            </p:cNvCxnSpPr>
            <p:nvPr/>
          </p:nvCxnSpPr>
          <p:spPr>
            <a:xfrm flipH="1">
              <a:off x="2441160" y="5427360"/>
              <a:ext cx="16992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" name=""/>
            <p:cNvCxnSpPr>
              <a:stCxn id="100" idx="5"/>
              <a:endCxn id="103" idx="0"/>
            </p:cNvCxnSpPr>
            <p:nvPr/>
          </p:nvCxnSpPr>
          <p:spPr>
            <a:xfrm>
              <a:off x="288072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" name=""/>
            <p:cNvCxnSpPr>
              <a:stCxn id="98" idx="5"/>
              <a:endCxn id="100" idx="1"/>
            </p:cNvCxnSpPr>
            <p:nvPr/>
          </p:nvCxnSpPr>
          <p:spPr>
            <a:xfrm>
              <a:off x="2271600" y="4817880"/>
              <a:ext cx="339840" cy="34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endCxn id="98" idx="1"/>
            </p:cNvCxnSpPr>
            <p:nvPr/>
          </p:nvCxnSpPr>
          <p:spPr>
            <a:xfrm>
              <a:off x="1737720" y="4284720"/>
              <a:ext cx="26388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endCxn id="98" idx="2"/>
            </p:cNvCxnSpPr>
            <p:nvPr/>
          </p:nvCxnSpPr>
          <p:spPr>
            <a:xfrm flipH="1" flipV="1" rot="5400000">
              <a:off x="383760" y="4949640"/>
              <a:ext cx="1829520" cy="129600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" name=""/>
            <p:cNvSpPr/>
            <p:nvPr/>
          </p:nvSpPr>
          <p:spPr>
            <a:xfrm flipH="1">
              <a:off x="650880" y="65498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00480" y="469404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09760" y="469404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5768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628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8136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9554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3632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56456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4616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17476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556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7842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6512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7188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3836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624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7644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7188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6696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5748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5256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3572-6214-419C-8A03-CA2566DDAB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71560" y="4140360"/>
            <a:ext cx="5600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1 S2 S3 S4 S5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1 S2 S3 S5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3 S5 )   ( S1 S2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)   ( S3 S5 )   ( S1 S2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600200" y="1676520"/>
            <a:ext cx="6343560" cy="2158920"/>
            <a:chOff x="1600200" y="1676520"/>
            <a:chExt cx="6343560" cy="2158920"/>
          </a:xfrm>
        </p:grpSpPr>
        <p:sp>
          <p:nvSpPr>
            <p:cNvPr id="138" name=""/>
            <p:cNvSpPr/>
            <p:nvPr/>
          </p:nvSpPr>
          <p:spPr>
            <a:xfrm>
              <a:off x="1720800" y="1676520"/>
              <a:ext cx="622296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12800" y="2209680"/>
              <a:ext cx="621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7160" y="1695240"/>
              <a:ext cx="0" cy="20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3240" y="1682640"/>
              <a:ext cx="0" cy="20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14560" y="1695240"/>
              <a:ext cx="0" cy="20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00200" y="1695240"/>
              <a:ext cx="6235920" cy="2107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791320" y="4419720"/>
            <a:ext cx="24382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 is equivalent to 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3 is equivalent to S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4 is equivalent to S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thod of successive parti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8491-8CB3-439F-AC23-93E9B7682AD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590920" y="2133720"/>
            <a:ext cx="6178320" cy="1568160"/>
            <a:chOff x="2590920" y="2133720"/>
            <a:chExt cx="6178320" cy="1568160"/>
          </a:xfrm>
        </p:grpSpPr>
        <p:sp>
          <p:nvSpPr>
            <p:cNvPr id="147" name=""/>
            <p:cNvSpPr/>
            <p:nvPr/>
          </p:nvSpPr>
          <p:spPr>
            <a:xfrm>
              <a:off x="2622600" y="2152440"/>
              <a:ext cx="61466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+ 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920" y="2647800"/>
              <a:ext cx="59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40440" y="2133720"/>
              <a:ext cx="0" cy="14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76880" y="2133720"/>
              <a:ext cx="0" cy="149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90800" y="2146320"/>
              <a:ext cx="0" cy="14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90920" y="2133720"/>
              <a:ext cx="5994360" cy="1511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ed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minimized sequence detector for 010 or 11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00280" y="3773520"/>
            <a:ext cx="3000960" cy="2493720"/>
            <a:chOff x="800280" y="3773520"/>
            <a:chExt cx="3000960" cy="2493720"/>
          </a:xfrm>
        </p:grpSpPr>
        <p:sp>
          <p:nvSpPr>
            <p:cNvPr id="156" name=""/>
            <p:cNvSpPr/>
            <p:nvPr/>
          </p:nvSpPr>
          <p:spPr>
            <a:xfrm>
              <a:off x="2400120" y="3981240"/>
              <a:ext cx="380880" cy="381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00120" y="48196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90640" y="54291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09960" y="540864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57" idx="3"/>
              <a:endCxn id="158" idx="0"/>
            </p:cNvCxnSpPr>
            <p:nvPr/>
          </p:nvCxnSpPr>
          <p:spPr>
            <a:xfrm flipH="1">
              <a:off x="1980720" y="5144760"/>
              <a:ext cx="47520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7" idx="5"/>
              <a:endCxn id="159" idx="0"/>
            </p:cNvCxnSpPr>
            <p:nvPr/>
          </p:nvCxnSpPr>
          <p:spPr>
            <a:xfrm>
              <a:off x="2725560" y="5145120"/>
              <a:ext cx="47520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6" idx="4"/>
              <a:endCxn id="157" idx="0"/>
            </p:cNvCxnSpPr>
            <p:nvPr/>
          </p:nvCxnSpPr>
          <p:spPr>
            <a:xfrm>
              <a:off x="2590560" y="43624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endCxn id="156" idx="1"/>
            </p:cNvCxnSpPr>
            <p:nvPr/>
          </p:nvCxnSpPr>
          <p:spPr>
            <a:xfrm>
              <a:off x="2192040" y="3773520"/>
              <a:ext cx="26388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65" idx="0"/>
              <a:endCxn id="156" idx="2"/>
            </p:cNvCxnSpPr>
            <p:nvPr/>
          </p:nvCxnSpPr>
          <p:spPr>
            <a:xfrm flipH="1" flipV="1" rot="5400000">
              <a:off x="562680" y="4408920"/>
              <a:ext cx="2075400" cy="1600560"/>
            </a:xfrm>
            <a:prstGeom prst="bentConnector4">
              <a:avLst>
                <a:gd name="adj1" fmla="val 99913"/>
                <a:gd name="adj2" fmla="val 8569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 flipH="1">
              <a:off x="800280" y="62467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74720" y="4417920"/>
              <a:ext cx="477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83240" y="504828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40440" y="581004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78320" y="581004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81080" y="58100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933640" y="5713200"/>
              <a:ext cx="151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14520" y="5713200"/>
              <a:ext cx="1522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92520" y="504828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64880" y="5790960"/>
              <a:ext cx="477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E80D-1808-40C7-BFFF-5078FDBB19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60920" y="5283360"/>
            <a:ext cx="3022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mbolic stat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ition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533840" y="3213000"/>
            <a:ext cx="4254480" cy="2108160"/>
            <a:chOff x="4533840" y="3213000"/>
            <a:chExt cx="4254480" cy="2108160"/>
          </a:xfrm>
        </p:grpSpPr>
        <p:sp>
          <p:nvSpPr>
            <p:cNvPr id="178" name=""/>
            <p:cNvSpPr/>
            <p:nvPr/>
          </p:nvSpPr>
          <p:spPr>
            <a:xfrm>
              <a:off x="4572000" y="3213000"/>
              <a:ext cx="421632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1143000"/>
                  <a:tab algn="l" pos="1598760"/>
                  <a:tab algn="l" pos="2057400"/>
                  <a:tab algn="l" pos="25146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 next state            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33840" y="369576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67480" y="3276720"/>
              <a:ext cx="0" cy="170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76840" y="3276720"/>
              <a:ext cx="0" cy="170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610160" y="2133720"/>
            <a:ext cx="2997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state minim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input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082160" y="2588040"/>
            <a:ext cx="2540160" cy="3347640"/>
            <a:chOff x="1082160" y="2588040"/>
            <a:chExt cx="2540160" cy="3347640"/>
          </a:xfrm>
        </p:grpSpPr>
        <p:sp>
          <p:nvSpPr>
            <p:cNvPr id="186" name=""/>
            <p:cNvSpPr/>
            <p:nvPr/>
          </p:nvSpPr>
          <p:spPr>
            <a:xfrm>
              <a:off x="1548000" y="34228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84760" y="32133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10240" y="35816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83160" y="2730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51480" y="3905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11680" y="42800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32400" y="45770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06440" y="45324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87520" y="49723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18240" y="4714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68920" y="5227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11400" y="52945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78000" y="2730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91560" y="29322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46400" y="34657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42840" y="37148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63520" y="45608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00920" y="4475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69760" y="3873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88320" y="49276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14720" y="56880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07400" y="5507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27480" y="5264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03360" y="2924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03360" y="4067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03360" y="5210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23760" y="2924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23760" y="4067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23760" y="5210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52360" y="4524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08640" y="4524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655640" y="4524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60920" y="536256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960920" y="551520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876040" y="3381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28320" y="3381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0920" y="429588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1884600" y="3304800"/>
              <a:ext cx="9151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884600" y="4448160"/>
              <a:ext cx="9151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1837080" y="3353040"/>
              <a:ext cx="1000800" cy="18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60920" y="322920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960920" y="307656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32320" y="3381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1789560" y="3381480"/>
              <a:ext cx="101016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37080" y="3343320"/>
              <a:ext cx="905400" cy="84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1913040" y="3285720"/>
              <a:ext cx="88596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2" name=""/>
            <p:cNvCxnSpPr>
              <a:stCxn id="214" idx="5"/>
              <a:endCxn id="214" idx="3"/>
            </p:cNvCxnSpPr>
            <p:nvPr/>
          </p:nvCxnSpPr>
          <p:spPr>
            <a:xfrm rot="5400000">
              <a:off x="2950560" y="5439600"/>
              <a:ext cx="2160" cy="324360"/>
            </a:xfrm>
            <a:prstGeom prst="curvedConnector5">
              <a:avLst>
                <a:gd name="adj1" fmla="val 18600000"/>
                <a:gd name="adj2" fmla="val 50000"/>
                <a:gd name="adj3" fmla="val 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3" name=""/>
            <p:cNvCxnSpPr>
              <a:stCxn id="212" idx="7"/>
              <a:endCxn id="212" idx="1"/>
            </p:cNvCxnSpPr>
            <p:nvPr/>
          </p:nvCxnSpPr>
          <p:spPr>
            <a:xfrm rot="5400000">
              <a:off x="2950560" y="2828880"/>
              <a:ext cx="2520" cy="324360"/>
            </a:xfrm>
            <a:prstGeom prst="curvedConnector5">
              <a:avLst>
                <a:gd name="adj1" fmla="val -18600000"/>
                <a:gd name="adj2" fmla="val 50000"/>
                <a:gd name="adj3" fmla="val -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4" name=""/>
            <p:cNvCxnSpPr>
              <a:stCxn id="209" idx="7"/>
              <a:endCxn id="209" idx="1"/>
            </p:cNvCxnSpPr>
            <p:nvPr/>
          </p:nvCxnSpPr>
          <p:spPr>
            <a:xfrm rot="5400000">
              <a:off x="1730520" y="2828880"/>
              <a:ext cx="2520" cy="324720"/>
            </a:xfrm>
            <a:prstGeom prst="curvedConnector5">
              <a:avLst>
                <a:gd name="adj1" fmla="val -18600000"/>
                <a:gd name="adj2" fmla="val 49944"/>
                <a:gd name="adj3" fmla="val -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>
              <a:stCxn id="211" idx="2"/>
              <a:endCxn id="209" idx="2"/>
            </p:cNvCxnSpPr>
            <p:nvPr/>
          </p:nvCxnSpPr>
          <p:spPr>
            <a:xfrm flipH="1" rot="10800000">
              <a:off x="1503000" y="3152160"/>
              <a:ext cx="2160" cy="2286720"/>
            </a:xfrm>
            <a:prstGeom prst="curvedConnector5">
              <a:avLst>
                <a:gd name="adj1" fmla="val -23400000"/>
                <a:gd name="adj2" fmla="val 49992"/>
                <a:gd name="adj3" fmla="val -23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6" name=""/>
            <p:cNvCxnSpPr>
              <a:stCxn id="210" idx="3"/>
              <a:endCxn id="210" idx="1"/>
            </p:cNvCxnSpPr>
            <p:nvPr/>
          </p:nvCxnSpPr>
          <p:spPr>
            <a:xfrm flipH="1" flipV="1" rot="5400000">
              <a:off x="1407600" y="4294440"/>
              <a:ext cx="324720" cy="2520"/>
            </a:xfrm>
            <a:prstGeom prst="curvedConnector5">
              <a:avLst>
                <a:gd name="adj1" fmla="val -29411"/>
                <a:gd name="adj2" fmla="val -7800000"/>
                <a:gd name="adj3" fmla="val -294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" name=""/>
            <p:cNvCxnSpPr>
              <a:stCxn id="212" idx="6"/>
              <a:endCxn id="214" idx="6"/>
            </p:cNvCxnSpPr>
            <p:nvPr/>
          </p:nvCxnSpPr>
          <p:spPr>
            <a:xfrm>
              <a:off x="3181320" y="3152880"/>
              <a:ext cx="2160" cy="2286720"/>
            </a:xfrm>
            <a:prstGeom prst="curvedConnector5">
              <a:avLst>
                <a:gd name="adj1" fmla="val 12000000"/>
                <a:gd name="adj2" fmla="val 49992"/>
                <a:gd name="adj3" fmla="val 120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8" name=""/>
            <p:cNvCxnSpPr>
              <a:stCxn id="214" idx="6"/>
              <a:endCxn id="212" idx="6"/>
            </p:cNvCxnSpPr>
            <p:nvPr/>
          </p:nvCxnSpPr>
          <p:spPr>
            <a:xfrm flipV="1">
              <a:off x="3181320" y="3152520"/>
              <a:ext cx="2160" cy="2286720"/>
            </a:xfrm>
            <a:prstGeom prst="curvedConnector5">
              <a:avLst>
                <a:gd name="adj1" fmla="val 24500000"/>
                <a:gd name="adj2" fmla="val 49992"/>
                <a:gd name="adj3" fmla="val 245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9" name=""/>
            <p:cNvSpPr/>
            <p:nvPr/>
          </p:nvSpPr>
          <p:spPr>
            <a:xfrm>
              <a:off x="3041640" y="3683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334120" y="2438280"/>
            <a:ext cx="49536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C2B8-AFCD-46D8-8ACB-A8A69E276B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1222920" y="3405240"/>
            <a:ext cx="516240" cy="732600"/>
            <a:chOff x="1222920" y="3405240"/>
            <a:chExt cx="516240" cy="732600"/>
          </a:xfrm>
        </p:grpSpPr>
        <p:sp>
          <p:nvSpPr>
            <p:cNvPr id="242" name=""/>
            <p:cNvSpPr/>
            <p:nvPr/>
          </p:nvSpPr>
          <p:spPr>
            <a:xfrm>
              <a:off x="1235520" y="340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35520" y="358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22920" y="37479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22920" y="39243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222920" y="4775040"/>
            <a:ext cx="503640" cy="733680"/>
            <a:chOff x="1222920" y="4775040"/>
            <a:chExt cx="503640" cy="733680"/>
          </a:xfrm>
        </p:grpSpPr>
        <p:sp>
          <p:nvSpPr>
            <p:cNvPr id="247" name=""/>
            <p:cNvSpPr/>
            <p:nvPr/>
          </p:nvSpPr>
          <p:spPr>
            <a:xfrm>
              <a:off x="1222920" y="47750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22920" y="4953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22920" y="51184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22920" y="529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908720" y="4103640"/>
            <a:ext cx="503640" cy="720000"/>
            <a:chOff x="1908720" y="4103640"/>
            <a:chExt cx="503640" cy="720000"/>
          </a:xfrm>
        </p:grpSpPr>
        <p:sp>
          <p:nvSpPr>
            <p:cNvPr id="252" name=""/>
            <p:cNvSpPr/>
            <p:nvPr/>
          </p:nvSpPr>
          <p:spPr>
            <a:xfrm>
              <a:off x="1908720" y="41036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08720" y="42800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08720" y="443232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08720" y="46101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908720" y="5475240"/>
            <a:ext cx="503640" cy="720000"/>
            <a:chOff x="1908720" y="5475240"/>
            <a:chExt cx="503640" cy="720000"/>
          </a:xfrm>
        </p:grpSpPr>
        <p:sp>
          <p:nvSpPr>
            <p:cNvPr id="257" name=""/>
            <p:cNvSpPr/>
            <p:nvPr/>
          </p:nvSpPr>
          <p:spPr>
            <a:xfrm>
              <a:off x="1908720" y="547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08720" y="565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08720" y="58294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08720" y="59817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594520" y="4775040"/>
            <a:ext cx="516240" cy="733680"/>
            <a:chOff x="2594520" y="4775040"/>
            <a:chExt cx="516240" cy="733680"/>
          </a:xfrm>
        </p:grpSpPr>
        <p:sp>
          <p:nvSpPr>
            <p:cNvPr id="262" name=""/>
            <p:cNvSpPr/>
            <p:nvPr/>
          </p:nvSpPr>
          <p:spPr>
            <a:xfrm>
              <a:off x="2607120" y="47750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07120" y="4953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02440" y="5118480"/>
              <a:ext cx="45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94520" y="529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275640" y="5475240"/>
            <a:ext cx="508320" cy="720000"/>
            <a:chOff x="3275640" y="5475240"/>
            <a:chExt cx="508320" cy="720000"/>
          </a:xfrm>
        </p:grpSpPr>
        <p:sp>
          <p:nvSpPr>
            <p:cNvPr id="267" name=""/>
            <p:cNvSpPr/>
            <p:nvPr/>
          </p:nvSpPr>
          <p:spPr>
            <a:xfrm>
              <a:off x="3275640" y="5829480"/>
              <a:ext cx="45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80320" y="59817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80320" y="547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80320" y="565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633920" y="3346560"/>
            <a:ext cx="4254480" cy="2006640"/>
            <a:chOff x="4633920" y="3346560"/>
            <a:chExt cx="4254480" cy="2006640"/>
          </a:xfrm>
        </p:grpSpPr>
        <p:sp>
          <p:nvSpPr>
            <p:cNvPr id="272" name=""/>
            <p:cNvSpPr/>
            <p:nvPr/>
          </p:nvSpPr>
          <p:spPr>
            <a:xfrm>
              <a:off x="5446800" y="4997520"/>
              <a:ext cx="27432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nimized state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S0==S4) (S3==S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72080" y="3346560"/>
              <a:ext cx="421632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1143000"/>
                  <a:tab algn="l" pos="1598760"/>
                  <a:tab algn="l" pos="2057400"/>
                  <a:tab algn="l" pos="25146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next state            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33920" y="378648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80160" y="3410280"/>
              <a:ext cx="0" cy="132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76920" y="3410280"/>
              <a:ext cx="0" cy="132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ed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tion chart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 out incompatible states based on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ross out more cells if indexed chart entries are already crossed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827640" y="2743200"/>
            <a:ext cx="3744360" cy="3718800"/>
            <a:chOff x="827640" y="2743200"/>
            <a:chExt cx="3744360" cy="3718800"/>
          </a:xfrm>
        </p:grpSpPr>
        <p:sp>
          <p:nvSpPr>
            <p:cNvPr id="280" name=""/>
            <p:cNvSpPr/>
            <p:nvPr/>
          </p:nvSpPr>
          <p:spPr>
            <a:xfrm>
              <a:off x="840240" y="295596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40240" y="363852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7640" y="433548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40240" y="501804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35560" y="571500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4676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5488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9000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5996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0580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1143000" y="2743200"/>
              <a:ext cx="3429000" cy="3429000"/>
              <a:chOff x="1143000" y="2743200"/>
              <a:chExt cx="3429000" cy="3429000"/>
            </a:xfrm>
          </p:grpSpPr>
          <p:sp>
            <p:nvSpPr>
              <p:cNvPr id="291" name=""/>
              <p:cNvSpPr/>
              <p:nvPr/>
            </p:nvSpPr>
            <p:spPr>
              <a:xfrm>
                <a:off x="1143000" y="5486400"/>
                <a:ext cx="34290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43000" y="4800600"/>
                <a:ext cx="27432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143000" y="4114800"/>
                <a:ext cx="20574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143000" y="3429000"/>
                <a:ext cx="13716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143000" y="2743200"/>
                <a:ext cx="6858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43000" y="2743200"/>
                <a:ext cx="685800" cy="3429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28800" y="3429000"/>
                <a:ext cx="685800" cy="2743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514600" y="4114800"/>
                <a:ext cx="685800" cy="20574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200400" y="4800600"/>
                <a:ext cx="685800" cy="13716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86200" y="5486400"/>
                <a:ext cx="6858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1828440" y="3429000"/>
            <a:ext cx="686160" cy="685800"/>
            <a:chOff x="1828440" y="3429000"/>
            <a:chExt cx="686160" cy="685800"/>
          </a:xfrm>
        </p:grpSpPr>
        <p:sp>
          <p:nvSpPr>
            <p:cNvPr id="302" name=""/>
            <p:cNvSpPr/>
            <p:nvPr/>
          </p:nvSpPr>
          <p:spPr>
            <a:xfrm>
              <a:off x="1828800" y="34290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1828440" y="34290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142640" y="4114800"/>
            <a:ext cx="3429360" cy="2057400"/>
            <a:chOff x="1142640" y="4114800"/>
            <a:chExt cx="3429360" cy="2057400"/>
          </a:xfrm>
        </p:grpSpPr>
        <p:grpSp>
          <p:nvGrpSpPr>
            <p:cNvPr id="305" name=""/>
            <p:cNvGrpSpPr/>
            <p:nvPr/>
          </p:nvGrpSpPr>
          <p:grpSpPr>
            <a:xfrm>
              <a:off x="1142640" y="5486400"/>
              <a:ext cx="686160" cy="685800"/>
              <a:chOff x="1142640" y="5486400"/>
              <a:chExt cx="686160" cy="685800"/>
            </a:xfrm>
          </p:grpSpPr>
          <p:sp>
            <p:nvSpPr>
              <p:cNvPr id="306" name=""/>
              <p:cNvSpPr/>
              <p:nvPr/>
            </p:nvSpPr>
            <p:spPr>
              <a:xfrm>
                <a:off x="11430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11426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2514240" y="5486400"/>
              <a:ext cx="686160" cy="685800"/>
              <a:chOff x="2514240" y="5486400"/>
              <a:chExt cx="686160" cy="685800"/>
            </a:xfrm>
          </p:grpSpPr>
          <p:sp>
            <p:nvSpPr>
              <p:cNvPr id="309" name=""/>
              <p:cNvSpPr/>
              <p:nvPr/>
            </p:nvSpPr>
            <p:spPr>
              <a:xfrm>
                <a:off x="25146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25142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3200040" y="4800600"/>
              <a:ext cx="686160" cy="685800"/>
              <a:chOff x="3200040" y="4800600"/>
              <a:chExt cx="686160" cy="685800"/>
            </a:xfrm>
          </p:grpSpPr>
          <p:sp>
            <p:nvSpPr>
              <p:cNvPr id="312" name=""/>
              <p:cNvSpPr/>
              <p:nvPr/>
            </p:nvSpPr>
            <p:spPr>
              <a:xfrm>
                <a:off x="320040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320004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3885840" y="5486400"/>
              <a:ext cx="686160" cy="685800"/>
              <a:chOff x="3885840" y="5486400"/>
              <a:chExt cx="686160" cy="685800"/>
            </a:xfrm>
          </p:grpSpPr>
          <p:sp>
            <p:nvSpPr>
              <p:cNvPr id="315" name=""/>
              <p:cNvSpPr/>
              <p:nvPr/>
            </p:nvSpPr>
            <p:spPr>
              <a:xfrm>
                <a:off x="38862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38858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2514240" y="4114800"/>
              <a:ext cx="686160" cy="685800"/>
              <a:chOff x="2514240" y="4114800"/>
              <a:chExt cx="686160" cy="685800"/>
            </a:xfrm>
          </p:grpSpPr>
          <p:sp>
            <p:nvSpPr>
              <p:cNvPr id="318" name=""/>
              <p:cNvSpPr/>
              <p:nvPr/>
            </p:nvSpPr>
            <p:spPr>
              <a:xfrm>
                <a:off x="251460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251424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1142640" y="4114800"/>
              <a:ext cx="686160" cy="685800"/>
              <a:chOff x="1142640" y="4114800"/>
              <a:chExt cx="686160" cy="685800"/>
            </a:xfrm>
          </p:grpSpPr>
          <p:sp>
            <p:nvSpPr>
              <p:cNvPr id="321" name=""/>
              <p:cNvSpPr/>
              <p:nvPr/>
            </p:nvSpPr>
            <p:spPr>
              <a:xfrm>
                <a:off x="114300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114264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1828440" y="4800600"/>
              <a:ext cx="686160" cy="685800"/>
              <a:chOff x="1828440" y="4800600"/>
              <a:chExt cx="686160" cy="685800"/>
            </a:xfrm>
          </p:grpSpPr>
          <p:sp>
            <p:nvSpPr>
              <p:cNvPr id="324" name=""/>
              <p:cNvSpPr/>
              <p:nvPr/>
            </p:nvSpPr>
            <p:spPr>
              <a:xfrm>
                <a:off x="182880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182844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1142640" y="2743200"/>
            <a:ext cx="686160" cy="685800"/>
            <a:chOff x="1142640" y="2743200"/>
            <a:chExt cx="686160" cy="685800"/>
          </a:xfrm>
        </p:grpSpPr>
        <p:sp>
          <p:nvSpPr>
            <p:cNvPr id="327" name=""/>
            <p:cNvSpPr/>
            <p:nvPr/>
          </p:nvSpPr>
          <p:spPr>
            <a:xfrm>
              <a:off x="1143000" y="27432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142640" y="27432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142640" y="3429000"/>
            <a:ext cx="686160" cy="685800"/>
            <a:chOff x="1142640" y="3429000"/>
            <a:chExt cx="686160" cy="685800"/>
          </a:xfrm>
        </p:grpSpPr>
        <p:sp>
          <p:nvSpPr>
            <p:cNvPr id="330" name=""/>
            <p:cNvSpPr/>
            <p:nvPr/>
          </p:nvSpPr>
          <p:spPr>
            <a:xfrm>
              <a:off x="1143000" y="34290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1142640" y="34290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828440" y="4114800"/>
            <a:ext cx="686160" cy="685800"/>
            <a:chOff x="1828440" y="4114800"/>
            <a:chExt cx="686160" cy="685800"/>
          </a:xfrm>
        </p:grpSpPr>
        <p:sp>
          <p:nvSpPr>
            <p:cNvPr id="333" name=""/>
            <p:cNvSpPr/>
            <p:nvPr/>
          </p:nvSpPr>
          <p:spPr>
            <a:xfrm>
              <a:off x="1828800" y="41148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828440" y="41148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514240" y="4800600"/>
            <a:ext cx="686160" cy="685800"/>
            <a:chOff x="2514240" y="4800600"/>
            <a:chExt cx="686160" cy="685800"/>
          </a:xfrm>
        </p:grpSpPr>
        <p:sp>
          <p:nvSpPr>
            <p:cNvPr id="336" name=""/>
            <p:cNvSpPr/>
            <p:nvPr/>
          </p:nvSpPr>
          <p:spPr>
            <a:xfrm>
              <a:off x="2514600" y="48006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2514240" y="48006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828440" y="5486400"/>
            <a:ext cx="686160" cy="685800"/>
            <a:chOff x="1828440" y="5486400"/>
            <a:chExt cx="686160" cy="685800"/>
          </a:xfrm>
        </p:grpSpPr>
        <p:sp>
          <p:nvSpPr>
            <p:cNvPr id="339" name=""/>
            <p:cNvSpPr/>
            <p:nvPr/>
          </p:nvSpPr>
          <p:spPr>
            <a:xfrm>
              <a:off x="1828800" y="54864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1828440" y="54864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726D-5484-4130-BBA1-848B93BBC7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ing incompletely specified FS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3387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2000"/>
          </a:bodyPr>
          <a:p>
            <a:pPr marL="319680" indent="-3196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ce of states is transitive when machine is fully spec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s not transitive when don't cares are present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is compatible with both S0 and S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S0 and S2 are incompati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olynomial time algorithm exists for determining best grouping of states into equivalent sets that will yield the smallest number of final stat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FBE5-A3FC-488D-A791-9657F31D182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5029200" y="2362320"/>
            <a:ext cx="2539800" cy="2286000"/>
            <a:chOff x="5029200" y="2362320"/>
            <a:chExt cx="2539800" cy="2286000"/>
          </a:xfrm>
        </p:grpSpPr>
        <p:sp>
          <p:nvSpPr>
            <p:cNvPr id="344" name=""/>
            <p:cNvSpPr/>
            <p:nvPr/>
          </p:nvSpPr>
          <p:spPr>
            <a:xfrm>
              <a:off x="5092560" y="2362320"/>
              <a:ext cx="228600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48428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2692440"/>
              <a:ext cx="253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87840" y="2362320"/>
              <a:ext cx="1800" cy="228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105520" y="4952880"/>
            <a:ext cx="2273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X  (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or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18120" y="5397480"/>
            <a:ext cx="1930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X 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’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ing states may not yield best circui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edge detector - outputs 1 when last two input changes from 0 t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146240" y="2590920"/>
            <a:ext cx="2282760" cy="2849760"/>
            <a:chOff x="1146240" y="2590920"/>
            <a:chExt cx="2282760" cy="2849760"/>
          </a:xfrm>
        </p:grpSpPr>
        <p:sp>
          <p:nvSpPr>
            <p:cNvPr id="352" name=""/>
            <p:cNvSpPr/>
            <p:nvPr/>
          </p:nvSpPr>
          <p:spPr>
            <a:xfrm>
              <a:off x="1371600" y="30481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71600" y="44956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95480" y="37339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5" name=""/>
            <p:cNvCxnSpPr>
              <a:stCxn id="354" idx="4"/>
              <a:endCxn id="353" idx="6"/>
            </p:cNvCxnSpPr>
            <p:nvPr/>
          </p:nvCxnSpPr>
          <p:spPr>
            <a:xfrm rot="5400000">
              <a:off x="2285280" y="3886200"/>
              <a:ext cx="49608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6" name=""/>
            <p:cNvCxnSpPr>
              <a:stCxn id="353" idx="5"/>
              <a:endCxn id="353" idx="3"/>
            </p:cNvCxnSpPr>
            <p:nvPr/>
          </p:nvCxnSpPr>
          <p:spPr>
            <a:xfrm rot="5400000">
              <a:off x="1636920" y="4763160"/>
              <a:ext cx="2160" cy="378720"/>
            </a:xfrm>
            <a:prstGeom prst="curvedConnector5">
              <a:avLst>
                <a:gd name="adj1" fmla="val 19300000"/>
                <a:gd name="adj2" fmla="val 49952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7" name=""/>
            <p:cNvCxnSpPr>
              <a:stCxn id="353" idx="1"/>
              <a:endCxn id="352" idx="3"/>
            </p:cNvCxnSpPr>
            <p:nvPr/>
          </p:nvCxnSpPr>
          <p:spPr>
            <a:xfrm flipV="1">
              <a:off x="1449000" y="3503160"/>
              <a:ext cx="1080" cy="10706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"/>
            <p:cNvCxnSpPr>
              <a:stCxn id="352" idx="4"/>
              <a:endCxn id="354" idx="2"/>
            </p:cNvCxnSpPr>
            <p:nvPr/>
          </p:nvCxnSpPr>
          <p:spPr>
            <a:xfrm flipH="1" rot="16200000">
              <a:off x="2057040" y="3161880"/>
              <a:ext cx="42012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9" name=""/>
            <p:cNvCxnSpPr>
              <a:stCxn id="354" idx="0"/>
              <a:endCxn id="352" idx="6"/>
            </p:cNvCxnSpPr>
            <p:nvPr/>
          </p:nvCxnSpPr>
          <p:spPr>
            <a:xfrm flipV="1" rot="16200000">
              <a:off x="2323800" y="2895120"/>
              <a:ext cx="41976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"/>
            <p:cNvCxnSpPr>
              <a:stCxn id="352" idx="7"/>
              <a:endCxn id="352" idx="1"/>
            </p:cNvCxnSpPr>
            <p:nvPr/>
          </p:nvCxnSpPr>
          <p:spPr>
            <a:xfrm rot="5400000">
              <a:off x="1636920" y="2937600"/>
              <a:ext cx="2160" cy="378720"/>
            </a:xfrm>
            <a:prstGeom prst="curvedConnector5">
              <a:avLst>
                <a:gd name="adj1" fmla="val -19300000"/>
                <a:gd name="adj2" fmla="val 49952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1" name=""/>
            <p:cNvSpPr/>
            <p:nvPr/>
          </p:nvSpPr>
          <p:spPr>
            <a:xfrm>
              <a:off x="1146240" y="39625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17840" y="30481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79760" y="25909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4760" y="388620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76160" y="510552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90560" y="457200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AD5A-1716-44B2-8104-EB68EC62F2D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Gaetano Borriello</cp:lastModifiedBy>
  <cp:lastPrinted>2000-05-11T19:00:15Z</cp:lastPrinted>
  <dcterms:modified xsi:type="dcterms:W3CDTF">2005-01-24T07:01:25Z</dcterms:modified>
  <cp:revision>28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