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  <p:sldId id="284" r:id="rId80"/>
    <p:sldId id="285" r:id="rId81"/>
    <p:sldId id="286" r:id="rId82"/>
    <p:sldId id="287" r:id="rId83"/>
    <p:sldId id="288" r:id="rId84"/>
    <p:sldId id="289" r:id="rId85"/>
    <p:sldId id="290" r:id="rId86"/>
    <p:sldId id="291" r:id="rId87"/>
    <p:sldId id="292" r:id="rId88"/>
    <p:sldId id="293" r:id="rId89"/>
    <p:sldId id="294" r:id="rId90"/>
    <p:sldId id="295" r:id="rId91"/>
    <p:sldId id="296" r:id="rId9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slide" Target="slides/slide29.xml"/><Relationship Id="rId81" Type="http://schemas.openxmlformats.org/officeDocument/2006/relationships/slide" Target="slides/slide30.xml"/><Relationship Id="rId82" Type="http://schemas.openxmlformats.org/officeDocument/2006/relationships/slide" Target="slides/slide31.xml"/><Relationship Id="rId83" Type="http://schemas.openxmlformats.org/officeDocument/2006/relationships/slide" Target="slides/slide32.xml"/><Relationship Id="rId84" Type="http://schemas.openxmlformats.org/officeDocument/2006/relationships/slide" Target="slides/slide33.xml"/><Relationship Id="rId85" Type="http://schemas.openxmlformats.org/officeDocument/2006/relationships/slide" Target="slides/slide34.xml"/><Relationship Id="rId86" Type="http://schemas.openxmlformats.org/officeDocument/2006/relationships/slide" Target="slides/slide35.xml"/><Relationship Id="rId87" Type="http://schemas.openxmlformats.org/officeDocument/2006/relationships/slide" Target="slides/slide36.xml"/><Relationship Id="rId88" Type="http://schemas.openxmlformats.org/officeDocument/2006/relationships/slide" Target="slides/slide37.xml"/><Relationship Id="rId89" Type="http://schemas.openxmlformats.org/officeDocument/2006/relationships/slide" Target="slides/slide38.xml"/><Relationship Id="rId90" Type="http://schemas.openxmlformats.org/officeDocument/2006/relationships/slide" Target="slides/slide39.xml"/><Relationship Id="rId91" Type="http://schemas.openxmlformats.org/officeDocument/2006/relationships/slide" Target="slides/slide40.xml"/><Relationship Id="rId92" Type="http://schemas.openxmlformats.org/officeDocument/2006/relationships/slide" Target="slides/slide41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dt" idx="148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 type="ftr" idx="149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 type="sldNum" idx="150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D0FA4E-64C5-4289-8A36-6685577C6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6A5EEF1-179A-446D-B032-AD8D16868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303BE5-0483-475B-9D7D-C564F4DB4F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003320" y="77616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40608F-AB94-4D2F-BA69-8242AD8A7C8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003320" y="77616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778EB3-B53C-41B6-86B3-FCE63B9DA9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003320" y="77616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2B2AC6-49DD-438E-8481-FA05B9DCD4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003320" y="77616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E7D-D85E-4D19-A613-6E1DCDF7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746-F1B6-4F75-A614-0D0F065F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AC169-AA3D-4976-A96D-B379AAF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E9AC5-D20A-4F8F-B24F-76DEBC91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97888-FEBF-4931-95E1-C936F23F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48DF3-4339-4E83-ABC4-5A36F3A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9CBE2-47FF-4640-90E8-06A4E22B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88F1B-19AF-4DD2-AB75-7322565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B9C20-4304-4797-9A41-6576EB3F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65C76-C976-4C13-B347-61FFBDBB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07EC5-4BF6-49D5-948F-2922B671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7F41D-0968-4C6B-828F-14074868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031-248A-4684-AF51-01E97DC1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B882D-C0D3-4907-80A2-AD3693BB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6BA94-9DB3-44C4-B255-7B463572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736FD-A7B1-4703-88A1-0B07FFAC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3735F-1131-4A93-A767-352C78B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90896-FDA5-4BD2-8A2B-14FC190F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F93D6-423E-4C7F-ADAD-E7906A2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FD6B2-EDE1-4A11-A466-F045773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3DC3A-7375-45C2-87E1-F5EDE4E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9683E-AEEA-491A-B2A2-79D703C6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640CD-FC6D-4FF3-8FA4-66BA5401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699-8779-40BF-9165-1984D030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91C53-0A7F-4358-A0B3-3774E27E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C3AE2-F31B-4524-A2E6-5218B635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0B057-5962-4E07-BF66-4E00D14F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D41E3-D838-4EE3-ACB1-6B1C378C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2F2B3-5C0A-4BA8-B0DA-EADD1505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63A12-4651-4BF8-B7FE-43A71B75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F4B52-425A-4B56-BDB5-F7F16245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E7C79-4CC3-4F76-9F6C-547CAE6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93C32-40BC-48DD-921D-66570B0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AC1F4-6BD0-4BAC-880C-795587C3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45BF-E6D9-4168-8903-93FA9B35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CE4A5-19FE-494E-AECE-7730C73E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E5AAE-7DEC-4911-ADB2-4CBC4CA4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8F226-F535-415F-830B-5A0C48E8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1EE7E-7F76-432C-B2A4-AF422D1B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6F079-26EA-4BB7-9D84-39A7F08F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9B3C6-BD95-41AC-9D12-D6F34BE0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7596F-D39E-400A-B51E-62599C6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68BBC-55C8-4E79-A689-71BF97B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1500A-070E-4E41-B5DD-211997F1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6577F-70AC-4AB4-AB95-B1B11CE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159A-D724-460A-BAF9-6FBD2D80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77A50-DAB2-447B-A2AA-B0D0F569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4030C-3378-4E6B-809C-1EC0C2C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621E9-112F-41CC-A6AD-B3B80106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792ED-6057-40D4-9E43-35B61325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6EEDB-A7E0-499D-836D-19EA34B0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E864E-8AF7-438A-AC20-4A7FAE55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FCA6A-1B0D-459F-9052-935AEE7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7E652-E3F3-40FA-9BAD-6BE4594F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28785-8110-414C-AE6C-828C4C88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46023-E4ED-46C1-AA21-F0A32E2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4839-F204-4C29-9D90-4C359956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31270-1565-413E-BD6A-2C3655AB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0993F-0DBE-4226-8D2F-8547166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8DB2F-C9F4-4F45-8FA2-4716152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0A972-E996-4A26-8575-6786F630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14A87-77E5-49C2-8422-783752A8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D9F4D-3099-44E3-94A5-7E0A46BE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4D135-8B3B-4DF4-AF8F-26829B32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64661-D2D4-45CA-ACCF-3CAA124E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1C572-D420-4C1B-81C2-B179E3A9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2067D-BE49-458A-8797-925F2F4B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56E0-8E1D-4A53-ACA1-0ACA8F1F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9DBCF-26E3-436F-BB0C-23AD0349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74EE7-A65A-4C16-8053-C591983B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47B9D-0D75-4E20-A67B-7AD9CA3B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6AE9C-7C42-4AA9-8542-317FF13D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FCFC9-BCE6-4E05-9680-C0D94A3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41EA4-C0A9-4421-9E60-F31302F6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85830-F30A-4FEE-9DC8-B134D675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A7E0D-D852-49F5-8F7C-4849E44C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83189-F201-4B1A-9B88-9B5D8282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50077-3FF2-4CB9-BE83-FE5A38A6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19F0-5973-40E5-8770-54A2DED4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10127-6496-4FCF-B09C-2EB5E378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18981-5E92-4F97-A9F3-8D866312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473E4-3B14-4D34-AFC8-0C136A0C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C6744-94C2-413F-83FA-3D0A43A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41ED3-1F96-4693-98FD-CCB3FE62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64872-6B6A-42E3-AAC8-83B1A9ED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12D03-1642-4CE5-8FF2-5182F93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D74C4-43DA-4BE4-872F-1F8A13B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5FEE6-5102-44FC-9DDE-DD9C2245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0BC9E-9975-4CDA-9163-29EF2ED3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5F4C-C6D9-4993-A7CA-2660C182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DE2E9-FCFC-458A-BEDC-DEFB9B8F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22B53-A575-4168-9C01-D7A75FE3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49DDE-51EB-41C3-835A-1900BD9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02290-C606-49FC-8396-F98067FE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F6DE5-8D77-471C-B43E-F3FBC6EB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D930E-B9E9-4E70-9BFF-42719C07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F2100-94FB-446A-A9E2-4A7BEC3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3333E-38A9-4346-B769-DC4ACAD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0BB34-1DB8-4376-9E5E-D662391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E6520-682C-446E-9C2F-62720885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933A-6CC2-4B6F-99B7-DABE4D68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55C15-A27B-4F2F-89BD-BEB71F54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81322-E8EA-48E8-BC78-5CB09C04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16B15-A54B-4F4D-BED7-19EB81C3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8AB2D-0A2F-4946-AD5F-16513672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CE0FF-0B3E-4E18-9892-21EA64A5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7AF88-2060-40C9-9F66-534E05A9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9AF25-4D8E-4FFF-9745-1D2E77A4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2A289-8B33-45C7-8F06-EE4DBBBD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1E208-2F09-4799-9CC9-543C80DA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E08AC-ACAE-4D81-8384-0F8B754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136-AD60-4E2F-9EE0-3EAF1EC2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1187-DA5C-4AF1-8D92-7C906F78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6B6EB-DC0B-40C6-8A58-0054737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0E4C0-F6BA-4EA1-9944-074F7220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91FDE-B6E1-4504-9CCF-4C62EB6D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27927-7A76-4C36-AB42-31A3D579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EAC48-82DC-4B63-8D87-EED77006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8CD4F-533E-4BAA-B290-37C70FBC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F3B84-7128-498A-A380-56F8041E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91402-B59C-4D61-94C1-0120C0EF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A387C7-1F92-4ABF-8F2E-108CEEAA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5D408-2877-4B63-B6DC-C72B91F2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B114-D854-4BD4-A2F4-14F42CD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33CD6-E3D7-4FCE-99AD-279369F5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F9563-D145-432B-AC34-48105AA0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A3859-F5D0-4BDE-9C1E-3684FD0A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2AFBC-8E08-4A24-967E-C6A8CBB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5E661-DAB1-4993-9FD8-495294B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A6DEBC-6C4B-4484-AD6B-0C1B1A28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0C3B7-847D-4EC5-A099-DCDDDCA9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97ABC-2E6B-47A9-A66A-3BCC6065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CC685-B9C6-4B88-82A4-DF8836D6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C99E6-1313-4C56-920C-8446ABD3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9534-21B4-4FD6-BAFE-AD69AF84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3E01C-66D3-4E44-9C39-8733D27D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69912-B359-4F5D-807D-6C39C2EC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C2E20-C028-414D-827C-39617EE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AB3CE-CC70-4D29-A98E-877BCB71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53D8BB-A7A5-48A9-A0B7-B2681F25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C879D-1C78-4A65-99E1-1FC2D081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209A0-708B-41D8-8136-67F86A5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77AE89-7DDA-4EC3-B1A4-C286F6D9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F323F-4507-4520-A8E5-DD01AA69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48A2C-B980-42A3-B025-C6A82915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8EEF-011F-47F6-9075-0C62912E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22868F-E48F-4B3A-8548-328CB365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938AED-10DB-44C4-A5DF-E259B132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0069E-D3C6-439C-8EB6-1254AF3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A9BBB8-A6C3-45D0-91D0-A1FAA129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2AD36-E1D8-4EDE-84D7-B5D0186B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EB456-F833-45D2-AC14-BB722931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9A87A-641E-4F37-81A5-CD51E566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94F22-0B01-4D6C-A512-A8D91014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37C6F-DE95-433E-9641-CD7AAE08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DFDF8-045B-42DF-9051-7F2DAAF2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446C-18D8-4F74-B238-329C2D15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F9C718-B3BB-411E-A271-9AECE4CE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BA37E-5A9B-4C9B-A5B4-2DCDCA57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E0994-4A48-4A1B-BB0B-7C117A2E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EE2A62-48EC-4873-9DF7-6DB6AF9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61571-51F7-4276-BFCA-3B213E09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3B21C-0421-435C-BCF1-C072CBF5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C0298-9F2E-48EA-A92E-E1509A31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51BC9B-1FC1-4B22-BBA4-AD037D0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CF522-00AD-4B4F-AA9F-2AE71083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F1C47-6317-4AD9-91E3-FDB75A9B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A4C1-3A51-4928-A5B5-7CD4CFFD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1AA73E-0EBF-4A7A-B617-B120C99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1F7EC-A6B9-4E4F-8FEF-D32D89A4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1E9782-515B-4E84-8824-4FD35FF5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2BBA26-8E21-451B-9AA5-AC7919AF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4DAB41-161D-4B16-8A88-56DF7EFD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7A207F-628B-4DD5-AB0F-B62DE10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318A9-D2E4-49F1-AD80-58B65DA9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A93898-CB5E-4FBE-8EEF-C69769B4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B72022-47CE-4B3A-B24E-74DEE144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35A3F8-85B9-4648-9E6A-E468B5F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00D9-D075-4945-AB9E-982B962B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47CBC-8EBB-4379-828F-D6829E8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E34CAA-3F48-4279-A46D-35BEF68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851D7-70C7-435D-8074-3B33F08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B430FF-B387-447D-9A0F-F63F2771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976D7C-2202-4E4B-AC78-54B030BC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E32669-D33D-4EF1-B329-5BB535CF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785623-8B52-40F3-A905-FFCA65AF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DB36CF-BC49-43A2-AC79-2640F177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5C7ADC-D116-4BFB-ABAF-6B8785A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6202C8-9EEA-44BE-8E24-28D36A5A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8FEC-AD16-467D-87FE-C8A8E31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FFFECC-EA5A-43A8-8C26-6721594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1E14F5-88FE-4892-AD9C-D3657B3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CB729B-6B4B-4537-905C-276FC61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3EE80C-62CF-4D13-9AAC-49A6E95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C7BF52-EBD4-4A2B-A6E8-0144B56B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80EDF-9ED0-4302-B233-3A2443E1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F92188-7C51-4CBF-87FD-F9E0D333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9FD7DB-BAB6-416A-8FFB-EF2854D9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4AD453-EE60-4E7F-A613-C4700847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4C5A32-46E0-4700-AE33-4A76A8BA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5F72-BD44-4535-9194-BE364C9A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875783-9A9A-43EA-8152-81E2CCE1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FFD46D-0901-4D57-995F-A4040E6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1A472-343F-4ADF-B05D-778F6FA9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23B0C9-E033-477A-A1BF-E67220F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2A1777-8385-4A34-ADB7-183A2764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2FA761-6463-49E5-8E6D-0B22849D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08C009-4BC1-44BE-B264-7ED583AB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D02A16-3397-406E-9718-61F2CE39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C2F101-D496-4F7E-A3ED-42A2D296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8C557C-16C9-46D4-B5AA-BDD34AB2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7E48-5C4E-4B46-97FA-3132A942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C9B3A8-B94E-41F9-9008-D5CABAC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C066B0-9C90-4100-9BC0-6153134B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91D3E2-F896-42E8-A09C-C545F492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2E7618-A3D0-40AC-9FCD-81736BE9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8C9940-A7ED-46DC-B2D2-386EAD0E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DF5E34-061A-4947-B2C7-7D0C620D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C99021-063E-43B9-8322-C356C4FF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2F0AFB-36A0-4D7E-B298-4ADA1FCB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ADBB37-7C80-4DCD-822D-F2014D8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CBAF28-7EC8-47F5-92A3-3410D01A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705-4782-4B5C-9FB7-C7B60E06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D72B-C8A4-4560-B2F5-DBA76042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028FB2-82F7-4981-8765-B8EE6EB3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590DE4-D699-4D20-9F95-E36F615B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1E1901-0B35-4B1B-8BB9-EFAFF59E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7C9785-D361-451C-8F96-23975DD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5C94EB-BD97-47AB-BFB1-7F21995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4BF69F-D45F-48B2-B218-B6CD36EC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DF2839-B366-47E6-B5B4-7B687FB0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7459FC-CE59-4349-9186-8A0296FF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378687-89DA-4B01-BC79-09B8F70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7BED9B-28DB-431E-90FA-76972450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ADC3-1C0A-450F-A3B5-B47AED8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1C5C67-8137-4E3F-8E80-7F64F843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DE4C91-8053-4351-AA7C-F0224F74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5D7C7E-DFD5-4102-865F-09053C0A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B6805B-CCB6-4DAF-8B5D-3D7DA16B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E45834-B067-4097-9192-1328EDE9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9A88E8-B14E-4E9E-A14C-E668AA7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FE3CB0-F3E7-481F-8681-A61C0F32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481842-4A50-4531-AE9E-F6880F62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90CAE4-A05E-4780-96CB-EA0813EE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AA509F-F383-44E4-B41F-CF03B201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64ED-398F-484A-94FB-DF8DADD6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BE50E3-3F27-4207-A589-DCA64FF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E12F40-14A4-457D-BF08-BB86F54C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EB37C0-29D7-41DE-946A-1F437803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A5C629-F944-4B72-B56D-54E145CD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892798-A222-4461-BC63-5E3B1E8F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87A788-E934-49A5-9A9F-8F5A6BD5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67E401-C54B-4D0E-A4D6-D5C15BE2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A26D26-2803-4287-B81F-44B67F3A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DBD732-FD3E-488E-84DD-EC63FE6C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C59715-EE47-402B-A6CF-4ED1BD35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53ED-9185-4D89-9DCD-7E9ABD4A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D67CAC-3402-4753-AD11-202F03D0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A92B3D-1166-4B4B-A029-F36EE063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52D8DE-8D4D-44E3-888E-F39DD1E9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64F671-A0E5-4863-A0FD-16FEF0D6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E1BDE5-6C32-44C5-897C-9282D379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59C880-61A7-4144-AF45-8FB6D291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B18A96-C838-43F2-87FC-AC2691E7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93D2A4-41B6-484B-88F1-C427EFE6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AA04B8-4B51-4171-A925-96C5C2F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E211BA-4D23-4BF0-A118-B0BC3B4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6EDA-22A0-490F-8A6B-C0928CB1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C31FDC-637E-4983-8E9E-9CD27DD7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3F3DD1-A94D-4001-BB79-89194333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FFF603-6D5E-4F89-86D5-03EF36FD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EC311F-517A-46AC-B7D6-0BB5F7F8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AFAF21-6491-4518-9EFF-B1BECB88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86B11E-6ED5-4574-A6DD-90096E16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42A0EE-BB40-4CBD-8885-4C0A3B15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08AAFB-F9E7-4778-B897-BFCB0431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326BB6-50BD-4178-B5B1-02E2415E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6E307A-4785-48BF-93F9-3FDE2766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60E2-A8A9-4A6C-9605-6DD10995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D56288-B335-4E94-B07B-AA59B6DF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BA8744-CD48-43B8-939E-B3FCD1EB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C8C631-E24F-44F1-8B4A-3DB7712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86A5C7-404F-48CB-9E29-CD12FAD7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02E862-AA25-4377-A2C4-376919C9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A8116F-D33E-4E76-851D-E04B7A2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DC1C14-E9A8-44C5-86F9-1FAA1C4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1744F4-F011-4873-A71F-BACF33E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7F5FCB-98DC-4DA3-9FB8-DA2947D4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7F27C5-36BF-4153-B93C-57D874F2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9B95-3539-49A7-8763-AB35C929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67BB51-EB3B-4B6B-9BA8-226422D0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37E5D4-772D-42D4-8A1B-234E796F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FA442F-5E9F-4AC4-B47F-D2C809C3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4C4606-7CCB-483B-9616-4248407E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12F58A-FBB5-4289-B5BB-1350441F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CFC2B4-8A65-40DC-BCA8-258A3F09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4E7C65-233C-4F8E-B1CF-8FBC799F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F86853-1944-45D0-AD54-D6964075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152848-7560-4C82-BDC2-9E6660B4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89FDBA-A5EA-40E6-B30A-D5AB01D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DFDD0-E63C-43C7-AF3B-AA77B3A8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4496A5-F803-47A5-8EFD-A9479EE9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F20E33-4ADF-4FAA-8336-C1635629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53B4FD-A513-43EE-BA40-CE65D887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6B8E0F-2C2C-4A1B-97E3-E157BB4A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E2FAE1-213D-404F-A0AA-A339414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4CA123-49FE-4399-B09E-D98F4920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E0C884-A544-43F9-A5EF-C979AB4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95A6FE-A280-47D9-8131-50F260DA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D95853-33AB-49E3-8EF7-745FF332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AA5C06-AA76-4A01-ADD5-1EED65C6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C71CF-9C7B-4887-AC87-D6F3BF3A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EEBB4C-7974-4A61-923C-938B1F6E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B6217A-6094-43B8-A9F9-CC7D2E3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F13EF0-1EBB-4B69-AAA6-F6501BEB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E42442-177C-4C5B-89B4-3587A0CB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73344B-929A-4BE6-8779-E7868F5A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7A429D-5939-4A09-AD67-D8A55E32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C6C284-A8B1-4C2F-92B1-B0A4861E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89AD73-31EB-4DE9-8A6A-25F544BD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70910B-0C4C-4B2E-A9AF-DD1EF5D8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DA0D5C-36AF-45EC-89D0-C61BC152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AD88-ACD2-473C-ACD9-9497AC5B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98BD02-398C-40D7-83AD-F57C68B6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C731CD-F393-4739-B1A0-D35AEFE0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B45A44-AEAC-4358-8E06-1FC574D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5C70D1-42A2-4979-BD8A-5101561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0355C5-9488-4DEA-AAE3-4DEE8C19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CB042D-61DC-4F6E-A115-E9E99974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BBEB13-9558-4C1B-A080-FAF25929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0BAD8B-16FB-45F5-8D83-ED748951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7FF765-636D-4965-BC57-629F4B1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A8496F-19C1-47E6-888F-86743337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7D7-A634-440A-B98A-EC8D6EBA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0B38D-71D0-4562-9967-4322FC78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B7B4EB-6741-4AD0-A924-071E3E19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A667AF-DF28-49C5-ADEA-64C2B3E4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6A4DE6-CAFE-421E-B50F-8EE9D4E6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81132A-EE97-4DD4-8776-00301833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7764BC-AB75-4D07-807C-73318039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55CD6A-AFE5-4164-A8D8-136A39C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F6C646-974D-48C7-82E1-2AF26FDA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63779A-5072-4E0C-B392-96BF5A44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748A9B-5BAE-49BC-8B6E-F0C67733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1D08ED-33F8-414C-8F9F-2BD18032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1AD1-B520-4A35-B99B-DE4CE8AC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E81D4C-505A-4498-B422-ECA7CA3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8D1294-BC64-4E2F-AE25-5C11FF8B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5484DD-BB6C-4D32-9CF9-3800A8F1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6B549C-D773-44DC-96B6-BE4EAAD3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941B01-21A6-488C-B9F1-CC205A28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33C168-7F94-4AD6-83A7-9B6905D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2BAF01-195C-4F0C-9DB1-92FF6B32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55EF20-C321-4394-95C8-F1E8970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8D19A0-F2FC-47DB-B94E-EAF72964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E4F90E-2337-45BD-B883-30F00599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2A54-D973-4EBA-8DC3-90BDD167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CAA411-04C6-4EFB-8EAF-A90D911F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297D40-4269-4A73-B0E7-133E1FFC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5DDCCC-CB82-490C-88B5-A623F27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7F75A0-12FD-4B87-B9AF-3C8B6743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023EAD-4BD3-4A76-AF41-63C4F370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B204DF-03C8-4499-A8EA-708B1333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4A075D-E287-439A-BBD4-8522B6EA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777388-E4DE-4E82-9F66-B145FDEE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B97E4A-EB3D-4094-917B-6B13166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48886A-D867-42FE-AC3B-39403D6E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EE61E-DB25-4F06-8460-1A15207B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7381D9-0589-4BD2-9566-10F36BD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FFB89F-0897-4FAB-AB01-C5815CB7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177C38-5F59-4856-96F9-9827EC3D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323B40-5814-4C97-8879-6FE04D57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008231-38EB-4BB4-8B4F-2492A6D8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E7EC75-3129-42A1-97A6-59FF713E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5FF73B-1066-466A-917C-ED86560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B84CAE-A19E-41CB-822E-ECF1247C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59FDB1-E290-4F49-A9F3-D057FAF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58ABA8-31A6-4076-BFB5-DE226EE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BB7D-8FA5-4FB8-A853-EC96549D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01C6A7-BE9D-4F38-A869-5E375569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C58E09-8D70-439C-AE31-FCC06EED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8B0431-415F-426F-858E-D8A1102C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1FB01D-87D0-499C-8606-EDDBDA95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99726A-A5DF-4F75-9330-076D51AE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E4BA35-4115-46F0-822E-5EB9EC60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4CF300-F837-49B9-A938-D24A4E37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6917C4-D8C5-46DB-B2F6-CE2E65A5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E7E712-198D-4726-96AE-B45B7AB8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1445E0-2D21-49A4-A062-0A74BCAF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C636-E854-44BA-8EEE-DB4B852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348708-F338-41A4-87CB-A236F84A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EDC942-C469-4E46-98C2-46D2B21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5AD11E-8CE4-4A50-B4B3-FA77E1D7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3CC731-6C47-42F1-A8F4-EF188023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5E4E5F-4824-4911-B6A9-142ED0E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732198-451D-4F20-958E-ACFF46CE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843467-E1A0-41F9-A924-A5FE986E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1AB4FA-F850-4342-9FC2-D8B41B32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CAFB63-9940-428A-A0E4-3818631D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780B18-2A5A-4C08-84CD-A534FD9C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B8079-1B0F-4BBD-9A01-61E5FCDA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38C561-D516-49B7-B3EA-FEDBF354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38A970-6CBF-4408-A010-7D0F0EB6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8C6EEC-51DA-4075-B8A9-6F68B0D6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7AD6FC-420D-47CE-9D6C-8710CAD8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8A2EB9-67F3-47D0-A60D-1B8C371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19FAD1-FB47-4FE7-993B-6D5FB046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2058AA-CFB5-4306-8E4A-22B6792C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1DD163-95FD-4ABF-8DC4-E6BA180A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8D9FA5-BF39-40CA-A3F9-BC96E817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290AFB-3506-41C0-AE12-46DEF515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9215C-9EE0-445A-AF27-FE878575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5C9EA6D-DE83-43D9-91D7-843158F5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4A3866-914B-43A4-B453-9EB29829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C80FAF-66FB-4D12-9265-4A51783D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56AC20-5061-4BE5-9C50-648A7B40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70358C-0A86-4632-B5DB-B980598D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10078E-4F45-4CEC-80C2-CC84287B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A6D51E-3CED-428B-8F35-3ADD4CD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561AFA-3AF2-444E-BFF3-86EAC940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3A0194-7BE1-43FE-9F91-949891E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9EF5F7-7494-48FE-A9E3-A77B6575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8C68-0ECF-46C5-A06A-04C98F2E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593931-5E6D-473A-85FD-1D9720C2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EDBA2D-3420-4005-A461-EC2705F6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51E8CA-AFF3-43B0-94F1-3216F6BF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65A4F0-CF10-4552-855C-3187D2D7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11171B-EFE7-4E47-9BE1-E010A3E7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3D518D-E3B2-439F-A693-D89D6E45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7F67AA-6E44-432D-8885-742784FA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208CC2-5560-48F7-8175-D1C1C92D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C9C711-62FF-4558-A019-CEEEA5F2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4C0EFA-DA08-43C8-AE3A-E22760B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D15A8-AC0A-4036-82AE-14EB0276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C65C45-2984-4C95-BD6B-E2AA309E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D2EC1E-1F26-4BEE-8C5E-17C1BC2C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FE1F46-BFF0-43F9-A8FE-B80FAA84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C497C5-6611-40E2-8D94-63512341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879743-9EAC-4257-8B51-A12E8A5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E07260-5E40-4182-9A55-2C6CB3AE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D0EDA1-9A18-4C5F-B9DA-17B9F7C0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AE1F7E-5388-42DA-AA79-5D923CFD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A8FBE7-B8C2-4C60-9CA6-493D5022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89F63C-2386-412E-942D-14D39FB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EE5-2666-475E-8782-30235E1B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79E63-2CFB-4A46-9D45-CFF08FE0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1E2F58-F587-442F-8B03-341D353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BC9123-2EE0-483F-A482-3C7A765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9F2A3A-2932-4DDF-898E-2CB6285C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30E458D-6698-4E33-B9CC-6CBEB3B4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E5A6FF-0D75-4D2C-A5C7-3DBEF0EF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C6FC0D-3970-47EC-891D-4B34C2B0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E0A79E-C8EE-4FDA-A7D1-32E327E9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87DF80-082F-4A55-94B7-19F924AE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241619F-7AAC-49A2-B097-BB52BF4A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3B89102-3DDC-479E-889D-7FF29431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CE8A0-9F69-4A75-907B-3AE44603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FF0FC9-80A2-4D47-B0BA-122F7E19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66CE64-8EB2-4800-ADAC-ECDFFA52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00975F-3031-4D3E-92CB-957B4975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21A37A-7150-4FE7-BC4A-F02320BC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9EB7F7-C918-43FF-95FA-CA920C84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B0C698-853F-45E5-B8D6-A2BC1932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F02099-6DCF-4B08-BA30-57A6C8F8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2A9F67-44CC-44D4-8F90-9D3A2E59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54F5AA-EEBE-411D-8CA0-9D942E18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EA06D8D-FE94-4D34-ACF4-BB3C7372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6D91-6D0B-4A33-B211-B211840E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E2297A-E14E-4183-B698-F8DA32A6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5F840C-2A5A-40A0-8DB1-F5A25C47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441AB3F-1F1A-420E-85E9-61E0719E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A884CC-2E4A-4F51-BBC8-C7F73AA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37020B-F341-48FB-BD6A-0498AD7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20131D7-AC86-49BD-A509-FB7FC09D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432D17-5D21-4BBC-BDF0-EB25604A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3618C3-F881-447B-B715-4A6F5DAA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F0A636-20F4-4554-AD2E-698D7A76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622B66-24A2-4CA5-9AF1-C83E9284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4F187-234E-46F0-BE26-5C5CA79B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9BAE0A-E4A9-432F-901E-B69BDBB4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C0C3C4-98B0-466D-B537-7D961B89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AEAAE5-166B-4883-9F5C-37418B28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EBD8C1-437A-45F2-9ECA-6782D0BF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EBC9A0-6939-4973-9F86-0A1CC234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078AFDF-E831-470A-832E-607B351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239797-B5BD-4AAE-A055-6470158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CA7B77E-A8F0-4601-8423-A113F1AE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EF676A-98D1-464A-8B15-63FC0CFF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6BC2CD-9A48-46AA-875C-44D63A01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0B43-B6BB-4E65-BF3B-C59B4E1D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924696-C3B3-4203-A126-833A2CD2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DBC0969-8BEA-4FD6-B146-B4456341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EB3B55-4675-496C-B614-2E3E75F6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7FFBB9-8B53-4E8C-A671-8543DA7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654D75-898D-45F8-9ACD-9F26E945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FAA5A4-5025-472D-81C8-F5AA530E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E8A2B9-56AC-43CC-9A08-986099FD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B26CE33-CF07-46FA-B164-6259BB3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DE9FCA-9A2A-4E23-A29C-7732D23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D47755-1148-4F37-A8BC-E2284BBB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48055-6470-45E2-AE7E-FC8C4F1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61A88F6-DD36-47E0-8E5C-BAA6FAB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24859BC-38C7-4062-83AC-59F45835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AEBC7F-7B13-4B97-9707-4AFB048D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1E2067-0C43-4064-A172-F3C0FC1D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1EAE6B1-01D1-448B-BBC9-E0DEB70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08D15A-2EA0-4FD0-A31C-23158BC6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691305-9738-42F7-96A4-1D3E09F1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A8979E-54C7-429B-AB7E-A0231975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304A085-9185-4A44-A7AB-E2F3398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9EA2E0-35C7-4473-B615-A000F49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C209-5A1F-40D0-BD9D-AB987A8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34E66B-51EE-4F2C-850E-BF2AD079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ED1F4E-05F6-41E4-AE8D-B8D3AF3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43D5AF-D591-4658-B4A5-0776A552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EF3A55-AC98-4E3A-918D-5C026346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929DAF-92C8-47A0-88AF-582FA87D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BB9587-9239-42C1-9D35-C0FBD491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905756-C454-444D-9C4E-02DCA0ED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7895D8-03A9-4B85-8BB6-C065A743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966971-A010-4706-AAE5-86E62415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526C60-5434-433E-A739-EEFCD4A1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4FBB-9608-4A68-B801-C6E2235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19B66A4-5D32-4C00-B275-10AF074C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E695479-B2F9-4640-955C-0B51E0B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A8C4AA-6489-4952-BC8A-5905CD11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7256C0-344F-4024-9AC7-1C51A96C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0C43E7-9ED4-4FFE-ACE7-EB973B6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5D06E0-12CF-44F4-86C6-CB22F51E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6066E7A-546D-4161-A914-D1043C96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3F02330-F9D9-4663-892B-D974BDD4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49B5B3C-3BB8-4069-B6B7-852352F9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6B1814-1305-408F-A0A8-B4EEE9D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85507-EB26-46B7-8113-0897624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F1FBB1F-B4F3-4CD7-8312-DAC7F3D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3E6F69-83B7-4EA5-ADE7-A75123E9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F2C0CD-D348-4754-9067-BE6B8C0A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D2211B-464E-4D8F-A04A-A956C161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0F3CA5-08BE-44C7-8610-B5447890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7161FC-1EAE-455B-B74A-0781320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98006F-A230-49CD-9D15-948C59AC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6C76E7-DEA0-4B34-AA72-AECCCBAC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536C8D1-5727-487B-BF0F-73BC775E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9EAF-B8BE-4DF5-9EB9-9769650D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FB6-3D52-465D-ADF7-D713C358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B1B1B-90A7-4C5F-978D-ECF321AA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E65F5-81D3-406F-9CDF-31836ABE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55CFB-4261-497E-B58A-31D99D3F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017F6-1488-49D3-A06B-FF1C01AD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FE8DA-ADC4-4B11-9454-044592B4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77910-F7C8-45D2-8D15-65BBF1E5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3D705-E862-48B6-AF65-6AD4ADBF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ED67-771E-4717-8B1E-DD53483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533BB-4392-49CC-8184-07C774BE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1D375-336C-4F55-BDB7-C94A0C3B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76D-121B-434B-9A8F-052245D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3584-9BAD-4932-815B-431B1A22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DA60C-739E-48C5-8F23-39F9FFAC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E841E-EE62-45C4-BD0E-A85015A2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6616E-79A7-49D4-8957-3193D0CD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9380-9B24-44CE-ADE4-C8D79911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C715-D64C-4943-A8D1-28A62F85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2706-1DFD-441A-BBB9-4551D413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5229-4CD2-4B13-A113-5C5E60B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F32FC-7841-43D0-A558-4B1499DF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F1600-8BED-4F01-A0D1-9614321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496-CD98-4F58-B490-763EF259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6C1C-387F-4428-AAD2-F193BDE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D6F74-9AD6-4182-B719-D80B8F87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C080A-9331-436E-8C6F-10A60E6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77CE7-12DA-4814-87BE-24B7121F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BBF6D-0E4D-4148-B32E-7F099D89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B2C7B-F09B-4812-9AC5-FD2158ED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8DFDC-80E2-47B4-BED9-FE4BF7BE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70AC2-8082-4E8F-B053-C077E82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B817-FA4F-47DC-A2AA-FD665310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1CAB8-C568-4B90-9FDA-48E53BA2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DD7-81EA-477A-AFB9-8B614FFC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87ACB-C566-4F9A-A258-C34493AF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84823-8D92-48A9-955D-258B290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7268-0D76-42EA-9A74-66D0128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5CFA-47F7-4D7E-BB25-6D1424A0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214D2-9224-47AF-8AB4-E82E6DD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5838-A085-4F70-9259-67980B74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B5CB-2186-4222-9000-92B49FC6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1F7CC-242D-49DF-9BD9-B9F093E7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57180-9759-4471-B267-789CD12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8B829-C31D-4BE8-809C-104896F0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B1CD-ACFD-4C32-B997-0B56D851129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4A4C-DC65-49BF-A46E-F774369AD98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6B01-A1D7-4CC0-9681-A7365DB8BC9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E37F-BF14-4215-84F0-036D622BD52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E7D-41D2-4A55-A43B-23C26EC5398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D126-1AB0-40F3-ACA8-2A34420BB1A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724C-56A0-451E-A774-AD7A0875335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B407-6410-491A-9CA6-C45CB24FE37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9DD0-CDF1-43CD-BDD3-5B4C87A21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069-4C3E-4CF2-8E94-86120743E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D795-748A-4849-B446-D0B988F26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CE54-2C8F-4D67-81BE-4847706B7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1D6-8ED2-4D0C-8D62-A5116AB84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6F8D-9D16-467D-BF99-6AA35766A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AFD4-8A89-40F9-A5AD-32FD9A48F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A075-F645-4DA8-AB16-2CCBE0F2B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18A9-B549-4BA8-ADAA-93DE8BDB1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2F9A-8082-4D80-BAE7-B78FCB81B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BE4C-4149-4492-85B6-6C5289412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85A3-0FE1-4AB8-B3C3-861419B6C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C679-B046-473A-BC6A-91C7FC764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204C-5B8D-41A6-A061-F3DC9ADF1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B0E-396D-4299-A8E0-6538A4367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0AE8-1734-4B4D-970E-406787433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B8CB-DC22-4960-A76F-430A49D2C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0A31-CDD7-42FA-BEC6-B924250E3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0D3C-A4FF-48B3-ABFF-9F34D6D18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F023-7AFE-4ECF-AD84-DEF468AC1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322B-EEE8-4D12-A023-562DB5CA3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6A70-7DFB-440F-B7A3-9F9AFAFB8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FF7F-C03A-4437-B934-FB2407362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6B00-C36B-4614-B599-CADF1FB6B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141A-4D2D-42AD-9E01-5B13684E7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0870-8BAE-4955-A563-3CA959F71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B060-147D-4203-9E04-105C624CE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314E-27B0-4043-AE49-83C663F05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3B3-75AE-47BE-BA82-06D53430C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32DF-DB94-4EC0-8920-E157800A8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1D4E-8217-4A51-89AC-8AA4B4731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3796-2496-4423-B8EE-B40931782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FD48-8BEC-4CAA-B673-01A395ED7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8EBD-865A-4097-A892-74F222237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3D06-10C1-46CC-93D8-5018847CB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76E2-7299-4AF5-BAB1-3E1E4B799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648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58520"/>
            <a:ext cx="7772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30364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55EB-B6FB-463C-AA9C-5549F9D213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0043-92B8-4672-AECC-3033F7E2D26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F19C-9C7B-478F-8259-CE1C73369D5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AF5-DFEA-4616-85BC-4BD70757FD5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BF49-F206-45FE-AD7F-BD90C3D890A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69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6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37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Slide Number Placeholder 4"/>
          <p:cNvSpPr/>
          <p:nvPr/>
        </p:nvSpPr>
        <p:spPr>
          <a:xfrm>
            <a:off x="2314440" y="6248520"/>
            <a:ext cx="450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896C-303C-4EDB-8AC0-73FD50FE76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730080" y="2590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Pattern Recogni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1285920" y="4673160"/>
            <a:ext cx="6919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Unsupervised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"/>
          <p:cNvSpPr/>
          <p:nvPr/>
        </p:nvSpPr>
        <p:spPr>
          <a:xfrm>
            <a:off x="804960" y="457200"/>
            <a:ext cx="760896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uter Science Department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y of Veron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6-17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BDF2-4023-4941-B328-FA94B063E2A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onothetic vs polythetic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me vengono utilizzate le featur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onothetic: viene utilizzata una feature alla volta per fare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olythetic: vengono utilizzate tutte le features simultaneamente per fare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maggior parte delle tecniche di clustering sono polytheti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5705-BCF7-4C32-9D9D-F773FCE816B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onothetic vs polythetic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o di algoritmo monothetic [Anderberg 73]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divide il data set in due clusters utilizzando una sola featur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ognuno di questi data sets viene poi diviso in due utilizzando la seconda featur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rocede così fino alla fi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vantagg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 features 2</a:t>
            </a:r>
            <a:r>
              <a:rPr b="0" lang="it-IT" sz="2000" spc="-1" strike="noStrike" baseline="30000">
                <a:solidFill>
                  <a:srgbClr val="000066"/>
                </a:solidFill>
                <a:latin typeface="Tahoma"/>
              </a:rPr>
              <a:t>d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clust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 grande, troppo frammenta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109" name="Group 4"/>
          <p:cNvGrpSpPr/>
          <p:nvPr/>
        </p:nvGrpSpPr>
        <p:grpSpPr>
          <a:xfrm>
            <a:off x="5364000" y="2708280"/>
            <a:ext cx="3168360" cy="3062880"/>
            <a:chOff x="5364000" y="2708280"/>
            <a:chExt cx="3168360" cy="3062880"/>
          </a:xfrm>
        </p:grpSpPr>
        <p:sp>
          <p:nvSpPr>
            <p:cNvPr id="2110" name="Line 5"/>
            <p:cNvSpPr/>
            <p:nvPr/>
          </p:nvSpPr>
          <p:spPr>
            <a:xfrm flipV="1">
              <a:off x="5940000" y="2923920"/>
              <a:ext cx="0" cy="2376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1" name="Line 6"/>
            <p:cNvSpPr/>
            <p:nvPr/>
          </p:nvSpPr>
          <p:spPr>
            <a:xfrm>
              <a:off x="5940000" y="5300640"/>
              <a:ext cx="2089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2" name="Text Box 7"/>
            <p:cNvSpPr/>
            <p:nvPr/>
          </p:nvSpPr>
          <p:spPr>
            <a:xfrm>
              <a:off x="7811640" y="537228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3" name="Text Box 8"/>
            <p:cNvSpPr/>
            <p:nvPr/>
          </p:nvSpPr>
          <p:spPr>
            <a:xfrm>
              <a:off x="5364000" y="299556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4" name="Text Box 9"/>
            <p:cNvSpPr/>
            <p:nvPr/>
          </p:nvSpPr>
          <p:spPr>
            <a:xfrm>
              <a:off x="6229080" y="4724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5" name="Text Box 10"/>
            <p:cNvSpPr/>
            <p:nvPr/>
          </p:nvSpPr>
          <p:spPr>
            <a:xfrm>
              <a:off x="6227280" y="42562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6" name="Text Box 11"/>
            <p:cNvSpPr/>
            <p:nvPr/>
          </p:nvSpPr>
          <p:spPr>
            <a:xfrm>
              <a:off x="6443280" y="4471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7" name="Text Box 12"/>
            <p:cNvSpPr/>
            <p:nvPr/>
          </p:nvSpPr>
          <p:spPr>
            <a:xfrm>
              <a:off x="6443280" y="4975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8" name="Text Box 13"/>
            <p:cNvSpPr/>
            <p:nvPr/>
          </p:nvSpPr>
          <p:spPr>
            <a:xfrm>
              <a:off x="6732360" y="45435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9" name="Text Box 14"/>
            <p:cNvSpPr/>
            <p:nvPr/>
          </p:nvSpPr>
          <p:spPr>
            <a:xfrm>
              <a:off x="6011640" y="45435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0" name="Text Box 15"/>
            <p:cNvSpPr/>
            <p:nvPr/>
          </p:nvSpPr>
          <p:spPr>
            <a:xfrm>
              <a:off x="6156000" y="32101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1" name="Text Box 16"/>
            <p:cNvSpPr/>
            <p:nvPr/>
          </p:nvSpPr>
          <p:spPr>
            <a:xfrm>
              <a:off x="6372000" y="34257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2" name="Text Box 17"/>
            <p:cNvSpPr/>
            <p:nvPr/>
          </p:nvSpPr>
          <p:spPr>
            <a:xfrm>
              <a:off x="6587640" y="364176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3" name="Text Box 18"/>
            <p:cNvSpPr/>
            <p:nvPr/>
          </p:nvSpPr>
          <p:spPr>
            <a:xfrm>
              <a:off x="6156000" y="3751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4" name="Text Box 19"/>
            <p:cNvSpPr/>
            <p:nvPr/>
          </p:nvSpPr>
          <p:spPr>
            <a:xfrm>
              <a:off x="6516360" y="30304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5" name="Text Box 20"/>
            <p:cNvSpPr/>
            <p:nvPr/>
          </p:nvSpPr>
          <p:spPr>
            <a:xfrm>
              <a:off x="7164000" y="2853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6" name="Text Box 21"/>
            <p:cNvSpPr/>
            <p:nvPr/>
          </p:nvSpPr>
          <p:spPr>
            <a:xfrm>
              <a:off x="7380000" y="3068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7" name="Text Box 22"/>
            <p:cNvSpPr/>
            <p:nvPr/>
          </p:nvSpPr>
          <p:spPr>
            <a:xfrm>
              <a:off x="7596000" y="3284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8" name="Text Box 23"/>
            <p:cNvSpPr/>
            <p:nvPr/>
          </p:nvSpPr>
          <p:spPr>
            <a:xfrm>
              <a:off x="7164000" y="335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9" name="Text Box 24"/>
            <p:cNvSpPr/>
            <p:nvPr/>
          </p:nvSpPr>
          <p:spPr>
            <a:xfrm>
              <a:off x="7524360" y="29242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0" name="Text Box 25"/>
            <p:cNvSpPr/>
            <p:nvPr/>
          </p:nvSpPr>
          <p:spPr>
            <a:xfrm>
              <a:off x="7453080" y="3861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1" name="Text Box 26"/>
            <p:cNvSpPr/>
            <p:nvPr/>
          </p:nvSpPr>
          <p:spPr>
            <a:xfrm>
              <a:off x="7884720" y="4003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2" name="Text Box 27"/>
            <p:cNvSpPr/>
            <p:nvPr/>
          </p:nvSpPr>
          <p:spPr>
            <a:xfrm>
              <a:off x="7524360" y="4183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3" name="Text Box 28"/>
            <p:cNvSpPr/>
            <p:nvPr/>
          </p:nvSpPr>
          <p:spPr>
            <a:xfrm>
              <a:off x="7164000" y="42195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4" name="Text Box 29"/>
            <p:cNvSpPr/>
            <p:nvPr/>
          </p:nvSpPr>
          <p:spPr>
            <a:xfrm>
              <a:off x="7453080" y="4724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5" name="Text Box 30"/>
            <p:cNvSpPr/>
            <p:nvPr/>
          </p:nvSpPr>
          <p:spPr>
            <a:xfrm>
              <a:off x="7453080" y="4292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6" name="Line 31"/>
            <p:cNvSpPr/>
            <p:nvPr/>
          </p:nvSpPr>
          <p:spPr>
            <a:xfrm>
              <a:off x="7021080" y="2708280"/>
              <a:ext cx="0" cy="2880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7" name="Line 32"/>
            <p:cNvSpPr/>
            <p:nvPr/>
          </p:nvSpPr>
          <p:spPr>
            <a:xfrm flipH="1">
              <a:off x="5939640" y="4148280"/>
              <a:ext cx="108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8" name="Line 33"/>
            <p:cNvSpPr/>
            <p:nvPr/>
          </p:nvSpPr>
          <p:spPr>
            <a:xfrm>
              <a:off x="7021080" y="378792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54D6-6A2A-4F0A-8804-BFC38322164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Graph Theory vs matrix algebr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me viene formulato matematicamente l’algoritm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raph theory: gli algoritmi sono formulati in termini di teoria dei grafi, con l’utilizzo di definizione e proprietà dei grafi (ad esempio connettività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atrix algebra: gli algoritmi sono espressi in termini di formule algebriche (ad esempio l’errore quadratico medi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8B70-1919-40D7-AEC3-06B5DE273E8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3757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crementale vs non increment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sa succede se arrivano nuovi da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crementale: il clustering può essere “aggiornato” (è costruito in modo incremental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n incrementale: all’arrivo di nuovi dati occorre riesaminare l’intero data s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aratteristica cruciale in questi anni: database sempre più grossi e sempre in espansione!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F022-AB7D-4DD0-9EE7-458A9A14B8D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Deterministico vs stocast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me viene ottimizzata la funzione di erro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terministico: ottimizzazione classica (discesa lungo il gradient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tocastico: ricerca stocastica nello spazio degli stati della soluzione (Monte Carl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ipico problema nel clustering partizionale che deve ottimizzare una funzione di errore (come lo scarto quadratico medi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60DD-27C4-46F8-B8E0-0E51DEF263C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partizion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assi di approcc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lustering sequenziale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approccio di clustering molto semplice e intuitiv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tipicamente i pattern vengono processati poche volt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in generale, il risultato finale dipende dall’ordine con cui vengono presentati i patter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funzionano bene per cluster convess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enter-based clustering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ogni cluster è rappresentato da un centr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metodi efficienti per clusterizzare database grand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’obiettivo è minimizzare una funzione di cost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funzionano bene per cluster convess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1B96-4004-427F-8605-239A822BD63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partizion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earch based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’idea è quella di minimizzare la funzione di costo in modo “globale”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odel based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’idea è quella di creare dei modelli per i dati (tipicamente probabilistici)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tipicamente si assume che i dati siano generati da una mistura di distribuzioni di probabilità in cui ogni componente identifica un cluster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C272-16E6-40A2-B146-D6AE6D9A04A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BSAS: Basic Sequential Algorithmic Sche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o di clustering sequenziale facile e intuitiv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o classico: region growing per segmentaz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sunzioni/Ide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 pattern vengono processati una volta sola, in ordi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gni pattern processato viene assegnato ad un cluster esistente oppure va a creare un nuovo clust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numero di cluster non è conosciuto a priori ma viene stimato durante il process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976-C147-489C-9FC6-D52D9C61840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BSAS: algoritm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tazione/parametr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i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: vettore di punti, 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{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,… 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N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dataset da clusterizz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j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: j-esimo cluster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d(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,C)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: distanza tra un punto e un insieme (un cluster) (simile alla distanza tra insiem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ax: distanza massi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n: distanza mini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Average: distanza med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enter-based: distanza dal “rappresentante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: soglia di dissimilar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urier New"/>
                <a:ea typeface="Tahoma"/>
              </a:rPr>
              <a:t>m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: numero di cluster trovati ad un determinato istant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6871-617A-4E65-B05F-96CFAAA091A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BSAS: algoritm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63" name="Picture 4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888192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D270-406F-4C56-91DA-84FDE7BED3B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Tassonomi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ta prelimin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istono moltissimi algoritmi di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n esiste un’unica tassonom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istono diverse suddivision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 questa lezione si adotta il punto di vista di Jai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Jain, Dubes, Alghoritms for clustering data, 1988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Jain et al., Data Clustering: a review, ACM Computing Surveys, 1999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00FC-0FA3-4864-A468-6CF9A8722A5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BSAS: algoritm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e la distanza 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d(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,C)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d(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m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C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(distanza dalla media del cluster), allora l’aggiornamento dei rappresentanti può essere fatto on-li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ta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Ck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è la media del cluster 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x è il punto aggiunto al cluster C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Ck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è la cardinalità del cluster C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67" name="Picture 4" descr=""/>
          <p:cNvPicPr/>
          <p:nvPr/>
        </p:nvPicPr>
        <p:blipFill>
          <a:blip r:embed="rId1"/>
          <a:stretch/>
        </p:blipFill>
        <p:spPr>
          <a:xfrm>
            <a:off x="2050920" y="4581360"/>
            <a:ext cx="4764240" cy="14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9034-90DD-4CDC-B9EC-B34B56F91A8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 su BS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 può osservare che l’ordine con cui vengono processati i pattern è cruc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ordini diversi possono produrre risultati diver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scelta della soglia </a:t>
            </a:r>
            <a:r>
              <a:rPr b="0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 è cruc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troppo piccola, vengono determinati tropp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troppo grande, troppo poch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si può scambiare la dissimilarità con la similarità (cambiando min con max e &gt; con &lt;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con i rappresentanti (con le medie) i cluster che escono sono compat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35B2-7A37-4EC0-8829-E59FB9DC834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etodo per calcolare il numero ottimale di cluster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for </a:t>
            </a:r>
            <a:r>
              <a:rPr b="0" lang="el-GR" sz="20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=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a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to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b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step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Eseguire </a:t>
            </a:r>
            <a:r>
              <a:rPr b="0" i="1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s 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volte l’algoritmo BSAS, ogni volta processando i pattern con un ordine different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stimare </a:t>
            </a:r>
            <a:r>
              <a:rPr b="0" i="1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m</a:t>
            </a:r>
            <a:r>
              <a:rPr b="0" i="1" lang="el-GR" sz="1800" spc="-1" strike="noStrike" baseline="-25000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 come il numero più frequente di cluster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end fo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visualizzare il numero di cluster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m</a:t>
            </a:r>
            <a:r>
              <a:rPr b="0" i="1" lang="el-GR" sz="2000" spc="-1" strike="noStrike" baseline="-25000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vs il parametro </a:t>
            </a:r>
            <a:r>
              <a:rPr b="0" lang="el-GR" sz="20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il numero di cluster ottimale è quello della regione “piatta” più lung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dettag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a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è la distanza minima tra i punti,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b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la distanza massi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assumiamo che “esista” un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00D5-EDB1-4A65-B03C-4164D9CA5CE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77" name="Picture 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3640" cy="55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4EA7-0825-4311-9818-AD154765EF2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enter-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K-mea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o più famoso di clustering partizion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nimizza una funzione di error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ogni cluster è rappresentato dalla sua med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arte da una clusterizzazione iniziale, ed ad ogni iterazione si assegna ogni pattern alla media più vicin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riaggiornano le medi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continua fino a convergenz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3DF8-2EEC-40BB-B1C4-9E9D4F81E26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enter-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l numero di cluster deve essere fissato a prior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’ottimizzazione spesso porta ad un ottimo “locale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’inizializzazione è cruciale: una cattiva inizializzazione porta ad un clustering pessim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è molto efficiente nel clusterizzare dataset grandi, perché la sua complessità computazionale è linearmente dipendente dalla dimensione del data s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cluster ottenuti hanno una forma conves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vora solo su dati vettoriali numerici (deve calcolare la medi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tipicamente viene utilizzata la distanza euclide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41D9-ADC2-42E2-B0AE-5E1FE3CE764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enter 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rianti del K-mea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ercare di migliorare l’inizializzazione ([Anderberg 1973]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SODATA (</a:t>
            </a:r>
            <a:r>
              <a:rPr b="0" i="1" lang="it-IT" sz="2400" spc="-1" strike="noStrike">
                <a:solidFill>
                  <a:srgbClr val="000066"/>
                </a:solidFill>
                <a:latin typeface="Tahoma"/>
              </a:rPr>
              <a:t>Iterative Self-Organizing Data Analysis Techniques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ermettere lo splitting e il merging dei cluster risultan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Ad ogni iterazione effettua dei controlli sui cluster risultanti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un cluster viene diviso se la sua varianza è sopra una soglia prefissata, oppure se ha troppi punt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due cluster vengono uniti se la distanza tra i due relativi centroidi è minore di un’altra soglia prefissata, oppure se hanno troppo pochi punt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 scelta delle soglie è cruciale, ma fornisce anche una soluzione alla scelta automatica del numero d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5D35-8176-4FC3-BDBE-C36F289A902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enter 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rianti del K-mea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utilizzo della distanza di Mahalanobis come distanza per i punti ([Mao Jain 1996]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vantaggio: posso anche trovare cluster ellissoidal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vantaggio: devo calcolare ogni volta la matrice di covarianz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AM (Partitioning around the medoid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’idea è quella di utilizzare come “centri” del K-means i medoidi (o i punti più centrali) invece che le medi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non introduco nuovi elementi nel dataset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più robusto agli outlier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posso lavorare anche con dati non vettoriali (data una funzione di distanza tra questi dati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62FF-5C67-40ED-8859-F0E9DFD87C7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Tahoma"/>
              </a:rPr>
              <a:t>Model-based cluster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tilizzare un insieme di modelli per 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’obiettivo diventa quello di massimizzare il fit tra i modelli e i da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assume che i dati siano generati da una mistura di funzioni di probabilità differenti, ognuna delle quali rappresenta un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ovviamente il metodo di clustering funziona bene se i dati sono conformi al modell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ue approcci al model based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lassification likelihood approach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xture likelihood approach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50B3-E03E-4654-A600-66621BB6BF4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Tahoma"/>
              </a:rPr>
              <a:t>Model-based cluster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xture likelihood approach: l’algoritmo più utilizzato è l’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istono molti risultati sulla determinazione del numero ottimale di clust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istono alcuni approcci anche per inizializzare l’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lassification likelihood approach: è equivalente al K-means assunto ch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matrice di covarianza uguale per tutti i cluster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matrice di covarianza proporzionale all’identità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112F-84F2-451B-9D72-6A73C98BCDD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assi di approcc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 seconda del punto di vista possiamo avere differenti clas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erarchico vs partizion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Hard clustering vs soft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gglomerativo vs divisiv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eriale (sequenziale) vs simultane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onothetic vs polytheti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raph Theory vs matrix algebr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crementale vs non increment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terministico vs stocastic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45E6-A55C-465B-ACCB-C91AB6767BF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odel 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aussian Mixture Models (GMM)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ecnica di soft clustering molto utilizzata (mixture likelihood approach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mistura è composta da Gaussia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modello è stimato utilizzando Expectation-Maximization (EM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E7C4-77A1-46CF-BBAA-42C6AE2C32E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Esempi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01" name="Picture 3" descr=""/>
          <p:cNvPicPr/>
          <p:nvPr/>
        </p:nvPicPr>
        <p:blipFill>
          <a:blip r:embed="rId1"/>
          <a:srcRect l="22240" t="15539" r="4517" b="5710"/>
          <a:stretch/>
        </p:blipFill>
        <p:spPr>
          <a:xfrm>
            <a:off x="0" y="763560"/>
            <a:ext cx="89298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E19-3EB5-4343-9475-693C04A9F37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odel 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olto utilizzato in svariati contes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’inizializzazione è un proble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umero di cluster: il problema può essere visto come un problema di model selecti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qual’è la miglior dimensione del modello dati i dati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39CB-1FF2-4101-A560-F27C002E6E8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i di clustering che generano una serie di partizioni innestat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appresentazione di un clustering gerarchico: il dendrogram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08" name="Picture 4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69600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B995-D1CB-4492-8481-FE45E63D13D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ing gerarchico agglomerativ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arte da una partizione in cui ogni cluster contiene un solo elem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continua a fondere i cluster più “simili” fino ad avere un solo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finizioni diverse del concetto di “cluster più simili” genera algoritmi diver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pprocci più utilizza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ngle lin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mplete lin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formulazione con le matric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FFF1-F10A-468E-BC67-6E4EF67E0C4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ing gerarchico agglomerativ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arte da una partizione in cui ogni cluster contiene un solo elem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continua a fondere i cluster più “simili” fino ad avere un solo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finizioni diverse del concetto di “cluster più simili” genera algoritmi diver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pprocci più utilizza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ngle lin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mplete lin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formulazione con le matric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681F-1F8D-4E11-896B-9415D0E0343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17" name="Picture 3" descr=""/>
          <p:cNvPicPr/>
          <p:nvPr/>
        </p:nvPicPr>
        <p:blipFill>
          <a:blip r:embed="rId1"/>
          <a:stretch/>
        </p:blipFill>
        <p:spPr>
          <a:xfrm>
            <a:off x="179280" y="1819440"/>
            <a:ext cx="5545080" cy="4470120"/>
          </a:xfrm>
          <a:prstGeom prst="rect">
            <a:avLst/>
          </a:prstGeom>
          <a:ln w="0">
            <a:noFill/>
          </a:ln>
        </p:spPr>
      </p:pic>
      <p:pic>
        <p:nvPicPr>
          <p:cNvPr id="2218" name="Picture 4" descr=""/>
          <p:cNvPicPr/>
          <p:nvPr/>
        </p:nvPicPr>
        <p:blipFill>
          <a:blip r:embed="rId2"/>
          <a:stretch/>
        </p:blipFill>
        <p:spPr>
          <a:xfrm>
            <a:off x="5796000" y="765000"/>
            <a:ext cx="2608200" cy="2953080"/>
          </a:xfrm>
          <a:prstGeom prst="rect">
            <a:avLst/>
          </a:prstGeom>
          <a:ln w="0">
            <a:noFill/>
          </a:ln>
        </p:spPr>
      </p:pic>
      <p:pic>
        <p:nvPicPr>
          <p:cNvPr id="2219" name="Picture 5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2073600" cy="2667240"/>
          </a:xfrm>
          <a:prstGeom prst="rect">
            <a:avLst/>
          </a:prstGeom>
          <a:ln w="0">
            <a:noFill/>
          </a:ln>
        </p:spPr>
      </p:pic>
      <p:sp>
        <p:nvSpPr>
          <p:cNvPr id="2220" name="Text Box 6"/>
          <p:cNvSpPr/>
          <p:nvPr/>
        </p:nvSpPr>
        <p:spPr>
          <a:xfrm>
            <a:off x="468360" y="62848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ngle lin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1" name="Text Box 7"/>
          <p:cNvSpPr/>
          <p:nvPr/>
        </p:nvSpPr>
        <p:spPr>
          <a:xfrm>
            <a:off x="3564000" y="6354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lete lin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222" name="Group 8"/>
          <p:cNvGrpSpPr/>
          <p:nvPr/>
        </p:nvGrpSpPr>
        <p:grpSpPr>
          <a:xfrm>
            <a:off x="324000" y="765000"/>
            <a:ext cx="4811400" cy="836640"/>
            <a:chOff x="324000" y="765000"/>
            <a:chExt cx="4811400" cy="836640"/>
          </a:xfrm>
        </p:grpSpPr>
        <p:grpSp>
          <p:nvGrpSpPr>
            <p:cNvPr id="2223" name="Group 9"/>
            <p:cNvGrpSpPr/>
            <p:nvPr/>
          </p:nvGrpSpPr>
          <p:grpSpPr>
            <a:xfrm>
              <a:off x="826920" y="765000"/>
              <a:ext cx="4308480" cy="836640"/>
              <a:chOff x="826920" y="765000"/>
              <a:chExt cx="4308480" cy="836640"/>
            </a:xfrm>
          </p:grpSpPr>
          <p:pic>
            <p:nvPicPr>
              <p:cNvPr id="2224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826920" y="765000"/>
                <a:ext cx="430848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5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26920" y="1196640"/>
                <a:ext cx="4308480" cy="40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Text Box 12"/>
            <p:cNvSpPr/>
            <p:nvPr/>
          </p:nvSpPr>
          <p:spPr>
            <a:xfrm>
              <a:off x="324000" y="765000"/>
              <a:ext cx="86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SL CL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02FB-23B8-4CD2-82BF-8A9CED865A3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ngle link unisce due cluster se esiste un solo edg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tende a formare cluster allunga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lete link unisce due cluster se tutti gli elementi sono conness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iù conservativo, tende a formare cluster conves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 generale è stato dimostrato che Complete Link funziona megli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s of single-link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Text Box 3"/>
          <p:cNvSpPr/>
          <p:nvPr/>
        </p:nvSpPr>
        <p:spPr>
          <a:xfrm>
            <a:off x="1066680" y="4267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232" name="Group 4"/>
          <p:cNvGrpSpPr/>
          <p:nvPr/>
        </p:nvGrpSpPr>
        <p:grpSpPr>
          <a:xfrm>
            <a:off x="4876920" y="1981080"/>
            <a:ext cx="4103640" cy="2654280"/>
            <a:chOff x="4876920" y="1981080"/>
            <a:chExt cx="4103640" cy="2654280"/>
          </a:xfrm>
        </p:grpSpPr>
        <p:sp>
          <p:nvSpPr>
            <p:cNvPr id="2233" name="Text Box 5"/>
            <p:cNvSpPr/>
            <p:nvPr/>
          </p:nvSpPr>
          <p:spPr>
            <a:xfrm>
              <a:off x="5410080" y="42670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Cluster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234" name="Picture 6" descr=""/>
            <p:cNvPicPr/>
            <p:nvPr/>
          </p:nvPicPr>
          <p:blipFill>
            <a:blip r:embed="rId1"/>
            <a:srcRect l="8928" t="0" r="7142" b="0"/>
            <a:stretch/>
          </p:blipFill>
          <p:spPr>
            <a:xfrm>
              <a:off x="4876920" y="1981080"/>
              <a:ext cx="4103640" cy="20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5" name="Picture 7" descr=""/>
          <p:cNvPicPr/>
          <p:nvPr/>
        </p:nvPicPr>
        <p:blipFill>
          <a:blip r:embed="rId2"/>
          <a:srcRect l="8928" t="0" r="5357" b="0"/>
          <a:stretch/>
        </p:blipFill>
        <p:spPr>
          <a:xfrm>
            <a:off x="152280" y="1981080"/>
            <a:ext cx="4186440" cy="2092320"/>
          </a:xfrm>
          <a:prstGeom prst="rect">
            <a:avLst/>
          </a:prstGeom>
          <a:ln w="0">
            <a:noFill/>
          </a:ln>
        </p:spPr>
      </p:pic>
      <p:sp>
        <p:nvSpPr>
          <p:cNvPr id="2236" name="Text Box 8"/>
          <p:cNvSpPr/>
          <p:nvPr/>
        </p:nvSpPr>
        <p:spPr>
          <a:xfrm>
            <a:off x="609480" y="557676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non-elliptical shap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single-link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Text Box 3"/>
          <p:cNvSpPr/>
          <p:nvPr/>
        </p:nvSpPr>
        <p:spPr>
          <a:xfrm>
            <a:off x="1066680" y="47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3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426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240" name="Group 5"/>
          <p:cNvGrpSpPr/>
          <p:nvPr/>
        </p:nvGrpSpPr>
        <p:grpSpPr>
          <a:xfrm>
            <a:off x="4265640" y="1523880"/>
            <a:ext cx="4268520" cy="3568680"/>
            <a:chOff x="4265640" y="1523880"/>
            <a:chExt cx="4268520" cy="3568680"/>
          </a:xfrm>
        </p:grpSpPr>
        <p:sp>
          <p:nvSpPr>
            <p:cNvPr id="2241" name="Text Box 6"/>
            <p:cNvSpPr/>
            <p:nvPr/>
          </p:nvSpPr>
          <p:spPr>
            <a:xfrm>
              <a:off x="5180040" y="472428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Cluster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242" name="Picture 7" descr=""/>
            <p:cNvPicPr/>
            <p:nvPr/>
          </p:nvPicPr>
          <p:blipFill>
            <a:blip r:embed="rId2"/>
            <a:stretch/>
          </p:blipFill>
          <p:spPr>
            <a:xfrm>
              <a:off x="4265640" y="1523880"/>
              <a:ext cx="426852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3" name="Text Box 8"/>
          <p:cNvSpPr/>
          <p:nvPr/>
        </p:nvSpPr>
        <p:spPr>
          <a:xfrm>
            <a:off x="609480" y="557676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ve to noise and outli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produces long, elongated clust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236-6F47-4015-9BE2-87D5CCC75E7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Gerarchico vs partizionale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il tipo di risultato dell’operazione di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ing Partizionale: il risultato è una singola partizione dei dati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(tipicamente il numero di cluster deve essere dato a prior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ira ad identificare i gruppi naturali presenti nel datas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ipicamente richiede che i dati siano rappresentati in forma vettori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genera una partizione (insieme di cluster disgiunti la cui unione ritorna il data set original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lustering Gerarchico: il risultato è una serie di partizioni innestate (un “dendrogramma”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ira ad evidenziare le relazioni tra i vari pattern del datas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ipicamente richiede una matrice di prossim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s of complete-link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Text Box 3"/>
          <p:cNvSpPr/>
          <p:nvPr/>
        </p:nvSpPr>
        <p:spPr>
          <a:xfrm>
            <a:off x="1370160" y="43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46" name="Picture 4" descr=""/>
          <p:cNvPicPr/>
          <p:nvPr/>
        </p:nvPicPr>
        <p:blipFill>
          <a:blip r:embed="rId1"/>
          <a:srcRect l="0" t="0" r="0" b="11907"/>
          <a:stretch/>
        </p:blipFill>
        <p:spPr>
          <a:xfrm>
            <a:off x="303120" y="1295280"/>
            <a:ext cx="4268880" cy="2819520"/>
          </a:xfrm>
          <a:prstGeom prst="rect">
            <a:avLst/>
          </a:prstGeom>
          <a:ln w="0">
            <a:noFill/>
          </a:ln>
        </p:spPr>
      </p:pic>
      <p:grpSp>
        <p:nvGrpSpPr>
          <p:cNvPr id="2247" name="Group 5"/>
          <p:cNvGrpSpPr/>
          <p:nvPr/>
        </p:nvGrpSpPr>
        <p:grpSpPr>
          <a:xfrm>
            <a:off x="4341960" y="1219320"/>
            <a:ext cx="4268520" cy="3506760"/>
            <a:chOff x="4341960" y="1219320"/>
            <a:chExt cx="4268520" cy="3506760"/>
          </a:xfrm>
        </p:grpSpPr>
        <p:sp>
          <p:nvSpPr>
            <p:cNvPr id="2248" name="Text Box 6"/>
            <p:cNvSpPr/>
            <p:nvPr/>
          </p:nvSpPr>
          <p:spPr>
            <a:xfrm>
              <a:off x="5180040" y="43578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Cluster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249" name="Picture 7" descr=""/>
            <p:cNvPicPr/>
            <p:nvPr/>
          </p:nvPicPr>
          <p:blipFill>
            <a:blip r:embed="rId2"/>
            <a:srcRect l="0" t="0" r="0" b="11907"/>
            <a:stretch/>
          </p:blipFill>
          <p:spPr>
            <a:xfrm>
              <a:off x="4341960" y="1219320"/>
              <a:ext cx="426852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0" name="Text Box 8"/>
          <p:cNvSpPr/>
          <p:nvPr/>
        </p:nvSpPr>
        <p:spPr>
          <a:xfrm>
            <a:off x="609480" y="557676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balanced clusters (with equal diameter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susceptible to nois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complete-link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2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2253" name="Text Box 4"/>
          <p:cNvSpPr/>
          <p:nvPr/>
        </p:nvSpPr>
        <p:spPr>
          <a:xfrm>
            <a:off x="1066680" y="47386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254" name="Group 5"/>
          <p:cNvGrpSpPr/>
          <p:nvPr/>
        </p:nvGrpSpPr>
        <p:grpSpPr>
          <a:xfrm>
            <a:off x="4417920" y="1371600"/>
            <a:ext cx="4268880" cy="3735360"/>
            <a:chOff x="4417920" y="1371600"/>
            <a:chExt cx="4268880" cy="3735360"/>
          </a:xfrm>
        </p:grpSpPr>
        <p:pic>
          <p:nvPicPr>
            <p:cNvPr id="2255" name="Picture 6" descr=""/>
            <p:cNvPicPr/>
            <p:nvPr/>
          </p:nvPicPr>
          <p:blipFill>
            <a:blip r:embed="rId2"/>
            <a:stretch/>
          </p:blipFill>
          <p:spPr>
            <a:xfrm>
              <a:off x="4417920" y="1371600"/>
              <a:ext cx="42688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6" name="Text Box 7"/>
            <p:cNvSpPr/>
            <p:nvPr/>
          </p:nvSpPr>
          <p:spPr>
            <a:xfrm>
              <a:off x="5180040" y="473868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Cluster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257" name="Text Box 8"/>
          <p:cNvSpPr/>
          <p:nvPr/>
        </p:nvSpPr>
        <p:spPr>
          <a:xfrm>
            <a:off x="609480" y="54864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s to break large clust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usters tend to have the same diameter – small  clusters are merged with larger on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54BC-773A-4A57-962F-52EA30097CA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031" name="Group 3"/>
          <p:cNvGrpSpPr/>
          <p:nvPr/>
        </p:nvGrpSpPr>
        <p:grpSpPr>
          <a:xfrm>
            <a:off x="3995640" y="549360"/>
            <a:ext cx="3889080" cy="2853360"/>
            <a:chOff x="3995640" y="549360"/>
            <a:chExt cx="3889080" cy="2853360"/>
          </a:xfrm>
        </p:grpSpPr>
        <p:sp>
          <p:nvSpPr>
            <p:cNvPr id="2032" name="Oval 4"/>
            <p:cNvSpPr/>
            <p:nvPr/>
          </p:nvSpPr>
          <p:spPr>
            <a:xfrm>
              <a:off x="6138720" y="549360"/>
              <a:ext cx="1141920" cy="638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3" name="Oval 5"/>
            <p:cNvSpPr/>
            <p:nvPr/>
          </p:nvSpPr>
          <p:spPr>
            <a:xfrm>
              <a:off x="6541920" y="1393200"/>
              <a:ext cx="1141920" cy="3826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4" name="Oval 6"/>
            <p:cNvSpPr/>
            <p:nvPr/>
          </p:nvSpPr>
          <p:spPr>
            <a:xfrm>
              <a:off x="4459320" y="1889640"/>
              <a:ext cx="1544400" cy="9561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035" name="Group 7"/>
            <p:cNvGrpSpPr/>
            <p:nvPr/>
          </p:nvGrpSpPr>
          <p:grpSpPr>
            <a:xfrm>
              <a:off x="3995640" y="591120"/>
              <a:ext cx="3552840" cy="2383560"/>
              <a:chOff x="3995640" y="591120"/>
              <a:chExt cx="3552840" cy="2383560"/>
            </a:xfrm>
          </p:grpSpPr>
          <p:sp>
            <p:nvSpPr>
              <p:cNvPr id="2036" name="Line 8"/>
              <p:cNvSpPr/>
              <p:nvPr/>
            </p:nvSpPr>
            <p:spPr>
              <a:xfrm flipV="1">
                <a:off x="4404240" y="591120"/>
                <a:ext cx="0" cy="238068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37" name="Line 9"/>
              <p:cNvSpPr/>
              <p:nvPr/>
            </p:nvSpPr>
            <p:spPr>
              <a:xfrm>
                <a:off x="4404240" y="2972160"/>
                <a:ext cx="3144240" cy="252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200" bIns="-432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38" name="Oval 10"/>
              <p:cNvSpPr/>
              <p:nvPr/>
            </p:nvSpPr>
            <p:spPr>
              <a:xfrm rot="20469000">
                <a:off x="4541760" y="2132640"/>
                <a:ext cx="482400" cy="5130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39" name="Text Box 11"/>
              <p:cNvSpPr/>
              <p:nvPr/>
            </p:nvSpPr>
            <p:spPr>
              <a:xfrm>
                <a:off x="4601160" y="2273400"/>
                <a:ext cx="40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0" name="Text Box 12"/>
              <p:cNvSpPr/>
              <p:nvPr/>
            </p:nvSpPr>
            <p:spPr>
              <a:xfrm>
                <a:off x="3995640" y="741600"/>
                <a:ext cx="740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GB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1" name="Text Box 13"/>
              <p:cNvSpPr/>
              <p:nvPr/>
            </p:nvSpPr>
            <p:spPr>
              <a:xfrm>
                <a:off x="5340240" y="227340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2" name="Text Box 14"/>
              <p:cNvSpPr/>
              <p:nvPr/>
            </p:nvSpPr>
            <p:spPr>
              <a:xfrm>
                <a:off x="5340240" y="189072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3" name="Text Box 15"/>
              <p:cNvSpPr/>
              <p:nvPr/>
            </p:nvSpPr>
            <p:spPr>
              <a:xfrm>
                <a:off x="6280920" y="61488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4" name="Text Box 16"/>
              <p:cNvSpPr/>
              <p:nvPr/>
            </p:nvSpPr>
            <p:spPr>
              <a:xfrm>
                <a:off x="6750360" y="132948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5" name="Text Box 17"/>
              <p:cNvSpPr/>
              <p:nvPr/>
            </p:nvSpPr>
            <p:spPr>
              <a:xfrm>
                <a:off x="6750360" y="61488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6" name="Text Box 18"/>
              <p:cNvSpPr/>
              <p:nvPr/>
            </p:nvSpPr>
            <p:spPr>
              <a:xfrm>
                <a:off x="7086600" y="132948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047" name="Text Box 19"/>
            <p:cNvSpPr/>
            <p:nvPr/>
          </p:nvSpPr>
          <p:spPr>
            <a:xfrm>
              <a:off x="7146000" y="2892600"/>
              <a:ext cx="73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GB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048" name="Group 20"/>
          <p:cNvGrpSpPr/>
          <p:nvPr/>
        </p:nvGrpSpPr>
        <p:grpSpPr>
          <a:xfrm>
            <a:off x="-38160" y="2205000"/>
            <a:ext cx="3817800" cy="3008520"/>
            <a:chOff x="-38160" y="2205000"/>
            <a:chExt cx="3817800" cy="3008520"/>
          </a:xfrm>
        </p:grpSpPr>
        <p:grpSp>
          <p:nvGrpSpPr>
            <p:cNvPr id="2049" name="Group 21"/>
            <p:cNvGrpSpPr/>
            <p:nvPr/>
          </p:nvGrpSpPr>
          <p:grpSpPr>
            <a:xfrm>
              <a:off x="-38160" y="2205000"/>
              <a:ext cx="3541680" cy="2566080"/>
              <a:chOff x="-38160" y="2205000"/>
              <a:chExt cx="3541680" cy="2566080"/>
            </a:xfrm>
          </p:grpSpPr>
          <p:sp>
            <p:nvSpPr>
              <p:cNvPr id="2050" name="Line 22"/>
              <p:cNvSpPr/>
              <p:nvPr/>
            </p:nvSpPr>
            <p:spPr>
              <a:xfrm flipV="1">
                <a:off x="369000" y="2205000"/>
                <a:ext cx="0" cy="256320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1" name="Line 23"/>
              <p:cNvSpPr/>
              <p:nvPr/>
            </p:nvSpPr>
            <p:spPr>
              <a:xfrm>
                <a:off x="369000" y="4768200"/>
                <a:ext cx="3134520" cy="288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2840" bIns="-4284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2" name="Oval 24"/>
              <p:cNvSpPr/>
              <p:nvPr/>
            </p:nvSpPr>
            <p:spPr>
              <a:xfrm rot="20469000">
                <a:off x="506160" y="3864240"/>
                <a:ext cx="480960" cy="552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3" name="Text Box 25"/>
              <p:cNvSpPr/>
              <p:nvPr/>
            </p:nvSpPr>
            <p:spPr>
              <a:xfrm>
                <a:off x="565200" y="4015800"/>
                <a:ext cx="40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4" name="Text Box 26"/>
              <p:cNvSpPr/>
              <p:nvPr/>
            </p:nvSpPr>
            <p:spPr>
              <a:xfrm>
                <a:off x="-38160" y="2366640"/>
                <a:ext cx="73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GB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5" name="Text Box 27"/>
              <p:cNvSpPr/>
              <p:nvPr/>
            </p:nvSpPr>
            <p:spPr>
              <a:xfrm>
                <a:off x="1302120" y="401580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6" name="Text Box 28"/>
              <p:cNvSpPr/>
              <p:nvPr/>
            </p:nvSpPr>
            <p:spPr>
              <a:xfrm>
                <a:off x="1302120" y="360252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7" name="Text Box 29"/>
              <p:cNvSpPr/>
              <p:nvPr/>
            </p:nvSpPr>
            <p:spPr>
              <a:xfrm>
                <a:off x="2239920" y="223020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8" name="Text Box 30"/>
              <p:cNvSpPr/>
              <p:nvPr/>
            </p:nvSpPr>
            <p:spPr>
              <a:xfrm>
                <a:off x="2707920" y="299988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9" name="Text Box 31"/>
              <p:cNvSpPr/>
              <p:nvPr/>
            </p:nvSpPr>
            <p:spPr>
              <a:xfrm>
                <a:off x="2707920" y="223020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60" name="Text Box 32"/>
              <p:cNvSpPr/>
              <p:nvPr/>
            </p:nvSpPr>
            <p:spPr>
              <a:xfrm>
                <a:off x="3043080" y="299988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061" name="Text Box 33"/>
            <p:cNvSpPr/>
            <p:nvPr/>
          </p:nvSpPr>
          <p:spPr>
            <a:xfrm>
              <a:off x="3043080" y="4703400"/>
              <a:ext cx="736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GB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062" name="Group 34"/>
          <p:cNvGrpSpPr/>
          <p:nvPr/>
        </p:nvGrpSpPr>
        <p:grpSpPr>
          <a:xfrm>
            <a:off x="4140360" y="3500280"/>
            <a:ext cx="3816360" cy="3434760"/>
            <a:chOff x="4140360" y="3500280"/>
            <a:chExt cx="3816360" cy="3434760"/>
          </a:xfrm>
        </p:grpSpPr>
        <p:cxnSp>
          <p:nvCxnSpPr>
            <p:cNvPr id="2063" name="AutoShape 35"/>
            <p:cNvCxnSpPr/>
            <p:nvPr/>
          </p:nvCxnSpPr>
          <p:spPr>
            <a:xfrm flipH="1" rot="16200000">
              <a:off x="6525360" y="6114240"/>
              <a:ext cx="1800" cy="4651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64" name="AutoShape 36"/>
            <p:cNvCxnSpPr/>
            <p:nvPr/>
          </p:nvCxnSpPr>
          <p:spPr>
            <a:xfrm flipH="1" rot="16200000">
              <a:off x="5594040" y="6113880"/>
              <a:ext cx="1800" cy="466200"/>
            </a:xfrm>
            <a:prstGeom prst="bentConnector3">
              <a:avLst>
                <a:gd name="adj1" fmla="val -345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65" name="AutoShape 37"/>
            <p:cNvCxnSpPr/>
            <p:nvPr/>
          </p:nvCxnSpPr>
          <p:spPr>
            <a:xfrm flipH="1" rot="16200000">
              <a:off x="7456320" y="6113520"/>
              <a:ext cx="1800" cy="466560"/>
            </a:xfrm>
            <a:prstGeom prst="bentConnector3">
              <a:avLst>
                <a:gd name="adj1" fmla="val -686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grpSp>
          <p:nvGrpSpPr>
            <p:cNvPr id="2066" name="Group 38"/>
            <p:cNvGrpSpPr/>
            <p:nvPr/>
          </p:nvGrpSpPr>
          <p:grpSpPr>
            <a:xfrm>
              <a:off x="4897440" y="5109480"/>
              <a:ext cx="730800" cy="1238040"/>
              <a:chOff x="4897440" y="5109480"/>
              <a:chExt cx="730800" cy="1238040"/>
            </a:xfrm>
          </p:grpSpPr>
          <p:sp>
            <p:nvSpPr>
              <p:cNvPr id="2067" name="Oval 39"/>
              <p:cNvSpPr/>
              <p:nvPr/>
            </p:nvSpPr>
            <p:spPr>
              <a:xfrm>
                <a:off x="5562720" y="5815800"/>
                <a:ext cx="65520" cy="6660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2068" name="AutoShape 40"/>
              <p:cNvCxnSpPr>
                <a:stCxn id="2067" idx="0"/>
                <a:endCxn id="2069" idx="0"/>
              </p:cNvCxnSpPr>
              <p:nvPr/>
            </p:nvCxnSpPr>
            <p:spPr>
              <a:xfrm rot="5400000">
                <a:off x="4974120" y="5725800"/>
                <a:ext cx="545040" cy="699120"/>
              </a:xfrm>
              <a:prstGeom prst="bentConnector3">
                <a:avLst>
                  <a:gd name="adj1" fmla="val -127296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2070" name="Group 41"/>
            <p:cNvGrpSpPr/>
            <p:nvPr/>
          </p:nvGrpSpPr>
          <p:grpSpPr>
            <a:xfrm>
              <a:off x="6492960" y="4482000"/>
              <a:ext cx="995760" cy="1693800"/>
              <a:chOff x="6492960" y="4482000"/>
              <a:chExt cx="995760" cy="1693800"/>
            </a:xfrm>
          </p:grpSpPr>
          <p:sp>
            <p:nvSpPr>
              <p:cNvPr id="2071" name="Oval 42"/>
              <p:cNvSpPr/>
              <p:nvPr/>
            </p:nvSpPr>
            <p:spPr>
              <a:xfrm>
                <a:off x="6492960" y="6108840"/>
                <a:ext cx="6552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2" name="Oval 43"/>
              <p:cNvSpPr/>
              <p:nvPr/>
            </p:nvSpPr>
            <p:spPr>
              <a:xfrm>
                <a:off x="7422840" y="5313960"/>
                <a:ext cx="6588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2073" name="AutoShape 44"/>
              <p:cNvCxnSpPr>
                <a:stCxn id="2071" idx="0"/>
                <a:endCxn id="2072" idx="0"/>
              </p:cNvCxnSpPr>
              <p:nvPr/>
            </p:nvCxnSpPr>
            <p:spPr>
              <a:xfrm flipH="1" flipV="1" rot="5400000">
                <a:off x="6593760" y="5245920"/>
                <a:ext cx="795600" cy="930960"/>
              </a:xfrm>
              <a:prstGeom prst="bentConnector3">
                <a:avLst>
                  <a:gd name="adj1" fmla="val 204572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2074" name="Group 45"/>
            <p:cNvGrpSpPr/>
            <p:nvPr/>
          </p:nvGrpSpPr>
          <p:grpSpPr>
            <a:xfrm>
              <a:off x="5203800" y="4042800"/>
              <a:ext cx="1819080" cy="1098720"/>
              <a:chOff x="5203800" y="4042800"/>
              <a:chExt cx="1819080" cy="1098720"/>
            </a:xfrm>
          </p:grpSpPr>
          <p:sp>
            <p:nvSpPr>
              <p:cNvPr id="2075" name="Oval 46"/>
              <p:cNvSpPr/>
              <p:nvPr/>
            </p:nvSpPr>
            <p:spPr>
              <a:xfrm>
                <a:off x="5203800" y="5074560"/>
                <a:ext cx="6588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6" name="Oval 47"/>
              <p:cNvSpPr/>
              <p:nvPr/>
            </p:nvSpPr>
            <p:spPr>
              <a:xfrm>
                <a:off x="6957360" y="4454640"/>
                <a:ext cx="6552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2077" name="AutoShape 48"/>
              <p:cNvCxnSpPr>
                <a:stCxn id="2075" idx="0"/>
                <a:endCxn id="2076" idx="0"/>
              </p:cNvCxnSpPr>
              <p:nvPr/>
            </p:nvCxnSpPr>
            <p:spPr>
              <a:xfrm flipH="1" flipV="1" rot="5400000">
                <a:off x="5803920" y="3887640"/>
                <a:ext cx="620640" cy="1753920"/>
              </a:xfrm>
              <a:prstGeom prst="bentConnector3">
                <a:avLst>
                  <a:gd name="adj1" fmla="val 166337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2078" name="Group 49"/>
            <p:cNvGrpSpPr/>
            <p:nvPr/>
          </p:nvGrpSpPr>
          <p:grpSpPr>
            <a:xfrm>
              <a:off x="4140360" y="3500280"/>
              <a:ext cx="3748320" cy="3434760"/>
              <a:chOff x="4140360" y="3500280"/>
              <a:chExt cx="3748320" cy="3434760"/>
            </a:xfrm>
          </p:grpSpPr>
          <p:sp>
            <p:nvSpPr>
              <p:cNvPr id="2069" name="Text Box 50"/>
              <p:cNvSpPr/>
              <p:nvPr/>
            </p:nvSpPr>
            <p:spPr>
              <a:xfrm>
                <a:off x="4698360" y="63471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9" name="Text Box 51"/>
              <p:cNvSpPr/>
              <p:nvPr/>
            </p:nvSpPr>
            <p:spPr>
              <a:xfrm>
                <a:off x="5162760" y="63471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0" name="Text Box 52"/>
              <p:cNvSpPr/>
              <p:nvPr/>
            </p:nvSpPr>
            <p:spPr>
              <a:xfrm>
                <a:off x="5628600" y="63471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1" name="Text Box 53"/>
              <p:cNvSpPr/>
              <p:nvPr/>
            </p:nvSpPr>
            <p:spPr>
              <a:xfrm>
                <a:off x="7024680" y="6347160"/>
                <a:ext cx="3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2" name="Text Box 54"/>
              <p:cNvSpPr/>
              <p:nvPr/>
            </p:nvSpPr>
            <p:spPr>
              <a:xfrm>
                <a:off x="6094440" y="63471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3" name="Text Box 55"/>
              <p:cNvSpPr/>
              <p:nvPr/>
            </p:nvSpPr>
            <p:spPr>
              <a:xfrm>
                <a:off x="7490520" y="63471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4" name="Text Box 56"/>
              <p:cNvSpPr/>
              <p:nvPr/>
            </p:nvSpPr>
            <p:spPr>
              <a:xfrm>
                <a:off x="6558840" y="63471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5" name="Line 57"/>
              <p:cNvSpPr/>
              <p:nvPr/>
            </p:nvSpPr>
            <p:spPr>
              <a:xfrm>
                <a:off x="4434480" y="3500280"/>
                <a:ext cx="0" cy="33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6" name="Text Box 58"/>
              <p:cNvSpPr/>
              <p:nvPr/>
            </p:nvSpPr>
            <p:spPr>
              <a:xfrm>
                <a:off x="4140360" y="3791880"/>
                <a:ext cx="295920" cy="31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simi lari tà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087" name="Line 59"/>
            <p:cNvSpPr/>
            <p:nvPr/>
          </p:nvSpPr>
          <p:spPr>
            <a:xfrm>
              <a:off x="4566600" y="4724280"/>
              <a:ext cx="339012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88" name="Text Box 60"/>
          <p:cNvSpPr/>
          <p:nvPr/>
        </p:nvSpPr>
        <p:spPr>
          <a:xfrm>
            <a:off x="7020000" y="22622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artizion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9" name="Text Box 61"/>
          <p:cNvSpPr/>
          <p:nvPr/>
        </p:nvSpPr>
        <p:spPr>
          <a:xfrm>
            <a:off x="7093080" y="3860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gerarchi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0" name="Text Box 62"/>
          <p:cNvSpPr/>
          <p:nvPr/>
        </p:nvSpPr>
        <p:spPr>
          <a:xfrm>
            <a:off x="755640" y="508464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roblema origin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4BBE-A5FA-4DA7-912A-66566B07E19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Gerarchico vs partizion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Ulteriori dettag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artizional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ottimo per dataset grand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cegliere il numero di cluster è un problema (esistono metodi per determinare in modo automatico il numero di cluster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ipicamente il clustering è il risultato di un procedimento di ottimizzazione, definito sia localmente (in un sottoinsieme dei pattern) che globalmente (in tutti i patter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empi: K-means (e sue varianti), Mean Shift,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erarchic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non è necessario settare a priori il numero di cluster… non li da’!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iù informativo del partizionale, è improponibile per dataset grand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empi: Complete Link, Single Link, Ward Link,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430E-259A-4F36-B615-150A2240EA0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Hard clustering vs soft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la natura dei cluster risultan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Hard clustering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 pattern viene assegnato ad un unico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sia durante l’esecuzione dell’algoritmo che nel risultat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tto anche clustering “esclusivo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oft clustering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 pattern può essere assegnato a diversi clust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tto anche “fuzzy clustering” o “clustering non esclusivo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i può essere una funzione di “membership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uò essere trasformato in hard guardando la massima membership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O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raggruppare persone per età è esclusiv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raggrupparle per malattia è non esclusiv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24F9-2A55-4878-BF21-68C3453468B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Agglomerativo vs divisiv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me vengono formati i clust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gglomerativo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struisce i cluster effettuando operazioni di “merge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nizia con un cluster per ogni pattern, e successivamente fonde cluster assieme fino al raggiungimento di una determinata condiz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visivo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struisce i cluster effettuando operazioni di “split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nizia con un unico cluster contenente tutti i dati, e successivamente divide i cluster fino al raggiungimento di una determinata condiz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tipo di procedura piuttosto che tipo di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è naturalmente applicabile al clustering gerarchico, ma funziona anche per il clustering partizion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EE77-FF58-44CC-9CE5-AF33C63563D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Sequenziale vs simultane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in che modo vengono processati i patter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equenziale: i pattern vengono processati uno alla volt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multaneo: i pattern vengono processati tutti assie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O sequenziale: prende un pattern alla volta e lo assegna ad un clust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8:17:52Z</dcterms:created>
  <dc:creator>Manuele Bicego</dc:creator>
  <dc:description/>
  <dc:language>en-US</dc:language>
  <cp:lastModifiedBy>Marco Cristani</cp:lastModifiedBy>
  <dcterms:modified xsi:type="dcterms:W3CDTF">2017-05-24T06:15:49Z</dcterms:modified>
  <cp:revision>1382</cp:revision>
  <dc:subject/>
  <dc:title>Aerial images analysis for the extraction of geographical entities</dc:title>
</cp:coreProperties>
</file>