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324F2E-EB69-4441-A3E1-4418FA979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A73DD4D-B4F7-4F79-8DA4-B848A64F20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BF720A-4E62-4F47-A19E-A8D073A7F293}" type="slidenum">
              <a:rPr b="0" lang="en-US" sz="13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B00-AD56-4796-93CC-98FA2DFD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073-B04F-4131-82EC-B56E9AAF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BDDA5-CE9A-4E7F-AC7D-92F9776C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DC458-6966-4A15-B82C-1E91BE1C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65484-EB8D-4B42-9452-6DEA8D21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67954-ED8A-43FE-B25E-B847E5EC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36618-4DC5-4714-A3DB-A8440817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076B0-5D9D-4AF5-A073-20A2D5EF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81A8D-F0F9-450F-8FD3-8241EE2A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F23BF-8412-4913-8561-5E8261FB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BA6BA-1BFA-41AD-B2E9-53FCD13E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7DEA0-1CA3-4D10-96B0-54CD2716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3F1-CD5D-44EE-8E05-72BAFD3D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B615E-4AD6-4163-AC13-3E437EF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84F68-2DB9-4B7C-909E-E59B7E76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909F2-D25C-486A-B628-4BB822B2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6B9B5-A1C6-4ECB-984E-D03B6BF8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D726B-D539-4F78-BCC1-D0EB5B80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11A8C-5049-4A3B-89A5-23087D2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1F33D-5BC3-484B-ACA3-44F5E0B6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8F3A6-0DB2-47BF-9563-3C9B675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6D56C-9EBC-4AAD-B39A-C14670BE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6EF66-A428-4A47-999A-0C56BD79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9D1-2EEE-4BDE-99EC-5F800673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76F75-0C66-4DA5-854C-D879383C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BD97A-E092-417A-AA66-B90A66FD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75337-7ED9-4786-A1B0-683076A2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25F03-A496-44C6-8A80-1BECDC12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CEFD4-602B-4312-B6DB-EC9731C6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74CE2-BD27-40A0-B832-FC5465AA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EB708-9C7F-4A83-84EC-F90E3BA0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59DA6-8563-4FED-B602-32AE55DF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F3365-6B8D-4A80-83CA-8881F63A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4B8B7-170E-4FFE-B129-29E68D2E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6295-7F43-4B3F-85C6-F2766EA1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13D3F-B7B2-4002-9A76-F9F4B835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CFCB5-2274-4F6F-AA8E-19A0C222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95EE4-A881-410A-952C-9794E56D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456BD-8FEE-478C-A782-740EC5B4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D35BB-DDD4-42BE-BE36-060156B4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2DADF-E047-4025-9646-26494166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56D6B-0D5F-45A6-B8F7-609D52B0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99CC6-4106-4DC1-8547-9E1BE90D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3619A-7DFF-47EF-84D6-A955F914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26753-D3EB-42B9-85C8-F5EE8FE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7389-C991-41F9-8F6A-BC865939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97AC7-0A33-487D-B427-CD2F4D8C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66557-C5BA-406E-9D5B-5A32DB46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D60D6-DFE0-4C83-ADDE-5429561A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F116F-7DDC-4AF8-956F-9E529806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5D9A8-A11F-4DFD-81F3-A604E447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235D2-5B10-4CD1-812C-4F45BE32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1C52B-4F49-42F7-8E4C-F890C1B5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F7B9A-38BF-4BAC-B5F4-F285470E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7D196-EE4B-4E35-BCAC-815C3749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3E0D6-B538-4FB4-AF81-7D3ABBD9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0CC4-03A6-4FD0-A3B6-986E1C5E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DD655-A952-432E-BE4E-E5D7FCEB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B1996-BAE0-480E-ABEA-32768138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D6909-B80A-4CE0-B476-77B58B1D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21BF5-2727-46C6-867D-AF965D5C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9B5ED-B684-4289-A47C-7D412774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8EB42-4CA2-4F49-A401-FC680C2B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CD5F5-C4FB-436E-84CD-BEB94DD7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9E3F-0D6E-498A-9AC4-105B95B0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5954-5E98-4751-A69A-0C8A9AF1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AA66-B8CF-4FD1-9AF4-B35F140B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E3DB-E208-4216-8889-4ECDF4AD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5B8-69CB-4E2D-874B-D089536E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E490-6D20-472C-8EB6-B72CD6A5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A3A7-DDF1-49E8-A522-E355C2D1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9FE3-4864-423B-AF3E-EFEA7ACF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888C-2017-4CE8-888E-2DAAD1DE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514B-ED29-4381-B8B0-26B2281F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80763-D102-41E8-ACC2-D723628D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01F7-6260-4C41-9820-EAE37A3B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084E-5564-4F79-A211-52B745D3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9AB11-2DB2-4898-831E-47A5EDBA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823C-7A38-4790-B1BF-08D67D68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02E-8F2E-4C35-B036-88B5B285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469F-905B-4AC8-AC1B-04B22F77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972C-1671-4D35-A0FC-781E30F2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668D1-3EE6-4A5E-8A7C-AA4F41BC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10B8F-CE6D-4439-8A7D-F04B5AE6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4F55E-EB31-4097-83D2-494CE574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41EE-A8FA-4F9A-8C1D-FB96CD42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51719-E91E-4CC0-8278-42EFA4E6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D055-1A87-403A-8907-33CFC377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39CFF-0290-45F8-BE2B-9297DE5B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BDF20-851A-4610-A5B8-DA0CC215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04C-8B14-48DA-9F75-DBB70853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0F7E-517C-40A4-8BD9-29B9BFAB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0C10-2A05-4028-8BCE-8A46285D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C809A-C142-4594-BE05-68B7F476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2AFCA-A38B-4A2B-BB9C-2BFE0ED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BF92D-5965-4105-8C95-2DFD0AA0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B95FB-2080-44C6-9235-ACEEDE11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F6426-CD2C-4C7C-AA2D-8ECF5AC5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05BD-49BD-40F6-87A8-922E53DA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6004D-1F20-4345-850B-F36CF894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48AC8-439E-4F04-A397-39334F3C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035-AA17-43F6-8791-093F1F07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1C055-80EC-462E-AA42-EA9576D0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1192E-00D2-4770-8F40-619579B8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6CE9A-4F58-4331-B4E3-9450D2CA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52D4-BE88-4CDA-AF88-1CB65CD6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A910B-6176-443F-A6CA-3B0398ED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03134-AD50-4173-AA8A-75E959EC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25C68-3DC9-40D5-A925-B91F8797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6D6B7-4AD5-4D07-A4C8-E5CD1B42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DEC69-5571-4776-B1AA-1DD03191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B6D2A-6D72-4B6A-BF67-E0C0AC2C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5EB-CFA1-493C-804F-DD1E67C4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CD683-52F1-4297-A4FE-5CD5B082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33FBF-73B3-40B3-836A-ED0F38E1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52BBC-6504-4A01-988E-A8582DB1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856D3-B116-43C4-BCD6-DEBB2C78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3BB32-1637-427F-B63D-8CD4259C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E7D58-79A3-4DF7-8A1B-18D00A45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5B50F-F6F5-49C7-A7D9-75309BB1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4D09F-824C-43AD-B15B-AF28B092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58F5C-683A-4D5D-B71A-96F7AB3E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A019C-20BA-4D9A-BCBA-0097D34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055-D667-4C5C-8674-BB3F2799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BC5F1-BA98-4258-986F-69B128D4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E0FCD-09D6-42DD-8F5E-B78C38AC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B058A-4A22-480F-9966-D86533F6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CC79D-5CB6-47B0-9474-07189D02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17700-20DE-49A9-AB7C-386A693F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14211-84A9-4D8F-A863-9DCC2596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CC1BC-BFF8-4F47-B5EC-47C4C6BB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BC934-2BA7-419A-9008-1FDBFCB1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29F1F-08C1-40D3-A006-F4A0CC51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C8885-777C-4535-AD86-7ED71ECC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329-BC5D-4D64-B2F2-FB00E700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145C5-3A16-4398-A3EB-73156E5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7A93C-DE28-4EB8-B1AB-F186E337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328B2-743D-4634-ADCA-1FC55FC3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53635-3A0E-48E2-BA09-4C1B0D98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44944-9FAF-484D-8460-518D1FB0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F7B5E-034D-4409-969E-A86ED5F3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56A2C-982D-4FD6-B270-D9F2662C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4789E-8E95-4CE8-BF95-E5EA59B2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8DE43-E31A-4DF4-8823-3B8959D6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4587E-6FF5-47E7-B218-D7C34415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DBD-BB4B-4952-8810-1ABE352C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5D3FF-C5E9-4B24-A538-C00607B2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C8B5F-5A43-49EA-B031-4C973213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B98E4-185C-496F-A2F0-2F417C54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21027-B722-4820-9539-C386902D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931DF-8D1B-45CA-A05B-AC5E4299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74513-C263-4C47-ABE1-732CA724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FCE56-18C0-4BD8-A05C-1DD5E676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0DBD3-8653-4787-9AF6-73FD2796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D2CBF-B2CC-4B6A-A19C-29ACAD51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8C47E-1CBD-4504-B709-F0F620D7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8C04-5405-4BCD-A4D0-54D5E80F431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B863-046E-4AC8-A6BA-AC9F2677AAD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6797-433F-4AED-B3F7-534A4C5738E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DF3E-A479-4CAF-8B9D-46E696CAA20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338D-5C37-4611-AE7D-2213DE11582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648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58520"/>
            <a:ext cx="7772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0364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FEEA-CD52-4D05-B168-EAEE0F5BE5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759C-1117-4CC6-B73F-74E256AB012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78C9-CF19-4753-9E7F-FD734448084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816E-CDA7-442C-B8A8-74597FE54D6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F7DA-5D23-4182-8214-237F628E22F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C5ED-AD92-4F5C-ACF7-5D0F6352374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99FE-69E5-4255-86BC-81E1210F29A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8782-3CD6-411D-8B73-773545FE146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2314440" y="6248520"/>
            <a:ext cx="450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5687-E72A-4359-AB08-7BB55C925C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0080" y="2590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Pattern Recogni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5920" y="4673160"/>
            <a:ext cx="6919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Unsupervised classification - va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804960" y="457200"/>
            <a:ext cx="760896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uter Science Department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y of Veron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6-17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4427-A4FE-4A1E-A775-458DFEA3271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riteri inter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a cophenetic distance misura quando sono simili due oggetti “dato l’albero” (cioè la misura di distanza espressa dall’albero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PCC: coefficiente di correlazione normalizza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8551800" cy="12319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324000" y="4292640"/>
            <a:ext cx="2388960" cy="6904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2376360" cy="70488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7"/>
          <p:cNvSpPr/>
          <p:nvPr/>
        </p:nvSpPr>
        <p:spPr>
          <a:xfrm>
            <a:off x="3059280" y="4222800"/>
            <a:ext cx="5473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sura la correlazione tra la distanza derivante dai dati e la distanza derivante dal dendrogramma che spiega i dati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=n(n-1)/2, n numero di oggetti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PCC varia tra -1 e 1: più è vicino a 1 migliore è il clust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F283-14F1-416B-86C0-5A9A58C7E0B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partizio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ispondono alle seguenti doman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a partizione ha un buon match con le categorie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Quanti cluster ci sono nel dataset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ove deve essere tagliato il dendrogramm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Quale tra due partizioni date fitta meglio il dataset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A839-C565-4408-94CC-F754722D225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partizio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estern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Tipicamente si va a confrontare due partizion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na deriva dal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na deriva dall’informazione a priori (etichette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versi indici Rand, Jaccard, Fowlkes and Mallows,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Г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tatistic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F0F1-0730-4F15-9392-07C18DA6332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partizio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dea: ho due partizioni U e V da confronta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: risultato del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V: clustering “vero” (deriva dalle etichette note a priori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finizione di due funzioni Indicatric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U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(i,j) vale 1 se gli oggetti i e j sono nello stesso cluster secondo il clustering U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(i,j) vale 1 se gli oggetti i e j sono nello stesso cluster secondo il clustering V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finizione della “tabella di contingenza”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611" name="Group 35"/>
          <p:cNvGrpSpPr/>
          <p:nvPr/>
        </p:nvGrpSpPr>
        <p:grpSpPr>
          <a:xfrm>
            <a:off x="2557440" y="4843440"/>
            <a:ext cx="2374920" cy="1898640"/>
            <a:chOff x="2557440" y="4843440"/>
            <a:chExt cx="2374920" cy="1898640"/>
          </a:xfrm>
        </p:grpSpPr>
        <p:grpSp>
          <p:nvGrpSpPr>
            <p:cNvPr id="612" name="Group 27"/>
            <p:cNvGrpSpPr/>
            <p:nvPr/>
          </p:nvGrpSpPr>
          <p:grpSpPr>
            <a:xfrm>
              <a:off x="2916360" y="5157720"/>
              <a:ext cx="2015640" cy="1584360"/>
              <a:chOff x="2916360" y="5157720"/>
              <a:chExt cx="2015640" cy="1584360"/>
            </a:xfrm>
          </p:grpSpPr>
          <p:sp>
            <p:nvSpPr>
              <p:cNvPr id="613" name="Rectangle 22"/>
              <p:cNvSpPr/>
              <p:nvPr/>
            </p:nvSpPr>
            <p:spPr>
              <a:xfrm>
                <a:off x="3348000" y="5661000"/>
                <a:ext cx="1584000" cy="1081080"/>
              </a:xfrm>
              <a:prstGeom prst="rect">
                <a:avLst/>
              </a:prstGeom>
              <a:noFill/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Text Box 23"/>
              <p:cNvSpPr/>
              <p:nvPr/>
            </p:nvSpPr>
            <p:spPr>
              <a:xfrm>
                <a:off x="3563640" y="5661000"/>
                <a:ext cx="122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66"/>
                    </a:solidFill>
                    <a:latin typeface="Tahoma"/>
                  </a:rPr>
                  <a:t>a       b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Text Box 24"/>
              <p:cNvSpPr/>
              <p:nvPr/>
            </p:nvSpPr>
            <p:spPr>
              <a:xfrm>
                <a:off x="3563640" y="6237360"/>
                <a:ext cx="122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66"/>
                    </a:solidFill>
                    <a:latin typeface="Tahoma"/>
                  </a:rPr>
                  <a:t>c       d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Text Box 25"/>
              <p:cNvSpPr/>
              <p:nvPr/>
            </p:nvSpPr>
            <p:spPr>
              <a:xfrm>
                <a:off x="3563640" y="5157720"/>
                <a:ext cx="122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66"/>
                    </a:solidFill>
                    <a:latin typeface="Tahoma"/>
                  </a:rPr>
                  <a:t>1       0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Text Box 26"/>
              <p:cNvSpPr/>
              <p:nvPr/>
            </p:nvSpPr>
            <p:spPr>
              <a:xfrm>
                <a:off x="2916360" y="5661000"/>
                <a:ext cx="122364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66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66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618" name="Text Box 33"/>
            <p:cNvSpPr/>
            <p:nvPr/>
          </p:nvSpPr>
          <p:spPr>
            <a:xfrm>
              <a:off x="2557440" y="5877000"/>
              <a:ext cx="93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66"/>
                  </a:solidFill>
                  <a:latin typeface="Tahoma"/>
                </a:rPr>
                <a:t>I</a:t>
              </a:r>
              <a:r>
                <a:rPr b="0" lang="it-IT" sz="2400" spc="-1" strike="noStrike" baseline="-25000">
                  <a:solidFill>
                    <a:srgbClr val="000066"/>
                  </a:solidFill>
                  <a:latin typeface="Tahoma"/>
                </a:rPr>
                <a:t>U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19" name="Text Box 34"/>
            <p:cNvSpPr/>
            <p:nvPr/>
          </p:nvSpPr>
          <p:spPr>
            <a:xfrm>
              <a:off x="3997440" y="4843440"/>
              <a:ext cx="93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66"/>
                  </a:solidFill>
                  <a:latin typeface="Tahoma"/>
                </a:rPr>
                <a:t>I</a:t>
              </a:r>
              <a:r>
                <a:rPr b="0" lang="it-IT" sz="2400" spc="-1" strike="noStrike" baseline="-25000">
                  <a:solidFill>
                    <a:srgbClr val="000066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620" name="Text Box 36"/>
          <p:cNvSpPr/>
          <p:nvPr/>
        </p:nvSpPr>
        <p:spPr>
          <a:xfrm>
            <a:off x="5724360" y="530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a = numero di coppie di oggetti che sono nello stesso gruppo in tutte e due le partizioni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ACDA-C611-4EEF-9F93-01A5EF3BD9E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partizio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ltre definizio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= numero di coppie nello stesso gruppo in U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1 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= a+b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= numero di coppie nello stesso gruppo in V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2 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= c+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 = a+b+c+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3ABA-758C-4A45-805F-F132EAFBA57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partizio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 diversi indici sono definiti a partire da queste quantità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an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Jaccar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Fowlkes &amp; Mallow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Γ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 statistic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27" name="Picture 4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1190520" cy="1197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"/>
          <p:cNvPicPr/>
          <p:nvPr/>
        </p:nvPicPr>
        <p:blipFill>
          <a:blip r:embed="rId2"/>
          <a:stretch/>
        </p:blipFill>
        <p:spPr>
          <a:xfrm>
            <a:off x="2195640" y="3121200"/>
            <a:ext cx="1515960" cy="5522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"/>
          <p:cNvPicPr/>
          <p:nvPr/>
        </p:nvPicPr>
        <p:blipFill>
          <a:blip r:embed="rId3"/>
          <a:stretch/>
        </p:blipFill>
        <p:spPr>
          <a:xfrm>
            <a:off x="3780000" y="4076640"/>
            <a:ext cx="1911240" cy="7286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"/>
          <p:cNvPicPr/>
          <p:nvPr/>
        </p:nvPicPr>
        <p:blipFill>
          <a:blip r:embed="rId4"/>
          <a:stretch/>
        </p:blipFill>
        <p:spPr>
          <a:xfrm>
            <a:off x="2195640" y="5157720"/>
            <a:ext cx="3690720" cy="9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8DBA-3384-4018-8F64-FB0171CD745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partizio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intern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fficili da stimare: devono misurare il fitting tra una partizione data e il datase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roblema fondamentale: stimare il numero di cluster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olti metodi (esempio metodi di model selection per modelli probabilistici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a molte difficoltà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tima della baseline (campionamento di molti dataset + stima di un indice interno --- ma quale modello per campionare i dati?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Gli indici interni dipendono strettamente dai parametri del problem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Numero di features, numero di patterns, numero di clusters …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9F88-5048-484D-B88B-DE240C5F569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Un particolare indic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’indice di Davies-Bouldin (1979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nizialmente utilizzato per decidere quando fermare un clustering sequenzi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’indice viene calcolato al variare del numero di cluster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miglior clustering corrisponde al valore minim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(definizione alla lavagna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16E2-394B-4FF0-97B3-5AF31E0ACE3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40" name="Picture 4" descr=""/>
          <p:cNvPicPr/>
          <p:nvPr/>
        </p:nvPicPr>
        <p:blipFill>
          <a:blip r:embed="rId1"/>
          <a:stretch/>
        </p:blipFill>
        <p:spPr>
          <a:xfrm>
            <a:off x="539640" y="888840"/>
            <a:ext cx="8388360" cy="585324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5"/>
          <p:cNvSpPr/>
          <p:nvPr/>
        </p:nvSpPr>
        <p:spPr>
          <a:xfrm>
            <a:off x="87480" y="0"/>
            <a:ext cx="90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Può anche essere utilizzato per determinare la presenza di una struttura di cluster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03CD-6EB5-446C-88DE-472B9183261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Validità di singoli cluste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basati su due proprietà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mpattezza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solamen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pattezza: misura la coesione interna tra gli oggetti del cluster (quanto sono vicini tra di loro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solamento: misura la separazione tra un cluster e tutti gli altri patter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luster valido: compatto e isola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e misurare compattezza e isolament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versi indici complessi (vedi Cap 4.5 Libro Jain Dubes)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32B8-28A1-490B-B00A-7629086E148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66"/>
                </a:solidFill>
                <a:latin typeface="Tahoma"/>
              </a:rPr>
              <a:t>Sommario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finizione di validazione del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idazione di gerarchi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idazione di partizio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lustering tendency”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6935-13B5-4D9C-B86A-09FAAC22249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tendenc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roblema: gli algoritmi di clustering producono sempre un output, indipendentemente dal datase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finizione: identificare, senza effettuare il clustering, se i dati hanno una predisposizione ad aggregarsi in gruppi natural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Operazione preliminare crucial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reviene dall’applicare elaborate metodologie di clustering e di validazione a dati in cui i cluster sono sicuramente degli artefatti degli algoritmi di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0688-FDAC-4C3F-A0C2-076441FFB3A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tendenc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DEA: studio dello spazio delle features in modo da identificare tre possibili situazion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 pattern sono sistemati in modo casuale (spatial randomness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 pattern sono aggregati, cioè esibiscono una mutua attrazio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 pattern sono spaziati regolarmente, cioè esibiscono una mutua repulsio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ei casi 1 e 3 non ha senso effettuare il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2B00-1B91-4EC7-9C8D-914515A01B2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 tendenc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654" name="Group 4"/>
          <p:cNvGrpSpPr/>
          <p:nvPr/>
        </p:nvGrpSpPr>
        <p:grpSpPr>
          <a:xfrm>
            <a:off x="63360" y="1138320"/>
            <a:ext cx="9467640" cy="3486960"/>
            <a:chOff x="63360" y="1138320"/>
            <a:chExt cx="9467640" cy="3486960"/>
          </a:xfrm>
        </p:grpSpPr>
        <p:pic>
          <p:nvPicPr>
            <p:cNvPr id="655" name="Picture 5" descr=""/>
            <p:cNvPicPr/>
            <p:nvPr/>
          </p:nvPicPr>
          <p:blipFill>
            <a:blip r:embed="rId1"/>
            <a:stretch/>
          </p:blipFill>
          <p:spPr>
            <a:xfrm>
              <a:off x="63360" y="1138320"/>
              <a:ext cx="3058920" cy="30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6" descr=""/>
            <p:cNvPicPr/>
            <p:nvPr/>
          </p:nvPicPr>
          <p:blipFill>
            <a:blip r:embed="rId2"/>
            <a:stretch/>
          </p:blipFill>
          <p:spPr>
            <a:xfrm>
              <a:off x="6075000" y="1141560"/>
              <a:ext cx="297504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Text Box 7"/>
            <p:cNvSpPr/>
            <p:nvPr/>
          </p:nvSpPr>
          <p:spPr>
            <a:xfrm>
              <a:off x="963360" y="416556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66"/>
                  </a:solidFill>
                  <a:latin typeface="Tahoma"/>
                </a:rPr>
                <a:t>random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58" name="Text Box 8"/>
            <p:cNvSpPr/>
            <p:nvPr/>
          </p:nvSpPr>
          <p:spPr>
            <a:xfrm>
              <a:off x="3916080" y="416556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66"/>
                  </a:solidFill>
                  <a:latin typeface="Tahoma"/>
                </a:rPr>
                <a:t>regular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59" name="Text Box 9"/>
            <p:cNvSpPr/>
            <p:nvPr/>
          </p:nvSpPr>
          <p:spPr>
            <a:xfrm>
              <a:off x="6867360" y="416556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66"/>
                  </a:solidFill>
                  <a:latin typeface="Tahoma"/>
                </a:rPr>
                <a:t>cluster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60" name="Picture 10" descr=""/>
            <p:cNvPicPr/>
            <p:nvPr/>
          </p:nvPicPr>
          <p:blipFill>
            <a:blip r:embed="rId3"/>
            <a:stretch/>
          </p:blipFill>
          <p:spPr>
            <a:xfrm>
              <a:off x="3122280" y="1138320"/>
              <a:ext cx="2943360" cy="302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2908-CA16-4BEF-A2BC-F5FB0361CDF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 tendenc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DEA: effettuare alcuni test in modo da determinare se esiste o meno una struttura (e.g. test per una distribuzione uniforme in una finestra detta sampling window)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EMP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can tests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ntare il numero di pattern presenti nella sottoregione più popolos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e il numero è inusualmente grande allora esiste un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ROBLEMI: come definire le sottoregioni, cosa vuol dire “inusualmente grande”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8006-4945-4C4B-8824-26F2351DA9E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 tendenc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EMP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Quadrat analysis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artizionare la sampling window in rettangoli di dimensione ugua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ntare il numero di punti in ogni rettangol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n caso di distribuzione randomica, l’insieme di conteggi segue una distribuzione nota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a randomicità viene attestata con un test di similarità tra distribuzioni (e.g. il test del chi quadro)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ROBLEMI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dimensione dei sottorettangoli (si può anche fare multiscala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Funziona solo per un numero limitato di features (altrimenti la maggior parte dei rettangoli sono vuoti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98EE-27E7-4308-818A-51B4F947DD4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Definizion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idazione del clustering: insieme di procedure che valutano il risultato di un’analisi di clustering in modo quantitativo e oggettiv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ifferente dalla validazione “soggettiva”: data dal particolare contesto applicativo, con l’utilizzo della conoscenza a priori sul problema (intesa anche come “interpretazione dei risultati”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n questa parte: validazione “oggettiva”: misura </a:t>
            </a:r>
            <a:r>
              <a:rPr b="0" lang="it-IT" sz="2000" spc="-1" strike="noStrike" u="sng">
                <a:solidFill>
                  <a:srgbClr val="000066"/>
                </a:solidFill>
                <a:uFillTx/>
                <a:latin typeface="Tahoma"/>
              </a:rPr>
              <a:t>quantitativa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della capacità della struttura trovata di spiegare i dati (indipendentemente dal contesto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92FE-3886-4F67-A41A-22E4E0DFC4F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li indici possono essere diversi a seconda della struttura analizzata (del tipo di clustering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erarchie: risultato degli algoritmi gerarchic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ossiamo anche voler valutare una gerarchia esistente, ad esempio un modello teoric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artizioni: risultato degli algoritmi partizional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può valutare una partizione esistente derivante da informazioni di categor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0E03-DF00-4668-9FB8-2022AA833DD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Tipi di indic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esterni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surano le performance di un clustering andando a confrontare informazioni a priori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Esempio: etichette già note a prior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intern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surano le performance di un clustering utilizzando solo i dati (completamente non supervisionato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relativ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nfronta due risultati di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95DE-B393-480F-A0F2-A4CDC74E520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TA: differenza tra criterio e indi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ndice: misura statistica che viene utilizzata per testare la validità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o: strategia con cui un clustering viene valida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TIPICAMENT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el caso di criteri interni o esterni, si va a vedere se il valore di un indice è particolarmente “grande” o particolarmente “piccolo”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D9E6-261D-427C-9889-241A2C9D1BE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Questioni principal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finizione di un indic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eve avere senso anche da un punto di vista intuitiv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eve essere basato su una solida teor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eve essere facilmente calcolabi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4059-322F-4F68-AF1A-6BD1FA1C308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gerarchi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esterni: verificare se una gerarchia (dendrogramma) calcolata per un dato insieme di dati corrisponde alla gerarchia attes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pproccio tipico (Hubert’s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Г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 statistic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Nota: questo problema di validazione non ha ricevuto un grande interesse, in quanto è piuttosto difficile avere una gerarchia “vera” con cui confrontare il clustering 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0675-04B5-48A6-9240-D87E34EFF61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riteri inter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ispondono alle seguenti doman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na gerarchia fitta bene i dati su cui è stata calcolat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i si può fidare di un determinato risultato di clustering gerarchic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Un esempio: CPCC (Cophenetic correlation coefficient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phenetic distance: il livello di un dendrogramma dove due oggetti sono stati messi nello stesso cluster per la prima volt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568" name="Group 4"/>
          <p:cNvGrpSpPr/>
          <p:nvPr/>
        </p:nvGrpSpPr>
        <p:grpSpPr>
          <a:xfrm>
            <a:off x="250920" y="3381480"/>
            <a:ext cx="3816360" cy="3434760"/>
            <a:chOff x="250920" y="3381480"/>
            <a:chExt cx="3816360" cy="3434760"/>
          </a:xfrm>
        </p:grpSpPr>
        <p:cxnSp>
          <p:nvCxnSpPr>
            <p:cNvPr id="569" name="AutoShape 5"/>
            <p:cNvCxnSpPr/>
            <p:nvPr/>
          </p:nvCxnSpPr>
          <p:spPr>
            <a:xfrm flipH="1" rot="16200000">
              <a:off x="2635920" y="5995440"/>
              <a:ext cx="1800" cy="4651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0" name="AutoShape 6"/>
            <p:cNvCxnSpPr/>
            <p:nvPr/>
          </p:nvCxnSpPr>
          <p:spPr>
            <a:xfrm flipH="1" rot="16200000">
              <a:off x="1704600" y="5995080"/>
              <a:ext cx="1800" cy="466200"/>
            </a:xfrm>
            <a:prstGeom prst="bentConnector3">
              <a:avLst>
                <a:gd name="adj1" fmla="val -34500000"/>
              </a:avLst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1" name="AutoShape 7"/>
            <p:cNvCxnSpPr/>
            <p:nvPr/>
          </p:nvCxnSpPr>
          <p:spPr>
            <a:xfrm flipH="1" rot="16200000">
              <a:off x="3566880" y="5994720"/>
              <a:ext cx="1800" cy="466560"/>
            </a:xfrm>
            <a:prstGeom prst="bentConnector3">
              <a:avLst>
                <a:gd name="adj1" fmla="val -68600000"/>
              </a:avLst>
            </a:prstGeom>
            <a:ln w="28440">
              <a:solidFill>
                <a:srgbClr val="000066"/>
              </a:solidFill>
              <a:miter/>
            </a:ln>
          </p:spPr>
        </p:cxnSp>
        <p:grpSp>
          <p:nvGrpSpPr>
            <p:cNvPr id="572" name="Group 8"/>
            <p:cNvGrpSpPr/>
            <p:nvPr/>
          </p:nvGrpSpPr>
          <p:grpSpPr>
            <a:xfrm>
              <a:off x="1008000" y="4990680"/>
              <a:ext cx="730800" cy="1238040"/>
              <a:chOff x="1008000" y="4990680"/>
              <a:chExt cx="730800" cy="1238040"/>
            </a:xfrm>
          </p:grpSpPr>
          <p:sp>
            <p:nvSpPr>
              <p:cNvPr id="573" name="Oval 9"/>
              <p:cNvSpPr/>
              <p:nvPr/>
            </p:nvSpPr>
            <p:spPr>
              <a:xfrm>
                <a:off x="1673280" y="5697000"/>
                <a:ext cx="65520" cy="6660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cxnSp>
            <p:nvCxnSpPr>
              <p:cNvPr id="574" name="AutoShape 10"/>
              <p:cNvCxnSpPr>
                <a:stCxn id="573" idx="0"/>
                <a:endCxn id="575" idx="0"/>
              </p:cNvCxnSpPr>
              <p:nvPr/>
            </p:nvCxnSpPr>
            <p:spPr>
              <a:xfrm rot="5400000">
                <a:off x="1084680" y="5607000"/>
                <a:ext cx="545040" cy="699120"/>
              </a:xfrm>
              <a:prstGeom prst="bentConnector3">
                <a:avLst>
                  <a:gd name="adj1" fmla="val -127296"/>
                </a:avLst>
              </a:prstGeom>
              <a:ln w="2844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576" name="Group 11"/>
            <p:cNvGrpSpPr/>
            <p:nvPr/>
          </p:nvGrpSpPr>
          <p:grpSpPr>
            <a:xfrm>
              <a:off x="2603520" y="4363200"/>
              <a:ext cx="995760" cy="1693800"/>
              <a:chOff x="2603520" y="4363200"/>
              <a:chExt cx="995760" cy="1693800"/>
            </a:xfrm>
          </p:grpSpPr>
          <p:sp>
            <p:nvSpPr>
              <p:cNvPr id="577" name="Oval 12"/>
              <p:cNvSpPr/>
              <p:nvPr/>
            </p:nvSpPr>
            <p:spPr>
              <a:xfrm>
                <a:off x="2603520" y="5990040"/>
                <a:ext cx="6552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78" name="Oval 13"/>
              <p:cNvSpPr/>
              <p:nvPr/>
            </p:nvSpPr>
            <p:spPr>
              <a:xfrm>
                <a:off x="3533400" y="5195160"/>
                <a:ext cx="6588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cxnSp>
            <p:nvCxnSpPr>
              <p:cNvPr id="579" name="AutoShape 14"/>
              <p:cNvCxnSpPr>
                <a:stCxn id="577" idx="0"/>
                <a:endCxn id="578" idx="0"/>
              </p:cNvCxnSpPr>
              <p:nvPr/>
            </p:nvCxnSpPr>
            <p:spPr>
              <a:xfrm flipH="1" flipV="1" rot="5400000">
                <a:off x="2704320" y="5127120"/>
                <a:ext cx="795600" cy="930960"/>
              </a:xfrm>
              <a:prstGeom prst="bentConnector3">
                <a:avLst>
                  <a:gd name="adj1" fmla="val 204572"/>
                </a:avLst>
              </a:prstGeom>
              <a:ln w="2844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580" name="Group 15"/>
            <p:cNvGrpSpPr/>
            <p:nvPr/>
          </p:nvGrpSpPr>
          <p:grpSpPr>
            <a:xfrm>
              <a:off x="1314360" y="3924000"/>
              <a:ext cx="1819080" cy="1098720"/>
              <a:chOff x="1314360" y="3924000"/>
              <a:chExt cx="1819080" cy="1098720"/>
            </a:xfrm>
          </p:grpSpPr>
          <p:sp>
            <p:nvSpPr>
              <p:cNvPr id="581" name="Oval 16"/>
              <p:cNvSpPr/>
              <p:nvPr/>
            </p:nvSpPr>
            <p:spPr>
              <a:xfrm>
                <a:off x="1314360" y="4955760"/>
                <a:ext cx="6588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2" name="Oval 17"/>
              <p:cNvSpPr/>
              <p:nvPr/>
            </p:nvSpPr>
            <p:spPr>
              <a:xfrm>
                <a:off x="3067920" y="4335840"/>
                <a:ext cx="6552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cxnSp>
            <p:nvCxnSpPr>
              <p:cNvPr id="583" name="AutoShape 18"/>
              <p:cNvCxnSpPr>
                <a:stCxn id="581" idx="0"/>
                <a:endCxn id="582" idx="0"/>
              </p:cNvCxnSpPr>
              <p:nvPr/>
            </p:nvCxnSpPr>
            <p:spPr>
              <a:xfrm flipH="1" flipV="1" rot="5400000">
                <a:off x="1914480" y="3768840"/>
                <a:ext cx="620640" cy="1753920"/>
              </a:xfrm>
              <a:prstGeom prst="bentConnector3">
                <a:avLst>
                  <a:gd name="adj1" fmla="val 166337"/>
                </a:avLst>
              </a:prstGeom>
              <a:ln w="2844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584" name="Group 19"/>
            <p:cNvGrpSpPr/>
            <p:nvPr/>
          </p:nvGrpSpPr>
          <p:grpSpPr>
            <a:xfrm>
              <a:off x="250920" y="3381480"/>
              <a:ext cx="3748320" cy="3434760"/>
              <a:chOff x="250920" y="3381480"/>
              <a:chExt cx="3748320" cy="3434760"/>
            </a:xfrm>
          </p:grpSpPr>
          <p:sp>
            <p:nvSpPr>
              <p:cNvPr id="575" name="Text Box 20"/>
              <p:cNvSpPr/>
              <p:nvPr/>
            </p:nvSpPr>
            <p:spPr>
              <a:xfrm>
                <a:off x="808920" y="62283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5" name="Text Box 21"/>
              <p:cNvSpPr/>
              <p:nvPr/>
            </p:nvSpPr>
            <p:spPr>
              <a:xfrm>
                <a:off x="1273320" y="62283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6" name="Text Box 22"/>
              <p:cNvSpPr/>
              <p:nvPr/>
            </p:nvSpPr>
            <p:spPr>
              <a:xfrm>
                <a:off x="1739160" y="622836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7" name="Text Box 23"/>
              <p:cNvSpPr/>
              <p:nvPr/>
            </p:nvSpPr>
            <p:spPr>
              <a:xfrm>
                <a:off x="3135240" y="6228360"/>
                <a:ext cx="3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8" name="Text Box 24"/>
              <p:cNvSpPr/>
              <p:nvPr/>
            </p:nvSpPr>
            <p:spPr>
              <a:xfrm>
                <a:off x="2205000" y="62283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9" name="Text Box 25"/>
              <p:cNvSpPr/>
              <p:nvPr/>
            </p:nvSpPr>
            <p:spPr>
              <a:xfrm>
                <a:off x="3601080" y="62283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0" name="Text Box 26"/>
              <p:cNvSpPr/>
              <p:nvPr/>
            </p:nvSpPr>
            <p:spPr>
              <a:xfrm>
                <a:off x="2669400" y="622836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Line 27"/>
              <p:cNvSpPr/>
              <p:nvPr/>
            </p:nvSpPr>
            <p:spPr>
              <a:xfrm>
                <a:off x="545040" y="3381480"/>
                <a:ext cx="0" cy="33094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Text Box 28"/>
              <p:cNvSpPr/>
              <p:nvPr/>
            </p:nvSpPr>
            <p:spPr>
              <a:xfrm>
                <a:off x="250920" y="3673080"/>
                <a:ext cx="295920" cy="31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simi lari tà</a:t>
                </a:r>
                <a:endParaRPr b="0" lang="en-US" sz="2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93" name="Line 29"/>
            <p:cNvSpPr/>
            <p:nvPr/>
          </p:nvSpPr>
          <p:spPr>
            <a:xfrm>
              <a:off x="677160" y="4605480"/>
              <a:ext cx="339012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94" name="Text Box 30"/>
          <p:cNvSpPr/>
          <p:nvPr/>
        </p:nvSpPr>
        <p:spPr>
          <a:xfrm>
            <a:off x="5148360" y="4292640"/>
            <a:ext cx="1871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(D,A) = 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(D,E) = 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8:17:52Z</dcterms:created>
  <dc:creator>Manuele Bicego</dc:creator>
  <dc:description/>
  <dc:language>en-US</dc:language>
  <cp:lastModifiedBy>Marco Cristani</cp:lastModifiedBy>
  <dcterms:modified xsi:type="dcterms:W3CDTF">2017-05-24T06:15:32Z</dcterms:modified>
  <cp:revision>1382</cp:revision>
  <dc:subject/>
  <dc:title>Aerial images analysis for the extraction of geographical entities</dc:title>
</cp:coreProperties>
</file>