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jpeg" ContentType="image/jpeg"/>
  <Override PartName="/ppt/media/image25.png" ContentType="image/png"/>
  <Override PartName="/ppt/media/image13.jpeg" ContentType="image/jpeg"/>
  <Override PartName="/ppt/media/image23.png" ContentType="image/png"/>
  <Override PartName="/ppt/media/image2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3.wmf" ContentType="image/x-wmf"/>
  <Override PartName="/ppt/media/image15.jpeg" ContentType="image/jpeg"/>
  <Override PartName="/ppt/media/image17.png" ContentType="image/png"/>
  <Override PartName="/ppt/media/image16.jpeg" ContentType="image/jpeg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</p:sldIdLst>
  <p:sldSz cx="9907588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5799240" y="0"/>
            <a:ext cx="4435200" cy="355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3195720" y="531360"/>
            <a:ext cx="3844800" cy="266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1366920" y="3371400"/>
            <a:ext cx="7500960" cy="3195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-360" y="6743520"/>
            <a:ext cx="4435560" cy="355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5799240" y="6743520"/>
            <a:ext cx="4435200" cy="355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b">
            <a:noAutofit/>
          </a:bodyPr>
          <a:lstStyle>
            <a:lvl1pPr indent="0" algn="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40FD93B3-073D-46A7-9D03-3D2137633B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58A9EE6B-68ED-43FC-9190-057D86A2EA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3197160" y="531720"/>
            <a:ext cx="3845160" cy="26622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1366920" y="3371400"/>
            <a:ext cx="75009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871098C2-67B2-4F8F-8870-E5994ACE851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1366920" y="3371400"/>
            <a:ext cx="75009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2F077405-2A9E-4144-BA1E-9E4B971A552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1366920" y="3371400"/>
            <a:ext cx="75009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9ED8B1CF-76FF-4F7F-BD18-01A2828FB59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1366920" y="3371400"/>
            <a:ext cx="75009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9330835B-9959-44B6-8443-D7D4C7B9F87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1366920" y="3371400"/>
            <a:ext cx="75009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6857FF49-B346-4C34-B067-724167F40EF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1366920" y="3371400"/>
            <a:ext cx="75009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23DCCA2E-D1C8-4D3E-8276-97950764BB9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1366920" y="3371400"/>
            <a:ext cx="75009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DB5E1831-BE14-4690-B01A-64D457316C7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3184560" y="530280"/>
            <a:ext cx="3828960" cy="265104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1328760" y="3357360"/>
            <a:ext cx="7534080" cy="32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E86D0CCB-6B69-4023-8332-F395489C0C5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3184560" y="530280"/>
            <a:ext cx="3828960" cy="265104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1328760" y="3357360"/>
            <a:ext cx="7534080" cy="32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2ABEA133-2E23-4286-B762-24E2D3CA961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3184560" y="530280"/>
            <a:ext cx="3828960" cy="265104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1328760" y="3357360"/>
            <a:ext cx="7534080" cy="32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FBEB3790-F97C-48C7-96BE-12DD5B56A8D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3184560" y="530280"/>
            <a:ext cx="3828960" cy="265104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1328760" y="3357360"/>
            <a:ext cx="7534080" cy="32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82429061-F4FE-4BA5-A78C-79DAF8F01A2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1366920" y="3371400"/>
            <a:ext cx="75009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0F0BE3A7-D87D-461F-91E6-E5229CE88DA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6600" cy="26622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41CF798E-4E1D-49AD-8C06-1FA4E9C62C2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3184560" y="530280"/>
            <a:ext cx="3828960" cy="265104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1328760" y="3357360"/>
            <a:ext cx="7534080" cy="32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39FADFAB-5B30-4437-904E-80A7021F225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3184560" y="530280"/>
            <a:ext cx="3828960" cy="265104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1328760" y="3357360"/>
            <a:ext cx="7534080" cy="32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DA33D456-8650-4F80-BE78-30AEC5B996A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1366920" y="3371400"/>
            <a:ext cx="75009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1C18E447-8118-4EF3-B870-EE63A4A6D4C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1366920" y="3371400"/>
            <a:ext cx="75009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90FC938F-7FA1-4B64-B8E3-8D1463F7CA6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1366920" y="3371400"/>
            <a:ext cx="75009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64342F67-87D4-4272-81F8-6A9AC63EA55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1366920" y="3371400"/>
            <a:ext cx="75009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6662-7065-4190-B550-F1C9EBE75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E2C8-C5EC-426B-9B59-8E5EA706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DC2CD-D84F-4187-8087-FD56D473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4D6A2-03A3-4DD7-8016-2D62D28A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7F59F-AA56-45EF-900B-D4546044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C1659-E767-4D74-B8B3-223C588E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183992-EFB5-42BA-AA5F-86CB232C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4AC49-43CD-43F7-B66A-96499A9B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117A8-41EC-43F2-9176-15017466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60332B-36AF-49C1-9F90-D2675A1CB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637EF4-5415-4634-B68A-2E9EEAEBC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87425E-84C8-46BF-B57E-555F81FA1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1957-AF37-4072-AF7C-8673BFAD4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63DE1-6954-4DA0-BD8B-56F6BBAC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D90BF3-1869-4831-A46D-1995A16E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EE54BC-56E4-4BFF-9802-F06CB983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D2B159-E068-497A-838F-F1F80013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1A7A66-2614-4894-88E4-A14AC26D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5F7D86-6C3B-4013-8F45-EA73E44B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1F4E0C-5F1A-4B7B-9928-6D14C821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904DAE-BF6A-4146-BA51-6E7310A5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09D82-F4AD-4C31-8C9F-8B1BD126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EFEC08-EF45-40B9-B1DF-6E5EF4897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46F1-0870-4426-B7E7-EE5D8B2E4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BF073-011A-421E-8D42-50E4BA47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F06A4-5A48-49EE-917E-D52029D84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D71A0-254E-45D2-BFE2-D16FCA89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4698D-DEB5-4EC4-AF29-6D87823D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DE846-FC14-4F18-8C7E-AEBAEDFC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4612C-AE37-454D-8B01-152C5061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FB052-CB41-4939-819A-ABCFB976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92DE4-B402-4001-AABB-12E17DE5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F5B5C-0DDC-45C7-A3BA-1C04A15E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59A20-CFA7-444D-B2AB-0B03A8AD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E965-C1F4-48D5-871B-AEA4FFB0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3DF10-1B2B-4AAC-8EEB-E752B3E5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43538-25EE-4C55-AE30-FC7E1DA1F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FBF22-F968-48F2-93FE-C6353D41B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9D9B1D-EAA8-4B2A-978C-10CB1B570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14B114-55EA-4A1B-AF03-AD28EDC8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E58B91-2863-4ED7-8400-CEACB18D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887867-536A-447B-9805-24048530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379650-5D27-42C3-A50A-5458E7D8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29C3F1-E880-4870-8C0D-B9DB4954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79D56A-48D0-4703-B0F0-F7CFCE58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53DC-71C3-45B3-9662-49592998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4ED876-17FA-4E97-BB1C-2427317E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95108E-7807-4416-A48A-E3E3EDA0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6A244C-7D4E-40ED-B0C8-5CB9F35D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F75620-A24F-45BB-ACB1-EED050E8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D94691-6AD4-414A-B4F2-232720EC0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D2A6C1-F189-4262-93BB-9A77A3095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FEA9D4-5B70-490B-9D80-B5382C7C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8926B2-1DED-498D-8939-8A61061D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C40652-D5F6-4805-966D-A03D0EBE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11A1AA-7BE9-4676-9BF1-2E03842A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F924-6F0E-4BFB-93FE-A90324FC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1FF387-D15A-4E58-BF67-10C5D7CC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7815BC-C115-48BA-B05F-469E208B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7A4A83-A050-42DD-9C56-68E8F05D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2D957C-BC0A-4DFB-908C-36EBD39C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B744D0-39A2-4442-896F-AC685456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6BA9B9-E883-4B68-818B-3BF04887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508CE8-9A14-4BFE-AB14-E59CD1419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60EC7D-B78A-437C-AC39-F911A177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4A668B-1D88-4C69-83EA-653BB099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4D8FC3-C618-424B-8C0C-1818045A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0C98-198F-437E-9C47-EE714968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00CBBE-D306-4701-BB5B-2FCEC573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2F9EEA-B024-45E7-B078-64C7A3AB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BEF689-0F2E-4031-9640-E65713CA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D20CD4-FF46-44C5-90CC-2FD94BD8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C40E1B-AC86-461C-827A-EBC97031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42D5BC-063B-4AB7-932F-56766211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69D4CB-2581-4769-A134-A36318A8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6F315D-BB6A-429F-A49F-2073ED75F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0C5AC1-92C9-4882-B01E-C741B3543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03CC-5852-4DBB-B502-1E52C2FD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6DCC-D707-4E56-AB0D-13861181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2E88-52DC-410A-BEFC-A3A2E14C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FFB6-686B-4144-B680-92E80EB2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A834-3609-416A-8405-522D70A5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334B-29B8-4D36-9662-A9D8DBCF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2F0B-691E-4D25-8CA3-E8F5516A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5699-D623-4370-AA91-B09E8FBEB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45DF-E45D-4DD4-B7C0-AE0F6149A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893A9-C365-41F1-8974-417A5D0F8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EA98A-A1FF-4A7B-B6DA-0EEE032D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451D3-773F-4EFF-BB10-D2B31599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700EE-1374-42C6-994F-CD83F4A6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FE2AB-4CF8-46C6-85EC-F093B4AD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00E1-64C4-4BA6-8E79-FBB9E0CF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DCD0C-45FB-4A82-82E5-3A7D3BE3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6CFD5-D669-425D-BF59-8000D344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3D18B-59BA-45E1-A081-AD2E48E6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F4985-D3D8-4F9C-AB43-5823F3E4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4F481-D95A-4B02-A01D-875179F7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4AF44-5B71-4A87-A650-7FC4D19EB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9BE72-5D31-4ED9-9B44-721F28A55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DFCB6-789B-4005-B5DE-FD3B4E515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2B8E9-4DA5-42DB-B873-0B28F076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83D18-976A-492B-AAFE-EB6CC277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240F-5752-494E-99C9-6D9D5757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DC86B-FFBB-43B4-B6E4-CA7A5376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69185-E198-421E-9728-0AB981B3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F3707-95C9-46C9-9642-24456B3B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532A1-031D-4BB9-A06C-9FCDE42B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97668-1EB6-4DE4-BD94-55F913BF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EE41F-BF9F-4D2D-8189-D6D0A3EB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44DAC-DBCE-4ADD-ABC3-6D048D16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32239-914E-4855-A21C-4C537F456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16075-0C14-4CD0-9D79-DB2AB09FC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D370B-0F42-4303-A76A-9D58155BD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281C-88D3-4BBD-A7F5-26B82C9A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727F2-A4BB-4BBF-9109-E5B0B716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5B7C4-A82F-4E84-A3CC-B39C8C07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6E5FF-FFA3-475A-A852-65973DBB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DF141-3BC4-4621-849F-31687B08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088A7-6C20-4C1C-9C06-A67EEB06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02E46-9730-4C3B-AE0E-205106DA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1F46B-D74A-44D0-B443-B52940D5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5CB67-3DC3-4418-A839-0701BADE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AAA30-16D7-49A9-867B-0B215C9E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805C5-C2AD-485D-AA81-09CF7BF30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428A-59C9-40D0-8B02-E217A205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214EF-6C0F-413C-852A-78DB6F7F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58D8B-1A2B-4D31-AE6D-7794DB2F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AEC64-548D-4E5E-A118-B59107E1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10611-9B03-4A52-B453-2BBEF2A8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0F777-A2AD-49E8-9A1C-4EEB4F8E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EEA0D-4E16-4FB7-A478-3ACEEE7D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74DC9-60F3-4E0C-8079-5A30D1A8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B32D9-A1B2-4088-AF80-92259316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2D805-910A-4E80-A26D-84A757F9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88620-CBBE-4478-8EE0-A25526D5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B6CD-54C1-46DA-AF86-697E83D3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60708-8DF4-4B9E-A83F-E8713C37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3220E-2A55-45AF-AC52-BE35184BC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A203D-D1ED-45EC-8BA6-7E06D043A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42ADE-7F76-4509-B8DF-A16437EC8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98E6C-EB94-4860-9377-3032CC40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60290-BA5E-41CE-BFC8-CF7BB51A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29DA2-DC33-4F49-B52D-70D01EFB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599CD-6129-4C57-94D4-4E556576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7F502-047C-4748-9FC6-DA9C18BC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109DA-578E-40F9-B425-278CA51B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B93C-2532-4719-A664-6422761D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6460B-5445-4C0F-99CA-EBFEBCC0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941F3-243D-4441-86D6-A2C9E578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2E7B8-7DEE-4B99-B1CF-6ABBF5F2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739D2-ABEE-46E6-928C-75AB92B3A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82133-779E-4915-A409-B7DBF566C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A37C0-A50B-412A-AC97-DFF8E469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D6E37-D10F-4243-8736-27504D04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21B8F-8E3E-49A0-87A0-CF73244D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AB827-E3B0-49DF-BAF3-B3C9936E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CC5FD-D728-4916-94C1-0F6E2C49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4275-811A-4917-87FF-61A1A196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30276-8E2C-4A8C-AC60-0575ED80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C0A32-48F8-4307-8BB8-A81CAD02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4D4F7-056E-44F4-89F6-CB8ABEFD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FA4BB-9A63-4B13-840F-832DB00F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0DD45-8866-432C-86D7-7034C01C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27982-9DCC-4439-9C4A-72F7C1E40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97C19-1463-4A6D-81FE-8085601E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96E79-593D-4D1B-95FB-A418B29C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36503-BE2F-4171-A886-C4224EDE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32318-A2CF-441D-B1E7-5BAB03DC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868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658520"/>
            <a:ext cx="842004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0776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8A6E-FBF9-4E62-908A-4D7BEEE18E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2F62-B45D-4AA9-8E62-97180401D03B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A398-9B39-45E9-819B-1C7D9072DC0B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44F2-5A25-4EAF-8622-D23EAE2DAFE7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39C1-430C-48DA-9DCE-E69C3107775E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1565-154A-425F-AE16-C7D91AC61111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5A21-0ADB-4D39-92E3-8214D5F7CD51}" type="slidenum">
              <a:rPr b="0" lang="it-IT" sz="1400" spc="-1" strike="noStrike">
                <a:solidFill>
                  <a:srgbClr val="8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71A9-250B-4D19-9E23-AD7C213A5313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A29D-549B-4CFC-A3B7-623CFAF50990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469C-4043-419A-BCCA-3957503C3B43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A8A9-6D63-48C2-9A37-7321F65E7BA1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5D8F-4084-44CB-A64A-05D971FC65A0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6F37-4661-40B7-BDDB-CEF596DC9548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BD7E-FA0E-4DA2-8B6A-37C3A033B21C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37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Slide Numb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BDD6-BE30-4AA3-9402-0401F49C6C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90200" y="2590920"/>
            <a:ext cx="84200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4000" spc="-1" strike="noStrike">
                <a:solidFill>
                  <a:srgbClr val="3333cc"/>
                </a:solidFill>
                <a:latin typeface="Times New Roman"/>
              </a:rPr>
              <a:t>Pattern Recogni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1508040" y="472392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Feature extraction: PCA, eigenf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871560" y="457200"/>
            <a:ext cx="8244000" cy="21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omputer Science Departm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niversity of Vero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.A. 2016-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C03A-FD97-4B40-85C8-61DD954E9DE0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Tahoma"/>
              </a:rPr>
              <a:t>Da PCA ad eigenfaces (2)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42" name="Rectangle 3"/>
          <p:cNvSpPr/>
          <p:nvPr/>
        </p:nvSpPr>
        <p:spPr>
          <a:xfrm>
            <a:off x="507960" y="1071720"/>
            <a:ext cx="8345520" cy="53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Preprocessing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Le immagini devono contenere esclusivamente facce (no outli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Le immagini devono essere ragionevolmente prive di ru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Le facce devono avere la stessa dimensione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 riscal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Stesse condizioni di illuminazione, o compensazi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Non ci deve essere sfondo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ritaglia le facce, catturale su sfondo neutro (alternativa: background subtra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In maniera automatica, utilizzo di un metodo di face det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La posa dei volti deve essere il piu’ possibile simile (no fronte e profilo assie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3" name="Picture 4" descr="amber1"/>
          <p:cNvPicPr/>
          <p:nvPr/>
        </p:nvPicPr>
        <p:blipFill>
          <a:blip r:embed="rId1"/>
          <a:stretch/>
        </p:blipFill>
        <p:spPr>
          <a:xfrm>
            <a:off x="507960" y="5013360"/>
            <a:ext cx="1033560" cy="114444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5" descr="paul1"/>
          <p:cNvPicPr/>
          <p:nvPr/>
        </p:nvPicPr>
        <p:blipFill>
          <a:blip r:embed="rId2"/>
          <a:stretch/>
        </p:blipFill>
        <p:spPr>
          <a:xfrm>
            <a:off x="5576760" y="5013360"/>
            <a:ext cx="1033560" cy="1144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45" name="Object 2"/>
              <p:cNvSpPr txBox="1"/>
              <p:nvPr/>
            </p:nvSpPr>
            <p:spPr>
              <a:xfrm>
                <a:off x="1565280" y="4941720"/>
                <a:ext cx="10018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Object 3"/>
              <p:cNvSpPr txBox="1"/>
              <p:nvPr/>
            </p:nvSpPr>
            <p:spPr>
              <a:xfrm>
                <a:off x="3836880" y="4941720"/>
                <a:ext cx="10382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Object 4"/>
              <p:cNvSpPr txBox="1"/>
              <p:nvPr/>
            </p:nvSpPr>
            <p:spPr>
              <a:xfrm>
                <a:off x="6669000" y="4941720"/>
                <a:ext cx="11588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M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M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M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8" name="Text Box 10"/>
          <p:cNvSpPr/>
          <p:nvPr/>
        </p:nvSpPr>
        <p:spPr>
          <a:xfrm>
            <a:off x="4957200" y="52689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9" name="Picture 12" descr="andyp1"/>
          <p:cNvPicPr/>
          <p:nvPr/>
        </p:nvPicPr>
        <p:blipFill>
          <a:blip r:embed="rId3"/>
          <a:stretch/>
        </p:blipFill>
        <p:spPr>
          <a:xfrm>
            <a:off x="2768760" y="5013360"/>
            <a:ext cx="1033200" cy="1144440"/>
          </a:xfrm>
          <a:prstGeom prst="rect">
            <a:avLst/>
          </a:prstGeom>
          <a:ln w="0">
            <a:noFill/>
          </a:ln>
        </p:spPr>
      </p:pic>
      <p:sp>
        <p:nvSpPr>
          <p:cNvPr id="750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8576-84DB-4612-A925-6AC2918C2629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28400" y="-27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Tahoma"/>
              </a:rPr>
              <a:t>Eigenfaces - proiezion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53" name="Rectangle 3"/>
          <p:cNvSpPr/>
          <p:nvPr/>
        </p:nvSpPr>
        <p:spPr>
          <a:xfrm>
            <a:off x="507960" y="907920"/>
            <a:ext cx="90471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Dopo aver ricavato gli autovettori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} (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  <a:ea typeface="Arial"/>
              </a:rPr>
              <a:t>eigenfa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)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dalla matrice di covarianza S, calcolo le componenti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{a} (o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  <a:ea typeface="Arial"/>
              </a:rPr>
              <a:t>proiezio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per la facci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                   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ed 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Le 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  <a:ea typeface="Arial"/>
              </a:rPr>
              <a:t>ricostruzioni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g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, possono avvenire anche nei sottospazi descritti dalle eigenfaces con eigenvalues più grandi – riduzione dimensional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Group 4"/>
          <p:cNvGrpSpPr/>
          <p:nvPr/>
        </p:nvGrpSpPr>
        <p:grpSpPr>
          <a:xfrm>
            <a:off x="353880" y="1714680"/>
            <a:ext cx="4208760" cy="792000"/>
            <a:chOff x="353880" y="1714680"/>
            <a:chExt cx="4208760" cy="792000"/>
          </a:xfrm>
        </p:grpSpPr>
        <mc:AlternateContent>
          <mc:Choice xmlns:a14="http://schemas.microsoft.com/office/drawing/2010/main" Requires="a14">
            <p:sp>
              <p:nvSpPr>
                <p:cNvPr id="755" name="Object 8"/>
                <p:cNvSpPr txBox="1"/>
                <p:nvPr/>
              </p:nvSpPr>
              <p:spPr>
                <a:xfrm>
                  <a:off x="353880" y="1714680"/>
                  <a:ext cx="4208760" cy="39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⟨"/>
                          <m:endChr m:val="⟩"/>
                        </m:dPr>
                        <m:e>
                          <m:r>
                            <m:t xml:space="preserve">e</m:t>
                          </m:r>
                          <m:sSub>
                            <m:e>
                              <m:r>
                                <m:t xml:space="preserve">'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m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e</m:t>
                          </m:r>
                          <m:sSub>
                            <m:e>
                              <m:r>
                                <m:t xml:space="preserve">'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m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,</m:t>
                          </m:r>
                          <m:r>
                            <m:t xml:space="preserve">e</m:t>
                          </m:r>
                          <m:sSub>
                            <m:e>
                              <m:r>
                                <m:t xml:space="preserve">'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m</m:t>
                              </m:r>
                            </m:e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756" name="AutoShape 6"/>
            <p:cNvSpPr/>
            <p:nvPr/>
          </p:nvSpPr>
          <p:spPr>
            <a:xfrm rot="16200000">
              <a:off x="974880" y="1592280"/>
              <a:ext cx="111240" cy="1142280"/>
            </a:xfrm>
            <a:custGeom>
              <a:avLst/>
              <a:gdLst>
                <a:gd name="textAreaLeft" fmla="*/ 71280 w 111240"/>
                <a:gd name="textAreaRight" fmla="*/ 111600 w 111240"/>
                <a:gd name="textAreaTop" fmla="*/ 29520 h 1142280"/>
                <a:gd name="textAreaBottom" fmla="*/ 1112760 h 114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7" name="Object 9"/>
                <p:cNvSpPr txBox="1"/>
                <p:nvPr/>
              </p:nvSpPr>
              <p:spPr>
                <a:xfrm>
                  <a:off x="887400" y="2163600"/>
                  <a:ext cx="288000" cy="33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58" name="AutoShape 8"/>
            <p:cNvSpPr/>
            <p:nvPr/>
          </p:nvSpPr>
          <p:spPr>
            <a:xfrm rot="16200000">
              <a:off x="2188440" y="1592280"/>
              <a:ext cx="111240" cy="1142280"/>
            </a:xfrm>
            <a:custGeom>
              <a:avLst/>
              <a:gdLst>
                <a:gd name="textAreaLeft" fmla="*/ 71280 w 111240"/>
                <a:gd name="textAreaRight" fmla="*/ 111600 w 111240"/>
                <a:gd name="textAreaTop" fmla="*/ 29520 h 1142280"/>
                <a:gd name="textAreaBottom" fmla="*/ 1112760 h 114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9" name="Object 10"/>
                <p:cNvSpPr txBox="1"/>
                <p:nvPr/>
              </p:nvSpPr>
              <p:spPr>
                <a:xfrm>
                  <a:off x="2077200" y="2163600"/>
                  <a:ext cx="334800" cy="33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60" name="AutoShape 10"/>
            <p:cNvSpPr/>
            <p:nvPr/>
          </p:nvSpPr>
          <p:spPr>
            <a:xfrm rot="16200000">
              <a:off x="3759120" y="1592280"/>
              <a:ext cx="111240" cy="1142280"/>
            </a:xfrm>
            <a:custGeom>
              <a:avLst/>
              <a:gdLst>
                <a:gd name="textAreaLeft" fmla="*/ 71280 w 111240"/>
                <a:gd name="textAreaRight" fmla="*/ 111600 w 111240"/>
                <a:gd name="textAreaTop" fmla="*/ 29520 h 1142280"/>
                <a:gd name="textAreaBottom" fmla="*/ 1112760 h 114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1" name="Object 11"/>
                <p:cNvSpPr txBox="1"/>
                <p:nvPr/>
              </p:nvSpPr>
              <p:spPr>
                <a:xfrm>
                  <a:off x="3624480" y="2153880"/>
                  <a:ext cx="383760" cy="35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62" name="Object 2"/>
              <p:cNvSpPr txBox="1"/>
              <p:nvPr/>
            </p:nvSpPr>
            <p:spPr>
              <a:xfrm>
                <a:off x="5765760" y="1700280"/>
                <a:ext cx="3632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763" name="Picture 13" descr=""/>
          <p:cNvPicPr/>
          <p:nvPr/>
        </p:nvPicPr>
        <p:blipFill>
          <a:blip r:embed="rId1"/>
          <a:stretch/>
        </p:blipFill>
        <p:spPr>
          <a:xfrm>
            <a:off x="1467000" y="3751200"/>
            <a:ext cx="5832360" cy="120348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14" descr=""/>
          <p:cNvPicPr/>
          <p:nvPr/>
        </p:nvPicPr>
        <p:blipFill>
          <a:blip r:embed="rId2"/>
          <a:srcRect l="37064" t="16771" r="27963" b="20294"/>
          <a:stretch/>
        </p:blipFill>
        <p:spPr>
          <a:xfrm>
            <a:off x="117360" y="3716280"/>
            <a:ext cx="873360" cy="1413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65" name="Object 3"/>
              <p:cNvSpPr txBox="1"/>
              <p:nvPr/>
            </p:nvSpPr>
            <p:spPr>
              <a:xfrm>
                <a:off x="1511280" y="4843440"/>
                <a:ext cx="58514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6" name="Text Box 16"/>
          <p:cNvSpPr/>
          <p:nvPr/>
        </p:nvSpPr>
        <p:spPr>
          <a:xfrm>
            <a:off x="7841880" y="4832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7" name="Object 4"/>
              <p:cNvSpPr txBox="1"/>
              <p:nvPr/>
            </p:nvSpPr>
            <p:spPr>
              <a:xfrm>
                <a:off x="8134200" y="4861080"/>
                <a:ext cx="8463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768" name="Picture 18" descr=""/>
          <p:cNvPicPr/>
          <p:nvPr/>
        </p:nvPicPr>
        <p:blipFill>
          <a:blip r:embed="rId3"/>
          <a:srcRect l="37064" t="16771" r="27963" b="20294"/>
          <a:stretch/>
        </p:blipFill>
        <p:spPr>
          <a:xfrm>
            <a:off x="8931240" y="3355920"/>
            <a:ext cx="873000" cy="1413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69" name="Object 5"/>
              <p:cNvSpPr txBox="1"/>
              <p:nvPr/>
            </p:nvSpPr>
            <p:spPr>
              <a:xfrm>
                <a:off x="9321840" y="4732200"/>
                <a:ext cx="216000" cy="2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Object 6"/>
              <p:cNvSpPr txBox="1"/>
              <p:nvPr/>
            </p:nvSpPr>
            <p:spPr>
              <a:xfrm>
                <a:off x="7797960" y="4748040"/>
                <a:ext cx="544320" cy="2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≈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71" name="Picture 21" descr=""/>
          <p:cNvPicPr/>
          <p:nvPr/>
        </p:nvPicPr>
        <p:blipFill>
          <a:blip r:embed="rId4"/>
          <a:srcRect l="92642" t="19997" r="2153" b="52231"/>
          <a:stretch/>
        </p:blipFill>
        <p:spPr>
          <a:xfrm>
            <a:off x="7527960" y="3355920"/>
            <a:ext cx="779400" cy="140976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22"/>
          <p:cNvSpPr/>
          <p:nvPr/>
        </p:nvSpPr>
        <p:spPr>
          <a:xfrm>
            <a:off x="978480" y="48625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23"/>
          <p:cNvSpPr/>
          <p:nvPr/>
        </p:nvSpPr>
        <p:spPr>
          <a:xfrm>
            <a:off x="1052640" y="4508640"/>
            <a:ext cx="156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Freeform 24"/>
          <p:cNvSpPr/>
          <p:nvPr/>
        </p:nvSpPr>
        <p:spPr>
          <a:xfrm>
            <a:off x="7450200" y="4797360"/>
            <a:ext cx="388800" cy="216000"/>
          </a:xfrm>
          <a:custGeom>
            <a:avLst/>
            <a:gdLst>
              <a:gd name="textAreaLeft" fmla="*/ 0 w 388800"/>
              <a:gd name="textAreaRight" fmla="*/ 389160 w 3888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26" h="136">
                <a:moveTo>
                  <a:pt x="0" y="136"/>
                </a:moveTo>
                <a:cubicBezTo>
                  <a:pt x="49" y="124"/>
                  <a:pt x="99" y="113"/>
                  <a:pt x="136" y="90"/>
                </a:cubicBezTo>
                <a:cubicBezTo>
                  <a:pt x="173" y="67"/>
                  <a:pt x="199" y="33"/>
                  <a:pt x="226" y="0"/>
                </a:cubicBezTo>
              </a:path>
            </a:pathLst>
          </a:custGeom>
          <a:noFill/>
          <a:ln w="7308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Freeform 25"/>
          <p:cNvSpPr/>
          <p:nvPr/>
        </p:nvSpPr>
        <p:spPr>
          <a:xfrm>
            <a:off x="8931240" y="4797360"/>
            <a:ext cx="388800" cy="216000"/>
          </a:xfrm>
          <a:custGeom>
            <a:avLst/>
            <a:gdLst>
              <a:gd name="textAreaLeft" fmla="*/ 0 w 388800"/>
              <a:gd name="textAreaRight" fmla="*/ 389160 w 3888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26" h="136">
                <a:moveTo>
                  <a:pt x="0" y="136"/>
                </a:moveTo>
                <a:cubicBezTo>
                  <a:pt x="49" y="124"/>
                  <a:pt x="99" y="113"/>
                  <a:pt x="136" y="90"/>
                </a:cubicBezTo>
                <a:cubicBezTo>
                  <a:pt x="173" y="67"/>
                  <a:pt x="199" y="33"/>
                  <a:pt x="226" y="0"/>
                </a:cubicBezTo>
              </a:path>
            </a:pathLst>
          </a:custGeom>
          <a:noFill/>
          <a:ln w="7308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6" name="Object 7"/>
              <p:cNvSpPr txBox="1"/>
              <p:nvPr/>
            </p:nvSpPr>
            <p:spPr>
              <a:xfrm>
                <a:off x="428760" y="5156280"/>
                <a:ext cx="215640" cy="20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77" name="Picture 41" descr="face2_reconstructed"/>
          <p:cNvPicPr/>
          <p:nvPr/>
        </p:nvPicPr>
        <p:blipFill>
          <a:blip r:embed="rId5"/>
          <a:stretch/>
        </p:blipFill>
        <p:spPr>
          <a:xfrm>
            <a:off x="6513480" y="5445000"/>
            <a:ext cx="1041480" cy="70164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42" descr="face_reconstructed_70"/>
          <p:cNvPicPr/>
          <p:nvPr/>
        </p:nvPicPr>
        <p:blipFill>
          <a:blip r:embed="rId6"/>
          <a:stretch/>
        </p:blipFill>
        <p:spPr>
          <a:xfrm>
            <a:off x="5421240" y="5446800"/>
            <a:ext cx="984240" cy="70488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43" descr="face_reconstructed_50"/>
          <p:cNvPicPr/>
          <p:nvPr/>
        </p:nvPicPr>
        <p:blipFill>
          <a:blip r:embed="rId7"/>
          <a:stretch/>
        </p:blipFill>
        <p:spPr>
          <a:xfrm>
            <a:off x="4329000" y="5454720"/>
            <a:ext cx="1003320" cy="71748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44" descr="face_reconstructed_30"/>
          <p:cNvPicPr/>
          <p:nvPr/>
        </p:nvPicPr>
        <p:blipFill>
          <a:blip r:embed="rId8"/>
          <a:stretch/>
        </p:blipFill>
        <p:spPr>
          <a:xfrm>
            <a:off x="3230640" y="5454720"/>
            <a:ext cx="1003320" cy="71748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45" descr="face_reconstructed_20"/>
          <p:cNvPicPr/>
          <p:nvPr/>
        </p:nvPicPr>
        <p:blipFill>
          <a:blip r:embed="rId9"/>
          <a:stretch/>
        </p:blipFill>
        <p:spPr>
          <a:xfrm>
            <a:off x="2143080" y="5454720"/>
            <a:ext cx="1001880" cy="71748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46" descr="face_reconstructed_10"/>
          <p:cNvPicPr/>
          <p:nvPr/>
        </p:nvPicPr>
        <p:blipFill>
          <a:blip r:embed="rId10"/>
          <a:stretch/>
        </p:blipFill>
        <p:spPr>
          <a:xfrm>
            <a:off x="1052640" y="5454720"/>
            <a:ext cx="1003320" cy="717480"/>
          </a:xfrm>
          <a:prstGeom prst="rect">
            <a:avLst/>
          </a:prstGeom>
          <a:ln w="0">
            <a:noFill/>
          </a:ln>
        </p:spPr>
      </p:pic>
      <p:sp>
        <p:nvSpPr>
          <p:cNvPr id="783" name="Text Box 47"/>
          <p:cNvSpPr/>
          <p:nvPr/>
        </p:nvSpPr>
        <p:spPr>
          <a:xfrm>
            <a:off x="978840" y="59133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Arial"/>
                <a:ea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48"/>
          <p:cNvSpPr/>
          <p:nvPr/>
        </p:nvSpPr>
        <p:spPr>
          <a:xfrm>
            <a:off x="2069640" y="59133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Arial"/>
                <a:ea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49"/>
          <p:cNvSpPr/>
          <p:nvPr/>
        </p:nvSpPr>
        <p:spPr>
          <a:xfrm>
            <a:off x="3154680" y="59133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Arial"/>
                <a:ea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50"/>
          <p:cNvSpPr/>
          <p:nvPr/>
        </p:nvSpPr>
        <p:spPr>
          <a:xfrm>
            <a:off x="4253760" y="59133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Arial"/>
                <a:ea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51"/>
          <p:cNvSpPr/>
          <p:nvPr/>
        </p:nvSpPr>
        <p:spPr>
          <a:xfrm>
            <a:off x="5355720" y="59133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Arial"/>
                <a:ea typeface="Arial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52"/>
          <p:cNvSpPr/>
          <p:nvPr/>
        </p:nvSpPr>
        <p:spPr>
          <a:xfrm>
            <a:off x="6492960" y="59133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Arial"/>
                <a:ea typeface="Arial"/>
              </a:rPr>
              <a:t>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53"/>
          <p:cNvSpPr/>
          <p:nvPr/>
        </p:nvSpPr>
        <p:spPr>
          <a:xfrm>
            <a:off x="303120" y="5641920"/>
            <a:ext cx="67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coef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B058-8E91-4BE8-B46E-7FB49A8CB65A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Tahoma"/>
              </a:rPr>
              <a:t>Eigenface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93" name="Rectangle 3"/>
          <p:cNvSpPr/>
          <p:nvPr/>
        </p:nvSpPr>
        <p:spPr>
          <a:xfrm>
            <a:off x="507960" y="1484280"/>
            <a:ext cx="87361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Autovettori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} (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  <a:ea typeface="Arial"/>
              </a:rPr>
              <a:t>eigenfa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): in pratic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4" name="Picture 42" descr="db_eigfacessmall"/>
          <p:cNvPicPr/>
          <p:nvPr/>
        </p:nvPicPr>
        <p:blipFill>
          <a:blip r:embed="rId1"/>
          <a:stretch/>
        </p:blipFill>
        <p:spPr>
          <a:xfrm>
            <a:off x="2612880" y="2060640"/>
            <a:ext cx="4457880" cy="4114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95" name="Object 2"/>
              <p:cNvSpPr txBox="1"/>
              <p:nvPr/>
            </p:nvSpPr>
            <p:spPr>
              <a:xfrm>
                <a:off x="3781440" y="2060640"/>
                <a:ext cx="3427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Object 3"/>
              <p:cNvSpPr txBox="1"/>
              <p:nvPr/>
            </p:nvSpPr>
            <p:spPr>
              <a:xfrm>
                <a:off x="4859280" y="2060640"/>
                <a:ext cx="371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Object 4"/>
              <p:cNvSpPr txBox="1"/>
              <p:nvPr/>
            </p:nvSpPr>
            <p:spPr>
              <a:xfrm>
                <a:off x="5951520" y="2048040"/>
                <a:ext cx="371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Object 5"/>
              <p:cNvSpPr txBox="1"/>
              <p:nvPr/>
            </p:nvSpPr>
            <p:spPr>
              <a:xfrm>
                <a:off x="2639880" y="3220920"/>
                <a:ext cx="314280" cy="1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Object 6"/>
              <p:cNvSpPr txBox="1"/>
              <p:nvPr/>
            </p:nvSpPr>
            <p:spPr>
              <a:xfrm>
                <a:off x="2583000" y="2149560"/>
                <a:ext cx="40140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0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0A18-5191-4F7F-89F7-0211F153FE19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Tahoma"/>
              </a:rPr>
              <a:t>Eigenfaces - problema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507960" y="1971720"/>
            <a:ext cx="87361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Sia                                            pertanto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 =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AA’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Con un’img 256 x 256 ho                    : problemi di overflow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Trick: calcolo gli autovettori di           , ossia       , tenuto co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che di solito si usano 20-30 eigenfaces e 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4" name="Object 2"/>
              <p:cNvSpPr txBox="1"/>
              <p:nvPr/>
            </p:nvSpPr>
            <p:spPr>
              <a:xfrm>
                <a:off x="1600200" y="1413000"/>
                <a:ext cx="3071880" cy="16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M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M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M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05" name="Text Box 53"/>
          <p:cNvSpPr/>
          <p:nvPr/>
        </p:nvSpPr>
        <p:spPr>
          <a:xfrm>
            <a:off x="1401120" y="228456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N x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54"/>
          <p:cNvSpPr/>
          <p:nvPr/>
        </p:nvSpPr>
        <p:spPr>
          <a:xfrm>
            <a:off x="6672240" y="234936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N x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7" name="Object 3"/>
              <p:cNvSpPr txBox="1"/>
              <p:nvPr/>
            </p:nvSpPr>
            <p:spPr>
              <a:xfrm>
                <a:off x="4040280" y="3213000"/>
                <a:ext cx="13064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S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65536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5536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8" name="Object 4"/>
              <p:cNvSpPr txBox="1"/>
              <p:nvPr/>
            </p:nvSpPr>
            <p:spPr>
              <a:xfrm>
                <a:off x="4430880" y="4037040"/>
                <a:ext cx="72684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A</m:t>
                        </m:r>
                        <m:r>
                          <m:t xml:space="preserve">'</m:t>
                        </m:r>
                        <m:r>
                          <m:t xml:space="preserve">A</m:t>
                        </m:r>
                      </m:e>
                      <m:lim>
                        <m:r>
                          <m:t xml:space="preserve">M</m:t>
                        </m:r>
                        <m:r>
                          <m:t xml:space="preserve">×</m:t>
                        </m:r>
                        <m:r>
                          <m:t xml:space="preserve">M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9" name="Object 5"/>
              <p:cNvSpPr txBox="1"/>
              <p:nvPr/>
            </p:nvSpPr>
            <p:spPr>
              <a:xfrm>
                <a:off x="5979960" y="4035600"/>
                <a:ext cx="52236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Object 6"/>
              <p:cNvSpPr txBox="1"/>
              <p:nvPr/>
            </p:nvSpPr>
            <p:spPr>
              <a:xfrm>
                <a:off x="895320" y="5084640"/>
                <a:ext cx="390060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'</m:t>
                        </m:r>
                        <m:r>
                          <m:t xml:space="preserve">A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λ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t xml:space="preserve">'</m:t>
                        </m:r>
                        <m:r>
                          <m:t xml:space="preserve">A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λA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e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SA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λA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Object 7"/>
              <p:cNvSpPr txBox="1"/>
              <p:nvPr/>
            </p:nvSpPr>
            <p:spPr>
              <a:xfrm>
                <a:off x="7137360" y="5516640"/>
                <a:ext cx="10875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A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812" name="Rectangle 60"/>
          <p:cNvSpPr/>
          <p:nvPr/>
        </p:nvSpPr>
        <p:spPr>
          <a:xfrm>
            <a:off x="4958280" y="555300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uin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909A-CD46-4816-BB07-F6661071B205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Tahoma"/>
              </a:rPr>
              <a:t>Eigenfaces - not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16" name="Rectangle 3"/>
          <p:cNvSpPr/>
          <p:nvPr/>
        </p:nvSpPr>
        <p:spPr>
          <a:xfrm>
            <a:off x="507960" y="1971720"/>
            <a:ext cx="87361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Gli M autovalori di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A’A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 corrispondono agli M autovalori più grandi di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S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(così come i corrispondenti autovettor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62C7-D5E1-492F-B17F-F9627D1961A1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Tahoma"/>
              </a:rPr>
              <a:t>Eigenfaces - algoritmo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20" name="Rectangle 3"/>
          <p:cNvSpPr/>
          <p:nvPr/>
        </p:nvSpPr>
        <p:spPr>
          <a:xfrm>
            <a:off x="507960" y="1700280"/>
            <a:ext cx="8736120" cy="48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Sottraggo ad ogni immagine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ahoma"/>
                <a:ea typeface="Arial"/>
              </a:rPr>
              <a:t>(k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 ,k=1...M, la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ottenendo i vettori         da cui costruisco la mat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Calcolo M autovettori                  di            formando la mat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Ricavo gli M autovettori più grandi di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 =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AA’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, os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o in forma matricia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Ricavo i corrispondenti componenti (o coeff. di proiezion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o in forma matriciale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1" name="Object 2"/>
              <p:cNvSpPr txBox="1"/>
              <p:nvPr/>
            </p:nvSpPr>
            <p:spPr>
              <a:xfrm>
                <a:off x="7016760" y="2133720"/>
                <a:ext cx="54468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M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2" name="Object 3"/>
              <p:cNvSpPr txBox="1"/>
              <p:nvPr/>
            </p:nvSpPr>
            <p:spPr>
              <a:xfrm>
                <a:off x="5148360" y="2550960"/>
                <a:ext cx="5936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A</m:t>
                        </m:r>
                        <m:r>
                          <m:t xml:space="preserve">'</m:t>
                        </m:r>
                        <m:r>
                          <m:t xml:space="preserve">A</m:t>
                        </m:r>
                      </m:e>
                      <m:lim>
                        <m:r>
                          <m:t xml:space="preserve">M</m:t>
                        </m:r>
                        <m:r>
                          <m:t xml:space="preserve">×</m:t>
                        </m:r>
                        <m:r>
                          <m:t xml:space="preserve">M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3" name="Object 4"/>
              <p:cNvSpPr txBox="1"/>
              <p:nvPr/>
            </p:nvSpPr>
            <p:spPr>
              <a:xfrm>
                <a:off x="3840120" y="2568600"/>
                <a:ext cx="11016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e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4" name="Object 5"/>
              <p:cNvSpPr txBox="1"/>
              <p:nvPr/>
            </p:nvSpPr>
            <p:spPr>
              <a:xfrm>
                <a:off x="6862680" y="2959200"/>
                <a:ext cx="9842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Object 6"/>
              <p:cNvSpPr txBox="1"/>
              <p:nvPr/>
            </p:nvSpPr>
            <p:spPr>
              <a:xfrm>
                <a:off x="3938760" y="4292640"/>
                <a:ext cx="16254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e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Object 7"/>
              <p:cNvSpPr txBox="1"/>
              <p:nvPr/>
            </p:nvSpPr>
            <p:spPr>
              <a:xfrm>
                <a:off x="6937200" y="1617840"/>
                <a:ext cx="14828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7" name="Object 8"/>
              <p:cNvSpPr txBox="1"/>
              <p:nvPr/>
            </p:nvSpPr>
            <p:spPr>
              <a:xfrm>
                <a:off x="3460680" y="2158920"/>
                <a:ext cx="6224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Object 9"/>
              <p:cNvSpPr txBox="1"/>
              <p:nvPr/>
            </p:nvSpPr>
            <p:spPr>
              <a:xfrm>
                <a:off x="8396280" y="2571840"/>
                <a:ext cx="54756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V</m:t>
                        </m:r>
                      </m:e>
                      <m:lim>
                        <m:r>
                          <m:t xml:space="preserve">M</m:t>
                        </m:r>
                        <m:r>
                          <m:t xml:space="preserve">×</m:t>
                        </m:r>
                        <m:r>
                          <m:t xml:space="preserve">M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9" name="Object 10"/>
              <p:cNvSpPr txBox="1"/>
              <p:nvPr/>
            </p:nvSpPr>
            <p:spPr>
              <a:xfrm>
                <a:off x="3902040" y="3429000"/>
                <a:ext cx="159876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U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M</m:t>
                        </m:r>
                      </m:lim>
                    </m:limLow>
                    <m:r>
                      <m:t xml:space="preserve">=</m:t>
                    </m:r>
                    <m:limLow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M</m:t>
                        </m:r>
                      </m:lim>
                    </m:limLow>
                    <m:limLow>
                      <m:e>
                        <m:r>
                          <m:t xml:space="preserve">V</m:t>
                        </m:r>
                      </m:e>
                      <m:lim>
                        <m:r>
                          <m:t xml:space="preserve">M</m:t>
                        </m:r>
                        <m:r>
                          <m:t xml:space="preserve">×</m:t>
                        </m:r>
                        <m:r>
                          <m:t xml:space="preserve">M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0" name="Object 11"/>
              <p:cNvSpPr txBox="1"/>
              <p:nvPr/>
            </p:nvSpPr>
            <p:spPr>
              <a:xfrm>
                <a:off x="3860640" y="5300640"/>
                <a:ext cx="20671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limLow>
                          <m:e>
                            <m:r>
                              <m:t xml:space="preserve">ω</m:t>
                            </m:r>
                          </m:e>
                          <m:lim>
                            <m:r>
                              <m:t xml:space="preserve">M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</m:lim>
                        </m:limLow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limLow>
                      <m:e>
                        <m:r>
                          <m:t xml:space="preserve">U</m:t>
                        </m:r>
                      </m:e>
                      <m:lim>
                        <m:r>
                          <m:t xml:space="preserve">M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lim>
                    </m:limLow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limLow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lim>
                                <m:r>
                                  <m:t xml:space="preserve">N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1</m:t>
                                </m:r>
                              </m:lim>
                            </m:limLow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1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4BC3-E91A-4964-92D0-E640AACCE3B9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7320" y="-360"/>
            <a:ext cx="941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00000"/>
                </a:solidFill>
                <a:latin typeface="Tahoma"/>
              </a:rPr>
              <a:t>Proprietà chiave della rappresentazione ad eigenfaces</a:t>
            </a:r>
            <a:endParaRPr b="0" lang="en-US" sz="33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34" name="Text Box 4"/>
          <p:cNvSpPr/>
          <p:nvPr/>
        </p:nvSpPr>
        <p:spPr>
          <a:xfrm>
            <a:off x="358560" y="1295280"/>
            <a:ext cx="76500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 immagini                 usate per costruire l’eigen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è la proiezione nell’eigenspace dell’im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è la proiezione nell’eigenspace dell’im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or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ssia, la distanza nell’eigenspace è approssimativam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guale alla distanza tra due immagi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5" name="Object 2"/>
              <p:cNvSpPr txBox="1"/>
              <p:nvPr/>
            </p:nvSpPr>
            <p:spPr>
              <a:xfrm>
                <a:off x="2825640" y="1876320"/>
                <a:ext cx="10782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6" name="Object 3"/>
              <p:cNvSpPr txBox="1"/>
              <p:nvPr/>
            </p:nvSpPr>
            <p:spPr>
              <a:xfrm>
                <a:off x="1679400" y="2471760"/>
                <a:ext cx="549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7" name="Object 4"/>
              <p:cNvSpPr txBox="1"/>
              <p:nvPr/>
            </p:nvSpPr>
            <p:spPr>
              <a:xfrm>
                <a:off x="2455920" y="4151160"/>
                <a:ext cx="48290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8" name="Rectangle 11"/>
          <p:cNvSpPr/>
          <p:nvPr/>
        </p:nvSpPr>
        <p:spPr>
          <a:xfrm>
            <a:off x="2394000" y="4038480"/>
            <a:ext cx="4952880" cy="91440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9" name="Object 5"/>
              <p:cNvSpPr txBox="1"/>
              <p:nvPr/>
            </p:nvSpPr>
            <p:spPr>
              <a:xfrm>
                <a:off x="7137360" y="2468520"/>
                <a:ext cx="476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0" name="Object 6"/>
              <p:cNvSpPr txBox="1"/>
              <p:nvPr/>
            </p:nvSpPr>
            <p:spPr>
              <a:xfrm>
                <a:off x="7099200" y="3068640"/>
                <a:ext cx="515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1" name="Object 7"/>
              <p:cNvSpPr txBox="1"/>
              <p:nvPr/>
            </p:nvSpPr>
            <p:spPr>
              <a:xfrm>
                <a:off x="1641600" y="3068640"/>
                <a:ext cx="622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42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790E-36FB-42CB-8429-1B1A4A53DCC1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5000" y="-766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ahoma"/>
              </a:rPr>
              <a:t>Riconoscimento con le eigenfaces</a:t>
            </a:r>
            <a:endParaRPr b="0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12560" y="1066320"/>
            <a:ext cx="8915400" cy="610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alizza il database d’immagini etichettato (&lt;volti,identità&gt;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egui PCA — calcola le eigenfaces, formo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lcola i K coefficienti per ogni immagin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(k)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=1,...,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lcola le M proiezioni nello spazio delle eigenfaces </a:t>
            </a:r>
            <a:r>
              <a:rPr b="1" lang="el-GR" sz="1600" spc="-1" strike="noStrike">
                <a:solidFill>
                  <a:srgbClr val="000000"/>
                </a:solidFill>
                <a:latin typeface="바탕"/>
                <a:ea typeface="바탕"/>
              </a:rPr>
              <a:t>ω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(k)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=1,...,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lcolo la sogl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 una nuova img (da riconoscere)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 sottraggo la media del dataset di training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otteng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ietto, ossia calcolo le K component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lcolo il set di distanz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6" name="Object 2"/>
              <p:cNvSpPr txBox="1"/>
              <p:nvPr/>
            </p:nvSpPr>
            <p:spPr>
              <a:xfrm>
                <a:off x="2365200" y="2744640"/>
                <a:ext cx="48387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 per </m:t>
                    </m:r>
                    <m:r>
                      <m:t xml:space="preserve">j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7" name="AutoShape 5"/>
          <p:cNvSpPr/>
          <p:nvPr/>
        </p:nvSpPr>
        <p:spPr>
          <a:xfrm>
            <a:off x="741240" y="1052640"/>
            <a:ext cx="311400" cy="2305080"/>
          </a:xfrm>
          <a:custGeom>
            <a:avLst/>
            <a:gdLst>
              <a:gd name="textAreaLeft" fmla="*/ 199080 w 311400"/>
              <a:gd name="textAreaRight" fmla="*/ 311400 w 311400"/>
              <a:gd name="textAreaTop" fmla="*/ 64800 h 2305080"/>
              <a:gd name="textAreaBottom" fmla="*/ 224028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5"/>
                  <a:pt x="10800" y="1950"/>
                </a:cubicBezTo>
                <a:lnTo>
                  <a:pt x="10800" y="8850"/>
                </a:lnTo>
                <a:cubicBezTo>
                  <a:pt x="10800" y="9825"/>
                  <a:pt x="5400" y="10800"/>
                  <a:pt x="0" y="10800"/>
                </a:cubicBezTo>
                <a:cubicBezTo>
                  <a:pt x="5400" y="10800"/>
                  <a:pt x="10800" y="11775"/>
                  <a:pt x="10800" y="12750"/>
                </a:cubicBezTo>
                <a:lnTo>
                  <a:pt x="10800" y="19650"/>
                </a:lnTo>
                <a:cubicBezTo>
                  <a:pt x="10800" y="2062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6"/>
          <p:cNvSpPr/>
          <p:nvPr/>
        </p:nvSpPr>
        <p:spPr>
          <a:xfrm rot="16200000">
            <a:off x="-172440" y="201780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9" name="Object 3"/>
              <p:cNvSpPr txBox="1"/>
              <p:nvPr/>
            </p:nvSpPr>
            <p:spPr>
              <a:xfrm>
                <a:off x="1836720" y="4327560"/>
                <a:ext cx="27558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→</m:t>
                    </m:r>
                    <m:r>
                      <m:t xml:space="preserve">ω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Object 4"/>
              <p:cNvSpPr txBox="1"/>
              <p:nvPr/>
            </p:nvSpPr>
            <p:spPr>
              <a:xfrm>
                <a:off x="2624040" y="5084640"/>
                <a:ext cx="423864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per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Object 5"/>
              <p:cNvSpPr txBox="1"/>
              <p:nvPr/>
            </p:nvSpPr>
            <p:spPr>
              <a:xfrm>
                <a:off x="5823000" y="4365720"/>
                <a:ext cx="110340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' {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2" name="Object 6"/>
              <p:cNvSpPr txBox="1"/>
              <p:nvPr/>
            </p:nvSpPr>
            <p:spPr>
              <a:xfrm>
                <a:off x="7527960" y="3747960"/>
                <a:ext cx="24444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853" name="Rectangle 11"/>
          <p:cNvSpPr/>
          <p:nvPr/>
        </p:nvSpPr>
        <p:spPr>
          <a:xfrm>
            <a:off x="4955760" y="436572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ss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12"/>
          <p:cNvSpPr/>
          <p:nvPr/>
        </p:nvSpPr>
        <p:spPr>
          <a:xfrm>
            <a:off x="741240" y="3429000"/>
            <a:ext cx="311400" cy="3887640"/>
          </a:xfrm>
          <a:custGeom>
            <a:avLst/>
            <a:gdLst>
              <a:gd name="textAreaLeft" fmla="*/ 199080 w 311400"/>
              <a:gd name="textAreaRight" fmla="*/ 311400 w 311400"/>
              <a:gd name="textAreaTop" fmla="*/ 109800 h 3887640"/>
              <a:gd name="textAreaBottom" fmla="*/ 3777840 h 38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5"/>
                  <a:pt x="10800" y="1950"/>
                </a:cubicBezTo>
                <a:lnTo>
                  <a:pt x="10800" y="4920"/>
                </a:lnTo>
                <a:cubicBezTo>
                  <a:pt x="10800" y="5895"/>
                  <a:pt x="5400" y="6870"/>
                  <a:pt x="0" y="6870"/>
                </a:cubicBezTo>
                <a:cubicBezTo>
                  <a:pt x="5400" y="6870"/>
                  <a:pt x="10800" y="7845"/>
                  <a:pt x="10800" y="8820"/>
                </a:cubicBezTo>
                <a:lnTo>
                  <a:pt x="10800" y="19650"/>
                </a:lnTo>
                <a:cubicBezTo>
                  <a:pt x="10800" y="2062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13"/>
          <p:cNvSpPr/>
          <p:nvPr/>
        </p:nvSpPr>
        <p:spPr>
          <a:xfrm rot="16200000">
            <a:off x="-679320" y="453996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CONOSC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EDB6-5EAD-4C89-8CD6-D60ACA268E7B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61680" y="-766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ahoma"/>
              </a:rPr>
              <a:t>Riconoscimento con le eigenfaces</a:t>
            </a:r>
            <a:endParaRPr b="0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12560" y="1066320"/>
            <a:ext cx="8915400" cy="610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costruisco la faccia usando eigenfaces e componen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colo la distanza tra la faccia di partenza incognita e la ricostruzio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n è una fac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è una nuova fac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è una faccia conosciuta, la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bes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esima, dov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0" name="Object 2"/>
              <p:cNvSpPr txBox="1"/>
              <p:nvPr/>
            </p:nvSpPr>
            <p:spPr>
              <a:xfrm>
                <a:off x="2470320" y="1413000"/>
                <a:ext cx="360828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 oppure    {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1" name="AutoShape 14"/>
          <p:cNvSpPr/>
          <p:nvPr/>
        </p:nvSpPr>
        <p:spPr>
          <a:xfrm>
            <a:off x="741240" y="-531720"/>
            <a:ext cx="311400" cy="6913440"/>
          </a:xfrm>
          <a:custGeom>
            <a:avLst/>
            <a:gdLst>
              <a:gd name="textAreaLeft" fmla="*/ 199080 w 311400"/>
              <a:gd name="textAreaRight" fmla="*/ 311400 w 311400"/>
              <a:gd name="textAreaTop" fmla="*/ 195120 h 6913440"/>
              <a:gd name="textAreaBottom" fmla="*/ 6718320 h 691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5"/>
                  <a:pt x="10800" y="1950"/>
                </a:cubicBezTo>
                <a:lnTo>
                  <a:pt x="10800" y="6789"/>
                </a:lnTo>
                <a:cubicBezTo>
                  <a:pt x="10800" y="7764"/>
                  <a:pt x="5400" y="8739"/>
                  <a:pt x="0" y="8739"/>
                </a:cubicBezTo>
                <a:cubicBezTo>
                  <a:pt x="5400" y="8739"/>
                  <a:pt x="10800" y="9714"/>
                  <a:pt x="10800" y="10689"/>
                </a:cubicBezTo>
                <a:lnTo>
                  <a:pt x="10800" y="19650"/>
                </a:lnTo>
                <a:cubicBezTo>
                  <a:pt x="10800" y="2062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5"/>
          <p:cNvSpPr/>
          <p:nvPr/>
        </p:nvSpPr>
        <p:spPr>
          <a:xfrm rot="16200000">
            <a:off x="-679320" y="21632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CONOSC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3" name="Object 3"/>
              <p:cNvSpPr txBox="1"/>
              <p:nvPr/>
            </p:nvSpPr>
            <p:spPr>
              <a:xfrm>
                <a:off x="3314880" y="2997360"/>
                <a:ext cx="17506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ξ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g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Object 4"/>
              <p:cNvSpPr txBox="1"/>
              <p:nvPr/>
            </p:nvSpPr>
            <p:spPr>
              <a:xfrm>
                <a:off x="1816200" y="3786120"/>
                <a:ext cx="79992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≥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Object 5"/>
              <p:cNvSpPr txBox="1"/>
              <p:nvPr/>
            </p:nvSpPr>
            <p:spPr>
              <a:xfrm>
                <a:off x="1517760" y="4278240"/>
                <a:ext cx="34225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&lt;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e  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θ</m:t>
                    </m:r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Object 6"/>
              <p:cNvSpPr txBox="1"/>
              <p:nvPr/>
            </p:nvSpPr>
            <p:spPr>
              <a:xfrm>
                <a:off x="1481040" y="4819680"/>
                <a:ext cx="26132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&lt;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e  min 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d>
                    <m:r>
                      <m:t xml:space="preserve">&lt;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Object 7"/>
              <p:cNvSpPr txBox="1"/>
              <p:nvPr/>
            </p:nvSpPr>
            <p:spPr>
              <a:xfrm>
                <a:off x="3475080" y="5567400"/>
                <a:ext cx="2379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st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in</m:t>
                        </m:r>
                      </m:e>
                      <m:lim>
                        <m:r>
                          <m:t xml:space="preserve">k</m:t>
                        </m:r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8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E88C-F974-4F1C-8F62-651651FC5073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7320" y="-360"/>
            <a:ext cx="941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800000"/>
                </a:solidFill>
                <a:latin typeface="Tahoma"/>
              </a:rPr>
              <a:t>Dettagli pratici</a:t>
            </a:r>
            <a:endParaRPr b="0" lang="en-US" sz="3700" spc="-1" strike="noStrike">
              <a:solidFill>
                <a:srgbClr val="800000"/>
              </a:solidFill>
              <a:latin typeface="Tahoma"/>
            </a:endParaRPr>
          </a:p>
        </p:txBody>
      </p:sp>
      <p:grpSp>
        <p:nvGrpSpPr>
          <p:cNvPr id="871" name="Group 11"/>
          <p:cNvGrpSpPr/>
          <p:nvPr/>
        </p:nvGrpSpPr>
        <p:grpSpPr>
          <a:xfrm>
            <a:off x="5264280" y="1989000"/>
            <a:ext cx="3359880" cy="2545920"/>
            <a:chOff x="5264280" y="1989000"/>
            <a:chExt cx="3359880" cy="2545920"/>
          </a:xfrm>
        </p:grpSpPr>
        <p:grpSp>
          <p:nvGrpSpPr>
            <p:cNvPr id="872" name="Group 12"/>
            <p:cNvGrpSpPr/>
            <p:nvPr/>
          </p:nvGrpSpPr>
          <p:grpSpPr>
            <a:xfrm>
              <a:off x="5264280" y="1989000"/>
              <a:ext cx="3321720" cy="2268360"/>
              <a:chOff x="5264280" y="1989000"/>
              <a:chExt cx="3321720" cy="2268360"/>
            </a:xfrm>
          </p:grpSpPr>
          <p:pic>
            <p:nvPicPr>
              <p:cNvPr id="873" name="Picture 13" descr="baback1"/>
              <p:cNvPicPr/>
              <p:nvPr/>
            </p:nvPicPr>
            <p:blipFill>
              <a:blip r:embed="rId1"/>
              <a:srcRect l="51053" t="0" r="0" b="7904"/>
              <a:stretch/>
            </p:blipFill>
            <p:spPr>
              <a:xfrm>
                <a:off x="5264280" y="1989000"/>
                <a:ext cx="3321720" cy="22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Rectangle 14"/>
              <p:cNvSpPr/>
              <p:nvPr/>
            </p:nvSpPr>
            <p:spPr>
              <a:xfrm>
                <a:off x="6347520" y="2328480"/>
                <a:ext cx="247320" cy="241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Rectangle 15"/>
              <p:cNvSpPr/>
              <p:nvPr/>
            </p:nvSpPr>
            <p:spPr>
              <a:xfrm>
                <a:off x="5686920" y="2328480"/>
                <a:ext cx="247320" cy="241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6" name="Text Box 16"/>
            <p:cNvSpPr/>
            <p:nvPr/>
          </p:nvSpPr>
          <p:spPr>
            <a:xfrm>
              <a:off x="5933160" y="4190760"/>
              <a:ext cx="31716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5000"/>
                </a:lnSpc>
                <a:spcBef>
                  <a:spcPts val="400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Text Box 17"/>
            <p:cNvSpPr/>
            <p:nvPr/>
          </p:nvSpPr>
          <p:spPr>
            <a:xfrm>
              <a:off x="8273520" y="4190760"/>
              <a:ext cx="35064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5000"/>
                </a:lnSpc>
                <a:spcBef>
                  <a:spcPts val="400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Text Box 18"/>
            <p:cNvSpPr/>
            <p:nvPr/>
          </p:nvSpPr>
          <p:spPr>
            <a:xfrm>
              <a:off x="5370480" y="4190760"/>
              <a:ext cx="45900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5000"/>
                </a:lnSpc>
                <a:spcBef>
                  <a:spcPts val="400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9" name="Picture 20" descr="txp_fig"/>
          <p:cNvPicPr/>
          <p:nvPr/>
        </p:nvPicPr>
        <p:blipFill>
          <a:blip r:embed="rId2"/>
          <a:stretch/>
        </p:blipFill>
        <p:spPr>
          <a:xfrm>
            <a:off x="4952880" y="2205000"/>
            <a:ext cx="214560" cy="20952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350640" y="1413000"/>
            <a:ext cx="452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Quanti eigenvector usar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ontrolla il decadimento degli eigen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ati “buoni” ossia trattabili hanno poche dimensioni ad alta varia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Nel caso in cui tutti gli N autovalori sono stati calcolati per un dataset N-dimensionale va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1" name="Object 2"/>
              <p:cNvSpPr txBox="1"/>
              <p:nvPr/>
            </p:nvSpPr>
            <p:spPr>
              <a:xfrm>
                <a:off x="2255760" y="2114640"/>
                <a:ext cx="46836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2" name="Object 3"/>
              <p:cNvSpPr txBox="1"/>
              <p:nvPr/>
            </p:nvSpPr>
            <p:spPr>
              <a:xfrm>
                <a:off x="1576440" y="4714920"/>
                <a:ext cx="182880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vere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3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0290-515E-4528-9931-124DC3210B44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Picture 20" descr="graph1"/>
          <p:cNvPicPr/>
          <p:nvPr/>
        </p:nvPicPr>
        <p:blipFill>
          <a:blip r:embed="rId1"/>
          <a:stretch/>
        </p:blipFill>
        <p:spPr>
          <a:xfrm>
            <a:off x="6626160" y="3390840"/>
            <a:ext cx="2808360" cy="194328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Tahoma"/>
              </a:rPr>
              <a:t>Principal Component Analysi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30430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l dato = un vettore 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dimensionale di valori di pix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upponiamo N=2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dati = punti 2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AutoShape 5"/>
          <p:cNvSpPr/>
          <p:nvPr/>
        </p:nvSpPr>
        <p:spPr>
          <a:xfrm>
            <a:off x="6669000" y="1916280"/>
            <a:ext cx="390600" cy="86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6746760" y="1557360"/>
            <a:ext cx="3041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Come posso descrivere in modo 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  <a:ea typeface="Arial"/>
              </a:rPr>
              <a:t>compatto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 questi 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  <a:ea typeface="Arial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 punt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584280" y="3429000"/>
            <a:ext cx="5851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  <a:ea typeface="Arial"/>
              </a:rPr>
              <a:t>SOL 1: Con un punto (vettore) solo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, che minimizzi la distanza media quadratica con tutti i p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1520" indent="-142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71520" indent="-142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71520" indent="-142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Oval 9"/>
          <p:cNvSpPr/>
          <p:nvPr/>
        </p:nvSpPr>
        <p:spPr>
          <a:xfrm>
            <a:off x="8012160" y="4245120"/>
            <a:ext cx="1569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Object 2"/>
              <p:cNvSpPr txBox="1"/>
              <p:nvPr/>
            </p:nvSpPr>
            <p:spPr>
              <a:xfrm>
                <a:off x="1501920" y="4221000"/>
                <a:ext cx="424944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in</m:t>
                        </m:r>
                      </m:e>
                      <m:li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sup>
                        </m:sSup>
                      </m:lim>
                    </m:limLow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94" name="AutoShape 12"/>
          <p:cNvSpPr/>
          <p:nvPr/>
        </p:nvSpPr>
        <p:spPr>
          <a:xfrm rot="5400000">
            <a:off x="3367800" y="4869360"/>
            <a:ext cx="36036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14"/>
          <p:cNvSpPr/>
          <p:nvPr/>
        </p:nvSpPr>
        <p:spPr>
          <a:xfrm>
            <a:off x="584280" y="5516640"/>
            <a:ext cx="5851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  <a:ea typeface="Arial"/>
              </a:rPr>
              <a:t>Soluzion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: il vettore med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93480" indent="-151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3480" indent="-151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3480" indent="-151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6" name="Object 3"/>
              <p:cNvSpPr txBox="1"/>
              <p:nvPr/>
            </p:nvSpPr>
            <p:spPr>
              <a:xfrm>
                <a:off x="4406760" y="5300640"/>
                <a:ext cx="193536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97" name="Freeform 16"/>
          <p:cNvSpPr/>
          <p:nvPr/>
        </p:nvSpPr>
        <p:spPr>
          <a:xfrm>
            <a:off x="6591240" y="4581360"/>
            <a:ext cx="1495440" cy="1271880"/>
          </a:xfrm>
          <a:custGeom>
            <a:avLst/>
            <a:gdLst>
              <a:gd name="textAreaLeft" fmla="*/ 0 w 1495440"/>
              <a:gd name="textAreaRight" fmla="*/ 1495800 w 1495440"/>
              <a:gd name="textAreaTop" fmla="*/ 0 h 1271880"/>
              <a:gd name="textAreaBottom" fmla="*/ 1271880 h 1271880"/>
            </a:gdLst>
            <a:ahLst/>
            <a:rect l="textAreaLeft" t="textAreaTop" r="textAreaRight" b="textAreaBottom"/>
            <a:pathLst>
              <a:path w="869" h="801">
                <a:moveTo>
                  <a:pt x="0" y="726"/>
                </a:moveTo>
                <a:cubicBezTo>
                  <a:pt x="290" y="763"/>
                  <a:pt x="581" y="801"/>
                  <a:pt x="725" y="680"/>
                </a:cubicBezTo>
                <a:cubicBezTo>
                  <a:pt x="869" y="559"/>
                  <a:pt x="865" y="279"/>
                  <a:pt x="861" y="0"/>
                </a:cubicBezTo>
              </a:path>
            </a:pathLst>
          </a:custGeom>
          <a:noFill/>
          <a:ln w="7920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17"/>
          <p:cNvSpPr/>
          <p:nvPr/>
        </p:nvSpPr>
        <p:spPr>
          <a:xfrm rot="20307000">
            <a:off x="7243560" y="5326200"/>
            <a:ext cx="30304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Tahoma"/>
                <a:ea typeface="Arial"/>
              </a:rPr>
              <a:t>	</a:t>
            </a:r>
            <a:r>
              <a:rPr b="1" lang="en-GB" sz="1800" spc="-1" strike="noStrike">
                <a:solidFill>
                  <a:srgbClr val="800000"/>
                </a:solidFill>
                <a:latin typeface="Tahoma"/>
                <a:ea typeface="Arial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m poco espressivo!!!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18"/>
          <p:cNvSpPr/>
          <p:nvPr/>
        </p:nvSpPr>
        <p:spPr>
          <a:xfrm>
            <a:off x="428760" y="3316320"/>
            <a:ext cx="8893080" cy="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Picture 19" descr="graph1"/>
          <p:cNvPicPr/>
          <p:nvPr/>
        </p:nvPicPr>
        <p:blipFill>
          <a:blip r:embed="rId2"/>
          <a:stretch/>
        </p:blipFill>
        <p:spPr>
          <a:xfrm>
            <a:off x="3703680" y="1268280"/>
            <a:ext cx="2843280" cy="1967040"/>
          </a:xfrm>
          <a:prstGeom prst="rect">
            <a:avLst/>
          </a:prstGeom>
          <a:ln w="0">
            <a:noFill/>
          </a:ln>
        </p:spPr>
      </p:pic>
      <p:sp>
        <p:nvSpPr>
          <p:cNvPr id="601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3DE8-3797-441B-AD24-B6EC0A86C67F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9500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00000"/>
                </a:solidFill>
                <a:latin typeface="Tahoma"/>
              </a:rPr>
              <a:t>Problemi eigenfaces</a:t>
            </a:r>
            <a:endParaRPr b="0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886" name="Picture 16" descr=""/>
          <p:cNvPicPr/>
          <p:nvPr/>
        </p:nvPicPr>
        <p:blipFill>
          <a:blip r:embed="rId1"/>
          <a:stretch/>
        </p:blipFill>
        <p:spPr>
          <a:xfrm>
            <a:off x="6356520" y="1268280"/>
            <a:ext cx="3431880" cy="1111320"/>
          </a:xfrm>
          <a:prstGeom prst="rect">
            <a:avLst/>
          </a:prstGeom>
          <a:ln w="0">
            <a:noFill/>
          </a:ln>
        </p:spPr>
      </p:pic>
      <p:sp>
        <p:nvSpPr>
          <p:cNvPr id="887" name="Rectangle 17"/>
          <p:cNvSpPr/>
          <p:nvPr/>
        </p:nvSpPr>
        <p:spPr>
          <a:xfrm>
            <a:off x="507960" y="1341360"/>
            <a:ext cx="53802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  <a:ea typeface="Arial"/>
              </a:rPr>
              <a:t>Illuminazio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: stessi soggetti con differente illuminazione risultano lontani nello spazio delle eigen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  <a:ea typeface="Arial"/>
              </a:rPr>
              <a:t>Pose differenti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:le componenti di un volto frontale non servono per un riconoscimento con prof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  <a:ea typeface="Arial"/>
              </a:rPr>
              <a:t>Allineamento differ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  <a:ea typeface="Arial"/>
              </a:rPr>
              <a:t>Espressione facciale differ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  <a:ea typeface="Arial"/>
              </a:rPr>
              <a:t>Out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ample outliers = non fac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Intra-sample outliers = facce affette da ru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8" name="Picture 18" descr=""/>
          <p:cNvPicPr/>
          <p:nvPr/>
        </p:nvPicPr>
        <p:blipFill>
          <a:blip r:embed="rId2"/>
          <a:stretch/>
        </p:blipFill>
        <p:spPr>
          <a:xfrm>
            <a:off x="6381720" y="5445000"/>
            <a:ext cx="3119400" cy="74772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19" descr=""/>
          <p:cNvPicPr/>
          <p:nvPr/>
        </p:nvPicPr>
        <p:blipFill>
          <a:blip r:embed="rId3"/>
          <a:stretch/>
        </p:blipFill>
        <p:spPr>
          <a:xfrm>
            <a:off x="6381720" y="2565360"/>
            <a:ext cx="2847960" cy="965160"/>
          </a:xfrm>
          <a:prstGeom prst="rect">
            <a:avLst/>
          </a:prstGeom>
          <a:ln w="0">
            <a:noFill/>
          </a:ln>
        </p:spPr>
      </p:pic>
      <p:pic>
        <p:nvPicPr>
          <p:cNvPr id="890" name="Picture 20" descr=""/>
          <p:cNvPicPr/>
          <p:nvPr/>
        </p:nvPicPr>
        <p:blipFill>
          <a:blip r:embed="rId4"/>
          <a:stretch/>
        </p:blipFill>
        <p:spPr>
          <a:xfrm>
            <a:off x="6381720" y="3573360"/>
            <a:ext cx="2847960" cy="957240"/>
          </a:xfrm>
          <a:prstGeom prst="rect">
            <a:avLst/>
          </a:prstGeom>
          <a:ln w="0">
            <a:noFill/>
          </a:ln>
        </p:spPr>
      </p:pic>
      <p:pic>
        <p:nvPicPr>
          <p:cNvPr id="891" name="Picture 21" descr=""/>
          <p:cNvPicPr/>
          <p:nvPr/>
        </p:nvPicPr>
        <p:blipFill>
          <a:blip r:embed="rId5"/>
          <a:stretch/>
        </p:blipFill>
        <p:spPr>
          <a:xfrm>
            <a:off x="6381720" y="4697280"/>
            <a:ext cx="3119400" cy="747720"/>
          </a:xfrm>
          <a:prstGeom prst="rect">
            <a:avLst/>
          </a:prstGeom>
          <a:ln w="0">
            <a:noFill/>
          </a:ln>
        </p:spPr>
      </p:pic>
      <p:sp>
        <p:nvSpPr>
          <p:cNvPr id="892" name="Freeform 22"/>
          <p:cNvSpPr/>
          <p:nvPr/>
        </p:nvSpPr>
        <p:spPr>
          <a:xfrm rot="19296600">
            <a:off x="9164160" y="3860280"/>
            <a:ext cx="622440" cy="814680"/>
          </a:xfrm>
          <a:custGeom>
            <a:avLst/>
            <a:gdLst>
              <a:gd name="textAreaLeft" fmla="*/ 0 w 622440"/>
              <a:gd name="textAreaRight" fmla="*/ 622800 w 622440"/>
              <a:gd name="textAreaTop" fmla="*/ 0 h 814680"/>
              <a:gd name="textAreaBottom" fmla="*/ 815040 h 814680"/>
            </a:gdLst>
            <a:ahLst/>
            <a:rect l="textAreaLeft" t="textAreaTop" r="textAreaRight" b="textAreaBottom"/>
            <a:pathLst>
              <a:path w="990" h="513">
                <a:moveTo>
                  <a:pt x="317" y="0"/>
                </a:moveTo>
                <a:cubicBezTo>
                  <a:pt x="570" y="30"/>
                  <a:pt x="824" y="60"/>
                  <a:pt x="907" y="136"/>
                </a:cubicBezTo>
                <a:cubicBezTo>
                  <a:pt x="990" y="212"/>
                  <a:pt x="967" y="393"/>
                  <a:pt x="816" y="453"/>
                </a:cubicBezTo>
                <a:cubicBezTo>
                  <a:pt x="665" y="513"/>
                  <a:pt x="136" y="491"/>
                  <a:pt x="0" y="499"/>
                </a:cubicBezTo>
              </a:path>
            </a:pathLst>
          </a:custGeom>
          <a:noFill/>
          <a:ln w="6660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24"/>
          <p:cNvSpPr/>
          <p:nvPr/>
        </p:nvSpPr>
        <p:spPr>
          <a:xfrm flipV="1">
            <a:off x="4875120" y="3068640"/>
            <a:ext cx="132732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Line 25"/>
          <p:cNvSpPr/>
          <p:nvPr/>
        </p:nvSpPr>
        <p:spPr>
          <a:xfrm flipV="1">
            <a:off x="5680080" y="4292280"/>
            <a:ext cx="6224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8877-4213-41F7-9765-7EF93AFD5B5B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247320" y="-360"/>
            <a:ext cx="941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800000"/>
                </a:solidFill>
                <a:latin typeface="Tahoma"/>
              </a:rPr>
              <a:t>Problemi eigenfaces (2)</a:t>
            </a:r>
            <a:endParaRPr b="0" lang="en-US" sz="37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898" name="Picture 16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95320" y="2421000"/>
            <a:ext cx="7764480" cy="3449520"/>
          </a:xfrm>
          <a:prstGeom prst="rect">
            <a:avLst/>
          </a:prstGeom>
          <a:ln w="0">
            <a:noFill/>
          </a:ln>
        </p:spPr>
      </p:pic>
      <p:sp>
        <p:nvSpPr>
          <p:cNvPr id="899" name="Rectangle 21"/>
          <p:cNvSpPr/>
          <p:nvPr/>
        </p:nvSpPr>
        <p:spPr>
          <a:xfrm>
            <a:off x="507960" y="1197000"/>
            <a:ext cx="82677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unzionale solo per la rappresentazione di dati appartenenti ad un’unica cla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Non separano classi differ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93D7-86C8-4949-B6AA-547A7D5C6704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7320" y="-360"/>
            <a:ext cx="941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800000"/>
                </a:solidFill>
                <a:latin typeface="Tahoma"/>
              </a:rPr>
              <a:t>Riferimenti su libro</a:t>
            </a:r>
            <a:endParaRPr b="0" lang="en-US" sz="37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03" name="Rectangle 21"/>
          <p:cNvSpPr/>
          <p:nvPr/>
        </p:nvSpPr>
        <p:spPr>
          <a:xfrm>
            <a:off x="507960" y="1197000"/>
            <a:ext cx="82677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PCA capitolo Duda 3.8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Materiale di approfondimento (paper eigenfaces VS fisherfa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Per linear discriminant analysis, 3.8.2, 3.8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929B-6DB8-4D51-8664-FA656DE3FB8B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Picture 28" descr="graph1"/>
          <p:cNvPicPr/>
          <p:nvPr/>
        </p:nvPicPr>
        <p:blipFill>
          <a:blip r:embed="rId1"/>
          <a:stretch/>
        </p:blipFill>
        <p:spPr>
          <a:xfrm>
            <a:off x="3549600" y="3790800"/>
            <a:ext cx="2808360" cy="194328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Tahoma"/>
              </a:rPr>
              <a:t>PCA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05" name="Rectangle 6"/>
          <p:cNvSpPr/>
          <p:nvPr/>
        </p:nvSpPr>
        <p:spPr>
          <a:xfrm>
            <a:off x="6746760" y="1557360"/>
            <a:ext cx="3041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14"/>
          <p:cNvSpPr/>
          <p:nvPr/>
        </p:nvSpPr>
        <p:spPr>
          <a:xfrm>
            <a:off x="496800" y="2637000"/>
            <a:ext cx="3043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Supp. una retta di proiezione nello spaz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17"/>
          <p:cNvSpPr/>
          <p:nvPr/>
        </p:nvSpPr>
        <p:spPr>
          <a:xfrm flipV="1">
            <a:off x="3852720" y="3902040"/>
            <a:ext cx="2324160" cy="163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AutoShape 21"/>
          <p:cNvSpPr/>
          <p:nvPr/>
        </p:nvSpPr>
        <p:spPr>
          <a:xfrm>
            <a:off x="3225960" y="2709720"/>
            <a:ext cx="390240" cy="863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22"/>
          <p:cNvSpPr/>
          <p:nvPr/>
        </p:nvSpPr>
        <p:spPr>
          <a:xfrm>
            <a:off x="3772080" y="2565360"/>
            <a:ext cx="59292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Alcune vanno bene          ...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altre 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intuitiv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23"/>
          <p:cNvSpPr/>
          <p:nvPr/>
        </p:nvSpPr>
        <p:spPr>
          <a:xfrm rot="5400000">
            <a:off x="4839840" y="2998800"/>
            <a:ext cx="360360" cy="93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24"/>
          <p:cNvSpPr/>
          <p:nvPr/>
        </p:nvSpPr>
        <p:spPr>
          <a:xfrm rot="5400000">
            <a:off x="8195400" y="2997720"/>
            <a:ext cx="36036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AutoShape 25"/>
          <p:cNvSpPr/>
          <p:nvPr/>
        </p:nvSpPr>
        <p:spPr>
          <a:xfrm rot="5400000">
            <a:off x="1954080" y="3070080"/>
            <a:ext cx="360360" cy="93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27"/>
          <p:cNvSpPr/>
          <p:nvPr/>
        </p:nvSpPr>
        <p:spPr>
          <a:xfrm>
            <a:off x="428760" y="1268280"/>
            <a:ext cx="9048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  <a:ea typeface="Arial"/>
              </a:rPr>
              <a:t>SOL2: Con una retta di proiezion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, che minimizzi la distanza media quadratica con tutti i p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4" name="Picture 29" descr="graph1"/>
          <p:cNvPicPr/>
          <p:nvPr/>
        </p:nvPicPr>
        <p:blipFill>
          <a:blip r:embed="rId2"/>
          <a:stretch/>
        </p:blipFill>
        <p:spPr>
          <a:xfrm>
            <a:off x="584280" y="3789360"/>
            <a:ext cx="2808360" cy="1943280"/>
          </a:xfrm>
          <a:prstGeom prst="rect">
            <a:avLst/>
          </a:prstGeom>
          <a:ln w="0">
            <a:noFill/>
          </a:ln>
        </p:spPr>
      </p:pic>
      <p:sp>
        <p:nvSpPr>
          <p:cNvPr id="615" name="Line 30"/>
          <p:cNvSpPr/>
          <p:nvPr/>
        </p:nvSpPr>
        <p:spPr>
          <a:xfrm flipV="1">
            <a:off x="844560" y="3811320"/>
            <a:ext cx="2325600" cy="163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32"/>
          <p:cNvSpPr/>
          <p:nvPr/>
        </p:nvSpPr>
        <p:spPr>
          <a:xfrm flipH="1" flipV="1">
            <a:off x="1380600" y="5076360"/>
            <a:ext cx="78120" cy="954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34"/>
          <p:cNvSpPr/>
          <p:nvPr/>
        </p:nvSpPr>
        <p:spPr>
          <a:xfrm flipH="1" flipV="1">
            <a:off x="1987200" y="4653000"/>
            <a:ext cx="174600" cy="2160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35"/>
          <p:cNvSpPr/>
          <p:nvPr/>
        </p:nvSpPr>
        <p:spPr>
          <a:xfrm flipH="1" flipV="1">
            <a:off x="1747800" y="4812840"/>
            <a:ext cx="76320" cy="954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37"/>
          <p:cNvSpPr/>
          <p:nvPr/>
        </p:nvSpPr>
        <p:spPr>
          <a:xfrm flipH="1" flipV="1">
            <a:off x="2430000" y="4349880"/>
            <a:ext cx="88920" cy="10944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38"/>
          <p:cNvSpPr/>
          <p:nvPr/>
        </p:nvSpPr>
        <p:spPr>
          <a:xfrm flipH="1" flipV="1">
            <a:off x="2871360" y="4029120"/>
            <a:ext cx="88920" cy="10944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39"/>
          <p:cNvSpPr/>
          <p:nvPr/>
        </p:nvSpPr>
        <p:spPr>
          <a:xfrm flipH="1" flipV="1">
            <a:off x="2327040" y="4212720"/>
            <a:ext cx="88920" cy="1098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40"/>
          <p:cNvSpPr/>
          <p:nvPr/>
        </p:nvSpPr>
        <p:spPr>
          <a:xfrm flipH="1" flipV="1">
            <a:off x="1442520" y="5157360"/>
            <a:ext cx="78120" cy="954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41"/>
          <p:cNvSpPr/>
          <p:nvPr/>
        </p:nvSpPr>
        <p:spPr>
          <a:xfrm flipH="1" flipV="1">
            <a:off x="1035000" y="5292360"/>
            <a:ext cx="77760" cy="954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4" name="Picture 42" descr="graph1"/>
          <p:cNvPicPr/>
          <p:nvPr/>
        </p:nvPicPr>
        <p:blipFill>
          <a:blip r:embed="rId3"/>
          <a:stretch/>
        </p:blipFill>
        <p:spPr>
          <a:xfrm>
            <a:off x="6746760" y="3789360"/>
            <a:ext cx="2808360" cy="1943280"/>
          </a:xfrm>
          <a:prstGeom prst="rect">
            <a:avLst/>
          </a:prstGeom>
          <a:ln w="0">
            <a:noFill/>
          </a:ln>
        </p:spPr>
      </p:pic>
      <p:sp>
        <p:nvSpPr>
          <p:cNvPr id="625" name="Line 43"/>
          <p:cNvSpPr/>
          <p:nvPr/>
        </p:nvSpPr>
        <p:spPr>
          <a:xfrm>
            <a:off x="7215120" y="4437000"/>
            <a:ext cx="210672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F2BF-81A9-4A67-8132-84CD66658812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Picture 24" descr="graph1"/>
          <p:cNvPicPr/>
          <p:nvPr/>
        </p:nvPicPr>
        <p:blipFill>
          <a:blip r:embed="rId1"/>
          <a:stretch/>
        </p:blipFill>
        <p:spPr>
          <a:xfrm>
            <a:off x="4606920" y="2125800"/>
            <a:ext cx="2843280" cy="1966680"/>
          </a:xfrm>
          <a:prstGeom prst="rect">
            <a:avLst/>
          </a:prstGeom>
          <a:ln w="0">
            <a:noFill/>
          </a:ln>
        </p:spPr>
      </p:pic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Tahoma"/>
              </a:rPr>
              <a:t>PCA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7960" y="1267920"/>
            <a:ext cx="865656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er convenienza, imponiamo passaggio dalla media, e specifichiamo quindi i punti della retta co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Object 2"/>
              <p:cNvSpPr txBox="1"/>
              <p:nvPr/>
            </p:nvSpPr>
            <p:spPr>
              <a:xfrm>
                <a:off x="1989000" y="2708280"/>
                <a:ext cx="20685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r>
                      <m:t xml:space="preserve">a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2" name="Oval 8"/>
          <p:cNvSpPr/>
          <p:nvPr/>
        </p:nvSpPr>
        <p:spPr>
          <a:xfrm>
            <a:off x="6037200" y="3038400"/>
            <a:ext cx="763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9"/>
          <p:cNvSpPr/>
          <p:nvPr/>
        </p:nvSpPr>
        <p:spPr>
          <a:xfrm flipV="1">
            <a:off x="6124680" y="2491920"/>
            <a:ext cx="857160" cy="561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4" name="Object 3"/>
          <p:cNvGraphicFramePr/>
          <p:nvPr/>
        </p:nvGraphicFramePr>
        <p:xfrm>
          <a:off x="6100920" y="3830760"/>
          <a:ext cx="282240" cy="39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00920" y="3830760"/>
                    <a:ext cx="28224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6" name="Object 4"/>
          <p:cNvGraphicFramePr/>
          <p:nvPr/>
        </p:nvGraphicFramePr>
        <p:xfrm>
          <a:off x="4564080" y="2709720"/>
          <a:ext cx="304920" cy="390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64080" y="2709720"/>
                    <a:ext cx="30492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38" name="Object 5"/>
              <p:cNvSpPr txBox="1"/>
              <p:nvPr/>
            </p:nvSpPr>
            <p:spPr>
              <a:xfrm>
                <a:off x="6012000" y="2438280"/>
                <a:ext cx="46188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39" name="AutoShape 13"/>
          <p:cNvSpPr/>
          <p:nvPr/>
        </p:nvSpPr>
        <p:spPr>
          <a:xfrm flipV="1" rot="3235800">
            <a:off x="6301080" y="2149560"/>
            <a:ext cx="160200" cy="1154160"/>
          </a:xfrm>
          <a:custGeom>
            <a:avLst/>
            <a:gdLst>
              <a:gd name="textAreaLeft" fmla="*/ 102240 w 160200"/>
              <a:gd name="textAreaRight" fmla="*/ 160560 w 160200"/>
              <a:gd name="textAreaTop" fmla="*/ 27720 h 1154160"/>
              <a:gd name="textAreaBottom" fmla="*/ 1126440 h 115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1"/>
                  <a:pt x="10800" y="1662"/>
                </a:cubicBezTo>
                <a:lnTo>
                  <a:pt x="10800" y="9138"/>
                </a:lnTo>
                <a:cubicBezTo>
                  <a:pt x="10800" y="9969"/>
                  <a:pt x="5400" y="10800"/>
                  <a:pt x="0" y="10800"/>
                </a:cubicBezTo>
                <a:cubicBezTo>
                  <a:pt x="5400" y="10800"/>
                  <a:pt x="10800" y="11631"/>
                  <a:pt x="10800" y="12462"/>
                </a:cubicBezTo>
                <a:lnTo>
                  <a:pt x="10800" y="19938"/>
                </a:lnTo>
                <a:cubicBezTo>
                  <a:pt x="10800" y="2076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Object 6"/>
              <p:cNvSpPr txBox="1"/>
              <p:nvPr/>
            </p:nvSpPr>
            <p:spPr>
              <a:xfrm>
                <a:off x="6462720" y="2781360"/>
                <a:ext cx="206280" cy="2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Object 7"/>
              <p:cNvSpPr txBox="1"/>
              <p:nvPr/>
            </p:nvSpPr>
            <p:spPr>
              <a:xfrm>
                <a:off x="5989680" y="3125880"/>
                <a:ext cx="322200" cy="2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2" name="AutoShape 16"/>
          <p:cNvSpPr/>
          <p:nvPr/>
        </p:nvSpPr>
        <p:spPr>
          <a:xfrm>
            <a:off x="4140360" y="2565360"/>
            <a:ext cx="388800" cy="863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Object 8"/>
              <p:cNvSpPr txBox="1"/>
              <p:nvPr/>
            </p:nvSpPr>
            <p:spPr>
              <a:xfrm>
                <a:off x="2146320" y="2276640"/>
                <a:ext cx="17334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Object 9"/>
              <p:cNvSpPr txBox="1"/>
              <p:nvPr/>
            </p:nvSpPr>
            <p:spPr>
              <a:xfrm>
                <a:off x="6905520" y="2133720"/>
                <a:ext cx="46224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5" name="Oval 20"/>
          <p:cNvSpPr/>
          <p:nvPr/>
        </p:nvSpPr>
        <p:spPr>
          <a:xfrm>
            <a:off x="6964200" y="2460600"/>
            <a:ext cx="781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Object 10"/>
              <p:cNvSpPr txBox="1"/>
              <p:nvPr/>
            </p:nvSpPr>
            <p:spPr>
              <a:xfrm>
                <a:off x="942840" y="5013360"/>
                <a:ext cx="5335560" cy="11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gmin</m:t>
                            </m:r>
                          </m:e>
                          <m:lim>
                            <m:sSub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</m:lim>
                        </m:limLow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e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+</m:t>
                                        </m:r>
                                        <m:s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  <m:r>
                                          <m:t xml:space="preserve">e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47" name="Rectangle 22"/>
          <p:cNvSpPr/>
          <p:nvPr/>
        </p:nvSpPr>
        <p:spPr>
          <a:xfrm>
            <a:off x="507960" y="4237200"/>
            <a:ext cx="86565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Troviamo quindi i coefficienti               ed i vettori e che minimizzano la distanza quadra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Object 11"/>
              <p:cNvSpPr txBox="1"/>
              <p:nvPr/>
            </p:nvSpPr>
            <p:spPr>
              <a:xfrm>
                <a:off x="4275000" y="4276800"/>
                <a:ext cx="10432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9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B0AD-13E9-4F36-992C-A489F542734A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Tahoma"/>
              </a:rPr>
              <a:t>PCA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07960" y="1278000"/>
            <a:ext cx="86565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ostituendo                           in                         ottenia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ossia      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Object 2"/>
              <p:cNvSpPr txBox="1"/>
              <p:nvPr/>
            </p:nvSpPr>
            <p:spPr>
              <a:xfrm>
                <a:off x="2249640" y="1282680"/>
                <a:ext cx="21762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Object 3"/>
              <p:cNvSpPr txBox="1"/>
              <p:nvPr/>
            </p:nvSpPr>
            <p:spPr>
              <a:xfrm>
                <a:off x="4579920" y="1306440"/>
                <a:ext cx="18734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e</m:t>
                            </m:r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Object 4"/>
              <p:cNvSpPr txBox="1"/>
              <p:nvPr/>
            </p:nvSpPr>
            <p:spPr>
              <a:xfrm>
                <a:off x="1432080" y="2279520"/>
                <a:ext cx="33764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e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Object 5"/>
              <p:cNvSpPr txBox="1"/>
              <p:nvPr/>
            </p:nvSpPr>
            <p:spPr>
              <a:xfrm>
                <a:off x="1130400" y="1638360"/>
                <a:ext cx="6904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e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57" name="Rectangle 28"/>
          <p:cNvSpPr/>
          <p:nvPr/>
        </p:nvSpPr>
        <p:spPr>
          <a:xfrm>
            <a:off x="584280" y="3355920"/>
            <a:ext cx="8658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Minimizzare          significa massimizzare         tenuto conto che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, via moltiplicatori di Lagrange; ossia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Object 6"/>
              <p:cNvSpPr txBox="1"/>
              <p:nvPr/>
            </p:nvSpPr>
            <p:spPr>
              <a:xfrm>
                <a:off x="5734080" y="2276640"/>
                <a:ext cx="29192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  <m:r>
                          <m:t xml:space="preserve">'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Object 7"/>
              <p:cNvSpPr txBox="1"/>
              <p:nvPr/>
            </p:nvSpPr>
            <p:spPr>
              <a:xfrm>
                <a:off x="2435400" y="3368520"/>
                <a:ext cx="561960" cy="3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e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Object 8"/>
              <p:cNvSpPr txBox="1"/>
              <p:nvPr/>
            </p:nvSpPr>
            <p:spPr>
              <a:xfrm>
                <a:off x="5635800" y="3378240"/>
                <a:ext cx="6094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Object 9"/>
              <p:cNvSpPr txBox="1"/>
              <p:nvPr/>
            </p:nvSpPr>
            <p:spPr>
              <a:xfrm>
                <a:off x="895320" y="3716280"/>
                <a:ext cx="7491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e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Object 10"/>
              <p:cNvSpPr txBox="1"/>
              <p:nvPr/>
            </p:nvSpPr>
            <p:spPr>
              <a:xfrm>
                <a:off x="6265800" y="3703680"/>
                <a:ext cx="260352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−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e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Object 11"/>
              <p:cNvSpPr txBox="1"/>
              <p:nvPr/>
            </p:nvSpPr>
            <p:spPr>
              <a:xfrm>
                <a:off x="749160" y="5237280"/>
                <a:ext cx="24973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λe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4" name="Rectangle 35"/>
          <p:cNvSpPr/>
          <p:nvPr/>
        </p:nvSpPr>
        <p:spPr>
          <a:xfrm>
            <a:off x="584280" y="4797360"/>
            <a:ext cx="8658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Minimizz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36"/>
          <p:cNvSpPr/>
          <p:nvPr/>
        </p:nvSpPr>
        <p:spPr>
          <a:xfrm>
            <a:off x="3470400" y="5229360"/>
            <a:ext cx="390240" cy="863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Object 12"/>
              <p:cNvSpPr txBox="1"/>
              <p:nvPr/>
            </p:nvSpPr>
            <p:spPr>
              <a:xfrm>
                <a:off x="3917880" y="5445000"/>
                <a:ext cx="10350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=</m:t>
                    </m:r>
                    <m:r>
                      <m:t xml:space="preserve">λ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7" name="Rectangle 38"/>
          <p:cNvSpPr/>
          <p:nvPr/>
        </p:nvSpPr>
        <p:spPr>
          <a:xfrm>
            <a:off x="5500800" y="2276640"/>
            <a:ext cx="3430440" cy="792000"/>
          </a:xfrm>
          <a:prstGeom prst="rect">
            <a:avLst/>
          </a:prstGeom>
          <a:noFill/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39"/>
          <p:cNvSpPr/>
          <p:nvPr/>
        </p:nvSpPr>
        <p:spPr>
          <a:xfrm>
            <a:off x="5440320" y="2006640"/>
            <a:ext cx="330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00"/>
                </a:solidFill>
                <a:latin typeface="Arial"/>
                <a:ea typeface="Arial"/>
              </a:rPr>
              <a:t>Scatter matrix 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  <a:ea typeface="Arial"/>
              </a:rPr>
              <a:t>≈ mat. di covaria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40"/>
          <p:cNvSpPr/>
          <p:nvPr/>
        </p:nvSpPr>
        <p:spPr>
          <a:xfrm>
            <a:off x="5578560" y="4452840"/>
            <a:ext cx="3432240" cy="1873440"/>
          </a:xfrm>
          <a:prstGeom prst="rect">
            <a:avLst/>
          </a:prstGeom>
          <a:noFill/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41"/>
          <p:cNvSpPr/>
          <p:nvPr/>
        </p:nvSpPr>
        <p:spPr>
          <a:xfrm>
            <a:off x="5559480" y="4437000"/>
            <a:ext cx="3917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 conti fat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deve essere autovettor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oich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eve essere mass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Object 13"/>
              <p:cNvSpPr txBox="1"/>
              <p:nvPr/>
            </p:nvSpPr>
            <p:spPr>
              <a:xfrm>
                <a:off x="6218280" y="5292720"/>
                <a:ext cx="20988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λe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Object 14"/>
              <p:cNvSpPr txBox="1"/>
              <p:nvPr/>
            </p:nvSpPr>
            <p:spPr>
              <a:xfrm>
                <a:off x="5811840" y="5796000"/>
                <a:ext cx="29052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3" name="AutoShape 45"/>
          <p:cNvSpPr/>
          <p:nvPr/>
        </p:nvSpPr>
        <p:spPr>
          <a:xfrm>
            <a:off x="5110200" y="5229360"/>
            <a:ext cx="390600" cy="863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Freeform 46"/>
          <p:cNvSpPr/>
          <p:nvPr/>
        </p:nvSpPr>
        <p:spPr>
          <a:xfrm rot="21340800">
            <a:off x="2846520" y="1915920"/>
            <a:ext cx="2574720" cy="502920"/>
          </a:xfrm>
          <a:custGeom>
            <a:avLst/>
            <a:gdLst>
              <a:gd name="textAreaLeft" fmla="*/ 0 w 2574720"/>
              <a:gd name="textAreaRight" fmla="*/ 2575080 w 2574720"/>
              <a:gd name="textAreaTop" fmla="*/ 0 h 502920"/>
              <a:gd name="textAreaBottom" fmla="*/ 503280 h 502920"/>
            </a:gdLst>
            <a:ahLst/>
            <a:rect l="textAreaLeft" t="textAreaTop" r="textAreaRight" b="textAreaBottom"/>
            <a:pathLst>
              <a:path w="1497" h="317">
                <a:moveTo>
                  <a:pt x="0" y="317"/>
                </a:moveTo>
                <a:cubicBezTo>
                  <a:pt x="193" y="158"/>
                  <a:pt x="386" y="0"/>
                  <a:pt x="635" y="0"/>
                </a:cubicBezTo>
                <a:cubicBezTo>
                  <a:pt x="884" y="0"/>
                  <a:pt x="1190" y="158"/>
                  <a:pt x="1497" y="317"/>
                </a:cubicBezTo>
              </a:path>
            </a:pathLst>
          </a:custGeom>
          <a:noFill/>
          <a:ln w="63360">
            <a:solidFill>
              <a:srgbClr val="ff99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F9FE-3A61-4CAD-BD7C-5B7FDD3D0447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Tahoma"/>
              </a:rPr>
              <a:t>Esempio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678" name="Picture 3" descr="graph3"/>
          <p:cNvPicPr/>
          <p:nvPr/>
        </p:nvPicPr>
        <p:blipFill>
          <a:blip r:embed="rId1"/>
          <a:stretch/>
        </p:blipFill>
        <p:spPr>
          <a:xfrm>
            <a:off x="5030640" y="3357720"/>
            <a:ext cx="2730600" cy="2222280"/>
          </a:xfrm>
          <a:prstGeom prst="rect">
            <a:avLst/>
          </a:prstGeom>
          <a:ln w="0">
            <a:noFill/>
          </a:ln>
        </p:spPr>
      </p:pic>
      <p:sp>
        <p:nvSpPr>
          <p:cNvPr id="679" name="Freeform 4"/>
          <p:cNvSpPr/>
          <p:nvPr/>
        </p:nvSpPr>
        <p:spPr>
          <a:xfrm rot="19878600">
            <a:off x="4287960" y="3474720"/>
            <a:ext cx="2589120" cy="1090440"/>
          </a:xfrm>
          <a:custGeom>
            <a:avLst/>
            <a:gdLst>
              <a:gd name="textAreaLeft" fmla="*/ 0 w 2589120"/>
              <a:gd name="textAreaRight" fmla="*/ 2589480 w 2589120"/>
              <a:gd name="textAreaTop" fmla="*/ 0 h 1090440"/>
              <a:gd name="textAreaBottom" fmla="*/ 1090800 h 1090440"/>
            </a:gdLst>
            <a:ahLst/>
            <a:rect l="textAreaLeft" t="textAreaTop" r="textAreaRight" b="textAreaBottom"/>
            <a:pathLst>
              <a:path w="1257" h="740">
                <a:moveTo>
                  <a:pt x="0" y="15"/>
                </a:moveTo>
                <a:cubicBezTo>
                  <a:pt x="427" y="7"/>
                  <a:pt x="855" y="0"/>
                  <a:pt x="1056" y="121"/>
                </a:cubicBezTo>
                <a:cubicBezTo>
                  <a:pt x="1257" y="242"/>
                  <a:pt x="1231" y="491"/>
                  <a:pt x="1205" y="74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Freeform 5"/>
          <p:cNvSpPr/>
          <p:nvPr/>
        </p:nvSpPr>
        <p:spPr>
          <a:xfrm>
            <a:off x="2457360" y="4340160"/>
            <a:ext cx="3667320" cy="1609920"/>
          </a:xfrm>
          <a:custGeom>
            <a:avLst/>
            <a:gdLst>
              <a:gd name="textAreaLeft" fmla="*/ 0 w 3667320"/>
              <a:gd name="textAreaRight" fmla="*/ 3667680 w 3667320"/>
              <a:gd name="textAreaTop" fmla="*/ 0 h 1609920"/>
              <a:gd name="textAreaBottom" fmla="*/ 1610280 h 1609920"/>
            </a:gdLst>
            <a:ahLst/>
            <a:rect l="textAreaLeft" t="textAreaTop" r="textAreaRight" b="textAreaBottom"/>
            <a:pathLst>
              <a:path w="2132" h="823">
                <a:moveTo>
                  <a:pt x="0" y="589"/>
                </a:moveTo>
                <a:cubicBezTo>
                  <a:pt x="366" y="706"/>
                  <a:pt x="733" y="823"/>
                  <a:pt x="1088" y="725"/>
                </a:cubicBezTo>
                <a:cubicBezTo>
                  <a:pt x="1443" y="627"/>
                  <a:pt x="1787" y="313"/>
                  <a:pt x="2132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6"/>
          <p:cNvSpPr/>
          <p:nvPr/>
        </p:nvSpPr>
        <p:spPr>
          <a:xfrm rot="2607000">
            <a:off x="6330600" y="4314960"/>
            <a:ext cx="235080" cy="215640"/>
          </a:xfrm>
          <a:prstGeom prst="rect">
            <a:avLst/>
          </a:prstGeom>
          <a:noFill/>
          <a:ln cap="rnd" w="936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2" name="Object 2"/>
          <p:cNvGraphicFramePr/>
          <p:nvPr/>
        </p:nvGraphicFramePr>
        <p:xfrm>
          <a:off x="6462720" y="5275440"/>
          <a:ext cx="284040" cy="39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62720" y="5275440"/>
                    <a:ext cx="28404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4" name="Object 3"/>
          <p:cNvGraphicFramePr/>
          <p:nvPr/>
        </p:nvGraphicFramePr>
        <p:xfrm>
          <a:off x="5030640" y="4267080"/>
          <a:ext cx="304920" cy="390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85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30640" y="4267080"/>
                    <a:ext cx="30492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86" name="Object 4"/>
              <p:cNvSpPr txBox="1"/>
              <p:nvPr/>
            </p:nvSpPr>
            <p:spPr>
              <a:xfrm>
                <a:off x="4329000" y="1380960"/>
                <a:ext cx="20894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17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1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1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17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Object 5"/>
              <p:cNvSpPr txBox="1"/>
              <p:nvPr/>
            </p:nvSpPr>
            <p:spPr>
              <a:xfrm>
                <a:off x="1209600" y="4078440"/>
                <a:ext cx="17845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3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7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Object 6"/>
              <p:cNvSpPr txBox="1"/>
              <p:nvPr/>
            </p:nvSpPr>
            <p:spPr>
              <a:xfrm>
                <a:off x="3078000" y="4073400"/>
                <a:ext cx="17971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78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3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Object 7"/>
              <p:cNvSpPr txBox="1"/>
              <p:nvPr/>
            </p:nvSpPr>
            <p:spPr>
              <a:xfrm>
                <a:off x="1442880" y="5013360"/>
                <a:ext cx="13654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Object 8"/>
              <p:cNvSpPr txBox="1"/>
              <p:nvPr/>
            </p:nvSpPr>
            <p:spPr>
              <a:xfrm>
                <a:off x="3159000" y="4941720"/>
                <a:ext cx="13654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1" name="Rectangle 22"/>
          <p:cNvSpPr/>
          <p:nvPr/>
        </p:nvSpPr>
        <p:spPr>
          <a:xfrm>
            <a:off x="584280" y="1523880"/>
            <a:ext cx="421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La matrice di covarianza è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35"/>
          <p:cNvSpPr/>
          <p:nvPr/>
        </p:nvSpPr>
        <p:spPr>
          <a:xfrm>
            <a:off x="584280" y="2637000"/>
            <a:ext cx="717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Ottengo 2 autovettori (e autovalori): quale prendo?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ED48-057B-4342-9D62-66DC0C5A76A3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Tahoma"/>
              </a:rPr>
              <a:t>Esempio - osservazion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6" name="Object 2"/>
              <p:cNvSpPr txBox="1"/>
              <p:nvPr/>
            </p:nvSpPr>
            <p:spPr>
              <a:xfrm>
                <a:off x="3716280" y="1406520"/>
                <a:ext cx="20890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17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1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1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17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97" name="Rectangle 11"/>
          <p:cNvSpPr/>
          <p:nvPr/>
        </p:nvSpPr>
        <p:spPr>
          <a:xfrm>
            <a:off x="507960" y="1555920"/>
            <a:ext cx="86565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marL="144000" indent="-144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La matrice di covarianza                           è simmetrica, re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4000" indent="-14400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4000" indent="-144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gli autovettori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{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}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sono ortogonali, formanti una base per lo spazio N dimension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4000" indent="-144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4000" indent="-144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4000" indent="-144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4000" indent="-144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4000" indent="-144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4000" indent="-144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  <a:ea typeface="Arial"/>
              </a:rPr>
              <a:t>gli autovalori più grandi s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4000" indent="-144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  <a:ea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  <a:ea typeface="Arial"/>
              </a:rPr>
              <a:t>    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  <a:ea typeface="Arial"/>
              </a:rPr>
              <a:t>hanno nelle direzioni d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4000" indent="-144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  <a:ea typeface="Arial"/>
              </a:rPr>
              <a:t>        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  <a:ea typeface="Arial"/>
              </a:rPr>
              <a:t>massima dispersione dei d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8" name="Object 3"/>
              <p:cNvSpPr txBox="1"/>
              <p:nvPr/>
            </p:nvSpPr>
            <p:spPr>
              <a:xfrm>
                <a:off x="1357200" y="3002040"/>
                <a:ext cx="164304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3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7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Object 4"/>
              <p:cNvSpPr txBox="1"/>
              <p:nvPr/>
            </p:nvSpPr>
            <p:spPr>
              <a:xfrm>
                <a:off x="3214800" y="2997360"/>
                <a:ext cx="167940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78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3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Object 5"/>
              <p:cNvSpPr txBox="1"/>
              <p:nvPr/>
            </p:nvSpPr>
            <p:spPr>
              <a:xfrm>
                <a:off x="1590840" y="3959280"/>
                <a:ext cx="1222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Object 6"/>
              <p:cNvSpPr txBox="1"/>
              <p:nvPr/>
            </p:nvSpPr>
            <p:spPr>
              <a:xfrm>
                <a:off x="3214800" y="3956040"/>
                <a:ext cx="12459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02" name="Picture 16" descr="graph3"/>
          <p:cNvPicPr/>
          <p:nvPr/>
        </p:nvPicPr>
        <p:blipFill>
          <a:blip r:embed="rId1"/>
          <a:stretch/>
        </p:blipFill>
        <p:spPr>
          <a:xfrm>
            <a:off x="5654520" y="3319560"/>
            <a:ext cx="2808360" cy="228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3" name="Object 7"/>
          <p:cNvGraphicFramePr/>
          <p:nvPr/>
        </p:nvGraphicFramePr>
        <p:xfrm>
          <a:off x="7058160" y="5408640"/>
          <a:ext cx="234720" cy="32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58160" y="5408640"/>
                    <a:ext cx="23472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5" name="Object 8"/>
          <p:cNvGraphicFramePr/>
          <p:nvPr/>
        </p:nvGraphicFramePr>
        <p:xfrm>
          <a:off x="5654520" y="4255920"/>
          <a:ext cx="252720" cy="324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06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54520" y="4255920"/>
                    <a:ext cx="252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7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D88B-03B7-4528-829A-B586B5544259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Tahoma"/>
              </a:rPr>
              <a:t>Esempio - osservazion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0" name="Object 2"/>
              <p:cNvSpPr txBox="1"/>
              <p:nvPr/>
            </p:nvSpPr>
            <p:spPr>
              <a:xfrm>
                <a:off x="6288120" y="5373720"/>
                <a:ext cx="258120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b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11" name="Rectangle 5"/>
          <p:cNvSpPr/>
          <p:nvPr/>
        </p:nvSpPr>
        <p:spPr>
          <a:xfrm>
            <a:off x="507960" y="1484280"/>
            <a:ext cx="86565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I coefficienti         ,  per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i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=1,...,D, sono le componenti del punto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per la base trov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Quindi un punto può essere scritto 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Object 3"/>
              <p:cNvSpPr txBox="1"/>
              <p:nvPr/>
            </p:nvSpPr>
            <p:spPr>
              <a:xfrm>
                <a:off x="2625840" y="1484280"/>
                <a:ext cx="51912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Object 4"/>
              <p:cNvSpPr txBox="1"/>
              <p:nvPr/>
            </p:nvSpPr>
            <p:spPr>
              <a:xfrm>
                <a:off x="1066680" y="1928880"/>
                <a:ext cx="5191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714" name="Group 15"/>
          <p:cNvGrpSpPr/>
          <p:nvPr/>
        </p:nvGrpSpPr>
        <p:grpSpPr>
          <a:xfrm>
            <a:off x="2690640" y="2421000"/>
            <a:ext cx="3822480" cy="3023640"/>
            <a:chOff x="2690640" y="2421000"/>
            <a:chExt cx="3822480" cy="3023640"/>
          </a:xfrm>
        </p:grpSpPr>
        <p:pic>
          <p:nvPicPr>
            <p:cNvPr id="715" name="Picture 16" descr="graph3"/>
            <p:cNvPicPr/>
            <p:nvPr/>
          </p:nvPicPr>
          <p:blipFill>
            <a:blip r:embed="rId1"/>
            <a:stretch/>
          </p:blipFill>
          <p:spPr>
            <a:xfrm>
              <a:off x="2690640" y="2421000"/>
              <a:ext cx="3822480" cy="30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Line 17"/>
            <p:cNvSpPr/>
            <p:nvPr/>
          </p:nvSpPr>
          <p:spPr>
            <a:xfrm flipH="1" flipV="1">
              <a:off x="5152680" y="3226320"/>
              <a:ext cx="118440" cy="1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8"/>
            <p:cNvSpPr/>
            <p:nvPr/>
          </p:nvSpPr>
          <p:spPr>
            <a:xfrm flipH="1">
              <a:off x="4539600" y="3224880"/>
              <a:ext cx="605160" cy="55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9"/>
            <p:cNvSpPr/>
            <p:nvPr/>
          </p:nvSpPr>
          <p:spPr>
            <a:xfrm>
              <a:off x="5150880" y="3230640"/>
              <a:ext cx="0" cy="650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20"/>
            <p:cNvSpPr/>
            <p:nvPr/>
          </p:nvSpPr>
          <p:spPr>
            <a:xfrm>
              <a:off x="4675320" y="3228840"/>
              <a:ext cx="465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Line 24"/>
          <p:cNvSpPr/>
          <p:nvPr/>
        </p:nvSpPr>
        <p:spPr>
          <a:xfrm>
            <a:off x="4094280" y="2997360"/>
            <a:ext cx="701640" cy="43164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Line 25"/>
          <p:cNvSpPr/>
          <p:nvPr/>
        </p:nvSpPr>
        <p:spPr>
          <a:xfrm flipH="1">
            <a:off x="5264280" y="2997360"/>
            <a:ext cx="390240" cy="28728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2" name="Object 5"/>
              <p:cNvSpPr txBox="1"/>
              <p:nvPr/>
            </p:nvSpPr>
            <p:spPr>
              <a:xfrm>
                <a:off x="4979880" y="2844720"/>
                <a:ext cx="5209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Object 6"/>
              <p:cNvSpPr txBox="1"/>
              <p:nvPr/>
            </p:nvSpPr>
            <p:spPr>
              <a:xfrm>
                <a:off x="4719600" y="3860640"/>
                <a:ext cx="320760" cy="2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4" name="Oval 28"/>
          <p:cNvSpPr/>
          <p:nvPr/>
        </p:nvSpPr>
        <p:spPr>
          <a:xfrm>
            <a:off x="4633920" y="3846600"/>
            <a:ext cx="763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5" name="Object 7"/>
              <p:cNvSpPr txBox="1"/>
              <p:nvPr/>
            </p:nvSpPr>
            <p:spPr>
              <a:xfrm>
                <a:off x="3705120" y="2637000"/>
                <a:ext cx="5191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6" name="Object 8"/>
              <p:cNvSpPr txBox="1"/>
              <p:nvPr/>
            </p:nvSpPr>
            <p:spPr>
              <a:xfrm>
                <a:off x="5576760" y="2565360"/>
                <a:ext cx="5191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27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B42C-58EA-4127-9C9F-94CE367A8EC3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Tahoma"/>
              </a:rPr>
              <a:t>Da PCA ad eigenface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30" name="Rectangle 4"/>
          <p:cNvSpPr/>
          <p:nvPr/>
        </p:nvSpPr>
        <p:spPr>
          <a:xfrm>
            <a:off x="507960" y="1484280"/>
            <a:ext cx="83455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Dato un gruppo di punti, ho trovato la base che descrive lo scattering dei pu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Ogni punto puo’ essere mappato tramite i componenti della base (numero componenti = numero dimensioni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Usare meno componenti (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  <a:ea typeface="Arial"/>
              </a:rPr>
              <a:t>le componenti principali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) permette di proiettare i punti in un sottospazio altamente informativo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 riduzione della dimensionalità dei pu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Ora passiamo alle facce (...punti!)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dataset di M facce, N dimens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28" descr="amber1"/>
          <p:cNvPicPr/>
          <p:nvPr/>
        </p:nvPicPr>
        <p:blipFill>
          <a:blip r:embed="rId1"/>
          <a:stretch/>
        </p:blipFill>
        <p:spPr>
          <a:xfrm>
            <a:off x="507960" y="5013360"/>
            <a:ext cx="1033560" cy="114444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34" descr="paul1"/>
          <p:cNvPicPr/>
          <p:nvPr/>
        </p:nvPicPr>
        <p:blipFill>
          <a:blip r:embed="rId2"/>
          <a:stretch/>
        </p:blipFill>
        <p:spPr>
          <a:xfrm>
            <a:off x="5576760" y="5013360"/>
            <a:ext cx="1033560" cy="1144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33" name="Object 2"/>
              <p:cNvSpPr txBox="1"/>
              <p:nvPr/>
            </p:nvSpPr>
            <p:spPr>
              <a:xfrm>
                <a:off x="1565280" y="4941720"/>
                <a:ext cx="10018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4" name="Object 3"/>
              <p:cNvSpPr txBox="1"/>
              <p:nvPr/>
            </p:nvSpPr>
            <p:spPr>
              <a:xfrm>
                <a:off x="3836880" y="4941720"/>
                <a:ext cx="10382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Object 4"/>
              <p:cNvSpPr txBox="1"/>
              <p:nvPr/>
            </p:nvSpPr>
            <p:spPr>
              <a:xfrm>
                <a:off x="6669000" y="4941720"/>
                <a:ext cx="11588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M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M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M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36" name="Text Box 40"/>
          <p:cNvSpPr/>
          <p:nvPr/>
        </p:nvSpPr>
        <p:spPr>
          <a:xfrm>
            <a:off x="4957200" y="52689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41"/>
          <p:cNvSpPr/>
          <p:nvPr/>
        </p:nvSpPr>
        <p:spPr>
          <a:xfrm>
            <a:off x="8158320" y="5157720"/>
            <a:ext cx="101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.B.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i solit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0000"/>
                </a:solidFill>
                <a:latin typeface="Arial"/>
                <a:ea typeface="Arial"/>
              </a:rPr>
              <a:t>M&lt;&lt;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Picture 42" descr="andyp1"/>
          <p:cNvPicPr/>
          <p:nvPr/>
        </p:nvPicPr>
        <p:blipFill>
          <a:blip r:embed="rId3"/>
          <a:stretch/>
        </p:blipFill>
        <p:spPr>
          <a:xfrm>
            <a:off x="2768760" y="5013360"/>
            <a:ext cx="1033200" cy="1144440"/>
          </a:xfrm>
          <a:prstGeom prst="rect">
            <a:avLst/>
          </a:prstGeom>
          <a:ln w="0">
            <a:noFill/>
          </a:ln>
        </p:spPr>
      </p:pic>
      <p:sp>
        <p:nvSpPr>
          <p:cNvPr id="739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7T12:54:12Z</dcterms:created>
  <dc:creator>swan</dc:creator>
  <dc:description>Rivista d Bice -18-4-01</dc:description>
  <dc:language>en-US</dc:language>
  <cp:lastModifiedBy>Marco Cristani</cp:lastModifiedBy>
  <cp:lastPrinted>2001-05-02T10:47:20Z</cp:lastPrinted>
  <dcterms:modified xsi:type="dcterms:W3CDTF">2017-03-22T14:22:38Z</dcterms:modified>
  <cp:revision>438</cp:revision>
  <dc:subject/>
  <dc:title>Classificazione</dc:title>
</cp:coreProperties>
</file>