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587-CFBC-478E-B2C5-B38786CB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CAA-210F-4325-BEAE-5A342576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2A5-6D80-4769-B0AB-99511689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D09-B9B5-4A55-A4F9-7FE4C5EB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2E79-36C5-4D3D-B182-6C3420F8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BAF2-0751-4445-8B4B-8922DA22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4B79-05F4-4ECE-855D-CB9C500F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A6CE-E2CA-4B5E-AA4C-12478106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8193-90EE-493B-B285-B0CB2972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AB42-48D3-4537-B90A-AF33F528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6A2D-030C-4737-B0E0-D3117D61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01D-7B1B-4B9A-A424-BB576B1F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6EEF-0F43-4FA7-A6C0-4B01E5AE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5A3B-B50D-4734-BB29-B721F191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230F-1EA2-498D-830A-FA7E531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BB39-63FB-4C54-91E4-D8A26416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7776-541F-40A6-A56F-DB668777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DA9-E82E-46EE-B12A-6ED10F40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B2D-9403-47FB-A31B-20C8716E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9AA-A5B8-4AE7-B479-F8FFE400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3D1-FA1C-4477-A5D2-EB965505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6CC-C1DD-4AF8-BEFC-180DFCD9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356-72AF-434C-A6E7-7E1F07EC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C29-D2ED-4D8D-B818-3DF9D89B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5A6248-3C05-4520-AC83-0482A6A564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7186645-A868-47B4-9BAA-63498B4B63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gates and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logic devices (PAL with F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E28-606A-479B-9887-79B1BCA27A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 Macro Cel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 element + output/inpu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rcRect l="13893" t="9226" r="0" b="0"/>
          <a:stretch/>
        </p:blipFill>
        <p:spPr>
          <a:xfrm>
            <a:off x="2043000" y="2344680"/>
            <a:ext cx="550728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C60-CB2A-441C-92CE-1A74EF2963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3320" y="16394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g of War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LEDs, 2 push buttons (L,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1063080" y="3710160"/>
            <a:ext cx="7124400" cy="1563120"/>
            <a:chOff x="1063080" y="3710160"/>
            <a:chExt cx="7124400" cy="1563120"/>
          </a:xfrm>
        </p:grpSpPr>
        <p:sp>
          <p:nvSpPr>
            <p:cNvPr id="1467" name=""/>
            <p:cNvSpPr/>
            <p:nvPr/>
          </p:nvSpPr>
          <p:spPr>
            <a:xfrm>
              <a:off x="4371840" y="4498560"/>
              <a:ext cx="5432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03880" y="4498560"/>
              <a:ext cx="5414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9" name=""/>
            <p:cNvCxnSpPr>
              <a:stCxn id="1467" idx="7"/>
              <a:endCxn id="1468" idx="1"/>
            </p:cNvCxnSpPr>
            <p:nvPr/>
          </p:nvCxnSpPr>
          <p:spPr>
            <a:xfrm>
              <a:off x="483660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8" idx="3"/>
              <a:endCxn id="1467" idx="5"/>
            </p:cNvCxnSpPr>
            <p:nvPr/>
          </p:nvCxnSpPr>
          <p:spPr>
            <a:xfrm flipH="1">
              <a:off x="48366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67" idx="0"/>
            </p:cNvCxnSpPr>
            <p:nvPr/>
          </p:nvCxnSpPr>
          <p:spPr>
            <a:xfrm flipH="1">
              <a:off x="4642920" y="4033080"/>
              <a:ext cx="37440" cy="46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6234120" y="44985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3" name=""/>
            <p:cNvCxnSpPr>
              <a:endCxn id="1472" idx="1"/>
            </p:cNvCxnSpPr>
            <p:nvPr/>
          </p:nvCxnSpPr>
          <p:spPr>
            <a:xfrm>
              <a:off x="576756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4" name=""/>
            <p:cNvCxnSpPr>
              <a:stCxn id="1472" idx="3"/>
            </p:cNvCxnSpPr>
            <p:nvPr/>
          </p:nvCxnSpPr>
          <p:spPr>
            <a:xfrm flipH="1">
              <a:off x="57672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5" name=""/>
            <p:cNvSpPr/>
            <p:nvPr/>
          </p:nvSpPr>
          <p:spPr>
            <a:xfrm>
              <a:off x="7162920" y="4498560"/>
              <a:ext cx="54432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6" name=""/>
            <p:cNvCxnSpPr>
              <a:endCxn id="1475" idx="1"/>
            </p:cNvCxnSpPr>
            <p:nvPr/>
          </p:nvCxnSpPr>
          <p:spPr>
            <a:xfrm>
              <a:off x="669564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7" name=""/>
            <p:cNvSpPr/>
            <p:nvPr/>
          </p:nvSpPr>
          <p:spPr>
            <a:xfrm>
              <a:off x="1581120" y="45003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136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8" idx="3"/>
              <a:endCxn id="1477" idx="5"/>
            </p:cNvCxnSpPr>
            <p:nvPr/>
          </p:nvCxnSpPr>
          <p:spPr>
            <a:xfrm flipH="1">
              <a:off x="204588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344484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1" name=""/>
            <p:cNvCxnSpPr>
              <a:endCxn id="1480" idx="1"/>
            </p:cNvCxnSpPr>
            <p:nvPr/>
          </p:nvCxnSpPr>
          <p:spPr>
            <a:xfrm>
              <a:off x="2977920" y="457920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2" name=""/>
            <p:cNvCxnSpPr>
              <a:stCxn id="1480" idx="3"/>
            </p:cNvCxnSpPr>
            <p:nvPr/>
          </p:nvCxnSpPr>
          <p:spPr>
            <a:xfrm flipH="1">
              <a:off x="2977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3" name=""/>
            <p:cNvCxnSpPr/>
            <p:nvPr/>
          </p:nvCxnSpPr>
          <p:spPr>
            <a:xfrm>
              <a:off x="390492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4" name=""/>
            <p:cNvCxnSpPr/>
            <p:nvPr/>
          </p:nvCxnSpPr>
          <p:spPr>
            <a:xfrm flipH="1">
              <a:off x="3904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5" name=""/>
            <p:cNvCxnSpPr>
              <a:stCxn id="1477" idx="3"/>
              <a:endCxn id="1477" idx="1"/>
            </p:cNvCxnSpPr>
            <p:nvPr/>
          </p:nvCxnSpPr>
          <p:spPr>
            <a:xfrm flipH="1" flipV="1" rot="5400000">
              <a:off x="1469160" y="4768920"/>
              <a:ext cx="384480" cy="2160"/>
            </a:xfrm>
            <a:prstGeom prst="curvedConnector5">
              <a:avLst>
                <a:gd name="adj1" fmla="val -81068"/>
                <a:gd name="adj2" fmla="val -16600000"/>
                <a:gd name="adj3" fmla="val -810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6" name=""/>
            <p:cNvCxnSpPr>
              <a:stCxn id="1475" idx="5"/>
              <a:endCxn id="1475" idx="7"/>
            </p:cNvCxnSpPr>
            <p:nvPr/>
          </p:nvCxnSpPr>
          <p:spPr>
            <a:xfrm flipH="1" flipV="1" rot="5400000">
              <a:off x="7437240" y="4768200"/>
              <a:ext cx="383040" cy="2160"/>
            </a:xfrm>
            <a:prstGeom prst="curvedConnector5">
              <a:avLst>
                <a:gd name="adj1" fmla="val -81091"/>
                <a:gd name="adj2" fmla="val 15540000"/>
                <a:gd name="adj3" fmla="val -810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7" name=""/>
            <p:cNvSpPr/>
            <p:nvPr/>
          </p:nvSpPr>
          <p:spPr>
            <a:xfrm>
              <a:off x="4532760" y="37101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70068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76900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2748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3876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0958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9067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655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779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367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040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32B-F936-4225-9FD1-0912B74C89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39680" y="979200"/>
            <a:ext cx="8344080" cy="288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Light_Game (LEDS, LPB, RPB, CLK, RES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L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CLK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[6:0] LED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[6:0] posi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lef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44360" y="3919680"/>
            <a:ext cx="89632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&lt;=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&lt;=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RESET) position &lt;= 7'b0001000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(position == 7'b0000001) || (position == 7'b1000000)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L) position &lt;= position &lt;&lt;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R) position &lt;= position &gt;&gt;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22600" y="2070000"/>
            <a:ext cx="3218040" cy="11350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ire L,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 = ~left &amp;&amp;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R = ~right &amp;&amp;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EDS = posi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8600" y="3952800"/>
            <a:ext cx="850716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60800" y="1700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193640" y="3589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quenti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1CA-5987-4F84-B020-E20641B395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86640" cy="4703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sy highway is intersected by a little used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s C sense the presence of cars waiting on the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no car on farmroad, light remain green in highway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ehicle on farmroad, highway lights go from Green to Yellow to Red, allowing the farmroad lights to become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tay green only as long as a farmroad car is detected but never longer than a set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se are met, farm lights transition from Green to Yellow to Red, allowing highway to return to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if farmroad vehicles are waiting, highway gets at least a set interval as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you have an interval timer that gene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ort time pulse (TS)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ng time pulse (TL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sponse to a set (ST)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 is to be used for timing yellow lights and TL for green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95E-CD2A-4D2D-9198-552C2CF38D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733920" y="2921040"/>
            <a:ext cx="0" cy="88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308240" y="3809880"/>
            <a:ext cx="245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05240" y="292104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267080" y="3809880"/>
            <a:ext cx="252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280040" y="4724280"/>
            <a:ext cx="2565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0524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3392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295280" y="4724280"/>
            <a:ext cx="2463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11720" y="4267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327320" y="4267080"/>
            <a:ext cx="241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968640" y="4159080"/>
            <a:ext cx="114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740040" y="3581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83120" y="49528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213680" y="4127400"/>
            <a:ext cx="134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33920" y="2362320"/>
            <a:ext cx="1473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rm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3943440" y="3232080"/>
            <a:ext cx="12700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283360" y="3086280"/>
            <a:ext cx="171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184640" y="3231720"/>
            <a:ext cx="1041480" cy="163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way/farm road inter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D1A-E095-4FFB-8A26-286B790CD34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8074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inputs and output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FSM in initial 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, HY, H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 vehicle on the farm ro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, FY, F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ime interval exp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rt timing a short or long inter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ime interval exp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unique states – some light configurations imply other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green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yellow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green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yellow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DAF-D5BF-4F0B-823D-EC6397965F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576520" y="2076480"/>
            <a:ext cx="4508640" cy="4051440"/>
            <a:chOff x="2576520" y="2076480"/>
            <a:chExt cx="4508640" cy="4051440"/>
          </a:xfrm>
        </p:grpSpPr>
        <p:sp>
          <p:nvSpPr>
            <p:cNvPr id="1532" name=""/>
            <p:cNvSpPr/>
            <p:nvPr/>
          </p:nvSpPr>
          <p:spPr>
            <a:xfrm>
              <a:off x="5472000" y="2076480"/>
              <a:ext cx="1054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1044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67440" y="3219480"/>
              <a:ext cx="120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5840" y="21528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•C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86000" y="3219480"/>
              <a:ext cx="1435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•C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7652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90920" y="4667400"/>
              <a:ext cx="1206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53040" y="5734080"/>
              <a:ext cx="100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+C'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167440" y="4667400"/>
              <a:ext cx="1485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+C'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05320" y="26859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05320" y="48196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72000" y="3753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38640" y="3753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1" idx="3"/>
              <a:endCxn id="1544" idx="7"/>
            </p:cNvCxnSpPr>
            <p:nvPr/>
          </p:nvCxnSpPr>
          <p:spPr>
            <a:xfrm flipH="1">
              <a:off x="3858840" y="320688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6" name=""/>
            <p:cNvCxnSpPr>
              <a:stCxn id="1544" idx="5"/>
              <a:endCxn id="1542" idx="1"/>
            </p:cNvCxnSpPr>
            <p:nvPr/>
          </p:nvCxnSpPr>
          <p:spPr>
            <a:xfrm>
              <a:off x="3859200" y="427356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7" name=""/>
            <p:cNvCxnSpPr>
              <a:stCxn id="1542" idx="7"/>
              <a:endCxn id="1543" idx="3"/>
            </p:cNvCxnSpPr>
            <p:nvPr/>
          </p:nvCxnSpPr>
          <p:spPr>
            <a:xfrm flipV="1">
              <a:off x="4925880" y="427320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8" name=""/>
            <p:cNvCxnSpPr>
              <a:stCxn id="1543" idx="1"/>
              <a:endCxn id="1541" idx="5"/>
            </p:cNvCxnSpPr>
            <p:nvPr/>
          </p:nvCxnSpPr>
          <p:spPr>
            <a:xfrm flipH="1" flipV="1">
              <a:off x="4925520" y="320652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9" name=""/>
            <p:cNvCxnSpPr>
              <a:stCxn id="1541" idx="6"/>
              <a:endCxn id="1541" idx="2"/>
            </p:cNvCxnSpPr>
            <p:nvPr/>
          </p:nvCxnSpPr>
          <p:spPr>
            <a:xfrm flipH="1">
              <a:off x="4404600" y="2990880"/>
              <a:ext cx="610200" cy="2160"/>
            </a:xfrm>
            <a:prstGeom prst="curvedConnector5">
              <a:avLst>
                <a:gd name="adj1" fmla="val -37485"/>
                <a:gd name="adj2" fmla="val -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0" name=""/>
            <p:cNvCxnSpPr>
              <a:stCxn id="1544" idx="0"/>
              <a:endCxn id="1544" idx="4"/>
            </p:cNvCxnSpPr>
            <p:nvPr/>
          </p:nvCxnSpPr>
          <p:spPr>
            <a:xfrm flipH="1" rot="16200000">
              <a:off x="3339000" y="4055760"/>
              <a:ext cx="610200" cy="2520"/>
            </a:xfrm>
            <a:prstGeom prst="curvedConnector5">
              <a:avLst>
                <a:gd name="adj1" fmla="val -37485"/>
                <a:gd name="adj2" fmla="val -205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1" name=""/>
            <p:cNvCxnSpPr>
              <a:stCxn id="1543" idx="4"/>
              <a:endCxn id="1543" idx="0"/>
            </p:cNvCxnSpPr>
            <p:nvPr/>
          </p:nvCxnSpPr>
          <p:spPr>
            <a:xfrm flipH="1" flipV="1" rot="5400000">
              <a:off x="5472720" y="4056480"/>
              <a:ext cx="610200" cy="2160"/>
            </a:xfrm>
            <a:prstGeom prst="curvedConnector5">
              <a:avLst>
                <a:gd name="adj1" fmla="val -37485"/>
                <a:gd name="adj2" fmla="val 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2" name=""/>
            <p:cNvCxnSpPr/>
            <p:nvPr/>
          </p:nvCxnSpPr>
          <p:spPr>
            <a:xfrm flipH="1" flipV="1" rot="10800000">
              <a:off x="4404240" y="5124240"/>
              <a:ext cx="610200" cy="2160"/>
            </a:xfrm>
            <a:prstGeom prst="curvedConnector5">
              <a:avLst>
                <a:gd name="adj1" fmla="val -37485"/>
                <a:gd name="adj2" fmla="val 1954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3" name=""/>
            <p:cNvSpPr/>
            <p:nvPr/>
          </p:nvSpPr>
          <p:spPr>
            <a:xfrm flipH="1">
              <a:off x="4938480" y="22287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F1F-3CBD-43FB-9290-3EDCE4B7889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4" name=""/>
          <p:cNvGrpSpPr/>
          <p:nvPr/>
        </p:nvGrpSpPr>
        <p:grpSpPr>
          <a:xfrm>
            <a:off x="285840" y="2622600"/>
            <a:ext cx="8489880" cy="2978280"/>
            <a:chOff x="285840" y="2622600"/>
            <a:chExt cx="8489880" cy="2978280"/>
          </a:xfrm>
        </p:grpSpPr>
        <p:sp>
          <p:nvSpPr>
            <p:cNvPr id="1555" name=""/>
            <p:cNvSpPr/>
            <p:nvPr/>
          </p:nvSpPr>
          <p:spPr>
            <a:xfrm>
              <a:off x="380880" y="266688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5840" y="312408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33920" y="26352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29480" y="263520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892160" y="262260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62120" y="5562720"/>
            <a:ext cx="824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2286000"/>
                <a:tab algn="l" pos="3656160"/>
                <a:tab algn="l" pos="50292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1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2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3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0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-h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950080" y="1952640"/>
            <a:ext cx="3200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encoding – similar probl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 state 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Green = 00, Yellow = 01, Red =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state table with symbol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stat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D59-504E-4037-837C-F15A3B116D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or different state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'•PS1•PS0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•TL•PS1'•PS0' + C•TL'•PS1•PS0 + PS1'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•PS0'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‘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1' + TS'•PS1 + C'•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TS•PS1•PS0' + PS1'•PS0 + TS'•PS1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 + C'•PS1'•PS0 + TS•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•PS0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0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3 = C'•PS2 + TL•PS2 + TS'•PS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2 = TS•PS1 + C•TL'•PS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0 + TS'•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'•PS0 + TL'•PS0 + TS•PS3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0 + TS•PS1 + C'•PS2 + TL•PS2 + TS•PS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3 + PS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 +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B73-4ACE-4777-8369-E368415EBA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codes to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+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with FFs (programmable logic devices – P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448-F4B0-4D21-BC5E-DC45293AC4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single 0s between two 1s (output = NS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28760" y="2214720"/>
            <a:ext cx="2666880" cy="3810960"/>
            <a:chOff x="1328760" y="2214720"/>
            <a:chExt cx="2666880" cy="3810960"/>
          </a:xfrm>
        </p:grpSpPr>
        <p:sp>
          <p:nvSpPr>
            <p:cNvPr id="89" name=""/>
            <p:cNvSpPr/>
            <p:nvPr/>
          </p:nvSpPr>
          <p:spPr>
            <a:xfrm>
              <a:off x="2395440" y="2747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7"/>
              <a:endCxn id="89" idx="1"/>
            </p:cNvCxnSpPr>
            <p:nvPr/>
          </p:nvCxnSpPr>
          <p:spPr>
            <a:xfrm rot="5400000">
              <a:off x="2660760" y="2636640"/>
              <a:ext cx="252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>
              <a:off x="33854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3320" y="3205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1040" y="2214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9" idx="4"/>
              <a:endCxn id="95" idx="0"/>
            </p:cNvCxnSpPr>
            <p:nvPr/>
          </p:nvCxnSpPr>
          <p:spPr>
            <a:xfrm flipV="1" rot="10800000">
              <a:off x="2661480" y="3281040"/>
              <a:ext cx="1080" cy="305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2395440" y="35863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2280" y="44244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8960" y="44244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544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62480" y="52624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 flipV="1" rot="10800000">
              <a:off x="2127960" y="385236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5" idx="6"/>
              <a:endCxn id="97" idx="0"/>
            </p:cNvCxnSpPr>
            <p:nvPr/>
          </p:nvCxnSpPr>
          <p:spPr>
            <a:xfrm>
              <a:off x="2928600" y="385272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>
              <a:stCxn id="96" idx="2"/>
              <a:endCxn id="100" idx="0"/>
            </p:cNvCxnSpPr>
            <p:nvPr/>
          </p:nvCxnSpPr>
          <p:spPr>
            <a:xfrm flipV="1" rot="10800000">
              <a:off x="159480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96" idx="6"/>
              <a:endCxn id="98" idx="0"/>
            </p:cNvCxnSpPr>
            <p:nvPr/>
          </p:nvCxnSpPr>
          <p:spPr>
            <a:xfrm>
              <a:off x="23950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97" idx="2"/>
              <a:endCxn id="98" idx="0"/>
            </p:cNvCxnSpPr>
            <p:nvPr/>
          </p:nvCxnSpPr>
          <p:spPr>
            <a:xfrm flipV="1" rot="10800000">
              <a:off x="266148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6"/>
              <a:endCxn id="99" idx="0"/>
            </p:cNvCxnSpPr>
            <p:nvPr/>
          </p:nvCxnSpPr>
          <p:spPr>
            <a:xfrm>
              <a:off x="34624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0" idx="1"/>
              <a:endCxn id="95" idx="2"/>
            </p:cNvCxnSpPr>
            <p:nvPr/>
          </p:nvCxnSpPr>
          <p:spPr>
            <a:xfrm flipH="1" flipV="1" rot="5400000">
              <a:off x="1156320" y="4101840"/>
              <a:ext cx="148824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1"/>
              <a:endCxn id="89" idx="2"/>
            </p:cNvCxnSpPr>
            <p:nvPr/>
          </p:nvCxnSpPr>
          <p:spPr>
            <a:xfrm flipH="1" flipV="1" rot="5400000">
              <a:off x="737280" y="3682800"/>
              <a:ext cx="232632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98" idx="7"/>
              <a:endCxn id="99" idx="1"/>
            </p:cNvCxnSpPr>
            <p:nvPr/>
          </p:nvCxnSpPr>
          <p:spPr>
            <a:xfrm flipH="1" rot="16200000">
              <a:off x="3194640" y="4995360"/>
              <a:ext cx="2520" cy="689760"/>
            </a:xfrm>
            <a:prstGeom prst="curvedConnector5">
              <a:avLst>
                <a:gd name="adj1" fmla="val -7200000"/>
                <a:gd name="adj2" fmla="val 49973"/>
                <a:gd name="adj3" fmla="val -7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9" idx="3"/>
              <a:endCxn id="98" idx="5"/>
            </p:cNvCxnSpPr>
            <p:nvPr/>
          </p:nvCxnSpPr>
          <p:spPr>
            <a:xfrm rot="5400000">
              <a:off x="3194280" y="5374440"/>
              <a:ext cx="2160" cy="689760"/>
            </a:xfrm>
            <a:prstGeom prst="curvedConnector5">
              <a:avLst>
                <a:gd name="adj1" fmla="val 7080000"/>
                <a:gd name="adj2" fmla="val 49973"/>
                <a:gd name="adj3" fmla="val 708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98" idx="1"/>
              <a:endCxn id="98" idx="3"/>
            </p:cNvCxnSpPr>
            <p:nvPr/>
          </p:nvCxnSpPr>
          <p:spPr>
            <a:xfrm flipH="1" rot="16200000">
              <a:off x="2284920" y="5528160"/>
              <a:ext cx="378720" cy="2520"/>
            </a:xfrm>
            <a:prstGeom prst="curvedConnector5">
              <a:avLst>
                <a:gd name="adj1" fmla="val -14652"/>
                <a:gd name="adj2" fmla="val -9500000"/>
                <a:gd name="adj3" fmla="val -1465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99" idx="3"/>
              <a:endCxn id="100" idx="4"/>
            </p:cNvCxnSpPr>
            <p:nvPr/>
          </p:nvCxnSpPr>
          <p:spPr>
            <a:xfrm rot="5400000">
              <a:off x="2528280" y="4784760"/>
              <a:ext cx="78480" cy="1945440"/>
            </a:xfrm>
            <a:prstGeom prst="curvedConnector5">
              <a:avLst>
                <a:gd name="adj1" fmla="val 393548"/>
                <a:gd name="adj2" fmla="val 49990"/>
                <a:gd name="adj3" fmla="val 39354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85192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96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80520" y="553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7520" y="533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419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187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7584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29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0520" y="5186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1560" y="5688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1560" y="3281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endCxn id="89" idx="6"/>
            </p:cNvCxnSpPr>
            <p:nvPr/>
          </p:nvCxnSpPr>
          <p:spPr>
            <a:xfrm flipH="1">
              <a:off x="2928600" y="2976480"/>
              <a:ext cx="381600" cy="38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3220920" y="274788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92560" y="1935000"/>
            <a:ext cx="3232080" cy="4051440"/>
            <a:chOff x="5092560" y="1935000"/>
            <a:chExt cx="3232080" cy="4051440"/>
          </a:xfrm>
        </p:grpSpPr>
        <p:sp>
          <p:nvSpPr>
            <p:cNvPr id="127" name=""/>
            <p:cNvSpPr/>
            <p:nvPr/>
          </p:nvSpPr>
          <p:spPr>
            <a:xfrm>
              <a:off x="5099040" y="193500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2560" y="245556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57920" y="223992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6320" y="246204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DCC-770D-4A6B-BA7F-009F52D1E0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d using the standard procedure and individu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Fs 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7640" y="2414520"/>
            <a:ext cx="3232080" cy="4051440"/>
            <a:chOff x="917640" y="2414520"/>
            <a:chExt cx="3232080" cy="4051440"/>
          </a:xfrm>
        </p:grpSpPr>
        <p:sp>
          <p:nvSpPr>
            <p:cNvPr id="134" name=""/>
            <p:cNvSpPr/>
            <p:nvPr/>
          </p:nvSpPr>
          <p:spPr>
            <a:xfrm>
              <a:off x="924120" y="241452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7640" y="293508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3000" y="271944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1400" y="294156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015160" y="360216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Reset’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Reset’ ( PS1 + PS2 I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Reset’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971-FEF6-431D-A781-1A09BDC495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it looks like a shift register if you look at it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13400" y="29052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7"/>
            <a:endCxn id="141" idx="1"/>
          </p:cNvCxnSpPr>
          <p:nvPr/>
        </p:nvCxnSpPr>
        <p:spPr>
          <a:xfrm rot="5400000">
            <a:off x="6678720" y="2794680"/>
            <a:ext cx="2160" cy="378720"/>
          </a:xfrm>
          <a:prstGeom prst="curvedConnector5">
            <a:avLst>
              <a:gd name="adj1" fmla="val -19300000"/>
              <a:gd name="adj2" fmla="val 49952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4034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41280" y="336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9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4"/>
            <a:endCxn id="147" idx="0"/>
          </p:cNvCxnSpPr>
          <p:nvPr/>
        </p:nvCxnSpPr>
        <p:spPr>
          <a:xfrm flipV="1" rot="10800000">
            <a:off x="6679440" y="343800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413400" y="37432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0240" y="458136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6920" y="458136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1340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80440" y="541980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2"/>
            <a:endCxn id="148" idx="0"/>
          </p:cNvCxnSpPr>
          <p:nvPr/>
        </p:nvCxnSpPr>
        <p:spPr>
          <a:xfrm flipV="1" rot="10800000">
            <a:off x="6145920" y="400896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6"/>
            <a:endCxn id="149" idx="0"/>
          </p:cNvCxnSpPr>
          <p:nvPr/>
        </p:nvCxnSpPr>
        <p:spPr>
          <a:xfrm>
            <a:off x="6946560" y="40096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8" idx="2"/>
            <a:endCxn id="152" idx="0"/>
          </p:cNvCxnSpPr>
          <p:nvPr/>
        </p:nvCxnSpPr>
        <p:spPr>
          <a:xfrm flipV="1" rot="10800000">
            <a:off x="561276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8" idx="6"/>
            <a:endCxn id="157" idx="1"/>
          </p:cNvCxnSpPr>
          <p:nvPr/>
        </p:nvCxnSpPr>
        <p:spPr>
          <a:xfrm flipV="1">
            <a:off x="6413400" y="3831840"/>
            <a:ext cx="1364400" cy="1016640"/>
          </a:xfrm>
          <a:prstGeom prst="curvedConnector5">
            <a:avLst>
              <a:gd name="adj1" fmla="val 47136"/>
              <a:gd name="adj2" fmla="val 65072"/>
              <a:gd name="adj3" fmla="val 47136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9" idx="2"/>
            <a:endCxn id="150" idx="0"/>
          </p:cNvCxnSpPr>
          <p:nvPr/>
        </p:nvCxnSpPr>
        <p:spPr>
          <a:xfrm flipV="1" rot="10800000">
            <a:off x="667944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9" idx="6"/>
            <a:endCxn id="151" idx="0"/>
          </p:cNvCxnSpPr>
          <p:nvPr/>
        </p:nvCxnSpPr>
        <p:spPr>
          <a:xfrm>
            <a:off x="7480440" y="484812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2" idx="1"/>
            <a:endCxn id="147" idx="2"/>
          </p:cNvCxnSpPr>
          <p:nvPr/>
        </p:nvCxnSpPr>
        <p:spPr>
          <a:xfrm flipH="1" flipV="1" rot="5400000">
            <a:off x="5174280" y="4259160"/>
            <a:ext cx="148824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2" idx="1"/>
            <a:endCxn id="141" idx="2"/>
          </p:cNvCxnSpPr>
          <p:nvPr/>
        </p:nvCxnSpPr>
        <p:spPr>
          <a:xfrm flipH="1" flipV="1" rot="5400000">
            <a:off x="4755240" y="3840120"/>
            <a:ext cx="232632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0" idx="7"/>
            <a:endCxn id="151" idx="1"/>
          </p:cNvCxnSpPr>
          <p:nvPr/>
        </p:nvCxnSpPr>
        <p:spPr>
          <a:xfrm flipH="1" rot="16200000">
            <a:off x="7212960" y="515340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6"/>
            <a:endCxn id="157" idx="4"/>
          </p:cNvCxnSpPr>
          <p:nvPr/>
        </p:nvCxnSpPr>
        <p:spPr>
          <a:xfrm flipH="1" flipV="1">
            <a:off x="7965720" y="4287240"/>
            <a:ext cx="48240" cy="1399320"/>
          </a:xfrm>
          <a:prstGeom prst="curvedConnector5">
            <a:avLst>
              <a:gd name="adj1" fmla="val -479699"/>
              <a:gd name="adj2" fmla="val 29773"/>
              <a:gd name="adj3" fmla="val -4796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0" idx="1"/>
            <a:endCxn id="150" idx="3"/>
          </p:cNvCxnSpPr>
          <p:nvPr/>
        </p:nvCxnSpPr>
        <p:spPr>
          <a:xfrm flipH="1" rot="16200000">
            <a:off x="6302880" y="5684400"/>
            <a:ext cx="378360" cy="252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3"/>
            <a:endCxn id="152" idx="4"/>
          </p:cNvCxnSpPr>
          <p:nvPr/>
        </p:nvCxnSpPr>
        <p:spPr>
          <a:xfrm rot="5400000">
            <a:off x="6546240" y="494172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111440" y="4159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76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32040" y="5443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55480" y="5495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5092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28880" y="4552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93800" y="4048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092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98480" y="5343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79520" y="584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79520" y="3438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endCxn id="141" idx="6"/>
          </p:cNvCxnSpPr>
          <p:nvPr/>
        </p:nvCxnSpPr>
        <p:spPr>
          <a:xfrm flipH="1">
            <a:off x="6946560" y="3133800"/>
            <a:ext cx="381600" cy="3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7238880" y="29052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48080" y="29005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7"/>
            <a:endCxn id="179" idx="1"/>
          </p:cNvCxnSpPr>
          <p:nvPr/>
        </p:nvCxnSpPr>
        <p:spPr>
          <a:xfrm rot="5400000">
            <a:off x="2813040" y="2790000"/>
            <a:ext cx="2160" cy="378360"/>
          </a:xfrm>
          <a:prstGeom prst="curvedConnector5">
            <a:avLst>
              <a:gd name="adj1" fmla="val -19300000"/>
              <a:gd name="adj2" fmla="val 50000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35377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5960" y="335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33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9" idx="4"/>
            <a:endCxn id="185" idx="0"/>
          </p:cNvCxnSpPr>
          <p:nvPr/>
        </p:nvCxnSpPr>
        <p:spPr>
          <a:xfrm flipV="1" rot="10800000">
            <a:off x="2813760" y="343332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548080" y="373860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456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24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8080" y="54151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1476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8104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5" idx="2"/>
            <a:endCxn id="186" idx="0"/>
          </p:cNvCxnSpPr>
          <p:nvPr/>
        </p:nvCxnSpPr>
        <p:spPr>
          <a:xfrm flipV="1" rot="10800000">
            <a:off x="2280600" y="40042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5" idx="6"/>
            <a:endCxn id="187" idx="0"/>
          </p:cNvCxnSpPr>
          <p:nvPr/>
        </p:nvCxnSpPr>
        <p:spPr>
          <a:xfrm>
            <a:off x="3080880" y="400500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6" idx="2"/>
            <a:endCxn id="190" idx="0"/>
          </p:cNvCxnSpPr>
          <p:nvPr/>
        </p:nvCxnSpPr>
        <p:spPr>
          <a:xfrm flipV="1" rot="10800000">
            <a:off x="174708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6" idx="6"/>
            <a:endCxn id="188" idx="0"/>
          </p:cNvCxnSpPr>
          <p:nvPr/>
        </p:nvCxnSpPr>
        <p:spPr>
          <a:xfrm>
            <a:off x="2548080" y="4843440"/>
            <a:ext cx="267120" cy="57240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7" idx="2"/>
            <a:endCxn id="188" idx="0"/>
          </p:cNvCxnSpPr>
          <p:nvPr/>
        </p:nvCxnSpPr>
        <p:spPr>
          <a:xfrm flipV="1" rot="10800000">
            <a:off x="281376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7" idx="6"/>
            <a:endCxn id="189" idx="0"/>
          </p:cNvCxnSpPr>
          <p:nvPr/>
        </p:nvCxnSpPr>
        <p:spPr>
          <a:xfrm>
            <a:off x="3614400" y="484344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1"/>
            <a:endCxn id="185" idx="2"/>
          </p:cNvCxnSpPr>
          <p:nvPr/>
        </p:nvCxnSpPr>
        <p:spPr>
          <a:xfrm flipH="1" flipV="1" rot="5400000">
            <a:off x="1309320" y="4254120"/>
            <a:ext cx="148824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1"/>
            <a:endCxn id="179" idx="2"/>
          </p:cNvCxnSpPr>
          <p:nvPr/>
        </p:nvCxnSpPr>
        <p:spPr>
          <a:xfrm flipH="1" flipV="1" rot="5400000">
            <a:off x="890280" y="3834720"/>
            <a:ext cx="232668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7"/>
            <a:endCxn id="189" idx="1"/>
          </p:cNvCxnSpPr>
          <p:nvPr/>
        </p:nvCxnSpPr>
        <p:spPr>
          <a:xfrm flipH="1" rot="16200000">
            <a:off x="3347280" y="514872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3"/>
            <a:endCxn id="188" idx="5"/>
          </p:cNvCxnSpPr>
          <p:nvPr/>
        </p:nvCxnSpPr>
        <p:spPr>
          <a:xfrm rot="5400000">
            <a:off x="3346560" y="5526720"/>
            <a:ext cx="2520" cy="689760"/>
          </a:xfrm>
          <a:prstGeom prst="curvedConnector5">
            <a:avLst>
              <a:gd name="adj1" fmla="val 7083333"/>
              <a:gd name="adj2" fmla="val 49973"/>
              <a:gd name="adj3" fmla="val 7083333"/>
            </a:avLst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8" idx="1"/>
            <a:endCxn id="188" idx="3"/>
          </p:cNvCxnSpPr>
          <p:nvPr/>
        </p:nvCxnSpPr>
        <p:spPr>
          <a:xfrm flipH="1" rot="16200000">
            <a:off x="2437560" y="5679720"/>
            <a:ext cx="378360" cy="216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9" idx="3"/>
            <a:endCxn id="190" idx="4"/>
          </p:cNvCxnSpPr>
          <p:nvPr/>
        </p:nvCxnSpPr>
        <p:spPr>
          <a:xfrm rot="5400000">
            <a:off x="2680560" y="493704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0456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19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33160" y="5688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90160" y="5491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5240" y="4348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710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812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52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33160" y="53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13840" y="5840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3840" y="3433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endCxn id="179" idx="6"/>
          </p:cNvCxnSpPr>
          <p:nvPr/>
        </p:nvCxnSpPr>
        <p:spPr>
          <a:xfrm flipH="1">
            <a:off x="3080520" y="3128760"/>
            <a:ext cx="381960" cy="3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3373560" y="290052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9320" y="3754440"/>
            <a:ext cx="53352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57" idx="2"/>
            <a:endCxn id="148" idx="7"/>
          </p:cNvCxnSpPr>
          <p:nvPr/>
        </p:nvCxnSpPr>
        <p:spPr>
          <a:xfrm flipV="1" rot="10800000">
            <a:off x="6334920" y="4020120"/>
            <a:ext cx="1364400" cy="6390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57" idx="3"/>
            <a:endCxn id="149" idx="7"/>
          </p:cNvCxnSpPr>
          <p:nvPr/>
        </p:nvCxnSpPr>
        <p:spPr>
          <a:xfrm rot="5400000">
            <a:off x="7364520" y="4247640"/>
            <a:ext cx="450000" cy="375120"/>
          </a:xfrm>
          <a:prstGeom prst="curvedConnector5">
            <a:avLst>
              <a:gd name="adj1" fmla="val 49799"/>
              <a:gd name="adj2" fmla="val 49951"/>
              <a:gd name="adj3" fmla="val 497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536960" y="4384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51200" y="3746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25920" y="2097000"/>
            <a:ext cx="1200240" cy="11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A09-E2DA-49B0-8E2B-5070C0BDD3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e implementation with S/R FF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t input (S) does the median filter function by making the next state 111 whenever the input is 1 and PS2 is 1 (1 input to state x1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42120" y="2666880"/>
            <a:ext cx="131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PS2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P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60480" y="2347560"/>
            <a:ext cx="6210360" cy="2576880"/>
            <a:chOff x="960480" y="2347560"/>
            <a:chExt cx="6210360" cy="2576880"/>
          </a:xfrm>
        </p:grpSpPr>
        <p:sp>
          <p:nvSpPr>
            <p:cNvPr id="225" name=""/>
            <p:cNvSpPr/>
            <p:nvPr/>
          </p:nvSpPr>
          <p:spPr>
            <a:xfrm>
              <a:off x="2633760" y="2595600"/>
              <a:ext cx="3360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6880" y="404820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0480" y="458136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20720" y="2678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3880" y="25131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63880" y="2830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0000" y="2519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2215080" y="25462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2208600" y="2540160"/>
              <a:ext cx="3294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2215080" y="253224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208240" y="2516400"/>
              <a:ext cx="32976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940040" y="258588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940040" y="275760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098440" y="3057480"/>
              <a:ext cx="995760" cy="1675800"/>
              <a:chOff x="2098440" y="3057480"/>
              <a:chExt cx="995760" cy="167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23320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5228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25988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558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654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497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733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0984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103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61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656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942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9365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1031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652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5941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841640" y="3057480"/>
              <a:ext cx="995760" cy="1675800"/>
              <a:chOff x="4841640" y="3057480"/>
              <a:chExt cx="995760" cy="1675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0752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2660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53420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990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086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929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165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8416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8466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993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088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8374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679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8463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6084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3373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474720" y="3057480"/>
              <a:ext cx="995760" cy="1675800"/>
              <a:chOff x="3474720" y="3057480"/>
              <a:chExt cx="995760" cy="1675800"/>
            </a:xfrm>
          </p:grpSpPr>
          <p:sp>
            <p:nvSpPr>
              <p:cNvPr id="273" name=""/>
              <p:cNvSpPr/>
              <p:nvPr/>
            </p:nvSpPr>
            <p:spPr>
              <a:xfrm>
                <a:off x="370836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89916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397512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3212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4172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2600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4964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474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7976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3240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4188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470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31280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47940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2415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97044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927080" y="3052800"/>
              <a:ext cx="2919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493640" y="4200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94000" y="4728960"/>
              <a:ext cx="3833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37000" y="26766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74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048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42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2800" y="2938320"/>
              <a:ext cx="2034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617840" y="3052440"/>
              <a:ext cx="1983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9280" y="2938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07560" y="30304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498320" y="305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70200" y="305424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6800" y="2752560"/>
              <a:ext cx="46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4200" y="4195800"/>
              <a:ext cx="433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7000" y="420048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655880" y="2347560"/>
              <a:ext cx="468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51200" y="2357280"/>
              <a:ext cx="270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6160" y="2347920"/>
              <a:ext cx="50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1772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716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672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008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7972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600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37400" y="4200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0480" y="4048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60480" y="2905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521800" y="2649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2B7-4A17-4E41-AA61-1A5A0625E7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898560" y="2971800"/>
            <a:ext cx="7277040" cy="3581280"/>
            <a:chOff x="898560" y="2971800"/>
            <a:chExt cx="7277040" cy="3581280"/>
          </a:xfrm>
        </p:grpSpPr>
        <p:sp>
          <p:nvSpPr>
            <p:cNvPr id="319" name=""/>
            <p:cNvSpPr/>
            <p:nvPr/>
          </p:nvSpPr>
          <p:spPr>
            <a:xfrm>
              <a:off x="166068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556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978200" y="3562200"/>
              <a:ext cx="152280" cy="2463840"/>
              <a:chOff x="1978200" y="3562200"/>
              <a:chExt cx="152280" cy="246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19782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0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22440" y="3562200"/>
              <a:ext cx="152640" cy="2463840"/>
              <a:chOff x="2422440" y="3562200"/>
              <a:chExt cx="152640" cy="246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24224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750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879640" y="3562200"/>
              <a:ext cx="152640" cy="2463840"/>
              <a:chOff x="2879640" y="3562200"/>
              <a:chExt cx="152640" cy="246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28796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322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336840" y="3562200"/>
              <a:ext cx="152640" cy="2463840"/>
              <a:chOff x="3336840" y="3562200"/>
              <a:chExt cx="152640" cy="246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33368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89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807000" y="3562200"/>
              <a:ext cx="1828800" cy="2463840"/>
              <a:chOff x="3807000" y="3562200"/>
              <a:chExt cx="1828800" cy="246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56358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7056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5165640" y="3562200"/>
                <a:ext cx="152640" cy="2463840"/>
                <a:chOff x="5165640" y="3562200"/>
                <a:chExt cx="152640" cy="2463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318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1656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08440" y="3562200"/>
                <a:ext cx="152640" cy="2463840"/>
                <a:chOff x="4708440" y="3562200"/>
                <a:chExt cx="152640" cy="24638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10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084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51240" y="3562200"/>
                <a:ext cx="152640" cy="2463840"/>
                <a:chOff x="4251240" y="3562200"/>
                <a:chExt cx="152640" cy="2463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4038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12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807000" y="3562200"/>
                <a:ext cx="152280" cy="2463840"/>
                <a:chOff x="3807000" y="3562200"/>
                <a:chExt cx="152280" cy="24638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959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0700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1514520" y="4038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14520" y="420372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14520" y="4368600"/>
              <a:ext cx="4267080" cy="165240"/>
              <a:chOff x="1514520" y="4368600"/>
              <a:chExt cx="4267080" cy="165240"/>
            </a:xfrm>
          </p:grpSpPr>
          <p:sp>
            <p:nvSpPr>
              <p:cNvPr id="351" name=""/>
              <p:cNvSpPr/>
              <p:nvPr/>
            </p:nvSpPr>
            <p:spPr>
              <a:xfrm>
                <a:off x="1514520" y="4368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14520" y="453384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14520" y="4686120"/>
              <a:ext cx="4267080" cy="165240"/>
              <a:chOff x="1514520" y="4686120"/>
              <a:chExt cx="4267080" cy="165240"/>
            </a:xfrm>
          </p:grpSpPr>
          <p:sp>
            <p:nvSpPr>
              <p:cNvPr id="354" name=""/>
              <p:cNvSpPr/>
              <p:nvPr/>
            </p:nvSpPr>
            <p:spPr>
              <a:xfrm>
                <a:off x="1514520" y="4686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14520" y="4851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788080" y="3968280"/>
              <a:ext cx="171000" cy="166320"/>
              <a:chOff x="5788080" y="3968280"/>
              <a:chExt cx="171000" cy="166320"/>
            </a:xfrm>
          </p:grpSpPr>
          <p:sp>
            <p:nvSpPr>
              <p:cNvPr id="357" name=""/>
              <p:cNvSpPr/>
              <p:nvPr/>
            </p:nvSpPr>
            <p:spPr>
              <a:xfrm>
                <a:off x="5794560" y="39751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94560" y="41148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788080" y="3968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33080" y="39830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3080" y="39690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788080" y="4133880"/>
              <a:ext cx="171000" cy="166320"/>
              <a:chOff x="5788080" y="4133880"/>
              <a:chExt cx="171000" cy="166320"/>
            </a:xfrm>
          </p:grpSpPr>
          <p:sp>
            <p:nvSpPr>
              <p:cNvPr id="363" name=""/>
              <p:cNvSpPr/>
              <p:nvPr/>
            </p:nvSpPr>
            <p:spPr>
              <a:xfrm>
                <a:off x="5794560" y="4140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94560" y="4267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788080" y="4133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3080" y="414792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33080" y="41338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788080" y="4298760"/>
              <a:ext cx="171000" cy="153720"/>
              <a:chOff x="5788080" y="4298760"/>
              <a:chExt cx="171000" cy="15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794560" y="43052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4560" y="44323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5788080" y="4298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33080" y="43131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33080" y="42987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788080" y="4451040"/>
              <a:ext cx="171000" cy="166680"/>
              <a:chOff x="5788080" y="4451040"/>
              <a:chExt cx="171000" cy="166680"/>
            </a:xfrm>
          </p:grpSpPr>
          <p:sp>
            <p:nvSpPr>
              <p:cNvPr id="375" name=""/>
              <p:cNvSpPr/>
              <p:nvPr/>
            </p:nvSpPr>
            <p:spPr>
              <a:xfrm>
                <a:off x="5794560" y="4457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4560" y="4597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788080" y="4451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33080" y="4465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33080" y="44510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788080" y="4615920"/>
              <a:ext cx="171000" cy="166320"/>
              <a:chOff x="5788080" y="4615920"/>
              <a:chExt cx="171000" cy="166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794560" y="4622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94560" y="47624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88080" y="4615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33080" y="463068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3080" y="46166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788080" y="4781520"/>
              <a:ext cx="171000" cy="153360"/>
              <a:chOff x="5788080" y="4781520"/>
              <a:chExt cx="171000" cy="153360"/>
            </a:xfrm>
          </p:grpSpPr>
          <p:sp>
            <p:nvSpPr>
              <p:cNvPr id="387" name=""/>
              <p:cNvSpPr/>
              <p:nvPr/>
            </p:nvSpPr>
            <p:spPr>
              <a:xfrm>
                <a:off x="5794560" y="4787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94560" y="4914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788080" y="4781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33080" y="47955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33080" y="4781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362240" y="53467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76360" y="55116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3520" y="5327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25800" y="549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60720" y="5302080"/>
              <a:ext cx="2030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260720" y="545436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868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25600" y="550548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2880" y="54608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342960" y="534672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520800" y="55116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30720" y="53402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83000" y="549252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819400" y="5302080"/>
              <a:ext cx="241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5819400" y="545436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6744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2720" y="5505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061320" y="546084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14520" y="5016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4520" y="5181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788080" y="4933440"/>
              <a:ext cx="171000" cy="166320"/>
              <a:chOff x="5788080" y="4933440"/>
              <a:chExt cx="171000" cy="166320"/>
            </a:xfrm>
          </p:grpSpPr>
          <p:sp>
            <p:nvSpPr>
              <p:cNvPr id="413" name=""/>
              <p:cNvSpPr/>
              <p:nvPr/>
            </p:nvSpPr>
            <p:spPr>
              <a:xfrm>
                <a:off x="5794560" y="4940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94560" y="5079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5788080" y="4933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3080" y="49482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33080" y="49341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788080" y="5098680"/>
              <a:ext cx="171000" cy="166680"/>
              <a:chOff x="5788080" y="5098680"/>
              <a:chExt cx="171000" cy="166680"/>
            </a:xfrm>
          </p:grpSpPr>
          <p:sp>
            <p:nvSpPr>
              <p:cNvPr id="419" name=""/>
              <p:cNvSpPr/>
              <p:nvPr/>
            </p:nvSpPr>
            <p:spPr>
              <a:xfrm>
                <a:off x="5794560" y="51051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94560" y="5244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788080" y="5098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33080" y="51130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33080" y="5098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5553000" y="4438080"/>
              <a:ext cx="1104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360" y="445284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3520" y="445284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3160" y="4438080"/>
              <a:ext cx="1645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5600" y="4044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105600" y="47937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9440" y="4686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9440" y="4038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9440" y="4368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59440" y="4533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59440" y="5016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59440" y="5181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59440" y="420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9440" y="4851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8200" y="4622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51680" y="4552920"/>
              <a:ext cx="292320" cy="39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31040" y="484488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99400" y="4863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1040" y="4622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19960" y="4863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51680" y="47815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051680" y="4857480"/>
              <a:ext cx="88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92920" y="35748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86800" y="484488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89800" y="4870440"/>
              <a:ext cx="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20000" y="447012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9680" y="468612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7600" y="30859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98560" y="297180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7600" y="576576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1160" y="609588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using PA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building block for sequentia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cell: FF +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capability like PAL (e.g., 8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81A-18FC-4576-8478-B897AAEB9F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2840" y="1386000"/>
            <a:ext cx="515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0'N + Q0N' + Q1N + Q1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 + D + Q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658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example (Moore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913760" y="1800360"/>
            <a:ext cx="7070040" cy="4657320"/>
            <a:chOff x="1913760" y="1800360"/>
            <a:chExt cx="7070040" cy="4657320"/>
          </a:xfrm>
        </p:grpSpPr>
        <p:grpSp>
          <p:nvGrpSpPr>
            <p:cNvPr id="460" name=""/>
            <p:cNvGrpSpPr/>
            <p:nvPr/>
          </p:nvGrpSpPr>
          <p:grpSpPr>
            <a:xfrm>
              <a:off x="2546640" y="2004480"/>
              <a:ext cx="5778360" cy="1553760"/>
              <a:chOff x="2546640" y="2004480"/>
              <a:chExt cx="5778360" cy="15537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3443400" y="2004480"/>
                <a:ext cx="119160" cy="1553760"/>
                <a:chOff x="3443400" y="2004480"/>
                <a:chExt cx="119160" cy="1553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443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562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3030120" y="21837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30120" y="23130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3030120" y="2442600"/>
                <a:ext cx="3346920" cy="129240"/>
                <a:chOff x="3030120" y="2442600"/>
                <a:chExt cx="3346920" cy="129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30120" y="244260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030120" y="25718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30120" y="2691720"/>
                <a:ext cx="3346920" cy="129240"/>
                <a:chOff x="3030120" y="2691720"/>
                <a:chExt cx="3346920" cy="129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30120" y="26917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30120" y="282096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030120" y="29505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030120" y="3080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742200" y="2004480"/>
                <a:ext cx="119160" cy="1553760"/>
                <a:chOff x="3742200" y="2004480"/>
                <a:chExt cx="119160" cy="1553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7422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861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144240" y="2004480"/>
                <a:ext cx="119520" cy="1553760"/>
                <a:chOff x="3144240" y="2004480"/>
                <a:chExt cx="119520" cy="1553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14424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2637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041000" y="2004480"/>
                <a:ext cx="119520" cy="1553760"/>
                <a:chOff x="4041000" y="2004480"/>
                <a:chExt cx="119520" cy="1553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0410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60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340160" y="2004480"/>
                <a:ext cx="119160" cy="1553760"/>
                <a:chOff x="4340160" y="2004480"/>
                <a:chExt cx="119160" cy="15537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40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4593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937400" y="2004480"/>
                <a:ext cx="119520" cy="1553760"/>
                <a:chOff x="4937400" y="2004480"/>
                <a:chExt cx="119520" cy="1553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937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0569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236560" y="2004480"/>
                <a:ext cx="119160" cy="1553760"/>
                <a:chOff x="5236560" y="2004480"/>
                <a:chExt cx="119160" cy="1553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236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557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38960" y="2004480"/>
                <a:ext cx="119160" cy="1553760"/>
                <a:chOff x="4638960" y="2004480"/>
                <a:chExt cx="119160" cy="1553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6389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7581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35360" y="2004480"/>
                <a:ext cx="119160" cy="1553760"/>
                <a:chOff x="5535360" y="2004480"/>
                <a:chExt cx="119160" cy="1553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535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54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834160" y="2004480"/>
                <a:ext cx="119520" cy="1553760"/>
                <a:chOff x="5834160" y="2004480"/>
                <a:chExt cx="119520" cy="1553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834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5368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 flipH="1">
                <a:off x="2972160" y="331884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46960" y="3318840"/>
                <a:ext cx="260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135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33040" y="32889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123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31840" y="32889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05560" y="328896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6382440" y="2128320"/>
                <a:ext cx="133560" cy="129960"/>
                <a:chOff x="6382440" y="2128320"/>
                <a:chExt cx="133560" cy="1299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387480" y="2133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87480" y="2242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382440" y="21283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18080" y="21398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17720" y="21290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382440" y="2258280"/>
                <a:ext cx="133560" cy="129960"/>
                <a:chOff x="6382440" y="2258280"/>
                <a:chExt cx="133560" cy="1299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387480" y="2262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87480" y="236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382440" y="2258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18080" y="22690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17720" y="22582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382440" y="2387880"/>
                <a:ext cx="133560" cy="120240"/>
                <a:chOff x="6382440" y="2387880"/>
                <a:chExt cx="133560" cy="120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387480" y="2392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387480" y="2492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6382440" y="23878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18080" y="2399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417720" y="23878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382440" y="2506680"/>
                <a:ext cx="133560" cy="130320"/>
                <a:chOff x="6382440" y="2506680"/>
                <a:chExt cx="133560" cy="130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6387480" y="2511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387480" y="2621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6382440" y="25066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18080" y="2517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417720" y="250668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382440" y="2636280"/>
                <a:ext cx="133560" cy="129960"/>
                <a:chOff x="6382440" y="2636280"/>
                <a:chExt cx="133560" cy="1299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387480" y="2641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387480" y="2750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6382440" y="26362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418080" y="26478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417720" y="26370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382440" y="2766240"/>
                <a:ext cx="133560" cy="119880"/>
                <a:chOff x="6382440" y="2766240"/>
                <a:chExt cx="133560" cy="1198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6387480" y="2770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387480" y="287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6382440" y="27662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418080" y="2777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17720" y="27662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H="1">
                <a:off x="6611400" y="325944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6382440" y="2885400"/>
                <a:ext cx="133560" cy="129960"/>
                <a:chOff x="6382440" y="2885400"/>
                <a:chExt cx="133560" cy="12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387480" y="2890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387480" y="2999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6382440" y="2885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418080" y="2896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417720" y="2886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382440" y="3014640"/>
                <a:ext cx="133560" cy="130320"/>
                <a:chOff x="6382440" y="3014640"/>
                <a:chExt cx="133560" cy="130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387480" y="3019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387480" y="3129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6382440" y="301500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418080" y="3025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417720" y="301464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6198120" y="249804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98480" y="250848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7120" y="250848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66760" y="249804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31200" y="218844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6631200" y="277632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16720" y="269172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2183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16720" y="2442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16720" y="257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16720" y="2950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16720" y="30801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16720" y="23130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16720" y="2820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89480" y="266148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8760" y="284076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87080" y="2661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68760" y="200448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66720" y="266148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7388280" y="2542320"/>
                <a:ext cx="292680" cy="358560"/>
                <a:chOff x="7388280" y="2542320"/>
                <a:chExt cx="292680" cy="358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09520" y="257832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513920" y="257832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88640" y="254232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88640" y="279288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7388280" y="282924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H="1">
                <a:off x="2860200" y="319968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35000" y="3199680"/>
                <a:ext cx="277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85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785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785680" y="313956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546640" y="325944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439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439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611400" y="314712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54440" y="328896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39240" y="28108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64360" y="263160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194240" y="233280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94240" y="233280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200000">
                <a:off x="7732080" y="243720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8320" y="248976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8008560" y="272160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3560" y="292320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2546640" y="3454200"/>
              <a:ext cx="5778360" cy="1553760"/>
              <a:chOff x="2546640" y="3454200"/>
              <a:chExt cx="5778360" cy="1553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443400" y="3454200"/>
                <a:ext cx="119160" cy="1553760"/>
                <a:chOff x="3443400" y="3454200"/>
                <a:chExt cx="119160" cy="1553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443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2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3030120" y="36334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30120" y="376272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030120" y="3892320"/>
                <a:ext cx="3346920" cy="129600"/>
                <a:chOff x="3030120" y="3892320"/>
                <a:chExt cx="3346920" cy="1296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30120" y="38923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030120" y="40219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030120" y="4141440"/>
                <a:ext cx="3346920" cy="129240"/>
                <a:chOff x="3030120" y="4141440"/>
                <a:chExt cx="3346920" cy="129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030120" y="41414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30120" y="427068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30120" y="4400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0120" y="45298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3742200" y="3454200"/>
                <a:ext cx="119160" cy="1553760"/>
                <a:chOff x="3742200" y="3454200"/>
                <a:chExt cx="119160" cy="1553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7422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61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3144240" y="3454200"/>
                <a:ext cx="119520" cy="1553760"/>
                <a:chOff x="3144240" y="3454200"/>
                <a:chExt cx="119520" cy="15537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14424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2637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041000" y="3454200"/>
                <a:ext cx="119520" cy="1553760"/>
                <a:chOff x="4041000" y="3454200"/>
                <a:chExt cx="119520" cy="15537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0410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160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340160" y="3454200"/>
                <a:ext cx="119160" cy="1553760"/>
                <a:chOff x="4340160" y="3454200"/>
                <a:chExt cx="119160" cy="15537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340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4593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937400" y="3454200"/>
                <a:ext cx="119520" cy="1553760"/>
                <a:chOff x="4937400" y="3454200"/>
                <a:chExt cx="119520" cy="15537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937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569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236560" y="3454200"/>
                <a:ext cx="119160" cy="1553760"/>
                <a:chOff x="5236560" y="3454200"/>
                <a:chExt cx="119160" cy="15537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236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3557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638960" y="3454200"/>
                <a:ext cx="119160" cy="1553760"/>
                <a:chOff x="4638960" y="3454200"/>
                <a:chExt cx="119160" cy="15537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6389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7581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535360" y="3454200"/>
                <a:ext cx="119160" cy="1553760"/>
                <a:chOff x="5535360" y="3454200"/>
                <a:chExt cx="119160" cy="15537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535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654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834160" y="3454200"/>
                <a:ext cx="119520" cy="1553760"/>
                <a:chOff x="5834160" y="3454200"/>
                <a:chExt cx="119520" cy="15537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834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95368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 flipH="1">
                <a:off x="2972520" y="476856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59320" y="476856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11480" y="46191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306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09920" y="46191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294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05560" y="473904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6382440" y="3578040"/>
                <a:ext cx="133560" cy="129960"/>
                <a:chOff x="6382440" y="3578040"/>
                <a:chExt cx="133560" cy="1299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6387480" y="3583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387480" y="3692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6382440" y="35780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418080" y="35895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417720" y="35787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6382440" y="3708000"/>
                <a:ext cx="133560" cy="129960"/>
                <a:chOff x="6382440" y="3708000"/>
                <a:chExt cx="133560" cy="129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387480" y="371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87480" y="3812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6382440" y="3708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418080" y="3718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417720" y="3708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382440" y="3837600"/>
                <a:ext cx="133560" cy="120240"/>
                <a:chOff x="6382440" y="3837600"/>
                <a:chExt cx="133560" cy="1202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387480" y="3842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387480" y="3942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6382440" y="38376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418080" y="3848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17720" y="38376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382440" y="3956400"/>
                <a:ext cx="133560" cy="130320"/>
                <a:chOff x="6382440" y="3956400"/>
                <a:chExt cx="133560" cy="1303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6387480" y="3961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387480" y="4071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6382440" y="395676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418080" y="39675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417720" y="39564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82440" y="4086000"/>
                <a:ext cx="133560" cy="129960"/>
                <a:chOff x="6382440" y="4086000"/>
                <a:chExt cx="133560" cy="129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387480" y="4091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387480" y="4200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382440" y="4086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418080" y="40975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17720" y="40867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382440" y="4215960"/>
                <a:ext cx="133560" cy="119880"/>
                <a:chOff x="6382440" y="4215960"/>
                <a:chExt cx="133560" cy="1198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387480" y="422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87480" y="4320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382440" y="42159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418080" y="4226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417720" y="42159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" name=""/>
              <p:cNvSpPr/>
              <p:nvPr/>
            </p:nvSpPr>
            <p:spPr>
              <a:xfrm flipH="1">
                <a:off x="6611400" y="470916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382440" y="4335120"/>
                <a:ext cx="133560" cy="129960"/>
                <a:chOff x="6382440" y="4335120"/>
                <a:chExt cx="133560" cy="129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387480" y="4340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87480" y="4449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6382440" y="43351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18080" y="43466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417720" y="43358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2440" y="4464360"/>
                <a:ext cx="133560" cy="130320"/>
                <a:chOff x="6382440" y="4464360"/>
                <a:chExt cx="133560" cy="130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387480" y="4469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7480" y="4579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6382440" y="44647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18080" y="44755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17720" y="44643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6198120" y="394776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98480" y="395820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567120" y="39582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566760" y="394776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31200" y="36381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631200" y="42260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516720" y="41414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516720" y="3633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516720" y="3892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516720" y="40219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16720" y="4400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16720" y="4529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516720" y="3762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16720" y="427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9480" y="41112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68760" y="4290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7080" y="411120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68760" y="345420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66720" y="41112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7388280" y="3992040"/>
                <a:ext cx="292680" cy="358560"/>
                <a:chOff x="7388280" y="3992040"/>
                <a:chExt cx="292680" cy="3585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409520" y="40280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513920" y="40280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388640" y="39920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388640" y="42426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7388280" y="42789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 flipH="1">
                <a:off x="2860560" y="4649400"/>
                <a:ext cx="118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340160" y="4649400"/>
                <a:ext cx="21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8568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78568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2785680" y="45892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546640" y="47091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3932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3932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611400" y="45968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6454440" y="473904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39240" y="42606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64360" y="40813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194240" y="378252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240" y="37825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200000">
                <a:off x="7732080" y="38869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068320" y="3939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8008560" y="41709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63560" y="43729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443760" y="4903560"/>
              <a:ext cx="119160" cy="1554120"/>
              <a:chOff x="3443760" y="4903560"/>
              <a:chExt cx="119160" cy="1554120"/>
            </a:xfrm>
          </p:grpSpPr>
          <p:sp>
            <p:nvSpPr>
              <p:cNvPr id="741" name=""/>
              <p:cNvSpPr/>
              <p:nvPr/>
            </p:nvSpPr>
            <p:spPr>
              <a:xfrm>
                <a:off x="3443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562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3030120" y="50828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120" y="52124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030120" y="5342040"/>
              <a:ext cx="3346920" cy="129240"/>
              <a:chOff x="3030120" y="5342040"/>
              <a:chExt cx="3346920" cy="129240"/>
            </a:xfrm>
          </p:grpSpPr>
          <p:sp>
            <p:nvSpPr>
              <p:cNvPr id="746" name=""/>
              <p:cNvSpPr/>
              <p:nvPr/>
            </p:nvSpPr>
            <p:spPr>
              <a:xfrm>
                <a:off x="3030120" y="534204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30120" y="5471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3030120" y="5591160"/>
              <a:ext cx="3346920" cy="129240"/>
              <a:chOff x="3030120" y="5591160"/>
              <a:chExt cx="3346920" cy="129240"/>
            </a:xfrm>
          </p:grpSpPr>
          <p:sp>
            <p:nvSpPr>
              <p:cNvPr id="749" name=""/>
              <p:cNvSpPr/>
              <p:nvPr/>
            </p:nvSpPr>
            <p:spPr>
              <a:xfrm>
                <a:off x="3030120" y="5591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120" y="57204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3030120" y="585036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30120" y="597960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3742560" y="4903560"/>
              <a:ext cx="119160" cy="1554120"/>
              <a:chOff x="3742560" y="4903560"/>
              <a:chExt cx="119160" cy="1554120"/>
            </a:xfrm>
          </p:grpSpPr>
          <p:sp>
            <p:nvSpPr>
              <p:cNvPr id="754" name=""/>
              <p:cNvSpPr/>
              <p:nvPr/>
            </p:nvSpPr>
            <p:spPr>
              <a:xfrm>
                <a:off x="37425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61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144600" y="4903560"/>
              <a:ext cx="119520" cy="1554120"/>
              <a:chOff x="3144600" y="4903560"/>
              <a:chExt cx="119520" cy="1554120"/>
            </a:xfrm>
          </p:grpSpPr>
          <p:sp>
            <p:nvSpPr>
              <p:cNvPr id="757" name=""/>
              <p:cNvSpPr/>
              <p:nvPr/>
            </p:nvSpPr>
            <p:spPr>
              <a:xfrm>
                <a:off x="314460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64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4041360" y="4903560"/>
              <a:ext cx="119520" cy="1554120"/>
              <a:chOff x="4041360" y="4903560"/>
              <a:chExt cx="119520" cy="1554120"/>
            </a:xfrm>
          </p:grpSpPr>
          <p:sp>
            <p:nvSpPr>
              <p:cNvPr id="760" name=""/>
              <p:cNvSpPr/>
              <p:nvPr/>
            </p:nvSpPr>
            <p:spPr>
              <a:xfrm>
                <a:off x="40413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60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340160" y="4903560"/>
              <a:ext cx="119160" cy="1554120"/>
              <a:chOff x="4340160" y="4903560"/>
              <a:chExt cx="119160" cy="1554120"/>
            </a:xfrm>
          </p:grpSpPr>
          <p:sp>
            <p:nvSpPr>
              <p:cNvPr id="763" name=""/>
              <p:cNvSpPr/>
              <p:nvPr/>
            </p:nvSpPr>
            <p:spPr>
              <a:xfrm>
                <a:off x="43401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4593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4937760" y="4903560"/>
              <a:ext cx="119520" cy="1554120"/>
              <a:chOff x="4937760" y="4903560"/>
              <a:chExt cx="119520" cy="1554120"/>
            </a:xfrm>
          </p:grpSpPr>
          <p:sp>
            <p:nvSpPr>
              <p:cNvPr id="766" name=""/>
              <p:cNvSpPr/>
              <p:nvPr/>
            </p:nvSpPr>
            <p:spPr>
              <a:xfrm>
                <a:off x="4937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572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236920" y="4903560"/>
              <a:ext cx="119160" cy="1554120"/>
              <a:chOff x="5236920" y="4903560"/>
              <a:chExt cx="119160" cy="1554120"/>
            </a:xfrm>
          </p:grpSpPr>
          <p:sp>
            <p:nvSpPr>
              <p:cNvPr id="769" name=""/>
              <p:cNvSpPr/>
              <p:nvPr/>
            </p:nvSpPr>
            <p:spPr>
              <a:xfrm>
                <a:off x="5236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560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638960" y="4903560"/>
              <a:ext cx="119160" cy="1554120"/>
              <a:chOff x="4638960" y="4903560"/>
              <a:chExt cx="119160" cy="1554120"/>
            </a:xfrm>
          </p:grpSpPr>
          <p:sp>
            <p:nvSpPr>
              <p:cNvPr id="772" name=""/>
              <p:cNvSpPr/>
              <p:nvPr/>
            </p:nvSpPr>
            <p:spPr>
              <a:xfrm>
                <a:off x="46389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758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5535720" y="4903560"/>
              <a:ext cx="119160" cy="1554120"/>
              <a:chOff x="5535720" y="4903560"/>
              <a:chExt cx="119160" cy="1554120"/>
            </a:xfrm>
          </p:grpSpPr>
          <p:sp>
            <p:nvSpPr>
              <p:cNvPr id="775" name=""/>
              <p:cNvSpPr/>
              <p:nvPr/>
            </p:nvSpPr>
            <p:spPr>
              <a:xfrm>
                <a:off x="5535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654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834520" y="4903560"/>
              <a:ext cx="119520" cy="1554120"/>
              <a:chOff x="5834520" y="4903560"/>
              <a:chExt cx="119520" cy="1554120"/>
            </a:xfrm>
          </p:grpSpPr>
          <p:sp>
            <p:nvSpPr>
              <p:cNvPr id="778" name=""/>
              <p:cNvSpPr/>
              <p:nvPr/>
            </p:nvSpPr>
            <p:spPr>
              <a:xfrm>
                <a:off x="58345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5404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972520" y="621864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72400" y="6218640"/>
              <a:ext cx="13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09080" y="6071760"/>
              <a:ext cx="5976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28960" y="61912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08240" y="6071760"/>
              <a:ext cx="5940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27760" y="619128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05560" y="6188760"/>
              <a:ext cx="5940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382440" y="5028120"/>
              <a:ext cx="133560" cy="129600"/>
              <a:chOff x="6382440" y="5028120"/>
              <a:chExt cx="133560" cy="129600"/>
            </a:xfrm>
          </p:grpSpPr>
          <p:sp>
            <p:nvSpPr>
              <p:cNvPr id="788" name=""/>
              <p:cNvSpPr/>
              <p:nvPr/>
            </p:nvSpPr>
            <p:spPr>
              <a:xfrm>
                <a:off x="6387480" y="5033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87480" y="5142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382440" y="5028120"/>
                <a:ext cx="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18080" y="503928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17720" y="502848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382440" y="5157720"/>
              <a:ext cx="133560" cy="129960"/>
              <a:chOff x="6382440" y="5157720"/>
              <a:chExt cx="133560" cy="129960"/>
            </a:xfrm>
          </p:grpSpPr>
          <p:sp>
            <p:nvSpPr>
              <p:cNvPr id="794" name=""/>
              <p:cNvSpPr/>
              <p:nvPr/>
            </p:nvSpPr>
            <p:spPr>
              <a:xfrm>
                <a:off x="6387480" y="51624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87480" y="52621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382440" y="51577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18080" y="51685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17720" y="51577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382440" y="5287320"/>
              <a:ext cx="133560" cy="120240"/>
              <a:chOff x="6382440" y="5287320"/>
              <a:chExt cx="133560" cy="120240"/>
            </a:xfrm>
          </p:grpSpPr>
          <p:sp>
            <p:nvSpPr>
              <p:cNvPr id="800" name=""/>
              <p:cNvSpPr/>
              <p:nvPr/>
            </p:nvSpPr>
            <p:spPr>
              <a:xfrm>
                <a:off x="6387480" y="5292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87480" y="53917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382440" y="52873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18080" y="5298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17720" y="52873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382440" y="5406480"/>
              <a:ext cx="133560" cy="130320"/>
              <a:chOff x="6382440" y="5406480"/>
              <a:chExt cx="133560" cy="130320"/>
            </a:xfrm>
          </p:grpSpPr>
          <p:sp>
            <p:nvSpPr>
              <p:cNvPr id="806" name=""/>
              <p:cNvSpPr/>
              <p:nvPr/>
            </p:nvSpPr>
            <p:spPr>
              <a:xfrm>
                <a:off x="6387480" y="5411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87480" y="55209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382440" y="54064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18080" y="54176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17720" y="54064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82440" y="5536080"/>
              <a:ext cx="133560" cy="129960"/>
              <a:chOff x="6382440" y="5536080"/>
              <a:chExt cx="133560" cy="129960"/>
            </a:xfrm>
          </p:grpSpPr>
          <p:sp>
            <p:nvSpPr>
              <p:cNvPr id="812" name=""/>
              <p:cNvSpPr/>
              <p:nvPr/>
            </p:nvSpPr>
            <p:spPr>
              <a:xfrm>
                <a:off x="6387480" y="5541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87480" y="56505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382440" y="55360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18080" y="554760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17720" y="553680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6382440" y="5665680"/>
              <a:ext cx="133560" cy="119880"/>
              <a:chOff x="6382440" y="5665680"/>
              <a:chExt cx="133560" cy="119880"/>
            </a:xfrm>
          </p:grpSpPr>
          <p:sp>
            <p:nvSpPr>
              <p:cNvPr id="818" name=""/>
              <p:cNvSpPr/>
              <p:nvPr/>
            </p:nvSpPr>
            <p:spPr>
              <a:xfrm>
                <a:off x="6387480" y="5670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87480" y="57700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382440" y="56656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18080" y="5676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17720" y="56656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H="1">
              <a:off x="6611400" y="6158880"/>
              <a:ext cx="125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382440" y="5785200"/>
              <a:ext cx="133560" cy="129960"/>
              <a:chOff x="6382440" y="5785200"/>
              <a:chExt cx="133560" cy="129960"/>
            </a:xfrm>
          </p:grpSpPr>
          <p:sp>
            <p:nvSpPr>
              <p:cNvPr id="825" name=""/>
              <p:cNvSpPr/>
              <p:nvPr/>
            </p:nvSpPr>
            <p:spPr>
              <a:xfrm>
                <a:off x="6387480" y="5790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87480" y="58996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6382440" y="578520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18080" y="579672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7720" y="578592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382440" y="5914440"/>
              <a:ext cx="133560" cy="130320"/>
              <a:chOff x="6382440" y="5914440"/>
              <a:chExt cx="133560" cy="13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387480" y="5919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7480" y="60289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382440" y="59144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18080" y="59256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7720" y="59144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198480" y="5397480"/>
              <a:ext cx="86580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8840" y="5407920"/>
              <a:ext cx="86544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67480" y="5407920"/>
              <a:ext cx="12816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67120" y="5397480"/>
              <a:ext cx="1285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31560" y="5087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6631560" y="56754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7080" y="5591160"/>
              <a:ext cx="16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17080" y="5082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17080" y="5342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17080" y="54716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17080" y="5850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7080" y="5979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17080" y="5212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17080" y="57204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9840" y="5561280"/>
              <a:ext cx="2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69120" y="574056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87440" y="55612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69120" y="49035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66720" y="5561280"/>
              <a:ext cx="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388280" y="5441400"/>
              <a:ext cx="292680" cy="358560"/>
              <a:chOff x="7388280" y="5441400"/>
              <a:chExt cx="292680" cy="358560"/>
            </a:xfrm>
          </p:grpSpPr>
          <p:sp>
            <p:nvSpPr>
              <p:cNvPr id="856" name=""/>
              <p:cNvSpPr/>
              <p:nvPr/>
            </p:nvSpPr>
            <p:spPr>
              <a:xfrm>
                <a:off x="7409520" y="5477400"/>
                <a:ext cx="14544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13920" y="5477400"/>
                <a:ext cx="1530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388640" y="5441400"/>
                <a:ext cx="292320" cy="358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8640" y="5691960"/>
                <a:ext cx="8316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7388280" y="5728320"/>
                <a:ext cx="8316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 flipV="1">
              <a:off x="2860920" y="6098760"/>
              <a:ext cx="1785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86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86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786040" y="6039360"/>
              <a:ext cx="0" cy="23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546640" y="6158880"/>
              <a:ext cx="23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6440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40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611400" y="6046560"/>
              <a:ext cx="0" cy="23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454440" y="6188760"/>
              <a:ext cx="5976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39240" y="57106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4360" y="553140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194600" y="5232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94600" y="5232600"/>
              <a:ext cx="74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7732080" y="5337000"/>
              <a:ext cx="545040" cy="119160"/>
            </a:xfrm>
            <a:custGeom>
              <a:avLst/>
              <a:gdLst>
                <a:gd name="textAreaLeft" fmla="*/ 91080 w 545040"/>
                <a:gd name="textAreaRight" fmla="*/ 453960 w 54504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68320" y="538920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008920" y="5620680"/>
              <a:ext cx="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963920" y="5822640"/>
              <a:ext cx="89640" cy="89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5320" y="6102000"/>
              <a:ext cx="156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61360" y="23716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53440" y="382752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41560" y="527256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48800" y="5911200"/>
              <a:ext cx="57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54200" y="44578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971840" y="30157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86960" y="180036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35600" y="31478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37760" y="45925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13760" y="605808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75360" y="501552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268880" y="501444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77760" y="501552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671640" y="501444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9368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68720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9368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68720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9368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68720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936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6872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93680" y="22460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687200" y="22449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368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68720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9368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68720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7536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26888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7656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97008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7760" y="3825360"/>
              <a:ext cx="129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3671640" y="3823920"/>
              <a:ext cx="13536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7860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37212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972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7908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78600" y="212148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3372120" y="21204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7776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67164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848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49236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7536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26888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7860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37212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53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42688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765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9700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53F-6115-4AAB-AF4C-CEEA3279DB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927920" y="5783400"/>
            <a:ext cx="601560" cy="41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0" y="4994280"/>
            <a:ext cx="1573200" cy="72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7880" y="1506600"/>
            <a:ext cx="632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(synch. Mealy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1743120" y="1814400"/>
            <a:ext cx="7271280" cy="4657680"/>
            <a:chOff x="1743120" y="1814400"/>
            <a:chExt cx="7271280" cy="4657680"/>
          </a:xfrm>
        </p:grpSpPr>
        <p:sp>
          <p:nvSpPr>
            <p:cNvPr id="936" name=""/>
            <p:cNvSpPr/>
            <p:nvPr/>
          </p:nvSpPr>
          <p:spPr>
            <a:xfrm>
              <a:off x="1743120" y="5306760"/>
              <a:ext cx="850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2576160" y="2019240"/>
              <a:ext cx="5778720" cy="1554120"/>
              <a:chOff x="2576160" y="2019240"/>
              <a:chExt cx="5778720" cy="155412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3472920" y="2019240"/>
                <a:ext cx="119160" cy="1554120"/>
                <a:chOff x="3472920" y="2019240"/>
                <a:chExt cx="119160" cy="15541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34729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920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3059640" y="21985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059640" y="232776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059640" y="2457360"/>
                <a:ext cx="3347280" cy="129240"/>
                <a:chOff x="3059640" y="2457360"/>
                <a:chExt cx="3347280" cy="1292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059640" y="245736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059640" y="258660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059640" y="2706480"/>
                <a:ext cx="3347280" cy="129240"/>
                <a:chOff x="3059640" y="2706480"/>
                <a:chExt cx="3347280" cy="12924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059640" y="27064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059640" y="2835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059640" y="29653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59640" y="30952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3771720" y="2019240"/>
                <a:ext cx="119160" cy="1554120"/>
                <a:chOff x="3771720" y="2019240"/>
                <a:chExt cx="119160" cy="15541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7717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908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173760" y="2019240"/>
                <a:ext cx="119520" cy="1554120"/>
                <a:chOff x="3173760" y="2019240"/>
                <a:chExt cx="119520" cy="15541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31737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293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070520" y="2019240"/>
                <a:ext cx="119520" cy="1554120"/>
                <a:chOff x="4070520" y="2019240"/>
                <a:chExt cx="119520" cy="15541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40705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190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369680" y="2019240"/>
                <a:ext cx="119160" cy="1554120"/>
                <a:chOff x="4369680" y="2019240"/>
                <a:chExt cx="119160" cy="15541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3696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4888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967280" y="2019240"/>
                <a:ext cx="119520" cy="1554120"/>
                <a:chOff x="4967280" y="2019240"/>
                <a:chExt cx="119520" cy="15541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4967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68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266440" y="2019240"/>
                <a:ext cx="119160" cy="1554120"/>
                <a:chOff x="5266440" y="2019240"/>
                <a:chExt cx="119160" cy="15541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2664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3856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68480" y="2019240"/>
                <a:ext cx="119160" cy="1554120"/>
                <a:chOff x="4668480" y="2019240"/>
                <a:chExt cx="119160" cy="15541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46684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7876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5565240" y="2019240"/>
                <a:ext cx="119160" cy="1554120"/>
                <a:chOff x="5565240" y="2019240"/>
                <a:chExt cx="119160" cy="15541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5652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6844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864040" y="2019240"/>
                <a:ext cx="119520" cy="1554120"/>
                <a:chOff x="5864040" y="2019240"/>
                <a:chExt cx="119520" cy="15541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864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9835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 flipH="1">
                <a:off x="3001680" y="333396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76480" y="3333960"/>
                <a:ext cx="260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430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62560" y="3304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7418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861720" y="33040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35080" y="330408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411960" y="2143080"/>
                <a:ext cx="133560" cy="129960"/>
                <a:chOff x="6411960" y="2143080"/>
                <a:chExt cx="133560" cy="12996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417000" y="2148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17000" y="22575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6411960" y="21430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447600" y="21546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447240" y="21438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6411960" y="2273040"/>
                <a:ext cx="133560" cy="129960"/>
                <a:chOff x="6411960" y="2273040"/>
                <a:chExt cx="133560" cy="1299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417000" y="2277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417000" y="2377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6411960" y="22730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47600" y="2283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47240" y="22730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6411960" y="2402640"/>
                <a:ext cx="133560" cy="120240"/>
                <a:chOff x="6411960" y="2402640"/>
                <a:chExt cx="133560" cy="1202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417000" y="2407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17000" y="250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411960" y="2402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447600" y="2413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447240" y="24026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6411960" y="2521800"/>
                <a:ext cx="133560" cy="130320"/>
                <a:chOff x="6411960" y="2521800"/>
                <a:chExt cx="133560" cy="1303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6417000" y="2526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417000" y="2636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411960" y="25218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447600" y="25329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447240" y="25218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6411960" y="2651400"/>
                <a:ext cx="133560" cy="129960"/>
                <a:chOff x="6411960" y="2651400"/>
                <a:chExt cx="133560" cy="12996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6417000" y="265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417000" y="2765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6411960" y="2651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47600" y="2662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447240" y="2652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6411960" y="2781000"/>
                <a:ext cx="133560" cy="119880"/>
                <a:chOff x="6411960" y="2781000"/>
                <a:chExt cx="133560" cy="1198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6417000" y="2785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417000" y="2885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6411960" y="2781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447600" y="2791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447240" y="2781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flipH="1">
                <a:off x="6640560" y="327456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6411960" y="2900520"/>
                <a:ext cx="133560" cy="129960"/>
                <a:chOff x="6411960" y="2900520"/>
                <a:chExt cx="133560" cy="1299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417000" y="2905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417000" y="3015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6411960" y="29005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447600" y="29120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447240" y="29012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6411960" y="3029760"/>
                <a:ext cx="133560" cy="130320"/>
                <a:chOff x="6411960" y="3029760"/>
                <a:chExt cx="133560" cy="13032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6417000" y="3034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417000" y="3144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6411960" y="30301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447600" y="30409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47240" y="30297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6228000" y="251208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28360" y="252360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97000" y="25236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96640" y="251208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661080" y="220320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661080" y="27910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46600" y="270648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46600" y="21985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6600" y="24573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46600" y="25866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46600" y="2965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46600" y="3095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46600" y="2327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46600" y="2835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19360" y="26766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98640" y="285588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16960" y="267660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298640" y="201924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96600" y="26766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7417800" y="2557080"/>
                <a:ext cx="292680" cy="358560"/>
                <a:chOff x="7417800" y="2557080"/>
                <a:chExt cx="292680" cy="3585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39040" y="259308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543440" y="259308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418160" y="255708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418160" y="280764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7417800" y="284400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2889720" y="321444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64520" y="3214440"/>
                <a:ext cx="277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1520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81520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2815200" y="31546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576160" y="32745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46956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6956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640920" y="316188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83960" y="330408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68760" y="28260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194240" y="26467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7224120" y="2347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4120" y="23479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200000">
                <a:off x="7761960" y="245196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98200" y="250452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038440" y="273636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93440" y="293796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2576160" y="3468600"/>
              <a:ext cx="5778720" cy="1554120"/>
              <a:chOff x="2576160" y="3468600"/>
              <a:chExt cx="5778720" cy="15541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472920" y="3468600"/>
                <a:ext cx="119160" cy="1554120"/>
                <a:chOff x="3472920" y="3468600"/>
                <a:chExt cx="119160" cy="15541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4729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5920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3059640" y="36478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59640" y="37771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3059640" y="3906720"/>
                <a:ext cx="3347280" cy="129600"/>
                <a:chOff x="3059640" y="3906720"/>
                <a:chExt cx="3347280" cy="129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059640" y="3906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059640" y="40363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059640" y="4155840"/>
                <a:ext cx="3347280" cy="129240"/>
                <a:chOff x="3059640" y="4155840"/>
                <a:chExt cx="3347280" cy="1292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059640" y="415584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059640" y="42850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3059640" y="44146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59640" y="454464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3771720" y="3468600"/>
                <a:ext cx="119160" cy="1554120"/>
                <a:chOff x="3771720" y="3468600"/>
                <a:chExt cx="119160" cy="15541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7717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8908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173760" y="3468600"/>
                <a:ext cx="119520" cy="1554120"/>
                <a:chOff x="3173760" y="3468600"/>
                <a:chExt cx="119520" cy="15541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1737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293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4070520" y="3468600"/>
                <a:ext cx="119520" cy="1554120"/>
                <a:chOff x="4070520" y="3468600"/>
                <a:chExt cx="119520" cy="15541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40705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190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4369680" y="3468600"/>
                <a:ext cx="119160" cy="1554120"/>
                <a:chOff x="4369680" y="3468600"/>
                <a:chExt cx="119160" cy="15541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43696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888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4967280" y="3468600"/>
                <a:ext cx="119520" cy="1554120"/>
                <a:chOff x="4967280" y="3468600"/>
                <a:chExt cx="119520" cy="15541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4967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868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266440" y="3468600"/>
                <a:ext cx="119160" cy="1554120"/>
                <a:chOff x="5266440" y="3468600"/>
                <a:chExt cx="119160" cy="15541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2664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3856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4668480" y="3468600"/>
                <a:ext cx="119160" cy="1554120"/>
                <a:chOff x="4668480" y="3468600"/>
                <a:chExt cx="119160" cy="15541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684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7876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5240" y="3468600"/>
                <a:ext cx="119160" cy="1554120"/>
                <a:chOff x="5565240" y="3468600"/>
                <a:chExt cx="119160" cy="1554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52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844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864040" y="3468600"/>
                <a:ext cx="119520" cy="1554120"/>
                <a:chOff x="5864040" y="3468600"/>
                <a:chExt cx="119520" cy="15541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864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9835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 flipH="1">
                <a:off x="3002040" y="478332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89200" y="478332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041000" y="463392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605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339800" y="46339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4593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935080" y="475380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411960" y="3592440"/>
                <a:ext cx="133560" cy="129960"/>
                <a:chOff x="6411960" y="3592440"/>
                <a:chExt cx="133560" cy="12996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417000" y="3597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417000" y="3706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6411960" y="35924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447600" y="36039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447240" y="35931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411960" y="3722400"/>
                <a:ext cx="133560" cy="129960"/>
                <a:chOff x="6411960" y="3722400"/>
                <a:chExt cx="133560" cy="1299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417000" y="37270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417000" y="382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6411960" y="37224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447600" y="37332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447240" y="37224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6411960" y="3852000"/>
                <a:ext cx="133560" cy="120240"/>
                <a:chOff x="6411960" y="3852000"/>
                <a:chExt cx="133560" cy="1202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417000" y="385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417000" y="3956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6411960" y="3852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447600" y="3863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447240" y="3852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411960" y="3971160"/>
                <a:ext cx="133560" cy="130320"/>
                <a:chOff x="6411960" y="3971160"/>
                <a:chExt cx="133560" cy="1303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6417000" y="3976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417000" y="4086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6411960" y="39715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447600" y="39823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447240" y="39711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411960" y="4100760"/>
                <a:ext cx="133560" cy="129960"/>
                <a:chOff x="6411960" y="4100760"/>
                <a:chExt cx="133560" cy="1299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417000" y="4106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417000" y="4215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6411960" y="410076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447600" y="411228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447240" y="410148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6411960" y="4230360"/>
                <a:ext cx="133560" cy="119880"/>
                <a:chOff x="6411960" y="4230360"/>
                <a:chExt cx="133560" cy="1198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6417000" y="4235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417000" y="4334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6411960" y="42303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447600" y="4241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447240" y="42303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1" name=""/>
              <p:cNvSpPr/>
              <p:nvPr/>
            </p:nvSpPr>
            <p:spPr>
              <a:xfrm flipH="1">
                <a:off x="6640560" y="472392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6411960" y="4349880"/>
                <a:ext cx="133560" cy="129960"/>
                <a:chOff x="6411960" y="4349880"/>
                <a:chExt cx="133560" cy="129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6417000" y="4355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417000" y="4464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6411960" y="43498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447600" y="43614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447240" y="43506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6411960" y="4479120"/>
                <a:ext cx="133560" cy="130320"/>
                <a:chOff x="6411960" y="4479120"/>
                <a:chExt cx="133560" cy="1303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6417000" y="4484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417000" y="4593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6411960" y="447948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447600" y="44902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447240" y="447912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4" name=""/>
              <p:cNvSpPr/>
              <p:nvPr/>
            </p:nvSpPr>
            <p:spPr>
              <a:xfrm>
                <a:off x="6228000" y="396144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28360" y="397296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597000" y="397296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596640" y="396144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661080" y="36525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661080" y="4240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546600" y="41558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546600" y="3647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46600" y="3906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46600" y="4036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46600" y="4414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6600" y="45446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546600" y="3777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46600" y="42850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19360" y="412596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98640" y="43052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716960" y="412596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98640" y="346860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96600" y="412596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7417800" y="4006440"/>
                <a:ext cx="292680" cy="358560"/>
                <a:chOff x="7417800" y="4006440"/>
                <a:chExt cx="292680" cy="3585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7439040" y="40424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543440" y="40424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418160" y="40064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418160" y="42570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7417800" y="42933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 flipH="1">
                <a:off x="2889720" y="4663800"/>
                <a:ext cx="118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369680" y="4663800"/>
                <a:ext cx="216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815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815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2815200" y="460404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2576160" y="472392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469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469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6640920" y="46112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6483960" y="475380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68760" y="42753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194240" y="4096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7224120" y="3796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224120" y="379728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6200000">
                <a:off x="7761960" y="39013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098200" y="39538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8038440" y="41853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993440" y="43873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3473280" y="4917960"/>
              <a:ext cx="119160" cy="1554120"/>
              <a:chOff x="3473280" y="4917960"/>
              <a:chExt cx="119160" cy="1554120"/>
            </a:xfrm>
          </p:grpSpPr>
          <p:sp>
            <p:nvSpPr>
              <p:cNvPr id="1218" name=""/>
              <p:cNvSpPr/>
              <p:nvPr/>
            </p:nvSpPr>
            <p:spPr>
              <a:xfrm>
                <a:off x="3473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92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3060720" y="50972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60720" y="52275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3060720" y="5356080"/>
              <a:ext cx="3346560" cy="130320"/>
              <a:chOff x="3060720" y="5356080"/>
              <a:chExt cx="3346560" cy="130320"/>
            </a:xfrm>
          </p:grpSpPr>
          <p:sp>
            <p:nvSpPr>
              <p:cNvPr id="1223" name=""/>
              <p:cNvSpPr/>
              <p:nvPr/>
            </p:nvSpPr>
            <p:spPr>
              <a:xfrm>
                <a:off x="3060720" y="535608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060720" y="54864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3060720" y="5605200"/>
              <a:ext cx="3346560" cy="130320"/>
              <a:chOff x="3060720" y="5605200"/>
              <a:chExt cx="3346560" cy="130320"/>
            </a:xfrm>
          </p:grpSpPr>
          <p:sp>
            <p:nvSpPr>
              <p:cNvPr id="1226" name=""/>
              <p:cNvSpPr/>
              <p:nvPr/>
            </p:nvSpPr>
            <p:spPr>
              <a:xfrm>
                <a:off x="3060720" y="56052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60720" y="573552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3060720" y="58640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60720" y="59943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3771720" y="4917960"/>
              <a:ext cx="120960" cy="1554120"/>
              <a:chOff x="3771720" y="4917960"/>
              <a:chExt cx="120960" cy="1554120"/>
            </a:xfrm>
          </p:grpSpPr>
          <p:sp>
            <p:nvSpPr>
              <p:cNvPr id="1231" name=""/>
              <p:cNvSpPr/>
              <p:nvPr/>
            </p:nvSpPr>
            <p:spPr>
              <a:xfrm>
                <a:off x="37717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926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3174840" y="4917960"/>
              <a:ext cx="119160" cy="1554120"/>
              <a:chOff x="3174840" y="4917960"/>
              <a:chExt cx="119160" cy="1554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3174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94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4071960" y="4917960"/>
              <a:ext cx="119160" cy="1554120"/>
              <a:chOff x="4071960" y="4917960"/>
              <a:chExt cx="119160" cy="1554120"/>
            </a:xfrm>
          </p:grpSpPr>
          <p:sp>
            <p:nvSpPr>
              <p:cNvPr id="1237" name=""/>
              <p:cNvSpPr/>
              <p:nvPr/>
            </p:nvSpPr>
            <p:spPr>
              <a:xfrm>
                <a:off x="40719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911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4370400" y="4917960"/>
              <a:ext cx="119160" cy="1554120"/>
              <a:chOff x="4370400" y="4917960"/>
              <a:chExt cx="119160" cy="1554120"/>
            </a:xfrm>
          </p:grpSpPr>
          <p:sp>
            <p:nvSpPr>
              <p:cNvPr id="1240" name=""/>
              <p:cNvSpPr/>
              <p:nvPr/>
            </p:nvSpPr>
            <p:spPr>
              <a:xfrm>
                <a:off x="43704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895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967280" y="4917960"/>
              <a:ext cx="120600" cy="1554120"/>
              <a:chOff x="4967280" y="4917960"/>
              <a:chExt cx="120600" cy="1554120"/>
            </a:xfrm>
          </p:grpSpPr>
          <p:sp>
            <p:nvSpPr>
              <p:cNvPr id="1243" name=""/>
              <p:cNvSpPr/>
              <p:nvPr/>
            </p:nvSpPr>
            <p:spPr>
              <a:xfrm>
                <a:off x="4967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878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267160" y="4917960"/>
              <a:ext cx="119160" cy="1554120"/>
              <a:chOff x="5267160" y="4917960"/>
              <a:chExt cx="119160" cy="155412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671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863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4668840" y="4917960"/>
              <a:ext cx="120600" cy="1554120"/>
              <a:chOff x="4668840" y="4917960"/>
              <a:chExt cx="120600" cy="1554120"/>
            </a:xfrm>
          </p:grpSpPr>
          <p:sp>
            <p:nvSpPr>
              <p:cNvPr id="1249" name=""/>
              <p:cNvSpPr/>
              <p:nvPr/>
            </p:nvSpPr>
            <p:spPr>
              <a:xfrm>
                <a:off x="4668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89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5565600" y="4917960"/>
              <a:ext cx="119160" cy="1554120"/>
              <a:chOff x="5565600" y="4917960"/>
              <a:chExt cx="119160" cy="1554120"/>
            </a:xfrm>
          </p:grpSpPr>
          <p:sp>
            <p:nvSpPr>
              <p:cNvPr id="1252" name=""/>
              <p:cNvSpPr/>
              <p:nvPr/>
            </p:nvSpPr>
            <p:spPr>
              <a:xfrm>
                <a:off x="55656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847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5864040" y="4917960"/>
              <a:ext cx="120960" cy="1554120"/>
              <a:chOff x="5864040" y="4917960"/>
              <a:chExt cx="120960" cy="1554120"/>
            </a:xfrm>
          </p:grpSpPr>
          <p:sp>
            <p:nvSpPr>
              <p:cNvPr id="1255" name=""/>
              <p:cNvSpPr/>
              <p:nvPr/>
            </p:nvSpPr>
            <p:spPr>
              <a:xfrm>
                <a:off x="58640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985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 flipH="1">
              <a:off x="3003120" y="623232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02280" y="623232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38600" y="6086520"/>
              <a:ext cx="604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59200" y="6205320"/>
              <a:ext cx="586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938840" y="6086520"/>
              <a:ext cx="586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7640" y="620532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3544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6413400" y="5041440"/>
              <a:ext cx="132840" cy="131400"/>
              <a:chOff x="6413400" y="5041440"/>
              <a:chExt cx="132840" cy="131400"/>
            </a:xfrm>
          </p:grpSpPr>
          <p:sp>
            <p:nvSpPr>
              <p:cNvPr id="1265" name=""/>
              <p:cNvSpPr/>
              <p:nvPr/>
            </p:nvSpPr>
            <p:spPr>
              <a:xfrm>
                <a:off x="6418440" y="504684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18440" y="5157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413400" y="504144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48320" y="505296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447960" y="504216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6413400" y="5172120"/>
              <a:ext cx="132840" cy="129960"/>
              <a:chOff x="6413400" y="5172120"/>
              <a:chExt cx="132840" cy="129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6418440" y="5176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418440" y="52765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6413400" y="51721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48320" y="51829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447960" y="517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6413400" y="5302080"/>
              <a:ext cx="132840" cy="120240"/>
              <a:chOff x="6413400" y="5302080"/>
              <a:chExt cx="132840" cy="120240"/>
            </a:xfrm>
          </p:grpSpPr>
          <p:sp>
            <p:nvSpPr>
              <p:cNvPr id="1277" name=""/>
              <p:cNvSpPr/>
              <p:nvPr/>
            </p:nvSpPr>
            <p:spPr>
              <a:xfrm>
                <a:off x="6418440" y="53071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18440" y="5406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6413400" y="5302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48320" y="531324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47960" y="5302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413400" y="5420880"/>
              <a:ext cx="132840" cy="130320"/>
              <a:chOff x="6413400" y="5420880"/>
              <a:chExt cx="132840" cy="130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6418440" y="5425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8440" y="5535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413400" y="54208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448320" y="54320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447960" y="54208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6413400" y="5549400"/>
              <a:ext cx="132840" cy="131400"/>
              <a:chOff x="6413400" y="5549400"/>
              <a:chExt cx="132840" cy="131400"/>
            </a:xfrm>
          </p:grpSpPr>
          <p:sp>
            <p:nvSpPr>
              <p:cNvPr id="1289" name=""/>
              <p:cNvSpPr/>
              <p:nvPr/>
            </p:nvSpPr>
            <p:spPr>
              <a:xfrm>
                <a:off x="6418440" y="555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418440" y="5665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6413400" y="554940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48320" y="556092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47960" y="555012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413400" y="5680080"/>
              <a:ext cx="132840" cy="119880"/>
              <a:chOff x="6413400" y="5680080"/>
              <a:chExt cx="132840" cy="119880"/>
            </a:xfrm>
          </p:grpSpPr>
          <p:sp>
            <p:nvSpPr>
              <p:cNvPr id="1295" name=""/>
              <p:cNvSpPr/>
              <p:nvPr/>
            </p:nvSpPr>
            <p:spPr>
              <a:xfrm>
                <a:off x="6418440" y="56847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418440" y="5784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6413400" y="5680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48320" y="56908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47960" y="5680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 flipH="1">
              <a:off x="6642000" y="617364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6413400" y="5798880"/>
              <a:ext cx="132840" cy="131040"/>
              <a:chOff x="6413400" y="5798880"/>
              <a:chExt cx="132840" cy="131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6418440" y="5803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591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6413400" y="5798880"/>
                <a:ext cx="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448320" y="581004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447960" y="579924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6413400" y="5928840"/>
              <a:ext cx="132840" cy="130320"/>
              <a:chOff x="6413400" y="5928840"/>
              <a:chExt cx="132840" cy="130320"/>
            </a:xfrm>
          </p:grpSpPr>
          <p:sp>
            <p:nvSpPr>
              <p:cNvPr id="1308" name=""/>
              <p:cNvSpPr/>
              <p:nvPr/>
            </p:nvSpPr>
            <p:spPr>
              <a:xfrm>
                <a:off x="6418440" y="59338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18440" y="6043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6413400" y="59288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48320" y="59400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447960" y="59288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27640" y="5411520"/>
              <a:ext cx="8665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28000" y="5422680"/>
              <a:ext cx="8661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96280" y="5422680"/>
              <a:ext cx="1296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95920" y="5411520"/>
              <a:ext cx="1299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1080" y="510228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6661080" y="56890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46960" y="560520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46960" y="5097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46960" y="535608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46960" y="5486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46960" y="5864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46960" y="5994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46960" y="52275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6960" y="573552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20080" y="557532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99360" y="5754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18400" y="5575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99360" y="49179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97680" y="5575320"/>
              <a:ext cx="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7418520" y="5456160"/>
              <a:ext cx="293400" cy="358920"/>
              <a:chOff x="7418520" y="5456160"/>
              <a:chExt cx="293400" cy="358920"/>
            </a:xfrm>
          </p:grpSpPr>
          <p:sp>
            <p:nvSpPr>
              <p:cNvPr id="1333" name=""/>
              <p:cNvSpPr/>
              <p:nvPr/>
            </p:nvSpPr>
            <p:spPr>
              <a:xfrm>
                <a:off x="7439760" y="5492520"/>
                <a:ext cx="1461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44520" y="5492520"/>
                <a:ext cx="15372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18520" y="5456160"/>
                <a:ext cx="293400" cy="35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18520" y="5707080"/>
                <a:ext cx="8352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7418520" y="5743440"/>
                <a:ext cx="8352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 flipH="1" flipV="1">
              <a:off x="2890440" y="6113520"/>
              <a:ext cx="1785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628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81628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816280" y="605304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76520" y="61736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47064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7064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6642000" y="60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8432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69120" y="572436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194600" y="5545080"/>
              <a:ext cx="60120" cy="6012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7224840" y="524628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24840" y="524664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6200000">
              <a:off x="7762680" y="5351040"/>
              <a:ext cx="544680" cy="119160"/>
            </a:xfrm>
            <a:custGeom>
              <a:avLst/>
              <a:gdLst>
                <a:gd name="textAreaLeft" fmla="*/ 91080 w 544680"/>
                <a:gd name="textAreaRight" fmla="*/ 453600 w 54468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099280" y="5403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8039160" y="56354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94520" y="583704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75200" y="61164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91960" y="23860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040" y="384156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372160" y="528624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88040" y="592596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84800" y="44719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02080" y="30304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17560" y="181440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65480" y="31622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67640" y="46069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943640" y="607212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24280" y="357984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718160" y="3579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2428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718160" y="37083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2428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718160" y="383832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2428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718160" y="2128680"/>
              <a:ext cx="134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242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718160" y="225900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724280" y="238896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718160" y="23889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2428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718160" y="2517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05240" y="357984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98760" y="3579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0680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999960" y="370836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70836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701520" y="383832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08480" y="384012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383832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2752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820680" y="2128680"/>
              <a:ext cx="13500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08480" y="213516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401640" y="21351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0836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70152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5290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52224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05240" y="2388960"/>
              <a:ext cx="1303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4298760" y="238896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08480" y="2388960"/>
              <a:ext cx="1299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01640" y="23889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05240" y="251928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4298760" y="2517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0680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999960" y="251784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4717800" y="5029200"/>
              <a:ext cx="136440" cy="133200"/>
              <a:chOff x="4717800" y="5029200"/>
              <a:chExt cx="136440" cy="1332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72428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471780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4717800" y="5162400"/>
              <a:ext cx="136440" cy="133200"/>
              <a:chOff x="4717800" y="5162400"/>
              <a:chExt cx="136440" cy="133200"/>
            </a:xfrm>
          </p:grpSpPr>
          <p:sp>
            <p:nvSpPr>
              <p:cNvPr id="1408" name=""/>
              <p:cNvSpPr/>
              <p:nvPr/>
            </p:nvSpPr>
            <p:spPr>
              <a:xfrm>
                <a:off x="4724280" y="51638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717800" y="51624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4717800" y="5295960"/>
              <a:ext cx="136440" cy="133200"/>
              <a:chOff x="4717800" y="5295960"/>
              <a:chExt cx="136440" cy="133200"/>
            </a:xfrm>
          </p:grpSpPr>
          <p:sp>
            <p:nvSpPr>
              <p:cNvPr id="1411" name=""/>
              <p:cNvSpPr/>
              <p:nvPr/>
            </p:nvSpPr>
            <p:spPr>
              <a:xfrm>
                <a:off x="4724280" y="52974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717800" y="52959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717800" y="5416560"/>
              <a:ext cx="136440" cy="133200"/>
              <a:chOff x="4717800" y="5416560"/>
              <a:chExt cx="136440" cy="1332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72428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471780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4717800" y="5537160"/>
              <a:ext cx="136440" cy="133200"/>
              <a:chOff x="4717800" y="5537160"/>
              <a:chExt cx="136440" cy="133200"/>
            </a:xfrm>
          </p:grpSpPr>
          <p:sp>
            <p:nvSpPr>
              <p:cNvPr id="1417" name=""/>
              <p:cNvSpPr/>
              <p:nvPr/>
            </p:nvSpPr>
            <p:spPr>
              <a:xfrm>
                <a:off x="472428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71780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4298760" y="5029200"/>
              <a:ext cx="136800" cy="133200"/>
              <a:chOff x="4298760" y="5029200"/>
              <a:chExt cx="136800" cy="133200"/>
            </a:xfrm>
          </p:grpSpPr>
          <p:sp>
            <p:nvSpPr>
              <p:cNvPr id="1420" name=""/>
              <p:cNvSpPr/>
              <p:nvPr/>
            </p:nvSpPr>
            <p:spPr>
              <a:xfrm>
                <a:off x="430524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429876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3701880" y="5029200"/>
              <a:ext cx="136800" cy="133200"/>
              <a:chOff x="3701880" y="5029200"/>
              <a:chExt cx="136800" cy="133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370836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70188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517560" y="5029200"/>
              <a:ext cx="136440" cy="133200"/>
              <a:chOff x="3517560" y="5029200"/>
              <a:chExt cx="136440" cy="133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352404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351756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4298760" y="5162400"/>
              <a:ext cx="136800" cy="133200"/>
              <a:chOff x="4298760" y="5162400"/>
              <a:chExt cx="136800" cy="133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430524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29876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403440" y="5162400"/>
              <a:ext cx="136800" cy="133200"/>
              <a:chOff x="3403440" y="5162400"/>
              <a:chExt cx="136800" cy="133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340992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340344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4012920" y="5302080"/>
              <a:ext cx="136440" cy="133200"/>
              <a:chOff x="4012920" y="5302080"/>
              <a:chExt cx="136440" cy="133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4019400" y="530352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012920" y="530208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4298760" y="5295960"/>
              <a:ext cx="136800" cy="133200"/>
              <a:chOff x="4298760" y="5295960"/>
              <a:chExt cx="136800" cy="133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305240" y="52974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298760" y="52959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3822480" y="5416560"/>
              <a:ext cx="136440" cy="133200"/>
              <a:chOff x="3822480" y="5416560"/>
              <a:chExt cx="136440" cy="133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382896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82248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3403440" y="5416560"/>
              <a:ext cx="136800" cy="133200"/>
              <a:chOff x="3403440" y="5416560"/>
              <a:chExt cx="136800" cy="13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3409920" y="54180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403440" y="54165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4000320" y="5422680"/>
              <a:ext cx="136800" cy="133200"/>
              <a:chOff x="4000320" y="5422680"/>
              <a:chExt cx="136800" cy="133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4006800" y="54241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4000320" y="54226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3701880" y="5543280"/>
              <a:ext cx="136800" cy="133200"/>
              <a:chOff x="3701880" y="5543280"/>
              <a:chExt cx="136800" cy="133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3708360" y="55447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701880" y="55432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517560" y="5537160"/>
              <a:ext cx="136440" cy="133200"/>
              <a:chOff x="3517560" y="5537160"/>
              <a:chExt cx="136440" cy="133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352404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51756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4000320" y="5537160"/>
              <a:ext cx="136800" cy="133200"/>
              <a:chOff x="4000320" y="5537160"/>
              <a:chExt cx="136800" cy="133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4006800" y="55386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4000320" y="55371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48F-ADF2-401C-9376-77546E6F7D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S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D-FF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22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1"/>
          <a:stretch/>
        </p:blipFill>
        <p:spPr>
          <a:xfrm>
            <a:off x="3706920" y="385920"/>
            <a:ext cx="5257800" cy="62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6A5-873C-4CB6-817A-823C36B39E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51Z</dcterms:modified>
  <cp:revision>36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