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340-7210-4505-AF54-2C642D0B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894-64C0-44E7-92B1-805D8CC1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840-3E08-4F0B-9B52-CE5750E0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3E5-EF7B-4818-968C-75772AA8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C3E4-7F8F-44ED-A305-36AC2DC7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45A8-91E5-48E2-BAA4-FEC07E25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39C8-6AB2-4EF1-9CFD-53374D43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100E-67C5-4987-90A7-8E2018D3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A06D-3424-422A-BD32-21FA9E96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60E4-C28C-4486-8B3C-554D32C9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E6B4-B7D4-4454-904E-FBB1C190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9A3-F302-4979-BF35-57E8A8DA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6674-DB15-48F5-8D59-273C11A0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908C-6251-43D5-B6EA-30418751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E87F-FF2F-4D62-96BF-52297091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B090-EFD7-44AD-8944-72E0A220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A504-2C51-47EA-82AF-2EFF1FE3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EDB-8E07-4708-94D9-5CC6D625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BFF-1AE4-4FA9-9EB9-9183B005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62C-07D8-49A6-812B-153CC780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F2C-FB6E-4445-BAC5-316B6457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E91-AFD7-41B8-B35F-CE487F8F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A92-BD20-4ECE-AFA1-9F28FF29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582-80CF-44CE-BCCC-3AB1A169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240" y="6483240"/>
            <a:ext cx="3957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1F7C77C-1435-4073-916F-D6B36019D59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A1997E4-DAC8-4314-945F-27F78E626C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algebra, proofs by re-writing, proofs by perfect i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and 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ing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of terms in Boolea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ons of Boolean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naugh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EDC-6142-46E0-82A0-F22AB93B639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6764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. (X + Y + ...)’ = X’ • Y’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D. (X • Y • ...)’ = X’ + Y’ +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. f’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= 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1,0,•,+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relationship between • and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111-72A5-4021-8CE5-A2F61436A2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78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ual of a Boolean expression is derived by replac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by +, + by •, 0 by 1, and 1 by 0, and leaving variables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heorem that can be proven is thus also proven for its du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a-theorem (a theorem about theorem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. X + Y + ...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X • Y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. f 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1,0,•,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than deMorgan’s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statement about theor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a way to manipulate (re-write)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6DB-6541-45CF-84B2-01482126C4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rewrit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axiom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• Y + X • Y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X • 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8320" y="251460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Y + X • Y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Y + Y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mentarity (5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Y + Y’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(1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7680" y="4724280"/>
            <a:ext cx="63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1  +  X •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1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1 +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 + 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4FD-5674-4F34-BB87-7A62870573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 the following using the law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• Y) + (Y • Z) + (X’ • Z) =  X • Y + X’ •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1080" y="2475000"/>
            <a:ext cx="727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1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ar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+ X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Y • Z) + (X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ta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 • Y • Z) + (X’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 + Z) + (X’ • Z) • (1 +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) + (X’ • Z) • (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Z) </a:t>
            </a:r>
            <a:r>
              <a:rPr b="0" lang="en-US" sz="1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" y="2637000"/>
            <a:ext cx="8221680" cy="38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4B7-6A7A-4B8E-90B8-BA396C6A49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98400" y="2959200"/>
            <a:ext cx="3213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+ Y)’ = X’ •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 is equivalent t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34340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’ = X’ +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is equivalent to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62480" y="2857680"/>
            <a:ext cx="4133880" cy="1143000"/>
            <a:chOff x="4362480" y="2857680"/>
            <a:chExt cx="4133880" cy="1143000"/>
          </a:xfrm>
        </p:grpSpPr>
        <p:sp>
          <p:nvSpPr>
            <p:cNvPr id="177" name=""/>
            <p:cNvSpPr/>
            <p:nvPr/>
          </p:nvSpPr>
          <p:spPr>
            <a:xfrm>
              <a:off x="4362480" y="30862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59600" y="28767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28576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+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•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62480" y="4267080"/>
            <a:ext cx="4133880" cy="1143000"/>
            <a:chOff x="4362480" y="4267080"/>
            <a:chExt cx="4133880" cy="1143000"/>
          </a:xfrm>
        </p:grpSpPr>
        <p:sp>
          <p:nvSpPr>
            <p:cNvPr id="181" name=""/>
            <p:cNvSpPr/>
            <p:nvPr/>
          </p:nvSpPr>
          <p:spPr>
            <a:xfrm>
              <a:off x="4362480" y="44956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9600" y="42861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2670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•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+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perfect induction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erfect induction (complete truth tabl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37240" y="306396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97640" y="447192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8280" y="3073320"/>
            <a:ext cx="152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96200" y="446580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666-44FB-440A-BA2A-807C86D48C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simple example: 1-bit binary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s: A, B, Carry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: Sum, Carry-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95920" y="3346560"/>
            <a:ext cx="1371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86440" y="3498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86440" y="38037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86440" y="410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7520" y="3651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9560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79720" y="33465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77200" y="36511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19160" y="3956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1880" y="380376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79520" y="346716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9402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3753000"/>
            <a:ext cx="0" cy="19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30240" y="3733920"/>
            <a:ext cx="25750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81440" y="3943440"/>
            <a:ext cx="152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54120" y="3940200"/>
            <a:ext cx="152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60280" y="496728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95560" y="4572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A’ B’ Cin + A’ B Cin’ + A B’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26120" y="238608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8920" y="175104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040" y="202572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2800" y="236700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35720" y="166680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7960" y="1663560"/>
            <a:ext cx="297000" cy="11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166356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3732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7880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/>
          <p:nvPr/>
        </p:nvCxnSpPr>
        <p:spPr>
          <a:xfrm flipV="1" rot="16200000">
            <a:off x="6756840" y="1538280"/>
            <a:ext cx="216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 flipV="1" rot="16200000">
            <a:off x="64105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 flipV="1" rot="16200000">
            <a:off x="606600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6200000">
            <a:off x="57103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V="1" rot="16200000">
            <a:off x="5389560" y="1536840"/>
            <a:ext cx="2520" cy="2545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211800" y="114624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05640" y="1147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DE6-CF5D-4F96-A603-1EB045BDD9C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y the theorems to simplify express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650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eorems of Boolean algebra can simplify Boolean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ull adder’s carry-out function (same rules apply to any functio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57400" y="2901960"/>
            <a:ext cx="67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’ Cin  + 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A’ + A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1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 A B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B’ + B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1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Cin’ +  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611680" y="3228840"/>
            <a:ext cx="3098880" cy="3827880"/>
            <a:chOff x="5611680" y="3228840"/>
            <a:chExt cx="3098880" cy="3827880"/>
          </a:xfrm>
        </p:grpSpPr>
        <p:sp>
          <p:nvSpPr>
            <p:cNvPr id="230" name=""/>
            <p:cNvSpPr/>
            <p:nvPr/>
          </p:nvSpPr>
          <p:spPr>
            <a:xfrm>
              <a:off x="6237360" y="5865480"/>
              <a:ext cx="247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Tahoma"/>
                </a:rPr>
                <a:t>adding extra terms creates new factoring opportu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9440" y="322884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680" y="432576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30" idx="0"/>
              <a:endCxn id="232" idx="3"/>
            </p:cNvCxnSpPr>
            <p:nvPr/>
          </p:nvCxnSpPr>
          <p:spPr>
            <a:xfrm flipH="1" flipV="1" rot="5400000">
              <a:off x="6870600" y="5068080"/>
              <a:ext cx="1400400" cy="194400"/>
            </a:xfrm>
            <a:prstGeom prst="curvedConnector5">
              <a:avLst>
                <a:gd name="adj1" fmla="val 42504"/>
                <a:gd name="adj2" fmla="val 147495"/>
                <a:gd name="adj3" fmla="val 42504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30" idx="0"/>
              <a:endCxn id="231" idx="3"/>
            </p:cNvCxnSpPr>
            <p:nvPr/>
          </p:nvCxnSpPr>
          <p:spPr>
            <a:xfrm flipH="1" flipV="1" rot="5400000">
              <a:off x="6495840" y="4345920"/>
              <a:ext cx="2497680" cy="542160"/>
            </a:xfrm>
            <a:prstGeom prst="curvedConnector5">
              <a:avLst>
                <a:gd name="adj1" fmla="val 22041"/>
                <a:gd name="adj2" fmla="val 109767"/>
                <a:gd name="adj3" fmla="val 22041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1DA-0775-41B7-BD68-E34F9E7866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 in the truth-table for a circuit that checks that a 4-bit number is divisible by 2, 3, or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down Boolean expressions for By2, By3, and By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09280" y="2446200"/>
            <a:ext cx="599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8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72120" y="2359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50960" y="2722680"/>
            <a:ext cx="6224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C10-FB6F-4715-9D0D-0E2F3208A1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345960" y="1484280"/>
            <a:ext cx="5064120" cy="3802320"/>
            <a:chOff x="345960" y="1484280"/>
            <a:chExt cx="5064120" cy="3802320"/>
          </a:xfrm>
        </p:grpSpPr>
        <p:sp>
          <p:nvSpPr>
            <p:cNvPr id="241" name=""/>
            <p:cNvSpPr/>
            <p:nvPr/>
          </p:nvSpPr>
          <p:spPr>
            <a:xfrm>
              <a:off x="404280" y="1571760"/>
              <a:ext cx="4617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8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4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3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7200" y="1484280"/>
              <a:ext cx="0" cy="37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45960" y="1847880"/>
              <a:ext cx="471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840" y="2635200"/>
              <a:ext cx="501624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"/>
          <p:cNvSpPr/>
          <p:nvPr/>
        </p:nvSpPr>
        <p:spPr>
          <a:xfrm>
            <a:off x="5391000" y="3211560"/>
            <a:ext cx="366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’X1’ + X8’X4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’X2’X1’ + X8X4’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X1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X1’ + X8X4’X2’X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X2’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X4’X2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0960" y="1414440"/>
            <a:ext cx="891252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EC4-F83D-45F9-AD94-710BA949FA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7029360" y="2349360"/>
            <a:ext cx="1276200" cy="1143000"/>
            <a:chOff x="7029360" y="2349360"/>
            <a:chExt cx="1276200" cy="1143000"/>
          </a:xfrm>
        </p:grpSpPr>
        <p:sp>
          <p:nvSpPr>
            <p:cNvPr id="249" name=""/>
            <p:cNvSpPr/>
            <p:nvPr/>
          </p:nvSpPr>
          <p:spPr>
            <a:xfrm>
              <a:off x="7029360" y="2577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37280" y="23940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9200" y="2349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194600" y="1511280"/>
            <a:ext cx="869760" cy="736560"/>
            <a:chOff x="7194600" y="1511280"/>
            <a:chExt cx="869760" cy="736560"/>
          </a:xfrm>
        </p:grpSpPr>
        <p:sp>
          <p:nvSpPr>
            <p:cNvPr id="253" name=""/>
            <p:cNvSpPr/>
            <p:nvPr/>
          </p:nvSpPr>
          <p:spPr>
            <a:xfrm>
              <a:off x="7194600" y="1727280"/>
              <a:ext cx="81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1960" y="151776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4440" y="1511280"/>
              <a:ext cx="799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16760" y="3581280"/>
            <a:ext cx="1276200" cy="1143000"/>
            <a:chOff x="7016760" y="3581280"/>
            <a:chExt cx="1276200" cy="1143000"/>
          </a:xfrm>
        </p:grpSpPr>
        <p:sp>
          <p:nvSpPr>
            <p:cNvPr id="257" name=""/>
            <p:cNvSpPr/>
            <p:nvPr/>
          </p:nvSpPr>
          <p:spPr>
            <a:xfrm>
              <a:off x="7016760" y="380988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4680" y="362592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358128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3640" y="3784680"/>
            <a:ext cx="1181160" cy="571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965840" y="2629080"/>
            <a:ext cx="1193760" cy="545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105520" y="1612800"/>
            <a:ext cx="87624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89520" y="1676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32520" y="16891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99080" y="2603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377208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1680" y="28447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40514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84800" y="27939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9117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8440" y="1676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X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•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+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382-35C6-4522-A751-A4B569F257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4600" y="39736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0680" y="378936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600" y="3736800"/>
            <a:ext cx="87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080" tIns="27000" bIns="27000" anchor="t">
            <a:noAutofit/>
          </a:bodyPr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possible functions (F0–F15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552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5342040"/>
            <a:ext cx="990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2240" y="513864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1400" y="515160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89520" y="5583240"/>
            <a:ext cx="952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2240" y="51642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76960" y="513864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22240" y="4941720"/>
            <a:ext cx="3553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78040" y="4979880"/>
            <a:ext cx="36828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76640" y="288756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1040" y="3110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9440" y="29955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9440" y="32241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28306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8400" y="30592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79920" y="2932200"/>
            <a:ext cx="571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17680" y="4929120"/>
            <a:ext cx="1778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60320" y="4916520"/>
            <a:ext cx="3934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35040" y="4916520"/>
            <a:ext cx="5713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70120" y="5265720"/>
            <a:ext cx="863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08600" y="4929120"/>
            <a:ext cx="342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15000" y="558324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67560" y="5278320"/>
            <a:ext cx="761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88080" y="5342040"/>
            <a:ext cx="150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65720" y="4916520"/>
            <a:ext cx="3403440" cy="685800"/>
            <a:chOff x="5265720" y="4916520"/>
            <a:chExt cx="3403440" cy="685800"/>
          </a:xfrm>
        </p:grpSpPr>
        <p:sp>
          <p:nvSpPr>
            <p:cNvPr id="115" name=""/>
            <p:cNvSpPr/>
            <p:nvPr/>
          </p:nvSpPr>
          <p:spPr>
            <a:xfrm>
              <a:off x="8034120" y="4941720"/>
              <a:ext cx="33048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65720" y="4979880"/>
              <a:ext cx="3427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16880" y="4929120"/>
              <a:ext cx="1522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57880" y="4916520"/>
              <a:ext cx="368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5320" y="4916520"/>
              <a:ext cx="54612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61080" y="4929120"/>
              <a:ext cx="317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ossible logic functions of two variab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16 possible functions of 2 input varia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re are 2**(2**n) functions of 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83E-DF8E-4956-830C-AB2D4F760A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22640" y="160020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22640" y="186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1752480"/>
            <a:ext cx="533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76440" y="1612800"/>
            <a:ext cx="123192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4641840" y="1409760"/>
            <a:ext cx="1276200" cy="1143000"/>
            <a:chOff x="4641840" y="1409760"/>
            <a:chExt cx="1276200" cy="1143000"/>
          </a:xfrm>
        </p:grpSpPr>
        <p:sp>
          <p:nvSpPr>
            <p:cNvPr id="279" name=""/>
            <p:cNvSpPr/>
            <p:nvPr/>
          </p:nvSpPr>
          <p:spPr>
            <a:xfrm>
              <a:off x="4641840" y="16383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49760" y="14540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11680" y="14097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629240" y="2781360"/>
            <a:ext cx="1276200" cy="1143000"/>
            <a:chOff x="4629240" y="2781360"/>
            <a:chExt cx="1276200" cy="1143000"/>
          </a:xfrm>
        </p:grpSpPr>
        <p:sp>
          <p:nvSpPr>
            <p:cNvPr id="283" name=""/>
            <p:cNvSpPr/>
            <p:nvPr/>
          </p:nvSpPr>
          <p:spPr>
            <a:xfrm>
              <a:off x="4629240" y="3009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37160" y="28256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9080" y="2781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695760" y="317484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7080" y="29973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7080" y="332748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463840" y="3073320"/>
            <a:ext cx="1219320" cy="4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60440" y="43434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3400" y="46483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5212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629240" y="5537160"/>
            <a:ext cx="1276200" cy="1143000"/>
            <a:chOff x="4629240" y="5537160"/>
            <a:chExt cx="1276200" cy="1143000"/>
          </a:xfrm>
        </p:grpSpPr>
        <p:sp>
          <p:nvSpPr>
            <p:cNvPr id="294" name=""/>
            <p:cNvSpPr/>
            <p:nvPr/>
          </p:nvSpPr>
          <p:spPr>
            <a:xfrm>
              <a:off x="4629240" y="57657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37160" y="55818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55371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29240" y="4203720"/>
            <a:ext cx="1276200" cy="1143000"/>
            <a:chOff x="4629240" y="4203720"/>
            <a:chExt cx="1276200" cy="1143000"/>
          </a:xfrm>
        </p:grpSpPr>
        <p:sp>
          <p:nvSpPr>
            <p:cNvPr id="298" name=""/>
            <p:cNvSpPr/>
            <p:nvPr/>
          </p:nvSpPr>
          <p:spPr>
            <a:xfrm>
              <a:off x="4629240" y="443232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37160" y="4248000"/>
              <a:ext cx="0" cy="10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9080" y="420372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70200" y="59054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540160" y="4406760"/>
            <a:ext cx="1104840" cy="508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2476440" y="5791320"/>
            <a:ext cx="118116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209680" y="57405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7080" y="600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84800" y="4292640"/>
            <a:ext cx="308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= X Y’ + X’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or Y but not bo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inequality", "differenc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1440" y="5638680"/>
            <a:ext cx="332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= X Y + X’ Y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nd Y are the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equality", "coincide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N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=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941-40FF-4EB4-9CC6-8B42E06D344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511960" y="30780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1800" y="33577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6560" y="3332160"/>
            <a:ext cx="67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1800" y="3052800"/>
            <a:ext cx="672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156440" y="4184640"/>
            <a:ext cx="36828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3797280"/>
            <a:ext cx="226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3-input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427356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09720" y="4425480"/>
            <a:ext cx="190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3240" y="42735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13120" y="440064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09720" y="4832280"/>
            <a:ext cx="190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09720" y="4984920"/>
            <a:ext cx="1904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03240" y="4832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3120" y="495936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08560" y="5380200"/>
            <a:ext cx="13896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76920" y="5380200"/>
            <a:ext cx="100224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26960" y="5365800"/>
            <a:ext cx="9522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08200" y="5365800"/>
            <a:ext cx="1393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9720" y="546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09720" y="5626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10000" y="4876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1000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03520" y="4870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82080" y="4890960"/>
            <a:ext cx="29088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75600" y="488484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81720" y="487692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870440"/>
            <a:ext cx="30420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46560" y="4317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46560" y="4699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340080" y="431136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18640" y="4332240"/>
            <a:ext cx="29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12160" y="432576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18280" y="431820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11800" y="4312080"/>
            <a:ext cx="30420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82640" y="44323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15880" y="44323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1160" y="4280040"/>
            <a:ext cx="2667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19480" y="4432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76480" y="4432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6160" y="4432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82640" y="4991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588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93760" y="48261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2640" y="54608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5880" y="54608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93760" y="52959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82640" y="56260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15880" y="56260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93760" y="549900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7648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4991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1616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79520" y="5549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2920" y="5143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3080" y="51498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19200" y="514368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5397480"/>
            <a:ext cx="380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9800" y="5067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19480" y="45846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13000" y="4591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14880" y="4927680"/>
            <a:ext cx="571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16360" y="4508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6040" y="4508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4368960"/>
            <a:ext cx="241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64200" y="4514760"/>
            <a:ext cx="190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064200" y="462888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58080" y="451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7600" y="4616280"/>
            <a:ext cx="5076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64200" y="4984920"/>
            <a:ext cx="190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064200" y="5099040"/>
            <a:ext cx="190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5808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67600" y="50864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50080" y="5430960"/>
            <a:ext cx="151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18440" y="5430960"/>
            <a:ext cx="1015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9200" y="5416200"/>
            <a:ext cx="9644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49720" y="5416200"/>
            <a:ext cx="1522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64200" y="549900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64200" y="56386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77080" y="4940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7708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70600" y="49467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49160" y="49546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43040" y="4948200"/>
            <a:ext cx="3160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48800" y="494028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42680" y="4933800"/>
            <a:ext cx="3164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452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57760" y="46353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35640" y="447048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2452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7760" y="51055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35640" y="49528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24520" y="5499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7760" y="54990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23040" y="533412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4520" y="5638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7760" y="5638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23040" y="552456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5948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51055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4952880"/>
            <a:ext cx="241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3096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50000" y="49784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43880" y="46418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0640" y="46353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3096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5000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0640" y="51055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34000" y="5562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50000" y="52322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43880" y="52387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73680" y="55627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one way to map expressions to gate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 Z = A’ • B’ • (C + D) = (A’ • (B’ • (C + D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243-5CC2-4ECD-AC86-3532FBA4915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36560" y="3222720"/>
            <a:ext cx="7721640" cy="2666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H="1">
            <a:off x="2825280" y="3083040"/>
            <a:ext cx="3390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41880" y="275256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03440" y="4054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03440" y="6080040"/>
            <a:ext cx="4913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in Y takes time to "propagate" through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 view of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 sideways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e how edges don’t line up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time for a gate to switch its out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AC0-6F32-410A-8E2A-77211F29EB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361800" y="1574640"/>
            <a:ext cx="2355840" cy="1955880"/>
            <a:chOff x="361800" y="1574640"/>
            <a:chExt cx="2355840" cy="1955880"/>
          </a:xfrm>
        </p:grpSpPr>
        <p:sp>
          <p:nvSpPr>
            <p:cNvPr id="431" name=""/>
            <p:cNvSpPr/>
            <p:nvPr/>
          </p:nvSpPr>
          <p:spPr>
            <a:xfrm>
              <a:off x="361800" y="1803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14320" y="1619280"/>
              <a:ext cx="0" cy="18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4240" y="1574640"/>
              <a:ext cx="22734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540160" y="1319040"/>
            <a:ext cx="4173120" cy="5240160"/>
            <a:chOff x="2540160" y="1319040"/>
            <a:chExt cx="4173120" cy="5240160"/>
          </a:xfrm>
        </p:grpSpPr>
        <p:sp>
          <p:nvSpPr>
            <p:cNvPr id="435" name=""/>
            <p:cNvSpPr/>
            <p:nvPr/>
          </p:nvSpPr>
          <p:spPr>
            <a:xfrm>
              <a:off x="2585520" y="1455840"/>
              <a:ext cx="3990600" cy="51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2585520" y="1455840"/>
              <a:ext cx="3975480" cy="50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724000" y="294840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7680" y="284184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26200" y="454896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49880" y="4442400"/>
              <a:ext cx="48744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64800" y="569124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8840" y="558468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0160" y="1319040"/>
              <a:ext cx="1081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ing different realizations of a fun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"/>
          <p:cNvSpPr/>
          <p:nvPr/>
        </p:nvSpPr>
        <p:spPr>
          <a:xfrm>
            <a:off x="5896080" y="2876400"/>
            <a:ext cx="2984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 don’t count NOT g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51600" y="5883120"/>
            <a:ext cx="2959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 gate (easier to dra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stlier to bu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16680" y="4286160"/>
            <a:ext cx="2806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tes with fewer in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649-CE44-4E45-8A0F-3C0C13C9437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realization is bes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542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: input variable (complemented or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roximate cost of logic gate as 2 transitors per 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count invert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iterals means less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inputs implies faster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s are smaller and thus als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-ins (# of gate inputs) are limited in som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gates (and the packages they come in) means smaller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influences manufactur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72D-506D-4312-9050-D5BBA0086A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is the best realization? 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level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evel of gates implies reduced signal propagation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elay configuration typically requires mor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r, less deep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explore tradeoffs between increased circuit delay and siz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tools to generate differ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minimization: reduce number of gates 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optimization: reduction while trading off against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6ED-CFAA-4CA3-923B-7F864699F5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941400" y="4411800"/>
            <a:ext cx="7381800" cy="19778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e all realizations equivalen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708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the same input stimuli, the three alternative implementations hav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the same waveform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tches (hazards) may arise – these could be bad, it dep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s due to differences in number of gate levels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ree implementations are functionally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B57-656A-4E77-A3A4-A110D8590B2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ing Boolean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of a few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247-C0B8-4F56-9569-0A3C2F1F7C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is the unique signature of a Boolea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ame truth table can have many gate real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ms for a Boolean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unique algebraic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6F4-EE14-4817-82CE-F4274EC362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907920" y="3911760"/>
            <a:ext cx="2584440" cy="1955520"/>
            <a:chOff x="907920" y="3911760"/>
            <a:chExt cx="2584440" cy="1955520"/>
          </a:xfrm>
        </p:grpSpPr>
        <p:sp>
          <p:nvSpPr>
            <p:cNvPr id="460" name=""/>
            <p:cNvSpPr/>
            <p:nvPr/>
          </p:nvSpPr>
          <p:spPr>
            <a:xfrm>
              <a:off x="907920" y="414000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35240" y="391788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65160" y="3911760"/>
              <a:ext cx="252720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114800" y="3276720"/>
            <a:ext cx="53593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5486400"/>
            <a:ext cx="326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A’B’C’ + A’BC’ + AB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dis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in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03000" y="28954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1      011      101       110       11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14600" y="3260880"/>
            <a:ext cx="3237120" cy="1615680"/>
            <a:chOff x="2514600" y="3260880"/>
            <a:chExt cx="3237120" cy="1615680"/>
          </a:xfrm>
        </p:grpSpPr>
        <p:sp>
          <p:nvSpPr>
            <p:cNvPr id="469" name=""/>
            <p:cNvSpPr/>
            <p:nvPr/>
          </p:nvSpPr>
          <p:spPr>
            <a:xfrm>
              <a:off x="49780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’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514600" y="3657240"/>
              <a:ext cx="28954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514600" y="3260880"/>
            <a:ext cx="3962520" cy="1996560"/>
            <a:chOff x="2514600" y="3260880"/>
            <a:chExt cx="3962520" cy="1996560"/>
          </a:xfrm>
        </p:grpSpPr>
        <p:sp>
          <p:nvSpPr>
            <p:cNvPr id="472" name=""/>
            <p:cNvSpPr/>
            <p:nvPr/>
          </p:nvSpPr>
          <p:spPr>
            <a:xfrm>
              <a:off x="57034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514600" y="3657240"/>
              <a:ext cx="3581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14600" y="3260880"/>
            <a:ext cx="4724640" cy="2225520"/>
            <a:chOff x="2514600" y="3260880"/>
            <a:chExt cx="4724640" cy="2225520"/>
          </a:xfrm>
        </p:grpSpPr>
        <p:sp>
          <p:nvSpPr>
            <p:cNvPr id="475" name=""/>
            <p:cNvSpPr/>
            <p:nvPr/>
          </p:nvSpPr>
          <p:spPr>
            <a:xfrm>
              <a:off x="646560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514600" y="3657600"/>
              <a:ext cx="43434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514600" y="3276720"/>
            <a:ext cx="5450760" cy="2437920"/>
            <a:chOff x="2514600" y="3276720"/>
            <a:chExt cx="5450760" cy="2437920"/>
          </a:xfrm>
        </p:grpSpPr>
        <p:sp>
          <p:nvSpPr>
            <p:cNvPr id="478" name=""/>
            <p:cNvSpPr/>
            <p:nvPr/>
          </p:nvSpPr>
          <p:spPr>
            <a:xfrm>
              <a:off x="7227000" y="3276720"/>
              <a:ext cx="7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514600" y="3580920"/>
              <a:ext cx="51055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514600" y="3289320"/>
            <a:ext cx="2573280" cy="1130040"/>
            <a:chOff x="2514600" y="3289320"/>
            <a:chExt cx="2573280" cy="1130040"/>
          </a:xfrm>
        </p:grpSpPr>
        <p:sp>
          <p:nvSpPr>
            <p:cNvPr id="481" name=""/>
            <p:cNvSpPr/>
            <p:nvPr/>
          </p:nvSpPr>
          <p:spPr>
            <a:xfrm flipV="1">
              <a:off x="2514600" y="3657240"/>
              <a:ext cx="2133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8520" y="328932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323-63EE-4B60-A967-BA83620C35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st of different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functions are easier or harder to im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s a cost associated with the number of switch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(F0) and 1 (F15): require 0 switches, directly connect output to low/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F3) and Y (F5): require 0 switches, output is one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 (F12) and Y’ (F10): require 2 switches for "inverter" or NOT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or Y (F4) and X nand Y (F14): require 4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or Y (F7) and X and Y (F1): require 6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Y (F9)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(F6): require 16 switch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because NOT, NOR, and NAND are the cheapest they are the functions we implement the most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A96-EC9B-4213-B1B8-35F2EBCD70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54120" y="5997600"/>
            <a:ext cx="2628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84160" y="3106800"/>
            <a:ext cx="2762280" cy="2527200"/>
            <a:chOff x="884160" y="3106800"/>
            <a:chExt cx="2762280" cy="2527200"/>
          </a:xfrm>
        </p:grpSpPr>
        <p:sp>
          <p:nvSpPr>
            <p:cNvPr id="485" name=""/>
            <p:cNvSpPr/>
            <p:nvPr/>
          </p:nvSpPr>
          <p:spPr>
            <a:xfrm>
              <a:off x="979560" y="3106800"/>
              <a:ext cx="266688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in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84160" y="338580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36680" y="3151080"/>
              <a:ext cx="0" cy="23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V="1">
            <a:off x="2789280" y="5576760"/>
            <a:ext cx="4446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1360" y="3259080"/>
            <a:ext cx="49896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1,3,5,6,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1 + m3 + m5 + m6 + 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A’B’C + A’BC + AB’C + ABC’ + 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’B’C + A’BC + AB’C + ABC + ABC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’B’ + A’B + AB’ + AB)C + A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(A’ + A)(B’ + B))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C’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604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term (or min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d product of literals – input combination for which output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A8B-1EE2-4472-B874-EBB47AA031B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907920" y="3606840"/>
            <a:ext cx="2584440" cy="1955880"/>
            <a:chOff x="907920" y="3606840"/>
            <a:chExt cx="2584440" cy="1955880"/>
          </a:xfrm>
        </p:grpSpPr>
        <p:sp>
          <p:nvSpPr>
            <p:cNvPr id="493" name=""/>
            <p:cNvSpPr/>
            <p:nvPr/>
          </p:nvSpPr>
          <p:spPr>
            <a:xfrm>
              <a:off x="907920" y="383544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35240" y="361332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5160" y="3606840"/>
              <a:ext cx="25272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949560" y="2743200"/>
            <a:ext cx="5359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0              010              1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969160"/>
            <a:ext cx="6705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(A + B + C’) (A + B’ + C’) (A’ + B + C’) (A’ + B’ + C) (A’ + B’ + C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con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ax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17840" y="3003480"/>
            <a:ext cx="2986560" cy="934920"/>
            <a:chOff x="2517840" y="3003480"/>
            <a:chExt cx="2986560" cy="934920"/>
          </a:xfrm>
        </p:grpSpPr>
        <p:sp>
          <p:nvSpPr>
            <p:cNvPr id="501" name=""/>
            <p:cNvSpPr/>
            <p:nvPr/>
          </p:nvSpPr>
          <p:spPr>
            <a:xfrm>
              <a:off x="4368240" y="3003480"/>
              <a:ext cx="1136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517840" y="3341160"/>
              <a:ext cx="23572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486160" y="3003480"/>
            <a:ext cx="4227120" cy="1338480"/>
            <a:chOff x="2486160" y="3003480"/>
            <a:chExt cx="4227120" cy="1338480"/>
          </a:xfrm>
        </p:grpSpPr>
        <p:sp>
          <p:nvSpPr>
            <p:cNvPr id="504" name=""/>
            <p:cNvSpPr/>
            <p:nvPr/>
          </p:nvSpPr>
          <p:spPr>
            <a:xfrm>
              <a:off x="5541840" y="300348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’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486160" y="3357720"/>
              <a:ext cx="361620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502000" y="2997360"/>
            <a:ext cx="5427360" cy="1731960"/>
            <a:chOff x="2502000" y="2997360"/>
            <a:chExt cx="5427360" cy="1731960"/>
          </a:xfrm>
        </p:grpSpPr>
        <p:sp>
          <p:nvSpPr>
            <p:cNvPr id="507" name=""/>
            <p:cNvSpPr/>
            <p:nvPr/>
          </p:nvSpPr>
          <p:spPr>
            <a:xfrm>
              <a:off x="6757920" y="299736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’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502000" y="3357720"/>
              <a:ext cx="48592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068-0A76-4C69-A9E0-4988BC85A3D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520560" y="3041640"/>
            <a:ext cx="3308400" cy="2527200"/>
            <a:chOff x="520560" y="3041640"/>
            <a:chExt cx="3308400" cy="2527200"/>
          </a:xfrm>
        </p:grpSpPr>
        <p:sp>
          <p:nvSpPr>
            <p:cNvPr id="510" name=""/>
            <p:cNvSpPr/>
            <p:nvPr/>
          </p:nvSpPr>
          <p:spPr>
            <a:xfrm>
              <a:off x="520560" y="3333600"/>
              <a:ext cx="29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09720" y="31114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7040" y="3041640"/>
              <a:ext cx="33019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x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03040" y="5778360"/>
            <a:ext cx="262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41920" y="3105000"/>
            <a:ext cx="514476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0,2,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0 • M2 • 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C) (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400480" y="5460840"/>
            <a:ext cx="799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term (or max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ed sum of literals – input combination for which output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F25-336F-427C-96E8-F6BC6E24AD3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-o-P, P-o-S, and de Morgan’s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A’B’C’ + A’BC’ + A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A’B’C’ + A’BC’ + AB’C’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 + B + C) (A + B’ + C) (A’ + B + C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(A + B + C’) (A + B’ + C’) (A’ + B + C’) (A’ + B’ + C) (A’ + B’ + C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 (A + B + C’)(A + B’ + C’)(A’ + B + C’)(A’ + B’ + C)(A’ + B’ + C’) 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A’B’C + A’BC + AB’C + ABC’ +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438-B918-4F00-874D-7FC4E7C5DF3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613480" y="2279520"/>
            <a:ext cx="32511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product-of-sum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product-of-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984560" y="2502000"/>
            <a:ext cx="6094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84560" y="3619440"/>
            <a:ext cx="634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71960" y="4724280"/>
            <a:ext cx="6350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971600" y="5829480"/>
            <a:ext cx="660600" cy="26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9480" y="199404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149480" y="210816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3000" y="1994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39920" y="209556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9480" y="262908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149480" y="274320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43000" y="262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39920" y="273060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9480" y="3263760"/>
            <a:ext cx="177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149480" y="337824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32637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39920" y="336564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17960" y="1771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7960" y="2076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11480" y="1778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90040" y="1785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83560" y="1779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89680" y="1771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83200" y="1765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17960" y="2152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17960" y="2457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11480" y="2158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90040" y="2166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83560" y="2160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89680" y="2152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83200" y="2146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17960" y="2533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7960" y="2838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11480" y="2540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90040" y="25480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83560" y="25416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89680" y="2533320"/>
            <a:ext cx="291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3200" y="252720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17960" y="2914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17960" y="3219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11480" y="2921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90040" y="2928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83560" y="2922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89680" y="2914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83200" y="2908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17960" y="3295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17960" y="3600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11480" y="3301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90040" y="3309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83560" y="3303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89680" y="3295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83200" y="3289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68320" y="2546280"/>
            <a:ext cx="939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62200" y="2539800"/>
            <a:ext cx="9522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68680" y="2560680"/>
            <a:ext cx="9396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62560" y="2554200"/>
            <a:ext cx="9518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75120" y="25606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69000" y="25542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74760" y="25462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8640" y="25398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37492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038480" y="28191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44960" y="268596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17960" y="38037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7960" y="4121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111480" y="379692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90040" y="3817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3560" y="3811680"/>
            <a:ext cx="3038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89680" y="3803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3200" y="3797640"/>
            <a:ext cx="304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43800" y="3887640"/>
            <a:ext cx="138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11800" y="3887640"/>
            <a:ext cx="9900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74800" y="3873600"/>
            <a:ext cx="927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43440" y="3873600"/>
            <a:ext cx="1393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44960" y="39560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44960" y="4083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1280" y="454176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4800" y="453564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41320" y="452772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34840" y="4521600"/>
            <a:ext cx="9399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9600" y="452772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3480" y="452160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17960" y="4667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9960" y="454176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03840" y="453564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1280" y="492300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84800" y="491652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641320" y="490860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34840" y="490212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9600" y="490860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03480" y="490212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17960" y="50482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09960" y="4923000"/>
            <a:ext cx="126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03840" y="491652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1280" y="530388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84800" y="529740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41320" y="528948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34840" y="528300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09600" y="52894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03480" y="52830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17960" y="54291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09960" y="53038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3840" y="52974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44960" y="4896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44960" y="520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49021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04440" y="49100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97960" y="49039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4080" y="48960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97600" y="48895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16800" y="580536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7400" y="580536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48160" y="5790960"/>
            <a:ext cx="9392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16440" y="579096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7960" y="5873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17960" y="600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16800" y="618660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97400" y="618660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48160" y="6172560"/>
            <a:ext cx="93924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16440" y="617256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17960" y="62546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17960" y="63817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44960" y="597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44960" y="6280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038480" y="5969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04440" y="59896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7960" y="59832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04080" y="597564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97600" y="596916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1588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90880" y="179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63560" y="1676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50960" y="1784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63560" y="180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50960" y="21016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63560" y="2120760"/>
            <a:ext cx="0" cy="438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70040" y="179712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4296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8776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17880" y="2432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35440" y="19303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1484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41920" y="24321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776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17880" y="25588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14840" y="2558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08360" y="23115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877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17880" y="2685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714840" y="268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8776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17880" y="2813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14840" y="2813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08360" y="2819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776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17880" y="2940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1920" y="2940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35440" y="29462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484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21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60920" y="2571840"/>
            <a:ext cx="431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7760" y="3956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17880" y="3956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3956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0216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60920" y="3905280"/>
            <a:ext cx="406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15880" y="33847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90880" y="2432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90880" y="3193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90880" y="51753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63840" y="167652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11560" y="2419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63840" y="24382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51240" y="3181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63840" y="32004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51240" y="33717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63840" y="33908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11560" y="51624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63840" y="518148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42960" y="3384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43240" y="24321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70320" y="31939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30280" y="51753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15880" y="27496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088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088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088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167652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17720" y="2292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2311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4800" y="26733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26924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44800" y="2736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275580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17720" y="54165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5435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42960" y="27496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49400" y="23050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3880" y="268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49400" y="542916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8776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17880" y="4921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4840" y="4921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08360" y="467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877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17880" y="5048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714840" y="5048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776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17880" y="51753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14840" y="51753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08360" y="51814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021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60920" y="4933800"/>
            <a:ext cx="393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22400" y="2749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088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9088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9088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9088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9088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088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90880" y="60008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2280" y="249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0033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22400" y="24955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77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30320" y="1676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4800" y="1911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30320" y="193032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30320" y="25020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17720" y="3054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30320" y="30733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17720" y="3435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30320" y="3454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17720" y="40068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30320" y="40258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17720" y="46544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30320" y="4673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44800" y="50356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30320" y="505476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11560" y="598788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30320" y="600696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76480" y="192420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1592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36800" y="30672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36800" y="344808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36800" y="4667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63880" y="5048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43240" y="600084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4019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4600" y="238140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22400" y="211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17880" y="4083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90880" y="2178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90880" y="25588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90880" y="2940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990880" y="3321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990880" y="4540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90880" y="49212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90880" y="53020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90880" y="58737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90880" y="625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2280" y="1860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0332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022400" y="18604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388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36840" y="16765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36840" y="18669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50960" y="2165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36840" y="2184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3880" y="25462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36840" y="2565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2927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36840" y="29462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3880" y="3308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36840" y="332748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11560" y="4210200"/>
            <a:ext cx="3780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36840" y="42292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45277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36840" y="45464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23880" y="49086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36840" y="4927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50960" y="52894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36840" y="530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58611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36840" y="5880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17720" y="62420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36840" y="62611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15920" y="1866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0040" y="217800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42960" y="25588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2960" y="2940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42960" y="33210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42960" y="45403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42960" y="49212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70040" y="530208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42960" y="587376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36800" y="625464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30280" y="422280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11760" y="4089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4600" y="174636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22400" y="3384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990880" y="3892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990880" y="2050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90880" y="2813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90880" y="3575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90880" y="47941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90880" y="55562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90880" y="6381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24160" y="1676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311560" y="2038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24160" y="20574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11560" y="28004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2416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11560" y="31179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24160" y="31370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11560" y="3562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2416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3879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24160" y="3898800"/>
            <a:ext cx="0" cy="8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11560" y="47815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24160" y="48006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55436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24160" y="5562720"/>
            <a:ext cx="0" cy="81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11560" y="63691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24160" y="63882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30280" y="20509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30280" y="2813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2280" y="313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003320" y="31179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22400" y="31305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015920" y="3137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30280" y="3575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30280" y="47941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30280" y="55562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30280" y="63817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42960" y="38926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4600" y="30160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7760" y="593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17880" y="6064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14840" y="6064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08360" y="5943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87760" y="63183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17880" y="6191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14840" y="6191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08360" y="61977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02160" y="6127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60920" y="6013440"/>
            <a:ext cx="380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 alternative two-level implementation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 F = AB + 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D2C-6B0D-4428-8AC1-F9660F15B75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13960" cy="251460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s for the four alternativ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 are essentially iden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for timing hazards (gli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lmost identical (modeled as a delay per level, not type of gate or number of inputs to g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FD8-63E9-4F13-91F1-427BF994BBD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between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to max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 in min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to min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 in max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expansion of F to min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expansion of F to max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171-F737-4149-8C12-7521419812B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57080" y="2986200"/>
            <a:ext cx="36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67160" y="27511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9880" y="2744640"/>
            <a:ext cx="3504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662200" y="2973240"/>
            <a:ext cx="4572000" cy="2210040"/>
            <a:chOff x="2662200" y="2973240"/>
            <a:chExt cx="4572000" cy="2210040"/>
          </a:xfrm>
        </p:grpSpPr>
        <p:sp>
          <p:nvSpPr>
            <p:cNvPr id="877" name=""/>
            <p:cNvSpPr/>
            <p:nvPr/>
          </p:nvSpPr>
          <p:spPr>
            <a:xfrm>
              <a:off x="2662200" y="4954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52760" y="32018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62200" y="2973240"/>
              <a:ext cx="152280" cy="152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814480" y="3354480"/>
              <a:ext cx="22860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14480" y="3354480"/>
              <a:ext cx="228600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262400" y="5151600"/>
            <a:ext cx="4565520" cy="1269000"/>
            <a:chOff x="4262400" y="5151600"/>
            <a:chExt cx="4565520" cy="1269000"/>
          </a:xfrm>
        </p:grpSpPr>
        <p:sp>
          <p:nvSpPr>
            <p:cNvPr id="883" name=""/>
            <p:cNvSpPr/>
            <p:nvPr/>
          </p:nvSpPr>
          <p:spPr>
            <a:xfrm>
              <a:off x="5640120" y="5259240"/>
              <a:ext cx="3187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se inputs patterns shoul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ver be encountered in practi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"don’t care"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about associate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 values, can be exploit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minim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262400" y="5659200"/>
              <a:ext cx="128268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62400" y="5151600"/>
              <a:ext cx="128268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mpletele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binary coded decimal increment b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digits encode the decimal digits 0 – 9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it patterns 0000 – 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662200" y="4125960"/>
            <a:ext cx="5133960" cy="2352600"/>
            <a:chOff x="2662200" y="4125960"/>
            <a:chExt cx="5133960" cy="2352600"/>
          </a:xfrm>
        </p:grpSpPr>
        <p:sp>
          <p:nvSpPr>
            <p:cNvPr id="889" name=""/>
            <p:cNvSpPr/>
            <p:nvPr/>
          </p:nvSpPr>
          <p:spPr>
            <a:xfrm>
              <a:off x="2662200" y="5183280"/>
              <a:ext cx="15228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814480" y="4268880"/>
              <a:ext cx="22860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76800" y="4125960"/>
              <a:ext cx="2619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n’t care (DC) 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662200" y="3659040"/>
            <a:ext cx="3764160" cy="1295640"/>
            <a:chOff x="2662200" y="3659040"/>
            <a:chExt cx="3764160" cy="1295640"/>
          </a:xfrm>
        </p:grpSpPr>
        <p:sp>
          <p:nvSpPr>
            <p:cNvPr id="893" name=""/>
            <p:cNvSpPr/>
            <p:nvPr/>
          </p:nvSpPr>
          <p:spPr>
            <a:xfrm>
              <a:off x="2662200" y="4497480"/>
              <a:ext cx="1522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814480" y="3811680"/>
              <a:ext cx="22860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60600" y="3659040"/>
              <a:ext cx="12657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873-B626-4505-ACD8-05B414E6B95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otation for incompletel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cares and 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, only represented on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present don’t-care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wo of the three sets (on-set, off-set, dc-se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representations of the BCD increment by 1 funct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0 + m2 + m4 + m6 + m8 + d10 + d11 + d12 + d13 + d14 +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0,2,4,6,8) + d(10,11,12,13,14,15) 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1 • M3 • M5 • M7 • M9 • D10 • D11 • D12 • D13 • D14 •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1,3,5,7,9) • D(10,11,12,13,14,15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621-A9FD-4A3A-AE8B-D6DDF51D2A1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ification of two-level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minimal sum of products or product of sums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don’t care information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algorithmic/systematic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when the minimum realization has been fou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-aided desig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e solutions require very long computation times, especially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with many inputs (&gt;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methods employed – "educated guesses" to reduce amoun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and yield good if not bes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methods still 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automatic tools and their strengths and 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heck results (on small ex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80E-A5A4-4966-9C14-9A492C6D416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83040" y="3456000"/>
            <a:ext cx="199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168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27400"/>
            <a:ext cx="1994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and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3240" y="3456000"/>
            <a:ext cx="18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51160" y="3271680"/>
            <a:ext cx="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3080" y="3227400"/>
            <a:ext cx="19047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or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784760"/>
            <a:ext cx="4610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11430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 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al set of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mplement all logic functions from NOT, NOR, and N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mplementing          X and 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ame as implementing   not (X nand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we can do it with only NOR or only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s just a NAND or a NOR with both inputs tied together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AND and NOR are "duals"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its easy to implement one using the othe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lets not move too fas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look at the mathematical foundation of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F0B-7898-456E-BD4D-1EE3250976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066680" y="4495680"/>
            <a:ext cx="1524240" cy="990720"/>
            <a:chOff x="1066680" y="4495680"/>
            <a:chExt cx="1524240" cy="990720"/>
          </a:xfrm>
        </p:grpSpPr>
        <p:sp>
          <p:nvSpPr>
            <p:cNvPr id="901" name=""/>
            <p:cNvSpPr/>
            <p:nvPr/>
          </p:nvSpPr>
          <p:spPr>
            <a:xfrm>
              <a:off x="1066680" y="51814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66680" y="44956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1308240" y="415296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63600" y="4444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3720" y="417204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676520" y="4317840"/>
            <a:ext cx="6464160" cy="1168560"/>
            <a:chOff x="1676520" y="4317840"/>
            <a:chExt cx="6464160" cy="1168560"/>
          </a:xfrm>
        </p:grpSpPr>
        <p:sp>
          <p:nvSpPr>
            <p:cNvPr id="907" name=""/>
            <p:cNvSpPr/>
            <p:nvPr/>
          </p:nvSpPr>
          <p:spPr>
            <a:xfrm>
              <a:off x="16765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65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81080" y="4495680"/>
              <a:ext cx="1403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981080" y="4629240"/>
              <a:ext cx="140364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29000" y="4317840"/>
              <a:ext cx="4711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has the same value in both on-set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B rem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219320" y="4495680"/>
            <a:ext cx="6705360" cy="1803600"/>
            <a:chOff x="1219320" y="4495680"/>
            <a:chExt cx="6705360" cy="1803600"/>
          </a:xfrm>
        </p:grpSpPr>
        <p:sp>
          <p:nvSpPr>
            <p:cNvPr id="913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193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23880" y="4800600"/>
              <a:ext cx="187344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5486400"/>
              <a:ext cx="18608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41600" y="5638680"/>
              <a:ext cx="44830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has a different value in the two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A is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2743200" y="3657600"/>
            <a:ext cx="341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’B’+AB’ = (A’+A)B’ = 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uniting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tool to simplification: A (B’ + B) =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nce of simplification of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wo element subsets of the ON-set where only one variable changes its value – this single varying variable can be eliminated and a single product term used to represent both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C0E-94C4-4DEA-A496-4DE292E99C0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"/>
          <p:cNvGrpSpPr/>
          <p:nvPr/>
        </p:nvGrpSpPr>
        <p:grpSpPr>
          <a:xfrm>
            <a:off x="673200" y="3305160"/>
            <a:ext cx="2705040" cy="787320"/>
            <a:chOff x="673200" y="3305160"/>
            <a:chExt cx="2705040" cy="787320"/>
          </a:xfrm>
        </p:grpSpPr>
        <p:grpSp>
          <p:nvGrpSpPr>
            <p:cNvPr id="922" name=""/>
            <p:cNvGrpSpPr/>
            <p:nvPr/>
          </p:nvGrpSpPr>
          <p:grpSpPr>
            <a:xfrm>
              <a:off x="1981080" y="3610080"/>
              <a:ext cx="990720" cy="152280"/>
              <a:chOff x="1981080" y="3610080"/>
              <a:chExt cx="990720" cy="152280"/>
            </a:xfrm>
          </p:grpSpPr>
          <p:sp>
            <p:nvSpPr>
              <p:cNvPr id="923" name=""/>
              <p:cNvSpPr/>
              <p:nvPr/>
            </p:nvSpPr>
            <p:spPr>
              <a:xfrm>
                <a:off x="2133720" y="368604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81080" y="36100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19520" y="3610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673200" y="349560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62320" y="37623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981080" y="330516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19520" y="330516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 technique for indentifying when the uniting theor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input variables = n-dimensional "cub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622760" y="3000240"/>
            <a:ext cx="2933640" cy="1371600"/>
            <a:chOff x="4622760" y="3000240"/>
            <a:chExt cx="2933640" cy="1371600"/>
          </a:xfrm>
        </p:grpSpPr>
        <p:sp>
          <p:nvSpPr>
            <p:cNvPr id="933" name=""/>
            <p:cNvSpPr/>
            <p:nvPr/>
          </p:nvSpPr>
          <p:spPr>
            <a:xfrm>
              <a:off x="6400800" y="34704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40417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26160" y="34322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19920" y="30002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22760" y="3876840"/>
              <a:ext cx="78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22760" y="305100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19920" y="383868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4952880" y="3076560"/>
              <a:ext cx="990720" cy="990720"/>
              <a:chOff x="4952880" y="3076560"/>
              <a:chExt cx="990720" cy="99072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4952880" y="3914640"/>
                <a:ext cx="990720" cy="152640"/>
                <a:chOff x="4952880" y="3914640"/>
                <a:chExt cx="990720" cy="152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5105520" y="399096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952880" y="391464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791320" y="391464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952880" y="3076920"/>
                <a:ext cx="152280" cy="990360"/>
                <a:chOff x="4952880" y="3076920"/>
                <a:chExt cx="152280" cy="990360"/>
              </a:xfrm>
            </p:grpSpPr>
            <p:sp>
              <p:nvSpPr>
                <p:cNvPr id="946" name=""/>
                <p:cNvSpPr/>
                <p:nvPr/>
              </p:nvSpPr>
              <p:spPr>
                <a:xfrm flipV="1">
                  <a:off x="5028840" y="32292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16200000">
                  <a:off x="4952880" y="3915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16200000">
                  <a:off x="4952880" y="3076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5791320" y="3076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05520" y="31528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7280" y="32288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647640" y="4524480"/>
            <a:ext cx="3403800" cy="1780920"/>
            <a:chOff x="647640" y="4524480"/>
            <a:chExt cx="3403800" cy="1780920"/>
          </a:xfrm>
        </p:grpSpPr>
        <p:sp>
          <p:nvSpPr>
            <p:cNvPr id="953" name=""/>
            <p:cNvSpPr/>
            <p:nvPr/>
          </p:nvSpPr>
          <p:spPr>
            <a:xfrm>
              <a:off x="647640" y="536256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19400" y="59752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11440" y="5413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1080" y="551484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7920" y="59212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38560" y="45244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44680" y="55054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847880" y="4667400"/>
              <a:ext cx="1371240" cy="1371600"/>
              <a:chOff x="1847880" y="4667400"/>
              <a:chExt cx="1371240" cy="137160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2762280" y="558180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1924200" y="5637240"/>
                <a:ext cx="32400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1924200" y="4743720"/>
                <a:ext cx="3808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2762280" y="474372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1847880" y="5048280"/>
                <a:ext cx="990720" cy="990720"/>
                <a:chOff x="1847880" y="5048280"/>
                <a:chExt cx="990720" cy="99072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1847880" y="5886360"/>
                  <a:ext cx="990720" cy="152640"/>
                  <a:chOff x="1847880" y="5886360"/>
                  <a:chExt cx="990720" cy="1526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2000520" y="596268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847880" y="5886360"/>
                    <a:ext cx="15264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86320" y="588636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1847880" y="5048640"/>
                  <a:ext cx="152280" cy="990360"/>
                  <a:chOff x="1847880" y="5048640"/>
                  <a:chExt cx="152280" cy="9903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flipV="1">
                    <a:off x="1923840" y="520092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16200000">
                    <a:off x="1847880" y="588672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16200000">
                    <a:off x="1847880" y="50486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4" name=""/>
                <p:cNvSpPr/>
                <p:nvPr/>
              </p:nvSpPr>
              <p:spPr>
                <a:xfrm>
                  <a:off x="2686320" y="5048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000520" y="512460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762280" y="520056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229120" y="4667400"/>
                <a:ext cx="990000" cy="990720"/>
                <a:chOff x="2229120" y="4667400"/>
                <a:chExt cx="990000" cy="990720"/>
              </a:xfrm>
            </p:grpSpPr>
            <p:grpSp>
              <p:nvGrpSpPr>
                <p:cNvPr id="978" name=""/>
                <p:cNvGrpSpPr/>
                <p:nvPr/>
              </p:nvGrpSpPr>
              <p:grpSpPr>
                <a:xfrm>
                  <a:off x="2229120" y="5505480"/>
                  <a:ext cx="990000" cy="152640"/>
                  <a:chOff x="2229120" y="5505480"/>
                  <a:chExt cx="990000" cy="15264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2381400" y="558180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229120" y="550548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067200" y="5505480"/>
                    <a:ext cx="15192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229120" y="4667760"/>
                  <a:ext cx="152280" cy="990360"/>
                  <a:chOff x="2229120" y="4667760"/>
                  <a:chExt cx="152280" cy="9903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V="1">
                    <a:off x="2305080" y="48200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6200000">
                    <a:off x="2229120" y="55058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6200000">
                    <a:off x="2229120" y="466776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>
                  <a:off x="3067200" y="4667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381400" y="4743720"/>
                  <a:ext cx="68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143160" y="481968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9" name=""/>
          <p:cNvGrpSpPr/>
          <p:nvPr/>
        </p:nvGrpSpPr>
        <p:grpSpPr>
          <a:xfrm>
            <a:off x="3809880" y="4524480"/>
            <a:ext cx="5308560" cy="2057400"/>
            <a:chOff x="3809880" y="4524480"/>
            <a:chExt cx="5308560" cy="2057400"/>
          </a:xfrm>
        </p:grpSpPr>
        <p:sp>
          <p:nvSpPr>
            <p:cNvPr id="990" name=""/>
            <p:cNvSpPr/>
            <p:nvPr/>
          </p:nvSpPr>
          <p:spPr>
            <a:xfrm>
              <a:off x="7962840" y="527364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902120" y="59468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24280" y="625140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1120" y="564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70480" y="5794200"/>
              <a:ext cx="5587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09880" y="625140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20120" y="45244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18040" y="607392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64240" y="46767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4317840" y="4727520"/>
              <a:ext cx="3276360" cy="1600200"/>
              <a:chOff x="4317840" y="4727520"/>
              <a:chExt cx="3276360" cy="16002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5232240" y="602244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5613120" y="56415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4775040" y="56419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4393800" y="602280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5232240" y="51843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5613120" y="48031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4775040" y="480348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4393800" y="518472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317840" y="4956120"/>
                <a:ext cx="1371240" cy="1371600"/>
                <a:chOff x="4317840" y="4956120"/>
                <a:chExt cx="1371240" cy="1371600"/>
              </a:xfrm>
            </p:grpSpPr>
            <p:sp>
              <p:nvSpPr>
                <p:cNvPr id="1009" name=""/>
                <p:cNvSpPr/>
                <p:nvPr/>
              </p:nvSpPr>
              <p:spPr>
                <a:xfrm flipV="1">
                  <a:off x="5232240" y="58705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4394160" y="59259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4394160" y="50324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5232240" y="50324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4317840" y="5337000"/>
                  <a:ext cx="990720" cy="990720"/>
                  <a:chOff x="4317840" y="5337000"/>
                  <a:chExt cx="990720" cy="990720"/>
                </a:xfrm>
              </p:grpSpPr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317840" y="6175080"/>
                    <a:ext cx="990720" cy="152640"/>
                    <a:chOff x="4317840" y="6175080"/>
                    <a:chExt cx="990720" cy="1526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470480" y="62514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317840" y="61750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5156280" y="61750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4317840" y="5337360"/>
                    <a:ext cx="152280" cy="990360"/>
                    <a:chOff x="4317840" y="5337360"/>
                    <a:chExt cx="152280" cy="99036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flipV="1">
                      <a:off x="4393800" y="54896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16200000">
                      <a:off x="4317840" y="61754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6200000">
                      <a:off x="4317840" y="53373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2" name=""/>
                  <p:cNvSpPr/>
                  <p:nvPr/>
                </p:nvSpPr>
                <p:spPr>
                  <a:xfrm>
                    <a:off x="5156280" y="53370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470480" y="54133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5232240" y="54892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4699080" y="4956120"/>
                  <a:ext cx="990000" cy="990720"/>
                  <a:chOff x="4699080" y="4956120"/>
                  <a:chExt cx="990000" cy="99072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4699080" y="5794200"/>
                    <a:ext cx="990000" cy="152640"/>
                    <a:chOff x="4699080" y="5794200"/>
                    <a:chExt cx="990000" cy="15264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4851360" y="58705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4699080" y="57942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5537160" y="57942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4699080" y="4956480"/>
                    <a:ext cx="152280" cy="990360"/>
                    <a:chOff x="4699080" y="4956480"/>
                    <a:chExt cx="152280" cy="99036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flipV="1">
                      <a:off x="4775040" y="51087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rot="16200000">
                      <a:off x="4699080" y="57945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16200000">
                      <a:off x="4699080" y="49564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4" name=""/>
                  <p:cNvSpPr/>
                  <p:nvPr/>
                </p:nvSpPr>
                <p:spPr>
                  <a:xfrm>
                    <a:off x="5537160" y="49561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851360" y="50324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613120" y="51084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6222960" y="4727520"/>
                <a:ext cx="1371240" cy="1371600"/>
                <a:chOff x="6222960" y="4727520"/>
                <a:chExt cx="1371240" cy="1371600"/>
              </a:xfrm>
            </p:grpSpPr>
            <p:sp>
              <p:nvSpPr>
                <p:cNvPr id="1038" name=""/>
                <p:cNvSpPr/>
                <p:nvPr/>
              </p:nvSpPr>
              <p:spPr>
                <a:xfrm flipV="1">
                  <a:off x="7137360" y="56419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6299280" y="56973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6299280" y="48038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7137360" y="48038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2" name=""/>
                <p:cNvGrpSpPr/>
                <p:nvPr/>
              </p:nvGrpSpPr>
              <p:grpSpPr>
                <a:xfrm>
                  <a:off x="6222960" y="5108400"/>
                  <a:ext cx="990720" cy="990720"/>
                  <a:chOff x="6222960" y="5108400"/>
                  <a:chExt cx="990720" cy="99072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6222960" y="5946480"/>
                    <a:ext cx="990720" cy="152640"/>
                    <a:chOff x="6222960" y="5946480"/>
                    <a:chExt cx="990720" cy="15264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6375600" y="60228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6222960" y="59464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7061400" y="59464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6222960" y="5108760"/>
                    <a:ext cx="152280" cy="990360"/>
                    <a:chOff x="6222960" y="5108760"/>
                    <a:chExt cx="152280" cy="99036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 flipV="1">
                      <a:off x="6298920" y="52610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rot="16200000">
                      <a:off x="6222960" y="59468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6200000">
                      <a:off x="6222960" y="51087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1" name=""/>
                  <p:cNvSpPr/>
                  <p:nvPr/>
                </p:nvSpPr>
                <p:spPr>
                  <a:xfrm>
                    <a:off x="7061400" y="51084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375600" y="51847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137360" y="52606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6604200" y="4727520"/>
                  <a:ext cx="990000" cy="990720"/>
                  <a:chOff x="6604200" y="4727520"/>
                  <a:chExt cx="990000" cy="990720"/>
                </a:xfrm>
              </p:grpSpPr>
              <p:grpSp>
                <p:nvGrpSpPr>
                  <p:cNvPr id="1055" name=""/>
                  <p:cNvGrpSpPr/>
                  <p:nvPr/>
                </p:nvGrpSpPr>
                <p:grpSpPr>
                  <a:xfrm>
                    <a:off x="6604200" y="5565600"/>
                    <a:ext cx="990000" cy="152640"/>
                    <a:chOff x="6604200" y="5565600"/>
                    <a:chExt cx="990000" cy="152640"/>
                  </a:xfrm>
                </p:grpSpPr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6756480" y="56419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6604200" y="55656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7442280" y="55656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6604200" y="4727880"/>
                    <a:ext cx="152280" cy="990360"/>
                    <a:chOff x="6604200" y="4727880"/>
                    <a:chExt cx="152280" cy="99036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 flipV="1">
                      <a:off x="6680160" y="48801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rot="16200000">
                      <a:off x="6604200" y="55659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rot="16200000">
                      <a:off x="6604200" y="47278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7442280" y="47275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756480" y="48038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518240" y="48798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F9D-38AE-4C69-9A31-E000D79B12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028880" y="308124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84240" y="3373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54360" y="310032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30600" y="5646600"/>
            <a:ext cx="2273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-set = solid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set = empty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C-set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d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73320" y="2789280"/>
            <a:ext cx="5689800" cy="2832120"/>
            <a:chOff x="3073320" y="2789280"/>
            <a:chExt cx="5689800" cy="2832120"/>
          </a:xfrm>
        </p:grpSpPr>
        <p:sp>
          <p:nvSpPr>
            <p:cNvPr id="1071" name=""/>
            <p:cNvSpPr/>
            <p:nvPr/>
          </p:nvSpPr>
          <p:spPr>
            <a:xfrm>
              <a:off x="3073320" y="4097520"/>
              <a:ext cx="1295640" cy="317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24560" y="2789280"/>
              <a:ext cx="31622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faces of size 0 (nodes)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e into a face of size 1(l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62720" y="501192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varies within face, B does no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is face represents the literal 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4387680" y="2973600"/>
              <a:ext cx="110520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4362120" y="4383360"/>
              <a:ext cx="11811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truth tables onto 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ing theorem combines two "faces" of a cu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o a larger "fac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895480" y="3259080"/>
            <a:ext cx="2082960" cy="1371600"/>
            <a:chOff x="2895480" y="3259080"/>
            <a:chExt cx="2082960" cy="1371600"/>
          </a:xfrm>
        </p:grpSpPr>
        <p:sp>
          <p:nvSpPr>
            <p:cNvPr id="1079" name=""/>
            <p:cNvSpPr/>
            <p:nvPr/>
          </p:nvSpPr>
          <p:spPr>
            <a:xfrm>
              <a:off x="3606840" y="4300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98880" y="369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92640" y="325908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95480" y="4135680"/>
              <a:ext cx="78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95480" y="33098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92640" y="409752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8240" y="4249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2596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6404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301920" y="34873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3224160" y="4171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3224160" y="3333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64040" y="333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78240" y="3411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40360" y="34876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7600" y="292896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246-CED4-4A7D-9FCB-8D56C31DBE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6138720" y="260496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20880" y="2692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89040" y="245736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39960" y="2425680"/>
            <a:ext cx="25398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452920" y="18432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'+A)B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53120" y="237636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(Cin'+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29440" y="39006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(B+B')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00640" y="5958000"/>
            <a:ext cx="2870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BCin+AB+A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29240" y="214776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 flipV="1">
            <a:off x="6411960" y="3881160"/>
            <a:ext cx="69840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67120" y="4586400"/>
            <a:ext cx="4000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n-set is completely covered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mbination (OR) of the subcub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lower dimensionality - note that “11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overed three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ree 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ary full-adder carry-out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14840" y="2604960"/>
            <a:ext cx="2603520" cy="1781280"/>
            <a:chOff x="4614840" y="2604960"/>
            <a:chExt cx="2603520" cy="1781280"/>
          </a:xfrm>
        </p:grpSpPr>
        <p:sp>
          <p:nvSpPr>
            <p:cNvPr id="1109" name=""/>
            <p:cNvSpPr/>
            <p:nvPr/>
          </p:nvSpPr>
          <p:spPr>
            <a:xfrm>
              <a:off x="5386320" y="4056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78360" y="3494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148360" y="359568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14840" y="40021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05480" y="260496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11960" y="358632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929200" y="366192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5091120" y="371808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091120" y="282420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929200" y="282420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67440" y="4043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14800" y="3967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53240" y="3967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5091120" y="3281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5013360" y="396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6200000">
              <a:off x="5013000" y="3127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53240" y="3129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167440" y="3205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929200" y="3281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48320" y="3662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396040" y="3586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34120" y="3586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5472000" y="2900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6200000">
              <a:off x="5394240" y="35845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5394240" y="2745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234120" y="2747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48320" y="2824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10440" y="2900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 rot="16200000">
            <a:off x="5681520" y="214740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2751600">
            <a:off x="5970240" y="2412720"/>
            <a:ext cx="30456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6519600" y="2529000"/>
            <a:ext cx="533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680-D9E3-4BEF-9A04-D53CC1BBA61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4216320" y="2440080"/>
            <a:ext cx="46483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4,5,6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-set forms a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.e., a cube of dimen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n expression in one variable    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.e., 3 dimensions  –  2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235400" y="4165560"/>
            <a:ext cx="3936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is asserted (true) an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and C 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08480" y="4924440"/>
            <a:ext cx="327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ubcube represent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51240" y="4780080"/>
            <a:ext cx="3403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2477880" y="4037040"/>
            <a:ext cx="1773000" cy="74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igher dimensional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cubes of higher dimension than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838080" y="3193920"/>
            <a:ext cx="2679840" cy="1781280"/>
            <a:chOff x="838080" y="3193920"/>
            <a:chExt cx="2679840" cy="1781280"/>
          </a:xfrm>
        </p:grpSpPr>
        <p:sp>
          <p:nvSpPr>
            <p:cNvPr id="1148" name=""/>
            <p:cNvSpPr/>
            <p:nvPr/>
          </p:nvSpPr>
          <p:spPr>
            <a:xfrm flipV="1" rot="5400000">
              <a:off x="1814400" y="3835800"/>
              <a:ext cx="1209960" cy="381240"/>
            </a:xfrm>
            <a:prstGeom prst="parallelogram">
              <a:avLst>
                <a:gd name="adj" fmla="val 97872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85880" y="464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77920" y="4083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47920" y="41846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14400" y="45910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05040" y="319392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11520" y="41752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228760" y="425088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390680" y="430704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1390680" y="341316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228760" y="341316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467000" y="4632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14360" y="4556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52800" y="45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1390680" y="3870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1312560" y="4554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1312920" y="3715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52800" y="3718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6700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28760" y="3870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47880" y="4251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9560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3368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771560" y="3489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6200000">
              <a:off x="1693800" y="4172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6200000">
              <a:off x="1693800" y="3334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33680" y="333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7880" y="3413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10000" y="3489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62320" y="45655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828800" y="400680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38080" y="36511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19320" y="31939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05120" y="349884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B3D-2C86-4DA3-9082-BA82D9A7E4A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-dimensional cubes in a n-dimensional Boolean spa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3-cube (three variable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-cube, i.e., a single node, yields a term in 3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-cube, i.e., a line of two nodes, yields a term in 2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-cube, i.e., a plane of four nodes, yields a term in 1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-cube, i.e., a cube of eight nodes, yields a constant term "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m-subcube within an n-cube (m &lt; n) yields a ter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 – m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7CD-06DF-45F6-BFF0-657B844E423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5086440" y="4678200"/>
            <a:ext cx="1415880" cy="1726920"/>
            <a:chOff x="5086440" y="4678200"/>
            <a:chExt cx="1415880" cy="1726920"/>
          </a:xfrm>
        </p:grpSpPr>
        <p:sp>
          <p:nvSpPr>
            <p:cNvPr id="1185" name=""/>
            <p:cNvSpPr/>
            <p:nvPr/>
          </p:nvSpPr>
          <p:spPr>
            <a:xfrm>
              <a:off x="5130720" y="4678200"/>
              <a:ext cx="137160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86440" y="4970160"/>
              <a:ext cx="133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56200" y="46972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t map of Boolean cu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–around at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draw and visualize for more than 4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impossible for more than 6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to truth-tables to help visualize adjac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o applying the uniting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set elements with only one variable changing value are adjacent unlike the situation in a linear truth-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2575080" y="4807080"/>
            <a:ext cx="1371600" cy="1431360"/>
            <a:chOff x="2575080" y="4807080"/>
            <a:chExt cx="1371600" cy="1431360"/>
          </a:xfrm>
        </p:grpSpPr>
        <p:sp>
          <p:nvSpPr>
            <p:cNvPr id="1191" name=""/>
            <p:cNvSpPr/>
            <p:nvPr/>
          </p:nvSpPr>
          <p:spPr>
            <a:xfrm>
              <a:off x="2959200" y="54259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307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3879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78120" y="4807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75080" y="4984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52920" y="528948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52920" y="57211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307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9307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3879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879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30760" y="52131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87960" y="52131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2930760" y="5670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625480" y="4908240"/>
              <a:ext cx="30492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DC4-0CAF-4819-BF6F-4E4A2EF77F5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ing scheme based on Gray–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00, 01, 11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single bit changes in code for adjacent map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841320" y="3038400"/>
            <a:ext cx="2387520" cy="1828800"/>
            <a:chOff x="841320" y="3038400"/>
            <a:chExt cx="2387520" cy="1828800"/>
          </a:xfrm>
        </p:grpSpPr>
        <p:sp>
          <p:nvSpPr>
            <p:cNvPr id="1209" name=""/>
            <p:cNvSpPr/>
            <p:nvPr/>
          </p:nvSpPr>
          <p:spPr>
            <a:xfrm>
              <a:off x="1332000" y="3751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032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04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150920" y="3132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47880" y="33098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125360" y="361440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125360" y="40464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 flipV="1">
              <a:off x="998640" y="323316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41360" y="374940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129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701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226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701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2129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12920" y="3267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755720" y="4562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69920" y="40287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1320" y="40795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62160" y="45367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19360" y="3038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082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557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2985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108080" y="4943520"/>
            <a:ext cx="2114640" cy="1457280"/>
            <a:chOff x="1108080" y="4943520"/>
            <a:chExt cx="2114640" cy="1457280"/>
          </a:xfrm>
        </p:grpSpPr>
        <p:sp>
          <p:nvSpPr>
            <p:cNvPr id="1233" name=""/>
            <p:cNvSpPr/>
            <p:nvPr/>
          </p:nvSpPr>
          <p:spPr>
            <a:xfrm>
              <a:off x="1341720" y="5380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251080" y="5378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320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798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22226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32000" y="5172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65440" y="608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317600" y="5629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08080" y="57088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71880" y="6070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38440" y="4943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176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654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13082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4286160" y="3502080"/>
            <a:ext cx="2691000" cy="2365200"/>
            <a:chOff x="4286160" y="3502080"/>
            <a:chExt cx="2691000" cy="2365200"/>
          </a:xfrm>
        </p:grpSpPr>
        <p:sp>
          <p:nvSpPr>
            <p:cNvPr id="1248" name=""/>
            <p:cNvSpPr/>
            <p:nvPr/>
          </p:nvSpPr>
          <p:spPr>
            <a:xfrm>
              <a:off x="4527720" y="3917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37080" y="3916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100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579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007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3730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27720" y="41673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392880" y="4456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816520" y="3502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956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35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44863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19440" y="485604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29160" y="4854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4100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579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007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9435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95680" y="463716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286160" y="5175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49960" y="553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956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435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4863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6577560" y="5603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 = 1101= AB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C43-A0A0-442A-97F5-6330C107E9D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5715000" y="4191120"/>
            <a:ext cx="762120" cy="761760"/>
            <a:chOff x="5715000" y="4191120"/>
            <a:chExt cx="762120" cy="761760"/>
          </a:xfrm>
        </p:grpSpPr>
        <p:sp>
          <p:nvSpPr>
            <p:cNvPr id="1274" name=""/>
            <p:cNvSpPr/>
            <p:nvPr/>
          </p:nvSpPr>
          <p:spPr>
            <a:xfrm flipV="1">
              <a:off x="5715000" y="4627080"/>
              <a:ext cx="324000" cy="32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1320" y="49528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5715000" y="419112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jacencies in 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from first to last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top row to bottom 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676520" y="3657600"/>
            <a:ext cx="2114280" cy="1457280"/>
            <a:chOff x="1676520" y="3657600"/>
            <a:chExt cx="2114280" cy="1457280"/>
          </a:xfrm>
        </p:grpSpPr>
        <p:sp>
          <p:nvSpPr>
            <p:cNvPr id="1280" name=""/>
            <p:cNvSpPr/>
            <p:nvPr/>
          </p:nvSpPr>
          <p:spPr>
            <a:xfrm>
              <a:off x="19810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54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004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479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7907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00440" y="3886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33520" y="4800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88604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76520" y="4422600"/>
              <a:ext cx="5839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39960" y="47847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206880" y="36576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860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18763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5991120" y="49561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83160" y="439416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53160" y="449568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19640" y="49021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010280" y="35053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6760" y="4486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534000" y="456264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5695920" y="4627440"/>
            <a:ext cx="3240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695920" y="372384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534000" y="372384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7224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19600" y="486720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8040" y="486720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695920" y="4190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5618160" y="48654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5617800" y="40273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58040" y="40291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772240" y="4105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534000" y="4181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53120" y="4562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0084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3892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76800" y="3800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5999040" y="448452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5999040" y="364572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38920" y="364824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53120" y="3724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15240" y="3800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560" y="48769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34040" y="431784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43680" y="3962520"/>
            <a:ext cx="72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24560" y="3505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10360" y="380988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28440" y="3809520"/>
            <a:ext cx="609840" cy="610200"/>
            <a:chOff x="1828440" y="3809520"/>
            <a:chExt cx="609840" cy="610200"/>
          </a:xfrm>
        </p:grpSpPr>
        <p:sp>
          <p:nvSpPr>
            <p:cNvPr id="1328" name=""/>
            <p:cNvSpPr/>
            <p:nvPr/>
          </p:nvSpPr>
          <p:spPr>
            <a:xfrm>
              <a:off x="2133720" y="4114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33720" y="4114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2133720" y="3809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28440" y="4114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01E-B558-451A-A77E-1C3CCED04DC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7477200" y="5195880"/>
            <a:ext cx="1469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tain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he fun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overing 0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subcu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t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4,5,7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830240" y="2592360"/>
            <a:ext cx="5440320" cy="2435040"/>
            <a:chOff x="1830240" y="2592360"/>
            <a:chExt cx="5440320" cy="2435040"/>
          </a:xfrm>
        </p:grpSpPr>
        <p:sp>
          <p:nvSpPr>
            <p:cNvPr id="1336" name=""/>
            <p:cNvSpPr/>
            <p:nvPr/>
          </p:nvSpPr>
          <p:spPr>
            <a:xfrm>
              <a:off x="1830240" y="2592360"/>
              <a:ext cx="3260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5035320" y="3570120"/>
              <a:ext cx="2235240" cy="1457280"/>
              <a:chOff x="5035320" y="3570120"/>
              <a:chExt cx="2235240" cy="1457280"/>
            </a:xfrm>
          </p:grpSpPr>
          <p:sp>
            <p:nvSpPr>
              <p:cNvPr id="1338" name=""/>
              <p:cNvSpPr/>
              <p:nvPr/>
            </p:nvSpPr>
            <p:spPr>
              <a:xfrm>
                <a:off x="551484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44508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4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179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2607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70480" y="37987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03560" y="47131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356080" y="4255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35320" y="4335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10000" y="4697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6920" y="3570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60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035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3463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2" name=""/>
          <p:cNvGrpSpPr/>
          <p:nvPr/>
        </p:nvGrpSpPr>
        <p:grpSpPr>
          <a:xfrm>
            <a:off x="1455840" y="1725480"/>
            <a:ext cx="5634000" cy="1176480"/>
            <a:chOff x="1455840" y="1725480"/>
            <a:chExt cx="5634000" cy="1176480"/>
          </a:xfrm>
        </p:grpSpPr>
        <p:sp>
          <p:nvSpPr>
            <p:cNvPr id="1353" name=""/>
            <p:cNvSpPr/>
            <p:nvPr/>
          </p:nvSpPr>
          <p:spPr>
            <a:xfrm>
              <a:off x="1455840" y="1865160"/>
              <a:ext cx="443700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5918400" y="1725480"/>
              <a:ext cx="1171440" cy="1176480"/>
              <a:chOff x="5918400" y="1725480"/>
              <a:chExt cx="1171440" cy="1176480"/>
            </a:xfrm>
          </p:grpSpPr>
          <p:sp>
            <p:nvSpPr>
              <p:cNvPr id="1355" name=""/>
              <p:cNvSpPr/>
              <p:nvPr/>
            </p:nvSpPr>
            <p:spPr>
              <a:xfrm>
                <a:off x="6264360" y="20304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89760" y="19540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537240" y="19573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6080040" y="240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6546960" y="1922400"/>
                <a:ext cx="4572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080040" y="2395440"/>
                <a:ext cx="0" cy="50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918400" y="2490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96200" y="172548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3" name=""/>
          <p:cNvGrpSpPr/>
          <p:nvPr/>
        </p:nvGrpSpPr>
        <p:grpSpPr>
          <a:xfrm>
            <a:off x="2179800" y="3541680"/>
            <a:ext cx="2155320" cy="2727360"/>
            <a:chOff x="2179800" y="3541680"/>
            <a:chExt cx="2155320" cy="2727360"/>
          </a:xfrm>
        </p:grpSpPr>
        <p:sp>
          <p:nvSpPr>
            <p:cNvPr id="1364" name=""/>
            <p:cNvSpPr/>
            <p:nvPr/>
          </p:nvSpPr>
          <p:spPr>
            <a:xfrm>
              <a:off x="2528640" y="3541680"/>
              <a:ext cx="711000" cy="12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2179800" y="4811760"/>
              <a:ext cx="2155320" cy="1457280"/>
              <a:chOff x="2179800" y="4811760"/>
              <a:chExt cx="2155320" cy="1457280"/>
            </a:xfrm>
          </p:grpSpPr>
          <p:sp>
            <p:nvSpPr>
              <p:cNvPr id="1366" name=""/>
              <p:cNvSpPr/>
              <p:nvPr/>
            </p:nvSpPr>
            <p:spPr>
              <a:xfrm>
                <a:off x="2579400" y="5116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510000" y="5116320"/>
                <a:ext cx="82512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3354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7828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33253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335400" y="504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868480" y="595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421000" y="549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179800" y="559260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274920" y="5938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41480" y="4811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4210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8684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4109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6154560" y="2031840"/>
            <a:ext cx="1631880" cy="577800"/>
            <a:chOff x="6154560" y="2031840"/>
            <a:chExt cx="1631880" cy="577800"/>
          </a:xfrm>
        </p:grpSpPr>
        <p:sp>
          <p:nvSpPr>
            <p:cNvPr id="1381" name=""/>
            <p:cNvSpPr/>
            <p:nvPr/>
          </p:nvSpPr>
          <p:spPr>
            <a:xfrm>
              <a:off x="7416720" y="22413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54560" y="20318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6350040" y="3745080"/>
            <a:ext cx="1515240" cy="857160"/>
            <a:chOff x="6350040" y="3745080"/>
            <a:chExt cx="1515240" cy="857160"/>
          </a:xfrm>
        </p:grpSpPr>
        <p:sp>
          <p:nvSpPr>
            <p:cNvPr id="1384" name=""/>
            <p:cNvSpPr/>
            <p:nvPr/>
          </p:nvSpPr>
          <p:spPr>
            <a:xfrm>
              <a:off x="7389000" y="37450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50040" y="3843360"/>
              <a:ext cx="30636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368520" y="5554800"/>
            <a:ext cx="1534680" cy="628560"/>
            <a:chOff x="3368520" y="5554800"/>
            <a:chExt cx="1534680" cy="628560"/>
          </a:xfrm>
        </p:grpSpPr>
        <p:sp>
          <p:nvSpPr>
            <p:cNvPr id="1387" name=""/>
            <p:cNvSpPr/>
            <p:nvPr/>
          </p:nvSpPr>
          <p:spPr>
            <a:xfrm>
              <a:off x="4431240" y="5815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68520" y="55548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594400" y="5716440"/>
            <a:ext cx="677520" cy="533520"/>
            <a:chOff x="5594400" y="5716440"/>
            <a:chExt cx="677520" cy="533520"/>
          </a:xfrm>
        </p:grpSpPr>
        <p:sp>
          <p:nvSpPr>
            <p:cNvPr id="1390" name=""/>
            <p:cNvSpPr/>
            <p:nvPr/>
          </p:nvSpPr>
          <p:spPr>
            <a:xfrm>
              <a:off x="5594400" y="5749920"/>
              <a:ext cx="66168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643360" y="5716440"/>
              <a:ext cx="628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303960" y="3745080"/>
            <a:ext cx="2253240" cy="873000"/>
            <a:chOff x="6303960" y="3745080"/>
            <a:chExt cx="2253240" cy="873000"/>
          </a:xfrm>
        </p:grpSpPr>
        <p:sp>
          <p:nvSpPr>
            <p:cNvPr id="1393" name=""/>
            <p:cNvSpPr/>
            <p:nvPr/>
          </p:nvSpPr>
          <p:spPr>
            <a:xfrm>
              <a:off x="6303960" y="431172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93560" y="37450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57920" y="3745080"/>
            <a:ext cx="3458880" cy="880920"/>
            <a:chOff x="5857920" y="3745080"/>
            <a:chExt cx="3458880" cy="880920"/>
          </a:xfrm>
        </p:grpSpPr>
        <p:sp>
          <p:nvSpPr>
            <p:cNvPr id="1396" name=""/>
            <p:cNvSpPr/>
            <p:nvPr/>
          </p:nvSpPr>
          <p:spPr>
            <a:xfrm>
              <a:off x="5857920" y="43196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450280" y="37450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932120" y="5006880"/>
            <a:ext cx="3636360" cy="1176480"/>
            <a:chOff x="1932120" y="5006880"/>
            <a:chExt cx="3636360" cy="1176480"/>
          </a:xfrm>
        </p:grpSpPr>
        <p:sp>
          <p:nvSpPr>
            <p:cNvPr id="1399" name=""/>
            <p:cNvSpPr/>
            <p:nvPr/>
          </p:nvSpPr>
          <p:spPr>
            <a:xfrm>
              <a:off x="3857400" y="512604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92240" y="510048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32120" y="500688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27560" y="502920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24000" y="58150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49840" y="5118120"/>
            <a:ext cx="2395080" cy="1065240"/>
            <a:chOff x="3849840" y="5118120"/>
            <a:chExt cx="2395080" cy="1065240"/>
          </a:xfrm>
        </p:grpSpPr>
        <p:sp>
          <p:nvSpPr>
            <p:cNvPr id="1405" name=""/>
            <p:cNvSpPr/>
            <p:nvPr/>
          </p:nvSpPr>
          <p:spPr>
            <a:xfrm>
              <a:off x="3849840" y="5118120"/>
              <a:ext cx="30600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38240" y="581508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814-6FDD-429F-9F5A-6A51651F96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algebraic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201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gebraic structure consists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element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operations { + , •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 unary operation { ’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the following axioms ho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51"/>
              </a:spcBef>
              <a:buNone/>
              <a:tabLst>
                <a:tab algn="l" pos="0"/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he set B contains at least two elements: a,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  is in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  is in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mmut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= b +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= b •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ssoci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+ c) = (a + b) +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• c) = (a • b) •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dent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0 =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1 =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istribu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• c) = (a + b) • (a + 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+ c) = (a • b) + (a • 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omplementar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a’ 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a’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059-D5BB-464B-BD7D-CBF3DA8CE3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3524400" y="348768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0,4,5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524400" y="518472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(1,2,3,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524400" y="5043600"/>
            <a:ext cx="488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 simply replace 1's with 0's and vice 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24400" y="1925640"/>
            <a:ext cx="148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A,B,C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58680" y="1495440"/>
            <a:ext cx="2155680" cy="1457280"/>
            <a:chOff x="958680" y="1495440"/>
            <a:chExt cx="2155680" cy="1457280"/>
          </a:xfrm>
        </p:grpSpPr>
        <p:sp>
          <p:nvSpPr>
            <p:cNvPr id="1413" name=""/>
            <p:cNvSpPr/>
            <p:nvPr/>
          </p:nvSpPr>
          <p:spPr>
            <a:xfrm>
              <a:off x="135864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28888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2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5621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21049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4280" y="17240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47720" y="2638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99880" y="21812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58680" y="2260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53800" y="2622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20720" y="1495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998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6477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11905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957240" y="3116160"/>
            <a:ext cx="2155680" cy="1457280"/>
            <a:chOff x="957240" y="3116160"/>
            <a:chExt cx="2155680" cy="1457280"/>
          </a:xfrm>
        </p:grpSpPr>
        <p:sp>
          <p:nvSpPr>
            <p:cNvPr id="1428" name=""/>
            <p:cNvSpPr/>
            <p:nvPr/>
          </p:nvSpPr>
          <p:spPr>
            <a:xfrm>
              <a:off x="135720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44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128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606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21034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112840" y="3344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46280" y="42591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198440" y="3801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957240" y="3881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52360" y="4243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19280" y="3116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984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6462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1890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957240" y="4738680"/>
            <a:ext cx="2155680" cy="1457280"/>
            <a:chOff x="957240" y="4738680"/>
            <a:chExt cx="2155680" cy="1457280"/>
          </a:xfrm>
        </p:grpSpPr>
        <p:sp>
          <p:nvSpPr>
            <p:cNvPr id="1443" name=""/>
            <p:cNvSpPr/>
            <p:nvPr/>
          </p:nvSpPr>
          <p:spPr>
            <a:xfrm>
              <a:off x="135720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28744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128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5606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21034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12840" y="4967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46280" y="5881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198440" y="542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57240" y="5504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52360" y="5865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19280" y="4738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984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462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1890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2163600" y="1776240"/>
            <a:ext cx="3024360" cy="790920"/>
            <a:chOff x="2163600" y="1776240"/>
            <a:chExt cx="3024360" cy="790920"/>
          </a:xfrm>
        </p:grpSpPr>
        <p:sp>
          <p:nvSpPr>
            <p:cNvPr id="1458" name=""/>
            <p:cNvSpPr/>
            <p:nvPr/>
          </p:nvSpPr>
          <p:spPr>
            <a:xfrm>
              <a:off x="4705200" y="1935000"/>
              <a:ext cx="48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163600" y="1776240"/>
              <a:ext cx="822600" cy="790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711360" y="3308400"/>
            <a:ext cx="6751440" cy="853920"/>
            <a:chOff x="711360" y="3308400"/>
            <a:chExt cx="6751440" cy="853920"/>
          </a:xfrm>
        </p:grpSpPr>
        <p:sp>
          <p:nvSpPr>
            <p:cNvPr id="1461" name=""/>
            <p:cNvSpPr/>
            <p:nvPr/>
          </p:nvSpPr>
          <p:spPr>
            <a:xfrm>
              <a:off x="6058080" y="358632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C 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47760" y="38559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37000" y="34275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71480" y="34020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11360" y="330840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06800" y="333072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1260360" y="5030640"/>
            <a:ext cx="6148440" cy="798480"/>
            <a:chOff x="1260360" y="5030640"/>
            <a:chExt cx="6148440" cy="798480"/>
          </a:xfrm>
        </p:grpSpPr>
        <p:sp>
          <p:nvSpPr>
            <p:cNvPr id="1468" name=""/>
            <p:cNvSpPr/>
            <p:nvPr/>
          </p:nvSpPr>
          <p:spPr>
            <a:xfrm>
              <a:off x="6004080" y="527508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BC’ + A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22600" y="5030640"/>
              <a:ext cx="806400" cy="35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260360" y="5473440"/>
              <a:ext cx="80676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5C1-7F40-4984-95DF-0BA129664F4D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1" name=""/>
          <p:cNvGrpSpPr/>
          <p:nvPr/>
        </p:nvGrpSpPr>
        <p:grpSpPr>
          <a:xfrm>
            <a:off x="1176480" y="2324160"/>
            <a:ext cx="6611760" cy="2646360"/>
            <a:chOff x="1176480" y="2324160"/>
            <a:chExt cx="6611760" cy="2646360"/>
          </a:xfrm>
        </p:grpSpPr>
        <p:sp>
          <p:nvSpPr>
            <p:cNvPr id="1472" name=""/>
            <p:cNvSpPr/>
            <p:nvPr/>
          </p:nvSpPr>
          <p:spPr>
            <a:xfrm rot="21085200">
              <a:off x="4232520" y="3200400"/>
              <a:ext cx="3516120" cy="7920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176480" y="2324160"/>
              <a:ext cx="1727280" cy="2646360"/>
              <a:chOff x="1176480" y="2324160"/>
              <a:chExt cx="1727280" cy="2646360"/>
            </a:xfrm>
          </p:grpSpPr>
          <p:sp>
            <p:nvSpPr>
              <p:cNvPr id="1474" name=""/>
              <p:cNvSpPr/>
              <p:nvPr/>
            </p:nvSpPr>
            <p:spPr>
              <a:xfrm>
                <a:off x="1176480" y="4213080"/>
                <a:ext cx="1727280" cy="7574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56840" y="2324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6" name=""/>
          <p:cNvGrpSpPr/>
          <p:nvPr/>
        </p:nvGrpSpPr>
        <p:grpSpPr>
          <a:xfrm>
            <a:off x="899640" y="2324160"/>
            <a:ext cx="5459760" cy="2962440"/>
            <a:chOff x="899640" y="2324160"/>
            <a:chExt cx="5459760" cy="2962440"/>
          </a:xfrm>
        </p:grpSpPr>
        <p:sp>
          <p:nvSpPr>
            <p:cNvPr id="1477" name=""/>
            <p:cNvSpPr/>
            <p:nvPr/>
          </p:nvSpPr>
          <p:spPr>
            <a:xfrm flipV="1" rot="5400000">
              <a:off x="4885200" y="3222000"/>
              <a:ext cx="1049400" cy="1898640"/>
            </a:xfrm>
            <a:prstGeom prst="parallelogram">
              <a:avLst>
                <a:gd name="adj" fmla="val 21481"/>
              </a:avLst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899640" y="2324160"/>
              <a:ext cx="2392920" cy="2962440"/>
              <a:chOff x="899640" y="2324160"/>
              <a:chExt cx="2392920" cy="2962440"/>
            </a:xfrm>
          </p:grpSpPr>
          <p:sp>
            <p:nvSpPr>
              <p:cNvPr id="1479" name=""/>
              <p:cNvSpPr/>
              <p:nvPr/>
            </p:nvSpPr>
            <p:spPr>
              <a:xfrm>
                <a:off x="2525040" y="232416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B’D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0" name=""/>
              <p:cNvGrpSpPr/>
              <p:nvPr/>
            </p:nvGrpSpPr>
            <p:grpSpPr>
              <a:xfrm>
                <a:off x="906480" y="3011040"/>
                <a:ext cx="547560" cy="598320"/>
                <a:chOff x="906480" y="3011040"/>
                <a:chExt cx="547560" cy="598320"/>
              </a:xfrm>
            </p:grpSpPr>
            <p:sp>
              <p:nvSpPr>
                <p:cNvPr id="1481" name=""/>
                <p:cNvSpPr/>
                <p:nvPr/>
              </p:nvSpPr>
              <p:spPr>
                <a:xfrm flipH="1">
                  <a:off x="1030320" y="312552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H="1">
                  <a:off x="917280" y="306180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H="1" rot="5400000">
                  <a:off x="1099080" y="281808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634840" y="3009600"/>
                <a:ext cx="547560" cy="598320"/>
                <a:chOff x="2634840" y="3009600"/>
                <a:chExt cx="547560" cy="5983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2639520" y="312408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3009600" y="306036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6200000">
                  <a:off x="2827800" y="2816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899640" y="4688280"/>
                <a:ext cx="547560" cy="598320"/>
                <a:chOff x="899640" y="4688280"/>
                <a:chExt cx="547560" cy="598320"/>
              </a:xfrm>
            </p:grpSpPr>
            <p:sp>
              <p:nvSpPr>
                <p:cNvPr id="1489" name=""/>
                <p:cNvSpPr/>
                <p:nvPr/>
              </p:nvSpPr>
              <p:spPr>
                <a:xfrm flipH="1" flipV="1">
                  <a:off x="1023480" y="471996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 flipV="1">
                  <a:off x="910440" y="468792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 flipV="1" rot="16200000">
                  <a:off x="1092240" y="4931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2628720" y="4685760"/>
                <a:ext cx="547560" cy="598680"/>
                <a:chOff x="2628720" y="4685760"/>
                <a:chExt cx="547560" cy="598680"/>
              </a:xfrm>
            </p:grpSpPr>
            <p:sp>
              <p:nvSpPr>
                <p:cNvPr id="1493" name=""/>
                <p:cNvSpPr/>
                <p:nvPr/>
              </p:nvSpPr>
              <p:spPr>
                <a:xfrm flipV="1">
                  <a:off x="2633400" y="4717800"/>
                  <a:ext cx="419040" cy="45216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2160"/>
                    <a:gd name="textAreaBottom" fmla="*/ 432000 h 452160"/>
                  </a:gdLst>
                  <a:ahLst/>
                  <a:rect l="textAreaLeft" t="textAreaTop" r="textAreaRight" b="textAreaBottom"/>
                  <a:pathLst>
                    <a:path w="21600" h="23306">
                      <a:moveTo>
                        <a:pt x="3600" y="0"/>
                      </a:moveTo>
                      <a:arcTo wR="3600" hR="3600" stAng="16200000" swAng="-5400000"/>
                      <a:lnTo>
                        <a:pt x="0" y="19706"/>
                      </a:lnTo>
                      <a:arcTo wR="3600" hR="3600" stAng="10800000" swAng="-5400000"/>
                      <a:lnTo>
                        <a:pt x="18000" y="233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V="1">
                  <a:off x="3003480" y="4685760"/>
                  <a:ext cx="161640" cy="54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V="1" rot="5400000">
                  <a:off x="2821320" y="4929480"/>
                  <a:ext cx="16200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6" name=""/>
          <p:cNvSpPr/>
          <p:nvPr/>
        </p:nvSpPr>
        <p:spPr>
          <a:xfrm>
            <a:off x="3591000" y="5389560"/>
            <a:ext cx="5105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mallest number of the largest pos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ubes to cover the ON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wer terms with fewer inputs per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: 4-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2,3,5,6,7,8,10,11,14,15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035160" y="39528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459160" y="29988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992240" y="50338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3870360" y="2979720"/>
            <a:ext cx="4622760" cy="2057400"/>
            <a:chOff x="3870360" y="2979720"/>
            <a:chExt cx="4622760" cy="2057400"/>
          </a:xfrm>
        </p:grpSpPr>
        <p:sp>
          <p:nvSpPr>
            <p:cNvPr id="1503" name=""/>
            <p:cNvSpPr/>
            <p:nvPr/>
          </p:nvSpPr>
          <p:spPr>
            <a:xfrm>
              <a:off x="4962600" y="440208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84760" y="47070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251240" y="409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30600" y="42498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70360" y="47070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80240" y="29797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78520" y="45291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24360" y="313200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292720" y="447804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673600" y="40968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4835160" y="409716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4454280" y="44784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292720" y="363960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673600" y="325872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4835160" y="325908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4454280" y="363996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5292720" y="4325400"/>
              <a:ext cx="3808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454280" y="43815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454280" y="34876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292720" y="34876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30600" y="4707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78320" y="4630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2164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4454280" y="3944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16200000">
              <a:off x="4376520" y="4628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200000">
              <a:off x="4376520" y="379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16400" y="3792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0600" y="386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292720" y="39448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911480" y="43257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759200" y="4249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597280" y="4249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4835520" y="35636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6200000">
              <a:off x="4757760" y="424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6200000">
              <a:off x="4757760" y="3409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97280" y="34113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911480" y="3487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73600" y="3564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7197480" y="409680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359400" y="41529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6359400" y="32590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7197480" y="32590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435720" y="4478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3080" y="44020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121520" y="4402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359400" y="3715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6200000">
              <a:off x="6281280" y="44002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6200000">
              <a:off x="6281640" y="3561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121520" y="3564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435720" y="3639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197480" y="3716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16600" y="4097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6432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50240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6740280" y="3335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6200000">
              <a:off x="6662520" y="4018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6200000">
              <a:off x="6662520" y="31806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502400" y="3182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16600" y="3259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78720" y="3335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859320" y="3227400"/>
            <a:ext cx="2188800" cy="1842840"/>
            <a:chOff x="859320" y="3227400"/>
            <a:chExt cx="2188800" cy="1842840"/>
          </a:xfrm>
        </p:grpSpPr>
        <p:sp>
          <p:nvSpPr>
            <p:cNvPr id="1564" name=""/>
            <p:cNvSpPr/>
            <p:nvPr/>
          </p:nvSpPr>
          <p:spPr>
            <a:xfrm>
              <a:off x="1312920" y="33192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2640" y="331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0527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005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0433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52720" y="3227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70360" y="366372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383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5861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1289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05000" y="4257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14720" y="4255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0527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005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20433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586160" y="5059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138320" y="41338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383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5861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1289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9320" y="44370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1628640" y="2324160"/>
            <a:ext cx="4260600" cy="2226960"/>
            <a:chOff x="1628640" y="2324160"/>
            <a:chExt cx="4260600" cy="2226960"/>
          </a:xfrm>
        </p:grpSpPr>
        <p:grpSp>
          <p:nvGrpSpPr>
            <p:cNvPr id="1586" name=""/>
            <p:cNvGrpSpPr/>
            <p:nvPr/>
          </p:nvGrpSpPr>
          <p:grpSpPr>
            <a:xfrm>
              <a:off x="1628640" y="2324160"/>
              <a:ext cx="888480" cy="2226960"/>
              <a:chOff x="1628640" y="2324160"/>
              <a:chExt cx="888480" cy="2226960"/>
            </a:xfrm>
          </p:grpSpPr>
          <p:sp>
            <p:nvSpPr>
              <p:cNvPr id="1587" name=""/>
              <p:cNvSpPr/>
              <p:nvPr/>
            </p:nvSpPr>
            <p:spPr>
              <a:xfrm>
                <a:off x="1643040" y="2324160"/>
                <a:ext cx="87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A’B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28640" y="3727440"/>
                <a:ext cx="371160" cy="823680"/>
              </a:xfrm>
              <a:custGeom>
                <a:avLst/>
                <a:gdLst>
                  <a:gd name="textAreaLeft" fmla="*/ 18000 w 371160"/>
                  <a:gd name="textAreaRight" fmla="*/ 353160 w 371160"/>
                  <a:gd name="textAreaTop" fmla="*/ 18000 h 823680"/>
                  <a:gd name="textAreaBottom" fmla="*/ 805680 h 823680"/>
                </a:gdLst>
                <a:ahLst/>
                <a:rect l="textAreaLeft" t="textAreaTop" r="textAreaRight" b="textAreaBottom"/>
                <a:pathLst>
                  <a:path w="21600" h="47909">
                    <a:moveTo>
                      <a:pt x="3600" y="0"/>
                    </a:moveTo>
                    <a:arcTo wR="3600" hR="3600" stAng="16200000" swAng="-5400000"/>
                    <a:lnTo>
                      <a:pt x="0" y="44309"/>
                    </a:lnTo>
                    <a:arcTo wR="3600" hR="3600" stAng="10800000" swAng="-5400000"/>
                    <a:lnTo>
                      <a:pt x="18000" y="479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5454360" y="3228840"/>
              <a:ext cx="434880" cy="1257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7AE-2E77-405A-8344-DCE1AF63B87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946080" y="2392200"/>
            <a:ext cx="2849760" cy="2273400"/>
            <a:chOff x="946080" y="2392200"/>
            <a:chExt cx="2849760" cy="2273400"/>
          </a:xfrm>
        </p:grpSpPr>
        <p:grpSp>
          <p:nvGrpSpPr>
            <p:cNvPr id="1591" name=""/>
            <p:cNvGrpSpPr/>
            <p:nvPr/>
          </p:nvGrpSpPr>
          <p:grpSpPr>
            <a:xfrm>
              <a:off x="2876400" y="4238280"/>
              <a:ext cx="919440" cy="419400"/>
              <a:chOff x="2876400" y="4238280"/>
              <a:chExt cx="919440" cy="419400"/>
            </a:xfrm>
          </p:grpSpPr>
          <p:sp>
            <p:nvSpPr>
              <p:cNvPr id="1592" name=""/>
              <p:cNvSpPr/>
              <p:nvPr/>
            </p:nvSpPr>
            <p:spPr>
              <a:xfrm>
                <a:off x="2876400" y="427176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328920" y="423828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2400480" y="239220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946080" y="4246200"/>
              <a:ext cx="919440" cy="419400"/>
              <a:chOff x="946080" y="4246200"/>
              <a:chExt cx="919440" cy="419400"/>
            </a:xfrm>
          </p:grpSpPr>
          <p:sp>
            <p:nvSpPr>
              <p:cNvPr id="1596" name=""/>
              <p:cNvSpPr/>
              <p:nvPr/>
            </p:nvSpPr>
            <p:spPr>
              <a:xfrm flipH="1">
                <a:off x="1106640" y="427968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945720" y="424620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172160" y="3540240"/>
            <a:ext cx="2760120" cy="2364840"/>
            <a:chOff x="1172160" y="3540240"/>
            <a:chExt cx="2760120" cy="2364840"/>
          </a:xfrm>
        </p:grpSpPr>
        <p:sp>
          <p:nvSpPr>
            <p:cNvPr id="1601" name=""/>
            <p:cNvSpPr/>
            <p:nvPr/>
          </p:nvSpPr>
          <p:spPr>
            <a:xfrm>
              <a:off x="1625760" y="3860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535480" y="3859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3655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134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23562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65560" y="3768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83200" y="42051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348360" y="449424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72000" y="35402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511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990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4418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17840" y="4798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27560" y="47973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655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8134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3562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99000" y="560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51160" y="46749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305080" y="55753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511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990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4418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172160" y="49784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1503360" y="2392200"/>
            <a:ext cx="973800" cy="2685960"/>
            <a:chOff x="1503360" y="2392200"/>
            <a:chExt cx="973800" cy="2685960"/>
          </a:xfrm>
        </p:grpSpPr>
        <p:sp>
          <p:nvSpPr>
            <p:cNvPr id="1626" name=""/>
            <p:cNvSpPr/>
            <p:nvPr/>
          </p:nvSpPr>
          <p:spPr>
            <a:xfrm>
              <a:off x="1942920" y="239220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503360" y="4270320"/>
              <a:ext cx="792360" cy="80784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807840"/>
                <a:gd name="textAreaBottom" fmla="*/ 769320 h 80784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132-01C8-40DF-90ED-154C369F4A0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'D + B'C'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on't ca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881600" y="4856040"/>
            <a:ext cx="3416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't ca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eated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or 0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which is mo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961920" y="3421080"/>
            <a:ext cx="2757600" cy="2364840"/>
            <a:chOff x="961920" y="3421080"/>
            <a:chExt cx="2757600" cy="2364840"/>
          </a:xfrm>
        </p:grpSpPr>
        <p:sp>
          <p:nvSpPr>
            <p:cNvPr id="1632" name=""/>
            <p:cNvSpPr/>
            <p:nvPr/>
          </p:nvSpPr>
          <p:spPr>
            <a:xfrm>
              <a:off x="1413000" y="374148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322720" y="37400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1528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006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1434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1528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70440" y="4086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35600" y="437508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59240" y="342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2384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6862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12290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405080" y="4679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14800" y="4678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1528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006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21434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86240" y="5481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238400" y="45558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92320" y="545616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2384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862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2290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61920" y="4863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1257480" y="2363760"/>
            <a:ext cx="913320" cy="2611440"/>
            <a:chOff x="1257480" y="2363760"/>
            <a:chExt cx="913320" cy="2611440"/>
          </a:xfrm>
        </p:grpSpPr>
        <p:sp>
          <p:nvSpPr>
            <p:cNvPr id="1657" name=""/>
            <p:cNvSpPr/>
            <p:nvPr/>
          </p:nvSpPr>
          <p:spPr>
            <a:xfrm>
              <a:off x="1257480" y="4151520"/>
              <a:ext cx="807840" cy="823680"/>
            </a:xfrm>
            <a:custGeom>
              <a:avLst/>
              <a:gdLst>
                <a:gd name="textAreaLeft" fmla="*/ 39240 w 807840"/>
                <a:gd name="textAreaRight" fmla="*/ 768600 w 807840"/>
                <a:gd name="textAreaTop" fmla="*/ 39240 h 823680"/>
                <a:gd name="textAreaBottom" fmla="*/ 784440 h 823680"/>
              </a:gdLst>
              <a:ahLst/>
              <a:rect l="textAreaLeft" t="textAreaTop" r="textAreaRight" b="textAreaBottom"/>
              <a:pathLst>
                <a:path w="21600" h="22023">
                  <a:moveTo>
                    <a:pt x="3600" y="0"/>
                  </a:moveTo>
                  <a:arcTo wR="3600" hR="3600" stAng="16200000" swAng="-5400000"/>
                  <a:lnTo>
                    <a:pt x="0" y="18423"/>
                  </a:lnTo>
                  <a:arcTo wR="3600" hR="3600" stAng="10800000" swAng="-5400000"/>
                  <a:lnTo>
                    <a:pt x="18000" y="220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87600" y="2363760"/>
              <a:ext cx="58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400040" y="2363760"/>
            <a:ext cx="7343640" cy="2395080"/>
            <a:chOff x="1400040" y="2363760"/>
            <a:chExt cx="7343640" cy="2395080"/>
          </a:xfrm>
        </p:grpSpPr>
        <p:sp>
          <p:nvSpPr>
            <p:cNvPr id="1660" name=""/>
            <p:cNvSpPr/>
            <p:nvPr/>
          </p:nvSpPr>
          <p:spPr>
            <a:xfrm>
              <a:off x="5060880" y="3565440"/>
              <a:ext cx="368280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using don't care as a "1"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2-cube can be form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her than a 1-cube to co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3200400" y="3711240"/>
              <a:ext cx="1765080" cy="50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00040" y="4227120"/>
              <a:ext cx="1630440" cy="29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045160" y="236376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 C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3D9-7B03-4D6C-A129-B5D22EC977C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function F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 2, 7, 8, 14, 15) + d(3, 6, 9, 12,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87360" y="2809800"/>
            <a:ext cx="1742760" cy="1752480"/>
            <a:chOff x="1287360" y="2809800"/>
            <a:chExt cx="1742760" cy="1752480"/>
          </a:xfrm>
        </p:grpSpPr>
        <p:sp>
          <p:nvSpPr>
            <p:cNvPr id="1667" name=""/>
            <p:cNvSpPr/>
            <p:nvPr/>
          </p:nvSpPr>
          <p:spPr>
            <a:xfrm>
              <a:off x="1295280" y="28112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4640" y="2809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287360" y="3749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196720" y="3747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842040" y="2490840"/>
            <a:ext cx="2760120" cy="2364840"/>
            <a:chOff x="842040" y="2490840"/>
            <a:chExt cx="2760120" cy="2364840"/>
          </a:xfrm>
        </p:grpSpPr>
        <p:sp>
          <p:nvSpPr>
            <p:cNvPr id="1672" name=""/>
            <p:cNvSpPr/>
            <p:nvPr/>
          </p:nvSpPr>
          <p:spPr>
            <a:xfrm>
              <a:off x="20354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4829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20257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035440" y="2719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52720" y="3155760"/>
              <a:ext cx="0" cy="9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17880" y="344484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41520" y="2490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210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685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11113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354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4829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20257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568520" y="455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21040" y="36255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74960" y="45259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1210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5685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11113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42040" y="39290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095560" y="281304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7200" y="3718080"/>
            <a:ext cx="797040" cy="766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071800" y="2789280"/>
            <a:ext cx="295200" cy="1652400"/>
          </a:xfrm>
          <a:custGeom>
            <a:avLst/>
            <a:gdLst>
              <a:gd name="textAreaLeft" fmla="*/ 14400 w 295200"/>
              <a:gd name="textAreaRight" fmla="*/ 280800 w 295200"/>
              <a:gd name="textAreaTop" fmla="*/ 14400 h 1652400"/>
              <a:gd name="textAreaBottom" fmla="*/ 1638000 h 1652400"/>
            </a:gdLst>
            <a:ahLst/>
            <a:rect l="textAreaLeft" t="textAreaTop" r="textAreaRight" b="textAreaBottom"/>
            <a:pathLst>
              <a:path w="21600" h="120786">
                <a:moveTo>
                  <a:pt x="3600" y="0"/>
                </a:moveTo>
                <a:arcTo wR="3600" hR="3600" stAng="16200000" swAng="-5400000"/>
                <a:lnTo>
                  <a:pt x="0" y="117186"/>
                </a:lnTo>
                <a:arcTo wR="3600" hR="3600" stAng="10800000" swAng="-5400000"/>
                <a:lnTo>
                  <a:pt x="18000" y="12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190520" y="373860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1174680" y="2631240"/>
            <a:ext cx="328680" cy="2016360"/>
            <a:chOff x="1174680" y="2631240"/>
            <a:chExt cx="328680" cy="2016360"/>
          </a:xfrm>
        </p:grpSpPr>
        <p:sp>
          <p:nvSpPr>
            <p:cNvPr id="1697" name=""/>
            <p:cNvSpPr/>
            <p:nvPr/>
          </p:nvSpPr>
          <p:spPr>
            <a:xfrm rot="16200000">
              <a:off x="1085760" y="423468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 rot="5400000">
              <a:off x="1090800" y="2719800"/>
              <a:ext cx="501480" cy="32364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1760 h 323640"/>
                <a:gd name="textAreaBottom" fmla="*/ 28188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1031760" y="2779560"/>
            <a:ext cx="2035080" cy="339840"/>
            <a:chOff x="1031760" y="2779560"/>
            <a:chExt cx="2035080" cy="339840"/>
          </a:xfrm>
        </p:grpSpPr>
        <p:sp>
          <p:nvSpPr>
            <p:cNvPr id="1700" name=""/>
            <p:cNvSpPr/>
            <p:nvPr/>
          </p:nvSpPr>
          <p:spPr>
            <a:xfrm rot="10800000">
              <a:off x="2565000" y="2795400"/>
              <a:ext cx="501840" cy="324000"/>
            </a:xfrm>
            <a:custGeom>
              <a:avLst/>
              <a:gdLst>
                <a:gd name="textAreaLeft" fmla="*/ 0 w 501840"/>
                <a:gd name="textAreaRight" fmla="*/ 352080 w 50184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31760" y="277956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3666600" y="272412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215960" y="27255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215960" y="3003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A’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211640" y="32814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207680" y="35575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ahoma"/>
              </a:rPr>
              <a:t>AB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229640" y="3835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A’B’D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201560" y="41115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ahoma"/>
              </a:rPr>
              <a:t>B’C’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32440" y="277020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137120" y="358632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41800" y="3030480"/>
            <a:ext cx="6922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5936040" y="2179800"/>
            <a:ext cx="2760120" cy="2364840"/>
            <a:chOff x="5936040" y="2179800"/>
            <a:chExt cx="2760120" cy="2364840"/>
          </a:xfrm>
        </p:grpSpPr>
        <p:grpSp>
          <p:nvGrpSpPr>
            <p:cNvPr id="1713" name=""/>
            <p:cNvGrpSpPr/>
            <p:nvPr/>
          </p:nvGrpSpPr>
          <p:grpSpPr>
            <a:xfrm>
              <a:off x="6381720" y="2498760"/>
              <a:ext cx="1742760" cy="1751760"/>
              <a:chOff x="6381720" y="2498760"/>
              <a:chExt cx="1742760" cy="1751760"/>
            </a:xfrm>
          </p:grpSpPr>
          <p:sp>
            <p:nvSpPr>
              <p:cNvPr id="1714" name=""/>
              <p:cNvSpPr/>
              <p:nvPr/>
            </p:nvSpPr>
            <p:spPr>
              <a:xfrm>
                <a:off x="6389640" y="249984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99000" y="2498760"/>
                <a:ext cx="825480" cy="8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381720" y="343800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291080" y="34365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5936040" y="2179800"/>
              <a:ext cx="2760120" cy="2364840"/>
              <a:chOff x="5936040" y="2179800"/>
              <a:chExt cx="2760120" cy="2364840"/>
            </a:xfrm>
          </p:grpSpPr>
          <p:sp>
            <p:nvSpPr>
              <p:cNvPr id="1719" name=""/>
              <p:cNvSpPr/>
              <p:nvPr/>
            </p:nvSpPr>
            <p:spPr>
              <a:xfrm>
                <a:off x="71294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5769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71197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29440" y="2408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46720" y="2844720"/>
                <a:ext cx="0" cy="90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11880" y="313380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535520" y="21798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2150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6625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62053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294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5769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71197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662520" y="4240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215040" y="3314520"/>
                <a:ext cx="0" cy="92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068960" y="421488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2150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625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2053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36040" y="36180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6721560" y="3406680"/>
              <a:ext cx="796680" cy="7664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0" name=""/>
            <p:cNvGrpSpPr/>
            <p:nvPr/>
          </p:nvGrpSpPr>
          <p:grpSpPr>
            <a:xfrm>
              <a:off x="6269040" y="2320920"/>
              <a:ext cx="328680" cy="2015280"/>
              <a:chOff x="6269040" y="2320920"/>
              <a:chExt cx="328680" cy="2015280"/>
            </a:xfrm>
          </p:grpSpPr>
          <p:sp>
            <p:nvSpPr>
              <p:cNvPr id="1741" name=""/>
              <p:cNvSpPr/>
              <p:nvPr/>
            </p:nvSpPr>
            <p:spPr>
              <a:xfrm rot="16200000">
                <a:off x="6180480" y="3923640"/>
                <a:ext cx="501120" cy="32400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2120 h 324000"/>
                  <a:gd name="textAreaBottom" fmla="*/ 281880 h 3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 rot="5400000">
                <a:off x="6185160" y="2409480"/>
                <a:ext cx="501120" cy="32364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126120" y="2468520"/>
              <a:ext cx="2035080" cy="338760"/>
              <a:chOff x="6126120" y="2468520"/>
              <a:chExt cx="2035080" cy="338760"/>
            </a:xfrm>
          </p:grpSpPr>
          <p:sp>
            <p:nvSpPr>
              <p:cNvPr id="1744" name=""/>
              <p:cNvSpPr/>
              <p:nvPr/>
            </p:nvSpPr>
            <p:spPr>
              <a:xfrm rot="10800000">
                <a:off x="7659360" y="2484000"/>
                <a:ext cx="501840" cy="32328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126120" y="2468520"/>
                <a:ext cx="501480" cy="32328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6" name=""/>
          <p:cNvGrpSpPr/>
          <p:nvPr/>
        </p:nvGrpSpPr>
        <p:grpSpPr>
          <a:xfrm>
            <a:off x="5964840" y="4379760"/>
            <a:ext cx="2760120" cy="2365560"/>
            <a:chOff x="5964840" y="4379760"/>
            <a:chExt cx="2760120" cy="2365560"/>
          </a:xfrm>
        </p:grpSpPr>
        <p:grpSp>
          <p:nvGrpSpPr>
            <p:cNvPr id="1747" name=""/>
            <p:cNvGrpSpPr/>
            <p:nvPr/>
          </p:nvGrpSpPr>
          <p:grpSpPr>
            <a:xfrm>
              <a:off x="6410160" y="4698720"/>
              <a:ext cx="1742760" cy="1752480"/>
              <a:chOff x="6410160" y="4698720"/>
              <a:chExt cx="1742760" cy="1752480"/>
            </a:xfrm>
          </p:grpSpPr>
          <p:sp>
            <p:nvSpPr>
              <p:cNvPr id="1748" name=""/>
              <p:cNvSpPr/>
              <p:nvPr/>
            </p:nvSpPr>
            <p:spPr>
              <a:xfrm>
                <a:off x="6418080" y="4700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327440" y="4698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410160" y="5638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19520" y="563688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964840" y="4379760"/>
              <a:ext cx="2760120" cy="2365560"/>
              <a:chOff x="5964840" y="4379760"/>
              <a:chExt cx="2760120" cy="236556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582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6057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71485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158240" y="46083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075520" y="504504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140680" y="5334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564320" y="4379760"/>
                <a:ext cx="5842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438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6913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62341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1582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6057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71485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691320" y="64404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243840" y="551484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97760" y="6415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2438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6913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62341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964840" y="581832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7194600" y="467820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313320" y="56275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6154560" y="4668840"/>
              <a:ext cx="2035080" cy="338760"/>
              <a:chOff x="6154560" y="4668840"/>
              <a:chExt cx="2035080" cy="338760"/>
            </a:xfrm>
          </p:grpSpPr>
          <p:sp>
            <p:nvSpPr>
              <p:cNvPr id="1776" name=""/>
              <p:cNvSpPr/>
              <p:nvPr/>
            </p:nvSpPr>
            <p:spPr>
              <a:xfrm rot="10800000">
                <a:off x="7687800" y="4683960"/>
                <a:ext cx="501840" cy="32364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154560" y="4668840"/>
                <a:ext cx="501480" cy="32364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8" name=""/>
          <p:cNvGrpSpPr/>
          <p:nvPr/>
        </p:nvGrpSpPr>
        <p:grpSpPr>
          <a:xfrm>
            <a:off x="2286720" y="3462480"/>
            <a:ext cx="3686760" cy="1962360"/>
            <a:chOff x="2286720" y="3462480"/>
            <a:chExt cx="3686760" cy="1962360"/>
          </a:xfrm>
        </p:grpSpPr>
        <p:sp>
          <p:nvSpPr>
            <p:cNvPr id="1779" name=""/>
            <p:cNvSpPr/>
            <p:nvPr/>
          </p:nvSpPr>
          <p:spPr>
            <a:xfrm>
              <a:off x="2286720" y="5056560"/>
              <a:ext cx="26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C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A’B’D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+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5073120" y="3462480"/>
              <a:ext cx="900360" cy="15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274120" y="5487840"/>
            <a:ext cx="3704400" cy="428760"/>
            <a:chOff x="2274120" y="5487840"/>
            <a:chExt cx="3704400" cy="428760"/>
          </a:xfrm>
        </p:grpSpPr>
        <p:sp>
          <p:nvSpPr>
            <p:cNvPr id="1782" name=""/>
            <p:cNvSpPr/>
            <p:nvPr/>
          </p:nvSpPr>
          <p:spPr>
            <a:xfrm>
              <a:off x="2274120" y="5548320"/>
              <a:ext cx="23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A’C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799160" y="5487840"/>
              <a:ext cx="117936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318960" y="2082960"/>
            <a:ext cx="8804520" cy="45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AF1-E48C-4D32-9F2F-8CE813C174E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s and theorems of Boolean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ofs by re-writing and perfect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level and incompletely specified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art at understanding two-level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of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level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382-677A-4D74-9A85-0FBA09A889F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{0, 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is logical OR, • is logical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ogical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algebraic axioms 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35F-63C7-4BC1-9023-CE03B24553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7440" y="6342120"/>
            <a:ext cx="334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, Y are Boolean algebra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304020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15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3120" y="281160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6404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11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73120" y="4411800"/>
            <a:ext cx="496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 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0880" y="4932360"/>
            <a:ext cx="2717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X = 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17880" y="304020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61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87720" y="28116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 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8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59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1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97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732640"/>
            <a:ext cx="2629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oolean expression that i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ue when the variables X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Y have the sam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false, other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394320" y="5179680"/>
            <a:ext cx="47016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unctions and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logic function that can be expressed as a truth table can be written as an expression in Boolean algebra using the operators: ’, +, and 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84D-28BC-4B1C-B4AA-AE19664962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X + 0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.   X • 1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X + 1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.   X • 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mpotenc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X + X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.   X • X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u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(X’)’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X + X’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D.   X • X’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X + Y = Y +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D.   X • Y = Y •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(X + Y) + Z = X + (Y +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D.   (X • Y) • Z = X • (Y •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C04-A12E-45B0-9346-E5B7CA5B06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X • (Y + Z) = (X • Y) + (X •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D.   X + (Y • Z) = (X + Y) • (X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X • Y + X • Y’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D.   (X + Y) • (X + Y’)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p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X + X • Y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D.  X • (X + Y) = 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(X + Y’) • Y = X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D. (X • Y’) + Y =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(X + Y) • (X’ +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D. X • Y + X’ • Z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X • Z + X’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Z) • (X’ +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su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(X • Y) + (Y • Z) + (X’ •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D. (X + Y) • (Y + Z) • (X’ + Z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X • Y + X’ •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Y) • (X’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4B6-B891-4EE1-92DB-B4EB818376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10Z</dcterms:modified>
  <cp:revision>44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