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269413" cy="6948488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2F71-3FFD-4963-8144-22854229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6C21-D190-4B05-9859-B8F7E30F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0395-07F5-4EE6-B684-D165BD440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EAC7-A6DB-4DA4-816D-BB925434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32A4-AC8B-44DD-BD62-DEC8C12B3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3442-3B61-436B-A9EC-F9AC4060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4703-1AC2-425C-939C-EB24886B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923E-F665-494F-834A-34D82328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0472-6395-4D12-8C97-E4FD8361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DE61-FDA9-4BC5-8B2B-9D620BCD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2C9E-9207-4248-80D5-EFBB448E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37FF-E2A1-457C-BF4C-BDBD5548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B340-A5F7-4530-AA48-7DF12876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5A5C-6586-4F77-8FB2-0015BD73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517A-C4FB-43CF-A601-2DB85F6D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5173-5F6A-4210-B6AC-E2BC0EB5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17D3-EEEB-4B38-A1D5-3C335CF4E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3653-FE3E-483E-BE09-40BFFCF2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3905-EBFC-4E46-9FEA-88272F36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1400-5482-4D40-94BB-C500FE1C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C1C6-1FE3-4DDC-A51A-B543C6BF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0F55-E82D-4529-9134-B9141F81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0EFB-BCCB-4372-A5B1-7DC736DE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79FF-7D5C-4302-814A-CA9DFD67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4280" y="6483240"/>
            <a:ext cx="39607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449E099-6734-4128-987F-DBF0EC2DCE3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501E781-F90B-40A3-878B-EC33A603899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Technolog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rd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ular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x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-level programmable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1C4D-0807-4A24-B295-3D31B76B3EF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2629080" y="1866960"/>
            <a:ext cx="2158920" cy="8128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2247840" y="3594240"/>
            <a:ext cx="2540160" cy="27302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5245200" y="1866960"/>
            <a:ext cx="2222280" cy="8128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5245200" y="3594240"/>
            <a:ext cx="2603520" cy="273024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ate level implementation of mux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:1 mux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:1 m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22CA-AC1C-4BFB-90EB-A5C920517D0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63480" y="5226120"/>
            <a:ext cx="3848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signals B and C simultaneously choos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e of I0, I1, I2, I3 and one of I4, I5, I6, I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signal A chooses which of th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per or lower mux's output to gate to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73920" y="2711520"/>
            <a:ext cx="1917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ternativ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181480" y="3098880"/>
            <a:ext cx="4114800" cy="3556080"/>
            <a:chOff x="5181480" y="3098880"/>
            <a:chExt cx="4114800" cy="3556080"/>
          </a:xfrm>
        </p:grpSpPr>
        <p:sp>
          <p:nvSpPr>
            <p:cNvPr id="348" name=""/>
            <p:cNvSpPr/>
            <p:nvPr/>
          </p:nvSpPr>
          <p:spPr>
            <a:xfrm>
              <a:off x="6134040" y="6045120"/>
              <a:ext cx="546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737560" y="4305240"/>
              <a:ext cx="558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46840" y="6032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54720" y="3568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54720" y="3797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97440" y="3460680"/>
              <a:ext cx="9144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3905280"/>
              <a:ext cx="0" cy="20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711840" y="3683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54720" y="42544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54720" y="4483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97440" y="4146480"/>
              <a:ext cx="91440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6248520" y="45910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711840" y="43689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54720" y="4940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454720" y="51688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97440" y="4832280"/>
              <a:ext cx="91440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52768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711840" y="50547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454720" y="5626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4720" y="5854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97440" y="5518080"/>
              <a:ext cx="91440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6248520" y="59626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11840" y="57405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169040" y="43689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54920" y="4826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054920" y="45975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169040" y="50547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12120" y="4260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848720" y="516204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8077320" y="516204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721640" y="420372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426520" y="4711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62920" y="368928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162920" y="5048280"/>
              <a:ext cx="0" cy="69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7048440" y="481968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48440" y="437508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0" bIns="-58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81760" y="31878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81760" y="38736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81760" y="45594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81760" y="52452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181480" y="447048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81480" y="378468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81480" y="309888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181480" y="515628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683320" y="3346560"/>
              <a:ext cx="2857320" cy="274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962840" y="3162240"/>
              <a:ext cx="5335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multiplex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 multiplexers can be made by cascading smaller 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816120" y="2000160"/>
            <a:ext cx="3999960" cy="2984400"/>
            <a:chOff x="816120" y="2000160"/>
            <a:chExt cx="3999960" cy="2984400"/>
          </a:xfrm>
        </p:grpSpPr>
        <p:sp>
          <p:nvSpPr>
            <p:cNvPr id="397" name=""/>
            <p:cNvSpPr/>
            <p:nvPr/>
          </p:nvSpPr>
          <p:spPr>
            <a:xfrm>
              <a:off x="4257720" y="2863800"/>
              <a:ext cx="558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16120" y="2000160"/>
              <a:ext cx="304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89000" y="23558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089000" y="28130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089000" y="25844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089000" y="30416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431720" y="224784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1768320" y="314892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1996920" y="3148920"/>
              <a:ext cx="0" cy="11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46120" y="2698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89200" y="315576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689200" y="338436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31920" y="3047760"/>
              <a:ext cx="9140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3483000" y="349236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368520" y="4375080"/>
              <a:ext cx="5457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946320" y="32702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16120" y="3143160"/>
              <a:ext cx="304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089000" y="34988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089000" y="39560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089000" y="37274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089000" y="41846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431720" y="3390840"/>
              <a:ext cx="914040" cy="914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1768320" y="42922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1996920" y="42922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66800" y="4362120"/>
              <a:ext cx="7617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 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46120" y="3841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82720" y="270504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2682720" y="337788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17600" y="2133360"/>
              <a:ext cx="2742840" cy="228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561320" y="3549600"/>
              <a:ext cx="60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561320" y="2406600"/>
              <a:ext cx="60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02920" y="2968560"/>
              <a:ext cx="60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466440" y="2101680"/>
              <a:ext cx="60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EA43-4516-4C1C-B5FB-7691692561C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 as general-purpose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2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1 multiplexer can implement any function of n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variables used as control input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inputs tied to 0 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ssence, a lookup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A,B,C) = m0 + m2 + m6 + m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= A'B'C' + A'BC' + ABC' + 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811880" y="4156200"/>
            <a:ext cx="3271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 A'B'C'(1) + A'B'C(0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+ A'BC'(1) + A'BC(0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+ AB'C'(0) + AB'C(0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+ ABC'(1) + ABC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2240" y="5810400"/>
            <a:ext cx="66855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Z = A'B'C'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'B'C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'BC'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'BC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    AB'C'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B'C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BC'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BC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6656040" y="3168720"/>
            <a:ext cx="1986480" cy="2666880"/>
            <a:chOff x="6656040" y="3168720"/>
            <a:chExt cx="1986480" cy="2666880"/>
          </a:xfrm>
        </p:grpSpPr>
        <p:sp>
          <p:nvSpPr>
            <p:cNvPr id="435" name=""/>
            <p:cNvSpPr/>
            <p:nvPr/>
          </p:nvSpPr>
          <p:spPr>
            <a:xfrm>
              <a:off x="7824960" y="555624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37280" y="5543640"/>
              <a:ext cx="559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431120" y="554364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48360" y="3193920"/>
              <a:ext cx="1652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024680" y="49338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1320" y="4083120"/>
              <a:ext cx="1130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92960" y="49338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761240" y="49338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85000" y="3168720"/>
              <a:ext cx="11430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28000" y="41590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6656040" y="3321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6656040" y="3549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656040" y="37782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656040" y="40068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13600" y="5226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94480" y="5226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656040" y="42354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656040" y="4464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6656040" y="4692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6656040" y="49212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875720" y="5226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447040" y="4027320"/>
              <a:ext cx="195480" cy="59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6389640" y="3193920"/>
            <a:ext cx="2244600" cy="2108160"/>
            <a:chOff x="6389640" y="3193920"/>
            <a:chExt cx="2244600" cy="2108160"/>
          </a:xfrm>
        </p:grpSpPr>
        <p:sp>
          <p:nvSpPr>
            <p:cNvPr id="458" name=""/>
            <p:cNvSpPr/>
            <p:nvPr/>
          </p:nvSpPr>
          <p:spPr>
            <a:xfrm>
              <a:off x="6389640" y="3193920"/>
              <a:ext cx="1904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39120" y="4041720"/>
              <a:ext cx="195120" cy="59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BC9C-F6B2-466E-B9D3-97B5361DD36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3778200" y="4389480"/>
            <a:ext cx="2076480" cy="2324160"/>
            <a:chOff x="3778200" y="4389480"/>
            <a:chExt cx="2076480" cy="2324160"/>
          </a:xfrm>
        </p:grpSpPr>
        <p:sp>
          <p:nvSpPr>
            <p:cNvPr id="461" name=""/>
            <p:cNvSpPr/>
            <p:nvPr/>
          </p:nvSpPr>
          <p:spPr>
            <a:xfrm>
              <a:off x="3848040" y="4389480"/>
              <a:ext cx="1803240" cy="23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73440" y="4694400"/>
              <a:ext cx="381240" cy="18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br>
                <a:rPr sz="1400"/>
              </a:b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br>
                <a:rPr sz="1400"/>
              </a:b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790800" y="4656240"/>
              <a:ext cx="195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05160" y="4408560"/>
              <a:ext cx="0" cy="19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647960" y="4662360"/>
              <a:ext cx="0" cy="175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778200" y="507528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3790440" y="5506920"/>
              <a:ext cx="199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90800" y="5951520"/>
              <a:ext cx="199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6553080" y="4675320"/>
            <a:ext cx="2324160" cy="1847880"/>
            <a:chOff x="6553080" y="4675320"/>
            <a:chExt cx="2324160" cy="1847880"/>
          </a:xfrm>
        </p:grpSpPr>
        <p:sp>
          <p:nvSpPr>
            <p:cNvPr id="470" name=""/>
            <p:cNvSpPr/>
            <p:nvPr/>
          </p:nvSpPr>
          <p:spPr>
            <a:xfrm>
              <a:off x="7619760" y="5926320"/>
              <a:ext cx="559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013600" y="592632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493040" y="546912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861320" y="546912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43720" y="491004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61040" y="4732200"/>
              <a:ext cx="279360" cy="12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67520" y="4675320"/>
              <a:ext cx="113004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061040" y="5037120"/>
              <a:ext cx="11304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23120" y="521496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6813360" y="48848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6813360" y="51004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6825600" y="532908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6838560" y="55324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553080" y="4732200"/>
              <a:ext cx="343080" cy="12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645320" y="57420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026200" y="57420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3200400" y="505620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1104840" y="4218120"/>
            <a:ext cx="2019240" cy="2666880"/>
            <a:chOff x="1104840" y="4218120"/>
            <a:chExt cx="2019240" cy="2666880"/>
          </a:xfrm>
        </p:grpSpPr>
        <p:sp>
          <p:nvSpPr>
            <p:cNvPr id="488" name=""/>
            <p:cNvSpPr/>
            <p:nvPr/>
          </p:nvSpPr>
          <p:spPr>
            <a:xfrm>
              <a:off x="2514600" y="660564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752480" y="6593040"/>
              <a:ext cx="559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46320" y="659304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63560" y="4243320"/>
              <a:ext cx="1652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04840" y="4243320"/>
              <a:ext cx="1904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739880" y="59832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76520" y="5132520"/>
              <a:ext cx="1130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108160" y="59832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476440" y="59832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00200" y="4218120"/>
              <a:ext cx="11430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52084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1371240" y="43704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1371240" y="4599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1371240" y="4827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1371240" y="50562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828800" y="6275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209680" y="6275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1371240" y="52848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1371240" y="55134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1371240" y="5742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371240" y="5970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90920" y="6275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 as general-purpose logic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2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1 multiplexer can implement any function of n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n-1 variables used as control input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inputs tied to the last variable or its co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A,B,C) = m0 + m2 + m6 + m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= A'B'C' + A'BC' + ABC' + AB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= A'B'(C') + A'B(C') + AB'(0) + AB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D0A5-B977-441C-BCCA-E6CA253F901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1255680" y="2076480"/>
            <a:ext cx="160020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52280" indent="-152280" algn="ctr">
              <a:lnSpc>
                <a:spcPts val="1397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-1 mux contro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ts val="1397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mux dat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645320" y="1595520"/>
            <a:ext cx="14176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figuratio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truth ta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ws can b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ressed a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function of 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90920" y="1492200"/>
            <a:ext cx="401328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0" bIns="27000" anchor="t">
            <a:noAutofit/>
          </a:bodyPr>
          <a:p>
            <a:pPr>
              <a:lnSpc>
                <a:spcPts val="2599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 . 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878440" y="248904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323040" y="24764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780240" y="248904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237440" y="248904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07080" y="2882880"/>
            <a:ext cx="1695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21080" y="1562040"/>
            <a:ext cx="177156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268960" y="1562040"/>
            <a:ext cx="22860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198960" y="1924200"/>
            <a:ext cx="4317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649840" y="1606680"/>
            <a:ext cx="0" cy="90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798640" y="1917720"/>
            <a:ext cx="55908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2811600" y="2095560"/>
            <a:ext cx="2489040" cy="81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 as general-purpose logic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94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(A,B,C,D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realize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an 8:1 M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638280" y="2963880"/>
            <a:ext cx="7559640" cy="3744720"/>
            <a:chOff x="638280" y="2963880"/>
            <a:chExt cx="7559640" cy="3744720"/>
          </a:xfrm>
        </p:grpSpPr>
        <p:sp>
          <p:nvSpPr>
            <p:cNvPr id="529" name=""/>
            <p:cNvSpPr/>
            <p:nvPr/>
          </p:nvSpPr>
          <p:spPr>
            <a:xfrm>
              <a:off x="638280" y="5388120"/>
              <a:ext cx="2311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hoose A,B,C as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 variab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3137040" y="2963880"/>
              <a:ext cx="5060880" cy="3744720"/>
              <a:chOff x="3137040" y="2963880"/>
              <a:chExt cx="5060880" cy="3744720"/>
            </a:xfrm>
          </p:grpSpPr>
          <p:grpSp>
            <p:nvGrpSpPr>
              <p:cNvPr id="531" name=""/>
              <p:cNvGrpSpPr/>
              <p:nvPr/>
            </p:nvGrpSpPr>
            <p:grpSpPr>
              <a:xfrm>
                <a:off x="6178680" y="3807000"/>
                <a:ext cx="2019240" cy="2666880"/>
                <a:chOff x="6178680" y="3807000"/>
                <a:chExt cx="2019240" cy="266688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7588440" y="6194520"/>
                  <a:ext cx="558720" cy="2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826320" y="6181920"/>
                  <a:ext cx="559080" cy="2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7220160" y="6181920"/>
                  <a:ext cx="558720" cy="2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6737400" y="3832200"/>
                  <a:ext cx="165240" cy="21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178680" y="3832200"/>
                  <a:ext cx="190440" cy="21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ff00"/>
                      </a:solidFill>
                      <a:latin typeface="Arial"/>
                    </a:rPr>
                    <a:t>D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ff00"/>
                      </a:solidFill>
                      <a:latin typeface="Arial"/>
                    </a:rPr>
                    <a:t>D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813720" y="5572080"/>
                  <a:ext cx="64764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750360" y="4721400"/>
                  <a:ext cx="113004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:1 MU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7182000" y="5572080"/>
                  <a:ext cx="64764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7550280" y="5572080"/>
                  <a:ext cx="64764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6674040" y="3807000"/>
                  <a:ext cx="1143000" cy="2057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7817040" y="4797360"/>
                  <a:ext cx="38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6445080" y="39592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6445080" y="41878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H="1">
                  <a:off x="6445080" y="44164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H="1">
                  <a:off x="6445080" y="46450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902640" y="586440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7283520" y="586440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H="1">
                  <a:off x="6445080" y="48736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445080" y="51022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flipH="1">
                  <a:off x="6445080" y="53308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H="1">
                  <a:off x="6445080" y="55594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664760" y="586440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3137040" y="2963880"/>
                <a:ext cx="2464920" cy="3744720"/>
                <a:chOff x="3137040" y="2963880"/>
                <a:chExt cx="2464920" cy="374472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4938480" y="3254400"/>
                  <a:ext cx="241200" cy="371160"/>
                </a:xfrm>
                <a:prstGeom prst="rect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162240" y="2963880"/>
                  <a:ext cx="2044440" cy="373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5221080" y="3281400"/>
                  <a:ext cx="380880" cy="339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ct val="98000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8000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ff00"/>
                      </a:solidFill>
                      <a:latin typeface="Arial"/>
                    </a:rPr>
                    <a:t>D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8000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'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00ff00"/>
                      </a:solidFill>
                      <a:latin typeface="Arial"/>
                    </a:rPr>
                    <a:t>D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8000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137040" y="323028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4870440" y="2982960"/>
                  <a:ext cx="0" cy="3724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4406760" y="3236760"/>
                  <a:ext cx="0" cy="3471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137040" y="364968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flipH="1">
                  <a:off x="3137040" y="408132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137040" y="452592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137040" y="4944960"/>
                  <a:ext cx="1955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137040" y="536400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flipH="1">
                  <a:off x="3137040" y="579600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137040" y="624024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4938480" y="367344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137040" y="364968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137040" y="408132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3137040" y="452592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3137040" y="494496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137040" y="536400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3137040" y="579600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3137040" y="624024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938480" y="413064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4938480" y="454968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938480" y="496872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938480" y="538776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4938480" y="584496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4938480" y="626400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2957-75AA-468D-86BF-16C3F60E2AF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e F = B’CD’ + ABC’ with a 4:1 multiplexer and a minimum of other gat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838080" y="2590920"/>
            <a:ext cx="2247840" cy="3743280"/>
            <a:chOff x="838080" y="2590920"/>
            <a:chExt cx="2247840" cy="3743280"/>
          </a:xfrm>
        </p:grpSpPr>
        <p:sp>
          <p:nvSpPr>
            <p:cNvPr id="585" name=""/>
            <p:cNvSpPr/>
            <p:nvPr/>
          </p:nvSpPr>
          <p:spPr>
            <a:xfrm>
              <a:off x="863280" y="2590920"/>
              <a:ext cx="2044800" cy="37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38080" y="285768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571480" y="2610000"/>
              <a:ext cx="0" cy="37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38080" y="327672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838080" y="370836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38080" y="415296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38080" y="4572000"/>
              <a:ext cx="19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38080" y="499104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838080" y="542304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38080" y="586728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38080" y="327672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38080" y="370836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38080" y="415296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38080" y="457200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38080" y="499104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38080" y="542304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38080" y="586728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1166760" y="2552760"/>
            <a:ext cx="4191120" cy="3805200"/>
            <a:chOff x="1166760" y="2552760"/>
            <a:chExt cx="4191120" cy="3805200"/>
          </a:xfrm>
        </p:grpSpPr>
        <p:sp>
          <p:nvSpPr>
            <p:cNvPr id="603" name=""/>
            <p:cNvSpPr/>
            <p:nvPr/>
          </p:nvSpPr>
          <p:spPr>
            <a:xfrm>
              <a:off x="1166760" y="2552760"/>
              <a:ext cx="903240" cy="3805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2971800" y="2571840"/>
              <a:ext cx="2386080" cy="2200320"/>
              <a:chOff x="2971800" y="2571840"/>
              <a:chExt cx="2386080" cy="2200320"/>
            </a:xfrm>
          </p:grpSpPr>
          <p:sp>
            <p:nvSpPr>
              <p:cNvPr id="605" name=""/>
              <p:cNvSpPr/>
              <p:nvPr/>
            </p:nvSpPr>
            <p:spPr>
              <a:xfrm flipH="1">
                <a:off x="2984760" y="2784600"/>
                <a:ext cx="113328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2971800" y="2784600"/>
                <a:ext cx="1146240" cy="198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101120" y="2571840"/>
                <a:ext cx="1256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 when B’C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3003480" y="3473280"/>
              <a:ext cx="2351880" cy="1742760"/>
              <a:chOff x="3003480" y="3473280"/>
              <a:chExt cx="2351880" cy="1742760"/>
            </a:xfrm>
          </p:grpSpPr>
          <p:sp>
            <p:nvSpPr>
              <p:cNvPr id="609" name=""/>
              <p:cNvSpPr/>
              <p:nvPr/>
            </p:nvSpPr>
            <p:spPr>
              <a:xfrm flipH="1" flipV="1">
                <a:off x="3026880" y="3473280"/>
                <a:ext cx="1036440" cy="17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3003480" y="3644640"/>
                <a:ext cx="1072800" cy="157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066560" y="3482640"/>
                <a:ext cx="128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’ when B’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3041280" y="3940200"/>
              <a:ext cx="2208240" cy="1676520"/>
              <a:chOff x="3041280" y="3940200"/>
              <a:chExt cx="2208240" cy="1676520"/>
            </a:xfrm>
          </p:grpSpPr>
          <p:sp>
            <p:nvSpPr>
              <p:cNvPr id="613" name=""/>
              <p:cNvSpPr/>
              <p:nvPr/>
            </p:nvSpPr>
            <p:spPr>
              <a:xfrm flipH="1" flipV="1">
                <a:off x="3041280" y="3940200"/>
                <a:ext cx="99036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3041280" y="4397400"/>
                <a:ext cx="996840" cy="121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014360" y="4245120"/>
                <a:ext cx="123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 when BC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3041640" y="4397040"/>
              <a:ext cx="2211120" cy="1676880"/>
              <a:chOff x="3041640" y="4397040"/>
              <a:chExt cx="2211120" cy="1676880"/>
            </a:xfrm>
          </p:grpSpPr>
          <p:sp>
            <p:nvSpPr>
              <p:cNvPr id="617" name=""/>
              <p:cNvSpPr/>
              <p:nvPr/>
            </p:nvSpPr>
            <p:spPr>
              <a:xfrm flipH="1" flipV="1">
                <a:off x="3041640" y="4397040"/>
                <a:ext cx="99072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3041640" y="5083200"/>
                <a:ext cx="99072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066200" y="4930920"/>
                <a:ext cx="118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 when B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0" name=""/>
          <p:cNvSpPr/>
          <p:nvPr/>
        </p:nvSpPr>
        <p:spPr>
          <a:xfrm>
            <a:off x="5401080" y="5715000"/>
            <a:ext cx="339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 = B’C’(0) + B’C(D’) + BC’(A) + BC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6248520" y="3581280"/>
            <a:ext cx="2324160" cy="1847880"/>
            <a:chOff x="6248520" y="3581280"/>
            <a:chExt cx="2324160" cy="1847880"/>
          </a:xfrm>
        </p:grpSpPr>
        <p:sp>
          <p:nvSpPr>
            <p:cNvPr id="622" name=""/>
            <p:cNvSpPr/>
            <p:nvPr/>
          </p:nvSpPr>
          <p:spPr>
            <a:xfrm>
              <a:off x="7315200" y="4832280"/>
              <a:ext cx="559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709040" y="483228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188480" y="437508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556760" y="437508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039160" y="381600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756480" y="3638160"/>
              <a:ext cx="279360" cy="12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762960" y="3581280"/>
              <a:ext cx="113004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756480" y="3943080"/>
              <a:ext cx="11304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918560" y="412092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6508800" y="37908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6508800" y="40064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6521040" y="423504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6534000" y="443844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248520" y="3638160"/>
              <a:ext cx="343080" cy="12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’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340760" y="46479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721640" y="464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293760" y="2494080"/>
            <a:ext cx="8682120" cy="416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C060-3E87-4280-892E-A74016CFD50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2117520" y="3805200"/>
            <a:ext cx="1380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1:2 Decod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0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1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29600" y="4795920"/>
            <a:ext cx="185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2:4 Decoder: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0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1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2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3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074200" y="3805200"/>
            <a:ext cx="2340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3:8 Decoder: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0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1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2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3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4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5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6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7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multiplexers/decod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oders/demultiplexers: general conce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data input, n control inputs,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inputs (called “selects” (S)) represent binary index of output to which the input is 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put usually called “enable” 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3E18-BB98-49F4-8318-A45AB21F548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2362320" y="165096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hig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197760" y="1650960"/>
            <a:ext cx="1104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low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44600" y="4089240"/>
            <a:ext cx="1434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hig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79960" y="4089240"/>
            <a:ext cx="1104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low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2590920" y="2120760"/>
            <a:ext cx="2692440" cy="1079280"/>
            <a:chOff x="2590920" y="2120760"/>
            <a:chExt cx="2692440" cy="1079280"/>
          </a:xfrm>
        </p:grpSpPr>
        <p:sp>
          <p:nvSpPr>
            <p:cNvPr id="649" name=""/>
            <p:cNvSpPr/>
            <p:nvPr/>
          </p:nvSpPr>
          <p:spPr>
            <a:xfrm>
              <a:off x="4673880" y="2209680"/>
              <a:ext cx="596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590920" y="2120760"/>
              <a:ext cx="279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2501640"/>
              <a:ext cx="5079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686480" y="2844360"/>
              <a:ext cx="596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956400" y="21585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56400" y="25398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3949920" y="215208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166280" y="2172960"/>
              <a:ext cx="354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159800" y="2166480"/>
              <a:ext cx="380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165920" y="2158920"/>
              <a:ext cx="355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159440" y="2165040"/>
              <a:ext cx="3805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956400" y="279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956400" y="3174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3949920" y="278712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166280" y="2808000"/>
              <a:ext cx="354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159800" y="2801520"/>
              <a:ext cx="380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165920" y="2793960"/>
              <a:ext cx="355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159440" y="2787840"/>
              <a:ext cx="38052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295800" y="2355480"/>
              <a:ext cx="2286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3295800" y="2495160"/>
              <a:ext cx="228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289680" y="23554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537000" y="2482560"/>
              <a:ext cx="637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540320" y="23493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791160" y="22730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791160" y="30603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702240" y="30603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695760" y="2279520"/>
              <a:ext cx="0" cy="77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683160" y="224748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876760" y="2273040"/>
              <a:ext cx="81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702240" y="22730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40320" y="29844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130920" y="25016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791160" y="29080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784680" y="282564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130920" y="2819160"/>
              <a:ext cx="64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124440" y="25081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098880" y="2653920"/>
              <a:ext cx="51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124440" y="267300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76760" y="26668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791160" y="2425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625920" y="25016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784680" y="243180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6172200" y="2120760"/>
            <a:ext cx="2743200" cy="1074240"/>
            <a:chOff x="6172200" y="2120760"/>
            <a:chExt cx="2743200" cy="1074240"/>
          </a:xfrm>
        </p:grpSpPr>
        <p:sp>
          <p:nvSpPr>
            <p:cNvPr id="692" name=""/>
            <p:cNvSpPr/>
            <p:nvPr/>
          </p:nvSpPr>
          <p:spPr>
            <a:xfrm>
              <a:off x="8305560" y="2196720"/>
              <a:ext cx="596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172200" y="2120760"/>
              <a:ext cx="3682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222960" y="2501640"/>
              <a:ext cx="5079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318520" y="2831760"/>
              <a:ext cx="596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588080" y="21585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588080" y="25398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7581600" y="215208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797960" y="2172960"/>
              <a:ext cx="354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791840" y="2166480"/>
              <a:ext cx="380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797600" y="2158920"/>
              <a:ext cx="355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791480" y="2165040"/>
              <a:ext cx="3805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588080" y="279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588080" y="3174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7581600" y="278712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797960" y="2808000"/>
              <a:ext cx="354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791840" y="2801520"/>
              <a:ext cx="380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797600" y="2793960"/>
              <a:ext cx="355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791480" y="2787840"/>
              <a:ext cx="38052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927840" y="2673000"/>
              <a:ext cx="2286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6927840" y="2812680"/>
              <a:ext cx="228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921360" y="26730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69040" y="280008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172360" y="23493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422840" y="2273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422840" y="30603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34280" y="30603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327800" y="2279520"/>
              <a:ext cx="0" cy="77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315200" y="224748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508440" y="2273040"/>
              <a:ext cx="81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334280" y="22730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2360" y="29844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762600" y="2819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422840" y="29080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16720" y="282564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762600" y="2501640"/>
              <a:ext cx="64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756120" y="25081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730920" y="26539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756120" y="267300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508440" y="266688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22840" y="24253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257960" y="2819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416720" y="243180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511760" y="240624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11760" y="224136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511760" y="304128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11760" y="287640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1308240" y="3632040"/>
            <a:ext cx="2781000" cy="3073680"/>
            <a:chOff x="1308240" y="3632040"/>
            <a:chExt cx="2781000" cy="3073680"/>
          </a:xfrm>
        </p:grpSpPr>
        <p:sp>
          <p:nvSpPr>
            <p:cNvPr id="739" name=""/>
            <p:cNvSpPr/>
            <p:nvPr/>
          </p:nvSpPr>
          <p:spPr>
            <a:xfrm>
              <a:off x="1892160" y="6362640"/>
              <a:ext cx="6480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505320" y="476244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517920" y="528336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517920" y="374652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308240" y="3632040"/>
              <a:ext cx="253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517920" y="425448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273400" y="6375240"/>
              <a:ext cx="6476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 flipV="1">
              <a:off x="2622600" y="578484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2508120" y="5784840"/>
              <a:ext cx="1144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2495160" y="59817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10000" y="57466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 flipV="1">
              <a:off x="2241720" y="578484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2127240" y="5784840"/>
              <a:ext cx="1144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2114280" y="59817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228760" y="57466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952720" y="3733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952720" y="4038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374004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111840" y="37479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05360" y="3741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111480" y="3733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105000" y="3727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952720" y="42418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952720" y="4546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946240" y="42480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111840" y="42559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105360" y="42498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11480" y="42418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105000" y="42354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952720" y="47498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952720" y="5054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946240" y="47563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111840" y="47642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105360" y="47577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11480" y="474948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105000" y="47433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952720" y="52578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952720" y="5562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946240" y="52642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11840" y="52722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05360" y="5265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111480" y="525744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105000" y="52513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397320" y="38862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247840" y="560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25640" y="3886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25640" y="4394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247840" y="363852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235240" y="38736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247840" y="389268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235240" y="43815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247840" y="440064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254320" y="388620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54320" y="439416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397320" y="43941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629080" y="560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825640" y="4013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825640" y="5029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629080" y="3638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616120" y="40006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629080" y="4019400"/>
              <a:ext cx="0" cy="10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616120" y="50166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629080" y="5035680"/>
              <a:ext cx="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635200" y="4013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635200" y="5029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97320" y="49021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825640" y="3759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825640" y="4267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825640" y="4775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825640" y="52833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555920" y="37591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790640" y="3746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809720" y="37591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809720" y="426708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790640" y="4254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809720" y="477504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790640" y="4762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809720" y="528336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803240" y="3765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803240" y="427356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803240" y="478152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247840" y="59878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825640" y="4902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825640" y="541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063880" y="610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44800" y="60958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057400" y="3638520"/>
              <a:ext cx="0" cy="125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044800" y="4889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057400" y="4908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044800" y="5397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057400" y="54165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057400" y="61149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063880" y="49021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063880" y="541008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629080" y="59878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825640" y="4521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825640" y="5537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444760" y="610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425680" y="60958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438280" y="3638520"/>
              <a:ext cx="0" cy="87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425680" y="450864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38280" y="4527720"/>
              <a:ext cx="0" cy="10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425680" y="55245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438280" y="5543640"/>
              <a:ext cx="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38280" y="61149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444760" y="452124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44760" y="553716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397320" y="5410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5638680" y="3638520"/>
            <a:ext cx="2819520" cy="3054240"/>
            <a:chOff x="5638680" y="3638520"/>
            <a:chExt cx="2819520" cy="3054240"/>
          </a:xfrm>
        </p:grpSpPr>
        <p:sp>
          <p:nvSpPr>
            <p:cNvPr id="848" name=""/>
            <p:cNvSpPr/>
            <p:nvPr/>
          </p:nvSpPr>
          <p:spPr>
            <a:xfrm>
              <a:off x="6261120" y="6350040"/>
              <a:ext cx="6476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873920" y="4749840"/>
              <a:ext cx="571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886880" y="5270400"/>
              <a:ext cx="57132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886880" y="373392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638680" y="3645000"/>
              <a:ext cx="355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886880" y="424188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642000" y="6362640"/>
              <a:ext cx="6476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 flipV="1">
              <a:off x="7004160" y="578484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6889680" y="5784840"/>
              <a:ext cx="1144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6876720" y="59817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91200" y="574668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 flipV="1">
              <a:off x="6622920" y="578484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6508800" y="5784840"/>
              <a:ext cx="11412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6496200" y="598176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610320" y="57466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334280" y="3733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334280" y="4038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327800" y="374004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493400" y="37479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486920" y="3741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493040" y="3733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486560" y="3727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334280" y="42418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334280" y="4546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327800" y="42480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493400" y="42559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486920" y="42498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493040" y="42418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486560" y="42354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334280" y="47498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334280" y="5054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327800" y="47563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493400" y="47642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486920" y="47577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493040" y="474948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486560" y="47433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334280" y="52578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334280" y="5562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27800" y="52642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493400" y="52722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486920" y="5265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93040" y="525744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86560" y="52513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778880" y="38862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29400" y="59878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207200" y="3886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207200" y="4394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445080" y="610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426360" y="609588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438960" y="363852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426360" y="387360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438960" y="389268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426360" y="438156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438960" y="4400640"/>
              <a:ext cx="0" cy="170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438960" y="61149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45080" y="3886200"/>
              <a:ext cx="74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445080" y="4394160"/>
              <a:ext cx="74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778880" y="43941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010280" y="59878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207200" y="4013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207200" y="5029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826320" y="610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807240" y="60958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819840" y="3638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807240" y="40006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819840" y="4019400"/>
              <a:ext cx="0" cy="10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807240" y="50166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819840" y="503568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819840" y="61149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26320" y="401328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826320" y="50292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778880" y="49021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207200" y="3759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207200" y="4267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207200" y="4775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207200" y="52833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937120" y="375912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172200" y="3746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191280" y="37591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191280" y="426708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172200" y="4254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191280" y="477504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172200" y="4762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191280" y="528336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184800" y="3765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184800" y="427356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184800" y="478152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629400" y="560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207200" y="541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207200" y="4902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629400" y="3638520"/>
              <a:ext cx="0" cy="125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616800" y="4889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629400" y="4908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616800" y="5397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629400" y="541656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635880" y="541008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635880" y="490212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010280" y="560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207200" y="5537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207200" y="4521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010280" y="3638520"/>
              <a:ext cx="0" cy="87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997680" y="450864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010280" y="4527720"/>
              <a:ext cx="0" cy="10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997680" y="55245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010280" y="55436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016760" y="5537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016760" y="4521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778880" y="5410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270920" y="551808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270920" y="5391000"/>
              <a:ext cx="50760" cy="5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270920" y="526428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270920" y="50101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270920" y="488304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270920" y="47563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270920" y="45021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270920" y="437508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270920" y="4248000"/>
              <a:ext cx="50760" cy="5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270920" y="39942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270920" y="38671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270920" y="374004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ate level implementation of demultiplex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:2 decoders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:4 deco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B00F-06CA-46BF-AFAA-B25E389988B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/>
          <p:nvPr/>
        </p:nvSpPr>
        <p:spPr>
          <a:xfrm>
            <a:off x="4343400" y="4038480"/>
            <a:ext cx="4038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ultiplexer generates appropri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term based on contro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t "decodes" control signa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multiplexers as general-purpose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n: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coder can implement any function of n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variables used as control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nable inputs tied to 1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ppropriate minterms summed to form the func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914400" y="3581280"/>
            <a:ext cx="2806560" cy="2667240"/>
            <a:chOff x="914400" y="3581280"/>
            <a:chExt cx="2806560" cy="2667240"/>
          </a:xfrm>
        </p:grpSpPr>
        <p:sp>
          <p:nvSpPr>
            <p:cNvPr id="974" name=""/>
            <p:cNvSpPr/>
            <p:nvPr/>
          </p:nvSpPr>
          <p:spPr>
            <a:xfrm>
              <a:off x="3124080" y="3657600"/>
              <a:ext cx="59688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6858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2000" y="596916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714680" y="595620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108160" y="595620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14600" y="3606840"/>
              <a:ext cx="1652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701720" y="534672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523880" y="4495680"/>
              <a:ext cx="11304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:8 D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70000" y="534672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38280" y="5346720"/>
              <a:ext cx="648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914400" y="441972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600200" y="3581280"/>
              <a:ext cx="11430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219320" y="45720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2742840" y="37339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H="1">
              <a:off x="2742840" y="3962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>
              <a:off x="2742840" y="4191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2742840" y="4419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790640" y="5638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171880" y="5638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>
              <a:off x="2742840" y="46483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2742840" y="48769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2742840" y="5105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2742840" y="5334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552760" y="5638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55AC-81BC-4062-B4DA-0E622E9F36F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" name=""/>
          <p:cNvGrpSpPr/>
          <p:nvPr/>
        </p:nvGrpSpPr>
        <p:grpSpPr>
          <a:xfrm>
            <a:off x="6254280" y="2680920"/>
            <a:ext cx="2730960" cy="3175200"/>
            <a:chOff x="6254280" y="2680920"/>
            <a:chExt cx="2730960" cy="3175200"/>
          </a:xfrm>
        </p:grpSpPr>
        <p:sp>
          <p:nvSpPr>
            <p:cNvPr id="998" name=""/>
            <p:cNvSpPr/>
            <p:nvPr/>
          </p:nvSpPr>
          <p:spPr>
            <a:xfrm>
              <a:off x="6801120" y="2707920"/>
              <a:ext cx="130752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794640" y="2689200"/>
              <a:ext cx="13327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877440" y="2680920"/>
              <a:ext cx="12312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870960" y="2687400"/>
              <a:ext cx="12564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372080" y="2680920"/>
              <a:ext cx="177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365600" y="2687400"/>
              <a:ext cx="1904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518240" y="28969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372440" y="2707920"/>
              <a:ext cx="17712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365960" y="2689200"/>
              <a:ext cx="1900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565680" y="2706480"/>
              <a:ext cx="93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718320" y="2896920"/>
              <a:ext cx="78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896160" y="308736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140680" y="28969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559560" y="271296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6254280" y="3093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254640" y="35510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6711840" y="2890800"/>
              <a:ext cx="0" cy="66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298920" y="58561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6864120" y="3080880"/>
              <a:ext cx="12960" cy="27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350200" y="2744640"/>
              <a:ext cx="635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6254640" y="4071600"/>
            <a:ext cx="2705040" cy="1536840"/>
            <a:chOff x="6254640" y="4071600"/>
            <a:chExt cx="2705040" cy="1536840"/>
          </a:xfrm>
        </p:grpSpPr>
        <p:sp>
          <p:nvSpPr>
            <p:cNvPr id="1019" name=""/>
            <p:cNvSpPr/>
            <p:nvPr/>
          </p:nvSpPr>
          <p:spPr>
            <a:xfrm>
              <a:off x="6801120" y="4092480"/>
              <a:ext cx="13075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794640" y="4086000"/>
              <a:ext cx="13327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877440" y="4078440"/>
              <a:ext cx="123120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870960" y="4071600"/>
              <a:ext cx="1256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372080" y="4078440"/>
              <a:ext cx="1774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365600" y="4071600"/>
              <a:ext cx="190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518240" y="43066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372440" y="4092480"/>
              <a:ext cx="1771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365960" y="4086000"/>
              <a:ext cx="1900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553080" y="4090680"/>
              <a:ext cx="9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718320" y="4306680"/>
              <a:ext cx="78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883200" y="4497120"/>
              <a:ext cx="62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140680" y="43066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711840" y="4325760"/>
              <a:ext cx="0" cy="128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6286320" y="560844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254640" y="51512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559560" y="408456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870600" y="4484520"/>
              <a:ext cx="38160" cy="38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864120" y="4465440"/>
              <a:ext cx="5076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324640" y="4167000"/>
              <a:ext cx="635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6864480" y="5672160"/>
            <a:ext cx="1853640" cy="622440"/>
            <a:chOff x="6864480" y="5672160"/>
            <a:chExt cx="1853640" cy="622440"/>
          </a:xfrm>
        </p:grpSpPr>
        <p:sp>
          <p:nvSpPr>
            <p:cNvPr id="1040" name=""/>
            <p:cNvSpPr/>
            <p:nvPr/>
          </p:nvSpPr>
          <p:spPr>
            <a:xfrm>
              <a:off x="7518240" y="5672160"/>
              <a:ext cx="2538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V="1">
              <a:off x="7518240" y="5850000"/>
              <a:ext cx="25380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512120" y="5672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785000" y="582480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896160" y="5856480"/>
              <a:ext cx="60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873920" y="58564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870600" y="5843880"/>
              <a:ext cx="37800" cy="37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864480" y="5837400"/>
              <a:ext cx="5040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8083440" y="5697720"/>
              <a:ext cx="6346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426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multiplexers as general-purpose logic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375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1 = A'BC'D + A'B'CD + AB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2 = ABC'D' + AB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3 = (A' + B' + C' + D'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2943360" y="2255760"/>
            <a:ext cx="3276000" cy="4635360"/>
            <a:chOff x="2943360" y="2255760"/>
            <a:chExt cx="3276000" cy="4635360"/>
          </a:xfrm>
        </p:grpSpPr>
        <p:sp>
          <p:nvSpPr>
            <p:cNvPr id="1052" name=""/>
            <p:cNvSpPr/>
            <p:nvPr/>
          </p:nvSpPr>
          <p:spPr>
            <a:xfrm>
              <a:off x="4098600" y="629424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340160" y="6294240"/>
              <a:ext cx="558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848120" y="2255760"/>
              <a:ext cx="1371240" cy="38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Aft>
                  <a:spcPts val="2001"/>
                </a:spcAft>
                <a:tabLst>
                  <a:tab algn="l" pos="0"/>
                  <a:tab algn="l" pos="6858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908160" y="3938400"/>
              <a:ext cx="1104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943360" y="4084560"/>
              <a:ext cx="7869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n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009680" y="2255760"/>
              <a:ext cx="1142640" cy="373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628800" y="4236840"/>
              <a:ext cx="380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162320" y="598932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390920" y="5989320"/>
              <a:ext cx="10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848120" y="5989320"/>
              <a:ext cx="10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152680" y="24080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5152680" y="26366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4619160" y="5989320"/>
              <a:ext cx="10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568760" y="6294240"/>
              <a:ext cx="558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784400" y="629424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152680" y="28652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5152680" y="30938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152680" y="33224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5152680" y="35510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52680" y="37796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V="1">
              <a:off x="5152680" y="40082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152680" y="42368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5152680" y="44654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152680" y="46940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5152680" y="49226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152680" y="51512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5152680" y="53798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152680" y="56084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5152680" y="58370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6C11-5EEA-4E40-BE7C-68C122E16B5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andom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istors quickly integrated into logic gates (1960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talog of common gates (1970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as Instruments Logic Data Book – the yellow b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ommon packages listed and characterized (delays, pow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packag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4-pin IC: 6-inverters, 4 NAND gates, 4 XOR g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day, very few parts are still in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ever, parts libraries exist for chip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ers reuse already characterized logic gates on c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reasons as 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 is that the parts don’t exist in physical inventory – created a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94B6-312A-429A-AB69-218565FEFA4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4832280" y="370188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191120" y="3691080"/>
            <a:ext cx="455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511520" y="3691080"/>
            <a:ext cx="455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781520" y="1982880"/>
            <a:ext cx="156384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'B'C'D'E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097160" y="3319560"/>
            <a:ext cx="528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035600" y="2562120"/>
            <a:ext cx="9014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:8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397400" y="3319560"/>
            <a:ext cx="528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697280" y="3319560"/>
            <a:ext cx="528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548160" y="2573280"/>
            <a:ext cx="4348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71960" y="1905120"/>
            <a:ext cx="920880" cy="162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770280" y="26877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211640" y="3541680"/>
            <a:ext cx="0" cy="23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522680" y="3541680"/>
            <a:ext cx="0" cy="236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853160" y="3551400"/>
            <a:ext cx="0" cy="23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013360" y="20970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013360" y="22734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003640" y="24591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013360" y="26352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013360" y="28209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013360" y="29973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003640" y="31845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013360" y="33606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471760" y="443700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792520" y="4437000"/>
            <a:ext cx="4554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124080" y="3505320"/>
            <a:ext cx="108756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378160" y="4064040"/>
            <a:ext cx="5284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295360" y="3713040"/>
            <a:ext cx="90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:4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678040" y="4064040"/>
            <a:ext cx="5288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828800" y="3733920"/>
            <a:ext cx="4348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352600" y="3459240"/>
            <a:ext cx="920880" cy="81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050920" y="38466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492280" y="4287960"/>
            <a:ext cx="0" cy="25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803680" y="428796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295800" y="3567240"/>
            <a:ext cx="28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295800" y="3743280"/>
            <a:ext cx="28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284640" y="3930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295800" y="4106880"/>
            <a:ext cx="28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071960" y="4183200"/>
            <a:ext cx="920880" cy="162720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013360" y="43750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013360" y="4551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003640" y="47372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013360" y="49132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013360" y="5100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013360" y="52768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03640" y="54626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080120" y="370188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438960" y="3691080"/>
            <a:ext cx="455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759720" y="3691080"/>
            <a:ext cx="455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070760" y="1992240"/>
            <a:ext cx="131436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'BC'DE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345360" y="3319560"/>
            <a:ext cx="528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303960" y="2562120"/>
            <a:ext cx="900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:8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645240" y="3319560"/>
            <a:ext cx="528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945480" y="3319560"/>
            <a:ext cx="528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796000" y="2573280"/>
            <a:ext cx="4348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319800" y="1905120"/>
            <a:ext cx="920880" cy="162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018120" y="26877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459480" y="3541680"/>
            <a:ext cx="0" cy="23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769080" y="3541680"/>
            <a:ext cx="0" cy="222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101000" y="3541680"/>
            <a:ext cx="0" cy="23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261200" y="20970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261200" y="22734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251840" y="24591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261200" y="26352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261200" y="28209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261200" y="29973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251840" y="31845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261200" y="33606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080120" y="597996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438960" y="5970600"/>
            <a:ext cx="455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319800" y="4183200"/>
            <a:ext cx="920880" cy="162720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59720" y="5970600"/>
            <a:ext cx="455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091280" y="4260960"/>
            <a:ext cx="136692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'C'D'E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'C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796000" y="4851360"/>
            <a:ext cx="434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018120" y="49658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765600" y="2692440"/>
            <a:ext cx="0" cy="86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3511080" y="3567240"/>
            <a:ext cx="25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543480" y="4105440"/>
            <a:ext cx="20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765600" y="411156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490920" y="3930480"/>
            <a:ext cx="251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013440" y="3935520"/>
            <a:ext cx="0" cy="10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004080" y="2692440"/>
            <a:ext cx="0" cy="10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H="1">
            <a:off x="3419640" y="3743280"/>
            <a:ext cx="258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decod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:32 deco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x2:4 dec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x3:8 deco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4035600" y="4842000"/>
            <a:ext cx="9014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:8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548160" y="4851360"/>
            <a:ext cx="434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770280" y="49658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781520" y="4260960"/>
            <a:ext cx="127332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C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832280" y="597996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191120" y="5970600"/>
            <a:ext cx="455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511520" y="5970600"/>
            <a:ext cx="455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097160" y="5597640"/>
            <a:ext cx="528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397400" y="5597640"/>
            <a:ext cx="528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697280" y="5597640"/>
            <a:ext cx="528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211640" y="5819760"/>
            <a:ext cx="0" cy="25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522680" y="5819760"/>
            <a:ext cx="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853160" y="583092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013360" y="56386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345360" y="5597640"/>
            <a:ext cx="528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283440" y="4842000"/>
            <a:ext cx="9000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:8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645240" y="5597640"/>
            <a:ext cx="528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945480" y="5597640"/>
            <a:ext cx="528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459480" y="5819760"/>
            <a:ext cx="0" cy="25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769080" y="5819760"/>
            <a:ext cx="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101000" y="583092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261200" y="43750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7261200" y="4551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251840" y="47372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261200" y="49132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261200" y="5100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7261200" y="52768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7251840" y="54626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7261200" y="56386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B6C2-204F-4A5D-9FF5-06432BA2FBC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/>
          <p:nvPr/>
        </p:nvSpPr>
        <p:spPr>
          <a:xfrm>
            <a:off x="1720800" y="3645000"/>
            <a:ext cx="5727600" cy="231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2133720" y="3308400"/>
            <a:ext cx="1600200" cy="2254320"/>
            <a:chOff x="2133720" y="3308400"/>
            <a:chExt cx="1600200" cy="2254320"/>
          </a:xfrm>
        </p:grpSpPr>
        <p:sp>
          <p:nvSpPr>
            <p:cNvPr id="1196" name=""/>
            <p:cNvSpPr/>
            <p:nvPr/>
          </p:nvSpPr>
          <p:spPr>
            <a:xfrm>
              <a:off x="2133720" y="4114800"/>
              <a:ext cx="1600200" cy="144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629080" y="3308400"/>
              <a:ext cx="8762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•   •   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577960" y="3638520"/>
              <a:ext cx="92736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413080" y="4546440"/>
              <a:ext cx="109224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rr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581280" y="33526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590920" y="33526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286000" y="33526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3" name=""/>
          <p:cNvGrpSpPr/>
          <p:nvPr/>
        </p:nvGrpSpPr>
        <p:grpSpPr>
          <a:xfrm>
            <a:off x="5270400" y="4114800"/>
            <a:ext cx="1854360" cy="2286000"/>
            <a:chOff x="5270400" y="4114800"/>
            <a:chExt cx="1854360" cy="2286000"/>
          </a:xfrm>
        </p:grpSpPr>
        <p:sp>
          <p:nvSpPr>
            <p:cNvPr id="1204" name=""/>
            <p:cNvSpPr/>
            <p:nvPr/>
          </p:nvSpPr>
          <p:spPr>
            <a:xfrm>
              <a:off x="5410080" y="4114800"/>
              <a:ext cx="1600200" cy="144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854680" y="5937120"/>
              <a:ext cx="1092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•   •   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702400" y="5581800"/>
              <a:ext cx="118116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270400" y="4438800"/>
              <a:ext cx="18543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R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rr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858000" y="556272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867280" y="556272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562720" y="556272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3733920" y="4343400"/>
            <a:ext cx="1676160" cy="1263600"/>
            <a:chOff x="3733920" y="4343400"/>
            <a:chExt cx="1676160" cy="1263600"/>
          </a:xfrm>
        </p:grpSpPr>
        <p:sp>
          <p:nvSpPr>
            <p:cNvPr id="1212" name=""/>
            <p:cNvSpPr/>
            <p:nvPr/>
          </p:nvSpPr>
          <p:spPr>
            <a:xfrm>
              <a:off x="3746520" y="4667400"/>
              <a:ext cx="146052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oduc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733920" y="43434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733920" y="45720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733920" y="54100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grammable logic array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-fabricated building block of many AND/OR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ly NOR or N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personalized" by making/breaking connections among the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able array block diagram for sum of products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D92B-1E26-4E32-B079-A5D7A24028A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"/>
          <p:cNvSpPr/>
          <p:nvPr/>
        </p:nvSpPr>
        <p:spPr>
          <a:xfrm>
            <a:off x="1117440" y="2540160"/>
            <a:ext cx="12319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616120" y="2273400"/>
            <a:ext cx="196848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0 = A  + B'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1 = A C'  +  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2 = B' C'  +  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3 = B' C  + 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549440" y="3797280"/>
            <a:ext cx="2184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sonality mat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715000" y="3936960"/>
            <a:ext cx="31878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= uncomplemented in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= complemented in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does not particip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727600" y="5194440"/>
            <a:ext cx="33022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= term connected to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= no connection to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359320" y="3606840"/>
            <a:ext cx="1384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 si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359320" y="4902120"/>
            <a:ext cx="1575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si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425520" y="4425840"/>
            <a:ext cx="4514760" cy="2000520"/>
            <a:chOff x="425520" y="4425840"/>
            <a:chExt cx="4514760" cy="2000520"/>
          </a:xfrm>
        </p:grpSpPr>
        <p:sp>
          <p:nvSpPr>
            <p:cNvPr id="1226" name=""/>
            <p:cNvSpPr/>
            <p:nvPr/>
          </p:nvSpPr>
          <p:spPr>
            <a:xfrm>
              <a:off x="533520" y="4432320"/>
              <a:ext cx="440676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11448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11448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erm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'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'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5520" y="4978440"/>
              <a:ext cx="441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984400" y="443880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600200" y="4425840"/>
              <a:ext cx="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0" name=""/>
          <p:cNvGrpSpPr/>
          <p:nvPr/>
        </p:nvGrpSpPr>
        <p:grpSpPr>
          <a:xfrm>
            <a:off x="4641480" y="5124600"/>
            <a:ext cx="2534040" cy="1428480"/>
            <a:chOff x="4641480" y="5124600"/>
            <a:chExt cx="2534040" cy="1428480"/>
          </a:xfrm>
        </p:grpSpPr>
        <p:sp>
          <p:nvSpPr>
            <p:cNvPr id="1231" name=""/>
            <p:cNvSpPr/>
            <p:nvPr/>
          </p:nvSpPr>
          <p:spPr>
            <a:xfrm>
              <a:off x="5384880" y="5892840"/>
              <a:ext cx="17906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use of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 flipV="1">
              <a:off x="4667400" y="5124600"/>
              <a:ext cx="698400" cy="9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 flipV="1">
              <a:off x="4641480" y="5924520"/>
              <a:ext cx="72396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H="1">
              <a:off x="4667040" y="6051600"/>
              <a:ext cx="68580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nabling concep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red product terms among out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8560-D14E-41DD-BDA5-47F9070C493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7" name=""/>
          <p:cNvGrpSpPr/>
          <p:nvPr/>
        </p:nvGrpSpPr>
        <p:grpSpPr>
          <a:xfrm>
            <a:off x="3580920" y="2438280"/>
            <a:ext cx="4839120" cy="4049640"/>
            <a:chOff x="3580920" y="2438280"/>
            <a:chExt cx="4839120" cy="4049640"/>
          </a:xfrm>
        </p:grpSpPr>
        <p:sp>
          <p:nvSpPr>
            <p:cNvPr id="1238" name=""/>
            <p:cNvSpPr/>
            <p:nvPr/>
          </p:nvSpPr>
          <p:spPr>
            <a:xfrm>
              <a:off x="5743080" y="5387760"/>
              <a:ext cx="29340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4884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741640" y="5387760"/>
              <a:ext cx="28188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73588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65760" y="5764320"/>
              <a:ext cx="25776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747040" y="5758200"/>
              <a:ext cx="2826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43080" y="5764320"/>
              <a:ext cx="29340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748840" y="5758200"/>
              <a:ext cx="2934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6017760" y="5823000"/>
              <a:ext cx="18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559120" y="58230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871240" y="5828760"/>
              <a:ext cx="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461280" y="5387760"/>
              <a:ext cx="28188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45516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447600" y="5387760"/>
              <a:ext cx="28260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44220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483240" y="5764320"/>
              <a:ext cx="24660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465960" y="5758200"/>
              <a:ext cx="26964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461280" y="5764320"/>
              <a:ext cx="28188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455160" y="5758200"/>
              <a:ext cx="2934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6724080" y="5823000"/>
              <a:ext cx="18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277320" y="5823000"/>
              <a:ext cx="16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589080" y="5828760"/>
              <a:ext cx="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155720" y="5387760"/>
              <a:ext cx="29340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14996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142760" y="5387760"/>
              <a:ext cx="29340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136640" y="5382000"/>
              <a:ext cx="30564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178400" y="5764320"/>
              <a:ext cx="25776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160400" y="5758200"/>
              <a:ext cx="28188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155720" y="5764320"/>
              <a:ext cx="29340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149960" y="5758200"/>
              <a:ext cx="2934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7431120" y="58230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971760" y="5823000"/>
              <a:ext cx="16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283880" y="5828760"/>
              <a:ext cx="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862040" y="5387760"/>
              <a:ext cx="28188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85628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849080" y="5387760"/>
              <a:ext cx="28188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843680" y="5382000"/>
              <a:ext cx="29268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873200" y="5764320"/>
              <a:ext cx="25776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867080" y="5758200"/>
              <a:ext cx="26964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862040" y="5764320"/>
              <a:ext cx="28188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856280" y="5758200"/>
              <a:ext cx="2934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H="1">
              <a:off x="8125560" y="58230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666200" y="582300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978320" y="5828760"/>
              <a:ext cx="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3710520" y="2673720"/>
              <a:ext cx="1411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592800" y="2673720"/>
              <a:ext cx="1177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3580920" y="2667600"/>
              <a:ext cx="27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699000" y="2862000"/>
              <a:ext cx="4680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H="1">
              <a:off x="4087440" y="2673720"/>
              <a:ext cx="1411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969720" y="2673720"/>
              <a:ext cx="1177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3957480" y="2667600"/>
              <a:ext cx="27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075560" y="2862000"/>
              <a:ext cx="586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4475520" y="2673720"/>
              <a:ext cx="12924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358160" y="2673720"/>
              <a:ext cx="1177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H="1">
              <a:off x="4345920" y="2667600"/>
              <a:ext cx="25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464000" y="2862000"/>
              <a:ext cx="4680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23360" y="312696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23360" y="342108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4917240" y="3120840"/>
              <a:ext cx="0" cy="30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917240" y="303840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094360" y="3151800"/>
              <a:ext cx="270360" cy="28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089320" y="3134160"/>
              <a:ext cx="29232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094000" y="312732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088960" y="3121560"/>
              <a:ext cx="29268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923360" y="435132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923360" y="463356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>
              <a:off x="4917240" y="4344840"/>
              <a:ext cx="0" cy="29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17240" y="426276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94360" y="436428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89320" y="4358520"/>
              <a:ext cx="29232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94000" y="4351320"/>
              <a:ext cx="270360" cy="28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88960" y="4333680"/>
              <a:ext cx="2926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923360" y="495180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923360" y="525780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V="1">
              <a:off x="4917240" y="4945320"/>
              <a:ext cx="0" cy="31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917240" y="486324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94360" y="4965120"/>
              <a:ext cx="27036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89320" y="4959000"/>
              <a:ext cx="29232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94000" y="4952160"/>
              <a:ext cx="27036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88960" y="4946040"/>
              <a:ext cx="2926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923360" y="556380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923360" y="585792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V="1">
              <a:off x="4917240" y="5558040"/>
              <a:ext cx="0" cy="30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917240" y="547560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94360" y="557712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89320" y="5571000"/>
              <a:ext cx="292320" cy="3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94000" y="556416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88960" y="5569920"/>
              <a:ext cx="29268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923360" y="373896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923360" y="402156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V="1">
              <a:off x="4917240" y="3732840"/>
              <a:ext cx="0" cy="29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917240" y="365076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094360" y="375228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089320" y="3746160"/>
              <a:ext cx="292320" cy="3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094000" y="373932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088960" y="3733200"/>
              <a:ext cx="292680" cy="3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871240" y="6264360"/>
              <a:ext cx="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871240" y="6370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589080" y="6264360"/>
              <a:ext cx="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589080" y="6370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283880" y="6264360"/>
              <a:ext cx="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283880" y="6370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370480" y="570528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14196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130080" y="5693040"/>
              <a:ext cx="46800" cy="4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83640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824520" y="5693040"/>
              <a:ext cx="46800" cy="4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54272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531200" y="5693040"/>
              <a:ext cx="35280" cy="4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823716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8225640" y="5693040"/>
              <a:ext cx="46800" cy="4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500080" y="5705280"/>
              <a:ext cx="63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147720" y="570528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842160" y="5705280"/>
              <a:ext cx="69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548840" y="570528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8243280" y="57052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370480" y="510480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00084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70680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4134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10792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500080" y="5104800"/>
              <a:ext cx="49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988600" y="5092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006240" y="510480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695280" y="5092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712920" y="5104800"/>
              <a:ext cx="69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401600" y="5092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419240" y="510480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8096040" y="5092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8113680" y="510480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000840" y="51105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706800" y="51105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413480" y="51105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8107920" y="51105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370480" y="449244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87124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5890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2838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97832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500080" y="4492440"/>
              <a:ext cx="36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859000" y="4480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877000" y="4492440"/>
              <a:ext cx="70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577200" y="448092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595200" y="449244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272360" y="4480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289640" y="449244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66800" y="4480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984440" y="4492440"/>
              <a:ext cx="43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871240" y="44985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589080" y="44985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283880" y="44985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978320" y="44985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978320" y="6264360"/>
              <a:ext cx="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978320" y="6370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716640" y="255600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805640" y="310320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805640" y="43041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805640" y="49280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805640" y="552852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805640" y="37040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722400" y="2549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893040" y="252648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904920" y="243828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904920" y="2556000"/>
              <a:ext cx="0" cy="54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893040" y="30916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904920" y="310932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893040" y="369180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904920" y="370944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893040" y="42922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904920" y="4309920"/>
              <a:ext cx="0" cy="61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893040" y="4916160"/>
              <a:ext cx="4680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904920" y="49341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893040" y="551664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3904920" y="553428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910680" y="310320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910680" y="370404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910680" y="430416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910680" y="492804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910680" y="552852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093200" y="255600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805640" y="33386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805640" y="45633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805640" y="516348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805640" y="57639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805640" y="393912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098960" y="2549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269960" y="252648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281480" y="243828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281480" y="2556000"/>
              <a:ext cx="0" cy="77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269960" y="3327120"/>
              <a:ext cx="4680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81480" y="3344760"/>
              <a:ext cx="0" cy="58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269960" y="392760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281480" y="3945240"/>
              <a:ext cx="0" cy="61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269960" y="4551480"/>
              <a:ext cx="4680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281480" y="45687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269960" y="515196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281480" y="5169600"/>
              <a:ext cx="0" cy="58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269960" y="575244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281480" y="5770080"/>
              <a:ext cx="0" cy="35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287600" y="333864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287600" y="393912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287600" y="456336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287600" y="516348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287600" y="576396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482000" y="255600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487400" y="254988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658400" y="252648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669920" y="243828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669920" y="2556000"/>
              <a:ext cx="0" cy="35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716640" y="292104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716640" y="3038400"/>
              <a:ext cx="0" cy="308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62392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3298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02504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73100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370480" y="32799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500080" y="32799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612040" y="326808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629680" y="327996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318360" y="32680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336000" y="327996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012800" y="3268080"/>
              <a:ext cx="4716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030440" y="327996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719480" y="32680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737120" y="327996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623920" y="3285720"/>
              <a:ext cx="0" cy="24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329880" y="3285720"/>
              <a:ext cx="0" cy="24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025040" y="3285720"/>
              <a:ext cx="0" cy="24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731000" y="3285720"/>
              <a:ext cx="0" cy="24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093200" y="292104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805640" y="322092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805640" y="44337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805640" y="50342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805640" y="56462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805640" y="383328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093200" y="303840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081320" y="3209400"/>
              <a:ext cx="4680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093200" y="322704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081320" y="382140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093200" y="383904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081320" y="44218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093200" y="443952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081320" y="502236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093200" y="504000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081320" y="5646240"/>
              <a:ext cx="4680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093200" y="565200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098960" y="322092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098960" y="383328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098960" y="443376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098960" y="503424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098960" y="564624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482000" y="292104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805640" y="34682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805640" y="46688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805640" y="529308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805640" y="58935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805640" y="406872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482000" y="3038400"/>
              <a:ext cx="0" cy="42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469760" y="345672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482000" y="3474360"/>
              <a:ext cx="0" cy="58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469760" y="405684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482000" y="407484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469760" y="465732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482000" y="4674960"/>
              <a:ext cx="0" cy="61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469760" y="528156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482000" y="529920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469760" y="5881680"/>
              <a:ext cx="3528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482000" y="5899320"/>
              <a:ext cx="0" cy="22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487400" y="346824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487400" y="406872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487400" y="466884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487400" y="529308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487400" y="589356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7412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4594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1542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86060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370480" y="38919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500080" y="3891960"/>
              <a:ext cx="23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741280" y="388044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747400" y="3891960"/>
              <a:ext cx="70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447960" y="388044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465600" y="389196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142760" y="388044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160040" y="389196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848720" y="388044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866720" y="3891960"/>
              <a:ext cx="55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741280" y="389808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459480" y="389808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154280" y="389808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860600" y="389808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9" name=""/>
            <p:cNvGrpSpPr/>
            <p:nvPr/>
          </p:nvGrpSpPr>
          <p:grpSpPr>
            <a:xfrm>
              <a:off x="3704760" y="2973600"/>
              <a:ext cx="1212480" cy="88200"/>
              <a:chOff x="3704760" y="2973600"/>
              <a:chExt cx="1212480" cy="88200"/>
            </a:xfrm>
          </p:grpSpPr>
          <p:sp>
            <p:nvSpPr>
              <p:cNvPr id="1530" name=""/>
              <p:cNvSpPr/>
              <p:nvPr/>
            </p:nvSpPr>
            <p:spPr>
              <a:xfrm>
                <a:off x="3722400" y="298548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4917240" y="2991240"/>
                <a:ext cx="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3704760" y="2973600"/>
                <a:ext cx="4716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3" name=""/>
            <p:cNvGrpSpPr/>
            <p:nvPr/>
          </p:nvGrpSpPr>
          <p:grpSpPr>
            <a:xfrm>
              <a:off x="3704760" y="3574080"/>
              <a:ext cx="1212480" cy="88200"/>
              <a:chOff x="3704760" y="3574080"/>
              <a:chExt cx="1212480" cy="88200"/>
            </a:xfrm>
          </p:grpSpPr>
          <p:sp>
            <p:nvSpPr>
              <p:cNvPr id="1534" name=""/>
              <p:cNvSpPr/>
              <p:nvPr/>
            </p:nvSpPr>
            <p:spPr>
              <a:xfrm>
                <a:off x="3722400" y="358596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4917240" y="3591720"/>
                <a:ext cx="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704760" y="3574080"/>
                <a:ext cx="4716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7" name=""/>
            <p:cNvGrpSpPr/>
            <p:nvPr/>
          </p:nvGrpSpPr>
          <p:grpSpPr>
            <a:xfrm>
              <a:off x="3704760" y="4197960"/>
              <a:ext cx="1212480" cy="88200"/>
              <a:chOff x="3704760" y="4197960"/>
              <a:chExt cx="1212480" cy="88200"/>
            </a:xfrm>
          </p:grpSpPr>
          <p:sp>
            <p:nvSpPr>
              <p:cNvPr id="1538" name=""/>
              <p:cNvSpPr/>
              <p:nvPr/>
            </p:nvSpPr>
            <p:spPr>
              <a:xfrm>
                <a:off x="3722400" y="420948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4917240" y="4215600"/>
                <a:ext cx="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704760" y="4197960"/>
                <a:ext cx="4716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3704760" y="4810680"/>
              <a:ext cx="1212480" cy="99360"/>
              <a:chOff x="3704760" y="4810680"/>
              <a:chExt cx="1212480" cy="99360"/>
            </a:xfrm>
          </p:grpSpPr>
          <p:sp>
            <p:nvSpPr>
              <p:cNvPr id="1542" name=""/>
              <p:cNvSpPr/>
              <p:nvPr/>
            </p:nvSpPr>
            <p:spPr>
              <a:xfrm>
                <a:off x="3722400" y="482220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4917240" y="4828320"/>
                <a:ext cx="0" cy="81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704760" y="4810680"/>
                <a:ext cx="4716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5" name=""/>
            <p:cNvGrpSpPr/>
            <p:nvPr/>
          </p:nvGrpSpPr>
          <p:grpSpPr>
            <a:xfrm>
              <a:off x="3704760" y="5410800"/>
              <a:ext cx="1212480" cy="99720"/>
              <a:chOff x="3704760" y="5410800"/>
              <a:chExt cx="1212480" cy="99720"/>
            </a:xfrm>
          </p:grpSpPr>
          <p:sp>
            <p:nvSpPr>
              <p:cNvPr id="1546" name=""/>
              <p:cNvSpPr/>
              <p:nvPr/>
            </p:nvSpPr>
            <p:spPr>
              <a:xfrm>
                <a:off x="3722400" y="543384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917240" y="5439960"/>
                <a:ext cx="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704760" y="5410800"/>
                <a:ext cx="4716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9" name=""/>
            <p:cNvGrpSpPr/>
            <p:nvPr/>
          </p:nvGrpSpPr>
          <p:grpSpPr>
            <a:xfrm>
              <a:off x="4658400" y="5887440"/>
              <a:ext cx="258840" cy="123120"/>
              <a:chOff x="4658400" y="5887440"/>
              <a:chExt cx="258840" cy="123120"/>
            </a:xfrm>
          </p:grpSpPr>
          <p:sp>
            <p:nvSpPr>
              <p:cNvPr id="1550" name=""/>
              <p:cNvSpPr/>
              <p:nvPr/>
            </p:nvSpPr>
            <p:spPr>
              <a:xfrm>
                <a:off x="4699080" y="598716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flipV="1">
                <a:off x="4917240" y="5887440"/>
                <a:ext cx="0" cy="10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4658400" y="596376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3" name=""/>
            <p:cNvGrpSpPr/>
            <p:nvPr/>
          </p:nvGrpSpPr>
          <p:grpSpPr>
            <a:xfrm>
              <a:off x="4658400" y="5286960"/>
              <a:ext cx="258840" cy="99720"/>
              <a:chOff x="4658400" y="5286960"/>
              <a:chExt cx="258840" cy="99720"/>
            </a:xfrm>
          </p:grpSpPr>
          <p:sp>
            <p:nvSpPr>
              <p:cNvPr id="1554" name=""/>
              <p:cNvSpPr/>
              <p:nvPr/>
            </p:nvSpPr>
            <p:spPr>
              <a:xfrm>
                <a:off x="4699080" y="537516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V="1">
                <a:off x="4917240" y="5286960"/>
                <a:ext cx="0" cy="9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4658400" y="5351400"/>
                <a:ext cx="4680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4658400" y="4663440"/>
              <a:ext cx="258840" cy="122760"/>
              <a:chOff x="4658400" y="4663440"/>
              <a:chExt cx="258840" cy="122760"/>
            </a:xfrm>
          </p:grpSpPr>
          <p:sp>
            <p:nvSpPr>
              <p:cNvPr id="1558" name=""/>
              <p:cNvSpPr/>
              <p:nvPr/>
            </p:nvSpPr>
            <p:spPr>
              <a:xfrm>
                <a:off x="4699080" y="475128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flipV="1">
                <a:off x="4917240" y="466344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4658400" y="473940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4658400" y="4062240"/>
              <a:ext cx="258840" cy="123480"/>
              <a:chOff x="4658400" y="4062240"/>
              <a:chExt cx="258840" cy="123480"/>
            </a:xfrm>
          </p:grpSpPr>
          <p:sp>
            <p:nvSpPr>
              <p:cNvPr id="1562" name=""/>
              <p:cNvSpPr/>
              <p:nvPr/>
            </p:nvSpPr>
            <p:spPr>
              <a:xfrm>
                <a:off x="4699080" y="415080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V="1">
                <a:off x="4917240" y="4062240"/>
                <a:ext cx="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658400" y="413892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5" name=""/>
            <p:cNvGrpSpPr/>
            <p:nvPr/>
          </p:nvGrpSpPr>
          <p:grpSpPr>
            <a:xfrm>
              <a:off x="4658400" y="3461760"/>
              <a:ext cx="258840" cy="111600"/>
              <a:chOff x="4658400" y="3461760"/>
              <a:chExt cx="258840" cy="111600"/>
            </a:xfrm>
          </p:grpSpPr>
          <p:sp>
            <p:nvSpPr>
              <p:cNvPr id="1566" name=""/>
              <p:cNvSpPr/>
              <p:nvPr/>
            </p:nvSpPr>
            <p:spPr>
              <a:xfrm>
                <a:off x="4699080" y="355032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flipV="1">
                <a:off x="4917240" y="3461760"/>
                <a:ext cx="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658400" y="3538440"/>
                <a:ext cx="4680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efore programm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ossible connections are available before "programming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eality, all AND and OR gates are N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6673-746C-4F33-A5DA-1066B9B2436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1" name=""/>
          <p:cNvGrpSpPr/>
          <p:nvPr/>
        </p:nvGrpSpPr>
        <p:grpSpPr>
          <a:xfrm>
            <a:off x="3162240" y="2666880"/>
            <a:ext cx="4915080" cy="3976560"/>
            <a:chOff x="3162240" y="2666880"/>
            <a:chExt cx="4915080" cy="3976560"/>
          </a:xfrm>
        </p:grpSpPr>
        <p:sp>
          <p:nvSpPr>
            <p:cNvPr id="1572" name=""/>
            <p:cNvSpPr/>
            <p:nvPr/>
          </p:nvSpPr>
          <p:spPr>
            <a:xfrm flipH="1">
              <a:off x="3286080" y="3135600"/>
              <a:ext cx="13572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173760" y="3135600"/>
              <a:ext cx="11268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3162240" y="3129840"/>
              <a:ext cx="25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275280" y="3327840"/>
              <a:ext cx="56160" cy="56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3681720" y="3135600"/>
              <a:ext cx="1353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568680" y="3135600"/>
              <a:ext cx="11304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3557160" y="3129840"/>
              <a:ext cx="25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659400" y="3327840"/>
              <a:ext cx="56160" cy="56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4066200" y="3135600"/>
              <a:ext cx="1353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941640" y="3135600"/>
              <a:ext cx="1245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3930120" y="3129840"/>
              <a:ext cx="27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054680" y="3327840"/>
              <a:ext cx="56520" cy="56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461480" y="3548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461480" y="385308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V="1">
              <a:off x="4456080" y="354240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625640" y="3560400"/>
              <a:ext cx="293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620600" y="3555000"/>
              <a:ext cx="292320" cy="31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625280" y="3548160"/>
              <a:ext cx="2934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620240" y="3542400"/>
              <a:ext cx="29268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461480" y="4429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461480" y="473436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V="1">
              <a:off x="4456080" y="442368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625640" y="4453200"/>
              <a:ext cx="29304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620600" y="4436280"/>
              <a:ext cx="292320" cy="3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625280" y="4428720"/>
              <a:ext cx="2934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620240" y="4423320"/>
              <a:ext cx="29268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461480" y="48808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461480" y="518616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V="1">
              <a:off x="4456080" y="487548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625640" y="4893840"/>
              <a:ext cx="293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620600" y="4888080"/>
              <a:ext cx="29232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625280" y="4881600"/>
              <a:ext cx="2934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620240" y="4864680"/>
              <a:ext cx="292680" cy="32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461480" y="5321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461480" y="561528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V="1">
              <a:off x="4456080" y="5316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625640" y="5334480"/>
              <a:ext cx="293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620600" y="5328720"/>
              <a:ext cx="29232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625280" y="5321520"/>
              <a:ext cx="2934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620240" y="5316120"/>
              <a:ext cx="29268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308560" y="5813640"/>
              <a:ext cx="27108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275440" y="5418360"/>
              <a:ext cx="304200" cy="9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287680" y="5463000"/>
              <a:ext cx="304200" cy="9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287680" y="5813640"/>
              <a:ext cx="30420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49540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36004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021000" y="5813640"/>
              <a:ext cx="27036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987160" y="5418360"/>
              <a:ext cx="304200" cy="9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010920" y="5463000"/>
              <a:ext cx="292680" cy="9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010920" y="5813640"/>
              <a:ext cx="29268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20748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08292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732360" y="5813640"/>
              <a:ext cx="27108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699240" y="5418360"/>
              <a:ext cx="304200" cy="9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722640" y="5463000"/>
              <a:ext cx="293400" cy="9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722640" y="5813640"/>
              <a:ext cx="29340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91920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79464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444800" y="5813640"/>
              <a:ext cx="27036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410960" y="5418360"/>
              <a:ext cx="304200" cy="9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434720" y="5463000"/>
              <a:ext cx="304200" cy="9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434720" y="5813640"/>
              <a:ext cx="30420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63092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50672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461480" y="3988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461480" y="429372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4456080" y="398304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625640" y="4001040"/>
              <a:ext cx="293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620600" y="3995280"/>
              <a:ext cx="29232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625280" y="3988800"/>
              <a:ext cx="2934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620240" y="3983040"/>
              <a:ext cx="29268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292200" y="33840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292200" y="3508200"/>
              <a:ext cx="0" cy="221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427720" y="6355440"/>
              <a:ext cx="0" cy="1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427720" y="64908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08292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913280" y="458712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082920" y="4592880"/>
              <a:ext cx="0" cy="11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060240" y="4575960"/>
              <a:ext cx="4500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049360" y="4587120"/>
              <a:ext cx="102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088680" y="4587120"/>
              <a:ext cx="198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139440" y="6355440"/>
              <a:ext cx="0" cy="1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139440" y="64908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91920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20748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913280" y="369468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919200" y="3700440"/>
              <a:ext cx="0" cy="208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907680" y="3683520"/>
              <a:ext cx="338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207480" y="3700440"/>
              <a:ext cx="0" cy="208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195960" y="3683520"/>
              <a:ext cx="338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049360" y="3694680"/>
              <a:ext cx="115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212880" y="3694680"/>
              <a:ext cx="7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924960" y="3694680"/>
              <a:ext cx="115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79464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49540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913280" y="502812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794640" y="5033880"/>
              <a:ext cx="0" cy="75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772320" y="5016600"/>
              <a:ext cx="4500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495400" y="5033880"/>
              <a:ext cx="0" cy="75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484240" y="5016600"/>
              <a:ext cx="3384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049360" y="5028120"/>
              <a:ext cx="44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501160" y="5028120"/>
              <a:ext cx="128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800400" y="5028120"/>
              <a:ext cx="12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851520" y="6355440"/>
              <a:ext cx="0" cy="1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851520" y="64908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913280" y="546876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63092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36004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630920" y="547416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619400" y="5457600"/>
              <a:ext cx="4536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360040" y="547416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348520" y="545760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049360" y="54687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365440" y="5468760"/>
              <a:ext cx="225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636320" y="5468760"/>
              <a:ext cx="44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913280" y="414648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50672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506720" y="4152240"/>
              <a:ext cx="0" cy="163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484040" y="412416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049360" y="4146480"/>
              <a:ext cx="245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512120" y="4146480"/>
              <a:ext cx="56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563240" y="6355440"/>
              <a:ext cx="0" cy="1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563240" y="64908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292200" y="30114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337280" y="362700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337280" y="45309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337280" y="541188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489840" y="5411880"/>
              <a:ext cx="83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484440" y="5389560"/>
              <a:ext cx="338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489840" y="4530960"/>
              <a:ext cx="83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484440" y="4508280"/>
              <a:ext cx="3384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489840" y="3627000"/>
              <a:ext cx="83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484440" y="3615480"/>
              <a:ext cx="338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484440" y="28872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484440" y="2994480"/>
              <a:ext cx="3384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484440" y="30114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3484440" y="3632760"/>
              <a:ext cx="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484440" y="45363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484440" y="54176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297960" y="3005640"/>
              <a:ext cx="18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687480" y="30114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337280" y="376272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885120" y="3762720"/>
              <a:ext cx="44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857040" y="374004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879360" y="28872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857040" y="2994480"/>
              <a:ext cx="4500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879360" y="3011400"/>
              <a:ext cx="0" cy="74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879360" y="3768120"/>
              <a:ext cx="0" cy="195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3693240" y="3005640"/>
              <a:ext cx="18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687480" y="33840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337280" y="40791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337280" y="496008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687480" y="3508200"/>
              <a:ext cx="0" cy="56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664800" y="406764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687480" y="40845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664800" y="494892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687480" y="4965840"/>
              <a:ext cx="0" cy="75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693240" y="4960080"/>
              <a:ext cx="63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3693240" y="4079160"/>
              <a:ext cx="63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071600" y="30114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337280" y="508428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337280" y="42033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280760" y="5084280"/>
              <a:ext cx="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252680" y="5073120"/>
              <a:ext cx="3348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275000" y="28872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252680" y="2994480"/>
              <a:ext cx="3348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275000" y="3011400"/>
              <a:ext cx="0" cy="118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252680" y="4191840"/>
              <a:ext cx="33480" cy="4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275000" y="42087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275000" y="5090040"/>
              <a:ext cx="0" cy="63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077360" y="3005640"/>
              <a:ext cx="19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280760" y="4203360"/>
              <a:ext cx="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071600" y="33840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337280" y="46551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077360" y="4655160"/>
              <a:ext cx="24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060440" y="4644000"/>
              <a:ext cx="33840" cy="33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071600" y="3508200"/>
              <a:ext cx="0" cy="114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071600" y="4660560"/>
              <a:ext cx="0" cy="106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337280" y="553608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382560" y="2678040"/>
              <a:ext cx="485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777840" y="2666880"/>
              <a:ext cx="485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161960" y="2666880"/>
              <a:ext cx="497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891040" y="6338520"/>
              <a:ext cx="564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580080" y="6338520"/>
              <a:ext cx="564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7303320" y="6338520"/>
              <a:ext cx="564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167800" y="6327360"/>
              <a:ext cx="564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930200" y="3480120"/>
              <a:ext cx="598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907880" y="3931920"/>
              <a:ext cx="632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919040" y="4372560"/>
              <a:ext cx="632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907880" y="4813560"/>
              <a:ext cx="666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930200" y="5254200"/>
              <a:ext cx="485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fter programm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wanted connections are "blown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se (normally connected, break unwanted 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-fuse (normally disconnected, make wanted connec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A691-B575-440B-8A36-F088F4DC4CC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5" name=""/>
          <p:cNvGrpSpPr/>
          <p:nvPr/>
        </p:nvGrpSpPr>
        <p:grpSpPr>
          <a:xfrm>
            <a:off x="609480" y="3016080"/>
            <a:ext cx="3454560" cy="2336760"/>
            <a:chOff x="609480" y="3016080"/>
            <a:chExt cx="3454560" cy="2336760"/>
          </a:xfrm>
        </p:grpSpPr>
        <p:sp>
          <p:nvSpPr>
            <p:cNvPr id="1766" name=""/>
            <p:cNvSpPr/>
            <p:nvPr/>
          </p:nvSpPr>
          <p:spPr>
            <a:xfrm flipH="1">
              <a:off x="1676520" y="314316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562040" y="3143160"/>
              <a:ext cx="1144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>
              <a:off x="1549080" y="31366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727280" y="32572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682640" y="30160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746360" y="33206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619280" y="32446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019240" y="32889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019240" y="35938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V="1">
              <a:off x="2012760" y="32828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178360" y="33033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171880" y="32968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178000" y="32893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171520" y="32828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09480" y="344160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463840" y="3441600"/>
              <a:ext cx="15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019240" y="36572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019240" y="3962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2012760" y="36511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178360" y="36716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171880" y="36651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178000" y="36576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171520" y="36511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09480" y="380988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463840" y="380988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019240" y="40255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019240" y="4330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V="1">
              <a:off x="2012760" y="40194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178360" y="40399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2171880" y="40334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2178000" y="40258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171520" y="40194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09480" y="417816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2463840" y="417816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019240" y="43938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019240" y="4698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V="1">
              <a:off x="2012760" y="43876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2178360" y="44082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171880" y="4401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178000" y="43941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171520" y="43876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09480" y="454644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463840" y="45464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9" name=""/>
            <p:cNvGrpSpPr/>
            <p:nvPr/>
          </p:nvGrpSpPr>
          <p:grpSpPr>
            <a:xfrm>
              <a:off x="1688760" y="3396960"/>
              <a:ext cx="114120" cy="88920"/>
              <a:chOff x="1688760" y="3396960"/>
              <a:chExt cx="114120" cy="88920"/>
            </a:xfrm>
          </p:grpSpPr>
          <p:sp>
            <p:nvSpPr>
              <p:cNvPr id="1810" name=""/>
              <p:cNvSpPr/>
              <p:nvPr/>
            </p:nvSpPr>
            <p:spPr>
              <a:xfrm>
                <a:off x="170172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H="1">
                <a:off x="1688760" y="3396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2" name=""/>
            <p:cNvGrpSpPr/>
            <p:nvPr/>
          </p:nvGrpSpPr>
          <p:grpSpPr>
            <a:xfrm>
              <a:off x="1688760" y="3765240"/>
              <a:ext cx="114120" cy="88920"/>
              <a:chOff x="1688760" y="3765240"/>
              <a:chExt cx="114120" cy="88920"/>
            </a:xfrm>
          </p:grpSpPr>
          <p:sp>
            <p:nvSpPr>
              <p:cNvPr id="1813" name=""/>
              <p:cNvSpPr/>
              <p:nvPr/>
            </p:nvSpPr>
            <p:spPr>
              <a:xfrm>
                <a:off x="170172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flipH="1">
                <a:off x="1688760" y="3765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5" name=""/>
            <p:cNvGrpSpPr/>
            <p:nvPr/>
          </p:nvGrpSpPr>
          <p:grpSpPr>
            <a:xfrm>
              <a:off x="1688760" y="4133520"/>
              <a:ext cx="114120" cy="88920"/>
              <a:chOff x="1688760" y="4133520"/>
              <a:chExt cx="114120" cy="88920"/>
            </a:xfrm>
          </p:grpSpPr>
          <p:sp>
            <p:nvSpPr>
              <p:cNvPr id="1816" name=""/>
              <p:cNvSpPr/>
              <p:nvPr/>
            </p:nvSpPr>
            <p:spPr>
              <a:xfrm>
                <a:off x="170172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flipH="1">
                <a:off x="1688760" y="4133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8" name=""/>
            <p:cNvGrpSpPr/>
            <p:nvPr/>
          </p:nvGrpSpPr>
          <p:grpSpPr>
            <a:xfrm>
              <a:off x="1688760" y="4501800"/>
              <a:ext cx="114120" cy="88920"/>
              <a:chOff x="1688760" y="4501800"/>
              <a:chExt cx="114120" cy="88920"/>
            </a:xfrm>
          </p:grpSpPr>
          <p:sp>
            <p:nvSpPr>
              <p:cNvPr id="1819" name=""/>
              <p:cNvSpPr/>
              <p:nvPr/>
            </p:nvSpPr>
            <p:spPr>
              <a:xfrm>
                <a:off x="170172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H="1">
                <a:off x="1688760" y="45018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1" name=""/>
            <p:cNvGrpSpPr/>
            <p:nvPr/>
          </p:nvGrpSpPr>
          <p:grpSpPr>
            <a:xfrm>
              <a:off x="1562040" y="3396960"/>
              <a:ext cx="114480" cy="88920"/>
              <a:chOff x="1562040" y="3396960"/>
              <a:chExt cx="114480" cy="88920"/>
            </a:xfrm>
          </p:grpSpPr>
          <p:sp>
            <p:nvSpPr>
              <p:cNvPr id="1822" name=""/>
              <p:cNvSpPr/>
              <p:nvPr/>
            </p:nvSpPr>
            <p:spPr>
              <a:xfrm>
                <a:off x="157464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H="1">
                <a:off x="1562040" y="3396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4" name=""/>
            <p:cNvGrpSpPr/>
            <p:nvPr/>
          </p:nvGrpSpPr>
          <p:grpSpPr>
            <a:xfrm>
              <a:off x="1562040" y="3765240"/>
              <a:ext cx="114480" cy="88920"/>
              <a:chOff x="1562040" y="3765240"/>
              <a:chExt cx="114480" cy="88920"/>
            </a:xfrm>
          </p:grpSpPr>
          <p:sp>
            <p:nvSpPr>
              <p:cNvPr id="1825" name=""/>
              <p:cNvSpPr/>
              <p:nvPr/>
            </p:nvSpPr>
            <p:spPr>
              <a:xfrm>
                <a:off x="157464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H="1">
                <a:off x="1562040" y="3765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7" name=""/>
            <p:cNvGrpSpPr/>
            <p:nvPr/>
          </p:nvGrpSpPr>
          <p:grpSpPr>
            <a:xfrm>
              <a:off x="1562040" y="4133520"/>
              <a:ext cx="114480" cy="88920"/>
              <a:chOff x="1562040" y="4133520"/>
              <a:chExt cx="114480" cy="88920"/>
            </a:xfrm>
          </p:grpSpPr>
          <p:sp>
            <p:nvSpPr>
              <p:cNvPr id="1828" name=""/>
              <p:cNvSpPr/>
              <p:nvPr/>
            </p:nvSpPr>
            <p:spPr>
              <a:xfrm>
                <a:off x="157464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flipH="1">
                <a:off x="1562040" y="41335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0" name=""/>
            <p:cNvGrpSpPr/>
            <p:nvPr/>
          </p:nvGrpSpPr>
          <p:grpSpPr>
            <a:xfrm>
              <a:off x="1562040" y="4501800"/>
              <a:ext cx="114480" cy="88920"/>
              <a:chOff x="1562040" y="4501800"/>
              <a:chExt cx="114480" cy="88920"/>
            </a:xfrm>
          </p:grpSpPr>
          <p:sp>
            <p:nvSpPr>
              <p:cNvPr id="1831" name=""/>
              <p:cNvSpPr/>
              <p:nvPr/>
            </p:nvSpPr>
            <p:spPr>
              <a:xfrm>
                <a:off x="157464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H="1">
                <a:off x="1562040" y="45018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3" name=""/>
            <p:cNvSpPr/>
            <p:nvPr/>
          </p:nvSpPr>
          <p:spPr>
            <a:xfrm flipH="1">
              <a:off x="1384200" y="314316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270080" y="3143160"/>
              <a:ext cx="11412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>
              <a:off x="1256760" y="31366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434960" y="32572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390680" y="30160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454040" y="33206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326960" y="32446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0" name=""/>
            <p:cNvGrpSpPr/>
            <p:nvPr/>
          </p:nvGrpSpPr>
          <p:grpSpPr>
            <a:xfrm>
              <a:off x="1396800" y="3396960"/>
              <a:ext cx="114480" cy="88920"/>
              <a:chOff x="1396800" y="3396960"/>
              <a:chExt cx="114480" cy="88920"/>
            </a:xfrm>
          </p:grpSpPr>
          <p:sp>
            <p:nvSpPr>
              <p:cNvPr id="1841" name=""/>
              <p:cNvSpPr/>
              <p:nvPr/>
            </p:nvSpPr>
            <p:spPr>
              <a:xfrm>
                <a:off x="140976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flipH="1">
                <a:off x="1396800" y="3396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3" name=""/>
            <p:cNvGrpSpPr/>
            <p:nvPr/>
          </p:nvGrpSpPr>
          <p:grpSpPr>
            <a:xfrm>
              <a:off x="1396800" y="3765240"/>
              <a:ext cx="114480" cy="88920"/>
              <a:chOff x="1396800" y="3765240"/>
              <a:chExt cx="114480" cy="88920"/>
            </a:xfrm>
          </p:grpSpPr>
          <p:sp>
            <p:nvSpPr>
              <p:cNvPr id="1844" name=""/>
              <p:cNvSpPr/>
              <p:nvPr/>
            </p:nvSpPr>
            <p:spPr>
              <a:xfrm>
                <a:off x="140976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H="1">
                <a:off x="1396800" y="3765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6" name=""/>
            <p:cNvGrpSpPr/>
            <p:nvPr/>
          </p:nvGrpSpPr>
          <p:grpSpPr>
            <a:xfrm>
              <a:off x="1396800" y="4133520"/>
              <a:ext cx="114480" cy="88920"/>
              <a:chOff x="1396800" y="4133520"/>
              <a:chExt cx="114480" cy="88920"/>
            </a:xfrm>
          </p:grpSpPr>
          <p:sp>
            <p:nvSpPr>
              <p:cNvPr id="1847" name=""/>
              <p:cNvSpPr/>
              <p:nvPr/>
            </p:nvSpPr>
            <p:spPr>
              <a:xfrm>
                <a:off x="140976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H="1">
                <a:off x="1396800" y="41335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9" name=""/>
            <p:cNvGrpSpPr/>
            <p:nvPr/>
          </p:nvGrpSpPr>
          <p:grpSpPr>
            <a:xfrm>
              <a:off x="1396800" y="4501800"/>
              <a:ext cx="114480" cy="88920"/>
              <a:chOff x="1396800" y="4501800"/>
              <a:chExt cx="114480" cy="88920"/>
            </a:xfrm>
          </p:grpSpPr>
          <p:sp>
            <p:nvSpPr>
              <p:cNvPr id="1850" name=""/>
              <p:cNvSpPr/>
              <p:nvPr/>
            </p:nvSpPr>
            <p:spPr>
              <a:xfrm>
                <a:off x="140976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flipH="1">
                <a:off x="1396800" y="45018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2" name=""/>
            <p:cNvGrpSpPr/>
            <p:nvPr/>
          </p:nvGrpSpPr>
          <p:grpSpPr>
            <a:xfrm>
              <a:off x="1269720" y="3396960"/>
              <a:ext cx="114120" cy="88920"/>
              <a:chOff x="1269720" y="3396960"/>
              <a:chExt cx="114120" cy="88920"/>
            </a:xfrm>
          </p:grpSpPr>
          <p:sp>
            <p:nvSpPr>
              <p:cNvPr id="1853" name=""/>
              <p:cNvSpPr/>
              <p:nvPr/>
            </p:nvSpPr>
            <p:spPr>
              <a:xfrm>
                <a:off x="128268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flipH="1">
                <a:off x="1269720" y="3396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5" name=""/>
            <p:cNvGrpSpPr/>
            <p:nvPr/>
          </p:nvGrpSpPr>
          <p:grpSpPr>
            <a:xfrm>
              <a:off x="1269720" y="3765240"/>
              <a:ext cx="114120" cy="88920"/>
              <a:chOff x="1269720" y="3765240"/>
              <a:chExt cx="114120" cy="88920"/>
            </a:xfrm>
          </p:grpSpPr>
          <p:sp>
            <p:nvSpPr>
              <p:cNvPr id="1856" name=""/>
              <p:cNvSpPr/>
              <p:nvPr/>
            </p:nvSpPr>
            <p:spPr>
              <a:xfrm>
                <a:off x="128268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flipH="1">
                <a:off x="1269720" y="3765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"/>
            <p:cNvGrpSpPr/>
            <p:nvPr/>
          </p:nvGrpSpPr>
          <p:grpSpPr>
            <a:xfrm>
              <a:off x="1269720" y="4133520"/>
              <a:ext cx="114120" cy="88920"/>
              <a:chOff x="1269720" y="4133520"/>
              <a:chExt cx="114120" cy="88920"/>
            </a:xfrm>
          </p:grpSpPr>
          <p:sp>
            <p:nvSpPr>
              <p:cNvPr id="1859" name=""/>
              <p:cNvSpPr/>
              <p:nvPr/>
            </p:nvSpPr>
            <p:spPr>
              <a:xfrm>
                <a:off x="128268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flipH="1">
                <a:off x="1269720" y="4133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1" name=""/>
            <p:cNvGrpSpPr/>
            <p:nvPr/>
          </p:nvGrpSpPr>
          <p:grpSpPr>
            <a:xfrm>
              <a:off x="1269720" y="4501800"/>
              <a:ext cx="114120" cy="88920"/>
              <a:chOff x="1269720" y="4501800"/>
              <a:chExt cx="114120" cy="88920"/>
            </a:xfrm>
          </p:grpSpPr>
          <p:sp>
            <p:nvSpPr>
              <p:cNvPr id="1862" name=""/>
              <p:cNvSpPr/>
              <p:nvPr/>
            </p:nvSpPr>
            <p:spPr>
              <a:xfrm>
                <a:off x="128268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flipH="1">
                <a:off x="1269720" y="45018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4" name=""/>
            <p:cNvSpPr/>
            <p:nvPr/>
          </p:nvSpPr>
          <p:spPr>
            <a:xfrm flipH="1">
              <a:off x="1092240" y="314316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977760" y="3143160"/>
              <a:ext cx="1144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H="1">
              <a:off x="964800" y="31366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143000" y="32572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098360" y="30160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1162080" y="33206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035000" y="32446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1" name=""/>
            <p:cNvGrpSpPr/>
            <p:nvPr/>
          </p:nvGrpSpPr>
          <p:grpSpPr>
            <a:xfrm>
              <a:off x="1104840" y="3396960"/>
              <a:ext cx="114480" cy="88920"/>
              <a:chOff x="1104840" y="3396960"/>
              <a:chExt cx="114480" cy="88920"/>
            </a:xfrm>
          </p:grpSpPr>
          <p:sp>
            <p:nvSpPr>
              <p:cNvPr id="1872" name=""/>
              <p:cNvSpPr/>
              <p:nvPr/>
            </p:nvSpPr>
            <p:spPr>
              <a:xfrm>
                <a:off x="111744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H="1">
                <a:off x="1104840" y="3396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4" name=""/>
            <p:cNvGrpSpPr/>
            <p:nvPr/>
          </p:nvGrpSpPr>
          <p:grpSpPr>
            <a:xfrm>
              <a:off x="1104840" y="3765240"/>
              <a:ext cx="114480" cy="88920"/>
              <a:chOff x="1104840" y="3765240"/>
              <a:chExt cx="114480" cy="88920"/>
            </a:xfrm>
          </p:grpSpPr>
          <p:sp>
            <p:nvSpPr>
              <p:cNvPr id="1875" name=""/>
              <p:cNvSpPr/>
              <p:nvPr/>
            </p:nvSpPr>
            <p:spPr>
              <a:xfrm>
                <a:off x="111744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H="1">
                <a:off x="1104840" y="3765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7" name=""/>
            <p:cNvGrpSpPr/>
            <p:nvPr/>
          </p:nvGrpSpPr>
          <p:grpSpPr>
            <a:xfrm>
              <a:off x="1104840" y="4133520"/>
              <a:ext cx="114480" cy="88920"/>
              <a:chOff x="1104840" y="4133520"/>
              <a:chExt cx="114480" cy="88920"/>
            </a:xfrm>
          </p:grpSpPr>
          <p:sp>
            <p:nvSpPr>
              <p:cNvPr id="1878" name=""/>
              <p:cNvSpPr/>
              <p:nvPr/>
            </p:nvSpPr>
            <p:spPr>
              <a:xfrm>
                <a:off x="111744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flipH="1">
                <a:off x="1104840" y="41335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0" name=""/>
            <p:cNvGrpSpPr/>
            <p:nvPr/>
          </p:nvGrpSpPr>
          <p:grpSpPr>
            <a:xfrm>
              <a:off x="1104840" y="4501800"/>
              <a:ext cx="114480" cy="88920"/>
              <a:chOff x="1104840" y="4501800"/>
              <a:chExt cx="114480" cy="88920"/>
            </a:xfrm>
          </p:grpSpPr>
          <p:sp>
            <p:nvSpPr>
              <p:cNvPr id="1881" name=""/>
              <p:cNvSpPr/>
              <p:nvPr/>
            </p:nvSpPr>
            <p:spPr>
              <a:xfrm>
                <a:off x="111744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flipH="1">
                <a:off x="1104840" y="45018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3" name=""/>
            <p:cNvGrpSpPr/>
            <p:nvPr/>
          </p:nvGrpSpPr>
          <p:grpSpPr>
            <a:xfrm>
              <a:off x="977760" y="3396960"/>
              <a:ext cx="114480" cy="88920"/>
              <a:chOff x="977760" y="3396960"/>
              <a:chExt cx="114480" cy="88920"/>
            </a:xfrm>
          </p:grpSpPr>
          <p:sp>
            <p:nvSpPr>
              <p:cNvPr id="1884" name=""/>
              <p:cNvSpPr/>
              <p:nvPr/>
            </p:nvSpPr>
            <p:spPr>
              <a:xfrm>
                <a:off x="990720" y="339696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 flipH="1">
                <a:off x="977760" y="3396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6" name=""/>
            <p:cNvGrpSpPr/>
            <p:nvPr/>
          </p:nvGrpSpPr>
          <p:grpSpPr>
            <a:xfrm>
              <a:off x="977760" y="3765240"/>
              <a:ext cx="114480" cy="88920"/>
              <a:chOff x="977760" y="3765240"/>
              <a:chExt cx="114480" cy="88920"/>
            </a:xfrm>
          </p:grpSpPr>
          <p:sp>
            <p:nvSpPr>
              <p:cNvPr id="1887" name=""/>
              <p:cNvSpPr/>
              <p:nvPr/>
            </p:nvSpPr>
            <p:spPr>
              <a:xfrm>
                <a:off x="990720" y="37652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flipH="1">
                <a:off x="977760" y="3765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9" name=""/>
            <p:cNvGrpSpPr/>
            <p:nvPr/>
          </p:nvGrpSpPr>
          <p:grpSpPr>
            <a:xfrm>
              <a:off x="977760" y="4133520"/>
              <a:ext cx="114480" cy="88920"/>
              <a:chOff x="977760" y="4133520"/>
              <a:chExt cx="114480" cy="88920"/>
            </a:xfrm>
          </p:grpSpPr>
          <p:sp>
            <p:nvSpPr>
              <p:cNvPr id="1890" name=""/>
              <p:cNvSpPr/>
              <p:nvPr/>
            </p:nvSpPr>
            <p:spPr>
              <a:xfrm>
                <a:off x="990720" y="413352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H="1">
                <a:off x="977760" y="41335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2" name=""/>
            <p:cNvGrpSpPr/>
            <p:nvPr/>
          </p:nvGrpSpPr>
          <p:grpSpPr>
            <a:xfrm>
              <a:off x="977760" y="4501800"/>
              <a:ext cx="114480" cy="88920"/>
              <a:chOff x="977760" y="4501800"/>
              <a:chExt cx="114480" cy="88920"/>
            </a:xfrm>
          </p:grpSpPr>
          <p:sp>
            <p:nvSpPr>
              <p:cNvPr id="1893" name=""/>
              <p:cNvSpPr/>
              <p:nvPr/>
            </p:nvSpPr>
            <p:spPr>
              <a:xfrm>
                <a:off x="990720" y="450180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 flipH="1">
                <a:off x="977760" y="45018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5" name=""/>
            <p:cNvSpPr/>
            <p:nvPr/>
          </p:nvSpPr>
          <p:spPr>
            <a:xfrm flipH="1">
              <a:off x="799920" y="314316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85800" y="3143160"/>
              <a:ext cx="11412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H="1">
              <a:off x="673200" y="313668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850680" y="325728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806400" y="30160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869760" y="33206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743040" y="3244680"/>
              <a:ext cx="0" cy="153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2" name=""/>
            <p:cNvGrpSpPr/>
            <p:nvPr/>
          </p:nvGrpSpPr>
          <p:grpSpPr>
            <a:xfrm>
              <a:off x="812520" y="3396960"/>
              <a:ext cx="114120" cy="88920"/>
              <a:chOff x="812520" y="3396960"/>
              <a:chExt cx="114120" cy="88920"/>
            </a:xfrm>
          </p:grpSpPr>
          <p:sp>
            <p:nvSpPr>
              <p:cNvPr id="1903" name=""/>
              <p:cNvSpPr/>
              <p:nvPr/>
            </p:nvSpPr>
            <p:spPr>
              <a:xfrm>
                <a:off x="82548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H="1">
                <a:off x="812520" y="3396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5" name=""/>
            <p:cNvGrpSpPr/>
            <p:nvPr/>
          </p:nvGrpSpPr>
          <p:grpSpPr>
            <a:xfrm>
              <a:off x="812520" y="3765240"/>
              <a:ext cx="114120" cy="88920"/>
              <a:chOff x="812520" y="3765240"/>
              <a:chExt cx="114120" cy="88920"/>
            </a:xfrm>
          </p:grpSpPr>
          <p:sp>
            <p:nvSpPr>
              <p:cNvPr id="1906" name=""/>
              <p:cNvSpPr/>
              <p:nvPr/>
            </p:nvSpPr>
            <p:spPr>
              <a:xfrm>
                <a:off x="82548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flipH="1">
                <a:off x="812520" y="3765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8" name=""/>
            <p:cNvGrpSpPr/>
            <p:nvPr/>
          </p:nvGrpSpPr>
          <p:grpSpPr>
            <a:xfrm>
              <a:off x="812520" y="4133520"/>
              <a:ext cx="114120" cy="88920"/>
              <a:chOff x="812520" y="4133520"/>
              <a:chExt cx="114120" cy="88920"/>
            </a:xfrm>
          </p:grpSpPr>
          <p:sp>
            <p:nvSpPr>
              <p:cNvPr id="1909" name=""/>
              <p:cNvSpPr/>
              <p:nvPr/>
            </p:nvSpPr>
            <p:spPr>
              <a:xfrm>
                <a:off x="82548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 flipH="1">
                <a:off x="812520" y="4133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1" name=""/>
            <p:cNvGrpSpPr/>
            <p:nvPr/>
          </p:nvGrpSpPr>
          <p:grpSpPr>
            <a:xfrm>
              <a:off x="812520" y="4501800"/>
              <a:ext cx="114120" cy="88920"/>
              <a:chOff x="812520" y="4501800"/>
              <a:chExt cx="114120" cy="88920"/>
            </a:xfrm>
          </p:grpSpPr>
          <p:sp>
            <p:nvSpPr>
              <p:cNvPr id="1912" name=""/>
              <p:cNvSpPr/>
              <p:nvPr/>
            </p:nvSpPr>
            <p:spPr>
              <a:xfrm>
                <a:off x="82548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 flipH="1">
                <a:off x="812520" y="45018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4" name=""/>
            <p:cNvGrpSpPr/>
            <p:nvPr/>
          </p:nvGrpSpPr>
          <p:grpSpPr>
            <a:xfrm>
              <a:off x="685440" y="3396960"/>
              <a:ext cx="114120" cy="88920"/>
              <a:chOff x="685440" y="3396960"/>
              <a:chExt cx="114120" cy="88920"/>
            </a:xfrm>
          </p:grpSpPr>
          <p:sp>
            <p:nvSpPr>
              <p:cNvPr id="1915" name=""/>
              <p:cNvSpPr/>
              <p:nvPr/>
            </p:nvSpPr>
            <p:spPr>
              <a:xfrm>
                <a:off x="69840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flipH="1">
                <a:off x="685440" y="3396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7" name=""/>
            <p:cNvGrpSpPr/>
            <p:nvPr/>
          </p:nvGrpSpPr>
          <p:grpSpPr>
            <a:xfrm>
              <a:off x="685440" y="3765240"/>
              <a:ext cx="114120" cy="88920"/>
              <a:chOff x="685440" y="3765240"/>
              <a:chExt cx="114120" cy="88920"/>
            </a:xfrm>
          </p:grpSpPr>
          <p:sp>
            <p:nvSpPr>
              <p:cNvPr id="1918" name=""/>
              <p:cNvSpPr/>
              <p:nvPr/>
            </p:nvSpPr>
            <p:spPr>
              <a:xfrm>
                <a:off x="69840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flipH="1">
                <a:off x="685440" y="3765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0" name=""/>
            <p:cNvGrpSpPr/>
            <p:nvPr/>
          </p:nvGrpSpPr>
          <p:grpSpPr>
            <a:xfrm>
              <a:off x="685440" y="4133520"/>
              <a:ext cx="114120" cy="88920"/>
              <a:chOff x="685440" y="4133520"/>
              <a:chExt cx="114120" cy="88920"/>
            </a:xfrm>
          </p:grpSpPr>
          <p:sp>
            <p:nvSpPr>
              <p:cNvPr id="1921" name=""/>
              <p:cNvSpPr/>
              <p:nvPr/>
            </p:nvSpPr>
            <p:spPr>
              <a:xfrm>
                <a:off x="69840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H="1">
                <a:off x="685440" y="4133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3" name=""/>
            <p:cNvGrpSpPr/>
            <p:nvPr/>
          </p:nvGrpSpPr>
          <p:grpSpPr>
            <a:xfrm>
              <a:off x="685440" y="4501800"/>
              <a:ext cx="114120" cy="88920"/>
              <a:chOff x="685440" y="4501800"/>
              <a:chExt cx="114120" cy="88920"/>
            </a:xfrm>
          </p:grpSpPr>
          <p:sp>
            <p:nvSpPr>
              <p:cNvPr id="1924" name=""/>
              <p:cNvSpPr/>
              <p:nvPr/>
            </p:nvSpPr>
            <p:spPr>
              <a:xfrm>
                <a:off x="69840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flipH="1">
                <a:off x="685440" y="45018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6" name=""/>
            <p:cNvGrpSpPr/>
            <p:nvPr/>
          </p:nvGrpSpPr>
          <p:grpSpPr>
            <a:xfrm>
              <a:off x="2565720" y="3244680"/>
              <a:ext cx="305280" cy="2108160"/>
              <a:chOff x="2565720" y="3244680"/>
              <a:chExt cx="305280" cy="2108160"/>
            </a:xfrm>
          </p:grpSpPr>
          <p:sp>
            <p:nvSpPr>
              <p:cNvPr id="1927" name=""/>
              <p:cNvSpPr/>
              <p:nvPr/>
            </p:nvSpPr>
            <p:spPr>
              <a:xfrm>
                <a:off x="2590920" y="4692240"/>
                <a:ext cx="2660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565720" y="4285800"/>
                <a:ext cx="29124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579760" y="4336920"/>
                <a:ext cx="29124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579760" y="4692240"/>
                <a:ext cx="2912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2711520" y="3244680"/>
                <a:ext cx="0" cy="15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711520" y="52383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33" name=""/>
              <p:cNvGrpSpPr/>
              <p:nvPr/>
            </p:nvGrpSpPr>
            <p:grpSpPr>
              <a:xfrm>
                <a:off x="2653920" y="3396960"/>
                <a:ext cx="114120" cy="88920"/>
                <a:chOff x="2653920" y="3396960"/>
                <a:chExt cx="114120" cy="88920"/>
              </a:xfrm>
            </p:grpSpPr>
            <p:sp>
              <p:nvSpPr>
                <p:cNvPr id="1934" name=""/>
                <p:cNvSpPr/>
                <p:nvPr/>
              </p:nvSpPr>
              <p:spPr>
                <a:xfrm>
                  <a:off x="2666880" y="33969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 flipH="1">
                  <a:off x="2653920" y="33969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6" name=""/>
              <p:cNvGrpSpPr/>
              <p:nvPr/>
            </p:nvGrpSpPr>
            <p:grpSpPr>
              <a:xfrm>
                <a:off x="2653920" y="3765240"/>
                <a:ext cx="114120" cy="88920"/>
                <a:chOff x="2653920" y="3765240"/>
                <a:chExt cx="114120" cy="88920"/>
              </a:xfrm>
            </p:grpSpPr>
            <p:sp>
              <p:nvSpPr>
                <p:cNvPr id="1937" name=""/>
                <p:cNvSpPr/>
                <p:nvPr/>
              </p:nvSpPr>
              <p:spPr>
                <a:xfrm>
                  <a:off x="2666880" y="37652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 flipH="1">
                  <a:off x="2653920" y="37652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9" name=""/>
              <p:cNvGrpSpPr/>
              <p:nvPr/>
            </p:nvGrpSpPr>
            <p:grpSpPr>
              <a:xfrm>
                <a:off x="2653920" y="4133520"/>
                <a:ext cx="114120" cy="88920"/>
                <a:chOff x="2653920" y="4133520"/>
                <a:chExt cx="114120" cy="88920"/>
              </a:xfrm>
            </p:grpSpPr>
            <p:sp>
              <p:nvSpPr>
                <p:cNvPr id="1940" name=""/>
                <p:cNvSpPr/>
                <p:nvPr/>
              </p:nvSpPr>
              <p:spPr>
                <a:xfrm>
                  <a:off x="2666880" y="4133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 flipH="1">
                  <a:off x="2653920" y="4133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2" name=""/>
              <p:cNvGrpSpPr/>
              <p:nvPr/>
            </p:nvGrpSpPr>
            <p:grpSpPr>
              <a:xfrm>
                <a:off x="2653920" y="4501800"/>
                <a:ext cx="114120" cy="88920"/>
                <a:chOff x="2653920" y="4501800"/>
                <a:chExt cx="114120" cy="88920"/>
              </a:xfrm>
            </p:grpSpPr>
            <p:sp>
              <p:nvSpPr>
                <p:cNvPr id="1943" name=""/>
                <p:cNvSpPr/>
                <p:nvPr/>
              </p:nvSpPr>
              <p:spPr>
                <a:xfrm>
                  <a:off x="2666880" y="450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 flipH="1">
                  <a:off x="2653920" y="450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45" name=""/>
            <p:cNvGrpSpPr/>
            <p:nvPr/>
          </p:nvGrpSpPr>
          <p:grpSpPr>
            <a:xfrm>
              <a:off x="2934000" y="3244680"/>
              <a:ext cx="305280" cy="2108160"/>
              <a:chOff x="2934000" y="3244680"/>
              <a:chExt cx="305280" cy="2108160"/>
            </a:xfrm>
          </p:grpSpPr>
          <p:sp>
            <p:nvSpPr>
              <p:cNvPr id="1946" name=""/>
              <p:cNvSpPr/>
              <p:nvPr/>
            </p:nvSpPr>
            <p:spPr>
              <a:xfrm>
                <a:off x="2959200" y="4692240"/>
                <a:ext cx="2660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934000" y="4285800"/>
                <a:ext cx="29124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948040" y="4336920"/>
                <a:ext cx="29124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948040" y="4692240"/>
                <a:ext cx="2912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3079800" y="3244680"/>
                <a:ext cx="0" cy="15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3079800" y="52383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2" name=""/>
              <p:cNvGrpSpPr/>
              <p:nvPr/>
            </p:nvGrpSpPr>
            <p:grpSpPr>
              <a:xfrm>
                <a:off x="3022200" y="3396960"/>
                <a:ext cx="114120" cy="88920"/>
                <a:chOff x="3022200" y="3396960"/>
                <a:chExt cx="114120" cy="88920"/>
              </a:xfrm>
            </p:grpSpPr>
            <p:sp>
              <p:nvSpPr>
                <p:cNvPr id="1953" name=""/>
                <p:cNvSpPr/>
                <p:nvPr/>
              </p:nvSpPr>
              <p:spPr>
                <a:xfrm>
                  <a:off x="3035160" y="33969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 flipH="1">
                  <a:off x="3022200" y="33969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5" name=""/>
              <p:cNvGrpSpPr/>
              <p:nvPr/>
            </p:nvGrpSpPr>
            <p:grpSpPr>
              <a:xfrm>
                <a:off x="3022200" y="3765240"/>
                <a:ext cx="114120" cy="88920"/>
                <a:chOff x="3022200" y="3765240"/>
                <a:chExt cx="114120" cy="88920"/>
              </a:xfrm>
            </p:grpSpPr>
            <p:sp>
              <p:nvSpPr>
                <p:cNvPr id="1956" name=""/>
                <p:cNvSpPr/>
                <p:nvPr/>
              </p:nvSpPr>
              <p:spPr>
                <a:xfrm>
                  <a:off x="3035160" y="37652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 flipH="1">
                  <a:off x="3022200" y="37652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8" name=""/>
              <p:cNvGrpSpPr/>
              <p:nvPr/>
            </p:nvGrpSpPr>
            <p:grpSpPr>
              <a:xfrm>
                <a:off x="3022200" y="4133520"/>
                <a:ext cx="114120" cy="88920"/>
                <a:chOff x="3022200" y="4133520"/>
                <a:chExt cx="114120" cy="88920"/>
              </a:xfrm>
            </p:grpSpPr>
            <p:sp>
              <p:nvSpPr>
                <p:cNvPr id="1959" name=""/>
                <p:cNvSpPr/>
                <p:nvPr/>
              </p:nvSpPr>
              <p:spPr>
                <a:xfrm>
                  <a:off x="3035160" y="4133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 flipH="1">
                  <a:off x="3022200" y="4133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1" name=""/>
              <p:cNvGrpSpPr/>
              <p:nvPr/>
            </p:nvGrpSpPr>
            <p:grpSpPr>
              <a:xfrm>
                <a:off x="3022200" y="4501800"/>
                <a:ext cx="114120" cy="88920"/>
                <a:chOff x="3022200" y="4501800"/>
                <a:chExt cx="114120" cy="88920"/>
              </a:xfrm>
            </p:grpSpPr>
            <p:sp>
              <p:nvSpPr>
                <p:cNvPr id="1962" name=""/>
                <p:cNvSpPr/>
                <p:nvPr/>
              </p:nvSpPr>
              <p:spPr>
                <a:xfrm>
                  <a:off x="3035160" y="450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 flipH="1">
                  <a:off x="3022200" y="450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64" name=""/>
            <p:cNvGrpSpPr/>
            <p:nvPr/>
          </p:nvGrpSpPr>
          <p:grpSpPr>
            <a:xfrm>
              <a:off x="3289680" y="3244680"/>
              <a:ext cx="305640" cy="2108160"/>
              <a:chOff x="3289680" y="3244680"/>
              <a:chExt cx="305640" cy="2108160"/>
            </a:xfrm>
          </p:grpSpPr>
          <p:sp>
            <p:nvSpPr>
              <p:cNvPr id="1965" name=""/>
              <p:cNvSpPr/>
              <p:nvPr/>
            </p:nvSpPr>
            <p:spPr>
              <a:xfrm>
                <a:off x="3314880" y="4692240"/>
                <a:ext cx="2660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3289680" y="4285800"/>
                <a:ext cx="29124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303360" y="4336920"/>
                <a:ext cx="29196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303360" y="4692240"/>
                <a:ext cx="29196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435480" y="3244680"/>
                <a:ext cx="0" cy="15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435480" y="52383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1" name=""/>
              <p:cNvGrpSpPr/>
              <p:nvPr/>
            </p:nvGrpSpPr>
            <p:grpSpPr>
              <a:xfrm>
                <a:off x="3377880" y="3396960"/>
                <a:ext cx="114120" cy="88920"/>
                <a:chOff x="3377880" y="3396960"/>
                <a:chExt cx="114120" cy="88920"/>
              </a:xfrm>
            </p:grpSpPr>
            <p:sp>
              <p:nvSpPr>
                <p:cNvPr id="1972" name=""/>
                <p:cNvSpPr/>
                <p:nvPr/>
              </p:nvSpPr>
              <p:spPr>
                <a:xfrm>
                  <a:off x="3390840" y="33969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 flipH="1">
                  <a:off x="3377880" y="33969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4" name=""/>
              <p:cNvGrpSpPr/>
              <p:nvPr/>
            </p:nvGrpSpPr>
            <p:grpSpPr>
              <a:xfrm>
                <a:off x="3377880" y="3765240"/>
                <a:ext cx="114120" cy="88920"/>
                <a:chOff x="3377880" y="3765240"/>
                <a:chExt cx="114120" cy="88920"/>
              </a:xfrm>
            </p:grpSpPr>
            <p:sp>
              <p:nvSpPr>
                <p:cNvPr id="1975" name=""/>
                <p:cNvSpPr/>
                <p:nvPr/>
              </p:nvSpPr>
              <p:spPr>
                <a:xfrm>
                  <a:off x="3390840" y="37652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 flipH="1">
                  <a:off x="3377880" y="37652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7" name=""/>
              <p:cNvGrpSpPr/>
              <p:nvPr/>
            </p:nvGrpSpPr>
            <p:grpSpPr>
              <a:xfrm>
                <a:off x="3377880" y="4133520"/>
                <a:ext cx="114120" cy="88920"/>
                <a:chOff x="3377880" y="4133520"/>
                <a:chExt cx="114120" cy="88920"/>
              </a:xfrm>
            </p:grpSpPr>
            <p:sp>
              <p:nvSpPr>
                <p:cNvPr id="1978" name=""/>
                <p:cNvSpPr/>
                <p:nvPr/>
              </p:nvSpPr>
              <p:spPr>
                <a:xfrm>
                  <a:off x="3390840" y="4133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 flipH="1">
                  <a:off x="3377880" y="4133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0" name=""/>
              <p:cNvGrpSpPr/>
              <p:nvPr/>
            </p:nvGrpSpPr>
            <p:grpSpPr>
              <a:xfrm>
                <a:off x="3377880" y="4501800"/>
                <a:ext cx="114120" cy="88920"/>
                <a:chOff x="3377880" y="4501800"/>
                <a:chExt cx="114120" cy="88920"/>
              </a:xfrm>
            </p:grpSpPr>
            <p:sp>
              <p:nvSpPr>
                <p:cNvPr id="1981" name=""/>
                <p:cNvSpPr/>
                <p:nvPr/>
              </p:nvSpPr>
              <p:spPr>
                <a:xfrm>
                  <a:off x="3390840" y="450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 flipH="1">
                  <a:off x="3377880" y="450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83" name=""/>
            <p:cNvGrpSpPr/>
            <p:nvPr/>
          </p:nvGrpSpPr>
          <p:grpSpPr>
            <a:xfrm>
              <a:off x="3644640" y="3244680"/>
              <a:ext cx="306360" cy="2108160"/>
              <a:chOff x="3644640" y="3244680"/>
              <a:chExt cx="306360" cy="2108160"/>
            </a:xfrm>
          </p:grpSpPr>
          <p:sp>
            <p:nvSpPr>
              <p:cNvPr id="1984" name=""/>
              <p:cNvSpPr/>
              <p:nvPr/>
            </p:nvSpPr>
            <p:spPr>
              <a:xfrm>
                <a:off x="3670560" y="4692240"/>
                <a:ext cx="2660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644640" y="4285800"/>
                <a:ext cx="29196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3659040" y="4336920"/>
                <a:ext cx="29196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3659040" y="4692240"/>
                <a:ext cx="29196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3790800" y="3244680"/>
                <a:ext cx="0" cy="15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3790800" y="52383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0" name=""/>
              <p:cNvGrpSpPr/>
              <p:nvPr/>
            </p:nvGrpSpPr>
            <p:grpSpPr>
              <a:xfrm>
                <a:off x="3733560" y="3396960"/>
                <a:ext cx="114120" cy="88920"/>
                <a:chOff x="3733560" y="3396960"/>
                <a:chExt cx="114120" cy="88920"/>
              </a:xfrm>
            </p:grpSpPr>
            <p:sp>
              <p:nvSpPr>
                <p:cNvPr id="1991" name=""/>
                <p:cNvSpPr/>
                <p:nvPr/>
              </p:nvSpPr>
              <p:spPr>
                <a:xfrm>
                  <a:off x="3746520" y="33969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 flipH="1">
                  <a:off x="3733560" y="33969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3" name=""/>
              <p:cNvGrpSpPr/>
              <p:nvPr/>
            </p:nvGrpSpPr>
            <p:grpSpPr>
              <a:xfrm>
                <a:off x="3733560" y="3765240"/>
                <a:ext cx="114120" cy="88920"/>
                <a:chOff x="3733560" y="3765240"/>
                <a:chExt cx="114120" cy="88920"/>
              </a:xfrm>
            </p:grpSpPr>
            <p:sp>
              <p:nvSpPr>
                <p:cNvPr id="1994" name=""/>
                <p:cNvSpPr/>
                <p:nvPr/>
              </p:nvSpPr>
              <p:spPr>
                <a:xfrm>
                  <a:off x="3746520" y="37652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 flipH="1">
                  <a:off x="3733560" y="37652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6" name=""/>
              <p:cNvGrpSpPr/>
              <p:nvPr/>
            </p:nvGrpSpPr>
            <p:grpSpPr>
              <a:xfrm>
                <a:off x="3733560" y="4133520"/>
                <a:ext cx="114120" cy="88920"/>
                <a:chOff x="3733560" y="4133520"/>
                <a:chExt cx="114120" cy="88920"/>
              </a:xfrm>
            </p:grpSpPr>
            <p:sp>
              <p:nvSpPr>
                <p:cNvPr id="1997" name=""/>
                <p:cNvSpPr/>
                <p:nvPr/>
              </p:nvSpPr>
              <p:spPr>
                <a:xfrm>
                  <a:off x="3746520" y="4133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 flipH="1">
                  <a:off x="3733560" y="4133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9" name=""/>
              <p:cNvGrpSpPr/>
              <p:nvPr/>
            </p:nvGrpSpPr>
            <p:grpSpPr>
              <a:xfrm>
                <a:off x="3733560" y="4501800"/>
                <a:ext cx="114120" cy="88920"/>
                <a:chOff x="3733560" y="4501800"/>
                <a:chExt cx="114120" cy="88920"/>
              </a:xfrm>
            </p:grpSpPr>
            <p:sp>
              <p:nvSpPr>
                <p:cNvPr id="2000" name=""/>
                <p:cNvSpPr/>
                <p:nvPr/>
              </p:nvSpPr>
              <p:spPr>
                <a:xfrm>
                  <a:off x="3746520" y="450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 flipH="1">
                  <a:off x="3733560" y="450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02" name=""/>
          <p:cNvSpPr/>
          <p:nvPr/>
        </p:nvSpPr>
        <p:spPr>
          <a:xfrm>
            <a:off x="5365800" y="2679840"/>
            <a:ext cx="29970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ation for impleme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0 = A B  +  A' 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1 = C D'  +  C'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3" name=""/>
          <p:cNvGrpSpPr/>
          <p:nvPr/>
        </p:nvGrpSpPr>
        <p:grpSpPr>
          <a:xfrm>
            <a:off x="1244160" y="2190600"/>
            <a:ext cx="114120" cy="88560"/>
            <a:chOff x="1244160" y="2190600"/>
            <a:chExt cx="114120" cy="88560"/>
          </a:xfrm>
        </p:grpSpPr>
        <p:sp>
          <p:nvSpPr>
            <p:cNvPr id="2004" name=""/>
            <p:cNvSpPr/>
            <p:nvPr/>
          </p:nvSpPr>
          <p:spPr>
            <a:xfrm>
              <a:off x="1257120" y="2190600"/>
              <a:ext cx="88920" cy="8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H="1">
              <a:off x="1244160" y="2190600"/>
              <a:ext cx="114120" cy="8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6559560" y="4273560"/>
            <a:ext cx="1092240" cy="2266920"/>
            <a:chOff x="6559560" y="4273560"/>
            <a:chExt cx="1092240" cy="2266920"/>
          </a:xfrm>
        </p:grpSpPr>
        <p:grpSp>
          <p:nvGrpSpPr>
            <p:cNvPr id="2007" name=""/>
            <p:cNvGrpSpPr/>
            <p:nvPr/>
          </p:nvGrpSpPr>
          <p:grpSpPr>
            <a:xfrm>
              <a:off x="6997320" y="4273560"/>
              <a:ext cx="114120" cy="88920"/>
              <a:chOff x="6997320" y="4273560"/>
              <a:chExt cx="114120" cy="88920"/>
            </a:xfrm>
          </p:grpSpPr>
          <p:sp>
            <p:nvSpPr>
              <p:cNvPr id="2008" name=""/>
              <p:cNvSpPr/>
              <p:nvPr/>
            </p:nvSpPr>
            <p:spPr>
              <a:xfrm>
                <a:off x="7010280" y="42735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H="1">
                <a:off x="6997320" y="42735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0" name=""/>
            <p:cNvGrpSpPr/>
            <p:nvPr/>
          </p:nvGrpSpPr>
          <p:grpSpPr>
            <a:xfrm>
              <a:off x="6997320" y="4641840"/>
              <a:ext cx="114120" cy="88920"/>
              <a:chOff x="6997320" y="4641840"/>
              <a:chExt cx="114120" cy="88920"/>
            </a:xfrm>
          </p:grpSpPr>
          <p:sp>
            <p:nvSpPr>
              <p:cNvPr id="2011" name=""/>
              <p:cNvSpPr/>
              <p:nvPr/>
            </p:nvSpPr>
            <p:spPr>
              <a:xfrm>
                <a:off x="7010280" y="46418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flipH="1">
                <a:off x="6997320" y="46418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3" name=""/>
            <p:cNvSpPr/>
            <p:nvPr/>
          </p:nvSpPr>
          <p:spPr>
            <a:xfrm>
              <a:off x="6559560" y="6210360"/>
              <a:ext cx="1092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+A'B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4" name=""/>
          <p:cNvGrpSpPr/>
          <p:nvPr/>
        </p:nvGrpSpPr>
        <p:grpSpPr>
          <a:xfrm>
            <a:off x="6877080" y="5010120"/>
            <a:ext cx="1117440" cy="1720800"/>
            <a:chOff x="6877080" y="5010120"/>
            <a:chExt cx="1117440" cy="1720800"/>
          </a:xfrm>
        </p:grpSpPr>
        <p:grpSp>
          <p:nvGrpSpPr>
            <p:cNvPr id="2015" name=""/>
            <p:cNvGrpSpPr/>
            <p:nvPr/>
          </p:nvGrpSpPr>
          <p:grpSpPr>
            <a:xfrm>
              <a:off x="7365600" y="5010120"/>
              <a:ext cx="114120" cy="88920"/>
              <a:chOff x="7365600" y="5010120"/>
              <a:chExt cx="114120" cy="88920"/>
            </a:xfrm>
          </p:grpSpPr>
          <p:sp>
            <p:nvSpPr>
              <p:cNvPr id="2016" name=""/>
              <p:cNvSpPr/>
              <p:nvPr/>
            </p:nvSpPr>
            <p:spPr>
              <a:xfrm>
                <a:off x="7378560" y="50101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flipH="1">
                <a:off x="7365600" y="50101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8" name=""/>
            <p:cNvGrpSpPr/>
            <p:nvPr/>
          </p:nvGrpSpPr>
          <p:grpSpPr>
            <a:xfrm>
              <a:off x="7365600" y="5378400"/>
              <a:ext cx="114120" cy="88920"/>
              <a:chOff x="7365600" y="5378400"/>
              <a:chExt cx="114120" cy="88920"/>
            </a:xfrm>
          </p:grpSpPr>
          <p:sp>
            <p:nvSpPr>
              <p:cNvPr id="2019" name=""/>
              <p:cNvSpPr/>
              <p:nvPr/>
            </p:nvSpPr>
            <p:spPr>
              <a:xfrm>
                <a:off x="7378560" y="53784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flipH="1">
                <a:off x="7365600" y="53784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1" name=""/>
            <p:cNvSpPr/>
            <p:nvPr/>
          </p:nvSpPr>
          <p:spPr>
            <a:xfrm>
              <a:off x="6877080" y="6400800"/>
              <a:ext cx="1117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D'+C'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2" name=""/>
          <p:cNvGrpSpPr/>
          <p:nvPr/>
        </p:nvGrpSpPr>
        <p:grpSpPr>
          <a:xfrm>
            <a:off x="5028840" y="4178160"/>
            <a:ext cx="3994560" cy="330480"/>
            <a:chOff x="5028840" y="4178160"/>
            <a:chExt cx="3994560" cy="330480"/>
          </a:xfrm>
        </p:grpSpPr>
        <p:grpSp>
          <p:nvGrpSpPr>
            <p:cNvPr id="2023" name=""/>
            <p:cNvGrpSpPr/>
            <p:nvPr/>
          </p:nvGrpSpPr>
          <p:grpSpPr>
            <a:xfrm>
              <a:off x="5321160" y="4273560"/>
              <a:ext cx="114480" cy="88920"/>
              <a:chOff x="5321160" y="4273560"/>
              <a:chExt cx="114480" cy="88920"/>
            </a:xfrm>
          </p:grpSpPr>
          <p:sp>
            <p:nvSpPr>
              <p:cNvPr id="2024" name=""/>
              <p:cNvSpPr/>
              <p:nvPr/>
            </p:nvSpPr>
            <p:spPr>
              <a:xfrm>
                <a:off x="5334120" y="427356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flipH="1">
                <a:off x="5321160" y="42735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6" name=""/>
            <p:cNvGrpSpPr/>
            <p:nvPr/>
          </p:nvGrpSpPr>
          <p:grpSpPr>
            <a:xfrm>
              <a:off x="5028840" y="4273560"/>
              <a:ext cx="114120" cy="88920"/>
              <a:chOff x="5028840" y="4273560"/>
              <a:chExt cx="114120" cy="88920"/>
            </a:xfrm>
          </p:grpSpPr>
          <p:sp>
            <p:nvSpPr>
              <p:cNvPr id="2027" name=""/>
              <p:cNvSpPr/>
              <p:nvPr/>
            </p:nvSpPr>
            <p:spPr>
              <a:xfrm>
                <a:off x="5041800" y="42735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H="1">
                <a:off x="5028840" y="42735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9" name=""/>
            <p:cNvSpPr/>
            <p:nvPr/>
          </p:nvSpPr>
          <p:spPr>
            <a:xfrm>
              <a:off x="8350200" y="4178160"/>
              <a:ext cx="6732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5155920" y="4533840"/>
            <a:ext cx="3943800" cy="330120"/>
            <a:chOff x="5155920" y="4533840"/>
            <a:chExt cx="3943800" cy="330120"/>
          </a:xfrm>
        </p:grpSpPr>
        <p:grpSp>
          <p:nvGrpSpPr>
            <p:cNvPr id="2031" name=""/>
            <p:cNvGrpSpPr/>
            <p:nvPr/>
          </p:nvGrpSpPr>
          <p:grpSpPr>
            <a:xfrm>
              <a:off x="5448240" y="4641840"/>
              <a:ext cx="114480" cy="88920"/>
              <a:chOff x="5448240" y="4641840"/>
              <a:chExt cx="114480" cy="88920"/>
            </a:xfrm>
          </p:grpSpPr>
          <p:sp>
            <p:nvSpPr>
              <p:cNvPr id="2032" name=""/>
              <p:cNvSpPr/>
              <p:nvPr/>
            </p:nvSpPr>
            <p:spPr>
              <a:xfrm>
                <a:off x="5460840" y="46418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flipH="1">
                <a:off x="5448240" y="46418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5155920" y="4641840"/>
              <a:ext cx="114120" cy="88920"/>
              <a:chOff x="5155920" y="4641840"/>
              <a:chExt cx="114120" cy="88920"/>
            </a:xfrm>
          </p:grpSpPr>
          <p:sp>
            <p:nvSpPr>
              <p:cNvPr id="2035" name=""/>
              <p:cNvSpPr/>
              <p:nvPr/>
            </p:nvSpPr>
            <p:spPr>
              <a:xfrm>
                <a:off x="5168880" y="46418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flipH="1">
                <a:off x="5155920" y="46418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7" name=""/>
            <p:cNvSpPr/>
            <p:nvPr/>
          </p:nvSpPr>
          <p:spPr>
            <a:xfrm>
              <a:off x="8362800" y="4533840"/>
              <a:ext cx="736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8" name=""/>
          <p:cNvGrpSpPr/>
          <p:nvPr/>
        </p:nvGrpSpPr>
        <p:grpSpPr>
          <a:xfrm>
            <a:off x="5613120" y="4915080"/>
            <a:ext cx="3486600" cy="330120"/>
            <a:chOff x="5613120" y="4915080"/>
            <a:chExt cx="3486600" cy="330120"/>
          </a:xfrm>
        </p:grpSpPr>
        <p:grpSp>
          <p:nvGrpSpPr>
            <p:cNvPr id="2039" name=""/>
            <p:cNvGrpSpPr/>
            <p:nvPr/>
          </p:nvGrpSpPr>
          <p:grpSpPr>
            <a:xfrm>
              <a:off x="6032160" y="5010120"/>
              <a:ext cx="114120" cy="88920"/>
              <a:chOff x="6032160" y="5010120"/>
              <a:chExt cx="114120" cy="88920"/>
            </a:xfrm>
          </p:grpSpPr>
          <p:sp>
            <p:nvSpPr>
              <p:cNvPr id="2040" name=""/>
              <p:cNvSpPr/>
              <p:nvPr/>
            </p:nvSpPr>
            <p:spPr>
              <a:xfrm>
                <a:off x="6045120" y="50101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 flipH="1">
                <a:off x="6032160" y="50101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2" name=""/>
            <p:cNvGrpSpPr/>
            <p:nvPr/>
          </p:nvGrpSpPr>
          <p:grpSpPr>
            <a:xfrm>
              <a:off x="5613120" y="5010120"/>
              <a:ext cx="114120" cy="88920"/>
              <a:chOff x="5613120" y="5010120"/>
              <a:chExt cx="114120" cy="88920"/>
            </a:xfrm>
          </p:grpSpPr>
          <p:sp>
            <p:nvSpPr>
              <p:cNvPr id="2043" name=""/>
              <p:cNvSpPr/>
              <p:nvPr/>
            </p:nvSpPr>
            <p:spPr>
              <a:xfrm>
                <a:off x="5626080" y="50101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flipH="1">
                <a:off x="5613120" y="50101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5" name=""/>
            <p:cNvSpPr/>
            <p:nvPr/>
          </p:nvSpPr>
          <p:spPr>
            <a:xfrm>
              <a:off x="8362800" y="4915080"/>
              <a:ext cx="736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D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5740200" y="5283360"/>
            <a:ext cx="3384720" cy="330120"/>
            <a:chOff x="5740200" y="5283360"/>
            <a:chExt cx="3384720" cy="330120"/>
          </a:xfrm>
        </p:grpSpPr>
        <p:grpSp>
          <p:nvGrpSpPr>
            <p:cNvPr id="2047" name=""/>
            <p:cNvGrpSpPr/>
            <p:nvPr/>
          </p:nvGrpSpPr>
          <p:grpSpPr>
            <a:xfrm>
              <a:off x="5905440" y="5378400"/>
              <a:ext cx="114480" cy="88920"/>
              <a:chOff x="5905440" y="5378400"/>
              <a:chExt cx="114480" cy="88920"/>
            </a:xfrm>
          </p:grpSpPr>
          <p:sp>
            <p:nvSpPr>
              <p:cNvPr id="2048" name=""/>
              <p:cNvSpPr/>
              <p:nvPr/>
            </p:nvSpPr>
            <p:spPr>
              <a:xfrm>
                <a:off x="5918040" y="53784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flipH="1">
                <a:off x="5905440" y="53784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0" name=""/>
            <p:cNvGrpSpPr/>
            <p:nvPr/>
          </p:nvGrpSpPr>
          <p:grpSpPr>
            <a:xfrm>
              <a:off x="5740200" y="5378400"/>
              <a:ext cx="114120" cy="88920"/>
              <a:chOff x="5740200" y="5378400"/>
              <a:chExt cx="114120" cy="88920"/>
            </a:xfrm>
          </p:grpSpPr>
          <p:sp>
            <p:nvSpPr>
              <p:cNvPr id="2051" name=""/>
              <p:cNvSpPr/>
              <p:nvPr/>
            </p:nvSpPr>
            <p:spPr>
              <a:xfrm>
                <a:off x="5753160" y="537840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 flipH="1">
                <a:off x="5740200" y="53784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3" name=""/>
            <p:cNvSpPr/>
            <p:nvPr/>
          </p:nvSpPr>
          <p:spPr>
            <a:xfrm>
              <a:off x="8388360" y="5283360"/>
              <a:ext cx="736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'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4" name=""/>
          <p:cNvGrpSpPr/>
          <p:nvPr/>
        </p:nvGrpSpPr>
        <p:grpSpPr>
          <a:xfrm>
            <a:off x="4952880" y="3645000"/>
            <a:ext cx="3454560" cy="2584440"/>
            <a:chOff x="4952880" y="3645000"/>
            <a:chExt cx="3454560" cy="2584440"/>
          </a:xfrm>
        </p:grpSpPr>
        <p:sp>
          <p:nvSpPr>
            <p:cNvPr id="2055" name=""/>
            <p:cNvSpPr/>
            <p:nvPr/>
          </p:nvSpPr>
          <p:spPr>
            <a:xfrm flipH="1">
              <a:off x="6019920" y="40194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905440" y="401940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 flipH="1">
              <a:off x="5892480" y="40132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070680" y="4133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026040" y="3892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089760" y="41972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962680" y="41212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362640" y="41655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362640" y="4470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 flipV="1">
              <a:off x="6356520" y="415908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521760" y="41799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515280" y="41734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521400" y="4165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514920" y="4159800"/>
              <a:ext cx="291960" cy="31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952880" y="431820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807240" y="4318200"/>
              <a:ext cx="15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362640" y="45338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362640" y="4838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flipV="1">
              <a:off x="6356520" y="45277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521760" y="45482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515280" y="45417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521400" y="45342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514920" y="45277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4952880" y="468648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807240" y="468648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362640" y="49021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362640" y="52070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V="1">
              <a:off x="6356520" y="48960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521760" y="49165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515280" y="49100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521400" y="49024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514920" y="48960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4952880" y="505476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807240" y="505476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6362640" y="52704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362640" y="55753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6356520" y="52642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521760" y="52848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515280" y="52783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521400" y="52707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6514920" y="52642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952880" y="542304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6807240" y="54230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flipH="1">
              <a:off x="5727600" y="40194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613480" y="401940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 flipH="1">
              <a:off x="5600880" y="401328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778360" y="413388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734080" y="3892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797440" y="41972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670720" y="41212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H="1">
              <a:off x="5435640" y="40194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321160" y="401940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flipH="1">
              <a:off x="5308200" y="40132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486400" y="4133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442120" y="3892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505480" y="41972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378400" y="41212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5143680" y="40194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029200" y="401940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H="1">
              <a:off x="5016240" y="40132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194440" y="4133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149800" y="3892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213520" y="41972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086440" y="4121280"/>
              <a:ext cx="0" cy="153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934320" y="556884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6908760" y="5162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6923160" y="521352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923160" y="556884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054920" y="412128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054920" y="61149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302600" y="556884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7277040" y="5162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291440" y="5213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291440" y="5568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423200" y="412128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423200" y="61149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658280" y="5568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7633080" y="516240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647120" y="521352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647120" y="556884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778880" y="412128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7778880" y="61149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8013960" y="5568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988040" y="5162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8002440" y="5213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8002440" y="5568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8134200" y="412128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8134200" y="61149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035680" y="364500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340240" y="364500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619600" y="364500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911920" y="364500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lternate representation for high fan-in structur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rt-hand notation so we don't have to draw all the wi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es a connection is present and perpendicular signal is an input to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1B84-1EC3-4D5D-BB1B-CF1293700E5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9" name=""/>
          <p:cNvGrpSpPr/>
          <p:nvPr/>
        </p:nvGrpSpPr>
        <p:grpSpPr>
          <a:xfrm>
            <a:off x="1069920" y="4475160"/>
            <a:ext cx="2508480" cy="2070000"/>
            <a:chOff x="1069920" y="4475160"/>
            <a:chExt cx="2508480" cy="2070000"/>
          </a:xfrm>
        </p:grpSpPr>
        <p:sp>
          <p:nvSpPr>
            <p:cNvPr id="2150" name=""/>
            <p:cNvSpPr/>
            <p:nvPr/>
          </p:nvSpPr>
          <p:spPr>
            <a:xfrm>
              <a:off x="1076400" y="4475160"/>
              <a:ext cx="2502000" cy="20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1069920" y="4703760"/>
              <a:ext cx="242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711440" y="4532040"/>
              <a:ext cx="0" cy="193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3" name=""/>
          <p:cNvGrpSpPr/>
          <p:nvPr/>
        </p:nvGrpSpPr>
        <p:grpSpPr>
          <a:xfrm>
            <a:off x="4371840" y="2278080"/>
            <a:ext cx="4248000" cy="4495680"/>
            <a:chOff x="4371840" y="2278080"/>
            <a:chExt cx="4248000" cy="4495680"/>
          </a:xfrm>
        </p:grpSpPr>
        <p:sp>
          <p:nvSpPr>
            <p:cNvPr id="2154" name=""/>
            <p:cNvSpPr/>
            <p:nvPr/>
          </p:nvSpPr>
          <p:spPr>
            <a:xfrm>
              <a:off x="7921440" y="2697120"/>
              <a:ext cx="698400" cy="30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489280" y="27986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489280" y="31035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V="1">
              <a:off x="5483160" y="27921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648400" y="28130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641920" y="28065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648040" y="279828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641560" y="27921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4371840" y="29509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933880" y="29509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489280" y="31669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489280" y="3471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V="1">
              <a:off x="5483160" y="3160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648400" y="31813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641920" y="3174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648040" y="316656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641560" y="3160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371840" y="33192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933880" y="33192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489280" y="3535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489280" y="3840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V="1">
              <a:off x="5483160" y="352872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648400" y="35496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641920" y="35431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648040" y="35355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641560" y="3529440"/>
              <a:ext cx="291960" cy="31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371840" y="368784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933880" y="368784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489280" y="39034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489280" y="42084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 flipV="1">
              <a:off x="5483160" y="38973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648400" y="391788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641920" y="39114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648040" y="39038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641560" y="38973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371840" y="40561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933880" y="40561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H="1">
              <a:off x="5184000" y="2652480"/>
              <a:ext cx="1400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070240" y="265248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 flipH="1">
              <a:off x="5057280" y="26463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190840" y="2525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254560" y="2792160"/>
              <a:ext cx="0" cy="29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127480" y="275436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 flipH="1">
              <a:off x="4892400" y="26524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778280" y="265248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 flipH="1">
              <a:off x="4764960" y="26463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898880" y="2525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962240" y="2792160"/>
              <a:ext cx="0" cy="29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835160" y="2741400"/>
              <a:ext cx="0" cy="30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3" name=""/>
            <p:cNvGrpSpPr/>
            <p:nvPr/>
          </p:nvGrpSpPr>
          <p:grpSpPr>
            <a:xfrm>
              <a:off x="4905000" y="2906640"/>
              <a:ext cx="114480" cy="88920"/>
              <a:chOff x="4905000" y="2906640"/>
              <a:chExt cx="114480" cy="88920"/>
            </a:xfrm>
          </p:grpSpPr>
          <p:sp>
            <p:nvSpPr>
              <p:cNvPr id="2204" name=""/>
              <p:cNvSpPr/>
              <p:nvPr/>
            </p:nvSpPr>
            <p:spPr>
              <a:xfrm>
                <a:off x="491796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 flipH="1">
                <a:off x="4905000" y="29066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6" name=""/>
            <p:cNvSpPr/>
            <p:nvPr/>
          </p:nvSpPr>
          <p:spPr>
            <a:xfrm flipH="1">
              <a:off x="4600440" y="26524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485960" y="265248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 flipH="1">
              <a:off x="4473000" y="26463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606560" y="2525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670280" y="2792160"/>
              <a:ext cx="0" cy="29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543200" y="275436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2" name=""/>
            <p:cNvGrpSpPr/>
            <p:nvPr/>
          </p:nvGrpSpPr>
          <p:grpSpPr>
            <a:xfrm>
              <a:off x="4612680" y="2906640"/>
              <a:ext cx="114120" cy="88920"/>
              <a:chOff x="4612680" y="2906640"/>
              <a:chExt cx="114120" cy="88920"/>
            </a:xfrm>
          </p:grpSpPr>
          <p:sp>
            <p:nvSpPr>
              <p:cNvPr id="2213" name=""/>
              <p:cNvSpPr/>
              <p:nvPr/>
            </p:nvSpPr>
            <p:spPr>
              <a:xfrm>
                <a:off x="462564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H="1">
                <a:off x="4612680" y="2906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5" name=""/>
            <p:cNvSpPr/>
            <p:nvPr/>
          </p:nvSpPr>
          <p:spPr>
            <a:xfrm>
              <a:off x="6060960" y="5649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035760" y="524340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049800" y="529452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049800" y="564984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618156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618156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1" name=""/>
            <p:cNvGrpSpPr/>
            <p:nvPr/>
          </p:nvGrpSpPr>
          <p:grpSpPr>
            <a:xfrm>
              <a:off x="6124320" y="5484600"/>
              <a:ext cx="114480" cy="88920"/>
              <a:chOff x="6124320" y="5484600"/>
              <a:chExt cx="114480" cy="88920"/>
            </a:xfrm>
          </p:grpSpPr>
          <p:sp>
            <p:nvSpPr>
              <p:cNvPr id="2222" name=""/>
              <p:cNvSpPr/>
              <p:nvPr/>
            </p:nvSpPr>
            <p:spPr>
              <a:xfrm>
                <a:off x="613692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flipH="1">
                <a:off x="6124320" y="54846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4" name=""/>
            <p:cNvSpPr/>
            <p:nvPr/>
          </p:nvSpPr>
          <p:spPr>
            <a:xfrm>
              <a:off x="6429240" y="564984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6403680" y="5243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418080" y="5294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418080" y="5649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654984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54984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0" name=""/>
            <p:cNvGrpSpPr/>
            <p:nvPr/>
          </p:nvGrpSpPr>
          <p:grpSpPr>
            <a:xfrm>
              <a:off x="6492600" y="5116320"/>
              <a:ext cx="114480" cy="88920"/>
              <a:chOff x="6492600" y="5116320"/>
              <a:chExt cx="114480" cy="88920"/>
            </a:xfrm>
          </p:grpSpPr>
          <p:sp>
            <p:nvSpPr>
              <p:cNvPr id="2231" name=""/>
              <p:cNvSpPr/>
              <p:nvPr/>
            </p:nvSpPr>
            <p:spPr>
              <a:xfrm>
                <a:off x="650520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 flipH="1">
                <a:off x="6492600" y="51163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3" name=""/>
            <p:cNvGrpSpPr/>
            <p:nvPr/>
          </p:nvGrpSpPr>
          <p:grpSpPr>
            <a:xfrm>
              <a:off x="6492600" y="5484600"/>
              <a:ext cx="114480" cy="88920"/>
              <a:chOff x="6492600" y="5484600"/>
              <a:chExt cx="114480" cy="88920"/>
            </a:xfrm>
          </p:grpSpPr>
          <p:sp>
            <p:nvSpPr>
              <p:cNvPr id="2234" name=""/>
              <p:cNvSpPr/>
              <p:nvPr/>
            </p:nvSpPr>
            <p:spPr>
              <a:xfrm>
                <a:off x="650520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 flipH="1">
                <a:off x="6492600" y="54846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6" name=""/>
            <p:cNvSpPr/>
            <p:nvPr/>
          </p:nvSpPr>
          <p:spPr>
            <a:xfrm>
              <a:off x="6784920" y="5649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6759720" y="524340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6773760" y="529452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6773760" y="564984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90552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690552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140600" y="5649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7114680" y="5243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129080" y="5294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129080" y="5649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726084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26084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492440" y="227808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797360" y="2278080"/>
              <a:ext cx="545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063760" y="227808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7508880" y="5649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482960" y="5243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7497360" y="5294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497360" y="5649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762912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762912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489280" y="42717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489280" y="45766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V="1">
              <a:off x="5483160" y="42656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648400" y="42861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641920" y="42796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648040" y="42721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641560" y="42656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371840" y="44244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5933880" y="44244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489280" y="46400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489280" y="4944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 flipV="1">
              <a:off x="5483160" y="4633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648400" y="46544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5641920" y="46479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648040" y="46404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5641560" y="4633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4371840" y="479268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933880" y="479268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489280" y="50083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489280" y="53132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 flipV="1">
              <a:off x="5483160" y="50022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5648400" y="50227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641920" y="50162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5648040" y="50086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5641560" y="50022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371840" y="516096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5933880" y="516096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5489280" y="53766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5489280" y="5681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 flipV="1">
              <a:off x="5483160" y="53704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5648400" y="53910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5641920" y="53845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648040" y="53769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641560" y="53704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371840" y="552924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933880" y="552924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3" name=""/>
            <p:cNvGrpSpPr/>
            <p:nvPr/>
          </p:nvGrpSpPr>
          <p:grpSpPr>
            <a:xfrm>
              <a:off x="5196960" y="2906640"/>
              <a:ext cx="114120" cy="88920"/>
              <a:chOff x="5196960" y="2906640"/>
              <a:chExt cx="114120" cy="88920"/>
            </a:xfrm>
          </p:grpSpPr>
          <p:sp>
            <p:nvSpPr>
              <p:cNvPr id="2294" name=""/>
              <p:cNvSpPr/>
              <p:nvPr/>
            </p:nvSpPr>
            <p:spPr>
              <a:xfrm>
                <a:off x="520992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flipH="1">
                <a:off x="5196960" y="2906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6" name=""/>
            <p:cNvGrpSpPr/>
            <p:nvPr/>
          </p:nvGrpSpPr>
          <p:grpSpPr>
            <a:xfrm>
              <a:off x="7571880" y="3274920"/>
              <a:ext cx="114120" cy="88920"/>
              <a:chOff x="7571880" y="3274920"/>
              <a:chExt cx="114120" cy="88920"/>
            </a:xfrm>
          </p:grpSpPr>
          <p:sp>
            <p:nvSpPr>
              <p:cNvPr id="2297" name=""/>
              <p:cNvSpPr/>
              <p:nvPr/>
            </p:nvSpPr>
            <p:spPr>
              <a:xfrm>
                <a:off x="758484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flipH="1">
                <a:off x="7571880" y="3274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9" name=""/>
            <p:cNvGrpSpPr/>
            <p:nvPr/>
          </p:nvGrpSpPr>
          <p:grpSpPr>
            <a:xfrm>
              <a:off x="6492600" y="4748040"/>
              <a:ext cx="114480" cy="88920"/>
              <a:chOff x="6492600" y="4748040"/>
              <a:chExt cx="114480" cy="88920"/>
            </a:xfrm>
          </p:grpSpPr>
          <p:sp>
            <p:nvSpPr>
              <p:cNvPr id="2300" name=""/>
              <p:cNvSpPr/>
              <p:nvPr/>
            </p:nvSpPr>
            <p:spPr>
              <a:xfrm>
                <a:off x="650520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flipH="1">
                <a:off x="6492600" y="47480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2" name=""/>
            <p:cNvGrpSpPr/>
            <p:nvPr/>
          </p:nvGrpSpPr>
          <p:grpSpPr>
            <a:xfrm>
              <a:off x="6847920" y="2906640"/>
              <a:ext cx="114120" cy="88920"/>
              <a:chOff x="6847920" y="2906640"/>
              <a:chExt cx="114120" cy="88920"/>
            </a:xfrm>
          </p:grpSpPr>
          <p:sp>
            <p:nvSpPr>
              <p:cNvPr id="2303" name=""/>
              <p:cNvSpPr/>
              <p:nvPr/>
            </p:nvSpPr>
            <p:spPr>
              <a:xfrm>
                <a:off x="686088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flipH="1">
                <a:off x="6847920" y="2906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5" name=""/>
            <p:cNvSpPr/>
            <p:nvPr/>
          </p:nvSpPr>
          <p:spPr>
            <a:xfrm>
              <a:off x="5235480" y="27669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943160" y="27669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4651200" y="27669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8" name=""/>
            <p:cNvGrpSpPr/>
            <p:nvPr/>
          </p:nvGrpSpPr>
          <p:grpSpPr>
            <a:xfrm>
              <a:off x="4905000" y="3274920"/>
              <a:ext cx="114480" cy="88920"/>
              <a:chOff x="4905000" y="3274920"/>
              <a:chExt cx="114480" cy="88920"/>
            </a:xfrm>
          </p:grpSpPr>
          <p:sp>
            <p:nvSpPr>
              <p:cNvPr id="2309" name=""/>
              <p:cNvSpPr/>
              <p:nvPr/>
            </p:nvSpPr>
            <p:spPr>
              <a:xfrm>
                <a:off x="491796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flipH="1">
                <a:off x="4905000" y="32749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1" name=""/>
            <p:cNvGrpSpPr/>
            <p:nvPr/>
          </p:nvGrpSpPr>
          <p:grpSpPr>
            <a:xfrm>
              <a:off x="4612680" y="3274920"/>
              <a:ext cx="114120" cy="88920"/>
              <a:chOff x="4612680" y="3274920"/>
              <a:chExt cx="114120" cy="88920"/>
            </a:xfrm>
          </p:grpSpPr>
          <p:sp>
            <p:nvSpPr>
              <p:cNvPr id="2312" name=""/>
              <p:cNvSpPr/>
              <p:nvPr/>
            </p:nvSpPr>
            <p:spPr>
              <a:xfrm>
                <a:off x="462564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flipH="1">
                <a:off x="4612680" y="3274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4" name=""/>
            <p:cNvGrpSpPr/>
            <p:nvPr/>
          </p:nvGrpSpPr>
          <p:grpSpPr>
            <a:xfrm>
              <a:off x="5069880" y="3274920"/>
              <a:ext cx="114120" cy="88920"/>
              <a:chOff x="5069880" y="3274920"/>
              <a:chExt cx="114120" cy="88920"/>
            </a:xfrm>
          </p:grpSpPr>
          <p:sp>
            <p:nvSpPr>
              <p:cNvPr id="2315" name=""/>
              <p:cNvSpPr/>
              <p:nvPr/>
            </p:nvSpPr>
            <p:spPr>
              <a:xfrm>
                <a:off x="508284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flipH="1">
                <a:off x="5069880" y="3274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7" name=""/>
            <p:cNvGrpSpPr/>
            <p:nvPr/>
          </p:nvGrpSpPr>
          <p:grpSpPr>
            <a:xfrm>
              <a:off x="4777920" y="3643200"/>
              <a:ext cx="114120" cy="88920"/>
              <a:chOff x="4777920" y="3643200"/>
              <a:chExt cx="114120" cy="88920"/>
            </a:xfrm>
          </p:grpSpPr>
          <p:sp>
            <p:nvSpPr>
              <p:cNvPr id="2318" name=""/>
              <p:cNvSpPr/>
              <p:nvPr/>
            </p:nvSpPr>
            <p:spPr>
              <a:xfrm>
                <a:off x="479088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 flipH="1">
                <a:off x="477792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0" name=""/>
            <p:cNvGrpSpPr/>
            <p:nvPr/>
          </p:nvGrpSpPr>
          <p:grpSpPr>
            <a:xfrm>
              <a:off x="4612680" y="3643200"/>
              <a:ext cx="114120" cy="88920"/>
              <a:chOff x="4612680" y="3643200"/>
              <a:chExt cx="114120" cy="88920"/>
            </a:xfrm>
          </p:grpSpPr>
          <p:sp>
            <p:nvSpPr>
              <p:cNvPr id="2321" name=""/>
              <p:cNvSpPr/>
              <p:nvPr/>
            </p:nvSpPr>
            <p:spPr>
              <a:xfrm>
                <a:off x="462564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flipH="1">
                <a:off x="461268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3" name=""/>
            <p:cNvGrpSpPr/>
            <p:nvPr/>
          </p:nvGrpSpPr>
          <p:grpSpPr>
            <a:xfrm>
              <a:off x="5196960" y="3643200"/>
              <a:ext cx="114120" cy="88920"/>
              <a:chOff x="5196960" y="3643200"/>
              <a:chExt cx="114120" cy="88920"/>
            </a:xfrm>
          </p:grpSpPr>
          <p:sp>
            <p:nvSpPr>
              <p:cNvPr id="2324" name=""/>
              <p:cNvSpPr/>
              <p:nvPr/>
            </p:nvSpPr>
            <p:spPr>
              <a:xfrm>
                <a:off x="520992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flipH="1">
                <a:off x="519696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6" name=""/>
            <p:cNvGrpSpPr/>
            <p:nvPr/>
          </p:nvGrpSpPr>
          <p:grpSpPr>
            <a:xfrm>
              <a:off x="4777920" y="4011480"/>
              <a:ext cx="114120" cy="88920"/>
              <a:chOff x="4777920" y="4011480"/>
              <a:chExt cx="114120" cy="88920"/>
            </a:xfrm>
          </p:grpSpPr>
          <p:sp>
            <p:nvSpPr>
              <p:cNvPr id="2327" name=""/>
              <p:cNvSpPr/>
              <p:nvPr/>
            </p:nvSpPr>
            <p:spPr>
              <a:xfrm>
                <a:off x="4790880" y="40114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 flipH="1">
                <a:off x="4777920" y="40114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9" name=""/>
            <p:cNvGrpSpPr/>
            <p:nvPr/>
          </p:nvGrpSpPr>
          <p:grpSpPr>
            <a:xfrm>
              <a:off x="4612680" y="4011480"/>
              <a:ext cx="114120" cy="88920"/>
              <a:chOff x="4612680" y="4011480"/>
              <a:chExt cx="114120" cy="88920"/>
            </a:xfrm>
          </p:grpSpPr>
          <p:sp>
            <p:nvSpPr>
              <p:cNvPr id="2330" name=""/>
              <p:cNvSpPr/>
              <p:nvPr/>
            </p:nvSpPr>
            <p:spPr>
              <a:xfrm>
                <a:off x="4625640" y="40114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 flipH="1">
                <a:off x="4612680" y="40114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2" name=""/>
            <p:cNvGrpSpPr/>
            <p:nvPr/>
          </p:nvGrpSpPr>
          <p:grpSpPr>
            <a:xfrm>
              <a:off x="5069880" y="4011480"/>
              <a:ext cx="114120" cy="88920"/>
              <a:chOff x="5069880" y="4011480"/>
              <a:chExt cx="114120" cy="88920"/>
            </a:xfrm>
          </p:grpSpPr>
          <p:sp>
            <p:nvSpPr>
              <p:cNvPr id="2333" name=""/>
              <p:cNvSpPr/>
              <p:nvPr/>
            </p:nvSpPr>
            <p:spPr>
              <a:xfrm>
                <a:off x="5082840" y="40114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 flipH="1">
                <a:off x="5069880" y="40114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5" name=""/>
            <p:cNvGrpSpPr/>
            <p:nvPr/>
          </p:nvGrpSpPr>
          <p:grpSpPr>
            <a:xfrm>
              <a:off x="4905000" y="4379760"/>
              <a:ext cx="114480" cy="88920"/>
              <a:chOff x="4905000" y="4379760"/>
              <a:chExt cx="114480" cy="88920"/>
            </a:xfrm>
          </p:grpSpPr>
          <p:sp>
            <p:nvSpPr>
              <p:cNvPr id="2336" name=""/>
              <p:cNvSpPr/>
              <p:nvPr/>
            </p:nvSpPr>
            <p:spPr>
              <a:xfrm>
                <a:off x="491796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 flipH="1">
                <a:off x="4905000" y="43797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8" name=""/>
            <p:cNvGrpSpPr/>
            <p:nvPr/>
          </p:nvGrpSpPr>
          <p:grpSpPr>
            <a:xfrm>
              <a:off x="5196960" y="4379760"/>
              <a:ext cx="114120" cy="88920"/>
              <a:chOff x="5196960" y="4379760"/>
              <a:chExt cx="114120" cy="88920"/>
            </a:xfrm>
          </p:grpSpPr>
          <p:sp>
            <p:nvSpPr>
              <p:cNvPr id="2339" name=""/>
              <p:cNvSpPr/>
              <p:nvPr/>
            </p:nvSpPr>
            <p:spPr>
              <a:xfrm>
                <a:off x="520992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 flipH="1">
                <a:off x="5196960" y="43797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1" name=""/>
            <p:cNvGrpSpPr/>
            <p:nvPr/>
          </p:nvGrpSpPr>
          <p:grpSpPr>
            <a:xfrm>
              <a:off x="4905000" y="4748040"/>
              <a:ext cx="114480" cy="88920"/>
              <a:chOff x="4905000" y="4748040"/>
              <a:chExt cx="114480" cy="88920"/>
            </a:xfrm>
          </p:grpSpPr>
          <p:sp>
            <p:nvSpPr>
              <p:cNvPr id="2342" name=""/>
              <p:cNvSpPr/>
              <p:nvPr/>
            </p:nvSpPr>
            <p:spPr>
              <a:xfrm>
                <a:off x="491796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 flipH="1">
                <a:off x="4905000" y="47480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4" name=""/>
            <p:cNvGrpSpPr/>
            <p:nvPr/>
          </p:nvGrpSpPr>
          <p:grpSpPr>
            <a:xfrm>
              <a:off x="5069880" y="4748040"/>
              <a:ext cx="114120" cy="88920"/>
              <a:chOff x="5069880" y="4748040"/>
              <a:chExt cx="114120" cy="88920"/>
            </a:xfrm>
          </p:grpSpPr>
          <p:sp>
            <p:nvSpPr>
              <p:cNvPr id="2345" name=""/>
              <p:cNvSpPr/>
              <p:nvPr/>
            </p:nvSpPr>
            <p:spPr>
              <a:xfrm>
                <a:off x="508284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 flipH="1">
                <a:off x="5069880" y="47480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7" name=""/>
            <p:cNvGrpSpPr/>
            <p:nvPr/>
          </p:nvGrpSpPr>
          <p:grpSpPr>
            <a:xfrm>
              <a:off x="4777920" y="5116320"/>
              <a:ext cx="114120" cy="88920"/>
              <a:chOff x="4777920" y="5116320"/>
              <a:chExt cx="114120" cy="88920"/>
            </a:xfrm>
          </p:grpSpPr>
          <p:sp>
            <p:nvSpPr>
              <p:cNvPr id="2348" name=""/>
              <p:cNvSpPr/>
              <p:nvPr/>
            </p:nvSpPr>
            <p:spPr>
              <a:xfrm>
                <a:off x="479088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 flipH="1">
                <a:off x="4777920" y="51163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0" name=""/>
            <p:cNvGrpSpPr/>
            <p:nvPr/>
          </p:nvGrpSpPr>
          <p:grpSpPr>
            <a:xfrm>
              <a:off x="5196960" y="5116320"/>
              <a:ext cx="114120" cy="88920"/>
              <a:chOff x="5196960" y="5116320"/>
              <a:chExt cx="114120" cy="88920"/>
            </a:xfrm>
          </p:grpSpPr>
          <p:sp>
            <p:nvSpPr>
              <p:cNvPr id="2351" name=""/>
              <p:cNvSpPr/>
              <p:nvPr/>
            </p:nvSpPr>
            <p:spPr>
              <a:xfrm>
                <a:off x="520992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 flipH="1">
                <a:off x="5196960" y="51163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3" name=""/>
            <p:cNvGrpSpPr/>
            <p:nvPr/>
          </p:nvGrpSpPr>
          <p:grpSpPr>
            <a:xfrm>
              <a:off x="4777920" y="5484600"/>
              <a:ext cx="114120" cy="88920"/>
              <a:chOff x="4777920" y="5484600"/>
              <a:chExt cx="114120" cy="88920"/>
            </a:xfrm>
          </p:grpSpPr>
          <p:sp>
            <p:nvSpPr>
              <p:cNvPr id="2354" name=""/>
              <p:cNvSpPr/>
              <p:nvPr/>
            </p:nvSpPr>
            <p:spPr>
              <a:xfrm>
                <a:off x="479088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 flipH="1">
                <a:off x="4777920" y="54846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6" name=""/>
            <p:cNvGrpSpPr/>
            <p:nvPr/>
          </p:nvGrpSpPr>
          <p:grpSpPr>
            <a:xfrm>
              <a:off x="5069880" y="5484600"/>
              <a:ext cx="114120" cy="88920"/>
              <a:chOff x="5069880" y="5484600"/>
              <a:chExt cx="114120" cy="88920"/>
            </a:xfrm>
          </p:grpSpPr>
          <p:sp>
            <p:nvSpPr>
              <p:cNvPr id="2357" name=""/>
              <p:cNvSpPr/>
              <p:nvPr/>
            </p:nvSpPr>
            <p:spPr>
              <a:xfrm>
                <a:off x="508284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 flipH="1">
                <a:off x="5069880" y="54846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9" name=""/>
            <p:cNvGrpSpPr/>
            <p:nvPr/>
          </p:nvGrpSpPr>
          <p:grpSpPr>
            <a:xfrm>
              <a:off x="4485960" y="4379760"/>
              <a:ext cx="114480" cy="88920"/>
              <a:chOff x="4485960" y="4379760"/>
              <a:chExt cx="114480" cy="88920"/>
            </a:xfrm>
          </p:grpSpPr>
          <p:sp>
            <p:nvSpPr>
              <p:cNvPr id="2360" name=""/>
              <p:cNvSpPr/>
              <p:nvPr/>
            </p:nvSpPr>
            <p:spPr>
              <a:xfrm>
                <a:off x="449856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 flipH="1">
                <a:off x="4485960" y="43797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2" name=""/>
            <p:cNvGrpSpPr/>
            <p:nvPr/>
          </p:nvGrpSpPr>
          <p:grpSpPr>
            <a:xfrm>
              <a:off x="4485960" y="4748040"/>
              <a:ext cx="114480" cy="88920"/>
              <a:chOff x="4485960" y="4748040"/>
              <a:chExt cx="114480" cy="88920"/>
            </a:xfrm>
          </p:grpSpPr>
          <p:sp>
            <p:nvSpPr>
              <p:cNvPr id="2363" name=""/>
              <p:cNvSpPr/>
              <p:nvPr/>
            </p:nvSpPr>
            <p:spPr>
              <a:xfrm>
                <a:off x="449856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 flipH="1">
                <a:off x="4485960" y="47480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5" name=""/>
            <p:cNvGrpSpPr/>
            <p:nvPr/>
          </p:nvGrpSpPr>
          <p:grpSpPr>
            <a:xfrm>
              <a:off x="4485960" y="5116320"/>
              <a:ext cx="114480" cy="88920"/>
              <a:chOff x="4485960" y="5116320"/>
              <a:chExt cx="114480" cy="88920"/>
            </a:xfrm>
          </p:grpSpPr>
          <p:sp>
            <p:nvSpPr>
              <p:cNvPr id="2366" name=""/>
              <p:cNvSpPr/>
              <p:nvPr/>
            </p:nvSpPr>
            <p:spPr>
              <a:xfrm>
                <a:off x="449856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flipH="1">
                <a:off x="4485960" y="51163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8" name=""/>
            <p:cNvGrpSpPr/>
            <p:nvPr/>
          </p:nvGrpSpPr>
          <p:grpSpPr>
            <a:xfrm>
              <a:off x="4485960" y="5484600"/>
              <a:ext cx="114480" cy="88920"/>
              <a:chOff x="4485960" y="5484600"/>
              <a:chExt cx="114480" cy="88920"/>
            </a:xfrm>
          </p:grpSpPr>
          <p:sp>
            <p:nvSpPr>
              <p:cNvPr id="2369" name=""/>
              <p:cNvSpPr/>
              <p:nvPr/>
            </p:nvSpPr>
            <p:spPr>
              <a:xfrm>
                <a:off x="449856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 flipH="1">
                <a:off x="4485960" y="54846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1" name=""/>
            <p:cNvGrpSpPr/>
            <p:nvPr/>
          </p:nvGrpSpPr>
          <p:grpSpPr>
            <a:xfrm>
              <a:off x="6492600" y="4024080"/>
              <a:ext cx="114480" cy="88560"/>
              <a:chOff x="6492600" y="4024080"/>
              <a:chExt cx="114480" cy="88560"/>
            </a:xfrm>
          </p:grpSpPr>
          <p:sp>
            <p:nvSpPr>
              <p:cNvPr id="2372" name=""/>
              <p:cNvSpPr/>
              <p:nvPr/>
            </p:nvSpPr>
            <p:spPr>
              <a:xfrm>
                <a:off x="6505200" y="4024080"/>
                <a:ext cx="8892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 flipH="1">
                <a:off x="6492600" y="4024080"/>
                <a:ext cx="11448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4" name=""/>
            <p:cNvGrpSpPr/>
            <p:nvPr/>
          </p:nvGrpSpPr>
          <p:grpSpPr>
            <a:xfrm>
              <a:off x="6492600" y="4379760"/>
              <a:ext cx="114480" cy="88920"/>
              <a:chOff x="6492600" y="4379760"/>
              <a:chExt cx="114480" cy="88920"/>
            </a:xfrm>
          </p:grpSpPr>
          <p:sp>
            <p:nvSpPr>
              <p:cNvPr id="2375" name=""/>
              <p:cNvSpPr/>
              <p:nvPr/>
            </p:nvSpPr>
            <p:spPr>
              <a:xfrm>
                <a:off x="650520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flipH="1">
                <a:off x="6492600" y="43797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7" name=""/>
            <p:cNvGrpSpPr/>
            <p:nvPr/>
          </p:nvGrpSpPr>
          <p:grpSpPr>
            <a:xfrm>
              <a:off x="6492600" y="3643200"/>
              <a:ext cx="114480" cy="88920"/>
              <a:chOff x="6492600" y="3643200"/>
              <a:chExt cx="114480" cy="88920"/>
            </a:xfrm>
          </p:grpSpPr>
          <p:sp>
            <p:nvSpPr>
              <p:cNvPr id="2378" name=""/>
              <p:cNvSpPr/>
              <p:nvPr/>
            </p:nvSpPr>
            <p:spPr>
              <a:xfrm>
                <a:off x="650520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flipH="1">
                <a:off x="6492600" y="36432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0" name=""/>
            <p:cNvGrpSpPr/>
            <p:nvPr/>
          </p:nvGrpSpPr>
          <p:grpSpPr>
            <a:xfrm>
              <a:off x="7203600" y="4748040"/>
              <a:ext cx="114120" cy="88920"/>
              <a:chOff x="7203600" y="4748040"/>
              <a:chExt cx="114120" cy="88920"/>
            </a:xfrm>
          </p:grpSpPr>
          <p:sp>
            <p:nvSpPr>
              <p:cNvPr id="2381" name=""/>
              <p:cNvSpPr/>
              <p:nvPr/>
            </p:nvSpPr>
            <p:spPr>
              <a:xfrm>
                <a:off x="721656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flipH="1">
                <a:off x="7203600" y="47480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3" name=""/>
            <p:cNvGrpSpPr/>
            <p:nvPr/>
          </p:nvGrpSpPr>
          <p:grpSpPr>
            <a:xfrm>
              <a:off x="7203600" y="5116320"/>
              <a:ext cx="114120" cy="88920"/>
              <a:chOff x="7203600" y="5116320"/>
              <a:chExt cx="114120" cy="88920"/>
            </a:xfrm>
          </p:grpSpPr>
          <p:sp>
            <p:nvSpPr>
              <p:cNvPr id="2384" name=""/>
              <p:cNvSpPr/>
              <p:nvPr/>
            </p:nvSpPr>
            <p:spPr>
              <a:xfrm>
                <a:off x="721656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flipH="1">
                <a:off x="7203600" y="51163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6" name=""/>
            <p:cNvGrpSpPr/>
            <p:nvPr/>
          </p:nvGrpSpPr>
          <p:grpSpPr>
            <a:xfrm>
              <a:off x="7203600" y="4379760"/>
              <a:ext cx="114120" cy="88920"/>
              <a:chOff x="7203600" y="4379760"/>
              <a:chExt cx="114120" cy="88920"/>
            </a:xfrm>
          </p:grpSpPr>
          <p:sp>
            <p:nvSpPr>
              <p:cNvPr id="2387" name=""/>
              <p:cNvSpPr/>
              <p:nvPr/>
            </p:nvSpPr>
            <p:spPr>
              <a:xfrm>
                <a:off x="721656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flipH="1">
                <a:off x="7203600" y="43797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9" name=""/>
            <p:cNvGrpSpPr/>
            <p:nvPr/>
          </p:nvGrpSpPr>
          <p:grpSpPr>
            <a:xfrm>
              <a:off x="7203600" y="3643200"/>
              <a:ext cx="114120" cy="88920"/>
              <a:chOff x="7203600" y="3643200"/>
              <a:chExt cx="114120" cy="88920"/>
            </a:xfrm>
          </p:grpSpPr>
          <p:sp>
            <p:nvSpPr>
              <p:cNvPr id="2390" name=""/>
              <p:cNvSpPr/>
              <p:nvPr/>
            </p:nvSpPr>
            <p:spPr>
              <a:xfrm>
                <a:off x="721656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 flipH="1">
                <a:off x="720360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2" name=""/>
            <p:cNvGrpSpPr/>
            <p:nvPr/>
          </p:nvGrpSpPr>
          <p:grpSpPr>
            <a:xfrm>
              <a:off x="7203600" y="4011480"/>
              <a:ext cx="114120" cy="88920"/>
              <a:chOff x="7203600" y="4011480"/>
              <a:chExt cx="114120" cy="88920"/>
            </a:xfrm>
          </p:grpSpPr>
          <p:sp>
            <p:nvSpPr>
              <p:cNvPr id="2393" name=""/>
              <p:cNvSpPr/>
              <p:nvPr/>
            </p:nvSpPr>
            <p:spPr>
              <a:xfrm>
                <a:off x="7216560" y="40114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 flipH="1">
                <a:off x="7203600" y="40114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5" name=""/>
            <p:cNvGrpSpPr/>
            <p:nvPr/>
          </p:nvGrpSpPr>
          <p:grpSpPr>
            <a:xfrm>
              <a:off x="7203600" y="3274920"/>
              <a:ext cx="114120" cy="88920"/>
              <a:chOff x="7203600" y="3274920"/>
              <a:chExt cx="114120" cy="88920"/>
            </a:xfrm>
          </p:grpSpPr>
          <p:sp>
            <p:nvSpPr>
              <p:cNvPr id="2396" name=""/>
              <p:cNvSpPr/>
              <p:nvPr/>
            </p:nvSpPr>
            <p:spPr>
              <a:xfrm>
                <a:off x="721656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 flipH="1">
                <a:off x="7203600" y="3274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8" name=""/>
            <p:cNvGrpSpPr/>
            <p:nvPr/>
          </p:nvGrpSpPr>
          <p:grpSpPr>
            <a:xfrm>
              <a:off x="6492600" y="3274920"/>
              <a:ext cx="114480" cy="88920"/>
              <a:chOff x="6492600" y="3274920"/>
              <a:chExt cx="114480" cy="88920"/>
            </a:xfrm>
          </p:grpSpPr>
          <p:sp>
            <p:nvSpPr>
              <p:cNvPr id="2399" name=""/>
              <p:cNvSpPr/>
              <p:nvPr/>
            </p:nvSpPr>
            <p:spPr>
              <a:xfrm>
                <a:off x="650520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 flipH="1">
                <a:off x="6492600" y="32749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1" name=""/>
            <p:cNvGrpSpPr/>
            <p:nvPr/>
          </p:nvGrpSpPr>
          <p:grpSpPr>
            <a:xfrm>
              <a:off x="7203600" y="2906640"/>
              <a:ext cx="114120" cy="88920"/>
              <a:chOff x="7203600" y="2906640"/>
              <a:chExt cx="114120" cy="88920"/>
            </a:xfrm>
          </p:grpSpPr>
          <p:sp>
            <p:nvSpPr>
              <p:cNvPr id="2402" name=""/>
              <p:cNvSpPr/>
              <p:nvPr/>
            </p:nvSpPr>
            <p:spPr>
              <a:xfrm>
                <a:off x="721656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H="1">
                <a:off x="7203600" y="2906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4" name=""/>
            <p:cNvGrpSpPr/>
            <p:nvPr/>
          </p:nvGrpSpPr>
          <p:grpSpPr>
            <a:xfrm>
              <a:off x="7571880" y="3643200"/>
              <a:ext cx="114120" cy="88920"/>
              <a:chOff x="7571880" y="3643200"/>
              <a:chExt cx="114120" cy="88920"/>
            </a:xfrm>
          </p:grpSpPr>
          <p:sp>
            <p:nvSpPr>
              <p:cNvPr id="2405" name=""/>
              <p:cNvSpPr/>
              <p:nvPr/>
            </p:nvSpPr>
            <p:spPr>
              <a:xfrm>
                <a:off x="758484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 flipH="1">
                <a:off x="757188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7" name=""/>
            <p:cNvGrpSpPr/>
            <p:nvPr/>
          </p:nvGrpSpPr>
          <p:grpSpPr>
            <a:xfrm>
              <a:off x="7571880" y="4379760"/>
              <a:ext cx="114120" cy="88920"/>
              <a:chOff x="7571880" y="4379760"/>
              <a:chExt cx="114120" cy="88920"/>
            </a:xfrm>
          </p:grpSpPr>
          <p:sp>
            <p:nvSpPr>
              <p:cNvPr id="2408" name=""/>
              <p:cNvSpPr/>
              <p:nvPr/>
            </p:nvSpPr>
            <p:spPr>
              <a:xfrm>
                <a:off x="758484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 flipH="1">
                <a:off x="7571880" y="43797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0" name=""/>
            <p:cNvGrpSpPr/>
            <p:nvPr/>
          </p:nvGrpSpPr>
          <p:grpSpPr>
            <a:xfrm>
              <a:off x="7571880" y="5484600"/>
              <a:ext cx="114120" cy="88920"/>
              <a:chOff x="7571880" y="5484600"/>
              <a:chExt cx="114120" cy="88920"/>
            </a:xfrm>
          </p:grpSpPr>
          <p:sp>
            <p:nvSpPr>
              <p:cNvPr id="2411" name=""/>
              <p:cNvSpPr/>
              <p:nvPr/>
            </p:nvSpPr>
            <p:spPr>
              <a:xfrm>
                <a:off x="758484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 flipH="1">
                <a:off x="7571880" y="54846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3" name=""/>
            <p:cNvSpPr/>
            <p:nvPr/>
          </p:nvSpPr>
          <p:spPr>
            <a:xfrm>
              <a:off x="604188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637200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674028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709596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746424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7464240" y="644364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9" name=""/>
          <p:cNvSpPr/>
          <p:nvPr/>
        </p:nvSpPr>
        <p:spPr>
          <a:xfrm>
            <a:off x="4410000" y="2563920"/>
            <a:ext cx="1587600" cy="317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 flipV="1">
            <a:off x="5705640" y="2042640"/>
            <a:ext cx="596880" cy="520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5753160" y="1749600"/>
            <a:ext cx="3098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ll decoder as for memory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 flipV="1">
            <a:off x="6784920" y="2385720"/>
            <a:ext cx="190440" cy="368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6689880" y="2125800"/>
            <a:ext cx="213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ts stored in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grammable logic array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 functions of A, B,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1 = A B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2 = A + B +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3 = A' B' C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4 = A' + B' + C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5 = A xor B x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6 = A xnor B xn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1C2D-2B69-423F-976D-8AF5BB3C8D4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"/>
          <p:cNvSpPr/>
          <p:nvPr/>
        </p:nvSpPr>
        <p:spPr>
          <a:xfrm>
            <a:off x="2013120" y="5025960"/>
            <a:ext cx="33145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given column of the OR arra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s access to only a subset o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possible product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7" name=""/>
          <p:cNvGrpSpPr/>
          <p:nvPr/>
        </p:nvGrpSpPr>
        <p:grpSpPr>
          <a:xfrm>
            <a:off x="5607000" y="2844720"/>
            <a:ext cx="3314880" cy="3784680"/>
            <a:chOff x="5607000" y="2844720"/>
            <a:chExt cx="3314880" cy="3784680"/>
          </a:xfrm>
        </p:grpSpPr>
        <p:sp>
          <p:nvSpPr>
            <p:cNvPr id="2428" name=""/>
            <p:cNvSpPr/>
            <p:nvPr/>
          </p:nvSpPr>
          <p:spPr>
            <a:xfrm>
              <a:off x="6953400" y="31179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953400" y="342252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 flipV="1">
              <a:off x="6946920" y="31114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7112520" y="313200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7106040" y="31258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7112160" y="31179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7105680" y="31114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607000" y="32702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7398000" y="327024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953400" y="34862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6953400" y="37908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 flipV="1">
              <a:off x="6946920" y="3479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7112520" y="350028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106040" y="34941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112160" y="34862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105680" y="34797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607000" y="363852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398000" y="36385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6953400" y="38545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6953400" y="41590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 flipV="1">
              <a:off x="6946920" y="38480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7112520" y="38685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7106040" y="38624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7112160" y="38545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7105680" y="38480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607000" y="40068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7398000" y="400680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6953400" y="42228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6953400" y="45273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V="1">
              <a:off x="6946920" y="42163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7112520" y="423684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7106040" y="4230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7112160" y="42228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7105680" y="42163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607000" y="437508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7398000" y="437508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H="1">
              <a:off x="6648480" y="29718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534360" y="297180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H="1">
              <a:off x="6521040" y="296532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654960" y="2844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718320" y="31114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591240" y="307332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H="1">
              <a:off x="6356520" y="29718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242040" y="297180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 flipH="1">
              <a:off x="6229080" y="296532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362640" y="2844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426360" y="31114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299280" y="3060720"/>
              <a:ext cx="0" cy="30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 flipH="1">
              <a:off x="6064200" y="29718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950080" y="297180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 flipH="1">
              <a:off x="5937480" y="296532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6070680" y="2844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6134040" y="31114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6007320" y="307332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7525080" y="59688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7499160" y="556236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7513560" y="561348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7513560" y="596880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7645320" y="30733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7645320" y="651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7893360" y="59688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7868160" y="556236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7881840" y="561348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7881840" y="596880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8013960" y="30733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8013960" y="651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8249040" y="59688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8223120" y="556236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37520" y="561348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8237520" y="596880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8369280" y="30733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8369280" y="651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8604360" y="596880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8578800" y="556236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8593200" y="561348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8593200" y="596880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8724960" y="30733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8724960" y="651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6953400" y="45910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6953400" y="489564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 flipV="1">
              <a:off x="6946920" y="45846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7112520" y="46051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7106040" y="45990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7112160" y="45910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7105680" y="45846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607000" y="474336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7398000" y="474336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953400" y="49593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953400" y="52642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 flipV="1">
              <a:off x="6946920" y="49528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112520" y="49737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7106040" y="49672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7112160" y="495900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7105680" y="49528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607000" y="51116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7398000" y="511164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6953400" y="53276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6953400" y="5632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 flipV="1">
              <a:off x="6946920" y="53211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7112520" y="53420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7106040" y="53355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7112160" y="532728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7105680" y="53211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607000" y="547992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7398000" y="5479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6953400" y="5695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953400" y="600084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 flipV="1">
              <a:off x="6946920" y="5689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7112520" y="57103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7106040" y="5703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7112160" y="569556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7105680" y="5689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5607000" y="58482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7398000" y="584820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6699240" y="30859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6407280" y="30859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6114960" y="3085920"/>
              <a:ext cx="5112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H="1">
              <a:off x="5784840" y="29718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5670720" y="297180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 flipH="1">
              <a:off x="5657400" y="296532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5791320" y="2844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854680" y="31114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727960" y="307332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835600" y="30859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2" name=""/>
            <p:cNvGrpSpPr/>
            <p:nvPr/>
          </p:nvGrpSpPr>
          <p:grpSpPr>
            <a:xfrm>
              <a:off x="5670360" y="3225600"/>
              <a:ext cx="1105200" cy="88920"/>
              <a:chOff x="5670360" y="3225600"/>
              <a:chExt cx="1105200" cy="88920"/>
            </a:xfrm>
          </p:grpSpPr>
          <p:grpSp>
            <p:nvGrpSpPr>
              <p:cNvPr id="2553" name=""/>
              <p:cNvGrpSpPr/>
              <p:nvPr/>
            </p:nvGrpSpPr>
            <p:grpSpPr>
              <a:xfrm>
                <a:off x="6369120" y="3225600"/>
                <a:ext cx="114480" cy="88920"/>
                <a:chOff x="6369120" y="3225600"/>
                <a:chExt cx="114480" cy="88920"/>
              </a:xfrm>
            </p:grpSpPr>
            <p:sp>
              <p:nvSpPr>
                <p:cNvPr id="2554" name=""/>
                <p:cNvSpPr/>
                <p:nvPr/>
              </p:nvSpPr>
              <p:spPr>
                <a:xfrm>
                  <a:off x="638172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 flipH="1">
                  <a:off x="6369120" y="32256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6" name=""/>
              <p:cNvGrpSpPr/>
              <p:nvPr/>
            </p:nvGrpSpPr>
            <p:grpSpPr>
              <a:xfrm>
                <a:off x="6076800" y="3225600"/>
                <a:ext cx="114120" cy="88920"/>
                <a:chOff x="6076800" y="3225600"/>
                <a:chExt cx="114120" cy="88920"/>
              </a:xfrm>
            </p:grpSpPr>
            <p:sp>
              <p:nvSpPr>
                <p:cNvPr id="2557" name=""/>
                <p:cNvSpPr/>
                <p:nvPr/>
              </p:nvSpPr>
              <p:spPr>
                <a:xfrm>
                  <a:off x="608976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 flipH="1">
                  <a:off x="607680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9" name=""/>
              <p:cNvGrpSpPr/>
              <p:nvPr/>
            </p:nvGrpSpPr>
            <p:grpSpPr>
              <a:xfrm>
                <a:off x="6661080" y="3225600"/>
                <a:ext cx="114480" cy="88920"/>
                <a:chOff x="6661080" y="3225600"/>
                <a:chExt cx="114480" cy="88920"/>
              </a:xfrm>
            </p:grpSpPr>
            <p:sp>
              <p:nvSpPr>
                <p:cNvPr id="2560" name=""/>
                <p:cNvSpPr/>
                <p:nvPr/>
              </p:nvSpPr>
              <p:spPr>
                <a:xfrm>
                  <a:off x="667404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 flipH="1">
                  <a:off x="6661080" y="32256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2" name=""/>
              <p:cNvGrpSpPr/>
              <p:nvPr/>
            </p:nvGrpSpPr>
            <p:grpSpPr>
              <a:xfrm>
                <a:off x="6242040" y="3225600"/>
                <a:ext cx="114480" cy="88920"/>
                <a:chOff x="6242040" y="3225600"/>
                <a:chExt cx="114480" cy="88920"/>
              </a:xfrm>
            </p:grpSpPr>
            <p:sp>
              <p:nvSpPr>
                <p:cNvPr id="2563" name=""/>
                <p:cNvSpPr/>
                <p:nvPr/>
              </p:nvSpPr>
              <p:spPr>
                <a:xfrm>
                  <a:off x="6255000" y="322560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 flipH="1">
                  <a:off x="6242040" y="32256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5" name=""/>
              <p:cNvGrpSpPr/>
              <p:nvPr/>
            </p:nvGrpSpPr>
            <p:grpSpPr>
              <a:xfrm>
                <a:off x="5949720" y="3225600"/>
                <a:ext cx="114120" cy="88920"/>
                <a:chOff x="5949720" y="3225600"/>
                <a:chExt cx="114120" cy="88920"/>
              </a:xfrm>
            </p:grpSpPr>
            <p:sp>
              <p:nvSpPr>
                <p:cNvPr id="2566" name=""/>
                <p:cNvSpPr/>
                <p:nvPr/>
              </p:nvSpPr>
              <p:spPr>
                <a:xfrm>
                  <a:off x="596268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 flipH="1">
                  <a:off x="594972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8" name=""/>
              <p:cNvGrpSpPr/>
              <p:nvPr/>
            </p:nvGrpSpPr>
            <p:grpSpPr>
              <a:xfrm>
                <a:off x="6534000" y="3225600"/>
                <a:ext cx="114120" cy="88920"/>
                <a:chOff x="6534000" y="3225600"/>
                <a:chExt cx="114120" cy="88920"/>
              </a:xfrm>
            </p:grpSpPr>
            <p:sp>
              <p:nvSpPr>
                <p:cNvPr id="2569" name=""/>
                <p:cNvSpPr/>
                <p:nvPr/>
              </p:nvSpPr>
              <p:spPr>
                <a:xfrm>
                  <a:off x="654696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 flipH="1">
                  <a:off x="653400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1" name=""/>
              <p:cNvGrpSpPr/>
              <p:nvPr/>
            </p:nvGrpSpPr>
            <p:grpSpPr>
              <a:xfrm>
                <a:off x="5797440" y="3225600"/>
                <a:ext cx="114120" cy="88920"/>
                <a:chOff x="5797440" y="3225600"/>
                <a:chExt cx="114120" cy="88920"/>
              </a:xfrm>
            </p:grpSpPr>
            <p:sp>
              <p:nvSpPr>
                <p:cNvPr id="2572" name=""/>
                <p:cNvSpPr/>
                <p:nvPr/>
              </p:nvSpPr>
              <p:spPr>
                <a:xfrm>
                  <a:off x="581040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 flipH="1">
                  <a:off x="579744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4" name=""/>
              <p:cNvGrpSpPr/>
              <p:nvPr/>
            </p:nvGrpSpPr>
            <p:grpSpPr>
              <a:xfrm>
                <a:off x="5670360" y="3225600"/>
                <a:ext cx="114120" cy="88920"/>
                <a:chOff x="5670360" y="3225600"/>
                <a:chExt cx="114120" cy="88920"/>
              </a:xfrm>
            </p:grpSpPr>
            <p:sp>
              <p:nvSpPr>
                <p:cNvPr id="2575" name=""/>
                <p:cNvSpPr/>
                <p:nvPr/>
              </p:nvSpPr>
              <p:spPr>
                <a:xfrm>
                  <a:off x="568332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 flipH="1">
                  <a:off x="567036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7" name=""/>
            <p:cNvGrpSpPr/>
            <p:nvPr/>
          </p:nvGrpSpPr>
          <p:grpSpPr>
            <a:xfrm>
              <a:off x="5670360" y="3593880"/>
              <a:ext cx="1105200" cy="88920"/>
              <a:chOff x="5670360" y="3593880"/>
              <a:chExt cx="1105200" cy="88920"/>
            </a:xfrm>
          </p:grpSpPr>
          <p:grpSp>
            <p:nvGrpSpPr>
              <p:cNvPr id="2578" name=""/>
              <p:cNvGrpSpPr/>
              <p:nvPr/>
            </p:nvGrpSpPr>
            <p:grpSpPr>
              <a:xfrm>
                <a:off x="6369120" y="3593880"/>
                <a:ext cx="114480" cy="88920"/>
                <a:chOff x="6369120" y="3593880"/>
                <a:chExt cx="114480" cy="88920"/>
              </a:xfrm>
            </p:grpSpPr>
            <p:sp>
              <p:nvSpPr>
                <p:cNvPr id="2579" name=""/>
                <p:cNvSpPr/>
                <p:nvPr/>
              </p:nvSpPr>
              <p:spPr>
                <a:xfrm>
                  <a:off x="638172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 flipH="1">
                  <a:off x="6369120" y="35938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1" name=""/>
              <p:cNvGrpSpPr/>
              <p:nvPr/>
            </p:nvGrpSpPr>
            <p:grpSpPr>
              <a:xfrm>
                <a:off x="6076800" y="3593880"/>
                <a:ext cx="114120" cy="88920"/>
                <a:chOff x="6076800" y="3593880"/>
                <a:chExt cx="114120" cy="88920"/>
              </a:xfrm>
            </p:grpSpPr>
            <p:sp>
              <p:nvSpPr>
                <p:cNvPr id="2582" name=""/>
                <p:cNvSpPr/>
                <p:nvPr/>
              </p:nvSpPr>
              <p:spPr>
                <a:xfrm>
                  <a:off x="608976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 flipH="1">
                  <a:off x="607680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4" name=""/>
              <p:cNvGrpSpPr/>
              <p:nvPr/>
            </p:nvGrpSpPr>
            <p:grpSpPr>
              <a:xfrm>
                <a:off x="6661080" y="3593880"/>
                <a:ext cx="114480" cy="88920"/>
                <a:chOff x="6661080" y="3593880"/>
                <a:chExt cx="114480" cy="88920"/>
              </a:xfrm>
            </p:grpSpPr>
            <p:sp>
              <p:nvSpPr>
                <p:cNvPr id="2585" name=""/>
                <p:cNvSpPr/>
                <p:nvPr/>
              </p:nvSpPr>
              <p:spPr>
                <a:xfrm>
                  <a:off x="667404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 flipH="1">
                  <a:off x="6661080" y="35938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7" name=""/>
              <p:cNvGrpSpPr/>
              <p:nvPr/>
            </p:nvGrpSpPr>
            <p:grpSpPr>
              <a:xfrm>
                <a:off x="6242040" y="3593880"/>
                <a:ext cx="114480" cy="88920"/>
                <a:chOff x="6242040" y="3593880"/>
                <a:chExt cx="114480" cy="88920"/>
              </a:xfrm>
            </p:grpSpPr>
            <p:sp>
              <p:nvSpPr>
                <p:cNvPr id="2588" name=""/>
                <p:cNvSpPr/>
                <p:nvPr/>
              </p:nvSpPr>
              <p:spPr>
                <a:xfrm>
                  <a:off x="6255000" y="359388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 flipH="1">
                  <a:off x="6242040" y="35938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0" name=""/>
              <p:cNvGrpSpPr/>
              <p:nvPr/>
            </p:nvGrpSpPr>
            <p:grpSpPr>
              <a:xfrm>
                <a:off x="5949720" y="3593880"/>
                <a:ext cx="114120" cy="88920"/>
                <a:chOff x="5949720" y="3593880"/>
                <a:chExt cx="114120" cy="88920"/>
              </a:xfrm>
            </p:grpSpPr>
            <p:sp>
              <p:nvSpPr>
                <p:cNvPr id="2591" name=""/>
                <p:cNvSpPr/>
                <p:nvPr/>
              </p:nvSpPr>
              <p:spPr>
                <a:xfrm>
                  <a:off x="596268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 flipH="1">
                  <a:off x="594972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3" name=""/>
              <p:cNvGrpSpPr/>
              <p:nvPr/>
            </p:nvGrpSpPr>
            <p:grpSpPr>
              <a:xfrm>
                <a:off x="6534000" y="3593880"/>
                <a:ext cx="114120" cy="88920"/>
                <a:chOff x="6534000" y="3593880"/>
                <a:chExt cx="114120" cy="88920"/>
              </a:xfrm>
            </p:grpSpPr>
            <p:sp>
              <p:nvSpPr>
                <p:cNvPr id="2594" name=""/>
                <p:cNvSpPr/>
                <p:nvPr/>
              </p:nvSpPr>
              <p:spPr>
                <a:xfrm>
                  <a:off x="654696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 flipH="1">
                  <a:off x="653400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6" name=""/>
              <p:cNvGrpSpPr/>
              <p:nvPr/>
            </p:nvGrpSpPr>
            <p:grpSpPr>
              <a:xfrm>
                <a:off x="5797440" y="3593880"/>
                <a:ext cx="114120" cy="88920"/>
                <a:chOff x="5797440" y="3593880"/>
                <a:chExt cx="114120" cy="88920"/>
              </a:xfrm>
            </p:grpSpPr>
            <p:sp>
              <p:nvSpPr>
                <p:cNvPr id="2597" name=""/>
                <p:cNvSpPr/>
                <p:nvPr/>
              </p:nvSpPr>
              <p:spPr>
                <a:xfrm>
                  <a:off x="581040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 flipH="1">
                  <a:off x="579744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9" name=""/>
              <p:cNvGrpSpPr/>
              <p:nvPr/>
            </p:nvGrpSpPr>
            <p:grpSpPr>
              <a:xfrm>
                <a:off x="5670360" y="3593880"/>
                <a:ext cx="114120" cy="88920"/>
                <a:chOff x="5670360" y="3593880"/>
                <a:chExt cx="114120" cy="88920"/>
              </a:xfrm>
            </p:grpSpPr>
            <p:sp>
              <p:nvSpPr>
                <p:cNvPr id="2600" name=""/>
                <p:cNvSpPr/>
                <p:nvPr/>
              </p:nvSpPr>
              <p:spPr>
                <a:xfrm>
                  <a:off x="568332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 flipH="1">
                  <a:off x="567036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2" name=""/>
            <p:cNvGrpSpPr/>
            <p:nvPr/>
          </p:nvGrpSpPr>
          <p:grpSpPr>
            <a:xfrm>
              <a:off x="5670360" y="3962520"/>
              <a:ext cx="1105200" cy="88560"/>
              <a:chOff x="5670360" y="3962520"/>
              <a:chExt cx="1105200" cy="88560"/>
            </a:xfrm>
          </p:grpSpPr>
          <p:grpSp>
            <p:nvGrpSpPr>
              <p:cNvPr id="2603" name=""/>
              <p:cNvGrpSpPr/>
              <p:nvPr/>
            </p:nvGrpSpPr>
            <p:grpSpPr>
              <a:xfrm>
                <a:off x="6369120" y="3962520"/>
                <a:ext cx="114480" cy="88560"/>
                <a:chOff x="6369120" y="3962520"/>
                <a:chExt cx="114480" cy="88560"/>
              </a:xfrm>
            </p:grpSpPr>
            <p:sp>
              <p:nvSpPr>
                <p:cNvPr id="2604" name=""/>
                <p:cNvSpPr/>
                <p:nvPr/>
              </p:nvSpPr>
              <p:spPr>
                <a:xfrm>
                  <a:off x="638172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 flipH="1">
                  <a:off x="6369120" y="3962520"/>
                  <a:ext cx="11448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6" name=""/>
              <p:cNvGrpSpPr/>
              <p:nvPr/>
            </p:nvGrpSpPr>
            <p:grpSpPr>
              <a:xfrm>
                <a:off x="6076800" y="3962520"/>
                <a:ext cx="114120" cy="88560"/>
                <a:chOff x="6076800" y="3962520"/>
                <a:chExt cx="114120" cy="88560"/>
              </a:xfrm>
            </p:grpSpPr>
            <p:sp>
              <p:nvSpPr>
                <p:cNvPr id="2607" name=""/>
                <p:cNvSpPr/>
                <p:nvPr/>
              </p:nvSpPr>
              <p:spPr>
                <a:xfrm>
                  <a:off x="608976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 flipH="1">
                  <a:off x="607680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9" name=""/>
              <p:cNvGrpSpPr/>
              <p:nvPr/>
            </p:nvGrpSpPr>
            <p:grpSpPr>
              <a:xfrm>
                <a:off x="6661080" y="3962520"/>
                <a:ext cx="114480" cy="88560"/>
                <a:chOff x="6661080" y="3962520"/>
                <a:chExt cx="114480" cy="88560"/>
              </a:xfrm>
            </p:grpSpPr>
            <p:sp>
              <p:nvSpPr>
                <p:cNvPr id="2610" name=""/>
                <p:cNvSpPr/>
                <p:nvPr/>
              </p:nvSpPr>
              <p:spPr>
                <a:xfrm>
                  <a:off x="667404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 flipH="1">
                  <a:off x="6661080" y="3962520"/>
                  <a:ext cx="11448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2" name=""/>
              <p:cNvGrpSpPr/>
              <p:nvPr/>
            </p:nvGrpSpPr>
            <p:grpSpPr>
              <a:xfrm>
                <a:off x="6242040" y="3962520"/>
                <a:ext cx="114480" cy="88560"/>
                <a:chOff x="6242040" y="3962520"/>
                <a:chExt cx="114480" cy="88560"/>
              </a:xfrm>
            </p:grpSpPr>
            <p:sp>
              <p:nvSpPr>
                <p:cNvPr id="2613" name=""/>
                <p:cNvSpPr/>
                <p:nvPr/>
              </p:nvSpPr>
              <p:spPr>
                <a:xfrm>
                  <a:off x="6255000" y="3962520"/>
                  <a:ext cx="8856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 flipH="1">
                  <a:off x="6242040" y="3962520"/>
                  <a:ext cx="11448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5" name=""/>
              <p:cNvGrpSpPr/>
              <p:nvPr/>
            </p:nvGrpSpPr>
            <p:grpSpPr>
              <a:xfrm>
                <a:off x="5949720" y="3962520"/>
                <a:ext cx="114120" cy="88560"/>
                <a:chOff x="5949720" y="3962520"/>
                <a:chExt cx="114120" cy="88560"/>
              </a:xfrm>
            </p:grpSpPr>
            <p:sp>
              <p:nvSpPr>
                <p:cNvPr id="2616" name=""/>
                <p:cNvSpPr/>
                <p:nvPr/>
              </p:nvSpPr>
              <p:spPr>
                <a:xfrm>
                  <a:off x="596268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 flipH="1">
                  <a:off x="594972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8" name=""/>
              <p:cNvGrpSpPr/>
              <p:nvPr/>
            </p:nvGrpSpPr>
            <p:grpSpPr>
              <a:xfrm>
                <a:off x="6534000" y="3962520"/>
                <a:ext cx="114120" cy="88560"/>
                <a:chOff x="6534000" y="3962520"/>
                <a:chExt cx="114120" cy="88560"/>
              </a:xfrm>
            </p:grpSpPr>
            <p:sp>
              <p:nvSpPr>
                <p:cNvPr id="2619" name=""/>
                <p:cNvSpPr/>
                <p:nvPr/>
              </p:nvSpPr>
              <p:spPr>
                <a:xfrm>
                  <a:off x="654696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 flipH="1">
                  <a:off x="653400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1" name=""/>
              <p:cNvGrpSpPr/>
              <p:nvPr/>
            </p:nvGrpSpPr>
            <p:grpSpPr>
              <a:xfrm>
                <a:off x="5797440" y="3962520"/>
                <a:ext cx="114120" cy="88560"/>
                <a:chOff x="5797440" y="3962520"/>
                <a:chExt cx="114120" cy="88560"/>
              </a:xfrm>
            </p:grpSpPr>
            <p:sp>
              <p:nvSpPr>
                <p:cNvPr id="2622" name=""/>
                <p:cNvSpPr/>
                <p:nvPr/>
              </p:nvSpPr>
              <p:spPr>
                <a:xfrm>
                  <a:off x="581040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 flipH="1">
                  <a:off x="579744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4" name=""/>
              <p:cNvGrpSpPr/>
              <p:nvPr/>
            </p:nvGrpSpPr>
            <p:grpSpPr>
              <a:xfrm>
                <a:off x="5670360" y="3962520"/>
                <a:ext cx="114120" cy="88560"/>
                <a:chOff x="5670360" y="3962520"/>
                <a:chExt cx="114120" cy="88560"/>
              </a:xfrm>
            </p:grpSpPr>
            <p:sp>
              <p:nvSpPr>
                <p:cNvPr id="2625" name=""/>
                <p:cNvSpPr/>
                <p:nvPr/>
              </p:nvSpPr>
              <p:spPr>
                <a:xfrm>
                  <a:off x="568332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 flipH="1">
                  <a:off x="567036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27" name=""/>
            <p:cNvGrpSpPr/>
            <p:nvPr/>
          </p:nvGrpSpPr>
          <p:grpSpPr>
            <a:xfrm>
              <a:off x="5670360" y="4330800"/>
              <a:ext cx="1105200" cy="88920"/>
              <a:chOff x="5670360" y="4330800"/>
              <a:chExt cx="1105200" cy="88920"/>
            </a:xfrm>
          </p:grpSpPr>
          <p:grpSp>
            <p:nvGrpSpPr>
              <p:cNvPr id="2628" name=""/>
              <p:cNvGrpSpPr/>
              <p:nvPr/>
            </p:nvGrpSpPr>
            <p:grpSpPr>
              <a:xfrm>
                <a:off x="6369120" y="4330800"/>
                <a:ext cx="114480" cy="88920"/>
                <a:chOff x="6369120" y="4330800"/>
                <a:chExt cx="114480" cy="88920"/>
              </a:xfrm>
            </p:grpSpPr>
            <p:sp>
              <p:nvSpPr>
                <p:cNvPr id="2629" name=""/>
                <p:cNvSpPr/>
                <p:nvPr/>
              </p:nvSpPr>
              <p:spPr>
                <a:xfrm>
                  <a:off x="638172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 flipH="1">
                  <a:off x="6369120" y="43308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1" name=""/>
              <p:cNvGrpSpPr/>
              <p:nvPr/>
            </p:nvGrpSpPr>
            <p:grpSpPr>
              <a:xfrm>
                <a:off x="6076800" y="4330800"/>
                <a:ext cx="114120" cy="88920"/>
                <a:chOff x="6076800" y="4330800"/>
                <a:chExt cx="114120" cy="88920"/>
              </a:xfrm>
            </p:grpSpPr>
            <p:sp>
              <p:nvSpPr>
                <p:cNvPr id="2632" name=""/>
                <p:cNvSpPr/>
                <p:nvPr/>
              </p:nvSpPr>
              <p:spPr>
                <a:xfrm>
                  <a:off x="608976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 flipH="1">
                  <a:off x="607680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4" name=""/>
              <p:cNvGrpSpPr/>
              <p:nvPr/>
            </p:nvGrpSpPr>
            <p:grpSpPr>
              <a:xfrm>
                <a:off x="6661080" y="4330800"/>
                <a:ext cx="114480" cy="88920"/>
                <a:chOff x="6661080" y="4330800"/>
                <a:chExt cx="114480" cy="88920"/>
              </a:xfrm>
            </p:grpSpPr>
            <p:sp>
              <p:nvSpPr>
                <p:cNvPr id="2635" name=""/>
                <p:cNvSpPr/>
                <p:nvPr/>
              </p:nvSpPr>
              <p:spPr>
                <a:xfrm>
                  <a:off x="667404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6" name=""/>
                <p:cNvSpPr/>
                <p:nvPr/>
              </p:nvSpPr>
              <p:spPr>
                <a:xfrm flipH="1">
                  <a:off x="6661080" y="43308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7" name=""/>
              <p:cNvGrpSpPr/>
              <p:nvPr/>
            </p:nvGrpSpPr>
            <p:grpSpPr>
              <a:xfrm>
                <a:off x="6242040" y="4330800"/>
                <a:ext cx="114480" cy="88920"/>
                <a:chOff x="6242040" y="4330800"/>
                <a:chExt cx="114480" cy="88920"/>
              </a:xfrm>
            </p:grpSpPr>
            <p:sp>
              <p:nvSpPr>
                <p:cNvPr id="2638" name=""/>
                <p:cNvSpPr/>
                <p:nvPr/>
              </p:nvSpPr>
              <p:spPr>
                <a:xfrm>
                  <a:off x="6255000" y="433080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 flipH="1">
                  <a:off x="6242040" y="43308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0" name=""/>
              <p:cNvGrpSpPr/>
              <p:nvPr/>
            </p:nvGrpSpPr>
            <p:grpSpPr>
              <a:xfrm>
                <a:off x="5949720" y="4330800"/>
                <a:ext cx="114120" cy="88920"/>
                <a:chOff x="5949720" y="4330800"/>
                <a:chExt cx="114120" cy="88920"/>
              </a:xfrm>
            </p:grpSpPr>
            <p:sp>
              <p:nvSpPr>
                <p:cNvPr id="2641" name=""/>
                <p:cNvSpPr/>
                <p:nvPr/>
              </p:nvSpPr>
              <p:spPr>
                <a:xfrm>
                  <a:off x="596268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 flipH="1">
                  <a:off x="594972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3" name=""/>
              <p:cNvGrpSpPr/>
              <p:nvPr/>
            </p:nvGrpSpPr>
            <p:grpSpPr>
              <a:xfrm>
                <a:off x="6534000" y="4330800"/>
                <a:ext cx="114120" cy="88920"/>
                <a:chOff x="6534000" y="4330800"/>
                <a:chExt cx="114120" cy="88920"/>
              </a:xfrm>
            </p:grpSpPr>
            <p:sp>
              <p:nvSpPr>
                <p:cNvPr id="2644" name=""/>
                <p:cNvSpPr/>
                <p:nvPr/>
              </p:nvSpPr>
              <p:spPr>
                <a:xfrm>
                  <a:off x="654696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 flipH="1">
                  <a:off x="653400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6" name=""/>
              <p:cNvGrpSpPr/>
              <p:nvPr/>
            </p:nvGrpSpPr>
            <p:grpSpPr>
              <a:xfrm>
                <a:off x="5797440" y="4330800"/>
                <a:ext cx="114120" cy="88920"/>
                <a:chOff x="5797440" y="4330800"/>
                <a:chExt cx="114120" cy="88920"/>
              </a:xfrm>
            </p:grpSpPr>
            <p:sp>
              <p:nvSpPr>
                <p:cNvPr id="2647" name=""/>
                <p:cNvSpPr/>
                <p:nvPr/>
              </p:nvSpPr>
              <p:spPr>
                <a:xfrm>
                  <a:off x="581040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 flipH="1">
                  <a:off x="579744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9" name=""/>
              <p:cNvGrpSpPr/>
              <p:nvPr/>
            </p:nvGrpSpPr>
            <p:grpSpPr>
              <a:xfrm>
                <a:off x="5670360" y="4330800"/>
                <a:ext cx="114120" cy="88920"/>
                <a:chOff x="5670360" y="4330800"/>
                <a:chExt cx="114120" cy="88920"/>
              </a:xfrm>
            </p:grpSpPr>
            <p:sp>
              <p:nvSpPr>
                <p:cNvPr id="2650" name=""/>
                <p:cNvSpPr/>
                <p:nvPr/>
              </p:nvSpPr>
              <p:spPr>
                <a:xfrm>
                  <a:off x="568332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 flipH="1">
                  <a:off x="567036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52" name=""/>
            <p:cNvGrpSpPr/>
            <p:nvPr/>
          </p:nvGrpSpPr>
          <p:grpSpPr>
            <a:xfrm>
              <a:off x="5670360" y="4699080"/>
              <a:ext cx="1105200" cy="88920"/>
              <a:chOff x="5670360" y="4699080"/>
              <a:chExt cx="1105200" cy="88920"/>
            </a:xfrm>
          </p:grpSpPr>
          <p:grpSp>
            <p:nvGrpSpPr>
              <p:cNvPr id="2653" name=""/>
              <p:cNvGrpSpPr/>
              <p:nvPr/>
            </p:nvGrpSpPr>
            <p:grpSpPr>
              <a:xfrm>
                <a:off x="6369120" y="4699080"/>
                <a:ext cx="114480" cy="88920"/>
                <a:chOff x="6369120" y="4699080"/>
                <a:chExt cx="114480" cy="88920"/>
              </a:xfrm>
            </p:grpSpPr>
            <p:sp>
              <p:nvSpPr>
                <p:cNvPr id="2654" name=""/>
                <p:cNvSpPr/>
                <p:nvPr/>
              </p:nvSpPr>
              <p:spPr>
                <a:xfrm>
                  <a:off x="638172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 flipH="1">
                  <a:off x="6369120" y="46990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6" name=""/>
              <p:cNvGrpSpPr/>
              <p:nvPr/>
            </p:nvGrpSpPr>
            <p:grpSpPr>
              <a:xfrm>
                <a:off x="6076800" y="4699080"/>
                <a:ext cx="114120" cy="88920"/>
                <a:chOff x="6076800" y="4699080"/>
                <a:chExt cx="114120" cy="88920"/>
              </a:xfrm>
            </p:grpSpPr>
            <p:sp>
              <p:nvSpPr>
                <p:cNvPr id="2657" name=""/>
                <p:cNvSpPr/>
                <p:nvPr/>
              </p:nvSpPr>
              <p:spPr>
                <a:xfrm>
                  <a:off x="608976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 flipH="1">
                  <a:off x="607680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9" name=""/>
              <p:cNvGrpSpPr/>
              <p:nvPr/>
            </p:nvGrpSpPr>
            <p:grpSpPr>
              <a:xfrm>
                <a:off x="6661080" y="4699080"/>
                <a:ext cx="114480" cy="88920"/>
                <a:chOff x="6661080" y="4699080"/>
                <a:chExt cx="114480" cy="88920"/>
              </a:xfrm>
            </p:grpSpPr>
            <p:sp>
              <p:nvSpPr>
                <p:cNvPr id="2660" name=""/>
                <p:cNvSpPr/>
                <p:nvPr/>
              </p:nvSpPr>
              <p:spPr>
                <a:xfrm>
                  <a:off x="667404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 flipH="1">
                  <a:off x="6661080" y="46990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2" name=""/>
              <p:cNvGrpSpPr/>
              <p:nvPr/>
            </p:nvGrpSpPr>
            <p:grpSpPr>
              <a:xfrm>
                <a:off x="6242040" y="4699080"/>
                <a:ext cx="114480" cy="88920"/>
                <a:chOff x="6242040" y="4699080"/>
                <a:chExt cx="114480" cy="88920"/>
              </a:xfrm>
            </p:grpSpPr>
            <p:sp>
              <p:nvSpPr>
                <p:cNvPr id="2663" name=""/>
                <p:cNvSpPr/>
                <p:nvPr/>
              </p:nvSpPr>
              <p:spPr>
                <a:xfrm>
                  <a:off x="6255000" y="469908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 flipH="1">
                  <a:off x="6242040" y="46990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5" name=""/>
              <p:cNvGrpSpPr/>
              <p:nvPr/>
            </p:nvGrpSpPr>
            <p:grpSpPr>
              <a:xfrm>
                <a:off x="5949720" y="4699080"/>
                <a:ext cx="114120" cy="88920"/>
                <a:chOff x="5949720" y="4699080"/>
                <a:chExt cx="114120" cy="88920"/>
              </a:xfrm>
            </p:grpSpPr>
            <p:sp>
              <p:nvSpPr>
                <p:cNvPr id="2666" name=""/>
                <p:cNvSpPr/>
                <p:nvPr/>
              </p:nvSpPr>
              <p:spPr>
                <a:xfrm>
                  <a:off x="596268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 flipH="1">
                  <a:off x="594972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8" name=""/>
              <p:cNvGrpSpPr/>
              <p:nvPr/>
            </p:nvGrpSpPr>
            <p:grpSpPr>
              <a:xfrm>
                <a:off x="6534000" y="4699080"/>
                <a:ext cx="114120" cy="88920"/>
                <a:chOff x="6534000" y="4699080"/>
                <a:chExt cx="114120" cy="88920"/>
              </a:xfrm>
            </p:grpSpPr>
            <p:sp>
              <p:nvSpPr>
                <p:cNvPr id="2669" name=""/>
                <p:cNvSpPr/>
                <p:nvPr/>
              </p:nvSpPr>
              <p:spPr>
                <a:xfrm>
                  <a:off x="654696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 flipH="1">
                  <a:off x="653400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1" name=""/>
              <p:cNvGrpSpPr/>
              <p:nvPr/>
            </p:nvGrpSpPr>
            <p:grpSpPr>
              <a:xfrm>
                <a:off x="5797440" y="4699080"/>
                <a:ext cx="114120" cy="88920"/>
                <a:chOff x="5797440" y="4699080"/>
                <a:chExt cx="114120" cy="88920"/>
              </a:xfrm>
            </p:grpSpPr>
            <p:sp>
              <p:nvSpPr>
                <p:cNvPr id="2672" name=""/>
                <p:cNvSpPr/>
                <p:nvPr/>
              </p:nvSpPr>
              <p:spPr>
                <a:xfrm>
                  <a:off x="581040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 flipH="1">
                  <a:off x="579744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4" name=""/>
              <p:cNvGrpSpPr/>
              <p:nvPr/>
            </p:nvGrpSpPr>
            <p:grpSpPr>
              <a:xfrm>
                <a:off x="5670360" y="4699080"/>
                <a:ext cx="114120" cy="88920"/>
                <a:chOff x="5670360" y="4699080"/>
                <a:chExt cx="114120" cy="88920"/>
              </a:xfrm>
            </p:grpSpPr>
            <p:sp>
              <p:nvSpPr>
                <p:cNvPr id="2675" name=""/>
                <p:cNvSpPr/>
                <p:nvPr/>
              </p:nvSpPr>
              <p:spPr>
                <a:xfrm>
                  <a:off x="568332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 flipH="1">
                  <a:off x="567036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77" name=""/>
            <p:cNvGrpSpPr/>
            <p:nvPr/>
          </p:nvGrpSpPr>
          <p:grpSpPr>
            <a:xfrm>
              <a:off x="5670360" y="5067360"/>
              <a:ext cx="1105200" cy="88920"/>
              <a:chOff x="5670360" y="5067360"/>
              <a:chExt cx="1105200" cy="88920"/>
            </a:xfrm>
          </p:grpSpPr>
          <p:grpSp>
            <p:nvGrpSpPr>
              <p:cNvPr id="2678" name=""/>
              <p:cNvGrpSpPr/>
              <p:nvPr/>
            </p:nvGrpSpPr>
            <p:grpSpPr>
              <a:xfrm>
                <a:off x="6369120" y="5067360"/>
                <a:ext cx="114480" cy="88920"/>
                <a:chOff x="6369120" y="5067360"/>
                <a:chExt cx="114480" cy="88920"/>
              </a:xfrm>
            </p:grpSpPr>
            <p:sp>
              <p:nvSpPr>
                <p:cNvPr id="2679" name=""/>
                <p:cNvSpPr/>
                <p:nvPr/>
              </p:nvSpPr>
              <p:spPr>
                <a:xfrm>
                  <a:off x="638172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 flipH="1">
                  <a:off x="6369120" y="506736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1" name=""/>
              <p:cNvGrpSpPr/>
              <p:nvPr/>
            </p:nvGrpSpPr>
            <p:grpSpPr>
              <a:xfrm>
                <a:off x="6076800" y="5067360"/>
                <a:ext cx="114120" cy="88920"/>
                <a:chOff x="6076800" y="5067360"/>
                <a:chExt cx="114120" cy="88920"/>
              </a:xfrm>
            </p:grpSpPr>
            <p:sp>
              <p:nvSpPr>
                <p:cNvPr id="2682" name=""/>
                <p:cNvSpPr/>
                <p:nvPr/>
              </p:nvSpPr>
              <p:spPr>
                <a:xfrm>
                  <a:off x="608976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 flipH="1">
                  <a:off x="607680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4" name=""/>
              <p:cNvGrpSpPr/>
              <p:nvPr/>
            </p:nvGrpSpPr>
            <p:grpSpPr>
              <a:xfrm>
                <a:off x="6661080" y="5067360"/>
                <a:ext cx="114480" cy="88920"/>
                <a:chOff x="6661080" y="5067360"/>
                <a:chExt cx="114480" cy="88920"/>
              </a:xfrm>
            </p:grpSpPr>
            <p:sp>
              <p:nvSpPr>
                <p:cNvPr id="2685" name=""/>
                <p:cNvSpPr/>
                <p:nvPr/>
              </p:nvSpPr>
              <p:spPr>
                <a:xfrm>
                  <a:off x="667404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 flipH="1">
                  <a:off x="6661080" y="506736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7" name=""/>
              <p:cNvGrpSpPr/>
              <p:nvPr/>
            </p:nvGrpSpPr>
            <p:grpSpPr>
              <a:xfrm>
                <a:off x="6242040" y="5067360"/>
                <a:ext cx="114480" cy="88920"/>
                <a:chOff x="6242040" y="5067360"/>
                <a:chExt cx="114480" cy="88920"/>
              </a:xfrm>
            </p:grpSpPr>
            <p:sp>
              <p:nvSpPr>
                <p:cNvPr id="2688" name=""/>
                <p:cNvSpPr/>
                <p:nvPr/>
              </p:nvSpPr>
              <p:spPr>
                <a:xfrm>
                  <a:off x="6255000" y="506736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 flipH="1">
                  <a:off x="6242040" y="506736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0" name=""/>
              <p:cNvGrpSpPr/>
              <p:nvPr/>
            </p:nvGrpSpPr>
            <p:grpSpPr>
              <a:xfrm>
                <a:off x="5949720" y="5067360"/>
                <a:ext cx="114120" cy="88920"/>
                <a:chOff x="5949720" y="5067360"/>
                <a:chExt cx="114120" cy="88920"/>
              </a:xfrm>
            </p:grpSpPr>
            <p:sp>
              <p:nvSpPr>
                <p:cNvPr id="2691" name=""/>
                <p:cNvSpPr/>
                <p:nvPr/>
              </p:nvSpPr>
              <p:spPr>
                <a:xfrm>
                  <a:off x="596268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 flipH="1">
                  <a:off x="594972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3" name=""/>
              <p:cNvGrpSpPr/>
              <p:nvPr/>
            </p:nvGrpSpPr>
            <p:grpSpPr>
              <a:xfrm>
                <a:off x="6534000" y="5067360"/>
                <a:ext cx="114120" cy="88920"/>
                <a:chOff x="6534000" y="5067360"/>
                <a:chExt cx="114120" cy="88920"/>
              </a:xfrm>
            </p:grpSpPr>
            <p:sp>
              <p:nvSpPr>
                <p:cNvPr id="2694" name=""/>
                <p:cNvSpPr/>
                <p:nvPr/>
              </p:nvSpPr>
              <p:spPr>
                <a:xfrm>
                  <a:off x="654696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 flipH="1">
                  <a:off x="653400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6" name=""/>
              <p:cNvGrpSpPr/>
              <p:nvPr/>
            </p:nvGrpSpPr>
            <p:grpSpPr>
              <a:xfrm>
                <a:off x="5797440" y="5067360"/>
                <a:ext cx="114120" cy="88920"/>
                <a:chOff x="5797440" y="5067360"/>
                <a:chExt cx="114120" cy="88920"/>
              </a:xfrm>
            </p:grpSpPr>
            <p:sp>
              <p:nvSpPr>
                <p:cNvPr id="2697" name=""/>
                <p:cNvSpPr/>
                <p:nvPr/>
              </p:nvSpPr>
              <p:spPr>
                <a:xfrm>
                  <a:off x="581040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 flipH="1">
                  <a:off x="579744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9" name=""/>
              <p:cNvGrpSpPr/>
              <p:nvPr/>
            </p:nvGrpSpPr>
            <p:grpSpPr>
              <a:xfrm>
                <a:off x="5670360" y="5067360"/>
                <a:ext cx="114120" cy="88920"/>
                <a:chOff x="5670360" y="5067360"/>
                <a:chExt cx="114120" cy="88920"/>
              </a:xfrm>
            </p:grpSpPr>
            <p:sp>
              <p:nvSpPr>
                <p:cNvPr id="2700" name=""/>
                <p:cNvSpPr/>
                <p:nvPr/>
              </p:nvSpPr>
              <p:spPr>
                <a:xfrm>
                  <a:off x="568332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 flipH="1">
                  <a:off x="567036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02" name=""/>
            <p:cNvGrpSpPr/>
            <p:nvPr/>
          </p:nvGrpSpPr>
          <p:grpSpPr>
            <a:xfrm>
              <a:off x="5670360" y="5435640"/>
              <a:ext cx="1105200" cy="88920"/>
              <a:chOff x="5670360" y="5435640"/>
              <a:chExt cx="1105200" cy="88920"/>
            </a:xfrm>
          </p:grpSpPr>
          <p:grpSp>
            <p:nvGrpSpPr>
              <p:cNvPr id="2703" name=""/>
              <p:cNvGrpSpPr/>
              <p:nvPr/>
            </p:nvGrpSpPr>
            <p:grpSpPr>
              <a:xfrm>
                <a:off x="6369120" y="5435640"/>
                <a:ext cx="114480" cy="88920"/>
                <a:chOff x="6369120" y="5435640"/>
                <a:chExt cx="114480" cy="88920"/>
              </a:xfrm>
            </p:grpSpPr>
            <p:sp>
              <p:nvSpPr>
                <p:cNvPr id="2704" name=""/>
                <p:cNvSpPr/>
                <p:nvPr/>
              </p:nvSpPr>
              <p:spPr>
                <a:xfrm>
                  <a:off x="638172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 flipH="1">
                  <a:off x="6369120" y="543564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6" name=""/>
              <p:cNvGrpSpPr/>
              <p:nvPr/>
            </p:nvGrpSpPr>
            <p:grpSpPr>
              <a:xfrm>
                <a:off x="6076800" y="5435640"/>
                <a:ext cx="114120" cy="88920"/>
                <a:chOff x="6076800" y="5435640"/>
                <a:chExt cx="114120" cy="88920"/>
              </a:xfrm>
            </p:grpSpPr>
            <p:sp>
              <p:nvSpPr>
                <p:cNvPr id="2707" name=""/>
                <p:cNvSpPr/>
                <p:nvPr/>
              </p:nvSpPr>
              <p:spPr>
                <a:xfrm>
                  <a:off x="608976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 flipH="1">
                  <a:off x="607680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9" name=""/>
              <p:cNvGrpSpPr/>
              <p:nvPr/>
            </p:nvGrpSpPr>
            <p:grpSpPr>
              <a:xfrm>
                <a:off x="6661080" y="5435640"/>
                <a:ext cx="114480" cy="88920"/>
                <a:chOff x="6661080" y="5435640"/>
                <a:chExt cx="114480" cy="88920"/>
              </a:xfrm>
            </p:grpSpPr>
            <p:sp>
              <p:nvSpPr>
                <p:cNvPr id="2710" name=""/>
                <p:cNvSpPr/>
                <p:nvPr/>
              </p:nvSpPr>
              <p:spPr>
                <a:xfrm>
                  <a:off x="667404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 flipH="1">
                  <a:off x="6661080" y="543564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2" name=""/>
              <p:cNvGrpSpPr/>
              <p:nvPr/>
            </p:nvGrpSpPr>
            <p:grpSpPr>
              <a:xfrm>
                <a:off x="6242040" y="5435640"/>
                <a:ext cx="114480" cy="88920"/>
                <a:chOff x="6242040" y="5435640"/>
                <a:chExt cx="114480" cy="88920"/>
              </a:xfrm>
            </p:grpSpPr>
            <p:sp>
              <p:nvSpPr>
                <p:cNvPr id="2713" name=""/>
                <p:cNvSpPr/>
                <p:nvPr/>
              </p:nvSpPr>
              <p:spPr>
                <a:xfrm>
                  <a:off x="6255000" y="543564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 flipH="1">
                  <a:off x="6242040" y="543564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5" name=""/>
              <p:cNvGrpSpPr/>
              <p:nvPr/>
            </p:nvGrpSpPr>
            <p:grpSpPr>
              <a:xfrm>
                <a:off x="5949720" y="5435640"/>
                <a:ext cx="114120" cy="88920"/>
                <a:chOff x="5949720" y="5435640"/>
                <a:chExt cx="114120" cy="88920"/>
              </a:xfrm>
            </p:grpSpPr>
            <p:sp>
              <p:nvSpPr>
                <p:cNvPr id="2716" name=""/>
                <p:cNvSpPr/>
                <p:nvPr/>
              </p:nvSpPr>
              <p:spPr>
                <a:xfrm>
                  <a:off x="596268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 flipH="1">
                  <a:off x="594972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8" name=""/>
              <p:cNvGrpSpPr/>
              <p:nvPr/>
            </p:nvGrpSpPr>
            <p:grpSpPr>
              <a:xfrm>
                <a:off x="6534000" y="5435640"/>
                <a:ext cx="114120" cy="88920"/>
                <a:chOff x="6534000" y="5435640"/>
                <a:chExt cx="114120" cy="88920"/>
              </a:xfrm>
            </p:grpSpPr>
            <p:sp>
              <p:nvSpPr>
                <p:cNvPr id="2719" name=""/>
                <p:cNvSpPr/>
                <p:nvPr/>
              </p:nvSpPr>
              <p:spPr>
                <a:xfrm>
                  <a:off x="654696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 flipH="1">
                  <a:off x="653400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1" name=""/>
              <p:cNvGrpSpPr/>
              <p:nvPr/>
            </p:nvGrpSpPr>
            <p:grpSpPr>
              <a:xfrm>
                <a:off x="5797440" y="5435640"/>
                <a:ext cx="114120" cy="88920"/>
                <a:chOff x="5797440" y="5435640"/>
                <a:chExt cx="114120" cy="88920"/>
              </a:xfrm>
            </p:grpSpPr>
            <p:sp>
              <p:nvSpPr>
                <p:cNvPr id="2722" name=""/>
                <p:cNvSpPr/>
                <p:nvPr/>
              </p:nvSpPr>
              <p:spPr>
                <a:xfrm>
                  <a:off x="581040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 flipH="1">
                  <a:off x="579744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4" name=""/>
              <p:cNvGrpSpPr/>
              <p:nvPr/>
            </p:nvGrpSpPr>
            <p:grpSpPr>
              <a:xfrm>
                <a:off x="5670360" y="5435640"/>
                <a:ext cx="114120" cy="88920"/>
                <a:chOff x="5670360" y="5435640"/>
                <a:chExt cx="114120" cy="88920"/>
              </a:xfrm>
            </p:grpSpPr>
            <p:sp>
              <p:nvSpPr>
                <p:cNvPr id="2725" name=""/>
                <p:cNvSpPr/>
                <p:nvPr/>
              </p:nvSpPr>
              <p:spPr>
                <a:xfrm>
                  <a:off x="568332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 flipH="1">
                  <a:off x="567036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27" name=""/>
            <p:cNvGrpSpPr/>
            <p:nvPr/>
          </p:nvGrpSpPr>
          <p:grpSpPr>
            <a:xfrm>
              <a:off x="5670360" y="5803920"/>
              <a:ext cx="1105200" cy="88920"/>
              <a:chOff x="5670360" y="5803920"/>
              <a:chExt cx="1105200" cy="88920"/>
            </a:xfrm>
          </p:grpSpPr>
          <p:grpSp>
            <p:nvGrpSpPr>
              <p:cNvPr id="2728" name=""/>
              <p:cNvGrpSpPr/>
              <p:nvPr/>
            </p:nvGrpSpPr>
            <p:grpSpPr>
              <a:xfrm>
                <a:off x="6369120" y="5803920"/>
                <a:ext cx="114480" cy="88920"/>
                <a:chOff x="6369120" y="5803920"/>
                <a:chExt cx="114480" cy="88920"/>
              </a:xfrm>
            </p:grpSpPr>
            <p:sp>
              <p:nvSpPr>
                <p:cNvPr id="2729" name=""/>
                <p:cNvSpPr/>
                <p:nvPr/>
              </p:nvSpPr>
              <p:spPr>
                <a:xfrm>
                  <a:off x="638172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 flipH="1">
                  <a:off x="6369120" y="580392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1" name=""/>
              <p:cNvGrpSpPr/>
              <p:nvPr/>
            </p:nvGrpSpPr>
            <p:grpSpPr>
              <a:xfrm>
                <a:off x="6076800" y="5803920"/>
                <a:ext cx="114120" cy="88920"/>
                <a:chOff x="6076800" y="5803920"/>
                <a:chExt cx="114120" cy="88920"/>
              </a:xfrm>
            </p:grpSpPr>
            <p:sp>
              <p:nvSpPr>
                <p:cNvPr id="2732" name=""/>
                <p:cNvSpPr/>
                <p:nvPr/>
              </p:nvSpPr>
              <p:spPr>
                <a:xfrm>
                  <a:off x="608976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 flipH="1">
                  <a:off x="607680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4" name=""/>
              <p:cNvGrpSpPr/>
              <p:nvPr/>
            </p:nvGrpSpPr>
            <p:grpSpPr>
              <a:xfrm>
                <a:off x="6661080" y="5803920"/>
                <a:ext cx="114480" cy="88920"/>
                <a:chOff x="6661080" y="5803920"/>
                <a:chExt cx="114480" cy="88920"/>
              </a:xfrm>
            </p:grpSpPr>
            <p:sp>
              <p:nvSpPr>
                <p:cNvPr id="2735" name=""/>
                <p:cNvSpPr/>
                <p:nvPr/>
              </p:nvSpPr>
              <p:spPr>
                <a:xfrm>
                  <a:off x="667404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 flipH="1">
                  <a:off x="6661080" y="580392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7" name=""/>
              <p:cNvGrpSpPr/>
              <p:nvPr/>
            </p:nvGrpSpPr>
            <p:grpSpPr>
              <a:xfrm>
                <a:off x="6242040" y="5803920"/>
                <a:ext cx="114480" cy="88920"/>
                <a:chOff x="6242040" y="5803920"/>
                <a:chExt cx="114480" cy="88920"/>
              </a:xfrm>
            </p:grpSpPr>
            <p:sp>
              <p:nvSpPr>
                <p:cNvPr id="2738" name=""/>
                <p:cNvSpPr/>
                <p:nvPr/>
              </p:nvSpPr>
              <p:spPr>
                <a:xfrm>
                  <a:off x="6255000" y="580392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 flipH="1">
                  <a:off x="6242040" y="580392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0" name=""/>
              <p:cNvGrpSpPr/>
              <p:nvPr/>
            </p:nvGrpSpPr>
            <p:grpSpPr>
              <a:xfrm>
                <a:off x="5949720" y="5803920"/>
                <a:ext cx="114120" cy="88920"/>
                <a:chOff x="5949720" y="5803920"/>
                <a:chExt cx="114120" cy="88920"/>
              </a:xfrm>
            </p:grpSpPr>
            <p:sp>
              <p:nvSpPr>
                <p:cNvPr id="2741" name=""/>
                <p:cNvSpPr/>
                <p:nvPr/>
              </p:nvSpPr>
              <p:spPr>
                <a:xfrm>
                  <a:off x="596268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 flipH="1">
                  <a:off x="594972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3" name=""/>
              <p:cNvGrpSpPr/>
              <p:nvPr/>
            </p:nvGrpSpPr>
            <p:grpSpPr>
              <a:xfrm>
                <a:off x="6534000" y="5803920"/>
                <a:ext cx="114120" cy="88920"/>
                <a:chOff x="6534000" y="5803920"/>
                <a:chExt cx="114120" cy="88920"/>
              </a:xfrm>
            </p:grpSpPr>
            <p:sp>
              <p:nvSpPr>
                <p:cNvPr id="2744" name=""/>
                <p:cNvSpPr/>
                <p:nvPr/>
              </p:nvSpPr>
              <p:spPr>
                <a:xfrm>
                  <a:off x="654696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 flipH="1">
                  <a:off x="653400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6" name=""/>
              <p:cNvGrpSpPr/>
              <p:nvPr/>
            </p:nvGrpSpPr>
            <p:grpSpPr>
              <a:xfrm>
                <a:off x="5797440" y="5803920"/>
                <a:ext cx="114120" cy="88920"/>
                <a:chOff x="5797440" y="5803920"/>
                <a:chExt cx="114120" cy="88920"/>
              </a:xfrm>
            </p:grpSpPr>
            <p:sp>
              <p:nvSpPr>
                <p:cNvPr id="2747" name=""/>
                <p:cNvSpPr/>
                <p:nvPr/>
              </p:nvSpPr>
              <p:spPr>
                <a:xfrm>
                  <a:off x="581040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 flipH="1">
                  <a:off x="579744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9" name=""/>
              <p:cNvGrpSpPr/>
              <p:nvPr/>
            </p:nvGrpSpPr>
            <p:grpSpPr>
              <a:xfrm>
                <a:off x="5670360" y="5803920"/>
                <a:ext cx="114120" cy="88920"/>
                <a:chOff x="5670360" y="5803920"/>
                <a:chExt cx="114120" cy="88920"/>
              </a:xfrm>
            </p:grpSpPr>
            <p:sp>
              <p:nvSpPr>
                <p:cNvPr id="2750" name=""/>
                <p:cNvSpPr/>
                <p:nvPr/>
              </p:nvSpPr>
              <p:spPr>
                <a:xfrm>
                  <a:off x="568332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 flipH="1">
                  <a:off x="567036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52" name=""/>
            <p:cNvSpPr/>
            <p:nvPr/>
          </p:nvSpPr>
          <p:spPr>
            <a:xfrm>
              <a:off x="7588440" y="321300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7588440" y="358128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7956720" y="39495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7956720" y="431784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8312400" y="468612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8312400" y="505440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8680680" y="542268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8680680" y="5791320"/>
              <a:ext cx="11412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able logic array (PL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e've seen so 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onstrained fully-general AND and OR ar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able array logic (P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ed topology of the OR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on by Monolithic Mem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er and smaller OR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BF51-5157-46FD-A55F-54BC270EF60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"/>
          <p:cNvSpPr/>
          <p:nvPr/>
        </p:nvSpPr>
        <p:spPr>
          <a:xfrm>
            <a:off x="5086440" y="3073320"/>
            <a:ext cx="311148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imized fun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 = A + BD + 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= B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 = B +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 = A'B'C'D + BCD + AD' + B'C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3" name=""/>
          <p:cNvGrpSpPr/>
          <p:nvPr/>
        </p:nvGrpSpPr>
        <p:grpSpPr>
          <a:xfrm>
            <a:off x="679320" y="2158920"/>
            <a:ext cx="3714840" cy="3187800"/>
            <a:chOff x="679320" y="2158920"/>
            <a:chExt cx="3714840" cy="3187800"/>
          </a:xfrm>
        </p:grpSpPr>
        <p:sp>
          <p:nvSpPr>
            <p:cNvPr id="2764" name=""/>
            <p:cNvSpPr/>
            <p:nvPr/>
          </p:nvSpPr>
          <p:spPr>
            <a:xfrm>
              <a:off x="736560" y="2158920"/>
              <a:ext cx="3657600" cy="31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2463840" y="2190600"/>
              <a:ext cx="0" cy="28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79320" y="2413080"/>
              <a:ext cx="350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design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CD to Gray code conver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9006-0FB7-4E5B-9D69-1F93F2065C5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"/>
          <p:cNvSpPr/>
          <p:nvPr/>
        </p:nvSpPr>
        <p:spPr>
          <a:xfrm>
            <a:off x="5289480" y="3498840"/>
            <a:ext cx="326412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 a particularly g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didate for PAL/P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mplementation since no term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e shared among 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wever, much more compac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 regular implementa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compared with discret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 and OR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0" name=""/>
          <p:cNvGrpSpPr/>
          <p:nvPr/>
        </p:nvGrpSpPr>
        <p:grpSpPr>
          <a:xfrm>
            <a:off x="771480" y="1944720"/>
            <a:ext cx="3297240" cy="4454280"/>
            <a:chOff x="771480" y="1944720"/>
            <a:chExt cx="3297240" cy="4454280"/>
          </a:xfrm>
        </p:grpSpPr>
        <p:sp>
          <p:nvSpPr>
            <p:cNvPr id="2771" name=""/>
            <p:cNvSpPr/>
            <p:nvPr/>
          </p:nvSpPr>
          <p:spPr>
            <a:xfrm>
              <a:off x="1855800" y="2521080"/>
              <a:ext cx="0" cy="338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1735200" y="244800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1455840" y="244800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1298520" y="2521080"/>
              <a:ext cx="0" cy="338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898560" y="244800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1020600" y="2521080"/>
              <a:ext cx="0" cy="338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2117880" y="354492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2117880" y="38354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 flipV="1">
              <a:off x="2111400" y="3538080"/>
              <a:ext cx="0" cy="30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2262600" y="355284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2262240" y="354024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771480" y="369108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2541600" y="369108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 flipH="1">
              <a:off x="1789200" y="2351160"/>
              <a:ext cx="1332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1681200" y="2351160"/>
              <a:ext cx="1080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 flipH="1">
              <a:off x="1668240" y="23446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1838160" y="2460600"/>
              <a:ext cx="4788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1795320" y="222876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2117880" y="249084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2117880" y="278136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V="1">
              <a:off x="2111400" y="248436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2262600" y="24969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2262240" y="2482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771480" y="26352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2541600" y="2635200"/>
              <a:ext cx="147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2117880" y="284148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2117880" y="313200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 flipV="1">
              <a:off x="2111400" y="283536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2262600" y="284940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2262240" y="283680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771480" y="29876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2541600" y="298764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2117880" y="319392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2117880" y="34844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 flipV="1">
              <a:off x="2111400" y="318780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2262600" y="32004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2262240" y="31863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771480" y="33386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2541600" y="333864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 flipH="1">
              <a:off x="1511280" y="2351160"/>
              <a:ext cx="1332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1401840" y="2351160"/>
              <a:ext cx="10944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 flipH="1">
              <a:off x="1388880" y="2344680"/>
              <a:ext cx="25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1558800" y="2460600"/>
              <a:ext cx="4932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1517760" y="222876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1577880" y="2521080"/>
              <a:ext cx="0" cy="339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 flipH="1">
              <a:off x="1231920" y="2351160"/>
              <a:ext cx="1332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1122480" y="2351160"/>
              <a:ext cx="10944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 flipH="1">
              <a:off x="1110960" y="23446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1281240" y="2460600"/>
              <a:ext cx="4752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1238400" y="222876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1177920" y="244800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 flipH="1">
              <a:off x="953640" y="2351160"/>
              <a:ext cx="13356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44560" y="2351160"/>
              <a:ext cx="10944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 flipH="1">
              <a:off x="831960" y="234468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1001880" y="2460600"/>
              <a:ext cx="4896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958680" y="222876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2117880" y="388476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2117880" y="417528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 flipV="1">
              <a:off x="2111400" y="387828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2262600" y="389268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2262240" y="38768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771480" y="402912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2541600" y="402912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2117880" y="422424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2117880" y="451476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 flipV="1">
              <a:off x="2111400" y="421812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2262600" y="42307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2262240" y="42166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771480" y="436896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2541600" y="436896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2117880" y="456264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2117880" y="485460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 flipV="1">
              <a:off x="2111400" y="4557600"/>
              <a:ext cx="0" cy="30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2262600" y="45705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2262240" y="455760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71480" y="47084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2541600" y="470844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2117880" y="490212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2117880" y="51926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 flipV="1">
              <a:off x="2111400" y="489600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2262600" y="491004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2262240" y="489744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771480" y="504828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2541600" y="504828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2117880" y="524196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2117880" y="553248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V="1">
              <a:off x="2111400" y="5235120"/>
              <a:ext cx="0" cy="30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2262600" y="524988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2262240" y="523728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771480" y="538812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2541600" y="538812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2117880" y="558180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2117880" y="587232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 flipV="1">
              <a:off x="2111400" y="557532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2262600" y="558972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2262240" y="55738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771480" y="572616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2541600" y="572616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2778120" y="2448000"/>
              <a:ext cx="0" cy="34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0" name=""/>
            <p:cNvGrpSpPr/>
            <p:nvPr/>
          </p:nvGrpSpPr>
          <p:grpSpPr>
            <a:xfrm>
              <a:off x="2638080" y="5381280"/>
              <a:ext cx="291240" cy="1017720"/>
              <a:chOff x="2638080" y="5381280"/>
              <a:chExt cx="291240" cy="1017720"/>
            </a:xfrm>
          </p:grpSpPr>
          <p:sp>
            <p:nvSpPr>
              <p:cNvPr id="2871" name=""/>
              <p:cNvSpPr/>
              <p:nvPr/>
            </p:nvSpPr>
            <p:spPr>
              <a:xfrm>
                <a:off x="2661840" y="5769000"/>
                <a:ext cx="25380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2638080" y="5381280"/>
                <a:ext cx="277560" cy="90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2651040" y="5429880"/>
                <a:ext cx="278280" cy="85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2651040" y="5769000"/>
                <a:ext cx="27828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2777040" y="628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6" name=""/>
            <p:cNvSpPr/>
            <p:nvPr/>
          </p:nvSpPr>
          <p:spPr>
            <a:xfrm>
              <a:off x="3116160" y="2448000"/>
              <a:ext cx="0" cy="34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7" name=""/>
            <p:cNvGrpSpPr/>
            <p:nvPr/>
          </p:nvGrpSpPr>
          <p:grpSpPr>
            <a:xfrm>
              <a:off x="2976840" y="5381280"/>
              <a:ext cx="292320" cy="1017720"/>
              <a:chOff x="2976840" y="5381280"/>
              <a:chExt cx="292320" cy="1017720"/>
            </a:xfrm>
          </p:grpSpPr>
          <p:sp>
            <p:nvSpPr>
              <p:cNvPr id="2878" name=""/>
              <p:cNvSpPr/>
              <p:nvPr/>
            </p:nvSpPr>
            <p:spPr>
              <a:xfrm>
                <a:off x="3002400" y="5769000"/>
                <a:ext cx="25272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2976840" y="5381280"/>
                <a:ext cx="278280" cy="90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2990880" y="5429880"/>
                <a:ext cx="278280" cy="85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2990880" y="5769000"/>
                <a:ext cx="27828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3116160" y="628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3" name=""/>
            <p:cNvSpPr/>
            <p:nvPr/>
          </p:nvSpPr>
          <p:spPr>
            <a:xfrm>
              <a:off x="3456000" y="2448000"/>
              <a:ext cx="0" cy="34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4" name=""/>
            <p:cNvGrpSpPr/>
            <p:nvPr/>
          </p:nvGrpSpPr>
          <p:grpSpPr>
            <a:xfrm>
              <a:off x="3316680" y="5381280"/>
              <a:ext cx="292320" cy="1017720"/>
              <a:chOff x="3316680" y="5381280"/>
              <a:chExt cx="292320" cy="1017720"/>
            </a:xfrm>
          </p:grpSpPr>
          <p:sp>
            <p:nvSpPr>
              <p:cNvPr id="2885" name=""/>
              <p:cNvSpPr/>
              <p:nvPr/>
            </p:nvSpPr>
            <p:spPr>
              <a:xfrm>
                <a:off x="3341160" y="5769000"/>
                <a:ext cx="25380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3316680" y="5381280"/>
                <a:ext cx="278280" cy="90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3330720" y="5429880"/>
                <a:ext cx="278280" cy="85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3330720" y="5769000"/>
                <a:ext cx="27828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3456000" y="628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0" name=""/>
            <p:cNvSpPr/>
            <p:nvPr/>
          </p:nvSpPr>
          <p:spPr>
            <a:xfrm>
              <a:off x="3808440" y="2448000"/>
              <a:ext cx="0" cy="34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1" name=""/>
            <p:cNvGrpSpPr/>
            <p:nvPr/>
          </p:nvGrpSpPr>
          <p:grpSpPr>
            <a:xfrm>
              <a:off x="3667680" y="5381280"/>
              <a:ext cx="293400" cy="1017720"/>
              <a:chOff x="3667680" y="5381280"/>
              <a:chExt cx="293400" cy="1017720"/>
            </a:xfrm>
          </p:grpSpPr>
          <p:sp>
            <p:nvSpPr>
              <p:cNvPr id="2892" name=""/>
              <p:cNvSpPr/>
              <p:nvPr/>
            </p:nvSpPr>
            <p:spPr>
              <a:xfrm>
                <a:off x="3691440" y="5769000"/>
                <a:ext cx="25596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3667680" y="5381280"/>
                <a:ext cx="279720" cy="90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3681360" y="5429880"/>
                <a:ext cx="279720" cy="85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3681360" y="5769000"/>
                <a:ext cx="27972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3807720" y="628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7" name=""/>
            <p:cNvSpPr/>
            <p:nvPr/>
          </p:nvSpPr>
          <p:spPr>
            <a:xfrm>
              <a:off x="874800" y="1944720"/>
              <a:ext cx="13446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8" name=""/>
          <p:cNvSpPr/>
          <p:nvPr/>
        </p:nvSpPr>
        <p:spPr>
          <a:xfrm>
            <a:off x="5416560" y="1695600"/>
            <a:ext cx="31114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imized fun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 = A + BD + 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=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 = B +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 = A'B'C'D + BCD + AD' + B'C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design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 converter: programmed P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1" name=""/>
          <p:cNvGrpSpPr/>
          <p:nvPr/>
        </p:nvGrpSpPr>
        <p:grpSpPr>
          <a:xfrm>
            <a:off x="837720" y="2428920"/>
            <a:ext cx="4024800" cy="3516120"/>
            <a:chOff x="837720" y="2428920"/>
            <a:chExt cx="4024800" cy="3516120"/>
          </a:xfrm>
        </p:grpSpPr>
        <p:sp>
          <p:nvSpPr>
            <p:cNvPr id="2902" name=""/>
            <p:cNvSpPr/>
            <p:nvPr/>
          </p:nvSpPr>
          <p:spPr>
            <a:xfrm>
              <a:off x="4098960" y="2428920"/>
              <a:ext cx="763560" cy="35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'C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3" name=""/>
            <p:cNvGrpSpPr/>
            <p:nvPr/>
          </p:nvGrpSpPr>
          <p:grpSpPr>
            <a:xfrm>
              <a:off x="837720" y="2590920"/>
              <a:ext cx="1066680" cy="3200400"/>
              <a:chOff x="837720" y="2590920"/>
              <a:chExt cx="1066680" cy="3200400"/>
            </a:xfrm>
          </p:grpSpPr>
          <p:grpSp>
            <p:nvGrpSpPr>
              <p:cNvPr id="2904" name=""/>
              <p:cNvGrpSpPr/>
              <p:nvPr/>
            </p:nvGrpSpPr>
            <p:grpSpPr>
              <a:xfrm>
                <a:off x="837720" y="2590920"/>
                <a:ext cx="114120" cy="88920"/>
                <a:chOff x="837720" y="2590920"/>
                <a:chExt cx="114120" cy="88920"/>
              </a:xfrm>
            </p:grpSpPr>
            <p:sp>
              <p:nvSpPr>
                <p:cNvPr id="2905" name=""/>
                <p:cNvSpPr/>
                <p:nvPr/>
              </p:nvSpPr>
              <p:spPr>
                <a:xfrm>
                  <a:off x="850680" y="2590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 flipH="1">
                  <a:off x="837720" y="2590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7" name=""/>
              <p:cNvGrpSpPr/>
              <p:nvPr/>
            </p:nvGrpSpPr>
            <p:grpSpPr>
              <a:xfrm>
                <a:off x="1104480" y="2959200"/>
                <a:ext cx="114120" cy="88920"/>
                <a:chOff x="1104480" y="2959200"/>
                <a:chExt cx="114120" cy="88920"/>
              </a:xfrm>
            </p:grpSpPr>
            <p:sp>
              <p:nvSpPr>
                <p:cNvPr id="2908" name=""/>
                <p:cNvSpPr/>
                <p:nvPr/>
              </p:nvSpPr>
              <p:spPr>
                <a:xfrm>
                  <a:off x="1117440" y="2959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 flipH="1">
                  <a:off x="1104480" y="2959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0" name=""/>
              <p:cNvGrpSpPr/>
              <p:nvPr/>
            </p:nvGrpSpPr>
            <p:grpSpPr>
              <a:xfrm>
                <a:off x="1676160" y="2971800"/>
                <a:ext cx="114120" cy="88920"/>
                <a:chOff x="1676160" y="2971800"/>
                <a:chExt cx="114120" cy="88920"/>
              </a:xfrm>
            </p:grpSpPr>
            <p:sp>
              <p:nvSpPr>
                <p:cNvPr id="2911" name=""/>
                <p:cNvSpPr/>
                <p:nvPr/>
              </p:nvSpPr>
              <p:spPr>
                <a:xfrm>
                  <a:off x="1689120" y="297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 flipH="1">
                  <a:off x="1676160" y="297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3" name=""/>
              <p:cNvGrpSpPr/>
              <p:nvPr/>
            </p:nvGrpSpPr>
            <p:grpSpPr>
              <a:xfrm>
                <a:off x="1104480" y="3276720"/>
                <a:ext cx="114120" cy="88920"/>
                <a:chOff x="1104480" y="3276720"/>
                <a:chExt cx="114120" cy="88920"/>
              </a:xfrm>
            </p:grpSpPr>
            <p:sp>
              <p:nvSpPr>
                <p:cNvPr id="2914" name=""/>
                <p:cNvSpPr/>
                <p:nvPr/>
              </p:nvSpPr>
              <p:spPr>
                <a:xfrm>
                  <a:off x="1117440" y="32767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 flipH="1">
                  <a:off x="1104480" y="32767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6" name=""/>
              <p:cNvGrpSpPr/>
              <p:nvPr/>
            </p:nvGrpSpPr>
            <p:grpSpPr>
              <a:xfrm>
                <a:off x="1371240" y="3276720"/>
                <a:ext cx="114120" cy="88920"/>
                <a:chOff x="1371240" y="3276720"/>
                <a:chExt cx="114120" cy="88920"/>
              </a:xfrm>
            </p:grpSpPr>
            <p:sp>
              <p:nvSpPr>
                <p:cNvPr id="2917" name=""/>
                <p:cNvSpPr/>
                <p:nvPr/>
              </p:nvSpPr>
              <p:spPr>
                <a:xfrm>
                  <a:off x="1384200" y="32767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 flipH="1">
                  <a:off x="1371240" y="32767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9" name=""/>
              <p:cNvGrpSpPr/>
              <p:nvPr/>
            </p:nvGrpSpPr>
            <p:grpSpPr>
              <a:xfrm>
                <a:off x="1104480" y="3657600"/>
                <a:ext cx="114120" cy="88920"/>
                <a:chOff x="1104480" y="3657600"/>
                <a:chExt cx="114120" cy="88920"/>
              </a:xfrm>
            </p:grpSpPr>
            <p:sp>
              <p:nvSpPr>
                <p:cNvPr id="2920" name=""/>
                <p:cNvSpPr/>
                <p:nvPr/>
              </p:nvSpPr>
              <p:spPr>
                <a:xfrm>
                  <a:off x="1117440" y="3657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 flipH="1">
                  <a:off x="1104480" y="3657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2" name=""/>
              <p:cNvGrpSpPr/>
              <p:nvPr/>
            </p:nvGrpSpPr>
            <p:grpSpPr>
              <a:xfrm>
                <a:off x="1523520" y="3657600"/>
                <a:ext cx="114120" cy="88920"/>
                <a:chOff x="1523520" y="3657600"/>
                <a:chExt cx="114120" cy="88920"/>
              </a:xfrm>
            </p:grpSpPr>
            <p:sp>
              <p:nvSpPr>
                <p:cNvPr id="2923" name=""/>
                <p:cNvSpPr/>
                <p:nvPr/>
              </p:nvSpPr>
              <p:spPr>
                <a:xfrm>
                  <a:off x="1536480" y="3657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 flipH="1">
                  <a:off x="1523520" y="3657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5" name=""/>
              <p:cNvGrpSpPr/>
              <p:nvPr/>
            </p:nvGrpSpPr>
            <p:grpSpPr>
              <a:xfrm>
                <a:off x="1104480" y="3962520"/>
                <a:ext cx="114120" cy="88920"/>
                <a:chOff x="1104480" y="3962520"/>
                <a:chExt cx="114120" cy="88920"/>
              </a:xfrm>
            </p:grpSpPr>
            <p:sp>
              <p:nvSpPr>
                <p:cNvPr id="2926" name=""/>
                <p:cNvSpPr/>
                <p:nvPr/>
              </p:nvSpPr>
              <p:spPr>
                <a:xfrm>
                  <a:off x="1117440" y="3962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 flipH="1">
                  <a:off x="1104480" y="3962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8" name=""/>
              <p:cNvGrpSpPr/>
              <p:nvPr/>
            </p:nvGrpSpPr>
            <p:grpSpPr>
              <a:xfrm>
                <a:off x="1409400" y="4330800"/>
                <a:ext cx="114120" cy="88920"/>
                <a:chOff x="1409400" y="4330800"/>
                <a:chExt cx="114120" cy="88920"/>
              </a:xfrm>
            </p:grpSpPr>
            <p:sp>
              <p:nvSpPr>
                <p:cNvPr id="2929" name=""/>
                <p:cNvSpPr/>
                <p:nvPr/>
              </p:nvSpPr>
              <p:spPr>
                <a:xfrm>
                  <a:off x="142236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 flipH="1">
                  <a:off x="140940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1" name=""/>
              <p:cNvGrpSpPr/>
              <p:nvPr/>
            </p:nvGrpSpPr>
            <p:grpSpPr>
              <a:xfrm>
                <a:off x="952200" y="4648320"/>
                <a:ext cx="114120" cy="88920"/>
                <a:chOff x="952200" y="4648320"/>
                <a:chExt cx="114120" cy="88920"/>
              </a:xfrm>
            </p:grpSpPr>
            <p:sp>
              <p:nvSpPr>
                <p:cNvPr id="2932" name=""/>
                <p:cNvSpPr/>
                <p:nvPr/>
              </p:nvSpPr>
              <p:spPr>
                <a:xfrm>
                  <a:off x="96516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 flipH="1">
                  <a:off x="95220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4" name=""/>
              <p:cNvGrpSpPr/>
              <p:nvPr/>
            </p:nvGrpSpPr>
            <p:grpSpPr>
              <a:xfrm>
                <a:off x="1218960" y="4648320"/>
                <a:ext cx="114120" cy="88920"/>
                <a:chOff x="1218960" y="4648320"/>
                <a:chExt cx="114120" cy="88920"/>
              </a:xfrm>
            </p:grpSpPr>
            <p:sp>
              <p:nvSpPr>
                <p:cNvPr id="2935" name=""/>
                <p:cNvSpPr/>
                <p:nvPr/>
              </p:nvSpPr>
              <p:spPr>
                <a:xfrm>
                  <a:off x="123192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 flipH="1">
                  <a:off x="121896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7" name=""/>
              <p:cNvGrpSpPr/>
              <p:nvPr/>
            </p:nvGrpSpPr>
            <p:grpSpPr>
              <a:xfrm>
                <a:off x="1523520" y="4648320"/>
                <a:ext cx="114120" cy="88920"/>
                <a:chOff x="1523520" y="4648320"/>
                <a:chExt cx="114120" cy="88920"/>
              </a:xfrm>
            </p:grpSpPr>
            <p:sp>
              <p:nvSpPr>
                <p:cNvPr id="2938" name=""/>
                <p:cNvSpPr/>
                <p:nvPr/>
              </p:nvSpPr>
              <p:spPr>
                <a:xfrm>
                  <a:off x="153648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 flipH="1">
                  <a:off x="152352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0" name=""/>
              <p:cNvGrpSpPr/>
              <p:nvPr/>
            </p:nvGrpSpPr>
            <p:grpSpPr>
              <a:xfrm>
                <a:off x="1676160" y="4648320"/>
                <a:ext cx="114120" cy="88920"/>
                <a:chOff x="1676160" y="4648320"/>
                <a:chExt cx="114120" cy="88920"/>
              </a:xfrm>
            </p:grpSpPr>
            <p:sp>
              <p:nvSpPr>
                <p:cNvPr id="2941" name=""/>
                <p:cNvSpPr/>
                <p:nvPr/>
              </p:nvSpPr>
              <p:spPr>
                <a:xfrm>
                  <a:off x="168912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 flipH="1">
                  <a:off x="167616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3" name=""/>
              <p:cNvGrpSpPr/>
              <p:nvPr/>
            </p:nvGrpSpPr>
            <p:grpSpPr>
              <a:xfrm>
                <a:off x="1104480" y="5016600"/>
                <a:ext cx="114120" cy="88920"/>
                <a:chOff x="1104480" y="5016600"/>
                <a:chExt cx="114120" cy="88920"/>
              </a:xfrm>
            </p:grpSpPr>
            <p:sp>
              <p:nvSpPr>
                <p:cNvPr id="2944" name=""/>
                <p:cNvSpPr/>
                <p:nvPr/>
              </p:nvSpPr>
              <p:spPr>
                <a:xfrm>
                  <a:off x="1117440" y="5016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5" name=""/>
                <p:cNvSpPr/>
                <p:nvPr/>
              </p:nvSpPr>
              <p:spPr>
                <a:xfrm flipH="1">
                  <a:off x="1104480" y="5016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6" name=""/>
              <p:cNvGrpSpPr/>
              <p:nvPr/>
            </p:nvGrpSpPr>
            <p:grpSpPr>
              <a:xfrm>
                <a:off x="1371240" y="5029200"/>
                <a:ext cx="114120" cy="88920"/>
                <a:chOff x="1371240" y="5029200"/>
                <a:chExt cx="114120" cy="88920"/>
              </a:xfrm>
            </p:grpSpPr>
            <p:sp>
              <p:nvSpPr>
                <p:cNvPr id="2947" name=""/>
                <p:cNvSpPr/>
                <p:nvPr/>
              </p:nvSpPr>
              <p:spPr>
                <a:xfrm>
                  <a:off x="1384200" y="5029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 flipH="1">
                  <a:off x="1371240" y="5029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9" name=""/>
              <p:cNvGrpSpPr/>
              <p:nvPr/>
            </p:nvGrpSpPr>
            <p:grpSpPr>
              <a:xfrm>
                <a:off x="1676160" y="5016600"/>
                <a:ext cx="114120" cy="88920"/>
                <a:chOff x="1676160" y="5016600"/>
                <a:chExt cx="114120" cy="88920"/>
              </a:xfrm>
            </p:grpSpPr>
            <p:sp>
              <p:nvSpPr>
                <p:cNvPr id="2950" name=""/>
                <p:cNvSpPr/>
                <p:nvPr/>
              </p:nvSpPr>
              <p:spPr>
                <a:xfrm>
                  <a:off x="1689120" y="5016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 flipH="1">
                  <a:off x="1676160" y="5016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2" name=""/>
              <p:cNvGrpSpPr/>
              <p:nvPr/>
            </p:nvGrpSpPr>
            <p:grpSpPr>
              <a:xfrm>
                <a:off x="837720" y="5334120"/>
                <a:ext cx="114120" cy="88920"/>
                <a:chOff x="837720" y="5334120"/>
                <a:chExt cx="114120" cy="88920"/>
              </a:xfrm>
            </p:grpSpPr>
            <p:sp>
              <p:nvSpPr>
                <p:cNvPr id="2953" name=""/>
                <p:cNvSpPr/>
                <p:nvPr/>
              </p:nvSpPr>
              <p:spPr>
                <a:xfrm>
                  <a:off x="850680" y="53341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 flipH="1">
                  <a:off x="837720" y="53341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5" name=""/>
              <p:cNvGrpSpPr/>
              <p:nvPr/>
            </p:nvGrpSpPr>
            <p:grpSpPr>
              <a:xfrm>
                <a:off x="1790280" y="5334120"/>
                <a:ext cx="114120" cy="88920"/>
                <a:chOff x="1790280" y="5334120"/>
                <a:chExt cx="114120" cy="88920"/>
              </a:xfrm>
            </p:grpSpPr>
            <p:sp>
              <p:nvSpPr>
                <p:cNvPr id="2956" name=""/>
                <p:cNvSpPr/>
                <p:nvPr/>
              </p:nvSpPr>
              <p:spPr>
                <a:xfrm>
                  <a:off x="1803240" y="53341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 flipH="1">
                  <a:off x="1790280" y="53341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8" name=""/>
              <p:cNvGrpSpPr/>
              <p:nvPr/>
            </p:nvGrpSpPr>
            <p:grpSpPr>
              <a:xfrm>
                <a:off x="1104480" y="5702400"/>
                <a:ext cx="114120" cy="88920"/>
                <a:chOff x="1104480" y="5702400"/>
                <a:chExt cx="114120" cy="88920"/>
              </a:xfrm>
            </p:grpSpPr>
            <p:sp>
              <p:nvSpPr>
                <p:cNvPr id="2959" name=""/>
                <p:cNvSpPr/>
                <p:nvPr/>
              </p:nvSpPr>
              <p:spPr>
                <a:xfrm>
                  <a:off x="1117440" y="5702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 flipH="1">
                  <a:off x="1104480" y="5702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1" name=""/>
              <p:cNvGrpSpPr/>
              <p:nvPr/>
            </p:nvGrpSpPr>
            <p:grpSpPr>
              <a:xfrm>
                <a:off x="1371240" y="5702400"/>
                <a:ext cx="114120" cy="88920"/>
                <a:chOff x="1371240" y="5702400"/>
                <a:chExt cx="114120" cy="88920"/>
              </a:xfrm>
            </p:grpSpPr>
            <p:sp>
              <p:nvSpPr>
                <p:cNvPr id="2962" name=""/>
                <p:cNvSpPr/>
                <p:nvPr/>
              </p:nvSpPr>
              <p:spPr>
                <a:xfrm>
                  <a:off x="1384200" y="5702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 flipH="1">
                  <a:off x="1371240" y="5702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4" name=""/>
              <p:cNvGrpSpPr/>
              <p:nvPr/>
            </p:nvGrpSpPr>
            <p:grpSpPr>
              <a:xfrm>
                <a:off x="1790280" y="5702400"/>
                <a:ext cx="114120" cy="88920"/>
                <a:chOff x="1790280" y="5702400"/>
                <a:chExt cx="114120" cy="88920"/>
              </a:xfrm>
            </p:grpSpPr>
            <p:sp>
              <p:nvSpPr>
                <p:cNvPr id="2965" name=""/>
                <p:cNvSpPr/>
                <p:nvPr/>
              </p:nvSpPr>
              <p:spPr>
                <a:xfrm>
                  <a:off x="1803240" y="5702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 flipH="1">
                  <a:off x="1790280" y="5702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67" name=""/>
          <p:cNvGrpSpPr/>
          <p:nvPr/>
        </p:nvGrpSpPr>
        <p:grpSpPr>
          <a:xfrm>
            <a:off x="2704680" y="2590920"/>
            <a:ext cx="1344960" cy="4117680"/>
            <a:chOff x="2704680" y="2590920"/>
            <a:chExt cx="1344960" cy="4117680"/>
          </a:xfrm>
        </p:grpSpPr>
        <p:sp>
          <p:nvSpPr>
            <p:cNvPr id="2968" name=""/>
            <p:cNvSpPr/>
            <p:nvPr/>
          </p:nvSpPr>
          <p:spPr>
            <a:xfrm>
              <a:off x="2705040" y="6321600"/>
              <a:ext cx="134460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9" name=""/>
            <p:cNvGrpSpPr/>
            <p:nvPr/>
          </p:nvGrpSpPr>
          <p:grpSpPr>
            <a:xfrm>
              <a:off x="2704680" y="2590920"/>
              <a:ext cx="1143000" cy="3213000"/>
              <a:chOff x="2704680" y="2590920"/>
              <a:chExt cx="1143000" cy="3213000"/>
            </a:xfrm>
          </p:grpSpPr>
          <p:grpSp>
            <p:nvGrpSpPr>
              <p:cNvPr id="2970" name=""/>
              <p:cNvGrpSpPr/>
              <p:nvPr/>
            </p:nvGrpSpPr>
            <p:grpSpPr>
              <a:xfrm>
                <a:off x="2704680" y="2590920"/>
                <a:ext cx="114120" cy="88920"/>
                <a:chOff x="2704680" y="2590920"/>
                <a:chExt cx="114120" cy="88920"/>
              </a:xfrm>
            </p:grpSpPr>
            <p:sp>
              <p:nvSpPr>
                <p:cNvPr id="2971" name=""/>
                <p:cNvSpPr/>
                <p:nvPr/>
              </p:nvSpPr>
              <p:spPr>
                <a:xfrm>
                  <a:off x="2717640" y="2590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 flipH="1">
                  <a:off x="2704680" y="2590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3" name=""/>
              <p:cNvGrpSpPr/>
              <p:nvPr/>
            </p:nvGrpSpPr>
            <p:grpSpPr>
              <a:xfrm>
                <a:off x="2704680" y="2959200"/>
                <a:ext cx="114120" cy="88920"/>
                <a:chOff x="2704680" y="2959200"/>
                <a:chExt cx="114120" cy="88920"/>
              </a:xfrm>
            </p:grpSpPr>
            <p:sp>
              <p:nvSpPr>
                <p:cNvPr id="2974" name=""/>
                <p:cNvSpPr/>
                <p:nvPr/>
              </p:nvSpPr>
              <p:spPr>
                <a:xfrm>
                  <a:off x="2717640" y="2959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5" name=""/>
                <p:cNvSpPr/>
                <p:nvPr/>
              </p:nvSpPr>
              <p:spPr>
                <a:xfrm flipH="1">
                  <a:off x="2704680" y="2959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6" name=""/>
              <p:cNvGrpSpPr/>
              <p:nvPr/>
            </p:nvGrpSpPr>
            <p:grpSpPr>
              <a:xfrm>
                <a:off x="2704680" y="3276720"/>
                <a:ext cx="114120" cy="88920"/>
                <a:chOff x="2704680" y="3276720"/>
                <a:chExt cx="114120" cy="88920"/>
              </a:xfrm>
            </p:grpSpPr>
            <p:sp>
              <p:nvSpPr>
                <p:cNvPr id="2977" name=""/>
                <p:cNvSpPr/>
                <p:nvPr/>
              </p:nvSpPr>
              <p:spPr>
                <a:xfrm>
                  <a:off x="2717640" y="32767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 flipH="1">
                  <a:off x="2704680" y="32767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9" name=""/>
              <p:cNvGrpSpPr/>
              <p:nvPr/>
            </p:nvGrpSpPr>
            <p:grpSpPr>
              <a:xfrm>
                <a:off x="3047760" y="3657600"/>
                <a:ext cx="114120" cy="88920"/>
                <a:chOff x="3047760" y="3657600"/>
                <a:chExt cx="114120" cy="88920"/>
              </a:xfrm>
            </p:grpSpPr>
            <p:sp>
              <p:nvSpPr>
                <p:cNvPr id="2980" name=""/>
                <p:cNvSpPr/>
                <p:nvPr/>
              </p:nvSpPr>
              <p:spPr>
                <a:xfrm>
                  <a:off x="3060720" y="3657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1" name=""/>
                <p:cNvSpPr/>
                <p:nvPr/>
              </p:nvSpPr>
              <p:spPr>
                <a:xfrm flipH="1">
                  <a:off x="3047760" y="3657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2" name=""/>
              <p:cNvGrpSpPr/>
              <p:nvPr/>
            </p:nvGrpSpPr>
            <p:grpSpPr>
              <a:xfrm>
                <a:off x="3390480" y="3962520"/>
                <a:ext cx="114120" cy="88920"/>
                <a:chOff x="3390480" y="3962520"/>
                <a:chExt cx="114120" cy="88920"/>
              </a:xfrm>
            </p:grpSpPr>
            <p:sp>
              <p:nvSpPr>
                <p:cNvPr id="2983" name=""/>
                <p:cNvSpPr/>
                <p:nvPr/>
              </p:nvSpPr>
              <p:spPr>
                <a:xfrm>
                  <a:off x="3403440" y="3962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 flipH="1">
                  <a:off x="3390480" y="3962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5" name=""/>
              <p:cNvGrpSpPr/>
              <p:nvPr/>
            </p:nvGrpSpPr>
            <p:grpSpPr>
              <a:xfrm>
                <a:off x="3390480" y="4343400"/>
                <a:ext cx="114120" cy="88920"/>
                <a:chOff x="3390480" y="4343400"/>
                <a:chExt cx="114120" cy="88920"/>
              </a:xfrm>
            </p:grpSpPr>
            <p:sp>
              <p:nvSpPr>
                <p:cNvPr id="2986" name=""/>
                <p:cNvSpPr/>
                <p:nvPr/>
              </p:nvSpPr>
              <p:spPr>
                <a:xfrm>
                  <a:off x="3403440" y="4343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7" name=""/>
                <p:cNvSpPr/>
                <p:nvPr/>
              </p:nvSpPr>
              <p:spPr>
                <a:xfrm flipH="1">
                  <a:off x="3390480" y="4343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8" name=""/>
              <p:cNvGrpSpPr/>
              <p:nvPr/>
            </p:nvGrpSpPr>
            <p:grpSpPr>
              <a:xfrm>
                <a:off x="3733560" y="4648320"/>
                <a:ext cx="114120" cy="88920"/>
                <a:chOff x="3733560" y="4648320"/>
                <a:chExt cx="114120" cy="88920"/>
              </a:xfrm>
            </p:grpSpPr>
            <p:sp>
              <p:nvSpPr>
                <p:cNvPr id="2989" name=""/>
                <p:cNvSpPr/>
                <p:nvPr/>
              </p:nvSpPr>
              <p:spPr>
                <a:xfrm>
                  <a:off x="374652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0" name=""/>
                <p:cNvSpPr/>
                <p:nvPr/>
              </p:nvSpPr>
              <p:spPr>
                <a:xfrm flipH="1">
                  <a:off x="373356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1" name=""/>
              <p:cNvGrpSpPr/>
              <p:nvPr/>
            </p:nvGrpSpPr>
            <p:grpSpPr>
              <a:xfrm>
                <a:off x="3733560" y="5029200"/>
                <a:ext cx="114120" cy="88920"/>
                <a:chOff x="3733560" y="5029200"/>
                <a:chExt cx="114120" cy="88920"/>
              </a:xfrm>
            </p:grpSpPr>
            <p:sp>
              <p:nvSpPr>
                <p:cNvPr id="2992" name=""/>
                <p:cNvSpPr/>
                <p:nvPr/>
              </p:nvSpPr>
              <p:spPr>
                <a:xfrm>
                  <a:off x="3746520" y="5029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 flipH="1">
                  <a:off x="3733560" y="5029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4" name=""/>
              <p:cNvGrpSpPr/>
              <p:nvPr/>
            </p:nvGrpSpPr>
            <p:grpSpPr>
              <a:xfrm>
                <a:off x="3733560" y="5334120"/>
                <a:ext cx="114120" cy="88920"/>
                <a:chOff x="3733560" y="5334120"/>
                <a:chExt cx="114120" cy="88920"/>
              </a:xfrm>
            </p:grpSpPr>
            <p:sp>
              <p:nvSpPr>
                <p:cNvPr id="2995" name=""/>
                <p:cNvSpPr/>
                <p:nvPr/>
              </p:nvSpPr>
              <p:spPr>
                <a:xfrm>
                  <a:off x="3746520" y="53341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 flipH="1">
                  <a:off x="3733560" y="53341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7" name=""/>
              <p:cNvGrpSpPr/>
              <p:nvPr/>
            </p:nvGrpSpPr>
            <p:grpSpPr>
              <a:xfrm>
                <a:off x="3733560" y="5715000"/>
                <a:ext cx="114120" cy="88920"/>
                <a:chOff x="3733560" y="5715000"/>
                <a:chExt cx="114120" cy="88920"/>
              </a:xfrm>
            </p:grpSpPr>
            <p:sp>
              <p:nvSpPr>
                <p:cNvPr id="2998" name=""/>
                <p:cNvSpPr/>
                <p:nvPr/>
              </p:nvSpPr>
              <p:spPr>
                <a:xfrm>
                  <a:off x="3746520" y="57150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 flipH="1">
                  <a:off x="3733560" y="57150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720D-D560-4E48-A48A-136AA3F2EE0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andom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o hard to figure out exactly what gates to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 from logic to NAND/NO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minimum number of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ght changes to logic function could decreas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to difficult to real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rewire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need new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with spares (few extra inverters and gates on every bo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7D76-32A4-4816-9FF4-42B39189C7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"/>
          <p:cNvSpPr/>
          <p:nvPr/>
        </p:nvSpPr>
        <p:spPr>
          <a:xfrm>
            <a:off x="3225960" y="3575160"/>
            <a:ext cx="20318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 product term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each OR g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1" name=""/>
          <p:cNvGrpSpPr/>
          <p:nvPr/>
        </p:nvGrpSpPr>
        <p:grpSpPr>
          <a:xfrm>
            <a:off x="5634000" y="1584360"/>
            <a:ext cx="3560400" cy="5263920"/>
            <a:chOff x="5634000" y="1584360"/>
            <a:chExt cx="3560400" cy="5263920"/>
          </a:xfrm>
        </p:grpSpPr>
        <p:sp>
          <p:nvSpPr>
            <p:cNvPr id="3002" name=""/>
            <p:cNvSpPr/>
            <p:nvPr/>
          </p:nvSpPr>
          <p:spPr>
            <a:xfrm>
              <a:off x="8422560" y="1786320"/>
              <a:ext cx="771840" cy="443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'C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'C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5634000" y="5101920"/>
              <a:ext cx="3137760" cy="1054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6583680" y="1816920"/>
              <a:ext cx="0" cy="424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6485760" y="1767960"/>
              <a:ext cx="0" cy="432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6252480" y="1743480"/>
              <a:ext cx="0" cy="435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6117840" y="1792800"/>
              <a:ext cx="0" cy="42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5799240" y="1767960"/>
              <a:ext cx="0" cy="432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5897160" y="1792800"/>
              <a:ext cx="0" cy="42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6810840" y="29505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6810840" y="31838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 flipV="1">
              <a:off x="6804360" y="2944800"/>
              <a:ext cx="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6921720" y="2958120"/>
              <a:ext cx="218880" cy="23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6921360" y="2945160"/>
              <a:ext cx="219240" cy="24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5682960" y="307332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7141320" y="307332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7" name=""/>
            <p:cNvGrpSpPr/>
            <p:nvPr/>
          </p:nvGrpSpPr>
          <p:grpSpPr>
            <a:xfrm>
              <a:off x="6295680" y="3042720"/>
              <a:ext cx="97920" cy="48960"/>
              <a:chOff x="6295680" y="3042720"/>
              <a:chExt cx="97920" cy="48960"/>
            </a:xfrm>
          </p:grpSpPr>
          <p:sp>
            <p:nvSpPr>
              <p:cNvPr id="3018" name=""/>
              <p:cNvSpPr/>
              <p:nvPr/>
            </p:nvSpPr>
            <p:spPr>
              <a:xfrm>
                <a:off x="6307560" y="3042720"/>
                <a:ext cx="734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H="1">
                <a:off x="6295680" y="3042720"/>
                <a:ext cx="979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0" name=""/>
            <p:cNvGrpSpPr/>
            <p:nvPr/>
          </p:nvGrpSpPr>
          <p:grpSpPr>
            <a:xfrm>
              <a:off x="5964480" y="3042720"/>
              <a:ext cx="110160" cy="48960"/>
              <a:chOff x="5964480" y="3042720"/>
              <a:chExt cx="110160" cy="48960"/>
            </a:xfrm>
          </p:grpSpPr>
          <p:sp>
            <p:nvSpPr>
              <p:cNvPr id="3021" name=""/>
              <p:cNvSpPr/>
              <p:nvPr/>
            </p:nvSpPr>
            <p:spPr>
              <a:xfrm>
                <a:off x="5976720" y="304272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 flipH="1">
                <a:off x="5964480" y="304272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3" name=""/>
            <p:cNvSpPr/>
            <p:nvPr/>
          </p:nvSpPr>
          <p:spPr>
            <a:xfrm flipH="1">
              <a:off x="6528600" y="1682280"/>
              <a:ext cx="9792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6430680" y="1682280"/>
              <a:ext cx="9792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 flipH="1">
              <a:off x="6418440" y="1676160"/>
              <a:ext cx="20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6565320" y="1767960"/>
              <a:ext cx="3672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6534720" y="1584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6810840" y="18601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6810840" y="20926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 flipV="1">
              <a:off x="6804360" y="1853280"/>
              <a:ext cx="0" cy="24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6921720" y="186768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6921360" y="1866600"/>
              <a:ext cx="21924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5682960" y="198216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7141320" y="1982160"/>
              <a:ext cx="122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6810840" y="21416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6810840" y="23623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V="1">
              <a:off x="6804360" y="2135160"/>
              <a:ext cx="0" cy="23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6921720" y="214956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6921360" y="2136240"/>
              <a:ext cx="21924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5682960" y="225216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7141320" y="2252160"/>
              <a:ext cx="124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6810840" y="24112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6810840" y="26319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 flipV="1">
              <a:off x="6804360" y="2405520"/>
              <a:ext cx="0" cy="2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6921720" y="241920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6921360" y="2405880"/>
              <a:ext cx="21924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5682960" y="252180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7141320" y="2521800"/>
              <a:ext cx="124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9" name=""/>
            <p:cNvGrpSpPr/>
            <p:nvPr/>
          </p:nvGrpSpPr>
          <p:grpSpPr>
            <a:xfrm>
              <a:off x="6430320" y="2209320"/>
              <a:ext cx="109800" cy="73440"/>
              <a:chOff x="6430320" y="2209320"/>
              <a:chExt cx="109800" cy="73440"/>
            </a:xfrm>
          </p:grpSpPr>
          <p:sp>
            <p:nvSpPr>
              <p:cNvPr id="3050" name=""/>
              <p:cNvSpPr/>
              <p:nvPr/>
            </p:nvSpPr>
            <p:spPr>
              <a:xfrm>
                <a:off x="6442560" y="2209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H="1">
                <a:off x="6430320" y="220932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2" name=""/>
            <p:cNvSpPr/>
            <p:nvPr/>
          </p:nvSpPr>
          <p:spPr>
            <a:xfrm flipH="1">
              <a:off x="6295320" y="1682280"/>
              <a:ext cx="10980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6197760" y="1682280"/>
              <a:ext cx="9792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 flipH="1">
              <a:off x="6185160" y="16761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6344640" y="1767960"/>
              <a:ext cx="2448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6302160" y="1584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6351120" y="1792800"/>
              <a:ext cx="0" cy="428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8" name=""/>
            <p:cNvGrpSpPr/>
            <p:nvPr/>
          </p:nvGrpSpPr>
          <p:grpSpPr>
            <a:xfrm>
              <a:off x="6185160" y="2478960"/>
              <a:ext cx="110160" cy="73440"/>
              <a:chOff x="6185160" y="2478960"/>
              <a:chExt cx="110160" cy="73440"/>
            </a:xfrm>
          </p:grpSpPr>
          <p:sp>
            <p:nvSpPr>
              <p:cNvPr id="3059" name=""/>
              <p:cNvSpPr/>
              <p:nvPr/>
            </p:nvSpPr>
            <p:spPr>
              <a:xfrm>
                <a:off x="6197400" y="24789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H="1">
                <a:off x="6185160" y="247896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1" name=""/>
            <p:cNvSpPr/>
            <p:nvPr/>
          </p:nvSpPr>
          <p:spPr>
            <a:xfrm flipH="1">
              <a:off x="6062400" y="1682280"/>
              <a:ext cx="10980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5964480" y="1682280"/>
              <a:ext cx="9828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 flipH="1">
              <a:off x="5952600" y="16761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6112080" y="1767960"/>
              <a:ext cx="3672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6068880" y="1584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6019920" y="1743480"/>
              <a:ext cx="0" cy="435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7" name=""/>
            <p:cNvGrpSpPr/>
            <p:nvPr/>
          </p:nvGrpSpPr>
          <p:grpSpPr>
            <a:xfrm>
              <a:off x="5964480" y="2209320"/>
              <a:ext cx="110160" cy="73440"/>
              <a:chOff x="5964480" y="2209320"/>
              <a:chExt cx="110160" cy="73440"/>
            </a:xfrm>
          </p:grpSpPr>
          <p:sp>
            <p:nvSpPr>
              <p:cNvPr id="3068" name=""/>
              <p:cNvSpPr/>
              <p:nvPr/>
            </p:nvSpPr>
            <p:spPr>
              <a:xfrm>
                <a:off x="5976720" y="2209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 flipH="1">
                <a:off x="5964480" y="220932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0" name=""/>
            <p:cNvGrpSpPr/>
            <p:nvPr/>
          </p:nvGrpSpPr>
          <p:grpSpPr>
            <a:xfrm>
              <a:off x="5964480" y="2478960"/>
              <a:ext cx="110160" cy="73440"/>
              <a:chOff x="5964480" y="2478960"/>
              <a:chExt cx="110160" cy="73440"/>
            </a:xfrm>
          </p:grpSpPr>
          <p:sp>
            <p:nvSpPr>
              <p:cNvPr id="3071" name=""/>
              <p:cNvSpPr/>
              <p:nvPr/>
            </p:nvSpPr>
            <p:spPr>
              <a:xfrm>
                <a:off x="5976720" y="24789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H="1">
                <a:off x="5964480" y="247896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3" name=""/>
            <p:cNvSpPr/>
            <p:nvPr/>
          </p:nvSpPr>
          <p:spPr>
            <a:xfrm flipH="1">
              <a:off x="5842440" y="1682280"/>
              <a:ext cx="8568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5743800" y="1682280"/>
              <a:ext cx="9828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H="1">
              <a:off x="5731560" y="1676160"/>
              <a:ext cx="19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5866560" y="1767960"/>
              <a:ext cx="3672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5848200" y="1584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8" name=""/>
            <p:cNvGrpSpPr/>
            <p:nvPr/>
          </p:nvGrpSpPr>
          <p:grpSpPr>
            <a:xfrm>
              <a:off x="5731920" y="1939680"/>
              <a:ext cx="97920" cy="73440"/>
              <a:chOff x="5731920" y="1939680"/>
              <a:chExt cx="97920" cy="73440"/>
            </a:xfrm>
          </p:grpSpPr>
          <p:sp>
            <p:nvSpPr>
              <p:cNvPr id="3079" name=""/>
              <p:cNvSpPr/>
              <p:nvPr/>
            </p:nvSpPr>
            <p:spPr>
              <a:xfrm>
                <a:off x="5743800" y="193968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 flipH="1">
                <a:off x="5731920" y="193968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1" name=""/>
            <p:cNvSpPr/>
            <p:nvPr/>
          </p:nvSpPr>
          <p:spPr>
            <a:xfrm>
              <a:off x="6810840" y="40417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6810840" y="42620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 flipV="1">
              <a:off x="6804360" y="4034880"/>
              <a:ext cx="0" cy="23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6921720" y="4049280"/>
              <a:ext cx="21888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6921360" y="403560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5682960" y="41518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7141320" y="41518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8" name=""/>
            <p:cNvGrpSpPr/>
            <p:nvPr/>
          </p:nvGrpSpPr>
          <p:grpSpPr>
            <a:xfrm>
              <a:off x="5964480" y="4121280"/>
              <a:ext cx="110160" cy="73440"/>
              <a:chOff x="5964480" y="4121280"/>
              <a:chExt cx="110160" cy="73440"/>
            </a:xfrm>
          </p:grpSpPr>
          <p:sp>
            <p:nvSpPr>
              <p:cNvPr id="3089" name=""/>
              <p:cNvSpPr/>
              <p:nvPr/>
            </p:nvSpPr>
            <p:spPr>
              <a:xfrm>
                <a:off x="5976720" y="412128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 flipH="1">
                <a:off x="5964480" y="412128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1" name=""/>
            <p:cNvSpPr/>
            <p:nvPr/>
          </p:nvSpPr>
          <p:spPr>
            <a:xfrm>
              <a:off x="6810840" y="43110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6810840" y="45316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 flipV="1">
              <a:off x="6804360" y="4305240"/>
              <a:ext cx="0" cy="2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6921720" y="431892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6921360" y="4305240"/>
              <a:ext cx="21924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5682960" y="442152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7141320" y="442152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8" name=""/>
            <p:cNvGrpSpPr/>
            <p:nvPr/>
          </p:nvGrpSpPr>
          <p:grpSpPr>
            <a:xfrm>
              <a:off x="6185160" y="4378680"/>
              <a:ext cx="110160" cy="73440"/>
              <a:chOff x="6185160" y="4378680"/>
              <a:chExt cx="110160" cy="73440"/>
            </a:xfrm>
          </p:grpSpPr>
          <p:sp>
            <p:nvSpPr>
              <p:cNvPr id="3099" name=""/>
              <p:cNvSpPr/>
              <p:nvPr/>
            </p:nvSpPr>
            <p:spPr>
              <a:xfrm>
                <a:off x="6197400" y="437868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 flipH="1">
                <a:off x="6185160" y="437868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1" name=""/>
            <p:cNvSpPr/>
            <p:nvPr/>
          </p:nvSpPr>
          <p:spPr>
            <a:xfrm>
              <a:off x="6810840" y="51076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6810840" y="53532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 flipV="1">
              <a:off x="6804360" y="5101920"/>
              <a:ext cx="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6921720" y="511560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6921360" y="511416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5682960" y="52426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7141320" y="52426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8" name=""/>
            <p:cNvGrpSpPr/>
            <p:nvPr/>
          </p:nvGrpSpPr>
          <p:grpSpPr>
            <a:xfrm>
              <a:off x="6430320" y="5199840"/>
              <a:ext cx="109800" cy="60840"/>
              <a:chOff x="6430320" y="5199840"/>
              <a:chExt cx="109800" cy="60840"/>
            </a:xfrm>
          </p:grpSpPr>
          <p:sp>
            <p:nvSpPr>
              <p:cNvPr id="3109" name=""/>
              <p:cNvSpPr/>
              <p:nvPr/>
            </p:nvSpPr>
            <p:spPr>
              <a:xfrm>
                <a:off x="6442560" y="519984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 flipH="1">
                <a:off x="6430320" y="5199840"/>
                <a:ext cx="1098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1" name=""/>
            <p:cNvGrpSpPr/>
            <p:nvPr/>
          </p:nvGrpSpPr>
          <p:grpSpPr>
            <a:xfrm>
              <a:off x="6295680" y="5199840"/>
              <a:ext cx="97920" cy="60840"/>
              <a:chOff x="6295680" y="5199840"/>
              <a:chExt cx="97920" cy="60840"/>
            </a:xfrm>
          </p:grpSpPr>
          <p:sp>
            <p:nvSpPr>
              <p:cNvPr id="3112" name=""/>
              <p:cNvSpPr/>
              <p:nvPr/>
            </p:nvSpPr>
            <p:spPr>
              <a:xfrm>
                <a:off x="6307560" y="5199840"/>
                <a:ext cx="73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 flipH="1">
                <a:off x="6295680" y="5199840"/>
                <a:ext cx="979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4" name=""/>
            <p:cNvGrpSpPr/>
            <p:nvPr/>
          </p:nvGrpSpPr>
          <p:grpSpPr>
            <a:xfrm>
              <a:off x="6075000" y="5199840"/>
              <a:ext cx="85680" cy="60840"/>
              <a:chOff x="6075000" y="5199840"/>
              <a:chExt cx="85680" cy="60840"/>
            </a:xfrm>
          </p:grpSpPr>
          <p:sp>
            <p:nvSpPr>
              <p:cNvPr id="3115" name=""/>
              <p:cNvSpPr/>
              <p:nvPr/>
            </p:nvSpPr>
            <p:spPr>
              <a:xfrm>
                <a:off x="6086880" y="5199840"/>
                <a:ext cx="612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 flipH="1">
                <a:off x="6075000" y="519984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7" name=""/>
            <p:cNvGrpSpPr/>
            <p:nvPr/>
          </p:nvGrpSpPr>
          <p:grpSpPr>
            <a:xfrm>
              <a:off x="5842440" y="5199840"/>
              <a:ext cx="85680" cy="60840"/>
              <a:chOff x="5842440" y="5199840"/>
              <a:chExt cx="85680" cy="60840"/>
            </a:xfrm>
          </p:grpSpPr>
          <p:sp>
            <p:nvSpPr>
              <p:cNvPr id="3118" name=""/>
              <p:cNvSpPr/>
              <p:nvPr/>
            </p:nvSpPr>
            <p:spPr>
              <a:xfrm>
                <a:off x="5854320" y="519984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 flipH="1">
                <a:off x="5842440" y="519984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0" name=""/>
            <p:cNvSpPr/>
            <p:nvPr/>
          </p:nvSpPr>
          <p:spPr>
            <a:xfrm>
              <a:off x="6810840" y="53773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6810840" y="56106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 flipV="1">
              <a:off x="6804360" y="5371560"/>
              <a:ext cx="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6921720" y="5385240"/>
              <a:ext cx="218880" cy="23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6921360" y="5372280"/>
              <a:ext cx="219240" cy="24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5682960" y="548784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7141320" y="548784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7" name=""/>
            <p:cNvGrpSpPr/>
            <p:nvPr/>
          </p:nvGrpSpPr>
          <p:grpSpPr>
            <a:xfrm>
              <a:off x="6430320" y="5469480"/>
              <a:ext cx="109800" cy="48960"/>
              <a:chOff x="6430320" y="5469480"/>
              <a:chExt cx="109800" cy="48960"/>
            </a:xfrm>
          </p:grpSpPr>
          <p:sp>
            <p:nvSpPr>
              <p:cNvPr id="3128" name=""/>
              <p:cNvSpPr/>
              <p:nvPr/>
            </p:nvSpPr>
            <p:spPr>
              <a:xfrm>
                <a:off x="6442560" y="54694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 flipH="1">
                <a:off x="6430320" y="5469480"/>
                <a:ext cx="10980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0" name=""/>
            <p:cNvGrpSpPr/>
            <p:nvPr/>
          </p:nvGrpSpPr>
          <p:grpSpPr>
            <a:xfrm>
              <a:off x="6185160" y="5469480"/>
              <a:ext cx="110160" cy="48960"/>
              <a:chOff x="6185160" y="5469480"/>
              <a:chExt cx="110160" cy="48960"/>
            </a:xfrm>
          </p:grpSpPr>
          <p:sp>
            <p:nvSpPr>
              <p:cNvPr id="3131" name=""/>
              <p:cNvSpPr/>
              <p:nvPr/>
            </p:nvSpPr>
            <p:spPr>
              <a:xfrm>
                <a:off x="6197400" y="54694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 flipH="1">
                <a:off x="6185160" y="546948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3" name=""/>
            <p:cNvGrpSpPr/>
            <p:nvPr/>
          </p:nvGrpSpPr>
          <p:grpSpPr>
            <a:xfrm>
              <a:off x="5964480" y="5469480"/>
              <a:ext cx="110160" cy="48960"/>
              <a:chOff x="5964480" y="5469480"/>
              <a:chExt cx="110160" cy="48960"/>
            </a:xfrm>
          </p:grpSpPr>
          <p:sp>
            <p:nvSpPr>
              <p:cNvPr id="3134" name=""/>
              <p:cNvSpPr/>
              <p:nvPr/>
            </p:nvSpPr>
            <p:spPr>
              <a:xfrm>
                <a:off x="5976720" y="54694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 flipH="1">
                <a:off x="5964480" y="546948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6" name=""/>
            <p:cNvSpPr/>
            <p:nvPr/>
          </p:nvSpPr>
          <p:spPr>
            <a:xfrm>
              <a:off x="6810840" y="56473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6810840" y="58802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 flipV="1">
              <a:off x="6804360" y="5641200"/>
              <a:ext cx="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921720" y="565488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6921360" y="564120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5682960" y="576972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7141320" y="576972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3" name=""/>
            <p:cNvGrpSpPr/>
            <p:nvPr/>
          </p:nvGrpSpPr>
          <p:grpSpPr>
            <a:xfrm>
              <a:off x="6540840" y="5726880"/>
              <a:ext cx="85680" cy="60840"/>
              <a:chOff x="6540840" y="5726880"/>
              <a:chExt cx="85680" cy="60840"/>
            </a:xfrm>
          </p:grpSpPr>
          <p:sp>
            <p:nvSpPr>
              <p:cNvPr id="3144" name=""/>
              <p:cNvSpPr/>
              <p:nvPr/>
            </p:nvSpPr>
            <p:spPr>
              <a:xfrm>
                <a:off x="6553080" y="572688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 flipH="1">
                <a:off x="6540840" y="572688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6" name=""/>
            <p:cNvGrpSpPr/>
            <p:nvPr/>
          </p:nvGrpSpPr>
          <p:grpSpPr>
            <a:xfrm>
              <a:off x="5731920" y="5726880"/>
              <a:ext cx="97920" cy="60840"/>
              <a:chOff x="5731920" y="5726880"/>
              <a:chExt cx="97920" cy="60840"/>
            </a:xfrm>
          </p:grpSpPr>
          <p:sp>
            <p:nvSpPr>
              <p:cNvPr id="3147" name=""/>
              <p:cNvSpPr/>
              <p:nvPr/>
            </p:nvSpPr>
            <p:spPr>
              <a:xfrm>
                <a:off x="5743800" y="5726880"/>
                <a:ext cx="73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 flipH="1">
                <a:off x="5731920" y="5726880"/>
                <a:ext cx="979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9" name=""/>
            <p:cNvSpPr/>
            <p:nvPr/>
          </p:nvSpPr>
          <p:spPr>
            <a:xfrm>
              <a:off x="6810840" y="59043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6810840" y="61376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 flipV="1">
              <a:off x="6804360" y="5898600"/>
              <a:ext cx="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6921720" y="591228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6921360" y="591084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5682960" y="60148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7141320" y="60148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6" name=""/>
            <p:cNvGrpSpPr/>
            <p:nvPr/>
          </p:nvGrpSpPr>
          <p:grpSpPr>
            <a:xfrm>
              <a:off x="6540840" y="5996520"/>
              <a:ext cx="85680" cy="60840"/>
              <a:chOff x="6540840" y="5996520"/>
              <a:chExt cx="85680" cy="60840"/>
            </a:xfrm>
          </p:grpSpPr>
          <p:sp>
            <p:nvSpPr>
              <p:cNvPr id="3157" name=""/>
              <p:cNvSpPr/>
              <p:nvPr/>
            </p:nvSpPr>
            <p:spPr>
              <a:xfrm>
                <a:off x="6553080" y="599652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 flipH="1">
                <a:off x="6540840" y="599652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9" name=""/>
            <p:cNvGrpSpPr/>
            <p:nvPr/>
          </p:nvGrpSpPr>
          <p:grpSpPr>
            <a:xfrm>
              <a:off x="6185160" y="5996520"/>
              <a:ext cx="110160" cy="60840"/>
              <a:chOff x="6185160" y="5996520"/>
              <a:chExt cx="110160" cy="60840"/>
            </a:xfrm>
          </p:grpSpPr>
          <p:sp>
            <p:nvSpPr>
              <p:cNvPr id="3160" name=""/>
              <p:cNvSpPr/>
              <p:nvPr/>
            </p:nvSpPr>
            <p:spPr>
              <a:xfrm>
                <a:off x="6197400" y="599652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 flipH="1">
                <a:off x="6185160" y="5996520"/>
                <a:ext cx="11016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2" name=""/>
            <p:cNvGrpSpPr/>
            <p:nvPr/>
          </p:nvGrpSpPr>
          <p:grpSpPr>
            <a:xfrm>
              <a:off x="6075000" y="5996520"/>
              <a:ext cx="85680" cy="60840"/>
              <a:chOff x="6075000" y="5996520"/>
              <a:chExt cx="85680" cy="60840"/>
            </a:xfrm>
          </p:grpSpPr>
          <p:sp>
            <p:nvSpPr>
              <p:cNvPr id="3163" name=""/>
              <p:cNvSpPr/>
              <p:nvPr/>
            </p:nvSpPr>
            <p:spPr>
              <a:xfrm>
                <a:off x="6086880" y="5996520"/>
                <a:ext cx="612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 flipH="1">
                <a:off x="6075000" y="599652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5" name=""/>
            <p:cNvSpPr/>
            <p:nvPr/>
          </p:nvSpPr>
          <p:spPr>
            <a:xfrm>
              <a:off x="7343640" y="1829160"/>
              <a:ext cx="0" cy="432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6" name=""/>
            <p:cNvGrpSpPr/>
            <p:nvPr/>
          </p:nvGrpSpPr>
          <p:grpSpPr>
            <a:xfrm>
              <a:off x="7239960" y="5751720"/>
              <a:ext cx="232560" cy="783360"/>
              <a:chOff x="7239960" y="5751720"/>
              <a:chExt cx="232560" cy="783360"/>
            </a:xfrm>
          </p:grpSpPr>
          <p:sp>
            <p:nvSpPr>
              <p:cNvPr id="3167" name=""/>
              <p:cNvSpPr/>
              <p:nvPr/>
            </p:nvSpPr>
            <p:spPr>
              <a:xfrm>
                <a:off x="7251480" y="6057720"/>
                <a:ext cx="20772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7239960" y="5751720"/>
                <a:ext cx="219240" cy="70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7253280" y="5788800"/>
                <a:ext cx="219240" cy="67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7253280" y="6057720"/>
                <a:ext cx="21924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7343280" y="6461640"/>
                <a:ext cx="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2" name=""/>
            <p:cNvSpPr/>
            <p:nvPr/>
          </p:nvSpPr>
          <p:spPr>
            <a:xfrm>
              <a:off x="7625880" y="2932200"/>
              <a:ext cx="0" cy="32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3" name=""/>
            <p:cNvGrpSpPr/>
            <p:nvPr/>
          </p:nvGrpSpPr>
          <p:grpSpPr>
            <a:xfrm>
              <a:off x="7521840" y="5751720"/>
              <a:ext cx="232560" cy="783360"/>
              <a:chOff x="7521840" y="5751720"/>
              <a:chExt cx="232560" cy="783360"/>
            </a:xfrm>
          </p:grpSpPr>
          <p:sp>
            <p:nvSpPr>
              <p:cNvPr id="3174" name=""/>
              <p:cNvSpPr/>
              <p:nvPr/>
            </p:nvSpPr>
            <p:spPr>
              <a:xfrm>
                <a:off x="7533360" y="6057720"/>
                <a:ext cx="21996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7521840" y="5751720"/>
                <a:ext cx="231480" cy="70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7522920" y="5788800"/>
                <a:ext cx="231480" cy="67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7522920" y="6057720"/>
                <a:ext cx="23148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7625520" y="6461640"/>
                <a:ext cx="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9" name=""/>
            <p:cNvSpPr/>
            <p:nvPr/>
          </p:nvSpPr>
          <p:spPr>
            <a:xfrm>
              <a:off x="7895520" y="4084560"/>
              <a:ext cx="0" cy="20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0" name=""/>
            <p:cNvGrpSpPr/>
            <p:nvPr/>
          </p:nvGrpSpPr>
          <p:grpSpPr>
            <a:xfrm>
              <a:off x="7791120" y="5751720"/>
              <a:ext cx="246600" cy="783360"/>
              <a:chOff x="7791120" y="5751720"/>
              <a:chExt cx="246600" cy="783360"/>
            </a:xfrm>
          </p:grpSpPr>
          <p:sp>
            <p:nvSpPr>
              <p:cNvPr id="3181" name=""/>
              <p:cNvSpPr/>
              <p:nvPr/>
            </p:nvSpPr>
            <p:spPr>
              <a:xfrm>
                <a:off x="7804080" y="6057720"/>
                <a:ext cx="21924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7791120" y="5751720"/>
                <a:ext cx="232200" cy="70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7804800" y="5788800"/>
                <a:ext cx="232920" cy="67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7804800" y="6057720"/>
                <a:ext cx="23292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7895160" y="6461640"/>
                <a:ext cx="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6" name=""/>
            <p:cNvSpPr/>
            <p:nvPr/>
          </p:nvSpPr>
          <p:spPr>
            <a:xfrm>
              <a:off x="8201880" y="5126400"/>
              <a:ext cx="0" cy="102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7" name=""/>
            <p:cNvGrpSpPr/>
            <p:nvPr/>
          </p:nvGrpSpPr>
          <p:grpSpPr>
            <a:xfrm>
              <a:off x="8085600" y="5751720"/>
              <a:ext cx="233280" cy="783360"/>
              <a:chOff x="8085600" y="5751720"/>
              <a:chExt cx="233280" cy="783360"/>
            </a:xfrm>
          </p:grpSpPr>
          <p:sp>
            <p:nvSpPr>
              <p:cNvPr id="3188" name=""/>
              <p:cNvSpPr/>
              <p:nvPr/>
            </p:nvSpPr>
            <p:spPr>
              <a:xfrm>
                <a:off x="8097840" y="6057720"/>
                <a:ext cx="20700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8085600" y="5751720"/>
                <a:ext cx="219240" cy="70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8098920" y="5788800"/>
                <a:ext cx="219960" cy="67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8098920" y="6057720"/>
                <a:ext cx="21996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8201520" y="6461640"/>
                <a:ext cx="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3" name=""/>
            <p:cNvSpPr/>
            <p:nvPr/>
          </p:nvSpPr>
          <p:spPr>
            <a:xfrm>
              <a:off x="6810840" y="32328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810840" y="34534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 flipV="1">
              <a:off x="6804360" y="3226320"/>
              <a:ext cx="0" cy="2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6921720" y="324036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6921360" y="3239280"/>
              <a:ext cx="21924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5682960" y="334296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7141320" y="334296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6810840" y="26809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6810840" y="29016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 flipV="1">
              <a:off x="6804360" y="2675160"/>
              <a:ext cx="0" cy="2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6921720" y="268884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6921360" y="2675520"/>
              <a:ext cx="21924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5682960" y="279144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7141320" y="279144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6810840" y="35024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6810840" y="37350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 flipV="1">
              <a:off x="6804360" y="3495600"/>
              <a:ext cx="0" cy="24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6921720" y="351000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6921360" y="3508560"/>
              <a:ext cx="21924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5682960" y="361260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7141320" y="361260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6810840" y="37720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6810840" y="40046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 flipV="1">
              <a:off x="6804360" y="3765240"/>
              <a:ext cx="0" cy="24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6921720" y="377964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6921360" y="3778200"/>
              <a:ext cx="21924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5682960" y="38944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7141320" y="38944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6810840" y="45687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6810840" y="47890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 flipV="1">
              <a:off x="6804360" y="4561920"/>
              <a:ext cx="0" cy="23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6921720" y="457632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6921360" y="4574880"/>
              <a:ext cx="21924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5682960" y="46792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7141320" y="46792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6810840" y="48384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6810840" y="50835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 flipV="1">
              <a:off x="6804360" y="4832280"/>
              <a:ext cx="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6921720" y="484596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6921360" y="484452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5682960" y="494856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7141320" y="494856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5634000" y="1841760"/>
              <a:ext cx="1838520" cy="10904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5634000" y="2932200"/>
              <a:ext cx="2144880" cy="1090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5634000" y="4011120"/>
              <a:ext cx="2402280" cy="1090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8" name=""/>
            <p:cNvGrpSpPr/>
            <p:nvPr/>
          </p:nvGrpSpPr>
          <p:grpSpPr>
            <a:xfrm>
              <a:off x="5731920" y="2773080"/>
              <a:ext cx="97920" cy="48960"/>
              <a:chOff x="5731920" y="2773080"/>
              <a:chExt cx="97920" cy="48960"/>
            </a:xfrm>
          </p:grpSpPr>
          <p:sp>
            <p:nvSpPr>
              <p:cNvPr id="3239" name=""/>
              <p:cNvSpPr/>
              <p:nvPr/>
            </p:nvSpPr>
            <p:spPr>
              <a:xfrm>
                <a:off x="5743800" y="2773080"/>
                <a:ext cx="734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 flipH="1">
                <a:off x="5731920" y="2773080"/>
                <a:ext cx="979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1" name=""/>
            <p:cNvGrpSpPr/>
            <p:nvPr/>
          </p:nvGrpSpPr>
          <p:grpSpPr>
            <a:xfrm>
              <a:off x="5842440" y="2773080"/>
              <a:ext cx="85680" cy="48960"/>
              <a:chOff x="5842440" y="2773080"/>
              <a:chExt cx="85680" cy="48960"/>
            </a:xfrm>
          </p:grpSpPr>
          <p:sp>
            <p:nvSpPr>
              <p:cNvPr id="3242" name=""/>
              <p:cNvSpPr/>
              <p:nvPr/>
            </p:nvSpPr>
            <p:spPr>
              <a:xfrm>
                <a:off x="5854320" y="2773080"/>
                <a:ext cx="608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 flipH="1">
                <a:off x="5842440" y="2773080"/>
                <a:ext cx="8568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4" name=""/>
            <p:cNvGrpSpPr/>
            <p:nvPr/>
          </p:nvGrpSpPr>
          <p:grpSpPr>
            <a:xfrm>
              <a:off x="5964480" y="2773080"/>
              <a:ext cx="110160" cy="48960"/>
              <a:chOff x="5964480" y="2773080"/>
              <a:chExt cx="110160" cy="48960"/>
            </a:xfrm>
          </p:grpSpPr>
          <p:sp>
            <p:nvSpPr>
              <p:cNvPr id="3245" name=""/>
              <p:cNvSpPr/>
              <p:nvPr/>
            </p:nvSpPr>
            <p:spPr>
              <a:xfrm>
                <a:off x="5976720" y="27730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 flipH="1">
                <a:off x="5964480" y="277308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7" name=""/>
            <p:cNvGrpSpPr/>
            <p:nvPr/>
          </p:nvGrpSpPr>
          <p:grpSpPr>
            <a:xfrm>
              <a:off x="6075000" y="2773080"/>
              <a:ext cx="85680" cy="48960"/>
              <a:chOff x="6075000" y="2773080"/>
              <a:chExt cx="85680" cy="48960"/>
            </a:xfrm>
          </p:grpSpPr>
          <p:sp>
            <p:nvSpPr>
              <p:cNvPr id="3248" name=""/>
              <p:cNvSpPr/>
              <p:nvPr/>
            </p:nvSpPr>
            <p:spPr>
              <a:xfrm>
                <a:off x="6086880" y="2773080"/>
                <a:ext cx="6120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 flipH="1">
                <a:off x="6075000" y="2773080"/>
                <a:ext cx="8568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0" name=""/>
            <p:cNvGrpSpPr/>
            <p:nvPr/>
          </p:nvGrpSpPr>
          <p:grpSpPr>
            <a:xfrm>
              <a:off x="6185160" y="2773080"/>
              <a:ext cx="110160" cy="48960"/>
              <a:chOff x="6185160" y="2773080"/>
              <a:chExt cx="110160" cy="48960"/>
            </a:xfrm>
          </p:grpSpPr>
          <p:sp>
            <p:nvSpPr>
              <p:cNvPr id="3251" name=""/>
              <p:cNvSpPr/>
              <p:nvPr/>
            </p:nvSpPr>
            <p:spPr>
              <a:xfrm>
                <a:off x="6197400" y="27730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 flipH="1">
                <a:off x="6185160" y="277308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3" name=""/>
            <p:cNvGrpSpPr/>
            <p:nvPr/>
          </p:nvGrpSpPr>
          <p:grpSpPr>
            <a:xfrm>
              <a:off x="6295680" y="2773080"/>
              <a:ext cx="97920" cy="48960"/>
              <a:chOff x="6295680" y="2773080"/>
              <a:chExt cx="97920" cy="48960"/>
            </a:xfrm>
          </p:grpSpPr>
          <p:sp>
            <p:nvSpPr>
              <p:cNvPr id="3254" name=""/>
              <p:cNvSpPr/>
              <p:nvPr/>
            </p:nvSpPr>
            <p:spPr>
              <a:xfrm>
                <a:off x="6307560" y="2773080"/>
                <a:ext cx="734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 flipH="1">
                <a:off x="6295680" y="2773080"/>
                <a:ext cx="979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6" name=""/>
            <p:cNvGrpSpPr/>
            <p:nvPr/>
          </p:nvGrpSpPr>
          <p:grpSpPr>
            <a:xfrm>
              <a:off x="6430320" y="2773080"/>
              <a:ext cx="109800" cy="48960"/>
              <a:chOff x="6430320" y="2773080"/>
              <a:chExt cx="109800" cy="48960"/>
            </a:xfrm>
          </p:grpSpPr>
          <p:sp>
            <p:nvSpPr>
              <p:cNvPr id="3257" name=""/>
              <p:cNvSpPr/>
              <p:nvPr/>
            </p:nvSpPr>
            <p:spPr>
              <a:xfrm>
                <a:off x="6442560" y="27730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 flipH="1">
                <a:off x="6430320" y="2773080"/>
                <a:ext cx="10980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9" name=""/>
            <p:cNvGrpSpPr/>
            <p:nvPr/>
          </p:nvGrpSpPr>
          <p:grpSpPr>
            <a:xfrm>
              <a:off x="6540840" y="2773080"/>
              <a:ext cx="85680" cy="48960"/>
              <a:chOff x="6540840" y="2773080"/>
              <a:chExt cx="85680" cy="48960"/>
            </a:xfrm>
          </p:grpSpPr>
          <p:sp>
            <p:nvSpPr>
              <p:cNvPr id="3260" name=""/>
              <p:cNvSpPr/>
              <p:nvPr/>
            </p:nvSpPr>
            <p:spPr>
              <a:xfrm>
                <a:off x="6553080" y="2773080"/>
                <a:ext cx="608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 flipH="1">
                <a:off x="6540840" y="2773080"/>
                <a:ext cx="8568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2" name=""/>
            <p:cNvSpPr/>
            <p:nvPr/>
          </p:nvSpPr>
          <p:spPr>
            <a:xfrm>
              <a:off x="7313040" y="1951920"/>
              <a:ext cx="73440" cy="61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7313040" y="2233800"/>
              <a:ext cx="73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7313040" y="2503440"/>
              <a:ext cx="73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7313040" y="2773080"/>
              <a:ext cx="73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7607520" y="304272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7607520" y="3324600"/>
              <a:ext cx="48960" cy="61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7607520" y="3594240"/>
              <a:ext cx="48960" cy="61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7607520" y="387612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7877160" y="4121280"/>
              <a:ext cx="73080" cy="73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7877160" y="4403160"/>
              <a:ext cx="7308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7877160" y="4648320"/>
              <a:ext cx="73080" cy="73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7877160" y="4942440"/>
              <a:ext cx="7308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8195760" y="521208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8195760" y="546948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8195760" y="573912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8195760" y="5996520"/>
              <a:ext cx="48960" cy="6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8" name=""/>
            <p:cNvGrpSpPr/>
            <p:nvPr/>
          </p:nvGrpSpPr>
          <p:grpSpPr>
            <a:xfrm>
              <a:off x="5731920" y="3312360"/>
              <a:ext cx="97920" cy="73440"/>
              <a:chOff x="5731920" y="3312360"/>
              <a:chExt cx="97920" cy="73440"/>
            </a:xfrm>
          </p:grpSpPr>
          <p:sp>
            <p:nvSpPr>
              <p:cNvPr id="3279" name=""/>
              <p:cNvSpPr/>
              <p:nvPr/>
            </p:nvSpPr>
            <p:spPr>
              <a:xfrm>
                <a:off x="5743800" y="331236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 flipH="1">
                <a:off x="5731920" y="331236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1" name=""/>
            <p:cNvGrpSpPr/>
            <p:nvPr/>
          </p:nvGrpSpPr>
          <p:grpSpPr>
            <a:xfrm>
              <a:off x="5842440" y="3312360"/>
              <a:ext cx="85680" cy="73440"/>
              <a:chOff x="5842440" y="3312360"/>
              <a:chExt cx="85680" cy="73440"/>
            </a:xfrm>
          </p:grpSpPr>
          <p:sp>
            <p:nvSpPr>
              <p:cNvPr id="3282" name=""/>
              <p:cNvSpPr/>
              <p:nvPr/>
            </p:nvSpPr>
            <p:spPr>
              <a:xfrm>
                <a:off x="5854320" y="331236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 flipH="1">
                <a:off x="5842440" y="331236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4" name=""/>
            <p:cNvGrpSpPr/>
            <p:nvPr/>
          </p:nvGrpSpPr>
          <p:grpSpPr>
            <a:xfrm>
              <a:off x="5964480" y="3312360"/>
              <a:ext cx="110160" cy="73440"/>
              <a:chOff x="5964480" y="3312360"/>
              <a:chExt cx="110160" cy="73440"/>
            </a:xfrm>
          </p:grpSpPr>
          <p:sp>
            <p:nvSpPr>
              <p:cNvPr id="3285" name=""/>
              <p:cNvSpPr/>
              <p:nvPr/>
            </p:nvSpPr>
            <p:spPr>
              <a:xfrm>
                <a:off x="5976720" y="33123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 flipH="1">
                <a:off x="5964480" y="331236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7" name=""/>
            <p:cNvGrpSpPr/>
            <p:nvPr/>
          </p:nvGrpSpPr>
          <p:grpSpPr>
            <a:xfrm>
              <a:off x="6075000" y="3312360"/>
              <a:ext cx="85680" cy="73440"/>
              <a:chOff x="6075000" y="3312360"/>
              <a:chExt cx="85680" cy="73440"/>
            </a:xfrm>
          </p:grpSpPr>
          <p:sp>
            <p:nvSpPr>
              <p:cNvPr id="3288" name=""/>
              <p:cNvSpPr/>
              <p:nvPr/>
            </p:nvSpPr>
            <p:spPr>
              <a:xfrm>
                <a:off x="6086880" y="3312360"/>
                <a:ext cx="612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 flipH="1">
                <a:off x="6075000" y="331236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0" name=""/>
            <p:cNvGrpSpPr/>
            <p:nvPr/>
          </p:nvGrpSpPr>
          <p:grpSpPr>
            <a:xfrm>
              <a:off x="6185160" y="3312360"/>
              <a:ext cx="110160" cy="73440"/>
              <a:chOff x="6185160" y="3312360"/>
              <a:chExt cx="110160" cy="73440"/>
            </a:xfrm>
          </p:grpSpPr>
          <p:sp>
            <p:nvSpPr>
              <p:cNvPr id="3291" name=""/>
              <p:cNvSpPr/>
              <p:nvPr/>
            </p:nvSpPr>
            <p:spPr>
              <a:xfrm>
                <a:off x="6197400" y="33123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 flipH="1">
                <a:off x="6185160" y="331236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3" name=""/>
            <p:cNvGrpSpPr/>
            <p:nvPr/>
          </p:nvGrpSpPr>
          <p:grpSpPr>
            <a:xfrm>
              <a:off x="6295680" y="3312360"/>
              <a:ext cx="97920" cy="73440"/>
              <a:chOff x="6295680" y="3312360"/>
              <a:chExt cx="97920" cy="73440"/>
            </a:xfrm>
          </p:grpSpPr>
          <p:sp>
            <p:nvSpPr>
              <p:cNvPr id="3294" name=""/>
              <p:cNvSpPr/>
              <p:nvPr/>
            </p:nvSpPr>
            <p:spPr>
              <a:xfrm>
                <a:off x="6307560" y="331236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 flipH="1">
                <a:off x="6295680" y="331236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6" name=""/>
            <p:cNvGrpSpPr/>
            <p:nvPr/>
          </p:nvGrpSpPr>
          <p:grpSpPr>
            <a:xfrm>
              <a:off x="6430320" y="3312360"/>
              <a:ext cx="109800" cy="73440"/>
              <a:chOff x="6430320" y="3312360"/>
              <a:chExt cx="109800" cy="73440"/>
            </a:xfrm>
          </p:grpSpPr>
          <p:sp>
            <p:nvSpPr>
              <p:cNvPr id="3297" name=""/>
              <p:cNvSpPr/>
              <p:nvPr/>
            </p:nvSpPr>
            <p:spPr>
              <a:xfrm>
                <a:off x="6442560" y="33123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 flipH="1">
                <a:off x="6430320" y="331236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9" name=""/>
            <p:cNvGrpSpPr/>
            <p:nvPr/>
          </p:nvGrpSpPr>
          <p:grpSpPr>
            <a:xfrm>
              <a:off x="6540840" y="3312360"/>
              <a:ext cx="85680" cy="73440"/>
              <a:chOff x="6540840" y="3312360"/>
              <a:chExt cx="85680" cy="73440"/>
            </a:xfrm>
          </p:grpSpPr>
          <p:sp>
            <p:nvSpPr>
              <p:cNvPr id="3300" name=""/>
              <p:cNvSpPr/>
              <p:nvPr/>
            </p:nvSpPr>
            <p:spPr>
              <a:xfrm>
                <a:off x="6553080" y="331236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 flipH="1">
                <a:off x="6540840" y="331236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2" name=""/>
            <p:cNvGrpSpPr/>
            <p:nvPr/>
          </p:nvGrpSpPr>
          <p:grpSpPr>
            <a:xfrm>
              <a:off x="5731920" y="3582000"/>
              <a:ext cx="97920" cy="73440"/>
              <a:chOff x="5731920" y="3582000"/>
              <a:chExt cx="97920" cy="73440"/>
            </a:xfrm>
          </p:grpSpPr>
          <p:sp>
            <p:nvSpPr>
              <p:cNvPr id="3303" name=""/>
              <p:cNvSpPr/>
              <p:nvPr/>
            </p:nvSpPr>
            <p:spPr>
              <a:xfrm>
                <a:off x="5743800" y="358200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 flipH="1">
                <a:off x="5731920" y="358200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5" name=""/>
            <p:cNvGrpSpPr/>
            <p:nvPr/>
          </p:nvGrpSpPr>
          <p:grpSpPr>
            <a:xfrm>
              <a:off x="5842440" y="3582000"/>
              <a:ext cx="85680" cy="73440"/>
              <a:chOff x="5842440" y="3582000"/>
              <a:chExt cx="85680" cy="73440"/>
            </a:xfrm>
          </p:grpSpPr>
          <p:sp>
            <p:nvSpPr>
              <p:cNvPr id="3306" name=""/>
              <p:cNvSpPr/>
              <p:nvPr/>
            </p:nvSpPr>
            <p:spPr>
              <a:xfrm>
                <a:off x="5854320" y="358200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 flipH="1">
                <a:off x="5842440" y="358200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8" name=""/>
            <p:cNvGrpSpPr/>
            <p:nvPr/>
          </p:nvGrpSpPr>
          <p:grpSpPr>
            <a:xfrm>
              <a:off x="5964480" y="3582000"/>
              <a:ext cx="110160" cy="73440"/>
              <a:chOff x="5964480" y="3582000"/>
              <a:chExt cx="110160" cy="73440"/>
            </a:xfrm>
          </p:grpSpPr>
          <p:sp>
            <p:nvSpPr>
              <p:cNvPr id="3309" name=""/>
              <p:cNvSpPr/>
              <p:nvPr/>
            </p:nvSpPr>
            <p:spPr>
              <a:xfrm>
                <a:off x="5976720" y="358200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 flipH="1">
                <a:off x="5964480" y="358200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1" name=""/>
            <p:cNvGrpSpPr/>
            <p:nvPr/>
          </p:nvGrpSpPr>
          <p:grpSpPr>
            <a:xfrm>
              <a:off x="6075000" y="3582000"/>
              <a:ext cx="85680" cy="73440"/>
              <a:chOff x="6075000" y="3582000"/>
              <a:chExt cx="85680" cy="73440"/>
            </a:xfrm>
          </p:grpSpPr>
          <p:sp>
            <p:nvSpPr>
              <p:cNvPr id="3312" name=""/>
              <p:cNvSpPr/>
              <p:nvPr/>
            </p:nvSpPr>
            <p:spPr>
              <a:xfrm>
                <a:off x="6086880" y="3582000"/>
                <a:ext cx="612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 flipH="1">
                <a:off x="6075000" y="358200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4" name=""/>
            <p:cNvGrpSpPr/>
            <p:nvPr/>
          </p:nvGrpSpPr>
          <p:grpSpPr>
            <a:xfrm>
              <a:off x="6185160" y="3582000"/>
              <a:ext cx="110160" cy="73440"/>
              <a:chOff x="6185160" y="3582000"/>
              <a:chExt cx="110160" cy="73440"/>
            </a:xfrm>
          </p:grpSpPr>
          <p:sp>
            <p:nvSpPr>
              <p:cNvPr id="3315" name=""/>
              <p:cNvSpPr/>
              <p:nvPr/>
            </p:nvSpPr>
            <p:spPr>
              <a:xfrm>
                <a:off x="6197400" y="358200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 flipH="1">
                <a:off x="6185160" y="358200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7" name=""/>
            <p:cNvGrpSpPr/>
            <p:nvPr/>
          </p:nvGrpSpPr>
          <p:grpSpPr>
            <a:xfrm>
              <a:off x="6295680" y="3582000"/>
              <a:ext cx="97920" cy="73440"/>
              <a:chOff x="6295680" y="3582000"/>
              <a:chExt cx="97920" cy="73440"/>
            </a:xfrm>
          </p:grpSpPr>
          <p:sp>
            <p:nvSpPr>
              <p:cNvPr id="3318" name=""/>
              <p:cNvSpPr/>
              <p:nvPr/>
            </p:nvSpPr>
            <p:spPr>
              <a:xfrm>
                <a:off x="6307560" y="358200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 flipH="1">
                <a:off x="6295680" y="358200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0" name=""/>
            <p:cNvGrpSpPr/>
            <p:nvPr/>
          </p:nvGrpSpPr>
          <p:grpSpPr>
            <a:xfrm>
              <a:off x="6430320" y="3582000"/>
              <a:ext cx="109800" cy="73440"/>
              <a:chOff x="6430320" y="3582000"/>
              <a:chExt cx="109800" cy="73440"/>
            </a:xfrm>
          </p:grpSpPr>
          <p:sp>
            <p:nvSpPr>
              <p:cNvPr id="3321" name=""/>
              <p:cNvSpPr/>
              <p:nvPr/>
            </p:nvSpPr>
            <p:spPr>
              <a:xfrm>
                <a:off x="6442560" y="358200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 flipH="1">
                <a:off x="6430320" y="358200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3" name=""/>
            <p:cNvGrpSpPr/>
            <p:nvPr/>
          </p:nvGrpSpPr>
          <p:grpSpPr>
            <a:xfrm>
              <a:off x="6540840" y="3582000"/>
              <a:ext cx="85680" cy="73440"/>
              <a:chOff x="6540840" y="3582000"/>
              <a:chExt cx="85680" cy="73440"/>
            </a:xfrm>
          </p:grpSpPr>
          <p:sp>
            <p:nvSpPr>
              <p:cNvPr id="3324" name=""/>
              <p:cNvSpPr/>
              <p:nvPr/>
            </p:nvSpPr>
            <p:spPr>
              <a:xfrm>
                <a:off x="6553080" y="358200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 flipH="1">
                <a:off x="6540840" y="358200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6" name=""/>
            <p:cNvGrpSpPr/>
            <p:nvPr/>
          </p:nvGrpSpPr>
          <p:grpSpPr>
            <a:xfrm>
              <a:off x="5731920" y="3851640"/>
              <a:ext cx="97920" cy="73440"/>
              <a:chOff x="5731920" y="3851640"/>
              <a:chExt cx="97920" cy="73440"/>
            </a:xfrm>
          </p:grpSpPr>
          <p:sp>
            <p:nvSpPr>
              <p:cNvPr id="3327" name=""/>
              <p:cNvSpPr/>
              <p:nvPr/>
            </p:nvSpPr>
            <p:spPr>
              <a:xfrm>
                <a:off x="5743800" y="385164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 flipH="1">
                <a:off x="5731920" y="385164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9" name=""/>
            <p:cNvGrpSpPr/>
            <p:nvPr/>
          </p:nvGrpSpPr>
          <p:grpSpPr>
            <a:xfrm>
              <a:off x="5842440" y="3851640"/>
              <a:ext cx="85680" cy="73440"/>
              <a:chOff x="5842440" y="3851640"/>
              <a:chExt cx="85680" cy="73440"/>
            </a:xfrm>
          </p:grpSpPr>
          <p:sp>
            <p:nvSpPr>
              <p:cNvPr id="3330" name=""/>
              <p:cNvSpPr/>
              <p:nvPr/>
            </p:nvSpPr>
            <p:spPr>
              <a:xfrm>
                <a:off x="5854320" y="385164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 flipH="1">
                <a:off x="5842440" y="385164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2" name=""/>
            <p:cNvGrpSpPr/>
            <p:nvPr/>
          </p:nvGrpSpPr>
          <p:grpSpPr>
            <a:xfrm>
              <a:off x="5964480" y="3851640"/>
              <a:ext cx="110160" cy="73440"/>
              <a:chOff x="5964480" y="3851640"/>
              <a:chExt cx="110160" cy="73440"/>
            </a:xfrm>
          </p:grpSpPr>
          <p:sp>
            <p:nvSpPr>
              <p:cNvPr id="3333" name=""/>
              <p:cNvSpPr/>
              <p:nvPr/>
            </p:nvSpPr>
            <p:spPr>
              <a:xfrm>
                <a:off x="5976720" y="385164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 flipH="1">
                <a:off x="5964480" y="385164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5" name=""/>
            <p:cNvGrpSpPr/>
            <p:nvPr/>
          </p:nvGrpSpPr>
          <p:grpSpPr>
            <a:xfrm>
              <a:off x="6075000" y="3851640"/>
              <a:ext cx="85680" cy="73440"/>
              <a:chOff x="6075000" y="3851640"/>
              <a:chExt cx="85680" cy="73440"/>
            </a:xfrm>
          </p:grpSpPr>
          <p:sp>
            <p:nvSpPr>
              <p:cNvPr id="3336" name=""/>
              <p:cNvSpPr/>
              <p:nvPr/>
            </p:nvSpPr>
            <p:spPr>
              <a:xfrm>
                <a:off x="6086880" y="3851640"/>
                <a:ext cx="612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 flipH="1">
                <a:off x="6075000" y="385164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8" name=""/>
            <p:cNvGrpSpPr/>
            <p:nvPr/>
          </p:nvGrpSpPr>
          <p:grpSpPr>
            <a:xfrm>
              <a:off x="6185160" y="3851640"/>
              <a:ext cx="110160" cy="73440"/>
              <a:chOff x="6185160" y="3851640"/>
              <a:chExt cx="110160" cy="73440"/>
            </a:xfrm>
          </p:grpSpPr>
          <p:sp>
            <p:nvSpPr>
              <p:cNvPr id="3339" name=""/>
              <p:cNvSpPr/>
              <p:nvPr/>
            </p:nvSpPr>
            <p:spPr>
              <a:xfrm>
                <a:off x="6197400" y="385164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 flipH="1">
                <a:off x="6185160" y="385164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1" name=""/>
            <p:cNvGrpSpPr/>
            <p:nvPr/>
          </p:nvGrpSpPr>
          <p:grpSpPr>
            <a:xfrm>
              <a:off x="6295680" y="3851640"/>
              <a:ext cx="97920" cy="73440"/>
              <a:chOff x="6295680" y="3851640"/>
              <a:chExt cx="97920" cy="73440"/>
            </a:xfrm>
          </p:grpSpPr>
          <p:sp>
            <p:nvSpPr>
              <p:cNvPr id="3342" name=""/>
              <p:cNvSpPr/>
              <p:nvPr/>
            </p:nvSpPr>
            <p:spPr>
              <a:xfrm>
                <a:off x="6307560" y="385164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 flipH="1">
                <a:off x="6295680" y="385164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4" name=""/>
            <p:cNvGrpSpPr/>
            <p:nvPr/>
          </p:nvGrpSpPr>
          <p:grpSpPr>
            <a:xfrm>
              <a:off x="6430320" y="3851640"/>
              <a:ext cx="109800" cy="73440"/>
              <a:chOff x="6430320" y="3851640"/>
              <a:chExt cx="109800" cy="73440"/>
            </a:xfrm>
          </p:grpSpPr>
          <p:sp>
            <p:nvSpPr>
              <p:cNvPr id="3345" name=""/>
              <p:cNvSpPr/>
              <p:nvPr/>
            </p:nvSpPr>
            <p:spPr>
              <a:xfrm>
                <a:off x="6442560" y="385164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 flipH="1">
                <a:off x="6430320" y="385164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7" name=""/>
            <p:cNvGrpSpPr/>
            <p:nvPr/>
          </p:nvGrpSpPr>
          <p:grpSpPr>
            <a:xfrm>
              <a:off x="6540840" y="3851640"/>
              <a:ext cx="85680" cy="73440"/>
              <a:chOff x="6540840" y="3851640"/>
              <a:chExt cx="85680" cy="73440"/>
            </a:xfrm>
          </p:grpSpPr>
          <p:sp>
            <p:nvSpPr>
              <p:cNvPr id="3348" name=""/>
              <p:cNvSpPr/>
              <p:nvPr/>
            </p:nvSpPr>
            <p:spPr>
              <a:xfrm>
                <a:off x="6553080" y="385164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 flipH="1">
                <a:off x="6540840" y="385164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0" name=""/>
            <p:cNvGrpSpPr/>
            <p:nvPr/>
          </p:nvGrpSpPr>
          <p:grpSpPr>
            <a:xfrm>
              <a:off x="5731920" y="4648320"/>
              <a:ext cx="97920" cy="73440"/>
              <a:chOff x="5731920" y="4648320"/>
              <a:chExt cx="97920" cy="73440"/>
            </a:xfrm>
          </p:grpSpPr>
          <p:sp>
            <p:nvSpPr>
              <p:cNvPr id="3351" name=""/>
              <p:cNvSpPr/>
              <p:nvPr/>
            </p:nvSpPr>
            <p:spPr>
              <a:xfrm>
                <a:off x="5743800" y="464832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 flipH="1">
                <a:off x="5731920" y="464832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3" name=""/>
            <p:cNvGrpSpPr/>
            <p:nvPr/>
          </p:nvGrpSpPr>
          <p:grpSpPr>
            <a:xfrm>
              <a:off x="5842440" y="4648320"/>
              <a:ext cx="85680" cy="73440"/>
              <a:chOff x="5842440" y="4648320"/>
              <a:chExt cx="85680" cy="73440"/>
            </a:xfrm>
          </p:grpSpPr>
          <p:sp>
            <p:nvSpPr>
              <p:cNvPr id="3354" name=""/>
              <p:cNvSpPr/>
              <p:nvPr/>
            </p:nvSpPr>
            <p:spPr>
              <a:xfrm>
                <a:off x="5854320" y="464832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 flipH="1">
                <a:off x="5842440" y="464832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6" name=""/>
            <p:cNvGrpSpPr/>
            <p:nvPr/>
          </p:nvGrpSpPr>
          <p:grpSpPr>
            <a:xfrm>
              <a:off x="5964480" y="4648320"/>
              <a:ext cx="110160" cy="73440"/>
              <a:chOff x="5964480" y="4648320"/>
              <a:chExt cx="110160" cy="73440"/>
            </a:xfrm>
          </p:grpSpPr>
          <p:sp>
            <p:nvSpPr>
              <p:cNvPr id="3357" name=""/>
              <p:cNvSpPr/>
              <p:nvPr/>
            </p:nvSpPr>
            <p:spPr>
              <a:xfrm>
                <a:off x="5976720" y="4648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 flipH="1">
                <a:off x="5964480" y="464832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9" name=""/>
            <p:cNvGrpSpPr/>
            <p:nvPr/>
          </p:nvGrpSpPr>
          <p:grpSpPr>
            <a:xfrm>
              <a:off x="6075000" y="4648320"/>
              <a:ext cx="85680" cy="73440"/>
              <a:chOff x="6075000" y="4648320"/>
              <a:chExt cx="85680" cy="73440"/>
            </a:xfrm>
          </p:grpSpPr>
          <p:sp>
            <p:nvSpPr>
              <p:cNvPr id="3360" name=""/>
              <p:cNvSpPr/>
              <p:nvPr/>
            </p:nvSpPr>
            <p:spPr>
              <a:xfrm>
                <a:off x="6086880" y="4648320"/>
                <a:ext cx="612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 flipH="1">
                <a:off x="6075000" y="464832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2" name=""/>
            <p:cNvGrpSpPr/>
            <p:nvPr/>
          </p:nvGrpSpPr>
          <p:grpSpPr>
            <a:xfrm>
              <a:off x="6185160" y="4648320"/>
              <a:ext cx="110160" cy="73440"/>
              <a:chOff x="6185160" y="4648320"/>
              <a:chExt cx="110160" cy="73440"/>
            </a:xfrm>
          </p:grpSpPr>
          <p:sp>
            <p:nvSpPr>
              <p:cNvPr id="3363" name=""/>
              <p:cNvSpPr/>
              <p:nvPr/>
            </p:nvSpPr>
            <p:spPr>
              <a:xfrm>
                <a:off x="6197400" y="4648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 flipH="1">
                <a:off x="6185160" y="464832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5" name=""/>
            <p:cNvGrpSpPr/>
            <p:nvPr/>
          </p:nvGrpSpPr>
          <p:grpSpPr>
            <a:xfrm>
              <a:off x="6295680" y="4648320"/>
              <a:ext cx="97920" cy="73440"/>
              <a:chOff x="6295680" y="4648320"/>
              <a:chExt cx="97920" cy="73440"/>
            </a:xfrm>
          </p:grpSpPr>
          <p:sp>
            <p:nvSpPr>
              <p:cNvPr id="3366" name=""/>
              <p:cNvSpPr/>
              <p:nvPr/>
            </p:nvSpPr>
            <p:spPr>
              <a:xfrm>
                <a:off x="6307560" y="464832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 flipH="1">
                <a:off x="6295680" y="464832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8" name=""/>
            <p:cNvGrpSpPr/>
            <p:nvPr/>
          </p:nvGrpSpPr>
          <p:grpSpPr>
            <a:xfrm>
              <a:off x="6430320" y="4648320"/>
              <a:ext cx="109800" cy="73440"/>
              <a:chOff x="6430320" y="4648320"/>
              <a:chExt cx="109800" cy="73440"/>
            </a:xfrm>
          </p:grpSpPr>
          <p:sp>
            <p:nvSpPr>
              <p:cNvPr id="3369" name=""/>
              <p:cNvSpPr/>
              <p:nvPr/>
            </p:nvSpPr>
            <p:spPr>
              <a:xfrm>
                <a:off x="6442560" y="4648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 flipH="1">
                <a:off x="6430320" y="464832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1" name=""/>
            <p:cNvGrpSpPr/>
            <p:nvPr/>
          </p:nvGrpSpPr>
          <p:grpSpPr>
            <a:xfrm>
              <a:off x="6540840" y="4648320"/>
              <a:ext cx="85680" cy="73440"/>
              <a:chOff x="6540840" y="4648320"/>
              <a:chExt cx="85680" cy="73440"/>
            </a:xfrm>
          </p:grpSpPr>
          <p:sp>
            <p:nvSpPr>
              <p:cNvPr id="3372" name=""/>
              <p:cNvSpPr/>
              <p:nvPr/>
            </p:nvSpPr>
            <p:spPr>
              <a:xfrm>
                <a:off x="6553080" y="464832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 flipH="1">
                <a:off x="6540840" y="464832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4" name=""/>
            <p:cNvGrpSpPr/>
            <p:nvPr/>
          </p:nvGrpSpPr>
          <p:grpSpPr>
            <a:xfrm>
              <a:off x="5731920" y="4930200"/>
              <a:ext cx="97920" cy="60840"/>
              <a:chOff x="5731920" y="4930200"/>
              <a:chExt cx="97920" cy="60840"/>
            </a:xfrm>
          </p:grpSpPr>
          <p:sp>
            <p:nvSpPr>
              <p:cNvPr id="3375" name=""/>
              <p:cNvSpPr/>
              <p:nvPr/>
            </p:nvSpPr>
            <p:spPr>
              <a:xfrm>
                <a:off x="5743800" y="4930200"/>
                <a:ext cx="73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 flipH="1">
                <a:off x="5731920" y="4930200"/>
                <a:ext cx="979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7" name=""/>
            <p:cNvGrpSpPr/>
            <p:nvPr/>
          </p:nvGrpSpPr>
          <p:grpSpPr>
            <a:xfrm>
              <a:off x="5842440" y="4930200"/>
              <a:ext cx="85680" cy="60840"/>
              <a:chOff x="5842440" y="4930200"/>
              <a:chExt cx="85680" cy="60840"/>
            </a:xfrm>
          </p:grpSpPr>
          <p:sp>
            <p:nvSpPr>
              <p:cNvPr id="3378" name=""/>
              <p:cNvSpPr/>
              <p:nvPr/>
            </p:nvSpPr>
            <p:spPr>
              <a:xfrm>
                <a:off x="5854320" y="493020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 flipH="1">
                <a:off x="5842440" y="493020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0" name=""/>
            <p:cNvGrpSpPr/>
            <p:nvPr/>
          </p:nvGrpSpPr>
          <p:grpSpPr>
            <a:xfrm>
              <a:off x="5964480" y="4930200"/>
              <a:ext cx="110160" cy="60840"/>
              <a:chOff x="5964480" y="4930200"/>
              <a:chExt cx="110160" cy="60840"/>
            </a:xfrm>
          </p:grpSpPr>
          <p:sp>
            <p:nvSpPr>
              <p:cNvPr id="3381" name=""/>
              <p:cNvSpPr/>
              <p:nvPr/>
            </p:nvSpPr>
            <p:spPr>
              <a:xfrm>
                <a:off x="5976720" y="493020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 flipH="1">
                <a:off x="5964480" y="4930200"/>
                <a:ext cx="11016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3" name=""/>
            <p:cNvGrpSpPr/>
            <p:nvPr/>
          </p:nvGrpSpPr>
          <p:grpSpPr>
            <a:xfrm>
              <a:off x="6075000" y="4930200"/>
              <a:ext cx="85680" cy="60840"/>
              <a:chOff x="6075000" y="4930200"/>
              <a:chExt cx="85680" cy="60840"/>
            </a:xfrm>
          </p:grpSpPr>
          <p:sp>
            <p:nvSpPr>
              <p:cNvPr id="3384" name=""/>
              <p:cNvSpPr/>
              <p:nvPr/>
            </p:nvSpPr>
            <p:spPr>
              <a:xfrm>
                <a:off x="6086880" y="4930200"/>
                <a:ext cx="612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 flipH="1">
                <a:off x="6075000" y="493020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6" name=""/>
            <p:cNvGrpSpPr/>
            <p:nvPr/>
          </p:nvGrpSpPr>
          <p:grpSpPr>
            <a:xfrm>
              <a:off x="6185160" y="4930200"/>
              <a:ext cx="110160" cy="60840"/>
              <a:chOff x="6185160" y="4930200"/>
              <a:chExt cx="110160" cy="60840"/>
            </a:xfrm>
          </p:grpSpPr>
          <p:sp>
            <p:nvSpPr>
              <p:cNvPr id="3387" name=""/>
              <p:cNvSpPr/>
              <p:nvPr/>
            </p:nvSpPr>
            <p:spPr>
              <a:xfrm>
                <a:off x="6197400" y="493020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 flipH="1">
                <a:off x="6185160" y="4930200"/>
                <a:ext cx="11016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9" name=""/>
            <p:cNvGrpSpPr/>
            <p:nvPr/>
          </p:nvGrpSpPr>
          <p:grpSpPr>
            <a:xfrm>
              <a:off x="6295680" y="4930200"/>
              <a:ext cx="97920" cy="60840"/>
              <a:chOff x="6295680" y="4930200"/>
              <a:chExt cx="97920" cy="60840"/>
            </a:xfrm>
          </p:grpSpPr>
          <p:sp>
            <p:nvSpPr>
              <p:cNvPr id="3390" name=""/>
              <p:cNvSpPr/>
              <p:nvPr/>
            </p:nvSpPr>
            <p:spPr>
              <a:xfrm>
                <a:off x="6307560" y="4930200"/>
                <a:ext cx="73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 flipH="1">
                <a:off x="6295680" y="4930200"/>
                <a:ext cx="979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2" name=""/>
            <p:cNvGrpSpPr/>
            <p:nvPr/>
          </p:nvGrpSpPr>
          <p:grpSpPr>
            <a:xfrm>
              <a:off x="6430320" y="4930200"/>
              <a:ext cx="109800" cy="60840"/>
              <a:chOff x="6430320" y="4930200"/>
              <a:chExt cx="109800" cy="60840"/>
            </a:xfrm>
          </p:grpSpPr>
          <p:sp>
            <p:nvSpPr>
              <p:cNvPr id="3393" name=""/>
              <p:cNvSpPr/>
              <p:nvPr/>
            </p:nvSpPr>
            <p:spPr>
              <a:xfrm>
                <a:off x="6442560" y="493020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 flipH="1">
                <a:off x="6430320" y="4930200"/>
                <a:ext cx="1098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5" name=""/>
            <p:cNvGrpSpPr/>
            <p:nvPr/>
          </p:nvGrpSpPr>
          <p:grpSpPr>
            <a:xfrm>
              <a:off x="6540840" y="4930200"/>
              <a:ext cx="85680" cy="60840"/>
              <a:chOff x="6540840" y="4930200"/>
              <a:chExt cx="85680" cy="60840"/>
            </a:xfrm>
          </p:grpSpPr>
          <p:sp>
            <p:nvSpPr>
              <p:cNvPr id="3396" name=""/>
              <p:cNvSpPr/>
              <p:nvPr/>
            </p:nvSpPr>
            <p:spPr>
              <a:xfrm>
                <a:off x="6553080" y="493020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 flipH="1">
                <a:off x="6540840" y="493020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8" name=""/>
            <p:cNvSpPr/>
            <p:nvPr/>
          </p:nvSpPr>
          <p:spPr>
            <a:xfrm>
              <a:off x="7245720" y="6456240"/>
              <a:ext cx="13482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9" name=""/>
          <p:cNvSpPr/>
          <p:nvPr/>
        </p:nvSpPr>
        <p:spPr>
          <a:xfrm>
            <a:off x="5710320" y="1290600"/>
            <a:ext cx="1409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279360"/>
                <a:tab algn="l" pos="57168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design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 converter: programmed P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6237-19E7-4C8C-AC63-B991A887E43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"/>
          <p:cNvSpPr/>
          <p:nvPr/>
        </p:nvSpPr>
        <p:spPr>
          <a:xfrm>
            <a:off x="2724480" y="3468600"/>
            <a:ext cx="13456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3295800" y="3494160"/>
            <a:ext cx="2152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2724480" y="3441600"/>
            <a:ext cx="13456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3295440" y="3454560"/>
            <a:ext cx="2156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>
            <a:off x="3409920" y="3619440"/>
            <a:ext cx="763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3308400" y="3441600"/>
            <a:ext cx="889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3308400" y="3809880"/>
            <a:ext cx="889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1898640" y="290844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 flipV="1">
            <a:off x="1898640" y="3086280"/>
            <a:ext cx="26676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1892160" y="29084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2178000" y="3060720"/>
            <a:ext cx="8892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1898640" y="343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1898640" y="387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>
            <a:off x="1892160" y="34416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2140560" y="3443400"/>
            <a:ext cx="44352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2140200" y="3416400"/>
            <a:ext cx="4438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2584440" y="3619440"/>
            <a:ext cx="763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1898640" y="3994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1898640" y="4451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1892160" y="400068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>
            <a:off x="2140560" y="4002120"/>
            <a:ext cx="44352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>
            <a:off x="2140200" y="3987720"/>
            <a:ext cx="44388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>
            <a:off x="2584440" y="4191120"/>
            <a:ext cx="763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2660760" y="4844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>
            <a:off x="2660760" y="5289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>
            <a:off x="2654280" y="485136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>
            <a:off x="2902680" y="4853160"/>
            <a:ext cx="43056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>
            <a:off x="2902320" y="4826160"/>
            <a:ext cx="43092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"/>
          <p:cNvSpPr/>
          <p:nvPr/>
        </p:nvSpPr>
        <p:spPr>
          <a:xfrm>
            <a:off x="3333600" y="504180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2000160" y="497844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 flipV="1">
            <a:off x="2000160" y="5156280"/>
            <a:ext cx="26676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"/>
          <p:cNvSpPr/>
          <p:nvPr/>
        </p:nvSpPr>
        <p:spPr>
          <a:xfrm>
            <a:off x="1994040" y="49784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"/>
          <p:cNvSpPr/>
          <p:nvPr/>
        </p:nvSpPr>
        <p:spPr>
          <a:xfrm>
            <a:off x="1898640" y="5130720"/>
            <a:ext cx="889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"/>
          <p:cNvSpPr/>
          <p:nvPr/>
        </p:nvSpPr>
        <p:spPr>
          <a:xfrm>
            <a:off x="3879720" y="488952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"/>
          <p:cNvSpPr/>
          <p:nvPr/>
        </p:nvSpPr>
        <p:spPr>
          <a:xfrm flipV="1">
            <a:off x="3879720" y="5067000"/>
            <a:ext cx="26676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"/>
          <p:cNvSpPr/>
          <p:nvPr/>
        </p:nvSpPr>
        <p:spPr>
          <a:xfrm>
            <a:off x="3873600" y="48895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"/>
          <p:cNvSpPr/>
          <p:nvPr/>
        </p:nvSpPr>
        <p:spPr>
          <a:xfrm>
            <a:off x="3790800" y="504180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9" name=""/>
          <p:cNvSpPr/>
          <p:nvPr/>
        </p:nvSpPr>
        <p:spPr>
          <a:xfrm>
            <a:off x="2038320" y="5791320"/>
            <a:ext cx="129492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0" name=""/>
          <p:cNvSpPr/>
          <p:nvPr/>
        </p:nvSpPr>
        <p:spPr>
          <a:xfrm>
            <a:off x="2038680" y="5818320"/>
            <a:ext cx="129456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"/>
          <p:cNvSpPr/>
          <p:nvPr/>
        </p:nvSpPr>
        <p:spPr>
          <a:xfrm>
            <a:off x="2622600" y="5818320"/>
            <a:ext cx="126720" cy="39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"/>
          <p:cNvSpPr/>
          <p:nvPr/>
        </p:nvSpPr>
        <p:spPr>
          <a:xfrm>
            <a:off x="2660400" y="5816520"/>
            <a:ext cx="8892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"/>
          <p:cNvSpPr/>
          <p:nvPr/>
        </p:nvSpPr>
        <p:spPr>
          <a:xfrm>
            <a:off x="2660760" y="5880240"/>
            <a:ext cx="7596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"/>
          <p:cNvSpPr/>
          <p:nvPr/>
        </p:nvSpPr>
        <p:spPr>
          <a:xfrm>
            <a:off x="2660760" y="6070680"/>
            <a:ext cx="7596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"/>
          <p:cNvSpPr/>
          <p:nvPr/>
        </p:nvSpPr>
        <p:spPr>
          <a:xfrm>
            <a:off x="2000160" y="591804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 flipV="1">
            <a:off x="2000160" y="6095520"/>
            <a:ext cx="26676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"/>
          <p:cNvSpPr/>
          <p:nvPr/>
        </p:nvSpPr>
        <p:spPr>
          <a:xfrm>
            <a:off x="1994040" y="5918040"/>
            <a:ext cx="0" cy="3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>
            <a:off x="2279520" y="6070680"/>
            <a:ext cx="76320" cy="88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5950080" y="30542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>
            <a:off x="5950080" y="34988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"/>
          <p:cNvSpPr/>
          <p:nvPr/>
        </p:nvSpPr>
        <p:spPr>
          <a:xfrm>
            <a:off x="5943600" y="306072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>
            <a:off x="6191280" y="3062160"/>
            <a:ext cx="44424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>
            <a:off x="6190920" y="3035520"/>
            <a:ext cx="44460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>
            <a:off x="6635880" y="3251160"/>
            <a:ext cx="7596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"/>
          <p:cNvSpPr/>
          <p:nvPr/>
        </p:nvSpPr>
        <p:spPr>
          <a:xfrm>
            <a:off x="5943600" y="29084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 flipV="1">
            <a:off x="5943600" y="349200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>
            <a:off x="7080120" y="4000680"/>
            <a:ext cx="889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"/>
          <p:cNvSpPr/>
          <p:nvPr/>
        </p:nvSpPr>
        <p:spPr>
          <a:xfrm>
            <a:off x="7080120" y="4572000"/>
            <a:ext cx="889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>
            <a:off x="6496200" y="4116240"/>
            <a:ext cx="134568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>
            <a:off x="7143840" y="4129200"/>
            <a:ext cx="1267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1" name=""/>
          <p:cNvSpPr/>
          <p:nvPr/>
        </p:nvSpPr>
        <p:spPr>
          <a:xfrm>
            <a:off x="6496200" y="4089600"/>
            <a:ext cx="134568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"/>
          <p:cNvSpPr/>
          <p:nvPr/>
        </p:nvSpPr>
        <p:spPr>
          <a:xfrm>
            <a:off x="7067160" y="4127760"/>
            <a:ext cx="20340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"/>
          <p:cNvSpPr/>
          <p:nvPr/>
        </p:nvSpPr>
        <p:spPr>
          <a:xfrm flipV="1">
            <a:off x="7175520" y="45208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"/>
          <p:cNvSpPr/>
          <p:nvPr/>
        </p:nvSpPr>
        <p:spPr>
          <a:xfrm>
            <a:off x="7175520" y="39495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"/>
          <p:cNvSpPr/>
          <p:nvPr/>
        </p:nvSpPr>
        <p:spPr>
          <a:xfrm>
            <a:off x="7182000" y="4191120"/>
            <a:ext cx="7596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>
            <a:off x="7182000" y="4381560"/>
            <a:ext cx="7596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"/>
          <p:cNvSpPr/>
          <p:nvPr/>
        </p:nvSpPr>
        <p:spPr>
          <a:xfrm>
            <a:off x="5479920" y="38037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"/>
          <p:cNvSpPr/>
          <p:nvPr/>
        </p:nvSpPr>
        <p:spPr>
          <a:xfrm>
            <a:off x="5479920" y="42609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9" name=""/>
          <p:cNvSpPr/>
          <p:nvPr/>
        </p:nvSpPr>
        <p:spPr>
          <a:xfrm>
            <a:off x="5473800" y="380988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"/>
          <p:cNvSpPr/>
          <p:nvPr/>
        </p:nvSpPr>
        <p:spPr>
          <a:xfrm>
            <a:off x="5721840" y="3811680"/>
            <a:ext cx="44352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"/>
          <p:cNvSpPr/>
          <p:nvPr/>
        </p:nvSpPr>
        <p:spPr>
          <a:xfrm>
            <a:off x="5721480" y="3797640"/>
            <a:ext cx="44388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"/>
          <p:cNvSpPr/>
          <p:nvPr/>
        </p:nvSpPr>
        <p:spPr>
          <a:xfrm>
            <a:off x="6153120" y="4000680"/>
            <a:ext cx="889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"/>
          <p:cNvSpPr/>
          <p:nvPr/>
        </p:nvSpPr>
        <p:spPr>
          <a:xfrm>
            <a:off x="5479920" y="5035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"/>
          <p:cNvSpPr/>
          <p:nvPr/>
        </p:nvSpPr>
        <p:spPr>
          <a:xfrm>
            <a:off x="5479920" y="5479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"/>
          <p:cNvSpPr/>
          <p:nvPr/>
        </p:nvSpPr>
        <p:spPr>
          <a:xfrm>
            <a:off x="5473800" y="50418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"/>
          <p:cNvSpPr/>
          <p:nvPr/>
        </p:nvSpPr>
        <p:spPr>
          <a:xfrm>
            <a:off x="5721840" y="5043600"/>
            <a:ext cx="44352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"/>
          <p:cNvSpPr/>
          <p:nvPr/>
        </p:nvSpPr>
        <p:spPr>
          <a:xfrm>
            <a:off x="5721480" y="5016600"/>
            <a:ext cx="4438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"/>
          <p:cNvSpPr/>
          <p:nvPr/>
        </p:nvSpPr>
        <p:spPr>
          <a:xfrm>
            <a:off x="6153120" y="5232240"/>
            <a:ext cx="889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"/>
          <p:cNvSpPr/>
          <p:nvPr/>
        </p:nvSpPr>
        <p:spPr>
          <a:xfrm>
            <a:off x="5479920" y="4375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"/>
          <p:cNvSpPr/>
          <p:nvPr/>
        </p:nvSpPr>
        <p:spPr>
          <a:xfrm>
            <a:off x="5479920" y="4819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"/>
          <p:cNvSpPr/>
          <p:nvPr/>
        </p:nvSpPr>
        <p:spPr>
          <a:xfrm>
            <a:off x="5473800" y="438156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"/>
          <p:cNvSpPr/>
          <p:nvPr/>
        </p:nvSpPr>
        <p:spPr>
          <a:xfrm>
            <a:off x="5721840" y="4383000"/>
            <a:ext cx="44352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"/>
          <p:cNvSpPr/>
          <p:nvPr/>
        </p:nvSpPr>
        <p:spPr>
          <a:xfrm>
            <a:off x="5721480" y="4356360"/>
            <a:ext cx="4438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>
            <a:off x="6153120" y="4572000"/>
            <a:ext cx="889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"/>
          <p:cNvSpPr/>
          <p:nvPr/>
        </p:nvSpPr>
        <p:spPr>
          <a:xfrm>
            <a:off x="5289480" y="337824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"/>
          <p:cNvSpPr/>
          <p:nvPr/>
        </p:nvSpPr>
        <p:spPr>
          <a:xfrm flipV="1">
            <a:off x="5289480" y="3556080"/>
            <a:ext cx="26676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"/>
          <p:cNvSpPr/>
          <p:nvPr/>
        </p:nvSpPr>
        <p:spPr>
          <a:xfrm>
            <a:off x="5283360" y="33782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"/>
          <p:cNvSpPr/>
          <p:nvPr/>
        </p:nvSpPr>
        <p:spPr>
          <a:xfrm>
            <a:off x="5568840" y="3530520"/>
            <a:ext cx="8892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9" name=""/>
          <p:cNvSpPr/>
          <p:nvPr/>
        </p:nvSpPr>
        <p:spPr>
          <a:xfrm>
            <a:off x="4070520" y="365112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>
            <a:off x="4267080" y="3511440"/>
            <a:ext cx="26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>
            <a:off x="3130560" y="34606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>
            <a:off x="2279520" y="30924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"/>
          <p:cNvSpPr/>
          <p:nvPr/>
        </p:nvSpPr>
        <p:spPr>
          <a:xfrm>
            <a:off x="2470320" y="309240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3124080" y="309888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3219480" y="36511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2660760" y="365112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>
            <a:off x="2838600" y="36511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>
            <a:off x="3130560" y="38419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2660760" y="422280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3124080" y="38480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2838600" y="4222800"/>
            <a:ext cx="279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3409920" y="50734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3600360" y="50734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4159080" y="50734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4330800" y="493380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2470320" y="516240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2279520" y="51624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2470320" y="591192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2368440" y="591192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2362320" y="5168880"/>
            <a:ext cx="0" cy="73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2355840" y="5156280"/>
            <a:ext cx="38160" cy="38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3308400" y="601344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3498840" y="601344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4343400" y="588636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6889680" y="403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6699240" y="328284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>
            <a:off x="6883560" y="3289320"/>
            <a:ext cx="0" cy="73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>
            <a:off x="7829640" y="43117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8026560" y="4184640"/>
            <a:ext cx="22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5289480" y="38419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5092560" y="3765600"/>
            <a:ext cx="241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>
            <a:off x="5759280" y="31813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>
            <a:off x="5562720" y="310500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>
            <a:off x="1809720" y="610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>
            <a:off x="1708200" y="6102360"/>
            <a:ext cx="8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1511280" y="602604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"/>
          <p:cNvSpPr/>
          <p:nvPr/>
        </p:nvSpPr>
        <p:spPr>
          <a:xfrm>
            <a:off x="2470320" y="497196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"/>
          <p:cNvSpPr/>
          <p:nvPr/>
        </p:nvSpPr>
        <p:spPr>
          <a:xfrm>
            <a:off x="2368440" y="497196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"/>
          <p:cNvSpPr/>
          <p:nvPr/>
        </p:nvSpPr>
        <p:spPr>
          <a:xfrm>
            <a:off x="2362320" y="478800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0" name=""/>
          <p:cNvSpPr/>
          <p:nvPr/>
        </p:nvSpPr>
        <p:spPr>
          <a:xfrm>
            <a:off x="1708200" y="478152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"/>
          <p:cNvSpPr/>
          <p:nvPr/>
        </p:nvSpPr>
        <p:spPr>
          <a:xfrm>
            <a:off x="1511280" y="470520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1708200" y="41212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"/>
          <p:cNvSpPr/>
          <p:nvPr/>
        </p:nvSpPr>
        <p:spPr>
          <a:xfrm>
            <a:off x="1511280" y="404496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1708200" y="3562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1511280" y="3486240"/>
            <a:ext cx="241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"/>
          <p:cNvSpPr/>
          <p:nvPr/>
        </p:nvSpPr>
        <p:spPr>
          <a:xfrm>
            <a:off x="6991200" y="42228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"/>
          <p:cNvSpPr/>
          <p:nvPr/>
        </p:nvSpPr>
        <p:spPr>
          <a:xfrm>
            <a:off x="6229440" y="403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"/>
          <p:cNvSpPr/>
          <p:nvPr/>
        </p:nvSpPr>
        <p:spPr>
          <a:xfrm>
            <a:off x="6610320" y="42228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"/>
          <p:cNvSpPr/>
          <p:nvPr/>
        </p:nvSpPr>
        <p:spPr>
          <a:xfrm>
            <a:off x="6603840" y="403848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>
            <a:off x="6419880" y="403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"/>
          <p:cNvSpPr/>
          <p:nvPr/>
        </p:nvSpPr>
        <p:spPr>
          <a:xfrm>
            <a:off x="5289480" y="50734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>
            <a:off x="4991040" y="4997520"/>
            <a:ext cx="317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>
            <a:off x="2470320" y="610236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>
            <a:off x="2368440" y="610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"/>
          <p:cNvSpPr/>
          <p:nvPr/>
        </p:nvSpPr>
        <p:spPr>
          <a:xfrm>
            <a:off x="5289480" y="52513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>
            <a:off x="5092560" y="5175360"/>
            <a:ext cx="241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"/>
          <p:cNvSpPr/>
          <p:nvPr/>
        </p:nvSpPr>
        <p:spPr>
          <a:xfrm>
            <a:off x="5289480" y="403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>
            <a:off x="5092560" y="3956040"/>
            <a:ext cx="241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>
            <a:off x="5759280" y="33717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>
            <a:off x="5562720" y="3295800"/>
            <a:ext cx="241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>
            <a:off x="1708200" y="51624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>
            <a:off x="1511280" y="5086440"/>
            <a:ext cx="241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>
            <a:off x="1708200" y="43117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1511280" y="423540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>
            <a:off x="6889680" y="46036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>
            <a:off x="6229440" y="52513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>
            <a:off x="6419880" y="525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6883560" y="4610160"/>
            <a:ext cx="0" cy="63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5289480" y="45021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5092560" y="4425840"/>
            <a:ext cx="254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>
            <a:off x="5759280" y="29908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5562720" y="2914560"/>
            <a:ext cx="25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1708200" y="30924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1511280" y="3016080"/>
            <a:ext cx="254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6991200" y="441324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>
            <a:off x="6229440" y="46036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6610320" y="44132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6419880" y="46036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6603840" y="441972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5099040" y="3562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>
            <a:off x="4902120" y="3486240"/>
            <a:ext cx="241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>
            <a:off x="5289480" y="42228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>
            <a:off x="5092560" y="4146480"/>
            <a:ext cx="241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1708200" y="37530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>
            <a:off x="1511280" y="367668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>
            <a:off x="5759280" y="3562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"/>
          <p:cNvSpPr/>
          <p:nvPr/>
        </p:nvSpPr>
        <p:spPr>
          <a:xfrm>
            <a:off x="5670720" y="356220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>
            <a:off x="5289480" y="54421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>
            <a:off x="4991040" y="5365800"/>
            <a:ext cx="317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>
            <a:off x="5289480" y="46926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4991040" y="4616280"/>
            <a:ext cx="317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design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8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 converter: NAND gate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 or regularity, harder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er to mak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E6D1-F55A-49C6-BBAA-CA25082CFC2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4" name=""/>
          <p:cNvGrpSpPr/>
          <p:nvPr/>
        </p:nvGrpSpPr>
        <p:grpSpPr>
          <a:xfrm>
            <a:off x="5275440" y="1414440"/>
            <a:ext cx="3931560" cy="5370120"/>
            <a:chOff x="5275440" y="1414440"/>
            <a:chExt cx="3931560" cy="5370120"/>
          </a:xfrm>
        </p:grpSpPr>
        <p:sp>
          <p:nvSpPr>
            <p:cNvPr id="3585" name=""/>
            <p:cNvSpPr/>
            <p:nvPr/>
          </p:nvSpPr>
          <p:spPr>
            <a:xfrm>
              <a:off x="6330960" y="1901880"/>
              <a:ext cx="0" cy="386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6219720" y="1827720"/>
              <a:ext cx="0" cy="39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5948280" y="1827720"/>
              <a:ext cx="0" cy="39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5787720" y="1901880"/>
              <a:ext cx="0" cy="386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5417280" y="1827720"/>
              <a:ext cx="0" cy="39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5515920" y="1889640"/>
              <a:ext cx="0" cy="386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6584040" y="29080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6584040" y="319212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 flipV="1">
              <a:off x="6577560" y="2901240"/>
              <a:ext cx="0" cy="29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6732360" y="291564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6732000" y="2889720"/>
              <a:ext cx="271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5275440" y="304380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7016040" y="304380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8" name=""/>
            <p:cNvGrpSpPr/>
            <p:nvPr/>
          </p:nvGrpSpPr>
          <p:grpSpPr>
            <a:xfrm>
              <a:off x="6003720" y="2321280"/>
              <a:ext cx="110880" cy="86400"/>
              <a:chOff x="6003720" y="2321280"/>
              <a:chExt cx="110880" cy="86400"/>
            </a:xfrm>
          </p:grpSpPr>
          <p:sp>
            <p:nvSpPr>
              <p:cNvPr id="3599" name=""/>
              <p:cNvSpPr/>
              <p:nvPr/>
            </p:nvSpPr>
            <p:spPr>
              <a:xfrm>
                <a:off x="601596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 flipH="1">
                <a:off x="6003720" y="23212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1" name=""/>
            <p:cNvGrpSpPr/>
            <p:nvPr/>
          </p:nvGrpSpPr>
          <p:grpSpPr>
            <a:xfrm>
              <a:off x="5632920" y="2321280"/>
              <a:ext cx="111240" cy="86400"/>
              <a:chOff x="5632920" y="2321280"/>
              <a:chExt cx="111240" cy="86400"/>
            </a:xfrm>
          </p:grpSpPr>
          <p:sp>
            <p:nvSpPr>
              <p:cNvPr id="3602" name=""/>
              <p:cNvSpPr/>
              <p:nvPr/>
            </p:nvSpPr>
            <p:spPr>
              <a:xfrm>
                <a:off x="564552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 flipH="1">
                <a:off x="5632920" y="23212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4" name=""/>
            <p:cNvSpPr/>
            <p:nvPr/>
          </p:nvSpPr>
          <p:spPr>
            <a:xfrm flipH="1">
              <a:off x="6262920" y="1741320"/>
              <a:ext cx="14796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6176880" y="1741320"/>
              <a:ext cx="8640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 flipH="1">
              <a:off x="6164280" y="1735200"/>
              <a:ext cx="24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6324840" y="1852560"/>
              <a:ext cx="37080" cy="3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6269040" y="16300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6584040" y="18831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6584040" y="216720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 flipV="1">
              <a:off x="6577560" y="1876680"/>
              <a:ext cx="0" cy="29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6732360" y="1891080"/>
              <a:ext cx="270720" cy="2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6732000" y="186444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5275440" y="201888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7016040" y="2018880"/>
              <a:ext cx="143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6584040" y="22168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6584040" y="251280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 flipV="1">
              <a:off x="6577560" y="2210040"/>
              <a:ext cx="0" cy="30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6732360" y="222444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6732000" y="221004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5275440" y="236484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7016040" y="2364840"/>
              <a:ext cx="144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6584040" y="256212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6584040" y="284652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 flipV="1">
              <a:off x="6577560" y="255636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6732360" y="257004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732000" y="2556000"/>
              <a:ext cx="271080" cy="2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5275440" y="271044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7016040" y="2710440"/>
              <a:ext cx="144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0" name=""/>
            <p:cNvGrpSpPr/>
            <p:nvPr/>
          </p:nvGrpSpPr>
          <p:grpSpPr>
            <a:xfrm>
              <a:off x="6003720" y="1976040"/>
              <a:ext cx="110880" cy="86400"/>
              <a:chOff x="6003720" y="1976040"/>
              <a:chExt cx="110880" cy="86400"/>
            </a:xfrm>
          </p:grpSpPr>
          <p:sp>
            <p:nvSpPr>
              <p:cNvPr id="3631" name=""/>
              <p:cNvSpPr/>
              <p:nvPr/>
            </p:nvSpPr>
            <p:spPr>
              <a:xfrm>
                <a:off x="601596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 flipH="1">
                <a:off x="6003720" y="19760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3" name=""/>
            <p:cNvSpPr/>
            <p:nvPr/>
          </p:nvSpPr>
          <p:spPr>
            <a:xfrm flipH="1">
              <a:off x="6003360" y="1741320"/>
              <a:ext cx="13572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5905080" y="1741320"/>
              <a:ext cx="986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 flipH="1">
              <a:off x="5892480" y="1735200"/>
              <a:ext cx="24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6053040" y="1852560"/>
              <a:ext cx="37080" cy="3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6009840" y="16300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6059520" y="1901880"/>
              <a:ext cx="0" cy="387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9" name=""/>
            <p:cNvGrpSpPr/>
            <p:nvPr/>
          </p:nvGrpSpPr>
          <p:grpSpPr>
            <a:xfrm>
              <a:off x="6275520" y="1976040"/>
              <a:ext cx="110880" cy="86400"/>
              <a:chOff x="6275520" y="1976040"/>
              <a:chExt cx="110880" cy="86400"/>
            </a:xfrm>
          </p:grpSpPr>
          <p:sp>
            <p:nvSpPr>
              <p:cNvPr id="3640" name=""/>
              <p:cNvSpPr/>
              <p:nvPr/>
            </p:nvSpPr>
            <p:spPr>
              <a:xfrm>
                <a:off x="628776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 flipH="1">
                <a:off x="6275520" y="19760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2" name=""/>
            <p:cNvSpPr/>
            <p:nvPr/>
          </p:nvSpPr>
          <p:spPr>
            <a:xfrm flipH="1">
              <a:off x="5731920" y="1741320"/>
              <a:ext cx="13572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5621040" y="1741320"/>
              <a:ext cx="1112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 flipH="1">
              <a:off x="5608800" y="1735200"/>
              <a:ext cx="25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5781600" y="1852560"/>
              <a:ext cx="37080" cy="3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5738400" y="16300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5688720" y="1827720"/>
              <a:ext cx="0" cy="39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8" name=""/>
            <p:cNvGrpSpPr/>
            <p:nvPr/>
          </p:nvGrpSpPr>
          <p:grpSpPr>
            <a:xfrm>
              <a:off x="5732280" y="1976040"/>
              <a:ext cx="110880" cy="86400"/>
              <a:chOff x="5732280" y="1976040"/>
              <a:chExt cx="110880" cy="86400"/>
            </a:xfrm>
          </p:grpSpPr>
          <p:sp>
            <p:nvSpPr>
              <p:cNvPr id="3649" name=""/>
              <p:cNvSpPr/>
              <p:nvPr/>
            </p:nvSpPr>
            <p:spPr>
              <a:xfrm>
                <a:off x="574452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 flipH="1">
                <a:off x="5732280" y="19760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1" name=""/>
            <p:cNvGrpSpPr/>
            <p:nvPr/>
          </p:nvGrpSpPr>
          <p:grpSpPr>
            <a:xfrm>
              <a:off x="5460840" y="2321280"/>
              <a:ext cx="110880" cy="86400"/>
              <a:chOff x="5460840" y="2321280"/>
              <a:chExt cx="110880" cy="86400"/>
            </a:xfrm>
          </p:grpSpPr>
          <p:sp>
            <p:nvSpPr>
              <p:cNvPr id="3652" name=""/>
              <p:cNvSpPr/>
              <p:nvPr/>
            </p:nvSpPr>
            <p:spPr>
              <a:xfrm>
                <a:off x="547308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 flipH="1">
                <a:off x="5460840" y="23212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4" name=""/>
            <p:cNvSpPr/>
            <p:nvPr/>
          </p:nvSpPr>
          <p:spPr>
            <a:xfrm flipH="1">
              <a:off x="5460840" y="1741320"/>
              <a:ext cx="12312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5349600" y="1741320"/>
              <a:ext cx="1112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 flipH="1">
              <a:off x="5337000" y="1735200"/>
              <a:ext cx="24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5510160" y="1852560"/>
              <a:ext cx="36720" cy="3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5466600" y="16300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9" name=""/>
            <p:cNvGrpSpPr/>
            <p:nvPr/>
          </p:nvGrpSpPr>
          <p:grpSpPr>
            <a:xfrm>
              <a:off x="5460840" y="1976040"/>
              <a:ext cx="110880" cy="86400"/>
              <a:chOff x="5460840" y="1976040"/>
              <a:chExt cx="110880" cy="86400"/>
            </a:xfrm>
          </p:grpSpPr>
          <p:sp>
            <p:nvSpPr>
              <p:cNvPr id="3660" name=""/>
              <p:cNvSpPr/>
              <p:nvPr/>
            </p:nvSpPr>
            <p:spPr>
              <a:xfrm>
                <a:off x="547308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 flipH="1">
                <a:off x="5460840" y="19760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2" name=""/>
            <p:cNvSpPr/>
            <p:nvPr/>
          </p:nvSpPr>
          <p:spPr>
            <a:xfrm>
              <a:off x="6584040" y="32288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6584040" y="351324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 flipV="1">
              <a:off x="6577560" y="322308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6732360" y="323676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6732000" y="323496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5275440" y="337716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7016040" y="337716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9" name=""/>
            <p:cNvGrpSpPr/>
            <p:nvPr/>
          </p:nvGrpSpPr>
          <p:grpSpPr>
            <a:xfrm>
              <a:off x="6163920" y="2321280"/>
              <a:ext cx="111240" cy="86400"/>
              <a:chOff x="6163920" y="2321280"/>
              <a:chExt cx="111240" cy="86400"/>
            </a:xfrm>
          </p:grpSpPr>
          <p:sp>
            <p:nvSpPr>
              <p:cNvPr id="3670" name=""/>
              <p:cNvSpPr/>
              <p:nvPr/>
            </p:nvSpPr>
            <p:spPr>
              <a:xfrm>
                <a:off x="617652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 flipH="1">
                <a:off x="6163920" y="23212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2" name=""/>
            <p:cNvSpPr/>
            <p:nvPr/>
          </p:nvSpPr>
          <p:spPr>
            <a:xfrm>
              <a:off x="6584040" y="357480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6584040" y="385884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 flipV="1">
              <a:off x="6577560" y="3567960"/>
              <a:ext cx="0" cy="29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6732360" y="358236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6732000" y="3556440"/>
              <a:ext cx="271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5275440" y="371052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7016040" y="371052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9" name=""/>
            <p:cNvGrpSpPr/>
            <p:nvPr/>
          </p:nvGrpSpPr>
          <p:grpSpPr>
            <a:xfrm>
              <a:off x="5361480" y="2667240"/>
              <a:ext cx="111240" cy="86400"/>
              <a:chOff x="5361480" y="2667240"/>
              <a:chExt cx="111240" cy="86400"/>
            </a:xfrm>
          </p:grpSpPr>
          <p:sp>
            <p:nvSpPr>
              <p:cNvPr id="3680" name=""/>
              <p:cNvSpPr/>
              <p:nvPr/>
            </p:nvSpPr>
            <p:spPr>
              <a:xfrm>
                <a:off x="5374080" y="26672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 flipH="1">
                <a:off x="536148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2" name=""/>
            <p:cNvSpPr/>
            <p:nvPr/>
          </p:nvSpPr>
          <p:spPr>
            <a:xfrm>
              <a:off x="6584040" y="38955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6584040" y="417996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 flipV="1">
              <a:off x="6577560" y="388980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6732360" y="390348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6732000" y="390168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5275440" y="404388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7016040" y="404388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9" name=""/>
            <p:cNvGrpSpPr/>
            <p:nvPr/>
          </p:nvGrpSpPr>
          <p:grpSpPr>
            <a:xfrm>
              <a:off x="5361480" y="3000600"/>
              <a:ext cx="111240" cy="86400"/>
              <a:chOff x="5361480" y="3000600"/>
              <a:chExt cx="111240" cy="86400"/>
            </a:xfrm>
          </p:grpSpPr>
          <p:sp>
            <p:nvSpPr>
              <p:cNvPr id="3690" name=""/>
              <p:cNvSpPr/>
              <p:nvPr/>
            </p:nvSpPr>
            <p:spPr>
              <a:xfrm>
                <a:off x="5374080" y="30006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 flipH="1">
                <a:off x="5361480" y="30006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2" name=""/>
            <p:cNvGrpSpPr/>
            <p:nvPr/>
          </p:nvGrpSpPr>
          <p:grpSpPr>
            <a:xfrm>
              <a:off x="6163920" y="2667240"/>
              <a:ext cx="111240" cy="86400"/>
              <a:chOff x="6163920" y="2667240"/>
              <a:chExt cx="111240" cy="86400"/>
            </a:xfrm>
          </p:grpSpPr>
          <p:sp>
            <p:nvSpPr>
              <p:cNvPr id="3693" name=""/>
              <p:cNvSpPr/>
              <p:nvPr/>
            </p:nvSpPr>
            <p:spPr>
              <a:xfrm>
                <a:off x="6176520" y="26672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 flipH="1">
                <a:off x="616392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5" name=""/>
            <p:cNvGrpSpPr/>
            <p:nvPr/>
          </p:nvGrpSpPr>
          <p:grpSpPr>
            <a:xfrm>
              <a:off x="5892120" y="2667240"/>
              <a:ext cx="111240" cy="86400"/>
              <a:chOff x="5892120" y="2667240"/>
              <a:chExt cx="111240" cy="86400"/>
            </a:xfrm>
          </p:grpSpPr>
          <p:sp>
            <p:nvSpPr>
              <p:cNvPr id="3696" name=""/>
              <p:cNvSpPr/>
              <p:nvPr/>
            </p:nvSpPr>
            <p:spPr>
              <a:xfrm>
                <a:off x="5904720" y="266724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 flipH="1">
                <a:off x="589212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8" name=""/>
            <p:cNvGrpSpPr/>
            <p:nvPr/>
          </p:nvGrpSpPr>
          <p:grpSpPr>
            <a:xfrm>
              <a:off x="5632920" y="2667240"/>
              <a:ext cx="111240" cy="86400"/>
              <a:chOff x="5632920" y="2667240"/>
              <a:chExt cx="111240" cy="86400"/>
            </a:xfrm>
          </p:grpSpPr>
          <p:sp>
            <p:nvSpPr>
              <p:cNvPr id="3699" name=""/>
              <p:cNvSpPr/>
              <p:nvPr/>
            </p:nvSpPr>
            <p:spPr>
              <a:xfrm>
                <a:off x="5645520" y="26672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 flipH="1">
                <a:off x="563292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1" name=""/>
            <p:cNvSpPr/>
            <p:nvPr/>
          </p:nvSpPr>
          <p:spPr>
            <a:xfrm>
              <a:off x="6584040" y="424152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6584040" y="451296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 flipV="1">
              <a:off x="6577560" y="4234680"/>
              <a:ext cx="0" cy="28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6732360" y="424908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6732000" y="4223160"/>
              <a:ext cx="271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5275440" y="436500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7016040" y="436500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8" name=""/>
            <p:cNvGrpSpPr/>
            <p:nvPr/>
          </p:nvGrpSpPr>
          <p:grpSpPr>
            <a:xfrm>
              <a:off x="6275520" y="3000600"/>
              <a:ext cx="110880" cy="86400"/>
              <a:chOff x="6275520" y="3000600"/>
              <a:chExt cx="110880" cy="86400"/>
            </a:xfrm>
          </p:grpSpPr>
          <p:sp>
            <p:nvSpPr>
              <p:cNvPr id="3709" name=""/>
              <p:cNvSpPr/>
              <p:nvPr/>
            </p:nvSpPr>
            <p:spPr>
              <a:xfrm>
                <a:off x="6287760" y="30006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 flipH="1">
                <a:off x="6275520" y="300060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1" name=""/>
            <p:cNvGrpSpPr/>
            <p:nvPr/>
          </p:nvGrpSpPr>
          <p:grpSpPr>
            <a:xfrm>
              <a:off x="5892120" y="3000600"/>
              <a:ext cx="111240" cy="86400"/>
              <a:chOff x="5892120" y="3000600"/>
              <a:chExt cx="111240" cy="86400"/>
            </a:xfrm>
          </p:grpSpPr>
          <p:sp>
            <p:nvSpPr>
              <p:cNvPr id="3712" name=""/>
              <p:cNvSpPr/>
              <p:nvPr/>
            </p:nvSpPr>
            <p:spPr>
              <a:xfrm>
                <a:off x="5904720" y="300060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 flipH="1">
                <a:off x="5892120" y="30006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4" name=""/>
            <p:cNvGrpSpPr/>
            <p:nvPr/>
          </p:nvGrpSpPr>
          <p:grpSpPr>
            <a:xfrm>
              <a:off x="5732280" y="3000600"/>
              <a:ext cx="110880" cy="86400"/>
              <a:chOff x="5732280" y="3000600"/>
              <a:chExt cx="110880" cy="86400"/>
            </a:xfrm>
          </p:grpSpPr>
          <p:sp>
            <p:nvSpPr>
              <p:cNvPr id="3715" name=""/>
              <p:cNvSpPr/>
              <p:nvPr/>
            </p:nvSpPr>
            <p:spPr>
              <a:xfrm>
                <a:off x="5744520" y="30006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 flipH="1">
                <a:off x="5732280" y="300060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7" name=""/>
            <p:cNvSpPr/>
            <p:nvPr/>
          </p:nvSpPr>
          <p:spPr>
            <a:xfrm>
              <a:off x="6584040" y="45622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6584040" y="484668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 flipV="1">
              <a:off x="6577560" y="455652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6732360" y="457020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6732000" y="4556160"/>
              <a:ext cx="271080" cy="2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5275440" y="471060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7016040" y="471060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4" name=""/>
            <p:cNvGrpSpPr/>
            <p:nvPr/>
          </p:nvGrpSpPr>
          <p:grpSpPr>
            <a:xfrm>
              <a:off x="5892120" y="3667320"/>
              <a:ext cx="111240" cy="86400"/>
              <a:chOff x="5892120" y="3667320"/>
              <a:chExt cx="111240" cy="86400"/>
            </a:xfrm>
          </p:grpSpPr>
          <p:sp>
            <p:nvSpPr>
              <p:cNvPr id="3725" name=""/>
              <p:cNvSpPr/>
              <p:nvPr/>
            </p:nvSpPr>
            <p:spPr>
              <a:xfrm>
                <a:off x="5904720" y="366732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 flipH="1">
                <a:off x="5892120" y="36673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7" name=""/>
            <p:cNvGrpSpPr/>
            <p:nvPr/>
          </p:nvGrpSpPr>
          <p:grpSpPr>
            <a:xfrm>
              <a:off x="5361480" y="3333960"/>
              <a:ext cx="111240" cy="86400"/>
              <a:chOff x="5361480" y="3333960"/>
              <a:chExt cx="111240" cy="86400"/>
            </a:xfrm>
          </p:grpSpPr>
          <p:sp>
            <p:nvSpPr>
              <p:cNvPr id="3728" name=""/>
              <p:cNvSpPr/>
              <p:nvPr/>
            </p:nvSpPr>
            <p:spPr>
              <a:xfrm>
                <a:off x="5374080" y="33339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 flipH="1">
                <a:off x="5361480" y="333396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0" name=""/>
            <p:cNvSpPr/>
            <p:nvPr/>
          </p:nvSpPr>
          <p:spPr>
            <a:xfrm>
              <a:off x="6584040" y="48837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6584040" y="517968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 flipV="1">
              <a:off x="6577560" y="4876920"/>
              <a:ext cx="0" cy="30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6732360" y="489132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6732000" y="4889880"/>
              <a:ext cx="271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5275440" y="503172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7016040" y="503172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7" name=""/>
            <p:cNvGrpSpPr/>
            <p:nvPr/>
          </p:nvGrpSpPr>
          <p:grpSpPr>
            <a:xfrm>
              <a:off x="6163920" y="4000680"/>
              <a:ext cx="111240" cy="86400"/>
              <a:chOff x="6163920" y="4000680"/>
              <a:chExt cx="111240" cy="86400"/>
            </a:xfrm>
          </p:grpSpPr>
          <p:sp>
            <p:nvSpPr>
              <p:cNvPr id="3738" name=""/>
              <p:cNvSpPr/>
              <p:nvPr/>
            </p:nvSpPr>
            <p:spPr>
              <a:xfrm>
                <a:off x="6176520" y="40006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 flipH="1">
                <a:off x="6163920" y="40006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0" name=""/>
            <p:cNvGrpSpPr/>
            <p:nvPr/>
          </p:nvGrpSpPr>
          <p:grpSpPr>
            <a:xfrm>
              <a:off x="5732280" y="4000680"/>
              <a:ext cx="110880" cy="86400"/>
              <a:chOff x="5732280" y="4000680"/>
              <a:chExt cx="110880" cy="86400"/>
            </a:xfrm>
          </p:grpSpPr>
          <p:sp>
            <p:nvSpPr>
              <p:cNvPr id="3741" name=""/>
              <p:cNvSpPr/>
              <p:nvPr/>
            </p:nvSpPr>
            <p:spPr>
              <a:xfrm>
                <a:off x="5744520" y="40006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 flipH="1">
                <a:off x="5732280" y="40006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3" name=""/>
            <p:cNvGrpSpPr/>
            <p:nvPr/>
          </p:nvGrpSpPr>
          <p:grpSpPr>
            <a:xfrm>
              <a:off x="5460840" y="3667320"/>
              <a:ext cx="110880" cy="86400"/>
              <a:chOff x="5460840" y="3667320"/>
              <a:chExt cx="110880" cy="86400"/>
            </a:xfrm>
          </p:grpSpPr>
          <p:sp>
            <p:nvSpPr>
              <p:cNvPr id="3744" name=""/>
              <p:cNvSpPr/>
              <p:nvPr/>
            </p:nvSpPr>
            <p:spPr>
              <a:xfrm>
                <a:off x="5473080" y="36673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 flipH="1">
                <a:off x="5460840" y="366732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6" name=""/>
            <p:cNvSpPr/>
            <p:nvPr/>
          </p:nvSpPr>
          <p:spPr>
            <a:xfrm>
              <a:off x="7244280" y="1827720"/>
              <a:ext cx="0" cy="418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7" name=""/>
            <p:cNvGrpSpPr/>
            <p:nvPr/>
          </p:nvGrpSpPr>
          <p:grpSpPr>
            <a:xfrm>
              <a:off x="7188480" y="1976040"/>
              <a:ext cx="111240" cy="86400"/>
              <a:chOff x="7188480" y="1976040"/>
              <a:chExt cx="111240" cy="86400"/>
            </a:xfrm>
          </p:grpSpPr>
          <p:sp>
            <p:nvSpPr>
              <p:cNvPr id="3748" name=""/>
              <p:cNvSpPr/>
              <p:nvPr/>
            </p:nvSpPr>
            <p:spPr>
              <a:xfrm>
                <a:off x="720108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 flipH="1">
                <a:off x="7188480" y="19760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0" name=""/>
            <p:cNvGrpSpPr/>
            <p:nvPr/>
          </p:nvGrpSpPr>
          <p:grpSpPr>
            <a:xfrm>
              <a:off x="7188480" y="2321280"/>
              <a:ext cx="111240" cy="86400"/>
              <a:chOff x="7188480" y="2321280"/>
              <a:chExt cx="111240" cy="86400"/>
            </a:xfrm>
          </p:grpSpPr>
          <p:sp>
            <p:nvSpPr>
              <p:cNvPr id="3751" name=""/>
              <p:cNvSpPr/>
              <p:nvPr/>
            </p:nvSpPr>
            <p:spPr>
              <a:xfrm>
                <a:off x="720108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 flipH="1">
                <a:off x="7188480" y="23212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3" name=""/>
            <p:cNvGrpSpPr/>
            <p:nvPr/>
          </p:nvGrpSpPr>
          <p:grpSpPr>
            <a:xfrm>
              <a:off x="7188480" y="2667240"/>
              <a:ext cx="111240" cy="86400"/>
              <a:chOff x="7188480" y="2667240"/>
              <a:chExt cx="111240" cy="86400"/>
            </a:xfrm>
          </p:grpSpPr>
          <p:sp>
            <p:nvSpPr>
              <p:cNvPr id="3754" name=""/>
              <p:cNvSpPr/>
              <p:nvPr/>
            </p:nvSpPr>
            <p:spPr>
              <a:xfrm>
                <a:off x="7201080" y="26672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 flipH="1">
                <a:off x="718848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6" name=""/>
            <p:cNvGrpSpPr/>
            <p:nvPr/>
          </p:nvGrpSpPr>
          <p:grpSpPr>
            <a:xfrm>
              <a:off x="7102800" y="5507280"/>
              <a:ext cx="271440" cy="999360"/>
              <a:chOff x="7102800" y="5507280"/>
              <a:chExt cx="271440" cy="999360"/>
            </a:xfrm>
          </p:grpSpPr>
          <p:sp>
            <p:nvSpPr>
              <p:cNvPr id="3757" name=""/>
              <p:cNvSpPr/>
              <p:nvPr/>
            </p:nvSpPr>
            <p:spPr>
              <a:xfrm>
                <a:off x="7114320" y="5889960"/>
                <a:ext cx="25884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7102800" y="5507280"/>
                <a:ext cx="270360" cy="88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7103880" y="5556600"/>
                <a:ext cx="270360" cy="83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7103880" y="5889960"/>
                <a:ext cx="27036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7243920" y="640800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2" name=""/>
            <p:cNvSpPr/>
            <p:nvPr/>
          </p:nvSpPr>
          <p:spPr>
            <a:xfrm>
              <a:off x="7565400" y="1827720"/>
              <a:ext cx="0" cy="418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3" name=""/>
            <p:cNvGrpSpPr/>
            <p:nvPr/>
          </p:nvGrpSpPr>
          <p:grpSpPr>
            <a:xfrm>
              <a:off x="7188480" y="3000600"/>
              <a:ext cx="111240" cy="86400"/>
              <a:chOff x="7188480" y="3000600"/>
              <a:chExt cx="111240" cy="86400"/>
            </a:xfrm>
          </p:grpSpPr>
          <p:sp>
            <p:nvSpPr>
              <p:cNvPr id="3764" name=""/>
              <p:cNvSpPr/>
              <p:nvPr/>
            </p:nvSpPr>
            <p:spPr>
              <a:xfrm>
                <a:off x="7201080" y="30006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 flipH="1">
                <a:off x="7188480" y="30006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6" name=""/>
            <p:cNvGrpSpPr/>
            <p:nvPr/>
          </p:nvGrpSpPr>
          <p:grpSpPr>
            <a:xfrm>
              <a:off x="7423920" y="5507280"/>
              <a:ext cx="296640" cy="999360"/>
              <a:chOff x="7423920" y="5507280"/>
              <a:chExt cx="296640" cy="999360"/>
            </a:xfrm>
          </p:grpSpPr>
          <p:sp>
            <p:nvSpPr>
              <p:cNvPr id="3767" name=""/>
              <p:cNvSpPr/>
              <p:nvPr/>
            </p:nvSpPr>
            <p:spPr>
              <a:xfrm>
                <a:off x="7460640" y="5889960"/>
                <a:ext cx="23364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7423920" y="5507280"/>
                <a:ext cx="270360" cy="88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7437240" y="5556600"/>
                <a:ext cx="283320" cy="83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7437240" y="5889960"/>
                <a:ext cx="28332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7565040" y="640800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2" name=""/>
            <p:cNvSpPr/>
            <p:nvPr/>
          </p:nvSpPr>
          <p:spPr>
            <a:xfrm>
              <a:off x="7898760" y="1827720"/>
              <a:ext cx="0" cy="418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3" name=""/>
            <p:cNvGrpSpPr/>
            <p:nvPr/>
          </p:nvGrpSpPr>
          <p:grpSpPr>
            <a:xfrm>
              <a:off x="7769520" y="5507280"/>
              <a:ext cx="271440" cy="999360"/>
              <a:chOff x="7769520" y="5507280"/>
              <a:chExt cx="271440" cy="999360"/>
            </a:xfrm>
          </p:grpSpPr>
          <p:sp>
            <p:nvSpPr>
              <p:cNvPr id="3774" name=""/>
              <p:cNvSpPr/>
              <p:nvPr/>
            </p:nvSpPr>
            <p:spPr>
              <a:xfrm>
                <a:off x="7781040" y="5889960"/>
                <a:ext cx="25884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7769520" y="5507280"/>
                <a:ext cx="270360" cy="88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7770600" y="5556600"/>
                <a:ext cx="270360" cy="83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7770600" y="5889960"/>
                <a:ext cx="27036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7898400" y="640800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9" name=""/>
            <p:cNvGrpSpPr/>
            <p:nvPr/>
          </p:nvGrpSpPr>
          <p:grpSpPr>
            <a:xfrm>
              <a:off x="7509960" y="3333960"/>
              <a:ext cx="110880" cy="86400"/>
              <a:chOff x="7509960" y="3333960"/>
              <a:chExt cx="110880" cy="86400"/>
            </a:xfrm>
          </p:grpSpPr>
          <p:sp>
            <p:nvSpPr>
              <p:cNvPr id="3780" name=""/>
              <p:cNvSpPr/>
              <p:nvPr/>
            </p:nvSpPr>
            <p:spPr>
              <a:xfrm>
                <a:off x="7522200" y="33339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 flipH="1">
                <a:off x="7509960" y="333396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2" name=""/>
            <p:cNvGrpSpPr/>
            <p:nvPr/>
          </p:nvGrpSpPr>
          <p:grpSpPr>
            <a:xfrm>
              <a:off x="7509960" y="3667320"/>
              <a:ext cx="110880" cy="86400"/>
              <a:chOff x="7509960" y="3667320"/>
              <a:chExt cx="110880" cy="86400"/>
            </a:xfrm>
          </p:grpSpPr>
          <p:sp>
            <p:nvSpPr>
              <p:cNvPr id="3783" name=""/>
              <p:cNvSpPr/>
              <p:nvPr/>
            </p:nvSpPr>
            <p:spPr>
              <a:xfrm>
                <a:off x="7522200" y="36673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 flipH="1">
                <a:off x="7509960" y="366732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5" name=""/>
            <p:cNvSpPr/>
            <p:nvPr/>
          </p:nvSpPr>
          <p:spPr>
            <a:xfrm>
              <a:off x="8244360" y="1827720"/>
              <a:ext cx="0" cy="418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6" name=""/>
            <p:cNvGrpSpPr/>
            <p:nvPr/>
          </p:nvGrpSpPr>
          <p:grpSpPr>
            <a:xfrm>
              <a:off x="8102880" y="5507280"/>
              <a:ext cx="271440" cy="999360"/>
              <a:chOff x="8102880" y="5507280"/>
              <a:chExt cx="271440" cy="999360"/>
            </a:xfrm>
          </p:grpSpPr>
          <p:sp>
            <p:nvSpPr>
              <p:cNvPr id="3787" name=""/>
              <p:cNvSpPr/>
              <p:nvPr/>
            </p:nvSpPr>
            <p:spPr>
              <a:xfrm>
                <a:off x="8115480" y="5889960"/>
                <a:ext cx="25776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8102880" y="5507280"/>
                <a:ext cx="270360" cy="88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8116560" y="5556600"/>
                <a:ext cx="257760" cy="83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8116560" y="5889960"/>
                <a:ext cx="25776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8244360" y="640800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2" name=""/>
            <p:cNvGrpSpPr/>
            <p:nvPr/>
          </p:nvGrpSpPr>
          <p:grpSpPr>
            <a:xfrm>
              <a:off x="7509960" y="4000680"/>
              <a:ext cx="110880" cy="86400"/>
              <a:chOff x="7509960" y="4000680"/>
              <a:chExt cx="110880" cy="86400"/>
            </a:xfrm>
          </p:grpSpPr>
          <p:sp>
            <p:nvSpPr>
              <p:cNvPr id="3793" name=""/>
              <p:cNvSpPr/>
              <p:nvPr/>
            </p:nvSpPr>
            <p:spPr>
              <a:xfrm>
                <a:off x="7522200" y="40006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 flipH="1">
                <a:off x="7509960" y="40006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5" name=""/>
            <p:cNvGrpSpPr/>
            <p:nvPr/>
          </p:nvGrpSpPr>
          <p:grpSpPr>
            <a:xfrm>
              <a:off x="7509960" y="4321440"/>
              <a:ext cx="110880" cy="86400"/>
              <a:chOff x="7509960" y="4321440"/>
              <a:chExt cx="110880" cy="86400"/>
            </a:xfrm>
          </p:grpSpPr>
          <p:sp>
            <p:nvSpPr>
              <p:cNvPr id="3796" name=""/>
              <p:cNvSpPr/>
              <p:nvPr/>
            </p:nvSpPr>
            <p:spPr>
              <a:xfrm>
                <a:off x="7522200" y="43214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 flipH="1">
                <a:off x="7509960" y="43214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8" name=""/>
            <p:cNvGrpSpPr/>
            <p:nvPr/>
          </p:nvGrpSpPr>
          <p:grpSpPr>
            <a:xfrm>
              <a:off x="7842600" y="3667320"/>
              <a:ext cx="111240" cy="86400"/>
              <a:chOff x="7842600" y="3667320"/>
              <a:chExt cx="111240" cy="86400"/>
            </a:xfrm>
          </p:grpSpPr>
          <p:sp>
            <p:nvSpPr>
              <p:cNvPr id="3799" name=""/>
              <p:cNvSpPr/>
              <p:nvPr/>
            </p:nvSpPr>
            <p:spPr>
              <a:xfrm>
                <a:off x="7855200" y="36673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 flipH="1">
                <a:off x="7842600" y="36673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1" name=""/>
            <p:cNvGrpSpPr/>
            <p:nvPr/>
          </p:nvGrpSpPr>
          <p:grpSpPr>
            <a:xfrm>
              <a:off x="7842600" y="4667400"/>
              <a:ext cx="111240" cy="86400"/>
              <a:chOff x="7842600" y="4667400"/>
              <a:chExt cx="111240" cy="86400"/>
            </a:xfrm>
          </p:grpSpPr>
          <p:sp>
            <p:nvSpPr>
              <p:cNvPr id="3802" name=""/>
              <p:cNvSpPr/>
              <p:nvPr/>
            </p:nvSpPr>
            <p:spPr>
              <a:xfrm>
                <a:off x="7855200" y="46674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 flipH="1">
                <a:off x="7842600" y="46674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4" name=""/>
            <p:cNvSpPr/>
            <p:nvPr/>
          </p:nvSpPr>
          <p:spPr>
            <a:xfrm>
              <a:off x="7059240" y="6488640"/>
              <a:ext cx="139464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368280"/>
                  <a:tab algn="l" pos="72396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6584040" y="522900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6584040" y="550080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 flipV="1">
              <a:off x="6577560" y="5223240"/>
              <a:ext cx="0" cy="28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6732360" y="523692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6732000" y="5222880"/>
              <a:ext cx="271080" cy="2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5275440" y="537732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7016040" y="537732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2" name=""/>
            <p:cNvGrpSpPr/>
            <p:nvPr/>
          </p:nvGrpSpPr>
          <p:grpSpPr>
            <a:xfrm>
              <a:off x="5632920" y="4321440"/>
              <a:ext cx="111240" cy="86400"/>
              <a:chOff x="5632920" y="4321440"/>
              <a:chExt cx="111240" cy="86400"/>
            </a:xfrm>
          </p:grpSpPr>
          <p:sp>
            <p:nvSpPr>
              <p:cNvPr id="3813" name=""/>
              <p:cNvSpPr/>
              <p:nvPr/>
            </p:nvSpPr>
            <p:spPr>
              <a:xfrm>
                <a:off x="5645520" y="43214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 flipH="1">
                <a:off x="5632920" y="43214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5" name=""/>
            <p:cNvGrpSpPr/>
            <p:nvPr/>
          </p:nvGrpSpPr>
          <p:grpSpPr>
            <a:xfrm>
              <a:off x="6003720" y="3333960"/>
              <a:ext cx="110880" cy="86400"/>
              <a:chOff x="6003720" y="3333960"/>
              <a:chExt cx="110880" cy="86400"/>
            </a:xfrm>
          </p:grpSpPr>
          <p:sp>
            <p:nvSpPr>
              <p:cNvPr id="3816" name=""/>
              <p:cNvSpPr/>
              <p:nvPr/>
            </p:nvSpPr>
            <p:spPr>
              <a:xfrm>
                <a:off x="6015960" y="33339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 flipH="1">
                <a:off x="6003720" y="333396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8" name=""/>
            <p:cNvSpPr/>
            <p:nvPr/>
          </p:nvSpPr>
          <p:spPr>
            <a:xfrm>
              <a:off x="6584040" y="55504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6584040" y="584640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 flipV="1">
              <a:off x="6577560" y="5543640"/>
              <a:ext cx="0" cy="30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6732360" y="555804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6732000" y="554364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5275440" y="569844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7016040" y="569844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5" name=""/>
            <p:cNvGrpSpPr/>
            <p:nvPr/>
          </p:nvGrpSpPr>
          <p:grpSpPr>
            <a:xfrm>
              <a:off x="6163920" y="4321440"/>
              <a:ext cx="111240" cy="86400"/>
              <a:chOff x="6163920" y="4321440"/>
              <a:chExt cx="111240" cy="86400"/>
            </a:xfrm>
          </p:grpSpPr>
          <p:sp>
            <p:nvSpPr>
              <p:cNvPr id="3826" name=""/>
              <p:cNvSpPr/>
              <p:nvPr/>
            </p:nvSpPr>
            <p:spPr>
              <a:xfrm>
                <a:off x="6176520" y="43214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 flipH="1">
                <a:off x="6163920" y="43214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8" name=""/>
            <p:cNvGrpSpPr/>
            <p:nvPr/>
          </p:nvGrpSpPr>
          <p:grpSpPr>
            <a:xfrm>
              <a:off x="5732280" y="4667400"/>
              <a:ext cx="110880" cy="86400"/>
              <a:chOff x="5732280" y="4667400"/>
              <a:chExt cx="110880" cy="86400"/>
            </a:xfrm>
          </p:grpSpPr>
          <p:sp>
            <p:nvSpPr>
              <p:cNvPr id="3829" name=""/>
              <p:cNvSpPr/>
              <p:nvPr/>
            </p:nvSpPr>
            <p:spPr>
              <a:xfrm>
                <a:off x="5744520" y="46674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 flipH="1">
                <a:off x="5732280" y="466740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1" name=""/>
            <p:cNvGrpSpPr/>
            <p:nvPr/>
          </p:nvGrpSpPr>
          <p:grpSpPr>
            <a:xfrm>
              <a:off x="5460840" y="4667400"/>
              <a:ext cx="110880" cy="86400"/>
              <a:chOff x="5460840" y="4667400"/>
              <a:chExt cx="110880" cy="86400"/>
            </a:xfrm>
          </p:grpSpPr>
          <p:sp>
            <p:nvSpPr>
              <p:cNvPr id="3832" name=""/>
              <p:cNvSpPr/>
              <p:nvPr/>
            </p:nvSpPr>
            <p:spPr>
              <a:xfrm>
                <a:off x="5473080" y="46674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 flipH="1">
                <a:off x="5460840" y="466740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4" name=""/>
            <p:cNvGrpSpPr/>
            <p:nvPr/>
          </p:nvGrpSpPr>
          <p:grpSpPr>
            <a:xfrm>
              <a:off x="7842600" y="4988160"/>
              <a:ext cx="111240" cy="86400"/>
              <a:chOff x="7842600" y="4988160"/>
              <a:chExt cx="111240" cy="86400"/>
            </a:xfrm>
          </p:grpSpPr>
          <p:sp>
            <p:nvSpPr>
              <p:cNvPr id="3835" name=""/>
              <p:cNvSpPr/>
              <p:nvPr/>
            </p:nvSpPr>
            <p:spPr>
              <a:xfrm>
                <a:off x="7855200" y="49881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 flipH="1">
                <a:off x="7842600" y="498816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7" name=""/>
            <p:cNvGrpSpPr/>
            <p:nvPr/>
          </p:nvGrpSpPr>
          <p:grpSpPr>
            <a:xfrm>
              <a:off x="8188920" y="3333960"/>
              <a:ext cx="110880" cy="86400"/>
              <a:chOff x="8188920" y="3333960"/>
              <a:chExt cx="110880" cy="86400"/>
            </a:xfrm>
          </p:grpSpPr>
          <p:sp>
            <p:nvSpPr>
              <p:cNvPr id="3838" name=""/>
              <p:cNvSpPr/>
              <p:nvPr/>
            </p:nvSpPr>
            <p:spPr>
              <a:xfrm>
                <a:off x="8201160" y="33339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 flipH="1">
                <a:off x="8188920" y="333396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0" name=""/>
            <p:cNvGrpSpPr/>
            <p:nvPr/>
          </p:nvGrpSpPr>
          <p:grpSpPr>
            <a:xfrm>
              <a:off x="6163920" y="4667400"/>
              <a:ext cx="111240" cy="86400"/>
              <a:chOff x="6163920" y="4667400"/>
              <a:chExt cx="111240" cy="86400"/>
            </a:xfrm>
          </p:grpSpPr>
          <p:sp>
            <p:nvSpPr>
              <p:cNvPr id="3841" name=""/>
              <p:cNvSpPr/>
              <p:nvPr/>
            </p:nvSpPr>
            <p:spPr>
              <a:xfrm>
                <a:off x="6176520" y="46674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 flipH="1">
                <a:off x="6163920" y="46674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3" name=""/>
            <p:cNvGrpSpPr/>
            <p:nvPr/>
          </p:nvGrpSpPr>
          <p:grpSpPr>
            <a:xfrm>
              <a:off x="5892120" y="4988160"/>
              <a:ext cx="111240" cy="86400"/>
              <a:chOff x="5892120" y="4988160"/>
              <a:chExt cx="111240" cy="86400"/>
            </a:xfrm>
          </p:grpSpPr>
          <p:sp>
            <p:nvSpPr>
              <p:cNvPr id="3844" name=""/>
              <p:cNvSpPr/>
              <p:nvPr/>
            </p:nvSpPr>
            <p:spPr>
              <a:xfrm>
                <a:off x="5904720" y="498816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 flipH="1">
                <a:off x="5892120" y="498816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6" name=""/>
            <p:cNvGrpSpPr/>
            <p:nvPr/>
          </p:nvGrpSpPr>
          <p:grpSpPr>
            <a:xfrm>
              <a:off x="5732280" y="4988160"/>
              <a:ext cx="110880" cy="86400"/>
              <a:chOff x="5732280" y="4988160"/>
              <a:chExt cx="110880" cy="86400"/>
            </a:xfrm>
          </p:grpSpPr>
          <p:sp>
            <p:nvSpPr>
              <p:cNvPr id="3847" name=""/>
              <p:cNvSpPr/>
              <p:nvPr/>
            </p:nvSpPr>
            <p:spPr>
              <a:xfrm>
                <a:off x="5744520" y="49881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 flipH="1">
                <a:off x="5732280" y="498816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9" name=""/>
            <p:cNvGrpSpPr/>
            <p:nvPr/>
          </p:nvGrpSpPr>
          <p:grpSpPr>
            <a:xfrm>
              <a:off x="6163920" y="4988160"/>
              <a:ext cx="111240" cy="86400"/>
              <a:chOff x="6163920" y="4988160"/>
              <a:chExt cx="111240" cy="86400"/>
            </a:xfrm>
          </p:grpSpPr>
          <p:sp>
            <p:nvSpPr>
              <p:cNvPr id="3850" name=""/>
              <p:cNvSpPr/>
              <p:nvPr/>
            </p:nvSpPr>
            <p:spPr>
              <a:xfrm>
                <a:off x="6176520" y="49881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 flipH="1">
                <a:off x="6163920" y="498816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2" name=""/>
            <p:cNvGrpSpPr/>
            <p:nvPr/>
          </p:nvGrpSpPr>
          <p:grpSpPr>
            <a:xfrm>
              <a:off x="8188920" y="5654880"/>
              <a:ext cx="110880" cy="86400"/>
              <a:chOff x="8188920" y="5654880"/>
              <a:chExt cx="110880" cy="86400"/>
            </a:xfrm>
          </p:grpSpPr>
          <p:sp>
            <p:nvSpPr>
              <p:cNvPr id="3853" name=""/>
              <p:cNvSpPr/>
              <p:nvPr/>
            </p:nvSpPr>
            <p:spPr>
              <a:xfrm>
                <a:off x="8201160" y="56548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 flipH="1">
                <a:off x="8188920" y="56548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5" name=""/>
            <p:cNvGrpSpPr/>
            <p:nvPr/>
          </p:nvGrpSpPr>
          <p:grpSpPr>
            <a:xfrm>
              <a:off x="8188920" y="5334120"/>
              <a:ext cx="110880" cy="86400"/>
              <a:chOff x="8188920" y="5334120"/>
              <a:chExt cx="110880" cy="86400"/>
            </a:xfrm>
          </p:grpSpPr>
          <p:sp>
            <p:nvSpPr>
              <p:cNvPr id="3856" name=""/>
              <p:cNvSpPr/>
              <p:nvPr/>
            </p:nvSpPr>
            <p:spPr>
              <a:xfrm>
                <a:off x="8201160" y="53341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 flipH="1">
                <a:off x="8188920" y="533412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8" name=""/>
            <p:cNvGrpSpPr/>
            <p:nvPr/>
          </p:nvGrpSpPr>
          <p:grpSpPr>
            <a:xfrm>
              <a:off x="5632920" y="5334120"/>
              <a:ext cx="111240" cy="86400"/>
              <a:chOff x="5632920" y="5334120"/>
              <a:chExt cx="111240" cy="86400"/>
            </a:xfrm>
          </p:grpSpPr>
          <p:sp>
            <p:nvSpPr>
              <p:cNvPr id="3859" name=""/>
              <p:cNvSpPr/>
              <p:nvPr/>
            </p:nvSpPr>
            <p:spPr>
              <a:xfrm>
                <a:off x="5645520" y="53341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 flipH="1">
                <a:off x="5632920" y="53341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1" name=""/>
            <p:cNvGrpSpPr/>
            <p:nvPr/>
          </p:nvGrpSpPr>
          <p:grpSpPr>
            <a:xfrm>
              <a:off x="5361480" y="5334120"/>
              <a:ext cx="111240" cy="86400"/>
              <a:chOff x="5361480" y="5334120"/>
              <a:chExt cx="111240" cy="86400"/>
            </a:xfrm>
          </p:grpSpPr>
          <p:sp>
            <p:nvSpPr>
              <p:cNvPr id="3862" name=""/>
              <p:cNvSpPr/>
              <p:nvPr/>
            </p:nvSpPr>
            <p:spPr>
              <a:xfrm>
                <a:off x="5374080" y="53341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 flipH="1">
                <a:off x="5361480" y="53341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4" name=""/>
            <p:cNvGrpSpPr/>
            <p:nvPr/>
          </p:nvGrpSpPr>
          <p:grpSpPr>
            <a:xfrm>
              <a:off x="5892120" y="5334120"/>
              <a:ext cx="111240" cy="86400"/>
              <a:chOff x="5892120" y="5334120"/>
              <a:chExt cx="111240" cy="86400"/>
            </a:xfrm>
          </p:grpSpPr>
          <p:sp>
            <p:nvSpPr>
              <p:cNvPr id="3865" name=""/>
              <p:cNvSpPr/>
              <p:nvPr/>
            </p:nvSpPr>
            <p:spPr>
              <a:xfrm>
                <a:off x="5904720" y="533412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 flipH="1">
                <a:off x="5892120" y="53341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7" name=""/>
            <p:cNvGrpSpPr/>
            <p:nvPr/>
          </p:nvGrpSpPr>
          <p:grpSpPr>
            <a:xfrm>
              <a:off x="6003720" y="5654880"/>
              <a:ext cx="110880" cy="86400"/>
              <a:chOff x="6003720" y="5654880"/>
              <a:chExt cx="110880" cy="86400"/>
            </a:xfrm>
          </p:grpSpPr>
          <p:sp>
            <p:nvSpPr>
              <p:cNvPr id="3868" name=""/>
              <p:cNvSpPr/>
              <p:nvPr/>
            </p:nvSpPr>
            <p:spPr>
              <a:xfrm>
                <a:off x="6015960" y="56548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 flipH="1">
                <a:off x="6003720" y="56548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0" name=""/>
            <p:cNvGrpSpPr/>
            <p:nvPr/>
          </p:nvGrpSpPr>
          <p:grpSpPr>
            <a:xfrm>
              <a:off x="5632920" y="5654880"/>
              <a:ext cx="111240" cy="86400"/>
              <a:chOff x="5632920" y="5654880"/>
              <a:chExt cx="111240" cy="86400"/>
            </a:xfrm>
          </p:grpSpPr>
          <p:sp>
            <p:nvSpPr>
              <p:cNvPr id="3871" name=""/>
              <p:cNvSpPr/>
              <p:nvPr/>
            </p:nvSpPr>
            <p:spPr>
              <a:xfrm>
                <a:off x="5645520" y="56548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 flipH="1">
                <a:off x="5632920" y="56548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3" name=""/>
            <p:cNvGrpSpPr/>
            <p:nvPr/>
          </p:nvGrpSpPr>
          <p:grpSpPr>
            <a:xfrm>
              <a:off x="6275520" y="5654880"/>
              <a:ext cx="110880" cy="86400"/>
              <a:chOff x="6275520" y="5654880"/>
              <a:chExt cx="110880" cy="86400"/>
            </a:xfrm>
          </p:grpSpPr>
          <p:sp>
            <p:nvSpPr>
              <p:cNvPr id="3874" name=""/>
              <p:cNvSpPr/>
              <p:nvPr/>
            </p:nvSpPr>
            <p:spPr>
              <a:xfrm>
                <a:off x="6287760" y="56548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 flipH="1">
                <a:off x="6275520" y="56548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6" name=""/>
            <p:cNvSpPr/>
            <p:nvPr/>
          </p:nvSpPr>
          <p:spPr>
            <a:xfrm>
              <a:off x="8491320" y="1784520"/>
              <a:ext cx="715680" cy="41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'C'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C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B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B'C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C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'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'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5355720" y="1414440"/>
              <a:ext cx="135756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another design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7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gnitude compar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0" name=""/>
          <p:cNvGrpSpPr/>
          <p:nvPr/>
        </p:nvGrpSpPr>
        <p:grpSpPr>
          <a:xfrm>
            <a:off x="692280" y="2025720"/>
            <a:ext cx="3714120" cy="3797280"/>
            <a:chOff x="692280" y="2025720"/>
            <a:chExt cx="3714120" cy="3797280"/>
          </a:xfrm>
        </p:grpSpPr>
        <p:sp>
          <p:nvSpPr>
            <p:cNvPr id="3881" name=""/>
            <p:cNvSpPr/>
            <p:nvPr/>
          </p:nvSpPr>
          <p:spPr>
            <a:xfrm>
              <a:off x="725400" y="2025720"/>
              <a:ext cx="3681000" cy="37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2476440" y="2057400"/>
              <a:ext cx="0" cy="37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692280" y="2279520"/>
              <a:ext cx="368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4" name=""/>
          <p:cNvSpPr/>
          <p:nvPr/>
        </p:nvSpPr>
        <p:spPr>
          <a:xfrm>
            <a:off x="241200" y="5854680"/>
            <a:ext cx="646452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imized fun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 = A’B’C’D’ + A’BC’D + ABCD + AB’CD’     NE = AC’ + A’C + B’D + BD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T = A’C + A’B’D + B’CD                            GT = AC’ + ABC + BC’D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03EB-3DAA-48A1-8F59-A5B99E955CF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8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 the following functions to the PLA below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= AB + A’C’ + B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ABC + AB’ + A’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ABC’ + BC + B’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"/>
          <p:cNvSpPr/>
          <p:nvPr/>
        </p:nvSpPr>
        <p:spPr>
          <a:xfrm>
            <a:off x="6108840" y="266688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>
            <a:off x="6108840" y="2971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 flipV="1">
            <a:off x="6102360" y="26607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>
            <a:off x="6267960" y="2681280"/>
            <a:ext cx="278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"/>
          <p:cNvSpPr/>
          <p:nvPr/>
        </p:nvSpPr>
        <p:spPr>
          <a:xfrm>
            <a:off x="6261840" y="267480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"/>
          <p:cNvSpPr/>
          <p:nvPr/>
        </p:nvSpPr>
        <p:spPr>
          <a:xfrm>
            <a:off x="6267600" y="266724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3" name=""/>
          <p:cNvSpPr/>
          <p:nvPr/>
        </p:nvSpPr>
        <p:spPr>
          <a:xfrm>
            <a:off x="6261480" y="266076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"/>
          <p:cNvSpPr/>
          <p:nvPr/>
        </p:nvSpPr>
        <p:spPr>
          <a:xfrm>
            <a:off x="4991040" y="281952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5" name=""/>
          <p:cNvSpPr/>
          <p:nvPr/>
        </p:nvSpPr>
        <p:spPr>
          <a:xfrm>
            <a:off x="6553080" y="281952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>
            <a:off x="6108840" y="303516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"/>
          <p:cNvSpPr/>
          <p:nvPr/>
        </p:nvSpPr>
        <p:spPr>
          <a:xfrm>
            <a:off x="6108840" y="33400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"/>
          <p:cNvSpPr/>
          <p:nvPr/>
        </p:nvSpPr>
        <p:spPr>
          <a:xfrm flipV="1">
            <a:off x="6102360" y="30290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9" name=""/>
          <p:cNvSpPr/>
          <p:nvPr/>
        </p:nvSpPr>
        <p:spPr>
          <a:xfrm>
            <a:off x="6267960" y="3049560"/>
            <a:ext cx="278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6261840" y="304308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>
            <a:off x="6267600" y="303552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>
            <a:off x="6261480" y="302904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>
            <a:off x="4991040" y="318780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>
            <a:off x="6553080" y="318780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>
            <a:off x="6108840" y="340344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>
            <a:off x="6108840" y="37083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 flipV="1">
            <a:off x="6102360" y="339732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"/>
          <p:cNvSpPr/>
          <p:nvPr/>
        </p:nvSpPr>
        <p:spPr>
          <a:xfrm>
            <a:off x="6267960" y="3417840"/>
            <a:ext cx="278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"/>
          <p:cNvSpPr/>
          <p:nvPr/>
        </p:nvSpPr>
        <p:spPr>
          <a:xfrm>
            <a:off x="6261840" y="341136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"/>
          <p:cNvSpPr/>
          <p:nvPr/>
        </p:nvSpPr>
        <p:spPr>
          <a:xfrm>
            <a:off x="6267600" y="340380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6261480" y="339732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4991040" y="355608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>
            <a:off x="6553080" y="355608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6108840" y="377208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>
            <a:off x="6108840" y="407664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 flipV="1">
            <a:off x="6102360" y="376560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>
            <a:off x="6267960" y="378612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>
            <a:off x="6261840" y="378000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>
            <a:off x="6267600" y="377208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6261480" y="376560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"/>
          <p:cNvSpPr/>
          <p:nvPr/>
        </p:nvSpPr>
        <p:spPr>
          <a:xfrm>
            <a:off x="4991040" y="392436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"/>
          <p:cNvSpPr/>
          <p:nvPr/>
        </p:nvSpPr>
        <p:spPr>
          <a:xfrm>
            <a:off x="6553080" y="392436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 flipH="1">
            <a:off x="5803920" y="25210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>
            <a:off x="5689440" y="2521080"/>
            <a:ext cx="1144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 flipH="1">
            <a:off x="5676480" y="25146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>
            <a:off x="5810400" y="2394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>
            <a:off x="5873760" y="2660760"/>
            <a:ext cx="0" cy="29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8" name=""/>
          <p:cNvSpPr/>
          <p:nvPr/>
        </p:nvSpPr>
        <p:spPr>
          <a:xfrm>
            <a:off x="5746680" y="2622600"/>
            <a:ext cx="0" cy="303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"/>
          <p:cNvSpPr/>
          <p:nvPr/>
        </p:nvSpPr>
        <p:spPr>
          <a:xfrm flipH="1">
            <a:off x="5511960" y="25210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"/>
          <p:cNvSpPr/>
          <p:nvPr/>
        </p:nvSpPr>
        <p:spPr>
          <a:xfrm>
            <a:off x="5397480" y="2521080"/>
            <a:ext cx="1144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 flipH="1">
            <a:off x="5384520" y="25146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>
            <a:off x="5518080" y="2394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>
            <a:off x="5581800" y="2660760"/>
            <a:ext cx="0" cy="29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>
            <a:off x="5454720" y="2610000"/>
            <a:ext cx="0" cy="30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 flipH="1">
            <a:off x="5219640" y="25210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5105520" y="2521080"/>
            <a:ext cx="11412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 flipH="1">
            <a:off x="5092200" y="25146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>
            <a:off x="5226120" y="2394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>
            <a:off x="5289480" y="2660760"/>
            <a:ext cx="0" cy="29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>
            <a:off x="5162400" y="2622600"/>
            <a:ext cx="0" cy="303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>
            <a:off x="6680520" y="5518080"/>
            <a:ext cx="26604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>
            <a:off x="6654600" y="5111640"/>
            <a:ext cx="291960" cy="95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>
            <a:off x="6669000" y="5162760"/>
            <a:ext cx="29196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>
            <a:off x="6669000" y="551808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>
            <a:off x="6800760" y="2622600"/>
            <a:ext cx="0" cy="300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>
            <a:off x="6800760" y="6064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>
            <a:off x="7048800" y="5518080"/>
            <a:ext cx="26604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"/>
          <p:cNvSpPr/>
          <p:nvPr/>
        </p:nvSpPr>
        <p:spPr>
          <a:xfrm>
            <a:off x="7022880" y="5111640"/>
            <a:ext cx="291960" cy="95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9" name=""/>
          <p:cNvSpPr/>
          <p:nvPr/>
        </p:nvSpPr>
        <p:spPr>
          <a:xfrm>
            <a:off x="7037280" y="5162760"/>
            <a:ext cx="29196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>
            <a:off x="7037280" y="551808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"/>
          <p:cNvSpPr/>
          <p:nvPr/>
        </p:nvSpPr>
        <p:spPr>
          <a:xfrm>
            <a:off x="7169040" y="2622600"/>
            <a:ext cx="0" cy="300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>
            <a:off x="7169040" y="6064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>
            <a:off x="7404120" y="5518080"/>
            <a:ext cx="26640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7378560" y="5111640"/>
            <a:ext cx="291960" cy="95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>
            <a:off x="7392960" y="5162760"/>
            <a:ext cx="29196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>
            <a:off x="7392960" y="551808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"/>
          <p:cNvSpPr/>
          <p:nvPr/>
        </p:nvSpPr>
        <p:spPr>
          <a:xfrm>
            <a:off x="7524720" y="2622600"/>
            <a:ext cx="0" cy="300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"/>
          <p:cNvSpPr/>
          <p:nvPr/>
        </p:nvSpPr>
        <p:spPr>
          <a:xfrm>
            <a:off x="7524720" y="6064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"/>
          <p:cNvSpPr/>
          <p:nvPr/>
        </p:nvSpPr>
        <p:spPr>
          <a:xfrm>
            <a:off x="5111640" y="2146320"/>
            <a:ext cx="546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"/>
          <p:cNvSpPr/>
          <p:nvPr/>
        </p:nvSpPr>
        <p:spPr>
          <a:xfrm>
            <a:off x="5416560" y="2146320"/>
            <a:ext cx="546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1" name=""/>
          <p:cNvSpPr/>
          <p:nvPr/>
        </p:nvSpPr>
        <p:spPr>
          <a:xfrm>
            <a:off x="5683320" y="2146320"/>
            <a:ext cx="558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"/>
          <p:cNvSpPr/>
          <p:nvPr/>
        </p:nvSpPr>
        <p:spPr>
          <a:xfrm>
            <a:off x="6108840" y="414036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"/>
          <p:cNvSpPr/>
          <p:nvPr/>
        </p:nvSpPr>
        <p:spPr>
          <a:xfrm>
            <a:off x="6108840" y="4444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"/>
          <p:cNvSpPr/>
          <p:nvPr/>
        </p:nvSpPr>
        <p:spPr>
          <a:xfrm flipV="1">
            <a:off x="6102360" y="413388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"/>
          <p:cNvSpPr/>
          <p:nvPr/>
        </p:nvSpPr>
        <p:spPr>
          <a:xfrm>
            <a:off x="6267960" y="415440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"/>
          <p:cNvSpPr/>
          <p:nvPr/>
        </p:nvSpPr>
        <p:spPr>
          <a:xfrm>
            <a:off x="6261840" y="414828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"/>
          <p:cNvSpPr/>
          <p:nvPr/>
        </p:nvSpPr>
        <p:spPr>
          <a:xfrm>
            <a:off x="6267600" y="414036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8" name=""/>
          <p:cNvSpPr/>
          <p:nvPr/>
        </p:nvSpPr>
        <p:spPr>
          <a:xfrm>
            <a:off x="6261480" y="413388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9" name=""/>
          <p:cNvSpPr/>
          <p:nvPr/>
        </p:nvSpPr>
        <p:spPr>
          <a:xfrm>
            <a:off x="4991040" y="429264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0" name=""/>
          <p:cNvSpPr/>
          <p:nvPr/>
        </p:nvSpPr>
        <p:spPr>
          <a:xfrm>
            <a:off x="6553080" y="429264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1" name=""/>
          <p:cNvSpPr/>
          <p:nvPr/>
        </p:nvSpPr>
        <p:spPr>
          <a:xfrm>
            <a:off x="6108840" y="450864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2" name=""/>
          <p:cNvSpPr/>
          <p:nvPr/>
        </p:nvSpPr>
        <p:spPr>
          <a:xfrm>
            <a:off x="6108840" y="4813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3" name=""/>
          <p:cNvSpPr/>
          <p:nvPr/>
        </p:nvSpPr>
        <p:spPr>
          <a:xfrm flipV="1">
            <a:off x="6102360" y="45021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4" name=""/>
          <p:cNvSpPr/>
          <p:nvPr/>
        </p:nvSpPr>
        <p:spPr>
          <a:xfrm>
            <a:off x="6267960" y="452268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5" name=""/>
          <p:cNvSpPr/>
          <p:nvPr/>
        </p:nvSpPr>
        <p:spPr>
          <a:xfrm>
            <a:off x="6261840" y="451656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6" name=""/>
          <p:cNvSpPr/>
          <p:nvPr/>
        </p:nvSpPr>
        <p:spPr>
          <a:xfrm>
            <a:off x="6267600" y="450864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7" name=""/>
          <p:cNvSpPr/>
          <p:nvPr/>
        </p:nvSpPr>
        <p:spPr>
          <a:xfrm>
            <a:off x="6261480" y="450216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8" name=""/>
          <p:cNvSpPr/>
          <p:nvPr/>
        </p:nvSpPr>
        <p:spPr>
          <a:xfrm>
            <a:off x="4991040" y="466092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9" name=""/>
          <p:cNvSpPr/>
          <p:nvPr/>
        </p:nvSpPr>
        <p:spPr>
          <a:xfrm>
            <a:off x="6553080" y="466092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0" name=""/>
          <p:cNvSpPr/>
          <p:nvPr/>
        </p:nvSpPr>
        <p:spPr>
          <a:xfrm>
            <a:off x="6108840" y="487692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1" name=""/>
          <p:cNvSpPr/>
          <p:nvPr/>
        </p:nvSpPr>
        <p:spPr>
          <a:xfrm>
            <a:off x="610884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2" name=""/>
          <p:cNvSpPr/>
          <p:nvPr/>
        </p:nvSpPr>
        <p:spPr>
          <a:xfrm flipV="1">
            <a:off x="6102360" y="48704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3" name=""/>
          <p:cNvSpPr/>
          <p:nvPr/>
        </p:nvSpPr>
        <p:spPr>
          <a:xfrm>
            <a:off x="6267960" y="489096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4" name=""/>
          <p:cNvSpPr/>
          <p:nvPr/>
        </p:nvSpPr>
        <p:spPr>
          <a:xfrm>
            <a:off x="6261840" y="488484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5" name=""/>
          <p:cNvSpPr/>
          <p:nvPr/>
        </p:nvSpPr>
        <p:spPr>
          <a:xfrm>
            <a:off x="6267600" y="487692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6" name=""/>
          <p:cNvSpPr/>
          <p:nvPr/>
        </p:nvSpPr>
        <p:spPr>
          <a:xfrm>
            <a:off x="6261480" y="487044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7" name=""/>
          <p:cNvSpPr/>
          <p:nvPr/>
        </p:nvSpPr>
        <p:spPr>
          <a:xfrm>
            <a:off x="4991040" y="502920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8" name=""/>
          <p:cNvSpPr/>
          <p:nvPr/>
        </p:nvSpPr>
        <p:spPr>
          <a:xfrm>
            <a:off x="6553080" y="502920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9" name=""/>
          <p:cNvSpPr/>
          <p:nvPr/>
        </p:nvSpPr>
        <p:spPr>
          <a:xfrm>
            <a:off x="5854680" y="263520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0" name=""/>
          <p:cNvSpPr/>
          <p:nvPr/>
        </p:nvSpPr>
        <p:spPr>
          <a:xfrm>
            <a:off x="5562720" y="263520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1" name=""/>
          <p:cNvSpPr/>
          <p:nvPr/>
        </p:nvSpPr>
        <p:spPr>
          <a:xfrm>
            <a:off x="5270400" y="263520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2" name=""/>
          <p:cNvSpPr/>
          <p:nvPr/>
        </p:nvSpPr>
        <p:spPr>
          <a:xfrm>
            <a:off x="6705720" y="6222960"/>
            <a:ext cx="6350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3" name=""/>
          <p:cNvSpPr/>
          <p:nvPr/>
        </p:nvSpPr>
        <p:spPr>
          <a:xfrm>
            <a:off x="7112160" y="6222960"/>
            <a:ext cx="634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4" name=""/>
          <p:cNvSpPr/>
          <p:nvPr/>
        </p:nvSpPr>
        <p:spPr>
          <a:xfrm>
            <a:off x="7480440" y="6222960"/>
            <a:ext cx="6350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854E-04FF-43F5-86D5-3485446C8A9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6000"/>
          </a:bodyPr>
          <a:p>
            <a:pPr marL="333720" indent="-333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terms won’t fit in a 7 term P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pply concensus theor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W to simplify to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= AB + A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terms wont’ fit in a 7 term P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 that AB = ABC + AB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ewrite W to reuse term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= ABC + ABC’ + A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it 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= ABC + ABC’ + A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ABC + AB’ + A’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ABC’ + BC + B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called technology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ipulating logic fun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at they can use availab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7" name=""/>
          <p:cNvGrpSpPr/>
          <p:nvPr/>
        </p:nvGrpSpPr>
        <p:grpSpPr>
          <a:xfrm>
            <a:off x="5098680" y="2438280"/>
            <a:ext cx="3524760" cy="3073680"/>
            <a:chOff x="5098680" y="2438280"/>
            <a:chExt cx="3524760" cy="3073680"/>
          </a:xfrm>
        </p:grpSpPr>
        <p:sp>
          <p:nvSpPr>
            <p:cNvPr id="3998" name=""/>
            <p:cNvSpPr/>
            <p:nvPr/>
          </p:nvSpPr>
          <p:spPr>
            <a:xfrm>
              <a:off x="7924680" y="2438280"/>
              <a:ext cx="698760" cy="30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’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9" name=""/>
            <p:cNvGrpSpPr/>
            <p:nvPr/>
          </p:nvGrpSpPr>
          <p:grpSpPr>
            <a:xfrm>
              <a:off x="5098680" y="2768760"/>
              <a:ext cx="828360" cy="2306520"/>
              <a:chOff x="5098680" y="2768760"/>
              <a:chExt cx="828360" cy="2306520"/>
            </a:xfrm>
          </p:grpSpPr>
          <p:grpSp>
            <p:nvGrpSpPr>
              <p:cNvPr id="4000" name=""/>
              <p:cNvGrpSpPr/>
              <p:nvPr/>
            </p:nvGrpSpPr>
            <p:grpSpPr>
              <a:xfrm>
                <a:off x="5105160" y="2768760"/>
                <a:ext cx="114120" cy="88920"/>
                <a:chOff x="5105160" y="2768760"/>
                <a:chExt cx="114120" cy="88920"/>
              </a:xfrm>
            </p:grpSpPr>
            <p:sp>
              <p:nvSpPr>
                <p:cNvPr id="4001" name=""/>
                <p:cNvSpPr/>
                <p:nvPr/>
              </p:nvSpPr>
              <p:spPr>
                <a:xfrm>
                  <a:off x="5118120" y="27687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2" name=""/>
                <p:cNvSpPr/>
                <p:nvPr/>
              </p:nvSpPr>
              <p:spPr>
                <a:xfrm flipH="1">
                  <a:off x="5105160" y="27687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3" name=""/>
              <p:cNvGrpSpPr/>
              <p:nvPr/>
            </p:nvGrpSpPr>
            <p:grpSpPr>
              <a:xfrm>
                <a:off x="5405040" y="2774880"/>
                <a:ext cx="114120" cy="88920"/>
                <a:chOff x="5405040" y="2774880"/>
                <a:chExt cx="114120" cy="88920"/>
              </a:xfrm>
            </p:grpSpPr>
            <p:sp>
              <p:nvSpPr>
                <p:cNvPr id="4004" name=""/>
                <p:cNvSpPr/>
                <p:nvPr/>
              </p:nvSpPr>
              <p:spPr>
                <a:xfrm>
                  <a:off x="5418000" y="2774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5" name=""/>
                <p:cNvSpPr/>
                <p:nvPr/>
              </p:nvSpPr>
              <p:spPr>
                <a:xfrm flipH="1">
                  <a:off x="5405040" y="2774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6" name=""/>
              <p:cNvGrpSpPr/>
              <p:nvPr/>
            </p:nvGrpSpPr>
            <p:grpSpPr>
              <a:xfrm>
                <a:off x="5684400" y="2787480"/>
                <a:ext cx="114120" cy="88920"/>
                <a:chOff x="5684400" y="2787480"/>
                <a:chExt cx="114120" cy="88920"/>
              </a:xfrm>
            </p:grpSpPr>
            <p:sp>
              <p:nvSpPr>
                <p:cNvPr id="4007" name=""/>
                <p:cNvSpPr/>
                <p:nvPr/>
              </p:nvSpPr>
              <p:spPr>
                <a:xfrm>
                  <a:off x="5697360" y="27874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8" name=""/>
                <p:cNvSpPr/>
                <p:nvPr/>
              </p:nvSpPr>
              <p:spPr>
                <a:xfrm flipH="1">
                  <a:off x="5684400" y="27874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9" name=""/>
              <p:cNvGrpSpPr/>
              <p:nvPr/>
            </p:nvGrpSpPr>
            <p:grpSpPr>
              <a:xfrm>
                <a:off x="5098680" y="3139920"/>
                <a:ext cx="114120" cy="88920"/>
                <a:chOff x="5098680" y="3139920"/>
                <a:chExt cx="114120" cy="88920"/>
              </a:xfrm>
            </p:grpSpPr>
            <p:sp>
              <p:nvSpPr>
                <p:cNvPr id="4010" name=""/>
                <p:cNvSpPr/>
                <p:nvPr/>
              </p:nvSpPr>
              <p:spPr>
                <a:xfrm>
                  <a:off x="5111640" y="3139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1" name=""/>
                <p:cNvSpPr/>
                <p:nvPr/>
              </p:nvSpPr>
              <p:spPr>
                <a:xfrm flipH="1">
                  <a:off x="5098680" y="3139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2" name=""/>
              <p:cNvGrpSpPr/>
              <p:nvPr/>
            </p:nvGrpSpPr>
            <p:grpSpPr>
              <a:xfrm>
                <a:off x="5379840" y="3139920"/>
                <a:ext cx="114120" cy="88920"/>
                <a:chOff x="5379840" y="3139920"/>
                <a:chExt cx="114120" cy="88920"/>
              </a:xfrm>
            </p:grpSpPr>
            <p:sp>
              <p:nvSpPr>
                <p:cNvPr id="4013" name=""/>
                <p:cNvSpPr/>
                <p:nvPr/>
              </p:nvSpPr>
              <p:spPr>
                <a:xfrm>
                  <a:off x="5392800" y="3139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4" name=""/>
                <p:cNvSpPr/>
                <p:nvPr/>
              </p:nvSpPr>
              <p:spPr>
                <a:xfrm flipH="1">
                  <a:off x="5379840" y="3139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5" name=""/>
              <p:cNvGrpSpPr/>
              <p:nvPr/>
            </p:nvGrpSpPr>
            <p:grpSpPr>
              <a:xfrm>
                <a:off x="5812920" y="3133800"/>
                <a:ext cx="114120" cy="88920"/>
                <a:chOff x="5812920" y="3133800"/>
                <a:chExt cx="114120" cy="88920"/>
              </a:xfrm>
            </p:grpSpPr>
            <p:sp>
              <p:nvSpPr>
                <p:cNvPr id="4016" name=""/>
                <p:cNvSpPr/>
                <p:nvPr/>
              </p:nvSpPr>
              <p:spPr>
                <a:xfrm>
                  <a:off x="5825880" y="3133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7" name=""/>
                <p:cNvSpPr/>
                <p:nvPr/>
              </p:nvSpPr>
              <p:spPr>
                <a:xfrm flipH="1">
                  <a:off x="5812920" y="3133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8" name=""/>
              <p:cNvGrpSpPr/>
              <p:nvPr/>
            </p:nvGrpSpPr>
            <p:grpSpPr>
              <a:xfrm>
                <a:off x="5239800" y="3535200"/>
                <a:ext cx="114120" cy="88920"/>
                <a:chOff x="5239800" y="3535200"/>
                <a:chExt cx="114120" cy="88920"/>
              </a:xfrm>
            </p:grpSpPr>
            <p:sp>
              <p:nvSpPr>
                <p:cNvPr id="4019" name=""/>
                <p:cNvSpPr/>
                <p:nvPr/>
              </p:nvSpPr>
              <p:spPr>
                <a:xfrm>
                  <a:off x="5252760" y="3535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0" name=""/>
                <p:cNvSpPr/>
                <p:nvPr/>
              </p:nvSpPr>
              <p:spPr>
                <a:xfrm flipH="1">
                  <a:off x="5239800" y="3535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1" name=""/>
              <p:cNvGrpSpPr/>
              <p:nvPr/>
            </p:nvGrpSpPr>
            <p:grpSpPr>
              <a:xfrm>
                <a:off x="5811480" y="3511440"/>
                <a:ext cx="114120" cy="88920"/>
                <a:chOff x="5811480" y="3511440"/>
                <a:chExt cx="114120" cy="88920"/>
              </a:xfrm>
            </p:grpSpPr>
            <p:sp>
              <p:nvSpPr>
                <p:cNvPr id="4022" name=""/>
                <p:cNvSpPr/>
                <p:nvPr/>
              </p:nvSpPr>
              <p:spPr>
                <a:xfrm>
                  <a:off x="5824440" y="35114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3" name=""/>
                <p:cNvSpPr/>
                <p:nvPr/>
              </p:nvSpPr>
              <p:spPr>
                <a:xfrm flipH="1">
                  <a:off x="5811480" y="35114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4" name=""/>
              <p:cNvGrpSpPr/>
              <p:nvPr/>
            </p:nvGrpSpPr>
            <p:grpSpPr>
              <a:xfrm>
                <a:off x="5105160" y="3890880"/>
                <a:ext cx="114120" cy="88920"/>
                <a:chOff x="5105160" y="3890880"/>
                <a:chExt cx="114120" cy="88920"/>
              </a:xfrm>
            </p:grpSpPr>
            <p:sp>
              <p:nvSpPr>
                <p:cNvPr id="4025" name=""/>
                <p:cNvSpPr/>
                <p:nvPr/>
              </p:nvSpPr>
              <p:spPr>
                <a:xfrm>
                  <a:off x="5118120" y="3890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6" name=""/>
                <p:cNvSpPr/>
                <p:nvPr/>
              </p:nvSpPr>
              <p:spPr>
                <a:xfrm flipH="1">
                  <a:off x="5105160" y="3890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7" name=""/>
              <p:cNvGrpSpPr/>
              <p:nvPr/>
            </p:nvGrpSpPr>
            <p:grpSpPr>
              <a:xfrm>
                <a:off x="5519520" y="3878280"/>
                <a:ext cx="114120" cy="88920"/>
                <a:chOff x="5519520" y="3878280"/>
                <a:chExt cx="114120" cy="88920"/>
              </a:xfrm>
            </p:grpSpPr>
            <p:sp>
              <p:nvSpPr>
                <p:cNvPr id="4028" name=""/>
                <p:cNvSpPr/>
                <p:nvPr/>
              </p:nvSpPr>
              <p:spPr>
                <a:xfrm>
                  <a:off x="5532480" y="38782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9" name=""/>
                <p:cNvSpPr/>
                <p:nvPr/>
              </p:nvSpPr>
              <p:spPr>
                <a:xfrm flipH="1">
                  <a:off x="5519520" y="38782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0" name=""/>
              <p:cNvGrpSpPr/>
              <p:nvPr/>
            </p:nvGrpSpPr>
            <p:grpSpPr>
              <a:xfrm>
                <a:off x="5225760" y="4230720"/>
                <a:ext cx="114120" cy="88920"/>
                <a:chOff x="5225760" y="4230720"/>
                <a:chExt cx="114120" cy="88920"/>
              </a:xfrm>
            </p:grpSpPr>
            <p:sp>
              <p:nvSpPr>
                <p:cNvPr id="4031" name=""/>
                <p:cNvSpPr/>
                <p:nvPr/>
              </p:nvSpPr>
              <p:spPr>
                <a:xfrm>
                  <a:off x="5238720" y="42307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2" name=""/>
                <p:cNvSpPr/>
                <p:nvPr/>
              </p:nvSpPr>
              <p:spPr>
                <a:xfrm flipH="1">
                  <a:off x="5225760" y="42307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3" name=""/>
              <p:cNvGrpSpPr/>
              <p:nvPr/>
            </p:nvGrpSpPr>
            <p:grpSpPr>
              <a:xfrm>
                <a:off x="5398560" y="4232160"/>
                <a:ext cx="114120" cy="88920"/>
                <a:chOff x="5398560" y="4232160"/>
                <a:chExt cx="114120" cy="88920"/>
              </a:xfrm>
            </p:grpSpPr>
            <p:sp>
              <p:nvSpPr>
                <p:cNvPr id="4034" name=""/>
                <p:cNvSpPr/>
                <p:nvPr/>
              </p:nvSpPr>
              <p:spPr>
                <a:xfrm>
                  <a:off x="5411520" y="42321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5" name=""/>
                <p:cNvSpPr/>
                <p:nvPr/>
              </p:nvSpPr>
              <p:spPr>
                <a:xfrm flipH="1">
                  <a:off x="5398560" y="42321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6" name=""/>
              <p:cNvGrpSpPr/>
              <p:nvPr/>
            </p:nvGrpSpPr>
            <p:grpSpPr>
              <a:xfrm>
                <a:off x="5373360" y="4610160"/>
                <a:ext cx="114120" cy="88920"/>
                <a:chOff x="5373360" y="4610160"/>
                <a:chExt cx="114120" cy="88920"/>
              </a:xfrm>
            </p:grpSpPr>
            <p:sp>
              <p:nvSpPr>
                <p:cNvPr id="4037" name=""/>
                <p:cNvSpPr/>
                <p:nvPr/>
              </p:nvSpPr>
              <p:spPr>
                <a:xfrm>
                  <a:off x="5386320" y="46101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8" name=""/>
                <p:cNvSpPr/>
                <p:nvPr/>
              </p:nvSpPr>
              <p:spPr>
                <a:xfrm flipH="1">
                  <a:off x="5373360" y="46101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9" name=""/>
              <p:cNvGrpSpPr/>
              <p:nvPr/>
            </p:nvGrpSpPr>
            <p:grpSpPr>
              <a:xfrm>
                <a:off x="5702040" y="4610160"/>
                <a:ext cx="114120" cy="88920"/>
                <a:chOff x="5702040" y="4610160"/>
                <a:chExt cx="114120" cy="88920"/>
              </a:xfrm>
            </p:grpSpPr>
            <p:sp>
              <p:nvSpPr>
                <p:cNvPr id="4040" name=""/>
                <p:cNvSpPr/>
                <p:nvPr/>
              </p:nvSpPr>
              <p:spPr>
                <a:xfrm>
                  <a:off x="5715000" y="46101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1" name=""/>
                <p:cNvSpPr/>
                <p:nvPr/>
              </p:nvSpPr>
              <p:spPr>
                <a:xfrm flipH="1">
                  <a:off x="5702040" y="46101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2" name=""/>
              <p:cNvGrpSpPr/>
              <p:nvPr/>
            </p:nvGrpSpPr>
            <p:grpSpPr>
              <a:xfrm>
                <a:off x="5530320" y="4986360"/>
                <a:ext cx="114120" cy="88920"/>
                <a:chOff x="5530320" y="4986360"/>
                <a:chExt cx="114120" cy="88920"/>
              </a:xfrm>
            </p:grpSpPr>
            <p:sp>
              <p:nvSpPr>
                <p:cNvPr id="4043" name=""/>
                <p:cNvSpPr/>
                <p:nvPr/>
              </p:nvSpPr>
              <p:spPr>
                <a:xfrm>
                  <a:off x="5543280" y="4986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4" name=""/>
                <p:cNvSpPr/>
                <p:nvPr/>
              </p:nvSpPr>
              <p:spPr>
                <a:xfrm flipH="1">
                  <a:off x="5530320" y="4986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5" name=""/>
              <p:cNvGrpSpPr/>
              <p:nvPr/>
            </p:nvGrpSpPr>
            <p:grpSpPr>
              <a:xfrm>
                <a:off x="5812920" y="4986360"/>
                <a:ext cx="114120" cy="88920"/>
                <a:chOff x="5812920" y="4986360"/>
                <a:chExt cx="114120" cy="88920"/>
              </a:xfrm>
            </p:grpSpPr>
            <p:sp>
              <p:nvSpPr>
                <p:cNvPr id="4046" name=""/>
                <p:cNvSpPr/>
                <p:nvPr/>
              </p:nvSpPr>
              <p:spPr>
                <a:xfrm>
                  <a:off x="5825880" y="4986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7" name=""/>
                <p:cNvSpPr/>
                <p:nvPr/>
              </p:nvSpPr>
              <p:spPr>
                <a:xfrm flipH="1">
                  <a:off x="5812920" y="4986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048" name=""/>
          <p:cNvGrpSpPr/>
          <p:nvPr/>
        </p:nvGrpSpPr>
        <p:grpSpPr>
          <a:xfrm>
            <a:off x="4991040" y="2146320"/>
            <a:ext cx="3530520" cy="4406760"/>
            <a:chOff x="4991040" y="2146320"/>
            <a:chExt cx="3530520" cy="4406760"/>
          </a:xfrm>
        </p:grpSpPr>
        <p:sp>
          <p:nvSpPr>
            <p:cNvPr id="4049" name=""/>
            <p:cNvSpPr/>
            <p:nvPr/>
          </p:nvSpPr>
          <p:spPr>
            <a:xfrm>
              <a:off x="6108840" y="26668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6108840" y="29718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 flipV="1">
              <a:off x="6102360" y="2660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6267960" y="268128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6261840" y="267480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6267600" y="26672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6261480" y="266076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4991040" y="28195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6553080" y="28195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6108840" y="30351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6108840" y="33400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 flipV="1">
              <a:off x="6102360" y="30290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6267960" y="30495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6261840" y="304308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6267600" y="30355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6261480" y="302904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4991040" y="31878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6553080" y="31878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6108840" y="34034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6108840" y="37083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 flipV="1">
              <a:off x="6102360" y="33973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6267960" y="34178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6261840" y="341136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6267600" y="34038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6261480" y="339732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4991040" y="355608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6553080" y="355608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6108840" y="37720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6108840" y="407664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 flipV="1">
              <a:off x="6102360" y="37656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6267960" y="37861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6261840" y="378000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6267600" y="37720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6261480" y="376560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4991040" y="392436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6553080" y="392436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 flipH="1">
              <a:off x="5803920" y="25210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5689440" y="252108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 flipH="1">
              <a:off x="5676480" y="25146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5810400" y="2394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5873760" y="266076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5746680" y="262260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 flipH="1">
              <a:off x="5511960" y="25210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5397480" y="252108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 flipH="1">
              <a:off x="5384520" y="25146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5518080" y="2394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5581800" y="266076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5454720" y="2610000"/>
              <a:ext cx="0" cy="30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 flipH="1">
              <a:off x="5219640" y="25210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5105520" y="252108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 flipH="1">
              <a:off x="5092200" y="25146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5226120" y="2394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5289480" y="266076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5162400" y="262260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6680520" y="551808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6654600" y="511164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6669000" y="516276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6669000" y="551808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6800760" y="262260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6800760" y="60642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7048800" y="551808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7022880" y="511164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7037280" y="516276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7037280" y="551808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7169040" y="262260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7169040" y="60642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7404120" y="551808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7378560" y="511164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7392960" y="516276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7392960" y="551808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7524720" y="262260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7524720" y="60642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5111640" y="214632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5416560" y="214632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5683320" y="214632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6108840" y="41403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6108840" y="444492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 flipV="1">
              <a:off x="6102360" y="41338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6267960" y="415440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6261840" y="414828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6267600" y="41403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6261480" y="413388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4991040" y="429264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6553080" y="429264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6108840" y="45086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6108840" y="48132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 flipV="1">
              <a:off x="6102360" y="45021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6267960" y="452268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6261840" y="451656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6267600" y="45086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6261480" y="450216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4991040" y="46609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6553080" y="46609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6108840" y="4876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6108840" y="51814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 flipV="1">
              <a:off x="6102360" y="4870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6267960" y="48909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6261840" y="488484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6267600" y="4876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6261480" y="487044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4991040" y="50292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6553080" y="50292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5854680" y="26352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5562720" y="26352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5270400" y="26352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6705720" y="622296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7112160" y="6222960"/>
              <a:ext cx="634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7480440" y="622296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7" name=""/>
          <p:cNvGrpSpPr/>
          <p:nvPr/>
        </p:nvGrpSpPr>
        <p:grpSpPr>
          <a:xfrm>
            <a:off x="6725880" y="2768760"/>
            <a:ext cx="858600" cy="2306520"/>
            <a:chOff x="6725880" y="2768760"/>
            <a:chExt cx="858600" cy="2306520"/>
          </a:xfrm>
        </p:grpSpPr>
        <p:grpSp>
          <p:nvGrpSpPr>
            <p:cNvPr id="4158" name=""/>
            <p:cNvGrpSpPr/>
            <p:nvPr/>
          </p:nvGrpSpPr>
          <p:grpSpPr>
            <a:xfrm>
              <a:off x="6738480" y="2779560"/>
              <a:ext cx="114120" cy="88920"/>
              <a:chOff x="6738480" y="2779560"/>
              <a:chExt cx="114120" cy="88920"/>
            </a:xfrm>
          </p:grpSpPr>
          <p:sp>
            <p:nvSpPr>
              <p:cNvPr id="4159" name=""/>
              <p:cNvSpPr/>
              <p:nvPr/>
            </p:nvSpPr>
            <p:spPr>
              <a:xfrm>
                <a:off x="6751440" y="27795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 flipH="1">
                <a:off x="6738480" y="27795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1" name=""/>
            <p:cNvGrpSpPr/>
            <p:nvPr/>
          </p:nvGrpSpPr>
          <p:grpSpPr>
            <a:xfrm>
              <a:off x="6725880" y="3144960"/>
              <a:ext cx="114120" cy="88920"/>
              <a:chOff x="6725880" y="3144960"/>
              <a:chExt cx="114120" cy="88920"/>
            </a:xfrm>
          </p:grpSpPr>
          <p:sp>
            <p:nvSpPr>
              <p:cNvPr id="4162" name=""/>
              <p:cNvSpPr/>
              <p:nvPr/>
            </p:nvSpPr>
            <p:spPr>
              <a:xfrm>
                <a:off x="6738840" y="3144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 flipH="1">
                <a:off x="6725880" y="3144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4" name=""/>
            <p:cNvGrpSpPr/>
            <p:nvPr/>
          </p:nvGrpSpPr>
          <p:grpSpPr>
            <a:xfrm>
              <a:off x="6751440" y="3524400"/>
              <a:ext cx="114120" cy="88920"/>
              <a:chOff x="6751440" y="3524400"/>
              <a:chExt cx="114120" cy="88920"/>
            </a:xfrm>
          </p:grpSpPr>
          <p:sp>
            <p:nvSpPr>
              <p:cNvPr id="4165" name=""/>
              <p:cNvSpPr/>
              <p:nvPr/>
            </p:nvSpPr>
            <p:spPr>
              <a:xfrm>
                <a:off x="6764400" y="35244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 flipH="1">
                <a:off x="6751440" y="35244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7" name=""/>
            <p:cNvGrpSpPr/>
            <p:nvPr/>
          </p:nvGrpSpPr>
          <p:grpSpPr>
            <a:xfrm>
              <a:off x="7105320" y="2768760"/>
              <a:ext cx="114120" cy="88920"/>
              <a:chOff x="7105320" y="2768760"/>
              <a:chExt cx="114120" cy="88920"/>
            </a:xfrm>
          </p:grpSpPr>
          <p:sp>
            <p:nvSpPr>
              <p:cNvPr id="4168" name=""/>
              <p:cNvSpPr/>
              <p:nvPr/>
            </p:nvSpPr>
            <p:spPr>
              <a:xfrm>
                <a:off x="7118280" y="2768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 flipH="1">
                <a:off x="7105320" y="27687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0" name=""/>
            <p:cNvGrpSpPr/>
            <p:nvPr/>
          </p:nvGrpSpPr>
          <p:grpSpPr>
            <a:xfrm>
              <a:off x="7105320" y="3890880"/>
              <a:ext cx="114120" cy="88920"/>
              <a:chOff x="7105320" y="3890880"/>
              <a:chExt cx="114120" cy="88920"/>
            </a:xfrm>
          </p:grpSpPr>
          <p:sp>
            <p:nvSpPr>
              <p:cNvPr id="4171" name=""/>
              <p:cNvSpPr/>
              <p:nvPr/>
            </p:nvSpPr>
            <p:spPr>
              <a:xfrm>
                <a:off x="7118280" y="38908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 flipH="1">
                <a:off x="7105320" y="38908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3" name=""/>
            <p:cNvGrpSpPr/>
            <p:nvPr/>
          </p:nvGrpSpPr>
          <p:grpSpPr>
            <a:xfrm>
              <a:off x="7103880" y="4243320"/>
              <a:ext cx="114120" cy="88920"/>
              <a:chOff x="7103880" y="4243320"/>
              <a:chExt cx="114120" cy="88920"/>
            </a:xfrm>
          </p:grpSpPr>
          <p:sp>
            <p:nvSpPr>
              <p:cNvPr id="4174" name=""/>
              <p:cNvSpPr/>
              <p:nvPr/>
            </p:nvSpPr>
            <p:spPr>
              <a:xfrm>
                <a:off x="7116840" y="4243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 flipH="1">
                <a:off x="7103880" y="42433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6" name=""/>
            <p:cNvGrpSpPr/>
            <p:nvPr/>
          </p:nvGrpSpPr>
          <p:grpSpPr>
            <a:xfrm>
              <a:off x="7468920" y="3144960"/>
              <a:ext cx="114120" cy="88920"/>
              <a:chOff x="7468920" y="3144960"/>
              <a:chExt cx="114120" cy="88920"/>
            </a:xfrm>
          </p:grpSpPr>
          <p:sp>
            <p:nvSpPr>
              <p:cNvPr id="4177" name=""/>
              <p:cNvSpPr/>
              <p:nvPr/>
            </p:nvSpPr>
            <p:spPr>
              <a:xfrm>
                <a:off x="7481880" y="3144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 flipH="1">
                <a:off x="7468920" y="3144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9" name=""/>
            <p:cNvGrpSpPr/>
            <p:nvPr/>
          </p:nvGrpSpPr>
          <p:grpSpPr>
            <a:xfrm>
              <a:off x="7470360" y="4633920"/>
              <a:ext cx="114120" cy="88920"/>
              <a:chOff x="7470360" y="4633920"/>
              <a:chExt cx="114120" cy="88920"/>
            </a:xfrm>
          </p:grpSpPr>
          <p:sp>
            <p:nvSpPr>
              <p:cNvPr id="4180" name=""/>
              <p:cNvSpPr/>
              <p:nvPr/>
            </p:nvSpPr>
            <p:spPr>
              <a:xfrm>
                <a:off x="7483320" y="4633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 flipH="1">
                <a:off x="7470360" y="4633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2" name=""/>
            <p:cNvGrpSpPr/>
            <p:nvPr/>
          </p:nvGrpSpPr>
          <p:grpSpPr>
            <a:xfrm>
              <a:off x="7470360" y="4986360"/>
              <a:ext cx="114120" cy="88920"/>
              <a:chOff x="7470360" y="4986360"/>
              <a:chExt cx="114120" cy="88920"/>
            </a:xfrm>
          </p:grpSpPr>
          <p:sp>
            <p:nvSpPr>
              <p:cNvPr id="4183" name=""/>
              <p:cNvSpPr/>
              <p:nvPr/>
            </p:nvSpPr>
            <p:spPr>
              <a:xfrm>
                <a:off x="7483320" y="49863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 flipH="1">
                <a:off x="7470360" y="49863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5" name=""/>
          <p:cNvSpPr/>
          <p:nvPr/>
        </p:nvSpPr>
        <p:spPr>
          <a:xfrm>
            <a:off x="331920" y="1509840"/>
            <a:ext cx="8692920" cy="509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8B67-B1A5-437E-B729-A9C7E3CE842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6" name=""/>
          <p:cNvSpPr/>
          <p:nvPr/>
        </p:nvSpPr>
        <p:spPr>
          <a:xfrm>
            <a:off x="4040280" y="3241800"/>
            <a:ext cx="1092240" cy="186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>
            <a:off x="4084560" y="4035600"/>
            <a:ext cx="838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418608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"/>
          <p:cNvSpPr/>
          <p:nvPr/>
        </p:nvSpPr>
        <p:spPr>
          <a:xfrm>
            <a:off x="433872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"/>
          <p:cNvSpPr/>
          <p:nvPr/>
        </p:nvSpPr>
        <p:spPr>
          <a:xfrm>
            <a:off x="450360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1" name=""/>
          <p:cNvSpPr/>
          <p:nvPr/>
        </p:nvSpPr>
        <p:spPr>
          <a:xfrm>
            <a:off x="465624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"/>
          <p:cNvSpPr/>
          <p:nvPr/>
        </p:nvSpPr>
        <p:spPr>
          <a:xfrm>
            <a:off x="480852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497376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3995640" y="5254560"/>
            <a:ext cx="1575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99"/>
              </a:lnSpc>
              <a:tabLst>
                <a:tab algn="l" pos="0"/>
                <a:tab algn="l" pos="939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299"/>
              </a:lnSpc>
              <a:tabLst>
                <a:tab algn="l" pos="0"/>
                <a:tab algn="l" pos="939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4643280" y="3349800"/>
            <a:ext cx="596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   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4757760" y="3235320"/>
            <a:ext cx="22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4897440" y="4746600"/>
            <a:ext cx="22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5132520" y="3463920"/>
            <a:ext cx="20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>
            <a:off x="5132520" y="4873680"/>
            <a:ext cx="20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5132520" y="3933720"/>
            <a:ext cx="20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5595840" y="338148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6002280" y="339408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>
            <a:off x="6396120" y="33940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>
            <a:off x="6802560" y="339408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>
            <a:off x="5132520" y="4352760"/>
            <a:ext cx="20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6" name=""/>
          <p:cNvGrpSpPr/>
          <p:nvPr/>
        </p:nvGrpSpPr>
        <p:grpSpPr>
          <a:xfrm>
            <a:off x="5310000" y="3914640"/>
            <a:ext cx="292320" cy="374760"/>
            <a:chOff x="5310000" y="3914640"/>
            <a:chExt cx="292320" cy="374760"/>
          </a:xfrm>
        </p:grpSpPr>
        <p:sp>
          <p:nvSpPr>
            <p:cNvPr id="4207" name=""/>
            <p:cNvSpPr/>
            <p:nvPr/>
          </p:nvSpPr>
          <p:spPr>
            <a:xfrm flipH="1">
              <a:off x="5488200" y="39974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5481720" y="400356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 flipH="1">
              <a:off x="5398920" y="40860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 flipH="1">
              <a:off x="5411880" y="41749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5405400" y="4092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2" name=""/>
            <p:cNvGrpSpPr/>
            <p:nvPr/>
          </p:nvGrpSpPr>
          <p:grpSpPr>
            <a:xfrm>
              <a:off x="5399280" y="4181400"/>
              <a:ext cx="152280" cy="108000"/>
              <a:chOff x="5399280" y="4181400"/>
              <a:chExt cx="152280" cy="108000"/>
            </a:xfrm>
          </p:grpSpPr>
          <p:sp>
            <p:nvSpPr>
              <p:cNvPr id="4213" name=""/>
              <p:cNvSpPr/>
              <p:nvPr/>
            </p:nvSpPr>
            <p:spPr>
              <a:xfrm>
                <a:off x="5399280" y="422604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5424480" y="4251240"/>
                <a:ext cx="10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5462640" y="4289400"/>
                <a:ext cx="2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5481720" y="42004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5481720" y="418140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8" name=""/>
            <p:cNvSpPr/>
            <p:nvPr/>
          </p:nvSpPr>
          <p:spPr>
            <a:xfrm>
              <a:off x="5367600" y="4092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 flipH="1">
              <a:off x="5310000" y="41115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 flipV="1">
              <a:off x="5316840" y="3927240"/>
              <a:ext cx="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5310360" y="3914640"/>
              <a:ext cx="3816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5589720" y="3990960"/>
              <a:ext cx="126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3" name=""/>
          <p:cNvGrpSpPr/>
          <p:nvPr/>
        </p:nvGrpSpPr>
        <p:grpSpPr>
          <a:xfrm>
            <a:off x="5703840" y="3914640"/>
            <a:ext cx="304920" cy="374760"/>
            <a:chOff x="5703840" y="3914640"/>
            <a:chExt cx="304920" cy="374760"/>
          </a:xfrm>
        </p:grpSpPr>
        <p:sp>
          <p:nvSpPr>
            <p:cNvPr id="4224" name=""/>
            <p:cNvSpPr/>
            <p:nvPr/>
          </p:nvSpPr>
          <p:spPr>
            <a:xfrm flipH="1">
              <a:off x="5881320" y="399744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5875560" y="400356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 flipH="1">
              <a:off x="5805360" y="40860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 flipH="1">
              <a:off x="5818320" y="41749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5811840" y="4092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9" name=""/>
            <p:cNvGrpSpPr/>
            <p:nvPr/>
          </p:nvGrpSpPr>
          <p:grpSpPr>
            <a:xfrm>
              <a:off x="5792760" y="4181400"/>
              <a:ext cx="165240" cy="108000"/>
              <a:chOff x="5792760" y="4181400"/>
              <a:chExt cx="165240" cy="108000"/>
            </a:xfrm>
          </p:grpSpPr>
          <p:sp>
            <p:nvSpPr>
              <p:cNvPr id="4230" name=""/>
              <p:cNvSpPr/>
              <p:nvPr/>
            </p:nvSpPr>
            <p:spPr>
              <a:xfrm>
                <a:off x="5792760" y="4226040"/>
                <a:ext cx="16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5830920" y="4251240"/>
                <a:ext cx="8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5869080" y="4289400"/>
                <a:ext cx="1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5875560" y="42004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5875560" y="418140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5" name=""/>
            <p:cNvSpPr/>
            <p:nvPr/>
          </p:nvSpPr>
          <p:spPr>
            <a:xfrm>
              <a:off x="5774040" y="4092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 flipH="1">
              <a:off x="5716800" y="41115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 flipV="1">
              <a:off x="5722920" y="3927240"/>
              <a:ext cx="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5703840" y="3914640"/>
              <a:ext cx="3816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5983560" y="3990960"/>
              <a:ext cx="252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0" name=""/>
          <p:cNvGrpSpPr/>
          <p:nvPr/>
        </p:nvGrpSpPr>
        <p:grpSpPr>
          <a:xfrm>
            <a:off x="5703840" y="4346640"/>
            <a:ext cx="304920" cy="374400"/>
            <a:chOff x="5703840" y="4346640"/>
            <a:chExt cx="304920" cy="374400"/>
          </a:xfrm>
        </p:grpSpPr>
        <p:sp>
          <p:nvSpPr>
            <p:cNvPr id="4241" name=""/>
            <p:cNvSpPr/>
            <p:nvPr/>
          </p:nvSpPr>
          <p:spPr>
            <a:xfrm flipH="1">
              <a:off x="5881320" y="442908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5875560" y="44355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 flipH="1">
              <a:off x="5805360" y="4530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 flipH="1">
              <a:off x="5818320" y="45943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5811840" y="45370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6" name=""/>
            <p:cNvGrpSpPr/>
            <p:nvPr/>
          </p:nvGrpSpPr>
          <p:grpSpPr>
            <a:xfrm>
              <a:off x="5792760" y="4600440"/>
              <a:ext cx="165240" cy="120600"/>
              <a:chOff x="5792760" y="4600440"/>
              <a:chExt cx="165240" cy="120600"/>
            </a:xfrm>
          </p:grpSpPr>
          <p:sp>
            <p:nvSpPr>
              <p:cNvPr id="4247" name=""/>
              <p:cNvSpPr/>
              <p:nvPr/>
            </p:nvSpPr>
            <p:spPr>
              <a:xfrm>
                <a:off x="5792760" y="4657680"/>
                <a:ext cx="16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5830920" y="4683240"/>
                <a:ext cx="8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5869080" y="4721040"/>
                <a:ext cx="1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5875560" y="46321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5875560" y="4600440"/>
                <a:ext cx="0" cy="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2" name=""/>
            <p:cNvSpPr/>
            <p:nvPr/>
          </p:nvSpPr>
          <p:spPr>
            <a:xfrm>
              <a:off x="5774040" y="452448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 flipH="1">
              <a:off x="5716800" y="4543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 flipV="1">
              <a:off x="5722920" y="434664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5703840" y="4346640"/>
              <a:ext cx="3816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5983560" y="4422600"/>
              <a:ext cx="252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7" name=""/>
          <p:cNvGrpSpPr/>
          <p:nvPr/>
        </p:nvGrpSpPr>
        <p:grpSpPr>
          <a:xfrm>
            <a:off x="6504120" y="4346640"/>
            <a:ext cx="304200" cy="374400"/>
            <a:chOff x="6504120" y="4346640"/>
            <a:chExt cx="304200" cy="374400"/>
          </a:xfrm>
        </p:grpSpPr>
        <p:sp>
          <p:nvSpPr>
            <p:cNvPr id="4258" name=""/>
            <p:cNvSpPr/>
            <p:nvPr/>
          </p:nvSpPr>
          <p:spPr>
            <a:xfrm flipH="1">
              <a:off x="6681240" y="44290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6675120" y="44355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 flipH="1">
              <a:off x="6604920" y="4530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 flipH="1">
              <a:off x="6617880" y="45943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6611760" y="45370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3" name=""/>
            <p:cNvGrpSpPr/>
            <p:nvPr/>
          </p:nvGrpSpPr>
          <p:grpSpPr>
            <a:xfrm>
              <a:off x="6592680" y="4600440"/>
              <a:ext cx="164880" cy="120600"/>
              <a:chOff x="6592680" y="4600440"/>
              <a:chExt cx="164880" cy="120600"/>
            </a:xfrm>
          </p:grpSpPr>
          <p:sp>
            <p:nvSpPr>
              <p:cNvPr id="4264" name=""/>
              <p:cNvSpPr/>
              <p:nvPr/>
            </p:nvSpPr>
            <p:spPr>
              <a:xfrm>
                <a:off x="6592680" y="465768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6630480" y="4683240"/>
                <a:ext cx="8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6668640" y="4721040"/>
                <a:ext cx="12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6674760" y="46321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6674760" y="4600440"/>
                <a:ext cx="0" cy="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9" name=""/>
            <p:cNvSpPr/>
            <p:nvPr/>
          </p:nvSpPr>
          <p:spPr>
            <a:xfrm>
              <a:off x="6573600" y="452448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 flipH="1">
              <a:off x="6516000" y="454320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 flipV="1">
              <a:off x="6522840" y="434664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6504120" y="4346640"/>
              <a:ext cx="3780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6783120" y="4422600"/>
              <a:ext cx="252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4" name=""/>
          <p:cNvGrpSpPr/>
          <p:nvPr/>
        </p:nvGrpSpPr>
        <p:grpSpPr>
          <a:xfrm>
            <a:off x="5392800" y="2625840"/>
            <a:ext cx="368280" cy="806040"/>
            <a:chOff x="5392800" y="2625840"/>
            <a:chExt cx="368280" cy="806040"/>
          </a:xfrm>
        </p:grpSpPr>
        <p:sp>
          <p:nvSpPr>
            <p:cNvPr id="4275" name=""/>
            <p:cNvSpPr/>
            <p:nvPr/>
          </p:nvSpPr>
          <p:spPr>
            <a:xfrm>
              <a:off x="5392800" y="2625840"/>
              <a:ext cx="368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5596200" y="291132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7" name=""/>
            <p:cNvGrpSpPr/>
            <p:nvPr/>
          </p:nvGrpSpPr>
          <p:grpSpPr>
            <a:xfrm>
              <a:off x="5513400" y="2797200"/>
              <a:ext cx="165240" cy="101520"/>
              <a:chOff x="5513400" y="2797200"/>
              <a:chExt cx="165240" cy="101520"/>
            </a:xfrm>
          </p:grpSpPr>
          <p:sp>
            <p:nvSpPr>
              <p:cNvPr id="4278" name=""/>
              <p:cNvSpPr/>
              <p:nvPr/>
            </p:nvSpPr>
            <p:spPr>
              <a:xfrm>
                <a:off x="5513400" y="2892240"/>
                <a:ext cx="16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 flipV="1">
                <a:off x="5513400" y="2797200"/>
                <a:ext cx="7632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5602320" y="2809800"/>
                <a:ext cx="7632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1" name=""/>
            <p:cNvSpPr/>
            <p:nvPr/>
          </p:nvSpPr>
          <p:spPr>
            <a:xfrm flipV="1">
              <a:off x="5596200" y="3330000"/>
              <a:ext cx="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 flipV="1">
              <a:off x="5602320" y="3317400"/>
              <a:ext cx="381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 flipH="1" flipV="1">
              <a:off x="5538600" y="326700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 flipV="1">
              <a:off x="5551560" y="321624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 flipH="1" flipV="1">
              <a:off x="5538600" y="316548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 flipV="1">
              <a:off x="5551560" y="311472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 flipH="1" flipV="1">
              <a:off x="5538600" y="306396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 flipV="1">
              <a:off x="5551560" y="3025440"/>
              <a:ext cx="381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 flipV="1">
              <a:off x="5596200" y="2987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0" name=""/>
          <p:cNvGrpSpPr/>
          <p:nvPr/>
        </p:nvGrpSpPr>
        <p:grpSpPr>
          <a:xfrm>
            <a:off x="5799240" y="2625840"/>
            <a:ext cx="368280" cy="806040"/>
            <a:chOff x="5799240" y="2625840"/>
            <a:chExt cx="368280" cy="806040"/>
          </a:xfrm>
        </p:grpSpPr>
        <p:sp>
          <p:nvSpPr>
            <p:cNvPr id="4291" name=""/>
            <p:cNvSpPr/>
            <p:nvPr/>
          </p:nvSpPr>
          <p:spPr>
            <a:xfrm>
              <a:off x="5799240" y="2625840"/>
              <a:ext cx="368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6002640" y="291132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3" name=""/>
            <p:cNvGrpSpPr/>
            <p:nvPr/>
          </p:nvGrpSpPr>
          <p:grpSpPr>
            <a:xfrm>
              <a:off x="5919840" y="2797200"/>
              <a:ext cx="152640" cy="101520"/>
              <a:chOff x="5919840" y="2797200"/>
              <a:chExt cx="152640" cy="101520"/>
            </a:xfrm>
          </p:grpSpPr>
          <p:sp>
            <p:nvSpPr>
              <p:cNvPr id="4294" name=""/>
              <p:cNvSpPr/>
              <p:nvPr/>
            </p:nvSpPr>
            <p:spPr>
              <a:xfrm>
                <a:off x="5919840" y="2892240"/>
                <a:ext cx="152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 flipV="1">
                <a:off x="5919840" y="2797200"/>
                <a:ext cx="7632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6008760" y="2809800"/>
                <a:ext cx="6372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7" name=""/>
            <p:cNvSpPr/>
            <p:nvPr/>
          </p:nvSpPr>
          <p:spPr>
            <a:xfrm flipV="1">
              <a:off x="6002640" y="3330000"/>
              <a:ext cx="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 flipV="1">
              <a:off x="6008760" y="3317400"/>
              <a:ext cx="381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 flipH="1" flipV="1">
              <a:off x="5945040" y="326700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 flipV="1">
              <a:off x="5958000" y="321624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 flipH="1" flipV="1">
              <a:off x="5945040" y="316548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 flipV="1">
              <a:off x="5958000" y="311472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 flipH="1" flipV="1">
              <a:off x="5945040" y="306396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 flipV="1">
              <a:off x="5958000" y="3025440"/>
              <a:ext cx="381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 flipV="1">
              <a:off x="6002640" y="2987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6" name=""/>
          <p:cNvGrpSpPr/>
          <p:nvPr/>
        </p:nvGrpSpPr>
        <p:grpSpPr>
          <a:xfrm>
            <a:off x="6192720" y="2625840"/>
            <a:ext cx="368280" cy="806040"/>
            <a:chOff x="6192720" y="2625840"/>
            <a:chExt cx="368280" cy="806040"/>
          </a:xfrm>
        </p:grpSpPr>
        <p:sp>
          <p:nvSpPr>
            <p:cNvPr id="4307" name=""/>
            <p:cNvSpPr/>
            <p:nvPr/>
          </p:nvSpPr>
          <p:spPr>
            <a:xfrm>
              <a:off x="6192720" y="2625840"/>
              <a:ext cx="368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6395760" y="291132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9" name=""/>
            <p:cNvGrpSpPr/>
            <p:nvPr/>
          </p:nvGrpSpPr>
          <p:grpSpPr>
            <a:xfrm>
              <a:off x="6313320" y="2797200"/>
              <a:ext cx="164880" cy="101520"/>
              <a:chOff x="6313320" y="2797200"/>
              <a:chExt cx="164880" cy="101520"/>
            </a:xfrm>
          </p:grpSpPr>
          <p:sp>
            <p:nvSpPr>
              <p:cNvPr id="4310" name=""/>
              <p:cNvSpPr/>
              <p:nvPr/>
            </p:nvSpPr>
            <p:spPr>
              <a:xfrm>
                <a:off x="6313320" y="289224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 flipV="1">
                <a:off x="6313320" y="2797200"/>
                <a:ext cx="7596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6402240" y="2809800"/>
                <a:ext cx="7596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3" name=""/>
            <p:cNvSpPr/>
            <p:nvPr/>
          </p:nvSpPr>
          <p:spPr>
            <a:xfrm flipV="1">
              <a:off x="6395760" y="3330000"/>
              <a:ext cx="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 flipV="1">
              <a:off x="6402240" y="3317400"/>
              <a:ext cx="381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 flipH="1" flipV="1">
              <a:off x="6338520" y="326700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 flipV="1">
              <a:off x="6351480" y="321624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 flipH="1" flipV="1">
              <a:off x="6338520" y="316548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 flipV="1">
              <a:off x="6351480" y="311472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 flipH="1" flipV="1">
              <a:off x="6338520" y="306396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 flipV="1">
              <a:off x="6351480" y="3025440"/>
              <a:ext cx="378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 flipV="1">
              <a:off x="6395760" y="2987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2" name=""/>
          <p:cNvGrpSpPr/>
          <p:nvPr/>
        </p:nvGrpSpPr>
        <p:grpSpPr>
          <a:xfrm>
            <a:off x="6599160" y="2625840"/>
            <a:ext cx="368280" cy="806040"/>
            <a:chOff x="6599160" y="2625840"/>
            <a:chExt cx="368280" cy="806040"/>
          </a:xfrm>
        </p:grpSpPr>
        <p:sp>
          <p:nvSpPr>
            <p:cNvPr id="4323" name=""/>
            <p:cNvSpPr/>
            <p:nvPr/>
          </p:nvSpPr>
          <p:spPr>
            <a:xfrm>
              <a:off x="6599160" y="2625840"/>
              <a:ext cx="368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6802200" y="291132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5" name=""/>
            <p:cNvGrpSpPr/>
            <p:nvPr/>
          </p:nvGrpSpPr>
          <p:grpSpPr>
            <a:xfrm>
              <a:off x="6719760" y="2797200"/>
              <a:ext cx="164880" cy="101520"/>
              <a:chOff x="6719760" y="2797200"/>
              <a:chExt cx="164880" cy="101520"/>
            </a:xfrm>
          </p:grpSpPr>
          <p:sp>
            <p:nvSpPr>
              <p:cNvPr id="4326" name=""/>
              <p:cNvSpPr/>
              <p:nvPr/>
            </p:nvSpPr>
            <p:spPr>
              <a:xfrm>
                <a:off x="6719760" y="289224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 flipV="1">
                <a:off x="6719760" y="2797200"/>
                <a:ext cx="7596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6808680" y="2809800"/>
                <a:ext cx="7596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9" name=""/>
            <p:cNvSpPr/>
            <p:nvPr/>
          </p:nvSpPr>
          <p:spPr>
            <a:xfrm flipV="1">
              <a:off x="6802200" y="3330000"/>
              <a:ext cx="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 flipV="1">
              <a:off x="6808680" y="3317400"/>
              <a:ext cx="3780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 flipH="1" flipV="1">
              <a:off x="6744960" y="326700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 flipV="1">
              <a:off x="6757920" y="3216240"/>
              <a:ext cx="885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 flipH="1" flipV="1">
              <a:off x="6744960" y="316548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 flipV="1">
              <a:off x="6757920" y="3114720"/>
              <a:ext cx="885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 flipH="1" flipV="1">
              <a:off x="6744960" y="306396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 flipV="1">
              <a:off x="6757920" y="3025440"/>
              <a:ext cx="378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 flipV="1">
              <a:off x="6802200" y="2987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8" name=""/>
          <p:cNvSpPr/>
          <p:nvPr/>
        </p:nvSpPr>
        <p:spPr>
          <a:xfrm>
            <a:off x="7500960" y="3794040"/>
            <a:ext cx="16254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ord[i] = 0011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ord[j] = 1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"/>
          <p:cNvSpPr/>
          <p:nvPr/>
        </p:nvSpPr>
        <p:spPr>
          <a:xfrm>
            <a:off x="5786280" y="5775480"/>
            <a:ext cx="34164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it lines (normally pulled to 1 through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istor – selectively connected to 0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y word line controlled switch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0" name=""/>
          <p:cNvSpPr/>
          <p:nvPr/>
        </p:nvSpPr>
        <p:spPr>
          <a:xfrm>
            <a:off x="4897440" y="4213080"/>
            <a:ext cx="1904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1" name=""/>
          <p:cNvSpPr/>
          <p:nvPr/>
        </p:nvSpPr>
        <p:spPr>
          <a:xfrm>
            <a:off x="4910040" y="3794040"/>
            <a:ext cx="190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2" name=""/>
          <p:cNvSpPr/>
          <p:nvPr/>
        </p:nvSpPr>
        <p:spPr>
          <a:xfrm>
            <a:off x="1957320" y="4749840"/>
            <a:ext cx="2324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nal 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"/>
          <p:cNvSpPr/>
          <p:nvPr/>
        </p:nvSpPr>
        <p:spPr>
          <a:xfrm>
            <a:off x="5614920" y="5184720"/>
            <a:ext cx="1625760" cy="558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>
            <a:off x="6059520" y="5197320"/>
            <a:ext cx="1193760" cy="559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>
            <a:off x="6440400" y="5197320"/>
            <a:ext cx="825480" cy="559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>
            <a:off x="6846840" y="5210280"/>
            <a:ext cx="406440" cy="54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 flipV="1">
            <a:off x="7202520" y="2327400"/>
            <a:ext cx="546120" cy="111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"/>
          <p:cNvSpPr/>
          <p:nvPr/>
        </p:nvSpPr>
        <p:spPr>
          <a:xfrm flipV="1">
            <a:off x="7202520" y="2327400"/>
            <a:ext cx="546120" cy="1612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"/>
          <p:cNvSpPr/>
          <p:nvPr/>
        </p:nvSpPr>
        <p:spPr>
          <a:xfrm flipV="1">
            <a:off x="7215120" y="2352600"/>
            <a:ext cx="520920" cy="198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0" name=""/>
          <p:cNvSpPr/>
          <p:nvPr/>
        </p:nvSpPr>
        <p:spPr>
          <a:xfrm flipV="1">
            <a:off x="7215120" y="2327400"/>
            <a:ext cx="533520" cy="252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1" name=""/>
          <p:cNvSpPr/>
          <p:nvPr/>
        </p:nvSpPr>
        <p:spPr>
          <a:xfrm>
            <a:off x="7107120" y="1660680"/>
            <a:ext cx="20192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ord lines (only on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s active – decoder i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ust right for th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ad-only memor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dimensional array of 1s and 0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(row) is called a "word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th of row = word-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 is called an "addres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is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word i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E8F1-F113-43B7-9C5D-06A663CBC7A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4" name=""/>
          <p:cNvSpPr/>
          <p:nvPr/>
        </p:nvSpPr>
        <p:spPr>
          <a:xfrm>
            <a:off x="2781360" y="2462040"/>
            <a:ext cx="3708360" cy="16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0 = A' B' C  +  A B' C'  +  A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1 = A' B' C  +  A' B C'  +  A B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2 = A' B' C'  +  A' B' C  +  A B'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3 = A' B C  +  A B' C'  + A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5" name=""/>
          <p:cNvGrpSpPr/>
          <p:nvPr/>
        </p:nvGrpSpPr>
        <p:grpSpPr>
          <a:xfrm>
            <a:off x="1504800" y="4278240"/>
            <a:ext cx="2279880" cy="2361960"/>
            <a:chOff x="1504800" y="4278240"/>
            <a:chExt cx="2279880" cy="2361960"/>
          </a:xfrm>
        </p:grpSpPr>
        <p:sp>
          <p:nvSpPr>
            <p:cNvPr id="4356" name=""/>
            <p:cNvSpPr/>
            <p:nvPr/>
          </p:nvSpPr>
          <p:spPr>
            <a:xfrm>
              <a:off x="1828800" y="6246720"/>
              <a:ext cx="13971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ruth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1562040" y="4278240"/>
              <a:ext cx="2222640" cy="19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1504800" y="4506840"/>
              <a:ext cx="21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2222640" y="4297320"/>
              <a:ext cx="0" cy="18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0" name=""/>
          <p:cNvGrpSpPr/>
          <p:nvPr/>
        </p:nvGrpSpPr>
        <p:grpSpPr>
          <a:xfrm>
            <a:off x="5460840" y="4348080"/>
            <a:ext cx="2121120" cy="2292120"/>
            <a:chOff x="5460840" y="4348080"/>
            <a:chExt cx="2121120" cy="2292120"/>
          </a:xfrm>
        </p:grpSpPr>
        <p:sp>
          <p:nvSpPr>
            <p:cNvPr id="4361" name=""/>
            <p:cNvSpPr/>
            <p:nvPr/>
          </p:nvSpPr>
          <p:spPr>
            <a:xfrm>
              <a:off x="5689440" y="6246720"/>
              <a:ext cx="17654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lock dia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5492880" y="4348080"/>
              <a:ext cx="2057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 flipV="1">
              <a:off x="5715000" y="5249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 flipV="1">
              <a:off x="5943600" y="5249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 flipV="1">
              <a:off x="6172200" y="5249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6629400" y="5262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6858000" y="5262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7086600" y="5262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7315200" y="5262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5575320" y="4481280"/>
              <a:ext cx="18669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M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 words x 4 bits/wo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5460840" y="5929200"/>
              <a:ext cx="10796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6477120" y="5929200"/>
              <a:ext cx="1015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5575320" y="5687640"/>
              <a:ext cx="20066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OMs and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 logic implementation (two-level canonical form) using a R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F60D-4A67-415B-8196-634E76DF228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OM struct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ilar to a PLA structure but with a fully decoded AND arr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ly flexible OR array (unlike P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"/>
          <p:cNvSpPr/>
          <p:nvPr/>
        </p:nvSpPr>
        <p:spPr>
          <a:xfrm>
            <a:off x="1982880" y="3370320"/>
            <a:ext cx="5727600" cy="231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9" name=""/>
          <p:cNvGrpSpPr/>
          <p:nvPr/>
        </p:nvGrpSpPr>
        <p:grpSpPr>
          <a:xfrm>
            <a:off x="2236680" y="2700360"/>
            <a:ext cx="2019240" cy="2587680"/>
            <a:chOff x="2236680" y="2700360"/>
            <a:chExt cx="2019240" cy="2587680"/>
          </a:xfrm>
        </p:grpSpPr>
        <p:sp>
          <p:nvSpPr>
            <p:cNvPr id="4380" name=""/>
            <p:cNvSpPr/>
            <p:nvPr/>
          </p:nvSpPr>
          <p:spPr>
            <a:xfrm>
              <a:off x="2236680" y="2700360"/>
              <a:ext cx="20192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 address li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1" name=""/>
            <p:cNvGrpSpPr/>
            <p:nvPr/>
          </p:nvGrpSpPr>
          <p:grpSpPr>
            <a:xfrm>
              <a:off x="2395440" y="3033720"/>
              <a:ext cx="1600200" cy="2254320"/>
              <a:chOff x="2395440" y="3033720"/>
              <a:chExt cx="1600200" cy="2254320"/>
            </a:xfrm>
          </p:grpSpPr>
          <p:sp>
            <p:nvSpPr>
              <p:cNvPr id="4382" name=""/>
              <p:cNvSpPr/>
              <p:nvPr/>
            </p:nvSpPr>
            <p:spPr>
              <a:xfrm>
                <a:off x="2395440" y="3840120"/>
                <a:ext cx="1600200" cy="144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2890800" y="3033720"/>
                <a:ext cx="8762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•   •   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2840040" y="3363840"/>
                <a:ext cx="927000" cy="66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spcAft>
                    <a:spcPts val="20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inpu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2674800" y="4351320"/>
                <a:ext cx="1092240" cy="56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spcAft>
                    <a:spcPts val="20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ecod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3843360" y="3078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2852640" y="3078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2548080" y="3078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89" name=""/>
          <p:cNvGrpSpPr/>
          <p:nvPr/>
        </p:nvGrpSpPr>
        <p:grpSpPr>
          <a:xfrm>
            <a:off x="3995640" y="4068720"/>
            <a:ext cx="1676160" cy="1263600"/>
            <a:chOff x="3995640" y="4068720"/>
            <a:chExt cx="1676160" cy="1263600"/>
          </a:xfrm>
        </p:grpSpPr>
        <p:sp>
          <p:nvSpPr>
            <p:cNvPr id="4390" name=""/>
            <p:cNvSpPr/>
            <p:nvPr/>
          </p:nvSpPr>
          <p:spPr>
            <a:xfrm>
              <a:off x="4008240" y="4392720"/>
              <a:ext cx="146052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wor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i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3995640" y="406872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3995640" y="429732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3995640" y="51354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4" name=""/>
          <p:cNvGrpSpPr/>
          <p:nvPr/>
        </p:nvGrpSpPr>
        <p:grpSpPr>
          <a:xfrm>
            <a:off x="5472000" y="3840120"/>
            <a:ext cx="2019240" cy="2884680"/>
            <a:chOff x="5472000" y="3840120"/>
            <a:chExt cx="2019240" cy="2884680"/>
          </a:xfrm>
        </p:grpSpPr>
        <p:grpSp>
          <p:nvGrpSpPr>
            <p:cNvPr id="4395" name=""/>
            <p:cNvGrpSpPr/>
            <p:nvPr/>
          </p:nvGrpSpPr>
          <p:grpSpPr>
            <a:xfrm>
              <a:off x="5532480" y="3840120"/>
              <a:ext cx="1854000" cy="2286000"/>
              <a:chOff x="5532480" y="3840120"/>
              <a:chExt cx="1854000" cy="2286000"/>
            </a:xfrm>
          </p:grpSpPr>
          <p:sp>
            <p:nvSpPr>
              <p:cNvPr id="4396" name=""/>
              <p:cNvSpPr/>
              <p:nvPr/>
            </p:nvSpPr>
            <p:spPr>
              <a:xfrm>
                <a:off x="5672160" y="3840120"/>
                <a:ext cx="1600200" cy="144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6116760" y="5662440"/>
                <a:ext cx="10922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•   •   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5964120" y="5307120"/>
                <a:ext cx="1181160" cy="66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spcAft>
                    <a:spcPts val="20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outpu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5532480" y="4005360"/>
                <a:ext cx="1854000" cy="93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spcAft>
                    <a:spcPts val="20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emory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rray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2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words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y m bits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7120080" y="528804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6129360" y="528804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5824440" y="528804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3" name=""/>
            <p:cNvSpPr/>
            <p:nvPr/>
          </p:nvSpPr>
          <p:spPr>
            <a:xfrm>
              <a:off x="5472000" y="6064200"/>
              <a:ext cx="2019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 data li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BC0A-529B-4B97-BB4B-7ACD2C01393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OM vs. PL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M approach advantageous w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time is short (no need to minimize output func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input combinations are needed (e.g., code conver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tle sharing of product terms among outpu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M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doubles for each additional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't exploit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 approach advantageous w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tools are available for multi-output min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latively few unique minterm 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minterms are shared among the outpu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L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ed fan-ins on OR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2148-140C-406A-AC52-D7C695D0868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ular logic structures for two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 – full AND plane, general OR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ap (high-volume compon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plement any function of n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 – programmable AND plane, fixed OR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plement functions limited by number of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speed (only one programmable plane that is much smaller than ROM's deco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 – programmable AND and OR pl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expensive (most complex in design, need more sophisticated too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plement any function up to a product term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 (two programmable pla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7C6E-F980-4383-A8F6-3C63DE6E6A0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ular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to make design fa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to make engineering changes easier to m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r for designers to understand and map to function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er to think in terms of specific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to think in terms of a large multi-purpose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18C8-0644-436A-833C-EFFC637E76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ular logic structures for multi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icult to devise a regular structure for arbitrary connections between a large set of different types of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cy/speed concerns for such a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467 you'll learn about field programmable gate arrays (FPGAs) that are just such programmable multi-level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able multiplexers for wi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 tables for logic functions (programming fills in the t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purpose cells (utilization is the big iss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multiple levels of PALs/PLAs/R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intermediate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it an input to be used in furthe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33FB-5C57-40BF-AD94-8C1C02CFACF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technology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gates or in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 to NAND-NAND and NOR-NOR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from simple gates to more complex gate building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d gate count, fan-ins, potentially 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levels, harder to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response in combinational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 delays and timing wav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ards/glitches (what they are and why they happ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xers/deco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s/P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s/disadvantages of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7262-47FB-43F9-882F-BA11DE456B2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609480" y="4152960"/>
            <a:ext cx="1828800" cy="1257120"/>
            <a:chOff x="609480" y="4152960"/>
            <a:chExt cx="1828800" cy="1257120"/>
          </a:xfrm>
        </p:grpSpPr>
        <p:sp>
          <p:nvSpPr>
            <p:cNvPr id="93" name=""/>
            <p:cNvSpPr/>
            <p:nvPr/>
          </p:nvSpPr>
          <p:spPr>
            <a:xfrm>
              <a:off x="1079280" y="41529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09480" y="42670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09480" y="461016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09480" y="529596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09480" y="49402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06280" y="47880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91880" y="4280040"/>
              <a:ext cx="60984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91880" y="4622760"/>
              <a:ext cx="5842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1091880" y="4826160"/>
              <a:ext cx="58428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1091880" y="4939920"/>
              <a:ext cx="59688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91880" y="4280040"/>
              <a:ext cx="90180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91880" y="4622760"/>
              <a:ext cx="9018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091880" y="4775040"/>
              <a:ext cx="9018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1091880" y="4775040"/>
              <a:ext cx="9018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857680" y="4140360"/>
            <a:ext cx="1828800" cy="1257120"/>
            <a:chOff x="2857680" y="4140360"/>
            <a:chExt cx="1828800" cy="1257120"/>
          </a:xfrm>
        </p:grpSpPr>
        <p:sp>
          <p:nvSpPr>
            <p:cNvPr id="108" name=""/>
            <p:cNvSpPr/>
            <p:nvPr/>
          </p:nvSpPr>
          <p:spPr>
            <a:xfrm>
              <a:off x="3327480" y="41403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54480" y="42544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54480" y="45975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54480" y="52833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54480" y="49276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57680" y="47750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3301920" y="4267080"/>
              <a:ext cx="95220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301920" y="4610160"/>
              <a:ext cx="9522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3301920" y="4762440"/>
              <a:ext cx="9522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3301920" y="4762440"/>
              <a:ext cx="9522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3340080" y="4508640"/>
              <a:ext cx="40644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40080" y="4673520"/>
              <a:ext cx="40644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40080" y="4788000"/>
              <a:ext cx="39384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40080" y="4788000"/>
              <a:ext cx="3682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800280" y="5524560"/>
            <a:ext cx="1562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33640" y="5524560"/>
            <a:ext cx="1816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ultiplex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384520" y="4140360"/>
            <a:ext cx="1829160" cy="1257120"/>
            <a:chOff x="5384520" y="4140360"/>
            <a:chExt cx="1829160" cy="1257120"/>
          </a:xfrm>
        </p:grpSpPr>
        <p:sp>
          <p:nvSpPr>
            <p:cNvPr id="125" name=""/>
            <p:cNvSpPr/>
            <p:nvPr/>
          </p:nvSpPr>
          <p:spPr>
            <a:xfrm>
              <a:off x="5854680" y="41403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5384520" y="42544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5384520" y="459756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384520" y="528336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5384520" y="49276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82040" y="477504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67640" y="4267080"/>
              <a:ext cx="609480" cy="33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67640" y="4610160"/>
              <a:ext cx="5839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5867640" y="4812840"/>
              <a:ext cx="5839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867640" y="4927320"/>
              <a:ext cx="59688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67640" y="4267080"/>
              <a:ext cx="9014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67640" y="4610160"/>
              <a:ext cx="90144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5867640" y="4762440"/>
              <a:ext cx="9014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867640" y="4762440"/>
              <a:ext cx="9014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781680" y="4140360"/>
            <a:ext cx="1828800" cy="1257120"/>
            <a:chOff x="6781680" y="4140360"/>
            <a:chExt cx="1828800" cy="1257120"/>
          </a:xfrm>
        </p:grpSpPr>
        <p:sp>
          <p:nvSpPr>
            <p:cNvPr id="140" name=""/>
            <p:cNvSpPr/>
            <p:nvPr/>
          </p:nvSpPr>
          <p:spPr>
            <a:xfrm>
              <a:off x="7251480" y="41403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178480" y="42544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178480" y="45975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178480" y="52833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178480" y="49276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6781680" y="47750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7225920" y="4267080"/>
              <a:ext cx="95256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7225920" y="4610160"/>
              <a:ext cx="9525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7225920" y="4762440"/>
              <a:ext cx="95256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7225920" y="4762440"/>
              <a:ext cx="9525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7264080" y="4508640"/>
              <a:ext cx="40644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264080" y="4673520"/>
              <a:ext cx="40644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64080" y="4788000"/>
              <a:ext cx="39384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64080" y="4788000"/>
              <a:ext cx="3682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248520" y="5524560"/>
            <a:ext cx="1536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x4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27280" y="358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11280" y="358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5912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4348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2788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1188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46840" y="358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31200" y="358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12800" y="3505320"/>
            <a:ext cx="1155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45000" y="3517920"/>
            <a:ext cx="1155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king conne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oint-to-point connections between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s we've seen so 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 one of many inputs to a single output --- multiplex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 a single input to one of many outputs --- demultiplex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0CB4-6EE5-44F2-AD4B-B1FDD2E49A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x and demux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ch implementation of multiplexers and demultiplex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composed to make arbitrary size switching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implement multiple-source/multiple-destination inter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648320" y="4876920"/>
            <a:ext cx="3632040" cy="1371600"/>
            <a:chOff x="4648320" y="4876920"/>
            <a:chExt cx="3632040" cy="1371600"/>
          </a:xfrm>
        </p:grpSpPr>
        <p:sp>
          <p:nvSpPr>
            <p:cNvPr id="170" name=""/>
            <p:cNvSpPr/>
            <p:nvPr/>
          </p:nvSpPr>
          <p:spPr>
            <a:xfrm>
              <a:off x="6692760" y="5639040"/>
              <a:ext cx="1067040" cy="6094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68880" y="5639040"/>
              <a:ext cx="1066680" cy="6094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68880" y="4876920"/>
              <a:ext cx="1066680" cy="60984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92760" y="4876920"/>
              <a:ext cx="1067040" cy="60984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48320" y="5016600"/>
              <a:ext cx="29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48320" y="5791320"/>
              <a:ext cx="29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88400" y="5016600"/>
              <a:ext cx="29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988400" y="5778720"/>
              <a:ext cx="266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5245200" y="5715360"/>
              <a:ext cx="914400" cy="457200"/>
              <a:chOff x="5245200" y="5715360"/>
              <a:chExt cx="914400" cy="457200"/>
            </a:xfrm>
          </p:grpSpPr>
          <p:sp>
            <p:nvSpPr>
              <p:cNvPr id="179" name=""/>
              <p:cNvSpPr/>
              <p:nvPr/>
            </p:nvSpPr>
            <p:spPr>
              <a:xfrm>
                <a:off x="6006960" y="571536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006960" y="602028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45200" y="5868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5397480" y="5791320"/>
                <a:ext cx="6094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5245200" y="4953240"/>
              <a:ext cx="914400" cy="457200"/>
              <a:chOff x="5245200" y="4953240"/>
              <a:chExt cx="914400" cy="457200"/>
            </a:xfrm>
          </p:grpSpPr>
          <p:sp>
            <p:nvSpPr>
              <p:cNvPr id="184" name=""/>
              <p:cNvSpPr/>
              <p:nvPr/>
            </p:nvSpPr>
            <p:spPr>
              <a:xfrm>
                <a:off x="6006960" y="495324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006960" y="525780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245200" y="51055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397480" y="5181840"/>
                <a:ext cx="6094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6769080" y="5715360"/>
              <a:ext cx="914400" cy="457200"/>
              <a:chOff x="6769080" y="5715360"/>
              <a:chExt cx="914400" cy="457200"/>
            </a:xfrm>
          </p:grpSpPr>
          <p:sp>
            <p:nvSpPr>
              <p:cNvPr id="189" name=""/>
              <p:cNvSpPr/>
              <p:nvPr/>
            </p:nvSpPr>
            <p:spPr>
              <a:xfrm flipH="1">
                <a:off x="6769080" y="571536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6769080" y="602028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7530840" y="5868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flipV="1">
                <a:off x="6921720" y="5791320"/>
                <a:ext cx="6094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6769080" y="4953240"/>
              <a:ext cx="914400" cy="457200"/>
              <a:chOff x="6769080" y="4953240"/>
              <a:chExt cx="914400" cy="457200"/>
            </a:xfrm>
          </p:grpSpPr>
          <p:sp>
            <p:nvSpPr>
              <p:cNvPr id="194" name=""/>
              <p:cNvSpPr/>
              <p:nvPr/>
            </p:nvSpPr>
            <p:spPr>
              <a:xfrm flipH="1">
                <a:off x="6769080" y="495324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6769080" y="525780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7530840" y="51055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6921720" y="5181840"/>
                <a:ext cx="6094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98" name=""/>
            <p:cNvCxnSpPr>
              <a:stCxn id="184" idx="6"/>
              <a:endCxn id="194" idx="6"/>
            </p:cNvCxnSpPr>
            <p:nvPr/>
          </p:nvCxnSpPr>
          <p:spPr>
            <a:xfrm flipV="1">
              <a:off x="6159240" y="5027040"/>
              <a:ext cx="610200" cy="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99" name=""/>
            <p:cNvCxnSpPr>
              <a:stCxn id="185" idx="5"/>
              <a:endCxn id="189" idx="7"/>
            </p:cNvCxnSpPr>
            <p:nvPr/>
          </p:nvCxnSpPr>
          <p:spPr>
            <a:xfrm>
              <a:off x="6136920" y="5388120"/>
              <a:ext cx="654840" cy="349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00" name=""/>
            <p:cNvCxnSpPr>
              <a:stCxn id="179" idx="7"/>
              <a:endCxn id="195" idx="5"/>
            </p:cNvCxnSpPr>
            <p:nvPr/>
          </p:nvCxnSpPr>
          <p:spPr>
            <a:xfrm flipV="1">
              <a:off x="6136920" y="5386320"/>
              <a:ext cx="654840" cy="351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01" name=""/>
            <p:cNvCxnSpPr>
              <a:stCxn id="180" idx="6"/>
              <a:endCxn id="190" idx="6"/>
            </p:cNvCxnSpPr>
            <p:nvPr/>
          </p:nvCxnSpPr>
          <p:spPr>
            <a:xfrm flipV="1">
              <a:off x="6159240" y="6094440"/>
              <a:ext cx="6102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02" name=""/>
            <p:cNvSpPr/>
            <p:nvPr/>
          </p:nvSpPr>
          <p:spPr>
            <a:xfrm>
              <a:off x="7683480" y="5181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83480" y="5943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40280" y="5181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940280" y="5943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990720" y="3200400"/>
            <a:ext cx="3631680" cy="1371600"/>
            <a:chOff x="990720" y="3200400"/>
            <a:chExt cx="3631680" cy="1371600"/>
          </a:xfrm>
        </p:grpSpPr>
        <p:sp>
          <p:nvSpPr>
            <p:cNvPr id="207" name=""/>
            <p:cNvSpPr/>
            <p:nvPr/>
          </p:nvSpPr>
          <p:spPr>
            <a:xfrm>
              <a:off x="3035160" y="3962160"/>
              <a:ext cx="1066320" cy="60984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11280" y="3962160"/>
              <a:ext cx="1066320" cy="60984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11280" y="3200400"/>
              <a:ext cx="1066320" cy="6094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35160" y="3200400"/>
              <a:ext cx="1066320" cy="6094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90720" y="3340080"/>
              <a:ext cx="291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90720" y="4114800"/>
              <a:ext cx="291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30440" y="3340080"/>
              <a:ext cx="291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30440" y="4101840"/>
              <a:ext cx="266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1587240" y="4038480"/>
              <a:ext cx="913680" cy="457200"/>
              <a:chOff x="1587240" y="4038480"/>
              <a:chExt cx="913680" cy="457200"/>
            </a:xfrm>
          </p:grpSpPr>
          <p:sp>
            <p:nvSpPr>
              <p:cNvPr id="216" name=""/>
              <p:cNvSpPr/>
              <p:nvPr/>
            </p:nvSpPr>
            <p:spPr>
              <a:xfrm>
                <a:off x="2349000" y="403848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349000" y="434340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587240" y="4190760"/>
                <a:ext cx="15228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739520" y="4267080"/>
                <a:ext cx="6091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1587240" y="3276360"/>
              <a:ext cx="913680" cy="457200"/>
              <a:chOff x="1587240" y="3276360"/>
              <a:chExt cx="913680" cy="457200"/>
            </a:xfrm>
          </p:grpSpPr>
          <p:sp>
            <p:nvSpPr>
              <p:cNvPr id="221" name=""/>
              <p:cNvSpPr/>
              <p:nvPr/>
            </p:nvSpPr>
            <p:spPr>
              <a:xfrm>
                <a:off x="2349000" y="3276360"/>
                <a:ext cx="15192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349000" y="358128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587240" y="3429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1739520" y="3352320"/>
                <a:ext cx="6091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111480" y="4038480"/>
              <a:ext cx="913320" cy="457200"/>
              <a:chOff x="3111480" y="4038480"/>
              <a:chExt cx="913320" cy="457200"/>
            </a:xfrm>
          </p:grpSpPr>
          <p:sp>
            <p:nvSpPr>
              <p:cNvPr id="226" name=""/>
              <p:cNvSpPr/>
              <p:nvPr/>
            </p:nvSpPr>
            <p:spPr>
              <a:xfrm flipH="1">
                <a:off x="3111480" y="403848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3111480" y="434340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3872160" y="4190760"/>
                <a:ext cx="15228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3263400" y="4267080"/>
                <a:ext cx="6091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3111480" y="3276360"/>
              <a:ext cx="913320" cy="457200"/>
              <a:chOff x="3111480" y="3276360"/>
              <a:chExt cx="913320" cy="457200"/>
            </a:xfrm>
          </p:grpSpPr>
          <p:sp>
            <p:nvSpPr>
              <p:cNvPr id="231" name=""/>
              <p:cNvSpPr/>
              <p:nvPr/>
            </p:nvSpPr>
            <p:spPr>
              <a:xfrm flipH="1">
                <a:off x="3111480" y="3276360"/>
                <a:ext cx="15192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3111480" y="358128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872160" y="3429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 flipV="1">
                <a:off x="3263400" y="3352320"/>
                <a:ext cx="6091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35" name=""/>
            <p:cNvCxnSpPr>
              <a:stCxn id="221" idx="6"/>
              <a:endCxn id="231" idx="6"/>
            </p:cNvCxnSpPr>
            <p:nvPr/>
          </p:nvCxnSpPr>
          <p:spPr>
            <a:xfrm flipV="1">
              <a:off x="2501280" y="3350880"/>
              <a:ext cx="6102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36" name=""/>
            <p:cNvCxnSpPr>
              <a:stCxn id="222" idx="5"/>
              <a:endCxn id="226" idx="7"/>
            </p:cNvCxnSpPr>
            <p:nvPr/>
          </p:nvCxnSpPr>
          <p:spPr>
            <a:xfrm>
              <a:off x="2479320" y="3711600"/>
              <a:ext cx="654120" cy="349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37" name=""/>
            <p:cNvCxnSpPr>
              <a:stCxn id="216" idx="7"/>
              <a:endCxn id="232" idx="5"/>
            </p:cNvCxnSpPr>
            <p:nvPr/>
          </p:nvCxnSpPr>
          <p:spPr>
            <a:xfrm flipV="1">
              <a:off x="2479320" y="3709440"/>
              <a:ext cx="654120" cy="351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38" name=""/>
            <p:cNvCxnSpPr>
              <a:stCxn id="217" idx="6"/>
              <a:endCxn id="227" idx="6"/>
            </p:cNvCxnSpPr>
            <p:nvPr/>
          </p:nvCxnSpPr>
          <p:spPr>
            <a:xfrm flipV="1">
              <a:off x="2501280" y="4417560"/>
              <a:ext cx="6102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39" name=""/>
            <p:cNvSpPr/>
            <p:nvPr/>
          </p:nvSpPr>
          <p:spPr>
            <a:xfrm>
              <a:off x="4025880" y="350496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25880" y="426708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82680" y="350496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82680" y="426708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E5CB-C46B-45DB-B724-1ADD1ED013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295960" y="3009960"/>
            <a:ext cx="2603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 inpu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83360" y="5321160"/>
            <a:ext cx="3225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 output destin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47920" y="2971800"/>
            <a:ext cx="10666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2971800"/>
            <a:ext cx="10670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142640" y="3124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91120" y="31240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980720" y="5486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74640" y="3035160"/>
            <a:ext cx="8510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05120" y="3860640"/>
            <a:ext cx="2667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81280" y="3886200"/>
            <a:ext cx="2667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66880" y="4572000"/>
            <a:ext cx="673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2971800"/>
            <a:ext cx="673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383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98680" y="5334120"/>
            <a:ext cx="406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48320" y="2971800"/>
            <a:ext cx="380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7652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2413080"/>
            <a:ext cx="30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6252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25960" y="3035160"/>
            <a:ext cx="8506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57600" y="3352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81080" y="3352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24080" y="5715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14600" y="5715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62320" y="5384880"/>
            <a:ext cx="850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3809880"/>
            <a:ext cx="2743200" cy="1067040"/>
          </a:xfrm>
          <a:custGeom>
            <a:avLst/>
            <a:gdLst/>
            <a:ahLst/>
            <a:rect l="l" t="t" r="r" b="b"/>
            <a:pathLst>
              <a:path w="1729" h="649">
                <a:moveTo>
                  <a:pt x="0" y="0"/>
                </a:moveTo>
                <a:lnTo>
                  <a:pt x="504" y="0"/>
                </a:lnTo>
                <a:lnTo>
                  <a:pt x="648" y="0"/>
                </a:lnTo>
                <a:lnTo>
                  <a:pt x="864" y="288"/>
                </a:lnTo>
                <a:lnTo>
                  <a:pt x="1080" y="0"/>
                </a:lnTo>
                <a:lnTo>
                  <a:pt x="1728" y="0"/>
                </a:lnTo>
                <a:lnTo>
                  <a:pt x="1368" y="648"/>
                </a:lnTo>
                <a:lnTo>
                  <a:pt x="360" y="64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19520" y="487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533412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x and demux (cont'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s of multiplexers/demultiplexers in multi-point conn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09880" y="2413080"/>
            <a:ext cx="30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23880" y="2413080"/>
            <a:ext cx="30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2413080"/>
            <a:ext cx="304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438280" y="6095880"/>
            <a:ext cx="3049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8120" y="6095880"/>
            <a:ext cx="3045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1DEC-7BC9-4DA8-8654-A7C147A4E0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5473800"/>
            <a:ext cx="2946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wo alternative 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a 2:1 Mux truth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62320" y="4686480"/>
            <a:ext cx="18795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al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343400" y="419076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343400" y="4419720"/>
            <a:ext cx="198108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349880" y="3282840"/>
            <a:ext cx="920520" cy="870120"/>
            <a:chOff x="4349880" y="3282840"/>
            <a:chExt cx="920520" cy="870120"/>
          </a:xfrm>
        </p:grpSpPr>
        <p:sp>
          <p:nvSpPr>
            <p:cNvPr id="283" name=""/>
            <p:cNvSpPr/>
            <p:nvPr/>
          </p:nvSpPr>
          <p:spPr>
            <a:xfrm>
              <a:off x="4406760" y="3289320"/>
              <a:ext cx="8636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49840" y="3282840"/>
              <a:ext cx="0" cy="85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49880" y="355608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476760" y="3125880"/>
            <a:ext cx="1822680" cy="2604600"/>
            <a:chOff x="6476760" y="3125880"/>
            <a:chExt cx="1822680" cy="2604600"/>
          </a:xfrm>
        </p:grpSpPr>
        <p:sp>
          <p:nvSpPr>
            <p:cNvPr id="287" name=""/>
            <p:cNvSpPr/>
            <p:nvPr/>
          </p:nvSpPr>
          <p:spPr>
            <a:xfrm>
              <a:off x="6546960" y="3125880"/>
              <a:ext cx="1752480" cy="26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9144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804080" y="3220920"/>
              <a:ext cx="0" cy="242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476760" y="3519360"/>
              <a:ext cx="176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9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1054080" y="3645000"/>
            <a:ext cx="18036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 = A' 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+ A 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/selecto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xers/selectors: general conce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ta inputs, n control inputs (called "selects"), 1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connect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ints to a single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signal pattern forms binary index of input connected to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4001-4372-4D87-BD80-E116D473D60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056040" y="3421080"/>
            <a:ext cx="685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   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553080" y="3352680"/>
            <a:ext cx="2362320" cy="2755800"/>
            <a:chOff x="6553080" y="3352680"/>
            <a:chExt cx="2362320" cy="2755800"/>
          </a:xfrm>
        </p:grpSpPr>
        <p:sp>
          <p:nvSpPr>
            <p:cNvPr id="295" name=""/>
            <p:cNvSpPr/>
            <p:nvPr/>
          </p:nvSpPr>
          <p:spPr>
            <a:xfrm>
              <a:off x="6553080" y="3352680"/>
              <a:ext cx="30492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88160" y="37591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88160" y="39877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88160" y="46735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88160" y="51307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88160" y="42163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88160" y="49021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8160" y="44449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88160" y="53593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30880" y="3651120"/>
              <a:ext cx="914400" cy="182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7353360" y="54669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7581960" y="54669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7810560" y="54669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289640" y="5499000"/>
              <a:ext cx="990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 B 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340400" y="408924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356320" y="4178160"/>
              <a:ext cx="559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045280" y="4559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3848040" y="4508640"/>
            <a:ext cx="2361960" cy="1841400"/>
            <a:chOff x="3848040" y="4508640"/>
            <a:chExt cx="2361960" cy="1841400"/>
          </a:xfrm>
        </p:grpSpPr>
        <p:sp>
          <p:nvSpPr>
            <p:cNvPr id="313" name=""/>
            <p:cNvSpPr/>
            <p:nvPr/>
          </p:nvSpPr>
          <p:spPr>
            <a:xfrm>
              <a:off x="3848040" y="4508640"/>
              <a:ext cx="304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082760" y="4915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082760" y="5372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82760" y="5143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82760" y="56008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25840" y="48070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4762440" y="57085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4991040" y="57085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698720" y="574056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609800" y="4775040"/>
              <a:ext cx="5335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51280" y="4876920"/>
              <a:ext cx="558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40240" y="525780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990720" y="4952880"/>
            <a:ext cx="2361960" cy="1384200"/>
            <a:chOff x="990720" y="4952880"/>
            <a:chExt cx="2361960" cy="1384200"/>
          </a:xfrm>
        </p:grpSpPr>
        <p:sp>
          <p:nvSpPr>
            <p:cNvPr id="326" name=""/>
            <p:cNvSpPr/>
            <p:nvPr/>
          </p:nvSpPr>
          <p:spPr>
            <a:xfrm>
              <a:off x="990720" y="4952880"/>
              <a:ext cx="3045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25440" y="53593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25440" y="55879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68520" y="5251320"/>
              <a:ext cx="9144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2019240" y="56955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55880" y="5727600"/>
              <a:ext cx="546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78040" y="4965480"/>
              <a:ext cx="5331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93960" y="5092560"/>
              <a:ext cx="558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82920" y="5473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3002040" y="369108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11840" y="332424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/selectors (cont'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:1 mux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 = A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:1 mux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 = A'B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'B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:1 mux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 = A'B'C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'B'C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'BC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'BC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AB'C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'C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C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C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eneral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(m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interm shorthand form for 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1 M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2345-9B22-4B5D-B7E8-3527FE0C751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35:57Z</dcterms:created>
  <dc:creator>Gaetano Borriello</dc:creator>
  <dc:description/>
  <dc:language>en-US</dc:language>
  <cp:lastModifiedBy>Gaetano Borriello</cp:lastModifiedBy>
  <cp:lastPrinted>1999-04-12T19:46:03Z</cp:lastPrinted>
  <dcterms:modified xsi:type="dcterms:W3CDTF">2005-01-24T06:59:49Z</dcterms:modified>
  <cp:revision>34</cp:revision>
  <dc:subject/>
  <dc:title>Combinational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370/99sp/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gaetano\Edu\cse370_s99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