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7.wmf" ContentType="image/x-wmf"/>
  <Override PartName="/ppt/media/image37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34.png" ContentType="image/png"/>
  <Override PartName="/ppt/media/image35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6.wmf" ContentType="image/x-wmf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comments/comment4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  <p:sldId id="294" r:id="rId70"/>
    <p:sldId id="295" r:id="rId71"/>
    <p:sldId id="296" r:id="rId72"/>
    <p:sldId id="297" r:id="rId73"/>
    <p:sldId id="298" r:id="rId74"/>
    <p:sldId id="299" r:id="rId75"/>
    <p:sldId id="300" r:id="rId76"/>
    <p:sldId id="301" r:id="rId77"/>
    <p:sldId id="302" r:id="rId78"/>
    <p:sldId id="303" r:id="rId79"/>
    <p:sldId id="304" r:id="rId80"/>
    <p:sldId id="305" r:id="rId81"/>
    <p:sldId id="306" r:id="rId82"/>
    <p:sldId id="307" r:id="rId83"/>
    <p:sldId id="308" r:id="rId84"/>
    <p:sldId id="309" r:id="rId85"/>
    <p:sldId id="310" r:id="rId86"/>
    <p:sldId id="311" r:id="rId87"/>
    <p:sldId id="312" r:id="rId88"/>
    <p:sldId id="313" r:id="rId89"/>
    <p:sldId id="314" r:id="rId90"/>
    <p:sldId id="315" r:id="rId91"/>
    <p:sldId id="316" r:id="rId92"/>
    <p:sldId id="317" r:id="rId93"/>
    <p:sldId id="318" r:id="rId94"/>
    <p:sldId id="319" r:id="rId95"/>
    <p:sldId id="320" r:id="rId96"/>
  </p:sldIdLst>
  <p:sldSz cx="9907588" cy="6858000"/>
  <p:notesSz cx="10234613" cy="7099300"/>
</p:presentation>
</file>

<file path=ppt/commentAuthors.xml><?xml version="1.0" encoding="utf-8"?>
<p:cmAuthorLst xmlns:p="http://schemas.openxmlformats.org/presentationml/2006/main">
  <p:cmAuthor id="0" name="Marco Cristani" initials="M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slide" Target="slides/slide39.xml"/><Relationship Id="rId71" Type="http://schemas.openxmlformats.org/officeDocument/2006/relationships/slide" Target="slides/slide40.xml"/><Relationship Id="rId72" Type="http://schemas.openxmlformats.org/officeDocument/2006/relationships/slide" Target="slides/slide41.xml"/><Relationship Id="rId73" Type="http://schemas.openxmlformats.org/officeDocument/2006/relationships/slide" Target="slides/slide42.xml"/><Relationship Id="rId74" Type="http://schemas.openxmlformats.org/officeDocument/2006/relationships/slide" Target="slides/slide43.xml"/><Relationship Id="rId75" Type="http://schemas.openxmlformats.org/officeDocument/2006/relationships/slide" Target="slides/slide44.xml"/><Relationship Id="rId76" Type="http://schemas.openxmlformats.org/officeDocument/2006/relationships/slide" Target="slides/slide45.xml"/><Relationship Id="rId77" Type="http://schemas.openxmlformats.org/officeDocument/2006/relationships/slide" Target="slides/slide46.xml"/><Relationship Id="rId78" Type="http://schemas.openxmlformats.org/officeDocument/2006/relationships/slide" Target="slides/slide47.xml"/><Relationship Id="rId79" Type="http://schemas.openxmlformats.org/officeDocument/2006/relationships/slide" Target="slides/slide48.xml"/><Relationship Id="rId80" Type="http://schemas.openxmlformats.org/officeDocument/2006/relationships/slide" Target="slides/slide49.xml"/><Relationship Id="rId81" Type="http://schemas.openxmlformats.org/officeDocument/2006/relationships/slide" Target="slides/slide50.xml"/><Relationship Id="rId82" Type="http://schemas.openxmlformats.org/officeDocument/2006/relationships/slide" Target="slides/slide51.xml"/><Relationship Id="rId83" Type="http://schemas.openxmlformats.org/officeDocument/2006/relationships/slide" Target="slides/slide52.xml"/><Relationship Id="rId84" Type="http://schemas.openxmlformats.org/officeDocument/2006/relationships/slide" Target="slides/slide53.xml"/><Relationship Id="rId85" Type="http://schemas.openxmlformats.org/officeDocument/2006/relationships/slide" Target="slides/slide54.xml"/><Relationship Id="rId86" Type="http://schemas.openxmlformats.org/officeDocument/2006/relationships/slide" Target="slides/slide55.xml"/><Relationship Id="rId87" Type="http://schemas.openxmlformats.org/officeDocument/2006/relationships/slide" Target="slides/slide56.xml"/><Relationship Id="rId88" Type="http://schemas.openxmlformats.org/officeDocument/2006/relationships/slide" Target="slides/slide57.xml"/><Relationship Id="rId89" Type="http://schemas.openxmlformats.org/officeDocument/2006/relationships/slide" Target="slides/slide58.xml"/><Relationship Id="rId90" Type="http://schemas.openxmlformats.org/officeDocument/2006/relationships/slide" Target="slides/slide59.xml"/><Relationship Id="rId91" Type="http://schemas.openxmlformats.org/officeDocument/2006/relationships/slide" Target="slides/slide60.xml"/><Relationship Id="rId92" Type="http://schemas.openxmlformats.org/officeDocument/2006/relationships/slide" Target="slides/slide61.xml"/><Relationship Id="rId93" Type="http://schemas.openxmlformats.org/officeDocument/2006/relationships/slide" Target="slides/slide62.xml"/><Relationship Id="rId94" Type="http://schemas.openxmlformats.org/officeDocument/2006/relationships/slide" Target="slides/slide63.xml"/><Relationship Id="rId95" Type="http://schemas.openxmlformats.org/officeDocument/2006/relationships/slide" Target="slides/slide64.xml"/><Relationship Id="rId96" Type="http://schemas.openxmlformats.org/officeDocument/2006/relationships/slide" Target="slides/slide65.xml"/><Relationship Id="rId97" Type="http://schemas.openxmlformats.org/officeDocument/2006/relationships/presProps" Target="presProps.xml"/><Relationship Id="rId98" Type="http://schemas.openxmlformats.org/officeDocument/2006/relationships/commentAuthors" Target="commentAuthors.xml"/>
</Relationships>
</file>

<file path=ppt/comments/comment48.xml><?xml version="1.0" encoding="utf-8"?>
<p:cmLst xmlns:p="http://schemas.openxmlformats.org/presentationml/2006/main">
  <p:cm authorId="0" dt="2012-04-24T10:02:38.109000000" idx="1">
    <p:pos x="10" y="10"/>
    <p:text>cancella f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dt" idx="88"/>
          </p:nvPr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sldImg"/>
          </p:nvPr>
        </p:nvSpPr>
        <p:spPr>
          <a:xfrm>
            <a:off x="3195720" y="531360"/>
            <a:ext cx="38448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ftr" idx="89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 type="sldNum" idx="90"/>
          </p:nvPr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A050062-4EE9-4960-88B7-83681ADC6E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01D78E0-BEB1-4F81-9A5B-C0B889525E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319716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09FDF88-01C3-4982-A66A-52AD111B5D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9EE9842-CDF1-473D-9868-8BEBB5A5A0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CD7D44A-7880-49BF-AB97-CCA7A8204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6600" cy="2662200"/>
          </a:xfrm>
          <a:prstGeom prst="rect">
            <a:avLst/>
          </a:prstGeom>
          <a:ln w="0">
            <a:noFill/>
          </a:ln>
        </p:spPr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A745F6E9-582D-41C4-9EB1-81501A453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6600" cy="2662200"/>
          </a:xfrm>
          <a:prstGeom prst="rect">
            <a:avLst/>
          </a:prstGeom>
          <a:ln w="0">
            <a:noFill/>
          </a:ln>
        </p:spPr>
      </p:sp>
      <p:sp>
        <p:nvSpPr>
          <p:cNvPr id="2053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7970346-25D1-4F8F-977C-2BE32604F3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5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34990B8-CD2D-4C70-BE63-2B92641148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710B031-622A-47E4-BFED-CAC1009464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C9AF2EC-E370-41EB-8206-623609B9C6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7579362-49FF-4600-82DF-C0745333BF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F6D7DCC4-4C84-4E41-9FDF-22B78FDA0E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4EB6BD3-4608-4012-BA17-5F10DC8CD5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F370DCA7-8E7E-410D-BBFA-EFA0E57179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03963C3-D02D-442A-87A7-B3AB8128EE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F1FBD4F9-5EBC-4713-856D-C0F9A4D2C5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8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0201021-8871-4625-A8D0-1A01CA241E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70C73E96-D5AE-498D-9C0D-F4FC4DFAC0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B17AA48-48EB-4C32-9673-F36C0DCC02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8C52C21-EB49-4C22-85C5-6709785291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A298E72-F3F3-4F52-8D0B-60859A7704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AEB6F5A1-E736-407F-8FE8-C020FB6238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1AEECA28-7B12-4C61-8CCE-E961B85899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0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9F35700-36B4-494A-A880-381E97BB5B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2635E88-1785-4881-86FA-C46185B294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C8DB34E-EE33-4390-933E-DC414D870C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9A25AFA-84FA-420C-A7F3-408CDE4E42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1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785083C1-8676-45CF-8578-C30C3B9555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325A9BC-CA2A-4E8D-A6EF-6062020AF7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666D84D-BED8-4BD5-B4FC-92678C64CF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16CF8771-001A-4706-9103-8055918DB0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32F9860-177A-4898-A1EC-75806A061C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4660BFE-D1E5-4CA0-A4F7-A4E04DFB58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6029F93-3C43-48D3-BEB6-1192E8CA14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A90666E-5248-42B4-9741-045E15036F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19857AA3-47B8-407A-8F60-5ED8E190BE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6879A2A-78C4-4843-A45F-4F0E8A5E8E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DBDC55B-8796-4E08-AA61-606C367B39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A66F67D-3744-474C-802E-8636C7BF2E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Segnaposto numero diapositiva 3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A3A768D2-1B39-4A9C-8BD4-AEDEF4B6FC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4F21C85-503F-46A8-BE96-A6590FB3A6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86FA4C6-EB93-442C-BA4D-24A9E05054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1B91B36-160F-48BF-A7A2-16FF04DF47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F39-3947-4C74-8752-90B2B81E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E6B-4382-455D-B502-84F574AF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49A66-C811-458A-9595-8B448D86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422A6-CA19-4B93-88DC-E6BFCC4A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D1620-B7C8-4F7A-891B-A00A298A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97EB0-1858-4DF7-82A8-D3D6DF7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8F32C-61DB-4E13-B5FD-0F549E72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BC74E-A922-4C87-ADCC-FAD0B1CA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E6007-3C70-4B63-BA52-FC0F0187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633A5-C4A7-4CF5-8720-91E7577F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8CA2E-70F8-446D-A090-022D8EB5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79C28-5A5E-4E02-93B3-67ECF67B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2ED-D98F-4250-AF3A-71B10730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7E7AF-658A-40AE-8F4B-FA7BAA3C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AEEEB-2C1F-4D89-8037-3DA982D5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A9724-B6E1-49B1-95FE-0F577275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51E40-C276-4CAA-92B4-B98FBEFF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35160-D20A-47DE-936A-4FC5CE98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9CADB-829C-4039-900C-6EF03FD0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BF9B4-5E58-4023-B716-77B42F2F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85B53-508D-4B1C-955D-7939FCE5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EAE7D-5422-4ED2-AFAE-4A5C0ABF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EAC99-5C5A-4010-B795-62A26879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6A6-EF09-4CDF-9D4C-D9FD24C4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0B678-48C2-4116-875E-C7B579C6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04F55-AAF2-4EDF-ADA3-AAE6423D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1E8F6-5D7A-4C6E-8904-FE088C58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1D465-250A-4A26-9B59-6187C684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E24A6-2B18-4E53-AEE9-4B221B1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0A8F3-C77B-4C9A-8A77-86FA45EE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BBBAE-725F-4C97-8B9F-7A2501F5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2D914-D058-42CA-8C3E-F28732E8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E28DE-B7A7-4B3C-B842-B8AB5524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28B81-0E39-4EF9-9774-A15D292D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1C8C-90E6-4657-BD51-7B140E83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7010A-A69E-44A5-81BE-3A8BB136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2D5B7-B4B2-4137-B610-93013ACC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5034F-CEF4-4D6F-B141-5C74AB49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1962B-2A89-40B5-AAEC-58A5C71D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E37B9-9F89-40F3-BD7B-97FA3669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15E7F-7BDB-4C3F-9F22-4A7721FF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05253-A128-4765-B134-4848156B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531DD-98D0-4488-B2AE-F94CA814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A0874-B328-47EA-BF61-CEE1D6F7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736EC-FE4C-463F-A3DE-B460A510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CA07-0FE8-4B30-A5B4-E3581D26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BDD88-C9E4-48C3-81B0-16AC4A70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B0134-6794-45F4-B4BC-4BD9BAF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7354D-B467-47FA-AE75-8AFD7FFF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F1DD9-2270-456C-8FBD-54BC42B2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ECCF3-6D67-4CDF-BB80-3987EC18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B8910-5FCB-42F5-B955-3BCF5681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5F2EB-92ED-4304-A2CB-7475C42F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99EC0-5BE7-461F-A21D-6C7A1248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E91C6-C05C-4683-BB76-0541C744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2B0F4-5405-480B-8A53-E5A2CB41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B830-F668-4451-A0B3-0EDFDD76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80CC0-554C-4551-860D-9D07AD45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0C4E3-584E-42B3-9F11-E4E823E6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D93CA-7046-426B-9EA0-5D0FAAAB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134AE-B547-465B-999C-0EA6418B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44706-9E33-4A98-8012-C5DF03FB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001DB-0A77-43C4-A8F3-0CEB030D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33F6C-22FE-42D7-B30C-8516E9BD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EB4A0-8B16-4ECD-8A27-D07A3D8D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08EC6-487D-4C27-BA60-5EC3B13C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A2D14-CF6C-4CD1-B55B-87B867B5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5E02-6237-4A46-B8F3-5AEEF38C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A5BEF-3865-4D86-A87F-5FE6323D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BE96F-5537-49BE-977A-98C92A2A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70872-BEF4-49A3-A4CC-730FED6A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41C29-B134-49BE-847C-22A6437A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AFDBF-0B4B-4659-AF46-BCA4D3BE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68446-A6EA-41EF-BB94-BC59182E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ED5CE-B79F-4376-85BE-F332A82B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837CC-3202-4DC9-AF2B-7C1EAD05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9B05A-0C4A-48AE-BC8F-CE544CD8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9C1E1-F71A-41CC-A4DF-AC6BB11C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B641-064F-430C-8AB6-C58F22D9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39FF8-E081-46E0-A7FC-3514940D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38528-03F6-4968-9E64-CEDB1208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B73C3C-2F2B-4668-AB25-54EFA5FC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D2739-0729-442F-9460-BB3E25A8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CB0C2-0AF3-4106-BE57-07328FD1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8769E-C39F-4D2D-B481-B8EC299F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A3B3C-3F11-4105-860D-573B0DF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13F69-A219-4C6C-AC7B-32A53EA9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6E59B-9FB8-44DE-9E4E-E542CBF1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AA0FF-9C42-4698-93EA-F91DED9B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8BC1-8737-4E8A-AF32-4F5AB20C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21B5B-FBE2-41C9-B01F-5F2EEC75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9EB803-D43D-4E96-A948-5172F0CF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02E36-CB11-4CB2-90B2-13D89E86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04F6C-B57B-4FD1-A3B7-05E38A84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D4562-0551-4750-8018-C696B82B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FC403-B614-4B30-81AD-BB0499C3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1B803-3E45-47EA-8832-39BAB44E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96CFD-92D8-417C-A5BB-7FF09408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341F0-B96D-4286-8A76-AA5EA8B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098C2-698E-46A3-84A7-C728ADC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832F-C397-47F8-8E04-4172D14B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7F83F-C2CF-4708-A1FC-55AEDCCC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2A4F09-54C6-4C2A-801E-FA1085FE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F5527-4161-43EE-AC27-CB217E73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DBB22-3914-4C89-8B80-8BB14AF8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4DA72-BA7E-4CC2-AA15-9D83B39D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5636C-A518-4800-8EF7-214D7046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E0C1D-0C02-4C1F-8907-7E4F086D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2A424-634B-4592-8AB2-8AF9B75F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C7D77-68F8-42DD-82A5-743ED45F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50729-94F3-4DE5-8C8F-688C172F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F02-8782-4214-AE1D-2457D652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249A-0466-4827-A222-E3C6228A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59AAD1-F76F-49DF-99E7-40A0C14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1E3AB-B30E-4A6A-9B34-9EC11F5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363517-01FF-4CC0-B222-F29A44AF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36107-C757-420B-B377-361F9EE0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ECCD7-1008-46E4-9C08-87A5A967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D1278-CBEF-469C-AEF9-D7BF47DA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06DDF-3B94-45BF-9F34-1D8F38F8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E056F-5DA0-4D26-A7DB-ADFF88A1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5BE04-0DD2-4033-BD4A-9315F4CA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13163-7BAE-45E1-B5C8-A9BEAD0A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D063-4DDB-4DE8-B7E2-229083DC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CCF8D-6D36-45A6-967E-3945C482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23BA0-CD93-4466-B3E8-3CFAB5FF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8830F8-FE0C-411B-937A-3BB4F9F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C6355-06C7-478D-A760-E0F640A1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883AC-86F5-4DD4-8697-91FB5026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ED929D-6ED2-4AA6-86E6-0345CABC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CBD7BC-9321-44C6-B7C9-EB7520BF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F67A8-4D22-4475-ACB4-2FE3F346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F68351-FC61-4E98-8818-4E13941A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42532A-64A1-4087-8A62-1770361C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8A5D-FD4F-4466-A3BA-D0D328EF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341F21-0091-4AF9-BC02-CE086415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58A046-4517-41C4-A8DB-8C9F957E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258561-5402-4E01-8C23-137B1E61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AA9FD-D18E-4784-A5BA-DD986D99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90AD6-24C5-4324-81CA-B0F3698F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F2FF5-CBCF-4B78-9B5A-B9B45A31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91A4BA-B349-4F95-A3EE-74AFCC22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E1D3EE-2B95-4024-B169-949DDE9D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EE1F4-F8D4-4EF4-BBEB-F13AFFE3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A03D9B-AD3F-4093-A740-F407DF1B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FCE7-04DD-4122-BAEC-67FCC7CE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B1839-686F-4DB1-984D-84C956F8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781A4-FDD6-46C1-A4D5-0C69D1CA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733D0B-7B86-4360-B4A9-5CD87399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1ABB5B-0178-48C1-9C7C-13F83576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C6921-A259-4CB5-884B-B80A0750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9D1763-28AA-493C-B81B-F2C889E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F8CC3-4762-4CE4-B614-AA156B16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3AEE50-97E7-4B7F-A92B-331AC676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F6E7C-1196-4968-8C14-45148D3D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6D6F1B-0DCE-45BC-AA9C-8145A352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2078-36E7-4140-9794-0585678F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7C776-0938-4C94-881A-79F5ACB7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273820-0548-45F8-9873-D2E8EABE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185EC-5ABE-4795-B09D-129478DE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B6D2E-32AB-4C13-858D-9D10F344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FB0255-3403-40EC-AA77-C673CAFD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FC5C3A-44D6-400F-B650-D2E8F149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A688B3-D33F-4596-A2B6-56946F39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5D3162-4073-4AA2-9572-D0C64186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85438-8768-492E-B849-282D4F79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063B09-E7A3-4B61-A295-13E67568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221B-776D-4A99-AF85-37481F47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D4D471-4389-42CD-AA20-CA373121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A3218C-5988-4277-B4E4-7E4FC16A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E3299D-008B-41ED-87FD-46AE5D19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8A47EC-5471-4207-B66E-7967BE2C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A85DFC-3C5F-4E54-9D0C-47A46366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B1DE11-16FA-42B9-BAAD-EE4AF8FA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FF498E-5AD9-49C9-94A0-0BDD4EB4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BFCEBE-53E9-4993-889A-EFD57DF6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DABF42-42B3-400D-8E49-89EBDF7E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4841C6-365C-42F8-AAD2-3D77D4D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BB63-10FF-4C8E-A557-EB5FE927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B275F9-C3B8-4C81-AE7C-4A4B4645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07F4E7-094E-4CF5-AAD8-795B7FEC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19C4F9-AE22-4C83-AD08-1FFDE656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FC5D95-8579-4312-8622-0A7D387E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9F4DBD-2C92-452A-B15B-CDE56634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F19263-D7FF-4919-9C01-9AC9D211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8B1D92-86FF-4201-BD1D-86B65339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75BA98-892E-4AD0-BBEC-A9A98076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822B3E-B838-419F-AEFB-C13E8E53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3E0B8C-FE39-458E-9FBF-F53CB6A9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46C6-9C3D-42FC-B792-8FD08178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0C2ED2-3755-4132-B9EA-CB399123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6B69D6-8204-4942-882D-93BAED47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8A4EA3-6C60-4F64-B4AE-B5092E1E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D6728-19EC-4538-B7A4-349AF8AD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9416E0-4EB5-47B6-B29E-03AA2468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B77B1E-781B-4514-B4CA-1394E2DE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4623D3-B4B6-48D4-A328-13C19E18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86EA1F-876E-40F3-888D-03737D6D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7FC62B-6357-4561-945F-2D047727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52F8B0-9752-48AC-8061-34AEED0A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5553-D926-42E7-B65F-2DFEA889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8DB770-4415-4E53-8899-D342BC10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4F5FB7-1A4A-4C64-A87F-1A641F9A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08B0EC-C5FD-484D-ACC2-7B05917B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91E507-9CE8-4A27-A4EF-0DF66EC9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60AE89-96B5-41FD-ACFC-B7935F9D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E6EDCB-86BF-4FD8-896B-16BD2195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F487B4-CBCF-4E1F-9B75-C292507D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966786-DD8F-4584-9EAD-7855794C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EB73E5-8F46-4549-A594-C7B7383F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94D4FB-5C65-47C0-8C7E-9034C12F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B4B5-97D7-4372-972E-D8DBAE96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31D353-62FB-4F5B-BD18-1F968635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F341CA-1ED9-423A-ADFE-D976E3C5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217216-0D6A-48CD-82DE-6FB4572D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F30791-1F2D-4B2C-B17C-8393B852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C0CE5D-273B-4EBF-BCFF-3C6DC71A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588F31-C365-4562-9DBE-188D5BA3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DD0E2F-0D4E-426A-84D9-742706B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51447C-33F7-4A4E-A351-50052652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C508E4-1CED-4E25-B47B-EB1EADB8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B6B048-5701-461A-853F-C0C267F4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391-2C8A-48AB-8C14-188CC75F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BE4A-5F07-45E8-B7D1-F59D9AB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300147-8EDD-4C78-9142-1105E196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797979-39A9-439F-BC2C-9CD41686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5C6249-405E-42F5-B5F9-BB95B01D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E99232-AE34-48B3-A85C-846E163B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F85B59-EBC6-431A-A904-7DEA62E1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192326-DDE6-42B8-95DD-B285D95E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E79F8B-F98C-46CA-845E-B2757E0E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98D0BD-9C8D-4E91-B985-DAB08709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42C83D-4F0E-4364-B37C-575E86BC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ED8DC0-07C7-42F7-BCE7-C7ABEBB8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28BDE-B5B4-4F3E-B84E-069E473D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AA5228-78F3-4D87-89CD-119432B3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DCC5E1-E488-44B1-8088-0682747D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DD2058-B7C5-4F99-91F1-27BAA064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DD79F6-AC0B-4624-B4BB-CF4D0666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9F006C-37EF-46A0-8F6D-22BB7083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87845E-891A-4CF2-9B61-DF4F2FF6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4E9122-7BE6-4129-AC3E-190C850E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767EB5-D22C-4D02-BB73-F7509833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E5A7BA-9F50-4384-A9FE-BF1D42C1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CAC256-5E08-44D4-8777-E3515853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5865-3D7E-4B45-A03E-062C05C3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8DFB65-DABB-4FD0-A9A4-16C0ED0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22DD09-B7BC-4F79-AFF3-65988351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9BFB48-BE91-43A1-9EBB-5247AB11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439CEA-03C2-4767-967D-46FE4C39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604E03-76B5-4BF4-9371-6D967913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799928-085C-4B96-95A5-278299E2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D68080-204D-4205-B986-642A983D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707976-0499-4E87-B714-76242631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39EEE5-0CC9-4BEF-BC7B-6227198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5E47E0-6464-44BA-9AFB-F8683CD9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67CC-7600-4D02-9853-E5E8D3D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59ED87-1742-4A23-BAEF-0833FFD7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0730CF-7B24-4561-BF5C-0564B2A4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6ED88A-BAE0-4763-A4BC-B931C99F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EF5E1C-FFC7-49F3-B5D6-5E1C4CE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E561F8-A87F-4AB5-A7EB-1B2A2C90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DEE0F6-B088-4183-8C4A-1AD7EE3B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7E8E3E-0C36-4A4A-817F-83152B2E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F5FC32-5EC4-4A32-A6B1-2DDD1043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8E1C3D-6381-46CE-8EB5-614DEA87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B5E4D8-7668-48DA-928B-B0026269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0FCC-3C2B-4E2C-9AA9-0DB2ED3D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48108A-DE63-485D-A0E6-B8204977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6EE6BB-BAC7-4EC1-8F14-DB13297E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A0E872-A677-4D58-963D-B83323E5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3FD9FB-FE9B-4116-8043-72A1197E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EC4D76-D118-4DAA-813F-2D34B03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779C12-E573-4B3D-95AE-DD59EF2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277A29-3E8F-414A-A996-195EDDC7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23CB4C-9B9D-43D0-A91A-E91967D8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F1F3B2-E68F-476F-94C4-A486BDFB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643A-09CE-4F24-97F7-889A5F63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7BD4-1B3D-48BB-AD94-54ED519A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3110-5553-436B-B522-BEA5A74F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FE51-4B5C-4279-89D4-160F5B5B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E5267-2970-4367-B122-BE7FF2FA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731-6F64-477E-940F-AF50CA74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3AF3-BA5D-4CA7-AC8F-34B9DB24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78E51-65E6-40F3-8966-120FFC1F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50F0-5AE2-443B-9B61-03D09EEF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4375B-C6E3-4776-8656-699DB2A3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4767-1D37-446B-AA58-F4880DED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2BCB3-9107-4E04-9DA1-A81AAF99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08037-3522-4D37-9B7A-25869432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8899-704E-49D5-9992-8328FFE9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64661-9274-44DD-8E0D-58BA8A30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7A96C-347F-4190-8D26-5AB8F70E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4FC-A0FA-4E96-B554-56DCB7CD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C737C-47F4-4958-8CA7-B25739EF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5FC48-47AA-47B8-A126-8C49A877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40FF9-BA8D-4469-A9D7-E835C536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518BF-12E0-4E71-B0F3-BEEE764F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F13C9-0B2D-4441-BDDE-E18C0C54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6D72-19C0-45E7-A1BD-78E4F09D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B17E-282F-4D59-992C-D24DD130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138C-4E36-47DD-AC8E-B08DC166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12712-C955-4E93-86A4-3B2A67AD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68845-3DEE-4661-9AA2-28017FD6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910-329C-46AC-AB91-EFF605F8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EB838-9AC1-47FC-961C-17931AB8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5104B-77D9-4132-8BBB-DE78A553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85DEB-990A-483C-9653-E555A8E0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04F56-71F6-40A8-9102-E1E38F9C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8CE59-A309-474F-8C1F-0C437140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E12C2-CA2A-44BE-9CF2-C034B7CB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6959E-2C19-45CB-90A0-099064B7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1E974-2B7E-4123-91FC-23C3529B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5DE26-D572-45F5-AA81-1C97D136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F61E8-6D9E-47B1-A252-738CFDAD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4D1-D02C-4FAE-AE0B-1FCED32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76B32-A372-4107-8878-E522C1B4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E5FAD-ACE8-4304-9943-0CD76325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EA5E2-324F-4D6D-9423-B8806143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4A8F5-65DA-46F6-B44A-A85D350E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B23F3-FCE6-4AFF-B794-9E2AFE5C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A9AFD-FDA9-4A6B-ACE6-D716F14E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05C21-620B-4BD1-9A49-AE93AF8B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53D15-D236-47CA-9F58-BC9E78AF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0B07A-F3E8-4609-8298-39F17533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2AE97-B675-4048-83C5-9F182868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AB3-A559-4E04-AD88-A49695D8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7CED7-2A53-438F-BEE1-AC47409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A234E-CA74-4882-B8DF-2B9A70B4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2ACDB-FF8A-43AF-AECC-C60BCC26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AE285-D9EC-4CEA-BFF4-4FAAF94E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DE30C-68DF-4CBF-B7DF-F19436A5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33FCB-80F2-4959-B6BC-0872686E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8435B-5338-4970-81D8-852DD406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5DE1D-B9B5-4EAF-A056-598A29D7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436F8-1528-4D22-AF26-3F0C750B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BAEB0-F466-448D-957E-F5F98D8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DCD-259C-4D1B-A5B3-85D6F1E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648B9-4E34-44E6-B6B2-1BF5AB6C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9F516-7D97-438D-82D0-0BF1B44B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432B4-777A-4ABA-8F83-3A1F506B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A6B6A-FD84-4104-A43F-55F34C0C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E6040-F493-4F41-B618-C1D16767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75C67-71C8-4EE3-90B8-72B2063C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C53CF-2366-4E65-B7FF-047383F9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DA96F-29C2-4DED-ACBB-5D3B9A3E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EC288-2F51-4208-AE54-D6326C66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2D053-5EB4-4D64-9D13-DB9641B8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0E77-8321-4DCB-B82C-A4188AB23F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A6B1-DF24-4711-A14C-A54A5413220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8DAA-5546-4932-ABE2-527C8248161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32C0-EAEC-4944-9A07-D456C1C11F3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728E-D145-4839-9474-4BA3D1F4ED5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4CAE-4724-4A69-98DD-D3D8CD45094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3291-29D9-460F-AB70-A5485F3F57E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E2C2-7DD7-4904-BDC4-6C75E96539A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78F9-1684-4B69-B6DE-FE16433C368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2274-1499-4D9C-8E7F-967EDAAFFC4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7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903A-8CE0-47CA-B8E5-71BDB27CF592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A7B4-D69F-4F88-BA49-1A105F9646E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60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A9BE-296B-40C1-8AFE-2E92475CC1D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6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6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63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1C4F-3965-4490-A786-BC89D1FBD18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6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6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66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A53F-F74D-427E-A219-27B9C7DBA43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3E0-2215-4425-9C12-2BD1D713808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4273-2CE8-48BF-9379-77138F15835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7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7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75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6102-9CDE-41D1-9E9C-015A792AA32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7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7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78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C857-0561-4A18-9629-747FF18342B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7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8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81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3529-9174-4F98-A1C3-74EB2D64FA2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8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8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84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49C6-0AAD-4FF4-8F82-9B0C2DDB097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8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8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87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84D9-E723-4BE3-88D0-DBDCD767CFC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080F-0362-4CE5-B4A8-DC17E3FB79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3BD7-E8FB-44D6-9D2D-6A05E3258C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ttorio Mu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5170-E557-4189-9E11-AD762F5DF3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A05B-96DE-45B3-9C64-A52A25272BE9}" type="slidenum">
              <a:rPr b="0" lang="it-IT" sz="1400" spc="-1" strike="noStrike">
                <a:solidFill>
                  <a:srgbClr val="8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D40D-8134-4625-930A-58C2E851EC3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CD47-40CE-4195-9D1F-D2FF9B918A2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ABA2-C2C2-437C-995C-39A63D7E5A3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29.xml"/><Relationship Id="rId4" Type="http://schemas.openxmlformats.org/officeDocument/2006/relationships/comments" Target="../comments/comment48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29.xml"/><Relationship Id="rId8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29.xml"/><Relationship Id="rId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0.wmf"/><Relationship Id="rId17" Type="http://schemas.openxmlformats.org/officeDocument/2006/relationships/slideLayout" Target="../slideLayouts/slideLayout2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2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7532-EF3A-4C7F-AB48-7CB554481B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790200" y="25909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Teoria e Tecniche del Riconoscimento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1508040" y="49528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tima non parametrica di model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4"/>
          <p:cNvSpPr/>
          <p:nvPr/>
        </p:nvSpPr>
        <p:spPr>
          <a:xfrm>
            <a:off x="871560" y="457200"/>
            <a:ext cx="824400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acoltà di Scienze MM. FF. N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à di Vero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3-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843B-2A6F-4410-AB50-1A4111F37BD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possibilità per determinare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er ogni possibi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iù intuitiva): si fissa la regione R centrata i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 particolare si fissa il suo volume V), si calcola k dai dati e si st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ù punti ci sono nel volume fissato V, più alta la probabilit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 (Esempio istogramm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no intuitiva): si fissa k, si sceglie R in modo tale che contenga k punti attorno ad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 determina V e si st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ù grande è la regione che devo considerare per trovare k punti, più bassa è la probabilit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1247-564E-4E0E-A635-A04A0BF8065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iamo che la regione R sia un ipercubo di lato h (in uno spazio d-dimensional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amo ottenere una forma analitica per k, il numero di punti che cadono nella regione R, definendo la seguente funzi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rappresenta un ipercubo di lato unitario centrato nell’origine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functi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9" name="Object 2"/>
              <p:cNvSpPr txBox="1"/>
              <p:nvPr/>
            </p:nvSpPr>
            <p:spPr>
              <a:xfrm>
                <a:off x="1351080" y="3832200"/>
                <a:ext cx="67881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&lt;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Object 3"/>
              <p:cNvSpPr txBox="1"/>
              <p:nvPr/>
            </p:nvSpPr>
            <p:spPr>
              <a:xfrm>
                <a:off x="3549600" y="2060640"/>
                <a:ext cx="1714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1" name="Date Placeholder 6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Footer Placeholder 7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9D1A-DA58-4AEE-B5ED-FB29FF30E1C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a funzione può essere specificata meglio definendo tre argomenti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vale 1 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de nell’ipercubo di lat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rato i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ero altrimenti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umero k di punti che stanno nell’ipercubo di lato h (la regione R) centrato i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quind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5" name="Object 2"/>
              <p:cNvSpPr txBox="1"/>
              <p:nvPr/>
            </p:nvSpPr>
            <p:spPr>
              <a:xfrm>
                <a:off x="3251160" y="2048040"/>
                <a:ext cx="191916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Object 3"/>
              <p:cNvSpPr txBox="1"/>
              <p:nvPr/>
            </p:nvSpPr>
            <p:spPr>
              <a:xfrm>
                <a:off x="2222640" y="5005440"/>
                <a:ext cx="30416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7" name="Date Placeholder 6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Footer Placeholder 7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"/>
          <p:cNvSpPr/>
          <p:nvPr/>
        </p:nvSpPr>
        <p:spPr>
          <a:xfrm>
            <a:off x="399960" y="304920"/>
            <a:ext cx="8420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403C-40AE-4256-8C49-51365441A96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/>
          </p:nvPr>
        </p:nvSpPr>
        <p:spPr>
          <a:xfrm>
            <a:off x="38160" y="981000"/>
            <a:ext cx="9710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ituendo nella formula di prima otteniam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o suggerisce un metodo più generale per stimare le densità di probabilità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tere più tipi di funzioni window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tima della pdf è ottenuta come la media di queste funzioni d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ltre parole ogni campione contribuisce alla stima della pdf in un punt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ntributo è diverso a seconda della distanza d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2" name="Object 2"/>
              <p:cNvSpPr txBox="1"/>
              <p:nvPr/>
            </p:nvSpPr>
            <p:spPr>
              <a:xfrm>
                <a:off x="1455840" y="1596960"/>
                <a:ext cx="63118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γ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,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3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572760" y="325080"/>
            <a:ext cx="875988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a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la funzione potenziale per due campioni generic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omettiam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influente per la definizion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costruire una buona approssimazione dobbiamo porre alcuni vincoli sulla forma d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,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arg max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oè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è massima per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se |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&lt;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cioè se i due vettori dei campioni sono "abbastanza" vicin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questo vincolo serve a garantire c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n vari bruscamente o possa avere discontinuità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contin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)                                    condizione di normalizz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0, 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molto lontana d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50C5-DF69-44EF-AC09-A64C4C6285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Object 5"/>
              <p:cNvSpPr txBox="1"/>
              <p:nvPr/>
            </p:nvSpPr>
            <p:spPr>
              <a:xfrm>
                <a:off x="1631880" y="5092560"/>
                <a:ext cx="1920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35AE-A88C-405B-8391-0EF2254DCC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579600" y="895320"/>
            <a:ext cx="8759520" cy="54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istono diverse possibili forme di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ngono conto di questi vincoli, riferendoci al caso monodimensiona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 seguito, per semplicità, ritrasformo la funzion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,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in mod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he abbia come variabile indipendente una sola variabil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rappresentata dalla norma euclidea della differenza tra i due vettori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i.e.,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|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627E-8FF1-437D-BCC4-92D1C27B1F6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579600" y="1426680"/>
            <a:ext cx="67276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tangol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angol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onenzial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 di funzioni potenzial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8" name="Object 2"/>
              <p:cNvSpPr txBox="1"/>
              <p:nvPr/>
            </p:nvSpPr>
            <p:spPr>
              <a:xfrm>
                <a:off x="1195560" y="1176480"/>
                <a:ext cx="22618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,5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Object 3"/>
              <p:cNvSpPr txBox="1"/>
              <p:nvPr/>
            </p:nvSpPr>
            <p:spPr>
              <a:xfrm>
                <a:off x="1217520" y="2685960"/>
                <a:ext cx="24004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Object 4"/>
              <p:cNvSpPr txBox="1"/>
              <p:nvPr/>
            </p:nvSpPr>
            <p:spPr>
              <a:xfrm>
                <a:off x="1139760" y="4043520"/>
                <a:ext cx="232272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Object 5"/>
              <p:cNvSpPr txBox="1"/>
              <p:nvPr/>
            </p:nvSpPr>
            <p:spPr>
              <a:xfrm>
                <a:off x="1311120" y="5375160"/>
                <a:ext cx="1684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22" name="Group 8"/>
          <p:cNvGrpSpPr/>
          <p:nvPr/>
        </p:nvGrpSpPr>
        <p:grpSpPr>
          <a:xfrm>
            <a:off x="6278400" y="770040"/>
            <a:ext cx="2749680" cy="1422360"/>
            <a:chOff x="6278400" y="770040"/>
            <a:chExt cx="2749680" cy="1422360"/>
          </a:xfrm>
        </p:grpSpPr>
        <p:sp>
          <p:nvSpPr>
            <p:cNvPr id="1323" name="Freeform 9"/>
            <p:cNvSpPr/>
            <p:nvPr/>
          </p:nvSpPr>
          <p:spPr>
            <a:xfrm>
              <a:off x="7531200" y="770040"/>
              <a:ext cx="69840" cy="71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4" h="45">
                  <a:moveTo>
                    <a:pt x="0" y="45"/>
                  </a:moveTo>
                  <a:lnTo>
                    <a:pt x="22" y="0"/>
                  </a:lnTo>
                  <a:lnTo>
                    <a:pt x="4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Freeform 10"/>
            <p:cNvSpPr/>
            <p:nvPr/>
          </p:nvSpPr>
          <p:spPr>
            <a:xfrm>
              <a:off x="7531200" y="770040"/>
              <a:ext cx="69840" cy="71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4" h="45">
                  <a:moveTo>
                    <a:pt x="0" y="45"/>
                  </a:moveTo>
                  <a:lnTo>
                    <a:pt x="22" y="0"/>
                  </a:lnTo>
                  <a:lnTo>
                    <a:pt x="44" y="45"/>
                  </a:lnTo>
                  <a:lnTo>
                    <a:pt x="0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11"/>
            <p:cNvSpPr/>
            <p:nvPr/>
          </p:nvSpPr>
          <p:spPr>
            <a:xfrm>
              <a:off x="7566120" y="804960"/>
              <a:ext cx="1440" cy="132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Freeform 12"/>
            <p:cNvSpPr/>
            <p:nvPr/>
          </p:nvSpPr>
          <p:spPr>
            <a:xfrm>
              <a:off x="8955000" y="1915920"/>
              <a:ext cx="73080" cy="71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Freeform 13"/>
            <p:cNvSpPr/>
            <p:nvPr/>
          </p:nvSpPr>
          <p:spPr>
            <a:xfrm>
              <a:off x="8955000" y="1915920"/>
              <a:ext cx="73080" cy="71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Line 14"/>
            <p:cNvSpPr/>
            <p:nvPr/>
          </p:nvSpPr>
          <p:spPr>
            <a:xfrm>
              <a:off x="6278400" y="1950840"/>
              <a:ext cx="2713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15"/>
            <p:cNvSpPr/>
            <p:nvPr/>
          </p:nvSpPr>
          <p:spPr>
            <a:xfrm>
              <a:off x="8804880" y="19969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16"/>
            <p:cNvSpPr/>
            <p:nvPr/>
          </p:nvSpPr>
          <p:spPr>
            <a:xfrm>
              <a:off x="6897600" y="1473120"/>
              <a:ext cx="1332000" cy="477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17"/>
            <p:cNvSpPr/>
            <p:nvPr/>
          </p:nvSpPr>
          <p:spPr>
            <a:xfrm>
              <a:off x="6811920" y="2039760"/>
              <a:ext cx="20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18"/>
            <p:cNvSpPr/>
            <p:nvPr/>
          </p:nvSpPr>
          <p:spPr>
            <a:xfrm>
              <a:off x="8139240" y="2039760"/>
              <a:ext cx="16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19"/>
            <p:cNvSpPr/>
            <p:nvPr/>
          </p:nvSpPr>
          <p:spPr>
            <a:xfrm>
              <a:off x="7107840" y="7700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20"/>
            <p:cNvSpPr/>
            <p:nvPr/>
          </p:nvSpPr>
          <p:spPr>
            <a:xfrm>
              <a:off x="7253640" y="78264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21"/>
            <p:cNvSpPr/>
            <p:nvPr/>
          </p:nvSpPr>
          <p:spPr>
            <a:xfrm>
              <a:off x="7604640" y="12650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Group 22"/>
          <p:cNvGrpSpPr/>
          <p:nvPr/>
        </p:nvGrpSpPr>
        <p:grpSpPr>
          <a:xfrm>
            <a:off x="6302520" y="2246400"/>
            <a:ext cx="2747880" cy="1419120"/>
            <a:chOff x="6302520" y="2246400"/>
            <a:chExt cx="2747880" cy="1419120"/>
          </a:xfrm>
        </p:grpSpPr>
        <p:sp>
          <p:nvSpPr>
            <p:cNvPr id="1337" name="Rectangle 23"/>
            <p:cNvSpPr/>
            <p:nvPr/>
          </p:nvSpPr>
          <p:spPr>
            <a:xfrm>
              <a:off x="7354440" y="2627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Freeform 24"/>
            <p:cNvSpPr/>
            <p:nvPr/>
          </p:nvSpPr>
          <p:spPr>
            <a:xfrm>
              <a:off x="7553160" y="224640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3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Freeform 25"/>
            <p:cNvSpPr/>
            <p:nvPr/>
          </p:nvSpPr>
          <p:spPr>
            <a:xfrm>
              <a:off x="7553160" y="224640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3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Line 26"/>
            <p:cNvSpPr/>
            <p:nvPr/>
          </p:nvSpPr>
          <p:spPr>
            <a:xfrm>
              <a:off x="7589880" y="228096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Freeform 27"/>
            <p:cNvSpPr/>
            <p:nvPr/>
          </p:nvSpPr>
          <p:spPr>
            <a:xfrm>
              <a:off x="8978760" y="339084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Freeform 28"/>
            <p:cNvSpPr/>
            <p:nvPr/>
          </p:nvSpPr>
          <p:spPr>
            <a:xfrm>
              <a:off x="8978760" y="339084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29"/>
            <p:cNvSpPr/>
            <p:nvPr/>
          </p:nvSpPr>
          <p:spPr>
            <a:xfrm>
              <a:off x="6302520" y="3425760"/>
              <a:ext cx="2712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Rectangle 30"/>
            <p:cNvSpPr/>
            <p:nvPr/>
          </p:nvSpPr>
          <p:spPr>
            <a:xfrm>
              <a:off x="8828640" y="3471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Rectangle 31"/>
            <p:cNvSpPr/>
            <p:nvPr/>
          </p:nvSpPr>
          <p:spPr>
            <a:xfrm>
              <a:off x="6834240" y="3512880"/>
              <a:ext cx="20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Rectangle 32"/>
            <p:cNvSpPr/>
            <p:nvPr/>
          </p:nvSpPr>
          <p:spPr>
            <a:xfrm>
              <a:off x="8164440" y="3512880"/>
              <a:ext cx="16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33"/>
            <p:cNvSpPr/>
            <p:nvPr/>
          </p:nvSpPr>
          <p:spPr>
            <a:xfrm flipH="1">
              <a:off x="6905160" y="2663640"/>
              <a:ext cx="669960" cy="79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34"/>
            <p:cNvSpPr/>
            <p:nvPr/>
          </p:nvSpPr>
          <p:spPr>
            <a:xfrm>
              <a:off x="7575480" y="2663640"/>
              <a:ext cx="671400" cy="79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Rectangle 35"/>
            <p:cNvSpPr/>
            <p:nvPr/>
          </p:nvSpPr>
          <p:spPr>
            <a:xfrm>
              <a:off x="7178760" y="228420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Rectangle 36"/>
            <p:cNvSpPr/>
            <p:nvPr/>
          </p:nvSpPr>
          <p:spPr>
            <a:xfrm>
              <a:off x="7323480" y="229680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Group 37"/>
          <p:cNvGrpSpPr/>
          <p:nvPr/>
        </p:nvGrpSpPr>
        <p:grpSpPr>
          <a:xfrm>
            <a:off x="6265800" y="3700440"/>
            <a:ext cx="3083040" cy="1362240"/>
            <a:chOff x="6265800" y="3700440"/>
            <a:chExt cx="3083040" cy="1362240"/>
          </a:xfrm>
        </p:grpSpPr>
        <p:sp>
          <p:nvSpPr>
            <p:cNvPr id="1352" name="Freeform 38"/>
            <p:cNvSpPr/>
            <p:nvPr/>
          </p:nvSpPr>
          <p:spPr>
            <a:xfrm>
              <a:off x="7585200" y="370692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Freeform 39"/>
            <p:cNvSpPr/>
            <p:nvPr/>
          </p:nvSpPr>
          <p:spPr>
            <a:xfrm>
              <a:off x="7585200" y="370692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40"/>
            <p:cNvSpPr/>
            <p:nvPr/>
          </p:nvSpPr>
          <p:spPr>
            <a:xfrm>
              <a:off x="7620120" y="3741840"/>
              <a:ext cx="1440" cy="132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Freeform 41"/>
            <p:cNvSpPr/>
            <p:nvPr/>
          </p:nvSpPr>
          <p:spPr>
            <a:xfrm>
              <a:off x="9277560" y="4818240"/>
              <a:ext cx="71280" cy="71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5" h="45">
                  <a:moveTo>
                    <a:pt x="0" y="0"/>
                  </a:moveTo>
                  <a:lnTo>
                    <a:pt x="45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Freeform 42"/>
            <p:cNvSpPr/>
            <p:nvPr/>
          </p:nvSpPr>
          <p:spPr>
            <a:xfrm>
              <a:off x="9277560" y="4818240"/>
              <a:ext cx="71280" cy="71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5" h="45">
                  <a:moveTo>
                    <a:pt x="0" y="0"/>
                  </a:moveTo>
                  <a:lnTo>
                    <a:pt x="45" y="22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43"/>
            <p:cNvSpPr/>
            <p:nvPr/>
          </p:nvSpPr>
          <p:spPr>
            <a:xfrm>
              <a:off x="6265800" y="4853160"/>
              <a:ext cx="304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Rectangle 44"/>
            <p:cNvSpPr/>
            <p:nvPr/>
          </p:nvSpPr>
          <p:spPr>
            <a:xfrm>
              <a:off x="9128880" y="4865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Freeform 45"/>
            <p:cNvSpPr/>
            <p:nvPr/>
          </p:nvSpPr>
          <p:spPr>
            <a:xfrm>
              <a:off x="6334200" y="4165560"/>
              <a:ext cx="938160" cy="642960"/>
            </a:xfrm>
            <a:custGeom>
              <a:avLst/>
              <a:gdLst>
                <a:gd name="textAreaLeft" fmla="*/ 0 w 938160"/>
                <a:gd name="textAreaRight" fmla="*/ 938160 w 93816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591" h="405">
                  <a:moveTo>
                    <a:pt x="0" y="405"/>
                  </a:moveTo>
                  <a:lnTo>
                    <a:pt x="36" y="403"/>
                  </a:lnTo>
                  <a:lnTo>
                    <a:pt x="74" y="398"/>
                  </a:lnTo>
                  <a:lnTo>
                    <a:pt x="110" y="390"/>
                  </a:lnTo>
                  <a:lnTo>
                    <a:pt x="147" y="379"/>
                  </a:lnTo>
                  <a:lnTo>
                    <a:pt x="184" y="365"/>
                  </a:lnTo>
                  <a:lnTo>
                    <a:pt x="221" y="347"/>
                  </a:lnTo>
                  <a:lnTo>
                    <a:pt x="258" y="328"/>
                  </a:lnTo>
                  <a:lnTo>
                    <a:pt x="295" y="304"/>
                  </a:lnTo>
                  <a:lnTo>
                    <a:pt x="332" y="277"/>
                  </a:lnTo>
                  <a:lnTo>
                    <a:pt x="368" y="245"/>
                  </a:lnTo>
                  <a:lnTo>
                    <a:pt x="406" y="212"/>
                  </a:lnTo>
                  <a:lnTo>
                    <a:pt x="443" y="176"/>
                  </a:lnTo>
                  <a:lnTo>
                    <a:pt x="479" y="138"/>
                  </a:lnTo>
                  <a:lnTo>
                    <a:pt x="516" y="94"/>
                  </a:lnTo>
                  <a:lnTo>
                    <a:pt x="553" y="49"/>
                  </a:lnTo>
                  <a:lnTo>
                    <a:pt x="59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46"/>
            <p:cNvSpPr/>
            <p:nvPr/>
          </p:nvSpPr>
          <p:spPr>
            <a:xfrm>
              <a:off x="6334200" y="480708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47"/>
            <p:cNvSpPr/>
            <p:nvPr/>
          </p:nvSpPr>
          <p:spPr>
            <a:xfrm>
              <a:off x="7270920" y="416412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Freeform 48"/>
            <p:cNvSpPr/>
            <p:nvPr/>
          </p:nvSpPr>
          <p:spPr>
            <a:xfrm>
              <a:off x="7274160" y="3925800"/>
              <a:ext cx="699840" cy="26064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441" h="164">
                  <a:moveTo>
                    <a:pt x="0" y="164"/>
                  </a:moveTo>
                  <a:lnTo>
                    <a:pt x="27" y="124"/>
                  </a:lnTo>
                  <a:lnTo>
                    <a:pt x="55" y="91"/>
                  </a:lnTo>
                  <a:lnTo>
                    <a:pt x="82" y="63"/>
                  </a:lnTo>
                  <a:lnTo>
                    <a:pt x="110" y="41"/>
                  </a:lnTo>
                  <a:lnTo>
                    <a:pt x="139" y="22"/>
                  </a:lnTo>
                  <a:lnTo>
                    <a:pt x="165" y="11"/>
                  </a:lnTo>
                  <a:lnTo>
                    <a:pt x="194" y="2"/>
                  </a:lnTo>
                  <a:lnTo>
                    <a:pt x="222" y="0"/>
                  </a:lnTo>
                  <a:lnTo>
                    <a:pt x="248" y="2"/>
                  </a:lnTo>
                  <a:lnTo>
                    <a:pt x="276" y="11"/>
                  </a:lnTo>
                  <a:lnTo>
                    <a:pt x="303" y="22"/>
                  </a:lnTo>
                  <a:lnTo>
                    <a:pt x="331" y="41"/>
                  </a:lnTo>
                  <a:lnTo>
                    <a:pt x="358" y="63"/>
                  </a:lnTo>
                  <a:lnTo>
                    <a:pt x="386" y="91"/>
                  </a:lnTo>
                  <a:lnTo>
                    <a:pt x="413" y="124"/>
                  </a:lnTo>
                  <a:lnTo>
                    <a:pt x="441" y="1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Freeform 49"/>
            <p:cNvSpPr/>
            <p:nvPr/>
          </p:nvSpPr>
          <p:spPr>
            <a:xfrm>
              <a:off x="7274160" y="4181400"/>
              <a:ext cx="1440" cy="6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Freeform 50"/>
            <p:cNvSpPr/>
            <p:nvPr/>
          </p:nvSpPr>
          <p:spPr>
            <a:xfrm>
              <a:off x="7974000" y="4181400"/>
              <a:ext cx="1800" cy="6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0"/>
                  </a:move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Freeform 51"/>
            <p:cNvSpPr/>
            <p:nvPr/>
          </p:nvSpPr>
          <p:spPr>
            <a:xfrm>
              <a:off x="7974000" y="4186440"/>
              <a:ext cx="1174680" cy="59976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740" h="378">
                  <a:moveTo>
                    <a:pt x="0" y="0"/>
                  </a:moveTo>
                  <a:lnTo>
                    <a:pt x="45" y="46"/>
                  </a:lnTo>
                  <a:lnTo>
                    <a:pt x="92" y="90"/>
                  </a:lnTo>
                  <a:lnTo>
                    <a:pt x="137" y="132"/>
                  </a:lnTo>
                  <a:lnTo>
                    <a:pt x="184" y="169"/>
                  </a:lnTo>
                  <a:lnTo>
                    <a:pt x="230" y="203"/>
                  </a:lnTo>
                  <a:lnTo>
                    <a:pt x="277" y="236"/>
                  </a:lnTo>
                  <a:lnTo>
                    <a:pt x="323" y="264"/>
                  </a:lnTo>
                  <a:lnTo>
                    <a:pt x="370" y="289"/>
                  </a:lnTo>
                  <a:lnTo>
                    <a:pt x="414" y="310"/>
                  </a:lnTo>
                  <a:lnTo>
                    <a:pt x="461" y="330"/>
                  </a:lnTo>
                  <a:lnTo>
                    <a:pt x="508" y="345"/>
                  </a:lnTo>
                  <a:lnTo>
                    <a:pt x="554" y="359"/>
                  </a:lnTo>
                  <a:lnTo>
                    <a:pt x="601" y="368"/>
                  </a:lnTo>
                  <a:lnTo>
                    <a:pt x="647" y="375"/>
                  </a:lnTo>
                  <a:lnTo>
                    <a:pt x="694" y="377"/>
                  </a:lnTo>
                  <a:lnTo>
                    <a:pt x="740" y="3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Freeform 52"/>
            <p:cNvSpPr/>
            <p:nvPr/>
          </p:nvSpPr>
          <p:spPr>
            <a:xfrm>
              <a:off x="7974000" y="4181400"/>
              <a:ext cx="1800" cy="6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Freeform 53"/>
            <p:cNvSpPr/>
            <p:nvPr/>
          </p:nvSpPr>
          <p:spPr>
            <a:xfrm>
              <a:off x="9148680" y="478476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Rectangle 54"/>
            <p:cNvSpPr/>
            <p:nvPr/>
          </p:nvSpPr>
          <p:spPr>
            <a:xfrm>
              <a:off x="7184160" y="37004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Rectangle 55"/>
            <p:cNvSpPr/>
            <p:nvPr/>
          </p:nvSpPr>
          <p:spPr>
            <a:xfrm>
              <a:off x="7329960" y="371304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Group 56"/>
          <p:cNvGrpSpPr/>
          <p:nvPr/>
        </p:nvGrpSpPr>
        <p:grpSpPr>
          <a:xfrm>
            <a:off x="6275520" y="5178600"/>
            <a:ext cx="2950560" cy="1355040"/>
            <a:chOff x="6275520" y="5178600"/>
            <a:chExt cx="2950560" cy="1355040"/>
          </a:xfrm>
        </p:grpSpPr>
        <p:sp>
          <p:nvSpPr>
            <p:cNvPr id="1371" name="Freeform 57"/>
            <p:cNvSpPr/>
            <p:nvPr/>
          </p:nvSpPr>
          <p:spPr>
            <a:xfrm>
              <a:off x="7594200" y="5178600"/>
              <a:ext cx="71280" cy="69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Freeform 58"/>
            <p:cNvSpPr/>
            <p:nvPr/>
          </p:nvSpPr>
          <p:spPr>
            <a:xfrm>
              <a:off x="7594200" y="5178600"/>
              <a:ext cx="71280" cy="69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Line 59"/>
            <p:cNvSpPr/>
            <p:nvPr/>
          </p:nvSpPr>
          <p:spPr>
            <a:xfrm>
              <a:off x="7629120" y="521316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Freeform 60"/>
            <p:cNvSpPr/>
            <p:nvPr/>
          </p:nvSpPr>
          <p:spPr>
            <a:xfrm>
              <a:off x="9153360" y="6289200"/>
              <a:ext cx="72720" cy="71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Freeform 61"/>
            <p:cNvSpPr/>
            <p:nvPr/>
          </p:nvSpPr>
          <p:spPr>
            <a:xfrm>
              <a:off x="9153360" y="6289200"/>
              <a:ext cx="72720" cy="71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Line 62"/>
            <p:cNvSpPr/>
            <p:nvPr/>
          </p:nvSpPr>
          <p:spPr>
            <a:xfrm>
              <a:off x="6275520" y="6324120"/>
              <a:ext cx="2912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Rectangle 63"/>
            <p:cNvSpPr/>
            <p:nvPr/>
          </p:nvSpPr>
          <p:spPr>
            <a:xfrm>
              <a:off x="8935920" y="6338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Freeform 64"/>
            <p:cNvSpPr/>
            <p:nvPr/>
          </p:nvSpPr>
          <p:spPr>
            <a:xfrm>
              <a:off x="6410160" y="5463720"/>
              <a:ext cx="1206000" cy="795240"/>
            </a:xfrm>
            <a:custGeom>
              <a:avLst/>
              <a:gdLst>
                <a:gd name="textAreaLeft" fmla="*/ 0 w 1206000"/>
                <a:gd name="textAreaRight" fmla="*/ 1206360 w 120600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760" h="501">
                  <a:moveTo>
                    <a:pt x="760" y="0"/>
                  </a:moveTo>
                  <a:lnTo>
                    <a:pt x="741" y="54"/>
                  </a:lnTo>
                  <a:lnTo>
                    <a:pt x="719" y="105"/>
                  </a:lnTo>
                  <a:lnTo>
                    <a:pt x="694" y="152"/>
                  </a:lnTo>
                  <a:lnTo>
                    <a:pt x="664" y="196"/>
                  </a:lnTo>
                  <a:lnTo>
                    <a:pt x="631" y="238"/>
                  </a:lnTo>
                  <a:lnTo>
                    <a:pt x="592" y="277"/>
                  </a:lnTo>
                  <a:lnTo>
                    <a:pt x="551" y="313"/>
                  </a:lnTo>
                  <a:lnTo>
                    <a:pt x="507" y="347"/>
                  </a:lnTo>
                  <a:lnTo>
                    <a:pt x="456" y="376"/>
                  </a:lnTo>
                  <a:lnTo>
                    <a:pt x="402" y="402"/>
                  </a:lnTo>
                  <a:lnTo>
                    <a:pt x="346" y="425"/>
                  </a:lnTo>
                  <a:lnTo>
                    <a:pt x="285" y="446"/>
                  </a:lnTo>
                  <a:lnTo>
                    <a:pt x="219" y="465"/>
                  </a:lnTo>
                  <a:lnTo>
                    <a:pt x="149" y="480"/>
                  </a:lnTo>
                  <a:lnTo>
                    <a:pt x="76" y="491"/>
                  </a:lnTo>
                  <a:lnTo>
                    <a:pt x="0" y="5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Freeform 65"/>
            <p:cNvSpPr/>
            <p:nvPr/>
          </p:nvSpPr>
          <p:spPr>
            <a:xfrm>
              <a:off x="7615080" y="5463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Freeform 66"/>
            <p:cNvSpPr/>
            <p:nvPr/>
          </p:nvSpPr>
          <p:spPr>
            <a:xfrm>
              <a:off x="6410160" y="6256080"/>
              <a:ext cx="1080" cy="4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Freeform 67"/>
            <p:cNvSpPr/>
            <p:nvPr/>
          </p:nvSpPr>
          <p:spPr>
            <a:xfrm>
              <a:off x="7616520" y="5463720"/>
              <a:ext cx="1206360" cy="79524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760" h="501">
                  <a:moveTo>
                    <a:pt x="0" y="0"/>
                  </a:moveTo>
                  <a:lnTo>
                    <a:pt x="16" y="54"/>
                  </a:lnTo>
                  <a:lnTo>
                    <a:pt x="40" y="105"/>
                  </a:lnTo>
                  <a:lnTo>
                    <a:pt x="65" y="152"/>
                  </a:lnTo>
                  <a:lnTo>
                    <a:pt x="94" y="196"/>
                  </a:lnTo>
                  <a:lnTo>
                    <a:pt x="128" y="238"/>
                  </a:lnTo>
                  <a:lnTo>
                    <a:pt x="167" y="277"/>
                  </a:lnTo>
                  <a:lnTo>
                    <a:pt x="206" y="313"/>
                  </a:lnTo>
                  <a:lnTo>
                    <a:pt x="253" y="347"/>
                  </a:lnTo>
                  <a:lnTo>
                    <a:pt x="303" y="376"/>
                  </a:lnTo>
                  <a:lnTo>
                    <a:pt x="355" y="402"/>
                  </a:lnTo>
                  <a:lnTo>
                    <a:pt x="412" y="425"/>
                  </a:lnTo>
                  <a:lnTo>
                    <a:pt x="474" y="446"/>
                  </a:lnTo>
                  <a:lnTo>
                    <a:pt x="538" y="465"/>
                  </a:lnTo>
                  <a:lnTo>
                    <a:pt x="609" y="480"/>
                  </a:lnTo>
                  <a:lnTo>
                    <a:pt x="683" y="491"/>
                  </a:lnTo>
                  <a:lnTo>
                    <a:pt x="760" y="5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Freeform 68"/>
            <p:cNvSpPr/>
            <p:nvPr/>
          </p:nvSpPr>
          <p:spPr>
            <a:xfrm>
              <a:off x="7615080" y="5463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Freeform 69"/>
            <p:cNvSpPr/>
            <p:nvPr/>
          </p:nvSpPr>
          <p:spPr>
            <a:xfrm>
              <a:off x="8823240" y="6256080"/>
              <a:ext cx="1080" cy="4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Rectangle 70"/>
            <p:cNvSpPr/>
            <p:nvPr/>
          </p:nvSpPr>
          <p:spPr>
            <a:xfrm>
              <a:off x="7194960" y="523836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Rectangle 71"/>
            <p:cNvSpPr/>
            <p:nvPr/>
          </p:nvSpPr>
          <p:spPr>
            <a:xfrm>
              <a:off x="7342200" y="525096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Rectangle 72"/>
            <p:cNvSpPr/>
            <p:nvPr/>
          </p:nvSpPr>
          <p:spPr>
            <a:xfrm>
              <a:off x="7701120" y="534492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Rectangle 73"/>
          <p:cNvSpPr/>
          <p:nvPr/>
        </p:nvSpPr>
        <p:spPr>
          <a:xfrm>
            <a:off x="3284280" y="5346720"/>
            <a:ext cx="252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s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Date Placeholder 7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Footer Placeholder 7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EF63-2A9E-468F-953E-4BA125C2861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/>
          </p:nvPr>
        </p:nvSpPr>
        <p:spPr>
          <a:xfrm>
            <a:off x="606600" y="442440"/>
            <a:ext cx="8953200" cy="59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6)                            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2" name="Object 2"/>
              <p:cNvSpPr txBox="1"/>
              <p:nvPr/>
            </p:nvSpPr>
            <p:spPr>
              <a:xfrm>
                <a:off x="1341360" y="331920"/>
                <a:ext cx="2438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Object 3"/>
              <p:cNvSpPr txBox="1"/>
              <p:nvPr/>
            </p:nvSpPr>
            <p:spPr>
              <a:xfrm>
                <a:off x="1125360" y="1919160"/>
                <a:ext cx="297360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y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num>
                              <m:den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4" name="Text Box 5"/>
          <p:cNvSpPr/>
          <p:nvPr/>
        </p:nvSpPr>
        <p:spPr>
          <a:xfrm>
            <a:off x="4233960" y="333360"/>
            <a:ext cx="2314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zione di Cau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6"/>
          <p:cNvSpPr/>
          <p:nvPr/>
        </p:nvSpPr>
        <p:spPr>
          <a:xfrm>
            <a:off x="4086360" y="2394000"/>
            <a:ext cx="243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zione di tipo (sin y/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Group 7"/>
          <p:cNvGrpSpPr/>
          <p:nvPr/>
        </p:nvGrpSpPr>
        <p:grpSpPr>
          <a:xfrm>
            <a:off x="6532560" y="279360"/>
            <a:ext cx="2951280" cy="1393200"/>
            <a:chOff x="6532560" y="279360"/>
            <a:chExt cx="2951280" cy="1393200"/>
          </a:xfrm>
        </p:grpSpPr>
        <p:sp>
          <p:nvSpPr>
            <p:cNvPr id="1397" name="Freeform 8"/>
            <p:cNvSpPr/>
            <p:nvPr/>
          </p:nvSpPr>
          <p:spPr>
            <a:xfrm>
              <a:off x="7851960" y="27936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Freeform 9"/>
            <p:cNvSpPr/>
            <p:nvPr/>
          </p:nvSpPr>
          <p:spPr>
            <a:xfrm>
              <a:off x="7851960" y="27936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Line 10"/>
            <p:cNvSpPr/>
            <p:nvPr/>
          </p:nvSpPr>
          <p:spPr>
            <a:xfrm>
              <a:off x="7886880" y="314280"/>
              <a:ext cx="1440" cy="132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Freeform 11"/>
            <p:cNvSpPr/>
            <p:nvPr/>
          </p:nvSpPr>
          <p:spPr>
            <a:xfrm>
              <a:off x="9410760" y="139032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6" h="44">
                  <a:moveTo>
                    <a:pt x="0" y="0"/>
                  </a:moveTo>
                  <a:lnTo>
                    <a:pt x="46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Freeform 12"/>
            <p:cNvSpPr/>
            <p:nvPr/>
          </p:nvSpPr>
          <p:spPr>
            <a:xfrm>
              <a:off x="9410760" y="139032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6" h="44">
                  <a:moveTo>
                    <a:pt x="0" y="0"/>
                  </a:moveTo>
                  <a:lnTo>
                    <a:pt x="46" y="22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Line 13"/>
            <p:cNvSpPr/>
            <p:nvPr/>
          </p:nvSpPr>
          <p:spPr>
            <a:xfrm>
              <a:off x="6532560" y="1425240"/>
              <a:ext cx="291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Rectangle 14"/>
            <p:cNvSpPr/>
            <p:nvPr/>
          </p:nvSpPr>
          <p:spPr>
            <a:xfrm>
              <a:off x="9127080" y="15048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Freeform 15"/>
            <p:cNvSpPr/>
            <p:nvPr/>
          </p:nvSpPr>
          <p:spPr>
            <a:xfrm>
              <a:off x="6667560" y="1095120"/>
              <a:ext cx="873360" cy="26676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50" h="168">
                  <a:moveTo>
                    <a:pt x="0" y="168"/>
                  </a:moveTo>
                  <a:lnTo>
                    <a:pt x="34" y="167"/>
                  </a:lnTo>
                  <a:lnTo>
                    <a:pt x="69" y="166"/>
                  </a:lnTo>
                  <a:lnTo>
                    <a:pt x="103" y="161"/>
                  </a:lnTo>
                  <a:lnTo>
                    <a:pt x="138" y="156"/>
                  </a:lnTo>
                  <a:lnTo>
                    <a:pt x="172" y="152"/>
                  </a:lnTo>
                  <a:lnTo>
                    <a:pt x="208" y="145"/>
                  </a:lnTo>
                  <a:lnTo>
                    <a:pt x="240" y="136"/>
                  </a:lnTo>
                  <a:lnTo>
                    <a:pt x="276" y="126"/>
                  </a:lnTo>
                  <a:lnTo>
                    <a:pt x="310" y="114"/>
                  </a:lnTo>
                  <a:lnTo>
                    <a:pt x="344" y="101"/>
                  </a:lnTo>
                  <a:lnTo>
                    <a:pt x="379" y="89"/>
                  </a:lnTo>
                  <a:lnTo>
                    <a:pt x="413" y="73"/>
                  </a:lnTo>
                  <a:lnTo>
                    <a:pt x="446" y="57"/>
                  </a:lnTo>
                  <a:lnTo>
                    <a:pt x="481" y="38"/>
                  </a:lnTo>
                  <a:lnTo>
                    <a:pt x="515" y="19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Freeform 16"/>
            <p:cNvSpPr/>
            <p:nvPr/>
          </p:nvSpPr>
          <p:spPr>
            <a:xfrm>
              <a:off x="6667560" y="1360440"/>
              <a:ext cx="1800" cy="28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Freeform 17"/>
            <p:cNvSpPr/>
            <p:nvPr/>
          </p:nvSpPr>
          <p:spPr>
            <a:xfrm>
              <a:off x="7540920" y="1091880"/>
              <a:ext cx="1440" cy="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Freeform 18"/>
            <p:cNvSpPr/>
            <p:nvPr/>
          </p:nvSpPr>
          <p:spPr>
            <a:xfrm>
              <a:off x="7540920" y="963360"/>
              <a:ext cx="699840" cy="13356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441" h="84">
                  <a:moveTo>
                    <a:pt x="0" y="84"/>
                  </a:moveTo>
                  <a:lnTo>
                    <a:pt x="27" y="63"/>
                  </a:lnTo>
                  <a:lnTo>
                    <a:pt x="55" y="46"/>
                  </a:lnTo>
                  <a:lnTo>
                    <a:pt x="82" y="31"/>
                  </a:lnTo>
                  <a:lnTo>
                    <a:pt x="110" y="21"/>
                  </a:lnTo>
                  <a:lnTo>
                    <a:pt x="139" y="10"/>
                  </a:lnTo>
                  <a:lnTo>
                    <a:pt x="165" y="3"/>
                  </a:lnTo>
                  <a:lnTo>
                    <a:pt x="194" y="0"/>
                  </a:lnTo>
                  <a:lnTo>
                    <a:pt x="222" y="0"/>
                  </a:lnTo>
                  <a:lnTo>
                    <a:pt x="248" y="0"/>
                  </a:lnTo>
                  <a:lnTo>
                    <a:pt x="276" y="3"/>
                  </a:lnTo>
                  <a:lnTo>
                    <a:pt x="303" y="10"/>
                  </a:lnTo>
                  <a:lnTo>
                    <a:pt x="331" y="21"/>
                  </a:lnTo>
                  <a:lnTo>
                    <a:pt x="358" y="31"/>
                  </a:lnTo>
                  <a:lnTo>
                    <a:pt x="386" y="46"/>
                  </a:lnTo>
                  <a:lnTo>
                    <a:pt x="413" y="63"/>
                  </a:lnTo>
                  <a:lnTo>
                    <a:pt x="441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Freeform 19"/>
            <p:cNvSpPr/>
            <p:nvPr/>
          </p:nvSpPr>
          <p:spPr>
            <a:xfrm>
              <a:off x="7540920" y="10951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Freeform 20"/>
            <p:cNvSpPr/>
            <p:nvPr/>
          </p:nvSpPr>
          <p:spPr>
            <a:xfrm>
              <a:off x="8240760" y="10951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Freeform 21"/>
            <p:cNvSpPr/>
            <p:nvPr/>
          </p:nvSpPr>
          <p:spPr>
            <a:xfrm>
              <a:off x="8240760" y="1095120"/>
              <a:ext cx="952560" cy="26676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600" h="168">
                  <a:moveTo>
                    <a:pt x="0" y="0"/>
                  </a:moveTo>
                  <a:lnTo>
                    <a:pt x="37" y="19"/>
                  </a:lnTo>
                  <a:lnTo>
                    <a:pt x="74" y="38"/>
                  </a:lnTo>
                  <a:lnTo>
                    <a:pt x="110" y="57"/>
                  </a:lnTo>
                  <a:lnTo>
                    <a:pt x="149" y="73"/>
                  </a:lnTo>
                  <a:lnTo>
                    <a:pt x="187" y="89"/>
                  </a:lnTo>
                  <a:lnTo>
                    <a:pt x="223" y="103"/>
                  </a:lnTo>
                  <a:lnTo>
                    <a:pt x="262" y="115"/>
                  </a:lnTo>
                  <a:lnTo>
                    <a:pt x="299" y="127"/>
                  </a:lnTo>
                  <a:lnTo>
                    <a:pt x="336" y="138"/>
                  </a:lnTo>
                  <a:lnTo>
                    <a:pt x="374" y="146"/>
                  </a:lnTo>
                  <a:lnTo>
                    <a:pt x="411" y="153"/>
                  </a:lnTo>
                  <a:lnTo>
                    <a:pt x="448" y="159"/>
                  </a:lnTo>
                  <a:lnTo>
                    <a:pt x="487" y="162"/>
                  </a:lnTo>
                  <a:lnTo>
                    <a:pt x="523" y="166"/>
                  </a:lnTo>
                  <a:lnTo>
                    <a:pt x="561" y="167"/>
                  </a:lnTo>
                  <a:lnTo>
                    <a:pt x="600" y="1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Freeform 22"/>
            <p:cNvSpPr/>
            <p:nvPr/>
          </p:nvSpPr>
          <p:spPr>
            <a:xfrm>
              <a:off x="8240760" y="1091880"/>
              <a:ext cx="1800" cy="50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Freeform 23"/>
            <p:cNvSpPr/>
            <p:nvPr/>
          </p:nvSpPr>
          <p:spPr>
            <a:xfrm>
              <a:off x="9193320" y="1360440"/>
              <a:ext cx="1800" cy="28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Rectangle 24"/>
            <p:cNvSpPr/>
            <p:nvPr/>
          </p:nvSpPr>
          <p:spPr>
            <a:xfrm>
              <a:off x="7450920" y="3823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Rectangle 25"/>
            <p:cNvSpPr/>
            <p:nvPr/>
          </p:nvSpPr>
          <p:spPr>
            <a:xfrm>
              <a:off x="7596720" y="39528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5" name="Group 26"/>
          <p:cNvGrpSpPr/>
          <p:nvPr/>
        </p:nvGrpSpPr>
        <p:grpSpPr>
          <a:xfrm>
            <a:off x="6581880" y="2025720"/>
            <a:ext cx="2949480" cy="1355760"/>
            <a:chOff x="6581880" y="2025720"/>
            <a:chExt cx="2949480" cy="1355760"/>
          </a:xfrm>
        </p:grpSpPr>
        <p:sp>
          <p:nvSpPr>
            <p:cNvPr id="1416" name="Freeform 27"/>
            <p:cNvSpPr/>
            <p:nvPr/>
          </p:nvSpPr>
          <p:spPr>
            <a:xfrm>
              <a:off x="7900920" y="202572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4" h="44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Freeform 28"/>
            <p:cNvSpPr/>
            <p:nvPr/>
          </p:nvSpPr>
          <p:spPr>
            <a:xfrm>
              <a:off x="7900920" y="202572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4" h="44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29"/>
            <p:cNvSpPr/>
            <p:nvPr/>
          </p:nvSpPr>
          <p:spPr>
            <a:xfrm>
              <a:off x="7935840" y="2060640"/>
              <a:ext cx="1800" cy="132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Freeform 30"/>
            <p:cNvSpPr/>
            <p:nvPr/>
          </p:nvSpPr>
          <p:spPr>
            <a:xfrm>
              <a:off x="9460080" y="313668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Freeform 31"/>
            <p:cNvSpPr/>
            <p:nvPr/>
          </p:nvSpPr>
          <p:spPr>
            <a:xfrm>
              <a:off x="9460080" y="313668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32"/>
            <p:cNvSpPr/>
            <p:nvPr/>
          </p:nvSpPr>
          <p:spPr>
            <a:xfrm>
              <a:off x="6581880" y="3171600"/>
              <a:ext cx="291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Rectangle 33"/>
            <p:cNvSpPr/>
            <p:nvPr/>
          </p:nvSpPr>
          <p:spPr>
            <a:xfrm>
              <a:off x="9309600" y="31860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Freeform 34"/>
            <p:cNvSpPr/>
            <p:nvPr/>
          </p:nvSpPr>
          <p:spPr>
            <a:xfrm>
              <a:off x="8104320" y="2735280"/>
              <a:ext cx="4680" cy="1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Freeform 35"/>
            <p:cNvSpPr/>
            <p:nvPr/>
          </p:nvSpPr>
          <p:spPr>
            <a:xfrm>
              <a:off x="850752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Freeform 36"/>
            <p:cNvSpPr/>
            <p:nvPr/>
          </p:nvSpPr>
          <p:spPr>
            <a:xfrm>
              <a:off x="7804080" y="2585880"/>
              <a:ext cx="301680" cy="1494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90" h="94">
                  <a:moveTo>
                    <a:pt x="190" y="94"/>
                  </a:moveTo>
                  <a:lnTo>
                    <a:pt x="178" y="72"/>
                  </a:lnTo>
                  <a:lnTo>
                    <a:pt x="166" y="52"/>
                  </a:lnTo>
                  <a:lnTo>
                    <a:pt x="153" y="36"/>
                  </a:lnTo>
                  <a:lnTo>
                    <a:pt x="143" y="23"/>
                  </a:lnTo>
                  <a:lnTo>
                    <a:pt x="131" y="12"/>
                  </a:lnTo>
                  <a:lnTo>
                    <a:pt x="118" y="5"/>
                  </a:lnTo>
                  <a:lnTo>
                    <a:pt x="108" y="1"/>
                  </a:lnTo>
                  <a:lnTo>
                    <a:pt x="96" y="0"/>
                  </a:lnTo>
                  <a:lnTo>
                    <a:pt x="83" y="1"/>
                  </a:lnTo>
                  <a:lnTo>
                    <a:pt x="72" y="5"/>
                  </a:lnTo>
                  <a:lnTo>
                    <a:pt x="60" y="12"/>
                  </a:lnTo>
                  <a:lnTo>
                    <a:pt x="48" y="23"/>
                  </a:lnTo>
                  <a:lnTo>
                    <a:pt x="35" y="36"/>
                  </a:lnTo>
                  <a:lnTo>
                    <a:pt x="24" y="52"/>
                  </a:lnTo>
                  <a:lnTo>
                    <a:pt x="11" y="72"/>
                  </a:lnTo>
                  <a:lnTo>
                    <a:pt x="0" y="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Freeform 37"/>
            <p:cNvSpPr/>
            <p:nvPr/>
          </p:nvSpPr>
          <p:spPr>
            <a:xfrm>
              <a:off x="8104320" y="2733480"/>
              <a:ext cx="4680" cy="3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Freeform 38"/>
            <p:cNvSpPr/>
            <p:nvPr/>
          </p:nvSpPr>
          <p:spPr>
            <a:xfrm>
              <a:off x="7802640" y="2733480"/>
              <a:ext cx="4680" cy="3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2">
                  <a:moveTo>
                    <a:pt x="3" y="2"/>
                  </a:move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39"/>
            <p:cNvSpPr/>
            <p:nvPr/>
          </p:nvSpPr>
          <p:spPr>
            <a:xfrm>
              <a:off x="7802640" y="2735280"/>
              <a:ext cx="4680" cy="1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40"/>
            <p:cNvSpPr/>
            <p:nvPr/>
          </p:nvSpPr>
          <p:spPr>
            <a:xfrm>
              <a:off x="7451640" y="317952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41"/>
            <p:cNvSpPr/>
            <p:nvPr/>
          </p:nvSpPr>
          <p:spPr>
            <a:xfrm>
              <a:off x="845964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42"/>
            <p:cNvSpPr/>
            <p:nvPr/>
          </p:nvSpPr>
          <p:spPr>
            <a:xfrm>
              <a:off x="88614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43"/>
            <p:cNvSpPr/>
            <p:nvPr/>
          </p:nvSpPr>
          <p:spPr>
            <a:xfrm>
              <a:off x="88614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44"/>
            <p:cNvSpPr/>
            <p:nvPr/>
          </p:nvSpPr>
          <p:spPr>
            <a:xfrm>
              <a:off x="91296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45"/>
            <p:cNvSpPr/>
            <p:nvPr/>
          </p:nvSpPr>
          <p:spPr>
            <a:xfrm>
              <a:off x="9129600" y="3171600"/>
              <a:ext cx="133560" cy="18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4" h="1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46"/>
            <p:cNvSpPr/>
            <p:nvPr/>
          </p:nvSpPr>
          <p:spPr>
            <a:xfrm>
              <a:off x="91296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47"/>
            <p:cNvSpPr/>
            <p:nvPr/>
          </p:nvSpPr>
          <p:spPr>
            <a:xfrm>
              <a:off x="9263160" y="3170160"/>
              <a:ext cx="1440" cy="4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48"/>
            <p:cNvSpPr/>
            <p:nvPr/>
          </p:nvSpPr>
          <p:spPr>
            <a:xfrm>
              <a:off x="705168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49"/>
            <p:cNvSpPr/>
            <p:nvPr/>
          </p:nvSpPr>
          <p:spPr>
            <a:xfrm>
              <a:off x="745344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Group 50"/>
            <p:cNvGrpSpPr/>
            <p:nvPr/>
          </p:nvGrpSpPr>
          <p:grpSpPr>
            <a:xfrm>
              <a:off x="6778800" y="2735280"/>
              <a:ext cx="1025280" cy="436320"/>
              <a:chOff x="6778800" y="2735280"/>
              <a:chExt cx="1025280" cy="436320"/>
            </a:xfrm>
          </p:grpSpPr>
          <p:sp>
            <p:nvSpPr>
              <p:cNvPr id="1440" name="Freeform 51"/>
              <p:cNvSpPr/>
              <p:nvPr/>
            </p:nvSpPr>
            <p:spPr>
              <a:xfrm>
                <a:off x="7459560" y="2735280"/>
                <a:ext cx="344520" cy="4334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17" h="273">
                    <a:moveTo>
                      <a:pt x="217" y="0"/>
                    </a:moveTo>
                    <a:lnTo>
                      <a:pt x="207" y="21"/>
                    </a:lnTo>
                    <a:lnTo>
                      <a:pt x="199" y="42"/>
                    </a:lnTo>
                    <a:lnTo>
                      <a:pt x="189" y="61"/>
                    </a:lnTo>
                    <a:lnTo>
                      <a:pt x="178" y="81"/>
                    </a:lnTo>
                    <a:lnTo>
                      <a:pt x="166" y="101"/>
                    </a:lnTo>
                    <a:lnTo>
                      <a:pt x="153" y="120"/>
                    </a:lnTo>
                    <a:lnTo>
                      <a:pt x="142" y="138"/>
                    </a:lnTo>
                    <a:lnTo>
                      <a:pt x="130" y="153"/>
                    </a:lnTo>
                    <a:lnTo>
                      <a:pt x="113" y="172"/>
                    </a:lnTo>
                    <a:lnTo>
                      <a:pt x="99" y="190"/>
                    </a:lnTo>
                    <a:lnTo>
                      <a:pt x="84" y="207"/>
                    </a:lnTo>
                    <a:lnTo>
                      <a:pt x="65" y="225"/>
                    </a:lnTo>
                    <a:lnTo>
                      <a:pt x="50" y="241"/>
                    </a:lnTo>
                    <a:lnTo>
                      <a:pt x="32" y="256"/>
                    </a:lnTo>
                    <a:lnTo>
                      <a:pt x="16" y="266"/>
                    </a:lnTo>
                    <a:lnTo>
                      <a:pt x="0" y="2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Freeform 52"/>
              <p:cNvSpPr/>
              <p:nvPr/>
            </p:nvSpPr>
            <p:spPr>
              <a:xfrm>
                <a:off x="7045200" y="3043080"/>
                <a:ext cx="416160" cy="123840"/>
              </a:xfrm>
              <a:custGeom>
                <a:avLst/>
                <a:gdLst>
                  <a:gd name="textAreaLeft" fmla="*/ 0 w 416160"/>
                  <a:gd name="textAreaRight" fmla="*/ 416520 w 4161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2" h="78">
                    <a:moveTo>
                      <a:pt x="0" y="78"/>
                    </a:moveTo>
                    <a:lnTo>
                      <a:pt x="11" y="76"/>
                    </a:lnTo>
                    <a:lnTo>
                      <a:pt x="28" y="58"/>
                    </a:lnTo>
                    <a:lnTo>
                      <a:pt x="51" y="35"/>
                    </a:lnTo>
                    <a:lnTo>
                      <a:pt x="64" y="24"/>
                    </a:lnTo>
                    <a:lnTo>
                      <a:pt x="82" y="13"/>
                    </a:lnTo>
                    <a:lnTo>
                      <a:pt x="96" y="7"/>
                    </a:lnTo>
                    <a:lnTo>
                      <a:pt x="109" y="3"/>
                    </a:lnTo>
                    <a:lnTo>
                      <a:pt x="129" y="0"/>
                    </a:lnTo>
                    <a:lnTo>
                      <a:pt x="146" y="2"/>
                    </a:lnTo>
                    <a:lnTo>
                      <a:pt x="162" y="7"/>
                    </a:lnTo>
                    <a:lnTo>
                      <a:pt x="177" y="14"/>
                    </a:lnTo>
                    <a:lnTo>
                      <a:pt x="194" y="25"/>
                    </a:lnTo>
                    <a:lnTo>
                      <a:pt x="208" y="36"/>
                    </a:lnTo>
                    <a:lnTo>
                      <a:pt x="225" y="54"/>
                    </a:lnTo>
                    <a:lnTo>
                      <a:pt x="241" y="70"/>
                    </a:lnTo>
                    <a:lnTo>
                      <a:pt x="262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Freeform 53"/>
              <p:cNvSpPr/>
              <p:nvPr/>
            </p:nvSpPr>
            <p:spPr>
              <a:xfrm>
                <a:off x="6778800" y="3116160"/>
                <a:ext cx="266400" cy="5544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68" h="35">
                    <a:moveTo>
                      <a:pt x="0" y="35"/>
                    </a:moveTo>
                    <a:lnTo>
                      <a:pt x="13" y="30"/>
                    </a:lnTo>
                    <a:lnTo>
                      <a:pt x="24" y="22"/>
                    </a:lnTo>
                    <a:lnTo>
                      <a:pt x="34" y="15"/>
                    </a:lnTo>
                    <a:lnTo>
                      <a:pt x="45" y="9"/>
                    </a:lnTo>
                    <a:lnTo>
                      <a:pt x="56" y="5"/>
                    </a:lnTo>
                    <a:lnTo>
                      <a:pt x="66" y="1"/>
                    </a:lnTo>
                    <a:lnTo>
                      <a:pt x="77" y="0"/>
                    </a:lnTo>
                    <a:lnTo>
                      <a:pt x="87" y="0"/>
                    </a:lnTo>
                    <a:lnTo>
                      <a:pt x="98" y="0"/>
                    </a:lnTo>
                    <a:lnTo>
                      <a:pt x="108" y="1"/>
                    </a:lnTo>
                    <a:lnTo>
                      <a:pt x="119" y="5"/>
                    </a:lnTo>
                    <a:lnTo>
                      <a:pt x="129" y="9"/>
                    </a:lnTo>
                    <a:lnTo>
                      <a:pt x="140" y="15"/>
                    </a:lnTo>
                    <a:lnTo>
                      <a:pt x="151" y="22"/>
                    </a:lnTo>
                    <a:lnTo>
                      <a:pt x="158" y="29"/>
                    </a:lnTo>
                    <a:lnTo>
                      <a:pt x="168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3" name="Freeform 54"/>
            <p:cNvSpPr/>
            <p:nvPr/>
          </p:nvSpPr>
          <p:spPr>
            <a:xfrm>
              <a:off x="678348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55"/>
            <p:cNvSpPr/>
            <p:nvPr/>
          </p:nvSpPr>
          <p:spPr>
            <a:xfrm>
              <a:off x="705168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Rectangle 56"/>
            <p:cNvSpPr/>
            <p:nvPr/>
          </p:nvSpPr>
          <p:spPr>
            <a:xfrm>
              <a:off x="7479360" y="21286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Rectangle 57"/>
            <p:cNvSpPr/>
            <p:nvPr/>
          </p:nvSpPr>
          <p:spPr>
            <a:xfrm>
              <a:off x="7625160" y="214164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7" name="Group 58"/>
            <p:cNvGrpSpPr/>
            <p:nvPr/>
          </p:nvGrpSpPr>
          <p:grpSpPr>
            <a:xfrm>
              <a:off x="8109000" y="2733480"/>
              <a:ext cx="1023840" cy="436680"/>
              <a:chOff x="8109000" y="2733480"/>
              <a:chExt cx="1023840" cy="436680"/>
            </a:xfrm>
          </p:grpSpPr>
          <p:sp>
            <p:nvSpPr>
              <p:cNvPr id="1448" name="Freeform 59"/>
              <p:cNvSpPr/>
              <p:nvPr/>
            </p:nvSpPr>
            <p:spPr>
              <a:xfrm>
                <a:off x="8109000" y="2733480"/>
                <a:ext cx="344520" cy="4334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17" h="273">
                    <a:moveTo>
                      <a:pt x="0" y="0"/>
                    </a:moveTo>
                    <a:lnTo>
                      <a:pt x="9" y="21"/>
                    </a:lnTo>
                    <a:lnTo>
                      <a:pt x="18" y="41"/>
                    </a:lnTo>
                    <a:lnTo>
                      <a:pt x="28" y="61"/>
                    </a:lnTo>
                    <a:lnTo>
                      <a:pt x="39" y="81"/>
                    </a:lnTo>
                    <a:lnTo>
                      <a:pt x="51" y="101"/>
                    </a:lnTo>
                    <a:lnTo>
                      <a:pt x="63" y="120"/>
                    </a:lnTo>
                    <a:lnTo>
                      <a:pt x="75" y="138"/>
                    </a:lnTo>
                    <a:lnTo>
                      <a:pt x="87" y="153"/>
                    </a:lnTo>
                    <a:lnTo>
                      <a:pt x="103" y="172"/>
                    </a:lnTo>
                    <a:lnTo>
                      <a:pt x="117" y="190"/>
                    </a:lnTo>
                    <a:lnTo>
                      <a:pt x="133" y="207"/>
                    </a:lnTo>
                    <a:lnTo>
                      <a:pt x="151" y="224"/>
                    </a:lnTo>
                    <a:lnTo>
                      <a:pt x="167" y="241"/>
                    </a:lnTo>
                    <a:lnTo>
                      <a:pt x="184" y="256"/>
                    </a:lnTo>
                    <a:lnTo>
                      <a:pt x="201" y="266"/>
                    </a:lnTo>
                    <a:lnTo>
                      <a:pt x="217" y="2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Freeform 60"/>
              <p:cNvSpPr/>
              <p:nvPr/>
            </p:nvSpPr>
            <p:spPr>
              <a:xfrm>
                <a:off x="8451720" y="3041640"/>
                <a:ext cx="416160" cy="123840"/>
              </a:xfrm>
              <a:custGeom>
                <a:avLst/>
                <a:gdLst>
                  <a:gd name="textAreaLeft" fmla="*/ 0 w 416160"/>
                  <a:gd name="textAreaRight" fmla="*/ 416520 w 4161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2" h="78">
                    <a:moveTo>
                      <a:pt x="262" y="78"/>
                    </a:moveTo>
                    <a:lnTo>
                      <a:pt x="251" y="76"/>
                    </a:lnTo>
                    <a:lnTo>
                      <a:pt x="233" y="58"/>
                    </a:lnTo>
                    <a:lnTo>
                      <a:pt x="211" y="35"/>
                    </a:lnTo>
                    <a:lnTo>
                      <a:pt x="198" y="23"/>
                    </a:lnTo>
                    <a:lnTo>
                      <a:pt x="179" y="13"/>
                    </a:lnTo>
                    <a:lnTo>
                      <a:pt x="165" y="7"/>
                    </a:lnTo>
                    <a:lnTo>
                      <a:pt x="152" y="3"/>
                    </a:lnTo>
                    <a:lnTo>
                      <a:pt x="133" y="0"/>
                    </a:lnTo>
                    <a:lnTo>
                      <a:pt x="116" y="1"/>
                    </a:lnTo>
                    <a:lnTo>
                      <a:pt x="100" y="7"/>
                    </a:lnTo>
                    <a:lnTo>
                      <a:pt x="84" y="14"/>
                    </a:lnTo>
                    <a:lnTo>
                      <a:pt x="68" y="25"/>
                    </a:lnTo>
                    <a:lnTo>
                      <a:pt x="54" y="36"/>
                    </a:lnTo>
                    <a:lnTo>
                      <a:pt x="36" y="54"/>
                    </a:lnTo>
                    <a:lnTo>
                      <a:pt x="21" y="70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Freeform 61"/>
              <p:cNvSpPr/>
              <p:nvPr/>
            </p:nvSpPr>
            <p:spPr>
              <a:xfrm>
                <a:off x="8867880" y="3112920"/>
                <a:ext cx="264960" cy="5724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67" h="36">
                    <a:moveTo>
                      <a:pt x="167" y="36"/>
                    </a:moveTo>
                    <a:lnTo>
                      <a:pt x="154" y="31"/>
                    </a:lnTo>
                    <a:lnTo>
                      <a:pt x="144" y="22"/>
                    </a:lnTo>
                    <a:lnTo>
                      <a:pt x="133" y="15"/>
                    </a:lnTo>
                    <a:lnTo>
                      <a:pt x="123" y="10"/>
                    </a:lnTo>
                    <a:lnTo>
                      <a:pt x="112" y="6"/>
                    </a:lnTo>
                    <a:lnTo>
                      <a:pt x="102" y="2"/>
                    </a:lnTo>
                    <a:lnTo>
                      <a:pt x="91" y="0"/>
                    </a:lnTo>
                    <a:lnTo>
                      <a:pt x="81" y="0"/>
                    </a:lnTo>
                    <a:lnTo>
                      <a:pt x="70" y="0"/>
                    </a:lnTo>
                    <a:lnTo>
                      <a:pt x="59" y="2"/>
                    </a:lnTo>
                    <a:lnTo>
                      <a:pt x="49" y="6"/>
                    </a:lnTo>
                    <a:lnTo>
                      <a:pt x="38" y="10"/>
                    </a:lnTo>
                    <a:lnTo>
                      <a:pt x="28" y="15"/>
                    </a:lnTo>
                    <a:lnTo>
                      <a:pt x="17" y="22"/>
                    </a:lnTo>
                    <a:lnTo>
                      <a:pt x="10" y="29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1" name="Date Placeholder 62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Footer Placeholder 6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C64A-FF14-4899-B222-46C9CE3D30D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o dell’ampiezza 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93320" y="764640"/>
            <a:ext cx="9441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solo i punti “vicini” ad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luiscono sul calcolo dell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determina l’ampiezza della finestra di interesse, cioè definisce in qualche modo il concetto di vicina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56" name="Picture 4" descr=""/>
          <p:cNvPicPr/>
          <p:nvPr/>
        </p:nvPicPr>
        <p:blipFill>
          <a:blip r:embed="rId1"/>
          <a:stretch/>
        </p:blipFill>
        <p:spPr>
          <a:xfrm>
            <a:off x="428760" y="2803680"/>
            <a:ext cx="8229600" cy="4054320"/>
          </a:xfrm>
          <a:prstGeom prst="rect">
            <a:avLst/>
          </a:prstGeom>
          <a:ln w="0">
            <a:noFill/>
          </a:ln>
        </p:spPr>
      </p:pic>
      <p:sp>
        <p:nvSpPr>
          <p:cNvPr id="1457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Picture 4" descr=""/>
          <p:cNvPicPr/>
          <p:nvPr/>
        </p:nvPicPr>
        <p:blipFill>
          <a:blip r:embed="rId1"/>
          <a:stretch/>
        </p:blipFill>
        <p:spPr>
          <a:xfrm>
            <a:off x="0" y="2624040"/>
            <a:ext cx="9906120" cy="3802320"/>
          </a:xfrm>
          <a:prstGeom prst="rect">
            <a:avLst/>
          </a:prstGeom>
          <a:ln w="0">
            <a:noFill/>
          </a:ln>
        </p:spPr>
      </p:pic>
      <p:sp>
        <p:nvSpPr>
          <p:cNvPr id="146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1768-AEB9-40C4-92AE-48E23681C6A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o dell’ampiezza 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celta di h è cruci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troppo grande: molto smooth, tutto più o meno ugu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troppo piccolo: un sacco di picchi singoli (dov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orre trovare un buon compromess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3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ADFE-C7DE-4270-8372-802A222499B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della stima parametrica: si assume che la forma delle densità di probabilità sia nota, ma questa assunzione non può essere fatta in molti problemi di riconoscimento.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ticolare, se la scelta della forma parametrica è sbagliata, la stima sarà molto pover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distribuzione multimodale che viene assunta essere Gaussian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zione: metodi non parametric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no poche assunzioni (nessuna) sulla forma della pdf da stimare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9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20DE-CCE3-4165-9FCC-A817DF70C32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o metodo per stimare non parametricamente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issa k, si sceglie R in modo tale che contenga k punti attorno ad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 determina V e si st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uando questa stima non parametrica delle posterior di tutte le classi, e applicando la regola di classificazione di Bayes, si ottiene il classificatore K-nearest Neighb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Object 2"/>
              <p:cNvSpPr txBox="1"/>
              <p:nvPr/>
            </p:nvSpPr>
            <p:spPr>
              <a:xfrm>
                <a:off x="3549600" y="1628640"/>
                <a:ext cx="2028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9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6641-A84E-403F-BDD3-695472A9C5E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zion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funziona e su che intuizione si bas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he senso rappresenta il classificatore di Bayes nel caso di stima non parametrica delle posterior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zionamento (molto semplice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 X un insieme di esempi etichettati (il training set, ogni punto ha la sua classe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 un punt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classificare, si calcola l’insieme U dei k punti dell’insieme X più vicini ad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condo una determinata metric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alcola la classe C più frequente all’interno dell’insieme U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ssegn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4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8E8B-FBA0-44B4-B7E3-91C0231101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8680" y="274680"/>
            <a:ext cx="842004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Classificazione di Bayes con KN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742680" y="1258920"/>
            <a:ext cx="842004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diamo la probabilità a priori: data una classe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si valuta in genere semplicemente la frequenza di occorrenza dei campio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a class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rispetto al numero totale di campio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Object 2"/>
              <p:cNvSpPr txBox="1"/>
              <p:nvPr/>
            </p:nvSpPr>
            <p:spPr>
              <a:xfrm>
                <a:off x="3368520" y="3033720"/>
                <a:ext cx="26798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0367-A5E8-4A2F-A7D6-1D07926D39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63120" y="161640"/>
            <a:ext cx="84200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Stima della densità e regola dei punti vicini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742680" y="820440"/>
            <a:ext cx="89089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classi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tenenti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pioni, N=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tima locale di densità p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 calcola come (e analogamente p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rapporto tr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unti sugl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tali appartenenti alla class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ntenuti nel volu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gola di Bayes recit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&gt; p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ll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7" name="Object 2"/>
              <p:cNvSpPr txBox="1"/>
              <p:nvPr/>
            </p:nvSpPr>
            <p:spPr>
              <a:xfrm>
                <a:off x="3817800" y="2193840"/>
                <a:ext cx="21891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Object 3"/>
              <p:cNvSpPr txBox="1"/>
              <p:nvPr/>
            </p:nvSpPr>
            <p:spPr>
              <a:xfrm>
                <a:off x="2513160" y="4708440"/>
                <a:ext cx="52686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2BBD-2680-487A-BC80-FB8D6DAAE2E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TAGG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semplice e flessibi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intuitiva (assume che punti della stessa classe abbiano probabilmente caratteristiche simili, cioè una distanza bass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che funziona anche per dati non vettoriali (basta avere una misura di distanza appropriat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ionevolmente accurata (il confine di separazione è comunque non linear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 sono pochi parametri da aggiusta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stati dimostrati molti risultati teorici su questa tecnica (asintoticità del comportamento)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2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BB80-64C4-4F3A-AAF3-B6AD0F6315A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47320" y="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7" name="Picture 4" descr=""/>
          <p:cNvPicPr/>
          <p:nvPr/>
        </p:nvPicPr>
        <p:blipFill>
          <a:blip r:embed="rId1"/>
          <a:stretch/>
        </p:blipFill>
        <p:spPr>
          <a:xfrm>
            <a:off x="331920" y="230040"/>
            <a:ext cx="9240840" cy="6396120"/>
          </a:xfrm>
          <a:prstGeom prst="rect">
            <a:avLst/>
          </a:prstGeom>
          <a:ln w="0">
            <a:noFill/>
          </a:ln>
        </p:spPr>
      </p:pic>
      <p:sp>
        <p:nvSpPr>
          <p:cNvPr id="1498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3563-6AD9-4EBB-89BA-868412AE8A7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NTAGG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ti i punti del training set devono essere mantenuti in memor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gono utilizzati solo pochi punti dello spazio per prendere la decisione (solo k punt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endentemente dalla metrica utilizzata, occorre pre-processare lo spazi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una misura di distanza buon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celta di k spesso è cruciale (k = 1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arest Neighbor rule)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lta tipic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Object 2"/>
              <p:cNvSpPr txBox="1"/>
              <p:nvPr/>
            </p:nvSpPr>
            <p:spPr>
              <a:xfrm>
                <a:off x="2690640" y="5589720"/>
                <a:ext cx="1640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04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F54C-869B-48D3-B1D7-A924B60FC93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K-Nearest Neighbor: note final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zione di 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equivalente al parametro h di Parzen Window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po piccolo si hanno stime troppo rumoro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po grande si hanno stime troppo grezz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o per stimare k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validation sul training set (o su Validation Set)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rovano diversi valori e si tiene quello che funziona megli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i locali: si decide guardando la regione dove si sta operando (ad esempio guardando il k che funziona meglio localmente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9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2279-EDB0-4465-8290-0DA53FF303B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tima di una densità che evolve nel tempo - Tracking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finizioni equival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ire come si spostano gli oggetti in una sequ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eguire gli oggetti distinti nella scena durante il loro movimento, stimandone la traiett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 3D della sc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 piano immag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pzioni per la telecame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tica-mo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ica-multip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46DD-CDBE-4655-9E04-1C682141383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ssi fondamental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ahoma"/>
              </a:rPr>
              <a:t>Inizializzazio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cattura nuovi soggetti entranti nella sc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ahoma"/>
              </a:rPr>
              <a:t>Inseguimento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egue gli oggetti nella scena mantenendone l’identit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odologia “forza brut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rel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relazione + vinco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odologia clas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di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erifica, associ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D575-38D0-4B8C-B969-178376CCD87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stimare la pdf andando ad analizzare le singole regioni dello spazio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interessa                    : vado a considerare la regione attorno ad 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 effettuo una stima considerando quella regi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istogramma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ivido lo spazio in regioni di larghezza unifor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 un insieme di punti D campionato dalla distribuzione che devo stimare, per ogni regione conto il numero di punti che ci cade dentr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a rappresenta la stima non parametrica della pdf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4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Object 3"/>
              <p:cNvSpPr txBox="1"/>
              <p:nvPr/>
            </p:nvSpPr>
            <p:spPr>
              <a:xfrm>
                <a:off x="2592360" y="2098800"/>
                <a:ext cx="1389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051B-511F-4354-A551-CF472C180BE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nizializza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ovare un oggetto da seg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etod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mplate ma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di un classificat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ace detector, hand detector, alt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oss-correlazione normalizz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ttrazione del back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todi ibr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E73B-F0F3-43A7-85C1-9B04AC64F03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Inseguimento – metodo forza bruta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ue immagini: Z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e Z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ssocia ad ogni oggetto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i,t-1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l corrispondente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i,t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ve i=1,...,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3" name="Group 4"/>
          <p:cNvGrpSpPr/>
          <p:nvPr/>
        </p:nvGrpSpPr>
        <p:grpSpPr>
          <a:xfrm>
            <a:off x="3549600" y="3860640"/>
            <a:ext cx="2020680" cy="2382480"/>
            <a:chOff x="3549600" y="3860640"/>
            <a:chExt cx="2020680" cy="2382480"/>
          </a:xfrm>
        </p:grpSpPr>
        <p:sp>
          <p:nvSpPr>
            <p:cNvPr id="1524" name="Oval 5"/>
            <p:cNvSpPr/>
            <p:nvPr/>
          </p:nvSpPr>
          <p:spPr>
            <a:xfrm>
              <a:off x="3549600" y="386064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Oval 6"/>
            <p:cNvSpPr/>
            <p:nvPr/>
          </p:nvSpPr>
          <p:spPr>
            <a:xfrm>
              <a:off x="4039200" y="494820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Oval 7"/>
            <p:cNvSpPr/>
            <p:nvPr/>
          </p:nvSpPr>
          <p:spPr>
            <a:xfrm>
              <a:off x="3610440" y="608796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Oval 8"/>
            <p:cNvSpPr/>
            <p:nvPr/>
          </p:nvSpPr>
          <p:spPr>
            <a:xfrm>
              <a:off x="5386680" y="608796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Oval 9"/>
            <p:cNvSpPr/>
            <p:nvPr/>
          </p:nvSpPr>
          <p:spPr>
            <a:xfrm>
              <a:off x="5203080" y="494820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Oval 10"/>
            <p:cNvSpPr/>
            <p:nvPr/>
          </p:nvSpPr>
          <p:spPr>
            <a:xfrm>
              <a:off x="5386680" y="391248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0" name="Line 11"/>
          <p:cNvSpPr/>
          <p:nvPr/>
        </p:nvSpPr>
        <p:spPr>
          <a:xfrm>
            <a:off x="4484520" y="3716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12"/>
          <p:cNvSpPr/>
          <p:nvPr/>
        </p:nvSpPr>
        <p:spPr>
          <a:xfrm>
            <a:off x="3472200" y="3213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Arial"/>
                <a:ea typeface="Arial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13"/>
          <p:cNvSpPr/>
          <p:nvPr/>
        </p:nvSpPr>
        <p:spPr>
          <a:xfrm>
            <a:off x="5111280" y="32130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14"/>
          <p:cNvSpPr/>
          <p:nvPr/>
        </p:nvSpPr>
        <p:spPr>
          <a:xfrm>
            <a:off x="6292800" y="4221000"/>
            <a:ext cx="269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Arial"/>
                <a:ea typeface="Arial"/>
              </a:rPr>
              <a:t>come scegli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Arial"/>
                <a:ea typeface="Arial"/>
              </a:rPr>
              <a:t>le associazion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15"/>
          <p:cNvSpPr/>
          <p:nvPr/>
        </p:nvSpPr>
        <p:spPr>
          <a:xfrm>
            <a:off x="4176000" y="42926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E54C-A656-4725-A710-46EFB58C4DA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orrela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uzio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saustivamente (lento, imprec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 vinco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finire/stimare le caratteristiche degli ogget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su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azi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 mo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locità (intensità, direzione), acceler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dirre la posizione di un oggetto al passo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sare la correl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D997-B57E-4527-A30F-A598EC37E0C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ondensat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ticle fil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odi di Montecarl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densation class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Bramble: Condensation multi-ogget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Rectangle 9"/>
          <p:cNvSpPr/>
          <p:nvPr/>
        </p:nvSpPr>
        <p:spPr>
          <a:xfrm>
            <a:off x="428760" y="5589720"/>
            <a:ext cx="70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sual Motion Analysis by Probabilistic Propagation of Conditional Density, Michael Isard, D.Phil. Thesis, Oxford University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8F5E-8889-4B35-8B6F-AFB4547AF44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Assun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sumiamo c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stat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 sistema che stiamo osservando al tempo t sia definito d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posizione di un singolo oggetto puntifor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1,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2,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…, 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M,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forma di un oggetto, definita da M punti definiti sulla sua silhouet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 oggetti puntiform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tori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discreta!!!) del sistema fino al tempo t sia                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…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3652-F77B-4383-95FB-781CA7888E4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Assun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stat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 sistema fino al tempo t sia osservabile da un set di osservazioni 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…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presenza di una storia indica un’evoluzione del sistema nel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sumiamo l’evoluzione del sistema 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processo stoca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rkoviano tempo-indipendente di ordin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=P(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-447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sempio 1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(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8" name="Object 2"/>
              <p:cNvSpPr txBox="1"/>
              <p:nvPr/>
            </p:nvSpPr>
            <p:spPr>
              <a:xfrm>
                <a:off x="4799160" y="5257800"/>
                <a:ext cx="28843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585F-06BB-4141-A75B-7D9DD98763E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Assun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stat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 sistema fino al tempo t sia osservabile da un set di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osservazion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…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le qu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modificano lo stato del sis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no indipend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2" name="Picture 4" descr=""/>
          <p:cNvPicPr/>
          <p:nvPr/>
        </p:nvPicPr>
        <p:blipFill>
          <a:blip r:embed="rId1"/>
          <a:stretch/>
        </p:blipFill>
        <p:spPr>
          <a:xfrm>
            <a:off x="1792440" y="2717640"/>
            <a:ext cx="6941880" cy="1157400"/>
          </a:xfrm>
          <a:prstGeom prst="rect">
            <a:avLst/>
          </a:prstGeom>
          <a:ln w="0">
            <a:noFill/>
          </a:ln>
        </p:spPr>
      </p:pic>
      <p:pic>
        <p:nvPicPr>
          <p:cNvPr id="1553" name="Picture 6" descr=""/>
          <p:cNvPicPr/>
          <p:nvPr/>
        </p:nvPicPr>
        <p:blipFill>
          <a:blip r:embed="rId2"/>
          <a:stretch/>
        </p:blipFill>
        <p:spPr>
          <a:xfrm>
            <a:off x="3003480" y="5084640"/>
            <a:ext cx="36212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9DF6-D3F1-4ABF-8BB9-93B6948773B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Obiettiv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imare lo sta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iù proba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el sistema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date tutte le osservazioni </a:t>
            </a:r>
            <a:r>
              <a:rPr b="1" i="1" lang="it-IT" sz="32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 fare questo, è necessario valutare la distribuzione su tale probabilità, ossia recuperare p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i="1" lang="it-IT" sz="32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eguendo questo controllo ad ogni istante t, ciò corrisponde a valutare l’evoluzione di una distribuzione nel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B285-603D-4585-AC41-36C2745C95C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Obiettiv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ramite la regola sulla legge condizionale (provate con t=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0" name="Picture 4" descr=""/>
          <p:cNvPicPr/>
          <p:nvPr/>
        </p:nvPicPr>
        <p:blipFill>
          <a:blip r:embed="rId1"/>
          <a:stretch/>
        </p:blipFill>
        <p:spPr>
          <a:xfrm>
            <a:off x="1442880" y="2349360"/>
            <a:ext cx="7139160" cy="97632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5" descr=""/>
          <p:cNvPicPr/>
          <p:nvPr/>
        </p:nvPicPr>
        <p:blipFill>
          <a:blip r:embed="rId2"/>
          <a:stretch/>
        </p:blipFill>
        <p:spPr>
          <a:xfrm>
            <a:off x="351000" y="4365720"/>
            <a:ext cx="93200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6FFE-FE11-4AD3-AB45-9DA37D06671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Algoritmo di Condensat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ssumo uno campo di esistenza R dello stato del siste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in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sistema è una particella puntiforme su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o un set di campioni           n=1,…,N  che rappresentano possibili stati del mio sistema (quindi posizioni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al tempo t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5" name="Object 2"/>
              <p:cNvSpPr txBox="1"/>
              <p:nvPr/>
            </p:nvSpPr>
            <p:spPr>
              <a:xfrm>
                <a:off x="4427640" y="3044880"/>
                <a:ext cx="703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6" name="Oval 9"/>
          <p:cNvSpPr/>
          <p:nvPr/>
        </p:nvSpPr>
        <p:spPr>
          <a:xfrm>
            <a:off x="237816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Oval 10"/>
          <p:cNvSpPr/>
          <p:nvPr/>
        </p:nvSpPr>
        <p:spPr>
          <a:xfrm>
            <a:off x="248904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Oval 11"/>
          <p:cNvSpPr/>
          <p:nvPr/>
        </p:nvSpPr>
        <p:spPr>
          <a:xfrm>
            <a:off x="259884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Oval 12"/>
          <p:cNvSpPr/>
          <p:nvPr/>
        </p:nvSpPr>
        <p:spPr>
          <a:xfrm>
            <a:off x="276876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Oval 13"/>
          <p:cNvSpPr/>
          <p:nvPr/>
        </p:nvSpPr>
        <p:spPr>
          <a:xfrm>
            <a:off x="292572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Oval 14"/>
          <p:cNvSpPr/>
          <p:nvPr/>
        </p:nvSpPr>
        <p:spPr>
          <a:xfrm>
            <a:off x="284652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Oval 15"/>
          <p:cNvSpPr/>
          <p:nvPr/>
        </p:nvSpPr>
        <p:spPr>
          <a:xfrm>
            <a:off x="222264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Oval 16"/>
          <p:cNvSpPr/>
          <p:nvPr/>
        </p:nvSpPr>
        <p:spPr>
          <a:xfrm>
            <a:off x="206532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Oval 17"/>
          <p:cNvSpPr/>
          <p:nvPr/>
        </p:nvSpPr>
        <p:spPr>
          <a:xfrm>
            <a:off x="409428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18"/>
          <p:cNvSpPr/>
          <p:nvPr/>
        </p:nvSpPr>
        <p:spPr>
          <a:xfrm>
            <a:off x="424980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Oval 19"/>
          <p:cNvSpPr/>
          <p:nvPr/>
        </p:nvSpPr>
        <p:spPr>
          <a:xfrm>
            <a:off x="440388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20"/>
          <p:cNvSpPr/>
          <p:nvPr/>
        </p:nvSpPr>
        <p:spPr>
          <a:xfrm>
            <a:off x="455940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21"/>
          <p:cNvSpPr/>
          <p:nvPr/>
        </p:nvSpPr>
        <p:spPr>
          <a:xfrm>
            <a:off x="471960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22"/>
          <p:cNvSpPr/>
          <p:nvPr/>
        </p:nvSpPr>
        <p:spPr>
          <a:xfrm>
            <a:off x="534348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23"/>
          <p:cNvSpPr/>
          <p:nvPr/>
        </p:nvSpPr>
        <p:spPr>
          <a:xfrm>
            <a:off x="550080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24"/>
          <p:cNvSpPr/>
          <p:nvPr/>
        </p:nvSpPr>
        <p:spPr>
          <a:xfrm>
            <a:off x="565632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25"/>
          <p:cNvSpPr/>
          <p:nvPr/>
        </p:nvSpPr>
        <p:spPr>
          <a:xfrm>
            <a:off x="581328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26"/>
          <p:cNvSpPr/>
          <p:nvPr/>
        </p:nvSpPr>
        <p:spPr>
          <a:xfrm>
            <a:off x="596916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27"/>
          <p:cNvSpPr/>
          <p:nvPr/>
        </p:nvSpPr>
        <p:spPr>
          <a:xfrm>
            <a:off x="612612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28"/>
          <p:cNvSpPr/>
          <p:nvPr/>
        </p:nvSpPr>
        <p:spPr>
          <a:xfrm>
            <a:off x="721512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Line 30"/>
          <p:cNvSpPr/>
          <p:nvPr/>
        </p:nvSpPr>
        <p:spPr>
          <a:xfrm>
            <a:off x="428760" y="508644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8213040" y="51292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tate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1E83-847F-4043-94E8-B685A7CFC3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12560" y="151920"/>
            <a:ext cx="908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ima della densità condizional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339840" y="1009440"/>
            <a:ext cx="944712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 di bas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: stima di                                      per sempli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abilit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e un vetto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a in una regione (volum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una versio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mooth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 mediata) del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nsit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Consideriamo un insieme di campioni (i.i.d.) di cardinalit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ti second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 probabilità c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nti su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ano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data dalla legge binomi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 ha come parametro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2" name="Object 2"/>
              <p:cNvSpPr txBox="1"/>
              <p:nvPr/>
            </p:nvSpPr>
            <p:spPr>
              <a:xfrm>
                <a:off x="3252960" y="2568600"/>
                <a:ext cx="50115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Object 3"/>
              <p:cNvSpPr txBox="1"/>
              <p:nvPr/>
            </p:nvSpPr>
            <p:spPr>
              <a:xfrm>
                <a:off x="2550960" y="4616280"/>
                <a:ext cx="57405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Object 3"/>
              <p:cNvSpPr txBox="1"/>
              <p:nvPr/>
            </p:nvSpPr>
            <p:spPr>
              <a:xfrm>
                <a:off x="3411360" y="1401840"/>
                <a:ext cx="2292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Object 3"/>
              <p:cNvSpPr txBox="1"/>
              <p:nvPr/>
            </p:nvSpPr>
            <p:spPr>
              <a:xfrm>
                <a:off x="3797280" y="5672160"/>
                <a:ext cx="93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9AB4-CC98-4E0C-BAC9-93502A1CDD5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Algoritmo di Condensation - Inizializzazion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gni campione rappresenta un intorno spaziale loc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 modellare il fatto che in alcuni punti ho maggiore probabilità di avere il mio sistema, peso le particelle 1-1 con un set di pesi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=1,…,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1" name="Object 2"/>
              <p:cNvSpPr txBox="1"/>
              <p:nvPr/>
            </p:nvSpPr>
            <p:spPr>
              <a:xfrm>
                <a:off x="8020080" y="3220920"/>
                <a:ext cx="9111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92" name="Picture 27" descr=""/>
          <p:cNvPicPr/>
          <p:nvPr/>
        </p:nvPicPr>
        <p:blipFill>
          <a:blip r:embed="rId1"/>
          <a:stretch/>
        </p:blipFill>
        <p:spPr>
          <a:xfrm>
            <a:off x="428760" y="4508640"/>
            <a:ext cx="91818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3E24-C6CD-4B4E-B903-F95F5CDC0AD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Algoritmo di Condensation - Inizializzazion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questo punto posso stimare una densità su tutto 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6" descr=""/>
          <p:cNvPicPr/>
          <p:nvPr/>
        </p:nvPicPr>
        <p:blipFill>
          <a:blip r:embed="rId1"/>
          <a:stretch/>
        </p:blipFill>
        <p:spPr>
          <a:xfrm>
            <a:off x="117360" y="2421000"/>
            <a:ext cx="9566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4188-5EE5-4158-863E-488CD314517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Group 25"/>
          <p:cNvGrpSpPr/>
          <p:nvPr/>
        </p:nvGrpSpPr>
        <p:grpSpPr>
          <a:xfrm>
            <a:off x="895320" y="4076640"/>
            <a:ext cx="8502480" cy="2231640"/>
            <a:chOff x="895320" y="4076640"/>
            <a:chExt cx="8502480" cy="2231640"/>
          </a:xfrm>
        </p:grpSpPr>
        <p:pic>
          <p:nvPicPr>
            <p:cNvPr id="1599" name="Picture 9" descr=""/>
            <p:cNvPicPr/>
            <p:nvPr/>
          </p:nvPicPr>
          <p:blipFill>
            <a:blip r:embed="rId1"/>
            <a:stretch/>
          </p:blipFill>
          <p:spPr>
            <a:xfrm>
              <a:off x="895320" y="4076640"/>
              <a:ext cx="796248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0" name="Rectangle 12"/>
            <p:cNvSpPr/>
            <p:nvPr/>
          </p:nvSpPr>
          <p:spPr>
            <a:xfrm>
              <a:off x="895320" y="4858560"/>
              <a:ext cx="1082160" cy="135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Rectangle 13"/>
            <p:cNvSpPr/>
            <p:nvPr/>
          </p:nvSpPr>
          <p:spPr>
            <a:xfrm>
              <a:off x="2054160" y="4912200"/>
              <a:ext cx="1160280" cy="135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Rectangle 14"/>
            <p:cNvSpPr/>
            <p:nvPr/>
          </p:nvSpPr>
          <p:spPr>
            <a:xfrm>
              <a:off x="3213000" y="5012280"/>
              <a:ext cx="1160280" cy="126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Rectangle 15"/>
            <p:cNvSpPr/>
            <p:nvPr/>
          </p:nvSpPr>
          <p:spPr>
            <a:xfrm>
              <a:off x="3291480" y="4968360"/>
              <a:ext cx="388800" cy="10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Rectangle 16"/>
            <p:cNvSpPr/>
            <p:nvPr/>
          </p:nvSpPr>
          <p:spPr>
            <a:xfrm>
              <a:off x="3622320" y="5010480"/>
              <a:ext cx="388080" cy="10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Rectangle 17"/>
            <p:cNvSpPr/>
            <p:nvPr/>
          </p:nvSpPr>
          <p:spPr>
            <a:xfrm>
              <a:off x="3986640" y="5015520"/>
              <a:ext cx="3633480" cy="11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18"/>
            <p:cNvSpPr/>
            <p:nvPr/>
          </p:nvSpPr>
          <p:spPr>
            <a:xfrm>
              <a:off x="6800760" y="5001120"/>
              <a:ext cx="13284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19"/>
            <p:cNvSpPr/>
            <p:nvPr/>
          </p:nvSpPr>
          <p:spPr>
            <a:xfrm>
              <a:off x="4760280" y="4867920"/>
              <a:ext cx="38664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20"/>
            <p:cNvSpPr/>
            <p:nvPr/>
          </p:nvSpPr>
          <p:spPr>
            <a:xfrm>
              <a:off x="5488200" y="4912200"/>
              <a:ext cx="153360" cy="11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Rectangle 21"/>
            <p:cNvSpPr/>
            <p:nvPr/>
          </p:nvSpPr>
          <p:spPr>
            <a:xfrm>
              <a:off x="5766120" y="4867920"/>
              <a:ext cx="15336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Rectangle 22"/>
            <p:cNvSpPr/>
            <p:nvPr/>
          </p:nvSpPr>
          <p:spPr>
            <a:xfrm>
              <a:off x="5544720" y="4886640"/>
              <a:ext cx="15336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23"/>
            <p:cNvSpPr/>
            <p:nvPr/>
          </p:nvSpPr>
          <p:spPr>
            <a:xfrm>
              <a:off x="7543440" y="5284800"/>
              <a:ext cx="1854360" cy="10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Rectangle 24"/>
            <p:cNvSpPr/>
            <p:nvPr/>
          </p:nvSpPr>
          <p:spPr>
            <a:xfrm>
              <a:off x="8239320" y="4502880"/>
              <a:ext cx="1005120" cy="10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upponendo di partire da questa conoscenza, il particle filtering fa evolvere il set di partic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3 pas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elezione o campion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ampiono (estraggo) N campioni da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campione         viene selezionato con probabili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Object 2"/>
              <p:cNvSpPr txBox="1"/>
              <p:nvPr/>
            </p:nvSpPr>
            <p:spPr>
              <a:xfrm>
                <a:off x="6210360" y="3218040"/>
                <a:ext cx="704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Object 3"/>
              <p:cNvSpPr txBox="1"/>
              <p:nvPr/>
            </p:nvSpPr>
            <p:spPr>
              <a:xfrm>
                <a:off x="3424320" y="3616200"/>
                <a:ext cx="514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Object 4"/>
              <p:cNvSpPr txBox="1"/>
              <p:nvPr/>
            </p:nvSpPr>
            <p:spPr>
              <a:xfrm>
                <a:off x="7850160" y="3578400"/>
                <a:ext cx="569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E0CB-A383-4AFA-AF47-6543E720FA6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9" name="Object 2"/>
          <p:cNvGraphicFramePr/>
          <p:nvPr/>
        </p:nvGraphicFramePr>
        <p:xfrm>
          <a:off x="1676520" y="5589720"/>
          <a:ext cx="678960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589720"/>
                    <a:ext cx="6789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2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861840" indent="-46404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pplicazione della dinamic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– per tutte le partic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-397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pplico alla particella        un moto composto da due componen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24600" indent="-331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terministica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eterministic drif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22400" indent="-331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asato sulla storia della particella         da cui          è stata estrat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22400" indent="-331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asata su un’unica dinamica pesata su tutte le particelle (vedi seguito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24600" indent="-331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obabilistica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iffus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aggiungo del rumore                  per modellare l’incertezza sul mo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Object 3"/>
              <p:cNvSpPr txBox="1"/>
              <p:nvPr/>
            </p:nvSpPr>
            <p:spPr>
              <a:xfrm>
                <a:off x="5013360" y="2243160"/>
                <a:ext cx="7016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Object 4"/>
              <p:cNvSpPr txBox="1"/>
              <p:nvPr/>
            </p:nvSpPr>
            <p:spPr>
              <a:xfrm>
                <a:off x="8150400" y="3417840"/>
                <a:ext cx="623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Object 5"/>
              <p:cNvSpPr txBox="1"/>
              <p:nvPr/>
            </p:nvSpPr>
            <p:spPr>
              <a:xfrm>
                <a:off x="7410600" y="4809960"/>
                <a:ext cx="1269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Object 6"/>
              <p:cNvSpPr txBox="1"/>
              <p:nvPr/>
            </p:nvSpPr>
            <p:spPr>
              <a:xfrm>
                <a:off x="4562640" y="5726160"/>
                <a:ext cx="545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Object 7"/>
              <p:cNvSpPr txBox="1"/>
              <p:nvPr/>
            </p:nvSpPr>
            <p:spPr>
              <a:xfrm>
                <a:off x="6694560" y="3405240"/>
                <a:ext cx="6238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28" name="Text Box 17"/>
          <p:cNvSpPr/>
          <p:nvPr/>
        </p:nvSpPr>
        <p:spPr>
          <a:xfrm>
            <a:off x="357840" y="580536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3143-B3F6-49A6-AE47-A4E8F96A29F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3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31" name="Picture 10" descr=""/>
          <p:cNvPicPr/>
          <p:nvPr/>
        </p:nvPicPr>
        <p:blipFill>
          <a:blip r:embed="rId1"/>
          <a:stretch/>
        </p:blipFill>
        <p:spPr>
          <a:xfrm>
            <a:off x="974880" y="1557360"/>
            <a:ext cx="8035920" cy="2119320"/>
          </a:xfrm>
          <a:prstGeom prst="rect">
            <a:avLst/>
          </a:prstGeom>
          <a:ln w="0">
            <a:noFill/>
          </a:ln>
        </p:spPr>
      </p:pic>
      <p:sp>
        <p:nvSpPr>
          <p:cNvPr id="1632" name="Rectangle 11"/>
          <p:cNvSpPr/>
          <p:nvPr/>
        </p:nvSpPr>
        <p:spPr>
          <a:xfrm>
            <a:off x="8462880" y="2421000"/>
            <a:ext cx="117180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3" name="Picture 12" descr=""/>
          <p:cNvPicPr/>
          <p:nvPr/>
        </p:nvPicPr>
        <p:blipFill>
          <a:blip r:embed="rId2"/>
          <a:stretch/>
        </p:blipFill>
        <p:spPr>
          <a:xfrm>
            <a:off x="1052640" y="5373720"/>
            <a:ext cx="7878600" cy="942840"/>
          </a:xfrm>
          <a:prstGeom prst="rect">
            <a:avLst/>
          </a:prstGeom>
          <a:ln w="0">
            <a:noFill/>
          </a:ln>
        </p:spPr>
      </p:pic>
      <p:sp>
        <p:nvSpPr>
          <p:cNvPr id="1634" name="Rectangle 14"/>
          <p:cNvSpPr/>
          <p:nvPr/>
        </p:nvSpPr>
        <p:spPr>
          <a:xfrm>
            <a:off x="0" y="3933720"/>
            <a:ext cx="969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In tal maniera ottengo la parte predittiva (= a priori) della formulazione Bayesiana del fil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5" name="Picture 15" descr=""/>
          <p:cNvPicPr/>
          <p:nvPr/>
        </p:nvPicPr>
        <p:blipFill>
          <a:blip r:embed="rId3"/>
          <a:stretch/>
        </p:blipFill>
        <p:spPr>
          <a:xfrm>
            <a:off x="1987560" y="4724280"/>
            <a:ext cx="5694480" cy="779760"/>
          </a:xfrm>
          <a:prstGeom prst="rect">
            <a:avLst/>
          </a:prstGeom>
          <a:ln w="0">
            <a:noFill/>
          </a:ln>
        </p:spPr>
      </p:pic>
      <p:sp>
        <p:nvSpPr>
          <p:cNvPr id="1636" name="Oval 16"/>
          <p:cNvSpPr/>
          <p:nvPr/>
        </p:nvSpPr>
        <p:spPr>
          <a:xfrm>
            <a:off x="1052640" y="5392800"/>
            <a:ext cx="1876320" cy="792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17"/>
          <p:cNvSpPr/>
          <p:nvPr/>
        </p:nvSpPr>
        <p:spPr>
          <a:xfrm>
            <a:off x="5888160" y="4797360"/>
            <a:ext cx="1873080" cy="792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EFB4-AC68-40AE-9CBB-8EEB85F1E35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4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Valutazione/pesa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lcolo la likelihood di ogni nuovo campione basandomi sulle osserva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osservazioni rappresentano la possibilità di osservar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localment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la realtà della sc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 caso di moto monodimensionale, le osservazioni sono la possibilità di osservare l’intor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1" name="Object 2"/>
              <p:cNvSpPr txBox="1"/>
              <p:nvPr/>
            </p:nvSpPr>
            <p:spPr>
              <a:xfrm>
                <a:off x="2846520" y="4869000"/>
                <a:ext cx="52257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h</m:t>
                    </m:r>
                    <m:r>
                      <m:t xml:space="preserve">∈</m:t>
                    </m:r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5916-7AD4-4821-8D46-D5B337AF65A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(5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malmente, si calco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 caso 1D, si puo’ utilizzare una funzione di lik. Gaussi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5" name="Picture 11" descr=""/>
          <p:cNvPicPr/>
          <p:nvPr/>
        </p:nvPicPr>
        <p:blipFill>
          <a:blip r:embed="rId1"/>
          <a:stretch/>
        </p:blipFill>
        <p:spPr>
          <a:xfrm>
            <a:off x="1363680" y="3389400"/>
            <a:ext cx="7062840" cy="263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6" name="Object 2"/>
              <p:cNvSpPr txBox="1"/>
              <p:nvPr/>
            </p:nvSpPr>
            <p:spPr>
              <a:xfrm>
                <a:off x="5734080" y="1341360"/>
                <a:ext cx="1969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Object 3"/>
              <p:cNvSpPr txBox="1"/>
              <p:nvPr/>
            </p:nvSpPr>
            <p:spPr>
              <a:xfrm>
                <a:off x="2351160" y="2752560"/>
                <a:ext cx="55497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1B86-D676-4481-B7CA-0A2B46B3C14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6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2" marL="1069560" indent="-356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enzion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trimenti si perde l’obietti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-356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likelihood ottenuta serve per la creazione dei nuovi pesi associati alle particelle, os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-356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questo modo, prese tutte le particelle, si realizza la parte di likelihood del filtro bayesia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1" name="Object 2"/>
              <p:cNvSpPr txBox="1"/>
              <p:nvPr/>
            </p:nvSpPr>
            <p:spPr>
              <a:xfrm>
                <a:off x="4094280" y="1989000"/>
                <a:ext cx="13795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Object 3"/>
              <p:cNvSpPr txBox="1"/>
              <p:nvPr/>
            </p:nvSpPr>
            <p:spPr>
              <a:xfrm>
                <a:off x="3549600" y="4221000"/>
                <a:ext cx="56988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Object 4"/>
              <p:cNvSpPr txBox="1"/>
              <p:nvPr/>
            </p:nvSpPr>
            <p:spPr>
              <a:xfrm>
                <a:off x="4172040" y="4149720"/>
                <a:ext cx="2266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4" name="Picture 9" descr=""/>
          <p:cNvPicPr/>
          <p:nvPr/>
        </p:nvPicPr>
        <p:blipFill>
          <a:blip r:embed="rId1"/>
          <a:stretch/>
        </p:blipFill>
        <p:spPr>
          <a:xfrm>
            <a:off x="2535120" y="5661000"/>
            <a:ext cx="5694480" cy="779400"/>
          </a:xfrm>
          <a:prstGeom prst="rect">
            <a:avLst/>
          </a:prstGeom>
          <a:ln w="0">
            <a:noFill/>
          </a:ln>
        </p:spPr>
      </p:pic>
      <p:sp>
        <p:nvSpPr>
          <p:cNvPr id="1655" name="Oval 10"/>
          <p:cNvSpPr/>
          <p:nvPr/>
        </p:nvSpPr>
        <p:spPr>
          <a:xfrm>
            <a:off x="5030640" y="5781600"/>
            <a:ext cx="1482840" cy="6494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11"/>
          <p:cNvSpPr/>
          <p:nvPr/>
        </p:nvSpPr>
        <p:spPr>
          <a:xfrm>
            <a:off x="6754320" y="422100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+ normalizz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68E5-E4DD-4BA5-9B8A-7ECA4C9AEED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Tracking via Condensation -  definizione dell’obiettivo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ecisione fondamentale: dove si trova l’oggetto all’istante 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64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ue soluzioni (generali nel caso multi-dim.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-397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dia pes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-397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ximum A Posteriori (M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0" name="Picture 9" descr=""/>
          <p:cNvPicPr/>
          <p:nvPr/>
        </p:nvPicPr>
        <p:blipFill>
          <a:blip r:embed="rId1"/>
          <a:stretch/>
        </p:blipFill>
        <p:spPr>
          <a:xfrm>
            <a:off x="1092240" y="3357720"/>
            <a:ext cx="4524480" cy="134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1" name="Object 2"/>
              <p:cNvSpPr txBox="1"/>
              <p:nvPr/>
            </p:nvSpPr>
            <p:spPr>
              <a:xfrm>
                <a:off x="1754280" y="5319720"/>
                <a:ext cx="53830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2" name="Rectangle 12"/>
          <p:cNvSpPr/>
          <p:nvPr/>
        </p:nvSpPr>
        <p:spPr>
          <a:xfrm>
            <a:off x="5599080" y="378936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Picture 13" descr=""/>
          <p:cNvPicPr/>
          <p:nvPr/>
        </p:nvPicPr>
        <p:blipFill>
          <a:blip r:embed="rId2"/>
          <a:stretch/>
        </p:blipFill>
        <p:spPr>
          <a:xfrm>
            <a:off x="6472080" y="3645000"/>
            <a:ext cx="19130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B1EB-503A-4C46-AF40-88E1E875C64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Riassunto grafic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66" name="Picture 10" descr=""/>
          <p:cNvPicPr/>
          <p:nvPr/>
        </p:nvPicPr>
        <p:blipFill>
          <a:blip r:embed="rId1"/>
          <a:stretch/>
        </p:blipFill>
        <p:spPr>
          <a:xfrm>
            <a:off x="819000" y="1268280"/>
            <a:ext cx="80726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5353-62BF-49CD-98AB-D6924A8CBE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414360" y="510840"/>
            <a:ext cx="934704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tima ML d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data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of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maginiamo di avere una sequenza di N dati di training, e di osservare k estrazioni nella region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Object 2"/>
              <p:cNvSpPr txBox="1"/>
              <p:nvPr/>
            </p:nvSpPr>
            <p:spPr>
              <a:xfrm>
                <a:off x="1266840" y="1066680"/>
                <a:ext cx="1960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θ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Object 3"/>
              <p:cNvSpPr txBox="1"/>
              <p:nvPr/>
            </p:nvSpPr>
            <p:spPr>
              <a:xfrm>
                <a:off x="4867200" y="974880"/>
                <a:ext cx="152424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≃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Object 3"/>
              <p:cNvSpPr txBox="1"/>
              <p:nvPr/>
            </p:nvSpPr>
            <p:spPr>
              <a:xfrm>
                <a:off x="2513160" y="3433680"/>
                <a:ext cx="489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Object 3"/>
              <p:cNvSpPr txBox="1"/>
              <p:nvPr/>
            </p:nvSpPr>
            <p:spPr>
              <a:xfrm>
                <a:off x="1709640" y="4710240"/>
                <a:ext cx="61959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1185-815E-4A1A-81A5-CC7AAC9E9E1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Rectangle 24"/>
          <p:cNvSpPr/>
          <p:nvPr/>
        </p:nvSpPr>
        <p:spPr>
          <a:xfrm>
            <a:off x="1911240" y="4076640"/>
            <a:ext cx="5694480" cy="2303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Dimostra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70" name="Picture 3" descr="cond2"/>
          <p:cNvPicPr/>
          <p:nvPr/>
        </p:nvPicPr>
        <p:blipFill>
          <a:blip r:embed="rId1"/>
          <a:stretch/>
        </p:blipFill>
        <p:spPr>
          <a:xfrm>
            <a:off x="351000" y="1065240"/>
            <a:ext cx="4759200" cy="2990880"/>
          </a:xfrm>
          <a:prstGeom prst="rect">
            <a:avLst/>
          </a:prstGeom>
          <a:ln w="0">
            <a:noFill/>
          </a:ln>
        </p:spPr>
      </p:pic>
      <p:pic>
        <p:nvPicPr>
          <p:cNvPr id="1671" name="anim.mpeg" descr=""/>
          <p:cNvPicPr/>
          <p:nvPr/>
        </p:nvPicPr>
        <p:blipFill>
          <a:blip r:embed="rId2"/>
          <a:stretch/>
        </p:blipFill>
        <p:spPr>
          <a:xfrm>
            <a:off x="5264280" y="1136520"/>
            <a:ext cx="4133880" cy="2862360"/>
          </a:xfrm>
          <a:prstGeom prst="rect">
            <a:avLst/>
          </a:prstGeom>
          <a:ln w="0">
            <a:noFill/>
          </a:ln>
        </p:spPr>
      </p:pic>
      <p:grpSp>
        <p:nvGrpSpPr>
          <p:cNvPr id="1672" name="Group 23"/>
          <p:cNvGrpSpPr/>
          <p:nvPr/>
        </p:nvGrpSpPr>
        <p:grpSpPr>
          <a:xfrm>
            <a:off x="2457360" y="4581360"/>
            <a:ext cx="4624200" cy="1895760"/>
            <a:chOff x="2457360" y="4581360"/>
            <a:chExt cx="4624200" cy="1895760"/>
          </a:xfrm>
        </p:grpSpPr>
        <p:graphicFrame>
          <p:nvGraphicFramePr>
            <p:cNvPr id="1673" name="Object 2"/>
            <p:cNvGraphicFramePr/>
            <p:nvPr/>
          </p:nvGraphicFramePr>
          <p:xfrm>
            <a:off x="2779560" y="4581360"/>
            <a:ext cx="984240" cy="26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4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79560" y="4581360"/>
                      <a:ext cx="984240" cy="263520"/>
                    </a:xfrm>
                    <a:prstGeom prst="rect">
                      <a:avLst/>
                    </a:prstGeom>
                    <a:ln w="507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75" name="Object 3"/>
                <p:cNvSpPr txBox="1"/>
                <p:nvPr/>
              </p:nvSpPr>
              <p:spPr>
                <a:xfrm>
                  <a:off x="4502160" y="5327280"/>
                  <a:ext cx="78876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: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676" name="AutoShape 7"/>
            <p:cNvCxnSpPr/>
            <p:nvPr/>
          </p:nvCxnSpPr>
          <p:spPr>
            <a:xfrm>
              <a:off x="2606040" y="4704840"/>
              <a:ext cx="232560" cy="1440"/>
            </a:xfrm>
            <a:prstGeom prst="curvedConnector5">
              <a:avLst>
                <a:gd name="adj1" fmla="val 49922"/>
                <a:gd name="adj2" fmla="val 33333"/>
                <a:gd name="adj3" fmla="val 49922"/>
              </a:avLst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1677" name="Object 4"/>
                <p:cNvSpPr txBox="1"/>
                <p:nvPr/>
              </p:nvSpPr>
              <p:spPr>
                <a:xfrm>
                  <a:off x="6292800" y="5998680"/>
                  <a:ext cx="78876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: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78" name="Group 9"/>
            <p:cNvGrpSpPr/>
            <p:nvPr/>
          </p:nvGrpSpPr>
          <p:grpSpPr>
            <a:xfrm>
              <a:off x="2457360" y="4858560"/>
              <a:ext cx="4249800" cy="1618560"/>
              <a:chOff x="2457360" y="4858560"/>
              <a:chExt cx="4249800" cy="1618560"/>
            </a:xfrm>
          </p:grpSpPr>
          <mc:AlternateContent>
            <mc:Choice xmlns:a14="http://schemas.microsoft.com/office/drawing/2010/main" Requires="a14">
              <p:sp>
                <p:nvSpPr>
                  <p:cNvPr id="1679" name="Object 5"/>
                  <p:cNvSpPr txBox="1"/>
                  <p:nvPr/>
                </p:nvSpPr>
                <p:spPr>
                  <a:xfrm>
                    <a:off x="2826000" y="5322960"/>
                    <a:ext cx="895680" cy="2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: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aphicFrame>
            <p:nvGraphicFramePr>
              <p:cNvPr id="1680" name="Object 6"/>
              <p:cNvGraphicFramePr/>
              <p:nvPr/>
            </p:nvGraphicFramePr>
            <p:xfrm>
              <a:off x="2457360" y="4921200"/>
              <a:ext cx="799920" cy="27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681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457360" y="4921200"/>
                        <a:ext cx="799920" cy="2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1682" name="Object 7"/>
                  <p:cNvSpPr txBox="1"/>
                  <p:nvPr/>
                </p:nvSpPr>
                <p:spPr>
                  <a:xfrm>
                    <a:off x="3714840" y="5186520"/>
                    <a:ext cx="781920" cy="28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cxnSp>
            <p:nvCxnSpPr>
              <p:cNvPr id="1683" name="AutoShape 13"/>
              <p:cNvCxnSpPr/>
              <p:nvPr/>
            </p:nvCxnSpPr>
            <p:spPr>
              <a:xfrm>
                <a:off x="3735000" y="5454720"/>
                <a:ext cx="753480" cy="468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84" name="AutoShape 14"/>
              <p:cNvCxnSpPr/>
              <p:nvPr/>
            </p:nvCxnSpPr>
            <p:spPr>
              <a:xfrm>
                <a:off x="3272040" y="4858560"/>
                <a:ext cx="2160" cy="45144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1685" name="Object 8"/>
                  <p:cNvSpPr txBox="1"/>
                  <p:nvPr/>
                </p:nvSpPr>
                <p:spPr>
                  <a:xfrm>
                    <a:off x="4453200" y="5998680"/>
                    <a:ext cx="894600" cy="2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: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cxnSp>
            <p:nvCxnSpPr>
              <p:cNvPr id="1686" name="AutoShape 16"/>
              <p:cNvCxnSpPr/>
              <p:nvPr/>
            </p:nvCxnSpPr>
            <p:spPr>
              <a:xfrm>
                <a:off x="4896360" y="5604480"/>
                <a:ext cx="4680" cy="38088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87" name="AutoShape 17"/>
              <p:cNvCxnSpPr/>
              <p:nvPr/>
            </p:nvCxnSpPr>
            <p:spPr>
              <a:xfrm>
                <a:off x="5361840" y="6130800"/>
                <a:ext cx="918000" cy="108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1688" name="Object 9"/>
                  <p:cNvSpPr txBox="1"/>
                  <p:nvPr/>
                </p:nvSpPr>
                <p:spPr>
                  <a:xfrm>
                    <a:off x="5317200" y="5851800"/>
                    <a:ext cx="1001160" cy="28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89" name="Object 10"/>
                  <p:cNvSpPr txBox="1"/>
                  <p:nvPr/>
                </p:nvSpPr>
                <p:spPr>
                  <a:xfrm>
                    <a:off x="4044960" y="5648400"/>
                    <a:ext cx="892080" cy="27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90" name="Line 20"/>
              <p:cNvSpPr/>
              <p:nvPr/>
            </p:nvSpPr>
            <p:spPr>
              <a:xfrm>
                <a:off x="6707160" y="6312240"/>
                <a:ext cx="0" cy="1648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91" name="AutoShape 21"/>
            <p:cNvCxnSpPr/>
            <p:nvPr/>
          </p:nvCxnSpPr>
          <p:spPr>
            <a:xfrm>
              <a:off x="3777120" y="4713480"/>
              <a:ext cx="1119960" cy="600480"/>
            </a:xfrm>
            <a:prstGeom prst="curvedConnector2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2" name="AutoShape 22"/>
            <p:cNvCxnSpPr/>
            <p:nvPr/>
          </p:nvCxnSpPr>
          <p:spPr>
            <a:xfrm>
              <a:off x="5304600" y="5459040"/>
              <a:ext cx="1382760" cy="525960"/>
            </a:xfrm>
            <a:prstGeom prst="curvedConnector2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7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E149-8B5E-4169-AF5F-80DA28377DC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Richiamo al Kalman Filter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95" name="Picture 5" descr="cond1"/>
          <p:cNvPicPr/>
          <p:nvPr/>
        </p:nvPicPr>
        <p:blipFill>
          <a:blip r:embed="rId1"/>
          <a:stretch/>
        </p:blipFill>
        <p:spPr>
          <a:xfrm>
            <a:off x="0" y="1924200"/>
            <a:ext cx="4719600" cy="281124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6" descr="cond2"/>
          <p:cNvPicPr/>
          <p:nvPr/>
        </p:nvPicPr>
        <p:blipFill>
          <a:blip r:embed="rId2"/>
          <a:stretch/>
        </p:blipFill>
        <p:spPr>
          <a:xfrm>
            <a:off x="5186520" y="1959120"/>
            <a:ext cx="4448160" cy="2793960"/>
          </a:xfrm>
          <a:prstGeom prst="rect">
            <a:avLst/>
          </a:prstGeom>
          <a:ln w="0">
            <a:noFill/>
          </a:ln>
        </p:spPr>
      </p:pic>
      <p:sp>
        <p:nvSpPr>
          <p:cNvPr id="1697" name="Text Box 7"/>
          <p:cNvSpPr/>
          <p:nvPr/>
        </p:nvSpPr>
        <p:spPr>
          <a:xfrm>
            <a:off x="1607400" y="4797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Arial"/>
                <a:ea typeface="Arial"/>
              </a:rPr>
              <a:t>Ka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8"/>
          <p:cNvSpPr/>
          <p:nvPr/>
        </p:nvSpPr>
        <p:spPr>
          <a:xfrm>
            <a:off x="6450480" y="47973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Arial"/>
                <a:ea typeface="Arial"/>
              </a:rPr>
              <a:t>Cond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5AFD-8764-42F9-90B3-761A515A04A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Dettagli: come campionare?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odo della funzione di riparti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ndo tutti i pesi dei camp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 faccio la somma cumulativa, ottenendo i coeff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2" name="Picture 10" descr=""/>
          <p:cNvPicPr/>
          <p:nvPr/>
        </p:nvPicPr>
        <p:blipFill>
          <a:blip r:embed="rId1"/>
          <a:stretch/>
        </p:blipFill>
        <p:spPr>
          <a:xfrm>
            <a:off x="819000" y="2421000"/>
            <a:ext cx="8553600" cy="852480"/>
          </a:xfrm>
          <a:prstGeom prst="rect">
            <a:avLst/>
          </a:prstGeom>
          <a:ln w="0">
            <a:noFill/>
          </a:ln>
        </p:spPr>
      </p:pic>
      <p:sp>
        <p:nvSpPr>
          <p:cNvPr id="1703" name="Rectangle 11"/>
          <p:cNvSpPr/>
          <p:nvPr/>
        </p:nvSpPr>
        <p:spPr>
          <a:xfrm>
            <a:off x="4329000" y="3068640"/>
            <a:ext cx="6238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Group 15"/>
          <p:cNvGrpSpPr/>
          <p:nvPr/>
        </p:nvGrpSpPr>
        <p:grpSpPr>
          <a:xfrm>
            <a:off x="974880" y="2924280"/>
            <a:ext cx="468000" cy="288720"/>
            <a:chOff x="974880" y="2924280"/>
            <a:chExt cx="468000" cy="288720"/>
          </a:xfrm>
        </p:grpSpPr>
        <p:sp>
          <p:nvSpPr>
            <p:cNvPr id="1705" name="Line 12"/>
            <p:cNvSpPr/>
            <p:nvPr/>
          </p:nvSpPr>
          <p:spPr>
            <a:xfrm>
              <a:off x="974880" y="3068640"/>
              <a:ext cx="4680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Line 13"/>
            <p:cNvSpPr/>
            <p:nvPr/>
          </p:nvSpPr>
          <p:spPr>
            <a:xfrm>
              <a:off x="974880" y="292428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Line 14"/>
            <p:cNvSpPr/>
            <p:nvPr/>
          </p:nvSpPr>
          <p:spPr>
            <a:xfrm>
              <a:off x="1442880" y="292428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Group 16"/>
          <p:cNvGrpSpPr/>
          <p:nvPr/>
        </p:nvGrpSpPr>
        <p:grpSpPr>
          <a:xfrm>
            <a:off x="1911240" y="3139920"/>
            <a:ext cx="623880" cy="289080"/>
            <a:chOff x="1911240" y="3139920"/>
            <a:chExt cx="623880" cy="289080"/>
          </a:xfrm>
        </p:grpSpPr>
        <p:sp>
          <p:nvSpPr>
            <p:cNvPr id="1709" name="Line 17"/>
            <p:cNvSpPr/>
            <p:nvPr/>
          </p:nvSpPr>
          <p:spPr>
            <a:xfrm>
              <a:off x="1911240" y="328464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Line 18"/>
            <p:cNvSpPr/>
            <p:nvPr/>
          </p:nvSpPr>
          <p:spPr>
            <a:xfrm>
              <a:off x="1911240" y="3139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Line 19"/>
            <p:cNvSpPr/>
            <p:nvPr/>
          </p:nvSpPr>
          <p:spPr>
            <a:xfrm>
              <a:off x="2535120" y="3139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2" name="Group 20"/>
          <p:cNvGrpSpPr/>
          <p:nvPr/>
        </p:nvGrpSpPr>
        <p:grpSpPr>
          <a:xfrm>
            <a:off x="2181240" y="3355920"/>
            <a:ext cx="801720" cy="289080"/>
            <a:chOff x="2181240" y="3355920"/>
            <a:chExt cx="801720" cy="289080"/>
          </a:xfrm>
        </p:grpSpPr>
        <p:sp>
          <p:nvSpPr>
            <p:cNvPr id="1713" name="Line 21"/>
            <p:cNvSpPr/>
            <p:nvPr/>
          </p:nvSpPr>
          <p:spPr>
            <a:xfrm>
              <a:off x="2181240" y="350064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Line 22"/>
            <p:cNvSpPr/>
            <p:nvPr/>
          </p:nvSpPr>
          <p:spPr>
            <a:xfrm>
              <a:off x="2181240" y="3355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Line 23"/>
            <p:cNvSpPr/>
            <p:nvPr/>
          </p:nvSpPr>
          <p:spPr>
            <a:xfrm>
              <a:off x="2982960" y="3355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Group 24"/>
          <p:cNvGrpSpPr/>
          <p:nvPr/>
        </p:nvGrpSpPr>
        <p:grpSpPr>
          <a:xfrm>
            <a:off x="2690640" y="3571920"/>
            <a:ext cx="801720" cy="288720"/>
            <a:chOff x="2690640" y="3571920"/>
            <a:chExt cx="801720" cy="288720"/>
          </a:xfrm>
        </p:grpSpPr>
        <p:sp>
          <p:nvSpPr>
            <p:cNvPr id="1717" name="Line 25"/>
            <p:cNvSpPr/>
            <p:nvPr/>
          </p:nvSpPr>
          <p:spPr>
            <a:xfrm>
              <a:off x="2690640" y="371628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Line 26"/>
            <p:cNvSpPr/>
            <p:nvPr/>
          </p:nvSpPr>
          <p:spPr>
            <a:xfrm>
              <a:off x="2690640" y="3571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Line 27"/>
            <p:cNvSpPr/>
            <p:nvPr/>
          </p:nvSpPr>
          <p:spPr>
            <a:xfrm>
              <a:off x="3492360" y="3571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Group 28"/>
          <p:cNvGrpSpPr/>
          <p:nvPr/>
        </p:nvGrpSpPr>
        <p:grpSpPr>
          <a:xfrm>
            <a:off x="3159000" y="3787920"/>
            <a:ext cx="623880" cy="288720"/>
            <a:chOff x="3159000" y="3787920"/>
            <a:chExt cx="623880" cy="288720"/>
          </a:xfrm>
        </p:grpSpPr>
        <p:sp>
          <p:nvSpPr>
            <p:cNvPr id="1721" name="Line 29"/>
            <p:cNvSpPr/>
            <p:nvPr/>
          </p:nvSpPr>
          <p:spPr>
            <a:xfrm>
              <a:off x="3159000" y="393228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Line 30"/>
            <p:cNvSpPr/>
            <p:nvPr/>
          </p:nvSpPr>
          <p:spPr>
            <a:xfrm>
              <a:off x="3159000" y="3787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Line 31"/>
            <p:cNvSpPr/>
            <p:nvPr/>
          </p:nvSpPr>
          <p:spPr>
            <a:xfrm>
              <a:off x="3782880" y="3787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Group 32"/>
          <p:cNvGrpSpPr/>
          <p:nvPr/>
        </p:nvGrpSpPr>
        <p:grpSpPr>
          <a:xfrm>
            <a:off x="3470400" y="3213000"/>
            <a:ext cx="1091880" cy="289080"/>
            <a:chOff x="3470400" y="3213000"/>
            <a:chExt cx="1091880" cy="289080"/>
          </a:xfrm>
        </p:grpSpPr>
        <p:sp>
          <p:nvSpPr>
            <p:cNvPr id="1725" name="Line 33"/>
            <p:cNvSpPr/>
            <p:nvPr/>
          </p:nvSpPr>
          <p:spPr>
            <a:xfrm>
              <a:off x="3470400" y="3357720"/>
              <a:ext cx="1091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Line 34"/>
            <p:cNvSpPr/>
            <p:nvPr/>
          </p:nvSpPr>
          <p:spPr>
            <a:xfrm>
              <a:off x="347040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Line 35"/>
            <p:cNvSpPr/>
            <p:nvPr/>
          </p:nvSpPr>
          <p:spPr>
            <a:xfrm>
              <a:off x="45622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8" name="Group 36"/>
          <p:cNvGrpSpPr/>
          <p:nvPr/>
        </p:nvGrpSpPr>
        <p:grpSpPr>
          <a:xfrm>
            <a:off x="4816440" y="3213000"/>
            <a:ext cx="447840" cy="289080"/>
            <a:chOff x="4816440" y="3213000"/>
            <a:chExt cx="447840" cy="289080"/>
          </a:xfrm>
        </p:grpSpPr>
        <p:sp>
          <p:nvSpPr>
            <p:cNvPr id="1729" name="Line 37"/>
            <p:cNvSpPr/>
            <p:nvPr/>
          </p:nvSpPr>
          <p:spPr>
            <a:xfrm>
              <a:off x="4816440" y="3357720"/>
              <a:ext cx="4478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Line 38"/>
            <p:cNvSpPr/>
            <p:nvPr/>
          </p:nvSpPr>
          <p:spPr>
            <a:xfrm>
              <a:off x="481644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Line 39"/>
            <p:cNvSpPr/>
            <p:nvPr/>
          </p:nvSpPr>
          <p:spPr>
            <a:xfrm>
              <a:off x="52642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Group 40"/>
          <p:cNvGrpSpPr/>
          <p:nvPr/>
        </p:nvGrpSpPr>
        <p:grpSpPr>
          <a:xfrm>
            <a:off x="6202440" y="3213000"/>
            <a:ext cx="446040" cy="289080"/>
            <a:chOff x="6202440" y="3213000"/>
            <a:chExt cx="446040" cy="289080"/>
          </a:xfrm>
        </p:grpSpPr>
        <p:sp>
          <p:nvSpPr>
            <p:cNvPr id="1733" name="Line 41"/>
            <p:cNvSpPr/>
            <p:nvPr/>
          </p:nvSpPr>
          <p:spPr>
            <a:xfrm>
              <a:off x="6202440" y="3357720"/>
              <a:ext cx="446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Line 42"/>
            <p:cNvSpPr/>
            <p:nvPr/>
          </p:nvSpPr>
          <p:spPr>
            <a:xfrm>
              <a:off x="620244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Line 43"/>
            <p:cNvSpPr/>
            <p:nvPr/>
          </p:nvSpPr>
          <p:spPr>
            <a:xfrm>
              <a:off x="66484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6" name="Group 44"/>
          <p:cNvGrpSpPr/>
          <p:nvPr/>
        </p:nvGrpSpPr>
        <p:grpSpPr>
          <a:xfrm>
            <a:off x="6502320" y="3429000"/>
            <a:ext cx="527040" cy="289080"/>
            <a:chOff x="6502320" y="3429000"/>
            <a:chExt cx="527040" cy="289080"/>
          </a:xfrm>
        </p:grpSpPr>
        <p:sp>
          <p:nvSpPr>
            <p:cNvPr id="1737" name="Line 45"/>
            <p:cNvSpPr/>
            <p:nvPr/>
          </p:nvSpPr>
          <p:spPr>
            <a:xfrm>
              <a:off x="6502320" y="3573720"/>
              <a:ext cx="527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Line 46"/>
            <p:cNvSpPr/>
            <p:nvPr/>
          </p:nvSpPr>
          <p:spPr>
            <a:xfrm>
              <a:off x="650232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Line 47"/>
            <p:cNvSpPr/>
            <p:nvPr/>
          </p:nvSpPr>
          <p:spPr>
            <a:xfrm>
              <a:off x="702936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0" name="Group 48"/>
          <p:cNvGrpSpPr/>
          <p:nvPr/>
        </p:nvGrpSpPr>
        <p:grpSpPr>
          <a:xfrm>
            <a:off x="6669000" y="3716280"/>
            <a:ext cx="527040" cy="289080"/>
            <a:chOff x="6669000" y="3716280"/>
            <a:chExt cx="527040" cy="289080"/>
          </a:xfrm>
        </p:grpSpPr>
        <p:sp>
          <p:nvSpPr>
            <p:cNvPr id="1741" name="Line 49"/>
            <p:cNvSpPr/>
            <p:nvPr/>
          </p:nvSpPr>
          <p:spPr>
            <a:xfrm>
              <a:off x="6669000" y="3861000"/>
              <a:ext cx="527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Line 50"/>
            <p:cNvSpPr/>
            <p:nvPr/>
          </p:nvSpPr>
          <p:spPr>
            <a:xfrm>
              <a:off x="6669000" y="371628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Line 51"/>
            <p:cNvSpPr/>
            <p:nvPr/>
          </p:nvSpPr>
          <p:spPr>
            <a:xfrm>
              <a:off x="7196040" y="371628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Group 52"/>
          <p:cNvGrpSpPr/>
          <p:nvPr/>
        </p:nvGrpSpPr>
        <p:grpSpPr>
          <a:xfrm>
            <a:off x="8072280" y="3213000"/>
            <a:ext cx="858960" cy="289080"/>
            <a:chOff x="8072280" y="3213000"/>
            <a:chExt cx="858960" cy="289080"/>
          </a:xfrm>
        </p:grpSpPr>
        <p:sp>
          <p:nvSpPr>
            <p:cNvPr id="1745" name="Line 53"/>
            <p:cNvSpPr/>
            <p:nvPr/>
          </p:nvSpPr>
          <p:spPr>
            <a:xfrm>
              <a:off x="8072280" y="3357720"/>
              <a:ext cx="8589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Line 54"/>
            <p:cNvSpPr/>
            <p:nvPr/>
          </p:nvSpPr>
          <p:spPr>
            <a:xfrm>
              <a:off x="80722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Line 55"/>
            <p:cNvSpPr/>
            <p:nvPr/>
          </p:nvSpPr>
          <p:spPr>
            <a:xfrm>
              <a:off x="893124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Group 56"/>
          <p:cNvGrpSpPr/>
          <p:nvPr/>
        </p:nvGrpSpPr>
        <p:grpSpPr>
          <a:xfrm>
            <a:off x="8229600" y="3429000"/>
            <a:ext cx="857160" cy="289080"/>
            <a:chOff x="8229600" y="3429000"/>
            <a:chExt cx="857160" cy="289080"/>
          </a:xfrm>
        </p:grpSpPr>
        <p:sp>
          <p:nvSpPr>
            <p:cNvPr id="1749" name="Line 57"/>
            <p:cNvSpPr/>
            <p:nvPr/>
          </p:nvSpPr>
          <p:spPr>
            <a:xfrm>
              <a:off x="8229600" y="3573720"/>
              <a:ext cx="8571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Line 58"/>
            <p:cNvSpPr/>
            <p:nvPr/>
          </p:nvSpPr>
          <p:spPr>
            <a:xfrm>
              <a:off x="822960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Line 59"/>
            <p:cNvSpPr/>
            <p:nvPr/>
          </p:nvSpPr>
          <p:spPr>
            <a:xfrm>
              <a:off x="908676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52" name="Object 2"/>
              <p:cNvSpPr txBox="1"/>
              <p:nvPr/>
            </p:nvSpPr>
            <p:spPr>
              <a:xfrm>
                <a:off x="6356520" y="1916280"/>
                <a:ext cx="785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Object 3"/>
              <p:cNvSpPr txBox="1"/>
              <p:nvPr/>
            </p:nvSpPr>
            <p:spPr>
              <a:xfrm>
                <a:off x="1754280" y="4581360"/>
                <a:ext cx="73332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Object 4"/>
              <p:cNvSpPr txBox="1"/>
              <p:nvPr/>
            </p:nvSpPr>
            <p:spPr>
              <a:xfrm>
                <a:off x="954000" y="5516640"/>
                <a:ext cx="488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Object 5"/>
              <p:cNvSpPr txBox="1"/>
              <p:nvPr/>
            </p:nvSpPr>
            <p:spPr>
              <a:xfrm>
                <a:off x="1461960" y="5516640"/>
                <a:ext cx="516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56" name="Rectangle 113"/>
          <p:cNvSpPr/>
          <p:nvPr/>
        </p:nvSpPr>
        <p:spPr>
          <a:xfrm>
            <a:off x="4249800" y="5850000"/>
            <a:ext cx="6238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Group 114"/>
          <p:cNvGrpSpPr/>
          <p:nvPr/>
        </p:nvGrpSpPr>
        <p:grpSpPr>
          <a:xfrm>
            <a:off x="933480" y="5229360"/>
            <a:ext cx="468360" cy="288720"/>
            <a:chOff x="933480" y="5229360"/>
            <a:chExt cx="468360" cy="288720"/>
          </a:xfrm>
        </p:grpSpPr>
        <p:sp>
          <p:nvSpPr>
            <p:cNvPr id="1758" name="Line 115"/>
            <p:cNvSpPr/>
            <p:nvPr/>
          </p:nvSpPr>
          <p:spPr>
            <a:xfrm>
              <a:off x="933480" y="5373720"/>
              <a:ext cx="4683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Line 116"/>
            <p:cNvSpPr/>
            <p:nvPr/>
          </p:nvSpPr>
          <p:spPr>
            <a:xfrm>
              <a:off x="93348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Line 117"/>
            <p:cNvSpPr/>
            <p:nvPr/>
          </p:nvSpPr>
          <p:spPr>
            <a:xfrm>
              <a:off x="14018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1" name="Group 118"/>
          <p:cNvGrpSpPr/>
          <p:nvPr/>
        </p:nvGrpSpPr>
        <p:grpSpPr>
          <a:xfrm>
            <a:off x="1401840" y="5229360"/>
            <a:ext cx="623880" cy="288720"/>
            <a:chOff x="1401840" y="5229360"/>
            <a:chExt cx="623880" cy="288720"/>
          </a:xfrm>
        </p:grpSpPr>
        <p:sp>
          <p:nvSpPr>
            <p:cNvPr id="1762" name="Line 119"/>
            <p:cNvSpPr/>
            <p:nvPr/>
          </p:nvSpPr>
          <p:spPr>
            <a:xfrm>
              <a:off x="1401840" y="537372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Line 120"/>
            <p:cNvSpPr/>
            <p:nvPr/>
          </p:nvSpPr>
          <p:spPr>
            <a:xfrm>
              <a:off x="14018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Line 121"/>
            <p:cNvSpPr/>
            <p:nvPr/>
          </p:nvSpPr>
          <p:spPr>
            <a:xfrm>
              <a:off x="20257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Group 122"/>
          <p:cNvGrpSpPr/>
          <p:nvPr/>
        </p:nvGrpSpPr>
        <p:grpSpPr>
          <a:xfrm>
            <a:off x="2025720" y="5229360"/>
            <a:ext cx="801720" cy="288720"/>
            <a:chOff x="2025720" y="5229360"/>
            <a:chExt cx="801720" cy="288720"/>
          </a:xfrm>
        </p:grpSpPr>
        <p:sp>
          <p:nvSpPr>
            <p:cNvPr id="1766" name="Line 123"/>
            <p:cNvSpPr/>
            <p:nvPr/>
          </p:nvSpPr>
          <p:spPr>
            <a:xfrm>
              <a:off x="2025720" y="537372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Line 124"/>
            <p:cNvSpPr/>
            <p:nvPr/>
          </p:nvSpPr>
          <p:spPr>
            <a:xfrm>
              <a:off x="20257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Line 125"/>
            <p:cNvSpPr/>
            <p:nvPr/>
          </p:nvSpPr>
          <p:spPr>
            <a:xfrm>
              <a:off x="28274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Group 126"/>
          <p:cNvGrpSpPr/>
          <p:nvPr/>
        </p:nvGrpSpPr>
        <p:grpSpPr>
          <a:xfrm>
            <a:off x="2825640" y="5229360"/>
            <a:ext cx="801720" cy="288720"/>
            <a:chOff x="2825640" y="5229360"/>
            <a:chExt cx="801720" cy="288720"/>
          </a:xfrm>
        </p:grpSpPr>
        <p:sp>
          <p:nvSpPr>
            <p:cNvPr id="1770" name="Line 127"/>
            <p:cNvSpPr/>
            <p:nvPr/>
          </p:nvSpPr>
          <p:spPr>
            <a:xfrm>
              <a:off x="2825640" y="537372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Line 128"/>
            <p:cNvSpPr/>
            <p:nvPr/>
          </p:nvSpPr>
          <p:spPr>
            <a:xfrm>
              <a:off x="28256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Line 129"/>
            <p:cNvSpPr/>
            <p:nvPr/>
          </p:nvSpPr>
          <p:spPr>
            <a:xfrm>
              <a:off x="36273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3" name="Group 130"/>
          <p:cNvGrpSpPr/>
          <p:nvPr/>
        </p:nvGrpSpPr>
        <p:grpSpPr>
          <a:xfrm>
            <a:off x="3632040" y="5229360"/>
            <a:ext cx="623880" cy="288720"/>
            <a:chOff x="3632040" y="5229360"/>
            <a:chExt cx="623880" cy="288720"/>
          </a:xfrm>
        </p:grpSpPr>
        <p:sp>
          <p:nvSpPr>
            <p:cNvPr id="1774" name="Line 131"/>
            <p:cNvSpPr/>
            <p:nvPr/>
          </p:nvSpPr>
          <p:spPr>
            <a:xfrm>
              <a:off x="3632040" y="537372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Line 132"/>
            <p:cNvSpPr/>
            <p:nvPr/>
          </p:nvSpPr>
          <p:spPr>
            <a:xfrm>
              <a:off x="36320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Line 133"/>
            <p:cNvSpPr/>
            <p:nvPr/>
          </p:nvSpPr>
          <p:spPr>
            <a:xfrm>
              <a:off x="42559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Group 134"/>
          <p:cNvGrpSpPr/>
          <p:nvPr/>
        </p:nvGrpSpPr>
        <p:grpSpPr>
          <a:xfrm>
            <a:off x="4255920" y="5229360"/>
            <a:ext cx="1091880" cy="288720"/>
            <a:chOff x="4255920" y="5229360"/>
            <a:chExt cx="1091880" cy="288720"/>
          </a:xfrm>
        </p:grpSpPr>
        <p:sp>
          <p:nvSpPr>
            <p:cNvPr id="1778" name="Line 135"/>
            <p:cNvSpPr/>
            <p:nvPr/>
          </p:nvSpPr>
          <p:spPr>
            <a:xfrm>
              <a:off x="4255920" y="5373720"/>
              <a:ext cx="1091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136"/>
            <p:cNvSpPr/>
            <p:nvPr/>
          </p:nvSpPr>
          <p:spPr>
            <a:xfrm>
              <a:off x="42559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137"/>
            <p:cNvSpPr/>
            <p:nvPr/>
          </p:nvSpPr>
          <p:spPr>
            <a:xfrm>
              <a:off x="53478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Group 138"/>
          <p:cNvGrpSpPr/>
          <p:nvPr/>
        </p:nvGrpSpPr>
        <p:grpSpPr>
          <a:xfrm>
            <a:off x="5348160" y="5229360"/>
            <a:ext cx="447840" cy="288720"/>
            <a:chOff x="5348160" y="5229360"/>
            <a:chExt cx="447840" cy="288720"/>
          </a:xfrm>
        </p:grpSpPr>
        <p:sp>
          <p:nvSpPr>
            <p:cNvPr id="1782" name="Line 139"/>
            <p:cNvSpPr/>
            <p:nvPr/>
          </p:nvSpPr>
          <p:spPr>
            <a:xfrm>
              <a:off x="5348160" y="5373720"/>
              <a:ext cx="4478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140"/>
            <p:cNvSpPr/>
            <p:nvPr/>
          </p:nvSpPr>
          <p:spPr>
            <a:xfrm>
              <a:off x="53481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Line 141"/>
            <p:cNvSpPr/>
            <p:nvPr/>
          </p:nvSpPr>
          <p:spPr>
            <a:xfrm>
              <a:off x="57960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Group 142"/>
          <p:cNvGrpSpPr/>
          <p:nvPr/>
        </p:nvGrpSpPr>
        <p:grpSpPr>
          <a:xfrm>
            <a:off x="5791320" y="5229360"/>
            <a:ext cx="446040" cy="288720"/>
            <a:chOff x="5791320" y="5229360"/>
            <a:chExt cx="446040" cy="288720"/>
          </a:xfrm>
        </p:grpSpPr>
        <p:sp>
          <p:nvSpPr>
            <p:cNvPr id="1786" name="Line 143"/>
            <p:cNvSpPr/>
            <p:nvPr/>
          </p:nvSpPr>
          <p:spPr>
            <a:xfrm>
              <a:off x="5791320" y="5373720"/>
              <a:ext cx="446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Line 144"/>
            <p:cNvSpPr/>
            <p:nvPr/>
          </p:nvSpPr>
          <p:spPr>
            <a:xfrm>
              <a:off x="57913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Line 145"/>
            <p:cNvSpPr/>
            <p:nvPr/>
          </p:nvSpPr>
          <p:spPr>
            <a:xfrm>
              <a:off x="62373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Group 146"/>
          <p:cNvGrpSpPr/>
          <p:nvPr/>
        </p:nvGrpSpPr>
        <p:grpSpPr>
          <a:xfrm>
            <a:off x="6237360" y="5229360"/>
            <a:ext cx="527040" cy="288720"/>
            <a:chOff x="6237360" y="5229360"/>
            <a:chExt cx="527040" cy="288720"/>
          </a:xfrm>
        </p:grpSpPr>
        <p:sp>
          <p:nvSpPr>
            <p:cNvPr id="1790" name="Line 147"/>
            <p:cNvSpPr/>
            <p:nvPr/>
          </p:nvSpPr>
          <p:spPr>
            <a:xfrm>
              <a:off x="6237360" y="5373720"/>
              <a:ext cx="527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Line 148"/>
            <p:cNvSpPr/>
            <p:nvPr/>
          </p:nvSpPr>
          <p:spPr>
            <a:xfrm>
              <a:off x="62373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Line 149"/>
            <p:cNvSpPr/>
            <p:nvPr/>
          </p:nvSpPr>
          <p:spPr>
            <a:xfrm>
              <a:off x="67644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Group 150"/>
          <p:cNvGrpSpPr/>
          <p:nvPr/>
        </p:nvGrpSpPr>
        <p:grpSpPr>
          <a:xfrm>
            <a:off x="6764400" y="5229360"/>
            <a:ext cx="525240" cy="288720"/>
            <a:chOff x="6764400" y="5229360"/>
            <a:chExt cx="525240" cy="288720"/>
          </a:xfrm>
        </p:grpSpPr>
        <p:sp>
          <p:nvSpPr>
            <p:cNvPr id="1794" name="Line 151"/>
            <p:cNvSpPr/>
            <p:nvPr/>
          </p:nvSpPr>
          <p:spPr>
            <a:xfrm>
              <a:off x="6764400" y="5373720"/>
              <a:ext cx="5252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Line 152"/>
            <p:cNvSpPr/>
            <p:nvPr/>
          </p:nvSpPr>
          <p:spPr>
            <a:xfrm>
              <a:off x="67644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Line 153"/>
            <p:cNvSpPr/>
            <p:nvPr/>
          </p:nvSpPr>
          <p:spPr>
            <a:xfrm>
              <a:off x="72896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Group 154"/>
          <p:cNvGrpSpPr/>
          <p:nvPr/>
        </p:nvGrpSpPr>
        <p:grpSpPr>
          <a:xfrm>
            <a:off x="7292880" y="5227560"/>
            <a:ext cx="858960" cy="289080"/>
            <a:chOff x="7292880" y="5227560"/>
            <a:chExt cx="858960" cy="289080"/>
          </a:xfrm>
        </p:grpSpPr>
        <p:sp>
          <p:nvSpPr>
            <p:cNvPr id="1798" name="Line 155"/>
            <p:cNvSpPr/>
            <p:nvPr/>
          </p:nvSpPr>
          <p:spPr>
            <a:xfrm>
              <a:off x="7292880" y="5372280"/>
              <a:ext cx="8589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Line 156"/>
            <p:cNvSpPr/>
            <p:nvPr/>
          </p:nvSpPr>
          <p:spPr>
            <a:xfrm>
              <a:off x="7292880" y="522756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Line 157"/>
            <p:cNvSpPr/>
            <p:nvPr/>
          </p:nvSpPr>
          <p:spPr>
            <a:xfrm>
              <a:off x="8151840" y="522756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Group 158"/>
          <p:cNvGrpSpPr/>
          <p:nvPr/>
        </p:nvGrpSpPr>
        <p:grpSpPr>
          <a:xfrm>
            <a:off x="8151840" y="5229360"/>
            <a:ext cx="858960" cy="288720"/>
            <a:chOff x="8151840" y="5229360"/>
            <a:chExt cx="858960" cy="288720"/>
          </a:xfrm>
        </p:grpSpPr>
        <p:sp>
          <p:nvSpPr>
            <p:cNvPr id="1802" name="Line 159"/>
            <p:cNvSpPr/>
            <p:nvPr/>
          </p:nvSpPr>
          <p:spPr>
            <a:xfrm>
              <a:off x="8151840" y="5373720"/>
              <a:ext cx="8589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160"/>
            <p:cNvSpPr/>
            <p:nvPr/>
          </p:nvSpPr>
          <p:spPr>
            <a:xfrm>
              <a:off x="81518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161"/>
            <p:cNvSpPr/>
            <p:nvPr/>
          </p:nvSpPr>
          <p:spPr>
            <a:xfrm>
              <a:off x="90108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5" name="Object 6"/>
              <p:cNvSpPr txBox="1"/>
              <p:nvPr/>
            </p:nvSpPr>
            <p:spPr>
              <a:xfrm>
                <a:off x="8278920" y="5516640"/>
                <a:ext cx="571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21DA-E7AA-422B-BF07-D2A14F73FDF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Dettagli: come campionare?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s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podiché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in modo efficiente – O(NlogN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9" name="Picture 108" descr=""/>
          <p:cNvPicPr/>
          <p:nvPr/>
        </p:nvPicPr>
        <p:blipFill>
          <a:blip r:embed="rId1"/>
          <a:stretch/>
        </p:blipFill>
        <p:spPr>
          <a:xfrm>
            <a:off x="2066760" y="2060640"/>
            <a:ext cx="5461200" cy="141768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109" descr=""/>
          <p:cNvPicPr/>
          <p:nvPr/>
        </p:nvPicPr>
        <p:blipFill>
          <a:blip r:embed="rId2"/>
          <a:stretch/>
        </p:blipFill>
        <p:spPr>
          <a:xfrm>
            <a:off x="1521000" y="4116240"/>
            <a:ext cx="7489800" cy="1906560"/>
          </a:xfrm>
          <a:prstGeom prst="rect">
            <a:avLst/>
          </a:prstGeom>
          <a:ln w="0">
            <a:noFill/>
          </a:ln>
        </p:spPr>
      </p:pic>
      <p:sp>
        <p:nvSpPr>
          <p:cNvPr id="1811" name="Rectangle 110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CFEE-991E-40C7-B2B9-7B40613C217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Stato del sistema: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on esclusivamente una posizione 1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sizione multidimens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tdi coefficienti di B-spline, per modellare una fo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Rectangle 6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6" name="Picture 7" descr=""/>
          <p:cNvPicPr/>
          <p:nvPr/>
        </p:nvPicPr>
        <p:blipFill>
          <a:blip r:embed="rId1"/>
          <a:stretch/>
        </p:blipFill>
        <p:spPr>
          <a:xfrm>
            <a:off x="271440" y="3573360"/>
            <a:ext cx="4524480" cy="1836720"/>
          </a:xfrm>
          <a:prstGeom prst="rect">
            <a:avLst/>
          </a:prstGeom>
          <a:ln w="0">
            <a:noFill/>
          </a:ln>
        </p:spPr>
      </p:pic>
      <p:pic>
        <p:nvPicPr>
          <p:cNvPr id="1817" name="hand.mpeg" descr=""/>
          <p:cNvPicPr/>
          <p:nvPr/>
        </p:nvPicPr>
        <p:blipFill>
          <a:blip r:embed="rId2"/>
          <a:stretch/>
        </p:blipFill>
        <p:spPr>
          <a:xfrm>
            <a:off x="4952880" y="2924280"/>
            <a:ext cx="2262240" cy="1565280"/>
          </a:xfrm>
          <a:prstGeom prst="rect">
            <a:avLst/>
          </a:prstGeom>
          <a:ln w="0">
            <a:noFill/>
          </a:ln>
        </p:spPr>
      </p:pic>
      <p:pic>
        <p:nvPicPr>
          <p:cNvPr id="1818" name="leafmv.mpeg" descr=""/>
          <p:cNvPicPr/>
          <p:nvPr/>
        </p:nvPicPr>
        <p:blipFill>
          <a:blip r:embed="rId3"/>
          <a:stretch/>
        </p:blipFill>
        <p:spPr>
          <a:xfrm>
            <a:off x="6435720" y="4581360"/>
            <a:ext cx="2495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1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81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8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81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81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6D51-7545-4B7E-91A9-68230E9D73B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Note – multi-object track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a accade nel caso in cui ci siano piu’ di un oggetto da insegui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Rectangle 6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3" name="video39-1.avi" descr=""/>
          <p:cNvPicPr/>
          <p:nvPr/>
        </p:nvPicPr>
        <p:blipFill>
          <a:blip r:embed="rId1"/>
          <a:stretch/>
        </p:blipFill>
        <p:spPr>
          <a:xfrm>
            <a:off x="3002040" y="2565360"/>
            <a:ext cx="39621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823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823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8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6F37-9E2C-402B-B125-C9DD86B2153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Note – multi-object track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lgoritmo tende effettivamente a seguire un solo ogget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Rectangle 4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8" name="Picture 6" descr="2ogg"/>
          <p:cNvPicPr/>
          <p:nvPr/>
        </p:nvPicPr>
        <p:blipFill>
          <a:blip r:embed="rId1"/>
          <a:stretch/>
        </p:blipFill>
        <p:spPr>
          <a:xfrm>
            <a:off x="4875120" y="2133720"/>
            <a:ext cx="5226120" cy="3619440"/>
          </a:xfrm>
          <a:prstGeom prst="rect">
            <a:avLst/>
          </a:prstGeom>
          <a:ln w="0">
            <a:noFill/>
          </a:ln>
        </p:spPr>
      </p:pic>
      <p:pic>
        <p:nvPicPr>
          <p:cNvPr id="1829" name="Picture 7" descr="2oggAlto copia"/>
          <p:cNvPicPr/>
          <p:nvPr/>
        </p:nvPicPr>
        <p:blipFill>
          <a:blip r:embed="rId2"/>
          <a:stretch/>
        </p:blipFill>
        <p:spPr>
          <a:xfrm>
            <a:off x="195120" y="2246400"/>
            <a:ext cx="45640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3D95-1277-4559-A9AC-8570F8E862A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mportanza della dinami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2" name="Rectangle 4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a dinamica errata porta a perdere l’ogget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luzione: si stima la dinamica in modo robusto, off-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anualmente, via correlazione esaustiva su tutto il piano immag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4" name="Picture 8" descr="confronto copia"/>
          <p:cNvPicPr/>
          <p:nvPr/>
        </p:nvPicPr>
        <p:blipFill>
          <a:blip r:embed="rId1"/>
          <a:stretch/>
        </p:blipFill>
        <p:spPr>
          <a:xfrm>
            <a:off x="2612880" y="1916280"/>
            <a:ext cx="444528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7875-3EAF-40B6-9752-48536EA0466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6" name="Picture 2" descr="ozket"/>
          <p:cNvPicPr/>
          <p:nvPr/>
        </p:nvPicPr>
        <p:blipFill>
          <a:blip r:embed="rId1"/>
          <a:stretch/>
        </p:blipFill>
        <p:spPr>
          <a:xfrm>
            <a:off x="1511280" y="4654440"/>
            <a:ext cx="2743200" cy="1898640"/>
          </a:xfrm>
          <a:prstGeom prst="rect">
            <a:avLst/>
          </a:prstGeom>
          <a:ln w="25560">
            <a:solidFill>
              <a:srgbClr val="009999"/>
            </a:solidFill>
            <a:miter/>
          </a:ln>
        </p:spPr>
      </p:pic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Condensation multi oggetto - Brambl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yesian 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iple-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B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 (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B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) tracker è l’evoluzione di Condensa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 solito, st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9" name="Object 2"/>
              <p:cNvSpPr txBox="1"/>
              <p:nvPr/>
            </p:nvSpPr>
            <p:spPr>
              <a:xfrm>
                <a:off x="2222640" y="2997360"/>
                <a:ext cx="54482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0" name="Text Box 6"/>
          <p:cNvSpPr/>
          <p:nvPr/>
        </p:nvSpPr>
        <p:spPr>
          <a:xfrm>
            <a:off x="1689840" y="41911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ato all’istante </a:t>
            </a:r>
            <a:r>
              <a:rPr b="0" i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1" name="Picture 8" descr="ozket"/>
          <p:cNvPicPr/>
          <p:nvPr/>
        </p:nvPicPr>
        <p:blipFill>
          <a:blip r:embed="rId2"/>
          <a:stretch/>
        </p:blipFill>
        <p:spPr>
          <a:xfrm>
            <a:off x="5308560" y="4724280"/>
            <a:ext cx="175248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1842" name="Picture 9" descr="ozket"/>
          <p:cNvPicPr/>
          <p:nvPr/>
        </p:nvPicPr>
        <p:blipFill>
          <a:blip r:embed="rId3"/>
          <a:stretch/>
        </p:blipFill>
        <p:spPr>
          <a:xfrm>
            <a:off x="5473800" y="4876920"/>
            <a:ext cx="175248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1843" name="Picture 10" descr="ozket"/>
          <p:cNvPicPr/>
          <p:nvPr/>
        </p:nvPicPr>
        <p:blipFill>
          <a:blip r:embed="rId4"/>
          <a:stretch/>
        </p:blipFill>
        <p:spPr>
          <a:xfrm>
            <a:off x="5638680" y="5029200"/>
            <a:ext cx="175284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1844" name="Picture 11" descr="ozket"/>
          <p:cNvPicPr/>
          <p:nvPr/>
        </p:nvPicPr>
        <p:blipFill>
          <a:blip r:embed="rId5"/>
          <a:stretch/>
        </p:blipFill>
        <p:spPr>
          <a:xfrm>
            <a:off x="5803920" y="5181480"/>
            <a:ext cx="175248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845" name="Text Box 12"/>
          <p:cNvSpPr/>
          <p:nvPr/>
        </p:nvSpPr>
        <p:spPr>
          <a:xfrm>
            <a:off x="4917240" y="41911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quenza di  imm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AutoShape 13"/>
          <p:cNvSpPr/>
          <p:nvPr/>
        </p:nvSpPr>
        <p:spPr>
          <a:xfrm rot="16200000">
            <a:off x="2943000" y="3666600"/>
            <a:ext cx="304920" cy="743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7640 h 743040"/>
              <a:gd name="textAreaBottom" fmla="*/ 725400 h 7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5251"/>
                </a:lnTo>
                <a:cubicBezTo>
                  <a:pt x="10800" y="6082"/>
                  <a:pt x="5400" y="6913"/>
                  <a:pt x="0" y="6913"/>
                </a:cubicBezTo>
                <a:cubicBezTo>
                  <a:pt x="5400" y="6913"/>
                  <a:pt x="10800" y="7744"/>
                  <a:pt x="10800" y="8575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AutoShape 14"/>
          <p:cNvSpPr/>
          <p:nvPr/>
        </p:nvSpPr>
        <p:spPr>
          <a:xfrm rot="16200000">
            <a:off x="5584680" y="2098440"/>
            <a:ext cx="304920" cy="3879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879720"/>
              <a:gd name="textAreaBottom" fmla="*/ 3786480 h 387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11064"/>
                </a:lnTo>
                <a:cubicBezTo>
                  <a:pt x="10800" y="11895"/>
                  <a:pt x="5400" y="12726"/>
                  <a:pt x="0" y="12726"/>
                </a:cubicBezTo>
                <a:cubicBezTo>
                  <a:pt x="5400" y="12726"/>
                  <a:pt x="10800" y="13557"/>
                  <a:pt x="10800" y="14388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8" name="Picture 16" descr="example_state"/>
          <p:cNvPicPr/>
          <p:nvPr/>
        </p:nvPicPr>
        <p:blipFill>
          <a:blip r:embed="rId6"/>
          <a:stretch/>
        </p:blipFill>
        <p:spPr>
          <a:xfrm>
            <a:off x="1511280" y="4648320"/>
            <a:ext cx="2752920" cy="1904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49" name="Text Box 17"/>
          <p:cNvSpPr/>
          <p:nvPr/>
        </p:nvSpPr>
        <p:spPr>
          <a:xfrm>
            <a:off x="585720" y="4724280"/>
            <a:ext cx="115596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izion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locità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Rectangle 19"/>
          <p:cNvSpPr/>
          <p:nvPr/>
        </p:nvSpPr>
        <p:spPr>
          <a:xfrm>
            <a:off x="351000" y="0"/>
            <a:ext cx="817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BraMBLe: a Bayesian multiple-blob tracker, M Isard, J Maccormick. ICCV 2001. Proceedings. Eighth IEEE International Conference on, Vol. 2 (2001), pp. 34-41 vol.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E138-E8C0-489B-BC38-D8EB0E6B3AF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o del sistem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4" name="Object 2"/>
              <p:cNvSpPr txBox="1"/>
              <p:nvPr/>
            </p:nvSpPr>
            <p:spPr>
              <a:xfrm>
                <a:off x="2354400" y="2238480"/>
                <a:ext cx="5211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m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5" name="Text Box 18"/>
          <p:cNvSpPr/>
          <p:nvPr/>
        </p:nvSpPr>
        <p:spPr>
          <a:xfrm>
            <a:off x="2940840" y="29368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ero di ogg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Line 19"/>
          <p:cNvSpPr/>
          <p:nvPr/>
        </p:nvSpPr>
        <p:spPr>
          <a:xfrm>
            <a:off x="3860640" y="285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20"/>
          <p:cNvSpPr/>
          <p:nvPr/>
        </p:nvSpPr>
        <p:spPr>
          <a:xfrm>
            <a:off x="6122880" y="321300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l’og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Line 21"/>
          <p:cNvSpPr/>
          <p:nvPr/>
        </p:nvSpPr>
        <p:spPr>
          <a:xfrm>
            <a:off x="6826320" y="285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Group 23"/>
          <p:cNvGrpSpPr/>
          <p:nvPr/>
        </p:nvGrpSpPr>
        <p:grpSpPr>
          <a:xfrm>
            <a:off x="271440" y="3500280"/>
            <a:ext cx="3136680" cy="2700360"/>
            <a:chOff x="271440" y="3500280"/>
            <a:chExt cx="3136680" cy="2700360"/>
          </a:xfrm>
        </p:grpSpPr>
        <p:pic>
          <p:nvPicPr>
            <p:cNvPr id="1860" name="Picture 24" descr="example_state"/>
            <p:cNvPicPr/>
            <p:nvPr/>
          </p:nvPicPr>
          <p:blipFill>
            <a:blip r:embed="rId1"/>
            <a:srcRect l="8166" t="0" r="14290" b="0"/>
            <a:stretch/>
          </p:blipFill>
          <p:spPr>
            <a:xfrm>
              <a:off x="271440" y="3516120"/>
              <a:ext cx="3136680" cy="26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Line 25"/>
            <p:cNvSpPr/>
            <p:nvPr/>
          </p:nvSpPr>
          <p:spPr>
            <a:xfrm flipV="1">
              <a:off x="1258560" y="4765680"/>
              <a:ext cx="375120" cy="164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Line 26"/>
            <p:cNvSpPr/>
            <p:nvPr/>
          </p:nvSpPr>
          <p:spPr>
            <a:xfrm>
              <a:off x="2293920" y="4765680"/>
              <a:ext cx="7513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Line 27"/>
            <p:cNvSpPr/>
            <p:nvPr/>
          </p:nvSpPr>
          <p:spPr>
            <a:xfrm flipH="1" flipV="1">
              <a:off x="2011680" y="4765680"/>
              <a:ext cx="469080" cy="24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4" name="Object 4"/>
                <p:cNvSpPr txBox="1"/>
                <p:nvPr/>
              </p:nvSpPr>
              <p:spPr>
                <a:xfrm>
                  <a:off x="1714320" y="3500280"/>
                  <a:ext cx="70848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5" name="Object 5"/>
                <p:cNvSpPr txBox="1"/>
                <p:nvPr/>
              </p:nvSpPr>
              <p:spPr>
                <a:xfrm>
                  <a:off x="2612160" y="5290920"/>
                  <a:ext cx="75312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6" name="Object 6"/>
                <p:cNvSpPr txBox="1"/>
                <p:nvPr/>
              </p:nvSpPr>
              <p:spPr>
                <a:xfrm>
                  <a:off x="405360" y="3906720"/>
                  <a:ext cx="75312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7" name="Object 3"/>
              <p:cNvSpPr txBox="1"/>
              <p:nvPr/>
            </p:nvSpPr>
            <p:spPr>
              <a:xfrm>
                <a:off x="3079800" y="5661000"/>
                <a:ext cx="1193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8" name="Arc 32"/>
          <p:cNvSpPr/>
          <p:nvPr/>
        </p:nvSpPr>
        <p:spPr>
          <a:xfrm>
            <a:off x="409680" y="3357720"/>
            <a:ext cx="3868560" cy="2743200"/>
          </a:xfrm>
          <a:custGeom>
            <a:avLst/>
            <a:gdLst>
              <a:gd name="textAreaLeft" fmla="*/ 0 w 3868560"/>
              <a:gd name="textAreaRight" fmla="*/ 3868920 w 386856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fill="none" w="26647" h="21600">
                <a:moveTo>
                  <a:pt x="-1" y="597"/>
                </a:moveTo>
                <a:cubicBezTo>
                  <a:pt x="1652" y="200"/>
                  <a:pt x="3346" y="-1"/>
                  <a:pt x="5047" y="0"/>
                </a:cubicBezTo>
                <a:cubicBezTo>
                  <a:pt x="16976" y="0"/>
                  <a:pt x="26647" y="9670"/>
                  <a:pt x="26647" y="21600"/>
                </a:cubicBezTo>
              </a:path>
              <a:path stroke="0" w="26647" h="21600">
                <a:moveTo>
                  <a:pt x="-1" y="597"/>
                </a:moveTo>
                <a:cubicBezTo>
                  <a:pt x="1652" y="200"/>
                  <a:pt x="3346" y="-1"/>
                  <a:pt x="5047" y="0"/>
                </a:cubicBezTo>
                <a:cubicBezTo>
                  <a:pt x="16976" y="0"/>
                  <a:pt x="26647" y="9670"/>
                  <a:pt x="26647" y="21600"/>
                </a:cubicBezTo>
                <a:lnTo>
                  <a:pt x="5047" y="21600"/>
                </a:lnTo>
                <a:lnTo>
                  <a:pt x="-1" y="597"/>
                </a:lnTo>
                <a:close/>
              </a:path>
            </a:pathLst>
          </a:custGeom>
          <a:noFill/>
          <a:ln w="507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30E1-D1BC-45AF-8E0A-A898E357BD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/>
          </p:nvPr>
        </p:nvSpPr>
        <p:spPr>
          <a:xfrm>
            <a:off x="414360" y="510840"/>
            <a:ext cx="934704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iamo rispetto a p (n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è conosci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go =0 e risolvo rispetto a P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8" name="Object 3"/>
              <p:cNvSpPr txBox="1"/>
              <p:nvPr/>
            </p:nvSpPr>
            <p:spPr>
              <a:xfrm>
                <a:off x="2432160" y="1285920"/>
                <a:ext cx="40939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k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Object 3"/>
              <p:cNvSpPr txBox="1"/>
              <p:nvPr/>
            </p:nvSpPr>
            <p:spPr>
              <a:xfrm>
                <a:off x="2941560" y="3189240"/>
                <a:ext cx="325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Object 3"/>
              <p:cNvSpPr txBox="1"/>
              <p:nvPr/>
            </p:nvSpPr>
            <p:spPr>
              <a:xfrm>
                <a:off x="3800520" y="5089680"/>
                <a:ext cx="37940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     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Object 3"/>
              <p:cNvSpPr txBox="1"/>
              <p:nvPr/>
            </p:nvSpPr>
            <p:spPr>
              <a:xfrm>
                <a:off x="2857680" y="4132440"/>
                <a:ext cx="3119400" cy="42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8F97-50F7-44B2-BC92-6D8A8A56BFD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1" name="Object 2"/>
              <p:cNvSpPr txBox="1"/>
              <p:nvPr/>
            </p:nvSpPr>
            <p:spPr>
              <a:xfrm>
                <a:off x="3314880" y="1557360"/>
                <a:ext cx="4865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2" name="Text Box 20"/>
          <p:cNvSpPr/>
          <p:nvPr/>
        </p:nvSpPr>
        <p:spPr>
          <a:xfrm>
            <a:off x="3908520" y="23972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Line 21"/>
          <p:cNvSpPr/>
          <p:nvPr/>
        </p:nvSpPr>
        <p:spPr>
          <a:xfrm>
            <a:off x="4686480" y="224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22"/>
          <p:cNvSpPr/>
          <p:nvPr/>
        </p:nvSpPr>
        <p:spPr>
          <a:xfrm>
            <a:off x="4853520" y="27781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Line 23"/>
          <p:cNvSpPr/>
          <p:nvPr/>
        </p:nvSpPr>
        <p:spPr>
          <a:xfrm>
            <a:off x="5654520" y="224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4"/>
          <p:cNvSpPr/>
          <p:nvPr/>
        </p:nvSpPr>
        <p:spPr>
          <a:xfrm>
            <a:off x="6174000" y="24703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Line 25"/>
          <p:cNvSpPr/>
          <p:nvPr/>
        </p:nvSpPr>
        <p:spPr>
          <a:xfrm>
            <a:off x="6715080" y="227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26"/>
          <p:cNvSpPr/>
          <p:nvPr/>
        </p:nvSpPr>
        <p:spPr>
          <a:xfrm>
            <a:off x="6887520" y="292752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Line 27"/>
          <p:cNvSpPr/>
          <p:nvPr/>
        </p:nvSpPr>
        <p:spPr>
          <a:xfrm>
            <a:off x="7761240" y="22795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8"/>
          <p:cNvSpPr/>
          <p:nvPr/>
        </p:nvSpPr>
        <p:spPr>
          <a:xfrm>
            <a:off x="694440" y="17748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o dell’og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1" name="Group 34"/>
          <p:cNvGrpSpPr/>
          <p:nvPr/>
        </p:nvGrpSpPr>
        <p:grpSpPr>
          <a:xfrm>
            <a:off x="8775720" y="2061720"/>
            <a:ext cx="468360" cy="1511280"/>
            <a:chOff x="8775720" y="2061720"/>
            <a:chExt cx="468360" cy="1511280"/>
          </a:xfrm>
        </p:grpSpPr>
        <p:sp>
          <p:nvSpPr>
            <p:cNvPr id="1882" name="AutoShape 32"/>
            <p:cNvSpPr/>
            <p:nvPr/>
          </p:nvSpPr>
          <p:spPr>
            <a:xfrm>
              <a:off x="8775720" y="237996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AutoShape 33"/>
            <p:cNvSpPr/>
            <p:nvPr/>
          </p:nvSpPr>
          <p:spPr>
            <a:xfrm flipV="1">
              <a:off x="8775720" y="206136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Line 35"/>
          <p:cNvSpPr/>
          <p:nvPr/>
        </p:nvSpPr>
        <p:spPr>
          <a:xfrm flipV="1">
            <a:off x="9244080" y="1846080"/>
            <a:ext cx="39060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Rectangle 41"/>
          <p:cNvSpPr/>
          <p:nvPr/>
        </p:nvSpPr>
        <p:spPr>
          <a:xfrm>
            <a:off x="584280" y="3573360"/>
            <a:ext cx="891540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estione delle occlusioni (grazie al 3D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6" name="Object 3"/>
              <p:cNvSpPr txBox="1"/>
              <p:nvPr/>
            </p:nvSpPr>
            <p:spPr>
              <a:xfrm>
                <a:off x="4832280" y="4067280"/>
                <a:ext cx="20383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87" name="Group 43"/>
          <p:cNvGrpSpPr/>
          <p:nvPr/>
        </p:nvGrpSpPr>
        <p:grpSpPr>
          <a:xfrm>
            <a:off x="2690640" y="4581000"/>
            <a:ext cx="468360" cy="1511640"/>
            <a:chOff x="2690640" y="4581000"/>
            <a:chExt cx="468360" cy="1511640"/>
          </a:xfrm>
        </p:grpSpPr>
        <p:sp>
          <p:nvSpPr>
            <p:cNvPr id="1888" name="AutoShape 44"/>
            <p:cNvSpPr/>
            <p:nvPr/>
          </p:nvSpPr>
          <p:spPr>
            <a:xfrm>
              <a:off x="2690640" y="4899240"/>
              <a:ext cx="468360" cy="119340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760 h 1193400"/>
                <a:gd name="textAreaBottom" fmla="*/ 944640 h 11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AutoShape 45"/>
            <p:cNvSpPr/>
            <p:nvPr/>
          </p:nvSpPr>
          <p:spPr>
            <a:xfrm flipV="1">
              <a:off x="2690640" y="458064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0" name="Group 46"/>
          <p:cNvGrpSpPr/>
          <p:nvPr/>
        </p:nvGrpSpPr>
        <p:grpSpPr>
          <a:xfrm>
            <a:off x="2847960" y="4436640"/>
            <a:ext cx="468360" cy="1511280"/>
            <a:chOff x="2847960" y="4436640"/>
            <a:chExt cx="468360" cy="1511280"/>
          </a:xfrm>
        </p:grpSpPr>
        <p:sp>
          <p:nvSpPr>
            <p:cNvPr id="1891" name="AutoShape 47"/>
            <p:cNvSpPr/>
            <p:nvPr/>
          </p:nvSpPr>
          <p:spPr>
            <a:xfrm>
              <a:off x="2847960" y="475488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AutoShape 48"/>
            <p:cNvSpPr/>
            <p:nvPr/>
          </p:nvSpPr>
          <p:spPr>
            <a:xfrm flipV="1">
              <a:off x="2847960" y="443628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93" name="Object 4"/>
              <p:cNvSpPr txBox="1"/>
              <p:nvPr/>
            </p:nvSpPr>
            <p:spPr>
              <a:xfrm>
                <a:off x="7348680" y="4076640"/>
                <a:ext cx="2082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94" name="Group 50"/>
          <p:cNvGrpSpPr/>
          <p:nvPr/>
        </p:nvGrpSpPr>
        <p:grpSpPr>
          <a:xfrm>
            <a:off x="5654520" y="4652640"/>
            <a:ext cx="468360" cy="1511280"/>
            <a:chOff x="5654520" y="4652640"/>
            <a:chExt cx="468360" cy="1511280"/>
          </a:xfrm>
        </p:grpSpPr>
        <p:sp>
          <p:nvSpPr>
            <p:cNvPr id="1895" name="AutoShape 51"/>
            <p:cNvSpPr/>
            <p:nvPr/>
          </p:nvSpPr>
          <p:spPr>
            <a:xfrm>
              <a:off x="5654520" y="497088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AutoShape 52"/>
            <p:cNvSpPr/>
            <p:nvPr/>
          </p:nvSpPr>
          <p:spPr>
            <a:xfrm flipV="1">
              <a:off x="5654520" y="465228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Group 53"/>
          <p:cNvGrpSpPr/>
          <p:nvPr/>
        </p:nvGrpSpPr>
        <p:grpSpPr>
          <a:xfrm>
            <a:off x="5811840" y="4508280"/>
            <a:ext cx="466560" cy="1511280"/>
            <a:chOff x="5811840" y="4508280"/>
            <a:chExt cx="466560" cy="1511280"/>
          </a:xfrm>
        </p:grpSpPr>
        <p:sp>
          <p:nvSpPr>
            <p:cNvPr id="1898" name="AutoShape 54"/>
            <p:cNvSpPr/>
            <p:nvPr/>
          </p:nvSpPr>
          <p:spPr>
            <a:xfrm>
              <a:off x="5811840" y="4826520"/>
              <a:ext cx="466560" cy="119304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AutoShape 55"/>
            <p:cNvSpPr/>
            <p:nvPr/>
          </p:nvSpPr>
          <p:spPr>
            <a:xfrm flipV="1">
              <a:off x="5811840" y="4507920"/>
              <a:ext cx="466560" cy="32508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Group 59"/>
          <p:cNvGrpSpPr/>
          <p:nvPr/>
        </p:nvGrpSpPr>
        <p:grpSpPr>
          <a:xfrm>
            <a:off x="8229600" y="4508280"/>
            <a:ext cx="466560" cy="1511280"/>
            <a:chOff x="8229600" y="4508280"/>
            <a:chExt cx="466560" cy="1511280"/>
          </a:xfrm>
        </p:grpSpPr>
        <p:sp>
          <p:nvSpPr>
            <p:cNvPr id="1901" name="AutoShape 60"/>
            <p:cNvSpPr/>
            <p:nvPr/>
          </p:nvSpPr>
          <p:spPr>
            <a:xfrm>
              <a:off x="8229600" y="4826520"/>
              <a:ext cx="466560" cy="119304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AutoShape 61"/>
            <p:cNvSpPr/>
            <p:nvPr/>
          </p:nvSpPr>
          <p:spPr>
            <a:xfrm flipV="1">
              <a:off x="8229600" y="4507920"/>
              <a:ext cx="466560" cy="32508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3" name="AutoShape 62"/>
          <p:cNvSpPr/>
          <p:nvPr/>
        </p:nvSpPr>
        <p:spPr>
          <a:xfrm>
            <a:off x="4017960" y="4437000"/>
            <a:ext cx="466560" cy="1441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4D52-9690-440F-B035-ADE7D8F223D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 stato del sistema si approssima con un set di N particelle-configura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7" name="Picture 23" descr="ozket"/>
          <p:cNvPicPr/>
          <p:nvPr/>
        </p:nvPicPr>
        <p:blipFill>
          <a:blip r:embed="rId1"/>
          <a:stretch/>
        </p:blipFill>
        <p:spPr>
          <a:xfrm>
            <a:off x="8177040" y="4257720"/>
            <a:ext cx="1301760" cy="944640"/>
          </a:xfrm>
          <a:prstGeom prst="rect">
            <a:avLst/>
          </a:prstGeom>
          <a:ln w="0">
            <a:noFill/>
          </a:ln>
        </p:spPr>
      </p:pic>
      <p:pic>
        <p:nvPicPr>
          <p:cNvPr id="1908" name="Picture 24" descr="ozket"/>
          <p:cNvPicPr/>
          <p:nvPr/>
        </p:nvPicPr>
        <p:blipFill>
          <a:blip r:embed="rId2"/>
          <a:stretch/>
        </p:blipFill>
        <p:spPr>
          <a:xfrm>
            <a:off x="6815160" y="4255920"/>
            <a:ext cx="1301760" cy="944640"/>
          </a:xfrm>
          <a:prstGeom prst="rect">
            <a:avLst/>
          </a:prstGeom>
          <a:ln w="0">
            <a:noFill/>
          </a:ln>
        </p:spPr>
      </p:pic>
      <p:pic>
        <p:nvPicPr>
          <p:cNvPr id="1909" name="Picture 25" descr="ozket"/>
          <p:cNvPicPr/>
          <p:nvPr/>
        </p:nvPicPr>
        <p:blipFill>
          <a:blip r:embed="rId3"/>
          <a:stretch/>
        </p:blipFill>
        <p:spPr>
          <a:xfrm>
            <a:off x="5443560" y="4257720"/>
            <a:ext cx="1301760" cy="944640"/>
          </a:xfrm>
          <a:prstGeom prst="rect">
            <a:avLst/>
          </a:prstGeom>
          <a:ln w="0">
            <a:noFill/>
          </a:ln>
        </p:spPr>
      </p:pic>
      <p:pic>
        <p:nvPicPr>
          <p:cNvPr id="1910" name="Picture 26" descr="ozket"/>
          <p:cNvPicPr/>
          <p:nvPr/>
        </p:nvPicPr>
        <p:blipFill>
          <a:blip r:embed="rId4"/>
          <a:stretch/>
        </p:blipFill>
        <p:spPr>
          <a:xfrm>
            <a:off x="4079880" y="4276800"/>
            <a:ext cx="1301760" cy="946080"/>
          </a:xfrm>
          <a:prstGeom prst="rect">
            <a:avLst/>
          </a:prstGeom>
          <a:ln w="0">
            <a:noFill/>
          </a:ln>
        </p:spPr>
      </p:pic>
      <p:pic>
        <p:nvPicPr>
          <p:cNvPr id="1911" name="Picture 27" descr="ozket"/>
          <p:cNvPicPr/>
          <p:nvPr/>
        </p:nvPicPr>
        <p:blipFill>
          <a:blip r:embed="rId5"/>
          <a:stretch/>
        </p:blipFill>
        <p:spPr>
          <a:xfrm>
            <a:off x="2701800" y="4295880"/>
            <a:ext cx="1301760" cy="946080"/>
          </a:xfrm>
          <a:prstGeom prst="rect">
            <a:avLst/>
          </a:prstGeom>
          <a:ln w="0">
            <a:noFill/>
          </a:ln>
        </p:spPr>
      </p:pic>
      <p:pic>
        <p:nvPicPr>
          <p:cNvPr id="1912" name="Picture 28" descr="ozket"/>
          <p:cNvPicPr/>
          <p:nvPr/>
        </p:nvPicPr>
        <p:blipFill>
          <a:blip r:embed="rId6"/>
          <a:stretch/>
        </p:blipFill>
        <p:spPr>
          <a:xfrm>
            <a:off x="1320840" y="4307040"/>
            <a:ext cx="1301760" cy="944280"/>
          </a:xfrm>
          <a:prstGeom prst="rect">
            <a:avLst/>
          </a:prstGeom>
          <a:ln w="0">
            <a:noFill/>
          </a:ln>
        </p:spPr>
      </p:pic>
      <p:grpSp>
        <p:nvGrpSpPr>
          <p:cNvPr id="1913" name="Group 29"/>
          <p:cNvGrpSpPr/>
          <p:nvPr/>
        </p:nvGrpSpPr>
        <p:grpSpPr>
          <a:xfrm>
            <a:off x="1668600" y="4567320"/>
            <a:ext cx="539640" cy="585720"/>
            <a:chOff x="1668600" y="4567320"/>
            <a:chExt cx="539640" cy="585720"/>
          </a:xfrm>
        </p:grpSpPr>
        <p:sp>
          <p:nvSpPr>
            <p:cNvPr id="1914" name="Freeform 30"/>
            <p:cNvSpPr/>
            <p:nvPr/>
          </p:nvSpPr>
          <p:spPr>
            <a:xfrm>
              <a:off x="1668600" y="4580640"/>
              <a:ext cx="157680" cy="57240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Freeform 31"/>
            <p:cNvSpPr/>
            <p:nvPr/>
          </p:nvSpPr>
          <p:spPr>
            <a:xfrm>
              <a:off x="1979640" y="4567320"/>
              <a:ext cx="120240" cy="4921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Freeform 32"/>
            <p:cNvSpPr/>
            <p:nvPr/>
          </p:nvSpPr>
          <p:spPr>
            <a:xfrm>
              <a:off x="2067120" y="4594680"/>
              <a:ext cx="141120" cy="554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7" name="Group 33"/>
          <p:cNvGrpSpPr/>
          <p:nvPr/>
        </p:nvGrpSpPr>
        <p:grpSpPr>
          <a:xfrm>
            <a:off x="3011400" y="4541760"/>
            <a:ext cx="576360" cy="641520"/>
            <a:chOff x="3011400" y="4541760"/>
            <a:chExt cx="576360" cy="641520"/>
          </a:xfrm>
        </p:grpSpPr>
        <p:sp>
          <p:nvSpPr>
            <p:cNvPr id="1918" name="Freeform 34"/>
            <p:cNvSpPr/>
            <p:nvPr/>
          </p:nvSpPr>
          <p:spPr>
            <a:xfrm>
              <a:off x="3011400" y="4611960"/>
              <a:ext cx="158040" cy="5713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Freeform 35"/>
            <p:cNvSpPr/>
            <p:nvPr/>
          </p:nvSpPr>
          <p:spPr>
            <a:xfrm>
              <a:off x="3386880" y="4546080"/>
              <a:ext cx="120600" cy="491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Freeform 36"/>
            <p:cNvSpPr/>
            <p:nvPr/>
          </p:nvSpPr>
          <p:spPr>
            <a:xfrm>
              <a:off x="3446280" y="4541760"/>
              <a:ext cx="141480" cy="5529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Group 37"/>
          <p:cNvGrpSpPr/>
          <p:nvPr/>
        </p:nvGrpSpPr>
        <p:grpSpPr>
          <a:xfrm>
            <a:off x="7159680" y="4508640"/>
            <a:ext cx="539640" cy="610920"/>
            <a:chOff x="7159680" y="4508640"/>
            <a:chExt cx="539640" cy="610920"/>
          </a:xfrm>
        </p:grpSpPr>
        <p:sp>
          <p:nvSpPr>
            <p:cNvPr id="1922" name="Freeform 38"/>
            <p:cNvSpPr/>
            <p:nvPr/>
          </p:nvSpPr>
          <p:spPr>
            <a:xfrm>
              <a:off x="7159680" y="4508640"/>
              <a:ext cx="157680" cy="57204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Freeform 39"/>
            <p:cNvSpPr/>
            <p:nvPr/>
          </p:nvSpPr>
          <p:spPr>
            <a:xfrm>
              <a:off x="7428240" y="4538520"/>
              <a:ext cx="120240" cy="4917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91760"/>
                <a:gd name="textAreaBottom" fmla="*/ 492120 h 49176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Freeform 40"/>
            <p:cNvSpPr/>
            <p:nvPr/>
          </p:nvSpPr>
          <p:spPr>
            <a:xfrm>
              <a:off x="7558200" y="4565880"/>
              <a:ext cx="141120" cy="553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Group 41"/>
          <p:cNvGrpSpPr/>
          <p:nvPr/>
        </p:nvGrpSpPr>
        <p:grpSpPr>
          <a:xfrm>
            <a:off x="5743440" y="4489560"/>
            <a:ext cx="591840" cy="642600"/>
            <a:chOff x="5743440" y="4489560"/>
            <a:chExt cx="591840" cy="642600"/>
          </a:xfrm>
        </p:grpSpPr>
        <p:sp>
          <p:nvSpPr>
            <p:cNvPr id="1926" name="Freeform 42"/>
            <p:cNvSpPr/>
            <p:nvPr/>
          </p:nvSpPr>
          <p:spPr>
            <a:xfrm>
              <a:off x="5743440" y="4560120"/>
              <a:ext cx="158040" cy="5720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Freeform 43"/>
            <p:cNvSpPr/>
            <p:nvPr/>
          </p:nvSpPr>
          <p:spPr>
            <a:xfrm>
              <a:off x="6092640" y="4565160"/>
              <a:ext cx="120600" cy="4921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Freeform 44"/>
            <p:cNvSpPr/>
            <p:nvPr/>
          </p:nvSpPr>
          <p:spPr>
            <a:xfrm>
              <a:off x="6194160" y="4489560"/>
              <a:ext cx="141120" cy="553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Group 45"/>
          <p:cNvGrpSpPr/>
          <p:nvPr/>
        </p:nvGrpSpPr>
        <p:grpSpPr>
          <a:xfrm>
            <a:off x="8896320" y="4557600"/>
            <a:ext cx="168480" cy="554040"/>
            <a:chOff x="8896320" y="4557600"/>
            <a:chExt cx="168480" cy="554040"/>
          </a:xfrm>
        </p:grpSpPr>
        <p:sp>
          <p:nvSpPr>
            <p:cNvPr id="1930" name="Freeform 46"/>
            <p:cNvSpPr/>
            <p:nvPr/>
          </p:nvSpPr>
          <p:spPr>
            <a:xfrm>
              <a:off x="8896320" y="4560120"/>
              <a:ext cx="119880" cy="49212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Freeform 47"/>
            <p:cNvSpPr/>
            <p:nvPr/>
          </p:nvSpPr>
          <p:spPr>
            <a:xfrm>
              <a:off x="8924400" y="4557600"/>
              <a:ext cx="140400" cy="55404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Group 48"/>
          <p:cNvGrpSpPr/>
          <p:nvPr/>
        </p:nvGrpSpPr>
        <p:grpSpPr>
          <a:xfrm>
            <a:off x="4156200" y="4549680"/>
            <a:ext cx="752400" cy="600120"/>
            <a:chOff x="4156200" y="4549680"/>
            <a:chExt cx="752400" cy="600120"/>
          </a:xfrm>
        </p:grpSpPr>
        <p:sp>
          <p:nvSpPr>
            <p:cNvPr id="1933" name="Freeform 49"/>
            <p:cNvSpPr/>
            <p:nvPr/>
          </p:nvSpPr>
          <p:spPr>
            <a:xfrm>
              <a:off x="4417560" y="4579560"/>
              <a:ext cx="158040" cy="5702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Freeform 50"/>
            <p:cNvSpPr/>
            <p:nvPr/>
          </p:nvSpPr>
          <p:spPr>
            <a:xfrm>
              <a:off x="4769280" y="4549680"/>
              <a:ext cx="120600" cy="490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Freeform 51"/>
            <p:cNvSpPr/>
            <p:nvPr/>
          </p:nvSpPr>
          <p:spPr>
            <a:xfrm>
              <a:off x="4767120" y="4581720"/>
              <a:ext cx="141480" cy="5522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Freeform 52"/>
            <p:cNvSpPr/>
            <p:nvPr/>
          </p:nvSpPr>
          <p:spPr>
            <a:xfrm>
              <a:off x="4156200" y="4583520"/>
              <a:ext cx="120240" cy="4838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319" h="1328">
                  <a:moveTo>
                    <a:pt x="69" y="1328"/>
                  </a:moveTo>
                  <a:lnTo>
                    <a:pt x="0" y="727"/>
                  </a:lnTo>
                  <a:lnTo>
                    <a:pt x="0" y="232"/>
                  </a:lnTo>
                  <a:lnTo>
                    <a:pt x="100" y="0"/>
                  </a:lnTo>
                  <a:lnTo>
                    <a:pt x="225" y="7"/>
                  </a:lnTo>
                  <a:lnTo>
                    <a:pt x="319" y="245"/>
                  </a:lnTo>
                  <a:lnTo>
                    <a:pt x="313" y="752"/>
                  </a:lnTo>
                  <a:lnTo>
                    <a:pt x="238" y="1321"/>
                  </a:lnTo>
                  <a:lnTo>
                    <a:pt x="69" y="1328"/>
                  </a:ln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37" name="Object 2"/>
          <p:cNvGraphicFramePr/>
          <p:nvPr/>
        </p:nvGraphicFramePr>
        <p:xfrm>
          <a:off x="5200560" y="3938760"/>
          <a:ext cx="395280" cy="19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00560" y="3938760"/>
                    <a:ext cx="39528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9" name="Text Box 58"/>
          <p:cNvSpPr/>
          <p:nvPr/>
        </p:nvSpPr>
        <p:spPr>
          <a:xfrm>
            <a:off x="6840" y="3860640"/>
            <a:ext cx="15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articel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Oval 59"/>
          <p:cNvSpPr/>
          <p:nvPr/>
        </p:nvSpPr>
        <p:spPr>
          <a:xfrm>
            <a:off x="1733400" y="5289480"/>
            <a:ext cx="578160" cy="5335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Oval 60"/>
          <p:cNvSpPr/>
          <p:nvPr/>
        </p:nvSpPr>
        <p:spPr>
          <a:xfrm>
            <a:off x="3137040" y="5365800"/>
            <a:ext cx="412560" cy="3808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Oval 61"/>
          <p:cNvSpPr/>
          <p:nvPr/>
        </p:nvSpPr>
        <p:spPr>
          <a:xfrm>
            <a:off x="4540320" y="5442120"/>
            <a:ext cx="330120" cy="30456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62"/>
          <p:cNvSpPr/>
          <p:nvPr/>
        </p:nvSpPr>
        <p:spPr>
          <a:xfrm>
            <a:off x="5861160" y="5365800"/>
            <a:ext cx="49536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63"/>
          <p:cNvSpPr/>
          <p:nvPr/>
        </p:nvSpPr>
        <p:spPr>
          <a:xfrm>
            <a:off x="7264440" y="5365800"/>
            <a:ext cx="412560" cy="3808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Oval 64"/>
          <p:cNvSpPr/>
          <p:nvPr/>
        </p:nvSpPr>
        <p:spPr>
          <a:xfrm>
            <a:off x="8832960" y="5518080"/>
            <a:ext cx="164880" cy="15264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65"/>
          <p:cNvSpPr/>
          <p:nvPr/>
        </p:nvSpPr>
        <p:spPr>
          <a:xfrm>
            <a:off x="4320" y="5730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eigh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7" name="Object 3"/>
          <p:cNvGraphicFramePr/>
          <p:nvPr/>
        </p:nvGraphicFramePr>
        <p:xfrm>
          <a:off x="1833480" y="5805360"/>
          <a:ext cx="503280" cy="63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33480" y="5805360"/>
                    <a:ext cx="503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9" name="Object 4"/>
          <p:cNvGraphicFramePr/>
          <p:nvPr/>
        </p:nvGraphicFramePr>
        <p:xfrm>
          <a:off x="3094200" y="5823000"/>
          <a:ext cx="537840" cy="63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0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4200" y="5823000"/>
                    <a:ext cx="53784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1" name="Object 5"/>
          <p:cNvGraphicFramePr/>
          <p:nvPr/>
        </p:nvGraphicFramePr>
        <p:xfrm>
          <a:off x="7085160" y="5802480"/>
          <a:ext cx="863280" cy="63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52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5160" y="5802480"/>
                    <a:ext cx="8632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3" name="Object 6"/>
          <p:cNvGraphicFramePr/>
          <p:nvPr/>
        </p:nvGraphicFramePr>
        <p:xfrm>
          <a:off x="8572680" y="5802480"/>
          <a:ext cx="647640" cy="630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54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72680" y="5802480"/>
                    <a:ext cx="64764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55" name="Object 7"/>
              <p:cNvSpPr txBox="1"/>
              <p:nvPr/>
            </p:nvSpPr>
            <p:spPr>
              <a:xfrm>
                <a:off x="3079800" y="2637000"/>
                <a:ext cx="33559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Object 8"/>
              <p:cNvSpPr txBox="1"/>
              <p:nvPr/>
            </p:nvSpPr>
            <p:spPr>
              <a:xfrm>
                <a:off x="1676520" y="3573360"/>
                <a:ext cx="8287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Object 9"/>
              <p:cNvSpPr txBox="1"/>
              <p:nvPr/>
            </p:nvSpPr>
            <p:spPr>
              <a:xfrm>
                <a:off x="2925720" y="3573360"/>
                <a:ext cx="87156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Object 10"/>
              <p:cNvSpPr txBox="1"/>
              <p:nvPr/>
            </p:nvSpPr>
            <p:spPr>
              <a:xfrm>
                <a:off x="8362800" y="3500280"/>
                <a:ext cx="9590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066B-F101-4896-B706-61BA0E85C80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servazioni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ttocampiono la matrice video in un set di G filtri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una granularità spaziale sufficiente a poter valutare tutti i filtri in tempo re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ni filtro corrisponde ad una determinata posizione 3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2" name="Group 24"/>
          <p:cNvGrpSpPr/>
          <p:nvPr/>
        </p:nvGrpSpPr>
        <p:grpSpPr>
          <a:xfrm>
            <a:off x="2378160" y="3933720"/>
            <a:ext cx="2063160" cy="1524240"/>
            <a:chOff x="2378160" y="3933720"/>
            <a:chExt cx="2063160" cy="1524240"/>
          </a:xfrm>
        </p:grpSpPr>
        <p:pic>
          <p:nvPicPr>
            <p:cNvPr id="1963" name="Picture 25" descr="ozket"/>
            <p:cNvPicPr/>
            <p:nvPr/>
          </p:nvPicPr>
          <p:blipFill>
            <a:blip r:embed="rId1"/>
            <a:stretch/>
          </p:blipFill>
          <p:spPr>
            <a:xfrm>
              <a:off x="2378160" y="3933720"/>
              <a:ext cx="206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Line 26"/>
            <p:cNvSpPr/>
            <p:nvPr/>
          </p:nvSpPr>
          <p:spPr>
            <a:xfrm>
              <a:off x="2378160" y="398160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Line 27"/>
            <p:cNvSpPr/>
            <p:nvPr/>
          </p:nvSpPr>
          <p:spPr>
            <a:xfrm>
              <a:off x="2378160" y="412272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Line 28"/>
            <p:cNvSpPr/>
            <p:nvPr/>
          </p:nvSpPr>
          <p:spPr>
            <a:xfrm>
              <a:off x="2378160" y="426420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Line 29"/>
            <p:cNvSpPr/>
            <p:nvPr/>
          </p:nvSpPr>
          <p:spPr>
            <a:xfrm>
              <a:off x="2378160" y="440676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Line 30"/>
            <p:cNvSpPr/>
            <p:nvPr/>
          </p:nvSpPr>
          <p:spPr>
            <a:xfrm>
              <a:off x="2378160" y="454824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Line 31"/>
            <p:cNvSpPr/>
            <p:nvPr/>
          </p:nvSpPr>
          <p:spPr>
            <a:xfrm>
              <a:off x="2378160" y="468936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Line 32"/>
            <p:cNvSpPr/>
            <p:nvPr/>
          </p:nvSpPr>
          <p:spPr>
            <a:xfrm>
              <a:off x="2378160" y="483228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Line 33"/>
            <p:cNvSpPr/>
            <p:nvPr/>
          </p:nvSpPr>
          <p:spPr>
            <a:xfrm>
              <a:off x="2378160" y="497376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Line 34"/>
            <p:cNvSpPr/>
            <p:nvPr/>
          </p:nvSpPr>
          <p:spPr>
            <a:xfrm>
              <a:off x="2378160" y="511488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Line 35"/>
            <p:cNvSpPr/>
            <p:nvPr/>
          </p:nvSpPr>
          <p:spPr>
            <a:xfrm>
              <a:off x="2378160" y="525780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Line 36"/>
            <p:cNvSpPr/>
            <p:nvPr/>
          </p:nvSpPr>
          <p:spPr>
            <a:xfrm>
              <a:off x="2378160" y="539748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Line 37"/>
            <p:cNvSpPr/>
            <p:nvPr/>
          </p:nvSpPr>
          <p:spPr>
            <a:xfrm>
              <a:off x="442440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Line 38"/>
            <p:cNvSpPr/>
            <p:nvPr/>
          </p:nvSpPr>
          <p:spPr>
            <a:xfrm>
              <a:off x="42782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Line 39"/>
            <p:cNvSpPr/>
            <p:nvPr/>
          </p:nvSpPr>
          <p:spPr>
            <a:xfrm>
              <a:off x="4135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Line 40"/>
            <p:cNvSpPr/>
            <p:nvPr/>
          </p:nvSpPr>
          <p:spPr>
            <a:xfrm>
              <a:off x="399060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Line 41"/>
            <p:cNvSpPr/>
            <p:nvPr/>
          </p:nvSpPr>
          <p:spPr>
            <a:xfrm>
              <a:off x="38480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Line 42"/>
            <p:cNvSpPr/>
            <p:nvPr/>
          </p:nvSpPr>
          <p:spPr>
            <a:xfrm>
              <a:off x="370368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Line 43"/>
            <p:cNvSpPr/>
            <p:nvPr/>
          </p:nvSpPr>
          <p:spPr>
            <a:xfrm>
              <a:off x="35611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Line 44"/>
            <p:cNvSpPr/>
            <p:nvPr/>
          </p:nvSpPr>
          <p:spPr>
            <a:xfrm>
              <a:off x="341496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Line 45"/>
            <p:cNvSpPr/>
            <p:nvPr/>
          </p:nvSpPr>
          <p:spPr>
            <a:xfrm>
              <a:off x="32720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Line 46"/>
            <p:cNvSpPr/>
            <p:nvPr/>
          </p:nvSpPr>
          <p:spPr>
            <a:xfrm>
              <a:off x="312768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Line 47"/>
            <p:cNvSpPr/>
            <p:nvPr/>
          </p:nvSpPr>
          <p:spPr>
            <a:xfrm>
              <a:off x="2983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Line 48"/>
            <p:cNvSpPr/>
            <p:nvPr/>
          </p:nvSpPr>
          <p:spPr>
            <a:xfrm>
              <a:off x="284040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Line 49"/>
            <p:cNvSpPr/>
            <p:nvPr/>
          </p:nvSpPr>
          <p:spPr>
            <a:xfrm>
              <a:off x="26960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Line 50"/>
            <p:cNvSpPr/>
            <p:nvPr/>
          </p:nvSpPr>
          <p:spPr>
            <a:xfrm>
              <a:off x="2551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Line 51"/>
            <p:cNvSpPr/>
            <p:nvPr/>
          </p:nvSpPr>
          <p:spPr>
            <a:xfrm>
              <a:off x="2407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90" name="Object 2"/>
          <p:cNvGraphicFramePr/>
          <p:nvPr/>
        </p:nvGraphicFramePr>
        <p:xfrm>
          <a:off x="5500800" y="3933720"/>
          <a:ext cx="1981080" cy="14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0800" y="3933720"/>
                    <a:ext cx="1981080" cy="144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92" name="Line 53"/>
          <p:cNvSpPr/>
          <p:nvPr/>
        </p:nvSpPr>
        <p:spPr>
          <a:xfrm flipH="1" flipV="1">
            <a:off x="6435360" y="4581000"/>
            <a:ext cx="779400" cy="1295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662F-FF89-4811-AACB-45DE9A2A739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fas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583920" y="112500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Selezione o campioname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la stessa di Condensation: si estraggono configurazioni grazie ai pesi. In pi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ni oggetto ha una probabilità variabile (in funzione della posizione) e costante rispetto al tempo di uscire dalla scen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iste una probabilità variabile (in funzione della posizione) e costante rispetto al tempo di entrare nella sc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6" name="Object 2"/>
          <p:cNvGraphicFramePr/>
          <p:nvPr/>
        </p:nvGraphicFramePr>
        <p:xfrm>
          <a:off x="4017960" y="4653000"/>
          <a:ext cx="19810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4653000"/>
                    <a:ext cx="1981080" cy="144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98" name="Oval 5"/>
          <p:cNvSpPr/>
          <p:nvPr/>
        </p:nvSpPr>
        <p:spPr>
          <a:xfrm>
            <a:off x="3938760" y="4581360"/>
            <a:ext cx="545760" cy="158436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6"/>
          <p:cNvSpPr/>
          <p:nvPr/>
        </p:nvSpPr>
        <p:spPr>
          <a:xfrm>
            <a:off x="4251240" y="5877000"/>
            <a:ext cx="2184480" cy="57636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7"/>
          <p:cNvSpPr/>
          <p:nvPr/>
        </p:nvSpPr>
        <p:spPr>
          <a:xfrm>
            <a:off x="5110200" y="4724280"/>
            <a:ext cx="546120" cy="115272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Oval 8"/>
          <p:cNvSpPr/>
          <p:nvPr/>
        </p:nvSpPr>
        <p:spPr>
          <a:xfrm>
            <a:off x="4562640" y="4581360"/>
            <a:ext cx="311040" cy="107964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Line 9"/>
          <p:cNvSpPr/>
          <p:nvPr/>
        </p:nvSpPr>
        <p:spPr>
          <a:xfrm flipH="1">
            <a:off x="5343120" y="5734080"/>
            <a:ext cx="15606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10"/>
          <p:cNvSpPr/>
          <p:nvPr/>
        </p:nvSpPr>
        <p:spPr>
          <a:xfrm>
            <a:off x="6967440" y="527220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alta probabi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4" name="Object 3"/>
              <p:cNvSpPr txBox="1"/>
              <p:nvPr/>
            </p:nvSpPr>
            <p:spPr>
              <a:xfrm>
                <a:off x="3500280" y="3068640"/>
                <a:ext cx="10368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Object 4"/>
              <p:cNvSpPr txBox="1"/>
              <p:nvPr/>
            </p:nvSpPr>
            <p:spPr>
              <a:xfrm>
                <a:off x="2554200" y="4259160"/>
                <a:ext cx="908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AC14-11CB-41EC-BAA1-8EFB4BB52A2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fas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583920" y="112500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pplicazione della dinam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imile a Condensation – la dinamica di ogni oggetto di ogni configurazione è determinata in 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a sua etichet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a storia precedente (media pesata di tutte le particelle) di quella etichet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A531-BE2D-4CC2-972C-D505DD63BDA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fas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583920" y="112500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tazione/pesa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valutazione di una configurazione avviene controllando sequenzialmente i filtri, assunti indipendenti tra lo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produttoria si cambia in sommatoria logaritmica per stabilità numer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valutazione tiene presente della posi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2" name="Object 2"/>
              <p:cNvSpPr txBox="1"/>
              <p:nvPr/>
            </p:nvSpPr>
            <p:spPr>
              <a:xfrm>
                <a:off x="2457360" y="2637000"/>
                <a:ext cx="52340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3" name="Object 3"/>
              <p:cNvSpPr txBox="1"/>
              <p:nvPr/>
            </p:nvSpPr>
            <p:spPr>
              <a:xfrm>
                <a:off x="2690640" y="4761000"/>
                <a:ext cx="2038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Object 4"/>
              <p:cNvSpPr txBox="1"/>
              <p:nvPr/>
            </p:nvSpPr>
            <p:spPr>
              <a:xfrm>
                <a:off x="5207040" y="4770360"/>
                <a:ext cx="2082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15" name="Group 7"/>
          <p:cNvGrpSpPr/>
          <p:nvPr/>
        </p:nvGrpSpPr>
        <p:grpSpPr>
          <a:xfrm>
            <a:off x="3513240" y="5346360"/>
            <a:ext cx="468360" cy="1511280"/>
            <a:chOff x="3513240" y="5346360"/>
            <a:chExt cx="468360" cy="1511280"/>
          </a:xfrm>
        </p:grpSpPr>
        <p:sp>
          <p:nvSpPr>
            <p:cNvPr id="2016" name="AutoShape 8"/>
            <p:cNvSpPr/>
            <p:nvPr/>
          </p:nvSpPr>
          <p:spPr>
            <a:xfrm>
              <a:off x="3513240" y="566460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AutoShape 9"/>
            <p:cNvSpPr/>
            <p:nvPr/>
          </p:nvSpPr>
          <p:spPr>
            <a:xfrm flipV="1">
              <a:off x="3513240" y="534600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8" name="Group 10"/>
          <p:cNvGrpSpPr/>
          <p:nvPr/>
        </p:nvGrpSpPr>
        <p:grpSpPr>
          <a:xfrm>
            <a:off x="3670200" y="5202000"/>
            <a:ext cx="468360" cy="1511280"/>
            <a:chOff x="3670200" y="5202000"/>
            <a:chExt cx="468360" cy="1511280"/>
          </a:xfrm>
        </p:grpSpPr>
        <p:sp>
          <p:nvSpPr>
            <p:cNvPr id="2019" name="AutoShape 11"/>
            <p:cNvSpPr/>
            <p:nvPr/>
          </p:nvSpPr>
          <p:spPr>
            <a:xfrm>
              <a:off x="3670200" y="552024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AutoShape 12"/>
            <p:cNvSpPr/>
            <p:nvPr/>
          </p:nvSpPr>
          <p:spPr>
            <a:xfrm flipV="1">
              <a:off x="3670200" y="520164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1" name="Group 13"/>
          <p:cNvGrpSpPr/>
          <p:nvPr/>
        </p:nvGrpSpPr>
        <p:grpSpPr>
          <a:xfrm>
            <a:off x="6087960" y="5202000"/>
            <a:ext cx="468360" cy="1511280"/>
            <a:chOff x="6087960" y="5202000"/>
            <a:chExt cx="468360" cy="1511280"/>
          </a:xfrm>
        </p:grpSpPr>
        <p:sp>
          <p:nvSpPr>
            <p:cNvPr id="2022" name="AutoShape 14"/>
            <p:cNvSpPr/>
            <p:nvPr/>
          </p:nvSpPr>
          <p:spPr>
            <a:xfrm>
              <a:off x="6087960" y="552024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AutoShape 15"/>
            <p:cNvSpPr/>
            <p:nvPr/>
          </p:nvSpPr>
          <p:spPr>
            <a:xfrm flipV="1">
              <a:off x="6087960" y="520164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68F-AB1E-406A-9D03-21378D94CE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/>
          </p:nvPr>
        </p:nvSpPr>
        <p:spPr>
          <a:xfrm>
            <a:off x="414360" y="510840"/>
            <a:ext cx="934704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ndi, il rappor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/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una buona stima per la probabilit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continua e la regio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così piccola c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 varia significativamente in essa (così da essere approssimabile da una costante), possiamo scriv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un punto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il volume incluso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6" name="Object 4"/>
              <p:cNvSpPr txBox="1"/>
              <p:nvPr/>
            </p:nvSpPr>
            <p:spPr>
              <a:xfrm>
                <a:off x="2792520" y="3979800"/>
                <a:ext cx="57560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t xml:space="preserve">≃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5CAD-B603-465B-A8B2-91C58510A9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628200" y="412920"/>
            <a:ext cx="9277560" cy="59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ndo le equazioni (1), (3), (4)  stimiamo finalmente 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1" name="Object 2"/>
              <p:cNvSpPr txBox="1"/>
              <p:nvPr/>
            </p:nvSpPr>
            <p:spPr>
              <a:xfrm>
                <a:off x="3573360" y="5083200"/>
                <a:ext cx="20527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2" name="Object 2"/>
              <p:cNvSpPr txBox="1"/>
              <p:nvPr/>
            </p:nvSpPr>
            <p:spPr>
              <a:xfrm>
                <a:off x="1747800" y="1120680"/>
                <a:ext cx="55548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Object 4"/>
              <p:cNvSpPr txBox="1"/>
              <p:nvPr/>
            </p:nvSpPr>
            <p:spPr>
              <a:xfrm>
                <a:off x="1625760" y="2197080"/>
                <a:ext cx="57038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t xml:space="preserve">≃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Object 3"/>
              <p:cNvSpPr txBox="1"/>
              <p:nvPr/>
            </p:nvSpPr>
            <p:spPr>
              <a:xfrm>
                <a:off x="1630440" y="3236760"/>
                <a:ext cx="56610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                     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3A1D-FFF9-4A96-8868-0D2BBA1A531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una regione R di volume V, dati n punti (di cui k cadono nella regione R), si appross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 quella regione com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questa formula deriva da due approssimazioni, la cui bontà dipende da 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/n stimatore di P: migliore per R grand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stante in R: migliore per R piccol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lta di R è quindi cruciale!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Object 2"/>
              <p:cNvSpPr txBox="1"/>
              <p:nvPr/>
            </p:nvSpPr>
            <p:spPr>
              <a:xfrm>
                <a:off x="3390840" y="2060640"/>
                <a:ext cx="2028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9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2:54:12Z</dcterms:created>
  <dc:creator>swan</dc:creator>
  <dc:description>Rivista d Bice -18-4-01 </dc:description>
  <dc:language>en-US</dc:language>
  <cp:lastModifiedBy>Marco Cristani</cp:lastModifiedBy>
  <cp:lastPrinted>2001-05-02T10:47:20Z</cp:lastPrinted>
  <dcterms:modified xsi:type="dcterms:W3CDTF">2013-12-09T07:01:52Z</dcterms:modified>
  <cp:revision>433</cp:revision>
  <dc:subject/>
  <dc:title>Classificazione</dc:title>
</cp:coreProperties>
</file>