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207A405-9947-4164-81DB-AB451CF7ED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FF4CD66-FDDE-43EA-97D4-265CB262C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E3D92DE-AF9B-4E37-BE97-400B8F6665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ACF232F-A371-461A-85D2-10D190F7E0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2CBAEA4-2F65-4BA5-ADE6-96B24EFB71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D8330C3-7F07-4121-A7B2-98F2F6F408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FB94789-3DF6-4362-BE78-4471AA7682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BF09A06-6388-46AD-AD26-E3F487CC9D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08E9877-6DC8-4F8A-8E9E-56DF0388EC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45FD3FB-B4A0-47AA-964A-FAA7115F3C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ED171B1-0399-4302-96CB-99E7E3BB5B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0159774-81A3-48A1-B197-002A910D08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D17BCEC-F1A1-4E93-96AE-637BED0E32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BC5E46F-5D05-4AD4-BBD4-2EFDE0409B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40AF0C8-67F1-4B33-B8D1-A5219AA228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75B80A5-2000-481F-8DDB-DC0CFC8EB8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227A0C9-4222-4B2C-847B-4AF695FED0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72E5F73-3CD1-4EDD-B30C-5443C50689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57284B6-8211-4150-9227-2829E7A72E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91483AF-B0A6-4D0B-A75F-FAE347E10D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C32-ECCB-4546-ACBC-0DED958C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9BC-B70E-4E6B-9349-9FCE20D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AF6C-F77B-419A-8C1B-F220284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04D5F-80C2-471D-95AE-FF9A0970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09AA-1CCD-433C-B4BD-A818B1E1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9F88A-0556-44D8-8ACC-6FF78D5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176A-36F3-4CB6-92E4-C98190E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9B5D-EFEC-4299-A064-3C89D18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3821C-F962-44A2-8A9E-4EFF78E7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6C82A-A8FE-4BF7-876B-33A9C1E8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A31ED-8B1E-4286-9812-579BB8F4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2EBAF-4825-4676-828D-CDDD91B4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D28-BEC8-4A9F-8186-61DE661A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E75B5-1AE1-400C-9A20-FBF5EB25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794E5-AD83-43D2-8858-4D04CA2E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95A21-2A2F-4162-B9EE-708B004F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06AFB-A357-4F62-86F4-E09F94C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3A872-8E8B-4375-9835-E639AE8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D186E-5BAF-43A1-AF6C-630913D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5637F-C571-4521-AEC1-197E1D4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68223-3F2B-4265-A583-4B6AF6C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FB499-477F-4640-9590-0E46F69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5B03E-2FD8-4AE4-9B40-495ABA19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829-D0FF-447B-828F-6A05BCA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26EA2-2298-4D34-9DD8-E11E66ED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D848-831C-4F2A-B24C-2FC9A33A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3AB9-980F-4BB5-88F6-7D4CFBA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DC95-1ECD-4A43-B3E5-0B7AC3D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DE803-1BB6-4988-A096-9D75F77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DF00D-A6DA-4457-8C40-605554CE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8858-65A3-45E1-AE39-DCA79153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650D1-661A-4401-AFA1-3050A5A7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FC7E5-3B05-483D-B625-7CDDF556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32E5-BFEE-43C2-AD5F-144DA60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D6D7-C8B6-40B6-BCD3-BCB3E1C4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777C1-7F5A-41B5-BC0B-E2026A8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E104-4FDD-4E43-AFA7-3CBBA81B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AB8F-7414-42EC-8B1B-6134321B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4FD0E-E0C1-4EE8-8B24-8E356283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1B16C-CEA8-4BE9-9F21-C01DFFA1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BE6E0-D598-45BE-9D8F-C82DB9A1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AD98-37B9-44B5-B13E-B324425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79AD-016F-40E0-B87E-4BF6DF8A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6A061-3862-464A-92E3-6372687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888E-5759-4672-A66D-64B62C3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F6DC-A399-4218-9473-1335768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82A86-5BEE-41B1-9B94-60901AC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70C67-C6CD-4FB8-9D9C-086E59A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5102F-0517-499A-B3B0-31060554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0A172-0D3B-46B2-BA4F-F7278EE0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BFBF5-F962-4E50-AD59-523CB7AC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85DC8-5888-4B5C-8E7B-51DEE53C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16A0F-E074-4899-8A8C-707920F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9402D-A246-4C09-B228-E535D11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B8600-BB3D-4E6B-A254-4BD36D8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8A4BB-23DF-4B10-BA94-15569C8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1DE-3F3C-42FC-A8EC-4466366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B940-72B6-415F-96D0-290DB94F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FA1D6-7234-4F44-94B0-952D501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B047B-7E5A-41BD-B1FA-18ACF66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F228B-C39A-4660-9E63-6662F13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C12A0-9AC9-4899-8B16-083B194B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1D38A-0846-4B00-9921-DCF2C768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DA08F-7B8A-44B4-A0DB-5A36583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DF98A-AE75-4E16-8A58-C4249B25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58F7F-535E-4E81-8EDD-7F45F47A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C3659-87DA-42DE-AAE0-F3DBB61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CB1-A1C7-44C6-8E8E-B32F1DA8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7C095-4797-4CC4-8A53-52ED225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5E23A-1298-40EB-8BDF-2B51A6F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FA280-2683-47D6-A96C-C02F2BB8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E56E7-6C13-4FC3-BF7E-A8C23C4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E8E73-A930-4492-8CEF-2329125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E7B39-A196-4C4E-97EB-99F4BD6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0F9CD-4FFE-4380-BF45-7CE8BAF5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0544F-2546-42EE-8828-C99507E8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ABF63-5609-425D-AEDD-D694A56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E01A-5E68-46DB-897B-DAC7B4CF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5908-9A10-4BFF-9092-C9510093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D6E-ED47-449C-9CDE-7AA5F9D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6D5-D44D-42F1-85DF-CB29056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E2D7-5C7A-4F8B-AA25-F9381B8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65BE-C184-4885-B979-4C32607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2AE9-FD36-4760-8859-FE2C58A5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F8CF-59FF-4529-9675-2DC4261F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F2D2-B472-404D-B644-B3112ECF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33E0-7F2D-4940-9D79-D03D18E2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239D-602B-4AD3-B4DD-7B9309E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FDB0-3E3A-407A-85B2-4B2149BB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509A-9E1D-4967-B7A8-EC5A04E4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DB95-DCA7-47AF-9915-773367C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56F-5BCA-475C-9CFF-F218D6C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3566-4127-40EF-81B5-A4801D5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D449-83DA-48F0-8A07-8B84C8E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D3D5-2437-4228-8B06-4D169CE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A682-AFDE-490F-ADA1-72202CB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0FE0-301C-407B-BF61-144308D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BD86-D451-4485-970F-B8659034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0CC1-0DFE-4071-AEE8-3BD5DB2F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2B41-7CF2-4087-906E-976DBDAF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D47A-7A00-49B3-8F81-B65422D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ECA8-6A50-4DAC-B34E-1487F3E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83F-BB10-4EF1-A3D6-D3BE6D5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330A-1662-4303-8F9A-BC16FA58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F992-7B10-420E-9ACA-E809214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8D8A-30AA-44A8-98CF-77CE6D2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CD87-CBB3-424C-A277-3A7F381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D45D-3349-483F-9A04-EAD63A92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5B6C-5BDF-4AFB-9916-961A122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2014-E738-41C6-80B7-92E8EC6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422E-0C04-41AA-A433-5BB53338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75A5-47FA-4DAD-A109-F14673B9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6EBD-2E28-4EDE-BAC1-B9ADD61F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71E-8E0B-4CD0-A779-D6ADC85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6344-ADE7-4855-9F7C-3ABA4ABB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8340-BB6E-4A2B-9AFD-0CAD069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AA56-D09F-4C87-AB6F-EA928F7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9C3B-030D-4575-8F56-3547DCC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AF0F0-593E-4B47-A956-2A44721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E8A2-28E7-4BC5-A716-8BF47F08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BA48-0CC4-48A2-930F-8C2618E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516A-FADD-4FE0-9984-A0209CA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BAA2A-44B6-4103-8FAE-3C897AD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3682-6644-45E2-98FB-C0FCB677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495-11AD-451D-8B85-F6E88A1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85C8-79C5-4A1C-A19C-A5D6CE31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83D2-B387-48F2-9535-CD828564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1A2C-B9E4-4D51-A80F-F6F1F758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D24E-F989-4962-8B25-D95F769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A003-5357-492C-AB4A-30350C68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81B5-C39E-4C6C-9DE5-5C4D90E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C25C6-15CE-4C84-903F-13F1352C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C939-E02D-425F-B8E0-B5CA0D04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1E9B-FFAC-4444-A049-4816A5C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2900-A88B-465E-BF5B-E680602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162-C9E6-478A-9A62-29C1DFD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B2D0-13F1-45B0-9F04-AD4EB85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D4C1-3230-4E52-A047-5CB1E9E3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E4FA-162E-44D3-9810-B1F876E6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4A55-B09C-4F26-8689-11D4535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B65D-F7EE-4B6C-A3C0-A0DFAF7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9BE2-528A-4CC2-B2AD-4C6F7013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CCAE-8579-4896-B48C-9925B92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8D1C-074E-45A7-8CB4-550B100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4A62-0C7D-4C31-A61E-2C16640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076E-33F9-4A2C-AFDA-D613E5B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924-C569-4633-908C-146507F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C5594-70EF-4566-BEA6-DA4FF62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A300-CDEF-4620-8A4B-E4EEBAB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CE1D0-19E5-4F6B-8A71-2A4A52F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FEC6-CD67-492D-BA7A-D84D23D0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F9CC-B1EF-4FD5-8735-063FFFF0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9D8F-E395-46D8-BE9D-C364382D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CC29D-5071-44E2-9678-43A4F3D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5CAA-B84E-46E5-8ECA-ACF93C75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93B9-F8A0-4F2E-B8FB-2750E23D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DEE6A-8C92-4818-8BC7-FA193EF6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3D9-B169-4338-AEFC-5ECF733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2C99-3747-4004-B11F-C1F9C1F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F209-B211-42B1-89A7-568896A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6601C-F18D-4A38-A821-331432B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8BA59-95CC-49ED-83DB-F97726B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87C80-D087-4648-BE75-A1BD7E6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D772-C3D3-4345-BC75-587B436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0AB5E-5226-47FE-91E7-E20579CE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222C1-F019-4023-9E11-2F0DAA6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81F9-467D-442F-B7DF-2E274C2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33B13-6DC1-4691-9BB8-A434845B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776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18C-A9F7-49FC-B6E4-E06AE0E44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AB9-D514-4822-B615-18C798544D8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CC79-190B-421D-92F9-7AE817174B5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7078-3445-4185-ADD9-0FD75A7A888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BB9-1973-4E6A-835D-6C1D453E5B8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B42-009F-4944-9A3B-2B49F5AF5A9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614-CC6D-4899-9F9E-9791CBA855CE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191-4A17-4EAE-AC93-6943A14A585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733E-BF6E-420F-BCE2-91F8321046C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64D-9B98-43EB-9D46-FA3635E257D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0A9-C928-4806-900D-0332765A2AA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4E77-AC9C-4059-BE75-A430FFB9831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A84B-ACC3-45FC-9238-ED76122A1E9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9E2-4150-49FA-A381-8167D72DB01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626-3EA4-4AF4-B6E4-DD5094AB4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508040" y="4723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Feature extraction: PCA, eigen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5-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8C5-A868-430D-939B-6F10A8C13BB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507960" y="1071720"/>
            <a:ext cx="834552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processing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contenere esclusivamente facce (no outli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essere ragionevolmente prive di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facce devono avere la stessa dimensione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risca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tesse condizioni di illuminazione, o compens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Non ci deve essere sfondo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taglia le facce, catturale su sfondo neutro (alternativa: background subtr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In maniera automatica, utilizzo di un metodo di fac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a posa dei volti deve essere il piu’ possibile simile (no fronte e profilo assi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4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5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8" name="Text Box 1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1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5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B05-8450-4DF2-8EE2-2C027F58A1F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840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ie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507960" y="907920"/>
            <a:ext cx="9047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opo aver ricavato 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lla matrice di covarianza S, calcolo le compon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a} (o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roie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facci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d 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ricostruzion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possono avvenire anche nei sottospazi descritti dalle eigenfaces con eigenvalues più grandi – riduzione dimension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4"/>
          <p:cNvGrpSpPr/>
          <p:nvPr/>
        </p:nvGrpSpPr>
        <p:grpSpPr>
          <a:xfrm>
            <a:off x="353880" y="1714680"/>
            <a:ext cx="4208760" cy="792000"/>
            <a:chOff x="353880" y="1714680"/>
            <a:chExt cx="4208760" cy="792000"/>
          </a:xfrm>
        </p:grpSpPr>
        <mc:AlternateContent>
          <mc:Choice xmlns:a14="http://schemas.microsoft.com/office/drawing/2010/main" Requires="a14">
            <p:sp>
              <p:nvSpPr>
                <p:cNvPr id="755" name="Object 8"/>
                <p:cNvSpPr txBox="1"/>
                <p:nvPr/>
              </p:nvSpPr>
              <p:spPr>
                <a:xfrm>
                  <a:off x="353880" y="1714680"/>
                  <a:ext cx="4208760" cy="39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56" name="AutoShape 6"/>
            <p:cNvSpPr/>
            <p:nvPr/>
          </p:nvSpPr>
          <p:spPr>
            <a:xfrm rot="16200000">
              <a:off x="97488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Object 9"/>
                <p:cNvSpPr txBox="1"/>
                <p:nvPr/>
              </p:nvSpPr>
              <p:spPr>
                <a:xfrm>
                  <a:off x="887400" y="2163600"/>
                  <a:ext cx="2880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8" name="AutoShape 8"/>
            <p:cNvSpPr/>
            <p:nvPr/>
          </p:nvSpPr>
          <p:spPr>
            <a:xfrm rot="16200000">
              <a:off x="218844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9" name="Object 10"/>
                <p:cNvSpPr txBox="1"/>
                <p:nvPr/>
              </p:nvSpPr>
              <p:spPr>
                <a:xfrm>
                  <a:off x="2077200" y="2163600"/>
                  <a:ext cx="3348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AutoShape 10"/>
            <p:cNvSpPr/>
            <p:nvPr/>
          </p:nvSpPr>
          <p:spPr>
            <a:xfrm rot="16200000">
              <a:off x="375912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Object 11"/>
                <p:cNvSpPr txBox="1"/>
                <p:nvPr/>
              </p:nvSpPr>
              <p:spPr>
                <a:xfrm>
                  <a:off x="3624480" y="2153880"/>
                  <a:ext cx="383760" cy="35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Object 2"/>
              <p:cNvSpPr txBox="1"/>
              <p:nvPr/>
            </p:nvSpPr>
            <p:spPr>
              <a:xfrm>
                <a:off x="5765760" y="1700280"/>
                <a:ext cx="363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3" name="Picture 13" descr=""/>
          <p:cNvPicPr/>
          <p:nvPr/>
        </p:nvPicPr>
        <p:blipFill>
          <a:blip r:embed="rId1"/>
          <a:stretch/>
        </p:blipFill>
        <p:spPr>
          <a:xfrm>
            <a:off x="1467000" y="3751200"/>
            <a:ext cx="5832360" cy="1203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4" descr=""/>
          <p:cNvPicPr/>
          <p:nvPr/>
        </p:nvPicPr>
        <p:blipFill>
          <a:blip r:embed="rId2"/>
          <a:srcRect l="37064" t="16771" r="27963" b="20294"/>
          <a:stretch/>
        </p:blipFill>
        <p:spPr>
          <a:xfrm>
            <a:off x="117360" y="3716280"/>
            <a:ext cx="87336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1511280" y="4843440"/>
                <a:ext cx="5851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6" name="Text Box 16"/>
          <p:cNvSpPr/>
          <p:nvPr/>
        </p:nvSpPr>
        <p:spPr>
          <a:xfrm>
            <a:off x="7841880" y="4832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4"/>
              <p:cNvSpPr txBox="1"/>
              <p:nvPr/>
            </p:nvSpPr>
            <p:spPr>
              <a:xfrm>
                <a:off x="8134200" y="4861080"/>
                <a:ext cx="846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8" name="Picture 18" descr=""/>
          <p:cNvPicPr/>
          <p:nvPr/>
        </p:nvPicPr>
        <p:blipFill>
          <a:blip r:embed="rId3"/>
          <a:srcRect l="37064" t="16771" r="27963" b="20294"/>
          <a:stretch/>
        </p:blipFill>
        <p:spPr>
          <a:xfrm>
            <a:off x="8931240" y="3355920"/>
            <a:ext cx="87300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9321840" y="4732200"/>
                <a:ext cx="21600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6"/>
              <p:cNvSpPr txBox="1"/>
              <p:nvPr/>
            </p:nvSpPr>
            <p:spPr>
              <a:xfrm>
                <a:off x="7797960" y="4748040"/>
                <a:ext cx="54432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Picture 21" descr=""/>
          <p:cNvPicPr/>
          <p:nvPr/>
        </p:nvPicPr>
        <p:blipFill>
          <a:blip r:embed="rId4"/>
          <a:srcRect l="92642" t="19997" r="2153" b="52231"/>
          <a:stretch/>
        </p:blipFill>
        <p:spPr>
          <a:xfrm>
            <a:off x="7527960" y="3355920"/>
            <a:ext cx="779400" cy="14097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2"/>
          <p:cNvSpPr/>
          <p:nvPr/>
        </p:nvSpPr>
        <p:spPr>
          <a:xfrm>
            <a:off x="978480" y="4862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3"/>
          <p:cNvSpPr/>
          <p:nvPr/>
        </p:nvSpPr>
        <p:spPr>
          <a:xfrm>
            <a:off x="1052640" y="4508640"/>
            <a:ext cx="15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reeform 24"/>
          <p:cNvSpPr/>
          <p:nvPr/>
        </p:nvSpPr>
        <p:spPr>
          <a:xfrm>
            <a:off x="745020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25"/>
          <p:cNvSpPr/>
          <p:nvPr/>
        </p:nvSpPr>
        <p:spPr>
          <a:xfrm>
            <a:off x="893124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428760" y="5156280"/>
                <a:ext cx="21564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7" name="Picture 41" descr="face2_reconstructed"/>
          <p:cNvPicPr/>
          <p:nvPr/>
        </p:nvPicPr>
        <p:blipFill>
          <a:blip r:embed="rId5"/>
          <a:stretch/>
        </p:blipFill>
        <p:spPr>
          <a:xfrm>
            <a:off x="6513480" y="5445000"/>
            <a:ext cx="1041480" cy="7016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42" descr="face_reconstructed_70"/>
          <p:cNvPicPr/>
          <p:nvPr/>
        </p:nvPicPr>
        <p:blipFill>
          <a:blip r:embed="rId6"/>
          <a:stretch/>
        </p:blipFill>
        <p:spPr>
          <a:xfrm>
            <a:off x="5421240" y="5446800"/>
            <a:ext cx="984240" cy="7048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3" descr="face_reconstructed_50"/>
          <p:cNvPicPr/>
          <p:nvPr/>
        </p:nvPicPr>
        <p:blipFill>
          <a:blip r:embed="rId7"/>
          <a:stretch/>
        </p:blipFill>
        <p:spPr>
          <a:xfrm>
            <a:off x="432900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4" descr="face_reconstructed_30"/>
          <p:cNvPicPr/>
          <p:nvPr/>
        </p:nvPicPr>
        <p:blipFill>
          <a:blip r:embed="rId8"/>
          <a:stretch/>
        </p:blipFill>
        <p:spPr>
          <a:xfrm>
            <a:off x="323064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45" descr="face_reconstructed_20"/>
          <p:cNvPicPr/>
          <p:nvPr/>
        </p:nvPicPr>
        <p:blipFill>
          <a:blip r:embed="rId9"/>
          <a:stretch/>
        </p:blipFill>
        <p:spPr>
          <a:xfrm>
            <a:off x="2143080" y="5454720"/>
            <a:ext cx="1001880" cy="7174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6" descr="face_reconstructed_10"/>
          <p:cNvPicPr/>
          <p:nvPr/>
        </p:nvPicPr>
        <p:blipFill>
          <a:blip r:embed="rId10"/>
          <a:stretch/>
        </p:blipFill>
        <p:spPr>
          <a:xfrm>
            <a:off x="1052640" y="5454720"/>
            <a:ext cx="1003320" cy="7174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7"/>
          <p:cNvSpPr/>
          <p:nvPr/>
        </p:nvSpPr>
        <p:spPr>
          <a:xfrm>
            <a:off x="9788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8"/>
          <p:cNvSpPr/>
          <p:nvPr/>
        </p:nvSpPr>
        <p:spPr>
          <a:xfrm>
            <a:off x="20696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49"/>
          <p:cNvSpPr/>
          <p:nvPr/>
        </p:nvSpPr>
        <p:spPr>
          <a:xfrm>
            <a:off x="315468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50"/>
          <p:cNvSpPr/>
          <p:nvPr/>
        </p:nvSpPr>
        <p:spPr>
          <a:xfrm>
            <a:off x="42537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1"/>
          <p:cNvSpPr/>
          <p:nvPr/>
        </p:nvSpPr>
        <p:spPr>
          <a:xfrm>
            <a:off x="535572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2"/>
          <p:cNvSpPr/>
          <p:nvPr/>
        </p:nvSpPr>
        <p:spPr>
          <a:xfrm>
            <a:off x="64929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53"/>
          <p:cNvSpPr/>
          <p:nvPr/>
        </p:nvSpPr>
        <p:spPr>
          <a:xfrm>
            <a:off x="303120" y="5641920"/>
            <a:ext cx="67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e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3E1-03D9-468A-ACDB-6A9C40432AB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507960" y="1484280"/>
            <a:ext cx="8736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: in pra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2" descr="db_eigfacessmall"/>
          <p:cNvPicPr/>
          <p:nvPr/>
        </p:nvPicPr>
        <p:blipFill>
          <a:blip r:embed="rId1"/>
          <a:stretch/>
        </p:blipFill>
        <p:spPr>
          <a:xfrm>
            <a:off x="2612880" y="2060640"/>
            <a:ext cx="445788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5" name="Object 2"/>
              <p:cNvSpPr txBox="1"/>
              <p:nvPr/>
            </p:nvSpPr>
            <p:spPr>
              <a:xfrm>
                <a:off x="3781440" y="2060640"/>
                <a:ext cx="342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3"/>
              <p:cNvSpPr txBox="1"/>
              <p:nvPr/>
            </p:nvSpPr>
            <p:spPr>
              <a:xfrm>
                <a:off x="4859280" y="206064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5951520" y="2048040"/>
                <a:ext cx="37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5"/>
              <p:cNvSpPr txBox="1"/>
              <p:nvPr/>
            </p:nvSpPr>
            <p:spPr>
              <a:xfrm>
                <a:off x="2639880" y="3220920"/>
                <a:ext cx="3142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6"/>
              <p:cNvSpPr txBox="1"/>
              <p:nvPr/>
            </p:nvSpPr>
            <p:spPr>
              <a:xfrm>
                <a:off x="2583000" y="2149560"/>
                <a:ext cx="4014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950C-69ED-44D8-B720-0BCDCC9B69D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ia                                            pertan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 un’img 256 x 256 ho                    : problemi di overflo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ick: calcolo gli autovettori di           , ossia       , tenuto 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he di solito si usano 20-30 eigenfaces e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2"/>
              <p:cNvSpPr txBox="1"/>
              <p:nvPr/>
            </p:nvSpPr>
            <p:spPr>
              <a:xfrm>
                <a:off x="1600200" y="1413000"/>
                <a:ext cx="3071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5" name="Text Box 53"/>
          <p:cNvSpPr/>
          <p:nvPr/>
        </p:nvSpPr>
        <p:spPr>
          <a:xfrm>
            <a:off x="1401120" y="2284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4"/>
          <p:cNvSpPr/>
          <p:nvPr/>
        </p:nvSpPr>
        <p:spPr>
          <a:xfrm>
            <a:off x="6672240" y="2349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4040280" y="3213000"/>
                <a:ext cx="1306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S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4"/>
              <p:cNvSpPr txBox="1"/>
              <p:nvPr/>
            </p:nvSpPr>
            <p:spPr>
              <a:xfrm>
                <a:off x="4430880" y="4037040"/>
                <a:ext cx="726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5979960" y="4035600"/>
                <a:ext cx="522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6"/>
              <p:cNvSpPr txBox="1"/>
              <p:nvPr/>
            </p:nvSpPr>
            <p:spPr>
              <a:xfrm>
                <a:off x="895320" y="5084640"/>
                <a:ext cx="3900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A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7137360" y="5516640"/>
                <a:ext cx="108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2" name="Rectangle 60"/>
          <p:cNvSpPr/>
          <p:nvPr/>
        </p:nvSpPr>
        <p:spPr>
          <a:xfrm>
            <a:off x="4958280" y="55530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845A-DAED-42A8-9107-B82A9192BD8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not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M autovalor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’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corrispondono agli M autovalori più grand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(così come i corrispondenti autovet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442-E083-4146-822A-E916FB9B5E7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algoritm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507960" y="1700280"/>
            <a:ext cx="873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ottraggo ad ogni immagin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(k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,k=1...M, l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ttenendo i vettori         da cui costruisc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Calcolo M autovettori                  di            formand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gli M autovettori più grandi di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, o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i corrispondenti componenti (o coeff. di proiezio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2"/>
              <p:cNvSpPr txBox="1"/>
              <p:nvPr/>
            </p:nvSpPr>
            <p:spPr>
              <a:xfrm>
                <a:off x="7016760" y="2133720"/>
                <a:ext cx="544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3"/>
              <p:cNvSpPr txBox="1"/>
              <p:nvPr/>
            </p:nvSpPr>
            <p:spPr>
              <a:xfrm>
                <a:off x="5148360" y="2550960"/>
                <a:ext cx="59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3840120" y="2568600"/>
                <a:ext cx="1101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6862680" y="2959200"/>
                <a:ext cx="984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6"/>
              <p:cNvSpPr txBox="1"/>
              <p:nvPr/>
            </p:nvSpPr>
            <p:spPr>
              <a:xfrm>
                <a:off x="3938760" y="4292640"/>
                <a:ext cx="1625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937200" y="1617840"/>
                <a:ext cx="148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8"/>
              <p:cNvSpPr txBox="1"/>
              <p:nvPr/>
            </p:nvSpPr>
            <p:spPr>
              <a:xfrm>
                <a:off x="3460680" y="2158920"/>
                <a:ext cx="622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8396280" y="2571840"/>
                <a:ext cx="5475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902040" y="3429000"/>
                <a:ext cx="1598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11"/>
              <p:cNvSpPr txBox="1"/>
              <p:nvPr/>
            </p:nvSpPr>
            <p:spPr>
              <a:xfrm>
                <a:off x="3860640" y="5300640"/>
                <a:ext cx="2067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limLow>
                          <m:e>
                            <m:r>
                              <m:t xml:space="preserve">ω</m:t>
                            </m:r>
                          </m:e>
                          <m:lim>
                            <m:r>
                              <m:t xml:space="preserve">M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lim>
                        </m:limLow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lim>
                    </m:limLow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limLow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76EB-822C-4295-ACA1-C6916CC38B7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0000"/>
                </a:solidFill>
                <a:latin typeface="Tahoma"/>
              </a:rPr>
              <a:t>Proprietà chiave della rappresentazione ad eigenfaces</a:t>
            </a:r>
            <a:endParaRPr b="0" lang="en-US" sz="33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358560" y="1295280"/>
            <a:ext cx="7650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immagini                 usate per costruire l’eigen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sia, la distanza nell’eigenspace è approssimativ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guale alla distanza tra due immagi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2"/>
              <p:cNvSpPr txBox="1"/>
              <p:nvPr/>
            </p:nvSpPr>
            <p:spPr>
              <a:xfrm>
                <a:off x="2825640" y="1876320"/>
                <a:ext cx="107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679400" y="2471760"/>
                <a:ext cx="549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4"/>
              <p:cNvSpPr txBox="1"/>
              <p:nvPr/>
            </p:nvSpPr>
            <p:spPr>
              <a:xfrm>
                <a:off x="2455920" y="4151160"/>
                <a:ext cx="4829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Rectangle 11"/>
          <p:cNvSpPr/>
          <p:nvPr/>
        </p:nvSpPr>
        <p:spPr>
          <a:xfrm>
            <a:off x="2394000" y="4038480"/>
            <a:ext cx="495288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5"/>
              <p:cNvSpPr txBox="1"/>
              <p:nvPr/>
            </p:nvSpPr>
            <p:spPr>
              <a:xfrm>
                <a:off x="7137360" y="2468520"/>
                <a:ext cx="47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6"/>
              <p:cNvSpPr txBox="1"/>
              <p:nvPr/>
            </p:nvSpPr>
            <p:spPr>
              <a:xfrm>
                <a:off x="7099200" y="3068640"/>
                <a:ext cx="515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7"/>
              <p:cNvSpPr txBox="1"/>
              <p:nvPr/>
            </p:nvSpPr>
            <p:spPr>
              <a:xfrm>
                <a:off x="1641600" y="3068640"/>
                <a:ext cx="622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2B8-B584-4EF6-AFDE-DBBD8490630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zza il database d’immagini etichettato (&lt;volti,identità&gt;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gui PCA — calcola le eigenfaces, form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i K coefficienti per ogni immagin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le M proiezioni nello spazio delle eigenfaces </a:t>
            </a:r>
            <a:r>
              <a:rPr b="1" lang="el-GR" sz="1600" spc="-1" strike="noStrike">
                <a:solidFill>
                  <a:srgbClr val="000000"/>
                </a:solidFill>
                <a:latin typeface="바탕"/>
                <a:ea typeface="바탕"/>
              </a:rPr>
              <a:t>ω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la sogl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una nuova img (da riconoscere)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 sottraggo la media del dataset di train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otte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ietto, ossia calcolo le K componen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il set di distan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2"/>
              <p:cNvSpPr txBox="1"/>
              <p:nvPr/>
            </p:nvSpPr>
            <p:spPr>
              <a:xfrm>
                <a:off x="2365200" y="2744640"/>
                <a:ext cx="4838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AutoShape 5"/>
          <p:cNvSpPr/>
          <p:nvPr/>
        </p:nvSpPr>
        <p:spPr>
          <a:xfrm>
            <a:off x="741240" y="1052640"/>
            <a:ext cx="311400" cy="2305080"/>
          </a:xfrm>
          <a:custGeom>
            <a:avLst/>
            <a:gdLst>
              <a:gd name="textAreaLeft" fmla="*/ 199080 w 311400"/>
              <a:gd name="textAreaRight" fmla="*/ 311400 w 311400"/>
              <a:gd name="textAreaTop" fmla="*/ 64800 h 2305080"/>
              <a:gd name="textAreaBottom" fmla="*/ 224028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8850"/>
                </a:lnTo>
                <a:cubicBezTo>
                  <a:pt x="10800" y="9825"/>
                  <a:pt x="5400" y="10800"/>
                  <a:pt x="0" y="10800"/>
                </a:cubicBezTo>
                <a:cubicBezTo>
                  <a:pt x="5400" y="10800"/>
                  <a:pt x="10800" y="11775"/>
                  <a:pt x="10800" y="1275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6"/>
          <p:cNvSpPr/>
          <p:nvPr/>
        </p:nvSpPr>
        <p:spPr>
          <a:xfrm rot="16200000">
            <a:off x="-172440" y="20178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3"/>
              <p:cNvSpPr txBox="1"/>
              <p:nvPr/>
            </p:nvSpPr>
            <p:spPr>
              <a:xfrm>
                <a:off x="1836720" y="4327560"/>
                <a:ext cx="275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ct 4"/>
              <p:cNvSpPr txBox="1"/>
              <p:nvPr/>
            </p:nvSpPr>
            <p:spPr>
              <a:xfrm>
                <a:off x="2624040" y="5084640"/>
                <a:ext cx="4238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ct 5"/>
              <p:cNvSpPr txBox="1"/>
              <p:nvPr/>
            </p:nvSpPr>
            <p:spPr>
              <a:xfrm>
                <a:off x="5823000" y="4365720"/>
                <a:ext cx="11034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6"/>
              <p:cNvSpPr txBox="1"/>
              <p:nvPr/>
            </p:nvSpPr>
            <p:spPr>
              <a:xfrm>
                <a:off x="7527960" y="3747960"/>
                <a:ext cx="244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53" name="Rectangle 11"/>
          <p:cNvSpPr/>
          <p:nvPr/>
        </p:nvSpPr>
        <p:spPr>
          <a:xfrm>
            <a:off x="4955760" y="4365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2"/>
          <p:cNvSpPr/>
          <p:nvPr/>
        </p:nvSpPr>
        <p:spPr>
          <a:xfrm>
            <a:off x="741240" y="3429000"/>
            <a:ext cx="311400" cy="38876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09800 h 3887640"/>
              <a:gd name="textAreaBottom" fmla="*/ 377784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4920"/>
                </a:lnTo>
                <a:cubicBezTo>
                  <a:pt x="10800" y="5895"/>
                  <a:pt x="5400" y="6870"/>
                  <a:pt x="0" y="6870"/>
                </a:cubicBezTo>
                <a:cubicBezTo>
                  <a:pt x="5400" y="6870"/>
                  <a:pt x="10800" y="7845"/>
                  <a:pt x="10800" y="882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3"/>
          <p:cNvSpPr/>
          <p:nvPr/>
        </p:nvSpPr>
        <p:spPr>
          <a:xfrm rot="16200000">
            <a:off x="-679320" y="4539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73F-6813-4B72-A4A3-4DA96F769D9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6168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ostruisco la faccia usando eigenfaces e compon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olo la distanza tra la faccia di partenza incognita e la ricostru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 è un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nuov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faccia conosciuta, la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be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esima, dov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2"/>
              <p:cNvSpPr txBox="1"/>
              <p:nvPr/>
            </p:nvSpPr>
            <p:spPr>
              <a:xfrm>
                <a:off x="2470320" y="1413000"/>
                <a:ext cx="36082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oppure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AutoShape 14"/>
          <p:cNvSpPr/>
          <p:nvPr/>
        </p:nvSpPr>
        <p:spPr>
          <a:xfrm>
            <a:off x="741240" y="-531720"/>
            <a:ext cx="311400" cy="69134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95120 h 6913440"/>
              <a:gd name="textAreaBottom" fmla="*/ 6718320 h 69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6789"/>
                </a:lnTo>
                <a:cubicBezTo>
                  <a:pt x="10800" y="7764"/>
                  <a:pt x="5400" y="8739"/>
                  <a:pt x="0" y="8739"/>
                </a:cubicBezTo>
                <a:cubicBezTo>
                  <a:pt x="5400" y="8739"/>
                  <a:pt x="10800" y="9714"/>
                  <a:pt x="10800" y="10689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 rot="16200000">
            <a:off x="-679320" y="21632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3"/>
              <p:cNvSpPr txBox="1"/>
              <p:nvPr/>
            </p:nvSpPr>
            <p:spPr>
              <a:xfrm>
                <a:off x="3314880" y="2997360"/>
                <a:ext cx="1750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4"/>
              <p:cNvSpPr txBox="1"/>
              <p:nvPr/>
            </p:nvSpPr>
            <p:spPr>
              <a:xfrm>
                <a:off x="1816200" y="3786120"/>
                <a:ext cx="799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≥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5"/>
              <p:cNvSpPr txBox="1"/>
              <p:nvPr/>
            </p:nvSpPr>
            <p:spPr>
              <a:xfrm>
                <a:off x="1517760" y="4278240"/>
                <a:ext cx="3422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θ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6"/>
              <p:cNvSpPr txBox="1"/>
              <p:nvPr/>
            </p:nvSpPr>
            <p:spPr>
              <a:xfrm>
                <a:off x="1481040" y="4819680"/>
                <a:ext cx="2613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min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7"/>
              <p:cNvSpPr txBox="1"/>
              <p:nvPr/>
            </p:nvSpPr>
            <p:spPr>
              <a:xfrm>
                <a:off x="3475080" y="5567400"/>
                <a:ext cx="2379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8DE-0844-4CA9-8745-23FE76762C8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Dettagli pratici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871" name="Group 11"/>
          <p:cNvGrpSpPr/>
          <p:nvPr/>
        </p:nvGrpSpPr>
        <p:grpSpPr>
          <a:xfrm>
            <a:off x="5264280" y="1989000"/>
            <a:ext cx="3359880" cy="2545920"/>
            <a:chOff x="5264280" y="1989000"/>
            <a:chExt cx="3359880" cy="2545920"/>
          </a:xfrm>
        </p:grpSpPr>
        <p:grpSp>
          <p:nvGrpSpPr>
            <p:cNvPr id="872" name="Group 12"/>
            <p:cNvGrpSpPr/>
            <p:nvPr/>
          </p:nvGrpSpPr>
          <p:grpSpPr>
            <a:xfrm>
              <a:off x="5264280" y="1989000"/>
              <a:ext cx="3321720" cy="2268360"/>
              <a:chOff x="5264280" y="1989000"/>
              <a:chExt cx="3321720" cy="2268360"/>
            </a:xfrm>
          </p:grpSpPr>
          <p:pic>
            <p:nvPicPr>
              <p:cNvPr id="873" name="Picture 13" descr="baback1"/>
              <p:cNvPicPr/>
              <p:nvPr/>
            </p:nvPicPr>
            <p:blipFill>
              <a:blip r:embed="rId1"/>
              <a:srcRect l="51053" t="0" r="0" b="7904"/>
              <a:stretch/>
            </p:blipFill>
            <p:spPr>
              <a:xfrm>
                <a:off x="5264280" y="1989000"/>
                <a:ext cx="3321720" cy="22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Rectangle 14"/>
              <p:cNvSpPr/>
              <p:nvPr/>
            </p:nvSpPr>
            <p:spPr>
              <a:xfrm>
                <a:off x="63475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5"/>
              <p:cNvSpPr/>
              <p:nvPr/>
            </p:nvSpPr>
            <p:spPr>
              <a:xfrm>
                <a:off x="56869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Text Box 16"/>
            <p:cNvSpPr/>
            <p:nvPr/>
          </p:nvSpPr>
          <p:spPr>
            <a:xfrm>
              <a:off x="5933160" y="4190760"/>
              <a:ext cx="317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17"/>
            <p:cNvSpPr/>
            <p:nvPr/>
          </p:nvSpPr>
          <p:spPr>
            <a:xfrm>
              <a:off x="8273520" y="4190760"/>
              <a:ext cx="3506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18"/>
            <p:cNvSpPr/>
            <p:nvPr/>
          </p:nvSpPr>
          <p:spPr>
            <a:xfrm>
              <a:off x="5370480" y="4190760"/>
              <a:ext cx="459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9" name="Picture 20" descr="txp_fig"/>
          <p:cNvPicPr/>
          <p:nvPr/>
        </p:nvPicPr>
        <p:blipFill>
          <a:blip r:embed="rId2"/>
          <a:stretch/>
        </p:blipFill>
        <p:spPr>
          <a:xfrm>
            <a:off x="4952880" y="2205000"/>
            <a:ext cx="214560" cy="20952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52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ti eigenvector usa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olla il decadimento degli eigen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i “buoni” ossia trattabili hanno poche dimensioni ad alta varia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 caso in cui tutti gli N autovalori sono stati calcolati per un dataset N-dimensionale v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2"/>
              <p:cNvSpPr txBox="1"/>
              <p:nvPr/>
            </p:nvSpPr>
            <p:spPr>
              <a:xfrm>
                <a:off x="2255760" y="2114640"/>
                <a:ext cx="468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3"/>
              <p:cNvSpPr txBox="1"/>
              <p:nvPr/>
            </p:nvSpPr>
            <p:spPr>
              <a:xfrm>
                <a:off x="1576440" y="4714920"/>
                <a:ext cx="182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ve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1B9-2F39-41CF-8BDD-C52EE0B17CE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0" descr="graph1"/>
          <p:cNvPicPr/>
          <p:nvPr/>
        </p:nvPicPr>
        <p:blipFill>
          <a:blip r:embed="rId1"/>
          <a:stretch/>
        </p:blipFill>
        <p:spPr>
          <a:xfrm>
            <a:off x="6626160" y="339084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rincipal Component Analysi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3043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dato = un vettor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dimensionale di valori di pix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niamo N=2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ati = punti 2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6669000" y="1916280"/>
            <a:ext cx="39060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ome posso descrivere in modo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compatt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questi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pun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584280" y="342900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 1: Con un punto (vettore) sol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9"/>
          <p:cNvSpPr/>
          <p:nvPr/>
        </p:nvSpPr>
        <p:spPr>
          <a:xfrm>
            <a:off x="8012160" y="4245120"/>
            <a:ext cx="1569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501920" y="4221000"/>
                <a:ext cx="42494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4" name="AutoShape 12"/>
          <p:cNvSpPr/>
          <p:nvPr/>
        </p:nvSpPr>
        <p:spPr>
          <a:xfrm rot="5400000">
            <a:off x="3367800" y="486936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584280" y="551664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u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: il vettore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"/>
              <p:cNvSpPr txBox="1"/>
              <p:nvPr/>
            </p:nvSpPr>
            <p:spPr>
              <a:xfrm>
                <a:off x="4406760" y="5300640"/>
                <a:ext cx="19353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7" name="Freeform 16"/>
          <p:cNvSpPr/>
          <p:nvPr/>
        </p:nvSpPr>
        <p:spPr>
          <a:xfrm>
            <a:off x="6591240" y="4581360"/>
            <a:ext cx="1495440" cy="127188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271880"/>
              <a:gd name="textAreaBottom" fmla="*/ 1271880 h 1271880"/>
            </a:gdLst>
            <a:ahLst/>
            <a:rect l="textAreaLeft" t="textAreaTop" r="textAreaRight" b="textAreaBottom"/>
            <a:pathLst>
              <a:path w="869" h="801">
                <a:moveTo>
                  <a:pt x="0" y="726"/>
                </a:moveTo>
                <a:cubicBezTo>
                  <a:pt x="290" y="763"/>
                  <a:pt x="581" y="801"/>
                  <a:pt x="725" y="680"/>
                </a:cubicBezTo>
                <a:cubicBezTo>
                  <a:pt x="869" y="559"/>
                  <a:pt x="865" y="279"/>
                  <a:pt x="861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7"/>
          <p:cNvSpPr/>
          <p:nvPr/>
        </p:nvSpPr>
        <p:spPr>
          <a:xfrm rot="20307000">
            <a:off x="7243560" y="5326200"/>
            <a:ext cx="30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m poco espressivo!!!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28760" y="3316320"/>
            <a:ext cx="8893080" cy="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19" descr="graph1"/>
          <p:cNvPicPr/>
          <p:nvPr/>
        </p:nvPicPr>
        <p:blipFill>
          <a:blip r:embed="rId2"/>
          <a:stretch/>
        </p:blipFill>
        <p:spPr>
          <a:xfrm>
            <a:off x="3703680" y="1268280"/>
            <a:ext cx="2843280" cy="1967040"/>
          </a:xfrm>
          <a:prstGeom prst="rect">
            <a:avLst/>
          </a:prstGeom>
          <a:ln w="0">
            <a:noFill/>
          </a:ln>
        </p:spPr>
      </p:pic>
      <p:sp>
        <p:nvSpPr>
          <p:cNvPr id="60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563-01B2-425F-8E58-F2A3BF76620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00"/>
                </a:solidFill>
                <a:latin typeface="Tahoma"/>
              </a:rPr>
              <a:t>Problemi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86" name="Picture 16" descr=""/>
          <p:cNvPicPr/>
          <p:nvPr/>
        </p:nvPicPr>
        <p:blipFill>
          <a:blip r:embed="rId1"/>
          <a:stretch/>
        </p:blipFill>
        <p:spPr>
          <a:xfrm>
            <a:off x="6356520" y="1268280"/>
            <a:ext cx="3431880" cy="111132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17"/>
          <p:cNvSpPr/>
          <p:nvPr/>
        </p:nvSpPr>
        <p:spPr>
          <a:xfrm>
            <a:off x="507960" y="1341360"/>
            <a:ext cx="5380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Illumina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 stessi soggetti con differente illuminazione risultano lontani nello spazio delle eigen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ose differ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le componenti di un volto frontale non servono per un riconoscimento con pr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Allineamento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spressione facciale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Out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ample outliers = non 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ntra-sample outliers = facce affette da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Picture 18" descr=""/>
          <p:cNvPicPr/>
          <p:nvPr/>
        </p:nvPicPr>
        <p:blipFill>
          <a:blip r:embed="rId2"/>
          <a:stretch/>
        </p:blipFill>
        <p:spPr>
          <a:xfrm>
            <a:off x="6381720" y="5445000"/>
            <a:ext cx="3119400" cy="7477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9" descr=""/>
          <p:cNvPicPr/>
          <p:nvPr/>
        </p:nvPicPr>
        <p:blipFill>
          <a:blip r:embed="rId3"/>
          <a:stretch/>
        </p:blipFill>
        <p:spPr>
          <a:xfrm>
            <a:off x="6381720" y="2565360"/>
            <a:ext cx="2847960" cy="965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0" descr=""/>
          <p:cNvPicPr/>
          <p:nvPr/>
        </p:nvPicPr>
        <p:blipFill>
          <a:blip r:embed="rId4"/>
          <a:stretch/>
        </p:blipFill>
        <p:spPr>
          <a:xfrm>
            <a:off x="6381720" y="3573360"/>
            <a:ext cx="2847960" cy="9572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1" descr=""/>
          <p:cNvPicPr/>
          <p:nvPr/>
        </p:nvPicPr>
        <p:blipFill>
          <a:blip r:embed="rId5"/>
          <a:stretch/>
        </p:blipFill>
        <p:spPr>
          <a:xfrm>
            <a:off x="6381720" y="4697280"/>
            <a:ext cx="3119400" cy="747720"/>
          </a:xfrm>
          <a:prstGeom prst="rect">
            <a:avLst/>
          </a:prstGeom>
          <a:ln w="0">
            <a:noFill/>
          </a:ln>
        </p:spPr>
      </p:pic>
      <p:sp>
        <p:nvSpPr>
          <p:cNvPr id="892" name="Freeform 22"/>
          <p:cNvSpPr/>
          <p:nvPr/>
        </p:nvSpPr>
        <p:spPr>
          <a:xfrm rot="19296600">
            <a:off x="9164160" y="3860280"/>
            <a:ext cx="622440" cy="814680"/>
          </a:xfrm>
          <a:custGeom>
            <a:avLst/>
            <a:gdLst>
              <a:gd name="textAreaLeft" fmla="*/ 0 w 622440"/>
              <a:gd name="textAreaRight" fmla="*/ 622800 w 62244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990" h="513">
                <a:moveTo>
                  <a:pt x="317" y="0"/>
                </a:moveTo>
                <a:cubicBezTo>
                  <a:pt x="570" y="30"/>
                  <a:pt x="824" y="60"/>
                  <a:pt x="907" y="136"/>
                </a:cubicBezTo>
                <a:cubicBezTo>
                  <a:pt x="990" y="212"/>
                  <a:pt x="967" y="393"/>
                  <a:pt x="816" y="453"/>
                </a:cubicBezTo>
                <a:cubicBezTo>
                  <a:pt x="665" y="513"/>
                  <a:pt x="136" y="491"/>
                  <a:pt x="0" y="499"/>
                </a:cubicBezTo>
              </a:path>
            </a:pathLst>
          </a:custGeom>
          <a:noFill/>
          <a:ln w="666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4"/>
          <p:cNvSpPr/>
          <p:nvPr/>
        </p:nvSpPr>
        <p:spPr>
          <a:xfrm flipV="1">
            <a:off x="4875120" y="3068640"/>
            <a:ext cx="13273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25"/>
          <p:cNvSpPr/>
          <p:nvPr/>
        </p:nvSpPr>
        <p:spPr>
          <a:xfrm flipV="1">
            <a:off x="5680080" y="4292280"/>
            <a:ext cx="622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764-E6E3-4F49-B464-99F3B2E4CC4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Problemi eigenfaces (2)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98" name="Picture 1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95320" y="2421000"/>
            <a:ext cx="7764480" cy="34495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21"/>
          <p:cNvSpPr/>
          <p:nvPr/>
        </p:nvSpPr>
        <p:spPr>
          <a:xfrm>
            <a:off x="507960" y="1197000"/>
            <a:ext cx="8267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unzionale solo per la rappresentazione di dati appartenenti ad un’unica 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Non separano classi dif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632-37DD-4F9C-9060-FF40DC9B266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Riferimenti su libro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3" name="Rectangle 21"/>
          <p:cNvSpPr/>
          <p:nvPr/>
        </p:nvSpPr>
        <p:spPr>
          <a:xfrm>
            <a:off x="507960" y="1197000"/>
            <a:ext cx="8267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PCA capitolo Duda 3.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Materiale di approfondimento (paper eigenfaces VS fisherf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76FB-AC2D-48F5-83F3-3858EF859B8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28" descr="graph1"/>
          <p:cNvPicPr/>
          <p:nvPr/>
        </p:nvPicPr>
        <p:blipFill>
          <a:blip r:embed="rId1"/>
          <a:stretch/>
        </p:blipFill>
        <p:spPr>
          <a:xfrm>
            <a:off x="3549600" y="379080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96800" y="2637000"/>
            <a:ext cx="304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upp. una retta di proiezione nello spa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7"/>
          <p:cNvSpPr/>
          <p:nvPr/>
        </p:nvSpPr>
        <p:spPr>
          <a:xfrm flipV="1">
            <a:off x="3852720" y="3902040"/>
            <a:ext cx="2324160" cy="16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1"/>
          <p:cNvSpPr/>
          <p:nvPr/>
        </p:nvSpPr>
        <p:spPr>
          <a:xfrm>
            <a:off x="3225960" y="270972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3772080" y="2565360"/>
            <a:ext cx="5929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cune vanno bene          ...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tre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ui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3"/>
          <p:cNvSpPr/>
          <p:nvPr/>
        </p:nvSpPr>
        <p:spPr>
          <a:xfrm rot="5400000">
            <a:off x="4839840" y="2998800"/>
            <a:ext cx="36036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4"/>
          <p:cNvSpPr/>
          <p:nvPr/>
        </p:nvSpPr>
        <p:spPr>
          <a:xfrm rot="5400000">
            <a:off x="8195400" y="299772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5"/>
          <p:cNvSpPr/>
          <p:nvPr/>
        </p:nvSpPr>
        <p:spPr>
          <a:xfrm rot="5400000">
            <a:off x="1954080" y="3070080"/>
            <a:ext cx="36036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7"/>
          <p:cNvSpPr/>
          <p:nvPr/>
        </p:nvSpPr>
        <p:spPr>
          <a:xfrm>
            <a:off x="428760" y="1268280"/>
            <a:ext cx="9048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2: Con una retta di proie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29" descr="graph1"/>
          <p:cNvPicPr/>
          <p:nvPr/>
        </p:nvPicPr>
        <p:blipFill>
          <a:blip r:embed="rId2"/>
          <a:stretch/>
        </p:blipFill>
        <p:spPr>
          <a:xfrm>
            <a:off x="58428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15" name="Line 30"/>
          <p:cNvSpPr/>
          <p:nvPr/>
        </p:nvSpPr>
        <p:spPr>
          <a:xfrm flipV="1">
            <a:off x="844560" y="3811320"/>
            <a:ext cx="2325600" cy="16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2"/>
          <p:cNvSpPr/>
          <p:nvPr/>
        </p:nvSpPr>
        <p:spPr>
          <a:xfrm flipH="1" flipV="1">
            <a:off x="1380600" y="5076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4"/>
          <p:cNvSpPr/>
          <p:nvPr/>
        </p:nvSpPr>
        <p:spPr>
          <a:xfrm flipH="1" flipV="1">
            <a:off x="1987200" y="4653000"/>
            <a:ext cx="17460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5"/>
          <p:cNvSpPr/>
          <p:nvPr/>
        </p:nvSpPr>
        <p:spPr>
          <a:xfrm flipH="1" flipV="1">
            <a:off x="1747800" y="4812840"/>
            <a:ext cx="763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7"/>
          <p:cNvSpPr/>
          <p:nvPr/>
        </p:nvSpPr>
        <p:spPr>
          <a:xfrm flipH="1" flipV="1">
            <a:off x="2430000" y="434988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8"/>
          <p:cNvSpPr/>
          <p:nvPr/>
        </p:nvSpPr>
        <p:spPr>
          <a:xfrm flipH="1" flipV="1">
            <a:off x="2871360" y="402912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9"/>
          <p:cNvSpPr/>
          <p:nvPr/>
        </p:nvSpPr>
        <p:spPr>
          <a:xfrm flipH="1" flipV="1">
            <a:off x="2327040" y="4212720"/>
            <a:ext cx="88920" cy="109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0"/>
          <p:cNvSpPr/>
          <p:nvPr/>
        </p:nvSpPr>
        <p:spPr>
          <a:xfrm flipH="1" flipV="1">
            <a:off x="1442520" y="5157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1"/>
          <p:cNvSpPr/>
          <p:nvPr/>
        </p:nvSpPr>
        <p:spPr>
          <a:xfrm flipH="1" flipV="1">
            <a:off x="1035000" y="5292360"/>
            <a:ext cx="7776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42" descr="graph1"/>
          <p:cNvPicPr/>
          <p:nvPr/>
        </p:nvPicPr>
        <p:blipFill>
          <a:blip r:embed="rId3"/>
          <a:stretch/>
        </p:blipFill>
        <p:spPr>
          <a:xfrm>
            <a:off x="674676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25" name="Line 43"/>
          <p:cNvSpPr/>
          <p:nvPr/>
        </p:nvSpPr>
        <p:spPr>
          <a:xfrm>
            <a:off x="7215120" y="4437000"/>
            <a:ext cx="210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57D-0715-4CB0-8043-286476667FA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24" descr="graph1"/>
          <p:cNvPicPr/>
          <p:nvPr/>
        </p:nvPicPr>
        <p:blipFill>
          <a:blip r:embed="rId1"/>
          <a:stretch/>
        </p:blipFill>
        <p:spPr>
          <a:xfrm>
            <a:off x="4606920" y="2125800"/>
            <a:ext cx="2843280" cy="19666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7960" y="1267920"/>
            <a:ext cx="86565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convenienza, imponiamo passaggio dalla media, e specifichiamo quindi i punti della retta 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1989000" y="2708280"/>
                <a:ext cx="2068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2" name="Oval 8"/>
          <p:cNvSpPr/>
          <p:nvPr/>
        </p:nvSpPr>
        <p:spPr>
          <a:xfrm>
            <a:off x="6037200" y="3038400"/>
            <a:ext cx="763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 flipV="1">
            <a:off x="6124680" y="2491920"/>
            <a:ext cx="85716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Object 3"/>
          <p:cNvGraphicFramePr/>
          <p:nvPr/>
        </p:nvGraphicFramePr>
        <p:xfrm>
          <a:off x="6100920" y="3830760"/>
          <a:ext cx="2822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0920" y="3830760"/>
                    <a:ext cx="2822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4"/>
          <p:cNvGraphicFramePr/>
          <p:nvPr/>
        </p:nvGraphicFramePr>
        <p:xfrm>
          <a:off x="4564080" y="270972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64080" y="270972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6012000" y="2438280"/>
                <a:ext cx="4618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AutoShape 13"/>
          <p:cNvSpPr/>
          <p:nvPr/>
        </p:nvSpPr>
        <p:spPr>
          <a:xfrm flipV="1" rot="3235800">
            <a:off x="6301080" y="2149560"/>
            <a:ext cx="160200" cy="11541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720 h 1154160"/>
              <a:gd name="textAreaBottom" fmla="*/ 112644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6"/>
              <p:cNvSpPr txBox="1"/>
              <p:nvPr/>
            </p:nvSpPr>
            <p:spPr>
              <a:xfrm>
                <a:off x="6462720" y="2781360"/>
                <a:ext cx="2062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7"/>
              <p:cNvSpPr txBox="1"/>
              <p:nvPr/>
            </p:nvSpPr>
            <p:spPr>
              <a:xfrm>
                <a:off x="5989680" y="3125880"/>
                <a:ext cx="3222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AutoShape 16"/>
          <p:cNvSpPr/>
          <p:nvPr/>
        </p:nvSpPr>
        <p:spPr>
          <a:xfrm>
            <a:off x="4140360" y="2565360"/>
            <a:ext cx="3888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8"/>
              <p:cNvSpPr txBox="1"/>
              <p:nvPr/>
            </p:nvSpPr>
            <p:spPr>
              <a:xfrm>
                <a:off x="2146320" y="2276640"/>
                <a:ext cx="1733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9"/>
              <p:cNvSpPr txBox="1"/>
              <p:nvPr/>
            </p:nvSpPr>
            <p:spPr>
              <a:xfrm>
                <a:off x="6905520" y="2133720"/>
                <a:ext cx="462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5" name="Oval 20"/>
          <p:cNvSpPr/>
          <p:nvPr/>
        </p:nvSpPr>
        <p:spPr>
          <a:xfrm>
            <a:off x="6964200" y="2460600"/>
            <a:ext cx="781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0"/>
              <p:cNvSpPr txBox="1"/>
              <p:nvPr/>
            </p:nvSpPr>
            <p:spPr>
              <a:xfrm>
                <a:off x="942840" y="5013360"/>
                <a:ext cx="53355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in</m:t>
                            </m:r>
                          </m:e>
                          <m:lim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lim>
                        </m:limLow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  <m:r>
                                          <m:t xml:space="preserve">e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Rectangle 22"/>
          <p:cNvSpPr/>
          <p:nvPr/>
        </p:nvSpPr>
        <p:spPr>
          <a:xfrm>
            <a:off x="507960" y="423720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roviamo quindi i coefficienti               ed i vettori e che minimizzano la distanza 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1"/>
              <p:cNvSpPr txBox="1"/>
              <p:nvPr/>
            </p:nvSpPr>
            <p:spPr>
              <a:xfrm>
                <a:off x="4275000" y="4276800"/>
                <a:ext cx="1043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8228-CF1E-4D4F-A130-B97A74D67B0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7960" y="1278000"/>
            <a:ext cx="86565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stituendo                           in                         ottenia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ossia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2249640" y="1282680"/>
                <a:ext cx="2176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4579920" y="1306440"/>
                <a:ext cx="1873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1432080" y="2279520"/>
                <a:ext cx="3376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5"/>
              <p:cNvSpPr txBox="1"/>
              <p:nvPr/>
            </p:nvSpPr>
            <p:spPr>
              <a:xfrm>
                <a:off x="1130400" y="1638360"/>
                <a:ext cx="690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Rectangle 28"/>
          <p:cNvSpPr/>
          <p:nvPr/>
        </p:nvSpPr>
        <p:spPr>
          <a:xfrm>
            <a:off x="584280" y="335592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are          significa massimizzare         tenuto conto che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via moltiplicatori di Lagrange; ossia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6"/>
              <p:cNvSpPr txBox="1"/>
              <p:nvPr/>
            </p:nvSpPr>
            <p:spPr>
              <a:xfrm>
                <a:off x="5734080" y="2276640"/>
                <a:ext cx="2919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7"/>
              <p:cNvSpPr txBox="1"/>
              <p:nvPr/>
            </p:nvSpPr>
            <p:spPr>
              <a:xfrm>
                <a:off x="2435400" y="3368520"/>
                <a:ext cx="56196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5635800" y="337824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9"/>
              <p:cNvSpPr txBox="1"/>
              <p:nvPr/>
            </p:nvSpPr>
            <p:spPr>
              <a:xfrm>
                <a:off x="895320" y="3716280"/>
                <a:ext cx="749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6265800" y="3703680"/>
                <a:ext cx="2603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1"/>
              <p:cNvSpPr txBox="1"/>
              <p:nvPr/>
            </p:nvSpPr>
            <p:spPr>
              <a:xfrm>
                <a:off x="749160" y="5237280"/>
                <a:ext cx="2497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Rectangle 35"/>
          <p:cNvSpPr/>
          <p:nvPr/>
        </p:nvSpPr>
        <p:spPr>
          <a:xfrm>
            <a:off x="584280" y="479736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36"/>
          <p:cNvSpPr/>
          <p:nvPr/>
        </p:nvSpPr>
        <p:spPr>
          <a:xfrm>
            <a:off x="3470400" y="522936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2"/>
              <p:cNvSpPr txBox="1"/>
              <p:nvPr/>
            </p:nvSpPr>
            <p:spPr>
              <a:xfrm>
                <a:off x="3917880" y="5445000"/>
                <a:ext cx="10350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λ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Rectangle 38"/>
          <p:cNvSpPr/>
          <p:nvPr/>
        </p:nvSpPr>
        <p:spPr>
          <a:xfrm>
            <a:off x="5500800" y="2276640"/>
            <a:ext cx="3430440" cy="79200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9"/>
          <p:cNvSpPr/>
          <p:nvPr/>
        </p:nvSpPr>
        <p:spPr>
          <a:xfrm>
            <a:off x="5440320" y="2006640"/>
            <a:ext cx="33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Arial"/>
              </a:rPr>
              <a:t>Scatter matrix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≈ mat. di co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0"/>
          <p:cNvSpPr/>
          <p:nvPr/>
        </p:nvSpPr>
        <p:spPr>
          <a:xfrm>
            <a:off x="5578560" y="4452840"/>
            <a:ext cx="3432240" cy="187344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1"/>
          <p:cNvSpPr/>
          <p:nvPr/>
        </p:nvSpPr>
        <p:spPr>
          <a:xfrm>
            <a:off x="5559480" y="4437000"/>
            <a:ext cx="391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nti fat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deve essere autovet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i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sere mas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3"/>
              <p:cNvSpPr txBox="1"/>
              <p:nvPr/>
            </p:nvSpPr>
            <p:spPr>
              <a:xfrm>
                <a:off x="6218280" y="5292720"/>
                <a:ext cx="2098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4"/>
              <p:cNvSpPr txBox="1"/>
              <p:nvPr/>
            </p:nvSpPr>
            <p:spPr>
              <a:xfrm>
                <a:off x="5811840" y="579600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AutoShape 45"/>
          <p:cNvSpPr/>
          <p:nvPr/>
        </p:nvSpPr>
        <p:spPr>
          <a:xfrm>
            <a:off x="5110200" y="5229360"/>
            <a:ext cx="3906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46"/>
          <p:cNvSpPr/>
          <p:nvPr/>
        </p:nvSpPr>
        <p:spPr>
          <a:xfrm rot="21340800">
            <a:off x="2846520" y="1915920"/>
            <a:ext cx="2574720" cy="50292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497" h="317">
                <a:moveTo>
                  <a:pt x="0" y="317"/>
                </a:moveTo>
                <a:cubicBezTo>
                  <a:pt x="193" y="158"/>
                  <a:pt x="386" y="0"/>
                  <a:pt x="635" y="0"/>
                </a:cubicBezTo>
                <a:cubicBezTo>
                  <a:pt x="884" y="0"/>
                  <a:pt x="1190" y="158"/>
                  <a:pt x="1497" y="317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1FE0-FC68-4F96-9BE7-F82DA201043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678" name="Picture 3" descr="graph3"/>
          <p:cNvPicPr/>
          <p:nvPr/>
        </p:nvPicPr>
        <p:blipFill>
          <a:blip r:embed="rId1"/>
          <a:stretch/>
        </p:blipFill>
        <p:spPr>
          <a:xfrm>
            <a:off x="5030640" y="3357720"/>
            <a:ext cx="2730600" cy="2222280"/>
          </a:xfrm>
          <a:prstGeom prst="rect">
            <a:avLst/>
          </a:prstGeom>
          <a:ln w="0">
            <a:noFill/>
          </a:ln>
        </p:spPr>
      </p:pic>
      <p:sp>
        <p:nvSpPr>
          <p:cNvPr id="679" name="Freeform 4"/>
          <p:cNvSpPr/>
          <p:nvPr/>
        </p:nvSpPr>
        <p:spPr>
          <a:xfrm rot="19878600">
            <a:off x="4287960" y="3474720"/>
            <a:ext cx="2589120" cy="1090440"/>
          </a:xfrm>
          <a:custGeom>
            <a:avLst/>
            <a:gdLst>
              <a:gd name="textAreaLeft" fmla="*/ 0 w 2589120"/>
              <a:gd name="textAreaRight" fmla="*/ 2589480 w 258912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257" h="740">
                <a:moveTo>
                  <a:pt x="0" y="15"/>
                </a:moveTo>
                <a:cubicBezTo>
                  <a:pt x="427" y="7"/>
                  <a:pt x="855" y="0"/>
                  <a:pt x="1056" y="121"/>
                </a:cubicBezTo>
                <a:cubicBezTo>
                  <a:pt x="1257" y="242"/>
                  <a:pt x="1231" y="491"/>
                  <a:pt x="1205" y="74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2457360" y="4340160"/>
            <a:ext cx="3667320" cy="1609920"/>
          </a:xfrm>
          <a:custGeom>
            <a:avLst/>
            <a:gdLst>
              <a:gd name="textAreaLeft" fmla="*/ 0 w 3667320"/>
              <a:gd name="textAreaRight" fmla="*/ 3667680 w 366732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2132" h="823">
                <a:moveTo>
                  <a:pt x="0" y="589"/>
                </a:moveTo>
                <a:cubicBezTo>
                  <a:pt x="366" y="706"/>
                  <a:pt x="733" y="823"/>
                  <a:pt x="1088" y="725"/>
                </a:cubicBezTo>
                <a:cubicBezTo>
                  <a:pt x="1443" y="627"/>
                  <a:pt x="1787" y="313"/>
                  <a:pt x="2132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6"/>
          <p:cNvSpPr/>
          <p:nvPr/>
        </p:nvSpPr>
        <p:spPr>
          <a:xfrm rot="2607000">
            <a:off x="6330600" y="4314960"/>
            <a:ext cx="235080" cy="215640"/>
          </a:xfrm>
          <a:prstGeom prst="rect">
            <a:avLst/>
          </a:prstGeom>
          <a:noFill/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Object 2"/>
          <p:cNvGraphicFramePr/>
          <p:nvPr/>
        </p:nvGraphicFramePr>
        <p:xfrm>
          <a:off x="6462720" y="5275440"/>
          <a:ext cx="2840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2720" y="5275440"/>
                    <a:ext cx="284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5030640" y="426708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30640" y="426708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6" name="Object 4"/>
              <p:cNvSpPr txBox="1"/>
              <p:nvPr/>
            </p:nvSpPr>
            <p:spPr>
              <a:xfrm>
                <a:off x="4329000" y="1380960"/>
                <a:ext cx="2089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5"/>
              <p:cNvSpPr txBox="1"/>
              <p:nvPr/>
            </p:nvSpPr>
            <p:spPr>
              <a:xfrm>
                <a:off x="1209600" y="4078440"/>
                <a:ext cx="1784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6"/>
              <p:cNvSpPr txBox="1"/>
              <p:nvPr/>
            </p:nvSpPr>
            <p:spPr>
              <a:xfrm>
                <a:off x="3078000" y="4073400"/>
                <a:ext cx="1797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7"/>
              <p:cNvSpPr txBox="1"/>
              <p:nvPr/>
            </p:nvSpPr>
            <p:spPr>
              <a:xfrm>
                <a:off x="1442880" y="501336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8"/>
              <p:cNvSpPr txBox="1"/>
              <p:nvPr/>
            </p:nvSpPr>
            <p:spPr>
              <a:xfrm>
                <a:off x="3159000" y="494172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Rectangle 22"/>
          <p:cNvSpPr/>
          <p:nvPr/>
        </p:nvSpPr>
        <p:spPr>
          <a:xfrm>
            <a:off x="584280" y="1523880"/>
            <a:ext cx="421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è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5"/>
          <p:cNvSpPr/>
          <p:nvPr/>
        </p:nvSpPr>
        <p:spPr>
          <a:xfrm>
            <a:off x="584280" y="2637000"/>
            <a:ext cx="717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ttengo 2 autovettori (e autovalori): quale prendo?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F053-87CB-423B-A326-1DDF8B69EF3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3716280" y="1406520"/>
                <a:ext cx="2089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7" name="Rectangle 11"/>
          <p:cNvSpPr/>
          <p:nvPr/>
        </p:nvSpPr>
        <p:spPr>
          <a:xfrm>
            <a:off x="507960" y="155592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                          è simmetrica, 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ono ortogonali, formanti una base per lo spazio N dimensi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gli autovalori più grandi 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hanno nelle direzioni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assima dispers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3"/>
              <p:cNvSpPr txBox="1"/>
              <p:nvPr/>
            </p:nvSpPr>
            <p:spPr>
              <a:xfrm>
                <a:off x="1357200" y="3002040"/>
                <a:ext cx="1643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3214800" y="2997360"/>
                <a:ext cx="16794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590840" y="3959280"/>
                <a:ext cx="1222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6"/>
              <p:cNvSpPr txBox="1"/>
              <p:nvPr/>
            </p:nvSpPr>
            <p:spPr>
              <a:xfrm>
                <a:off x="3214800" y="3956040"/>
                <a:ext cx="1245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2" name="Picture 16" descr="graph3"/>
          <p:cNvPicPr/>
          <p:nvPr/>
        </p:nvPicPr>
        <p:blipFill>
          <a:blip r:embed="rId1"/>
          <a:stretch/>
        </p:blipFill>
        <p:spPr>
          <a:xfrm>
            <a:off x="5654520" y="3319560"/>
            <a:ext cx="2808360" cy="22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3" name="Object 7"/>
          <p:cNvGraphicFramePr/>
          <p:nvPr/>
        </p:nvGraphicFramePr>
        <p:xfrm>
          <a:off x="7058160" y="5408640"/>
          <a:ext cx="234720" cy="3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8160" y="5408640"/>
                    <a:ext cx="2347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8"/>
          <p:cNvGraphicFramePr/>
          <p:nvPr/>
        </p:nvGraphicFramePr>
        <p:xfrm>
          <a:off x="5654520" y="4255920"/>
          <a:ext cx="25272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4255920"/>
                    <a:ext cx="252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A29-29EB-437E-B5AD-EA2259E014B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6288120" y="5373720"/>
                <a:ext cx="25812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1" name="Rectangle 5"/>
          <p:cNvSpPr/>
          <p:nvPr/>
        </p:nvSpPr>
        <p:spPr>
          <a:xfrm>
            <a:off x="507960" y="1484280"/>
            <a:ext cx="86565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coefficienti         ,  per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=1,...,D, sono le componenti del punto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base tro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Quindi un punto può essere scrit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3"/>
              <p:cNvSpPr txBox="1"/>
              <p:nvPr/>
            </p:nvSpPr>
            <p:spPr>
              <a:xfrm>
                <a:off x="2625840" y="1484280"/>
                <a:ext cx="519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066680" y="1928880"/>
                <a:ext cx="519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14" name="Group 15"/>
          <p:cNvGrpSpPr/>
          <p:nvPr/>
        </p:nvGrpSpPr>
        <p:grpSpPr>
          <a:xfrm>
            <a:off x="2690640" y="2421000"/>
            <a:ext cx="3822480" cy="3023640"/>
            <a:chOff x="2690640" y="2421000"/>
            <a:chExt cx="3822480" cy="3023640"/>
          </a:xfrm>
        </p:grpSpPr>
        <p:pic>
          <p:nvPicPr>
            <p:cNvPr id="715" name="Picture 16" descr="graph3"/>
            <p:cNvPicPr/>
            <p:nvPr/>
          </p:nvPicPr>
          <p:blipFill>
            <a:blip r:embed="rId1"/>
            <a:stretch/>
          </p:blipFill>
          <p:spPr>
            <a:xfrm>
              <a:off x="2690640" y="2421000"/>
              <a:ext cx="382248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Line 17"/>
            <p:cNvSpPr/>
            <p:nvPr/>
          </p:nvSpPr>
          <p:spPr>
            <a:xfrm flipH="1" flipV="1">
              <a:off x="5152680" y="3226320"/>
              <a:ext cx="11844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8"/>
            <p:cNvSpPr/>
            <p:nvPr/>
          </p:nvSpPr>
          <p:spPr>
            <a:xfrm flipH="1">
              <a:off x="4539600" y="3224880"/>
              <a:ext cx="605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150880" y="323064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20"/>
            <p:cNvSpPr/>
            <p:nvPr/>
          </p:nvSpPr>
          <p:spPr>
            <a:xfrm>
              <a:off x="4675320" y="3228840"/>
              <a:ext cx="46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Line 24"/>
          <p:cNvSpPr/>
          <p:nvPr/>
        </p:nvSpPr>
        <p:spPr>
          <a:xfrm>
            <a:off x="4094280" y="2997360"/>
            <a:ext cx="701640" cy="43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5"/>
          <p:cNvSpPr/>
          <p:nvPr/>
        </p:nvSpPr>
        <p:spPr>
          <a:xfrm flipH="1">
            <a:off x="5264280" y="2997360"/>
            <a:ext cx="390240" cy="2872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4979880" y="2844720"/>
                <a:ext cx="520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6"/>
              <p:cNvSpPr txBox="1"/>
              <p:nvPr/>
            </p:nvSpPr>
            <p:spPr>
              <a:xfrm>
                <a:off x="4719600" y="3860640"/>
                <a:ext cx="3207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Oval 28"/>
          <p:cNvSpPr/>
          <p:nvPr/>
        </p:nvSpPr>
        <p:spPr>
          <a:xfrm>
            <a:off x="4633920" y="3846600"/>
            <a:ext cx="763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7"/>
              <p:cNvSpPr txBox="1"/>
              <p:nvPr/>
            </p:nvSpPr>
            <p:spPr>
              <a:xfrm>
                <a:off x="3705120" y="263700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5576760" y="256536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C1EE-DAC3-4BEF-B45C-A2DC0BE3F21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507960" y="1484280"/>
            <a:ext cx="8345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o un gruppo di punti, ho trovato la base che descrive lo scattering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gni punto puo’ essere mappato tramite i componenti della base (numero componenti = numero dimensioni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Usare meno componenti (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le componenti principal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) permette di proiettare i punti in un sottospazio altamente informativ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riduzione della dimensionalità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ra passiamo alle facce (...punti!)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aset di M facce, N dimen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28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4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6" name="Text Box 4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8158320" y="515772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.B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 soli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  <a:ea typeface="Arial"/>
              </a:rPr>
              <a:t>M&lt;&lt;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4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3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</dc:description>
  <dc:language>en-US</dc:language>
  <cp:lastModifiedBy>Marco Cristani</cp:lastModifiedBy>
  <cp:lastPrinted>2001-05-02T10:47:20Z</cp:lastPrinted>
  <dcterms:modified xsi:type="dcterms:W3CDTF">2016-04-04T10:45:02Z</dcterms:modified>
  <cp:revision>435</cp:revision>
  <dc:subject/>
  <dc:title>Classificazione</dc:title>
</cp:coreProperties>
</file>