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D45-8566-453E-AED6-33DA5DDB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CD5-37F6-4920-BB6B-418B3944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3820-668D-48F6-A870-2E544EC8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241-2577-4381-8D52-77A6F963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2AB-D9A2-49D0-A985-D7662F92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F47-BE23-4307-8431-B75BC1CC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EE3-13A2-4DB1-B50A-DB5B6634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E95-2F56-4854-AF6F-E7CA378F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7E1-7C6E-4D2A-978B-EC928D7C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75D-20E1-47D6-A113-5D68E7C2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F9C-E974-47F1-BEC0-64A15CEF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C68-A139-4399-93D9-6812007C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3B01-0911-43E5-9FDF-F33303D7D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5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743200"/>
            <a:ext cx="8077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there exist a safety-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2743200"/>
            <a:ext cx="73915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re exists an input i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for all states s’ and outputs o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if  (s’,o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possibleUpdates (s,i)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then  s’ is 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55627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10080" y="4800240"/>
            <a:ext cx="152640" cy="7621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1066680"/>
            <a:ext cx="838440" cy="10670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3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114440" y="106668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4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057040" y="99072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19810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3657600"/>
            <a:ext cx="373392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5715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helpful inputs (ensure progress towards targe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safe inputs (keep plant out of uncontrollable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0880" y="2133720"/>
            <a:ext cx="8534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afety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safety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une from the state machine whose states are the consistent subsets of Safety-controllable and whose outputs a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 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without successo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0880" y="1752480"/>
            <a:ext cx="87631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gress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the state machine whose states are the consistent subsets of Safety-controllable without target states (including the empty set Ø), and whose out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and there is an acyclic, output-closed subgraph from possibleInitialStates to Ø, then prune away all states not in the subgraph; this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90720" y="2514600"/>
            <a:ext cx="7391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usual, if the plan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we need consider only consistent sets of size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other words, the controller always knows the state of the pla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20968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722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yclic, output-closed sub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4852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u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3244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6386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4920" y="4114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86400" y="60706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5438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4290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0384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58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50036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91320" y="52578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60199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267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371600" y="48513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81080" y="50547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2096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0" y="55119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324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638680" y="5410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9625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724280" y="533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153280" y="4800600"/>
            <a:ext cx="355680" cy="558720"/>
          </a:xfrm>
          <a:custGeom>
            <a:avLst/>
            <a:gdLst/>
            <a:ahLst/>
            <a:rect l="l" t="t" r="r" b="b"/>
            <a:pathLst>
              <a:path w="224" h="352">
                <a:moveTo>
                  <a:pt x="0" y="224"/>
                </a:moveTo>
                <a:cubicBezTo>
                  <a:pt x="80" y="288"/>
                  <a:pt x="160" y="352"/>
                  <a:pt x="192" y="320"/>
                </a:cubicBezTo>
                <a:cubicBezTo>
                  <a:pt x="224" y="288"/>
                  <a:pt x="224" y="64"/>
                  <a:pt x="192" y="32"/>
                </a:cubicBezTo>
                <a:cubicBezTo>
                  <a:pt x="160" y="0"/>
                  <a:pt x="80" y="64"/>
                  <a:pt x="0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001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5880" y="4876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828800" y="685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am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81080" y="42670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905120" y="2590920"/>
            <a:ext cx="121896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2133720" y="2742840"/>
            <a:ext cx="312408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3962160" y="2742840"/>
            <a:ext cx="297180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6171840" y="24382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2057040" y="4114440"/>
            <a:ext cx="1219320" cy="1066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5791320" y="4190760"/>
            <a:ext cx="1218960" cy="990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2280" y="152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33720" y="39625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124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lan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31240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8769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6019920" y="1143000"/>
            <a:ext cx="3045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8195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4267080" y="1066680"/>
            <a:ext cx="14479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38080" y="3200400"/>
            <a:ext cx="152424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2285640" y="1066680"/>
            <a:ext cx="3429000" cy="2438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320040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1143000"/>
            <a:ext cx="53316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4800600"/>
            <a:ext cx="396252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5715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in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5715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subsets are consis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84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3716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195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315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8672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172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1371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am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vs.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43828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round consists of two moves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Controller chooses plant input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Plant chooses 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 plant 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ontroller has a strategy to meet the objective (avoid error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plant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has a strategy to violate the objective (reach an error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 flipV="1">
            <a:off x="4800600" y="3886200"/>
            <a:ext cx="990720" cy="1447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175248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 objective = SAFET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away from the states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58128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lant objective = PROGRES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to a state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ual control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 attempts to lead the plant into a specified set of states (the “targe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Control  vs.  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74320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les of Plant and Controller are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 progress-controllable states are not the safety-uncontrollable, because the game is not symmetric (the controller always moves fir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, the solutions are very simi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12952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 =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33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105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57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838080"/>
            <a:ext cx="9903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6019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419720" y="4343040"/>
            <a:ext cx="12189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838080"/>
            <a:ext cx="10666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676160" y="3505320"/>
            <a:ext cx="685800" cy="259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3:17Z</dcterms:modified>
  <cp:revision>19</cp:revision>
  <dc:subject/>
  <dc:title>  </dc:title>
</cp:coreProperties>
</file>