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4.png" ContentType="image/png"/>
  <Override PartName="/ppt/media/image11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28.png" ContentType="image/png"/>
  <Override PartName="/ppt/media/image46.png" ContentType="image/pn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7.png" ContentType="image/png"/>
  <Override PartName="/ppt/media/image33.wmf" ContentType="image/x-wmf"/>
  <Override PartName="/ppt/media/image76.png" ContentType="image/png"/>
  <Override PartName="/ppt/media/image32.wmf" ContentType="image/x-wmf"/>
  <Override PartName="/ppt/media/image75.png" ContentType="image/png"/>
  <Override PartName="/ppt/media/image16.png" ContentType="image/png"/>
  <Override PartName="/ppt/media/image56.wmf" ContentType="image/x-wmf"/>
  <Override PartName="/ppt/media/image2.jpeg" ContentType="image/jpeg"/>
  <Override PartName="/ppt/media/image60.wmf" ContentType="image/x-wmf"/>
  <Override PartName="/ppt/media/image20.wmf" ContentType="image/x-wmf"/>
  <Override PartName="/ppt/media/image57.wmf" ContentType="image/x-wmf"/>
  <Override PartName="/ppt/media/image17.png" ContentType="image/png"/>
  <Override PartName="/ppt/media/image58.wmf" ContentType="image/x-wmf"/>
  <Override PartName="/ppt/media/image21.wmf" ContentType="image/x-wmf"/>
  <Override PartName="/ppt/media/image64.png" ContentType="image/png"/>
  <Override PartName="/ppt/media/image25.wmf" ContentType="image/x-wmf"/>
  <Override PartName="/ppt/media/image22.wmf" ContentType="image/x-wmf"/>
  <Override PartName="/ppt/media/image59.wmf" ContentType="image/x-wmf"/>
  <Override PartName="/ppt/media/image72.wmf" ContentType="image/x-wmf"/>
  <Override PartName="/ppt/media/image31.wmf" ContentType="image/x-wmf"/>
  <Override PartName="/ppt/media/image68.wmf" ContentType="image/x-wmf"/>
  <Override PartName="/ppt/media/image23.png" ContentType="image/png"/>
  <Override PartName="/ppt/media/image63.wmf" ContentType="image/x-wmf"/>
  <Override PartName="/ppt/media/image78.wmf" ContentType="image/x-wmf"/>
  <Override PartName="/ppt/media/image77.wmf" ContentType="image/x-wmf"/>
  <Override PartName="/ppt/media/image66.png" ContentType="image/png"/>
  <Override PartName="/ppt/media/image27.wmf" ContentType="image/x-wmf"/>
  <Override PartName="/ppt/media/image65.wmf" ContentType="image/x-wmf"/>
  <Override PartName="/ppt/media/image74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67.wmf" ContentType="image/x-wmf"/>
  <Override PartName="/ppt/media/image69.png" ContentType="image/png"/>
  <Override PartName="/ppt/media/image26.wmf" ContentType="image/x-wmf"/>
  <Override PartName="/ppt/media/image62.png" ContentType="image/png"/>
  <Override PartName="/ppt/media/image61.wmf" ContentType="image/x-wmf"/>
  <Override PartName="/ppt/media/image55.wmf" ContentType="image/x-wmf"/>
  <Override PartName="/ppt/media/image24.png" ContentType="image/png"/>
  <Override PartName="/ppt/media/image4.wmf" ContentType="image/x-wmf"/>
  <Override PartName="/ppt/media/image34.wmf" ContentType="image/x-wmf"/>
  <Override PartName="/ppt/media/image30.wmf" ContentType="image/x-wmf"/>
  <Override PartName="/ppt/media/image73.png" ContentType="image/png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5.png" ContentType="image/png"/>
  <Override PartName="/ppt/media/image3.png" ContentType="image/png"/>
  <Override PartName="/ppt/media/image48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49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AD6F-EBE9-470A-BEE1-A691A92CBE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347F-411D-49D8-9698-3DD399CA856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1F8-B66B-475F-B8EB-7BD733D5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B01-654B-434A-8684-10B4F437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58C-4CFC-4676-A182-AC007D8B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452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452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F2D-B891-4E29-9E34-4EAE8867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748-C7DB-46EB-B4D1-D0FC18E1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8B6-34B8-4A9A-9100-4FA40411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0DF-3811-4129-9F6B-4E1B1556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D2F-CB4F-4966-AB22-96DA04D9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659A-EB05-45CC-AE73-959CB714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537-EA09-45A4-96B1-80025598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668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054-D328-4947-869E-F6E2E7AC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68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964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8BB-1BE3-4CEB-8AC4-5C74A046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0036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E50C-ABE9-4FC8-B58F-44F653F762C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8"/>
          <p:cNvSpPr/>
          <p:nvPr/>
        </p:nvSpPr>
        <p:spPr>
          <a:xfrm>
            <a:off x="539640" y="6381720"/>
            <a:ext cx="6913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1258920" y="6237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0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40.wmf"/><Relationship Id="rId3" Type="http://schemas.openxmlformats.org/officeDocument/2006/relationships/image" Target="../media/image51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4.png"/><Relationship Id="rId4" Type="http://schemas.openxmlformats.org/officeDocument/2006/relationships/image" Target="../media/image65.wmf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66.png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image" Target="../media/image69.png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1.wmf"/><Relationship Id="rId3" Type="http://schemas.openxmlformats.org/officeDocument/2006/relationships/image" Target="../media/image70.wmf"/><Relationship Id="rId4" Type="http://schemas.openxmlformats.org/officeDocument/2006/relationships/image" Target="../media/image73.png"/><Relationship Id="rId5" Type="http://schemas.openxmlformats.org/officeDocument/2006/relationships/image" Target="../media/image74.wmf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442B-E2A5-42BF-82B3-EDA96F7A4CA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istemi avanzati per il riconoscimento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258920" y="263880"/>
            <a:ext cx="6337440" cy="52020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Università di Ver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Dipartimento di Informa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90400" y="450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Descrittori di 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356000" y="2205000"/>
            <a:ext cx="15112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5"/>
          <p:cNvSpPr/>
          <p:nvPr/>
        </p:nvSpPr>
        <p:spPr>
          <a:xfrm>
            <a:off x="3052080" y="4581360"/>
            <a:ext cx="310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http://www.adherents.com/lit/comics/img/p/PlasticMan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7" descr="PlasticMan"/>
          <p:cNvPicPr/>
          <p:nvPr/>
        </p:nvPicPr>
        <p:blipFill>
          <a:blip r:embed="rId1"/>
          <a:stretch/>
        </p:blipFill>
        <p:spPr>
          <a:xfrm>
            <a:off x="3564000" y="2133720"/>
            <a:ext cx="1625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D4E5-BC2A-4934-A884-315AC2B0118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572000" y="1413000"/>
            <a:ext cx="4248000" cy="2165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4676760" y="3517920"/>
            <a:ext cx="3983040" cy="2257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reazione di una B-spli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3"/>
          <a:stretch/>
        </p:blipFill>
        <p:spPr>
          <a:xfrm>
            <a:off x="684360" y="3213000"/>
            <a:ext cx="2447640" cy="135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"/>
          <p:cNvSpPr/>
          <p:nvPr/>
        </p:nvSpPr>
        <p:spPr>
          <a:xfrm>
            <a:off x="395280" y="4941720"/>
            <a:ext cx="5184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Q</a:t>
            </a:r>
            <a:r>
              <a:rPr b="0" lang="it-IT" sz="16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dividua la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 forma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a cu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la spline approssima i punti dati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&lt;ampiezzaspan/2,peso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5940360" y="4941720"/>
            <a:ext cx="0" cy="648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5076720" y="4913280"/>
            <a:ext cx="852480" cy="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5691600" y="5516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3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579560" y="4724280"/>
            <a:ext cx="34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1AF3-7C93-4D93-AB3D-734B40A9E8F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6" descr=""/>
          <p:cNvPicPr/>
          <p:nvPr/>
        </p:nvPicPr>
        <p:blipFill>
          <a:blip r:embed="rId1"/>
          <a:stretch/>
        </p:blipFill>
        <p:spPr>
          <a:xfrm>
            <a:off x="3276720" y="2174760"/>
            <a:ext cx="1081080" cy="7113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Forma spazio-temporale di una     B-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eneralizzando, nel caso di una curva in 2D, tempo-variante, avro’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2"/>
          <a:stretch/>
        </p:blipFill>
        <p:spPr>
          <a:xfrm>
            <a:off x="2050920" y="4149720"/>
            <a:ext cx="2221200" cy="1166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80611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7D22-0CB7-4970-AC74-3103FB9CCEA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Evoluzione di una B-spli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e posso modifica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 Due scel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2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6262560" cy="38671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 rot="20291400">
            <a:off x="1909800" y="4078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0000"/>
                </a:solidFill>
                <a:latin typeface="Arial"/>
              </a:rPr>
              <a:t>INCONDIZION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 rot="226200">
            <a:off x="2916360" y="530712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cc33"/>
                </a:solidFill>
                <a:latin typeface="Arial"/>
              </a:rPr>
              <a:t>CON VINC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" descr=""/>
          <p:cNvPicPr/>
          <p:nvPr/>
        </p:nvPicPr>
        <p:blipFill>
          <a:blip r:embed="rId2"/>
          <a:stretch/>
        </p:blipFill>
        <p:spPr>
          <a:xfrm>
            <a:off x="4664160" y="1989000"/>
            <a:ext cx="576000" cy="457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6"/>
          <p:cNvSpPr/>
          <p:nvPr/>
        </p:nvSpPr>
        <p:spPr>
          <a:xfrm>
            <a:off x="3925080" y="20700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az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"/>
          <p:cNvPicPr/>
          <p:nvPr/>
        </p:nvPicPr>
        <p:blipFill>
          <a:blip r:embed="rId3"/>
          <a:stretch/>
        </p:blipFill>
        <p:spPr>
          <a:xfrm>
            <a:off x="5364000" y="2387520"/>
            <a:ext cx="1368720" cy="478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8"/>
          <p:cNvSpPr/>
          <p:nvPr/>
        </p:nvSpPr>
        <p:spPr>
          <a:xfrm>
            <a:off x="3924360" y="24591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dimen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3924360" y="2027160"/>
            <a:ext cx="2808360" cy="7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5868000" y="419256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pazi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5867280" y="45813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dimen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8" descr=""/>
          <p:cNvPicPr/>
          <p:nvPr/>
        </p:nvPicPr>
        <p:blipFill>
          <a:blip r:embed="rId4"/>
          <a:stretch/>
        </p:blipFill>
        <p:spPr>
          <a:xfrm>
            <a:off x="6588000" y="4222800"/>
            <a:ext cx="576360" cy="34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"/>
          <p:cNvPicPr/>
          <p:nvPr/>
        </p:nvPicPr>
        <p:blipFill>
          <a:blip r:embed="rId5"/>
          <a:stretch/>
        </p:blipFill>
        <p:spPr>
          <a:xfrm>
            <a:off x="7264440" y="4576680"/>
            <a:ext cx="565200" cy="411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0" descr=""/>
          <p:cNvPicPr/>
          <p:nvPr/>
        </p:nvPicPr>
        <p:blipFill>
          <a:blip r:embed="rId6"/>
          <a:stretch/>
        </p:blipFill>
        <p:spPr>
          <a:xfrm>
            <a:off x="8105760" y="4583160"/>
            <a:ext cx="417600" cy="350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1"/>
          <p:cNvSpPr/>
          <p:nvPr/>
        </p:nvSpPr>
        <p:spPr>
          <a:xfrm>
            <a:off x="7793640" y="4579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7"/>
          <p:cNvSpPr/>
          <p:nvPr/>
        </p:nvSpPr>
        <p:spPr>
          <a:xfrm>
            <a:off x="5867280" y="4149720"/>
            <a:ext cx="280836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5006880" y="285264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in questo caso, 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579240" y="587700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3 pu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0FE8-FA77-4E69-AB98-C8E2EE7D76C5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Evoluzione vincolata di una B-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e posso modifica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 Due scel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6262560" cy="3867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 rot="20291400">
            <a:off x="1909800" y="40784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0000"/>
                </a:solidFill>
                <a:latin typeface="Arial"/>
              </a:rPr>
              <a:t>INCONDIZIONAT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 rot="226200">
            <a:off x="2916360" y="530712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3cc33"/>
                </a:solidFill>
                <a:latin typeface="Arial"/>
              </a:rPr>
              <a:t>CON VINC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79240" y="587700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13 pu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321120" y="4013280"/>
            <a:ext cx="935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5310000" y="2852640"/>
            <a:ext cx="3299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5"/>
          <p:cNvSpPr/>
          <p:nvPr/>
        </p:nvSpPr>
        <p:spPr>
          <a:xfrm>
            <a:off x="6516720" y="3933720"/>
            <a:ext cx="2771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 = matrice di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raduzion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 ”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hape matrix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”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x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= vettor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i forma,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"/>
          <p:cNvPicPr/>
          <p:nvPr/>
        </p:nvPicPr>
        <p:blipFill>
          <a:blip r:embed="rId2"/>
          <a:stretch/>
        </p:blipFill>
        <p:spPr>
          <a:xfrm>
            <a:off x="6948360" y="5157720"/>
            <a:ext cx="8002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CA32-F9F9-4851-8B8E-AA6C0B19917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8" descr=""/>
          <p:cNvPicPr/>
          <p:nvPr/>
        </p:nvPicPr>
        <p:blipFill>
          <a:blip r:embed="rId1"/>
          <a:stretch/>
        </p:blipFill>
        <p:spPr>
          <a:xfrm>
            <a:off x="2627280" y="5229360"/>
            <a:ext cx="3959280" cy="1062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7991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oglio avere trasformazioni affi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lasse di trasformazioni 2D lineari geometriche che mappano variabili (valori di intensità di pixel localizzati in un’immagine) in nuove variabili (in un’immagine di output), applicando un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combinazione linear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d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traslazion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rotazion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calatura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hearing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, ossia scalatura non uniforme in determinate direzio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’ possibile definire una trasformazione affine di un punto generico appartenente alla curva bspline 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058360" y="5992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 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4213800" y="6021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 x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E715-7083-44EF-90C1-08B4ED86EA6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affi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7991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sl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ot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cala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2490840" y="2349360"/>
                <a:ext cx="345420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u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3959280" cy="106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562120" y="3429000"/>
                <a:ext cx="474660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2562120" y="4508640"/>
                <a:ext cx="37195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1" name="Rectangle 12"/>
          <p:cNvSpPr/>
          <p:nvPr/>
        </p:nvSpPr>
        <p:spPr>
          <a:xfrm>
            <a:off x="5972040" y="3213000"/>
            <a:ext cx="317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800000"/>
                </a:solidFill>
                <a:latin typeface="Arial"/>
              </a:rPr>
              <a:t>ϴ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golo positivo che indica rotazioni clockw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9003-4BD6-42A5-AA15-C55DD94DB93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3958920" cy="1062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Esempi di trasformazion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330440" cy="483084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4"/>
          <p:cNvGrpSpPr/>
          <p:nvPr/>
        </p:nvGrpSpPr>
        <p:grpSpPr>
          <a:xfrm>
            <a:off x="250920" y="3860640"/>
            <a:ext cx="3539880" cy="2271600"/>
            <a:chOff x="250920" y="3860640"/>
            <a:chExt cx="3539880" cy="2271600"/>
          </a:xfrm>
        </p:grpSpPr>
        <p:pic>
          <p:nvPicPr>
            <p:cNvPr id="167" name="Picture 11" descr=""/>
            <p:cNvPicPr/>
            <p:nvPr/>
          </p:nvPicPr>
          <p:blipFill>
            <a:blip r:embed="rId3"/>
            <a:stretch/>
          </p:blipFill>
          <p:spPr>
            <a:xfrm>
              <a:off x="250920" y="3860640"/>
              <a:ext cx="353988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12"/>
            <p:cNvSpPr/>
            <p:nvPr/>
          </p:nvSpPr>
          <p:spPr>
            <a:xfrm>
              <a:off x="1476360" y="4581360"/>
              <a:ext cx="86364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3" descr=""/>
            <p:cNvPicPr/>
            <p:nvPr/>
          </p:nvPicPr>
          <p:blipFill>
            <a:blip r:embed="rId4"/>
            <a:stretch/>
          </p:blipFill>
          <p:spPr>
            <a:xfrm>
              <a:off x="1908000" y="4797360"/>
              <a:ext cx="749520" cy="63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15" descr=""/>
          <p:cNvPicPr/>
          <p:nvPr/>
        </p:nvPicPr>
        <p:blipFill>
          <a:blip r:embed="rId5"/>
          <a:stretch/>
        </p:blipFill>
        <p:spPr>
          <a:xfrm>
            <a:off x="900000" y="1989000"/>
            <a:ext cx="288000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89AF-A127-48DD-AECD-28B4852699E4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dentificatore di una curv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sto significa che ho 6 parametri da settare = 6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radi di liber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esti gradi di libertà possono essere linerizzati su un unico vetto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187280" y="3429000"/>
            <a:ext cx="6913800" cy="6001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3076560" y="4365720"/>
            <a:ext cx="3299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"/>
          <p:cNvPicPr/>
          <p:nvPr/>
        </p:nvPicPr>
        <p:blipFill>
          <a:blip r:embed="rId2"/>
          <a:stretch/>
        </p:blipFill>
        <p:spPr>
          <a:xfrm>
            <a:off x="3051000" y="2708280"/>
            <a:ext cx="800280" cy="520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9"/>
          <p:cNvSpPr/>
          <p:nvPr/>
        </p:nvSpPr>
        <p:spPr>
          <a:xfrm>
            <a:off x="3721320" y="2736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=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"/>
          <p:cNvSpPr/>
          <p:nvPr/>
        </p:nvSpPr>
        <p:spPr>
          <a:xfrm>
            <a:off x="1379520" y="4005360"/>
            <a:ext cx="3479760" cy="718920"/>
          </a:xfrm>
          <a:custGeom>
            <a:avLst/>
            <a:gdLst>
              <a:gd name="textAreaLeft" fmla="*/ 0 w 3479760"/>
              <a:gd name="textAreaRight" fmla="*/ 3480120 w 34797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92" h="453">
                <a:moveTo>
                  <a:pt x="15" y="0"/>
                </a:moveTo>
                <a:cubicBezTo>
                  <a:pt x="7" y="45"/>
                  <a:pt x="0" y="91"/>
                  <a:pt x="15" y="136"/>
                </a:cubicBezTo>
                <a:cubicBezTo>
                  <a:pt x="30" y="181"/>
                  <a:pt x="53" y="227"/>
                  <a:pt x="106" y="272"/>
                </a:cubicBezTo>
                <a:cubicBezTo>
                  <a:pt x="159" y="317"/>
                  <a:pt x="242" y="385"/>
                  <a:pt x="333" y="408"/>
                </a:cubicBezTo>
                <a:cubicBezTo>
                  <a:pt x="424" y="431"/>
                  <a:pt x="499" y="453"/>
                  <a:pt x="650" y="408"/>
                </a:cubicBezTo>
                <a:cubicBezTo>
                  <a:pt x="801" y="363"/>
                  <a:pt x="1036" y="197"/>
                  <a:pt x="1240" y="136"/>
                </a:cubicBezTo>
                <a:cubicBezTo>
                  <a:pt x="1444" y="75"/>
                  <a:pt x="1716" y="15"/>
                  <a:pt x="1875" y="45"/>
                </a:cubicBezTo>
                <a:cubicBezTo>
                  <a:pt x="2034" y="75"/>
                  <a:pt x="2132" y="257"/>
                  <a:pt x="2192" y="317"/>
                </a:cubicBezTo>
              </a:path>
            </a:pathLst>
          </a:custGeom>
          <a:noFill/>
          <a:ln w="44280">
            <a:solidFill>
              <a:srgbClr val="8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354E-4FCB-47E5-BEFD-44043EEF3241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Matrice di traduzione-</a:t>
            </a:r>
            <a:r>
              <a:rPr b="0" i="1" lang="it-IT" sz="4000" spc="-1" strike="noStrike">
                <a:solidFill>
                  <a:srgbClr val="800000"/>
                </a:solidFill>
                <a:latin typeface="Tahoma"/>
              </a:rPr>
              <a:t>shape matrix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matrice di traduzione 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644560" y="5229360"/>
            <a:ext cx="3299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5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769080" cy="1113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230508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1071720" y="4653000"/>
            <a:ext cx="2205000" cy="409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3855960" y="4221000"/>
            <a:ext cx="4708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ono vettori con N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on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= numero di funzioni base localizz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umero di pesi = numero punti di controll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3635280" y="4149720"/>
            <a:ext cx="144720" cy="1079640"/>
          </a:xfrm>
          <a:custGeom>
            <a:avLst/>
            <a:gdLst>
              <a:gd name="textAreaLeft" fmla="*/ 92520 w 144720"/>
              <a:gd name="textAreaRight" fmla="*/ 145080 w 1447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2556000" y="3392640"/>
            <a:ext cx="13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800000"/>
                </a:solidFill>
                <a:latin typeface="Arial"/>
              </a:rPr>
              <a:t>x    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trasl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725360" y="38242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rotazioni/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 rot="16200000">
            <a:off x="5615640" y="1987920"/>
            <a:ext cx="289080" cy="3529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999240" y="306864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(riguard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V="1">
            <a:off x="2843280" y="3212640"/>
            <a:ext cx="0" cy="289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 flipV="1">
            <a:off x="3492360" y="3212640"/>
            <a:ext cx="0" cy="2890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0"/>
          <p:cNvSpPr/>
          <p:nvPr/>
        </p:nvSpPr>
        <p:spPr>
          <a:xfrm>
            <a:off x="237960" y="2852640"/>
            <a:ext cx="3542040" cy="3048120"/>
          </a:xfrm>
          <a:custGeom>
            <a:avLst/>
            <a:gdLst>
              <a:gd name="textAreaLeft" fmla="*/ 0 w 3542040"/>
              <a:gd name="textAreaRight" fmla="*/ 3542400 w 3542040"/>
              <a:gd name="textAreaTop" fmla="*/ 0 h 3048120"/>
              <a:gd name="textAreaBottom" fmla="*/ 3048480 h 3048120"/>
            </a:gdLst>
            <a:ahLst/>
            <a:rect l="textAreaLeft" t="textAreaTop" r="textAreaRight" b="textAreaBottom"/>
            <a:pathLst>
              <a:path w="2231" h="1920">
                <a:moveTo>
                  <a:pt x="689" y="0"/>
                </a:moveTo>
                <a:cubicBezTo>
                  <a:pt x="352" y="147"/>
                  <a:pt x="16" y="295"/>
                  <a:pt x="8" y="590"/>
                </a:cubicBezTo>
                <a:cubicBezTo>
                  <a:pt x="0" y="885"/>
                  <a:pt x="363" y="1618"/>
                  <a:pt x="643" y="1769"/>
                </a:cubicBezTo>
                <a:cubicBezTo>
                  <a:pt x="923" y="1920"/>
                  <a:pt x="1422" y="1527"/>
                  <a:pt x="1687" y="1497"/>
                </a:cubicBezTo>
                <a:cubicBezTo>
                  <a:pt x="1952" y="1467"/>
                  <a:pt x="2091" y="1527"/>
                  <a:pt x="2231" y="1588"/>
                </a:cubicBezTo>
              </a:path>
            </a:pathLst>
          </a:custGeom>
          <a:noFill/>
          <a:ln w="34920">
            <a:solidFill>
              <a:srgbClr val="8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2224-1241-4DEA-945C-A6816A8F49F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Esempi di identificator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176720" cy="8161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1661760"/>
            <a:ext cx="403236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prat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4608720" cy="399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3"/>
          <a:stretch/>
        </p:blipFill>
        <p:spPr>
          <a:xfrm>
            <a:off x="1187280" y="3500280"/>
            <a:ext cx="7345440" cy="25844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8"/>
          <p:cNvSpPr/>
          <p:nvPr/>
        </p:nvSpPr>
        <p:spPr>
          <a:xfrm>
            <a:off x="1116000" y="3429000"/>
            <a:ext cx="36036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90A-5F0B-4AB2-B931-B7A185A2639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ntrodu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escrittore di form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ieme di numeri prodotti per descrivere una 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’importante è che i descrittori di forma sian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iscriminativi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nei confronti della forma che individu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vvertenze: come contare i pixel dei contorni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 per i pixel 4-connes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qrt(2) per i pixel 8-connessi (i pixel diagonal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4AA9-1752-4564-A4A0-E17827992FE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sformazioni euclide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4319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mplificando la modellazione, e restringendosi a trasformazioni euclidee ho una diversa matrice di tradu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4427640" y="1844640"/>
            <a:ext cx="4319640" cy="4410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9"/>
          <p:cNvSpPr/>
          <p:nvPr/>
        </p:nvSpPr>
        <p:spPr>
          <a:xfrm>
            <a:off x="6227640" y="3141720"/>
            <a:ext cx="792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1687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52C7-116F-4455-A836-964F0A933C59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Ancora identificatori…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675480" cy="2502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1187280" y="1413000"/>
            <a:ext cx="360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241200" cy="34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3"/>
          <a:stretch/>
        </p:blipFill>
        <p:spPr>
          <a:xfrm>
            <a:off x="1353960" y="2006640"/>
            <a:ext cx="241560" cy="34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"/>
          <p:cNvPicPr/>
          <p:nvPr/>
        </p:nvPicPr>
        <p:blipFill>
          <a:blip r:embed="rId4"/>
          <a:stretch/>
        </p:blipFill>
        <p:spPr>
          <a:xfrm>
            <a:off x="1332000" y="3306600"/>
            <a:ext cx="241200" cy="34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"/>
          <p:cNvPicPr/>
          <p:nvPr/>
        </p:nvPicPr>
        <p:blipFill>
          <a:blip r:embed="rId5"/>
          <a:stretch/>
        </p:blipFill>
        <p:spPr>
          <a:xfrm>
            <a:off x="1332000" y="4292640"/>
            <a:ext cx="6408720" cy="1833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"/>
          <p:cNvPicPr/>
          <p:nvPr/>
        </p:nvPicPr>
        <p:blipFill>
          <a:blip r:embed="rId6"/>
          <a:stretch/>
        </p:blipFill>
        <p:spPr>
          <a:xfrm>
            <a:off x="1332000" y="4508640"/>
            <a:ext cx="2412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BE67-A7B3-4D48-825B-33A43D32D79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Esercizi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30120" y="1628640"/>
            <a:ext cx="86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sercizio: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a cosa corrisponde questa trasformazione, in termini di fattore di scala e rotazio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4098960" cy="54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"/>
          <p:cNvPicPr/>
          <p:nvPr/>
        </p:nvPicPr>
        <p:blipFill>
          <a:blip r:embed="rId2"/>
          <a:stretch/>
        </p:blipFill>
        <p:spPr>
          <a:xfrm>
            <a:off x="2411280" y="2222640"/>
            <a:ext cx="341280" cy="485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5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4098960" cy="660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"/>
          <p:cNvPicPr/>
          <p:nvPr/>
        </p:nvPicPr>
        <p:blipFill>
          <a:blip r:embed="rId4"/>
          <a:stretch/>
        </p:blipFill>
        <p:spPr>
          <a:xfrm>
            <a:off x="4740120" y="3500280"/>
            <a:ext cx="4403880" cy="457200"/>
          </a:xfrm>
          <a:prstGeom prst="rect">
            <a:avLst/>
          </a:prstGeom>
          <a:ln w="0">
            <a:noFill/>
          </a:ln>
        </p:spPr>
      </p:pic>
      <p:sp>
        <p:nvSpPr>
          <p:cNvPr id="224" name="Line 17"/>
          <p:cNvSpPr/>
          <p:nvPr/>
        </p:nvSpPr>
        <p:spPr>
          <a:xfrm flipH="1">
            <a:off x="2842920" y="2751120"/>
            <a:ext cx="2160360" cy="6778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 flipH="1">
            <a:off x="5435280" y="2781360"/>
            <a:ext cx="577800" cy="6476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2197080" y="292428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cala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5797440" y="306864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o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1" descr=""/>
          <p:cNvPicPr/>
          <p:nvPr/>
        </p:nvPicPr>
        <p:blipFill>
          <a:blip r:embed="rId5"/>
          <a:stretch/>
        </p:blipFill>
        <p:spPr>
          <a:xfrm>
            <a:off x="2916360" y="3933720"/>
            <a:ext cx="3097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6222-C97A-481B-A370-677765914EDE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sformazioni non rigid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 trasformazioni affini/euclidee sono convenienti per modellare l’aspetto del moto 3D di un oggetto rig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 le situazioni di deformazione (moto non rigido) questi strumenti non sono suffici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ue soluzion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tilizzo de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ey-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-447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mplice ma poco espress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Learning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ello spazio delle deform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-447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i utilizza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P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8267-0A0E-4313-96B7-380466F95B9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a curva viene vista com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binazione line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orme elementar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NB: non modello or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ahoma"/>
              </a:rPr>
              <a:t>alcun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rasformazi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6409080" cy="32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5417640" y="575640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7668720" y="573408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93C-1C67-43DE-9D34-F929E653FE9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 (2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a curva viene vista com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mbinazione linea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d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orme elementari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NB: non modello ora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lcun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rasformazio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rto dalla solita espressione vincolante la forma della cur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frutto i due k-frames                e costruisco la matrice di tradu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v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3501360" y="2781360"/>
            <a:ext cx="2031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"/>
          <p:cNvPicPr/>
          <p:nvPr/>
        </p:nvPicPr>
        <p:blipFill>
          <a:blip r:embed="rId1"/>
          <a:stretch/>
        </p:blipFill>
        <p:spPr>
          <a:xfrm>
            <a:off x="3708360" y="3362400"/>
            <a:ext cx="1079640" cy="498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2987640" y="3789360"/>
            <a:ext cx="2808360" cy="1468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3"/>
          <a:stretch/>
        </p:blipFill>
        <p:spPr>
          <a:xfrm>
            <a:off x="3419640" y="5589720"/>
            <a:ext cx="23731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0B10-3454-4524-AE46-53610927FC5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 (3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questo punto risulta intuitivo formare nuove configur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1044720" y="2205000"/>
            <a:ext cx="4968720" cy="441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2"/>
          <a:stretch/>
        </p:blipFill>
        <p:spPr>
          <a:xfrm>
            <a:off x="1333440" y="2131920"/>
            <a:ext cx="343080" cy="4874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0"/>
          <p:cNvSpPr/>
          <p:nvPr/>
        </p:nvSpPr>
        <p:spPr>
          <a:xfrm>
            <a:off x="900000" y="2060640"/>
            <a:ext cx="43344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"/>
          <p:cNvPicPr/>
          <p:nvPr/>
        </p:nvPicPr>
        <p:blipFill>
          <a:blip r:embed="rId3"/>
          <a:stretch/>
        </p:blipFill>
        <p:spPr>
          <a:xfrm>
            <a:off x="1365120" y="2620800"/>
            <a:ext cx="7489800" cy="782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"/>
          <p:cNvPicPr/>
          <p:nvPr/>
        </p:nvPicPr>
        <p:blipFill>
          <a:blip r:embed="rId4"/>
          <a:stretch/>
        </p:blipFill>
        <p:spPr>
          <a:xfrm>
            <a:off x="1332000" y="2565360"/>
            <a:ext cx="342720" cy="487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"/>
          <p:cNvPicPr/>
          <p:nvPr/>
        </p:nvPicPr>
        <p:blipFill>
          <a:blip r:embed="rId5"/>
          <a:stretch/>
        </p:blipFill>
        <p:spPr>
          <a:xfrm>
            <a:off x="1330200" y="2998800"/>
            <a:ext cx="343080" cy="487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6"/>
          <a:stretch/>
        </p:blipFill>
        <p:spPr>
          <a:xfrm>
            <a:off x="1547640" y="3508200"/>
            <a:ext cx="5112000" cy="258300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5"/>
          <p:cNvSpPr/>
          <p:nvPr/>
        </p:nvSpPr>
        <p:spPr>
          <a:xfrm>
            <a:off x="4633560" y="581040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6420960" y="5810400"/>
            <a:ext cx="2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8C7B-42C7-470E-9BEC-A686C17F0F3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539640" y="2187720"/>
            <a:ext cx="7755120" cy="13856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 (4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1662120"/>
            <a:ext cx="82803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 includere le trasformazioni (euclidee), la matrice utile risulta ess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ind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Picture 14" descr=""/>
          <p:cNvPicPr/>
          <p:nvPr/>
        </p:nvPicPr>
        <p:blipFill>
          <a:blip r:embed="rId2"/>
          <a:stretch/>
        </p:blipFill>
        <p:spPr>
          <a:xfrm>
            <a:off x="684360" y="4491000"/>
            <a:ext cx="8018280" cy="131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" descr=""/>
          <p:cNvPicPr/>
          <p:nvPr/>
        </p:nvPicPr>
        <p:blipFill>
          <a:blip r:embed="rId3"/>
          <a:stretch/>
        </p:blipFill>
        <p:spPr>
          <a:xfrm>
            <a:off x="706320" y="4365720"/>
            <a:ext cx="343080" cy="487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7" descr=""/>
          <p:cNvPicPr/>
          <p:nvPr/>
        </p:nvPicPr>
        <p:blipFill>
          <a:blip r:embed="rId4"/>
          <a:stretch/>
        </p:blipFill>
        <p:spPr>
          <a:xfrm>
            <a:off x="684360" y="5113440"/>
            <a:ext cx="342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CB8C-5DEA-4B9B-992D-50F258E98333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7755120" cy="13856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Trasformazioni non rigide con key frames - limiti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000" y="1661760"/>
            <a:ext cx="84963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blem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e scegliere i k-fram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quanti k-fram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 ho una sequenza di M frames, avro’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,...,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forme: sono tutte indicative di forme differenti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luzio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o PCA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...out of the scope!!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1908000" y="47959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434480" y="4746600"/>
            <a:ext cx="46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4645-5DB9-4B7C-AEE8-3F583134E04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udio della dinamica di una        B-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000" y="1661760"/>
            <a:ext cx="84963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ato una forma in movimento, voglio dedurne la dinamica (da inserire in nel tracking, per esempi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so un modello auto regressivo (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auto-regressive proces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ARP) del secondo ord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9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6384960" cy="558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546120" cy="5968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1162440" y="3716280"/>
            <a:ext cx="58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valori estratti da distribuzioni norm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59688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4"/>
          <p:cNvSpPr/>
          <p:nvPr/>
        </p:nvSpPr>
        <p:spPr>
          <a:xfrm>
            <a:off x="1227240" y="436572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matrice di offset determini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5" descr=""/>
          <p:cNvPicPr/>
          <p:nvPr/>
        </p:nvPicPr>
        <p:blipFill>
          <a:blip r:embed="rId4"/>
          <a:stretch/>
        </p:blipFill>
        <p:spPr>
          <a:xfrm>
            <a:off x="755640" y="4869000"/>
            <a:ext cx="1154160" cy="6728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6"/>
          <p:cNvSpPr/>
          <p:nvPr/>
        </p:nvSpPr>
        <p:spPr>
          <a:xfrm>
            <a:off x="1690920" y="4941720"/>
            <a:ext cx="73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matrici, componenti deterministiche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090800" y="5516640"/>
            <a:ext cx="67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 matrice, componente stocastica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9" descr=""/>
          <p:cNvPicPr/>
          <p:nvPr/>
        </p:nvPicPr>
        <p:blipFill>
          <a:blip r:embed="rId5"/>
          <a:stretch/>
        </p:blipFill>
        <p:spPr>
          <a:xfrm>
            <a:off x="684360" y="5516640"/>
            <a:ext cx="5461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3894-DBE4-4678-BA30-AB88CA07510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escrittori elementar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lcuni semplici descrittori di for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il numero di pixel contenuti n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erimetro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il numero di pixel sul contono d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(Non)Compattezza o (non)circolarit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perimetro^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/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 forma più compatta è il cerchio (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π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, tutte le altre forme hanno compattezza &gt; 4</a:t>
            </a:r>
            <a:r>
              <a:rPr b="0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ccentricità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: il rapporto tra la corda piu’ lunga nella forma e la più lunga corda perpendicolare ad es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Rettangolarità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: quanto rettangolare è una forma: area della forma/area della bounding-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Orientazio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ahoma"/>
              </a:rPr>
              <a:t>: angolo dell’asse maggiore d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7955-B332-4678-86C0-7427FF39A06B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3" descr=""/>
          <p:cNvPicPr/>
          <p:nvPr/>
        </p:nvPicPr>
        <p:blipFill>
          <a:blip r:embed="rId1"/>
          <a:stretch/>
        </p:blipFill>
        <p:spPr>
          <a:xfrm>
            <a:off x="3132000" y="2438280"/>
            <a:ext cx="2448000" cy="1279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udio della dinamica di una        B-spline (2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806120"/>
            <a:ext cx="849636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 semplicità notazionale possiamo vedere an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in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14" descr=""/>
          <p:cNvPicPr/>
          <p:nvPr/>
        </p:nvPicPr>
        <p:blipFill>
          <a:blip r:embed="rId2"/>
          <a:stretch/>
        </p:blipFill>
        <p:spPr>
          <a:xfrm>
            <a:off x="2195640" y="3824280"/>
            <a:ext cx="4809960" cy="901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5" descr=""/>
          <p:cNvPicPr/>
          <p:nvPr/>
        </p:nvPicPr>
        <p:blipFill>
          <a:blip r:embed="rId3"/>
          <a:stretch/>
        </p:blipFill>
        <p:spPr>
          <a:xfrm>
            <a:off x="1116000" y="4937040"/>
            <a:ext cx="6840720" cy="101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6" descr=""/>
          <p:cNvPicPr/>
          <p:nvPr/>
        </p:nvPicPr>
        <p:blipFill>
          <a:blip r:embed="rId4"/>
          <a:stretch/>
        </p:blipFill>
        <p:spPr>
          <a:xfrm>
            <a:off x="1258920" y="1413000"/>
            <a:ext cx="6384960" cy="55872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7"/>
          <p:cNvSpPr/>
          <p:nvPr/>
        </p:nvSpPr>
        <p:spPr>
          <a:xfrm>
            <a:off x="2700360" y="2060640"/>
            <a:ext cx="3887640" cy="216000"/>
          </a:xfrm>
          <a:prstGeom prst="downArrow">
            <a:avLst>
              <a:gd name="adj1" fmla="val 50019"/>
              <a:gd name="adj2" fmla="val 6838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4652-C125-4B45-9BD3-5008BC68257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udio della dinamica di una        B-spline (3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96360" cy="45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o studio dei parametri puo’ essere formulato da un punto di vista stati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oglio massimizzare la likelihood dei dati, dati i paramet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Picture 12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849636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3" descr=""/>
          <p:cNvPicPr/>
          <p:nvPr/>
        </p:nvPicPr>
        <p:blipFill>
          <a:blip r:embed="rId2"/>
          <a:stretch/>
        </p:blipFill>
        <p:spPr>
          <a:xfrm>
            <a:off x="250920" y="4724280"/>
            <a:ext cx="8642160" cy="82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686520" y="16286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OR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6" descr=""/>
          <p:cNvPicPr/>
          <p:nvPr/>
        </p:nvPicPr>
        <p:blipFill>
          <a:blip r:embed="rId3"/>
          <a:stretch/>
        </p:blipFill>
        <p:spPr>
          <a:xfrm>
            <a:off x="4033800" y="5310360"/>
            <a:ext cx="504720" cy="236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8" descr=""/>
          <p:cNvPicPr/>
          <p:nvPr/>
        </p:nvPicPr>
        <p:blipFill>
          <a:blip r:embed="rId4"/>
          <a:stretch/>
        </p:blipFill>
        <p:spPr>
          <a:xfrm>
            <a:off x="4140360" y="4581360"/>
            <a:ext cx="393480" cy="279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9" descr=""/>
          <p:cNvPicPr/>
          <p:nvPr/>
        </p:nvPicPr>
        <p:blipFill>
          <a:blip r:embed="rId5"/>
          <a:stretch/>
        </p:blipFill>
        <p:spPr>
          <a:xfrm>
            <a:off x="1835280" y="1484280"/>
            <a:ext cx="6384960" cy="5587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20"/>
          <p:cNvSpPr/>
          <p:nvPr/>
        </p:nvSpPr>
        <p:spPr>
          <a:xfrm rot="16200000">
            <a:off x="6193080" y="3321000"/>
            <a:ext cx="792000" cy="4176720"/>
          </a:xfrm>
          <a:custGeom>
            <a:avLst/>
            <a:gdLst>
              <a:gd name="textAreaLeft" fmla="*/ 506160 w 792000"/>
              <a:gd name="textAreaRight" fmla="*/ 792360 w 792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4573800" y="6093000"/>
            <a:ext cx="400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modello come una normale multivar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2"/>
          <p:cNvSpPr/>
          <p:nvPr/>
        </p:nvSpPr>
        <p:spPr>
          <a:xfrm rot="16200000">
            <a:off x="6660360" y="2421360"/>
            <a:ext cx="360360" cy="3816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5400" y="3600"/>
                  <a:pt x="0" y="3600"/>
                </a:cubicBezTo>
                <a:cubicBezTo>
                  <a:pt x="54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3"/>
          <p:cNvSpPr/>
          <p:nvPr/>
        </p:nvSpPr>
        <p:spPr>
          <a:xfrm flipH="1">
            <a:off x="2484000" y="4508640"/>
            <a:ext cx="3095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557080" y="5511960"/>
            <a:ext cx="28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 l’indipendenza tra i vet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forma e il rum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 flipV="1">
            <a:off x="3780000" y="5300640"/>
            <a:ext cx="288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6CC-141C-46B4-9368-1A1A1F1081E7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udio della dinamica di una        B-spline (4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96360" cy="45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tanto la forma della log-likelihood di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parametri buoni danno alta likelihood. Quindi la devo massimizzare. E’ una Normale multivariata, ed esiste forma chiusa per la massimizzazi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686520" y="16286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CORD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6384960" cy="55872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18"/>
          <p:cNvGrpSpPr/>
          <p:nvPr/>
        </p:nvGrpSpPr>
        <p:grpSpPr>
          <a:xfrm>
            <a:off x="611280" y="2924280"/>
            <a:ext cx="7921440" cy="1374840"/>
            <a:chOff x="611280" y="2924280"/>
            <a:chExt cx="7921440" cy="1374840"/>
          </a:xfrm>
        </p:grpSpPr>
        <p:pic>
          <p:nvPicPr>
            <p:cNvPr id="311" name="Picture 16" descr=""/>
            <p:cNvPicPr/>
            <p:nvPr/>
          </p:nvPicPr>
          <p:blipFill>
            <a:blip r:embed="rId2"/>
            <a:stretch/>
          </p:blipFill>
          <p:spPr>
            <a:xfrm>
              <a:off x="611280" y="2924280"/>
              <a:ext cx="792144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17" descr=""/>
            <p:cNvPicPr/>
            <p:nvPr/>
          </p:nvPicPr>
          <p:blipFill>
            <a:blip r:embed="rId3"/>
            <a:stretch/>
          </p:blipFill>
          <p:spPr>
            <a:xfrm>
              <a:off x="5087880" y="3849840"/>
              <a:ext cx="392040" cy="22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32E8-7488-482F-8CC8-EB46EC63259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"/>
          <p:cNvPicPr/>
          <p:nvPr/>
        </p:nvPicPr>
        <p:blipFill>
          <a:blip r:embed="rId1"/>
          <a:stretch/>
        </p:blipFill>
        <p:spPr>
          <a:xfrm>
            <a:off x="1042920" y="44280"/>
            <a:ext cx="6553440" cy="6218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"/>
          <p:cNvPicPr/>
          <p:nvPr/>
        </p:nvPicPr>
        <p:blipFill>
          <a:blip r:embed="rId2"/>
          <a:stretch/>
        </p:blipFill>
        <p:spPr>
          <a:xfrm>
            <a:off x="1812960" y="2287440"/>
            <a:ext cx="210960" cy="343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"/>
          <p:cNvPicPr/>
          <p:nvPr/>
        </p:nvPicPr>
        <p:blipFill>
          <a:blip r:embed="rId3"/>
          <a:stretch/>
        </p:blipFill>
        <p:spPr>
          <a:xfrm>
            <a:off x="2571840" y="1417680"/>
            <a:ext cx="210960" cy="3427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6"/>
          <p:cNvSpPr/>
          <p:nvPr/>
        </p:nvSpPr>
        <p:spPr>
          <a:xfrm>
            <a:off x="6590160" y="90792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800000"/>
                </a:solidFill>
                <a:latin typeface="Arial"/>
              </a:rPr>
              <a:t>mat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7"/>
          <p:cNvSpPr/>
          <p:nvPr/>
        </p:nvSpPr>
        <p:spPr>
          <a:xfrm flipH="1">
            <a:off x="6877080" y="1197000"/>
            <a:ext cx="71280" cy="216000"/>
          </a:xfrm>
          <a:custGeom>
            <a:avLst/>
            <a:gdLst>
              <a:gd name="textAreaLeft" fmla="*/ 360 w 71280"/>
              <a:gd name="textAreaRight" fmla="*/ 72000 w 7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" h="91">
                <a:moveTo>
                  <a:pt x="0" y="0"/>
                </a:moveTo>
                <a:cubicBezTo>
                  <a:pt x="0" y="0"/>
                  <a:pt x="0" y="45"/>
                  <a:pt x="0" y="91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9" descr=""/>
          <p:cNvPicPr/>
          <p:nvPr/>
        </p:nvPicPr>
        <p:blipFill>
          <a:blip r:embed="rId4"/>
          <a:stretch/>
        </p:blipFill>
        <p:spPr>
          <a:xfrm>
            <a:off x="6022800" y="5783400"/>
            <a:ext cx="167040" cy="269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5"/>
          <a:stretch/>
        </p:blipFill>
        <p:spPr>
          <a:xfrm>
            <a:off x="4289400" y="4414680"/>
            <a:ext cx="166680" cy="27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"/>
          <p:cNvPicPr/>
          <p:nvPr/>
        </p:nvPicPr>
        <p:blipFill>
          <a:blip r:embed="rId6"/>
          <a:stretch/>
        </p:blipFill>
        <p:spPr>
          <a:xfrm>
            <a:off x="3586320" y="4425840"/>
            <a:ext cx="166680" cy="270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3" descr=""/>
          <p:cNvPicPr/>
          <p:nvPr/>
        </p:nvPicPr>
        <p:blipFill>
          <a:blip r:embed="rId7"/>
          <a:stretch/>
        </p:blipFill>
        <p:spPr>
          <a:xfrm>
            <a:off x="5003640" y="4427640"/>
            <a:ext cx="166680" cy="26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A636-FBFC-4DD7-BBDE-089464B6822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Fitting di una B-spline sull’immag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662120"/>
            <a:ext cx="79912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nualment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termino i punti sul contorno della forma, calcolo la B-s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umento gli span fino a quando sono soddisfatto del f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tomatic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partire da una forma binaria (ottenuta per esempio via sottrazione del backgroun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raggo il perimet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mpiono il perimetro con una frequenza a piacere, ottengo i nod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alcolo la B-sp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1F2C-0AAD-4010-930A-AF4E43E89A9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Applicazione di una B-spline a Condensation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1662120"/>
            <a:ext cx="79912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o da uno stato piu’ probabile (la posterior)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t-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gni particella è un vettor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t-1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e determin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da cui origina una B-spline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fase di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lezione o campionamento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roduce un numero alto di campioni {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essi applico la dinamica, ottenend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187280" y="4437000"/>
            <a:ext cx="6384960" cy="558720"/>
          </a:xfrm>
          <a:prstGeom prst="rect">
            <a:avLst/>
          </a:prstGeom>
          <a:ln w="0">
            <a:noFill/>
          </a:ln>
        </p:spPr>
      </p:pic>
      <p:sp>
        <p:nvSpPr>
          <p:cNvPr id="330" name="Freeform 5"/>
          <p:cNvSpPr/>
          <p:nvPr/>
        </p:nvSpPr>
        <p:spPr>
          <a:xfrm>
            <a:off x="3814920" y="3645000"/>
            <a:ext cx="973080" cy="936360"/>
          </a:xfrm>
          <a:custGeom>
            <a:avLst/>
            <a:gdLst>
              <a:gd name="textAreaLeft" fmla="*/ 0 w 973080"/>
              <a:gd name="textAreaRight" fmla="*/ 973440 w 97308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613" h="590">
                <a:moveTo>
                  <a:pt x="386" y="0"/>
                </a:moveTo>
                <a:cubicBezTo>
                  <a:pt x="193" y="193"/>
                  <a:pt x="0" y="386"/>
                  <a:pt x="23" y="454"/>
                </a:cubicBezTo>
                <a:cubicBezTo>
                  <a:pt x="46" y="522"/>
                  <a:pt x="431" y="385"/>
                  <a:pt x="522" y="408"/>
                </a:cubicBezTo>
                <a:cubicBezTo>
                  <a:pt x="613" y="431"/>
                  <a:pt x="590" y="510"/>
                  <a:pt x="568" y="59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6"/>
          <p:cNvSpPr/>
          <p:nvPr/>
        </p:nvSpPr>
        <p:spPr>
          <a:xfrm>
            <a:off x="1116000" y="4076640"/>
            <a:ext cx="5627880" cy="504720"/>
          </a:xfrm>
          <a:custGeom>
            <a:avLst/>
            <a:gdLst/>
            <a:ahLst/>
            <a:rect l="l" t="t" r="r" b="b"/>
            <a:pathLst>
              <a:path w="3545" h="318">
                <a:moveTo>
                  <a:pt x="3311" y="0"/>
                </a:moveTo>
                <a:cubicBezTo>
                  <a:pt x="3428" y="83"/>
                  <a:pt x="3545" y="167"/>
                  <a:pt x="3356" y="182"/>
                </a:cubicBezTo>
                <a:cubicBezTo>
                  <a:pt x="3167" y="197"/>
                  <a:pt x="2683" y="106"/>
                  <a:pt x="2177" y="91"/>
                </a:cubicBezTo>
                <a:cubicBezTo>
                  <a:pt x="1671" y="76"/>
                  <a:pt x="634" y="53"/>
                  <a:pt x="317" y="91"/>
                </a:cubicBezTo>
                <a:cubicBezTo>
                  <a:pt x="0" y="129"/>
                  <a:pt x="136" y="223"/>
                  <a:pt x="272" y="318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E922-E3A2-401A-80AC-850A4368F5A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Applicazione di una B-spline a Condensation (2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5013000"/>
            <a:ext cx="799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fase di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valutazion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uta la spline ch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itta meglio l’obiettivo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963520" cy="2936880"/>
          </a:xfrm>
          <a:prstGeom prst="rect">
            <a:avLst/>
          </a:prstGeom>
          <a:ln w="0">
            <a:noFill/>
          </a:ln>
        </p:spPr>
      </p:pic>
      <p:sp>
        <p:nvSpPr>
          <p:cNvPr id="336" name="Freeform 8"/>
          <p:cNvSpPr/>
          <p:nvPr/>
        </p:nvSpPr>
        <p:spPr>
          <a:xfrm>
            <a:off x="4175280" y="2349360"/>
            <a:ext cx="792000" cy="1943280"/>
          </a:xfrm>
          <a:custGeom>
            <a:avLst/>
            <a:gdLst>
              <a:gd name="textAreaLeft" fmla="*/ 0 w 792000"/>
              <a:gd name="textAreaRight" fmla="*/ 792360 w 79200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9"/>
          <p:cNvSpPr/>
          <p:nvPr/>
        </p:nvSpPr>
        <p:spPr>
          <a:xfrm>
            <a:off x="4390920" y="2565360"/>
            <a:ext cx="792360" cy="1943280"/>
          </a:xfrm>
          <a:custGeom>
            <a:avLst/>
            <a:gdLst>
              <a:gd name="textAreaLeft" fmla="*/ 0 w 792360"/>
              <a:gd name="textAreaRight" fmla="*/ 792720 w 79236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0"/>
          <p:cNvSpPr/>
          <p:nvPr/>
        </p:nvSpPr>
        <p:spPr>
          <a:xfrm rot="20136600">
            <a:off x="4606920" y="2781000"/>
            <a:ext cx="792000" cy="1942920"/>
          </a:xfrm>
          <a:custGeom>
            <a:avLst/>
            <a:gdLst>
              <a:gd name="textAreaLeft" fmla="*/ 0 w 792000"/>
              <a:gd name="textAreaRight" fmla="*/ 792360 w 79200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1"/>
          <p:cNvSpPr/>
          <p:nvPr/>
        </p:nvSpPr>
        <p:spPr>
          <a:xfrm rot="1617000">
            <a:off x="4284720" y="2565360"/>
            <a:ext cx="792000" cy="1943280"/>
          </a:xfrm>
          <a:custGeom>
            <a:avLst/>
            <a:gdLst>
              <a:gd name="textAreaLeft" fmla="*/ 0 w 792000"/>
              <a:gd name="textAreaRight" fmla="*/ 792360 w 792000"/>
              <a:gd name="textAreaTop" fmla="*/ 0 h 1943280"/>
              <a:gd name="textAreaBottom" fmla="*/ 1943640 h 19432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2"/>
          <p:cNvSpPr/>
          <p:nvPr/>
        </p:nvSpPr>
        <p:spPr>
          <a:xfrm rot="1617000">
            <a:off x="4043160" y="2008080"/>
            <a:ext cx="792000" cy="2303640"/>
          </a:xfrm>
          <a:custGeom>
            <a:avLst/>
            <a:gdLst>
              <a:gd name="textAreaLeft" fmla="*/ 0 w 792000"/>
              <a:gd name="textAreaRight" fmla="*/ 792360 w 79200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3"/>
          <p:cNvSpPr/>
          <p:nvPr/>
        </p:nvSpPr>
        <p:spPr>
          <a:xfrm rot="1617000">
            <a:off x="4223880" y="2749680"/>
            <a:ext cx="792360" cy="1726920"/>
          </a:xfrm>
          <a:custGeom>
            <a:avLst/>
            <a:gdLst>
              <a:gd name="textAreaLeft" fmla="*/ 0 w 792360"/>
              <a:gd name="textAreaRight" fmla="*/ 792720 w 79236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4"/>
          <p:cNvSpPr/>
          <p:nvPr/>
        </p:nvSpPr>
        <p:spPr>
          <a:xfrm rot="20478600">
            <a:off x="4427280" y="2565360"/>
            <a:ext cx="311040" cy="1284480"/>
          </a:xfrm>
          <a:custGeom>
            <a:avLst/>
            <a:gdLst>
              <a:gd name="textAreaLeft" fmla="*/ 0 w 311040"/>
              <a:gd name="textAreaRight" fmla="*/ 311400 w 311040"/>
              <a:gd name="textAreaTop" fmla="*/ 0 h 1284480"/>
              <a:gd name="textAreaBottom" fmla="*/ 1284840 h 12844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5"/>
          <p:cNvSpPr/>
          <p:nvPr/>
        </p:nvSpPr>
        <p:spPr>
          <a:xfrm rot="1163400">
            <a:off x="4427280" y="2997360"/>
            <a:ext cx="311040" cy="1284120"/>
          </a:xfrm>
          <a:custGeom>
            <a:avLst/>
            <a:gdLst>
              <a:gd name="textAreaLeft" fmla="*/ 0 w 311040"/>
              <a:gd name="textAreaRight" fmla="*/ 311400 w 311040"/>
              <a:gd name="textAreaTop" fmla="*/ 0 h 1284120"/>
              <a:gd name="textAreaBottom" fmla="*/ 1284480 h 128412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6"/>
          <p:cNvSpPr/>
          <p:nvPr/>
        </p:nvSpPr>
        <p:spPr>
          <a:xfrm rot="951600">
            <a:off x="4500720" y="2852640"/>
            <a:ext cx="311040" cy="1284480"/>
          </a:xfrm>
          <a:custGeom>
            <a:avLst/>
            <a:gdLst>
              <a:gd name="textAreaLeft" fmla="*/ 0 w 311040"/>
              <a:gd name="textAreaRight" fmla="*/ 311400 w 311040"/>
              <a:gd name="textAreaTop" fmla="*/ 0 h 1284480"/>
              <a:gd name="textAreaBottom" fmla="*/ 1284840 h 1284480"/>
            </a:gdLst>
            <a:ahLst/>
            <a:rect l="textAreaLeft" t="textAreaTop" r="textAreaRight" b="textAreaBottom"/>
            <a:pathLst>
              <a:path w="499" h="1224">
                <a:moveTo>
                  <a:pt x="295" y="0"/>
                </a:moveTo>
                <a:cubicBezTo>
                  <a:pt x="351" y="94"/>
                  <a:pt x="408" y="189"/>
                  <a:pt x="431" y="272"/>
                </a:cubicBezTo>
                <a:cubicBezTo>
                  <a:pt x="454" y="355"/>
                  <a:pt x="499" y="431"/>
                  <a:pt x="431" y="499"/>
                </a:cubicBezTo>
                <a:cubicBezTo>
                  <a:pt x="363" y="567"/>
                  <a:pt x="46" y="612"/>
                  <a:pt x="23" y="680"/>
                </a:cubicBezTo>
                <a:cubicBezTo>
                  <a:pt x="0" y="748"/>
                  <a:pt x="257" y="816"/>
                  <a:pt x="295" y="907"/>
                </a:cubicBezTo>
                <a:cubicBezTo>
                  <a:pt x="333" y="998"/>
                  <a:pt x="291" y="1111"/>
                  <a:pt x="250" y="12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5439600" y="4149720"/>
            <a:ext cx="63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)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2B6F-2C74-4111-8BC9-16A46E7F2216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Applicazione di una B-spline a Condensation (3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9280" y="5013000"/>
            <a:ext cx="799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corrispondenza di M punti equispaziati sulla curva, costruisco dei segmenti normali, di lunghezza fissata a prio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963520" cy="293688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23"/>
          <p:cNvGrpSpPr/>
          <p:nvPr/>
        </p:nvGrpSpPr>
        <p:grpSpPr>
          <a:xfrm>
            <a:off x="4140360" y="2421000"/>
            <a:ext cx="1150920" cy="1942920"/>
            <a:chOff x="4140360" y="2421000"/>
            <a:chExt cx="1150920" cy="1942920"/>
          </a:xfrm>
        </p:grpSpPr>
        <p:sp>
          <p:nvSpPr>
            <p:cNvPr id="351" name="Freeform 6"/>
            <p:cNvSpPr/>
            <p:nvPr/>
          </p:nvSpPr>
          <p:spPr>
            <a:xfrm>
              <a:off x="4283280" y="2421000"/>
              <a:ext cx="792000" cy="19429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499" h="1224">
                  <a:moveTo>
                    <a:pt x="295" y="0"/>
                  </a:moveTo>
                  <a:cubicBezTo>
                    <a:pt x="351" y="94"/>
                    <a:pt x="408" y="189"/>
                    <a:pt x="431" y="272"/>
                  </a:cubicBezTo>
                  <a:cubicBezTo>
                    <a:pt x="454" y="355"/>
                    <a:pt x="499" y="431"/>
                    <a:pt x="431" y="499"/>
                  </a:cubicBezTo>
                  <a:cubicBezTo>
                    <a:pt x="363" y="567"/>
                    <a:pt x="46" y="612"/>
                    <a:pt x="23" y="680"/>
                  </a:cubicBezTo>
                  <a:cubicBezTo>
                    <a:pt x="0" y="748"/>
                    <a:pt x="257" y="816"/>
                    <a:pt x="295" y="907"/>
                  </a:cubicBezTo>
                  <a:cubicBezTo>
                    <a:pt x="333" y="998"/>
                    <a:pt x="291" y="1111"/>
                    <a:pt x="250" y="122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 flipV="1">
              <a:off x="4498920" y="2421000"/>
              <a:ext cx="505080" cy="287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4714920" y="2637000"/>
              <a:ext cx="504720" cy="287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714920" y="3068640"/>
              <a:ext cx="57636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4714920" y="3068640"/>
              <a:ext cx="360360" cy="360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4427640" y="3141720"/>
              <a:ext cx="360360" cy="503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4140360" y="3429000"/>
              <a:ext cx="503280" cy="144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 flipV="1">
              <a:off x="4427640" y="3499920"/>
              <a:ext cx="287280" cy="36036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4572000" y="3933720"/>
              <a:ext cx="432000" cy="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4500720" y="4149720"/>
              <a:ext cx="431640" cy="7128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24"/>
          <p:cNvSpPr/>
          <p:nvPr/>
        </p:nvSpPr>
        <p:spPr>
          <a:xfrm>
            <a:off x="4790520" y="429264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59B6-53E2-4683-9EB7-77439D27CAD8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Applicazione di una B-spline a Condensation (4)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5013000"/>
            <a:ext cx="7991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u ogni normale, calcolo gli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o che si puo’ verificare la presenza di piu’ edge in corrispondenza di una nor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28" descr=""/>
          <p:cNvPicPr/>
          <p:nvPr/>
        </p:nvPicPr>
        <p:blipFill>
          <a:blip r:embed="rId1"/>
          <a:stretch/>
        </p:blipFill>
        <p:spPr>
          <a:xfrm>
            <a:off x="4643280" y="1844640"/>
            <a:ext cx="3505320" cy="292428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63"/>
          <p:cNvGrpSpPr/>
          <p:nvPr/>
        </p:nvGrpSpPr>
        <p:grpSpPr>
          <a:xfrm>
            <a:off x="1116000" y="1773360"/>
            <a:ext cx="2963880" cy="2936880"/>
            <a:chOff x="1116000" y="1773360"/>
            <a:chExt cx="2963880" cy="2936880"/>
          </a:xfrm>
        </p:grpSpPr>
        <p:pic>
          <p:nvPicPr>
            <p:cNvPr id="367" name="Picture 4" descr=""/>
            <p:cNvPicPr/>
            <p:nvPr/>
          </p:nvPicPr>
          <p:blipFill>
            <a:blip r:embed="rId2"/>
            <a:stretch/>
          </p:blipFill>
          <p:spPr>
            <a:xfrm>
              <a:off x="1116000" y="1773360"/>
              <a:ext cx="2963880" cy="293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Group 5"/>
            <p:cNvGrpSpPr/>
            <p:nvPr/>
          </p:nvGrpSpPr>
          <p:grpSpPr>
            <a:xfrm>
              <a:off x="2197080" y="2421000"/>
              <a:ext cx="1150920" cy="1942920"/>
              <a:chOff x="2197080" y="2421000"/>
              <a:chExt cx="1150920" cy="1942920"/>
            </a:xfrm>
          </p:grpSpPr>
          <p:sp>
            <p:nvSpPr>
              <p:cNvPr id="369" name="Freeform 6"/>
              <p:cNvSpPr/>
              <p:nvPr/>
            </p:nvSpPr>
            <p:spPr>
              <a:xfrm>
                <a:off x="2340000" y="2421000"/>
                <a:ext cx="792000" cy="194292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1942920"/>
                  <a:gd name="textAreaBottom" fmla="*/ 1943280 h 1942920"/>
                </a:gdLst>
                <a:ahLst/>
                <a:rect l="textAreaLeft" t="textAreaTop" r="textAreaRight" b="textAreaBottom"/>
                <a:pathLst>
                  <a:path w="499" h="1224">
                    <a:moveTo>
                      <a:pt x="295" y="0"/>
                    </a:moveTo>
                    <a:cubicBezTo>
                      <a:pt x="351" y="94"/>
                      <a:pt x="408" y="189"/>
                      <a:pt x="431" y="272"/>
                    </a:cubicBezTo>
                    <a:cubicBezTo>
                      <a:pt x="454" y="355"/>
                      <a:pt x="499" y="431"/>
                      <a:pt x="431" y="499"/>
                    </a:cubicBezTo>
                    <a:cubicBezTo>
                      <a:pt x="363" y="567"/>
                      <a:pt x="46" y="612"/>
                      <a:pt x="23" y="680"/>
                    </a:cubicBezTo>
                    <a:cubicBezTo>
                      <a:pt x="0" y="748"/>
                      <a:pt x="257" y="816"/>
                      <a:pt x="295" y="907"/>
                    </a:cubicBezTo>
                    <a:cubicBezTo>
                      <a:pt x="333" y="998"/>
                      <a:pt x="291" y="1111"/>
                      <a:pt x="250" y="1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7"/>
              <p:cNvSpPr/>
              <p:nvPr/>
            </p:nvSpPr>
            <p:spPr>
              <a:xfrm flipV="1">
                <a:off x="2555640" y="2421000"/>
                <a:ext cx="505080" cy="2872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8"/>
              <p:cNvSpPr/>
              <p:nvPr/>
            </p:nvSpPr>
            <p:spPr>
              <a:xfrm flipV="1">
                <a:off x="2771640" y="2637000"/>
                <a:ext cx="504720" cy="2872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9"/>
              <p:cNvSpPr/>
              <p:nvPr/>
            </p:nvSpPr>
            <p:spPr>
              <a:xfrm>
                <a:off x="2771640" y="3068640"/>
                <a:ext cx="57636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0"/>
              <p:cNvSpPr/>
              <p:nvPr/>
            </p:nvSpPr>
            <p:spPr>
              <a:xfrm>
                <a:off x="2771640" y="3068640"/>
                <a:ext cx="360360" cy="3603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1"/>
              <p:cNvSpPr/>
              <p:nvPr/>
            </p:nvSpPr>
            <p:spPr>
              <a:xfrm>
                <a:off x="2484360" y="3141720"/>
                <a:ext cx="360360" cy="5032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2"/>
              <p:cNvSpPr/>
              <p:nvPr/>
            </p:nvSpPr>
            <p:spPr>
              <a:xfrm>
                <a:off x="2197080" y="3429000"/>
                <a:ext cx="503280" cy="1443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3"/>
              <p:cNvSpPr/>
              <p:nvPr/>
            </p:nvSpPr>
            <p:spPr>
              <a:xfrm flipV="1">
                <a:off x="2484360" y="3499920"/>
                <a:ext cx="287280" cy="3603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4"/>
              <p:cNvSpPr/>
              <p:nvPr/>
            </p:nvSpPr>
            <p:spPr>
              <a:xfrm>
                <a:off x="2628720" y="3933720"/>
                <a:ext cx="43200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5"/>
              <p:cNvSpPr/>
              <p:nvPr/>
            </p:nvSpPr>
            <p:spPr>
              <a:xfrm>
                <a:off x="2557440" y="4149720"/>
                <a:ext cx="431640" cy="712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Oval 16"/>
            <p:cNvSpPr/>
            <p:nvPr/>
          </p:nvSpPr>
          <p:spPr>
            <a:xfrm>
              <a:off x="2700360" y="2565360"/>
              <a:ext cx="7308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2867040" y="283068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2833560" y="3030480"/>
              <a:ext cx="7308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2784600" y="308628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2522520" y="3213000"/>
              <a:ext cx="7308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2173320" y="3390840"/>
              <a:ext cx="7308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2544840" y="371808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2484360" y="378936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2662200" y="390060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2629080" y="4138560"/>
              <a:ext cx="72720" cy="716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2546280" y="4121280"/>
              <a:ext cx="73080" cy="71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9"/>
            <p:cNvSpPr/>
            <p:nvPr/>
          </p:nvSpPr>
          <p:spPr>
            <a:xfrm>
              <a:off x="2774520" y="422100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2760840" y="4160880"/>
              <a:ext cx="7272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55"/>
            <p:cNvSpPr/>
            <p:nvPr/>
          </p:nvSpPr>
          <p:spPr>
            <a:xfrm>
              <a:off x="2793960" y="3895560"/>
              <a:ext cx="73080" cy="71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56"/>
            <p:cNvSpPr/>
            <p:nvPr/>
          </p:nvSpPr>
          <p:spPr>
            <a:xfrm>
              <a:off x="2583000" y="3645000"/>
              <a:ext cx="7272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7"/>
            <p:cNvSpPr/>
            <p:nvPr/>
          </p:nvSpPr>
          <p:spPr>
            <a:xfrm>
              <a:off x="2351160" y="3446640"/>
              <a:ext cx="7308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2616120" y="3330720"/>
              <a:ext cx="7308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2914560" y="3214800"/>
              <a:ext cx="7308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60"/>
            <p:cNvSpPr/>
            <p:nvPr/>
          </p:nvSpPr>
          <p:spPr>
            <a:xfrm>
              <a:off x="3043080" y="3035160"/>
              <a:ext cx="73080" cy="71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2965320" y="2759040"/>
              <a:ext cx="73080" cy="716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2843280" y="2494080"/>
              <a:ext cx="73080" cy="712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00A7-65A3-4870-B891-AAB9087A070C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5" descr=""/>
          <p:cNvPicPr/>
          <p:nvPr/>
        </p:nvPicPr>
        <p:blipFill>
          <a:blip r:embed="rId1"/>
          <a:stretch/>
        </p:blipFill>
        <p:spPr>
          <a:xfrm>
            <a:off x="0" y="1595520"/>
            <a:ext cx="5761080" cy="10414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560" y="-1004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Applicazione di una B-spline a Condensation (5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4920" y="909720"/>
            <a:ext cx="554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 funzione di pesatura o valutazione 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28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568600" cy="2143080"/>
          </a:xfrm>
          <a:prstGeom prst="rect">
            <a:avLst/>
          </a:prstGeom>
          <a:ln w="0">
            <a:noFill/>
          </a:ln>
        </p:spPr>
      </p:pic>
      <p:grpSp>
        <p:nvGrpSpPr>
          <p:cNvPr id="405" name="Group 31"/>
          <p:cNvGrpSpPr/>
          <p:nvPr/>
        </p:nvGrpSpPr>
        <p:grpSpPr>
          <a:xfrm>
            <a:off x="6012000" y="765000"/>
            <a:ext cx="2520720" cy="2376720"/>
            <a:chOff x="6012000" y="765000"/>
            <a:chExt cx="2520720" cy="2376720"/>
          </a:xfrm>
        </p:grpSpPr>
        <p:pic>
          <p:nvPicPr>
            <p:cNvPr id="406" name="Picture 32" descr=""/>
            <p:cNvPicPr/>
            <p:nvPr/>
          </p:nvPicPr>
          <p:blipFill>
            <a:blip r:embed="rId3"/>
            <a:stretch/>
          </p:blipFill>
          <p:spPr>
            <a:xfrm>
              <a:off x="6012000" y="765000"/>
              <a:ext cx="2520720" cy="2376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7" name="Group 33"/>
            <p:cNvGrpSpPr/>
            <p:nvPr/>
          </p:nvGrpSpPr>
          <p:grpSpPr>
            <a:xfrm>
              <a:off x="6931440" y="1288440"/>
              <a:ext cx="978480" cy="1572480"/>
              <a:chOff x="6931440" y="1288440"/>
              <a:chExt cx="978480" cy="1572480"/>
            </a:xfrm>
          </p:grpSpPr>
          <p:sp>
            <p:nvSpPr>
              <p:cNvPr id="408" name="Freeform 34"/>
              <p:cNvSpPr/>
              <p:nvPr/>
            </p:nvSpPr>
            <p:spPr>
              <a:xfrm>
                <a:off x="7052760" y="1288800"/>
                <a:ext cx="673560" cy="1572120"/>
              </a:xfrm>
              <a:custGeom>
                <a:avLst/>
                <a:gdLst>
                  <a:gd name="textAreaLeft" fmla="*/ 0 w 673560"/>
                  <a:gd name="textAreaRight" fmla="*/ 673920 w 673560"/>
                  <a:gd name="textAreaTop" fmla="*/ 0 h 1572120"/>
                  <a:gd name="textAreaBottom" fmla="*/ 1572480 h 1572120"/>
                </a:gdLst>
                <a:ahLst/>
                <a:rect l="textAreaLeft" t="textAreaTop" r="textAreaRight" b="textAreaBottom"/>
                <a:pathLst>
                  <a:path w="499" h="1224">
                    <a:moveTo>
                      <a:pt x="295" y="0"/>
                    </a:moveTo>
                    <a:cubicBezTo>
                      <a:pt x="351" y="94"/>
                      <a:pt x="408" y="189"/>
                      <a:pt x="431" y="272"/>
                    </a:cubicBezTo>
                    <a:cubicBezTo>
                      <a:pt x="454" y="355"/>
                      <a:pt x="499" y="431"/>
                      <a:pt x="431" y="499"/>
                    </a:cubicBezTo>
                    <a:cubicBezTo>
                      <a:pt x="363" y="567"/>
                      <a:pt x="46" y="612"/>
                      <a:pt x="23" y="680"/>
                    </a:cubicBezTo>
                    <a:cubicBezTo>
                      <a:pt x="0" y="748"/>
                      <a:pt x="257" y="816"/>
                      <a:pt x="295" y="907"/>
                    </a:cubicBezTo>
                    <a:cubicBezTo>
                      <a:pt x="333" y="998"/>
                      <a:pt x="291" y="1111"/>
                      <a:pt x="250" y="1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35"/>
              <p:cNvSpPr/>
              <p:nvPr/>
            </p:nvSpPr>
            <p:spPr>
              <a:xfrm flipV="1">
                <a:off x="7236360" y="1288440"/>
                <a:ext cx="429480" cy="2322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36"/>
              <p:cNvSpPr/>
              <p:nvPr/>
            </p:nvSpPr>
            <p:spPr>
              <a:xfrm flipV="1">
                <a:off x="7419960" y="1463040"/>
                <a:ext cx="429120" cy="2322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37"/>
              <p:cNvSpPr/>
              <p:nvPr/>
            </p:nvSpPr>
            <p:spPr>
              <a:xfrm>
                <a:off x="7419960" y="1812600"/>
                <a:ext cx="489960" cy="1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38"/>
              <p:cNvSpPr/>
              <p:nvPr/>
            </p:nvSpPr>
            <p:spPr>
              <a:xfrm>
                <a:off x="7419960" y="1812600"/>
                <a:ext cx="306360" cy="2912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39"/>
              <p:cNvSpPr/>
              <p:nvPr/>
            </p:nvSpPr>
            <p:spPr>
              <a:xfrm>
                <a:off x="7175520" y="1871640"/>
                <a:ext cx="306360" cy="4071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40"/>
              <p:cNvSpPr/>
              <p:nvPr/>
            </p:nvSpPr>
            <p:spPr>
              <a:xfrm>
                <a:off x="6931440" y="2104200"/>
                <a:ext cx="428040" cy="1166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41"/>
              <p:cNvSpPr/>
              <p:nvPr/>
            </p:nvSpPr>
            <p:spPr>
              <a:xfrm flipV="1">
                <a:off x="7175520" y="2161440"/>
                <a:ext cx="244080" cy="2912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42"/>
              <p:cNvSpPr/>
              <p:nvPr/>
            </p:nvSpPr>
            <p:spPr>
              <a:xfrm>
                <a:off x="7298280" y="2512800"/>
                <a:ext cx="367200" cy="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43"/>
              <p:cNvSpPr/>
              <p:nvPr/>
            </p:nvSpPr>
            <p:spPr>
              <a:xfrm>
                <a:off x="7237800" y="2687400"/>
                <a:ext cx="366840" cy="576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Oval 44"/>
            <p:cNvSpPr/>
            <p:nvPr/>
          </p:nvSpPr>
          <p:spPr>
            <a:xfrm>
              <a:off x="7359480" y="1405800"/>
              <a:ext cx="6192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45"/>
            <p:cNvSpPr/>
            <p:nvPr/>
          </p:nvSpPr>
          <p:spPr>
            <a:xfrm>
              <a:off x="7500960" y="162036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46"/>
            <p:cNvSpPr/>
            <p:nvPr/>
          </p:nvSpPr>
          <p:spPr>
            <a:xfrm>
              <a:off x="7472520" y="1782360"/>
              <a:ext cx="6192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47"/>
            <p:cNvSpPr/>
            <p:nvPr/>
          </p:nvSpPr>
          <p:spPr>
            <a:xfrm>
              <a:off x="7431120" y="182736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48"/>
            <p:cNvSpPr/>
            <p:nvPr/>
          </p:nvSpPr>
          <p:spPr>
            <a:xfrm>
              <a:off x="7207920" y="1929960"/>
              <a:ext cx="6192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49"/>
            <p:cNvSpPr/>
            <p:nvPr/>
          </p:nvSpPr>
          <p:spPr>
            <a:xfrm>
              <a:off x="6910920" y="2073960"/>
              <a:ext cx="6192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50"/>
            <p:cNvSpPr/>
            <p:nvPr/>
          </p:nvSpPr>
          <p:spPr>
            <a:xfrm>
              <a:off x="7227000" y="233856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51"/>
            <p:cNvSpPr/>
            <p:nvPr/>
          </p:nvSpPr>
          <p:spPr>
            <a:xfrm>
              <a:off x="7175520" y="239652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52"/>
            <p:cNvSpPr/>
            <p:nvPr/>
          </p:nvSpPr>
          <p:spPr>
            <a:xfrm>
              <a:off x="7326720" y="248652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3"/>
            <p:cNvSpPr/>
            <p:nvPr/>
          </p:nvSpPr>
          <p:spPr>
            <a:xfrm>
              <a:off x="7298640" y="2679120"/>
              <a:ext cx="61560" cy="579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54"/>
            <p:cNvSpPr/>
            <p:nvPr/>
          </p:nvSpPr>
          <p:spPr>
            <a:xfrm>
              <a:off x="7228440" y="2665080"/>
              <a:ext cx="61920" cy="57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55"/>
            <p:cNvSpPr/>
            <p:nvPr/>
          </p:nvSpPr>
          <p:spPr>
            <a:xfrm>
              <a:off x="7422120" y="27457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56"/>
            <p:cNvSpPr/>
            <p:nvPr/>
          </p:nvSpPr>
          <p:spPr>
            <a:xfrm>
              <a:off x="7410600" y="2697120"/>
              <a:ext cx="6156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57"/>
            <p:cNvSpPr/>
            <p:nvPr/>
          </p:nvSpPr>
          <p:spPr>
            <a:xfrm>
              <a:off x="7439040" y="2482200"/>
              <a:ext cx="61920" cy="579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58"/>
            <p:cNvSpPr/>
            <p:nvPr/>
          </p:nvSpPr>
          <p:spPr>
            <a:xfrm>
              <a:off x="7259400" y="2279520"/>
              <a:ext cx="6156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59"/>
            <p:cNvSpPr/>
            <p:nvPr/>
          </p:nvSpPr>
          <p:spPr>
            <a:xfrm>
              <a:off x="7062480" y="2118960"/>
              <a:ext cx="6192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60"/>
            <p:cNvSpPr/>
            <p:nvPr/>
          </p:nvSpPr>
          <p:spPr>
            <a:xfrm>
              <a:off x="7287840" y="2025000"/>
              <a:ext cx="6192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61"/>
            <p:cNvSpPr/>
            <p:nvPr/>
          </p:nvSpPr>
          <p:spPr>
            <a:xfrm>
              <a:off x="7541640" y="1931400"/>
              <a:ext cx="6192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62"/>
            <p:cNvSpPr/>
            <p:nvPr/>
          </p:nvSpPr>
          <p:spPr>
            <a:xfrm>
              <a:off x="7650720" y="1785960"/>
              <a:ext cx="61920" cy="579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63"/>
            <p:cNvSpPr/>
            <p:nvPr/>
          </p:nvSpPr>
          <p:spPr>
            <a:xfrm>
              <a:off x="7584840" y="1562400"/>
              <a:ext cx="61920" cy="5796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64"/>
            <p:cNvSpPr/>
            <p:nvPr/>
          </p:nvSpPr>
          <p:spPr>
            <a:xfrm>
              <a:off x="7480800" y="1348200"/>
              <a:ext cx="61920" cy="5760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9" name="Picture 66" descr=""/>
          <p:cNvPicPr/>
          <p:nvPr/>
        </p:nvPicPr>
        <p:blipFill>
          <a:blip r:embed="rId4"/>
          <a:stretch/>
        </p:blipFill>
        <p:spPr>
          <a:xfrm>
            <a:off x="2268360" y="2637000"/>
            <a:ext cx="1873440" cy="77616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69"/>
          <p:cNvGrpSpPr/>
          <p:nvPr/>
        </p:nvGrpSpPr>
        <p:grpSpPr>
          <a:xfrm>
            <a:off x="1476360" y="3860640"/>
            <a:ext cx="3816360" cy="640440"/>
            <a:chOff x="1476360" y="3860640"/>
            <a:chExt cx="3816360" cy="640440"/>
          </a:xfrm>
        </p:grpSpPr>
        <p:pic>
          <p:nvPicPr>
            <p:cNvPr id="441" name="Picture 67" descr=""/>
            <p:cNvPicPr/>
            <p:nvPr/>
          </p:nvPicPr>
          <p:blipFill>
            <a:blip r:embed="rId5"/>
            <a:stretch/>
          </p:blipFill>
          <p:spPr>
            <a:xfrm>
              <a:off x="1476360" y="3860640"/>
              <a:ext cx="381636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68"/>
            <p:cNvSpPr/>
            <p:nvPr/>
          </p:nvSpPr>
          <p:spPr>
            <a:xfrm>
              <a:off x="2952720" y="4163760"/>
              <a:ext cx="913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norm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3" name="Picture 70" descr=""/>
          <p:cNvPicPr/>
          <p:nvPr/>
        </p:nvPicPr>
        <p:blipFill>
          <a:blip r:embed="rId6"/>
          <a:stretch/>
        </p:blipFill>
        <p:spPr>
          <a:xfrm>
            <a:off x="1476360" y="4726080"/>
            <a:ext cx="2736720" cy="57924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73"/>
          <p:cNvSpPr/>
          <p:nvPr/>
        </p:nvSpPr>
        <p:spPr>
          <a:xfrm>
            <a:off x="1847880" y="56754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celta opportun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74" descr=""/>
          <p:cNvPicPr/>
          <p:nvPr/>
        </p:nvPicPr>
        <p:blipFill>
          <a:blip r:embed="rId7"/>
          <a:stretch/>
        </p:blipFill>
        <p:spPr>
          <a:xfrm>
            <a:off x="1476360" y="5805360"/>
            <a:ext cx="236520" cy="362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5"/>
          <p:cNvSpPr/>
          <p:nvPr/>
        </p:nvSpPr>
        <p:spPr>
          <a:xfrm>
            <a:off x="755640" y="472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7"/>
          <p:cNvSpPr/>
          <p:nvPr/>
        </p:nvSpPr>
        <p:spPr>
          <a:xfrm>
            <a:off x="777960" y="5661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D2C5-BF38-4208-B326-6A02AC8A442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assonomi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sistono 2 tipologie di descrittori di for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gion-bas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asati sull’area d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oundary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asati sugli edge della for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5148360" y="3213000"/>
            <a:ext cx="1008000" cy="358920"/>
          </a:xfrm>
          <a:prstGeom prst="leftArrow">
            <a:avLst>
              <a:gd name="adj1" fmla="val 50000"/>
              <a:gd name="adj2" fmla="val 7021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1E4D-D588-4132-BE9F-59DBA3780492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95280" y="909720"/>
            <a:ext cx="8137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a che la sottrazione del background puo’ essere inserita nel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Picture 53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3294000" cy="3456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4" descr=""/>
          <p:cNvPicPr/>
          <p:nvPr/>
        </p:nvPicPr>
        <p:blipFill>
          <a:blip r:embed="rId2"/>
          <a:stretch/>
        </p:blipFill>
        <p:spPr>
          <a:xfrm>
            <a:off x="5057640" y="2276640"/>
            <a:ext cx="3300480" cy="34844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Applicazione di una B-spline a Condensation (6)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4093-CB76-4F83-8F7B-BBC74628CC4F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Descrittori di forma basati sul contorno –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54723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line: curve parametri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lo spazio, parametro s, crescente, re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 determina lo sviluppo della cur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(s), y(s)= &lt; x(s), y(s)&gt;, con x,y particolari funzioni sp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tempo, parametro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(s,t)=&lt; x(s,t), y(s,t)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pline di ordine 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nzione polinomiale a trat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gni tratto (= span) polinomio di ordine d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5762520" y="2349360"/>
            <a:ext cx="33260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A1B8-3739-4171-B36F-FADDE3F4AD6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Descrittori di forma basati sul contorno –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rdine = numero di coefficienti necessari a definire un polinom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do = massimo esponente del polinom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rdine = 3, grado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 solito si usano polinomi di ordine 3 o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r approssimare una curva qualun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 aumenta l’ord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i aumenta il numero di span (scelta migliore computazionalmente)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244944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17DD-0DA7-42AF-A038-447A58803C7A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Descrittori di forma basati sul contorno – B-splin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a spline x(s) puo’ essere vista come somma pesata di funzioni base (le B-spline, appunto) B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s), n=0,...,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1 – da cui si parla di rappresentazione tramite B-spline, o semplicemente B-spli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caso più semplice (caso regolare) ogni funzione base è rappresentata da d polinomi ognuno definito su uno sp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r semplicità, definiamo uno span avente lunghezza unita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tti gli span sono collegati in corrispondenza di nodi (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kno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questo caso, la curva risultante ha continuità d-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2565360" cy="90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2232000" cy="496800"/>
          </a:xfrm>
          <a:prstGeom prst="rect">
            <a:avLst/>
          </a:prstGeom>
          <a:ln w="0">
            <a:noFill/>
          </a:ln>
        </p:spPr>
      </p:pic>
      <p:sp>
        <p:nvSpPr>
          <p:cNvPr id="80" name="Oval 8"/>
          <p:cNvSpPr/>
          <p:nvPr/>
        </p:nvSpPr>
        <p:spPr>
          <a:xfrm>
            <a:off x="2197080" y="3467160"/>
            <a:ext cx="360360" cy="360360"/>
          </a:xfrm>
          <a:prstGeom prst="ellipse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485080" y="299736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800000"/>
                </a:solidFill>
                <a:latin typeface="Arial"/>
              </a:rPr>
              <a:t>p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 flipH="1">
            <a:off x="2484000" y="3286080"/>
            <a:ext cx="73080" cy="14292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3"/>
          <a:stretch/>
        </p:blipFill>
        <p:spPr>
          <a:xfrm>
            <a:off x="5543640" y="3860640"/>
            <a:ext cx="3600360" cy="457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4"/>
          <a:stretch/>
        </p:blipFill>
        <p:spPr>
          <a:xfrm>
            <a:off x="5580000" y="2852640"/>
            <a:ext cx="1584360" cy="874800"/>
          </a:xfrm>
          <a:prstGeom prst="rect">
            <a:avLst/>
          </a:prstGeom>
          <a:ln w="0">
            <a:noFill/>
          </a:ln>
        </p:spPr>
      </p:pic>
      <p:sp>
        <p:nvSpPr>
          <p:cNvPr id="85" name="Line 14"/>
          <p:cNvSpPr/>
          <p:nvPr/>
        </p:nvSpPr>
        <p:spPr>
          <a:xfrm>
            <a:off x="3276720" y="2852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5602320" y="2781360"/>
            <a:ext cx="71280" cy="1655640"/>
          </a:xfrm>
          <a:custGeom>
            <a:avLst/>
            <a:gdLst>
              <a:gd name="textAreaLeft" fmla="*/ 45720 w 71280"/>
              <a:gd name="textAreaRight" fmla="*/ 71640 w 7128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D070-4E41-4CAA-AC4B-0D472B5EEB9D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Funzione di ba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916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11280" y="2924280"/>
            <a:ext cx="3384360" cy="2369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611280" y="5300640"/>
            <a:ext cx="352908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Funzione base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s) di ordin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efinita su 3 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parte da s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2"/>
          <a:stretch/>
        </p:blipFill>
        <p:spPr>
          <a:xfrm>
            <a:off x="4211640" y="2997360"/>
            <a:ext cx="445284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300720" y="63374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6D98-1ADB-4051-B996-2556CD9C8910}" type="slidenum">
              <a:rPr b="0" lang="it-IT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3689280" y="4775040"/>
            <a:ext cx="2322720" cy="64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6027840" cy="2982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Funzioni di base – basi equispaziat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414972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39640" y="4951440"/>
            <a:ext cx="648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Le spline si possono localizz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- Le basi in teoria si definiscono anche all’infinito, in prat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6084720" y="5468760"/>
            <a:ext cx="1224000" cy="2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55:16Z</dcterms:created>
  <dc:creator>Marco</dc:creator>
  <dc:description/>
  <dc:language>en-US</dc:language>
  <cp:lastModifiedBy>Marco Cristani</cp:lastModifiedBy>
  <dcterms:modified xsi:type="dcterms:W3CDTF">2015-05-26T07:56:59Z</dcterms:modified>
  <cp:revision>239</cp:revision>
  <dc:subject/>
  <dc:title>Diapositiva 1</dc:title>
</cp:coreProperties>
</file>