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6ED-DECB-4BBB-938E-3D9B0607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D77-021D-423E-914E-5A9A6DBF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33A-85CA-4D32-8A74-42C92423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B21-5A2F-499A-A92D-91C41F9F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F41E-4B69-4A2E-9429-4A45E5B4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CD9-2D1F-44A5-A81B-8A46B16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7232-122B-449D-A042-BF2AF7EF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8B4-C34C-4900-8755-AAD5B7A0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94B-90D1-4977-B750-571E89E9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D0B-71B6-402D-B20F-66CD035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AAEE-D641-4CA4-93EB-3714247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C80-BF2A-4D11-9C1D-10FE5CC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EC03-1206-48E2-92F2-E62039F19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251460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ECS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ecture 37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(April 25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m Henz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or all inputs i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there exist a safety-uncontrollable state s’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and an output 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such that  (s’,o)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possibleUpdates (s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safety-un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1066680"/>
            <a:ext cx="77724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ess Control Step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ute th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2743200"/>
            <a:ext cx="7391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all states 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there exists an input i    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for all states s’ and outputs o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if  (s’,o)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possibleUpdates (s,i)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then  s’ is 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  s is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556272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1 trans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10080" y="4800240"/>
            <a:ext cx="152640" cy="7621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2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1066680"/>
            <a:ext cx="838440" cy="10670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3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114440" y="106668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81480" y="38098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2286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 (can force plant into target in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4 tran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814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990720"/>
            <a:ext cx="762120" cy="1143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205740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1981080"/>
            <a:ext cx="1067040" cy="99072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438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53341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95280" y="3962520"/>
            <a:ext cx="60984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22096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5146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27432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219320" y="1675800"/>
            <a:ext cx="85068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1932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434340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9680" y="43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09680" y="3733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637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52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4648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16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5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276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638680" y="2971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895480" y="3200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3657600"/>
            <a:ext cx="373392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5715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helpful inputs (ensure progress towards target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safe inputs (keep plant out of uncontrollable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0880" y="2133720"/>
            <a:ext cx="85345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afety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safety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une from the state machine whose states are the consistent subsets of Safety-controllable and whose outputs ar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 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without successo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then it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66880" y="259092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1240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90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4343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se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12408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752480"/>
            <a:ext cx="8763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ubset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ess-controllable is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 there is an input i such that for all states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, all states in possibleUpdates (s,i)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uct the state machine whose states are the consistent subsets of Safety-controllable without target states (including the empty set Ø), and whose out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result contains possibleInitialStates (of the plant) as a state, and there is an acyclic, output-closed subgraph from possibleInitialStates to Ø, then prune away all states not in the subgraph; this is the desired Controller.  Otherwise, no controller exis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457200"/>
            <a:ext cx="85341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all Safety Control Step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ck consistent set of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rogress-controll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la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90720" y="2514600"/>
            <a:ext cx="73911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usual, if the plan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utput-determinist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n we need consider only consistent sets of size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n other words, the controller always knows the state of the pla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41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41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3915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915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76720" y="32767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76720" y="15238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862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943600" y="18288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676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960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026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696080" y="23623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2362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915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81680" y="457200"/>
            <a:ext cx="1828800" cy="4648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8320"/>
              <a:gd name="textAreaBottom" fmla="*/ 4559040 h 4648320"/>
            </a:gdLst>
            <a:ahLst/>
            <a:rect l="textAreaLeft" t="textAreaTop" r="textAreaRight" b="textAreaBottom"/>
            <a:pathLst>
              <a:path w="21600" h="54895">
                <a:moveTo>
                  <a:pt x="3600" y="0"/>
                </a:moveTo>
                <a:arcTo wR="3600" hR="3600" stAng="16200000" swAng="-5400000"/>
                <a:lnTo>
                  <a:pt x="0" y="51295"/>
                </a:lnTo>
                <a:arcTo wR="3600" hR="3600" stAng="10800000" swAng="-5400000"/>
                <a:lnTo>
                  <a:pt x="18000" y="54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33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8672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19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004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86200" y="3657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505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911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5257800" y="9900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320040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1447920"/>
            <a:ext cx="60948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17524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23880" y="19810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4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2286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143000" y="9144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43000" y="533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82880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288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13372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81280" y="20574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87800" y="38098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4343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199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56272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609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627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198108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3520" y="2895480"/>
            <a:ext cx="3733560" cy="2362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580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20968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put-deterministic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" y="6019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cyclic, output-closed sub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3526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3526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410080" y="431784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48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39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71500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8600" y="6019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u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64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84208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38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467352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0384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095880" y="48769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477504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91320" y="5029200"/>
            <a:ext cx="0" cy="81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60199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670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22760"/>
            <a:ext cx="609480" cy="355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81080" y="482616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09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52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3244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6386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962520" y="4978440"/>
            <a:ext cx="1600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7242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625880" y="46483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41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341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3915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915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76720" y="233676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276720" y="1168560"/>
            <a:ext cx="609480" cy="35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8862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9436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943600" y="13716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" y="1270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960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386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026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696080" y="1727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772400" y="1727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81680" y="457200"/>
            <a:ext cx="1828800" cy="30988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098880"/>
              <a:gd name="textAreaBottom" fmla="*/ 3009600 h 3098880"/>
            </a:gdLst>
            <a:ahLst/>
            <a:rect l="textAreaLeft" t="textAreaTop" r="textAreaRight" b="textAreaBottom"/>
            <a:pathLst>
              <a:path w="21600" h="36598">
                <a:moveTo>
                  <a:pt x="3600" y="0"/>
                </a:moveTo>
                <a:arcTo wR="3600" hR="3600" stAng="16200000" swAng="-5400000"/>
                <a:lnTo>
                  <a:pt x="0" y="32998"/>
                </a:lnTo>
                <a:arcTo wR="3600" hR="3600" stAng="10800000" swAng="-5400000"/>
                <a:lnTo>
                  <a:pt x="18000" y="36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4320" y="5079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58672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019920" y="2489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1148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2004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86200" y="2590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91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86200" y="24890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911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257800" y="812880"/>
            <a:ext cx="85104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219320" y="228600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219320" y="1117440"/>
            <a:ext cx="609480" cy="355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28800" y="132084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523880" y="147312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057400" y="914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44792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43000" y="761400"/>
            <a:ext cx="851040" cy="3553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43000" y="380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28800" y="25401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33720" y="2540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28800" y="2438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133720" y="2057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581280" y="152388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87800" y="2692440"/>
            <a:ext cx="850680" cy="35568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2767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20968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705720" y="1778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0199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562720" y="1828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257800" y="457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562720" y="1523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1952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09880" y="1473120"/>
            <a:ext cx="16002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72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33520" y="2082960"/>
            <a:ext cx="3733560" cy="1574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5800" y="3301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43400" y="60199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4920" y="4114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864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86400" y="607068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5438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429000" y="490212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6095880" y="510552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5003640"/>
            <a:ext cx="5335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791320" y="5257800"/>
            <a:ext cx="0" cy="8128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60199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2670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371600" y="4851360"/>
            <a:ext cx="609480" cy="355680"/>
          </a:xfrm>
          <a:prstGeom prst="ellipse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81080" y="5054760"/>
            <a:ext cx="144792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096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858000" y="55119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324480" y="4724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638680" y="5410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962520" y="5207040"/>
            <a:ext cx="160020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724280" y="5334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153280" y="4800600"/>
            <a:ext cx="355680" cy="558720"/>
          </a:xfrm>
          <a:custGeom>
            <a:avLst/>
            <a:gdLst/>
            <a:ahLst/>
            <a:rect l="l" t="t" r="r" b="b"/>
            <a:pathLst>
              <a:path w="224" h="352">
                <a:moveTo>
                  <a:pt x="0" y="224"/>
                </a:moveTo>
                <a:cubicBezTo>
                  <a:pt x="80" y="288"/>
                  <a:pt x="160" y="352"/>
                  <a:pt x="192" y="320"/>
                </a:cubicBezTo>
                <a:cubicBezTo>
                  <a:pt x="224" y="288"/>
                  <a:pt x="224" y="64"/>
                  <a:pt x="192" y="32"/>
                </a:cubicBezTo>
                <a:cubicBezTo>
                  <a:pt x="160" y="0"/>
                  <a:pt x="80" y="64"/>
                  <a:pt x="0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625880" y="48769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828800" y="685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ame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42670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1905120" y="2590920"/>
            <a:ext cx="1218960" cy="9144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2133720" y="2742840"/>
            <a:ext cx="312408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962160" y="2742840"/>
            <a:ext cx="2971800" cy="114300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6171840" y="2438280"/>
            <a:ext cx="114300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2057040" y="4114440"/>
            <a:ext cx="1219320" cy="106668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5791320" y="4190760"/>
            <a:ext cx="1218960" cy="9903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52280" y="152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33720" y="396252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2286000"/>
            <a:ext cx="43434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afety Control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81952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8195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ite-state machin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3434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733920"/>
            <a:ext cx="4343400" cy="10666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267080"/>
            <a:ext cx="8380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4267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373392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inite-state machine   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2819160"/>
            <a:ext cx="0" cy="144756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848720" y="281916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518148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ch that the composite system never enters a state i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plan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31240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8769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6019920" y="1143000"/>
            <a:ext cx="3045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819520" y="167652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4267080" y="106668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38080" y="3200400"/>
            <a:ext cx="152424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2285640" y="1066680"/>
            <a:ext cx="3429000" cy="2438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20040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1500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1143000"/>
            <a:ext cx="53316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286000" y="4800600"/>
            <a:ext cx="449568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9718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5105520"/>
            <a:ext cx="10666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257800" y="51814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8120" y="1905120"/>
            <a:ext cx="1066680" cy="9144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2767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105520" y="1905120"/>
            <a:ext cx="1066680" cy="914400"/>
          </a:xfrm>
          <a:prstGeom prst="ellipse">
            <a:avLst/>
          </a:prstGeom>
          <a:solidFill>
            <a:srgbClr val="99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34120" y="1981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66680" y="3429000"/>
            <a:ext cx="106704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295280" y="350532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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934320" y="3429000"/>
            <a:ext cx="1066680" cy="91440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162920" y="350532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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1980720" y="2666880"/>
            <a:ext cx="121932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038480" y="2590920"/>
            <a:ext cx="289584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2133720" y="2590920"/>
            <a:ext cx="3047760" cy="11430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095880" y="2590920"/>
            <a:ext cx="1067040" cy="9144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81080" y="4191120"/>
            <a:ext cx="1143000" cy="99036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5943240" y="4267080"/>
            <a:ext cx="1219320" cy="99072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228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green:  turn-1 / </a:t>
            </a:r>
            <a:r>
              <a:rPr b="0" lang="en-US" sz="2400" spc="-1" strike="noStrike">
                <a:solidFill>
                  <a:srgbClr val="0099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lue:     turn-2-adjacent / </a:t>
            </a:r>
            <a:r>
              <a:rPr b="0" lang="en-US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996600"/>
                </a:solidFill>
                <a:latin typeface="Comic Sans MS"/>
              </a:rPr>
              <a:t>red:      turn-2-diagonal / </a:t>
            </a:r>
            <a:r>
              <a:rPr b="0" lang="en-US" sz="2400" spc="-1" strike="noStrike">
                <a:solidFill>
                  <a:srgbClr val="996600"/>
                </a:solidFill>
                <a:latin typeface="CommonBullets"/>
                <a:ea typeface="CommonBullets"/>
              </a:rPr>
              <a:t>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05320" y="2819520"/>
            <a:ext cx="0" cy="2286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733920" y="2819520"/>
            <a:ext cx="1523880" cy="2361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114800" y="2362320"/>
            <a:ext cx="9907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33720" y="3886200"/>
            <a:ext cx="48006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09480" y="3263760"/>
            <a:ext cx="53352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7924680" y="3276720"/>
            <a:ext cx="533520" cy="104112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590920" y="1752480"/>
            <a:ext cx="533160" cy="1041480"/>
          </a:xfrm>
          <a:custGeom>
            <a:avLst/>
            <a:gdLst/>
            <a:ahLst/>
            <a:rect l="l" t="t" r="r" b="b"/>
            <a:pathLst>
              <a:path w="336" h="656">
                <a:moveTo>
                  <a:pt x="288" y="488"/>
                </a:moveTo>
                <a:cubicBezTo>
                  <a:pt x="188" y="572"/>
                  <a:pt x="88" y="656"/>
                  <a:pt x="48" y="584"/>
                </a:cubicBezTo>
                <a:cubicBezTo>
                  <a:pt x="8" y="512"/>
                  <a:pt x="0" y="112"/>
                  <a:pt x="48" y="56"/>
                </a:cubicBezTo>
                <a:cubicBezTo>
                  <a:pt x="96" y="0"/>
                  <a:pt x="216" y="124"/>
                  <a:pt x="336" y="24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562720" y="2819520"/>
            <a:ext cx="0" cy="228600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3809520" y="2743200"/>
            <a:ext cx="1600200" cy="243828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133720" y="4038480"/>
            <a:ext cx="4800600" cy="0"/>
          </a:xfrm>
          <a:prstGeom prst="line">
            <a:avLst/>
          </a:prstGeom>
          <a:ln w="38160">
            <a:solidFill>
              <a:srgbClr val="99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95360" y="2959200"/>
            <a:ext cx="799920" cy="171432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7771680" y="2971800"/>
            <a:ext cx="800280" cy="1714680"/>
          </a:xfrm>
          <a:custGeom>
            <a:avLst/>
            <a:gdLst/>
            <a:ahLst/>
            <a:rect l="l" t="t" r="r" b="b"/>
            <a:pathLst>
              <a:path w="504" h="1080">
                <a:moveTo>
                  <a:pt x="408" y="776"/>
                </a:moveTo>
                <a:cubicBezTo>
                  <a:pt x="268" y="928"/>
                  <a:pt x="128" y="1080"/>
                  <a:pt x="72" y="968"/>
                </a:cubicBezTo>
                <a:cubicBezTo>
                  <a:pt x="16" y="856"/>
                  <a:pt x="0" y="208"/>
                  <a:pt x="72" y="104"/>
                </a:cubicBezTo>
                <a:cubicBezTo>
                  <a:pt x="144" y="0"/>
                  <a:pt x="324" y="172"/>
                  <a:pt x="504" y="344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12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638680" y="1447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467480" y="2971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4800600"/>
            <a:ext cx="3962520" cy="1676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96252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638680" y="3808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ll states are progress-control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inputs are sa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781680" y="5715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subsets are consis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84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195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315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867280" y="5867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172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668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i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am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vs.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2438280"/>
            <a:ext cx="754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round consists of two moves: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Controller chooses plant input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Plant chooses pla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 plant stat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controller has a strategy to meet the objective (avoid error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 plant stat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plant has a strategy to violate the objective (reach an error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03848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 flipV="1">
            <a:off x="4800600" y="3886200"/>
            <a:ext cx="990720" cy="1447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882880" y="4368960"/>
            <a:ext cx="622440" cy="57132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648320" y="39625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819520" y="5257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8195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8195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819520" y="16002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4876920" y="34290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9966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48320" y="1219320"/>
            <a:ext cx="469800" cy="1447560"/>
          </a:xfrm>
          <a:custGeom>
            <a:avLst/>
            <a:gdLst/>
            <a:ahLst/>
            <a:rect l="l" t="t" r="r" b="b"/>
            <a:pathLst>
              <a:path w="296" h="912">
                <a:moveTo>
                  <a:pt x="48" y="912"/>
                </a:moveTo>
                <a:cubicBezTo>
                  <a:pt x="172" y="748"/>
                  <a:pt x="296" y="584"/>
                  <a:pt x="288" y="432"/>
                </a:cubicBezTo>
                <a:cubicBezTo>
                  <a:pt x="280" y="280"/>
                  <a:pt x="140" y="140"/>
                  <a:pt x="0" y="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4191120" y="129492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4876920" y="685800"/>
            <a:ext cx="622080" cy="571680"/>
          </a:xfrm>
          <a:custGeom>
            <a:avLst/>
            <a:gdLst/>
            <a:ahLst/>
            <a:rect l="l" t="t" r="r" b="b"/>
            <a:pathLst>
              <a:path w="392" h="360">
                <a:moveTo>
                  <a:pt x="392" y="272"/>
                </a:moveTo>
                <a:cubicBezTo>
                  <a:pt x="252" y="316"/>
                  <a:pt x="112" y="360"/>
                  <a:pt x="56" y="320"/>
                </a:cubicBezTo>
                <a:cubicBezTo>
                  <a:pt x="0" y="280"/>
                  <a:pt x="0" y="64"/>
                  <a:pt x="56" y="32"/>
                </a:cubicBezTo>
                <a:cubicBezTo>
                  <a:pt x="112" y="0"/>
                  <a:pt x="252" y="64"/>
                  <a:pt x="392" y="1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152280" y="152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429000" y="762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114800" y="380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29000" y="1676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114800" y="12952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29000" y="25909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,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2209680"/>
            <a:ext cx="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429000" y="35053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,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31240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429000" y="44197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038480"/>
            <a:ext cx="0" cy="3812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42900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4952880"/>
            <a:ext cx="0" cy="3812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334120" y="53341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876920" y="5562720"/>
            <a:ext cx="4572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238880" y="53341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81680" y="5562720"/>
            <a:ext cx="457200" cy="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533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Controller objective = SAFET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y away from the states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35812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lant objective = PROGRES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 to a state in the set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1981080"/>
            <a:ext cx="7010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ual control 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ler attempts to lead the plant into a specified set of states (the “targe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144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Control  vs.  Progr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74320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oles of Plant and Controller are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the progress-controllable states are not the safety-uncontrollable, because the game is not symmetric (the controller always moves fir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, the solutions are very simi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4100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03848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2286000"/>
            <a:ext cx="60984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124080"/>
            <a:ext cx="60948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41972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8195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2666880"/>
            <a:ext cx="1447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981080" y="342864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78560" y="4572000"/>
            <a:ext cx="85104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3124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3124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74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1219320"/>
            <a:ext cx="1828800" cy="46479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4647960"/>
              <a:gd name="textAreaBottom" fmla="*/ 4558680 h 4647960"/>
            </a:gdLst>
            <a:ahLst/>
            <a:rect l="textAreaLeft" t="textAreaTop" r="textAreaRight" b="textAreaBottom"/>
            <a:pathLst>
              <a:path w="21600" h="54891">
                <a:moveTo>
                  <a:pt x="3600" y="0"/>
                </a:moveTo>
                <a:arcTo wR="3600" hR="3600" stAng="16200000" swAng="-5400000"/>
                <a:lnTo>
                  <a:pt x="0" y="51291"/>
                </a:lnTo>
                <a:arcTo wR="3600" hR="3600" stAng="10800000" swAng="-5400000"/>
                <a:lnTo>
                  <a:pt x="18000" y="54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rror =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743200"/>
            <a:ext cx="1600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76720" y="175248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95280" y="2590200"/>
            <a:ext cx="851040" cy="53316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81280"/>
            <a:ext cx="1447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209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80880"/>
            <a:ext cx="3962520" cy="5715000"/>
          </a:xfrm>
          <a:custGeom>
            <a:avLst/>
            <a:gdLst>
              <a:gd name="textAreaLeft" fmla="*/ 193320 w 3962520"/>
              <a:gd name="textAreaRight" fmla="*/ 3769200 w 3962520"/>
              <a:gd name="textAreaTop" fmla="*/ 193320 h 5715000"/>
              <a:gd name="textAreaBottom" fmla="*/ 5521680 h 5715000"/>
            </a:gdLst>
            <a:ahLst/>
            <a:rect l="textAreaLeft" t="textAreaTop" r="textAreaRight" b="textAreaBottom"/>
            <a:pathLst>
              <a:path w="21600" h="31152">
                <a:moveTo>
                  <a:pt x="3600" y="0"/>
                </a:moveTo>
                <a:arcTo wR="3600" hR="3600" stAng="16200000" swAng="-5400000"/>
                <a:lnTo>
                  <a:pt x="0" y="27552"/>
                </a:lnTo>
                <a:arcTo wR="3600" hR="3600" stAng="10800000" swAng="-5400000"/>
                <a:lnTo>
                  <a:pt x="18000" y="31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5335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afety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066680"/>
            <a:ext cx="3657600" cy="4648320"/>
          </a:xfrm>
          <a:custGeom>
            <a:avLst/>
            <a:gdLst>
              <a:gd name="textAreaLeft" fmla="*/ 178560 w 3657600"/>
              <a:gd name="textAreaRight" fmla="*/ 3479040 w 3657600"/>
              <a:gd name="textAreaTop" fmla="*/ 178560 h 4648320"/>
              <a:gd name="textAreaBottom" fmla="*/ 4469760 h 4648320"/>
            </a:gdLst>
            <a:ahLst/>
            <a:rect l="textAreaLeft" t="textAreaTop" r="textAreaRight" b="textAreaBottom"/>
            <a:pathLst>
              <a:path w="21600" h="27450">
                <a:moveTo>
                  <a:pt x="3600" y="0"/>
                </a:moveTo>
                <a:arcTo wR="3600" hR="3600" stAng="16200000" swAng="-5400000"/>
                <a:lnTo>
                  <a:pt x="0" y="23850"/>
                </a:lnTo>
                <a:arcTo wR="3600" hR="3600" stAng="10800000" swAng="-5400000"/>
                <a:lnTo>
                  <a:pt x="18000" y="27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05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safety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2670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67080" y="3809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57200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152" y="0"/>
                </a:moveTo>
                <a:cubicBezTo>
                  <a:pt x="76" y="120"/>
                  <a:pt x="0" y="240"/>
                  <a:pt x="56" y="288"/>
                </a:cubicBezTo>
                <a:cubicBezTo>
                  <a:pt x="112" y="336"/>
                  <a:pt x="440" y="336"/>
                  <a:pt x="488" y="288"/>
                </a:cubicBezTo>
                <a:cubicBezTo>
                  <a:pt x="536" y="240"/>
                  <a:pt x="368" y="48"/>
                  <a:pt x="34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/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457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838080"/>
            <a:ext cx="9903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6019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ogress-uncontro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419720" y="4343040"/>
            <a:ext cx="121896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838080"/>
            <a:ext cx="10666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676160" y="3505320"/>
            <a:ext cx="685800" cy="259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5:10:30Z</dcterms:created>
  <dc:creator>tah</dc:creator>
  <dc:description/>
  <dc:language>en-US</dc:language>
  <cp:lastModifiedBy>tah</cp:lastModifiedBy>
  <dcterms:modified xsi:type="dcterms:W3CDTF">2001-04-25T09:03:17Z</dcterms:modified>
  <cp:revision>19</cp:revision>
  <dc:subject/>
  <dc:title>  </dc:title>
</cp:coreProperties>
</file>