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4E7-74D1-40A1-8D28-909C8F6E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C3A-D311-4369-9E6F-F3CCE416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0FC-5888-4A12-8C2A-4C685AE0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11E-0CE5-4E0D-B0F6-10C15A43F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223-CDF6-4B3F-93D8-B3FC212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FC4-06A3-48F2-8A81-D2CA959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E59-5AAE-4B37-8BA3-B64DC45B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258-0B73-4F8E-9FEE-1D8D8FCE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A82-422D-4D4F-87D8-13F8EF3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7D7-FCC6-4E27-8A24-CB73ABE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4DF-32F4-4B40-941A-D5F5EC5A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464-160F-457B-829B-BFEE39A6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AB91-5090-40BE-8B01-190496FD3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3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“uncontrollable”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2743200"/>
            <a:ext cx="73915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there exist an 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4100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410080" y="4800240"/>
            <a:ext cx="15264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286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(cannot prevent error state from being entered in 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1066680"/>
            <a:ext cx="0" cy="9907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066680" y="1066680"/>
            <a:ext cx="70106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66680" y="27432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02920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hosen control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410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 : 1 q : 1    r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219320" y="914400"/>
            <a:ext cx="70102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2514600"/>
            <a:ext cx="77724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controllable state s of the plant, choose one input i so that possibleUpdates (s,i) contains only controllabl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Controller keep track of the state of the Pl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f Plant is output-deterministic,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then Controller looks exactly like the controllable part of Plant, with inputs and outputs swapped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352680" y="259092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590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5846760"/>
            <a:ext cx="60948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5320" y="4508640"/>
            <a:ext cx="6094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915080"/>
            <a:ext cx="1800" cy="931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133720" y="4799160"/>
            <a:ext cx="1447560" cy="465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 flipV="1">
            <a:off x="2057400" y="5486040"/>
            <a:ext cx="1447920" cy="523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429000" y="4100400"/>
            <a:ext cx="85104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90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447920" y="4740120"/>
            <a:ext cx="850680" cy="4082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343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382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339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8600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5029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he Controller can be made receptive in any w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2743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f the Plant is not output-deterministic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00800" y="510552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80060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0292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715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ither 0 nor 1 is saf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219320" y="685800"/>
            <a:ext cx="701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p 2:  Design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62120" y="1676520"/>
            <a:ext cx="8001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Controllable be the controllable states of the Plant.  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states in possibleUpdates (s,i) are 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 M be the state machine whose states are the consistent subsets of Controllable.  Prune from M the states that have no successor, until no more states can be pru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52680" y="2286000"/>
            <a:ext cx="2362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762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733920"/>
            <a:ext cx="236232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146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55308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733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5181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(“closed-loop”) system satisfi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bjectiv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9480" y="4495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sub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752480" y="51055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51055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{p,r} : 0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{q,r}, {p,q,r}  not consistent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419720"/>
            <a:ext cx="167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} : 0, 1   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2200" y="4419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q} : 1        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72200" y="44197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r} : 0        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172200" y="4419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q} : 1     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72200" y="4419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{p,r} :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286000" y="58672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905120" y="59436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1828800" y="48769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6002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752480" y="5486400"/>
            <a:ext cx="1067040" cy="406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7432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11480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352680" y="4648320"/>
            <a:ext cx="7621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81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28800" y="3809880"/>
            <a:ext cx="2590920" cy="685800"/>
          </a:xfrm>
          <a:custGeom>
            <a:avLst/>
            <a:gdLst/>
            <a:ahLst/>
            <a:rect l="l" t="t" r="r" b="b"/>
            <a:pathLst>
              <a:path w="1632" h="432">
                <a:moveTo>
                  <a:pt x="1632" y="432"/>
                </a:moveTo>
                <a:cubicBezTo>
                  <a:pt x="1312" y="216"/>
                  <a:pt x="992" y="0"/>
                  <a:pt x="720" y="0"/>
                </a:cubicBezTo>
                <a:cubicBezTo>
                  <a:pt x="448" y="0"/>
                  <a:pt x="224" y="216"/>
                  <a:pt x="0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432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47920" y="4495680"/>
            <a:ext cx="609480" cy="4082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914400" y="4724280"/>
            <a:ext cx="533520" cy="1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52680" y="5486400"/>
            <a:ext cx="106704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81080" y="4800600"/>
            <a:ext cx="1676520" cy="6858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286000" y="4952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19720" y="533412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105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Contro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TI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4100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4674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352680" y="2798640"/>
            <a:ext cx="609840" cy="408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1460520"/>
            <a:ext cx="609840" cy="406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371600" y="2100240"/>
            <a:ext cx="609480" cy="407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0199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1692360"/>
            <a:ext cx="1447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962520" y="2973240"/>
            <a:ext cx="144756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38080" y="2274840"/>
            <a:ext cx="5335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7724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57150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3657600" y="1866960"/>
            <a:ext cx="1440" cy="93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981080" y="1751040"/>
            <a:ext cx="1447920" cy="46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 flipV="1">
            <a:off x="1981080" y="2333520"/>
            <a:ext cx="1447920" cy="52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378560" y="3206880"/>
            <a:ext cx="851040" cy="40644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772400" y="21002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848720" y="21002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467480" y="3613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5943600" y="1809360"/>
            <a:ext cx="1600200" cy="10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943600" y="21002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58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0199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528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911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581280" y="2100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3276720" y="1051920"/>
            <a:ext cx="85068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276720" y="685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267080" y="2973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2438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295280" y="1691640"/>
            <a:ext cx="851040" cy="4078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5120" y="2449440"/>
            <a:ext cx="1447560" cy="52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981080" y="2682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2952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28600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820800"/>
            <a:ext cx="3581280" cy="321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86400" y="878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295280" y="990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5800" y="3886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733920" y="5181480"/>
            <a:ext cx="1066680" cy="40644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,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523880" y="5148360"/>
            <a:ext cx="609840" cy="4078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90720" y="5322960"/>
            <a:ext cx="533160" cy="14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2133720" y="5333760"/>
            <a:ext cx="1600200" cy="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800600" y="504180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0" y="184"/>
                </a:moveTo>
                <a:cubicBezTo>
                  <a:pt x="160" y="92"/>
                  <a:pt x="320" y="0"/>
                  <a:pt x="384" y="40"/>
                </a:cubicBezTo>
                <a:cubicBezTo>
                  <a:pt x="448" y="80"/>
                  <a:pt x="448" y="384"/>
                  <a:pt x="384" y="424"/>
                </a:cubicBezTo>
                <a:cubicBezTo>
                  <a:pt x="320" y="464"/>
                  <a:pt x="160" y="372"/>
                  <a:pt x="0" y="2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562720" y="5181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Linear Systems are Not Finite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44956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2"/>
                <a:ea typeface="MS Reference 2"/>
              </a:rPr>
              <a:t>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(z-1) + x(z)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z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066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Simple Finite-State Systems are Not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2590920"/>
            <a:ext cx="121932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81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289548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: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724280"/>
            <a:ext cx="495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at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 y(z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44956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(z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x(z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,   x(z’) &gt;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44197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146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2971800"/>
            <a:ext cx="1219320" cy="1066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053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3505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2209680"/>
            <a:ext cx="1600200" cy="889200"/>
          </a:xfrm>
          <a:custGeom>
            <a:avLst/>
            <a:gdLst/>
            <a:ahLst/>
            <a:rect l="l" t="t" r="r" b="b"/>
            <a:pathLst>
              <a:path w="1008" h="560">
                <a:moveTo>
                  <a:pt x="336" y="560"/>
                </a:moveTo>
                <a:cubicBezTo>
                  <a:pt x="168" y="360"/>
                  <a:pt x="0" y="160"/>
                  <a:pt x="96" y="80"/>
                </a:cubicBezTo>
                <a:cubicBezTo>
                  <a:pt x="192" y="0"/>
                  <a:pt x="816" y="8"/>
                  <a:pt x="912" y="80"/>
                </a:cubicBezTo>
                <a:cubicBezTo>
                  <a:pt x="1008" y="152"/>
                  <a:pt x="840" y="332"/>
                  <a:pt x="672" y="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1828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100 /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1828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&gt; 10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 “i”  stands for any input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inite-State Control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out of a set of undesirable plant states (the “error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Finite-Stat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states of Pl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7:38Z</dcterms:modified>
  <cp:revision>11</cp:revision>
  <dc:subject/>
  <dc:title>  </dc:title>
</cp:coreProperties>
</file>