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1EE-D9BF-4E03-8426-105F5F1F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20D-D920-4FEB-949B-8E46F163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6897-8DEC-4C02-8864-BB98643F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96B-5FDC-4682-96E7-5C16ECCC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BE9-F640-4774-B11E-ED57CED5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20A-7604-4761-B24F-DF6675C5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711-F679-473D-A0D6-F7835FBD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301-A175-430F-97A5-4D259AD3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1347-6DE6-4B57-A525-D3296FBC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FC05-5617-481C-B501-FFB3FFFE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F831-5B91-4F72-86C8-E0B0D5E8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097B-DFE2-4519-91A0-F3B31145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603E-69A5-4842-8ACF-816276C3D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April 23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666880" y="22860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28195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37339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4267080"/>
            <a:ext cx="83844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37339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8288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84872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51814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never enters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1066680"/>
            <a:ext cx="70106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“uncontrollable”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2743200"/>
            <a:ext cx="73915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nputs i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there exist an uncontrollable state s’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and an output 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such that  (s’,o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(s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54100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(cannot prevent error state from being entered in 1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410080" y="4800240"/>
            <a:ext cx="15264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2286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(cannot prevent error state from being entered in 2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1066680"/>
            <a:ext cx="0" cy="990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5105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 control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066680" y="1066680"/>
            <a:ext cx="70106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27432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controllable state s of the plant, choose one input i so that possibleUpdates (s,i) contains only controllable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02920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hosen control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33720" y="54100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 : 1 q : 1    r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19320" y="914400"/>
            <a:ext cx="70102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2514600"/>
            <a:ext cx="77724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controllable state s of the plant, choose one input i so that possibleUpdates (s,i) contains only controllable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the Controller keep track of the state of the Pl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f Plant is output-deterministic,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then Controller looks exactly like the controllable part of Plant, with inputs and outputs swappe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352680" y="2590920"/>
            <a:ext cx="2362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762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2590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343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bj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5846760"/>
            <a:ext cx="60948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4508640"/>
            <a:ext cx="6094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9880" y="4915080"/>
            <a:ext cx="1800" cy="931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133720" y="4799160"/>
            <a:ext cx="1447560" cy="465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2057400" y="5486040"/>
            <a:ext cx="1447920" cy="523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9000" y="4100400"/>
            <a:ext cx="85104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290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90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1447920" y="4740120"/>
            <a:ext cx="85068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5846760"/>
            <a:ext cx="60948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05320" y="4508640"/>
            <a:ext cx="6094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9880" y="4915080"/>
            <a:ext cx="1800" cy="931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133720" y="4799160"/>
            <a:ext cx="1447560" cy="465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2057400" y="5486040"/>
            <a:ext cx="1447920" cy="523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429000" y="4100400"/>
            <a:ext cx="85104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4290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90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447920" y="4740120"/>
            <a:ext cx="85068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382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339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0" y="579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81480" y="502920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he Controller can be made receptive in any wa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143000" y="2743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f the Plant is not output-deterministic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510552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80060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0292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00800" y="510552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80060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0292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5715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ither 0 nor 1 is saf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800600" y="504180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5627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1219320" y="685800"/>
            <a:ext cx="7010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  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2120" y="1676520"/>
            <a:ext cx="8001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Controllable be the controllable states of the Plant.  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l states in possibleUpdates (s,i) are 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M be the state machine whose states are the consistent subsets of Controllable.  Prune from M the states that have no successor, until no more states can be pru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then it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52680" y="2286000"/>
            <a:ext cx="2362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762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286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3733920"/>
            <a:ext cx="236232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146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55308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3733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5181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(“closed-loop”) system satisfies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bjectiv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09480" y="44956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sub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752480" y="51055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} : 0, 1   {q} : 1        {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51055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q} : 1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{p,r} : 0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q,r}, {p,q,r}  not consistent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172200" y="441972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} : 0, 1   {q} : 1        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44197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q} : 1        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172200" y="44197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172200" y="4419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172200" y="4419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286000" y="58672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905120" y="5943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8280" y="1143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Contro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8954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TI Pl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800600" y="504180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5627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6680" y="1066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Simple Linear Systems are Not Finite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2590920"/>
            <a:ext cx="1219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472428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y(z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4495680"/>
            <a:ext cx="403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z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Reference 2"/>
                <a:ea typeface="MS Reference 2"/>
              </a:rPr>
              <a:t>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(z-1) + x(z)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z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419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66680" y="1066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Simple Finite-State Systems are Not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2590920"/>
            <a:ext cx="1219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72428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y(z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44956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(z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,  x(z’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,   x(z’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4419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14600" y="2971800"/>
            <a:ext cx="121932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2971800"/>
            <a:ext cx="121932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3505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1600200" cy="889200"/>
          </a:xfrm>
          <a:custGeom>
            <a:avLst/>
            <a:gdLst/>
            <a:ahLst/>
            <a:rect l="l" t="t" r="r" b="b"/>
            <a:pathLst>
              <a:path w="1008" h="560">
                <a:moveTo>
                  <a:pt x="336" y="560"/>
                </a:moveTo>
                <a:cubicBezTo>
                  <a:pt x="168" y="360"/>
                  <a:pt x="0" y="160"/>
                  <a:pt x="96" y="80"/>
                </a:cubicBezTo>
                <a:cubicBezTo>
                  <a:pt x="192" y="0"/>
                  <a:pt x="816" y="8"/>
                  <a:pt x="912" y="80"/>
                </a:cubicBezTo>
                <a:cubicBezTo>
                  <a:pt x="1008" y="152"/>
                  <a:pt x="840" y="332"/>
                  <a:pt x="672" y="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2209680"/>
            <a:ext cx="1600200" cy="889200"/>
          </a:xfrm>
          <a:custGeom>
            <a:avLst/>
            <a:gdLst/>
            <a:ahLst/>
            <a:rect l="l" t="t" r="r" b="b"/>
            <a:pathLst>
              <a:path w="1008" h="560">
                <a:moveTo>
                  <a:pt x="336" y="560"/>
                </a:moveTo>
                <a:cubicBezTo>
                  <a:pt x="168" y="360"/>
                  <a:pt x="0" y="160"/>
                  <a:pt x="96" y="80"/>
                </a:cubicBezTo>
                <a:cubicBezTo>
                  <a:pt x="192" y="0"/>
                  <a:pt x="816" y="8"/>
                  <a:pt x="912" y="80"/>
                </a:cubicBezTo>
                <a:cubicBezTo>
                  <a:pt x="1008" y="152"/>
                  <a:pt x="840" y="332"/>
                  <a:pt x="672" y="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1828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0 /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1828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/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3048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&gt; 100 /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“i”  stands for any input valu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0720" y="198108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st Finite-State Control Obj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out of a set of undesirable plant states (the “error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66880" y="259092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59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4343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states of Pl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31240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10:30Z</dcterms:created>
  <dc:creator>tah</dc:creator>
  <dc:description/>
  <dc:language>en-US</dc:language>
  <cp:lastModifiedBy>tah</cp:lastModifiedBy>
  <dcterms:modified xsi:type="dcterms:W3CDTF">2001-04-25T09:07:38Z</dcterms:modified>
  <cp:revision>11</cp:revision>
  <dc:subject/>
  <dc:title>  </dc:title>
</cp:coreProperties>
</file>