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197-AA6A-4A7F-BDC5-50061D6F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E91-C5A2-4806-A586-9E56A24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934-5244-4ADA-ABDC-8C7D8D0A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14B-4E23-476F-8B66-F960332B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DE23-C7DC-490E-97EE-E29AED94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799D-A530-4A27-91A5-2EBBA8DE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F4D2-C06A-4F48-B9B1-E846101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94C7-FFB9-4B7C-93B6-E2D1E6F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5D42-60B8-4B36-B8E2-2775486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2B7E-E5B0-4211-8E71-8BBD265F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1F37-F0F0-4D00-8249-B04F87F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44F-99C2-42EA-8B7D-334C8533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4694-074F-4E81-A5AD-C65B21C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29AC-091D-42C4-9239-0207A80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015B-3037-4AA9-926A-89AC2C6C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C995-035A-462A-ABE9-6D413C71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26A0-82DA-4837-8537-5C5A7D3F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4C7-F8A7-442F-A95C-3173019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DF5-FDF6-4D81-98A7-B5B0265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17D-E59F-4D20-88D6-24C7468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E2C-AD2D-4D2A-8F81-E390755B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71F-3F82-48F3-AFEF-1022A913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EFA-741B-4D92-947E-82248DF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A3A-A3F8-4202-8D34-FE92F09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40B-D15F-47FE-ABC7-2094BA8A4D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0CD2-BD61-45BF-976E-7649D8E48B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asyjet.com/en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e intervenire su un testo per ottimizzarlo o semplificarl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M. Zaccarell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Ottobre 2008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mpi di caratteri ‘parlanti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atteri ‘ingenui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atteri sofistic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easyJet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781360"/>
            <a:ext cx="3879720" cy="1154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61358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l parates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cura degli apparati che accompagnano il testo possono diventare strumento di semplificazio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llegati, Cappelli introduttivi, Note, Glossari, Sintesi, Indici, Introduzioni, ec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miti alla semplific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 si può semplificare proprio tutto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lti documenti pubblici sono frutto di mediazioni e negoziazioni fra finalità diverse e per questo è impossibile eliminare all’origine ogni ambiguità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l lavoro del semplificatore in questi casi si svolge tramite l’introduzione di adeguati apparati paratestual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Esempio di testo non linear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l ventenne Willie B. è un instancabile appassionato della TV. Odia il telegiornale e le interviste, ma ama il football e si eccita talmente davanti alla pubblicità degli alimentari che a volte si avventa contro lo schermo agitando un pugno. Dice un amico: «È come un bambino piccolo». Willie B. è un gorilla di 450 libbre dello zoo di Atlanta. A dicembre un venditore di televisori del Tennessee ha sentito della vita solitaria di Willie B., unico gorilla dello zoo di Atlanta, e gli ha regalato un televiso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Testo linearizzat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Nello zoo di Atlanta c’è un gorilla, al quale è stato dato il nome di Willie B.: ha vent’anni, e pesa 450 libbre. Poiché non è stato possibile trovargli una compagna, un venditore di televisori del Tennessee ha pensato di distrarlo regalandogli, lo scorso dicembre, un televisore. Il regalo è stato gradito dall’interessato, che è diventato uno spettatore instancabile della TV. Odia il telegiornale e le interviste, ma ama il football e si eccita talmente davanti alla pubblicità degli alimentari che a volte si avventa contro lo schermo agitando un pugno. Dice un inserviente: «È come un bambino piccolo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rcizi proposti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crittura di un dialogo in un resoconto (l'esercizio è collegato all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verbalizzazi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crittura di un messaggio prodotto per destinatari differenti (ad es. divulgazione di un testo scientifico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rcizi proposti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isi di scritture giornalistiche, riconoscimento dei principali tratti ‘marcati’ e riscrittura migliorativa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isi di brani di italiano popolare (ad esempio: lettere di lettori di giornali locali o di prigionieri di guerra ecc.) e loro riscrittura formale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pologia di interven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aziona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o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as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zazione complessiva del te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f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agin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menti grafici di compend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si prelimina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cazione del fine comunicativ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cazione del destinatario (singolo o collettivo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raccolta, la selezione e l'ordinamento delle idee (uso delle mappe cognitive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paro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rocratiche (da sostituire) vs. Tecniche (da spiegare con gloss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itare le abbreviazioni (o scioglierle) quando non opportu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itare inutili complessità, ad es.: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Afferente, all’atto, apposito, demandare, emolumenti, in ragione di, nonché, previo, quota parte, vigenti. ec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fr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no da preferi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rasi brevi (spezzare i periodi, 20-25 paro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struzione person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struzione at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l tes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za di identificare l’ogge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suddivisione in paragrafi e se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gerarchia dei contenu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rete dei riferim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sura della prima boz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crittura per capitoli, paragrafi e capoversi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so di lessico disambiguato, di strutture sintattiche scorrevoli, di una struttura organica, di un paratesto funzionale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nseguimento dell'</a:t>
            </a:r>
            <a:r>
              <a:rPr b="0" lang="it-IT" sz="2400" spc="-1" strike="noStrike" u="sng">
                <a:solidFill>
                  <a:srgbClr val="003366"/>
                </a:solidFill>
                <a:uFillTx/>
                <a:latin typeface="Arial"/>
              </a:rPr>
              <a:t>unità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mediante l'uso efficiente di connettivi testuali e di elementi di transizione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ttenimento dell'</a:t>
            </a:r>
            <a:r>
              <a:rPr b="0" lang="it-IT" sz="2400" spc="-1" strike="noStrike" u="sng">
                <a:solidFill>
                  <a:srgbClr val="003366"/>
                </a:solidFill>
                <a:uFillTx/>
                <a:latin typeface="Arial"/>
              </a:rPr>
              <a:t>efficienz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tramite una costruzione con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topic statement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e frasi di support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isione e corr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fica della funzionalità del testo ai fini comunicativi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lo della sua coerenza, della sua omogeneità, della sua chiarezza, della sua strutturazione trasparente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zione degli errori stilistici, grammaticali e meccanici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graf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scelta del caratt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suddivisione in paragra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titol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tenzione all’impagin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51:59Z</dcterms:created>
  <dc:creator>Michelangelo</dc:creator>
  <dc:description/>
  <dc:language>en-US</dc:language>
  <cp:lastModifiedBy>Michelangelo Zaccarelo</cp:lastModifiedBy>
  <dcterms:modified xsi:type="dcterms:W3CDTF">2008-10-12T20:34:13Z</dcterms:modified>
  <cp:revision>9</cp:revision>
  <dc:subject/>
  <dc:title>Come intervenire su un testo per semplificarlo</dc:title>
</cp:coreProperties>
</file>