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4C2-D307-43AE-A81D-6A5CF459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BD4-6556-4D92-BE52-31D625F4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F9F-FA3D-43A5-8F7B-D1136AA2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A9F-F126-4574-986F-3F748D73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4DC0-CCB1-424C-ACB0-ABE53DCF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E749-16DE-4621-8660-5D8043BB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8F23-0707-4590-820A-38E6BA28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4EB9-9080-4EE7-B46A-4BBA492F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674D-B465-46DF-8B30-A3D0CF47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193E-F1E4-4F49-A0BF-1FC07223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95A1-903F-43E2-8268-45133E0E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ABB-75B9-4BFB-BD33-E2A63869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DD13-9774-4BA6-93EB-6D8F5F94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1D70-A992-447E-8F52-C0682FD4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E909-A146-4419-9BDA-E1A98E3D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4C41-F04B-4B54-B5CB-7D484234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7A67-6F93-42F1-B35B-B6D97B65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A26-04A2-4D20-A8F7-3B8F6D03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614-A9E5-4157-83CE-7C1C3279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299-0D7B-4DE2-94CD-B76753DC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8E1-6F33-444B-817E-5C422FE0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F8D-F683-40D5-82F8-1DC7F065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CE1-CF7F-402E-A40A-1CB20731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961-2CF4-4C95-8CC1-14C2CA79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8010-9957-412A-A9AB-BA81EDDDB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3186-9B5F-4F3B-A3BD-D99980817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b7"/>
                </a:solidFill>
                <a:latin typeface="Arial Black"/>
              </a:rPr>
              <a:t>Forma, struttura e tradizione della lettera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ingua Italiana. Ottobre 2008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Sistemi di datazion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data era solitamente divisa tra protocollo, dove compaiono il giorno della settimana e del mese insieme al luogo - spesso con una particolareggiata menzione del luogo esatto in cui avviene la transazione ecc. – e l’escatocollo, dove, introdotti d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act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vengono specificati anno e indizione, cui seguono i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igill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l’autore, la menzione dei testimoni mediante la formul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terfuerunt tes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 infine la sottoscrizione notarile, in cui l’espressione usata per indicare il ruolo del rogatario (ruolo giuridico e esecutorio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lettera azienda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"Egr. Sig./Gent.ma Sig.ra con la presente La infomiamo che, per effetto del riassetto aziendale di cui alla mia precedente e degli accordi intercorsi fra le Società coinvolte, a partire dal 1.01.1995 supporteremo la ditta Giglio SRL in tutte le attivita' di relazioni pubbliche e comunicazione con i mezzi di informazione. Siamo quindi a Sua completa disposizione per ogni informazione Le sia necessaria relativamente a questa societa'. Cordiali saluti."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b7"/>
                </a:solidFill>
                <a:latin typeface="Arial Black"/>
              </a:rPr>
              <a:t>Il romanzo epistolare: “Le ultime lettere di Jacopo Ortis”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8 Ottobre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[1797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chele mi ha recato il Plutarco, e te ne ringrazio. Mi disse che con altra occasione m'invierai qualche altro libro; per ora basta. Col divino Plutarco potrò consolarmi de' delitti e delle sciagure dell'umanità volgendo gli occhi ai pochi illustri che quasi primati dell'umano genere sovrastano a tanti secoli e a tante genti. Temo per altro che spogliandoli della magnificenza storica e della riverenza per l'antichità, non avrò assai da lodarmi né degli antichi, né de' moderni, né di me stesso - umana razza!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ttera, epistola, missiv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l contesto pragmatico e comunicativ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base etimologica (gr. 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Epistèllein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, lat. 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Mitter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‘mandare’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unzione sociale e dispositiva (lettere politiche nel mondo antico, lettere degli Aposto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rittura privata e scrittura ufficia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zione e scrittura (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actio et conscripti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inalità pratiche della scrittura nell’ordinamento della comunità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arallelismo formale e contenutistico fra la forma epistolare e la struttura di atti giuridici e decreti amministrativ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’esordio o protocollo nella forma epistol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Intitolazione (mittente) – intestazione della carta nei contesti aziendali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Iscrizione  (destinatario, formule di ossequio e saluto secondo il rapporto personale e la gerarchia social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’esordio o protocollo nell’atto giuridic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Invocazione (legittimità del potere attraverso l’appello alla divinità o alla sovranità politi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Intitolazione (autorità emittente/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Iscrizione (destinatari del provvediment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b7"/>
                </a:solidFill>
                <a:latin typeface="Arial Black"/>
              </a:rPr>
              <a:t>Il mesocollo (corpo del testo) nella forma epistolar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) aggiornamento sul contes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b) parti narrative (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narrati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) appello, richiesta, preghiera (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petiti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b7"/>
                </a:solidFill>
                <a:latin typeface="Arial Black"/>
              </a:rPr>
              <a:t>Il mesocollo (corpo del testo) nell’atto giuridico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. Arringa (introduzione/ premessa¸considerazione degli antecedenti [“visto … visto … ”]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2. Promulgazione (notifica di una risoluzione generale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3. Narrazione (stato attuale, motivazioni immediate e contesto giuridico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4. Disposizione (delibera enunciata in termini specifici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5. Sanzione (conseguenze pratiche del punto 4 [termini cronologici, provvedimenti restrittivi …]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6. Corroborazione (ratifica e testimonianza della validità dell’atto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b7"/>
                </a:solidFill>
                <a:latin typeface="Arial Black"/>
              </a:rPr>
              <a:t>L’escatocollo (congedo) nella forma epistol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ormule di augurio, spesso in nome di … (nuovi riferimenti al potere e alla divinità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atazione secondo il sistema corren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aluti finali (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salutati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b7"/>
                </a:solidFill>
                <a:latin typeface="Arial Black"/>
              </a:rPr>
              <a:t>L’escatocollo (congedo) nell’atto giuridic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1. Sottoscrizione di estensori e/o testimoni (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subscripti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2. “Actum et datum” (luogo, data dell’att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3. Augurio fin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07:18:27Z</dcterms:created>
  <dc:creator>michelangelo</dc:creator>
  <dc:description/>
  <dc:language>en-US</dc:language>
  <cp:lastModifiedBy>Michelangelo Zaccarelo</cp:lastModifiedBy>
  <dcterms:modified xsi:type="dcterms:W3CDTF">2008-10-06T09:57:22Z</dcterms:modified>
  <cp:revision>3</cp:revision>
  <dc:subject/>
  <dc:title>Forma, struttura e tradizione della lettera </dc:title>
</cp:coreProperties>
</file>