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F53-4522-403D-BD1D-D5ECB189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C237-6E4B-414A-9BB3-7CC26BE8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744D-3B90-4ADA-88D5-A01BE412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9716-9384-4C1B-9E68-F12DD43B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64F3A-7B62-499D-8066-56F5DDB1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0B77A-F4E7-4140-973A-8D71D59C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21A83-EFCB-4268-A728-030D4418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EA4D1-A0E8-45D8-A1D0-FE1BA9E4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14F01-15B4-4CA1-8D9D-9060AF50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6F2AF-5A4F-4CAC-8574-CE1A5418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F1A07-AC35-4239-A81B-ED50D308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7839-677C-4DB9-81BE-D963B18D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6BA80-7D79-4840-816B-CCAACEBA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EEDDB-2CAC-49A2-9ECB-522A7AED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7295B-3245-4652-AC84-C7CAEB07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40195-1E96-4CF4-89BA-647CC03A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84CC2-0D3F-4CBB-8567-8BA162C9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020A-A38B-411A-A650-7C256CA7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8B14-DB35-4FD7-973F-4AC4F987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0144-FD43-4780-81CD-ED846D66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906A-A36F-49F5-AA9E-518C1435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123C-45E9-410D-BC15-B77D4E58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346-8EF5-4AFF-ACFC-FE15DC6A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142-59AD-442D-8DA4-2A3E2C62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FF75-1F99-4B81-9643-BADDBDB774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5CBE-A891-4920-AC6A-6556558E0A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Arial"/>
              </a:rPr>
              <a:t>L’oralità messa per iscritto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erbali, resoconti ecc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M. Zaccarello, novembre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inee gui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icostruire e riassumere il dibattito nell’ordine e con le priorità indicate all’o.d.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istinzione fra le proposte, le delibere e l’indicazione degli incarichi per future attività o reporting (gruppi di lavoro ecc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&gt; in inglese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to note / action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tazioni e delibe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orre indicare se una decisione è stata presa all’unanimità, e altrimenti specificare i voti favorevoli, contrari ed astenut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o se una proposta scaturisce da un intervent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dividua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occorrerà ricordarlo nel verba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Struttura base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628280"/>
            <a:ext cx="8229600" cy="449604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4464360" y="584280"/>
            <a:ext cx="3349800" cy="5510880"/>
            <a:chOff x="4464360" y="584280"/>
            <a:chExt cx="3349800" cy="5510880"/>
          </a:xfrm>
        </p:grpSpPr>
        <p:sp>
          <p:nvSpPr>
            <p:cNvPr id="147" name=""/>
            <p:cNvSpPr/>
            <p:nvPr/>
          </p:nvSpPr>
          <p:spPr>
            <a:xfrm>
              <a:off x="4464360" y="584280"/>
              <a:ext cx="1188360" cy="324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Titol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64360" y="1449360"/>
              <a:ext cx="2809440" cy="323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Elenco presenti / assent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64360" y="1016640"/>
              <a:ext cx="2809440" cy="324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Intestazion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64360" y="1881360"/>
              <a:ext cx="2809440" cy="324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Presidente / segret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64360" y="2421720"/>
              <a:ext cx="2809440" cy="323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[Apertura seduta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64360" y="2962080"/>
              <a:ext cx="3349800" cy="1727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Sintesi della discussion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(votazioni, delibere etc.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64360" y="4907160"/>
              <a:ext cx="3025800" cy="323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Chiusura sedu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64360" y="5339520"/>
              <a:ext cx="3025800" cy="324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Firma presidente e segr.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64360" y="5771880"/>
              <a:ext cx="3025800" cy="323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Approvazion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3e3ff"/>
                </a:solidFill>
                <a:latin typeface="Arial"/>
              </a:rPr>
              <a:t>Un esempio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 dott. Rossi, dell’area Marketing, suggerisce di estendere l’azione di promozione rivolta alle casalinghe nella fascia 25-35 anni alle fasce più mature. Tale indicazione è approvata all’unanimità. Pertanto si incarica il sig. Neri di provvedere a una bozza di programma operativo, da presentare per la prossima riunione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3e3ff"/>
                </a:solidFill>
                <a:latin typeface="Arial"/>
              </a:rPr>
              <a:t>Il </a:t>
            </a:r>
            <a:r>
              <a:rPr b="0" i="1" lang="it-IT" sz="4000" spc="-1" strike="noStrike">
                <a:solidFill>
                  <a:srgbClr val="e3e3ff"/>
                </a:solidFill>
                <a:latin typeface="Arial"/>
              </a:rPr>
              <a:t>notarius</a:t>
            </a:r>
            <a:r>
              <a:rPr b="0" lang="it-IT" sz="4000" spc="-1" strike="noStrike">
                <a:solidFill>
                  <a:srgbClr val="e3e3ff"/>
                </a:solidFill>
                <a:latin typeface="Arial"/>
              </a:rPr>
              <a:t> medievale: </a:t>
            </a:r>
            <a:br>
              <a:rPr sz="4000"/>
            </a:br>
            <a:r>
              <a:rPr b="0" lang="it-IT" sz="4000" spc="-1" strike="noStrike">
                <a:solidFill>
                  <a:srgbClr val="e3e3ff"/>
                </a:solidFill>
                <a:latin typeface="Arial"/>
              </a:rPr>
              <a:t>un custode della performance oral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pula di contratti e transazioni fra parti che non padroneggiano la scrittura e/o la lingua uffici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osizione di testimoni che ignorano il latino in un contesto processu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Un esempio celebre: 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 </a:t>
            </a:r>
            <a:r>
              <a:rPr b="0" i="1" lang="en-US" sz="4000" spc="-1" strike="noStrike">
                <a:solidFill>
                  <a:srgbClr val="e3e3ff"/>
                </a:solidFill>
                <a:latin typeface="Arial"/>
              </a:rPr>
              <a:t>Placiti campani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apua, 960 AD (1); Teano, 963 AD; Sessa Aurunca, 963 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(1) Sao ko kelle terre, per kelle fini que ki contene, trenta anni le possette parte sancti Benedicti.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(3) Sao cco kelle terre, per kelle fini que tebe monstrai, Pergoaldi foro, que ki contene, et trenta anni le possette.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3e3ff"/>
                </a:solidFill>
                <a:latin typeface="Arial"/>
              </a:rPr>
              <a:t>Problemi analoghi oggi:</a:t>
            </a:r>
            <a:br>
              <a:rPr sz="4000"/>
            </a:br>
            <a:r>
              <a:rPr b="0" lang="it-IT" sz="4000" spc="-1" strike="noStrike">
                <a:solidFill>
                  <a:srgbClr val="e3e3ff"/>
                </a:solidFill>
                <a:latin typeface="Arial"/>
              </a:rPr>
              <a:t>la dimensione diastratic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iduzione del regionalismo e della dialettalità alla lingua ufficia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(connesso ad aspetti diatopici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iduzione di tratti dell’italiano popolare allo stile e ai modi della lingua ufficia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3e3ff"/>
                </a:solidFill>
                <a:latin typeface="Arial"/>
              </a:rPr>
              <a:t>Problemi analoghi oggi:</a:t>
            </a:r>
            <a:br>
              <a:rPr sz="4000"/>
            </a:br>
            <a:r>
              <a:rPr b="0" lang="it-IT" sz="4000" spc="-1" strike="noStrike">
                <a:solidFill>
                  <a:srgbClr val="e3e3ff"/>
                </a:solidFill>
                <a:latin typeface="Arial"/>
              </a:rPr>
              <a:t>la dimensione diastratica (2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oltà di conciliare l’obbligo della fedele riproduzione di quanto è stato detto con l’equilibrio stilistico del nuovo cont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per i contadini di Capua, misurarsi con diversi strati sociali significa confrontarsi con varietà linguistiche spesso antagonistiche (dialetti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3e3ff"/>
                </a:solidFill>
                <a:latin typeface="Arial"/>
              </a:rPr>
              <a:t>Problemi analoghi oggi:</a:t>
            </a:r>
            <a:br>
              <a:rPr sz="4000"/>
            </a:br>
            <a:r>
              <a:rPr b="0" lang="it-IT" sz="4000" spc="-1" strike="noStrike">
                <a:solidFill>
                  <a:srgbClr val="e3e3ff"/>
                </a:solidFill>
                <a:latin typeface="Arial"/>
              </a:rPr>
              <a:t>la dimensione diamesic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iduzione dei modi del parlato alla sintassi della lingua scritt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spetti connessi alla sintassi orale (topicalizzazioni, ripetizioni, parti sottintese, frasi spezzate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spetti connessi all’intonazi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spetti connessi alla gestualità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3e3ff"/>
                </a:solidFill>
                <a:latin typeface="Arial"/>
              </a:rPr>
              <a:t>L’erede del </a:t>
            </a:r>
            <a:r>
              <a:rPr b="0" i="1" lang="it-IT" sz="4000" spc="-1" strike="noStrike">
                <a:solidFill>
                  <a:srgbClr val="e3e3ff"/>
                </a:solidFill>
                <a:latin typeface="Arial"/>
              </a:rPr>
              <a:t>notarius</a:t>
            </a:r>
            <a:r>
              <a:rPr b="0" lang="it-IT" sz="4000" spc="-1" strike="noStrike">
                <a:solidFill>
                  <a:srgbClr val="e3e3ff"/>
                </a:solidFill>
                <a:latin typeface="Arial"/>
              </a:rPr>
              <a:t>: il segretario verbalizzant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pplicare al delicato lavoro di trascodifica orale -&gt; scritto i consueti criteri 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Brevit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ccuratezza / Chiarez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saustività (tutto il necessar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Oggettività (evitare interpretazioni personali che alterino i contenut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’</a:t>
            </a:r>
            <a:r>
              <a:rPr b="0" i="1" lang="en-US" sz="4400" spc="-1" strike="noStrike">
                <a:solidFill>
                  <a:srgbClr val="e3e3ff"/>
                </a:solidFill>
                <a:latin typeface="Arial"/>
              </a:rPr>
              <a:t>identikit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della riunio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uogo, data, ora della riunion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dentità del gruppo dei convocati (Consiglio, commissione, gruppo di lavoro…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resenze / assenz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Motivazioni della riunione (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ordine del giorno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e3e3ff"/>
                </a:solidFill>
                <a:latin typeface="Arial"/>
              </a:rPr>
              <a:t>L’ordine del giorno </a:t>
            </a:r>
            <a:r>
              <a:rPr b="0" lang="it-IT" sz="4400" spc="-1" strike="noStrike">
                <a:solidFill>
                  <a:srgbClr val="e3e3ff"/>
                </a:solidFill>
                <a:latin typeface="Arial"/>
              </a:rPr>
              <a:t>(o.d.g.)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ventuali riferimenti ad incontri precedenti (istituzione gruppo, approvazione verbali ecc.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e voci dell’o.d.g. vanno contrassegnate con numeri o lettere che aiutino i membri ad identificarl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ali cifre guidano la suddivisione in paragrafi del verb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8:37:54Z</dcterms:created>
  <dc:creator>michelangelo</dc:creator>
  <dc:description/>
  <dc:language>en-US</dc:language>
  <cp:lastModifiedBy>Michelangelo Zaccarelo</cp:lastModifiedBy>
  <dcterms:modified xsi:type="dcterms:W3CDTF">2008-11-10T13:36:40Z</dcterms:modified>
  <cp:revision>7</cp:revision>
  <dc:subject/>
  <dc:title>L’oralità messa per iscritto Verbali, resoconti ecc.</dc:title>
</cp:coreProperties>
</file>