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A1C-D02E-4651-9D9D-9BF7D3F2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BCA-22F7-443F-971B-C5353D12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BCB-37E7-4101-B627-8BC33C2D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83D-A616-47F3-809B-7F311CAA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CB6F-8C61-4771-8BD3-C59939F2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5AB1-1869-4E1B-A900-34AFD5EF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0E1B-4401-4EBE-B3E7-C1D4EDAF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2F2D-A43F-4780-98B3-6BA27F78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B9C5-DB8D-4A56-9294-D1E48A5E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699D-9506-4D65-B6D4-C10CC1DA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123C-B4FA-43BC-9490-3763A5D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126-0714-4183-A6E4-734B085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F94F-46AF-4E2D-90BC-5A9221D6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CDE8-EEA4-406D-9C29-CAE83BAE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E9F2-8829-4B65-AFD8-4E3FD55C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6E4-894B-48D4-A78D-B08661D0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1849-9D66-44BF-AC53-8776985D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850-2AAC-4F75-986A-AC596E2A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FCE-8F52-4784-B77A-1C1CB0FC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BA0-7217-4C14-9EB8-BC801F9C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8CD-E6DE-4C21-A7B9-3E6C62C1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CA3-967B-4FF8-ACD7-77446D5A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E2A-A784-41C7-9A75-12DFE0E3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A45-0756-4156-9CD5-3E1CC7A2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6DE-9982-4291-B70A-37FA319576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A9AA-2977-4BE8-A334-221BE9851E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ngua Italiana (CINT) 2008/09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M. Zaccarell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endario delle Le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ett. I, II, III (6-7, 13-14, 20-21 ottob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ausa per 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esercitazioni scritte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egli studenti (possono essere inviate al docen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ett. VI, VII, VIII (10-11, 17-18 novembre, 1-2 dicemb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mi trattati nel corso. 1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ipologie della comunicazione scritt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comunicazione epistolare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pologie espositive: relazione e presentazione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alità messa per iscritto: la verbalizzazione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mi trattati nel corso.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tura e sintesi: modi del riassu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 riassunto e commento: la recension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li retorici e strategie comunicative nella lingua d’oggi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la lingua della pubblicità: modi della persuasion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la lingua della poesia e della canzon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mi trattati nel corso.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cezione e descrizione: verso una scrittura original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lingua nel mondo del lavoro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trategie della self-promotion: il curriculum vitae e l’allestimento di siti personali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corrispondenza commerciale e scrittura promozional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il dépliant commerci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fia del Cor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F. Bruni et al., Manuale di scrittura e comunicazione, Bologna, Zanichelli, 1997 e succ. edd. (si raccomanda vivamente di utilizzare l’edizione più recente)</a:t>
            </a:r>
            <a:br>
              <a:rPr sz="2400"/>
            </a:b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F. Bruni et al.,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Manuale di scrittura professionale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2 voll.) --&gt; SOST DA: S. Brambilla,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La scrittura professionale. Metodi esempi eserciz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, Milano, Mondadori, 2008.</a:t>
            </a:r>
            <a:br>
              <a:rPr sz="2400"/>
            </a:b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. Viola,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Pratiche e modelli di scrittur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... SOST. DA L. Serianni,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Italiani scritt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, Bologna, Il Mulino, 2003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9:50:55Z</dcterms:created>
  <dc:creator>Michelangelo Zaccarelo</dc:creator>
  <dc:description/>
  <dc:language>en-US</dc:language>
  <cp:lastModifiedBy>Michelangelo Zaccarelo</cp:lastModifiedBy>
  <dcterms:modified xsi:type="dcterms:W3CDTF">2008-10-06T10:49:41Z</dcterms:modified>
  <cp:revision>2</cp:revision>
  <dc:subject/>
  <dc:title>Lingua Italiana (CINT) 2008/09</dc:title>
</cp:coreProperties>
</file>