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EAA-CF5D-4AE8-9C03-1A081032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3AC-75AD-4152-A335-5B8A6E09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4F5-E22C-44B3-8549-CCACBED5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9C7-4778-4B13-ADDB-A72648E2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6DC9-6691-4F50-AF56-EEB5F41A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0BEE-53B7-4D1C-87D5-5C6F9F4A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8FDC-95DE-406B-944D-BCEEA45C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B29C-09B1-42BD-8345-47696AE4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9C0A-998E-42F1-AC91-83A59EE4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BDE4-865C-4723-84EE-4559E16C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BC62-E6A4-40E2-8215-E4C7B25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EDC-92BD-4841-9C4E-3B4E6F68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98B5-000E-40A2-87F7-D55967B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0F59-3655-4E3D-840C-EAF6A2B2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0B01-A3F2-4454-A2A6-0FA69F2C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F24D-254C-4FBB-88E3-914623A3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7941-2F10-476D-A568-08601F29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DA0-2746-4CF3-81A1-B5C15796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58B-9C29-4D65-A433-DAC36DA3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21E-1818-417C-BE9E-2293F7E2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C03-6321-44D9-B581-4106FA7B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8B7-DE24-4E94-821F-FC9E02CD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AA5-C0F2-4181-B647-05DB5BFF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6F8-810A-4326-A3F5-1A06CE33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5FFC-445D-4CC9-B488-1976236F6514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3F78-DAE4-4AAD-A006-1E774CC1BB2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7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CE7C-2DBE-488A-B962-F744917006F3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0BAE-AF35-43BD-99B2-A5E603FC971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lcurriculum.net/" TargetMode="External"/><Relationship Id="rId2" Type="http://schemas.openxmlformats.org/officeDocument/2006/relationships/hyperlink" Target="http://www.neolaureati.info/curriculum_vitae_cv.php" TargetMode="External"/><Relationship Id="rId3" Type="http://schemas.openxmlformats.org/officeDocument/2006/relationships/hyperlink" Target="http://www.neolaureati.info/curriculum_vitae_cv.php" TargetMode="External"/><Relationship Id="rId4" Type="http://schemas.openxmlformats.org/officeDocument/2006/relationships/hyperlink" Target="http://www.lavorareonline.it/scriverecurriculum.shtml" TargetMode="External"/><Relationship Id="rId5" Type="http://schemas.openxmlformats.org/officeDocument/2006/relationships/hyperlink" Target="http://www.lavorareonline.it/scriverecurriculum.s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685800"/>
            <a:ext cx="716292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ffffcc"/>
                </a:solidFill>
                <a:latin typeface="Arial Narrow"/>
              </a:rPr>
              <a:t>Il curriculum vitae</a:t>
            </a:r>
            <a:endParaRPr b="1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905120"/>
            <a:ext cx="4419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A07E-FCAC-4E95-BEF1-00051E33A58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869EBEE-C915-4CB2-81C3-E827D78B9A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cc"/>
                </a:solidFill>
                <a:latin typeface="Arial Narrow"/>
              </a:rPr>
              <a:t>Istruzione (Studi universari e secondari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iversita' degli Studi di VER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acolta' di LINGUE e LETTERATURE STRANI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nominazione corso: LINGUE E CULTURE PER IL COMMERCIO INT.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po di Corso: Laurea trien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otazione finale: 110 (su 110) con l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ata di conseguimento del titolo: 27-03-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ploma Secondario: MATURITA' SCIENTI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nno Maturità: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71C-99AE-4180-8BCE-03E3BE27A8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5B796-45CF-43E3-82CF-92EF465DD7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cc"/>
                </a:solidFill>
                <a:latin typeface="Arial Narrow"/>
              </a:rPr>
              <a:t>Studi all'ester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ogramma Unione Europea Erasmus / L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urata del periodo di studi (in mesi):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aese di studio all'estero: SPAG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petenze linguistiche e relazio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20B-0405-4A4B-B983-11A791F3AB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96E19-767A-45E5-AA78-5A86717FB1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cc"/>
                </a:solidFill>
                <a:latin typeface="Arial Narrow"/>
              </a:rPr>
              <a:t>Conoscenze linguistich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oscenza lingua inglese: bu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oscenza lingua francese: element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oscenza lingua spagnola: ot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e possibile, citare competenze accertate (es. CLA) e/o allegare certificati istituti priv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C49-61D6-4E0B-80CE-855CDD0998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971C2-8997-48CB-BEBB-A814267FE1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Conoscenze informatich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ogrammi di videoscrittura (Wo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acchetto Office (Excel, 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reazione di basi dati (FileMak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reazione di siti web, uso di linguaggi di programmazione e codifica testi (html, xml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3FE-E727-4802-B541-3B23C41E47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D3C0C-5D63-4FE2-91FE-65F673994E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Esperienze lavorative e tirocin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Esperienze lavorati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ività di barista / cameri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ività di front-office e di steward/hostess per attività fieristi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irocinio: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rso di grafica editoriale, stage in azienda ec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258-056F-44AB-88E7-5ECEE5DCD5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56D88-9E96-4812-9159-333821B42C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1960" y="3808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Bibliografia</a:t>
            </a:r>
            <a:br>
              <a:rPr sz="4800"/>
            </a:b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(in internet e in libreria)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ilcurriculum.ne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eolaureati.info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curriculum_vitae_cv.p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lavorareonline.i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scriverecurriculum.s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B. Demi, R. Santonocito, il tuo curriculum vitae, Milano 2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Arial"/>
              </a:rPr>
              <a:t>Manuale di scrittura professionale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, Bologna, Zanichelli,1997, pp. 81-1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7B6-2CAC-43B9-9CA7-7B3F812728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6AC88-B657-4308-8333-3AAC935B833E}" type="datetime1">
              <a:rPr lang="en-US"/>
              <a:t>07/30/26</a:t>
            </a:fld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Introduzion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8120" y="19807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s’è un Curriculum Vita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74320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’ un </a:t>
            </a:r>
            <a:r>
              <a:rPr b="1" lang="it-IT" sz="2800" spc="-1" strike="noStrike">
                <a:solidFill>
                  <a:srgbClr val="ff00ff"/>
                </a:solidFill>
                <a:latin typeface="Arial"/>
              </a:rPr>
              <a:t>biglietto da visit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 </a:t>
            </a: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informazioni selezion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3886200"/>
            <a:ext cx="59436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’ di importanza fondamentale che forma e contenuto siano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curate nei minimi particola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C0B-CE8D-46D4-B723-D3B4814D22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8568E-CC0E-4651-BD0F-E5BB655F8CF5}" type="datetime1">
              <a:rPr lang="en-US"/>
              <a:t>07/30/26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Perché si scrive un Curriculum?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25905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 generale in risposta a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cessità di presentare le prop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429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potenziali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3429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rel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886200"/>
            <a:ext cx="5410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d un </a:t>
            </a:r>
            <a:r>
              <a:rPr b="1" lang="it-IT" sz="2800" spc="-1" strike="noStrike">
                <a:solidFill>
                  <a:srgbClr val="009999"/>
                </a:solidFill>
                <a:latin typeface="Arial"/>
              </a:rPr>
              <a:t>compi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da svolg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crittura </a:t>
            </a:r>
            <a:r>
              <a:rPr b="0" lang="it-IT" sz="2800" spc="-1" strike="noStrike">
                <a:solidFill>
                  <a:srgbClr val="0066cc"/>
                </a:solidFill>
                <a:latin typeface="Arial"/>
              </a:rPr>
              <a:t>mirat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a un obiet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29F-FD50-4350-AAA4-791F47C6E8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2A72D-2649-420E-A4F0-66D3D93E16AD}" type="datetime1">
              <a:rPr lang="en-US"/>
              <a:t>07/30/2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Un insieme di variabili e una (semi)costan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71440" y="37335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(semi)costante, ovvero </a:t>
            </a: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te stess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 potenzialità e aspirazi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1928880" cy="1673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71800" y="5029200"/>
            <a:ext cx="61722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variabile: </a:t>
            </a: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il mondo del lavo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 le sue offe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19D-913E-4A27-9ED3-4E43C7BC88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30986-93CF-4A78-ABF1-717C8216DB21}" type="datetime1">
              <a:rPr lang="en-US"/>
              <a:t>07/30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Un Curriculum vitae ad assetto variabi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 CV è una </a:t>
            </a:r>
            <a:r>
              <a:rPr b="1" lang="it-IT" sz="2800" spc="-1" strike="noStrike">
                <a:solidFill>
                  <a:srgbClr val="6600cc"/>
                </a:solidFill>
                <a:latin typeface="Arial"/>
              </a:rPr>
              <a:t>variabil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he nasce su una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truttur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ntro la quale il candidato esplicita con intelligenza selettiva le proprie caratteristich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76920" y="4800600"/>
            <a:ext cx="1820880" cy="8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7D3-C3BA-4A5B-AF0C-C81853DC30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A1F12-3422-4B79-B2CB-4F71EB989560}" type="datetime1">
              <a:rPr lang="en-US"/>
              <a:t>07/30/26</a:t>
            </a:fld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960" y="151920"/>
            <a:ext cx="69339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Lo schema del Curriculu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ati anagrafi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tatti (indirizzo, telefoni, e-ma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tudi compi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ngue conosci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perienze lavo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petenze informati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entualmente: aspirazioni e hob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27B-B34D-4D3C-8388-DAC38EAA93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6ADAC-70DC-480A-BCBE-A4A3987AA81B}" type="datetime1">
              <a:rPr lang="en-US"/>
              <a:t>07/30/26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Un esempio concreto: Antonio Rossi cerca lavor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6096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Bando dell’Università di Verona per un assegno di ricerca presso la Facoltà di Lett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573360"/>
            <a:ext cx="573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Arial Narrow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Inserzione su quotidiano di azienda attiva sui mercati esteri per personale ufficio vend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1600" y="509112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Addetto Call Center azienda telefonica </a:t>
            </a:r>
            <a:r>
              <a:rPr b="1" lang="it-IT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3BA-9A28-4E1E-AC17-E3F885F8BC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DB09D-B2FB-4D58-9002-A9FA7E9569DC}" type="datetime1">
              <a:rPr lang="en-US"/>
              <a:t>07/30/26</a:t>
            </a:fld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La lettera di accompagnament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4080" y="14475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alvolta è di </a:t>
            </a:r>
            <a:r>
              <a:rPr b="1" lang="it-IT" sz="2800" spc="-1" strike="noStrike">
                <a:solidFill>
                  <a:srgbClr val="ff00ff"/>
                </a:solidFill>
                <a:latin typeface="Arial"/>
              </a:rPr>
              <a:t>grande importanz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170080"/>
            <a:ext cx="54104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on deve </a:t>
            </a: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mai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ssere lu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3 paragrafi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331488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eve contenere i </a:t>
            </a:r>
            <a:r>
              <a:rPr b="1" lang="it-IT" sz="2800" spc="-1" strike="noStrike">
                <a:solidFill>
                  <a:srgbClr val="00ff00"/>
                </a:solidFill>
                <a:latin typeface="Arial"/>
              </a:rPr>
              <a:t>riferimenti    essenziali al lavor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he si intende svolg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eve preferibilmente essere indirizzata ad una </a:t>
            </a: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1676520"/>
            <a:ext cx="152640" cy="152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362320"/>
            <a:ext cx="152640" cy="152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3505320"/>
            <a:ext cx="152640" cy="152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029200"/>
            <a:ext cx="152640" cy="152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849-1A60-4233-B421-5C2EB6DFA6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39A48-B7A4-4F5D-B7F7-461105EB79DA}" type="datetime1">
              <a:rPr lang="en-US"/>
              <a:t>07/30/26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Dati personali e contatt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ati personal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ata di nascita: 13-10-19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uogo di nascita: VERONA (VERO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apito: VIA ISONZO 53, 37128 VERONA (V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el. 0458936773  cell. 34***835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ittadinanza: Itali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ss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elangelo Zaccarello, Università degli Studi di Ver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768-BF73-4C3F-AF67-D5D32C828C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82761-F7F1-4DF0-A818-F02A8DFC5D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elangelo Zaccarelo</cp:lastModifiedBy>
  <dcterms:modified xsi:type="dcterms:W3CDTF">2008-10-20T12:23:40Z</dcterms:modified>
  <cp:revision>37</cp:revision>
  <dc:subject/>
  <dc:title>Presentazione di PowerPoint</dc:title>
</cp:coreProperties>
</file>