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8D938-4BA1-444F-8EEA-68D88028E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F298E-407C-4414-8D8A-9466191EF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9B1F5-7B61-4694-B266-5B59A7350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3BBCF-36DC-4B64-8B29-D0C9A811C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9ABCB-EDF2-4649-ABD4-D142884520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49350-19CA-4FE0-A7D3-10FD8A1EE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4F1E3-EADC-48BC-8E1F-2C94BA968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E8005-29F0-4813-8372-9C30559BF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650B1-B97C-43E4-A0BA-4C2E1C584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2A343-4273-4687-AA98-BAA18FB18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3C068-5CCA-4E09-AE52-EFED41ED9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7DB5A-4148-46AC-A567-22A43A673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A2740-165B-471E-BC6C-4EC99B125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16818-1667-4BBE-AD3A-E062832CD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66ECE-5BDD-4A7F-9DEC-88EBFB0A6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7D3B3-AEFF-4E38-9B72-06DABB08F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C90237-F687-449C-B78F-3BF2AA0B6B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30F76-EAAC-440F-8DFC-39C676E8A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0B2C2-8B3F-40B6-AD07-82CDEA74F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5DA61-C03D-4423-9BEC-0589F6994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F8D8E-2482-4062-8BC7-817B7F363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0BCF1-AC26-46D7-A3BC-45A5773E3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AA9BB-5A65-42B1-A7DB-A5C5F4E1C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EFA9A-5A17-4DC9-B942-C1463DD70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D98E-B98A-44FC-9543-5A1E1BE5CE4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856B-B312-42CD-9A5D-D346DC4DE51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Il comunicato stampa</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Verdana"/>
              </a:rPr>
              <a:t>M. Zaccarello, ottobre 2008</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 come Chiarezza.</a:t>
            </a:r>
            <a:endParaRPr b="0" lang="en-US" sz="36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lare lo stesso linguaggio del lettore, ossia del giornalista, che a propria volta dovrà parlare quello dei suoi lettori</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r migliorare il risultato: un’informazione in ogni periodo; un concetto compiuto in ogni frase; sequenze lineari e ben ritmate di soggetti, verbi e complementi.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sempio di CS diffuso da ISTAT</a:t>
            </a:r>
            <a:endParaRPr b="0" lang="en-US" sz="36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gn="just">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itolo: </a:t>
            </a:r>
            <a:r>
              <a:rPr b="1" lang="en-US" sz="2900" spc="-1" strike="noStrike">
                <a:solidFill>
                  <a:srgbClr val="000000"/>
                </a:solidFill>
                <a:latin typeface="Verdana"/>
              </a:rPr>
              <a:t>Stima preliminare del PIL</a:t>
            </a:r>
            <a:r>
              <a:rPr b="0" lang="en-US" sz="2900" spc="-1" strike="noStrike">
                <a:solidFill>
                  <a:srgbClr val="000000"/>
                </a:solidFill>
                <a:latin typeface="Verdana"/>
              </a:rPr>
              <a:t> </a:t>
            </a:r>
            <a:endParaRPr b="0" lang="en-US" sz="2900" spc="-1" strike="noStrike">
              <a:solidFill>
                <a:srgbClr val="000000"/>
              </a:solidFill>
              <a:latin typeface="Verdana"/>
            </a:endParaRPr>
          </a:p>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riodo di riferimento: </a:t>
            </a:r>
            <a:r>
              <a:rPr b="1" lang="en-US" sz="2900" spc="-1" strike="noStrike">
                <a:solidFill>
                  <a:srgbClr val="000000"/>
                </a:solidFill>
                <a:latin typeface="Verdana"/>
              </a:rPr>
              <a:t>II trimestre 2008</a:t>
            </a:r>
            <a:br>
              <a:rPr sz="2900"/>
            </a:br>
            <a:r>
              <a:rPr b="1" lang="en-US" sz="2900" spc="-1" strike="noStrike">
                <a:solidFill>
                  <a:srgbClr val="000000"/>
                </a:solidFill>
                <a:latin typeface="Verdana"/>
              </a:rPr>
              <a:t> </a:t>
            </a:r>
            <a:endParaRPr b="0" lang="en-US" sz="2900" spc="-1" strike="noStrike">
              <a:solidFill>
                <a:srgbClr val="000000"/>
              </a:solidFill>
              <a:latin typeface="Verdana"/>
            </a:endParaRPr>
          </a:p>
          <a:p>
            <a:pPr marL="343080" indent="-343080" algn="just">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ffuso il: 8 agosto 2008</a:t>
            </a:r>
            <a:endParaRPr b="0" lang="en-US" sz="2900" spc="-1" strike="noStrike">
              <a:solidFill>
                <a:srgbClr val="000000"/>
              </a:solidFill>
              <a:latin typeface="Verdana"/>
            </a:endParaRPr>
          </a:p>
          <a:p>
            <a:pPr marL="343080" indent="-343080" algn="just">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ssimo comunicato: 14 novembre 2008</a:t>
            </a:r>
            <a:br>
              <a:rPr sz="2900"/>
            </a:br>
            <a:r>
              <a:rPr b="0" lang="en-US"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03280" y="2599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tima preliminare del PIL </a:t>
            </a: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gn="just">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ulla base delle informazioni finora disponibili, nel secondo trimestre del 2008 il prodotto interno lordo (PIL), espresso in valori concatenati con anno di riferimento 2000, corretto per gli effetti di calendario e destagionalizzato, è diminuito dello 0,3 per cento rispetto al trimestre precedente ed è rimasto stazionario rispetto al secondo trimestre del 2007. </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tima preliminare del PIL (2)</a:t>
            </a:r>
            <a:endParaRPr b="0" lang="en-US" sz="3600" spc="-1" strike="noStrike">
              <a:solidFill>
                <a:srgbClr val="0066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gn="just">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l risultato congiunturale del PIL è la sintesi di una diminuzione del valore aggiunto dell’industria, di una sostanziale stazionarietà dei servizi e di un aumento dell’agricoltura. Il secondo trimestre del 2008 ha avuto una giornata lavorativa in meno rispetto al trimestre precedente e lo stesso numero di giornate del secondo trimestre del 2007. </a:t>
            </a:r>
            <a:br>
              <a:rPr sz="2500"/>
            </a:br>
            <a:r>
              <a:rPr b="0" lang="en-US"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tima preliminare del PIL (3)</a:t>
            </a: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gn="just">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el secondo trimestre il PIL è cresciuto in termini congiunturali dello 0,5 per cento negli Stati Uniti e dello 0,2 per cento nel Regno Unito. In termini tendenziali, il PIL è cresciuto dell’1,8 per cento negli Stati Uniti e dell’1,6 per cento nel Regno Unito.</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Le esportazioni delle regioni italiane </a:t>
            </a:r>
            <a:endParaRPr b="0" lang="en-US" sz="3200" spc="-1" strike="noStrike">
              <a:solidFill>
                <a:srgbClr val="006666"/>
              </a:solidFill>
              <a:latin typeface="Arial"/>
            </a:endParaRPr>
          </a:p>
        </p:txBody>
      </p:sp>
      <p:sp>
        <p:nvSpPr>
          <p:cNvPr id="11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onte: ISTAT</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eriodo di riferimento: </a:t>
            </a:r>
            <a:r>
              <a:rPr b="1" lang="en-US" sz="2500" spc="-1" strike="noStrike">
                <a:solidFill>
                  <a:srgbClr val="000000"/>
                </a:solidFill>
                <a:latin typeface="Verdana"/>
              </a:rPr>
              <a:t>Gennaio-Giugno 2008</a:t>
            </a:r>
            <a:br>
              <a:rPr sz="2500"/>
            </a:br>
            <a:r>
              <a:rPr b="1" lang="en-US" sz="2500" spc="-1" strike="noStrike">
                <a:solidFill>
                  <a:srgbClr val="000000"/>
                </a:solidFill>
                <a:latin typeface="Verdana"/>
              </a:rPr>
              <a:t>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iffuso il: 17 settembre 2008</a:t>
            </a:r>
            <a:br>
              <a:rPr sz="2500"/>
            </a:br>
            <a:r>
              <a:rPr b="0" lang="en-US" sz="2500" spc="-1" strike="noStrike">
                <a:solidFill>
                  <a:srgbClr val="000000"/>
                </a:solidFill>
                <a:latin typeface="Verdana"/>
              </a:rPr>
              <a:t>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rossimo comunicato: 12 dicembre 2008</a:t>
            </a:r>
            <a:br>
              <a:rPr sz="2500"/>
            </a:br>
            <a:r>
              <a:rPr b="0" lang="en-US"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Le esportazioni delle regioni italiane (2)</a:t>
            </a:r>
            <a:endParaRPr b="0" lang="en-US" sz="3200" spc="-1" strike="noStrike">
              <a:solidFill>
                <a:srgbClr val="006666"/>
              </a:solidFill>
              <a:latin typeface="Arial"/>
            </a:endParaRPr>
          </a:p>
        </p:txBody>
      </p:sp>
      <p:sp>
        <p:nvSpPr>
          <p:cNvPr id="1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el periodo gennaio-giugno 2008 il valore delle esportazioni italiane ha registrato un incremento del 5,9 per cento rispetto al corrispondente periodo del 2007 (più 4,4 per cento verso i paesi appartenenti all’Unione europea e più 8,3 per cento verso l’area extra Ue).</a:t>
            </a:r>
            <a:br>
              <a:rPr sz="2900"/>
            </a:br>
            <a:r>
              <a:rPr b="0" lang="en-US"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Le esportazioni delle regioni italiane (3)</a:t>
            </a:r>
            <a:endParaRPr b="0" lang="en-US" sz="32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a crescita delle esportazioni è stata determinata dagli andamenti positivi di tutte le ripartizioni ad esclusione di quella centrale, che ha fatto registrare una flessione (meno 0,9 per cento). Gli incrementi hanno riguardato la ripartizione insulare (più 17,7 per cento), la ripartizione meridionale (più 8,8 per cento), la ripartizione nord-occidentale (più 6,6 per cento) e quella nord-orientale (più 6,1 per cento).</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ggerimenti pratici</a:t>
            </a:r>
            <a:endParaRPr b="0" lang="en-US" sz="3600" spc="-1" strike="noStrike">
              <a:solidFill>
                <a:srgbClr val="006666"/>
              </a:solidFill>
              <a:latin typeface="Arial"/>
            </a:endParaRPr>
          </a:p>
        </p:txBody>
      </p:sp>
      <p:sp>
        <p:nvSpPr>
          <p:cNvPr id="12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crivere in apertura, molto evidente: “Comunicato stampa” o “Informazioni per la stampa”.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ticipare via fax 10gg prima della data di pubblicazione desiderat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viare tra 12 e 18 ore prima della chiusura del numero in redazione (per quotidiani).</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ggerimenti pratici (2)</a:t>
            </a:r>
            <a:endParaRPr b="0" lang="en-US" sz="3600" spc="-1" strike="noStrike">
              <a:solidFill>
                <a:srgbClr val="006666"/>
              </a:solidFill>
              <a:latin typeface="Arial"/>
            </a:endParaRPr>
          </a:p>
        </p:txBody>
      </p:sp>
      <p:sp>
        <p:nvSpPr>
          <p:cNvPr id="12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Verdana"/>
              </a:rPr>
              <a:t>Di norma, è indispensabile un “recall” telefonico ai giornalisti per assicurarsi di una completa ed esatta ricezione ed eventualmente sollecitare una pubblicazione.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Verdana"/>
              </a:rPr>
              <a:t>In calce al comunicato sarà bene utilizzare la formula ''per ulteriori informazioni rivolgersi a…'', riportando nome, numero di telefono, fax ed e-mail dell’Ufficio stampa che invia il CS.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6666"/>
                </a:solidFill>
                <a:latin typeface="Arial"/>
              </a:rPr>
              <a:t>Un mezzo strategico…</a:t>
            </a:r>
            <a:endParaRPr b="0" lang="en-US" sz="36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l comunicato stampa è uno degli strumenti utilizzati per comunicare con i media, per fornire loro i dati e le informazioni che si desidera divulgare.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oggetto del CS deve avere rilevanza e interesse per il mezzo di stampa cui è rivolto</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6666"/>
                </a:solidFill>
                <a:latin typeface="Arial"/>
              </a:rPr>
              <a:t>Occorre seguire precise regole…</a:t>
            </a:r>
            <a:endParaRPr b="0" lang="en-US" sz="36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l testo deve essere elaborato in funzione dell’oggetto principale del messaggio</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vitare accuratamente tutte le informazioni inutili</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tilizzare uno stile sobrio e un punto di vista obiettivo</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Arial"/>
              </a:rPr>
              <a:t>5 W’s</a:t>
            </a:r>
            <a:r>
              <a:rPr b="0" lang="it-IT" sz="3600" spc="-1" strike="noStrike">
                <a:solidFill>
                  <a:srgbClr val="006666"/>
                </a:solidFill>
                <a:latin typeface="Arial"/>
              </a:rPr>
              <a:t> per sapere tutto…</a:t>
            </a: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Verdana"/>
              </a:rPr>
              <a:t>Deve contenere già all'inizio tutti i dati fondamentali per la notizia: chi, cosa, dove, quando e perché.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Verdana"/>
              </a:rPr>
              <a:t>Il giornalismo americano definisce la regola delle </a:t>
            </a:r>
            <a:r>
              <a:rPr b="1" lang="it-IT" sz="2900" spc="-1" strike="noStrike">
                <a:solidFill>
                  <a:srgbClr val="000000"/>
                </a:solidFill>
                <a:latin typeface="Verdana"/>
              </a:rPr>
              <a:t>5 W’s</a:t>
            </a:r>
            <a:r>
              <a:rPr b="0" lang="it-IT" sz="2900" spc="-1" strike="noStrike">
                <a:solidFill>
                  <a:srgbClr val="000000"/>
                </a:solidFill>
                <a:latin typeface="Verdana"/>
              </a:rPr>
              <a:t>: </a:t>
            </a:r>
            <a:r>
              <a:rPr b="0" i="1" lang="it-IT" sz="2900" spc="-1" strike="noStrike">
                <a:solidFill>
                  <a:srgbClr val="000000"/>
                </a:solidFill>
                <a:latin typeface="Verdana"/>
              </a:rPr>
              <a:t>Who, What, Where, When and Why</a:t>
            </a:r>
            <a:r>
              <a:rPr b="0" lang="it-IT" sz="2900" spc="-1" strike="noStrike">
                <a:solidFill>
                  <a:srgbClr val="000000"/>
                </a:solidFill>
                <a:latin typeface="Verdana"/>
              </a:rPr>
              <a: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a sintassi lineare</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Verdana"/>
              </a:rPr>
              <a:t>Una sintassi all'americana, tipica del giornalismo d'agenzia, quello cioè delle agenzie di stampa, tipo ANSA, ADN-Kronos ecc.</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Verdana"/>
              </a:rPr>
              <a:t>Struttura tipo: soggetto, verbo, complemento oggetto, complementi di tempo e di luogo e infine gli altri complementi.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Un testo “taglia &amp; cuci”</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l CS andrà nelle mani di un redattore, cui spetta di interpretare, commentare, tagliare ma anche integrare in base alle esigenze di stampa.</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l testo del comunicato deve poter essere tagliato in qualsiasi punto senza perdere il suo significato originale.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lementi accessori</a:t>
            </a:r>
            <a:endParaRPr b="0" lang="en-US" sz="36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Verdana"/>
              </a:rPr>
              <a:t>Il titolo, con eventuale sottotitolo</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Verdana"/>
              </a:rPr>
              <a:t>un sommarietto, per CS di una certa ampiezz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Verdana"/>
              </a:rPr>
              <a:t>le didascalie alle eventuali foto</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Verdana"/>
              </a:rPr>
              <a:t>citazioni di interviste o estratti da rassegna stampa (ad es. dell’edizione passata di una mostra)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come Accuratezza</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lare le informazioni dalla fonte ufficial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lare le cifre, i dati, le statistich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vitare errori di grammatica e di sintassi.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 come Brevità</a:t>
            </a:r>
            <a:endParaRPr b="0" lang="en-US" sz="3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centrare il comunicato nel minor numero di parole, abolendo aggettivi e avverbi superflui e ogni altro tipo di involuzione della form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a redazione del giornale opererà i tagli che non siano stati già eseguiti, col rischio di compromettere il risultato.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07:36:38Z</dcterms:created>
  <dc:creator>Michelangelo Zaccarelo</dc:creator>
  <dc:description/>
  <dc:language>en-US</dc:language>
  <cp:lastModifiedBy>Michelangelo Zaccarelo</cp:lastModifiedBy>
  <dcterms:modified xsi:type="dcterms:W3CDTF">2008-10-14T09:16:16Z</dcterms:modified>
  <cp:revision>4</cp:revision>
  <dc:subject/>
  <dc:title>Il comunicato stampa</dc:title>
</cp:coreProperties>
</file>