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27E-D915-4167-A667-329D464F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6B6-9B8C-4165-8E57-3F82879D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13A-5CA9-4303-AFAE-6B0BF1E5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2A7-62AC-4A80-B8AE-AFB8C86C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93B0-88C1-4DD7-B671-8BEFB9D8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4828-BBF2-49C5-A0ED-8C8551F3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10A3-0B30-4CF7-8411-59AACB26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C20F-6351-408B-B050-F7445824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00B5-C070-42EF-A9E6-291530D2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A14F-B1BB-443D-97AA-7C1A8C9D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08C5-5808-4147-9C17-F3A9D440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0E3-D765-40C8-AC6C-ED9A066E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80D3-8097-4569-B225-7B967351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4E87-12DD-4153-A751-90F435B2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6143-ECA7-4723-9372-FDECB6A4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F5FB-D596-41A6-8CE6-ACDF46EF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8DC8-EFFB-4DBA-9229-7249233D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07B-B0C4-438C-8594-54934932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7C8-4BE9-4B06-8707-60E5EAF9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545-61C6-4F71-9BE1-851A0302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2C5-C223-416A-A851-485CF559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A2D-36E1-4CF5-BF9A-E86DAE8F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5C1-FF32-4F30-AFB3-541BB1A9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A27-9DE7-4CF7-B180-75F944F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B301-8A77-48DA-9A2E-49AE3B98B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2D4C-ED6A-44E2-AAFB-D2DD80472380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Bodoni MT"/>
              </a:rPr>
              <a:t>La lingua della promozione e della pubblicità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. Zaccarello. Novembre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Bodoni MT"/>
              </a:rPr>
              <a:t>Risveglio dell’attenzione attraverso il procedimento allusivo, perlopiù erotic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Un visual allusivo favorisce l’ammiccamento anche scoperto: cfr. spot del prosecco Carpenè Malvolti: "passare una notte in bianco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nominazioni e loghi equivoci: 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fcuk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(French Connection UK); 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A-styl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mbiguità dei pronomi (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Mental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, "io ce l'ho profumato. L'alito. Perché , cosa avevi capito?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Bodoni MT"/>
              </a:rPr>
              <a:t>Risveglio dell’attenzione attraverso l’allusione biblica o religios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llusione alla Bibbia (specie il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Genesi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, Eva e la mela, i tanti “peccati di gola che non fanno ingrassare” (con ulteriore allusione al ‘perdono’), i “sette vizi capitali” del gelato Magnum ecc., i vari serpenti, mele ec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ubblicità censurata dei jeans Jesus (anni ’80): posteriore femminile (s)coperto da un paio di denim shorts, con l'headline "Chi mi ama mi segua”, chiara allusione evangel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Bodoni MT"/>
              </a:rPr>
              <a:t>Rapporto fra immagine e parol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) Immagine VS. parola (spot Estathè, con un visual caratterizzato da arsura e siccità contrapposto alla bibita rinfrescant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b) Immagine + parola (pubblicità Wonderbra: “Guardami negli occhi”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) Immagine = parola: es. Mulino Bianco 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sselunga, che stabilisce equivalenze non scontate fra prodotto e titolo (es. Vergine / olio; Scorpione = aragost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Bodoni MT"/>
              </a:rPr>
              <a:t>La retorica della pubblicità, la retorica </a:t>
            </a:r>
            <a:r>
              <a:rPr b="0" i="1" lang="en-US" sz="4000" spc="-1" strike="noStrike">
                <a:solidFill>
                  <a:srgbClr val="ffcc00"/>
                </a:solidFill>
                <a:latin typeface="Bodoni MT"/>
              </a:rPr>
              <a:t>nella </a:t>
            </a:r>
            <a:r>
              <a:rPr b="0" lang="en-US" sz="4000" spc="-1" strike="noStrike">
                <a:solidFill>
                  <a:srgbClr val="ffcc00"/>
                </a:solidFill>
                <a:latin typeface="Bodoni MT"/>
              </a:rPr>
              <a:t>pubblicità. 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tonomasia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onsiste nell'adoperare un nome comune o una perifrasi invece di un nome proprio e vicevers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voi pastor s'accorse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l Vangelist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       [= San Giovanni]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quando colei che siede sopra l'acque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uttaneggiar coi regi a lui fu vista; (Dante,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Infern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XIX, 106-1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perbole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onsiste nell'esagerare o ridurre, oltre i limiti normali, la qualità di una persona, animale, cosa o un'id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 frati, - dissi, - che per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entomila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erigli siete giunti all'occidente;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 questa tanto picciola vigilia (Dante,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Infern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XXVI, 112-11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Bodoni MT"/>
              </a:rPr>
              <a:t>La retorica della pubblicità, la retorica </a:t>
            </a:r>
            <a:r>
              <a:rPr b="0" i="1" lang="en-US" sz="4000" spc="-1" strike="noStrike">
                <a:solidFill>
                  <a:srgbClr val="ffcc00"/>
                </a:solidFill>
                <a:latin typeface="Bodoni MT"/>
              </a:rPr>
              <a:t>nella </a:t>
            </a:r>
            <a:r>
              <a:rPr b="0" lang="en-US" sz="4000" spc="-1" strike="noStrike">
                <a:solidFill>
                  <a:srgbClr val="ffcc00"/>
                </a:solidFill>
                <a:latin typeface="Bodoni MT"/>
              </a:rPr>
              <a:t>pubblicità. I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Metafora: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Consiste nel trasferire a un termine il significato di un altro termine con cui ha un rapporto di somiglianza. In breve, è una similitudine senza il termine di paragon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Mi getto, e grido, e fremo. Oh giorni orrendi </a:t>
            </a:r>
            <a:br>
              <a:rPr sz="2200"/>
            </a:b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in così 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verde etate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! (= gioventù) (G. Leopardi, </a:t>
            </a: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La sera del dì di festa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, 23-2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Metonimia: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Consiste nella sostituzione di un termine con un altro, con cui è in rapporto: la causa per l’effetto, l’effetto per la causa, la materia per l’oggetto, il contenente per il contenuto, l’astratto per il concreto, ec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assursero in fretta dai blandi riposi,</a:t>
            </a:r>
            <a:br>
              <a:rPr sz="2200"/>
            </a:b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chiamati repente da squillo guerrier. (tromba)</a:t>
            </a:r>
            <a:br>
              <a:rPr sz="2200"/>
            </a:b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(A. Manzoni, </a:t>
            </a: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Dagli atrii muscosi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, Adelchi, 35-3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Bodoni MT"/>
              </a:rPr>
              <a:t>La retorica della pubblicità, la retorica </a:t>
            </a:r>
            <a:r>
              <a:rPr b="0" i="1" lang="en-US" sz="4000" spc="-1" strike="noStrike">
                <a:solidFill>
                  <a:srgbClr val="ffcc00"/>
                </a:solidFill>
                <a:latin typeface="Bodoni MT"/>
              </a:rPr>
              <a:t>nella </a:t>
            </a:r>
            <a:r>
              <a:rPr b="0" lang="en-US" sz="4000" spc="-1" strike="noStrike">
                <a:solidFill>
                  <a:srgbClr val="ffcc00"/>
                </a:solidFill>
                <a:latin typeface="Bodoni MT"/>
              </a:rPr>
              <a:t>pubblicità. II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erifrasi: Consiste nell'indicare una persona o una cosa con un giro di parole, evitando la mera indicazio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 corso velocissimo se 'n vanno / là 've Cristo soffrì mortale affanno. (Gerusalemm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(T. Tasso, 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Gerusalemme liberata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, C. I, 106-1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inestesia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onsiste nel creare un’immagine associando termini che appartengono a sfere sensoriali d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ormi! bisbigliano, Dormi!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à, voci di tenebra azzurra…                     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fera uditiva (voci) + sfera visiva (tenebra azzurra)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(G. Pascoli,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La mia ser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35-3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ai calici aperti si esala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’odore di fragole rosse.                            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fera olfattiva (odore) + sfera visiva (fragole rosse)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(G. Pascoli,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Il gelsomi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9-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Bodoni MT"/>
              </a:rPr>
              <a:t>Persuasione non logica, mediante ‘congestione’ dei sensi ricettiv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avallamento di codici visivi, verbali e sonori (immagini violente, musica incalzante ecc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à (o brevità) con cui il messaggio e le inquadrature vengono presenta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istenza (anche ‘subliminale’) di dati visivi o sonori (canzoni di successo per gli spot Vodaf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asione’ dei canali di comunicazi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ttrazione dei "tempi" necessari per un lavoro di "depurazione" e di "filtro" del messagg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Bodoni MT"/>
              </a:rPr>
              <a:t>Pubblicità ‘shock’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gata al comune senso del pudore o ai vincoli etico-religiosi (es. spot Amica Chips “La patatina tira…”; varie suore in abiti discinti ec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gata all’attualità più drammatica (es. Benetton-Toscani: l’uniforme insanguinata del soldato ai tempi della guerra del Kossov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Bodoni MT"/>
              </a:rPr>
              <a:t>Legge ed etica nella pubblicità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art. 1, comma 2 D. Leg. 25.1.92, n. 74: </a:t>
            </a:r>
            <a:br>
              <a:rPr sz="2600"/>
            </a:b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"La pubblicità deve essere 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palese, veritiera e corretta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".</a:t>
            </a:r>
            <a:br>
              <a:rPr sz="2600"/>
            </a:b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art. 2 D. Leg. 25.1.92, n. 74, lettera b:</a:t>
            </a:r>
            <a:br>
              <a:rPr sz="2600"/>
            </a:b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"Ai fini del presente decreto si intende: b) per 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'pubblicità ingannevole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', qualsiasi pubblicità che in qualunque modo, compresa la sua presentazione, induca in errore o possa indurre in errore le persone fisiche o giuridiche … [e] pregiudicare il loro comportamento economico ovvero che, per questo motivo, leda o possa ledere un concorrente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Bodoni MT"/>
              </a:rPr>
              <a:t>La persuasione secondo Aristotele. 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le argomentazioni procurate col discorso tre sono le specie: le une risiedono nel carattere dell'oratore, le altre nel disporre l'ascoltatore in una data maniera, le altre infine nello stesso discorso, attraverso la dimostrazione o l'apparenza di dimostrazione 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Bodoni MT"/>
              </a:rPr>
              <a:t>La persuasione secondo Aristotele. I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...la disposizione d'animo dell'ascoltatore importa soprattutto di fronte ai processi. Infatti le cose non sembrano le stesse a chi vuol bene e a chi odia, né a chi è adirato e a chi si trova in stato di calma, bensì appaiono del tutto differenti o in gran parte differenti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Bodoni MT"/>
              </a:rPr>
              <a:t>Effetti della comunicazione pubblicitar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) "stimolazione cognitiva" per informare e ottenere un alto livello di attenzione (es. statistiche, ricerche mediche ec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b) "stimolazione affettiva" per indicare l'azione esercitata da un messaggio sulle emozioni (es. Toscani-Benett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Bodoni MT"/>
              </a:rPr>
              <a:t>Genericità VS specificità del linguaggio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ferimento all’ambiente e alle sue esigenze. Es. “Il metano è natura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ubblicità delle grandi case promuove i propri prodotti come parte di un insieme di valori, uno stile di vita, un’estetica, un’idea del mondo (Nike, Sky, McDonald’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petuti appelli a uno stile di vita disinvolto e trasgressivo (Breil, Sisley), di cui l’oggetto è solo un simbolo riconoscib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Bodoni MT"/>
              </a:rPr>
              <a:t>Genericità VS specificità del linguaggi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rodotti e servizi personalizzati o ideati intorno alle specifiche esigenze dei singoli (servizi bancari o finaziari, es. Sanpaolo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archi che vantano particolare esclusività e/o personalizzazione rispetto alla produzione di massa: linee di lusso e di rappresentanza (catene alberghiere, ma anche spot Citroen e Lancia “Y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Bodoni MT"/>
              </a:rPr>
              <a:t>Strategie linguistiche della persuasione. 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reatività linguistica (neologismi, parole straniere, bisticci) ess. … 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Do you speak Micra?; Sfrizzola il velopendu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mporre significati nuovi alle parole correnti (es. 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TIM tribù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= community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dozione di linguaggi settoriali e metafore tecniche (es. 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la convenienza ha fatto goal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dare scacco matto alle macchi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Bodoni MT"/>
              </a:rPr>
              <a:t>Strategie linguistiche della persuasione. I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tilizzo di fraseologia corrente o proverbiale: es.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Più unico che amar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Chi la afa non la aspetti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(pubblicità di un condizionatore d'aria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erivazione verbale: prefissazione (es. anti- super-, iper-, contro-, extra- ecc.); suffissazione (es. –ismo, cfr.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natural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; composizi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struire frasi con i significati più diversi, paradossali o contrastan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Bodoni MT"/>
              </a:rPr>
              <a:t>Strategie linguistiche della persuasione. II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l messaggio sottintende una o più delle qualità: es. "La freschezza di Jocca ha solo il 7% di grassi" (si dà per scontata la freschezza del prodotto, reclamizzandone soltanto il basso contenuto calorico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l messaggio cita sondaggi, fonti scientifiche vere o presunte (es. percentuali di sodio nell’acqua minerale), o pareri di ordini professionali (Associazione Medici Dentist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6:00:15Z</dcterms:created>
  <dc:creator>Michelangelo</dc:creator>
  <dc:description/>
  <dc:language>en-US</dc:language>
  <cp:lastModifiedBy>Michelangelo Zaccarelo</cp:lastModifiedBy>
  <dcterms:modified xsi:type="dcterms:W3CDTF">2008-11-17T11:22:01Z</dcterms:modified>
  <cp:revision>15</cp:revision>
  <dc:subject/>
  <dc:title>La lingua della promozione e della pubblicità</dc:title>
</cp:coreProperties>
</file>