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416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437080" y="0"/>
            <a:ext cx="416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6160" cy="27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 LT St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7880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6850080"/>
            <a:ext cx="416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7180C-A6BA-4D6B-B72D-6CE5B60D5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46E09-ACEB-4EA3-AFFA-F3F61DA49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C52C9-8B0F-45CB-9446-424C47BF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A1C22-E5F9-4A42-8E1C-1C82EE769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362E25-5995-4595-B903-082DFD28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ter looking through the developing environment, let’s have a look at MATLAB language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F732F-71D1-4B57-9DFD-1E19692A7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1BCD4-B722-45C6-BCC1-3E59FD2E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E484C-66C7-4A6C-9E4B-335C7663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54021-AC40-47FE-ACE3-4ABBDD3F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1E0AFF-6F45-4E8C-BF2D-97379D4F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B2474-B598-4D0E-8B96-DC4B8002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741FF-1343-48F5-A910-D4776544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83BA8-DB79-4196-AFA5-14625681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turn linear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2BB3A-1FBE-4DB0-9078-208F09C3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FA3D6-230D-4FB1-9441-39AD1015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F47C9-68A0-4AFB-A133-286C2B3E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728A2-F2DF-45F1-A486-0BF5B1DB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6F8A7B-4B60-4980-94C1-E51BDFA10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8C3231-D655-43C9-9D67-3BC13F70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56D88-9C64-4C74-A621-C2D5B9D2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39C88-A910-4A4D-BA26-8997E4A0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0450B-1E75-4A13-9788-EC7B8380C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F03E8-A5EA-4551-80A1-503AA931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37479-D16A-4E8F-AFD6-B75C9662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3DBA0-C840-42FF-895C-99279323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B092C-5DAD-4012-86E1-DD5F511B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D60C0-0728-4A51-8BA7-B76149C8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E0A77-26F7-4204-959B-87E3C7B14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B5CA2-F648-4C5C-BB4F-1BCDCD35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C964A1-25DE-49CC-B0A7-212D6A630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A7E28-6085-4333-ADD9-7BA65A05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6EE53-E016-40F4-9734-21752C65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BF8CC2-6656-4DE3-9C01-1E9C9D32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irstly, I will talk about some basics of MATLAB, including the development environment, basic operations and syntax of MATLAB language, so that we can have a big picture of MAT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n, I will focus on the image processing issues with MAT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 the end, I will give some more examples for demon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CF13C6-78D2-4767-934A-A4A8CA4F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93BF1-6CE6-4D7F-B038-6DF1FFC4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1E361-78B4-4C7B-97E9-F6DBA042F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C2D9D-0377-4748-8D46-955968EA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09FC9-665A-47B5-803F-19EFD609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EFA756-11F7-4409-A880-5F7C4251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irstly, I will talk about some basics of MATLAB, including the development environment, basic operations and syntax of MATLAB language, so that we can have a big picture of MAT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n, I will focus on the image processing issues with MAT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 the end, I will give some more examples for demon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984A0-E74F-4657-BA2B-3A66C510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A164C-3449-44D5-8272-8884D5BE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97D77-5637-49E1-9EFD-BD93DB51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035D0-5497-44AB-A4D7-F551E2E6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imagesc function scales image data to the full range of the current colormap and displays the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mtool opens a new Image Tool in an empty state. imtool(I) displays the grayscale image 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mage(C) displays matrix C as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9C3E8-E94E-481D-8067-9A39E1F0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2993B-03D1-4553-A52C-DD8757CD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165E6-2C90-4A24-ABD6-3159CABF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79B67-BE15-4960-BED3-02EF8132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CAB6A-9E6E-4EE9-9D22-A7F8F712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656F9-9422-449C-AD88-98B47014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B6FBA-AD26-4B1A-85F6-3597FF0C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85E6A-57A1-49B2-A201-A15F589D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A133D6-A784-4740-838D-038FBCA1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57F947-A6A9-45E6-9068-C577FEAD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A723B-4855-4925-AA2C-8870F031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irstly, I will talk about some basics of MATLAB, including the development environment, basic operations and syntax of MATLAB language, so that we can have a big picture of MAT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n, I will focus on the image processing issues with MAT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 the end, I will give some more examples for demon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897E0-3B54-4954-A776-4EC3FC88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63BA2-75A7-4B82-8D50-BDC09949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13F24-79BB-4398-8FEB-60B25261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D7ACF-F655-48F9-8D63-DDD3B131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64386-BCA9-414B-A170-185F7E27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TLAB stands for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4F26B-9670-4BBE-8A10-191BC1F1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EDE59-F549-4ECF-A197-8289E217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C859E-CC76-4AEA-BEC2-6384DE7D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1D4D4-D197-4EDC-8032-533C9E86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4E8050-090D-4A74-92D2-2CF0947C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9C9F1-07A4-432F-9E3D-98A69863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CD3C6-A50E-487E-9FDF-C5472655F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6B226-6EBA-4923-8051-545B72A1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8024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TLAB stands for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0C242-0561-4F9E-AC7D-7B9C79A0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9E4B2C-D66E-49EB-ADF6-9F6703347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A7655-BDBC-4887-94B8-465B66A4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0C621-A831-4262-B07C-97B90A93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4AC3D-9F4F-47B0-B8AE-96F338FB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F3808-A995-4F84-A99C-CA09A146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437080" y="6946920"/>
            <a:ext cx="4160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4EC75-FEC2-4A7C-830A-391A77DD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2971800" y="5475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437080" y="6948360"/>
            <a:ext cx="416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66B59-268C-45BF-B9C0-760F9C96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E763-DA83-4018-BE60-854FC39F4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526D-517B-4EAB-8B3F-BA0A2D0C8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DA29-A428-4349-9B54-4F3065CF7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7F07-7A5B-4CC6-989A-EA74A72AD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73A5-9657-4517-ADBD-1B8A21BDF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9586-D320-42B0-B82E-726B8CB05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C74E-A98A-4397-B531-80BF15A86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5BAA-A2D1-460E-8876-002FDEADB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A4F4-BE84-40DF-A46D-8861E5C5E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7038-2DFD-4448-9ECC-DB18D75F3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A368-6C96-4135-8BB7-08571F54B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391B-3107-4847-9480-3AA7E98CB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 LT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9FDBE-2DDD-46AA-96DF-F09D444E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714240" y="17859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Didot LT Std"/>
              </a:rPr>
              <a:t>MATLAB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Didot LT Std"/>
              </a:rPr>
              <a:t>for Image Process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57200" y="36432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C. Andr</a:t>
            </a:r>
            <a:r>
              <a:rPr b="0" lang="es-ES" sz="2400" spc="-1" strike="noStrike">
                <a:solidFill>
                  <a:srgbClr val="000000"/>
                </a:solidFill>
                <a:latin typeface="Univers LT Std 55"/>
              </a:rPr>
              <a:t>és Mén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rch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http://www.riaonweb.it/Immagini/links/logo_univr.gif"/>
          <p:cNvPicPr/>
          <p:nvPr/>
        </p:nvPicPr>
        <p:blipFill>
          <a:blip r:embed="rId1"/>
          <a:stretch/>
        </p:blipFill>
        <p:spPr>
          <a:xfrm>
            <a:off x="533520" y="4952880"/>
            <a:ext cx="1638360" cy="162720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4"/>
          <p:cNvSpPr/>
          <p:nvPr/>
        </p:nvSpPr>
        <p:spPr>
          <a:xfrm>
            <a:off x="1066680" y="3645000"/>
            <a:ext cx="716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atrices  in  MAT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711440"/>
            <a:ext cx="54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Matrix is the main MATLAB dat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How to build a matri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A=[1 2 3; 4 5 6; 7 8 9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Creates matrix A of size 3 x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Special matri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zeros(n,m), ones(n,m), eye(n,m), rand(), rand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6229440" y="2997360"/>
            <a:ext cx="2914560" cy="1265040"/>
            <a:chOff x="6229440" y="2997360"/>
            <a:chExt cx="2914560" cy="1265040"/>
          </a:xfrm>
        </p:grpSpPr>
        <p:pic>
          <p:nvPicPr>
            <p:cNvPr id="87" name="Picture 5" descr=""/>
            <p:cNvPicPr/>
            <p:nvPr/>
          </p:nvPicPr>
          <p:blipFill>
            <a:blip r:embed="rId1"/>
            <a:stretch/>
          </p:blipFill>
          <p:spPr>
            <a:xfrm>
              <a:off x="6933960" y="2997360"/>
              <a:ext cx="221004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"/>
            <p:cNvPicPr/>
            <p:nvPr/>
          </p:nvPicPr>
          <p:blipFill>
            <a:blip r:embed="rId2"/>
            <a:stretch/>
          </p:blipFill>
          <p:spPr>
            <a:xfrm>
              <a:off x="6229440" y="3500640"/>
              <a:ext cx="639000" cy="399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atrices and Vectors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trix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x = [1 2 3;  5 1 4;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3 2 -1]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1     2     3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5     1     4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3     2    -1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vector</a:t>
            </a:r>
            <a:r>
              <a:rPr b="0" lang="en-US" sz="1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x = [1 2 5 1]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1   2   5   1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transpose</a:t>
            </a:r>
            <a:r>
              <a:rPr b="0" lang="en-US" sz="1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y = x.’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atrices and Vectors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95280" y="161784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x(i,j) sub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whole 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whol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16360" y="1724040"/>
            <a:ext cx="4572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y=x(2,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y =  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y=x(3,: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y =    3     2   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y=x(:,2)          y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Univers LT Std 45 Light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Exercises: Vectors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68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.  x  =  [3  4  7  11]    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create  a  row  vector  (spaces)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2.  x  =  3:8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colon  generates  list;  default  stride  1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3.  x  =  8:-1:0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hstarti : hstridei : hstopi specifies  list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4.  xx  =  [  8  7  6  5  4  3  2  1  0];       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 %    same  as  last;  semicolon  suppresses  output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5.  xx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display  contents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6.  x  =  linspace(0,1,11)   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generate  vector  automatically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7.  x  =  0:0.1:1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same  thing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8.  y  =  linspace(0,1);     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 %  note  semicolon!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9.  length(x)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0.  length(y)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1.  size(x)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2.  size(y)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3.  y(3)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access  single  element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4.  y(1:12)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access  first  twelve  elements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5.  y([3  6  9  12])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access  values  specified  in  a  vector!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6.  x’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transpose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7.  z  =  [  1+2*i  4-3*i  ]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8.  z’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19.  z.’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note  difference  in  transposes!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20.  3*[1  2  5] 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Univers LT Std 55"/>
              </a:rPr>
              <a:t>%  factor  replicated,  multiplies  each  element</a:t>
            </a:r>
            <a:endParaRPr b="0" lang="en-US" sz="10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Basic Operations on Mat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All operators in MATLAB are defined on matrices: 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+, -, *, /, ^, sqrt, sin, cos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Element-wise operators defined with a preceding dot: 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.*, ./, .^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ize(A)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– size 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um(A)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– columns sums 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um(sum(A)) 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– sum of all th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Variable Name in Mat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Variable naming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must be unique in the first 63 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must begin with a le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may not contain blank spaces or other types of punc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may contain any combination of letters, digits, and unders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are case-sen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should not use Matlab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Pre-defined variable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Logical  Oper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==, &lt;, &gt;,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(not equal)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~=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, (not)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~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find(‘condition’) 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– Returns indexes of A’s elements that satisfy the condition in the matrix or 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Logical  Operator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&gt;&gt;A=[7 3 5; 6 2 1],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Idx=find(A&lt;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A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7 3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6 2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Idx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Flow 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MATLAB has five flow control constru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F statement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The general form of the IF statemen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IF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ELSEIF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611280" y="3105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Univers LT Std 55"/>
              </a:rPr>
              <a:t>http://profs.sci.univr.it/~mendezguerrero/Lab01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s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SWITCH – Switch among several cases based o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he general form of SWITCH statemen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WITCH switch_ex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CASE case_exp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, …, sta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CASE {case_expr1, case_expr2, case_expr3, …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, …, sta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OTHER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, …, sta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f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FOR  repeats statements a specific number of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he general form of a FOR statemen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FOR variable=ex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WHILE  repeats statements an indefinite number of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he general form of a WHILE statemen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WHILE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Scripts  and 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here are two kinds of M-fi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Scripts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, which do not accept input arguments or return output arguments. They operate on data in the wor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, which can accept input arguments and return output arguments.  Internal variables are local to th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Functions in MAT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A file called STAT.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unction [mean, stdev]=stat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%STAT Interesting stat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n=length(x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mean=sum(x)/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tdev=sqrt(sum((x-mean).^2)/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Defines a new function called STAT that calculates the mean and standard deviation of a vector. </a:t>
            </a: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Function name and file name should be the SA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Visualization  and  Grap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57120" y="1827360"/>
            <a:ext cx="79599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plot(x,y),plot(x,sin(x))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plot 1D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igure, figure(k)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open a new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hold on, hold off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refre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axis([xmin xmax ymin ymax])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change a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title(‘figure title’)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add title to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mesh(x_ax,y_ax,z_mat)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view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contour(z_mat)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– view z as topo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ubplot(3,1,2)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 – locate several plots in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Saving  your 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0004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ave mys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% creates mysession.mat with all varia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ave mysession a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% save only variables a and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clear 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% clear all varia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clear a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% clear variables a and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load mys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% load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Introduction to MAT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LT Std 55"/>
              </a:rPr>
              <a:t>Image Processing with MAT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14200" y="27468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Didot LT Std"/>
              </a:rPr>
              <a:t>What is the Image Processing Toolbox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The Image Processing Toolbox is a collection of functions that extend the capabilities of the MATLAB’s numeric computing environment. The toolbox supports a wide range of image processing operations, inclu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Geometric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Neighborhood and block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Linear filtering and filter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Transf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Image analysis and enhanc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Binary image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Region of interest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v-SE" sz="4400" spc="-1" strike="noStrike">
                <a:solidFill>
                  <a:srgbClr val="c00000"/>
                </a:solidFill>
                <a:latin typeface="Didot LT Std"/>
              </a:rPr>
              <a:t>Images  in  MAT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38862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MATLAB can import/export several image forma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BMP (Microsoft Windows Bitm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GIF (Graphics Interchange Fil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HDF (Hierarchical Data Forma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JPEG (Joint Photographic Experts Grou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PCX (Paintbru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PNG (Portable Network Graph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TIFF (Tagged Image File Forma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XWD (X Window Dum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raw-data and other types of imag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6483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Data types in MAT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Double (64-bit double-precision floating poi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Single (32-bit single-precision floating poi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Int32 (32-bit signed inte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Int16 (16-bit signed inte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Int8 (8-bit signed inte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Uint32 (32-bit unsigned inte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Uint16 (16-bit unsigned inte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Arial"/>
              </a:rPr>
              <a:t>Uint8 (8-bit unsigned integ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LT Std 45 Light"/>
              </a:rPr>
              <a:t>Introduction to MAT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Image Processing with MAT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s in MAT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Binary images :  {0,1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Intensity images :  [0,1] or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uint8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RGB images :  m × n ×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Multidimensional images:  m × n × p (p is the number of lay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21003" t="51563" r="27750" b="18750"/>
          <a:stretch/>
        </p:blipFill>
        <p:spPr>
          <a:xfrm>
            <a:off x="285840" y="3286080"/>
            <a:ext cx="6248160" cy="2897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rcRect l="21003" t="36563" r="30750" b="29063"/>
          <a:stretch/>
        </p:blipFill>
        <p:spPr>
          <a:xfrm>
            <a:off x="2143080" y="3357720"/>
            <a:ext cx="5197680" cy="2962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rcRect l="21003" t="15938" r="37503" b="25313"/>
          <a:stretch/>
        </p:blipFill>
        <p:spPr>
          <a:xfrm>
            <a:off x="5500800" y="3214800"/>
            <a:ext cx="289548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v-SE" sz="4400" spc="-1" strike="noStrike">
                <a:solidFill>
                  <a:srgbClr val="c00000"/>
                </a:solidFill>
                <a:latin typeface="Didot LT Std"/>
              </a:rPr>
              <a:t>Image Import and Ex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28800" y="1643040"/>
            <a:ext cx="714348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Read and write images in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g = imread('apple.jpg'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dim = size(im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igu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show(im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write(img, 'output.bmp', 'bmp'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Univers LT Std 45 Light"/>
              </a:rPr>
              <a:t>Alternatives to </a:t>
            </a:r>
            <a:r>
              <a:rPr b="0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</a:rPr>
              <a:t> </a:t>
            </a: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agesc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</a:t>
            </a: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tool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</a:t>
            </a:r>
            <a:r>
              <a:rPr b="0" i="1" lang="sv-SE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age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s  and  Mat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图片 4" descr="temp.tif"/>
          <p:cNvPicPr/>
          <p:nvPr/>
        </p:nvPicPr>
        <p:blipFill>
          <a:blip r:embed="rId1"/>
          <a:stretch/>
        </p:blipFill>
        <p:spPr>
          <a:xfrm>
            <a:off x="5143680" y="250020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5643720" y="57862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lumn 1 to 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722120" y="3143160"/>
            <a:ext cx="4546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1 to 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14368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72120" y="1714680"/>
            <a:ext cx="1428840" cy="428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0, 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" name="直接箭头连接符 10"/>
          <p:cNvCxnSpPr/>
          <p:nvPr/>
        </p:nvCxnSpPr>
        <p:spPr>
          <a:xfrm flipH="1">
            <a:off x="5357160" y="2000160"/>
            <a:ext cx="1143720" cy="572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3" name="TextBox 11"/>
          <p:cNvSpPr/>
          <p:nvPr/>
        </p:nvSpPr>
        <p:spPr>
          <a:xfrm>
            <a:off x="8143920" y="5429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椭圆 12"/>
          <p:cNvSpPr/>
          <p:nvPr/>
        </p:nvSpPr>
        <p:spPr>
          <a:xfrm>
            <a:off x="7215120" y="6000840"/>
            <a:ext cx="1785960" cy="4190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56, 256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直接箭头连接符 13"/>
          <p:cNvCxnSpPr/>
          <p:nvPr/>
        </p:nvCxnSpPr>
        <p:spPr>
          <a:xfrm flipV="1">
            <a:off x="8214120" y="5714280"/>
            <a:ext cx="72360" cy="429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Oval 10"/>
          <p:cNvSpPr/>
          <p:nvPr/>
        </p:nvSpPr>
        <p:spPr>
          <a:xfrm>
            <a:off x="5214960" y="257184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8215200" y="5572080"/>
            <a:ext cx="15264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142920" y="1857240"/>
            <a:ext cx="471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How to build a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(or image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Intensity Im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row = 25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col = 25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g = zeros(row, co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g(100:105, :) = 0.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g(:, 100:105) =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igu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show(im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v-SE" sz="4400" spc="-1" strike="noStrike">
                <a:solidFill>
                  <a:srgbClr val="c00000"/>
                </a:solidFill>
                <a:latin typeface="Didot LT Std"/>
              </a:rPr>
              <a:t>Images and Matr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214280" y="164304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Binary Im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row = 25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col = 25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g = rand(row, co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g = round(im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igu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show(im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图片 16" descr="binary.jpg"/>
          <p:cNvPicPr/>
          <p:nvPr/>
        </p:nvPicPr>
        <p:blipFill>
          <a:blip r:embed="rId1"/>
          <a:stretch/>
        </p:blipFill>
        <p:spPr>
          <a:xfrm>
            <a:off x="4500720" y="1643040"/>
            <a:ext cx="401004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 Dis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create and display imag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agesc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scale and display as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show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display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colorbar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display color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getimage 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- get image data from 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truesize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adjust display size of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zoom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zoom in and zoom out of 2D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gray2ind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intensity image to index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2bw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image to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2double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image to double 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2uint8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image to 8-bit unsigned inte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m2uint16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image to 16-bit unsigned inte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ind2gray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indexed image to intensity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mat2gray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matrix to intensity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rgb2gray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RGB image to gray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rgb2ind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- RGB image to indexed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 Op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RGB image to gray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mage r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mage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mage ro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mage hist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mage histogram eq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Image DCT/ID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Con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Introduction to MAT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Image Processing with MAT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85840" y="130320"/>
            <a:ext cx="8643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Examples  working  with  Im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图片 4" descr="apple.jpg"/>
          <p:cNvPicPr/>
          <p:nvPr/>
        </p:nvPicPr>
        <p:blipFill>
          <a:blip r:embed="rId1"/>
          <a:stretch/>
        </p:blipFill>
        <p:spPr>
          <a:xfrm>
            <a:off x="928800" y="2500200"/>
            <a:ext cx="3292200" cy="23162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" descr="orange.jpg"/>
          <p:cNvPicPr/>
          <p:nvPr/>
        </p:nvPicPr>
        <p:blipFill>
          <a:blip r:embed="rId2"/>
          <a:stretch/>
        </p:blipFill>
        <p:spPr>
          <a:xfrm>
            <a:off x="4857840" y="2500200"/>
            <a:ext cx="3292560" cy="23162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6" descr="blending.jpg"/>
          <p:cNvPicPr/>
          <p:nvPr/>
        </p:nvPicPr>
        <p:blipFill>
          <a:blip r:embed="rId3"/>
          <a:stretch/>
        </p:blipFill>
        <p:spPr>
          <a:xfrm>
            <a:off x="2050920" y="3284640"/>
            <a:ext cx="451512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Performance  Issues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he idea:  MATLAB is</a:t>
            </a: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Univers LT Std 45 Light"/>
              </a:rPr>
              <a:t>fast on vector and matrix operations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Corresponding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Univers LT Std 45 Light"/>
              </a:rPr>
              <a:t>slow with loops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ry to avoid loops</a:t>
            </a: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Try to vectorize your code</a:t>
            </a: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http://www.mathworks.com/support/tech-notes/1100/1109.html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What is MATLA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785960"/>
            <a:ext cx="82296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TLAB = Matrix Labor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TLAB is a 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high-level language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interactive environment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 that enables you to perform computationally intensive tasks faster than with traditional programming languages such as C, C++ and Fortran.” (</a:t>
            </a:r>
            <a:r>
              <a:rPr b="0" lang="en-US" sz="2400" spc="-1" strike="noStrike">
                <a:solidFill>
                  <a:srgbClr val="0d0d0d"/>
                </a:solidFill>
                <a:latin typeface="Univers LT Std 45 Light"/>
              </a:rPr>
              <a:t>www.mathworks.com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TLAB is an interactive, 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interpreted language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 that is designed for 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fast numerical matrix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Vectorize  Loops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LT Std 45 Light"/>
              </a:rPr>
              <a:t>http://http://profs.sci.univr.it/~mendezguerrero/Lab01/apple.jpg</a:t>
            </a:r>
            <a:endParaRPr b="0" lang="en-US" sz="14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LT Std 45 Light"/>
              </a:rPr>
              <a:t>http://http://profs.sci.univr.it/~mendezguerrero/Lab01/orange.jpg</a:t>
            </a:r>
            <a:endParaRPr b="0" lang="en-US" sz="14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Given image matrices, A and B, of the same size (540*380), blend these two images</a:t>
            </a:r>
            <a:endParaRPr b="0" lang="en-US" sz="18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apple = imread(‘apple.jpg'); </a:t>
            </a:r>
            <a:endParaRPr b="0" lang="en-US" sz="18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orange = imread(‘orange.jpg’);</a:t>
            </a:r>
            <a:endParaRPr b="0" lang="en-US" sz="18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Poor Style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% measure performance using stopwatch timer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tic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or i = 1 : size(apple, 1)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or j = 1 : size(apple, 2)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for k = 1 : size(apple, 3)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output(i, j, k) = (apple(i, j, k) + orange(i, j, k))/2;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toc</a:t>
            </a:r>
            <a:endParaRPr b="0" lang="en-US" sz="16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Elapsed time is 0.138116 seconds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Vectorize Loops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Given image matrices, A and B, of the same size (600*400), blend these two images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apple = imread(‘apple.jpg'); 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orange = imread(‘orange.jpg’);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Better Style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tic  % measure performance using stopwatch timer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output = (apple + orange)/2;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toc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lvl="1" marL="66708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Elapsed time is 0.099802 seconds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Computation is faster!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 Hist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Histograms for image enhancement</a:t>
            </a: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Univers LT Std 55"/>
              </a:rPr>
              <a:t>bin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 is a subdivision of the intensity scale</a:t>
            </a: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LT Std 55"/>
              </a:rPr>
              <a:t>h=imhist(image,bins)</a:t>
            </a: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applegray=rgb2gray(apple);  %convert to grayscale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h=imhist(applegray);        %create histogram with default    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       number of bins (256)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h=imhist(applegray, 128);   %half number of bins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4907" t="5624" r="7916" b="0"/>
          <a:stretch/>
        </p:blipFill>
        <p:spPr>
          <a:xfrm>
            <a:off x="0" y="2325600"/>
            <a:ext cx="4464000" cy="362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rcRect l="7030" t="0" r="7916" b="4368"/>
          <a:stretch/>
        </p:blipFill>
        <p:spPr>
          <a:xfrm>
            <a:off x="4643280" y="2133720"/>
            <a:ext cx="4356360" cy="3671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3203640" y="115920"/>
            <a:ext cx="2557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Image Hist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Manually change the histogram plot using the </a:t>
            </a:r>
            <a:r>
              <a:rPr b="1" lang="en-US" sz="2400" spc="-1" strike="noStrike">
                <a:solidFill>
                  <a:srgbClr val="000000"/>
                </a:solidFill>
                <a:latin typeface="Univers LT Std 55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h=imhist(appleg); 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55"/>
              </a:rPr>
              <a:t>%create the histogram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h1=h(1:10:256);     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55"/>
              </a:rPr>
              <a:t>%sample h every 10 elements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horz=1:10:256;      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55"/>
              </a:rPr>
              <a:t>%horizontal scale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bar(horz,h1);            </a:t>
            </a:r>
            <a:r>
              <a:rPr b="0" lang="en-US" sz="2000" spc="-1" strike="noStrike">
                <a:solidFill>
                  <a:srgbClr val="000000"/>
                </a:solidFill>
                <a:latin typeface="Univers LT Std 55"/>
              </a:rPr>
              <a:t>%use bar function, specifying x and y</a:t>
            </a:r>
            <a:endParaRPr b="0" lang="en-US" sz="20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axis([0 255 0 4000])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set(gca, ‘xtick’, 0:50:255)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set(gca, ‘ytick’, 0:250:4000)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Take the time to understand the code!</a:t>
            </a: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55"/>
              </a:rPr>
              <a:t>Study the tutorials!</a:t>
            </a:r>
            <a:endParaRPr b="0" lang="en-US" sz="3200" spc="-1" strike="noStrike">
              <a:solidFill>
                <a:srgbClr val="000000"/>
              </a:solidFill>
              <a:latin typeface="Univers LT Std 5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ATLAB tutorials on the 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785960"/>
            <a:ext cx="82296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http://www.mathworks.it/academia/student_center/tutorials/launchpad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http://www.cyclismo.org/tutorial/matlab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http://www.math.ufl.edu/help/matlab-tutorial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http://lmgtfy.com/?q=matlab+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The  MATLAB 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2"/>
          <p:cNvGrpSpPr/>
          <p:nvPr/>
        </p:nvGrpSpPr>
        <p:grpSpPr>
          <a:xfrm>
            <a:off x="457200" y="1844640"/>
            <a:ext cx="4037040" cy="4030560"/>
            <a:chOff x="457200" y="1844640"/>
            <a:chExt cx="4037040" cy="4030560"/>
          </a:xfrm>
        </p:grpSpPr>
        <p:graphicFrame>
          <p:nvGraphicFramePr>
            <p:cNvPr id="62" name="Object 3"/>
            <p:cNvGraphicFramePr/>
            <p:nvPr/>
          </p:nvGraphicFramePr>
          <p:xfrm>
            <a:off x="457200" y="1844640"/>
            <a:ext cx="4037040" cy="403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844640"/>
                      <a:ext cx="4037040" cy="40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Text Box 4"/>
            <p:cNvSpPr/>
            <p:nvPr/>
          </p:nvSpPr>
          <p:spPr>
            <a:xfrm>
              <a:off x="457200" y="1844640"/>
              <a:ext cx="4037040" cy="40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464328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MATLAB window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Workspace</a:t>
            </a:r>
            <a:r>
              <a:rPr b="0" lang="en-US" sz="20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&gt; Displays all the defined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Command Window</a:t>
            </a:r>
            <a:r>
              <a:rPr b="0" lang="en-US" sz="20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&gt; To execute commands in the MATLAB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Command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&gt; Displays record of the commands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File Editor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&gt;</a:t>
            </a:r>
            <a:r>
              <a:rPr b="0" lang="en-US" sz="2400" spc="-1" strike="noStrike">
                <a:solidFill>
                  <a:srgbClr val="ff0000"/>
                </a:solidFill>
                <a:latin typeface="Univers LT Std 45 Light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  <a:ea typeface="宋体"/>
              </a:rPr>
              <a:t>Define you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ATLAB 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2"/>
          <p:cNvGrpSpPr/>
          <p:nvPr/>
        </p:nvGrpSpPr>
        <p:grpSpPr>
          <a:xfrm>
            <a:off x="457200" y="1773360"/>
            <a:ext cx="4037040" cy="4030560"/>
            <a:chOff x="457200" y="1773360"/>
            <a:chExt cx="4037040" cy="4030560"/>
          </a:xfrm>
        </p:grpSpPr>
        <p:graphicFrame>
          <p:nvGraphicFramePr>
            <p:cNvPr id="68" name="Object 3"/>
            <p:cNvGraphicFramePr/>
            <p:nvPr/>
          </p:nvGraphicFramePr>
          <p:xfrm>
            <a:off x="457200" y="1773360"/>
            <a:ext cx="4037040" cy="403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773360"/>
                      <a:ext cx="4037040" cy="40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Text Box 4"/>
            <p:cNvSpPr/>
            <p:nvPr/>
          </p:nvSpPr>
          <p:spPr>
            <a:xfrm>
              <a:off x="457200" y="1773360"/>
              <a:ext cx="4037040" cy="40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TLAB Help is an extremely powerful assistance to learning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Help not only contains the theoretical background, but also shows </a:t>
            </a:r>
            <a:r>
              <a:rPr b="0" lang="en-US" sz="2400" spc="-1" strike="noStrike">
                <a:solidFill>
                  <a:srgbClr val="000000"/>
                </a:solidFill>
                <a:latin typeface="Univers LT Std 55"/>
              </a:rPr>
              <a:t>demos for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ATLAB Help can be opened by using the HELP pull-down m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ATLAB 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539640" y="1413000"/>
            <a:ext cx="4035600" cy="2519280"/>
            <a:chOff x="539640" y="1413000"/>
            <a:chExt cx="4035600" cy="2519280"/>
          </a:xfrm>
        </p:grpSpPr>
        <p:graphicFrame>
          <p:nvGraphicFramePr>
            <p:cNvPr id="74" name="Object 3"/>
            <p:cNvGraphicFramePr/>
            <p:nvPr/>
          </p:nvGraphicFramePr>
          <p:xfrm>
            <a:off x="539640" y="1413000"/>
            <a:ext cx="4035600" cy="251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1413000"/>
                      <a:ext cx="4035600" cy="25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Text Box 4"/>
            <p:cNvSpPr/>
            <p:nvPr/>
          </p:nvSpPr>
          <p:spPr>
            <a:xfrm>
              <a:off x="539640" y="1413000"/>
              <a:ext cx="403560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5"/>
          <p:cNvSpPr/>
          <p:nvPr/>
        </p:nvSpPr>
        <p:spPr>
          <a:xfrm>
            <a:off x="464832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Any command description can be found by typing the command in the search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As shown above, the command to take square root (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  <a:ea typeface="Courier New"/>
              </a:rPr>
              <a:t>sqrt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) is sear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We can also utilize MATLAB Help from the command window a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539640" y="3933720"/>
            <a:ext cx="4030920" cy="2590920"/>
            <a:chOff x="539640" y="3933720"/>
            <a:chExt cx="4030920" cy="2590920"/>
          </a:xfrm>
        </p:grpSpPr>
        <p:graphicFrame>
          <p:nvGraphicFramePr>
            <p:cNvPr id="79" name="Object 7"/>
            <p:cNvGraphicFramePr/>
            <p:nvPr/>
          </p:nvGraphicFramePr>
          <p:xfrm>
            <a:off x="539640" y="3933720"/>
            <a:ext cx="4030920" cy="259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3933720"/>
                      <a:ext cx="403092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Text Box 8"/>
            <p:cNvSpPr/>
            <p:nvPr/>
          </p:nvSpPr>
          <p:spPr>
            <a:xfrm>
              <a:off x="539640" y="3933720"/>
              <a:ext cx="40309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More  about  the Work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whos</a:t>
            </a:r>
            <a:r>
              <a:rPr b="0" lang="en-US" sz="2800" spc="-1" strike="noStrike">
                <a:solidFill>
                  <a:srgbClr val="000000"/>
                </a:solidFill>
                <a:latin typeface="Univers LT Std 55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– current variables in the work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save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– save workspace variables to *.mat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load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– load variables from *.mat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55"/>
                <a:ea typeface="Courier New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 – clear workspace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9:10:30Z</dcterms:created>
  <dc:creator/>
  <dc:description/>
  <dc:language>en-US</dc:language>
  <cp:lastModifiedBy>Andres</cp:lastModifiedBy>
  <dcterms:modified xsi:type="dcterms:W3CDTF">2013-03-12T21:37:23Z</dcterms:modified>
  <cp:revision>356</cp:revision>
  <dc:subject/>
  <dc:title>MATLAB for Image Processing</dc:title>
</cp:coreProperties>
</file>