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195720" y="531360"/>
            <a:ext cx="38448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682B39-38D4-4C19-872B-8B8C6BB0BBB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CDAD67-655B-4CD3-AC2A-B904970AE22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7"/>
          <p:cNvSpPr/>
          <p:nvPr/>
        </p:nvSpPr>
        <p:spPr>
          <a:xfrm>
            <a:off x="0" y="6743880"/>
            <a:ext cx="4435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23EBC1-D937-4485-93DD-43EDDB18F72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19392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7"/>
          <p:cNvSpPr/>
          <p:nvPr/>
        </p:nvSpPr>
        <p:spPr>
          <a:xfrm>
            <a:off x="0" y="6743880"/>
            <a:ext cx="4435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C5EBCB-8FD0-4EF8-B124-50027F9E02F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19392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7"/>
          <p:cNvSpPr/>
          <p:nvPr/>
        </p:nvSpPr>
        <p:spPr>
          <a:xfrm>
            <a:off x="0" y="6743880"/>
            <a:ext cx="4435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BCD905-AAAB-4D58-BE2C-69902B43C5F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19392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7"/>
          <p:cNvSpPr/>
          <p:nvPr/>
        </p:nvSpPr>
        <p:spPr>
          <a:xfrm>
            <a:off x="0" y="6743880"/>
            <a:ext cx="4435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4CC408-5102-4E1F-B90F-178B0E6747E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19392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7"/>
          <p:cNvSpPr/>
          <p:nvPr/>
        </p:nvSpPr>
        <p:spPr>
          <a:xfrm>
            <a:off x="0" y="6743880"/>
            <a:ext cx="4435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CD8229-D922-4D36-A65C-D57F00D641A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7"/>
          <p:cNvSpPr/>
          <p:nvPr/>
        </p:nvSpPr>
        <p:spPr>
          <a:xfrm>
            <a:off x="0" y="6743880"/>
            <a:ext cx="4435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E0C251-5227-4C12-AD51-97935DA2439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7"/>
          <p:cNvSpPr/>
          <p:nvPr/>
        </p:nvSpPr>
        <p:spPr>
          <a:xfrm>
            <a:off x="0" y="6743880"/>
            <a:ext cx="4435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4F39DE-21F9-45D3-AFFE-0917DFFE0BB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7"/>
          <p:cNvSpPr/>
          <p:nvPr/>
        </p:nvSpPr>
        <p:spPr>
          <a:xfrm>
            <a:off x="0" y="6743880"/>
            <a:ext cx="4435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E20-0E22-4DDC-AC09-61FE8525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6B0-4FC6-411B-9A41-488AD3C5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292-7D80-419D-85EC-99E6C5CC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B46-A274-458C-8895-80845361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FB1C-B659-40A8-8801-1C37CDEF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3595-289B-4DDB-A0B4-42EA6B1D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F42E-FCA9-4B40-A7FC-EE8AC60C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8AFC-A95C-4E2C-B735-E1D5FF66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BFD2-1DE2-410C-8590-1F8506F1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C28C-0785-433C-A8D5-B8904835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9F52-2608-4E70-8278-A11BAFCE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C6F-27B2-43A1-ACAA-44C1B79F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F215-5203-448F-971C-8169877A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DB23-0CD4-4834-B02F-3586C9D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4791-B7F5-4508-B547-7219BE63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09AB-608F-4BD7-8289-F8272903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0E33-E1BE-4078-9423-9CE73BE3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9AF-E54B-429B-AD3B-92E4EF11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C0B-6B55-46FD-B9C5-D3C93DB7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F8E-25B4-4C4C-9FC4-0786FBBD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C2A-49F8-4821-8FD3-6DF9D716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D3DD-760D-4D01-9DA8-83924571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84D-A22A-4F95-BEFD-EFE2C0C6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FE7-BD4C-4D76-91AE-FF52089A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51120" y="6248520"/>
            <a:ext cx="467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833D-F0C3-4EE0-AB1F-5957F3EBE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51120" y="6248520"/>
            <a:ext cx="467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5C95-3E22-44D8-98DB-08298D7D1A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2751120" y="6248520"/>
            <a:ext cx="467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ttern 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D529-CD5F-468A-B97E-7FBDF05A87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90200" y="25909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Pattern Recogni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08040" y="47239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limin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71560" y="457200"/>
            <a:ext cx="8244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uter Science Depart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y of Vero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6-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743040" y="6221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751120" y="6248520"/>
            <a:ext cx="467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B640-E84C-4145-B3A2-2646DCD0AA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2800" y="304920"/>
            <a:ext cx="8321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The teacher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2440" y="1371600"/>
            <a:ext cx="8481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f. Marco Crist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uter Science D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’ Vignal 2, 1st floor, room n. 52 (east branc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mail: marco.cristani@univr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WW: http://www.sci.univr.it/~crista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hone: 045 802 78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hour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nday, 10.30 - 11.30AM (better to fix an appoin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751120" y="6248520"/>
            <a:ext cx="467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9740-970F-4F2E-BAC3-8E5652D20D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2440" y="23004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General info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4000" y="804960"/>
            <a:ext cx="9031320" cy="53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cal and practical lessons (MATLAB, gam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teri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urse slides (italiano/inglese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chard O. Duda, Peter E. Hart, and David G. Stork. 2000. Pattern Classification (2nd Edition). Wiley-Intersc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istopher M. Bishop. 2006. Pattern Recognition and  Machine Learning (Information Science and Statistics). Springer-Verlag New York, Inc., Secaucus, NJ,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751120" y="6248520"/>
            <a:ext cx="467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2856-CB22-44A8-BF09-267CC20E4F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2440" y="230040"/>
            <a:ext cx="8420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General info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4000" y="804960"/>
            <a:ext cx="903132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b: VIPS (Vision, Image Processing &amp; Sound), CV2, floor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fo: http://vips.sci.univr.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Click to enter"/>
          <p:cNvPicPr/>
          <p:nvPr/>
        </p:nvPicPr>
        <p:blipFill>
          <a:blip r:embed="rId1"/>
          <a:stretch/>
        </p:blipFill>
        <p:spPr>
          <a:xfrm>
            <a:off x="3286080" y="3024360"/>
            <a:ext cx="1409760" cy="1409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lick to enter"/>
          <p:cNvPicPr/>
          <p:nvPr/>
        </p:nvPicPr>
        <p:blipFill>
          <a:blip r:embed="rId2"/>
          <a:stretch/>
        </p:blipFill>
        <p:spPr>
          <a:xfrm>
            <a:off x="4695840" y="3024360"/>
            <a:ext cx="1409760" cy="140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lick to enter"/>
          <p:cNvPicPr/>
          <p:nvPr/>
        </p:nvPicPr>
        <p:blipFill>
          <a:blip r:embed="rId3"/>
          <a:stretch/>
        </p:blipFill>
        <p:spPr>
          <a:xfrm>
            <a:off x="3286080" y="443376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lick to enter"/>
          <p:cNvPicPr/>
          <p:nvPr/>
        </p:nvPicPr>
        <p:blipFill>
          <a:blip r:embed="rId4"/>
          <a:stretch/>
        </p:blipFill>
        <p:spPr>
          <a:xfrm>
            <a:off x="4695840" y="4433760"/>
            <a:ext cx="14097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751120" y="6248520"/>
            <a:ext cx="467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E01F-3629-41D5-81D5-655F7A3F30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2000" y="329760"/>
            <a:ext cx="8420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Exam detai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344240"/>
            <a:ext cx="843444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al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751120" y="6248520"/>
            <a:ext cx="467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83C9-B1C1-4A87-989A-9AD31815E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0160" y="20124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Goal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2" descr="http://www.moillusions.com/wp-content/uploads/2009/12/Mysterious-Dalmatian-Optical-Illusion.jpg"/>
          <p:cNvPicPr/>
          <p:nvPr/>
        </p:nvPicPr>
        <p:blipFill>
          <a:blip r:embed="rId1"/>
          <a:stretch/>
        </p:blipFill>
        <p:spPr>
          <a:xfrm>
            <a:off x="2055960" y="1136520"/>
            <a:ext cx="56196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751120" y="6248520"/>
            <a:ext cx="467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A412-9FD3-4B28-812E-4F640EF724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30412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Course conten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453680"/>
            <a:ext cx="902664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yes decis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isher Discriminant Analysis, Principal Componen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near and non linear class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l learning (parameter estimation, non parametric mod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xtures of Gaussians, 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539640" y="973080"/>
            <a:ext cx="8796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atistical pattern recognition on heterogeneo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751120" y="6248520"/>
            <a:ext cx="467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orie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66BF-FE77-4CC6-9B28-64DBC78D62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42680" y="1554120"/>
            <a:ext cx="842004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tive and discriminative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rnel methods and Support Vector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dden Markov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440" y="304920"/>
            <a:ext cx="830412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Course conten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2:54:12Z</dcterms:created>
  <dc:creator>swan</dc:creator>
  <dc:description>Preso da IntroEI2 - AA 2000-01
Da rivedere.</dc:description>
  <dc:language>en-US</dc:language>
  <cp:lastModifiedBy>Marco Cristani</cp:lastModifiedBy>
  <cp:lastPrinted>2000-04-12T09:34:25Z</cp:lastPrinted>
  <dcterms:modified xsi:type="dcterms:W3CDTF">2017-03-01T10:14:22Z</dcterms:modified>
  <cp:revision>139</cp:revision>
  <dc:subject/>
  <dc:title>Panoramica su CV, PR e Grafica: ricerca e applicazioni</dc:title>
</cp:coreProperties>
</file>