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EBB-8F2C-444B-B0C7-C9DCF9B5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EE1-3715-43CA-B8BD-A37CB630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C37-43C2-4459-A834-B0E2EC10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81D-849F-4154-8D14-1025E946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4774-75E4-495F-9710-68E59BC7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C8D5-6BEA-433B-9A9F-CB1B3488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1E00-8FCC-43CD-AF05-1B9125D8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BB4D-35E8-4471-BD7B-D6F51EFE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101A-4FC4-4A60-AD98-69F6D7E0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6917-B2E9-4671-A812-0E08D454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C99C-3DFB-4E7B-853A-879C95F2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30A-3E39-4564-80E4-7D0DE86E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F5FC-1CD6-4B2B-A025-0AA9F6E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4B3F-95CD-4766-B02A-473D4FF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1A17-9A4D-4877-A24F-22F7062E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D31C-3513-4F82-B827-C78248F6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BA5B-DB05-48BD-9459-56DDED60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250-F2D6-4C05-89BE-1CA926AD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3E0-C1D1-47FD-B994-A834A3BF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F65-193C-4894-9BEE-F97C7649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738-5E94-4E43-BE62-7892FE91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644-1E22-49A5-84FD-4A920DD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56EC-71B4-47C3-913D-E9821E6A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37A-5B13-4E5C-A4E6-2411610D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F1ED3F5-CAA2-4E53-8EAC-5871EA9C13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F5D854-5012-4ECF-AB5A-A667D1476D3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equentia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s (Moore and Me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quential circuit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1A4-B2E3-43D3-943D-C8093CF617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609480" y="3664080"/>
            <a:ext cx="3911760" cy="1771560"/>
            <a:chOff x="609480" y="3664080"/>
            <a:chExt cx="3911760" cy="1771560"/>
          </a:xfrm>
        </p:grpSpPr>
        <p:sp>
          <p:nvSpPr>
            <p:cNvPr id="510" name=""/>
            <p:cNvSpPr/>
            <p:nvPr/>
          </p:nvSpPr>
          <p:spPr>
            <a:xfrm>
              <a:off x="3409920" y="36640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1280" y="43624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8140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2732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2640" y="38354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714840" y="39434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907920" y="39556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6957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2200" y="43815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5067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03440" y="36957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8240" y="37083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9920" y="50608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1520" y="43624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2732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207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80" y="43815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03440" y="5067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8240" y="50925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36720" y="3822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5600" y="52070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90640" y="44197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895320" y="46544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27440" y="46540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68960" y="3073320"/>
            <a:ext cx="3476520" cy="3175200"/>
            <a:chOff x="5268960" y="3073320"/>
            <a:chExt cx="3476520" cy="3175200"/>
          </a:xfrm>
        </p:grpSpPr>
        <p:sp>
          <p:nvSpPr>
            <p:cNvPr id="536" name=""/>
            <p:cNvSpPr/>
            <p:nvPr/>
          </p:nvSpPr>
          <p:spPr>
            <a:xfrm>
              <a:off x="5486400" y="3073320"/>
              <a:ext cx="325908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1598760"/>
                  <a:tab algn="l" pos="1828800"/>
                  <a:tab algn="l" pos="251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960" y="3645000"/>
              <a:ext cx="30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6320" y="339084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964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160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: state diagram to encoded state transition tab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truth-table (specify output for all input combin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tates: easy for counters – just us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542-E766-4AEB-9D6C-D16F5EEAAD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365120" y="2251080"/>
            <a:ext cx="2882880" cy="2895480"/>
            <a:chOff x="1365120" y="2251080"/>
            <a:chExt cx="2882880" cy="2895480"/>
          </a:xfrm>
        </p:grpSpPr>
        <p:sp>
          <p:nvSpPr>
            <p:cNvPr id="544" name=""/>
            <p:cNvSpPr/>
            <p:nvPr/>
          </p:nvSpPr>
          <p:spPr>
            <a:xfrm>
              <a:off x="1434960" y="225108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5120" y="28224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3200" y="258120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040360" y="3139920"/>
            <a:ext cx="3862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’ + C1’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C3’ + C1’C3 + C2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’ + C2’)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C2)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94400" y="2293560"/>
            <a:ext cx="762120" cy="87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9720" y="1844640"/>
            <a:ext cx="2082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log notation to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 represents 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D-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flip-flop for each stat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88600" y="5195880"/>
            <a:ext cx="2383920" cy="1574280"/>
            <a:chOff x="588600" y="5195880"/>
            <a:chExt cx="2383920" cy="1574280"/>
          </a:xfrm>
        </p:grpSpPr>
        <p:grpSp>
          <p:nvGrpSpPr>
            <p:cNvPr id="553" name=""/>
            <p:cNvGrpSpPr/>
            <p:nvPr/>
          </p:nvGrpSpPr>
          <p:grpSpPr>
            <a:xfrm>
              <a:off x="779400" y="5281200"/>
              <a:ext cx="2193120" cy="1488960"/>
              <a:chOff x="779400" y="5281200"/>
              <a:chExt cx="2193120" cy="1488960"/>
            </a:xfrm>
          </p:grpSpPr>
          <p:sp>
            <p:nvSpPr>
              <p:cNvPr id="554" name=""/>
              <p:cNvSpPr/>
              <p:nvPr/>
            </p:nvSpPr>
            <p:spPr>
              <a:xfrm>
                <a:off x="121716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4704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7244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2028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96272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244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0624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5840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940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1232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7888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5840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0624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04868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8860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449160" y="5195880"/>
            <a:ext cx="2384640" cy="1574280"/>
            <a:chOff x="3449160" y="5195880"/>
            <a:chExt cx="2384640" cy="1574280"/>
          </a:xfrm>
        </p:grpSpPr>
        <p:grpSp>
          <p:nvGrpSpPr>
            <p:cNvPr id="570" name=""/>
            <p:cNvGrpSpPr/>
            <p:nvPr/>
          </p:nvGrpSpPr>
          <p:grpSpPr>
            <a:xfrm>
              <a:off x="3640320" y="5281200"/>
              <a:ext cx="2193480" cy="1488960"/>
              <a:chOff x="3640320" y="5281200"/>
              <a:chExt cx="2193480" cy="1488960"/>
            </a:xfrm>
          </p:grpSpPr>
          <p:sp>
            <p:nvSpPr>
              <p:cNvPr id="571" name=""/>
              <p:cNvSpPr/>
              <p:nvPr/>
            </p:nvSpPr>
            <p:spPr>
              <a:xfrm>
                <a:off x="407808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0832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337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2815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48240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3372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716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1932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4032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360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4016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193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671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9096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44916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11520" y="5194440"/>
            <a:ext cx="2383920" cy="1574280"/>
            <a:chOff x="6311520" y="5194440"/>
            <a:chExt cx="2383920" cy="1574280"/>
          </a:xfrm>
        </p:grpSpPr>
        <p:grpSp>
          <p:nvGrpSpPr>
            <p:cNvPr id="587" name=""/>
            <p:cNvGrpSpPr/>
            <p:nvPr/>
          </p:nvGrpSpPr>
          <p:grpSpPr>
            <a:xfrm>
              <a:off x="6502320" y="5279760"/>
              <a:ext cx="2193120" cy="1488960"/>
              <a:chOff x="6502320" y="5279760"/>
              <a:chExt cx="2193120" cy="1488960"/>
            </a:xfrm>
          </p:grpSpPr>
          <p:sp>
            <p:nvSpPr>
              <p:cNvPr id="588" name=""/>
              <p:cNvSpPr/>
              <p:nvPr/>
            </p:nvSpPr>
            <p:spPr>
              <a:xfrm>
                <a:off x="6940080" y="56005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69960" y="56005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536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4320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68564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95360" y="5524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29160" y="64386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81320" y="5981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02320" y="60926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35240" y="64386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101800" y="5279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8132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2916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77160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311520" y="519444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019240" y="5551560"/>
            <a:ext cx="82224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63840" y="5600880"/>
            <a:ext cx="328680" cy="771480"/>
          </a:xfrm>
          <a:custGeom>
            <a:avLst/>
            <a:gdLst>
              <a:gd name="textAreaLeft" fmla="*/ 15840 w 328680"/>
              <a:gd name="textAreaRight" fmla="*/ 312840 w 328680"/>
              <a:gd name="textAreaTop" fmla="*/ 15840 h 771480"/>
              <a:gd name="textAreaBottom" fmla="*/ 755640 h 771480"/>
            </a:gdLst>
            <a:ahLst/>
            <a:rect l="textAreaLeft" t="textAreaTop" r="textAreaRight" b="textAreaBottom"/>
            <a:pathLst>
              <a:path w="21600" h="50668">
                <a:moveTo>
                  <a:pt x="3600" y="0"/>
                </a:moveTo>
                <a:arcTo wR="3600" hR="3600" stAng="16200000" swAng="-5400000"/>
                <a:lnTo>
                  <a:pt x="0" y="47068"/>
                </a:lnTo>
                <a:arcTo wR="3600" hR="3600" stAng="10800000" swAng="-5400000"/>
                <a:lnTo>
                  <a:pt x="18000" y="50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76440" y="6043680"/>
            <a:ext cx="32868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7920" y="5567400"/>
            <a:ext cx="820800" cy="36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8640" y="5567400"/>
            <a:ext cx="1692000" cy="344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7000" y="604368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845880" y="604836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1D9-A13E-47B3-996E-C0E1B04BB3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17520" y="2195640"/>
            <a:ext cx="3232080" cy="4051080"/>
            <a:chOff x="317520" y="2195640"/>
            <a:chExt cx="3232080" cy="4051080"/>
          </a:xfrm>
        </p:grpSpPr>
        <p:sp>
          <p:nvSpPr>
            <p:cNvPr id="611" name=""/>
            <p:cNvSpPr/>
            <p:nvPr/>
          </p:nvSpPr>
          <p:spPr>
            <a:xfrm>
              <a:off x="323640" y="2195640"/>
              <a:ext cx="322596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7520" y="2716200"/>
              <a:ext cx="31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76480" y="2500200"/>
              <a:ext cx="0" cy="36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20" y="272268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809880" y="4737240"/>
            <a:ext cx="1371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648640" y="3936960"/>
            <a:ext cx="52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ack to the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determines nex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938040" y="2693880"/>
            <a:ext cx="5118840" cy="1865520"/>
            <a:chOff x="3938040" y="2693880"/>
            <a:chExt cx="5118840" cy="1865520"/>
          </a:xfrm>
        </p:grpSpPr>
        <p:grpSp>
          <p:nvGrpSpPr>
            <p:cNvPr id="620" name=""/>
            <p:cNvGrpSpPr/>
            <p:nvPr/>
          </p:nvGrpSpPr>
          <p:grpSpPr>
            <a:xfrm>
              <a:off x="4341600" y="2693880"/>
              <a:ext cx="4340160" cy="1793160"/>
              <a:chOff x="4341600" y="2693880"/>
              <a:chExt cx="4340160" cy="1793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013720" y="2693880"/>
                <a:ext cx="527040" cy="448200"/>
                <a:chOff x="5013720" y="2693880"/>
                <a:chExt cx="527040" cy="4482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01372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50800" y="2820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79000" y="2693880"/>
                <a:ext cx="519480" cy="448200"/>
                <a:chOff x="7479000" y="2693880"/>
                <a:chExt cx="519480" cy="4482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47900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08520" y="280908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8151480" y="3366360"/>
                <a:ext cx="530280" cy="448200"/>
                <a:chOff x="8151480" y="3366360"/>
                <a:chExt cx="530280" cy="448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815148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9180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479000" y="4038840"/>
                <a:ext cx="527760" cy="448200"/>
                <a:chOff x="7479000" y="4038840"/>
                <a:chExt cx="527760" cy="44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47900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16800" y="4154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806520" y="3366360"/>
                <a:ext cx="515880" cy="448200"/>
                <a:chOff x="6806520" y="3366360"/>
                <a:chExt cx="515880" cy="448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680652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83244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686200" y="3366360"/>
                <a:ext cx="513720" cy="448200"/>
                <a:chOff x="5686200" y="3366360"/>
                <a:chExt cx="513720" cy="44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6862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0996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341600" y="3366360"/>
                <a:ext cx="517320" cy="448200"/>
                <a:chOff x="4341600" y="3366360"/>
                <a:chExt cx="517320" cy="448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3416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68960" y="3497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013720" y="4038840"/>
                <a:ext cx="527040" cy="448200"/>
                <a:chOff x="5013720" y="4038840"/>
                <a:chExt cx="527040" cy="4482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01372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50800" y="4152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38040" y="2732400"/>
              <a:ext cx="5118840" cy="1827000"/>
              <a:chOff x="3938040" y="2732400"/>
              <a:chExt cx="5118840" cy="1827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068880" y="3748320"/>
                <a:ext cx="803160" cy="344880"/>
                <a:chOff x="6068880" y="3748320"/>
                <a:chExt cx="803160" cy="344880"/>
              </a:xfrm>
            </p:grpSpPr>
            <p:cxnSp>
              <p:nvCxnSpPr>
                <p:cNvPr id="647" name=""/>
                <p:cNvCxnSpPr>
                  <a:stCxn id="634" idx="3"/>
                  <a:endCxn id="637" idx="5"/>
                </p:cNvCxnSpPr>
                <p:nvPr/>
              </p:nvCxnSpPr>
              <p:spPr>
                <a:xfrm rot="5400000">
                  <a:off x="6469560" y="3347640"/>
                  <a:ext cx="1800" cy="803520"/>
                </a:xfrm>
                <a:prstGeom prst="curvedConnector5">
                  <a:avLst>
                    <a:gd name="adj1" fmla="val 20000000"/>
                    <a:gd name="adj2" fmla="val 49977"/>
                    <a:gd name="adj3" fmla="val 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48" name=""/>
                <p:cNvSpPr/>
                <p:nvPr/>
              </p:nvSpPr>
              <p:spPr>
                <a:xfrm>
                  <a:off x="6385680" y="378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461560" y="2732400"/>
                <a:ext cx="2017080" cy="304920"/>
                <a:chOff x="5461560" y="2732400"/>
                <a:chExt cx="2017080" cy="304920"/>
              </a:xfrm>
            </p:grpSpPr>
            <p:cxnSp>
              <p:nvCxnSpPr>
                <p:cNvPr id="650" name=""/>
                <p:cNvCxnSpPr>
                  <a:stCxn id="622" idx="6"/>
                  <a:endCxn id="625" idx="2"/>
                </p:cNvCxnSpPr>
                <p:nvPr/>
              </p:nvCxnSpPr>
              <p:spPr>
                <a:xfrm>
                  <a:off x="5461560" y="29174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1" name=""/>
                <p:cNvSpPr/>
                <p:nvPr/>
              </p:nvSpPr>
              <p:spPr>
                <a:xfrm>
                  <a:off x="6380640" y="27324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069240" y="3193200"/>
                <a:ext cx="803160" cy="304920"/>
                <a:chOff x="6069240" y="3193200"/>
                <a:chExt cx="803160" cy="304920"/>
              </a:xfrm>
            </p:grpSpPr>
            <p:cxnSp>
              <p:nvCxnSpPr>
                <p:cNvPr id="653" name=""/>
                <p:cNvCxnSpPr>
                  <a:stCxn id="637" idx="7"/>
                  <a:endCxn id="634" idx="1"/>
                </p:cNvCxnSpPr>
                <p:nvPr/>
              </p:nvCxnSpPr>
              <p:spPr>
                <a:xfrm flipH="1" rot="16200000">
                  <a:off x="6470280" y="3029760"/>
                  <a:ext cx="1440" cy="803520"/>
                </a:xfrm>
                <a:prstGeom prst="curvedConnector5">
                  <a:avLst>
                    <a:gd name="adj1" fmla="val -20000000"/>
                    <a:gd name="adj2" fmla="val 49977"/>
                    <a:gd name="adj3" fmla="val -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4" name=""/>
                <p:cNvSpPr/>
                <p:nvPr/>
              </p:nvSpPr>
              <p:spPr>
                <a:xfrm>
                  <a:off x="6385680" y="31932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187400" y="3075840"/>
                <a:ext cx="357480" cy="363960"/>
                <a:chOff x="7187400" y="3075840"/>
                <a:chExt cx="357480" cy="363960"/>
              </a:xfrm>
            </p:grpSpPr>
            <p:cxnSp>
              <p:nvCxnSpPr>
                <p:cNvPr id="656" name=""/>
                <p:cNvCxnSpPr>
                  <a:stCxn id="634" idx="7"/>
                  <a:endCxn id="625" idx="3"/>
                </p:cNvCxnSpPr>
                <p:nvPr/>
              </p:nvCxnSpPr>
              <p:spPr>
                <a:xfrm flipV="1">
                  <a:off x="71895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7" name=""/>
                <p:cNvSpPr/>
                <p:nvPr/>
              </p:nvSpPr>
              <p:spPr>
                <a:xfrm>
                  <a:off x="7187400" y="31348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533080" y="3198240"/>
                <a:ext cx="523800" cy="783000"/>
                <a:chOff x="8533080" y="3198240"/>
                <a:chExt cx="523800" cy="783000"/>
              </a:xfrm>
            </p:grpSpPr>
            <p:cxnSp>
              <p:nvCxnSpPr>
                <p:cNvPr id="659" name=""/>
                <p:cNvCxnSpPr>
                  <a:stCxn id="628" idx="5"/>
                  <a:endCxn id="628" idx="7"/>
                </p:cNvCxnSpPr>
                <p:nvPr/>
              </p:nvCxnSpPr>
              <p:spPr>
                <a:xfrm flipH="1" flipV="1" rot="5400000">
                  <a:off x="8375040" y="3588840"/>
                  <a:ext cx="317520" cy="1800"/>
                </a:xfrm>
                <a:prstGeom prst="curvedConnector5">
                  <a:avLst>
                    <a:gd name="adj1" fmla="val -73439"/>
                    <a:gd name="adj2" fmla="val 18175000"/>
                    <a:gd name="adj3" fmla="val -7343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0" name=""/>
                <p:cNvSpPr/>
                <p:nvPr/>
              </p:nvSpPr>
              <p:spPr>
                <a:xfrm>
                  <a:off x="8771040" y="34686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054760" y="3141720"/>
                <a:ext cx="285840" cy="896760"/>
                <a:chOff x="5054760" y="3141720"/>
                <a:chExt cx="285840" cy="896760"/>
              </a:xfrm>
            </p:grpSpPr>
            <p:cxnSp>
              <p:nvCxnSpPr>
                <p:cNvPr id="662" name=""/>
                <p:cNvCxnSpPr>
                  <a:stCxn id="643" idx="0"/>
                  <a:endCxn id="622" idx="4"/>
                </p:cNvCxnSpPr>
                <p:nvPr/>
              </p:nvCxnSpPr>
              <p:spPr>
                <a:xfrm flipV="1">
                  <a:off x="5236920" y="314172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3" name=""/>
                <p:cNvSpPr/>
                <p:nvPr/>
              </p:nvSpPr>
              <p:spPr>
                <a:xfrm>
                  <a:off x="5054760" y="34920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724280" y="3075840"/>
                <a:ext cx="355320" cy="354960"/>
                <a:chOff x="4724280" y="3075840"/>
                <a:chExt cx="355320" cy="354960"/>
              </a:xfrm>
            </p:grpSpPr>
            <p:cxnSp>
              <p:nvCxnSpPr>
                <p:cNvPr id="665" name=""/>
                <p:cNvCxnSpPr>
                  <a:stCxn id="640" idx="7"/>
                  <a:endCxn id="622" idx="3"/>
                </p:cNvCxnSpPr>
                <p:nvPr/>
              </p:nvCxnSpPr>
              <p:spPr>
                <a:xfrm flipV="1">
                  <a:off x="472428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6" name=""/>
                <p:cNvSpPr/>
                <p:nvPr/>
              </p:nvSpPr>
              <p:spPr>
                <a:xfrm>
                  <a:off x="4731120" y="3099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89200" y="3747960"/>
                <a:ext cx="355320" cy="435240"/>
                <a:chOff x="7189200" y="3747960"/>
                <a:chExt cx="355320" cy="435240"/>
              </a:xfrm>
            </p:grpSpPr>
            <p:cxnSp>
              <p:nvCxnSpPr>
                <p:cNvPr id="668" name=""/>
                <p:cNvCxnSpPr>
                  <a:stCxn id="631" idx="1"/>
                  <a:endCxn id="634" idx="5"/>
                </p:cNvCxnSpPr>
                <p:nvPr/>
              </p:nvCxnSpPr>
              <p:spPr>
                <a:xfrm flipH="1" flipV="1">
                  <a:off x="7189200" y="374796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9" name=""/>
                <p:cNvSpPr/>
                <p:nvPr/>
              </p:nvSpPr>
              <p:spPr>
                <a:xfrm>
                  <a:off x="7209360" y="387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461560" y="4254480"/>
                <a:ext cx="2017080" cy="304920"/>
                <a:chOff x="5461560" y="4254480"/>
                <a:chExt cx="2017080" cy="304920"/>
              </a:xfrm>
            </p:grpSpPr>
            <p:cxnSp>
              <p:nvCxnSpPr>
                <p:cNvPr id="671" name=""/>
                <p:cNvCxnSpPr>
                  <a:stCxn id="631" idx="2"/>
                  <a:endCxn id="643" idx="6"/>
                </p:cNvCxnSpPr>
                <p:nvPr/>
              </p:nvCxnSpPr>
              <p:spPr>
                <a:xfrm flipH="1">
                  <a:off x="5461560" y="42620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2" name=""/>
                <p:cNvSpPr/>
                <p:nvPr/>
              </p:nvSpPr>
              <p:spPr>
                <a:xfrm>
                  <a:off x="6402960" y="42544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396040" y="3748320"/>
                <a:ext cx="415080" cy="462960"/>
                <a:chOff x="5396040" y="3748320"/>
                <a:chExt cx="415080" cy="462960"/>
              </a:xfrm>
            </p:grpSpPr>
            <p:cxnSp>
              <p:nvCxnSpPr>
                <p:cNvPr id="674" name=""/>
                <p:cNvCxnSpPr>
                  <a:stCxn id="637" idx="3"/>
                  <a:endCxn id="643" idx="7"/>
                </p:cNvCxnSpPr>
                <p:nvPr/>
              </p:nvCxnSpPr>
              <p:spPr>
                <a:xfrm flipH="1">
                  <a:off x="5396040" y="374832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5" name=""/>
                <p:cNvSpPr/>
                <p:nvPr/>
              </p:nvSpPr>
              <p:spPr>
                <a:xfrm>
                  <a:off x="5525280" y="39063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396760" y="3072960"/>
                <a:ext cx="405000" cy="357840"/>
                <a:chOff x="5396760" y="3072960"/>
                <a:chExt cx="405000" cy="357840"/>
              </a:xfrm>
            </p:grpSpPr>
            <p:cxnSp>
              <p:nvCxnSpPr>
                <p:cNvPr id="677" name=""/>
                <p:cNvCxnSpPr>
                  <a:stCxn id="622" idx="5"/>
                  <a:endCxn id="637" idx="1"/>
                </p:cNvCxnSpPr>
                <p:nvPr/>
              </p:nvCxnSpPr>
              <p:spPr>
                <a:xfrm>
                  <a:off x="53967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8" name=""/>
                <p:cNvSpPr/>
                <p:nvPr/>
              </p:nvSpPr>
              <p:spPr>
                <a:xfrm>
                  <a:off x="55159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723920" y="3748320"/>
                <a:ext cx="355320" cy="445320"/>
                <a:chOff x="4723920" y="3748320"/>
                <a:chExt cx="355320" cy="445320"/>
              </a:xfrm>
            </p:grpSpPr>
            <p:cxnSp>
              <p:nvCxnSpPr>
                <p:cNvPr id="680" name=""/>
                <p:cNvCxnSpPr>
                  <a:stCxn id="643" idx="1"/>
                  <a:endCxn id="640" idx="5"/>
                </p:cNvCxnSpPr>
                <p:nvPr/>
              </p:nvCxnSpPr>
              <p:spPr>
                <a:xfrm flipH="1" flipV="1">
                  <a:off x="4723920" y="3748320"/>
                  <a:ext cx="35568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1" name=""/>
                <p:cNvSpPr/>
                <p:nvPr/>
              </p:nvSpPr>
              <p:spPr>
                <a:xfrm>
                  <a:off x="4732560" y="388872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7861320" y="3748680"/>
                <a:ext cx="471960" cy="436680"/>
                <a:chOff x="7861320" y="3748680"/>
                <a:chExt cx="471960" cy="436680"/>
              </a:xfrm>
            </p:grpSpPr>
            <p:cxnSp>
              <p:nvCxnSpPr>
                <p:cNvPr id="683" name=""/>
                <p:cNvCxnSpPr>
                  <a:stCxn id="628" idx="3"/>
                  <a:endCxn id="631" idx="7"/>
                </p:cNvCxnSpPr>
                <p:nvPr/>
              </p:nvCxnSpPr>
              <p:spPr>
                <a:xfrm flipH="1">
                  <a:off x="7861320" y="3748680"/>
                  <a:ext cx="35532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4" name=""/>
                <p:cNvSpPr/>
                <p:nvPr/>
              </p:nvSpPr>
              <p:spPr>
                <a:xfrm>
                  <a:off x="8047440" y="38804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61680" y="3072960"/>
                <a:ext cx="436680" cy="357840"/>
                <a:chOff x="7861680" y="3072960"/>
                <a:chExt cx="436680" cy="357840"/>
              </a:xfrm>
            </p:grpSpPr>
            <p:cxnSp>
              <p:nvCxnSpPr>
                <p:cNvPr id="686" name=""/>
                <p:cNvCxnSpPr>
                  <a:stCxn id="625" idx="5"/>
                  <a:endCxn id="628" idx="1"/>
                </p:cNvCxnSpPr>
                <p:nvPr/>
              </p:nvCxnSpPr>
              <p:spPr>
                <a:xfrm>
                  <a:off x="7861680" y="307584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7" name=""/>
                <p:cNvSpPr/>
                <p:nvPr/>
              </p:nvSpPr>
              <p:spPr>
                <a:xfrm>
                  <a:off x="80125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676640" y="3142080"/>
                <a:ext cx="285840" cy="896760"/>
                <a:chOff x="7676640" y="3142080"/>
                <a:chExt cx="285840" cy="896760"/>
              </a:xfrm>
            </p:grpSpPr>
            <p:cxnSp>
              <p:nvCxnSpPr>
                <p:cNvPr id="689" name=""/>
                <p:cNvCxnSpPr>
                  <a:stCxn id="625" idx="4"/>
                  <a:endCxn id="631" idx="0"/>
                </p:cNvCxnSpPr>
                <p:nvPr/>
              </p:nvCxnSpPr>
              <p:spPr>
                <a:xfrm>
                  <a:off x="7702920" y="314208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0" name=""/>
                <p:cNvSpPr/>
                <p:nvPr/>
              </p:nvSpPr>
              <p:spPr>
                <a:xfrm>
                  <a:off x="7676640" y="34876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38040" y="3197520"/>
                <a:ext cx="470160" cy="784080"/>
                <a:chOff x="3938040" y="3197520"/>
                <a:chExt cx="470160" cy="784080"/>
              </a:xfrm>
            </p:grpSpPr>
            <p:cxnSp>
              <p:nvCxnSpPr>
                <p:cNvPr id="692" name=""/>
                <p:cNvCxnSpPr>
                  <a:stCxn id="640" idx="3"/>
                  <a:endCxn id="640" idx="1"/>
                </p:cNvCxnSpPr>
                <p:nvPr/>
              </p:nvCxnSpPr>
              <p:spPr>
                <a:xfrm flipH="1" flipV="1" rot="5400000">
                  <a:off x="4248720" y="3589200"/>
                  <a:ext cx="317880" cy="1440"/>
                </a:xfrm>
                <a:prstGeom prst="curvedConnector5">
                  <a:avLst>
                    <a:gd name="adj1" fmla="val -73469"/>
                    <a:gd name="adj2" fmla="val -19400000"/>
                    <a:gd name="adj3" fmla="val -7346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3" name=""/>
                <p:cNvSpPr/>
                <p:nvPr/>
              </p:nvSpPr>
              <p:spPr>
                <a:xfrm>
                  <a:off x="3938040" y="35060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019400" y="5222880"/>
            <a:ext cx="4894200" cy="1274400"/>
            <a:chOff x="4019400" y="5222880"/>
            <a:chExt cx="4894200" cy="1274400"/>
          </a:xfrm>
        </p:grpSpPr>
        <p:sp>
          <p:nvSpPr>
            <p:cNvPr id="695" name=""/>
            <p:cNvSpPr/>
            <p:nvPr/>
          </p:nvSpPr>
          <p:spPr>
            <a:xfrm>
              <a:off x="512928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29992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535644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4620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488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01440" y="5717880"/>
              <a:ext cx="46656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472080" y="6070680"/>
              <a:ext cx="45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517440" y="6070680"/>
              <a:ext cx="680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1836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24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244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63308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68996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972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1840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151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48600" y="5951160"/>
              <a:ext cx="45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19400" y="5848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9584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76160" y="5951160"/>
              <a:ext cx="1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0960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3172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48640" y="5951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2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42880" y="5222880"/>
              <a:ext cx="6487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683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868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1760" y="595116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9236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09640" y="5951160"/>
              <a:ext cx="2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3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0388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900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4312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7640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7640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256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39520" y="6315480"/>
              <a:ext cx="453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320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12040" y="6315480"/>
              <a:ext cx="342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572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48600" y="63266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8320" y="6326640"/>
              <a:ext cx="11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8960" y="6326640"/>
              <a:ext cx="11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87800" y="6190200"/>
              <a:ext cx="4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6A7-6597-4DF7-9C42-531B1A3209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s 5 state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 binary number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derive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sequence: 000, 010, 011, 101,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derive the state transition table from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75160" y="4029120"/>
            <a:ext cx="2805120" cy="2201760"/>
            <a:chOff x="5375160" y="4029120"/>
            <a:chExt cx="2805120" cy="2201760"/>
          </a:xfrm>
        </p:grpSpPr>
        <p:sp>
          <p:nvSpPr>
            <p:cNvPr id="743" name=""/>
            <p:cNvSpPr/>
            <p:nvPr/>
          </p:nvSpPr>
          <p:spPr>
            <a:xfrm>
              <a:off x="5475240" y="40798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5160" y="45086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714720" y="40291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398600" y="634356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e don't care conditions that arise from the unused stat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0000" y="4051440"/>
            <a:ext cx="2438280" cy="2133360"/>
            <a:chOff x="1170000" y="4051440"/>
            <a:chExt cx="2438280" cy="2133360"/>
          </a:xfrm>
        </p:grpSpPr>
        <p:sp>
          <p:nvSpPr>
            <p:cNvPr id="748" name=""/>
            <p:cNvSpPr/>
            <p:nvPr/>
          </p:nvSpPr>
          <p:spPr>
            <a:xfrm>
              <a:off x="1170000" y="504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0880" y="405144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17920" y="40514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75120" y="5041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60720" y="56516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3" name=""/>
            <p:cNvCxnSpPr>
              <a:stCxn id="749" idx="3"/>
              <a:endCxn id="748" idx="0"/>
            </p:cNvCxnSpPr>
            <p:nvPr/>
          </p:nvCxnSpPr>
          <p:spPr>
            <a:xfrm flipH="1">
              <a:off x="1436040" y="450684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52" idx="2"/>
            </p:cNvCxnSpPr>
            <p:nvPr/>
          </p:nvCxnSpPr>
          <p:spPr>
            <a:xfrm>
              <a:off x="1625760" y="549720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52" idx="6"/>
              <a:endCxn id="751" idx="3"/>
            </p:cNvCxnSpPr>
            <p:nvPr/>
          </p:nvCxnSpPr>
          <p:spPr>
            <a:xfrm flipV="1">
              <a:off x="2693520" y="549684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1" idx="0"/>
              <a:endCxn id="750" idx="5"/>
            </p:cNvCxnSpPr>
            <p:nvPr/>
          </p:nvCxnSpPr>
          <p:spPr>
            <a:xfrm flipH="1" flipV="1">
              <a:off x="3072960" y="450648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750" idx="2"/>
              <a:endCxn id="749" idx="6"/>
            </p:cNvCxnSpPr>
            <p:nvPr/>
          </p:nvCxnSpPr>
          <p:spPr>
            <a:xfrm flipH="1">
              <a:off x="2084040" y="431784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B2B-4157-43CC-87F3-F792B69B9B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086360" y="4325760"/>
            <a:ext cx="2095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+ &lt;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+ &lt;= B’ + A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+ &lt;= 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3: K-maps for next stat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56280" y="2249640"/>
            <a:ext cx="2359080" cy="1574280"/>
            <a:chOff x="656280" y="2249640"/>
            <a:chExt cx="2359080" cy="1574280"/>
          </a:xfrm>
        </p:grpSpPr>
        <p:grpSp>
          <p:nvGrpSpPr>
            <p:cNvPr id="762" name=""/>
            <p:cNvGrpSpPr/>
            <p:nvPr/>
          </p:nvGrpSpPr>
          <p:grpSpPr>
            <a:xfrm>
              <a:off x="822240" y="2334960"/>
              <a:ext cx="2193120" cy="1488960"/>
              <a:chOff x="822240" y="2334960"/>
              <a:chExt cx="2193120" cy="1488960"/>
            </a:xfrm>
          </p:grpSpPr>
          <p:sp>
            <p:nvSpPr>
              <p:cNvPr id="763" name=""/>
              <p:cNvSpPr/>
              <p:nvPr/>
            </p:nvSpPr>
            <p:spPr>
              <a:xfrm>
                <a:off x="12600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898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152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631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0055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152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490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012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22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551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217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012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90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10915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656280" y="22496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531240" y="2249640"/>
            <a:ext cx="2362320" cy="1574280"/>
            <a:chOff x="3531240" y="2249640"/>
            <a:chExt cx="2362320" cy="1574280"/>
          </a:xfrm>
        </p:grpSpPr>
        <p:grpSp>
          <p:nvGrpSpPr>
            <p:cNvPr id="779" name=""/>
            <p:cNvGrpSpPr/>
            <p:nvPr/>
          </p:nvGrpSpPr>
          <p:grpSpPr>
            <a:xfrm>
              <a:off x="3700440" y="2334960"/>
              <a:ext cx="2193120" cy="1488960"/>
              <a:chOff x="3700440" y="2334960"/>
              <a:chExt cx="2193120" cy="1488960"/>
            </a:xfrm>
          </p:grpSpPr>
          <p:sp>
            <p:nvSpPr>
              <p:cNvPr id="780" name=""/>
              <p:cNvSpPr/>
              <p:nvPr/>
            </p:nvSpPr>
            <p:spPr>
              <a:xfrm>
                <a:off x="41382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680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934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413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8837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934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4272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794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004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333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99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794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272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9697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3531240" y="224964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600" y="2249640"/>
            <a:ext cx="2360160" cy="1574280"/>
            <a:chOff x="6411600" y="2249640"/>
            <a:chExt cx="2360160" cy="1574280"/>
          </a:xfrm>
        </p:grpSpPr>
        <p:grpSp>
          <p:nvGrpSpPr>
            <p:cNvPr id="796" name=""/>
            <p:cNvGrpSpPr/>
            <p:nvPr/>
          </p:nvGrpSpPr>
          <p:grpSpPr>
            <a:xfrm>
              <a:off x="6578640" y="2334960"/>
              <a:ext cx="2193120" cy="1488960"/>
              <a:chOff x="6578640" y="2334960"/>
              <a:chExt cx="2193120" cy="1488960"/>
            </a:xfrm>
          </p:grpSpPr>
          <p:sp>
            <p:nvSpPr>
              <p:cNvPr id="797" name=""/>
              <p:cNvSpPr/>
              <p:nvPr/>
            </p:nvSpPr>
            <p:spPr>
              <a:xfrm>
                <a:off x="70164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462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7716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95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7619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7716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054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576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5786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115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781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576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054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8479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6411600" y="224964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163520" y="3089160"/>
            <a:ext cx="1731960" cy="346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06720" y="2604960"/>
            <a:ext cx="457200" cy="830520"/>
          </a:xfrm>
          <a:custGeom>
            <a:avLst/>
            <a:gdLst>
              <a:gd name="textAreaLeft" fmla="*/ 0 w 457200"/>
              <a:gd name="textAreaRight" fmla="*/ 320760 w 457200"/>
              <a:gd name="textAreaTop" fmla="*/ 34560 h 830520"/>
              <a:gd name="textAreaBottom" fmla="*/ 79596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30960" y="2617920"/>
            <a:ext cx="471240" cy="803160"/>
          </a:xfrm>
          <a:custGeom>
            <a:avLst/>
            <a:gdLst>
              <a:gd name="textAreaLeft" fmla="*/ 138600 w 471240"/>
              <a:gd name="textAreaRight" fmla="*/ 471600 w 471240"/>
              <a:gd name="textAreaTop" fmla="*/ 33480 h 803160"/>
              <a:gd name="textAreaBottom" fmla="*/ 77004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44960" y="2660760"/>
            <a:ext cx="762120" cy="27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85040" y="2646360"/>
            <a:ext cx="290520" cy="7621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762120"/>
              <a:gd name="textAreaBottom" fmla="*/ 748080 h 762120"/>
            </a:gdLst>
            <a:ahLst/>
            <a:rect l="textAreaLeft" t="textAreaTop" r="textAreaRight" b="textAreaBottom"/>
            <a:pathLst>
              <a:path w="21600" h="56620">
                <a:moveTo>
                  <a:pt x="3600" y="0"/>
                </a:moveTo>
                <a:arcTo wR="3600" hR="3600" stAng="16200000" swAng="-5400000"/>
                <a:lnTo>
                  <a:pt x="0" y="53020"/>
                </a:lnTo>
                <a:arcTo wR="3600" hR="3600" stAng="10800000" swAng="-5400000"/>
                <a:lnTo>
                  <a:pt x="18000" y="56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074-92E5-499A-86A4-4BAE68E836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deriving state transition table from don't car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05520" y="2100240"/>
            <a:ext cx="2359080" cy="1574640"/>
            <a:chOff x="605520" y="2100240"/>
            <a:chExt cx="2359080" cy="1574640"/>
          </a:xfrm>
        </p:grpSpPr>
        <p:grpSp>
          <p:nvGrpSpPr>
            <p:cNvPr id="820" name=""/>
            <p:cNvGrpSpPr/>
            <p:nvPr/>
          </p:nvGrpSpPr>
          <p:grpSpPr>
            <a:xfrm>
              <a:off x="771480" y="2185920"/>
              <a:ext cx="2193120" cy="1488960"/>
              <a:chOff x="771480" y="2185920"/>
              <a:chExt cx="2193120" cy="1488960"/>
            </a:xfrm>
          </p:grpSpPr>
          <p:sp>
            <p:nvSpPr>
              <p:cNvPr id="821" name=""/>
              <p:cNvSpPr/>
              <p:nvPr/>
            </p:nvSpPr>
            <p:spPr>
              <a:xfrm>
                <a:off x="1209240" y="25066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39120" y="25066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96452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41236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95480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64520" y="243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98320" y="334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50480" y="288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480" y="2998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904400" y="3344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0960" y="2185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5048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9832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4076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605520" y="21002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521520" y="2098800"/>
            <a:ext cx="2363040" cy="1574280"/>
            <a:chOff x="3521520" y="2098800"/>
            <a:chExt cx="2363040" cy="1574280"/>
          </a:xfrm>
        </p:grpSpPr>
        <p:grpSp>
          <p:nvGrpSpPr>
            <p:cNvPr id="837" name=""/>
            <p:cNvGrpSpPr/>
            <p:nvPr/>
          </p:nvGrpSpPr>
          <p:grpSpPr>
            <a:xfrm>
              <a:off x="3691080" y="2184120"/>
              <a:ext cx="2193480" cy="1488960"/>
              <a:chOff x="3691080" y="2184120"/>
              <a:chExt cx="2193480" cy="1488960"/>
            </a:xfrm>
          </p:grpSpPr>
          <p:sp>
            <p:nvSpPr>
              <p:cNvPr id="838" name=""/>
              <p:cNvSpPr/>
              <p:nvPr/>
            </p:nvSpPr>
            <p:spPr>
              <a:xfrm>
                <a:off x="412884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908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844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323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8747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8448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41792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008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9108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2436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9092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700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79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9603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521520" y="209880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43280" y="2098800"/>
            <a:ext cx="2360160" cy="1574280"/>
            <a:chOff x="6443280" y="2098800"/>
            <a:chExt cx="2360160" cy="1574280"/>
          </a:xfrm>
        </p:grpSpPr>
        <p:grpSp>
          <p:nvGrpSpPr>
            <p:cNvPr id="854" name=""/>
            <p:cNvGrpSpPr/>
            <p:nvPr/>
          </p:nvGrpSpPr>
          <p:grpSpPr>
            <a:xfrm>
              <a:off x="6610320" y="2184120"/>
              <a:ext cx="2193120" cy="1488960"/>
              <a:chOff x="6610320" y="2184120"/>
              <a:chExt cx="2193120" cy="1488960"/>
            </a:xfrm>
          </p:grpSpPr>
          <p:sp>
            <p:nvSpPr>
              <p:cNvPr id="855" name=""/>
              <p:cNvSpPr/>
              <p:nvPr/>
            </p:nvSpPr>
            <p:spPr>
              <a:xfrm>
                <a:off x="704808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796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80336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5120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79364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0336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3716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8932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032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4324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0980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8932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3716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7960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43280" y="209880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104840" y="3962520"/>
            <a:ext cx="2805120" cy="2201760"/>
            <a:chOff x="1104840" y="3962520"/>
            <a:chExt cx="2805120" cy="2201760"/>
          </a:xfrm>
        </p:grpSpPr>
        <p:sp>
          <p:nvSpPr>
            <p:cNvPr id="871" name=""/>
            <p:cNvSpPr/>
            <p:nvPr/>
          </p:nvSpPr>
          <p:spPr>
            <a:xfrm>
              <a:off x="1204920" y="40132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04840" y="44420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444400" y="39625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2513160" y="4630680"/>
            <a:ext cx="116496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06680" y="525924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16040" y="585612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661000" y="4392720"/>
            <a:ext cx="2438280" cy="2133360"/>
            <a:chOff x="5661000" y="4392720"/>
            <a:chExt cx="2438280" cy="2133360"/>
          </a:xfrm>
        </p:grpSpPr>
        <p:sp>
          <p:nvSpPr>
            <p:cNvPr id="878" name=""/>
            <p:cNvSpPr/>
            <p:nvPr/>
          </p:nvSpPr>
          <p:spPr>
            <a:xfrm>
              <a:off x="5661000" y="5383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41880" y="43927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08920" y="43927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66120" y="53830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51720" y="5992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79" idx="3"/>
              <a:endCxn id="878" idx="0"/>
            </p:cNvCxnSpPr>
            <p:nvPr/>
          </p:nvCxnSpPr>
          <p:spPr>
            <a:xfrm flipH="1">
              <a:off x="5927040" y="484812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"/>
            <p:cNvCxnSpPr>
              <a:stCxn id="878" idx="5"/>
              <a:endCxn id="882" idx="2"/>
            </p:cNvCxnSpPr>
            <p:nvPr/>
          </p:nvCxnSpPr>
          <p:spPr>
            <a:xfrm>
              <a:off x="6116760" y="583848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82" idx="6"/>
              <a:endCxn id="881" idx="3"/>
            </p:cNvCxnSpPr>
            <p:nvPr/>
          </p:nvCxnSpPr>
          <p:spPr>
            <a:xfrm flipV="1">
              <a:off x="7184520" y="583812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"/>
            <p:cNvCxnSpPr>
              <a:stCxn id="881" idx="0"/>
              <a:endCxn id="880" idx="5"/>
            </p:cNvCxnSpPr>
            <p:nvPr/>
          </p:nvCxnSpPr>
          <p:spPr>
            <a:xfrm flipH="1" flipV="1">
              <a:off x="7563960" y="484776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"/>
            <p:cNvCxnSpPr>
              <a:stCxn id="880" idx="2"/>
              <a:endCxn id="879" idx="6"/>
            </p:cNvCxnSpPr>
            <p:nvPr/>
          </p:nvCxnSpPr>
          <p:spPr>
            <a:xfrm flipH="1">
              <a:off x="6575040" y="465912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7563600" y="3784680"/>
            <a:ext cx="992880" cy="685800"/>
            <a:chOff x="7563600" y="3784680"/>
            <a:chExt cx="992880" cy="685800"/>
          </a:xfrm>
        </p:grpSpPr>
        <p:sp>
          <p:nvSpPr>
            <p:cNvPr id="889" name=""/>
            <p:cNvSpPr/>
            <p:nvPr/>
          </p:nvSpPr>
          <p:spPr>
            <a:xfrm>
              <a:off x="8023320" y="3784680"/>
              <a:ext cx="533160" cy="532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0" name=""/>
            <p:cNvCxnSpPr>
              <a:stCxn id="889" idx="3"/>
              <a:endCxn id="880" idx="7"/>
            </p:cNvCxnSpPr>
            <p:nvPr/>
          </p:nvCxnSpPr>
          <p:spPr>
            <a:xfrm flipH="1">
              <a:off x="7563600" y="4239000"/>
              <a:ext cx="537480" cy="23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4936320" y="3784680"/>
            <a:ext cx="724680" cy="912240"/>
            <a:chOff x="4936320" y="3784680"/>
            <a:chExt cx="724680" cy="912240"/>
          </a:xfrm>
        </p:grpSpPr>
        <p:sp>
          <p:nvSpPr>
            <p:cNvPr id="892" name=""/>
            <p:cNvSpPr/>
            <p:nvPr/>
          </p:nvSpPr>
          <p:spPr>
            <a:xfrm>
              <a:off x="5127480" y="3784680"/>
              <a:ext cx="533520" cy="532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3" name=""/>
            <p:cNvCxnSpPr>
              <a:stCxn id="892" idx="3"/>
              <a:endCxn id="894" idx="0"/>
            </p:cNvCxnSpPr>
            <p:nvPr/>
          </p:nvCxnSpPr>
          <p:spPr>
            <a:xfrm flipH="1">
              <a:off x="4936320" y="4239000"/>
              <a:ext cx="268920" cy="45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5" name=""/>
          <p:cNvGrpSpPr/>
          <p:nvPr/>
        </p:nvGrpSpPr>
        <p:grpSpPr>
          <a:xfrm>
            <a:off x="4670280" y="4697280"/>
            <a:ext cx="1068840" cy="763560"/>
            <a:chOff x="4670280" y="4697280"/>
            <a:chExt cx="1068840" cy="763560"/>
          </a:xfrm>
        </p:grpSpPr>
        <p:sp>
          <p:nvSpPr>
            <p:cNvPr id="894" name=""/>
            <p:cNvSpPr/>
            <p:nvPr/>
          </p:nvSpPr>
          <p:spPr>
            <a:xfrm>
              <a:off x="4670280" y="46972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6" name=""/>
            <p:cNvCxnSpPr>
              <a:stCxn id="894" idx="5"/>
              <a:endCxn id="878" idx="1"/>
            </p:cNvCxnSpPr>
            <p:nvPr/>
          </p:nvCxnSpPr>
          <p:spPr>
            <a:xfrm>
              <a:off x="5126040" y="5152680"/>
              <a:ext cx="613440" cy="30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082-AE24-4D27-BD2A-4DA8F05AD5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-up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ower-up, counter may be in an unused or in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must guarantee that it (eventually) enters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tar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unter so that invalid states eventually transition to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limit exploitation of don't 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051520" y="3909960"/>
            <a:ext cx="3886200" cy="2743200"/>
            <a:chOff x="5051520" y="3909960"/>
            <a:chExt cx="3886200" cy="2743200"/>
          </a:xfrm>
        </p:grpSpPr>
        <p:sp>
          <p:nvSpPr>
            <p:cNvPr id="900" name=""/>
            <p:cNvSpPr/>
            <p:nvPr/>
          </p:nvSpPr>
          <p:spPr>
            <a:xfrm>
              <a:off x="6186600" y="3962520"/>
              <a:ext cx="2044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 previous sl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051520" y="3909960"/>
              <a:ext cx="3886200" cy="2743200"/>
              <a:chOff x="5051520" y="3909960"/>
              <a:chExt cx="3886200" cy="2743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04188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23120" y="4519800"/>
                <a:ext cx="53316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89800" y="45198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94700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2600" y="61200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7" name=""/>
              <p:cNvCxnSpPr>
                <a:stCxn id="903" idx="3"/>
                <a:endCxn id="902" idx="0"/>
              </p:cNvCxnSpPr>
              <p:nvPr/>
            </p:nvCxnSpPr>
            <p:spPr>
              <a:xfrm flipH="1">
                <a:off x="6308280" y="4975200"/>
                <a:ext cx="19296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8" name=""/>
              <p:cNvCxnSpPr>
                <a:stCxn id="902" idx="5"/>
                <a:endCxn id="906" idx="2"/>
              </p:cNvCxnSpPr>
              <p:nvPr/>
            </p:nvCxnSpPr>
            <p:spPr>
              <a:xfrm>
                <a:off x="6497640" y="5965560"/>
                <a:ext cx="53568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9" name=""/>
              <p:cNvCxnSpPr>
                <a:stCxn id="906" idx="6"/>
                <a:endCxn id="905" idx="3"/>
              </p:cNvCxnSpPr>
              <p:nvPr/>
            </p:nvCxnSpPr>
            <p:spPr>
              <a:xfrm flipV="1">
                <a:off x="7566120" y="5965200"/>
                <a:ext cx="45936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0" name=""/>
              <p:cNvCxnSpPr>
                <a:stCxn id="905" idx="0"/>
                <a:endCxn id="904" idx="5"/>
              </p:cNvCxnSpPr>
              <p:nvPr/>
            </p:nvCxnSpPr>
            <p:spPr>
              <a:xfrm flipH="1" flipV="1">
                <a:off x="7944840" y="4974840"/>
                <a:ext cx="26892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1" name=""/>
              <p:cNvCxnSpPr>
                <a:stCxn id="904" idx="2"/>
                <a:endCxn id="903" idx="6"/>
              </p:cNvCxnSpPr>
              <p:nvPr/>
            </p:nvCxnSpPr>
            <p:spPr>
              <a:xfrm flipH="1">
                <a:off x="6955920" y="4786200"/>
                <a:ext cx="534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2" name=""/>
              <p:cNvSpPr/>
              <p:nvPr/>
            </p:nvSpPr>
            <p:spPr>
              <a:xfrm>
                <a:off x="8404200" y="39099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08720" y="39099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51520" y="48243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5" name=""/>
              <p:cNvCxnSpPr>
                <a:stCxn id="912" idx="3"/>
                <a:endCxn id="904" idx="7"/>
              </p:cNvCxnSpPr>
              <p:nvPr/>
            </p:nvCxnSpPr>
            <p:spPr>
              <a:xfrm flipH="1">
                <a:off x="7945560" y="4365720"/>
                <a:ext cx="536760" cy="232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6" name=""/>
              <p:cNvCxnSpPr>
                <a:stCxn id="913" idx="3"/>
                <a:endCxn id="914" idx="0"/>
              </p:cNvCxnSpPr>
              <p:nvPr/>
            </p:nvCxnSpPr>
            <p:spPr>
              <a:xfrm flipH="1">
                <a:off x="5317560" y="4365720"/>
                <a:ext cx="268920" cy="459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7" name=""/>
              <p:cNvCxnSpPr>
                <a:stCxn id="914" idx="5"/>
                <a:endCxn id="902" idx="1"/>
              </p:cNvCxnSpPr>
              <p:nvPr/>
            </p:nvCxnSpPr>
            <p:spPr>
              <a:xfrm>
                <a:off x="5506920" y="5279760"/>
                <a:ext cx="613440" cy="308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8" name=""/>
          <p:cNvGrpSpPr/>
          <p:nvPr/>
        </p:nvGrpSpPr>
        <p:grpSpPr>
          <a:xfrm>
            <a:off x="393840" y="3925800"/>
            <a:ext cx="3999960" cy="2727360"/>
            <a:chOff x="393840" y="3925800"/>
            <a:chExt cx="3999960" cy="2727360"/>
          </a:xfrm>
        </p:grpSpPr>
        <p:sp>
          <p:nvSpPr>
            <p:cNvPr id="919" name=""/>
            <p:cNvSpPr/>
            <p:nvPr/>
          </p:nvSpPr>
          <p:spPr>
            <a:xfrm>
              <a:off x="195552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6760" y="451944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3440" y="45194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6064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46240" y="61196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0" idx="3"/>
              <a:endCxn id="919" idx="0"/>
            </p:cNvCxnSpPr>
            <p:nvPr/>
          </p:nvCxnSpPr>
          <p:spPr>
            <a:xfrm flipH="1">
              <a:off x="2221560" y="497520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9" idx="5"/>
              <a:endCxn id="923" idx="2"/>
            </p:cNvCxnSpPr>
            <p:nvPr/>
          </p:nvCxnSpPr>
          <p:spPr>
            <a:xfrm>
              <a:off x="2410920" y="5965920"/>
              <a:ext cx="53532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3" idx="6"/>
              <a:endCxn id="922" idx="3"/>
            </p:cNvCxnSpPr>
            <p:nvPr/>
          </p:nvCxnSpPr>
          <p:spPr>
            <a:xfrm flipV="1">
              <a:off x="3479400" y="5965560"/>
              <a:ext cx="45900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22" idx="0"/>
              <a:endCxn id="921" idx="5"/>
            </p:cNvCxnSpPr>
            <p:nvPr/>
          </p:nvCxnSpPr>
          <p:spPr>
            <a:xfrm flipH="1" flipV="1">
              <a:off x="3858840" y="4974840"/>
              <a:ext cx="26856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21" idx="2"/>
              <a:endCxn id="920" idx="6"/>
            </p:cNvCxnSpPr>
            <p:nvPr/>
          </p:nvCxnSpPr>
          <p:spPr>
            <a:xfrm flipH="1">
              <a:off x="2869200" y="4785840"/>
              <a:ext cx="533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393840" y="395928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44480" y="3925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5160" y="482436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2" name=""/>
            <p:cNvCxnSpPr>
              <a:stCxn id="930" idx="3"/>
              <a:endCxn id="931" idx="7"/>
            </p:cNvCxnSpPr>
            <p:nvPr/>
          </p:nvCxnSpPr>
          <p:spPr>
            <a:xfrm flipH="1">
              <a:off x="1419840" y="4381560"/>
              <a:ext cx="302040" cy="52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29" idx="6"/>
              <a:endCxn id="930" idx="2"/>
            </p:cNvCxnSpPr>
            <p:nvPr/>
          </p:nvCxnSpPr>
          <p:spPr>
            <a:xfrm flipV="1">
              <a:off x="927000" y="4192200"/>
              <a:ext cx="717840" cy="3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4" name=""/>
            <p:cNvCxnSpPr>
              <a:stCxn id="931" idx="1"/>
              <a:endCxn id="929" idx="5"/>
            </p:cNvCxnSpPr>
            <p:nvPr/>
          </p:nvCxnSpPr>
          <p:spPr>
            <a:xfrm flipH="1" flipV="1">
              <a:off x="848520" y="4414320"/>
              <a:ext cx="194040" cy="48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EDF-DAFC-4B2C-B51E-151D8E5766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bit up-down counter (2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: D = 0 for up, D = 1 for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: C = 0  for hold, C = 1 fo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76520" y="3809880"/>
            <a:ext cx="1676160" cy="1600200"/>
            <a:chOff x="1676520" y="3809880"/>
            <a:chExt cx="1676160" cy="1600200"/>
          </a:xfrm>
        </p:grpSpPr>
        <p:sp>
          <p:nvSpPr>
            <p:cNvPr id="938" name=""/>
            <p:cNvSpPr/>
            <p:nvPr/>
          </p:nvSpPr>
          <p:spPr>
            <a:xfrm>
              <a:off x="1676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19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36800" y="3238560"/>
            <a:ext cx="2958840" cy="2743560"/>
            <a:chOff x="1036800" y="3238560"/>
            <a:chExt cx="2958840" cy="2743560"/>
          </a:xfrm>
        </p:grpSpPr>
        <p:cxnSp>
          <p:nvCxnSpPr>
            <p:cNvPr id="943" name=""/>
            <p:cNvCxnSpPr>
              <a:stCxn id="940" idx="0"/>
              <a:endCxn id="940" idx="6"/>
            </p:cNvCxnSpPr>
            <p:nvPr/>
          </p:nvCxnSpPr>
          <p:spPr>
            <a:xfrm flipH="1" rot="16200000">
              <a:off x="3086280" y="380844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41" idx="6"/>
              <a:endCxn id="941" idx="4"/>
            </p:cNvCxnSpPr>
            <p:nvPr/>
          </p:nvCxnSpPr>
          <p:spPr>
            <a:xfrm flipH="1">
              <a:off x="3085920" y="514368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38" idx="4"/>
              <a:endCxn id="938" idx="2"/>
            </p:cNvCxnSpPr>
            <p:nvPr/>
          </p:nvCxnSpPr>
          <p:spPr>
            <a:xfrm flipV="1" rot="16200000">
              <a:off x="1676160" y="51429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9" idx="2"/>
              <a:endCxn id="939" idx="0"/>
            </p:cNvCxnSpPr>
            <p:nvPr/>
          </p:nvCxnSpPr>
          <p:spPr>
            <a:xfrm flipH="1" rot="10800000">
              <a:off x="1675080" y="38091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103680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7508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71840" y="546408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36800" y="544824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263600" y="3390840"/>
            <a:ext cx="2498760" cy="2423160"/>
            <a:chOff x="1263600" y="3390840"/>
            <a:chExt cx="2498760" cy="2423160"/>
          </a:xfrm>
        </p:grpSpPr>
        <p:cxnSp>
          <p:nvCxnSpPr>
            <p:cNvPr id="952" name=""/>
            <p:cNvCxnSpPr>
              <a:stCxn id="939" idx="3"/>
              <a:endCxn id="938" idx="1"/>
            </p:cNvCxnSpPr>
            <p:nvPr/>
          </p:nvCxnSpPr>
          <p:spPr>
            <a:xfrm>
              <a:off x="1753920" y="426564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38" idx="5"/>
              <a:endCxn id="941" idx="3"/>
            </p:cNvCxnSpPr>
            <p:nvPr/>
          </p:nvCxnSpPr>
          <p:spPr>
            <a:xfrm>
              <a:off x="2131920" y="533196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1" idx="7"/>
              <a:endCxn id="940" idx="5"/>
            </p:cNvCxnSpPr>
            <p:nvPr/>
          </p:nvCxnSpPr>
          <p:spPr>
            <a:xfrm flipV="1">
              <a:off x="3274560" y="426528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0" idx="1"/>
              <a:endCxn id="939" idx="7"/>
            </p:cNvCxnSpPr>
            <p:nvPr/>
          </p:nvCxnSpPr>
          <p:spPr>
            <a:xfrm flipH="1">
              <a:off x="2131560" y="388728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6" name=""/>
            <p:cNvSpPr/>
            <p:nvPr/>
          </p:nvSpPr>
          <p:spPr>
            <a:xfrm>
              <a:off x="3245040" y="43815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54320" y="52959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0640" y="33908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6360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942920" y="4076280"/>
            <a:ext cx="1143720" cy="1067760"/>
            <a:chOff x="1942920" y="4076280"/>
            <a:chExt cx="1143720" cy="1067760"/>
          </a:xfrm>
        </p:grpSpPr>
        <p:cxnSp>
          <p:nvCxnSpPr>
            <p:cNvPr id="961" name=""/>
            <p:cNvCxnSpPr>
              <a:stCxn id="940" idx="4"/>
              <a:endCxn id="941" idx="0"/>
            </p:cNvCxnSpPr>
            <p:nvPr/>
          </p:nvCxnSpPr>
          <p:spPr>
            <a:xfrm>
              <a:off x="3085920" y="434340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41" idx="2"/>
              <a:endCxn id="938" idx="6"/>
            </p:cNvCxnSpPr>
            <p:nvPr/>
          </p:nvCxnSpPr>
          <p:spPr>
            <a:xfrm flipH="1">
              <a:off x="2209320" y="514332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38" idx="0"/>
              <a:endCxn id="939" idx="4"/>
            </p:cNvCxnSpPr>
            <p:nvPr/>
          </p:nvCxnSpPr>
          <p:spPr>
            <a:xfrm flipV="1">
              <a:off x="1942920" y="434304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39" idx="6"/>
              <a:endCxn id="940" idx="2"/>
            </p:cNvCxnSpPr>
            <p:nvPr/>
          </p:nvCxnSpPr>
          <p:spPr>
            <a:xfrm>
              <a:off x="2209680" y="407628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225432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56240" y="2438280"/>
            <a:ext cx="2819520" cy="4051440"/>
            <a:chOff x="5556240" y="2438280"/>
            <a:chExt cx="2819520" cy="4051440"/>
          </a:xfrm>
        </p:grpSpPr>
        <p:sp>
          <p:nvSpPr>
            <p:cNvPr id="967" name=""/>
            <p:cNvSpPr/>
            <p:nvPr/>
          </p:nvSpPr>
          <p:spPr>
            <a:xfrm>
              <a:off x="5638680" y="2438280"/>
              <a:ext cx="27370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56240" y="2971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385040" y="2743200"/>
              <a:ext cx="648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94320" y="297180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0" y="2711520"/>
            <a:ext cx="9271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973-654E-4EC4-8F17-77C7012027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4952880" y="4714920"/>
            <a:ext cx="4318200" cy="195876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1752480"/>
            <a:ext cx="2662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3360" y="22860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431800" y="2057400"/>
            <a:ext cx="612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41440" y="22860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41640" y="1727280"/>
            <a:ext cx="2878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1 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S0’S1’ + CDS0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’S0S1’ + CD’S0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(D’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 + D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47040" y="3429000"/>
            <a:ext cx="149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0 = CS0’ + C’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33920" y="3048120"/>
            <a:ext cx="1675800" cy="1701720"/>
            <a:chOff x="3733920" y="3048120"/>
            <a:chExt cx="1675800" cy="1701720"/>
          </a:xfrm>
        </p:grpSpPr>
        <p:grpSp>
          <p:nvGrpSpPr>
            <p:cNvPr id="981" name=""/>
            <p:cNvGrpSpPr/>
            <p:nvPr/>
          </p:nvGrpSpPr>
          <p:grpSpPr>
            <a:xfrm>
              <a:off x="3733920" y="3048120"/>
              <a:ext cx="1675800" cy="1701720"/>
              <a:chOff x="3733920" y="3048120"/>
              <a:chExt cx="1675800" cy="1701720"/>
            </a:xfrm>
          </p:grpSpPr>
          <p:sp>
            <p:nvSpPr>
              <p:cNvPr id="982" name=""/>
              <p:cNvSpPr/>
              <p:nvPr/>
            </p:nvSpPr>
            <p:spPr>
              <a:xfrm>
                <a:off x="4038480" y="330192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1640" y="330192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1640" y="3301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181480" y="3606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206680" y="375912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597200" y="304812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71520" y="330192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962160" y="360684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267080" y="45212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62160" y="391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92280" y="452124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33920" y="398772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87656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71640" y="391176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71520" y="391176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26708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962160" y="421632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87656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43400" y="3353040"/>
              <a:ext cx="457200" cy="5331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160"/>
                <a:gd name="textAreaBottom" fmla="*/ 51084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3600" y="0"/>
                  </a:moveTo>
                  <a:arcTo wR="3600" hR="3600" stAng="16200000" swAng="-5400000"/>
                  <a:lnTo>
                    <a:pt x="0" y="21586"/>
                  </a:lnTo>
                  <a:arcTo wR="3600" hR="3600" stAng="10800000" swAng="-5400000"/>
                  <a:lnTo>
                    <a:pt x="18000" y="25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86200" y="3946680"/>
              <a:ext cx="304920" cy="53352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952160" y="3946680"/>
              <a:ext cx="304920" cy="53352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33920" y="1422360"/>
            <a:ext cx="1675800" cy="1701720"/>
            <a:chOff x="3733920" y="1422360"/>
            <a:chExt cx="1675800" cy="1701720"/>
          </a:xfrm>
        </p:grpSpPr>
        <p:grpSp>
          <p:nvGrpSpPr>
            <p:cNvPr id="1005" name=""/>
            <p:cNvGrpSpPr/>
            <p:nvPr/>
          </p:nvGrpSpPr>
          <p:grpSpPr>
            <a:xfrm>
              <a:off x="3733920" y="1422360"/>
              <a:ext cx="1675800" cy="1701720"/>
              <a:chOff x="3733920" y="1422360"/>
              <a:chExt cx="1675800" cy="1701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038480" y="167616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71640" y="167616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71640" y="1676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181480" y="19810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06680" y="213336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97200" y="142236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71520" y="167616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26708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396216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67080" y="2895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62160" y="2286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292280" y="289548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33920" y="236196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7656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71640" y="22860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71520" y="228600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26708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3962160" y="2590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7656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4648320" y="17269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38480" y="233676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43400" y="264132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264132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8320" y="233676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228600" y="1447920"/>
            <a:ext cx="9042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39D-1401-4FCD-873D-F3AF66A65E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/shift-register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flip-f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143000" y="4419720"/>
            <a:ext cx="7112160" cy="1523520"/>
            <a:chOff x="1143000" y="4419720"/>
            <a:chExt cx="7112160" cy="1523520"/>
          </a:xfrm>
        </p:grpSpPr>
        <p:sp>
          <p:nvSpPr>
            <p:cNvPr id="1034" name=""/>
            <p:cNvSpPr/>
            <p:nvPr/>
          </p:nvSpPr>
          <p:spPr>
            <a:xfrm>
              <a:off x="1143000" y="464796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4320" y="5638680"/>
              <a:ext cx="1320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38680" y="464796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76720" y="5486400"/>
              <a:ext cx="1396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029200" y="5181480"/>
              <a:ext cx="1066680" cy="304560"/>
              <a:chOff x="5029200" y="5181480"/>
              <a:chExt cx="1066680" cy="3045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29200" y="5181480"/>
                <a:ext cx="10666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29200" y="52574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029200" y="5333760"/>
                <a:ext cx="15228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429000" y="4419720"/>
              <a:ext cx="1600200" cy="60948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3" name=""/>
            <p:cNvCxnSpPr>
              <a:stCxn id="1042" idx="3"/>
              <a:endCxn id="1039" idx="0"/>
            </p:cNvCxnSpPr>
            <p:nvPr/>
          </p:nvCxnSpPr>
          <p:spPr>
            <a:xfrm>
              <a:off x="5029200" y="4723920"/>
              <a:ext cx="534240" cy="4575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>
              <a:stCxn id="1039" idx="2"/>
              <a:endCxn id="1042" idx="1"/>
            </p:cNvCxnSpPr>
            <p:nvPr/>
          </p:nvCxnSpPr>
          <p:spPr>
            <a:xfrm flipV="1" rot="16200000">
              <a:off x="4114440" y="4037760"/>
              <a:ext cx="762480" cy="2134440"/>
            </a:xfrm>
            <a:prstGeom prst="bentConnector4">
              <a:avLst>
                <a:gd name="adj1" fmla="val -29995"/>
                <a:gd name="adj2" fmla="val 12893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5" name=""/>
            <p:cNvCxnSpPr/>
            <p:nvPr/>
          </p:nvCxnSpPr>
          <p:spPr>
            <a:xfrm>
              <a:off x="5562720" y="571464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6" name=""/>
            <p:cNvCxnSpPr/>
            <p:nvPr/>
          </p:nvCxnSpPr>
          <p:spPr>
            <a:xfrm>
              <a:off x="2209320" y="472392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8D8-A110-4F8F-B0A0-D8B9050208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 of state ele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5998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ircuit into combinational logic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 the feedback loops and make it easy to brea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storage elements leads to various forms of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7920" y="3473280"/>
            <a:ext cx="8167320" cy="2590560"/>
            <a:chOff x="547920" y="3473280"/>
            <a:chExt cx="8167320" cy="2590560"/>
          </a:xfrm>
        </p:grpSpPr>
        <p:sp>
          <p:nvSpPr>
            <p:cNvPr id="89" name=""/>
            <p:cNvSpPr/>
            <p:nvPr/>
          </p:nvSpPr>
          <p:spPr>
            <a:xfrm>
              <a:off x="3352680" y="3473280"/>
              <a:ext cx="24386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4082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3113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4463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40827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4311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44636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49208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7692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76856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14944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5759280"/>
              <a:ext cx="5335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49208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6668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74800" y="5454360"/>
              <a:ext cx="219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orage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4440" y="3549240"/>
              <a:ext cx="112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2880" y="4920840"/>
              <a:ext cx="178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920" y="4920840"/>
              <a:ext cx="15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00" y="35492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6D3-965A-436D-86E0-615AACF0C8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state machine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 (Mealy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only (Moore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43040" y="4451400"/>
            <a:ext cx="5892840" cy="1905120"/>
            <a:chOff x="1643040" y="4451400"/>
            <a:chExt cx="5892840" cy="1905120"/>
          </a:xfrm>
        </p:grpSpPr>
        <p:sp>
          <p:nvSpPr>
            <p:cNvPr id="1050" name=""/>
            <p:cNvSpPr/>
            <p:nvPr/>
          </p:nvSpPr>
          <p:spPr>
            <a:xfrm>
              <a:off x="1643040" y="4908600"/>
              <a:ext cx="92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15040" y="460368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05560" y="52135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43240" y="605160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95520" y="445140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95720" y="5746680"/>
              <a:ext cx="1066680" cy="304920"/>
              <a:chOff x="4995720" y="5746680"/>
              <a:chExt cx="1066680" cy="304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95720" y="574668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5720" y="582300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995720" y="58989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395520" y="50608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0" name=""/>
            <p:cNvCxnSpPr>
              <a:stCxn id="1059" idx="3"/>
              <a:endCxn id="1056" idx="0"/>
            </p:cNvCxnSpPr>
            <p:nvPr/>
          </p:nvCxnSpPr>
          <p:spPr>
            <a:xfrm>
              <a:off x="4995720" y="5327640"/>
              <a:ext cx="53424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56" idx="2"/>
              <a:endCxn id="1054" idx="1"/>
            </p:cNvCxnSpPr>
            <p:nvPr/>
          </p:nvCxnSpPr>
          <p:spPr>
            <a:xfrm flipV="1" rot="16200000">
              <a:off x="3795120" y="4317480"/>
              <a:ext cx="1334160" cy="2134440"/>
            </a:xfrm>
            <a:prstGeom prst="bentConnector4">
              <a:avLst>
                <a:gd name="adj1" fmla="val -17139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2" name=""/>
            <p:cNvCxnSpPr>
              <a:stCxn id="1056" idx="2"/>
              <a:endCxn id="1059" idx="1"/>
            </p:cNvCxnSpPr>
            <p:nvPr/>
          </p:nvCxnSpPr>
          <p:spPr>
            <a:xfrm flipV="1" rot="16200000">
              <a:off x="4099680" y="4622040"/>
              <a:ext cx="724680" cy="2134440"/>
            </a:xfrm>
            <a:prstGeom prst="bentConnector4">
              <a:avLst>
                <a:gd name="adj1" fmla="val -31560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endCxn id="1054" idx="1"/>
            </p:cNvCxnSpPr>
            <p:nvPr/>
          </p:nvCxnSpPr>
          <p:spPr>
            <a:xfrm flipV="1">
              <a:off x="2557440" y="4717800"/>
              <a:ext cx="8388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endCxn id="1059" idx="1"/>
            </p:cNvCxnSpPr>
            <p:nvPr/>
          </p:nvCxnSpPr>
          <p:spPr>
            <a:xfrm>
              <a:off x="2557440" y="5022360"/>
              <a:ext cx="8388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4" idx="3"/>
            </p:cNvCxnSpPr>
            <p:nvPr/>
          </p:nvCxnSpPr>
          <p:spPr>
            <a:xfrm>
              <a:off x="4995360" y="471780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032-2AD3-4697-B5C3-7805E7F0AD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achine model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378240" y="3379680"/>
            <a:ext cx="5892840" cy="1905120"/>
            <a:chOff x="3378240" y="3379680"/>
            <a:chExt cx="5892840" cy="1905120"/>
          </a:xfrm>
        </p:grpSpPr>
        <p:sp>
          <p:nvSpPr>
            <p:cNvPr id="1069" name=""/>
            <p:cNvSpPr/>
            <p:nvPr/>
          </p:nvSpPr>
          <p:spPr>
            <a:xfrm>
              <a:off x="3378240" y="3836880"/>
              <a:ext cx="92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950240" y="353196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40760" y="414180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78440" y="497988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31080" y="33796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6731280" y="4674960"/>
              <a:ext cx="1066680" cy="304920"/>
              <a:chOff x="6731280" y="4674960"/>
              <a:chExt cx="106668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6731280" y="467496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31280" y="475128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6731280" y="48272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131080" y="398916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8" idx="3"/>
              <a:endCxn id="1075" idx="0"/>
            </p:cNvCxnSpPr>
            <p:nvPr/>
          </p:nvCxnSpPr>
          <p:spPr>
            <a:xfrm>
              <a:off x="6730920" y="4255920"/>
              <a:ext cx="53388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0" name=""/>
            <p:cNvCxnSpPr>
              <a:stCxn id="1075" idx="2"/>
              <a:endCxn id="1073" idx="1"/>
            </p:cNvCxnSpPr>
            <p:nvPr/>
          </p:nvCxnSpPr>
          <p:spPr>
            <a:xfrm flipV="1" rot="16200000">
              <a:off x="5530680" y="3245760"/>
              <a:ext cx="1334160" cy="2134080"/>
            </a:xfrm>
            <a:prstGeom prst="bentConnector4">
              <a:avLst>
                <a:gd name="adj1" fmla="val -17139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stCxn id="1075" idx="2"/>
              <a:endCxn id="1078" idx="1"/>
            </p:cNvCxnSpPr>
            <p:nvPr/>
          </p:nvCxnSpPr>
          <p:spPr>
            <a:xfrm flipV="1" rot="16200000">
              <a:off x="5835240" y="3550320"/>
              <a:ext cx="724680" cy="2134080"/>
            </a:xfrm>
            <a:prstGeom prst="bentConnector4">
              <a:avLst>
                <a:gd name="adj1" fmla="val -31560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2" name=""/>
            <p:cNvCxnSpPr>
              <a:endCxn id="1073" idx="1"/>
            </p:cNvCxnSpPr>
            <p:nvPr/>
          </p:nvCxnSpPr>
          <p:spPr>
            <a:xfrm flipV="1">
              <a:off x="4292280" y="3645720"/>
              <a:ext cx="83916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"/>
            <p:cNvCxnSpPr>
              <a:endCxn id="1078" idx="1"/>
            </p:cNvCxnSpPr>
            <p:nvPr/>
          </p:nvCxnSpPr>
          <p:spPr>
            <a:xfrm>
              <a:off x="4292280" y="3951360"/>
              <a:ext cx="83916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"/>
            <p:cNvCxnSpPr>
              <a:stCxn id="1073" idx="3"/>
            </p:cNvCxnSpPr>
            <p:nvPr/>
          </p:nvCxnSpPr>
          <p:spPr>
            <a:xfrm>
              <a:off x="6731280" y="364608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85" name=""/>
          <p:cNvGrpSpPr/>
          <p:nvPr/>
        </p:nvGrpSpPr>
        <p:grpSpPr>
          <a:xfrm>
            <a:off x="420840" y="5457600"/>
            <a:ext cx="6400800" cy="1143360"/>
            <a:chOff x="420840" y="5457600"/>
            <a:chExt cx="6400800" cy="1143360"/>
          </a:xfrm>
        </p:grpSpPr>
        <p:sp>
          <p:nvSpPr>
            <p:cNvPr id="1086" name=""/>
            <p:cNvSpPr/>
            <p:nvPr/>
          </p:nvSpPr>
          <p:spPr>
            <a:xfrm flipV="1">
              <a:off x="23259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2403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1547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0691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9835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8040" y="629604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0840" y="5457960"/>
              <a:ext cx="135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8040" y="5915160"/>
              <a:ext cx="889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4508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4508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73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173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96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496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78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478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54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554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0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630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06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706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83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783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59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859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35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935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11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011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88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88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640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640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92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392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68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468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45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545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21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621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97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97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3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773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49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849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26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926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02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002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84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784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07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307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83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383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9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459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35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535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11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88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688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64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64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40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840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16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916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28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28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1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221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97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297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74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74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50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50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26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526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02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602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678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678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4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754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1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831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072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072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5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135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2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212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88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88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4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364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40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440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17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6517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93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593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69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669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45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745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5080" y="6143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45080" y="5915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259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3259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022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022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3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2403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166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166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547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547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310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310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0691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0691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54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54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35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9835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59880" y="61437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59880" y="5915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835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691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47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403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9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9064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287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431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575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3719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863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83F-AD27-4228-8B21-1BE9E108129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tend to have le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utputs on arcs 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ather than state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s are saf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aly machines, input change can cause output change as soon as logic is done – a big problem when two machines are interconnected – asynchronous feedback may occur if one isn’t car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react faster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ore machines, more logic may be necessary to decode state into outputs – more gate delays after clock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75F-4230-452C-9A9E-FE6DDD3B66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62632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671920" y="1477800"/>
            <a:ext cx="4533840" cy="1822320"/>
            <a:chOff x="2671920" y="1477800"/>
            <a:chExt cx="4533840" cy="1822320"/>
          </a:xfrm>
        </p:grpSpPr>
        <p:sp>
          <p:nvSpPr>
            <p:cNvPr id="1236" name=""/>
            <p:cNvSpPr/>
            <p:nvPr/>
          </p:nvSpPr>
          <p:spPr>
            <a:xfrm>
              <a:off x="3814920" y="27669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05400" y="14778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11560" y="1560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11560" y="171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11560" y="1877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115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115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115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831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31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831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77000" y="19476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18200" y="2360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88040" y="2366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198600" y="26017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205080" y="23540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18200" y="21952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64360" y="22017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122640" y="2678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129120" y="21888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35240" y="21952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18200" y="2030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40320" y="20365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046320" y="27540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052800" y="20239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9280" y="2030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5052960" y="23536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5091120" y="23536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97600" y="24429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1920" y="16239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21480" y="20937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7920" y="20937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98920" y="16999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30800" y="2030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30800" y="2195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080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24640" y="19605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54800" y="20048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95960" y="204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95960" y="2208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9596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47800" y="3203640"/>
            <a:ext cx="3670200" cy="1860480"/>
            <a:chOff x="2647800" y="3203640"/>
            <a:chExt cx="3670200" cy="1860480"/>
          </a:xfrm>
        </p:grpSpPr>
        <p:sp>
          <p:nvSpPr>
            <p:cNvPr id="1278" name=""/>
            <p:cNvSpPr/>
            <p:nvPr/>
          </p:nvSpPr>
          <p:spPr>
            <a:xfrm>
              <a:off x="3619440" y="320364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0040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0400" y="3425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00400" y="3603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768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3934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00400" y="40989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09800" y="328608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09800" y="34257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09800" y="360360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09800" y="3768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9800" y="3934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09800" y="4098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16240" y="368640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270400" y="4098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0240" y="4105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187440" y="434016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193920" y="40924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0" y="3934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560" y="394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123720" y="440388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130560" y="39276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36680" y="393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70400" y="3768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05480" y="37753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022560" y="450540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3028680" y="376236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5160" y="3768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105160" y="410508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130360" y="410508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37200" y="418140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7800" y="336240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21120" y="336240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90800" y="453096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984560" y="380700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625560" y="367992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25880" y="320364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68640" y="327348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674800" y="5049720"/>
            <a:ext cx="3670200" cy="1896840"/>
            <a:chOff x="2674800" y="5049720"/>
            <a:chExt cx="3670200" cy="1896840"/>
          </a:xfrm>
        </p:grpSpPr>
        <p:sp>
          <p:nvSpPr>
            <p:cNvPr id="1317" name=""/>
            <p:cNvSpPr/>
            <p:nvPr/>
          </p:nvSpPr>
          <p:spPr>
            <a:xfrm>
              <a:off x="3646440" y="508608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27040" y="5168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27040" y="53082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7040" y="5486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27040" y="56512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27040" y="58161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27040" y="5981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36800" y="516852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36800" y="53082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36800" y="548604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6800" y="5651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36800" y="5816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36800" y="598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43240" y="5049720"/>
              <a:ext cx="254160" cy="10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7400" y="598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7240" y="5987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214080" y="622260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220920" y="59749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7400" y="5816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43200" y="5822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3150720" y="628632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157200" y="5810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63680" y="581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297400" y="565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32120" y="56577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9560" y="638784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055680" y="564480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062160" y="565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132160" y="5987520"/>
              <a:ext cx="1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5157360" y="598752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63840" y="6063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74800" y="524484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8120" y="524484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17800" y="641340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11560" y="568944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52560" y="556236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2520" y="5086080"/>
              <a:ext cx="58428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515592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E01-5492-4B93-A198-4C572F7857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3071880"/>
            <a:ext cx="4635000" cy="3390480"/>
            <a:chOff x="0" y="3071880"/>
            <a:chExt cx="4635000" cy="3390480"/>
          </a:xfrm>
        </p:grpSpPr>
        <p:sp>
          <p:nvSpPr>
            <p:cNvPr id="1356" name=""/>
            <p:cNvSpPr/>
            <p:nvPr/>
          </p:nvSpPr>
          <p:spPr>
            <a:xfrm>
              <a:off x="1936440" y="578304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57360" y="5821200"/>
              <a:ext cx="11376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3840" y="311616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444400" y="3560400"/>
              <a:ext cx="1141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667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667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79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95160" y="382104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492200" y="3979440"/>
              <a:ext cx="58356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60640" y="3643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3240" y="54720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044440" y="36684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23560" y="45129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379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30040" y="45576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31840" y="5497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08120" y="5649840"/>
              <a:ext cx="134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1478880" y="4906800"/>
              <a:ext cx="596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2406240" y="3979440"/>
              <a:ext cx="15361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406600" y="3979800"/>
              <a:ext cx="15235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28920" y="401796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974760" y="401796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8880" y="4735440"/>
              <a:ext cx="59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06480" y="4506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84200" y="3998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93680" y="3071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61960" y="42526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76640" y="450684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4560" y="49258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06280" y="60562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409400" y="5091120"/>
              <a:ext cx="55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82520" y="34909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160" y="56242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79760"/>
              <a:ext cx="812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4952880" y="2665440"/>
            <a:ext cx="3988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44880" y="3262320"/>
            <a:ext cx="402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89840" y="2697120"/>
            <a:ext cx="0" cy="363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oor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only function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 state bubble in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B59-8EC7-46D2-932C-F8FCB235D72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971960" y="2895480"/>
            <a:ext cx="398772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63960" y="3492360"/>
            <a:ext cx="40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94600" y="2927520"/>
            <a:ext cx="0" cy="25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620640" y="2987640"/>
            <a:ext cx="3047760" cy="3365640"/>
            <a:chOff x="620640" y="2987640"/>
            <a:chExt cx="3047760" cy="3365640"/>
          </a:xfrm>
        </p:grpSpPr>
        <p:sp>
          <p:nvSpPr>
            <p:cNvPr id="1399" name=""/>
            <p:cNvSpPr/>
            <p:nvPr/>
          </p:nvSpPr>
          <p:spPr>
            <a:xfrm>
              <a:off x="2722320" y="56739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30280" y="5699160"/>
              <a:ext cx="1144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09720" y="3006720"/>
              <a:ext cx="6858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23840" y="3489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277720" y="38700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19240" y="35593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09440" y="4403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23840" y="53182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04840" y="444816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19240" y="53881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265120" y="479700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198600" y="39085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944800" y="39085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4400" y="462600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50020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06360" y="3851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160" y="29876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0968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2160" y="59468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8960" y="503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0640" y="4270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230280" y="34509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function of state and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put on transition arc betwee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9D6-336A-4B9F-92DF-3D9457ED8E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ed Mealy machine (really Moor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(or registered) Mealy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tate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‘glitchy’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in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 with no output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omputed on transition to next state rather than after 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utputs as expanded stat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28800" y="4834080"/>
            <a:ext cx="927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24520" y="4529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29000" y="5977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581280" y="4376880"/>
            <a:ext cx="1600200" cy="5331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581280" y="4986360"/>
            <a:ext cx="1600200" cy="5349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0" name=""/>
          <p:cNvCxnSpPr>
            <a:stCxn id="1429" idx="3"/>
            <a:endCxn id="1431" idx="0"/>
          </p:cNvCxnSpPr>
          <p:nvPr/>
        </p:nvCxnSpPr>
        <p:spPr>
          <a:xfrm flipV="1">
            <a:off x="5181480" y="5252760"/>
            <a:ext cx="656640" cy="216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9" idx="1"/>
            <a:endCxn id="1428" idx="1"/>
          </p:cNvCxnSpPr>
          <p:nvPr/>
        </p:nvCxnSpPr>
        <p:spPr>
          <a:xfrm flipH="1" rot="10800000">
            <a:off x="3580200" y="4642560"/>
            <a:ext cx="2520" cy="612000"/>
          </a:xfrm>
          <a:prstGeom prst="bentConnector3">
            <a:avLst>
              <a:gd name="adj1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31" idx="2"/>
            <a:endCxn id="1429" idx="1"/>
          </p:cNvCxnSpPr>
          <p:nvPr/>
        </p:nvCxnSpPr>
        <p:spPr>
          <a:xfrm flipH="1">
            <a:off x="3580560" y="5253120"/>
            <a:ext cx="2590200" cy="2160"/>
          </a:xfrm>
          <a:prstGeom prst="bentConnector5">
            <a:avLst>
              <a:gd name="adj1" fmla="val -8826"/>
              <a:gd name="adj2" fmla="val 43100000"/>
              <a:gd name="adj3" fmla="val 10882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endCxn id="1428" idx="1"/>
          </p:cNvCxnSpPr>
          <p:nvPr/>
        </p:nvCxnSpPr>
        <p:spPr>
          <a:xfrm flipV="1">
            <a:off x="2743200" y="464256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endCxn id="1429" idx="1"/>
          </p:cNvCxnSpPr>
          <p:nvPr/>
        </p:nvCxnSpPr>
        <p:spPr>
          <a:xfrm>
            <a:off x="2743200" y="4950000"/>
            <a:ext cx="83880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28" idx="3"/>
            <a:endCxn id="1437" idx="0"/>
          </p:cNvCxnSpPr>
          <p:nvPr/>
        </p:nvCxnSpPr>
        <p:spPr>
          <a:xfrm>
            <a:off x="5181120" y="4642920"/>
            <a:ext cx="66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8" name=""/>
          <p:cNvCxnSpPr/>
          <p:nvPr/>
        </p:nvCxnSpPr>
        <p:spPr>
          <a:xfrm>
            <a:off x="6175440" y="4647960"/>
            <a:ext cx="55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9" name=""/>
          <p:cNvGrpSpPr/>
          <p:nvPr/>
        </p:nvGrpSpPr>
        <p:grpSpPr>
          <a:xfrm>
            <a:off x="5842080" y="4362120"/>
            <a:ext cx="333000" cy="561960"/>
            <a:chOff x="5842080" y="4362120"/>
            <a:chExt cx="333000" cy="561960"/>
          </a:xfrm>
        </p:grpSpPr>
        <p:sp>
          <p:nvSpPr>
            <p:cNvPr id="1437" name=""/>
            <p:cNvSpPr/>
            <p:nvPr/>
          </p:nvSpPr>
          <p:spPr>
            <a:xfrm rot="16200000">
              <a:off x="5727600" y="447660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925240" y="484416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6008760" y="484416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837400" y="4971600"/>
            <a:ext cx="333000" cy="561960"/>
            <a:chOff x="5837400" y="4971600"/>
            <a:chExt cx="333000" cy="561960"/>
          </a:xfrm>
        </p:grpSpPr>
        <p:sp>
          <p:nvSpPr>
            <p:cNvPr id="1431" name=""/>
            <p:cNvSpPr/>
            <p:nvPr/>
          </p:nvSpPr>
          <p:spPr>
            <a:xfrm rot="16200000">
              <a:off x="5722920" y="508608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5920560" y="545364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6004080" y="545364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325-89AF-4DD4-930F-0E5A4F82D8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4343400" y="4156200"/>
            <a:ext cx="80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05320" y="4003560"/>
            <a:ext cx="291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05320" y="4613400"/>
            <a:ext cx="291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419720" y="30132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495680" y="5756400"/>
            <a:ext cx="419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86400" y="4232160"/>
            <a:ext cx="571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362320" y="4308480"/>
            <a:ext cx="69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24480" y="430848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e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 item after 15 cents are depos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in slot for dimes, nick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114800" y="392760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24852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248520" y="507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248520" y="3927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62320" y="392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20040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362320" y="507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34120" y="4460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4232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00400" y="484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724280" y="324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724280" y="5070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DB9-E83A-428B-99C3-43C32D7CF5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933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abstract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te typical input 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ick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, 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, 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tate 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N, D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 open ch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N and D asser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a self 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 = D = 0 (no co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902280" y="1949400"/>
            <a:ext cx="936720" cy="1218960"/>
            <a:chOff x="6902280" y="1949400"/>
            <a:chExt cx="936720" cy="1218960"/>
          </a:xfrm>
        </p:grpSpPr>
        <p:sp>
          <p:nvSpPr>
            <p:cNvPr id="1470" name=""/>
            <p:cNvSpPr/>
            <p:nvPr/>
          </p:nvSpPr>
          <p:spPr>
            <a:xfrm>
              <a:off x="6902280" y="25588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1" name=""/>
            <p:cNvCxnSpPr/>
            <p:nvPr/>
          </p:nvCxnSpPr>
          <p:spPr>
            <a:xfrm>
              <a:off x="7206840" y="21016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7196400" y="19494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422840" y="3016080"/>
            <a:ext cx="775080" cy="1066680"/>
            <a:chOff x="7422840" y="3016080"/>
            <a:chExt cx="775080" cy="1066680"/>
          </a:xfrm>
        </p:grpSpPr>
        <p:sp>
          <p:nvSpPr>
            <p:cNvPr id="1474" name=""/>
            <p:cNvSpPr/>
            <p:nvPr/>
          </p:nvSpPr>
          <p:spPr>
            <a:xfrm>
              <a:off x="75880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5" name=""/>
            <p:cNvCxnSpPr>
              <a:stCxn id="1470" idx="5"/>
              <a:endCxn id="1474" idx="1"/>
            </p:cNvCxnSpPr>
            <p:nvPr/>
          </p:nvCxnSpPr>
          <p:spPr>
            <a:xfrm>
              <a:off x="742284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6" name=""/>
            <p:cNvSpPr/>
            <p:nvPr/>
          </p:nvSpPr>
          <p:spPr>
            <a:xfrm>
              <a:off x="7509240" y="30160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8108640" y="3993840"/>
            <a:ext cx="775080" cy="1003680"/>
            <a:chOff x="8108640" y="3993840"/>
            <a:chExt cx="775080" cy="1003680"/>
          </a:xfrm>
        </p:grpSpPr>
        <p:sp>
          <p:nvSpPr>
            <p:cNvPr id="1478" name=""/>
            <p:cNvSpPr/>
            <p:nvPr/>
          </p:nvSpPr>
          <p:spPr>
            <a:xfrm>
              <a:off x="82738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4" idx="5"/>
              <a:endCxn id="1478" idx="1"/>
            </p:cNvCxnSpPr>
            <p:nvPr/>
          </p:nvCxnSpPr>
          <p:spPr>
            <a:xfrm>
              <a:off x="810864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8195040" y="4007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445080" y="4006800"/>
            <a:ext cx="609840" cy="990360"/>
            <a:chOff x="6445080" y="4006800"/>
            <a:chExt cx="609840" cy="990360"/>
          </a:xfrm>
        </p:grpSpPr>
        <p:sp>
          <p:nvSpPr>
            <p:cNvPr id="1482" name=""/>
            <p:cNvSpPr/>
            <p:nvPr/>
          </p:nvSpPr>
          <p:spPr>
            <a:xfrm>
              <a:off x="64450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3" name=""/>
            <p:cNvCxnSpPr>
              <a:stCxn id="1484" idx="4"/>
              <a:endCxn id="1482" idx="0"/>
            </p:cNvCxnSpPr>
            <p:nvPr/>
          </p:nvCxnSpPr>
          <p:spPr>
            <a:xfrm>
              <a:off x="652104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5" name=""/>
            <p:cNvSpPr/>
            <p:nvPr/>
          </p:nvSpPr>
          <p:spPr>
            <a:xfrm>
              <a:off x="6594840" y="40068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216480" y="3016080"/>
            <a:ext cx="774360" cy="1066680"/>
            <a:chOff x="6216480" y="3016080"/>
            <a:chExt cx="774360" cy="1066680"/>
          </a:xfrm>
        </p:grpSpPr>
        <p:sp>
          <p:nvSpPr>
            <p:cNvPr id="1484" name=""/>
            <p:cNvSpPr/>
            <p:nvPr/>
          </p:nvSpPr>
          <p:spPr>
            <a:xfrm>
              <a:off x="62164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7" name=""/>
            <p:cNvCxnSpPr>
              <a:stCxn id="1470" idx="3"/>
              <a:endCxn id="1484" idx="7"/>
            </p:cNvCxnSpPr>
            <p:nvPr/>
          </p:nvCxnSpPr>
          <p:spPr>
            <a:xfrm flipH="1">
              <a:off x="673668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8" name=""/>
            <p:cNvSpPr/>
            <p:nvPr/>
          </p:nvSpPr>
          <p:spPr>
            <a:xfrm>
              <a:off x="6591240" y="3016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5530680" y="3993840"/>
            <a:ext cx="774360" cy="1003680"/>
            <a:chOff x="5530680" y="3993840"/>
            <a:chExt cx="774360" cy="1003680"/>
          </a:xfrm>
        </p:grpSpPr>
        <p:sp>
          <p:nvSpPr>
            <p:cNvPr id="1490" name=""/>
            <p:cNvSpPr/>
            <p:nvPr/>
          </p:nvSpPr>
          <p:spPr>
            <a:xfrm>
              <a:off x="55306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1" name=""/>
            <p:cNvCxnSpPr>
              <a:stCxn id="1484" idx="3"/>
              <a:endCxn id="1490" idx="7"/>
            </p:cNvCxnSpPr>
            <p:nvPr/>
          </p:nvCxnSpPr>
          <p:spPr>
            <a:xfrm flipH="1">
              <a:off x="605088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2" name=""/>
            <p:cNvSpPr/>
            <p:nvPr/>
          </p:nvSpPr>
          <p:spPr>
            <a:xfrm>
              <a:off x="5905440" y="400716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359480" y="4006800"/>
            <a:ext cx="609840" cy="990360"/>
            <a:chOff x="7359480" y="4006800"/>
            <a:chExt cx="609840" cy="990360"/>
          </a:xfrm>
        </p:grpSpPr>
        <p:sp>
          <p:nvSpPr>
            <p:cNvPr id="1494" name=""/>
            <p:cNvSpPr/>
            <p:nvPr/>
          </p:nvSpPr>
          <p:spPr>
            <a:xfrm>
              <a:off x="73594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74" idx="4"/>
              <a:endCxn id="1494" idx="0"/>
            </p:cNvCxnSpPr>
            <p:nvPr/>
          </p:nvCxnSpPr>
          <p:spPr>
            <a:xfrm flipH="1">
              <a:off x="766368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6" name=""/>
            <p:cNvSpPr/>
            <p:nvPr/>
          </p:nvSpPr>
          <p:spPr>
            <a:xfrm>
              <a:off x="7505640" y="400680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70440" y="4929120"/>
            <a:ext cx="609840" cy="990360"/>
            <a:chOff x="5770440" y="4929120"/>
            <a:chExt cx="609840" cy="990360"/>
          </a:xfrm>
        </p:grpSpPr>
        <p:sp>
          <p:nvSpPr>
            <p:cNvPr id="1498" name=""/>
            <p:cNvSpPr/>
            <p:nvPr/>
          </p:nvSpPr>
          <p:spPr>
            <a:xfrm>
              <a:off x="5770440" y="5310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9" name=""/>
            <p:cNvCxnSpPr>
              <a:endCxn id="1498" idx="0"/>
            </p:cNvCxnSpPr>
            <p:nvPr/>
          </p:nvCxnSpPr>
          <p:spPr>
            <a:xfrm>
              <a:off x="5846400" y="500472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0" name=""/>
            <p:cNvSpPr/>
            <p:nvPr/>
          </p:nvSpPr>
          <p:spPr>
            <a:xfrm>
              <a:off x="5920200" y="49291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854600" y="4901760"/>
            <a:ext cx="774360" cy="1003680"/>
            <a:chOff x="4854600" y="4901760"/>
            <a:chExt cx="774360" cy="1003680"/>
          </a:xfrm>
        </p:grpSpPr>
        <p:sp>
          <p:nvSpPr>
            <p:cNvPr id="1502" name=""/>
            <p:cNvSpPr/>
            <p:nvPr/>
          </p:nvSpPr>
          <p:spPr>
            <a:xfrm>
              <a:off x="4854600" y="529596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3" name=""/>
            <p:cNvCxnSpPr>
              <a:endCxn id="1502" idx="7"/>
            </p:cNvCxnSpPr>
            <p:nvPr/>
          </p:nvCxnSpPr>
          <p:spPr>
            <a:xfrm flipH="1">
              <a:off x="5374800" y="490176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/>
            <p:nvPr/>
          </p:nvSpPr>
          <p:spPr>
            <a:xfrm>
              <a:off x="5229360" y="4915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89E-525C-4B91-A7E4-BFD6A9858F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number of states - 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4038480" y="2209680"/>
            <a:ext cx="4368960" cy="4089600"/>
            <a:chOff x="4038480" y="2209680"/>
            <a:chExt cx="4368960" cy="4089600"/>
          </a:xfrm>
        </p:grpSpPr>
        <p:sp>
          <p:nvSpPr>
            <p:cNvPr id="1508" name=""/>
            <p:cNvSpPr/>
            <p:nvPr/>
          </p:nvSpPr>
          <p:spPr>
            <a:xfrm>
              <a:off x="4876920" y="5715000"/>
              <a:ext cx="2463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ic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67080" y="2209680"/>
              <a:ext cx="4140360" cy="36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143000"/>
                  <a:tab algn="l" pos="1600200"/>
                  <a:tab algn="l" pos="22860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38480" y="26668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48520" y="220968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1828800" y="2259000"/>
            <a:ext cx="998640" cy="1246320"/>
            <a:chOff x="1828800" y="2259000"/>
            <a:chExt cx="998640" cy="1246320"/>
          </a:xfrm>
        </p:grpSpPr>
        <p:sp>
          <p:nvSpPr>
            <p:cNvPr id="1513" name=""/>
            <p:cNvSpPr/>
            <p:nvPr/>
          </p:nvSpPr>
          <p:spPr>
            <a:xfrm>
              <a:off x="1828800" y="28954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4" name=""/>
            <p:cNvCxnSpPr/>
            <p:nvPr/>
          </p:nvCxnSpPr>
          <p:spPr>
            <a:xfrm>
              <a:off x="2133360" y="24382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2120760" y="2259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8800" y="3478320"/>
            <a:ext cx="631800" cy="941400"/>
            <a:chOff x="1828800" y="3478320"/>
            <a:chExt cx="631800" cy="941400"/>
          </a:xfrm>
        </p:grpSpPr>
        <p:sp>
          <p:nvSpPr>
            <p:cNvPr id="1517" name=""/>
            <p:cNvSpPr/>
            <p:nvPr/>
          </p:nvSpPr>
          <p:spPr>
            <a:xfrm>
              <a:off x="1828800" y="3809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125800" y="34783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13" idx="4"/>
              <a:endCxn id="1517" idx="0"/>
            </p:cNvCxnSpPr>
            <p:nvPr/>
          </p:nvCxnSpPr>
          <p:spPr>
            <a:xfrm>
              <a:off x="2133360" y="35053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0" name=""/>
          <p:cNvGrpSpPr/>
          <p:nvPr/>
        </p:nvGrpSpPr>
        <p:grpSpPr>
          <a:xfrm>
            <a:off x="2125800" y="4392720"/>
            <a:ext cx="334800" cy="337320"/>
            <a:chOff x="2125800" y="4392720"/>
            <a:chExt cx="334800" cy="337320"/>
          </a:xfrm>
        </p:grpSpPr>
        <p:sp>
          <p:nvSpPr>
            <p:cNvPr id="1521" name=""/>
            <p:cNvSpPr/>
            <p:nvPr/>
          </p:nvSpPr>
          <p:spPr>
            <a:xfrm>
              <a:off x="2125800" y="43927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2" name=""/>
            <p:cNvCxnSpPr>
              <a:stCxn id="1517" idx="4"/>
              <a:endCxn id="1523" idx="0"/>
            </p:cNvCxnSpPr>
            <p:nvPr/>
          </p:nvCxnSpPr>
          <p:spPr>
            <a:xfrm>
              <a:off x="2133360" y="44197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4" name=""/>
          <p:cNvGrpSpPr/>
          <p:nvPr/>
        </p:nvGrpSpPr>
        <p:grpSpPr>
          <a:xfrm>
            <a:off x="2133360" y="5307120"/>
            <a:ext cx="718560" cy="337320"/>
            <a:chOff x="2133360" y="5307120"/>
            <a:chExt cx="718560" cy="337320"/>
          </a:xfrm>
        </p:grpSpPr>
        <p:sp>
          <p:nvSpPr>
            <p:cNvPr id="1525" name=""/>
            <p:cNvSpPr/>
            <p:nvPr/>
          </p:nvSpPr>
          <p:spPr>
            <a:xfrm>
              <a:off x="2147040" y="5307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6" name=""/>
            <p:cNvCxnSpPr>
              <a:stCxn id="1523" idx="4"/>
              <a:endCxn id="1527" idx="0"/>
            </p:cNvCxnSpPr>
            <p:nvPr/>
          </p:nvCxnSpPr>
          <p:spPr>
            <a:xfrm>
              <a:off x="2133360" y="53341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8" name=""/>
          <p:cNvGrpSpPr/>
          <p:nvPr/>
        </p:nvGrpSpPr>
        <p:grpSpPr>
          <a:xfrm>
            <a:off x="1828800" y="3200400"/>
            <a:ext cx="1316160" cy="2133720"/>
            <a:chOff x="1828800" y="3200400"/>
            <a:chExt cx="1316160" cy="2133720"/>
          </a:xfrm>
        </p:grpSpPr>
        <p:sp>
          <p:nvSpPr>
            <p:cNvPr id="1523" name=""/>
            <p:cNvSpPr/>
            <p:nvPr/>
          </p:nvSpPr>
          <p:spPr>
            <a:xfrm>
              <a:off x="1828800" y="4724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16280" y="3859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13" idx="6"/>
              <a:endCxn id="1523" idx="6"/>
            </p:cNvCxnSpPr>
            <p:nvPr/>
          </p:nvCxnSpPr>
          <p:spPr>
            <a:xfrm>
              <a:off x="2437920" y="320040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139760" y="4114800"/>
            <a:ext cx="1298520" cy="2133720"/>
            <a:chOff x="1139760" y="4114800"/>
            <a:chExt cx="1298520" cy="2133720"/>
          </a:xfrm>
        </p:grpSpPr>
        <p:sp>
          <p:nvSpPr>
            <p:cNvPr id="1527" name=""/>
            <p:cNvSpPr/>
            <p:nvPr/>
          </p:nvSpPr>
          <p:spPr>
            <a:xfrm>
              <a:off x="1828800" y="56386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139760" y="4114800"/>
              <a:ext cx="690840" cy="1829160"/>
              <a:chOff x="1139760" y="4114800"/>
              <a:chExt cx="690840" cy="1829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1139760" y="4849920"/>
                <a:ext cx="3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4" name=""/>
              <p:cNvCxnSpPr>
                <a:stCxn id="1517" idx="2"/>
                <a:endCxn id="1527" idx="2"/>
              </p:cNvCxnSpPr>
              <p:nvPr/>
            </p:nvCxnSpPr>
            <p:spPr>
              <a:xfrm flipH="1" flipV="1" rot="10800000">
                <a:off x="1828440" y="4114440"/>
                <a:ext cx="2160" cy="1829520"/>
              </a:xfrm>
              <a:prstGeom prst="curvedConnector5">
                <a:avLst>
                  <a:gd name="adj1" fmla="val -14400000"/>
                  <a:gd name="adj2" fmla="val 49990"/>
                  <a:gd name="adj3" fmla="val -14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391-51D6-42BC-AC1E-9AD4A6575E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s of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sequential logic – state changes occur whenever state inputs change (elements may be simple wires or delay el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sequential logic – state changes occur in lock step across all storage elements (using a periodic waveform -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3809520" cy="1752840"/>
            <a:chOff x="457200" y="3809880"/>
            <a:chExt cx="3809520" cy="1752840"/>
          </a:xfrm>
        </p:grpSpPr>
        <p:sp>
          <p:nvSpPr>
            <p:cNvPr id="125" name=""/>
            <p:cNvSpPr/>
            <p:nvPr/>
          </p:nvSpPr>
          <p:spPr>
            <a:xfrm>
              <a:off x="1559880" y="3809880"/>
              <a:ext cx="16038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7880" y="424800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8360" y="4412160"/>
              <a:ext cx="55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8800" y="45219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404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404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404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4040" y="424800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4040" y="441216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4040" y="4521960"/>
              <a:ext cx="50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2000" y="4850640"/>
              <a:ext cx="125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2000" y="5124600"/>
              <a:ext cx="13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2000" y="5562720"/>
              <a:ext cx="15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8800" y="4850640"/>
              <a:ext cx="13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8360" y="5124600"/>
              <a:ext cx="14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7880" y="556272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65520" y="45219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560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0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08800" y="45216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836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78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3809880"/>
            <a:ext cx="4114440" cy="2205000"/>
            <a:chOff x="4648320" y="3809880"/>
            <a:chExt cx="4114440" cy="2205000"/>
          </a:xfrm>
        </p:grpSpPr>
        <p:sp>
          <p:nvSpPr>
            <p:cNvPr id="151" name=""/>
            <p:cNvSpPr/>
            <p:nvPr/>
          </p:nvSpPr>
          <p:spPr>
            <a:xfrm>
              <a:off x="5839200" y="3809880"/>
              <a:ext cx="1732680" cy="75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1400" y="4242240"/>
              <a:ext cx="7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3760" y="4404600"/>
              <a:ext cx="5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1760" y="4512960"/>
              <a:ext cx="48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188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188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188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1880" y="4242240"/>
              <a:ext cx="81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1880" y="44046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71880" y="451296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440" y="478332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440" y="5053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2440" y="5486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3000" y="472896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3000" y="4999680"/>
              <a:ext cx="3790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000" y="543240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51760" y="4837320"/>
              <a:ext cx="119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3760" y="5107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81400" y="5540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320" y="45129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21680" y="4404600"/>
              <a:ext cx="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4040" y="4242240"/>
              <a:ext cx="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351760" y="4512600"/>
              <a:ext cx="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43760" y="44046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1400" y="4242240"/>
              <a:ext cx="0" cy="129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2440" y="489132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22440" y="51620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2440" y="559440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1160" y="4891320"/>
              <a:ext cx="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02600" y="5648760"/>
              <a:ext cx="80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57E-2228-4736-8C1D-10176C08B6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2489040" y="2286000"/>
            <a:ext cx="4254840" cy="3835440"/>
            <a:chOff x="2489040" y="2286000"/>
            <a:chExt cx="4254840" cy="3835440"/>
          </a:xfrm>
        </p:grpSpPr>
        <p:sp>
          <p:nvSpPr>
            <p:cNvPr id="1536" name=""/>
            <p:cNvSpPr/>
            <p:nvPr/>
          </p:nvSpPr>
          <p:spPr>
            <a:xfrm>
              <a:off x="2590920" y="2286000"/>
              <a:ext cx="41400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7432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27200" y="2736720"/>
              <a:ext cx="421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02000" y="3587760"/>
              <a:ext cx="424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2000" y="446400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89040" y="5340240"/>
              <a:ext cx="422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49840" y="229860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encod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603-5811-4D6C-BAFA-3F82E9B1E6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5638680" y="4038480"/>
            <a:ext cx="3305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1 + D + Q0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’ N + Q0 N’ + Q1 N + Q1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1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oor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ping to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505320" y="1600200"/>
            <a:ext cx="5181480" cy="1828800"/>
            <a:chOff x="3505320" y="1600200"/>
            <a:chExt cx="5181480" cy="1828800"/>
          </a:xfrm>
        </p:grpSpPr>
        <p:grpSp>
          <p:nvGrpSpPr>
            <p:cNvPr id="1548" name=""/>
            <p:cNvGrpSpPr/>
            <p:nvPr/>
          </p:nvGrpSpPr>
          <p:grpSpPr>
            <a:xfrm>
              <a:off x="5105160" y="1981080"/>
              <a:ext cx="685800" cy="990720"/>
              <a:chOff x="5105160" y="1981080"/>
              <a:chExt cx="685800" cy="990720"/>
            </a:xfrm>
          </p:grpSpPr>
          <p:sp>
            <p:nvSpPr>
              <p:cNvPr id="1549" name=""/>
              <p:cNvSpPr/>
              <p:nvPr/>
            </p:nvSpPr>
            <p:spPr>
              <a:xfrm rot="5400000">
                <a:off x="5295600" y="2247840"/>
                <a:ext cx="457200" cy="533520"/>
              </a:xfrm>
              <a:custGeom>
                <a:avLst/>
                <a:gdLst>
                  <a:gd name="textAreaLeft" fmla="*/ 60480 w 457200"/>
                  <a:gd name="textAreaRight" fmla="*/ 396720 w 457200"/>
                  <a:gd name="textAreaTop" fmla="*/ 60480 h 533520"/>
                  <a:gd name="textAreaBottom" fmla="*/ 473040 h 533520"/>
                </a:gdLst>
                <a:ahLst/>
                <a:rect l="textAreaLeft" t="textAreaTop" r="textAreaRight" b="textAreaBottom"/>
                <a:pathLst>
                  <a:path w="21600" h="25203">
                    <a:moveTo>
                      <a:pt x="9750" y="0"/>
                    </a:moveTo>
                    <a:arcTo wR="9750" hR="9750" stAng="16200000" swAng="-5400000"/>
                    <a:lnTo>
                      <a:pt x="0" y="15453"/>
                    </a:lnTo>
                    <a:arcTo wR="9750" hR="9750" stAng="10800000" swAng="-5400000"/>
                    <a:lnTo>
                      <a:pt x="11850" y="25203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 rot="5400000">
                <a:off x="4838400" y="2247840"/>
                <a:ext cx="990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248520" y="2057040"/>
              <a:ext cx="685800" cy="990360"/>
              <a:chOff x="6248520" y="2057040"/>
              <a:chExt cx="685800" cy="990360"/>
            </a:xfrm>
          </p:grpSpPr>
          <p:sp>
            <p:nvSpPr>
              <p:cNvPr id="1552" name=""/>
              <p:cNvSpPr/>
              <p:nvPr/>
            </p:nvSpPr>
            <p:spPr>
              <a:xfrm rot="16200000">
                <a:off x="6286680" y="2247840"/>
                <a:ext cx="456840" cy="533160"/>
              </a:xfrm>
              <a:custGeom>
                <a:avLst/>
                <a:gdLst>
                  <a:gd name="textAreaLeft" fmla="*/ 60120 w 456840"/>
                  <a:gd name="textAreaRight" fmla="*/ 396720 w 456840"/>
                  <a:gd name="textAreaTop" fmla="*/ 60120 h 533160"/>
                  <a:gd name="textAreaBottom" fmla="*/ 473040 h 533160"/>
                </a:gdLst>
                <a:ahLst/>
                <a:rect l="textAreaLeft" t="textAreaTop" r="textAreaRight" b="textAreaBottom"/>
                <a:pathLst>
                  <a:path w="21600" h="25206">
                    <a:moveTo>
                      <a:pt x="9750" y="0"/>
                    </a:moveTo>
                    <a:arcTo wR="9750" hR="9750" stAng="16200000" swAng="-5400000"/>
                    <a:lnTo>
                      <a:pt x="0" y="15456"/>
                    </a:lnTo>
                    <a:arcTo wR="9750" hR="9750" stAng="10800000" swAng="-5400000"/>
                    <a:lnTo>
                      <a:pt x="11850" y="25206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 rot="16200000">
                <a:off x="6210360" y="23230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5791320" y="2743200"/>
              <a:ext cx="457200" cy="53316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160"/>
                <a:gd name="textAreaBottom" fmla="*/ 47268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9750" y="0"/>
                  </a:moveTo>
                  <a:arcTo wR="9750" hR="9750" stAng="16200000" swAng="-5400000"/>
                  <a:lnTo>
                    <a:pt x="0" y="15436"/>
                  </a:lnTo>
                  <a:arcTo wR="9750" hR="9750" stAng="10800000" swAng="-5400000"/>
                  <a:lnTo>
                    <a:pt x="11850" y="25186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5486400" y="29718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5791320" y="1752480"/>
              <a:ext cx="457200" cy="53352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520"/>
                <a:gd name="textAreaBottom" fmla="*/ 47304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9750" y="0"/>
                  </a:moveTo>
                  <a:arcTo wR="9750" hR="9750" stAng="16200000" swAng="-5400000"/>
                  <a:lnTo>
                    <a:pt x="0" y="15453"/>
                  </a:lnTo>
                  <a:arcTo wR="9750" hR="9750" stAng="10800000" swAng="-5400000"/>
                  <a:lnTo>
                    <a:pt x="11850" y="2520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62720" y="160020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505320" y="1752480"/>
              <a:ext cx="1600200" cy="1600200"/>
              <a:chOff x="3505320" y="1752480"/>
              <a:chExt cx="1600200" cy="1600200"/>
            </a:xfrm>
          </p:grpSpPr>
          <p:sp>
            <p:nvSpPr>
              <p:cNvPr id="1559" name=""/>
              <p:cNvSpPr/>
              <p:nvPr/>
            </p:nvSpPr>
            <p:spPr>
              <a:xfrm>
                <a:off x="388656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26744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58164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8102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388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674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4960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102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0388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2674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4960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8102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0388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2674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4960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02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388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674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960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26744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03884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3392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80096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03884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87692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0532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257800" y="1752480"/>
              <a:ext cx="1600200" cy="1600200"/>
              <a:chOff x="5257800" y="1752480"/>
              <a:chExt cx="1600200" cy="16002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6390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0199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562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91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0199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248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562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91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199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248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562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91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0199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48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562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1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0199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248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0199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913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4864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534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913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6294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578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7086600" y="1752480"/>
              <a:ext cx="1600200" cy="1600200"/>
              <a:chOff x="7086600" y="1752480"/>
              <a:chExt cx="1600200" cy="1600200"/>
            </a:xfrm>
          </p:grpSpPr>
          <p:sp>
            <p:nvSpPr>
              <p:cNvPr id="1613" name=""/>
              <p:cNvSpPr/>
              <p:nvPr/>
            </p:nvSpPr>
            <p:spPr>
              <a:xfrm>
                <a:off x="74678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487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629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48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077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91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6201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848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077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48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077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48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077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487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6201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3152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3822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01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4582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866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4267080" y="2057400"/>
              <a:ext cx="457200" cy="91440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914400"/>
                <a:gd name="textAreaBottom" fmla="*/ 85392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9750" y="0"/>
                  </a:moveTo>
                  <a:arcTo wR="9750" hR="9750" stAng="16200000" swAng="-5400000"/>
                  <a:lnTo>
                    <a:pt x="0" y="33433"/>
                  </a:lnTo>
                  <a:arcTo wR="9750" hR="9750" stAng="10800000" swAng="-5400000"/>
                  <a:lnTo>
                    <a:pt x="11850" y="4318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38480" y="22860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9880" y="2514600"/>
              <a:ext cx="9144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199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7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19920" y="25146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5" name="" descr=""/>
          <p:cNvPicPr/>
          <p:nvPr/>
        </p:nvPicPr>
        <p:blipFill>
          <a:blip r:embed="rId1"/>
          <a:stretch/>
        </p:blipFill>
        <p:spPr>
          <a:xfrm>
            <a:off x="466560" y="3349800"/>
            <a:ext cx="4938840" cy="31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BCCB-D67F-4C56-A229-786AC23AD3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762120" y="2438280"/>
            <a:ext cx="41400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50760"/>
                <a:tab algn="l" pos="114480"/>
                <a:tab algn="l" pos="279360"/>
                <a:tab algn="l" pos="571680"/>
                <a:tab algn="l" pos="851040"/>
                <a:tab algn="l" pos="1308240"/>
                <a:tab algn="l" pos="1600200"/>
                <a:tab algn="l" pos="2057400"/>
                <a:tab algn="l" pos="2336760"/>
                <a:tab algn="l" pos="2629080"/>
                <a:tab algn="l" pos="290844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en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98400" y="2905200"/>
            <a:ext cx="421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3200" y="377208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464832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548640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806560" y="2451240"/>
            <a:ext cx="0" cy="337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62720" y="2895480"/>
            <a:ext cx="3205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0 N + Q1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 = Q0 D + Q1 N + Q2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 = Q1 D + Q2 D + Q2 N +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26C-65FB-46E6-A414-CC0011625B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quivalent Mealy and Moore state diagra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390240" y="2349360"/>
            <a:ext cx="3552480" cy="4190760"/>
            <a:chOff x="390240" y="2349360"/>
            <a:chExt cx="3552480" cy="4190760"/>
          </a:xfrm>
        </p:grpSpPr>
        <p:sp>
          <p:nvSpPr>
            <p:cNvPr id="1658" name=""/>
            <p:cNvSpPr/>
            <p:nvPr/>
          </p:nvSpPr>
          <p:spPr>
            <a:xfrm>
              <a:off x="2209680" y="29592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209680" y="4788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09680" y="38736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7024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2" name=""/>
            <p:cNvCxnSpPr/>
            <p:nvPr/>
          </p:nvCxnSpPr>
          <p:spPr>
            <a:xfrm>
              <a:off x="251424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3" name=""/>
            <p:cNvSpPr/>
            <p:nvPr/>
          </p:nvSpPr>
          <p:spPr>
            <a:xfrm>
              <a:off x="2526480" y="2349360"/>
              <a:ext cx="12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 + 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21360" y="39495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21360" y="50166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03200" y="35686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83240" y="53974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3200" y="4483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9" name=""/>
            <p:cNvCxnSpPr>
              <a:stCxn id="1658" idx="4"/>
              <a:endCxn id="1660" idx="0"/>
            </p:cNvCxnSpPr>
            <p:nvPr/>
          </p:nvCxnSpPr>
          <p:spPr>
            <a:xfrm>
              <a:off x="251424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0" name=""/>
            <p:cNvCxnSpPr>
              <a:stCxn id="1660" idx="4"/>
              <a:endCxn id="1659" idx="0"/>
            </p:cNvCxnSpPr>
            <p:nvPr/>
          </p:nvCxnSpPr>
          <p:spPr>
            <a:xfrm>
              <a:off x="251424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59" idx="4"/>
              <a:endCxn id="1661" idx="0"/>
            </p:cNvCxnSpPr>
            <p:nvPr/>
          </p:nvCxnSpPr>
          <p:spPr>
            <a:xfrm>
              <a:off x="251424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2" name=""/>
            <p:cNvCxnSpPr>
              <a:stCxn id="1660" idx="2"/>
              <a:endCxn id="1661" idx="2"/>
            </p:cNvCxnSpPr>
            <p:nvPr/>
          </p:nvCxnSpPr>
          <p:spPr>
            <a:xfrm flipH="1" flipV="1" rot="10800000">
              <a:off x="2208600" y="417780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0" idx="5"/>
              <a:endCxn id="1660" idx="7"/>
            </p:cNvCxnSpPr>
            <p:nvPr/>
          </p:nvCxnSpPr>
          <p:spPr>
            <a:xfrm flipH="1" flipV="1" rot="5400000">
              <a:off x="2515320" y="4177080"/>
              <a:ext cx="432360" cy="2160"/>
            </a:xfrm>
            <a:prstGeom prst="curvedConnector5">
              <a:avLst>
                <a:gd name="adj1" fmla="val -40000"/>
                <a:gd name="adj2" fmla="val 16380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"/>
            <p:cNvCxnSpPr>
              <a:stCxn id="1658" idx="5"/>
              <a:endCxn id="1658" idx="7"/>
            </p:cNvCxnSpPr>
            <p:nvPr/>
          </p:nvCxnSpPr>
          <p:spPr>
            <a:xfrm flipH="1" flipV="1" rot="5400000">
              <a:off x="2515320" y="3262680"/>
              <a:ext cx="432360" cy="2160"/>
            </a:xfrm>
            <a:prstGeom prst="curvedConnector5">
              <a:avLst>
                <a:gd name="adj1" fmla="val -26833"/>
                <a:gd name="adj2" fmla="val 14540000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61" idx="3"/>
              <a:endCxn id="1658" idx="1"/>
            </p:cNvCxnSpPr>
            <p:nvPr/>
          </p:nvCxnSpPr>
          <p:spPr>
            <a:xfrm flipH="1" flipV="1" rot="5400000">
              <a:off x="711000" y="4633920"/>
              <a:ext cx="3175560" cy="2520"/>
            </a:xfrm>
            <a:prstGeom prst="curvedConnector5">
              <a:avLst>
                <a:gd name="adj1" fmla="val -10000"/>
                <a:gd name="adj2" fmla="val -4415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"/>
            <p:cNvCxnSpPr/>
            <p:nvPr/>
          </p:nvCxnSpPr>
          <p:spPr>
            <a:xfrm flipH="1" flipV="1" rot="5400000">
              <a:off x="252756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"/>
            <p:cNvCxnSpPr/>
            <p:nvPr/>
          </p:nvCxnSpPr>
          <p:spPr>
            <a:xfrm flipH="1" flipV="1" rot="5400000">
              <a:off x="252756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"/>
            <p:cNvCxnSpPr/>
            <p:nvPr/>
          </p:nvCxnSpPr>
          <p:spPr>
            <a:xfrm flipH="1" flipV="1" rot="10800000">
              <a:off x="2208600" y="318744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9" name=""/>
            <p:cNvSpPr/>
            <p:nvPr/>
          </p:nvSpPr>
          <p:spPr>
            <a:xfrm>
              <a:off x="3278160" y="49402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69880" y="58546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278160" y="40258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201840" y="31114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800" y="2425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5586120" y="2349360"/>
            <a:ext cx="3171600" cy="4190760"/>
            <a:chOff x="5586120" y="2349360"/>
            <a:chExt cx="3171600" cy="4190760"/>
          </a:xfrm>
        </p:grpSpPr>
        <p:sp>
          <p:nvSpPr>
            <p:cNvPr id="1685" name=""/>
            <p:cNvSpPr/>
            <p:nvPr/>
          </p:nvSpPr>
          <p:spPr>
            <a:xfrm>
              <a:off x="6858000" y="29592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58000" y="4788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8000" y="38736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858000" y="5702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/>
            <p:nvPr/>
          </p:nvCxnSpPr>
          <p:spPr>
            <a:xfrm>
              <a:off x="716256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0" name=""/>
            <p:cNvSpPr/>
            <p:nvPr/>
          </p:nvSpPr>
          <p:spPr>
            <a:xfrm>
              <a:off x="7187400" y="234936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38920" y="39495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38920" y="50166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20760" y="35686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24840" y="5397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20760" y="44830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6" name=""/>
            <p:cNvCxnSpPr>
              <a:stCxn id="1685" idx="4"/>
              <a:endCxn id="1687" idx="0"/>
            </p:cNvCxnSpPr>
            <p:nvPr/>
          </p:nvCxnSpPr>
          <p:spPr>
            <a:xfrm>
              <a:off x="716256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7" name=""/>
            <p:cNvCxnSpPr>
              <a:stCxn id="1687" idx="4"/>
              <a:endCxn id="1686" idx="0"/>
            </p:cNvCxnSpPr>
            <p:nvPr/>
          </p:nvCxnSpPr>
          <p:spPr>
            <a:xfrm>
              <a:off x="716256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8" name=""/>
            <p:cNvCxnSpPr>
              <a:stCxn id="1686" idx="4"/>
              <a:endCxn id="1688" idx="0"/>
            </p:cNvCxnSpPr>
            <p:nvPr/>
          </p:nvCxnSpPr>
          <p:spPr>
            <a:xfrm>
              <a:off x="716256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9" name=""/>
            <p:cNvCxnSpPr>
              <a:stCxn id="1687" idx="2"/>
              <a:endCxn id="1688" idx="2"/>
            </p:cNvCxnSpPr>
            <p:nvPr/>
          </p:nvCxnSpPr>
          <p:spPr>
            <a:xfrm flipH="1" flipV="1" rot="10800000">
              <a:off x="6857640" y="417780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0" name=""/>
            <p:cNvCxnSpPr>
              <a:stCxn id="1687" idx="5"/>
              <a:endCxn id="1687" idx="7"/>
            </p:cNvCxnSpPr>
            <p:nvPr/>
          </p:nvCxnSpPr>
          <p:spPr>
            <a:xfrm flipH="1" flipV="1" rot="5400000">
              <a:off x="7162560" y="4176720"/>
              <a:ext cx="432360" cy="2520"/>
            </a:xfrm>
            <a:prstGeom prst="curvedConnector5">
              <a:avLst>
                <a:gd name="adj1" fmla="val -40000"/>
                <a:gd name="adj2" fmla="val 16383333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1" name=""/>
            <p:cNvCxnSpPr>
              <a:stCxn id="1685" idx="5"/>
              <a:endCxn id="1685" idx="7"/>
            </p:cNvCxnSpPr>
            <p:nvPr/>
          </p:nvCxnSpPr>
          <p:spPr>
            <a:xfrm flipH="1" flipV="1" rot="5400000">
              <a:off x="7162560" y="3262320"/>
              <a:ext cx="432360" cy="2520"/>
            </a:xfrm>
            <a:prstGeom prst="curvedConnector5">
              <a:avLst>
                <a:gd name="adj1" fmla="val -26833"/>
                <a:gd name="adj2" fmla="val 14533333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2" name=""/>
            <p:cNvCxnSpPr>
              <a:stCxn id="1688" idx="3"/>
              <a:endCxn id="1685" idx="1"/>
            </p:cNvCxnSpPr>
            <p:nvPr/>
          </p:nvCxnSpPr>
          <p:spPr>
            <a:xfrm flipH="1" flipV="1" rot="5400000">
              <a:off x="5360040" y="4634280"/>
              <a:ext cx="3175560" cy="2160"/>
            </a:xfrm>
            <a:prstGeom prst="curvedConnector5">
              <a:avLst>
                <a:gd name="adj1" fmla="val -10000"/>
                <a:gd name="adj2" fmla="val -3780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3" name=""/>
            <p:cNvCxnSpPr/>
            <p:nvPr/>
          </p:nvCxnSpPr>
          <p:spPr>
            <a:xfrm flipH="1" flipV="1" rot="5400000">
              <a:off x="717588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4" name=""/>
            <p:cNvCxnSpPr/>
            <p:nvPr/>
          </p:nvCxnSpPr>
          <p:spPr>
            <a:xfrm flipH="1" flipV="1" rot="5400000">
              <a:off x="717588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5" name=""/>
            <p:cNvCxnSpPr/>
            <p:nvPr/>
          </p:nvCxnSpPr>
          <p:spPr>
            <a:xfrm flipH="1" flipV="1" rot="10800000">
              <a:off x="6857640" y="318744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6" name=""/>
            <p:cNvSpPr/>
            <p:nvPr/>
          </p:nvSpPr>
          <p:spPr>
            <a:xfrm>
              <a:off x="7924320" y="49402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15680" y="585468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24320" y="40258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48360" y="31114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54320" y="24256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559400" y="1339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rm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343-FB51-4F74-B460-DD82336F222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628560" y="1405080"/>
            <a:ext cx="2903040" cy="4190040"/>
            <a:chOff x="628560" y="1405080"/>
            <a:chExt cx="2903040" cy="4190040"/>
          </a:xfrm>
        </p:grpSpPr>
        <p:sp>
          <p:nvSpPr>
            <p:cNvPr id="1714" name=""/>
            <p:cNvSpPr/>
            <p:nvPr/>
          </p:nvSpPr>
          <p:spPr>
            <a:xfrm>
              <a:off x="1631880" y="20145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31880" y="38433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31880" y="29289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631880" y="47577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8" name=""/>
            <p:cNvCxnSpPr/>
            <p:nvPr/>
          </p:nvCxnSpPr>
          <p:spPr>
            <a:xfrm>
              <a:off x="1936440" y="1557000"/>
              <a:ext cx="1080" cy="45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"/>
            <p:cNvSpPr/>
            <p:nvPr/>
          </p:nvSpPr>
          <p:spPr>
            <a:xfrm>
              <a:off x="1923480" y="14050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2440" y="3004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440" y="4071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94640" y="26240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98360" y="4452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94640" y="35384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5" name=""/>
            <p:cNvCxnSpPr>
              <a:stCxn id="1714" idx="4"/>
              <a:endCxn id="1716" idx="0"/>
            </p:cNvCxnSpPr>
            <p:nvPr/>
          </p:nvCxnSpPr>
          <p:spPr>
            <a:xfrm>
              <a:off x="1936440" y="26240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6" name=""/>
            <p:cNvCxnSpPr>
              <a:stCxn id="1716" idx="4"/>
              <a:endCxn id="1715" idx="0"/>
            </p:cNvCxnSpPr>
            <p:nvPr/>
          </p:nvCxnSpPr>
          <p:spPr>
            <a:xfrm>
              <a:off x="1936440" y="35384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15" idx="4"/>
              <a:endCxn id="1717" idx="0"/>
            </p:cNvCxnSpPr>
            <p:nvPr/>
          </p:nvCxnSpPr>
          <p:spPr>
            <a:xfrm>
              <a:off x="1936440" y="44528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16" idx="2"/>
              <a:endCxn id="1717" idx="2"/>
            </p:cNvCxnSpPr>
            <p:nvPr/>
          </p:nvCxnSpPr>
          <p:spPr>
            <a:xfrm flipH="1" flipV="1" rot="10800000">
              <a:off x="1630800" y="323244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9" name=""/>
            <p:cNvCxnSpPr>
              <a:stCxn id="1716" idx="5"/>
              <a:endCxn id="1716" idx="7"/>
            </p:cNvCxnSpPr>
            <p:nvPr/>
          </p:nvCxnSpPr>
          <p:spPr>
            <a:xfrm flipH="1" flipV="1" rot="5400000">
              <a:off x="1937160" y="3232440"/>
              <a:ext cx="432000" cy="2160"/>
            </a:xfrm>
            <a:prstGeom prst="curvedConnector5">
              <a:avLst>
                <a:gd name="adj1" fmla="val -40033"/>
                <a:gd name="adj2" fmla="val 16380000"/>
                <a:gd name="adj3" fmla="val -400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0" name=""/>
            <p:cNvCxnSpPr>
              <a:stCxn id="1714" idx="5"/>
              <a:endCxn id="1714" idx="7"/>
            </p:cNvCxnSpPr>
            <p:nvPr/>
          </p:nvCxnSpPr>
          <p:spPr>
            <a:xfrm flipH="1" flipV="1" rot="5400000">
              <a:off x="1937160" y="2318040"/>
              <a:ext cx="432000" cy="2160"/>
            </a:xfrm>
            <a:prstGeom prst="curvedConnector5">
              <a:avLst>
                <a:gd name="adj1" fmla="val -26772"/>
                <a:gd name="adj2" fmla="val 14540000"/>
                <a:gd name="adj3" fmla="val -2677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1" name=""/>
            <p:cNvCxnSpPr>
              <a:stCxn id="1717" idx="3"/>
              <a:endCxn id="1714" idx="1"/>
            </p:cNvCxnSpPr>
            <p:nvPr/>
          </p:nvCxnSpPr>
          <p:spPr>
            <a:xfrm flipH="1" flipV="1" rot="5400000">
              <a:off x="132840" y="3689640"/>
              <a:ext cx="3175200" cy="1800"/>
            </a:xfrm>
            <a:prstGeom prst="curvedConnector5">
              <a:avLst>
                <a:gd name="adj1" fmla="val -9989"/>
                <a:gd name="adj2" fmla="val -37800000"/>
                <a:gd name="adj3" fmla="val -998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2" name=""/>
            <p:cNvCxnSpPr/>
            <p:nvPr/>
          </p:nvCxnSpPr>
          <p:spPr>
            <a:xfrm flipH="1" flipV="1" rot="5400000">
              <a:off x="1949040" y="41338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3" name=""/>
            <p:cNvCxnSpPr/>
            <p:nvPr/>
          </p:nvCxnSpPr>
          <p:spPr>
            <a:xfrm flipH="1" flipV="1" rot="5400000">
              <a:off x="1949040" y="50482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/>
            <p:nvPr/>
          </p:nvCxnSpPr>
          <p:spPr>
            <a:xfrm flipH="1" flipV="1" rot="10800000">
              <a:off x="1630800" y="224208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5" name=""/>
            <p:cNvSpPr/>
            <p:nvPr/>
          </p:nvSpPr>
          <p:spPr>
            <a:xfrm>
              <a:off x="2697840" y="39956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689560" y="491004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97840" y="30812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21880" y="21668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8560" y="14810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4287960" y="1676520"/>
            <a:ext cx="4254120" cy="3835440"/>
            <a:chOff x="4287960" y="1676520"/>
            <a:chExt cx="4254120" cy="3835440"/>
          </a:xfrm>
        </p:grpSpPr>
        <p:sp>
          <p:nvSpPr>
            <p:cNvPr id="1741" name=""/>
            <p:cNvSpPr/>
            <p:nvPr/>
          </p:nvSpPr>
          <p:spPr>
            <a:xfrm>
              <a:off x="4389480" y="1676520"/>
              <a:ext cx="41396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9178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25760" y="2127240"/>
              <a:ext cx="421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00560" y="2978280"/>
              <a:ext cx="42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00560" y="3854520"/>
              <a:ext cx="42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87960" y="473076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48400" y="168912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4549680" y="5468760"/>
            <a:ext cx="43275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2711520" y="5200560"/>
            <a:ext cx="1600200" cy="1600200"/>
            <a:chOff x="2711520" y="5200560"/>
            <a:chExt cx="1600200" cy="1600200"/>
          </a:xfrm>
        </p:grpSpPr>
        <p:grpSp>
          <p:nvGrpSpPr>
            <p:cNvPr id="1749" name=""/>
            <p:cNvGrpSpPr/>
            <p:nvPr/>
          </p:nvGrpSpPr>
          <p:grpSpPr>
            <a:xfrm>
              <a:off x="2711520" y="5200560"/>
              <a:ext cx="1600200" cy="1600200"/>
              <a:chOff x="2711520" y="5200560"/>
              <a:chExt cx="1600200" cy="1600200"/>
            </a:xfrm>
          </p:grpSpPr>
          <p:sp>
            <p:nvSpPr>
              <p:cNvPr id="1750" name=""/>
              <p:cNvSpPr/>
              <p:nvPr/>
            </p:nvSpPr>
            <p:spPr>
              <a:xfrm>
                <a:off x="3092760" y="542916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73640" y="520056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787840" y="527688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0164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450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36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7022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0164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2450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4736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022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164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450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4736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022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0164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450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736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7022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73640" y="5429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45040" y="649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40120" y="5962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007160" y="5734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45040" y="649620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83120" y="581040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11520" y="603900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3473640" y="550548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73640" y="573408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83000" y="596592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8560" y="595944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BFD-AC38-42BD-91DF-8742D3B12CC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"/>
          <p:cNvSpPr/>
          <p:nvPr/>
        </p:nvSpPr>
        <p:spPr>
          <a:xfrm>
            <a:off x="571680" y="1751040"/>
            <a:ext cx="4844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OPEN is 0 when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by adding AND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1"/>
          <a:stretch/>
        </p:blipFill>
        <p:spPr>
          <a:xfrm>
            <a:off x="4278240" y="2708280"/>
            <a:ext cx="472284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BC1-81F7-47E1-93F5-52CF6D6A327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oore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= Q1Q0 creates a combinational delay after Q1 and Q0 change in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corrected by retiming, i.e., move flip-flops and logic through each other to improv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now looks like a synchronous Meal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mmon for programmable devices to have FF at end of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192240" y="4043520"/>
            <a:ext cx="38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4562640" y="4038480"/>
            <a:ext cx="442404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0B0-8CD8-4E3F-9182-DD51CE4D19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ealy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63320" y="14918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Q1Q0 + Q1N + Q1D + Q0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4788000" y="4083120"/>
            <a:ext cx="4424400" cy="248292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2"/>
          <a:stretch/>
        </p:blipFill>
        <p:spPr>
          <a:xfrm>
            <a:off x="0" y="2635200"/>
            <a:ext cx="4722840" cy="390672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4648320" y="2573280"/>
            <a:ext cx="2224080" cy="1600200"/>
            <a:chOff x="4648320" y="2573280"/>
            <a:chExt cx="2224080" cy="1600200"/>
          </a:xfrm>
        </p:grpSpPr>
        <p:grpSp>
          <p:nvGrpSpPr>
            <p:cNvPr id="1792" name=""/>
            <p:cNvGrpSpPr/>
            <p:nvPr/>
          </p:nvGrpSpPr>
          <p:grpSpPr>
            <a:xfrm>
              <a:off x="5272200" y="2573280"/>
              <a:ext cx="1600200" cy="1600200"/>
              <a:chOff x="5272200" y="2573280"/>
              <a:chExt cx="1600200" cy="1600200"/>
            </a:xfrm>
          </p:grpSpPr>
          <p:sp>
            <p:nvSpPr>
              <p:cNvPr id="1793" name=""/>
              <p:cNvSpPr/>
              <p:nvPr/>
            </p:nvSpPr>
            <p:spPr>
              <a:xfrm>
                <a:off x="5653440" y="2801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034320" y="25732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48520" y="26496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771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057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0343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629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5771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057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0343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2629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5771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057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343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2629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771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057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343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2629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034320" y="2801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05720" y="3868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00800" y="3335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567840" y="3106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05720" y="38689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43800" y="31831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72200" y="34117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9" name=""/>
            <p:cNvSpPr/>
            <p:nvPr/>
          </p:nvSpPr>
          <p:spPr>
            <a:xfrm>
              <a:off x="4648320" y="2651040"/>
              <a:ext cx="79200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5334120" y="1660320"/>
            <a:ext cx="3617640" cy="2511720"/>
            <a:chOff x="5334120" y="1660320"/>
            <a:chExt cx="3617640" cy="2511720"/>
          </a:xfrm>
        </p:grpSpPr>
        <p:grpSp>
          <p:nvGrpSpPr>
            <p:cNvPr id="1821" name=""/>
            <p:cNvGrpSpPr/>
            <p:nvPr/>
          </p:nvGrpSpPr>
          <p:grpSpPr>
            <a:xfrm>
              <a:off x="7351560" y="2571840"/>
              <a:ext cx="1600200" cy="1600200"/>
              <a:chOff x="7351560" y="2571840"/>
              <a:chExt cx="1600200" cy="1600200"/>
            </a:xfrm>
          </p:grpSpPr>
          <p:sp>
            <p:nvSpPr>
              <p:cNvPr id="1822" name=""/>
              <p:cNvSpPr/>
              <p:nvPr/>
            </p:nvSpPr>
            <p:spPr>
              <a:xfrm>
                <a:off x="7732800" y="28004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113680" y="257184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27880" y="264816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6564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8850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1136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3422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564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8850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1136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3422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6564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850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136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3422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6564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8850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136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3422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136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85080" y="3867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580160" y="33339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647200" y="31053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885080" y="386748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723160" y="318168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351560" y="341028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"/>
            <p:cNvSpPr/>
            <p:nvPr/>
          </p:nvSpPr>
          <p:spPr>
            <a:xfrm>
              <a:off x="6964200" y="1752480"/>
              <a:ext cx="716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334120" y="1660320"/>
              <a:ext cx="1630080" cy="9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95D-2CAD-45EE-BE08-DFF7A6B822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901800" y="3701880"/>
            <a:ext cx="3416040" cy="7369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4756320" y="4281480"/>
            <a:ext cx="3657600" cy="139716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95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A,B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587920" y="23940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587920" y="2698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5587920" y="2393640"/>
            <a:ext cx="1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892840" y="2406600"/>
            <a:ext cx="139680" cy="152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1" y="12"/>
                </a:moveTo>
                <a:cubicBezTo>
                  <a:pt x="11" y="5"/>
                  <a:pt x="6" y="0"/>
                  <a:pt x="0" y="0"/>
                </a:cubicBezTo>
                <a:lnTo>
                  <a:pt x="0" y="12"/>
                </a:lnTo>
                <a:lnTo>
                  <a:pt x="11" y="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747040" y="2400480"/>
            <a:ext cx="291600" cy="3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892840" y="2546280"/>
            <a:ext cx="139680" cy="1526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11"/>
                </a:moveTo>
                <a:cubicBezTo>
                  <a:pt x="6" y="12"/>
                  <a:pt x="11" y="6"/>
                  <a:pt x="11" y="0"/>
                </a:cubicBez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746680" y="2387520"/>
            <a:ext cx="29196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16600" y="235584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16600" y="248256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016600" y="2355840"/>
            <a:ext cx="14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213520" y="2463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460840" y="261000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60840" y="261000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635360" y="2736720"/>
            <a:ext cx="825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724640" y="2610000"/>
            <a:ext cx="7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8952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9080" y="2482920"/>
            <a:ext cx="190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25360" y="23558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6084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27040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397480" y="24829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032520" y="2546280"/>
            <a:ext cx="12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83280" y="254628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161400" y="2419200"/>
            <a:ext cx="18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2C8-32D8-4EF9-9B3C-E1E07CD5EE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977760" y="4392720"/>
            <a:ext cx="5753160" cy="20192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3887640" y="2241720"/>
            <a:ext cx="4953240" cy="2070000"/>
          </a:xfrm>
          <a:prstGeom prst="rect">
            <a:avLst/>
          </a:prstGeom>
          <a:ln w="0">
            <a:noFill/>
          </a:ln>
        </p:spPr>
      </p:pic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A,B = 1,0 then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29B-12FC-4BB5-815A-9626BE3AA0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616120" y="4940280"/>
            <a:ext cx="4280040" cy="1504800"/>
            <a:chOff x="2616120" y="4940280"/>
            <a:chExt cx="4280040" cy="1504800"/>
          </a:xfrm>
        </p:grpSpPr>
        <p:sp>
          <p:nvSpPr>
            <p:cNvPr id="185" name=""/>
            <p:cNvSpPr/>
            <p:nvPr/>
          </p:nvSpPr>
          <p:spPr>
            <a:xfrm>
              <a:off x="64072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84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640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928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496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68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56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899320" y="5359320"/>
              <a:ext cx="5968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8320" y="6076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05000" y="5346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070520" y="5346720"/>
              <a:ext cx="58392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4933800" y="5346360"/>
              <a:ext cx="63504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6120" y="5607000"/>
              <a:ext cx="889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32320" y="60386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44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50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94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38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82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0600" y="5010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repres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determined by possible values in sequential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: controls when state can change by controlling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through a series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quence of values on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defines elements of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AED-AA7F-4F69-B225-0D4FE9F0AA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(FFs separate from combinational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view (synthesis of sequencers – no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-paths = data computation (e.g., ALUs, comparators) +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rithmetic/logical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2FB-C66A-4F45-BBC9-37DEB89183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reduce-1-string-by-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one 1 from every string of 1s on th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600200" y="2971080"/>
            <a:ext cx="2176200" cy="3201480"/>
            <a:chOff x="1600200" y="2971080"/>
            <a:chExt cx="2176200" cy="3201480"/>
          </a:xfrm>
        </p:grpSpPr>
        <p:sp>
          <p:nvSpPr>
            <p:cNvPr id="1887" name=""/>
            <p:cNvSpPr/>
            <p:nvPr/>
          </p:nvSpPr>
          <p:spPr>
            <a:xfrm>
              <a:off x="2601720" y="38574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00200" y="486720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61920" y="42145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52520" y="384012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66920" y="509724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01720" y="49068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5240" y="3200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35240" y="42670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235240" y="53337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6" name=""/>
            <p:cNvCxnSpPr>
              <a:stCxn id="1893" idx="4"/>
              <a:endCxn id="1894" idx="0"/>
            </p:cNvCxnSpPr>
            <p:nvPr/>
          </p:nvCxnSpPr>
          <p:spPr>
            <a:xfrm>
              <a:off x="2539440" y="3809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4" idx="4"/>
              <a:endCxn id="1895" idx="0"/>
            </p:cNvCxnSpPr>
            <p:nvPr/>
          </p:nvCxnSpPr>
          <p:spPr>
            <a:xfrm>
              <a:off x="2539440" y="48765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8" name=""/>
            <p:cNvCxnSpPr>
              <a:stCxn id="1894" idx="2"/>
              <a:endCxn id="1893" idx="2"/>
            </p:cNvCxnSpPr>
            <p:nvPr/>
          </p:nvCxnSpPr>
          <p:spPr>
            <a:xfrm flipH="1" rot="10800000">
              <a:off x="2234880" y="350424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9" name=""/>
            <p:cNvCxnSpPr>
              <a:stCxn id="1895" idx="2"/>
              <a:endCxn id="1893" idx="2"/>
            </p:cNvCxnSpPr>
            <p:nvPr/>
          </p:nvCxnSpPr>
          <p:spPr>
            <a:xfrm flipH="1" rot="10800000">
              <a:off x="2234880" y="350424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0" name=""/>
            <p:cNvCxnSpPr>
              <a:stCxn id="1893" idx="5"/>
              <a:endCxn id="1893" idx="7"/>
            </p:cNvCxnSpPr>
            <p:nvPr/>
          </p:nvCxnSpPr>
          <p:spPr>
            <a:xfrm flipH="1" flipV="1" rot="5400000">
              <a:off x="2540520" y="350388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1" name=""/>
            <p:cNvCxnSpPr>
              <a:stCxn id="1895" idx="5"/>
              <a:endCxn id="1895" idx="7"/>
            </p:cNvCxnSpPr>
            <p:nvPr/>
          </p:nvCxnSpPr>
          <p:spPr>
            <a:xfrm flipH="1" flipV="1" rot="5400000">
              <a:off x="2540160" y="563760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02" name=""/>
          <p:cNvGrpSpPr/>
          <p:nvPr/>
        </p:nvGrpSpPr>
        <p:grpSpPr>
          <a:xfrm>
            <a:off x="5257800" y="3351600"/>
            <a:ext cx="2133360" cy="2134800"/>
            <a:chOff x="5257800" y="3351600"/>
            <a:chExt cx="2133360" cy="2134800"/>
          </a:xfrm>
        </p:grpSpPr>
        <p:sp>
          <p:nvSpPr>
            <p:cNvPr id="1903" name=""/>
            <p:cNvSpPr/>
            <p:nvPr/>
          </p:nvSpPr>
          <p:spPr>
            <a:xfrm>
              <a:off x="6259320" y="42386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7800" y="42670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81680" y="3429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81680" y="50292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92840" y="3581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92840" y="4648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9" name=""/>
            <p:cNvCxnSpPr>
              <a:stCxn id="1907" idx="4"/>
              <a:endCxn id="1908" idx="0"/>
            </p:cNvCxnSpPr>
            <p:nvPr/>
          </p:nvCxnSpPr>
          <p:spPr>
            <a:xfrm>
              <a:off x="6197040" y="41911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0" name=""/>
            <p:cNvCxnSpPr>
              <a:stCxn id="1908" idx="2"/>
              <a:endCxn id="1907" idx="2"/>
            </p:cNvCxnSpPr>
            <p:nvPr/>
          </p:nvCxnSpPr>
          <p:spPr>
            <a:xfrm flipH="1" rot="10800000">
              <a:off x="5892480" y="38854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1" name=""/>
            <p:cNvCxnSpPr>
              <a:stCxn id="1908" idx="4"/>
              <a:endCxn id="1908" idx="6"/>
            </p:cNvCxnSpPr>
            <p:nvPr/>
          </p:nvCxnSpPr>
          <p:spPr>
            <a:xfrm flipH="1" flipV="1" rot="5400000">
              <a:off x="6196320" y="49521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2" name=""/>
            <p:cNvCxnSpPr>
              <a:stCxn id="1907" idx="6"/>
              <a:endCxn id="1907" idx="0"/>
            </p:cNvCxnSpPr>
            <p:nvPr/>
          </p:nvCxnSpPr>
          <p:spPr>
            <a:xfrm flipH="1" flipV="1">
              <a:off x="6196680" y="35805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13" name=""/>
          <p:cNvSpPr/>
          <p:nvPr/>
        </p:nvSpPr>
        <p:spPr>
          <a:xfrm>
            <a:off x="2093040" y="251460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805720" y="2514600"/>
            <a:ext cx="8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EE4-AB7A-4A8C-A6B1-5E1CDF3381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914400" y="21337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zero  = 2’b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one1  = 2’b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two1s = 2’b10;</a:t>
            </a:r>
            <a:br>
              <a:rPr sz="14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159600" y="1568520"/>
            <a:ext cx="1854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asy to chang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in one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3873600" y="1873080"/>
            <a:ext cx="228600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 FSM - Reduce 1s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6553080" y="3047400"/>
            <a:ext cx="2176200" cy="3201480"/>
            <a:chOff x="6553080" y="3047400"/>
            <a:chExt cx="2176200" cy="3201480"/>
          </a:xfrm>
        </p:grpSpPr>
        <p:sp>
          <p:nvSpPr>
            <p:cNvPr id="1921" name=""/>
            <p:cNvSpPr/>
            <p:nvPr/>
          </p:nvSpPr>
          <p:spPr>
            <a:xfrm>
              <a:off x="7554600" y="39337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53080" y="494352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14800" y="42908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05400" y="391644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19800" y="517356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54600" y="49831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8120" y="32767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88120" y="4343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188120" y="5410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0" name=""/>
            <p:cNvCxnSpPr>
              <a:stCxn id="1927" idx="4"/>
              <a:endCxn id="1928" idx="0"/>
            </p:cNvCxnSpPr>
            <p:nvPr/>
          </p:nvCxnSpPr>
          <p:spPr>
            <a:xfrm>
              <a:off x="7492320" y="38862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1" name=""/>
            <p:cNvCxnSpPr>
              <a:stCxn id="1928" idx="4"/>
              <a:endCxn id="1929" idx="0"/>
            </p:cNvCxnSpPr>
            <p:nvPr/>
          </p:nvCxnSpPr>
          <p:spPr>
            <a:xfrm>
              <a:off x="7492320" y="4952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2" name=""/>
            <p:cNvCxnSpPr>
              <a:stCxn id="1928" idx="2"/>
              <a:endCxn id="1927" idx="2"/>
            </p:cNvCxnSpPr>
            <p:nvPr/>
          </p:nvCxnSpPr>
          <p:spPr>
            <a:xfrm flipH="1" rot="10800000">
              <a:off x="7187760" y="358056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3" name=""/>
            <p:cNvCxnSpPr>
              <a:stCxn id="1929" idx="2"/>
              <a:endCxn id="1927" idx="2"/>
            </p:cNvCxnSpPr>
            <p:nvPr/>
          </p:nvCxnSpPr>
          <p:spPr>
            <a:xfrm flipH="1" rot="10800000">
              <a:off x="7187760" y="358056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4" name=""/>
            <p:cNvCxnSpPr>
              <a:stCxn id="1927" idx="5"/>
              <a:endCxn id="1927" idx="7"/>
            </p:cNvCxnSpPr>
            <p:nvPr/>
          </p:nvCxnSpPr>
          <p:spPr>
            <a:xfrm flipH="1" flipV="1" rot="5400000">
              <a:off x="7493400" y="358020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5" name=""/>
            <p:cNvCxnSpPr>
              <a:stCxn id="1929" idx="5"/>
              <a:endCxn id="1929" idx="7"/>
            </p:cNvCxnSpPr>
            <p:nvPr/>
          </p:nvCxnSpPr>
          <p:spPr>
            <a:xfrm flipH="1" flipV="1" rot="5400000">
              <a:off x="7493040" y="571392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A12-4178-486D-8CD2-6AE6D58A204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04640" y="1460520"/>
            <a:ext cx="8472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1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two1s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 flipV="1">
            <a:off x="2895120" y="1599840"/>
            <a:ext cx="240660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486400" y="1600200"/>
            <a:ext cx="2768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ore Verilog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3200400"/>
            <a:ext cx="27684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952880" y="4572000"/>
            <a:ext cx="3962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ne1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wo1s: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324480" y="38098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46E-4DD8-4DC9-842B-A7A93C83AC7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533520" y="1136520"/>
            <a:ext cx="845820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256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Verilog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6324480" y="2894400"/>
            <a:ext cx="2133360" cy="2134800"/>
            <a:chOff x="6324480" y="2894400"/>
            <a:chExt cx="2133360" cy="2134800"/>
          </a:xfrm>
        </p:grpSpPr>
        <p:sp>
          <p:nvSpPr>
            <p:cNvPr id="1946" name=""/>
            <p:cNvSpPr/>
            <p:nvPr/>
          </p:nvSpPr>
          <p:spPr>
            <a:xfrm>
              <a:off x="7326000" y="37814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38098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48360" y="29718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848360" y="4572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59520" y="3124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59520" y="41911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2" name=""/>
            <p:cNvCxnSpPr>
              <a:stCxn id="1950" idx="4"/>
              <a:endCxn id="1951" idx="0"/>
            </p:cNvCxnSpPr>
            <p:nvPr/>
          </p:nvCxnSpPr>
          <p:spPr>
            <a:xfrm>
              <a:off x="7263720" y="37339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3" name=""/>
            <p:cNvCxnSpPr>
              <a:stCxn id="1951" idx="2"/>
              <a:endCxn id="1950" idx="2"/>
            </p:cNvCxnSpPr>
            <p:nvPr/>
          </p:nvCxnSpPr>
          <p:spPr>
            <a:xfrm flipH="1" rot="10800000">
              <a:off x="6959160" y="34282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4" name=""/>
            <p:cNvCxnSpPr>
              <a:stCxn id="1951" idx="4"/>
              <a:endCxn id="1951" idx="6"/>
            </p:cNvCxnSpPr>
            <p:nvPr/>
          </p:nvCxnSpPr>
          <p:spPr>
            <a:xfrm flipH="1" flipV="1" rot="5400000">
              <a:off x="7263000" y="44949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5" name=""/>
            <p:cNvCxnSpPr>
              <a:stCxn id="1950" idx="6"/>
              <a:endCxn id="1950" idx="0"/>
            </p:cNvCxnSpPr>
            <p:nvPr/>
          </p:nvCxnSpPr>
          <p:spPr>
            <a:xfrm flipH="1" flipV="1">
              <a:off x="7263360" y="31233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230-3803-4DDD-9449-97B1D229A41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133992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996-7A85-4FCC-B843-23A23D828F0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of sequ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8EB-ACEB-4C40-A964-7B53A0E17D5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finite state machin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lock from introduction to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elf-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other transitions betwee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et transition (from all states) to stat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3161520"/>
            <a:ext cx="7162920" cy="2971080"/>
            <a:chOff x="838080" y="3161520"/>
            <a:chExt cx="7162920" cy="2971080"/>
          </a:xfrm>
        </p:grpSpPr>
        <p:sp>
          <p:nvSpPr>
            <p:cNvPr id="211" name=""/>
            <p:cNvSpPr/>
            <p:nvPr/>
          </p:nvSpPr>
          <p:spPr>
            <a:xfrm>
              <a:off x="195732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6600" y="51199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970520"/>
              <a:ext cx="7128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474516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7000" y="47880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1344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2760" y="4788000"/>
              <a:ext cx="6764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0240" y="3662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404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284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4880" y="415152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9280" y="422784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080" y="430380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8640" y="57945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076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27120" y="47516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800" y="475164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0120" y="475164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1080" y="339732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3360" y="4916520"/>
              <a:ext cx="6876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0720" y="509112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980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896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360" y="501660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2760" y="343404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1" idx="7"/>
              <a:endCxn id="236" idx="2"/>
            </p:cNvCxnSpPr>
            <p:nvPr/>
          </p:nvCxnSpPr>
          <p:spPr>
            <a:xfrm flipH="1" flipV="1" rot="5400000">
              <a:off x="4055400" y="2250720"/>
              <a:ext cx="1116720" cy="4158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5" idx="7"/>
              <a:endCxn id="236" idx="2"/>
            </p:cNvCxnSpPr>
            <p:nvPr/>
          </p:nvCxnSpPr>
          <p:spPr>
            <a:xfrm flipH="1" flipV="1" rot="5400000">
              <a:off x="4844520" y="3039840"/>
              <a:ext cx="1116720" cy="2580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16" idx="7"/>
              <a:endCxn id="236" idx="2"/>
            </p:cNvCxnSpPr>
            <p:nvPr/>
          </p:nvCxnSpPr>
          <p:spPr>
            <a:xfrm flipH="1" flipV="1" rot="5400000">
              <a:off x="5633640" y="3828960"/>
              <a:ext cx="1116720" cy="1002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11" idx="6"/>
              <a:endCxn id="215" idx="2"/>
            </p:cNvCxnSpPr>
            <p:nvPr/>
          </p:nvCxnSpPr>
          <p:spPr>
            <a:xfrm>
              <a:off x="263484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15" idx="6"/>
              <a:endCxn id="216" idx="2"/>
            </p:cNvCxnSpPr>
            <p:nvPr/>
          </p:nvCxnSpPr>
          <p:spPr>
            <a:xfrm>
              <a:off x="421128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6" idx="6"/>
              <a:endCxn id="217" idx="2"/>
            </p:cNvCxnSpPr>
            <p:nvPr/>
          </p:nvCxnSpPr>
          <p:spPr>
            <a:xfrm>
              <a:off x="5791320" y="5127480"/>
              <a:ext cx="90216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11" idx="3"/>
              <a:endCxn id="211" idx="5"/>
            </p:cNvCxnSpPr>
            <p:nvPr/>
          </p:nvCxnSpPr>
          <p:spPr>
            <a:xfrm flipH="1" rot="16200000">
              <a:off x="229428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15" idx="3"/>
              <a:endCxn id="215" idx="5"/>
            </p:cNvCxnSpPr>
            <p:nvPr/>
          </p:nvCxnSpPr>
          <p:spPr>
            <a:xfrm flipH="1" rot="16200000">
              <a:off x="3873240" y="5127120"/>
              <a:ext cx="252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16" idx="3"/>
              <a:endCxn id="216" idx="5"/>
            </p:cNvCxnSpPr>
            <p:nvPr/>
          </p:nvCxnSpPr>
          <p:spPr>
            <a:xfrm flipH="1" rot="16200000">
              <a:off x="545040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7" idx="3"/>
              <a:endCxn id="217" idx="5"/>
            </p:cNvCxnSpPr>
            <p:nvPr/>
          </p:nvCxnSpPr>
          <p:spPr>
            <a:xfrm flipH="1" rot="16200000">
              <a:off x="7030080" y="5126400"/>
              <a:ext cx="2520" cy="48024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6" idx="7"/>
              <a:endCxn id="236" idx="1"/>
            </p:cNvCxnSpPr>
            <p:nvPr/>
          </p:nvCxnSpPr>
          <p:spPr>
            <a:xfrm rot="5400000">
              <a:off x="7029720" y="3293280"/>
              <a:ext cx="2160" cy="480240"/>
            </a:xfrm>
            <a:prstGeom prst="curvedConnector5">
              <a:avLst>
                <a:gd name="adj1" fmla="val -20600000"/>
                <a:gd name="adj2" fmla="val 49962"/>
                <a:gd name="adj3" fmla="val -20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10E-825F-4F3F-B672-501A1C0131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 any sequential system be represented with a state diagram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value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ransition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alues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st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24120" y="3703680"/>
            <a:ext cx="5790960" cy="2438280"/>
            <a:chOff x="1824120" y="3703680"/>
            <a:chExt cx="5790960" cy="2438280"/>
          </a:xfrm>
        </p:grpSpPr>
        <p:grpSp>
          <p:nvGrpSpPr>
            <p:cNvPr id="251" name=""/>
            <p:cNvGrpSpPr/>
            <p:nvPr/>
          </p:nvGrpSpPr>
          <p:grpSpPr>
            <a:xfrm>
              <a:off x="2738520" y="3703680"/>
              <a:ext cx="609480" cy="609480"/>
              <a:chOff x="2738520" y="3703680"/>
              <a:chExt cx="60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3852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92160" y="38401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091200" y="3703680"/>
              <a:ext cx="609480" cy="609480"/>
              <a:chOff x="6091200" y="3703680"/>
              <a:chExt cx="609480" cy="609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120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32240" y="38242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005600" y="4618080"/>
              <a:ext cx="609480" cy="609480"/>
              <a:chOff x="7005600" y="4618080"/>
              <a:chExt cx="6094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70056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59240" y="47419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091200" y="5532480"/>
              <a:ext cx="609480" cy="609480"/>
              <a:chOff x="6091200" y="5532480"/>
              <a:chExt cx="609480" cy="60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609120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44840" y="56563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176800" y="4618080"/>
              <a:ext cx="609480" cy="609480"/>
              <a:chOff x="5176800" y="4618080"/>
              <a:chExt cx="609480" cy="60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51768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460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52920" y="4618080"/>
              <a:ext cx="609480" cy="609480"/>
              <a:chOff x="3652920" y="4618080"/>
              <a:chExt cx="609480" cy="60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36529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9072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824120" y="4618080"/>
              <a:ext cx="609480" cy="609480"/>
              <a:chOff x="1824120" y="4618080"/>
              <a:chExt cx="609480" cy="60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18241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65160" y="475776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38520" y="5532480"/>
              <a:ext cx="609480" cy="609480"/>
              <a:chOff x="2738520" y="5532480"/>
              <a:chExt cx="609480" cy="609480"/>
            </a:xfrm>
          </p:grpSpPr>
          <p:sp>
            <p:nvSpPr>
              <p:cNvPr id="273" name=""/>
              <p:cNvSpPr/>
              <p:nvPr/>
            </p:nvSpPr>
            <p:spPr>
              <a:xfrm>
                <a:off x="273852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92160" y="56530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348000" y="3720960"/>
            <a:ext cx="2743560" cy="335160"/>
            <a:chOff x="3348000" y="3720960"/>
            <a:chExt cx="2743560" cy="335160"/>
          </a:xfrm>
        </p:grpSpPr>
        <p:cxnSp>
          <p:nvCxnSpPr>
            <p:cNvPr id="276" name=""/>
            <p:cNvCxnSpPr>
              <a:stCxn id="252" idx="6"/>
              <a:endCxn id="255" idx="2"/>
            </p:cNvCxnSpPr>
            <p:nvPr/>
          </p:nvCxnSpPr>
          <p:spPr>
            <a:xfrm>
              <a:off x="3348000" y="4007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596840" y="37209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73480" y="4347000"/>
            <a:ext cx="1092600" cy="361800"/>
            <a:chOff x="4173480" y="4347000"/>
            <a:chExt cx="1092600" cy="361800"/>
          </a:xfrm>
        </p:grpSpPr>
        <p:cxnSp>
          <p:nvCxnSpPr>
            <p:cNvPr id="279" name=""/>
            <p:cNvCxnSpPr>
              <a:stCxn id="267" idx="7"/>
              <a:endCxn id="264" idx="1"/>
            </p:cNvCxnSpPr>
            <p:nvPr/>
          </p:nvCxnSpPr>
          <p:spPr>
            <a:xfrm flipH="1" rot="16200000">
              <a:off x="4718880" y="4161240"/>
              <a:ext cx="2160" cy="1092960"/>
            </a:xfrm>
            <a:prstGeom prst="curvedConnector5">
              <a:avLst>
                <a:gd name="adj1" fmla="val -20000000"/>
                <a:gd name="adj2" fmla="val 49983"/>
                <a:gd name="adj3" fmla="val -20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606560" y="43498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95040" y="4312440"/>
            <a:ext cx="299520" cy="1219680"/>
            <a:chOff x="2795040" y="4312440"/>
            <a:chExt cx="299520" cy="1219680"/>
          </a:xfrm>
        </p:grpSpPr>
        <p:cxnSp>
          <p:nvCxnSpPr>
            <p:cNvPr id="282" name=""/>
            <p:cNvCxnSpPr>
              <a:stCxn id="273" idx="0"/>
              <a:endCxn id="252" idx="4"/>
            </p:cNvCxnSpPr>
            <p:nvPr/>
          </p:nvCxnSpPr>
          <p:spPr>
            <a:xfrm flipV="1">
              <a:off x="3042720" y="4312440"/>
              <a:ext cx="1080" cy="122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2795040" y="47563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44320" y="4219560"/>
            <a:ext cx="483120" cy="487080"/>
            <a:chOff x="2344320" y="4219560"/>
            <a:chExt cx="483120" cy="487080"/>
          </a:xfrm>
        </p:grpSpPr>
        <p:cxnSp>
          <p:nvCxnSpPr>
            <p:cNvPr id="285" name=""/>
            <p:cNvCxnSpPr>
              <a:stCxn id="270" idx="7"/>
              <a:endCxn id="252" idx="3"/>
            </p:cNvCxnSpPr>
            <p:nvPr/>
          </p:nvCxnSpPr>
          <p:spPr>
            <a:xfrm flipV="1">
              <a:off x="23443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2355480" y="42195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58360" y="5138280"/>
            <a:ext cx="483120" cy="511920"/>
            <a:chOff x="3258360" y="5138280"/>
            <a:chExt cx="483120" cy="511920"/>
          </a:xfrm>
        </p:grpSpPr>
        <p:cxnSp>
          <p:nvCxnSpPr>
            <p:cNvPr id="288" name=""/>
            <p:cNvCxnSpPr>
              <a:stCxn id="267" idx="3"/>
              <a:endCxn id="273" idx="7"/>
            </p:cNvCxnSpPr>
            <p:nvPr/>
          </p:nvCxnSpPr>
          <p:spPr>
            <a:xfrm flipH="1">
              <a:off x="3258360" y="513828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9" name=""/>
            <p:cNvSpPr/>
            <p:nvPr/>
          </p:nvSpPr>
          <p:spPr>
            <a:xfrm>
              <a:off x="3433320" y="531504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58720" y="4186080"/>
            <a:ext cx="483120" cy="520560"/>
            <a:chOff x="3258720" y="4186080"/>
            <a:chExt cx="483120" cy="520560"/>
          </a:xfrm>
        </p:grpSpPr>
        <p:cxnSp>
          <p:nvCxnSpPr>
            <p:cNvPr id="291" name=""/>
            <p:cNvCxnSpPr>
              <a:stCxn id="252" idx="5"/>
              <a:endCxn id="267" idx="1"/>
            </p:cNvCxnSpPr>
            <p:nvPr/>
          </p:nvCxnSpPr>
          <p:spPr>
            <a:xfrm>
              <a:off x="32587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3420360" y="41860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43960" y="5137920"/>
            <a:ext cx="483120" cy="489960"/>
            <a:chOff x="2343960" y="5137920"/>
            <a:chExt cx="483120" cy="489960"/>
          </a:xfrm>
        </p:grpSpPr>
        <p:cxnSp>
          <p:nvCxnSpPr>
            <p:cNvPr id="294" name=""/>
            <p:cNvCxnSpPr>
              <a:stCxn id="273" idx="1"/>
              <a:endCxn id="270" idx="5"/>
            </p:cNvCxnSpPr>
            <p:nvPr/>
          </p:nvCxnSpPr>
          <p:spPr>
            <a:xfrm flipH="1" flipV="1">
              <a:off x="2343960" y="51379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2356920" y="52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347640" y="4186080"/>
            <a:ext cx="4963320" cy="1937160"/>
            <a:chOff x="3347640" y="4186080"/>
            <a:chExt cx="4963320" cy="1937160"/>
          </a:xfrm>
        </p:grpSpPr>
        <p:grpSp>
          <p:nvGrpSpPr>
            <p:cNvPr id="297" name=""/>
            <p:cNvGrpSpPr/>
            <p:nvPr/>
          </p:nvGrpSpPr>
          <p:grpSpPr>
            <a:xfrm>
              <a:off x="4173120" y="5138280"/>
              <a:ext cx="1092600" cy="432000"/>
              <a:chOff x="4173120" y="5138280"/>
              <a:chExt cx="1092600" cy="432000"/>
            </a:xfrm>
          </p:grpSpPr>
          <p:cxnSp>
            <p:nvCxnSpPr>
              <p:cNvPr id="298" name=""/>
              <p:cNvCxnSpPr>
                <a:stCxn id="264" idx="3"/>
                <a:endCxn id="267" idx="5"/>
              </p:cNvCxnSpPr>
              <p:nvPr/>
            </p:nvCxnSpPr>
            <p:spPr>
              <a:xfrm rot="5400000">
                <a:off x="4718160" y="4593240"/>
                <a:ext cx="2520" cy="1092960"/>
              </a:xfrm>
              <a:prstGeom prst="curvedConnector5">
                <a:avLst>
                  <a:gd name="adj1" fmla="val 20000000"/>
                  <a:gd name="adj2" fmla="val 49983"/>
                  <a:gd name="adj3" fmla="val 200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4606560" y="51577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693760" y="4223520"/>
              <a:ext cx="486360" cy="483120"/>
              <a:chOff x="5693760" y="4223520"/>
              <a:chExt cx="486360" cy="483120"/>
            </a:xfrm>
          </p:grpSpPr>
          <p:cxnSp>
            <p:nvCxnSpPr>
              <p:cNvPr id="301" name=""/>
              <p:cNvCxnSpPr>
                <a:stCxn id="264" idx="7"/>
                <a:endCxn id="255" idx="3"/>
              </p:cNvCxnSpPr>
              <p:nvPr/>
            </p:nvCxnSpPr>
            <p:spPr>
              <a:xfrm flipV="1">
                <a:off x="56970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2" name=""/>
              <p:cNvSpPr/>
              <p:nvPr/>
            </p:nvSpPr>
            <p:spPr>
              <a:xfrm>
                <a:off x="5693760" y="42721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525080" y="4388760"/>
              <a:ext cx="785880" cy="1067040"/>
              <a:chOff x="7525080" y="4388760"/>
              <a:chExt cx="785880" cy="1067040"/>
            </a:xfrm>
          </p:grpSpPr>
          <p:cxnSp>
            <p:nvCxnSpPr>
              <p:cNvPr id="304" name=""/>
              <p:cNvCxnSpPr>
                <a:stCxn id="258" idx="5"/>
                <a:endCxn id="258" idx="7"/>
              </p:cNvCxnSpPr>
              <p:nvPr/>
            </p:nvCxnSpPr>
            <p:spPr>
              <a:xfrm flipH="1" flipV="1" rot="5400000">
                <a:off x="7310160" y="4921200"/>
                <a:ext cx="432360" cy="2520"/>
              </a:xfrm>
              <a:prstGeom prst="curvedConnector5">
                <a:avLst>
                  <a:gd name="adj1" fmla="val -73500"/>
                  <a:gd name="adj2" fmla="val 18183333"/>
                  <a:gd name="adj3" fmla="val -735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5" name=""/>
              <p:cNvSpPr/>
              <p:nvPr/>
            </p:nvSpPr>
            <p:spPr>
              <a:xfrm>
                <a:off x="7849800" y="471960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96640" y="5137920"/>
              <a:ext cx="483120" cy="483120"/>
              <a:chOff x="5696640" y="5137920"/>
              <a:chExt cx="483120" cy="483120"/>
            </a:xfrm>
          </p:grpSpPr>
          <p:cxnSp>
            <p:nvCxnSpPr>
              <p:cNvPr id="307" name=""/>
              <p:cNvCxnSpPr>
                <a:stCxn id="261" idx="1"/>
                <a:endCxn id="264" idx="5"/>
              </p:cNvCxnSpPr>
              <p:nvPr/>
            </p:nvCxnSpPr>
            <p:spPr>
              <a:xfrm flipH="1" flipV="1">
                <a:off x="5696640" y="51379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5725440" y="52754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347640" y="5788080"/>
              <a:ext cx="2743560" cy="335160"/>
              <a:chOff x="3347640" y="5788080"/>
              <a:chExt cx="2743560" cy="335160"/>
            </a:xfrm>
          </p:grpSpPr>
          <p:cxnSp>
            <p:nvCxnSpPr>
              <p:cNvPr id="310" name=""/>
              <p:cNvCxnSpPr>
                <a:stCxn id="261" idx="2"/>
                <a:endCxn id="273" idx="6"/>
              </p:cNvCxnSpPr>
              <p:nvPr/>
            </p:nvCxnSpPr>
            <p:spPr>
              <a:xfrm flipH="1">
                <a:off x="3347640" y="5837040"/>
                <a:ext cx="2743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1" name=""/>
              <p:cNvSpPr/>
              <p:nvPr/>
            </p:nvSpPr>
            <p:spPr>
              <a:xfrm>
                <a:off x="4627080" y="5788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611040" y="5138280"/>
              <a:ext cx="549000" cy="483120"/>
              <a:chOff x="6611040" y="5138280"/>
              <a:chExt cx="549000" cy="483120"/>
            </a:xfrm>
          </p:grpSpPr>
          <p:cxnSp>
            <p:nvCxnSpPr>
              <p:cNvPr id="313" name=""/>
              <p:cNvCxnSpPr>
                <a:stCxn id="258" idx="3"/>
                <a:endCxn id="261" idx="7"/>
              </p:cNvCxnSpPr>
              <p:nvPr/>
            </p:nvCxnSpPr>
            <p:spPr>
              <a:xfrm flipH="1">
                <a:off x="6611040" y="513828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6860520" y="528156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611400" y="4186080"/>
              <a:ext cx="502560" cy="520560"/>
              <a:chOff x="6611400" y="4186080"/>
              <a:chExt cx="502560" cy="520560"/>
            </a:xfrm>
          </p:grpSpPr>
          <p:cxnSp>
            <p:nvCxnSpPr>
              <p:cNvPr id="316" name=""/>
              <p:cNvCxnSpPr>
                <a:stCxn id="255" idx="5"/>
                <a:endCxn id="258" idx="1"/>
              </p:cNvCxnSpPr>
              <p:nvPr/>
            </p:nvCxnSpPr>
            <p:spPr>
              <a:xfrm>
                <a:off x="66114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7" name=""/>
              <p:cNvSpPr/>
              <p:nvPr/>
            </p:nvSpPr>
            <p:spPr>
              <a:xfrm>
                <a:off x="6814440" y="4186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59040" y="4312800"/>
              <a:ext cx="299520" cy="1219680"/>
              <a:chOff x="6359040" y="4312800"/>
              <a:chExt cx="299520" cy="1219680"/>
            </a:xfrm>
          </p:grpSpPr>
          <p:cxnSp>
            <p:nvCxnSpPr>
              <p:cNvPr id="319" name=""/>
              <p:cNvCxnSpPr>
                <a:stCxn id="255" idx="4"/>
                <a:endCxn id="261" idx="0"/>
              </p:cNvCxnSpPr>
              <p:nvPr/>
            </p:nvCxnSpPr>
            <p:spPr>
              <a:xfrm>
                <a:off x="6395760" y="4312800"/>
                <a:ext cx="1080" cy="1220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0" name=""/>
              <p:cNvSpPr/>
              <p:nvPr/>
            </p:nvSpPr>
            <p:spPr>
              <a:xfrm>
                <a:off x="6359040" y="47498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214640" y="4388760"/>
            <a:ext cx="700200" cy="1067040"/>
            <a:chOff x="1214640" y="4388760"/>
            <a:chExt cx="700200" cy="1067040"/>
          </a:xfrm>
        </p:grpSpPr>
        <p:cxnSp>
          <p:nvCxnSpPr>
            <p:cNvPr id="322" name=""/>
            <p:cNvCxnSpPr>
              <a:stCxn id="270" idx="3"/>
              <a:endCxn id="270" idx="1"/>
            </p:cNvCxnSpPr>
            <p:nvPr/>
          </p:nvCxnSpPr>
          <p:spPr>
            <a:xfrm flipH="1" flipV="1" rot="5400000">
              <a:off x="1697760" y="4921560"/>
              <a:ext cx="432360" cy="2160"/>
            </a:xfrm>
            <a:prstGeom prst="curvedConnector5">
              <a:avLst>
                <a:gd name="adj1" fmla="val -73500"/>
                <a:gd name="adj2" fmla="val -1940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1275840" y="47721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2600" y="1843200"/>
            <a:ext cx="5461200" cy="1422360"/>
            <a:chOff x="3522600" y="1843200"/>
            <a:chExt cx="5461200" cy="1422360"/>
          </a:xfrm>
        </p:grpSpPr>
        <p:sp>
          <p:nvSpPr>
            <p:cNvPr id="325" name=""/>
            <p:cNvSpPr/>
            <p:nvPr/>
          </p:nvSpPr>
          <p:spPr>
            <a:xfrm>
              <a:off x="476100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5144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01480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648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68880" y="2395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259320" y="278928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6310080" y="27892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452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55496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61832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8360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5000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3392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3360" y="2656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2600" y="254196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156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2656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864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632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75400" y="2656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6892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8920" y="18432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980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3744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520" y="2656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5160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70680" y="2656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420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420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1216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244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7244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128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5720" y="3062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656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30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480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075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3075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3040" y="3075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98920" y="2922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03D-68EF-4E35-BB5A-670381CD7E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684440" y="3862440"/>
            <a:ext cx="5994360" cy="2305080"/>
            <a:chOff x="1684440" y="3862440"/>
            <a:chExt cx="5994360" cy="2305080"/>
          </a:xfrm>
        </p:grpSpPr>
        <p:sp>
          <p:nvSpPr>
            <p:cNvPr id="371" name=""/>
            <p:cNvSpPr/>
            <p:nvPr/>
          </p:nvSpPr>
          <p:spPr>
            <a:xfrm>
              <a:off x="62755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99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67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79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5120" y="40845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656400" y="4230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071800" y="424296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76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708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276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64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8840" y="39322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55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035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79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03920" y="591336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44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8840" y="57610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03920" y="40719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87720" y="5913360"/>
              <a:ext cx="13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65520" y="487188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059200" y="516996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669360" y="5169960"/>
              <a:ext cx="5839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 are simple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hrough well-defined sequence of states in response to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ypes of counters: binary, BCD, Gray-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up-counter: 000, 001, 010, 011, 100, 101, 110, 111, 000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down-counter:  111, 110, 101, 100, 011, 010, 001, 000, 111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593-3723-4349-80ED-CEFE5A76E2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do we turn a state diagram into logic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lip-flops to hol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to compute 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ignal controls when flip-flop memory can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long enough for combinational logic to compute new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wait too long as that is low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025880" y="3591000"/>
            <a:ext cx="5203800" cy="2930400"/>
            <a:chOff x="4025880" y="3591000"/>
            <a:chExt cx="5203800" cy="2930400"/>
          </a:xfrm>
        </p:grpSpPr>
        <p:sp>
          <p:nvSpPr>
            <p:cNvPr id="401" name=""/>
            <p:cNvSpPr/>
            <p:nvPr/>
          </p:nvSpPr>
          <p:spPr>
            <a:xfrm>
              <a:off x="5187960" y="407664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7840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44176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0704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380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9620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86640" y="447012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737400" y="447012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528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908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9148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98192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804528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10120" y="4336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8880" y="4336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81720" y="43369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208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5468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2560" y="359100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76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9960" y="433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0320" y="432432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6292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0440" y="359100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1204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820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7080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18680" y="35910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824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23040" y="474336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388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30920" y="4743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5176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40320" y="475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54720" y="475596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0000" y="475596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5880" y="460368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38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01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118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4389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38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38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01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01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9120" y="537372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5440" y="537372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62012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74720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9120" y="531000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39120" y="490392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5440" y="490392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5440" y="531000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91520" y="580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709040" y="57909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84680" y="6114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05920" y="567216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440" y="566568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1880" y="567216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85760" y="566568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22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85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402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0673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722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22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85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85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6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8044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389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292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0320" y="55306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554976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45440" y="554364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69040" y="6369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80440" y="6248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8348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4720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7080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53320" y="554364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2012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55497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0280" y="5543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02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40280" y="554976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24640" y="600084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18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73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1160" y="6496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99280" y="6483240"/>
              <a:ext cx="3816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8360" y="6496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624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18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5468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42080" y="55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546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3840" y="554364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40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756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8348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40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0FB-5C9A-4BD1-A7D0-2573DC8CF6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output is jus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no choice of next state based on inp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 to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a truth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representation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unters it is simple: just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p-flop for each stat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A4F-3A47-4B3F-8BBC-8E2DF8A8E5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04Z</dcterms:modified>
  <cp:revision>31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