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6AD-840C-4108-B6A9-02FFEF4A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A21D-2030-48C6-8AB2-4BA751ED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42E-7777-4AFF-A41B-BEE17A4D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D763-5AAF-44CA-A569-9C047532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05FB-48CB-440D-B08E-E217425C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E0BE-6816-4B32-A6DE-F3B8DDC6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D241-0AC0-4D14-88D8-590368B1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A445-D556-49C6-9B1F-C5B79249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A1E5-6137-4F4B-B96E-3407A482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7E59-8044-4CE7-BE4A-9917DBA3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C5A9-AC4D-4D57-AA43-FCE034A6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EB52-F854-47BA-89E9-9D97CA66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7A30-D6CD-47C4-B59C-4FF7AA42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6E6A-509D-41D6-B47C-A2181080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3035-E668-4ECA-BEF2-2715DC53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DA0B-E8DF-4AC3-AAD2-62174E03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0E5D-593F-4FD9-B8D7-959017F2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A924-B550-42B3-AF2A-CC1292EF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FE4E-DEBB-4465-BCEB-97D76A32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E79-30AE-4EBE-997B-6487AF11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DD59-AF04-489F-A724-B4D2A9AF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5FE-30BC-42FB-8186-7C8BE0F2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EEF3-F856-4F1E-8639-03A7F6C5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FAA-02D3-410C-A104-080DF3F4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55136D1-2D59-43AB-A574-D43F962D2E4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16718CC-C458-47C7-9475-2039AF82C1C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19520" y="1841400"/>
            <a:ext cx="464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design approach: a 4-step design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 and finite state mach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examples and 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-string pattern recog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light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B4A-B760-4BFF-B046-2421ADC8862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 (state diagram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ate for each output comb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ppropriate arcs for the mod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28600" y="3505320"/>
            <a:ext cx="8140680" cy="1396800"/>
            <a:chOff x="228600" y="3505320"/>
            <a:chExt cx="8140680" cy="1396800"/>
          </a:xfrm>
        </p:grpSpPr>
        <p:sp>
          <p:nvSpPr>
            <p:cNvPr id="242" name=""/>
            <p:cNvSpPr/>
            <p:nvPr/>
          </p:nvSpPr>
          <p:spPr>
            <a:xfrm>
              <a:off x="14479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623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767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055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199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343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487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228600" y="3505320"/>
              <a:ext cx="8076960" cy="1371600"/>
              <a:chOff x="228600" y="3505320"/>
              <a:chExt cx="8076960" cy="1371600"/>
            </a:xfrm>
          </p:grpSpPr>
          <p:sp>
            <p:nvSpPr>
              <p:cNvPr id="251" name=""/>
              <p:cNvSpPr/>
              <p:nvPr/>
            </p:nvSpPr>
            <p:spPr>
              <a:xfrm>
                <a:off x="228600" y="4343400"/>
                <a:ext cx="97776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s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47960" y="3505320"/>
                <a:ext cx="5590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1051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195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9339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483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475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3619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763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907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1" name=""/>
              <p:cNvCxnSpPr>
                <a:stCxn id="257" idx="6"/>
                <a:endCxn id="258" idx="2"/>
              </p:cNvCxnSpPr>
              <p:nvPr/>
            </p:nvCxnSpPr>
            <p:spPr>
              <a:xfrm>
                <a:off x="19047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2" name=""/>
              <p:cNvCxnSpPr>
                <a:stCxn id="258" idx="6"/>
                <a:endCxn id="259" idx="2"/>
              </p:cNvCxnSpPr>
              <p:nvPr/>
            </p:nvCxnSpPr>
            <p:spPr>
              <a:xfrm>
                <a:off x="28191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3" name=""/>
              <p:cNvCxnSpPr>
                <a:stCxn id="259" idx="6"/>
                <a:endCxn id="260" idx="2"/>
              </p:cNvCxnSpPr>
              <p:nvPr/>
            </p:nvCxnSpPr>
            <p:spPr>
              <a:xfrm>
                <a:off x="37335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4" name=""/>
              <p:cNvCxnSpPr>
                <a:stCxn id="260" idx="6"/>
                <a:endCxn id="253" idx="2"/>
              </p:cNvCxnSpPr>
              <p:nvPr/>
            </p:nvCxnSpPr>
            <p:spPr>
              <a:xfrm>
                <a:off x="46479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5" name=""/>
              <p:cNvCxnSpPr>
                <a:stCxn id="253" idx="6"/>
                <a:endCxn id="254" idx="2"/>
              </p:cNvCxnSpPr>
              <p:nvPr/>
            </p:nvCxnSpPr>
            <p:spPr>
              <a:xfrm>
                <a:off x="55623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6" name=""/>
              <p:cNvCxnSpPr>
                <a:stCxn id="254" idx="6"/>
                <a:endCxn id="255" idx="2"/>
              </p:cNvCxnSpPr>
              <p:nvPr/>
            </p:nvCxnSpPr>
            <p:spPr>
              <a:xfrm>
                <a:off x="64767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7" name=""/>
              <p:cNvCxnSpPr>
                <a:stCxn id="255" idx="6"/>
                <a:endCxn id="256" idx="2"/>
              </p:cNvCxnSpPr>
              <p:nvPr/>
            </p:nvCxnSpPr>
            <p:spPr>
              <a:xfrm>
                <a:off x="73911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8" name=""/>
              <p:cNvCxnSpPr/>
              <p:nvPr/>
            </p:nvCxnSpPr>
            <p:spPr>
              <a:xfrm>
                <a:off x="9903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9" name=""/>
              <p:cNvCxnSpPr>
                <a:stCxn id="256" idx="0"/>
                <a:endCxn id="257" idx="0"/>
              </p:cNvCxnSpPr>
              <p:nvPr/>
            </p:nvCxnSpPr>
            <p:spPr>
              <a:xfrm rot="5400000">
                <a:off x="4875120" y="1220040"/>
                <a:ext cx="2160" cy="6401520"/>
              </a:xfrm>
              <a:prstGeom prst="curvedConnector5">
                <a:avLst>
                  <a:gd name="adj1" fmla="val -38400000"/>
                  <a:gd name="adj2" fmla="val 49997"/>
                  <a:gd name="adj3" fmla="val -38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70" name=""/>
              <p:cNvSpPr/>
              <p:nvPr/>
            </p:nvSpPr>
            <p:spPr>
              <a:xfrm>
                <a:off x="45720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864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752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896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6320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7432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288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1675800" y="4648320"/>
            <a:ext cx="6401520" cy="1015920"/>
            <a:chOff x="1675800" y="4648320"/>
            <a:chExt cx="6401520" cy="1015920"/>
          </a:xfrm>
        </p:grpSpPr>
        <p:sp>
          <p:nvSpPr>
            <p:cNvPr id="278" name=""/>
            <p:cNvSpPr/>
            <p:nvPr/>
          </p:nvSpPr>
          <p:spPr>
            <a:xfrm>
              <a:off x="3733920" y="46483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62920" y="48513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675800" y="4809240"/>
              <a:ext cx="6401520" cy="523080"/>
              <a:chOff x="1675800" y="4809240"/>
              <a:chExt cx="6401520" cy="523080"/>
            </a:xfrm>
          </p:grpSpPr>
          <p:cxnSp>
            <p:nvCxnSpPr>
              <p:cNvPr id="281" name=""/>
              <p:cNvCxnSpPr>
                <a:stCxn id="257" idx="5"/>
                <a:endCxn id="258" idx="3"/>
              </p:cNvCxnSpPr>
              <p:nvPr/>
            </p:nvCxnSpPr>
            <p:spPr>
              <a:xfrm flipH="1" rot="16200000">
                <a:off x="2131920" y="4515120"/>
                <a:ext cx="2160" cy="591120"/>
              </a:xfrm>
              <a:prstGeom prst="curvedConnector5">
                <a:avLst>
                  <a:gd name="adj1" fmla="val 11280000"/>
                  <a:gd name="adj2" fmla="val 49969"/>
                  <a:gd name="adj3" fmla="val 112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2" name=""/>
              <p:cNvCxnSpPr>
                <a:stCxn id="258" idx="5"/>
                <a:endCxn id="260" idx="4"/>
              </p:cNvCxnSpPr>
              <p:nvPr/>
            </p:nvCxnSpPr>
            <p:spPr>
              <a:xfrm flipH="1" rot="16200000">
                <a:off x="3552840" y="4009320"/>
                <a:ext cx="67320" cy="1667520"/>
              </a:xfrm>
              <a:prstGeom prst="curvedConnector5">
                <a:avLst>
                  <a:gd name="adj1" fmla="val 580645"/>
                  <a:gd name="adj2" fmla="val 49989"/>
                  <a:gd name="adj3" fmla="val 58064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3" name=""/>
              <p:cNvCxnSpPr>
                <a:stCxn id="260" idx="3"/>
                <a:endCxn id="259" idx="5"/>
              </p:cNvCxnSpPr>
              <p:nvPr/>
            </p:nvCxnSpPr>
            <p:spPr>
              <a:xfrm rot="5400000">
                <a:off x="3961080" y="4515480"/>
                <a:ext cx="2160" cy="591120"/>
              </a:xfrm>
              <a:prstGeom prst="curvedConnector5">
                <a:avLst>
                  <a:gd name="adj1" fmla="val 11280000"/>
                  <a:gd name="adj2" fmla="val 49969"/>
                  <a:gd name="adj3" fmla="val 112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4" name=""/>
              <p:cNvCxnSpPr>
                <a:stCxn id="253" idx="3"/>
                <a:endCxn id="257" idx="4"/>
              </p:cNvCxnSpPr>
              <p:nvPr/>
            </p:nvCxnSpPr>
            <p:spPr>
              <a:xfrm rot="5400000">
                <a:off x="3390480" y="3094920"/>
                <a:ext cx="67320" cy="3496680"/>
              </a:xfrm>
              <a:prstGeom prst="curvedConnector5">
                <a:avLst>
                  <a:gd name="adj1" fmla="val 780645"/>
                  <a:gd name="adj2" fmla="val 50000"/>
                  <a:gd name="adj3" fmla="val 78064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5" name=""/>
              <p:cNvCxnSpPr>
                <a:stCxn id="259" idx="4"/>
                <a:endCxn id="255" idx="3"/>
              </p:cNvCxnSpPr>
              <p:nvPr/>
            </p:nvCxnSpPr>
            <p:spPr>
              <a:xfrm flipH="1" flipV="1" rot="5400000">
                <a:off x="5218920" y="3094560"/>
                <a:ext cx="67320" cy="3496680"/>
              </a:xfrm>
              <a:prstGeom prst="curvedConnector5">
                <a:avLst>
                  <a:gd name="adj1" fmla="val -625806"/>
                  <a:gd name="adj2" fmla="val 50000"/>
                  <a:gd name="adj3" fmla="val -62580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6" name=""/>
              <p:cNvCxnSpPr>
                <a:stCxn id="255" idx="5"/>
                <a:endCxn id="256" idx="3"/>
              </p:cNvCxnSpPr>
              <p:nvPr/>
            </p:nvCxnSpPr>
            <p:spPr>
              <a:xfrm flipH="1" rot="16200000">
                <a:off x="7618320" y="4515120"/>
                <a:ext cx="2160" cy="591120"/>
              </a:xfrm>
              <a:prstGeom prst="curvedConnector5">
                <a:avLst>
                  <a:gd name="adj1" fmla="val 7680000"/>
                  <a:gd name="adj2" fmla="val 49969"/>
                  <a:gd name="adj3" fmla="val 76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7" name=""/>
              <p:cNvCxnSpPr>
                <a:stCxn id="256" idx="4"/>
                <a:endCxn id="254" idx="5"/>
              </p:cNvCxnSpPr>
              <p:nvPr/>
            </p:nvCxnSpPr>
            <p:spPr>
              <a:xfrm flipV="1" rot="16200000">
                <a:off x="7210080" y="4008960"/>
                <a:ext cx="67320" cy="1667520"/>
              </a:xfrm>
              <a:prstGeom prst="curvedConnector5">
                <a:avLst>
                  <a:gd name="adj1" fmla="val -625806"/>
                  <a:gd name="adj2" fmla="val 49989"/>
                  <a:gd name="adj3" fmla="val -62580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8" name=""/>
              <p:cNvCxnSpPr>
                <a:stCxn id="254" idx="3"/>
                <a:endCxn id="253" idx="5"/>
              </p:cNvCxnSpPr>
              <p:nvPr/>
            </p:nvCxnSpPr>
            <p:spPr>
              <a:xfrm rot="5400000">
                <a:off x="5789880" y="4515480"/>
                <a:ext cx="2160" cy="591120"/>
              </a:xfrm>
              <a:prstGeom prst="curvedConnector5">
                <a:avLst>
                  <a:gd name="adj1" fmla="val 12480000"/>
                  <a:gd name="adj2" fmla="val 49969"/>
                  <a:gd name="adj3" fmla="val 124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89" name=""/>
            <p:cNvSpPr/>
            <p:nvPr/>
          </p:nvSpPr>
          <p:spPr>
            <a:xfrm>
              <a:off x="6756480" y="52322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34120" y="49276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292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718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95480" y="480060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08160" y="48513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B28A-AC88-4571-98B3-FCDDBBB9EDE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 (state encod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ilog description including state en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438280"/>
            <a:ext cx="4419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tring (clk, M, rst, Z0, Z1, Z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, X, r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Z0, Z1, Z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0 = [0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1 = [0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2 = [0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3 = [0,1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4 = [1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5 = [1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 = [1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7 = [1,1,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[0: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0 = state[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1 = state[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2 = 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2438280"/>
            <a:ext cx="426708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rst state 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0: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1: if (M) state = S3 else state = S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2: if (M) state = S6 else state = S3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3: if (M) state = S2 else state = S4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4: if (M) state = S0 else state = S5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5: if (M) state = S4 else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6: if (M) state = S7 else state = S7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7: if (M) state = S5 else state = S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95680" y="236232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E3EF-45F4-42C6-B521-44554DAA63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4419720" y="1752480"/>
            <a:ext cx="2044440" cy="1562040"/>
            <a:chOff x="4419720" y="1752480"/>
            <a:chExt cx="2044440" cy="1562040"/>
          </a:xfrm>
        </p:grpSpPr>
        <p:grpSp>
          <p:nvGrpSpPr>
            <p:cNvPr id="301" name=""/>
            <p:cNvGrpSpPr/>
            <p:nvPr/>
          </p:nvGrpSpPr>
          <p:grpSpPr>
            <a:xfrm>
              <a:off x="4476600" y="2197080"/>
              <a:ext cx="609840" cy="685800"/>
              <a:chOff x="4476600" y="2197080"/>
              <a:chExt cx="609840" cy="685800"/>
            </a:xfrm>
          </p:grpSpPr>
          <p:sp>
            <p:nvSpPr>
              <p:cNvPr id="302" name=""/>
              <p:cNvSpPr/>
              <p:nvPr/>
            </p:nvSpPr>
            <p:spPr>
              <a:xfrm>
                <a:off x="4476600" y="2197080"/>
                <a:ext cx="60984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4920840" y="2717640"/>
                <a:ext cx="12708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 flipV="1">
              <a:off x="5315040" y="1752480"/>
              <a:ext cx="5713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73800" y="2724120"/>
              <a:ext cx="990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5314680" y="2692440"/>
              <a:ext cx="6094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46760" y="23112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16600" y="23940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19720" y="1847880"/>
              <a:ext cx="761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591240" y="1727280"/>
            <a:ext cx="2438280" cy="2387520"/>
            <a:chOff x="6591240" y="1727280"/>
            <a:chExt cx="2438280" cy="2387520"/>
          </a:xfrm>
        </p:grpSpPr>
        <p:sp>
          <p:nvSpPr>
            <p:cNvPr id="311" name=""/>
            <p:cNvSpPr/>
            <p:nvPr/>
          </p:nvSpPr>
          <p:spPr>
            <a:xfrm>
              <a:off x="8115120" y="3663720"/>
              <a:ext cx="914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6990840" y="264168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22920" y="2260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91240" y="2343240"/>
              <a:ext cx="546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7562520" y="323856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94600" y="2857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13680" y="2940120"/>
              <a:ext cx="444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8133840" y="383544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65920" y="34542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34240" y="3537000"/>
              <a:ext cx="546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7016760" y="1727280"/>
              <a:ext cx="5713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400800" y="457200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00800" y="59436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99240" y="46800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91200" y="5950080"/>
            <a:ext cx="635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152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85484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7700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29640" y="5607000"/>
            <a:ext cx="63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29360" y="560700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16480" y="551808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42200" y="4667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42200" y="4807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4946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42200" y="5086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42200" y="5226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42200" y="5365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43600" y="4933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43600" y="5073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s two communicating FS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separate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 would require 7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would require 3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would require 7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 would require 3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and S3 have simple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 and S2 would require many more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could change in any of seven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factoring out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ly reduce number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instead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 only requires seven or eigh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total instead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58D-F679-48AF-A475-256F1E20AF5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33520" y="2209680"/>
            <a:ext cx="83311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FSM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e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6:1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2959200"/>
            <a:ext cx="447048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highwaygreen   = 6'b0011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ighwayyellow  = 6'b0101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rmroadgreen  = 6'b10000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rmroadyellow = 6'b100010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ssign HR = state[6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Y = state[5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G = state[4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R = state[3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Y = state[2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G = state[1]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33680" y="5518080"/>
            <a:ext cx="971640" cy="488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504960" y="3416400"/>
            <a:ext cx="1447560" cy="259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504960" y="501660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6006960"/>
            <a:ext cx="26416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cify state bits and cod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state as well a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nections to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ication of inputs, outputs, and state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EA53-BCE9-49F1-8314-457ADC6C1A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854360" y="1523880"/>
            <a:ext cx="7289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1600200"/>
            <a:ext cx="817884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itial begin state = highwaygreen; ST = 0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if (rese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 state = 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S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highway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&amp; C) begin state = highway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highway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farmroad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farmroad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| !C) begin state = farmroad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farmroad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3" name=""/>
          <p:cNvSpPr/>
          <p:nvPr/>
        </p:nvSpPr>
        <p:spPr>
          <a:xfrm>
            <a:off x="6583680" y="2071800"/>
            <a:ext cx="16344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e stat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ggerred b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3200040" y="2209320"/>
            <a:ext cx="34290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123720" y="2514600"/>
            <a:ext cx="350532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9B2A-6599-4632-A825-6EE710B3F1A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752480" y="2209680"/>
            <a:ext cx="60325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Timer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teger   val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S = (value &gt;=  4); //  5 cycles after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L = (value &gt;= 14); // 15 cycles after rese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ST) value = 0; // async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 value = value +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er for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ther F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968-2437-4355-9FCB-F1C69A50998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43000" y="2668680"/>
            <a:ext cx="694692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main(HR, HY, HG, FR, FY, FG, reset, C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output HR, HY, HG, FR, FY, FG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nput  reset, C, Clk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Timer part1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FSM   part2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te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ing it all together (FSM + ti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Verilog (same as a schematic draw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457200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00800" y="59436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699240" y="46800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91200" y="5950080"/>
            <a:ext cx="635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152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5484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7700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29640" y="5607000"/>
            <a:ext cx="63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29360" y="560700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16480" y="551808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42200" y="4667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242200" y="4807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242200" y="4946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242200" y="5086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42200" y="5226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42200" y="5365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4933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43600" y="5073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C608-550C-47E1-ADC0-31C30E6F04C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997520" y="5346720"/>
            <a:ext cx="3746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s advance in lock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 inputs/outputs: X = 0, Y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11640" y="2668680"/>
            <a:ext cx="3200400" cy="2208240"/>
            <a:chOff x="5111640" y="2668680"/>
            <a:chExt cx="3200400" cy="2208240"/>
          </a:xfrm>
        </p:grpSpPr>
        <p:sp>
          <p:nvSpPr>
            <p:cNvPr id="382" name=""/>
            <p:cNvSpPr/>
            <p:nvPr/>
          </p:nvSpPr>
          <p:spPr>
            <a:xfrm>
              <a:off x="6311520" y="30621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30540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02604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3216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95800" y="30621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8893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60996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1644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67480" y="30621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46100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18164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8776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38800" y="3062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80323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7659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72040" y="27954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879520" y="3062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26040" y="2668680"/>
              <a:ext cx="0" cy="220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0996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8164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6592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1204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11640" y="2769840"/>
              <a:ext cx="66024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1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2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32160" y="39121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737040" y="360108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743520" y="3607920"/>
              <a:ext cx="11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905600" y="3614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11720" y="391212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32160" y="47372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333920" y="446400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0400" y="4470840"/>
              <a:ext cx="96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62600" y="3201840"/>
              <a:ext cx="291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33920" y="3201840"/>
              <a:ext cx="279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880040" y="3201840"/>
              <a:ext cx="291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62600" y="4089960"/>
              <a:ext cx="304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21320" y="4089960"/>
              <a:ext cx="291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92640" y="4089960"/>
              <a:ext cx="304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066680" y="2438280"/>
            <a:ext cx="3035160" cy="1251000"/>
            <a:chOff x="1066680" y="2438280"/>
            <a:chExt cx="3035160" cy="1251000"/>
          </a:xfrm>
        </p:grpSpPr>
        <p:sp>
          <p:nvSpPr>
            <p:cNvPr id="420" name=""/>
            <p:cNvSpPr/>
            <p:nvPr/>
          </p:nvSpPr>
          <p:spPr>
            <a:xfrm>
              <a:off x="1066680" y="2495520"/>
              <a:ext cx="990360" cy="119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25440" y="2946240"/>
              <a:ext cx="672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98520" y="2495520"/>
              <a:ext cx="1003320" cy="118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57280" y="2946240"/>
              <a:ext cx="749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9200" y="24382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19200" y="318744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57040" y="2692440"/>
              <a:ext cx="102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2044440" y="34416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39640" y="4114800"/>
            <a:ext cx="1981080" cy="2215800"/>
            <a:chOff x="539640" y="4114800"/>
            <a:chExt cx="1981080" cy="2215800"/>
          </a:xfrm>
        </p:grpSpPr>
        <p:grpSp>
          <p:nvGrpSpPr>
            <p:cNvPr id="429" name=""/>
            <p:cNvGrpSpPr/>
            <p:nvPr/>
          </p:nvGrpSpPr>
          <p:grpSpPr>
            <a:xfrm>
              <a:off x="647280" y="4425840"/>
              <a:ext cx="609840" cy="685800"/>
              <a:chOff x="647280" y="4425840"/>
              <a:chExt cx="609840" cy="685800"/>
            </a:xfrm>
          </p:grpSpPr>
          <p:sp>
            <p:nvSpPr>
              <p:cNvPr id="430" name=""/>
              <p:cNvSpPr/>
              <p:nvPr/>
            </p:nvSpPr>
            <p:spPr>
              <a:xfrm>
                <a:off x="647280" y="4425840"/>
                <a:ext cx="60984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1091520" y="4946400"/>
                <a:ext cx="12708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 flipV="1">
              <a:off x="1485720" y="4171320"/>
              <a:ext cx="38088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65120" y="5054400"/>
              <a:ext cx="990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1339560" y="498420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17440" y="4540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74320" y="4470480"/>
              <a:ext cx="330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9640" y="411480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1472760" y="5924160"/>
              <a:ext cx="39384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04480" y="55180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74320" y="5460840"/>
              <a:ext cx="330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58600" y="4241880"/>
              <a:ext cx="762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660760" y="4102200"/>
            <a:ext cx="1993320" cy="2260080"/>
            <a:chOff x="2660760" y="4102200"/>
            <a:chExt cx="1993320" cy="2260080"/>
          </a:xfrm>
        </p:grpSpPr>
        <p:grpSp>
          <p:nvGrpSpPr>
            <p:cNvPr id="443" name=""/>
            <p:cNvGrpSpPr/>
            <p:nvPr/>
          </p:nvGrpSpPr>
          <p:grpSpPr>
            <a:xfrm>
              <a:off x="2857320" y="4413240"/>
              <a:ext cx="609120" cy="685440"/>
              <a:chOff x="2857320" y="4413240"/>
              <a:chExt cx="609120" cy="685440"/>
            </a:xfrm>
          </p:grpSpPr>
          <p:sp>
            <p:nvSpPr>
              <p:cNvPr id="444" name=""/>
              <p:cNvSpPr/>
              <p:nvPr/>
            </p:nvSpPr>
            <p:spPr>
              <a:xfrm>
                <a:off x="2857320" y="4413240"/>
                <a:ext cx="609120" cy="68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3301200" y="4933440"/>
                <a:ext cx="1267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V="1">
              <a:off x="3695400" y="4159080"/>
              <a:ext cx="38052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74800" y="5041800"/>
              <a:ext cx="97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3549240" y="4971960"/>
              <a:ext cx="0" cy="54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327120" y="45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84360" y="4457520"/>
              <a:ext cx="329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9320" y="410220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3682800" y="5911560"/>
              <a:ext cx="39312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92320" y="427968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2857320" y="5391000"/>
              <a:ext cx="609120" cy="685440"/>
              <a:chOff x="2857320" y="5391000"/>
              <a:chExt cx="609120" cy="685440"/>
            </a:xfrm>
          </p:grpSpPr>
          <p:sp>
            <p:nvSpPr>
              <p:cNvPr id="455" name=""/>
              <p:cNvSpPr/>
              <p:nvPr/>
            </p:nvSpPr>
            <p:spPr>
              <a:xfrm>
                <a:off x="2857320" y="5391000"/>
                <a:ext cx="609120" cy="68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301200" y="5911560"/>
                <a:ext cx="12672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3327120" y="550548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84360" y="5435640"/>
              <a:ext cx="329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60760" y="6019560"/>
              <a:ext cx="97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92320" y="5803920"/>
              <a:ext cx="761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municating 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machine's output is another machine's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E87-578B-438F-8015-58BD1D35330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298600" y="3429000"/>
            <a:ext cx="191772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92480" y="3422520"/>
            <a:ext cx="193032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24160" y="5372280"/>
            <a:ext cx="19051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05080" y="5365800"/>
            <a:ext cx="1942920" cy="100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19440" y="4413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800080" y="47242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5791320"/>
            <a:ext cx="1155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581280"/>
            <a:ext cx="364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eer who pulls the string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3200" y="3772080"/>
            <a:ext cx="1015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55800" y="5715000"/>
            <a:ext cx="101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36840" y="4483080"/>
            <a:ext cx="1015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u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o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51440" y="4483080"/>
            <a:ext cx="1231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57680" y="4711680"/>
            <a:ext cx="838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2540160" y="440028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06560" y="44002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02200" y="441324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and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hardware systems = data-path +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path: registers, counters, combinational functional units (e.g., ALU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(e.g., bus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: FSM generating sequences of control signals that instru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path what to d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733920" y="3733920"/>
            <a:ext cx="12952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886200" y="5867280"/>
            <a:ext cx="1447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02F9-06A9-4496-BB2B-8EF86465ADA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al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ch in 3 values in sequence and the door opens; if there is an error the lock must be reset; once the door opens the lock must be res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sequence of input values,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: door open/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: must remember combination or always have it avail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questions: how do you set the internal combin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d in registers (how loaded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ired via switches set by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363F-A28C-4707-90A8-555927532A7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FSM design proced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) Determine inputs and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2) Determine possible states of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3) Encode states and outputs into a binary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 or state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input encoding (if under our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4) Realize logic to implement functions for states and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implementation and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s in steps 2 and 3 can have large effect on resulting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2890-18FE-452A-99D5-05712F5B8DD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457200" y="1523880"/>
            <a:ext cx="81788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combination_lock ( 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v1, v2, v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error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ic integer c[3] = 3, 4,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1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1 != c[1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2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2 != c[2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3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2 != c[3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error == 1) then return(0); else return 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6E02-D706-4D74-B8F0-35CF4FA005A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2577960" y="3772080"/>
            <a:ext cx="3721320" cy="2476080"/>
            <a:chOff x="2577960" y="3772080"/>
            <a:chExt cx="3721320" cy="2476080"/>
          </a:xfrm>
        </p:grpSpPr>
        <p:sp>
          <p:nvSpPr>
            <p:cNvPr id="488" name=""/>
            <p:cNvSpPr/>
            <p:nvPr/>
          </p:nvSpPr>
          <p:spPr>
            <a:xfrm>
              <a:off x="3956040" y="4540320"/>
              <a:ext cx="18288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212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4976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784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498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070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35640" y="3772080"/>
              <a:ext cx="8636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54480" y="3772080"/>
              <a:ext cx="12319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76640" y="5842080"/>
              <a:ext cx="1676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89520" y="54547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7816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09880" y="3772080"/>
              <a:ext cx="851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56040" y="5111640"/>
              <a:ext cx="1015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943080" y="5226120"/>
              <a:ext cx="12708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485880" y="52196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77960" y="5041800"/>
              <a:ext cx="851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termining details of the spec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per input val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values in 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a new input value is ente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states and state transitions of the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DE8C-916B-43AB-99F8-38B8A639D15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 lock state diagra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5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point in execution of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6 from state to state, 5 self transitions, 1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of state occur when clock says it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value of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reset, new, results of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 open/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3720" y="5302080"/>
            <a:ext cx="565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94200" y="5302080"/>
            <a:ext cx="5637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37000" y="5302080"/>
            <a:ext cx="56484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962440" y="549108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41760" y="549108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21440" y="5491080"/>
            <a:ext cx="15015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63880" y="4475160"/>
            <a:ext cx="15051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0880" y="458784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72160" y="4587840"/>
            <a:ext cx="15019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68600" y="510840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17880" y="54403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46480" y="5440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246480" y="4080960"/>
            <a:ext cx="404496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822920" y="4080960"/>
            <a:ext cx="246852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6402240" y="4080960"/>
            <a:ext cx="88920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61280" y="3949560"/>
            <a:ext cx="56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5291280"/>
            <a:ext cx="714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18240" y="6080040"/>
            <a:ext cx="803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41800" y="6080040"/>
            <a:ext cx="799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62120" y="6080040"/>
            <a:ext cx="803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914560" y="4978440"/>
            <a:ext cx="649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1000" y="49784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70680" y="4978440"/>
            <a:ext cx="6508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61240" y="49784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84920" y="362268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48280" y="5108400"/>
            <a:ext cx="67464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822920" y="5440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24360" y="510840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02240" y="544032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304040" y="5108400"/>
            <a:ext cx="67464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423200" y="5302080"/>
            <a:ext cx="4636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304040" y="3754440"/>
            <a:ext cx="674640" cy="67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7748640" y="3428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7521480" y="3428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27960" y="343548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17" idx="3"/>
            <a:endCxn id="517" idx="5"/>
          </p:cNvCxnSpPr>
          <p:nvPr/>
        </p:nvCxnSpPr>
        <p:spPr>
          <a:xfrm flipH="1" rot="16200000">
            <a:off x="2905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3" idx="3"/>
            <a:endCxn id="533" idx="5"/>
          </p:cNvCxnSpPr>
          <p:nvPr/>
        </p:nvCxnSpPr>
        <p:spPr>
          <a:xfrm flipH="1" rot="16200000">
            <a:off x="448380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5" idx="3"/>
            <a:endCxn id="535" idx="5"/>
          </p:cNvCxnSpPr>
          <p:nvPr/>
        </p:nvCxnSpPr>
        <p:spPr>
          <a:xfrm flipH="1" rot="16200000">
            <a:off x="6062760" y="5447880"/>
            <a:ext cx="2160" cy="478800"/>
          </a:xfrm>
          <a:prstGeom prst="curvedConnector5">
            <a:avLst>
              <a:gd name="adj1" fmla="val 20700000"/>
              <a:gd name="adj2" fmla="val 49962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7" idx="3"/>
            <a:endCxn id="537" idx="5"/>
          </p:cNvCxnSpPr>
          <p:nvPr/>
        </p:nvCxnSpPr>
        <p:spPr>
          <a:xfrm flipH="1" rot="16200000">
            <a:off x="7639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E210-F669-40BF-986B-B80D9750FD7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1511280" y="4305240"/>
            <a:ext cx="7632720" cy="2476440"/>
            <a:chOff x="1511280" y="4305240"/>
            <a:chExt cx="7632720" cy="2476440"/>
          </a:xfrm>
        </p:grpSpPr>
        <p:sp>
          <p:nvSpPr>
            <p:cNvPr id="548" name=""/>
            <p:cNvSpPr/>
            <p:nvPr/>
          </p:nvSpPr>
          <p:spPr>
            <a:xfrm>
              <a:off x="6013440" y="5073480"/>
              <a:ext cx="1828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07160" y="4616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13680" y="43178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21440" y="6375240"/>
              <a:ext cx="1549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21360" y="5987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35560" y="4616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54680" y="430524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145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003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861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30560" y="573408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14560" y="509904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46240" y="4381560"/>
              <a:ext cx="419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454560" y="438156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40360" y="438156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370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228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086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22840" y="53276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27480" y="571500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11280" y="56386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686480" y="57913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52680" y="507996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89720" y="535932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991040" y="4724280"/>
              <a:ext cx="8636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4730760" y="520704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7714800" y="5746320"/>
              <a:ext cx="1270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728120" y="5632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42240" y="575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292960" y="557532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514760" y="584208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95520" y="584208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30798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37782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4640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2698920" y="577188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03520" y="58420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93960" y="46735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05320" y="4673520"/>
              <a:ext cx="355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65560" y="46864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778200" y="537804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79760" y="53211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1822320" y="3206880"/>
            <a:ext cx="6553440" cy="3314520"/>
            <a:chOff x="1822320" y="3206880"/>
            <a:chExt cx="6553440" cy="3314520"/>
          </a:xfrm>
        </p:grpSpPr>
        <p:sp>
          <p:nvSpPr>
            <p:cNvPr id="591" name=""/>
            <p:cNvSpPr/>
            <p:nvPr/>
          </p:nvSpPr>
          <p:spPr>
            <a:xfrm>
              <a:off x="1822320" y="3206880"/>
              <a:ext cx="421668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42120" y="4083120"/>
              <a:ext cx="2933640" cy="243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063880" y="1835280"/>
            <a:ext cx="3238200" cy="4660920"/>
            <a:chOff x="2063880" y="1835280"/>
            <a:chExt cx="3238200" cy="4660920"/>
          </a:xfrm>
        </p:grpSpPr>
        <p:sp>
          <p:nvSpPr>
            <p:cNvPr id="594" name=""/>
            <p:cNvSpPr/>
            <p:nvPr/>
          </p:nvSpPr>
          <p:spPr>
            <a:xfrm>
              <a:off x="2063880" y="1835280"/>
              <a:ext cx="1066680" cy="23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68440" y="4057560"/>
              <a:ext cx="2933640" cy="2438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and control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-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registers for combinatio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or data-path (which value to comp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3D3-916D-4C08-972E-716418048C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table 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 state diagram to take internal structure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table ready for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752480" y="3276720"/>
            <a:ext cx="5854680" cy="2255400"/>
            <a:chOff x="1752480" y="3276720"/>
            <a:chExt cx="5854680" cy="2255400"/>
          </a:xfrm>
        </p:grpSpPr>
        <p:sp>
          <p:nvSpPr>
            <p:cNvPr id="601" name=""/>
            <p:cNvSpPr/>
            <p:nvPr/>
          </p:nvSpPr>
          <p:spPr>
            <a:xfrm>
              <a:off x="1896840" y="3452760"/>
              <a:ext cx="57103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0160"/>
                  <a:tab algn="l" pos="2057400"/>
                  <a:tab algn="l" pos="2743200"/>
                  <a:tab algn="l" pos="3429000"/>
                  <a:tab algn="l" pos="41133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52480" y="392904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63720" y="3708360"/>
              <a:ext cx="0" cy="156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47960" y="3276720"/>
              <a:ext cx="78912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3E7-DE7D-444C-B2AB-5FE23B41F3B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"/>
          <p:cNvGrpSpPr/>
          <p:nvPr/>
        </p:nvGrpSpPr>
        <p:grpSpPr>
          <a:xfrm>
            <a:off x="399960" y="4387680"/>
            <a:ext cx="5937120" cy="2273400"/>
            <a:chOff x="399960" y="4387680"/>
            <a:chExt cx="5937120" cy="2273400"/>
          </a:xfrm>
        </p:grpSpPr>
        <p:sp>
          <p:nvSpPr>
            <p:cNvPr id="606" name=""/>
            <p:cNvSpPr/>
            <p:nvPr/>
          </p:nvSpPr>
          <p:spPr>
            <a:xfrm>
              <a:off x="545760" y="4552920"/>
              <a:ext cx="57913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0160"/>
                  <a:tab algn="l" pos="2057400"/>
                  <a:tab algn="l" pos="2743200"/>
                  <a:tab algn="l" pos="3429000"/>
                  <a:tab algn="l" pos="41133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9960" y="5035680"/>
              <a:ext cx="558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50800" y="4813200"/>
              <a:ext cx="0" cy="15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301920" y="4387680"/>
              <a:ext cx="7999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5257800" y="5276880"/>
            <a:ext cx="3695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x is identical to last 3 bits of st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/closed is identical to first bit of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refore, we do not even need to implem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s to hold state, just use 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784840" y="3124080"/>
            <a:ext cx="3181320" cy="1841400"/>
            <a:chOff x="5784840" y="3124080"/>
            <a:chExt cx="3181320" cy="1841400"/>
          </a:xfrm>
        </p:grpSpPr>
        <p:sp>
          <p:nvSpPr>
            <p:cNvPr id="612" name=""/>
            <p:cNvSpPr/>
            <p:nvPr/>
          </p:nvSpPr>
          <p:spPr>
            <a:xfrm>
              <a:off x="6712200" y="3676320"/>
              <a:ext cx="1320840" cy="660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861320" y="3346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69360" y="3136680"/>
              <a:ext cx="635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82040" y="4622760"/>
              <a:ext cx="1117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65960" y="433692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70960" y="3346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04200" y="3124080"/>
              <a:ext cx="596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905800" y="416556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34320" y="383508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69160" y="3390840"/>
              <a:ext cx="698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5784840" y="3771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7943760" y="4171320"/>
              <a:ext cx="889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956720" y="4082400"/>
              <a:ext cx="633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033040" y="4178160"/>
              <a:ext cx="31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356680" y="4038480"/>
              <a:ext cx="6094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10400" y="42289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s 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at least 3 bits to encode: 000, 001, 010, 011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as many as 5: 00001, 00010, 00100, 01000, 1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2 to 3 bits to en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1 or 2 bits to en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1 bit: 1,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7669-BE84-4F2A-BCA3-70E4A994F47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228600" y="3759120"/>
            <a:ext cx="4502160" cy="1866960"/>
            <a:chOff x="228600" y="3759120"/>
            <a:chExt cx="4502160" cy="1866960"/>
          </a:xfrm>
        </p:grpSpPr>
        <p:sp>
          <p:nvSpPr>
            <p:cNvPr id="631" name=""/>
            <p:cNvSpPr/>
            <p:nvPr/>
          </p:nvSpPr>
          <p:spPr>
            <a:xfrm>
              <a:off x="16318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176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034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47880" y="511164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31880" y="447660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63560" y="375912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71520" y="375912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857320" y="375912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540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398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256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39800" y="47052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44800" y="509256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03440" y="516888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70000" y="445752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08360" y="41022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3448080" y="458460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32080" y="521964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12840" y="521964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7971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24955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31813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1415880" y="514944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20840" y="52196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11280" y="40514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22640" y="405144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82880" y="40640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495520" y="47556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97080" y="46990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8600" y="501660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473800" y="2635200"/>
            <a:ext cx="3657600" cy="4051440"/>
            <a:chOff x="5473800" y="2635200"/>
            <a:chExt cx="3657600" cy="4051440"/>
          </a:xfrm>
        </p:grpSpPr>
        <p:sp>
          <p:nvSpPr>
            <p:cNvPr id="662" name=""/>
            <p:cNvSpPr/>
            <p:nvPr/>
          </p:nvSpPr>
          <p:spPr>
            <a:xfrm>
              <a:off x="6388200" y="2635200"/>
              <a:ext cx="470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70960" y="26352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18600" y="26352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267760" y="30798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73800" y="263520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88280" y="628020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0724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50268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50880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0268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9620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1672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51060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4228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3772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384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3772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13124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5176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4564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7732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7276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7888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77276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76628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8680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8068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50320" y="3753000"/>
              <a:ext cx="279000" cy="93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43840" y="374652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64720" y="3803400"/>
              <a:ext cx="279000" cy="88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58240" y="3796920"/>
              <a:ext cx="291960" cy="90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64720" y="415980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58240" y="415296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90000" y="4267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75520" y="415980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69400" y="415296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35920" y="5790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31000" y="5790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937480" y="5784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22640" y="578484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31360" y="594936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24880" y="594324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45400" y="594936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38920" y="594324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01000" y="456552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94880" y="4559040"/>
              <a:ext cx="29124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86960" y="456552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080840" y="4559040"/>
              <a:ext cx="29124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12160" y="4959000"/>
              <a:ext cx="2538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06040" y="49528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1000" y="4959000"/>
              <a:ext cx="2790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94880" y="495288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07560" y="5486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12160" y="489636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06040" y="488952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01000" y="489636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094880" y="488952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90000" y="49654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62920" y="4965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1832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718320" y="318744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05720" y="31687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08880" y="31813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4800" y="3181320"/>
              <a:ext cx="15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9160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59160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5336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53360" y="33145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40760" y="3295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08880" y="3308400"/>
              <a:ext cx="163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359840" y="330840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2664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2664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98840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975800" y="3422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08880" y="3435120"/>
              <a:ext cx="227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94880" y="3435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86132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86132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92504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41708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23200" y="4133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9000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9000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5496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6292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661440" y="4133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26640" y="55371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7408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280200" y="565776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4700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1992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9284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83640" y="62355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290000" y="4711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90000" y="483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62920" y="483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56560" y="293364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62680" y="4832280"/>
              <a:ext cx="11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implementation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implement as combinational logic when few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can easily get too big for most P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685-46FA-4E92-A559-B6810A3F306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"/>
          <p:cNvGrpSpPr/>
          <p:nvPr/>
        </p:nvGrpSpPr>
        <p:grpSpPr>
          <a:xfrm>
            <a:off x="380880" y="4343400"/>
            <a:ext cx="4502160" cy="1866960"/>
            <a:chOff x="380880" y="4343400"/>
            <a:chExt cx="4502160" cy="1866960"/>
          </a:xfrm>
        </p:grpSpPr>
        <p:sp>
          <p:nvSpPr>
            <p:cNvPr id="764" name=""/>
            <p:cNvSpPr/>
            <p:nvPr/>
          </p:nvSpPr>
          <p:spPr>
            <a:xfrm>
              <a:off x="17841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699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557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000160" y="569592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84160" y="506088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15840" y="434340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23800" y="434340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09600" y="434340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0062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920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778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692080" y="528948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97080" y="567684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55720" y="575316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222280" y="504180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860640" y="468648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600360" y="516888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384360" y="580392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65120" y="580392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19494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6478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33336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1568160" y="573372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473120" y="58039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63560" y="463572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74920" y="463572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035160" y="46483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2647800" y="533988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49360" y="52833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80880" y="56008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6273720" y="2730600"/>
            <a:ext cx="470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1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756480" y="273060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2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404120" y="273060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3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191440" y="3149640"/>
            <a:ext cx="863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x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359320" y="273060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511960" y="5334120"/>
            <a:ext cx="977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848200" y="480060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5670360" y="480060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842080" y="4965840"/>
            <a:ext cx="3042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856120" y="4965840"/>
            <a:ext cx="30492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326280" y="3708360"/>
            <a:ext cx="2790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319800" y="3701880"/>
            <a:ext cx="291960" cy="9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311880" y="3708360"/>
            <a:ext cx="2790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305400" y="3701880"/>
            <a:ext cx="291960" cy="9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337080" y="4101840"/>
            <a:ext cx="2538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330960" y="409572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326280" y="4101840"/>
            <a:ext cx="2790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19800" y="409572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432480" y="46292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37080" y="4039200"/>
            <a:ext cx="2538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330960" y="403236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26280" y="4039200"/>
            <a:ext cx="2790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9800" y="403236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515280" y="410832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388200" y="410832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650880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638172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394320" y="367020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714384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701676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029360" y="367020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772812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760104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613640" y="36702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587920" y="4178160"/>
            <a:ext cx="241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676840" y="43624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83320" y="442584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5632200" y="4438800"/>
            <a:ext cx="8892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45160" y="4476600"/>
            <a:ext cx="633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5632200" y="4514760"/>
            <a:ext cx="8892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645160" y="4552920"/>
            <a:ext cx="633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5632200" y="4591080"/>
            <a:ext cx="8892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45160" y="4629240"/>
            <a:ext cx="2556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676840" y="4654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73424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73424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45156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18480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5808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3100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994360" y="480708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1528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02320" y="39625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14996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137360" y="39625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73424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515280" y="39816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521400" y="397512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156440" y="39751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388200" y="39816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73760" y="39751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67280" y="302904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621480" y="3720960"/>
            <a:ext cx="14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619600" y="3276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756480" y="32637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775560" y="3276720"/>
            <a:ext cx="146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69080" y="328284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51528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51528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254720" y="3720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619600" y="3403440"/>
            <a:ext cx="17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91520" y="33908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410600" y="340344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404120" y="3409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14996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4996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835760" y="372096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619600" y="3530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975440" y="3517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994520" y="353052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88400" y="35370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7684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98176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04512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17220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1804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245360" y="3841920"/>
            <a:ext cx="520560" cy="111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140520" y="4883040"/>
            <a:ext cx="412560" cy="106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121440" y="4178160"/>
            <a:ext cx="673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597560" y="5867280"/>
            <a:ext cx="4495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-collector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zero whenever one connection is zero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therwise – wired A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819840" y="4991040"/>
            <a:ext cx="2095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-state dr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an disconn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outp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implementa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a third output state: “no connection” or “flo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outputs together as long as only one is “enabl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collector gates c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utput 0, n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used to imp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AND with only w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7E9-EE43-44D6-9E0D-1F6167C2EC9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6400800" y="3505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089080" y="5124600"/>
            <a:ext cx="1606320" cy="1523880"/>
            <a:chOff x="2089080" y="5124600"/>
            <a:chExt cx="1606320" cy="1523880"/>
          </a:xfrm>
        </p:grpSpPr>
        <p:sp>
          <p:nvSpPr>
            <p:cNvPr id="889" name=""/>
            <p:cNvSpPr/>
            <p:nvPr/>
          </p:nvSpPr>
          <p:spPr>
            <a:xfrm>
              <a:off x="2089080" y="544176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136680" y="5181480"/>
              <a:ext cx="0" cy="11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158920" y="5124600"/>
              <a:ext cx="15364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102888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368280" y="5378400"/>
            <a:ext cx="1486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n-inve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-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rcRect l="3168" t="0" r="0" b="0"/>
          <a:stretch/>
        </p:blipFill>
        <p:spPr>
          <a:xfrm>
            <a:off x="4241880" y="5022720"/>
            <a:ext cx="4660920" cy="143532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8305920" y="5010120"/>
            <a:ext cx="723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013280" y="5442120"/>
            <a:ext cx="62208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267760" y="4921200"/>
            <a:ext cx="812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229280" y="5378400"/>
            <a:ext cx="5205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i-state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r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values: “0”, “1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't care: “X” (must be 0 or 1 in real circui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value or state: “Z” — high impedance, infinite R, no 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-state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input – output enable (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values are 0, 1, and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OE is high, the gate functions norm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OE is low, the gate is disconnected from wire at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more than one gate to be connected to the same output w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long as only one has its output enabled at any one time (otherwise, sparks could f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rot="5400000">
            <a:off x="7200720" y="3162240"/>
            <a:ext cx="60948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467480" y="2971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17760" y="3352680"/>
            <a:ext cx="377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466840" y="3352680"/>
            <a:ext cx="540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475760" y="2895480"/>
            <a:ext cx="455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0E51-5A9F-438C-BED9-07AFB4CF52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5295960" y="4343400"/>
            <a:ext cx="326376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hig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1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low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0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is essentially a 2:1 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901800" y="3701880"/>
            <a:ext cx="4254480" cy="3194280"/>
            <a:chOff x="901800" y="3701880"/>
            <a:chExt cx="4254480" cy="3194280"/>
          </a:xfrm>
        </p:grpSpPr>
        <p:sp>
          <p:nvSpPr>
            <p:cNvPr id="907" name=""/>
            <p:cNvSpPr/>
            <p:nvPr/>
          </p:nvSpPr>
          <p:spPr>
            <a:xfrm>
              <a:off x="3079800" y="3701880"/>
              <a:ext cx="2919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079800" y="3891960"/>
              <a:ext cx="291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073320" y="370188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70320" y="4730760"/>
              <a:ext cx="2919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2470320" y="4921200"/>
              <a:ext cx="2919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463840" y="47307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876400" y="3898800"/>
              <a:ext cx="1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63880" y="389880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266920" y="49276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63880" y="49276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774880" y="49276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09920" y="38988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57600" y="38862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89280" y="3898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079800" y="492768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683160" y="390528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92680" y="389880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3238560" y="4006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2641680" y="5022360"/>
              <a:ext cx="0" cy="12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2641680" y="62546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39840" y="64260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629080" y="64008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55800" y="4102200"/>
              <a:ext cx="533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58920" y="5118120"/>
              <a:ext cx="507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3054240" y="5873760"/>
              <a:ext cx="406440" cy="393480"/>
              <a:chOff x="3054240" y="5873760"/>
              <a:chExt cx="406440" cy="393480"/>
            </a:xfrm>
          </p:grpSpPr>
          <p:sp>
            <p:nvSpPr>
              <p:cNvPr id="932" name=""/>
              <p:cNvSpPr/>
              <p:nvPr/>
            </p:nvSpPr>
            <p:spPr>
              <a:xfrm flipV="1">
                <a:off x="3054240" y="5949720"/>
                <a:ext cx="19044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flipV="1">
                <a:off x="3244680" y="5949720"/>
                <a:ext cx="21600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054240" y="6261120"/>
                <a:ext cx="39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219480" y="5873760"/>
                <a:ext cx="76320" cy="75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 flipV="1">
              <a:off x="3251160" y="627984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597560" y="3708360"/>
              <a:ext cx="5587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901800" y="3733920"/>
              <a:ext cx="1104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52560" y="4775040"/>
              <a:ext cx="11048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65160" y="6235560"/>
              <a:ext cx="11048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i-state and multiplex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tri-stat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make sure never more than one "driver" for a wire at any one ti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lling high and low at the same time can severely damage circu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make sure to only use value on wire when its being driven (using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ing value may cause fail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ri-state gates to implement an economical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3DB5-F086-4F1A-94F8-FF9D433FDCD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1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8000"/>
          </a:bodyPr>
          <a:p>
            <a:pPr marL="340560" indent="-3405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ring pattern recogniz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nput (X) and one output 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s asserted whenever the input sequence …010… has be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, as long as the sequence …100… has never been se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1: understanding the problem sta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input/output behavior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:   0 0 1 0 1 0 1 0 0 1 0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:   0 0 0 1 0 1 0 1 0 0 0 …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:   1 1 0 1 1 0 1 0 0 1 0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:   0 0 0 0 0 0 0 1 0 0 0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89D9-5AD5-431D-964C-626F0F767C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43440" y="54547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943440" y="5759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3936960" y="54482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115160" y="546876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08680" y="5462640"/>
            <a:ext cx="2916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114800" y="5479920"/>
            <a:ext cx="279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108320" y="5473440"/>
            <a:ext cx="291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06760" y="559440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00640" y="558792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4394160" y="5472000"/>
            <a:ext cx="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4635360" y="54100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4641840" y="5397120"/>
            <a:ext cx="255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 flipV="1">
            <a:off x="4590720" y="535896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4603680" y="5321160"/>
            <a:ext cx="6372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4590720" y="528300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4603680" y="5244840"/>
            <a:ext cx="637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 flipV="1">
            <a:off x="4590720" y="520668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4603680" y="5181480"/>
            <a:ext cx="2556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4635360" y="515628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4521240" y="469260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 flipV="1">
            <a:off x="4635360" y="491508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4576680" y="4838400"/>
            <a:ext cx="115560" cy="75960"/>
            <a:chOff x="4576680" y="4838400"/>
            <a:chExt cx="115560" cy="75960"/>
          </a:xfrm>
        </p:grpSpPr>
        <p:sp>
          <p:nvSpPr>
            <p:cNvPr id="965" name=""/>
            <p:cNvSpPr/>
            <p:nvPr/>
          </p:nvSpPr>
          <p:spPr>
            <a:xfrm>
              <a:off x="4576680" y="4908600"/>
              <a:ext cx="11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4576680" y="4838400"/>
              <a:ext cx="511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41120" y="4851360"/>
              <a:ext cx="511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4635360" y="496584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43440" y="60260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43440" y="63309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3936960" y="60199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5160" y="604044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08680" y="6033960"/>
            <a:ext cx="2916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6051600"/>
            <a:ext cx="279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08320" y="6045120"/>
            <a:ext cx="291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406760" y="616572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00640" y="615960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4394160" y="60447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816360" y="5543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435480" y="55436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3454560" y="540396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3816360" y="5670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435480" y="5670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3"/>
          <a:stretch/>
        </p:blipFill>
        <p:spPr>
          <a:xfrm>
            <a:off x="3454560" y="5657760"/>
            <a:ext cx="482400" cy="15264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4635360" y="5041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635360" y="497844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16360" y="6114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435480" y="61149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3454560" y="5975280"/>
            <a:ext cx="482400" cy="15264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3816360" y="6242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35480" y="62420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5"/>
          <a:stretch/>
        </p:blipFill>
        <p:spPr>
          <a:xfrm>
            <a:off x="3454560" y="622944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4451400" y="6178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451400" y="5607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635360" y="54864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622760" y="5594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576680" y="560700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622760" y="5594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641840" y="56070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635360" y="561348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576680" y="617868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6"/>
          <a:stretch/>
        </p:blipFill>
        <p:spPr>
          <a:xfrm>
            <a:off x="4724280" y="5719680"/>
            <a:ext cx="482760" cy="15408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1181160" y="5581800"/>
            <a:ext cx="19303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-collect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245200" y="5429160"/>
            <a:ext cx="29080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ouputs wired toge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"wired-AND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form (AB)'(CD)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pen-collector gates and wired-AN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collector: another way to connect gate outputs to the same 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e only has the ability to pull its output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cannot actively drive the wire high (default – pulled high through resis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d-AND can be implemented with open collector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and B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 and D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one gate output is low and the other high, then low 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both gate outputs are "1", the wire value "floats", pulled high by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to high transition usually slower than it would have been with a gate pulling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nce, the two NAND functions are ANDed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7C43-4973-4A00-9748-DC962DF188F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"/>
          <p:cNvGrpSpPr/>
          <p:nvPr/>
        </p:nvGrpSpPr>
        <p:grpSpPr>
          <a:xfrm>
            <a:off x="3232080" y="3733920"/>
            <a:ext cx="5149800" cy="2869560"/>
            <a:chOff x="3232080" y="3733920"/>
            <a:chExt cx="5149800" cy="2869560"/>
          </a:xfrm>
        </p:grpSpPr>
        <p:sp>
          <p:nvSpPr>
            <p:cNvPr id="1008" name=""/>
            <p:cNvSpPr/>
            <p:nvPr/>
          </p:nvSpPr>
          <p:spPr>
            <a:xfrm>
              <a:off x="52830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9688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6546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99000" y="6089400"/>
              <a:ext cx="13716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83000" y="5454360"/>
              <a:ext cx="18288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14680" y="4736880"/>
              <a:ext cx="4194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823000" y="473688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508800" y="473688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5054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1912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8770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191280" y="5682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95920" y="6070320"/>
              <a:ext cx="10285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232080" y="5994000"/>
              <a:ext cx="9777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54920" y="614664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721120" y="5435280"/>
              <a:ext cx="990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59480" y="50796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7099200" y="556236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883200" y="619740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67080" y="6197400"/>
              <a:ext cx="123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4482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61466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68324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4521240" y="6127200"/>
              <a:ext cx="1015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425840" y="619740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62400" y="50288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73760" y="502884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34000" y="50414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6146640" y="573372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848200" y="56764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4921200" y="4438440"/>
              <a:ext cx="0" cy="176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927320" y="4444560"/>
              <a:ext cx="194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5054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912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8770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7909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4767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051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64706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57848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50990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76892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45472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12756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 lock (new data-path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number of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3 code digits as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de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em loadable from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3 load signal inputs (net gain in input (4*3)–3=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ld be done with 2 signals and deco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d1, ld2, ld3, load n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69C-96BF-4EBC-92D4-3FFC34F0DBE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c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SM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ng sta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 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I/O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umerate states for the "goa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with erro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states whenever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EA7-6804-4DD6-AE6D-8B958D58A24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: draw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strings that must be recognized, i.e., 010 and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or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956200" y="3219480"/>
            <a:ext cx="905040" cy="3098880"/>
            <a:chOff x="5956200" y="3219480"/>
            <a:chExt cx="905040" cy="3098880"/>
          </a:xfrm>
        </p:grpSpPr>
        <p:sp>
          <p:nvSpPr>
            <p:cNvPr id="94" name=""/>
            <p:cNvSpPr/>
            <p:nvPr/>
          </p:nvSpPr>
          <p:spPr>
            <a:xfrm>
              <a:off x="6184800" y="362592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84800" y="466740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6112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56200" y="4133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84800" y="57596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562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084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084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08480" y="57596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stCxn id="104" idx="3"/>
              <a:endCxn id="100" idx="7"/>
            </p:cNvCxnSpPr>
            <p:nvPr/>
          </p:nvCxnSpPr>
          <p:spPr>
            <a:xfrm flipH="1">
              <a:off x="649908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101" idx="4"/>
              <a:endCxn id="102" idx="0"/>
            </p:cNvCxnSpPr>
            <p:nvPr/>
          </p:nvCxnSpPr>
          <p:spPr>
            <a:xfrm>
              <a:off x="6336720" y="5149800"/>
              <a:ext cx="1080" cy="610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100" idx="4"/>
              <a:endCxn id="101" idx="0"/>
            </p:cNvCxnSpPr>
            <p:nvPr/>
          </p:nvCxnSpPr>
          <p:spPr>
            <a:xfrm>
              <a:off x="63367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7" name=""/>
          <p:cNvGrpSpPr/>
          <p:nvPr/>
        </p:nvGrpSpPr>
        <p:grpSpPr>
          <a:xfrm>
            <a:off x="7175520" y="3219480"/>
            <a:ext cx="1955520" cy="3225240"/>
            <a:chOff x="7175520" y="3219480"/>
            <a:chExt cx="1955520" cy="3225240"/>
          </a:xfrm>
        </p:grpSpPr>
        <p:sp>
          <p:nvSpPr>
            <p:cNvPr id="108" name=""/>
            <p:cNvSpPr/>
            <p:nvPr/>
          </p:nvSpPr>
          <p:spPr>
            <a:xfrm>
              <a:off x="7556400" y="362592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7552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94480" y="575964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56400" y="4692600"/>
              <a:ext cx="3430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27800" y="4159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278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56400" y="57596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800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800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80080" y="57596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04" idx="5"/>
              <a:endCxn id="115" idx="1"/>
            </p:cNvCxnSpPr>
            <p:nvPr/>
          </p:nvCxnSpPr>
          <p:spPr>
            <a:xfrm>
              <a:off x="718488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"/>
            <p:cNvCxnSpPr>
              <a:stCxn id="115" idx="4"/>
              <a:endCxn id="116" idx="0"/>
            </p:cNvCxnSpPr>
            <p:nvPr/>
          </p:nvCxnSpPr>
          <p:spPr>
            <a:xfrm>
              <a:off x="77083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116" idx="4"/>
              <a:endCxn id="117" idx="0"/>
            </p:cNvCxnSpPr>
            <p:nvPr/>
          </p:nvCxnSpPr>
          <p:spPr>
            <a:xfrm>
              <a:off x="7708320" y="5149800"/>
              <a:ext cx="1080" cy="610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>
              <a:stCxn id="117" idx="5"/>
              <a:endCxn id="117" idx="7"/>
            </p:cNvCxnSpPr>
            <p:nvPr/>
          </p:nvCxnSpPr>
          <p:spPr>
            <a:xfrm flipH="1" flipV="1" rot="5400000">
              <a:off x="7708680" y="5986440"/>
              <a:ext cx="324360" cy="2520"/>
            </a:xfrm>
            <a:prstGeom prst="curvedConnector5">
              <a:avLst>
                <a:gd name="adj1" fmla="val -91111"/>
                <a:gd name="adj2" fmla="val 17083333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5423040" y="2787480"/>
            <a:ext cx="1828800" cy="609480"/>
            <a:chOff x="5423040" y="2787480"/>
            <a:chExt cx="1828800" cy="609480"/>
          </a:xfrm>
        </p:grpSpPr>
        <p:sp>
          <p:nvSpPr>
            <p:cNvPr id="123" name=""/>
            <p:cNvSpPr/>
            <p:nvPr/>
          </p:nvSpPr>
          <p:spPr>
            <a:xfrm>
              <a:off x="6870960" y="28382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23040" y="278748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94640" y="28634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80240" y="3092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9BB-0BC5-49DD-9D46-B491A9BF0D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0452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, 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tate S3: have recognized …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xt input is 0 then have …0100 = ...100 (state S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xt input is 1 then have …0101 = …01 (state 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1: recogni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s of form …0 (no 1 s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back to S1 if input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4: recogni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s of form …1 (no 0 s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back to S4 if input 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21160" y="2787480"/>
            <a:ext cx="3809880" cy="3657240"/>
            <a:chOff x="5321160" y="2787480"/>
            <a:chExt cx="3809880" cy="3657240"/>
          </a:xfrm>
        </p:grpSpPr>
        <p:sp>
          <p:nvSpPr>
            <p:cNvPr id="129" name=""/>
            <p:cNvSpPr/>
            <p:nvPr/>
          </p:nvSpPr>
          <p:spPr>
            <a:xfrm>
              <a:off x="632448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21160" y="492120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21160" y="598788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92760" y="598788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6400" y="3625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84800" y="3625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70600" y="28382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84800" y="46670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7516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6076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6200" y="4133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22680" y="27874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94480" y="575928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84800" y="5759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096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56400" y="469260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27800" y="41590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278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56400" y="5759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800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800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80080" y="5759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084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084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08480" y="5759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94280" y="28638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4" idx="3"/>
              <a:endCxn id="151" idx="7"/>
            </p:cNvCxnSpPr>
            <p:nvPr/>
          </p:nvCxnSpPr>
          <p:spPr>
            <a:xfrm flipH="1">
              <a:off x="649836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4" idx="5"/>
              <a:endCxn id="148" idx="1"/>
            </p:cNvCxnSpPr>
            <p:nvPr/>
          </p:nvCxnSpPr>
          <p:spPr>
            <a:xfrm>
              <a:off x="718452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48" idx="4"/>
              <a:endCxn id="149" idx="0"/>
            </p:cNvCxnSpPr>
            <p:nvPr/>
          </p:nvCxnSpPr>
          <p:spPr>
            <a:xfrm>
              <a:off x="77083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49" idx="4"/>
              <a:endCxn id="150" idx="0"/>
            </p:cNvCxnSpPr>
            <p:nvPr/>
          </p:nvCxnSpPr>
          <p:spPr>
            <a:xfrm>
              <a:off x="7708320" y="514944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2" idx="3"/>
              <a:endCxn id="153" idx="1"/>
            </p:cNvCxnSpPr>
            <p:nvPr/>
          </p:nvCxnSpPr>
          <p:spPr>
            <a:xfrm>
              <a:off x="6174720" y="508320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4"/>
              <a:endCxn id="152" idx="0"/>
            </p:cNvCxnSpPr>
            <p:nvPr/>
          </p:nvCxnSpPr>
          <p:spPr>
            <a:xfrm>
              <a:off x="63367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0" idx="5"/>
              <a:endCxn id="150" idx="7"/>
            </p:cNvCxnSpPr>
            <p:nvPr/>
          </p:nvCxnSpPr>
          <p:spPr>
            <a:xfrm flipH="1" flipV="1" rot="5400000">
              <a:off x="7709400" y="598680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5879880" y="3092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53" idx="6"/>
              <a:endCxn id="150" idx="2"/>
            </p:cNvCxnSpPr>
            <p:nvPr/>
          </p:nvCxnSpPr>
          <p:spPr>
            <a:xfrm>
              <a:off x="6565680" y="598752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3" idx="7"/>
              <a:endCxn id="152" idx="5"/>
            </p:cNvCxnSpPr>
            <p:nvPr/>
          </p:nvCxnSpPr>
          <p:spPr>
            <a:xfrm flipV="1">
              <a:off x="6498720" y="508284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5" name=""/>
          <p:cNvGrpSpPr/>
          <p:nvPr/>
        </p:nvGrpSpPr>
        <p:grpSpPr>
          <a:xfrm>
            <a:off x="4788000" y="3396600"/>
            <a:ext cx="4419000" cy="924840"/>
            <a:chOff x="4788000" y="3396600"/>
            <a:chExt cx="4419000" cy="924840"/>
          </a:xfrm>
        </p:grpSpPr>
        <p:sp>
          <p:nvSpPr>
            <p:cNvPr id="166" name=""/>
            <p:cNvSpPr/>
            <p:nvPr/>
          </p:nvSpPr>
          <p:spPr>
            <a:xfrm>
              <a:off x="6768720" y="385452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40120" y="385452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70800" y="362592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/>
            <p:nvPr/>
          </p:nvCxnSpPr>
          <p:spPr>
            <a:xfrm flipH="1" flipV="1" rot="5400000">
              <a:off x="7708320" y="3853080"/>
              <a:ext cx="324360" cy="1800"/>
            </a:xfrm>
            <a:prstGeom prst="curvedConnector5">
              <a:avLst>
                <a:gd name="adj1" fmla="val -91111"/>
                <a:gd name="adj2" fmla="val 17075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/>
            <p:nvPr/>
          </p:nvCxnSpPr>
          <p:spPr>
            <a:xfrm flipH="1" flipV="1" rot="5400000">
              <a:off x="5996520" y="3862800"/>
              <a:ext cx="324720" cy="1800"/>
            </a:xfrm>
            <a:prstGeom prst="curvedConnector5">
              <a:avLst>
                <a:gd name="adj1" fmla="val -91120"/>
                <a:gd name="adj2" fmla="val -17750000"/>
                <a:gd name="adj3" fmla="val -9112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" name=""/>
            <p:cNvSpPr/>
            <p:nvPr/>
          </p:nvSpPr>
          <p:spPr>
            <a:xfrm>
              <a:off x="4788000" y="362592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EFE-5DAF-4EFD-BF56-1C6F6C52AF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, 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7000"/>
          </a:bodyPr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 and S5 still have incomplete tran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= …01; If next input is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ring could be prefix of (01)1(00)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 handles just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5 = …10; If next input is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ring could be prefix of (10)1(0)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handles just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states as much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same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minimization leads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number of bits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all states have a comple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transitions we have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321160" y="2863800"/>
            <a:ext cx="3809880" cy="3657240"/>
            <a:chOff x="5321160" y="2863800"/>
            <a:chExt cx="3809880" cy="3657240"/>
          </a:xfrm>
        </p:grpSpPr>
        <p:sp>
          <p:nvSpPr>
            <p:cNvPr id="175" name=""/>
            <p:cNvSpPr/>
            <p:nvPr/>
          </p:nvSpPr>
          <p:spPr>
            <a:xfrm>
              <a:off x="6324480" y="5302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21160" y="499752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606420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92760" y="606420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6400" y="370224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84800" y="370224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70600" y="291456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84800" y="474336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75520" y="3295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1120" y="3295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6200" y="42102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22680" y="286380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94480" y="58356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84800" y="583560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0960" y="530244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56400" y="4768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27800" y="42354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27800" y="5302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56400" y="583560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80080" y="37022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80080" y="4768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80080" y="5835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08480" y="37022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08480" y="4768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08480" y="5835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94280" y="2940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" name=""/>
            <p:cNvCxnSpPr>
              <a:stCxn id="200" idx="3"/>
              <a:endCxn id="197" idx="7"/>
            </p:cNvCxnSpPr>
            <p:nvPr/>
          </p:nvCxnSpPr>
          <p:spPr>
            <a:xfrm flipH="1">
              <a:off x="6498360" y="333036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2" name=""/>
            <p:cNvCxnSpPr>
              <a:stCxn id="200" idx="5"/>
              <a:endCxn id="194" idx="1"/>
            </p:cNvCxnSpPr>
            <p:nvPr/>
          </p:nvCxnSpPr>
          <p:spPr>
            <a:xfrm>
              <a:off x="7184520" y="333036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3" name=""/>
            <p:cNvCxnSpPr>
              <a:stCxn id="194" idx="4"/>
              <a:endCxn id="195" idx="0"/>
            </p:cNvCxnSpPr>
            <p:nvPr/>
          </p:nvCxnSpPr>
          <p:spPr>
            <a:xfrm>
              <a:off x="7708320" y="415908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>
              <a:stCxn id="195" idx="4"/>
              <a:endCxn id="196" idx="0"/>
            </p:cNvCxnSpPr>
            <p:nvPr/>
          </p:nvCxnSpPr>
          <p:spPr>
            <a:xfrm>
              <a:off x="7708320" y="5225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>
              <a:stCxn id="198" idx="3"/>
              <a:endCxn id="199" idx="1"/>
            </p:cNvCxnSpPr>
            <p:nvPr/>
          </p:nvCxnSpPr>
          <p:spPr>
            <a:xfrm>
              <a:off x="6174720" y="515952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"/>
            <p:cNvCxnSpPr>
              <a:stCxn id="197" idx="4"/>
              <a:endCxn id="198" idx="0"/>
            </p:cNvCxnSpPr>
            <p:nvPr/>
          </p:nvCxnSpPr>
          <p:spPr>
            <a:xfrm>
              <a:off x="6336720" y="415908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196" idx="5"/>
              <a:endCxn id="196" idx="7"/>
            </p:cNvCxnSpPr>
            <p:nvPr/>
          </p:nvCxnSpPr>
          <p:spPr>
            <a:xfrm flipH="1" flipV="1" rot="5400000">
              <a:off x="7709400" y="606312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8" name=""/>
            <p:cNvSpPr/>
            <p:nvPr/>
          </p:nvSpPr>
          <p:spPr>
            <a:xfrm>
              <a:off x="5879880" y="3168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199" idx="6"/>
              <a:endCxn id="196" idx="2"/>
            </p:cNvCxnSpPr>
            <p:nvPr/>
          </p:nvCxnSpPr>
          <p:spPr>
            <a:xfrm>
              <a:off x="6565680" y="606384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199" idx="7"/>
              <a:endCxn id="198" idx="5"/>
            </p:cNvCxnSpPr>
            <p:nvPr/>
          </p:nvCxnSpPr>
          <p:spPr>
            <a:xfrm flipV="1">
              <a:off x="6498720" y="515916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1" name=""/>
          <p:cNvGrpSpPr/>
          <p:nvPr/>
        </p:nvGrpSpPr>
        <p:grpSpPr>
          <a:xfrm>
            <a:off x="4788000" y="3472560"/>
            <a:ext cx="4419000" cy="924840"/>
            <a:chOff x="4788000" y="3472560"/>
            <a:chExt cx="4419000" cy="924840"/>
          </a:xfrm>
        </p:grpSpPr>
        <p:sp>
          <p:nvSpPr>
            <p:cNvPr id="212" name=""/>
            <p:cNvSpPr/>
            <p:nvPr/>
          </p:nvSpPr>
          <p:spPr>
            <a:xfrm>
              <a:off x="6768720" y="393048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40120" y="393048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70800" y="370188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/>
            <p:nvPr/>
          </p:nvCxnSpPr>
          <p:spPr>
            <a:xfrm flipH="1" flipV="1" rot="5400000">
              <a:off x="7708320" y="3929040"/>
              <a:ext cx="324360" cy="1800"/>
            </a:xfrm>
            <a:prstGeom prst="curvedConnector5">
              <a:avLst>
                <a:gd name="adj1" fmla="val -91111"/>
                <a:gd name="adj2" fmla="val 17075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/>
            <p:nvPr/>
          </p:nvCxnSpPr>
          <p:spPr>
            <a:xfrm flipH="1" flipV="1" rot="5400000">
              <a:off x="5996520" y="3938760"/>
              <a:ext cx="324720" cy="1800"/>
            </a:xfrm>
            <a:prstGeom prst="curvedConnector5">
              <a:avLst>
                <a:gd name="adj1" fmla="val -91120"/>
                <a:gd name="adj2" fmla="val -17750000"/>
                <a:gd name="adj3" fmla="val -9112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4788000" y="370188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477120" y="4092120"/>
            <a:ext cx="2221920" cy="1311840"/>
            <a:chOff x="6477120" y="4092120"/>
            <a:chExt cx="2221920" cy="1311840"/>
          </a:xfrm>
        </p:grpSpPr>
        <p:sp>
          <p:nvSpPr>
            <p:cNvPr id="219" name=""/>
            <p:cNvSpPr/>
            <p:nvPr/>
          </p:nvSpPr>
          <p:spPr>
            <a:xfrm>
              <a:off x="7848360" y="499752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77120" y="43117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0" y="4692600"/>
              <a:ext cx="558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198" idx="7"/>
              <a:endCxn id="194" idx="3"/>
            </p:cNvCxnSpPr>
            <p:nvPr/>
          </p:nvCxnSpPr>
          <p:spPr>
            <a:xfrm flipV="1">
              <a:off x="6498720" y="4092120"/>
              <a:ext cx="104796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195" idx="2"/>
              <a:endCxn id="198" idx="6"/>
            </p:cNvCxnSpPr>
            <p:nvPr/>
          </p:nvCxnSpPr>
          <p:spPr>
            <a:xfrm flipH="1">
              <a:off x="6564960" y="4997160"/>
              <a:ext cx="914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5A2B-B486-42E1-B1D0-01D572D0AC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" y="2514600"/>
            <a:ext cx="4419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tring (clk, X, rst, Q0, Q1, Q2, Z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, X, r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Q0, Q1, Q2, 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0 = [0,0,0]; //reset st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1 = [0,0,1]; //strings ending in   ..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2 = [0,1,0]; //strings ending in  ...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3 = [0,1,1]; //strings ending in ...0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4 = [1,0,0]; //strings ending in   ...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5 = [1,0,1]; //strings ending in  ...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 = [1,1,0]; //strings ending in ...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[0: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0 = state[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1 = state[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2 = 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 = (state == S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41800" y="2514600"/>
            <a:ext cx="45468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rst) state 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0: if (X) state = S4 else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1: if (X) state = S2 else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2: if (X) state = S4 else state = S3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3: if (X) state = S2 else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4: if (X) state = S4 else state = S5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5: if (X) state = S2 else state = S6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: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default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display (“invalid state reached”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= 3’bxx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3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description including state assignment (or state enco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16600" y="24382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6259-5022-4172-A76A-1F383D907A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43720" cy="4394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sample inputs and outputs to understand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a state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sequences of states and transitions for sequences to be recogn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 number of st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missing transitions;  reuse states as much a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assignment or enco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de states with unique patt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re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y I/O behavior of your state diagram to ensure it matches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9D0A-5AC3-4B2A-9D29-1DC6814315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1676160" y="4343400"/>
            <a:ext cx="5949720" cy="1955880"/>
            <a:chOff x="1676160" y="4343400"/>
            <a:chExt cx="5949720" cy="1955880"/>
          </a:xfrm>
        </p:grpSpPr>
        <p:sp>
          <p:nvSpPr>
            <p:cNvPr id="232" name=""/>
            <p:cNvSpPr/>
            <p:nvPr/>
          </p:nvSpPr>
          <p:spPr>
            <a:xfrm>
              <a:off x="1733400" y="4343400"/>
              <a:ext cx="162504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de Input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63720" y="4343400"/>
              <a:ext cx="159984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13160" y="4343400"/>
              <a:ext cx="241272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676160" y="4572000"/>
              <a:ext cx="534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29160" y="4362480"/>
              <a:ext cx="0" cy="180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nchronous 3-bit counter has a mode control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 = 0, the counter counts up in the binary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 = 1, the counter advances through the Gray code sequenc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:   000, 001, 010, 011, 100, 101, 110, 11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y:     000, 001, 011, 010, 110, 111, 101,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I/O behavior (part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BC12-F0F8-47D7-8A76-E0CB699A67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25:01Z</dcterms:created>
  <dc:creator>Gaetano Borriello</dc:creator>
  <dc:description/>
  <dc:language>en-US</dc:language>
  <cp:lastModifiedBy>Gaetano Borriello</cp:lastModifiedBy>
  <cp:lastPrinted>2000-05-11T19:02:48Z</cp:lastPrinted>
  <dcterms:modified xsi:type="dcterms:W3CDTF">2005-01-24T07:02:21Z</dcterms:modified>
  <cp:revision>30</cp:revision>
  <dc:subject/>
  <dc:title>Sequential logic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