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269413" cy="6948488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BC56-2A0D-41EA-87A9-45D1BC936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18DD-4E31-4358-9103-C3BFE9E95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DA75-ED8E-4AB2-9453-B22F667CF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5EEA-09B8-461B-BBB5-9B7DA3677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EE44C-6A53-44F4-9057-BE0058F4B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7C2BA-0E0B-41B5-A7C0-9E3E471F2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DC294-FE1C-4848-9EA1-E09E71C58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FBCDD-3076-43A5-AB32-ED21DABB4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78770-7DEB-440C-A406-E986E41E1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B522A-FAC6-489E-BEE0-7B865A16B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19932-A01B-43D8-861A-E7F02928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46D1-2D73-47F9-920D-89E710884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0C483-1C9C-4CF2-87C3-38076724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71132-1490-41D3-A3F9-AE50255F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60D4A-73BF-4A13-B1CF-BD0B888DE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504F5-C770-489E-8173-969DD81AB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509A3-1196-436D-BBF5-AD4D324FC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2A5D-3415-4CED-9FDB-D27C1A0C4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44D0-D699-4BBF-A34B-9AE9A3D9A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42B3-DDF4-498A-A722-C441508E0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F88B-C3CD-46F3-AD36-B67D25F51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4D5E-FD7B-4D99-BDE0-B75346C2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6034-F767-417C-8F72-76A0B0BD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A356-2510-475C-8020-9E341325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57200" indent="-31896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4452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9360" y="6329160"/>
            <a:ext cx="38624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77291DC-49A8-49FF-AF71-DB753F5D8D4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5920" y="231840"/>
            <a:ext cx="8343720" cy="617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1542600"/>
            <a:ext cx="7729560" cy="1776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66920" y="6324480"/>
            <a:ext cx="29368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92D90A6-99EA-49B8-AC9B-F2D259B2AF5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400" y="1235160"/>
            <a:ext cx="8035920" cy="9255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08080" y="4013280"/>
            <a:ext cx="66024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 state machine optimiz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min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er states require fewer state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er bits require fewer logic eq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dings: state, inputs,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encoding with fewer bits has fewer equations to imp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each may be more 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encoding with more bits (e.g., one-hot) has simpler eq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ity directly related to complexity of state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/output encoding may or may not be under designer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7C6B-21D2-48F4-9929-90DB5788181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nother implementation of edge detecto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"Ad hoc" solution - not minimal but cheap and fa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990720" y="2286000"/>
            <a:ext cx="2971800" cy="3611880"/>
            <a:chOff x="990720" y="2286000"/>
            <a:chExt cx="2971800" cy="3611880"/>
          </a:xfrm>
        </p:grpSpPr>
        <p:sp>
          <p:nvSpPr>
            <p:cNvPr id="370" name=""/>
            <p:cNvSpPr/>
            <p:nvPr/>
          </p:nvSpPr>
          <p:spPr>
            <a:xfrm>
              <a:off x="2209680" y="2819520"/>
              <a:ext cx="53352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990720" y="380988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429000" y="380988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3" name=""/>
            <p:cNvCxnSpPr>
              <a:stCxn id="372" idx="3"/>
              <a:endCxn id="371" idx="5"/>
            </p:cNvCxnSpPr>
            <p:nvPr/>
          </p:nvCxnSpPr>
          <p:spPr>
            <a:xfrm rot="5400000">
              <a:off x="2475000" y="3236040"/>
              <a:ext cx="2160" cy="2061360"/>
            </a:xfrm>
            <a:prstGeom prst="curvedConnector5">
              <a:avLst>
                <a:gd name="adj1" fmla="val 19300000"/>
                <a:gd name="adj2" fmla="val 49991"/>
                <a:gd name="adj3" fmla="val 193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4" name=""/>
            <p:cNvCxnSpPr>
              <a:stCxn id="371" idx="0"/>
              <a:endCxn id="370" idx="2"/>
            </p:cNvCxnSpPr>
            <p:nvPr/>
          </p:nvCxnSpPr>
          <p:spPr>
            <a:xfrm flipH="1" flipV="1" rot="5400000">
              <a:off x="1371240" y="2971440"/>
              <a:ext cx="724320" cy="95292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5" name=""/>
            <p:cNvCxnSpPr>
              <a:stCxn id="370" idx="6"/>
              <a:endCxn id="372" idx="0"/>
            </p:cNvCxnSpPr>
            <p:nvPr/>
          </p:nvCxnSpPr>
          <p:spPr>
            <a:xfrm>
              <a:off x="2743200" y="3086280"/>
              <a:ext cx="953280" cy="72432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6" name=""/>
            <p:cNvCxnSpPr>
              <a:stCxn id="370" idx="7"/>
              <a:endCxn id="370" idx="1"/>
            </p:cNvCxnSpPr>
            <p:nvPr/>
          </p:nvCxnSpPr>
          <p:spPr>
            <a:xfrm rot="5400000">
              <a:off x="2475000" y="2709000"/>
              <a:ext cx="2160" cy="378720"/>
            </a:xfrm>
            <a:prstGeom prst="curvedConnector5">
              <a:avLst>
                <a:gd name="adj1" fmla="val -19300000"/>
                <a:gd name="adj2" fmla="val 49952"/>
                <a:gd name="adj3" fmla="val -193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77" name=""/>
            <p:cNvSpPr/>
            <p:nvPr/>
          </p:nvSpPr>
          <p:spPr>
            <a:xfrm>
              <a:off x="1222560" y="3048120"/>
              <a:ext cx="3376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352320" y="3048120"/>
              <a:ext cx="3024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289240" y="2286000"/>
              <a:ext cx="3376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361960" y="3581280"/>
              <a:ext cx="3024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361960" y="5562720"/>
              <a:ext cx="3024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320" y="4800600"/>
              <a:ext cx="3024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3" name=""/>
            <p:cNvCxnSpPr>
              <a:stCxn id="371" idx="7"/>
              <a:endCxn id="372" idx="1"/>
            </p:cNvCxnSpPr>
            <p:nvPr/>
          </p:nvCxnSpPr>
          <p:spPr>
            <a:xfrm flipH="1" rot="16200000">
              <a:off x="2475360" y="2856960"/>
              <a:ext cx="2520" cy="2061360"/>
            </a:xfrm>
            <a:prstGeom prst="curvedConnector5">
              <a:avLst>
                <a:gd name="adj1" fmla="val -19300000"/>
                <a:gd name="adj2" fmla="val 49991"/>
                <a:gd name="adj3" fmla="val -193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4" name=""/>
            <p:cNvSpPr/>
            <p:nvPr/>
          </p:nvSpPr>
          <p:spPr>
            <a:xfrm>
              <a:off x="2209680" y="480060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5" name=""/>
            <p:cNvCxnSpPr>
              <a:stCxn id="384" idx="2"/>
              <a:endCxn id="371" idx="4"/>
            </p:cNvCxnSpPr>
            <p:nvPr/>
          </p:nvCxnSpPr>
          <p:spPr>
            <a:xfrm rot="10800000">
              <a:off x="1256760" y="4342680"/>
              <a:ext cx="952920" cy="7246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6" name=""/>
            <p:cNvCxnSpPr>
              <a:stCxn id="372" idx="4"/>
              <a:endCxn id="384" idx="6"/>
            </p:cNvCxnSpPr>
            <p:nvPr/>
          </p:nvCxnSpPr>
          <p:spPr>
            <a:xfrm rot="5400000">
              <a:off x="2856960" y="4228920"/>
              <a:ext cx="724680" cy="9532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7" name=""/>
            <p:cNvCxnSpPr>
              <a:stCxn id="384" idx="3"/>
              <a:endCxn id="384" idx="5"/>
            </p:cNvCxnSpPr>
            <p:nvPr/>
          </p:nvCxnSpPr>
          <p:spPr>
            <a:xfrm flipH="1" rot="16200000">
              <a:off x="2475720" y="5067720"/>
              <a:ext cx="2160" cy="378720"/>
            </a:xfrm>
            <a:prstGeom prst="curvedConnector5">
              <a:avLst>
                <a:gd name="adj1" fmla="val 19300000"/>
                <a:gd name="adj2" fmla="val 49952"/>
                <a:gd name="adj3" fmla="val 193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8" name=""/>
            <p:cNvSpPr/>
            <p:nvPr/>
          </p:nvSpPr>
          <p:spPr>
            <a:xfrm>
              <a:off x="2365560" y="4267080"/>
              <a:ext cx="3376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298520" y="4800600"/>
              <a:ext cx="3376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4343400" y="3200400"/>
            <a:ext cx="4410000" cy="154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9D0D-DABC-4317-AB7A-C753E93CAFB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tate assignmen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e bit vectors to assign to each “symbolic”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n state bits for m states there ar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 / (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m)!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log n &lt;=  m &lt;= 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des possible for 1st state,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1 for 2nd,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2 for 3rd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ge number even for small values of n and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actable for state machines of any s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uristics are necessary for practical sol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ize some metric for the combinational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ze (amount of logic and number of FF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ed (depth of logic and fanou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endencies (decomposi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87FB-58D8-44E1-B3B4-87B16953742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tate assignment strategi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tial – just number states as they appear in the stat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dom – pick random 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-hot – use as many state bits as there are states (bit=1 –&gt; st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– use outputs to help encode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uristic – rules of thumb that seem to work in most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guarantee of optimality – another intractable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D24E-4875-44B8-9B9B-32028A7833F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One-hot state assignmen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y to en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y to deb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logic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tate function requires only predecessor state bits as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for programmable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ts of flip-flops readily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functions with small support (signals its dependent up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actical for larg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 many states require too many flip-fl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ompose FSMs into smaller pieces that can be one-hot enco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slight variations to one-h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-hot + all-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C01B-05C4-430F-BCD4-20B058F87B3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1879560" y="2286000"/>
            <a:ext cx="256536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666880" y="22860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752480" y="259092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847880" y="3886200"/>
            <a:ext cx="256536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666880" y="38862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828800" y="4191120"/>
            <a:ext cx="172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879560" y="5384880"/>
            <a:ext cx="256536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666880" y="542304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752480" y="5727600"/>
            <a:ext cx="172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419720" y="2438280"/>
            <a:ext cx="15364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 = i * 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i *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419720" y="3962520"/>
            <a:ext cx="153648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 = i  * 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 = k *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19720" y="5486400"/>
            <a:ext cx="15364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 = i  * a +  i  * c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 = i * 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 = i *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6858000" y="1998720"/>
            <a:ext cx="2031480" cy="1155240"/>
            <a:chOff x="6858000" y="1998720"/>
            <a:chExt cx="2031480" cy="1155240"/>
          </a:xfrm>
        </p:grpSpPr>
        <p:sp>
          <p:nvSpPr>
            <p:cNvPr id="410" name=""/>
            <p:cNvSpPr/>
            <p:nvPr/>
          </p:nvSpPr>
          <p:spPr>
            <a:xfrm>
              <a:off x="7080120" y="2017440"/>
              <a:ext cx="34236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994520" y="2017440"/>
              <a:ext cx="34236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537320" y="2703240"/>
              <a:ext cx="34236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7867080" y="2360520"/>
              <a:ext cx="24084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08720" y="2360520"/>
              <a:ext cx="21528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58000" y="2392200"/>
              <a:ext cx="7491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 / 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076960" y="2442960"/>
              <a:ext cx="8125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 / 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137000" y="1998720"/>
              <a:ext cx="5587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038800" y="2023920"/>
              <a:ext cx="5583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594200" y="2697120"/>
              <a:ext cx="5587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6889680" y="3581280"/>
            <a:ext cx="1966680" cy="1143000"/>
            <a:chOff x="6889680" y="3581280"/>
            <a:chExt cx="1966680" cy="1143000"/>
          </a:xfrm>
        </p:grpSpPr>
        <p:sp>
          <p:nvSpPr>
            <p:cNvPr id="421" name=""/>
            <p:cNvSpPr/>
            <p:nvPr/>
          </p:nvSpPr>
          <p:spPr>
            <a:xfrm>
              <a:off x="7073280" y="4273560"/>
              <a:ext cx="34272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986960" y="4273560"/>
              <a:ext cx="34272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530120" y="3587760"/>
              <a:ext cx="34272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288920" y="3816360"/>
              <a:ext cx="24084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873200" y="3816360"/>
              <a:ext cx="21564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574760" y="3581280"/>
              <a:ext cx="558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117920" y="4267080"/>
              <a:ext cx="558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031600" y="4267080"/>
              <a:ext cx="558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889680" y="3809880"/>
              <a:ext cx="748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 / 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044200" y="3860640"/>
              <a:ext cx="8121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k / 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6648480" y="5207040"/>
            <a:ext cx="2622600" cy="1168200"/>
            <a:chOff x="6648480" y="5207040"/>
            <a:chExt cx="2622600" cy="1168200"/>
          </a:xfrm>
        </p:grpSpPr>
        <p:sp>
          <p:nvSpPr>
            <p:cNvPr id="432" name=""/>
            <p:cNvSpPr/>
            <p:nvPr/>
          </p:nvSpPr>
          <p:spPr>
            <a:xfrm>
              <a:off x="7162920" y="5918040"/>
              <a:ext cx="558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496360" y="5918040"/>
              <a:ext cx="558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105680" y="5962680"/>
              <a:ext cx="34272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648480" y="5276880"/>
              <a:ext cx="34272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991200" y="5505480"/>
              <a:ext cx="21600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477280" y="5962680"/>
              <a:ext cx="34272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20080" y="5276880"/>
              <a:ext cx="34272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362800" y="5505480"/>
              <a:ext cx="21600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112160" y="5537160"/>
              <a:ext cx="7491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 / 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718320" y="5207040"/>
              <a:ext cx="558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077320" y="5232240"/>
              <a:ext cx="558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521560" y="5499000"/>
              <a:ext cx="749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 / 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euristics for state assignmen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45600" cy="4862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acent codes to states that share a common next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1's in next state map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acent codes to states that share a common ancestor st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1's in next state map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acent codes to states that have a common output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1's in output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56D8-4FE2-4B19-B638-D28794EAFCA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50248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General approach to heuristic state assignmen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667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current methods are variants of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determine which states “attract” each other (weighted pai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generate constraints on codes (which should be in same cub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place codes on Boolean cube so as to maximize constraints satisf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weighted s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weights make sense depending on whether we are optimizing for two-level or multi-level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't consider all possible embeddings of state clusters in Boolean c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uristics for ordering embed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prune search for best embed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d cube (more state bits) to satisfy more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1AD8-C0AA-4CDD-8AD2-0D7388B47BA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Output-based encodin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63320" y="1487520"/>
            <a:ext cx="8343720" cy="4589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use outputs as state bits - use outputs to help distinguish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create new functions for state bits when output can serve as 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ts in nicely with synchronous Mealy implemen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1000" y="5529240"/>
            <a:ext cx="412740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G = ST’ H1’ H0’ F1 F0’ + ST H1 H0’ F1’ F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Y = ST H1’ H0’ F1 F0’ + ST’ H1’ H0 F1 F0’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G = ST H1’ H0 F1 F0’ + ST’ H1 H0’ F1’ F0’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Y = ST H1 H0’ F1’ F0’ + ST’ H1 H0’ F1’ F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637160" y="5521320"/>
            <a:ext cx="435132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utput patterns are unique to states, we do no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ed ANY state bits – implement 5 func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one for each output) instead of 7 (outputs plu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 state bi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460440" y="2665440"/>
            <a:ext cx="8489880" cy="2978280"/>
            <a:chOff x="460440" y="2665440"/>
            <a:chExt cx="8489880" cy="2978280"/>
          </a:xfrm>
        </p:grpSpPr>
        <p:sp>
          <p:nvSpPr>
            <p:cNvPr id="453" name=""/>
            <p:cNvSpPr/>
            <p:nvPr/>
          </p:nvSpPr>
          <p:spPr>
            <a:xfrm>
              <a:off x="555480" y="2709720"/>
              <a:ext cx="8394840" cy="293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4113360"/>
                  <a:tab algn="l" pos="4570560"/>
                  <a:tab algn="l" pos="5029200"/>
                  <a:tab algn="l" pos="5942160"/>
                  <a:tab algn="l" pos="6399360"/>
                  <a:tab algn="l" pos="73137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L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br>
                <a:rPr sz="1400"/>
              </a:b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60440" y="3166920"/>
              <a:ext cx="826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908520" y="2678040"/>
              <a:ext cx="0" cy="274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004080" y="2678040"/>
              <a:ext cx="0" cy="278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066760" y="2665440"/>
              <a:ext cx="0" cy="275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AAE6-D896-469A-8C61-96D8ED74E34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urrent state assignment approach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45172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ight encodings using close to the minimum number of state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t of 10 random seems to be adequate (averages as well as heuristic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uristic approaches are not even close to optim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in custom chip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-hot en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y for small state mach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es small equations with easy to estimate complex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in FPGAs and other programmable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-based en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 hoc - no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common approach taken by human desig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ields very small circuits for most F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3930-29C2-4A59-B437-7B6059DF794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logic optimization summar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minim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ightforward in fully-specified mach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ationally intractable, in general (with don’t ca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assig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heu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t-of-10-random just as good or better for most mach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encoding can be attractive (especially for PAL implement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114B-3EE8-4B3D-9A3A-B760864A6A4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lgorithmic approach to state minimiz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 – identify and combine states that have equivalent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valent stat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ll input combinations, states transition to same or equivalent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orithm ske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place all states in one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initially partition set based on output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successively partition resulting subsets based on next state tran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repeat (3) until no further partitioning is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es left in the same set are equival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ynomial time proce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376E-A7E5-41DF-8073-B3343C19FE3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2479680" y="2303640"/>
            <a:ext cx="6343200" cy="2158920"/>
            <a:chOff x="2479680" y="2303640"/>
            <a:chExt cx="6343200" cy="2158920"/>
          </a:xfrm>
        </p:grpSpPr>
        <p:sp>
          <p:nvSpPr>
            <p:cNvPr id="89" name=""/>
            <p:cNvSpPr/>
            <p:nvPr/>
          </p:nvSpPr>
          <p:spPr>
            <a:xfrm>
              <a:off x="2600280" y="2303640"/>
              <a:ext cx="6222600" cy="21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 Nex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   Out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quenc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92280" y="2836800"/>
              <a:ext cx="621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56280" y="2322720"/>
              <a:ext cx="0" cy="209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292720" y="2309760"/>
              <a:ext cx="0" cy="209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794040" y="2322720"/>
              <a:ext cx="0" cy="208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479680" y="2322720"/>
              <a:ext cx="6235560" cy="2108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tate minimization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quence detector for 010 or 110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650880" y="4284720"/>
            <a:ext cx="2925360" cy="2265120"/>
            <a:chOff x="650880" y="4284720"/>
            <a:chExt cx="2925360" cy="2265120"/>
          </a:xfrm>
        </p:grpSpPr>
        <p:sp>
          <p:nvSpPr>
            <p:cNvPr id="98" name=""/>
            <p:cNvSpPr/>
            <p:nvPr/>
          </p:nvSpPr>
          <p:spPr>
            <a:xfrm>
              <a:off x="1946160" y="4492440"/>
              <a:ext cx="380520" cy="381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31760" y="5711760"/>
              <a:ext cx="38052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55640" y="5102280"/>
              <a:ext cx="38052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336320" y="510228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250720" y="571176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860560" y="5711760"/>
              <a:ext cx="38052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641240" y="5711760"/>
              <a:ext cx="38052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5" name=""/>
            <p:cNvCxnSpPr>
              <a:stCxn id="98" idx="3"/>
              <a:endCxn id="101" idx="7"/>
            </p:cNvCxnSpPr>
            <p:nvPr/>
          </p:nvCxnSpPr>
          <p:spPr>
            <a:xfrm flipH="1">
              <a:off x="1661040" y="4817880"/>
              <a:ext cx="340200" cy="34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" name=""/>
            <p:cNvCxnSpPr>
              <a:stCxn id="101" idx="3"/>
              <a:endCxn id="99" idx="0"/>
            </p:cNvCxnSpPr>
            <p:nvPr/>
          </p:nvCxnSpPr>
          <p:spPr>
            <a:xfrm flipH="1">
              <a:off x="1221480" y="5427360"/>
              <a:ext cx="170280" cy="284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7" name=""/>
            <p:cNvCxnSpPr>
              <a:stCxn id="101" idx="5"/>
              <a:endCxn id="104" idx="0"/>
            </p:cNvCxnSpPr>
            <p:nvPr/>
          </p:nvCxnSpPr>
          <p:spPr>
            <a:xfrm>
              <a:off x="1661400" y="5427360"/>
              <a:ext cx="170280" cy="284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" name=""/>
            <p:cNvCxnSpPr>
              <a:stCxn id="100" idx="3"/>
              <a:endCxn id="102" idx="0"/>
            </p:cNvCxnSpPr>
            <p:nvPr/>
          </p:nvCxnSpPr>
          <p:spPr>
            <a:xfrm flipH="1">
              <a:off x="2441160" y="5427360"/>
              <a:ext cx="169920" cy="284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9" name=""/>
            <p:cNvCxnSpPr>
              <a:stCxn id="100" idx="5"/>
              <a:endCxn id="103" idx="0"/>
            </p:cNvCxnSpPr>
            <p:nvPr/>
          </p:nvCxnSpPr>
          <p:spPr>
            <a:xfrm>
              <a:off x="2880720" y="5427360"/>
              <a:ext cx="170280" cy="284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0" name=""/>
            <p:cNvCxnSpPr>
              <a:stCxn id="98" idx="5"/>
              <a:endCxn id="100" idx="1"/>
            </p:cNvCxnSpPr>
            <p:nvPr/>
          </p:nvCxnSpPr>
          <p:spPr>
            <a:xfrm>
              <a:off x="2271600" y="4817880"/>
              <a:ext cx="339840" cy="34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endCxn id="98" idx="1"/>
            </p:cNvCxnSpPr>
            <p:nvPr/>
          </p:nvCxnSpPr>
          <p:spPr>
            <a:xfrm>
              <a:off x="1737720" y="4284720"/>
              <a:ext cx="263880" cy="2642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2" name=""/>
            <p:cNvCxnSpPr>
              <a:endCxn id="98" idx="2"/>
            </p:cNvCxnSpPr>
            <p:nvPr/>
          </p:nvCxnSpPr>
          <p:spPr>
            <a:xfrm flipH="1" flipV="1" rot="5400000">
              <a:off x="383760" y="4949640"/>
              <a:ext cx="1829520" cy="129600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3" name=""/>
            <p:cNvSpPr/>
            <p:nvPr/>
          </p:nvSpPr>
          <p:spPr>
            <a:xfrm flipH="1">
              <a:off x="650880" y="654984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400480" y="469404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409760" y="469404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57680" y="530388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86280" y="591336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81360" y="614196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955440" y="6016680"/>
              <a:ext cx="151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336320" y="601668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1564560" y="601668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46160" y="6016680"/>
              <a:ext cx="151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2174760" y="6016680"/>
              <a:ext cx="151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555640" y="6016680"/>
              <a:ext cx="151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2784240" y="6016680"/>
              <a:ext cx="151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165120" y="601668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171880" y="530388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38360" y="530388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76240" y="530388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476440" y="591336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71880" y="614196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866960" y="591336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62040" y="614196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57480" y="591336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952560" y="614196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AFD4-A450-44E8-A367-41A67D6E980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771560" y="4140360"/>
            <a:ext cx="560088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113360"/>
                <a:tab algn="l" pos="457056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 S0 S1 S2 S3 S4 S5 S6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113360"/>
                <a:tab algn="l" pos="457056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 S0 S1 S2 S3 S5 )   ( S4 S6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113360"/>
                <a:tab algn="l" pos="457056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 S0 S3 S5 )   ( S1 S2 )   ( S4 S6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113360"/>
                <a:tab algn="l" pos="457056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 S0 )   ( S3 S5 )   ( S1 S2 )   ( S4 S6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600200" y="1676520"/>
            <a:ext cx="6343560" cy="2158920"/>
            <a:chOff x="1600200" y="1676520"/>
            <a:chExt cx="6343560" cy="2158920"/>
          </a:xfrm>
        </p:grpSpPr>
        <p:sp>
          <p:nvSpPr>
            <p:cNvPr id="138" name=""/>
            <p:cNvSpPr/>
            <p:nvPr/>
          </p:nvSpPr>
          <p:spPr>
            <a:xfrm>
              <a:off x="1720800" y="1676520"/>
              <a:ext cx="6222960" cy="21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 Nex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   Out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quenc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12800" y="2209680"/>
              <a:ext cx="621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77160" y="1695240"/>
              <a:ext cx="0" cy="20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13240" y="1682640"/>
              <a:ext cx="0" cy="20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914560" y="1695240"/>
              <a:ext cx="0" cy="208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00200" y="1695240"/>
              <a:ext cx="6235920" cy="2107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5791320" y="4419720"/>
            <a:ext cx="243828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1 is equivalent to S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3 is equivalent to S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4 is equivalent to S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thod of successive parti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E539-C617-4BC9-AE09-53550A6E388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2590920" y="2133720"/>
            <a:ext cx="6178320" cy="1568160"/>
            <a:chOff x="2590920" y="2133720"/>
            <a:chExt cx="6178320" cy="1568160"/>
          </a:xfrm>
        </p:grpSpPr>
        <p:sp>
          <p:nvSpPr>
            <p:cNvPr id="147" name=""/>
            <p:cNvSpPr/>
            <p:nvPr/>
          </p:nvSpPr>
          <p:spPr>
            <a:xfrm>
              <a:off x="2622600" y="2152440"/>
              <a:ext cx="6146640" cy="15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nput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     Next State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       Out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equence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=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=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=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=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1'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1'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 + 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1'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3'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4'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3'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4'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90920" y="2647800"/>
              <a:ext cx="59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940440" y="2133720"/>
              <a:ext cx="0" cy="148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276880" y="2133720"/>
              <a:ext cx="0" cy="149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90800" y="2146320"/>
              <a:ext cx="0" cy="148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590920" y="2133720"/>
              <a:ext cx="5994360" cy="1511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inimized FS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e minimized sequence detector for 010 or 110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800280" y="3773520"/>
            <a:ext cx="3000960" cy="2493720"/>
            <a:chOff x="800280" y="3773520"/>
            <a:chExt cx="3000960" cy="2493720"/>
          </a:xfrm>
        </p:grpSpPr>
        <p:sp>
          <p:nvSpPr>
            <p:cNvPr id="156" name=""/>
            <p:cNvSpPr/>
            <p:nvPr/>
          </p:nvSpPr>
          <p:spPr>
            <a:xfrm>
              <a:off x="2400120" y="3981240"/>
              <a:ext cx="380880" cy="381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400120" y="481968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1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90640" y="5429160"/>
              <a:ext cx="38052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3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09960" y="5408640"/>
              <a:ext cx="38052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4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0" name=""/>
            <p:cNvCxnSpPr>
              <a:stCxn id="157" idx="3"/>
              <a:endCxn id="158" idx="0"/>
            </p:cNvCxnSpPr>
            <p:nvPr/>
          </p:nvCxnSpPr>
          <p:spPr>
            <a:xfrm flipH="1">
              <a:off x="1980720" y="5144760"/>
              <a:ext cx="475200" cy="284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7" idx="5"/>
              <a:endCxn id="159" idx="0"/>
            </p:cNvCxnSpPr>
            <p:nvPr/>
          </p:nvCxnSpPr>
          <p:spPr>
            <a:xfrm>
              <a:off x="2725560" y="5145120"/>
              <a:ext cx="475200" cy="2642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6" idx="4"/>
              <a:endCxn id="157" idx="0"/>
            </p:cNvCxnSpPr>
            <p:nvPr/>
          </p:nvCxnSpPr>
          <p:spPr>
            <a:xfrm>
              <a:off x="2590560" y="436248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3" name=""/>
            <p:cNvCxnSpPr>
              <a:endCxn id="156" idx="1"/>
            </p:cNvCxnSpPr>
            <p:nvPr/>
          </p:nvCxnSpPr>
          <p:spPr>
            <a:xfrm>
              <a:off x="2192040" y="3773520"/>
              <a:ext cx="263880" cy="2642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4" name=""/>
            <p:cNvCxnSpPr>
              <a:stCxn id="165" idx="0"/>
              <a:endCxn id="156" idx="2"/>
            </p:cNvCxnSpPr>
            <p:nvPr/>
          </p:nvCxnSpPr>
          <p:spPr>
            <a:xfrm flipH="1" flipV="1" rot="5400000">
              <a:off x="562680" y="4408920"/>
              <a:ext cx="2075400" cy="1600560"/>
            </a:xfrm>
            <a:prstGeom prst="bentConnector4">
              <a:avLst>
                <a:gd name="adj1" fmla="val 99913"/>
                <a:gd name="adj2" fmla="val 8569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6" name=""/>
            <p:cNvSpPr/>
            <p:nvPr/>
          </p:nvSpPr>
          <p:spPr>
            <a:xfrm flipH="1">
              <a:off x="800280" y="624672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574720" y="4417920"/>
              <a:ext cx="4777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83240" y="5048280"/>
              <a:ext cx="460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340440" y="5810040"/>
              <a:ext cx="460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78320" y="5810040"/>
              <a:ext cx="460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/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981080" y="581004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933640" y="5713200"/>
              <a:ext cx="15192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314520" y="5713200"/>
              <a:ext cx="15228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892520" y="5048280"/>
              <a:ext cx="460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64880" y="5790960"/>
              <a:ext cx="4777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1634-86CB-4D31-8F24-E1D7BAA6A50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60920" y="5283360"/>
            <a:ext cx="302256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ymbolic stat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ition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533840" y="3213000"/>
            <a:ext cx="4254480" cy="2108160"/>
            <a:chOff x="4533840" y="3213000"/>
            <a:chExt cx="4254480" cy="2108160"/>
          </a:xfrm>
        </p:grpSpPr>
        <p:sp>
          <p:nvSpPr>
            <p:cNvPr id="178" name=""/>
            <p:cNvSpPr/>
            <p:nvPr/>
          </p:nvSpPr>
          <p:spPr>
            <a:xfrm>
              <a:off x="4572000" y="3213000"/>
              <a:ext cx="421632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1143000"/>
                  <a:tab algn="l" pos="1598760"/>
                  <a:tab algn="l" pos="2057400"/>
                  <a:tab algn="l" pos="25146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    next state            outp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S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S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S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S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533840" y="369576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467480" y="3276720"/>
              <a:ext cx="0" cy="1701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676840" y="3276720"/>
              <a:ext cx="0" cy="1701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4610160" y="2133720"/>
            <a:ext cx="2997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s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re complex state minimiz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ltiple input exam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082160" y="2588040"/>
            <a:ext cx="2540160" cy="3347640"/>
            <a:chOff x="1082160" y="2588040"/>
            <a:chExt cx="2540160" cy="3347640"/>
          </a:xfrm>
        </p:grpSpPr>
        <p:sp>
          <p:nvSpPr>
            <p:cNvPr id="186" name=""/>
            <p:cNvSpPr/>
            <p:nvPr/>
          </p:nvSpPr>
          <p:spPr>
            <a:xfrm>
              <a:off x="1548000" y="342288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084760" y="321336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010240" y="358164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883160" y="273060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851480" y="390528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11680" y="428004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832400" y="457704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06440" y="453240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87520" y="497232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118240" y="471492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068920" y="522792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11400" y="529452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078000" y="273060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491560" y="293220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146400" y="346572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742840" y="371484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963520" y="456084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500920" y="447516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69760" y="387360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488320" y="492768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114720" y="568800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507400" y="550728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327480" y="526428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03360" y="2924280"/>
              <a:ext cx="45756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503360" y="4067280"/>
              <a:ext cx="45756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503360" y="5210280"/>
              <a:ext cx="45756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723760" y="2924280"/>
              <a:ext cx="45756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723760" y="4067280"/>
              <a:ext cx="45756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723760" y="5210280"/>
              <a:ext cx="45756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952360" y="45244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808640" y="45244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1655640" y="45241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60920" y="5362560"/>
              <a:ext cx="76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1960920" y="5515200"/>
              <a:ext cx="76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2876040" y="33811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028320" y="33814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0920" y="4295880"/>
              <a:ext cx="76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1884600" y="3304800"/>
              <a:ext cx="9151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884600" y="4448160"/>
              <a:ext cx="9151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1837080" y="3353040"/>
              <a:ext cx="1000800" cy="18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960920" y="3229200"/>
              <a:ext cx="76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1960920" y="3076560"/>
              <a:ext cx="76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32320" y="33814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 flipV="1">
              <a:off x="1789560" y="3381480"/>
              <a:ext cx="1010160" cy="190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837080" y="3343320"/>
              <a:ext cx="905400" cy="84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 flipV="1">
              <a:off x="1913040" y="3285720"/>
              <a:ext cx="885960" cy="80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2" name=""/>
            <p:cNvCxnSpPr>
              <a:stCxn id="214" idx="5"/>
              <a:endCxn id="214" idx="3"/>
            </p:cNvCxnSpPr>
            <p:nvPr/>
          </p:nvCxnSpPr>
          <p:spPr>
            <a:xfrm rot="5400000">
              <a:off x="2950560" y="5439600"/>
              <a:ext cx="2160" cy="324360"/>
            </a:xfrm>
            <a:prstGeom prst="curvedConnector5">
              <a:avLst>
                <a:gd name="adj1" fmla="val 18600000"/>
                <a:gd name="adj2" fmla="val 50000"/>
                <a:gd name="adj3" fmla="val 186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3" name=""/>
            <p:cNvCxnSpPr>
              <a:stCxn id="212" idx="7"/>
              <a:endCxn id="212" idx="1"/>
            </p:cNvCxnSpPr>
            <p:nvPr/>
          </p:nvCxnSpPr>
          <p:spPr>
            <a:xfrm rot="5400000">
              <a:off x="2950560" y="2828880"/>
              <a:ext cx="2520" cy="324360"/>
            </a:xfrm>
            <a:prstGeom prst="curvedConnector5">
              <a:avLst>
                <a:gd name="adj1" fmla="val -18600000"/>
                <a:gd name="adj2" fmla="val 50000"/>
                <a:gd name="adj3" fmla="val -186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4" name=""/>
            <p:cNvCxnSpPr>
              <a:stCxn id="209" idx="7"/>
              <a:endCxn id="209" idx="1"/>
            </p:cNvCxnSpPr>
            <p:nvPr/>
          </p:nvCxnSpPr>
          <p:spPr>
            <a:xfrm rot="5400000">
              <a:off x="1730520" y="2828880"/>
              <a:ext cx="2520" cy="324720"/>
            </a:xfrm>
            <a:prstGeom prst="curvedConnector5">
              <a:avLst>
                <a:gd name="adj1" fmla="val -18600000"/>
                <a:gd name="adj2" fmla="val 49944"/>
                <a:gd name="adj3" fmla="val -186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5" name=""/>
            <p:cNvCxnSpPr>
              <a:stCxn id="211" idx="2"/>
              <a:endCxn id="209" idx="2"/>
            </p:cNvCxnSpPr>
            <p:nvPr/>
          </p:nvCxnSpPr>
          <p:spPr>
            <a:xfrm flipH="1" rot="10800000">
              <a:off x="1503000" y="3152160"/>
              <a:ext cx="2160" cy="2286720"/>
            </a:xfrm>
            <a:prstGeom prst="curvedConnector5">
              <a:avLst>
                <a:gd name="adj1" fmla="val -23400000"/>
                <a:gd name="adj2" fmla="val 49992"/>
                <a:gd name="adj3" fmla="val -234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6" name=""/>
            <p:cNvCxnSpPr>
              <a:stCxn id="210" idx="3"/>
              <a:endCxn id="210" idx="1"/>
            </p:cNvCxnSpPr>
            <p:nvPr/>
          </p:nvCxnSpPr>
          <p:spPr>
            <a:xfrm flipH="1" flipV="1" rot="5400000">
              <a:off x="1407600" y="4294440"/>
              <a:ext cx="324720" cy="2520"/>
            </a:xfrm>
            <a:prstGeom prst="curvedConnector5">
              <a:avLst>
                <a:gd name="adj1" fmla="val -29411"/>
                <a:gd name="adj2" fmla="val -7800000"/>
                <a:gd name="adj3" fmla="val -2941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7" name=""/>
            <p:cNvCxnSpPr>
              <a:stCxn id="212" idx="6"/>
              <a:endCxn id="214" idx="6"/>
            </p:cNvCxnSpPr>
            <p:nvPr/>
          </p:nvCxnSpPr>
          <p:spPr>
            <a:xfrm>
              <a:off x="3181320" y="3152880"/>
              <a:ext cx="2160" cy="2286720"/>
            </a:xfrm>
            <a:prstGeom prst="curvedConnector5">
              <a:avLst>
                <a:gd name="adj1" fmla="val 12000000"/>
                <a:gd name="adj2" fmla="val 49992"/>
                <a:gd name="adj3" fmla="val 120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8" name=""/>
            <p:cNvCxnSpPr>
              <a:stCxn id="214" idx="6"/>
              <a:endCxn id="212" idx="6"/>
            </p:cNvCxnSpPr>
            <p:nvPr/>
          </p:nvCxnSpPr>
          <p:spPr>
            <a:xfrm flipV="1">
              <a:off x="3181320" y="3152520"/>
              <a:ext cx="2160" cy="2286720"/>
            </a:xfrm>
            <a:prstGeom prst="curvedConnector5">
              <a:avLst>
                <a:gd name="adj1" fmla="val 24500000"/>
                <a:gd name="adj2" fmla="val 49992"/>
                <a:gd name="adj3" fmla="val 245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39" name=""/>
            <p:cNvSpPr/>
            <p:nvPr/>
          </p:nvSpPr>
          <p:spPr>
            <a:xfrm>
              <a:off x="3041640" y="368316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5334120" y="2438280"/>
            <a:ext cx="49536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7217-CDF6-4FE8-B202-14D2E01FB06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1222920" y="3405240"/>
            <a:ext cx="516240" cy="732600"/>
            <a:chOff x="1222920" y="3405240"/>
            <a:chExt cx="516240" cy="732600"/>
          </a:xfrm>
        </p:grpSpPr>
        <p:sp>
          <p:nvSpPr>
            <p:cNvPr id="242" name=""/>
            <p:cNvSpPr/>
            <p:nvPr/>
          </p:nvSpPr>
          <p:spPr>
            <a:xfrm>
              <a:off x="1235520" y="34052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-S1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235520" y="358308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-S3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222920" y="374796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-S2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222920" y="392436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-S4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1222920" y="4775040"/>
            <a:ext cx="503640" cy="733680"/>
            <a:chOff x="1222920" y="4775040"/>
            <a:chExt cx="503640" cy="733680"/>
          </a:xfrm>
        </p:grpSpPr>
        <p:sp>
          <p:nvSpPr>
            <p:cNvPr id="247" name=""/>
            <p:cNvSpPr/>
            <p:nvPr/>
          </p:nvSpPr>
          <p:spPr>
            <a:xfrm>
              <a:off x="1222920" y="47750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-S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222920" y="49532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-S1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222920" y="511848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-S2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222920" y="52952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-S5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1908720" y="4103640"/>
            <a:ext cx="503640" cy="720000"/>
            <a:chOff x="1908720" y="4103640"/>
            <a:chExt cx="503640" cy="720000"/>
          </a:xfrm>
        </p:grpSpPr>
        <p:sp>
          <p:nvSpPr>
            <p:cNvPr id="252" name=""/>
            <p:cNvSpPr/>
            <p:nvPr/>
          </p:nvSpPr>
          <p:spPr>
            <a:xfrm>
              <a:off x="1908720" y="41036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-S1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908720" y="42800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-S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908720" y="443232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-S4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08720" y="461016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4-S5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1908720" y="5475240"/>
            <a:ext cx="503640" cy="720000"/>
            <a:chOff x="1908720" y="5475240"/>
            <a:chExt cx="503640" cy="720000"/>
          </a:xfrm>
        </p:grpSpPr>
        <p:sp>
          <p:nvSpPr>
            <p:cNvPr id="257" name=""/>
            <p:cNvSpPr/>
            <p:nvPr/>
          </p:nvSpPr>
          <p:spPr>
            <a:xfrm>
              <a:off x="1908720" y="54752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-S1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908720" y="565308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-S4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908720" y="582948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-S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08720" y="598176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4-S5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2594520" y="4775040"/>
            <a:ext cx="516240" cy="733680"/>
            <a:chOff x="2594520" y="4775040"/>
            <a:chExt cx="516240" cy="733680"/>
          </a:xfrm>
        </p:grpSpPr>
        <p:sp>
          <p:nvSpPr>
            <p:cNvPr id="262" name=""/>
            <p:cNvSpPr/>
            <p:nvPr/>
          </p:nvSpPr>
          <p:spPr>
            <a:xfrm>
              <a:off x="2607120" y="47750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-S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607120" y="49532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-S1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602440" y="5118480"/>
              <a:ext cx="457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-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594520" y="52952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4-S5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3275640" y="5475240"/>
            <a:ext cx="508320" cy="720000"/>
            <a:chOff x="3275640" y="5475240"/>
            <a:chExt cx="508320" cy="720000"/>
          </a:xfrm>
        </p:grpSpPr>
        <p:sp>
          <p:nvSpPr>
            <p:cNvPr id="267" name=""/>
            <p:cNvSpPr/>
            <p:nvPr/>
          </p:nvSpPr>
          <p:spPr>
            <a:xfrm>
              <a:off x="3275640" y="5829480"/>
              <a:ext cx="457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4-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280320" y="598176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5-S5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280320" y="54752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-S1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280320" y="565308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-S4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4633920" y="3346560"/>
            <a:ext cx="4254480" cy="2006640"/>
            <a:chOff x="4633920" y="3346560"/>
            <a:chExt cx="4254480" cy="2006640"/>
          </a:xfrm>
        </p:grpSpPr>
        <p:sp>
          <p:nvSpPr>
            <p:cNvPr id="272" name=""/>
            <p:cNvSpPr/>
            <p:nvPr/>
          </p:nvSpPr>
          <p:spPr>
            <a:xfrm>
              <a:off x="5446800" y="4997520"/>
              <a:ext cx="27432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inimized state 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S0==S4) (S3==S5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672080" y="3346560"/>
              <a:ext cx="421632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1143000"/>
                  <a:tab algn="l" pos="1598760"/>
                  <a:tab algn="l" pos="2057400"/>
                  <a:tab algn="l" pos="25146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esent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next state            outp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1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S0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0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3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S1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0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3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3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S2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3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0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S3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0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0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3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633920" y="378648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580160" y="3410280"/>
              <a:ext cx="0" cy="1320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776920" y="3410280"/>
              <a:ext cx="0" cy="1320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inimized FS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ication chart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ss out incompatible states based on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cross out more cells if indexed chart entries are already crossed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827640" y="2743200"/>
            <a:ext cx="3744360" cy="3718800"/>
            <a:chOff x="827640" y="2743200"/>
            <a:chExt cx="3744360" cy="3718800"/>
          </a:xfrm>
        </p:grpSpPr>
        <p:sp>
          <p:nvSpPr>
            <p:cNvPr id="280" name=""/>
            <p:cNvSpPr/>
            <p:nvPr/>
          </p:nvSpPr>
          <p:spPr>
            <a:xfrm>
              <a:off x="840240" y="2955960"/>
              <a:ext cx="246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40240" y="3638520"/>
              <a:ext cx="246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27640" y="4335480"/>
              <a:ext cx="246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40240" y="5018040"/>
              <a:ext cx="246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4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35560" y="5715000"/>
              <a:ext cx="20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346760" y="6248520"/>
              <a:ext cx="20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054880" y="6248520"/>
              <a:ext cx="20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790000" y="6248520"/>
              <a:ext cx="20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459960" y="6248520"/>
              <a:ext cx="20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105800" y="6248520"/>
              <a:ext cx="20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1143000" y="2743200"/>
              <a:ext cx="3429000" cy="3429000"/>
              <a:chOff x="1143000" y="2743200"/>
              <a:chExt cx="3429000" cy="3429000"/>
            </a:xfrm>
          </p:grpSpPr>
          <p:sp>
            <p:nvSpPr>
              <p:cNvPr id="291" name=""/>
              <p:cNvSpPr/>
              <p:nvPr/>
            </p:nvSpPr>
            <p:spPr>
              <a:xfrm>
                <a:off x="1143000" y="5486400"/>
                <a:ext cx="3429000" cy="685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143000" y="4800600"/>
                <a:ext cx="2743200" cy="685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143000" y="4114800"/>
                <a:ext cx="2057400" cy="685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143000" y="3429000"/>
                <a:ext cx="1371600" cy="685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143000" y="2743200"/>
                <a:ext cx="685800" cy="685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143000" y="2743200"/>
                <a:ext cx="685800" cy="34290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828800" y="3429000"/>
                <a:ext cx="685800" cy="2743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514600" y="4114800"/>
                <a:ext cx="685800" cy="20574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200400" y="4800600"/>
                <a:ext cx="685800" cy="13716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886200" y="5486400"/>
                <a:ext cx="685800" cy="685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1" name=""/>
          <p:cNvGrpSpPr/>
          <p:nvPr/>
        </p:nvGrpSpPr>
        <p:grpSpPr>
          <a:xfrm>
            <a:off x="1828440" y="3429000"/>
            <a:ext cx="686160" cy="685800"/>
            <a:chOff x="1828440" y="3429000"/>
            <a:chExt cx="686160" cy="685800"/>
          </a:xfrm>
        </p:grpSpPr>
        <p:sp>
          <p:nvSpPr>
            <p:cNvPr id="302" name=""/>
            <p:cNvSpPr/>
            <p:nvPr/>
          </p:nvSpPr>
          <p:spPr>
            <a:xfrm>
              <a:off x="1828800" y="3429000"/>
              <a:ext cx="68580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1828440" y="3429000"/>
              <a:ext cx="68580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1142640" y="4114800"/>
            <a:ext cx="3429360" cy="2057400"/>
            <a:chOff x="1142640" y="4114800"/>
            <a:chExt cx="3429360" cy="2057400"/>
          </a:xfrm>
        </p:grpSpPr>
        <p:grpSp>
          <p:nvGrpSpPr>
            <p:cNvPr id="305" name=""/>
            <p:cNvGrpSpPr/>
            <p:nvPr/>
          </p:nvGrpSpPr>
          <p:grpSpPr>
            <a:xfrm>
              <a:off x="1142640" y="5486400"/>
              <a:ext cx="686160" cy="685800"/>
              <a:chOff x="1142640" y="5486400"/>
              <a:chExt cx="686160" cy="685800"/>
            </a:xfrm>
          </p:grpSpPr>
          <p:sp>
            <p:nvSpPr>
              <p:cNvPr id="306" name=""/>
              <p:cNvSpPr/>
              <p:nvPr/>
            </p:nvSpPr>
            <p:spPr>
              <a:xfrm>
                <a:off x="1143000" y="54864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>
                <a:off x="1142640" y="54864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2514240" y="5486400"/>
              <a:ext cx="686160" cy="685800"/>
              <a:chOff x="2514240" y="5486400"/>
              <a:chExt cx="686160" cy="685800"/>
            </a:xfrm>
          </p:grpSpPr>
          <p:sp>
            <p:nvSpPr>
              <p:cNvPr id="309" name=""/>
              <p:cNvSpPr/>
              <p:nvPr/>
            </p:nvSpPr>
            <p:spPr>
              <a:xfrm>
                <a:off x="2514600" y="54864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>
                <a:off x="2514240" y="54864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3200040" y="4800600"/>
              <a:ext cx="686160" cy="685800"/>
              <a:chOff x="3200040" y="4800600"/>
              <a:chExt cx="686160" cy="685800"/>
            </a:xfrm>
          </p:grpSpPr>
          <p:sp>
            <p:nvSpPr>
              <p:cNvPr id="312" name=""/>
              <p:cNvSpPr/>
              <p:nvPr/>
            </p:nvSpPr>
            <p:spPr>
              <a:xfrm>
                <a:off x="3200400" y="48006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>
                <a:off x="3200040" y="48006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3885840" y="5486400"/>
              <a:ext cx="686160" cy="685800"/>
              <a:chOff x="3885840" y="5486400"/>
              <a:chExt cx="686160" cy="685800"/>
            </a:xfrm>
          </p:grpSpPr>
          <p:sp>
            <p:nvSpPr>
              <p:cNvPr id="315" name=""/>
              <p:cNvSpPr/>
              <p:nvPr/>
            </p:nvSpPr>
            <p:spPr>
              <a:xfrm>
                <a:off x="3886200" y="54864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3885840" y="54864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2514240" y="4114800"/>
              <a:ext cx="686160" cy="685800"/>
              <a:chOff x="2514240" y="4114800"/>
              <a:chExt cx="686160" cy="685800"/>
            </a:xfrm>
          </p:grpSpPr>
          <p:sp>
            <p:nvSpPr>
              <p:cNvPr id="318" name=""/>
              <p:cNvSpPr/>
              <p:nvPr/>
            </p:nvSpPr>
            <p:spPr>
              <a:xfrm>
                <a:off x="2514600" y="41148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>
                <a:off x="2514240" y="41148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1142640" y="4114800"/>
              <a:ext cx="686160" cy="685800"/>
              <a:chOff x="1142640" y="4114800"/>
              <a:chExt cx="686160" cy="685800"/>
            </a:xfrm>
          </p:grpSpPr>
          <p:sp>
            <p:nvSpPr>
              <p:cNvPr id="321" name=""/>
              <p:cNvSpPr/>
              <p:nvPr/>
            </p:nvSpPr>
            <p:spPr>
              <a:xfrm>
                <a:off x="1143000" y="41148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>
                <a:off x="1142640" y="41148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1828440" y="4800600"/>
              <a:ext cx="686160" cy="685800"/>
              <a:chOff x="1828440" y="4800600"/>
              <a:chExt cx="686160" cy="685800"/>
            </a:xfrm>
          </p:grpSpPr>
          <p:sp>
            <p:nvSpPr>
              <p:cNvPr id="324" name=""/>
              <p:cNvSpPr/>
              <p:nvPr/>
            </p:nvSpPr>
            <p:spPr>
              <a:xfrm>
                <a:off x="1828800" y="48006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1828440" y="48006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6" name=""/>
          <p:cNvGrpSpPr/>
          <p:nvPr/>
        </p:nvGrpSpPr>
        <p:grpSpPr>
          <a:xfrm>
            <a:off x="1142640" y="2743200"/>
            <a:ext cx="686160" cy="685800"/>
            <a:chOff x="1142640" y="2743200"/>
            <a:chExt cx="686160" cy="685800"/>
          </a:xfrm>
        </p:grpSpPr>
        <p:sp>
          <p:nvSpPr>
            <p:cNvPr id="327" name=""/>
            <p:cNvSpPr/>
            <p:nvPr/>
          </p:nvSpPr>
          <p:spPr>
            <a:xfrm>
              <a:off x="1143000" y="2743200"/>
              <a:ext cx="68580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1142640" y="2743200"/>
              <a:ext cx="68580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1142640" y="3429000"/>
            <a:ext cx="686160" cy="685800"/>
            <a:chOff x="1142640" y="3429000"/>
            <a:chExt cx="686160" cy="685800"/>
          </a:xfrm>
        </p:grpSpPr>
        <p:sp>
          <p:nvSpPr>
            <p:cNvPr id="330" name=""/>
            <p:cNvSpPr/>
            <p:nvPr/>
          </p:nvSpPr>
          <p:spPr>
            <a:xfrm>
              <a:off x="1143000" y="3429000"/>
              <a:ext cx="68580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1142640" y="3429000"/>
              <a:ext cx="68580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828440" y="4114800"/>
            <a:ext cx="686160" cy="685800"/>
            <a:chOff x="1828440" y="4114800"/>
            <a:chExt cx="686160" cy="685800"/>
          </a:xfrm>
        </p:grpSpPr>
        <p:sp>
          <p:nvSpPr>
            <p:cNvPr id="333" name=""/>
            <p:cNvSpPr/>
            <p:nvPr/>
          </p:nvSpPr>
          <p:spPr>
            <a:xfrm>
              <a:off x="1828800" y="4114800"/>
              <a:ext cx="68580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1828440" y="4114800"/>
              <a:ext cx="68580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2514240" y="4800600"/>
            <a:ext cx="686160" cy="685800"/>
            <a:chOff x="2514240" y="4800600"/>
            <a:chExt cx="686160" cy="685800"/>
          </a:xfrm>
        </p:grpSpPr>
        <p:sp>
          <p:nvSpPr>
            <p:cNvPr id="336" name=""/>
            <p:cNvSpPr/>
            <p:nvPr/>
          </p:nvSpPr>
          <p:spPr>
            <a:xfrm>
              <a:off x="2514600" y="4800600"/>
              <a:ext cx="68580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2514240" y="4800600"/>
              <a:ext cx="68580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1828440" y="5486400"/>
            <a:ext cx="686160" cy="685800"/>
            <a:chOff x="1828440" y="5486400"/>
            <a:chExt cx="686160" cy="685800"/>
          </a:xfrm>
        </p:grpSpPr>
        <p:sp>
          <p:nvSpPr>
            <p:cNvPr id="339" name=""/>
            <p:cNvSpPr/>
            <p:nvPr/>
          </p:nvSpPr>
          <p:spPr>
            <a:xfrm>
              <a:off x="1828800" y="5486400"/>
              <a:ext cx="68580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1828440" y="5486400"/>
              <a:ext cx="68580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2DF8-AAD8-4FB3-BCE4-48EB9BC393F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inimizing incompletely specified FS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3387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2000"/>
          </a:bodyPr>
          <a:p>
            <a:pPr marL="319680" indent="-3196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valence of states is transitive when machine is fully spec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9680" indent="-319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its not transitive when don't cares are present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 is compatible with both S0 and S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S0 and S2 are incompatib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9680" indent="-3196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polynomial time algorithm exists for determining best grouping of states into equivalent sets that will yield the smallest number of final stat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8EFA-BB80-48FE-AEC7-EAC8D04899C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"/>
          <p:cNvGrpSpPr/>
          <p:nvPr/>
        </p:nvGrpSpPr>
        <p:grpSpPr>
          <a:xfrm>
            <a:off x="5029200" y="2362320"/>
            <a:ext cx="2539800" cy="2286000"/>
            <a:chOff x="5029200" y="2362320"/>
            <a:chExt cx="2539800" cy="2286000"/>
          </a:xfrm>
        </p:grpSpPr>
        <p:sp>
          <p:nvSpPr>
            <p:cNvPr id="344" name=""/>
            <p:cNvSpPr/>
            <p:nvPr/>
          </p:nvSpPr>
          <p:spPr>
            <a:xfrm>
              <a:off x="5092560" y="2362320"/>
              <a:ext cx="2286000" cy="22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48428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Tahoma"/>
                </a:rPr>
                <a:t>+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Tahoma"/>
                </a:rPr>
                <a:t>+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2692440"/>
              <a:ext cx="2539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387840" y="2362320"/>
              <a:ext cx="1800" cy="228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105520" y="4952880"/>
            <a:ext cx="22730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= X  (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or 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18120" y="5397480"/>
            <a:ext cx="1930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= X  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’ 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inimizing states may not yield best circui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edge detector - outputs 1 when last two input changes from 0 to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1146240" y="2590920"/>
            <a:ext cx="2282760" cy="2849760"/>
            <a:chOff x="1146240" y="2590920"/>
            <a:chExt cx="2282760" cy="2849760"/>
          </a:xfrm>
        </p:grpSpPr>
        <p:sp>
          <p:nvSpPr>
            <p:cNvPr id="352" name=""/>
            <p:cNvSpPr/>
            <p:nvPr/>
          </p:nvSpPr>
          <p:spPr>
            <a:xfrm>
              <a:off x="1371600" y="3048120"/>
              <a:ext cx="53352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371600" y="449568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895480" y="3733920"/>
              <a:ext cx="53352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55" name=""/>
            <p:cNvCxnSpPr>
              <a:stCxn id="354" idx="4"/>
              <a:endCxn id="353" idx="6"/>
            </p:cNvCxnSpPr>
            <p:nvPr/>
          </p:nvCxnSpPr>
          <p:spPr>
            <a:xfrm rot="5400000">
              <a:off x="2285280" y="3886200"/>
              <a:ext cx="496080" cy="12578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6" name=""/>
            <p:cNvCxnSpPr>
              <a:stCxn id="353" idx="5"/>
              <a:endCxn id="353" idx="3"/>
            </p:cNvCxnSpPr>
            <p:nvPr/>
          </p:nvCxnSpPr>
          <p:spPr>
            <a:xfrm rot="5400000">
              <a:off x="1636920" y="4763160"/>
              <a:ext cx="2160" cy="378720"/>
            </a:xfrm>
            <a:prstGeom prst="curvedConnector5">
              <a:avLst>
                <a:gd name="adj1" fmla="val 19300000"/>
                <a:gd name="adj2" fmla="val 49952"/>
                <a:gd name="adj3" fmla="val 193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7" name=""/>
            <p:cNvCxnSpPr>
              <a:stCxn id="353" idx="1"/>
              <a:endCxn id="352" idx="3"/>
            </p:cNvCxnSpPr>
            <p:nvPr/>
          </p:nvCxnSpPr>
          <p:spPr>
            <a:xfrm flipV="1">
              <a:off x="1449000" y="3503160"/>
              <a:ext cx="1080" cy="10706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8" name=""/>
            <p:cNvCxnSpPr>
              <a:stCxn id="352" idx="4"/>
              <a:endCxn id="354" idx="2"/>
            </p:cNvCxnSpPr>
            <p:nvPr/>
          </p:nvCxnSpPr>
          <p:spPr>
            <a:xfrm flipH="1" rot="16200000">
              <a:off x="2057040" y="3161880"/>
              <a:ext cx="420120" cy="12578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9" name=""/>
            <p:cNvCxnSpPr>
              <a:stCxn id="354" idx="0"/>
              <a:endCxn id="352" idx="6"/>
            </p:cNvCxnSpPr>
            <p:nvPr/>
          </p:nvCxnSpPr>
          <p:spPr>
            <a:xfrm flipV="1" rot="16200000">
              <a:off x="2323800" y="2895120"/>
              <a:ext cx="419760" cy="12578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0" name=""/>
            <p:cNvCxnSpPr>
              <a:stCxn id="352" idx="7"/>
              <a:endCxn id="352" idx="1"/>
            </p:cNvCxnSpPr>
            <p:nvPr/>
          </p:nvCxnSpPr>
          <p:spPr>
            <a:xfrm rot="5400000">
              <a:off x="1636920" y="2937600"/>
              <a:ext cx="2160" cy="378720"/>
            </a:xfrm>
            <a:prstGeom prst="curvedConnector5">
              <a:avLst>
                <a:gd name="adj1" fmla="val -19300000"/>
                <a:gd name="adj2" fmla="val 49952"/>
                <a:gd name="adj3" fmla="val -193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1" name=""/>
            <p:cNvSpPr/>
            <p:nvPr/>
          </p:nvSpPr>
          <p:spPr>
            <a:xfrm>
              <a:off x="1146240" y="3962520"/>
              <a:ext cx="3376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517840" y="3048120"/>
              <a:ext cx="3376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679760" y="2590920"/>
              <a:ext cx="3376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04760" y="3886200"/>
              <a:ext cx="3024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676160" y="5105520"/>
              <a:ext cx="3024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590560" y="4572000"/>
              <a:ext cx="3024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9241-E01D-404E-A9A5-241A600A34D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2:03:47Z</dcterms:created>
  <dc:creator>Gaetano Borriello</dc:creator>
  <dc:description/>
  <dc:language>en-US</dc:language>
  <cp:lastModifiedBy>Gaetano Borriello</cp:lastModifiedBy>
  <cp:lastPrinted>2000-05-11T19:00:15Z</cp:lastPrinted>
  <dcterms:modified xsi:type="dcterms:W3CDTF">2005-01-24T07:01:25Z</dcterms:modified>
  <cp:revision>28</cp:revision>
  <dc:subject/>
  <dc:title>Sequential logic implem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www.cs.washington.edu/education/courses/370/00sp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WINNT\Profiles\gaetano\Desktop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